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ct" ContentType="image/x-pict"/>
  <Override PartName="/ppt/media/image9.png" ContentType="image/png"/>
  <Override PartName="/ppt/media/image12.pct" ContentType="image/x-pict"/>
  <Override PartName="/ppt/media/image1.png" ContentType="image/png"/>
  <Override PartName="/ppt/media/image24.png" ContentType="image/png"/>
  <Override PartName="/ppt/media/image7.pct" ContentType="image/x-pict"/>
  <Override PartName="/ppt/media/image13.png" ContentType="image/png"/>
  <Override PartName="/ppt/media/image10.pct" ContentType="image/x-pict"/>
  <Override PartName="/ppt/media/image22.png" ContentType="image/png"/>
  <Override PartName="/ppt/media/image6.jpeg" ContentType="image/jpeg"/>
  <Override PartName="/ppt/media/image27.jpeg" ContentType="image/jpeg"/>
  <Override PartName="/ppt/media/image5.png" ContentType="image/png"/>
  <Override PartName="/ppt/media/image8.jpeg" ContentType="image/jpeg"/>
  <Override PartName="/ppt/media/image4.png" ContentType="image/png"/>
  <Override PartName="/ppt/media/image15.pct" ContentType="image/x-pict"/>
  <Override PartName="/ppt/media/image3.png" ContentType="image/png"/>
  <Override PartName="/ppt/media/image29.pct" ContentType="image/x-pict"/>
  <Override PartName="/ppt/media/image2.png" ContentType="image/png"/>
  <Override PartName="/ppt/media/image28.pct" ContentType="image/x-pict"/>
  <Override PartName="/ppt/media/image26.pct" ContentType="image/x-pict"/>
  <Override PartName="/ppt/media/image17.png" ContentType="image/png"/>
  <Override PartName="/ppt/media/image25.pct" ContentType="image/x-pict"/>
  <Override PartName="/ppt/media/image16.jpeg" ContentType="image/jpeg"/>
  <Override PartName="/ppt/media/image23.pct" ContentType="image/x-pict"/>
  <Override PartName="/ppt/media/image14.png" ContentType="image/png"/>
  <Override PartName="/ppt/media/image20.png" ContentType="image/png"/>
  <Override PartName="/ppt/media/image18.pct" ContentType="image/x-pict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534F-EF7C-4346-8FD7-86D215964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FFB0-A063-41B3-82DC-CCF89945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2FC7-B085-41D7-913B-C41A978EC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94FA-07B3-4EA3-A63A-8C0A30016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BF21-5568-446C-8741-836C51E5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7E11-EA99-4D8E-A94D-5BEEE698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1DF5-0313-4A2E-ACEB-295C9335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24C0-73E4-42FD-8153-CDB38AE0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F7F8-F6D1-417B-8698-AE7DF880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1F72-46A5-4181-9B7C-4239E69F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DDBD-F613-4FDD-808B-430EFF87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A69A-5573-4672-968D-2F63C415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85C3-24DC-499C-8538-5D12641A9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image" Target="../media/image26.pct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853400" y="101520"/>
            <a:ext cx="1108080" cy="1879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4080" y="111240"/>
            <a:ext cx="1284120" cy="1284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96200" y="2914560"/>
            <a:ext cx="4265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61040" y="2914560"/>
            <a:ext cx="4937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037040" y="71280"/>
            <a:ext cx="1235160" cy="903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392880" y="2978280"/>
            <a:ext cx="4265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58080" y="2978280"/>
            <a:ext cx="4937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371600" y="1125360"/>
            <a:ext cx="6552360" cy="1541520"/>
            <a:chOff x="1371600" y="1125360"/>
            <a:chExt cx="6552360" cy="1541520"/>
          </a:xfrm>
        </p:grpSpPr>
        <p:sp>
          <p:nvSpPr>
            <p:cNvPr id="49" name=""/>
            <p:cNvSpPr/>
            <p:nvPr/>
          </p:nvSpPr>
          <p:spPr>
            <a:xfrm>
              <a:off x="1371600" y="1125360"/>
              <a:ext cx="6552360" cy="15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71600" y="1125360"/>
              <a:ext cx="6552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870f"/>
                  </a:solidFill>
                  <a:latin typeface="Comic Sans MS"/>
                </a:rPr>
                <a:t>Dottorato</a:t>
              </a:r>
              <a:br>
                <a:rPr sz="2600"/>
              </a:br>
              <a:r>
                <a:rPr b="1" lang="en-US" sz="1600" spc="-1" strike="noStrike">
                  <a:solidFill>
                    <a:srgbClr val="ff870f"/>
                  </a:solidFill>
                  <a:latin typeface="Comic Sans MS"/>
                </a:rPr>
                <a:t>in</a:t>
              </a:r>
              <a:br>
                <a:rPr sz="1600"/>
              </a:br>
              <a:r>
                <a:rPr b="1" lang="en-US" sz="2000" spc="-1" strike="noStrike">
                  <a:solidFill>
                    <a:srgbClr val="ff870f"/>
                  </a:solidFill>
                  <a:latin typeface="Comic Sans MS"/>
                </a:rPr>
                <a:t>Genetica ed Evoluzione Molecolare</a:t>
              </a:r>
              <a:r>
                <a:rPr b="0" lang="en-US" sz="800" spc="-1" strike="noStrike">
                  <a:solidFill>
                    <a:srgbClr val="000000"/>
                  </a:solidFill>
                  <a:latin typeface="American Typewriter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737000" y="3124080"/>
            <a:ext cx="566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Il mondo dei microR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18960" y="54100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20-02-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9360" y="30492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IDENTIFICAZIONE micro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154080" y="2117880"/>
            <a:ext cx="952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PPROCCI BIOINFORMAT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basati sulla conservazione filogenetica dei precursori dei miRNA (ricerca di similarità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560" y="3763800"/>
            <a:ext cx="497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2) TECNICHE SPERIMENT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66688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primo miRNA identificato: lin-4 in C.elegans, coinvolto n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golazione del timing dello svilup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029200" y="1143000"/>
            <a:ext cx="3746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533520"/>
            <a:ext cx="807696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Rscan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(utilizzato per predire gli omologhi in C.elegans e C.briggsa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contiene le sequenze a monte e il pattern delle sequenze flanking conserva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Grande"/>
              </a:rPr>
              <a:t>    </a:t>
            </a:r>
            <a:r>
              <a:rPr b="0" lang="it-IT" sz="1300" spc="-1" strike="noStrike">
                <a:solidFill>
                  <a:srgbClr val="000000"/>
                </a:solidFill>
                <a:latin typeface="Lucida Grande"/>
              </a:rPr>
              <a:t>http://genes.mit.edu/mirsc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0720" y="1752480"/>
            <a:ext cx="824076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Rseeker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(ha predetto nuovi geni miRNA in Drosophyla ricercando omologhi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tem-loop nel genom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Grande"/>
              </a:rPr>
              <a:t>    </a:t>
            </a:r>
            <a:r>
              <a:rPr b="0" lang="it-IT" sz="1300" spc="-1" strike="noStrike">
                <a:solidFill>
                  <a:srgbClr val="000000"/>
                </a:solidFill>
                <a:latin typeface="Lucida Grande"/>
              </a:rPr>
              <a:t>http://toy.lbl.gov:9050/cgi-bin/miRseeker.p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3280" y="2978280"/>
            <a:ext cx="813600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oMiR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(modello probabilistico sulle sequenze stem-loop conservate, nel genoma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umano) Applicato per la ricerca di nuovi pre-miRNA e miRNA matu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Grande"/>
              </a:rPr>
              <a:t>    </a:t>
            </a:r>
            <a:r>
              <a:rPr b="0" lang="it-IT" sz="1300" spc="-1" strike="noStrike">
                <a:solidFill>
                  <a:srgbClr val="000000"/>
                </a:solidFill>
                <a:latin typeface="Lucida Grande"/>
              </a:rPr>
              <a:t>http://bi.snu.ac.kr/ProMi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3040" y="4221000"/>
            <a:ext cx="58514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ERPIN</a:t>
            </a:r>
            <a:r>
              <a:rPr b="0" lang="it-IT" sz="13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(ricerca basata sui profili delle famiglie di miR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Grande"/>
              </a:rPr>
              <a:t>    </a:t>
            </a:r>
            <a:r>
              <a:rPr b="0" lang="it-IT" sz="1300" spc="-1" strike="noStrike">
                <a:solidFill>
                  <a:srgbClr val="000000"/>
                </a:solidFill>
                <a:latin typeface="Lucida Grande"/>
              </a:rPr>
              <a:t>http://tagc.univ-mrs.fr/er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5181480"/>
            <a:ext cx="76676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hadow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(gli stems dei pre-miRNA sono più conservati, i loops lo sono poco)</a:t>
            </a:r>
            <a:r>
              <a:rPr b="0" lang="it-IT" sz="13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Grande"/>
              </a:rPr>
              <a:t>    </a:t>
            </a:r>
            <a:r>
              <a:rPr b="0" lang="it-IT" sz="1300" spc="-1" strike="noStrike">
                <a:solidFill>
                  <a:srgbClr val="000000"/>
                </a:solidFill>
                <a:latin typeface="Lucida Grande"/>
              </a:rPr>
              <a:t>http://eshadow.dcode.or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666440" y="1447920"/>
            <a:ext cx="54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nalisi genomica comparativa sistemat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1905120"/>
            <a:ext cx="835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06 motivi conservati nel 3’UTR degli mRNA, 72 di questi so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mplementari al 5’dei miRNA e possono formare duplexes 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6-8 basi (Xie et al.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19800" y="3581280"/>
            <a:ext cx="78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Xie et al.2005) intero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otiv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conservato per predire nuovi geni miRNA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520" y="44928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29 nuovi ipotetici mi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1240" y="5029200"/>
            <a:ext cx="51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2 candidati testati per Northern blo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6440" y="556272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6 validati (5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640" y="60480"/>
            <a:ext cx="625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orte conservazione dei nucleotidi al 5’ del miRNA matu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7480" y="441360"/>
            <a:ext cx="90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 sette nucleotidi alle posizioni 2-7 (5’ del miRNA) costituiscono la sequenza SEED, cruciale per il binding all’mRNA 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3018000">
            <a:off x="2895120" y="125712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8193000">
            <a:off x="3200040" y="419076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28760" y="263844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976 ipotetici mi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3200" y="3200400"/>
            <a:ext cx="51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69 candidati testati per Northern blo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9080" y="373392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6 validati (23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5120" y="380880"/>
            <a:ext cx="659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livello degli hairpin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Stems altamente conserv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Loop poco conserv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9000" y="1523880"/>
            <a:ext cx="78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assa conservazione a livello delle sequenze flanking l’hairp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8092800">
            <a:off x="2971440" y="2209320"/>
            <a:ext cx="761760" cy="152280"/>
          </a:xfrm>
          <a:prstGeom prst="rightArrow">
            <a:avLst>
              <a:gd name="adj1" fmla="val 50000"/>
              <a:gd name="adj2" fmla="val 125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49360" y="30492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IDENTIFICAZIONE micro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2560" y="2117880"/>
            <a:ext cx="53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8080"/>
                </a:solidFill>
                <a:latin typeface="Times New Roman"/>
              </a:rPr>
              <a:t>1) APPROCCI BIOINFORMAT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560" y="3763800"/>
            <a:ext cx="497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2) TECNICHE SPERIMENT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04720" y="0"/>
            <a:ext cx="863928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alidazione delle predizioni bioinformatich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Northern blotting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poco sensibile, non rivela i boundary dei mi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Dot blo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Rnase protection ass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Primer extension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ottima per mappare il 5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PCR utilizzando cDNA legati ad adatta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cDNA amplificati con primer che coprono parzialmente il miRNA predetto e po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legati ad adattatori, poi sono clonati e sequenzi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Biotin-labeled oligonucleotid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catturano i miRNA da cDNA librar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oi amplificati con primers adattator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Microarray prof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981080" y="4038480"/>
            <a:ext cx="528012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-4680" y="152280"/>
            <a:ext cx="63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uanto e in quale tessuti sono espressi i miRN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00800" y="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icro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ofi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874800"/>
            <a:ext cx="2198520" cy="598320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304920" y="685800"/>
            <a:ext cx="8353080" cy="4793760"/>
            <a:chOff x="304920" y="685800"/>
            <a:chExt cx="8353080" cy="479376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3781800" y="685800"/>
              <a:ext cx="4876200" cy="460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04920" y="942480"/>
              <a:ext cx="1738440" cy="201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11360" y="760320"/>
              <a:ext cx="4082040" cy="4705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2043360" y="755280"/>
              <a:ext cx="2266200" cy="18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43360" y="2937240"/>
              <a:ext cx="2266200" cy="254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96640" y="457200"/>
            <a:ext cx="625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nalisi combinata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Bentwich et al. 2005)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predizione bioinforma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microarray e clonaggio hairpin-speci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320" y="2057400"/>
            <a:ext cx="61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) Hairpins dall’intero genoma unamo screena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30481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2) 5300 hairpins selezionati (eliminati quelli presenti nelle regioni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petute e nelle regioni co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6080" y="4376880"/>
            <a:ext cx="33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3) Microarray su 5 tessu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08240" y="4757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26040" y="4786200"/>
            <a:ext cx="36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66 candidati (forte segn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36120" y="513864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9 clon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38280" y="5486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89 nuovi mi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43720" y="439560"/>
            <a:ext cx="877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croarray classi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difficile creare singole condizioni di ibrid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probes complementari ai pre-miRNA (non ai miRNA matur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oligo antisenso vs miRNA matu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7000" y="2717640"/>
            <a:ext cx="871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NA-primed assay-based Klenow enzyme (RAKE) ass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probes vs sequenze antisenso dei miRNA e sequenze spac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nivers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principio utile per discriminare miRNA molto sim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720720" y="4511520"/>
            <a:ext cx="7694640" cy="1814760"/>
            <a:chOff x="720720" y="4511520"/>
            <a:chExt cx="7694640" cy="1814760"/>
          </a:xfrm>
        </p:grpSpPr>
        <p:sp>
          <p:nvSpPr>
            <p:cNvPr id="139" name=""/>
            <p:cNvSpPr/>
            <p:nvPr/>
          </p:nvSpPr>
          <p:spPr>
            <a:xfrm>
              <a:off x="4148280" y="5943600"/>
              <a:ext cx="1600200" cy="380880"/>
            </a:xfrm>
            <a:prstGeom prst="parallelogram">
              <a:avLst>
                <a:gd name="adj" fmla="val 1050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05080" y="5257800"/>
              <a:ext cx="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67560" y="5748480"/>
              <a:ext cx="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10400" y="5746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15160" y="5932440"/>
              <a:ext cx="1600200" cy="380880"/>
            </a:xfrm>
            <a:prstGeom prst="parallelogram">
              <a:avLst>
                <a:gd name="adj" fmla="val 1050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34440" y="5737320"/>
              <a:ext cx="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77280" y="5735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577280" y="52243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33000" y="5222880"/>
              <a:ext cx="0" cy="457200"/>
            </a:xfrm>
            <a:prstGeom prst="line">
              <a:avLst/>
            </a:prstGeom>
            <a:ln w="936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81400" y="5945040"/>
              <a:ext cx="1600200" cy="381240"/>
            </a:xfrm>
            <a:prstGeom prst="parallelogram">
              <a:avLst>
                <a:gd name="adj" fmla="val 10493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43160" y="5748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33880" y="5943600"/>
              <a:ext cx="914400" cy="228600"/>
            </a:xfrm>
            <a:prstGeom prst="rightArrow">
              <a:avLst>
                <a:gd name="adj1" fmla="val 50000"/>
                <a:gd name="adj2" fmla="val 10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00760" y="5943600"/>
              <a:ext cx="914400" cy="228600"/>
            </a:xfrm>
            <a:prstGeom prst="rightArrow">
              <a:avLst>
                <a:gd name="adj1" fmla="val 50000"/>
                <a:gd name="adj2" fmla="val 10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47480" y="5715000"/>
              <a:ext cx="89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+ Klen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26240" y="5715000"/>
              <a:ext cx="117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Hybridiz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96400" y="49528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34880" y="4511520"/>
              <a:ext cx="1299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Tagg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oligonucleoti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83040" y="5584680"/>
              <a:ext cx="6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prob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0720" y="5105520"/>
              <a:ext cx="74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0818"/>
                  </a:solidFill>
                  <a:latin typeface="Times New Roman"/>
                </a:rPr>
                <a:t>miR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75560" y="93600"/>
            <a:ext cx="829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3300"/>
                </a:solidFill>
                <a:latin typeface="Verdana"/>
              </a:rPr>
              <a:t>Silenziamento genico o RNA interference (RNAi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76212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Fenomeno per il quale una molecola di RNA a doppio filamento (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sRNA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) reprime specificamente l’espressione di una gene target, stimolando la degradazione del suo mRNA  o la sua repressione traduzionale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95880" y="2214720"/>
            <a:ext cx="152280" cy="685800"/>
          </a:xfrm>
          <a:prstGeom prst="downArrow">
            <a:avLst>
              <a:gd name="adj1" fmla="val 50000"/>
              <a:gd name="adj2" fmla="val 1125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95200" y="1676520"/>
            <a:ext cx="101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ds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16040" y="297180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small RNA du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3920" y="4216320"/>
            <a:ext cx="412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Verdana"/>
              </a:rPr>
              <a:t>short interference RNA (si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42080" y="4216320"/>
            <a:ext cx="257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Verdana"/>
              </a:rPr>
              <a:t>microRNA (mi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3442200">
            <a:off x="2802960" y="3213000"/>
            <a:ext cx="184320" cy="1314360"/>
          </a:xfrm>
          <a:prstGeom prst="downArrow">
            <a:avLst>
              <a:gd name="adj1" fmla="val 50000"/>
              <a:gd name="adj2" fmla="val 17827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8255600">
            <a:off x="5603760" y="3174840"/>
            <a:ext cx="184320" cy="1314720"/>
          </a:xfrm>
          <a:prstGeom prst="downArrow">
            <a:avLst>
              <a:gd name="adj1" fmla="val 50000"/>
              <a:gd name="adj2" fmla="val 17832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5486400"/>
            <a:ext cx="152640" cy="685800"/>
          </a:xfrm>
          <a:prstGeom prst="downArrow">
            <a:avLst>
              <a:gd name="adj1" fmla="val 50000"/>
              <a:gd name="adj2" fmla="val 1123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5486400"/>
            <a:ext cx="152280" cy="685800"/>
          </a:xfrm>
          <a:prstGeom prst="downArrow">
            <a:avLst>
              <a:gd name="adj1" fmla="val 50000"/>
              <a:gd name="adj2" fmla="val 1125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3160" y="6116760"/>
            <a:ext cx="29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Verdana"/>
              </a:rPr>
              <a:t>degradazione dell’m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6095880"/>
            <a:ext cx="36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Verdana"/>
              </a:rPr>
              <a:t>repressione traduz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82160" y="2362320"/>
            <a:ext cx="22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taglio endonucleoli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81440" y="4540320"/>
            <a:ext cx="320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origine endog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20-25 nucleoti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mperfetto appaiamento vs 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5400" y="4525920"/>
            <a:ext cx="296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origine esog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22 nucleoti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erfetto appaiamento vs 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-5040" y="15228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itofluorimetria bead-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6640" y="838080"/>
            <a:ext cx="8058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Ogni beads è marcata con tags fluorescenti (possono arrivar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00 colori diversi) e accoppiata a probes complement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i miRNA di inte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 miRNA sono legati ad adattatori, retrotrascritti, amplificati 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CR (con primer biotinilati) ibridizzati alle beads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lorati con streptavidina-ficoeritr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lla fine, le beads sono analizzate al citofluorimetr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- bead color (identità dei mi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- phycoerythrin intensity (abbondanza dei mi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bridazione in soluzione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detection più specifica dei miRN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losely re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80880" y="4233960"/>
            <a:ext cx="1143000" cy="1252440"/>
            <a:chOff x="380880" y="4233960"/>
            <a:chExt cx="1143000" cy="1252440"/>
          </a:xfrm>
        </p:grpSpPr>
        <p:sp>
          <p:nvSpPr>
            <p:cNvPr id="161" name=""/>
            <p:cNvSpPr/>
            <p:nvPr/>
          </p:nvSpPr>
          <p:spPr>
            <a:xfrm>
              <a:off x="380880" y="4876920"/>
              <a:ext cx="152640" cy="1522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38080" y="4800600"/>
              <a:ext cx="152640" cy="152280"/>
            </a:xfrm>
            <a:prstGeom prst="octagon">
              <a:avLst>
                <a:gd name="adj" fmla="val 2928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14400" y="4233960"/>
              <a:ext cx="152280" cy="152280"/>
            </a:xfrm>
            <a:prstGeom prst="octagon">
              <a:avLst>
                <a:gd name="adj" fmla="val 2928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71600" y="4419720"/>
              <a:ext cx="152280" cy="152280"/>
            </a:xfrm>
            <a:prstGeom prst="octagon">
              <a:avLst>
                <a:gd name="adj" fmla="val 29287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9320" y="5029200"/>
              <a:ext cx="152280" cy="152280"/>
            </a:xfrm>
            <a:prstGeom prst="octagon">
              <a:avLst>
                <a:gd name="adj" fmla="val 2928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80880" y="49096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38080" y="48657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914400" y="42667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1371600" y="4473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12193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029200"/>
            <a:ext cx="1600200" cy="228600"/>
          </a:xfrm>
          <a:prstGeom prst="rightArrow">
            <a:avLst>
              <a:gd name="adj1" fmla="val 50000"/>
              <a:gd name="adj2" fmla="val 17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298920" y="4191120"/>
            <a:ext cx="1930680" cy="2027520"/>
            <a:chOff x="6298920" y="4191120"/>
            <a:chExt cx="1930680" cy="2027520"/>
          </a:xfrm>
        </p:grpSpPr>
        <p:sp>
          <p:nvSpPr>
            <p:cNvPr id="173" name=""/>
            <p:cNvSpPr/>
            <p:nvPr/>
          </p:nvSpPr>
          <p:spPr>
            <a:xfrm flipV="1">
              <a:off x="8051760" y="5324040"/>
              <a:ext cx="0" cy="38124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900920" y="56991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920000" y="5705640"/>
              <a:ext cx="228600" cy="228600"/>
            </a:xfrm>
            <a:prstGeom prst="octagon">
              <a:avLst>
                <a:gd name="adj" fmla="val 29287"/>
              </a:avLst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477120" y="5181480"/>
              <a:ext cx="152280" cy="15264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15200" y="5486400"/>
              <a:ext cx="152280" cy="152280"/>
            </a:xfrm>
            <a:prstGeom prst="octagon">
              <a:avLst>
                <a:gd name="adj" fmla="val 2928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934320" y="4267080"/>
              <a:ext cx="152280" cy="152640"/>
            </a:xfrm>
            <a:prstGeom prst="octagon">
              <a:avLst>
                <a:gd name="adj" fmla="val 2928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24680" y="4191120"/>
              <a:ext cx="152640" cy="152280"/>
            </a:xfrm>
            <a:prstGeom prst="octagon">
              <a:avLst>
                <a:gd name="adj" fmla="val 29287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077320" y="5257800"/>
              <a:ext cx="152280" cy="152280"/>
            </a:xfrm>
            <a:prstGeom prst="octagon">
              <a:avLst>
                <a:gd name="adj" fmla="val 2928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6477120" y="52149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7315200" y="55515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6934320" y="43005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7924680" y="4245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8077320" y="5334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294680" y="5567400"/>
              <a:ext cx="0" cy="3808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43480" y="59421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62920" y="5948280"/>
              <a:ext cx="228600" cy="228600"/>
            </a:xfrm>
            <a:prstGeom prst="octagon">
              <a:avLst>
                <a:gd name="adj" fmla="val 29287"/>
              </a:avLst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6907320" y="4304880"/>
              <a:ext cx="0" cy="3812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56120" y="46800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775560" y="4686480"/>
              <a:ext cx="228600" cy="228600"/>
            </a:xfrm>
            <a:prstGeom prst="octagon">
              <a:avLst>
                <a:gd name="adj" fmla="val 29287"/>
              </a:avLst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450120" y="523404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98920" y="56088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18360" y="5614920"/>
              <a:ext cx="228600" cy="228600"/>
            </a:xfrm>
            <a:prstGeom prst="octagon">
              <a:avLst>
                <a:gd name="adj" fmla="val 29287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7905600" y="4254480"/>
              <a:ext cx="0" cy="380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754760" y="46292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773840" y="4635360"/>
              <a:ext cx="228600" cy="228600"/>
            </a:xfrm>
            <a:prstGeom prst="octagon">
              <a:avLst>
                <a:gd name="adj" fmla="val 29287"/>
              </a:avLst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2193840" y="4121280"/>
            <a:ext cx="1443240" cy="1787760"/>
            <a:chOff x="2193840" y="4121280"/>
            <a:chExt cx="1443240" cy="1787760"/>
          </a:xfrm>
        </p:grpSpPr>
        <p:sp>
          <p:nvSpPr>
            <p:cNvPr id="199" name=""/>
            <p:cNvSpPr/>
            <p:nvPr/>
          </p:nvSpPr>
          <p:spPr>
            <a:xfrm flipV="1">
              <a:off x="2344680" y="48769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93840" y="5251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12920" y="5257800"/>
              <a:ext cx="228600" cy="228600"/>
            </a:xfrm>
            <a:prstGeom prst="octagon">
              <a:avLst>
                <a:gd name="adj" fmla="val 29287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2706840" y="4502160"/>
              <a:ext cx="0" cy="380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55640" y="48769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75080" y="4883040"/>
              <a:ext cx="228600" cy="228600"/>
            </a:xfrm>
            <a:prstGeom prst="octagon">
              <a:avLst>
                <a:gd name="adj" fmla="val 29287"/>
              </a:avLst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2990880" y="5257800"/>
              <a:ext cx="0" cy="3808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839680" y="56325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59120" y="5638680"/>
              <a:ext cx="228600" cy="228600"/>
            </a:xfrm>
            <a:prstGeom prst="octagon">
              <a:avLst>
                <a:gd name="adj" fmla="val 29287"/>
              </a:avLst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3505320" y="4807080"/>
              <a:ext cx="0" cy="3808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54120" y="51814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373560" y="5187960"/>
              <a:ext cx="228600" cy="228600"/>
            </a:xfrm>
            <a:prstGeom prst="octagon">
              <a:avLst>
                <a:gd name="adj" fmla="val 29287"/>
              </a:avLst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3048120" y="4121280"/>
              <a:ext cx="0" cy="38088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96920" y="44956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6360" y="4502160"/>
              <a:ext cx="228600" cy="228600"/>
            </a:xfrm>
            <a:prstGeom prst="octagon">
              <a:avLst>
                <a:gd name="adj" fmla="val 29287"/>
              </a:avLst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753920" y="4724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704240" y="76320"/>
            <a:ext cx="573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Conservazione evolut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0000" y="1328760"/>
            <a:ext cx="815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t-7 è conservato filogeneticamente in tutti i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bilateri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 mant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nche la stessa posizione sintenica nei vari geno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6760" y="2362320"/>
            <a:ext cx="859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r-1, muscolo-specifico, è conservato nei nematodi, nei mammif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 negli inse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0200" y="3429000"/>
            <a:ext cx="83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r-7 è conservato nell’introne di hnRNP K in insetti e mammif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4800" y="4125960"/>
            <a:ext cx="81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lle analisi comparative bioinformatiche risulterebbe che 18-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amiglie di miRNA sarebbero conservate in tutti i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bilater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e di queste famiglie sarebbero conservate anche negli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nid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6553440" cy="39020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08000" y="3962520"/>
            <a:ext cx="89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izialmente, un nuovo microRNA sarebbe espresso a bassi livelli e in un dominio spazio-temporale specifico. Ha molti targets che appaiono random nel genoma, molti dei quali deleteri e pochi selettivamente neutri o vantaggiosi. Più in là, la selezione naturale ha eliminito molti target deleteri dal genoma preservando molti dei target neutri o vantaggiosi e aumenta l’espressione del miRNA senza che esso diven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ltamente deleterio per l’organis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2160" y="5661000"/>
            <a:ext cx="814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e-novo miRNA: duplicazioni invertite di uno stretch di sequenza coding e success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rosione della sequenza in una struttura a hairpin imperfetto (modello per le pia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760" y="6240600"/>
            <a:ext cx="71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Origine random da strutture a hairpin pre-esistenti (modello per gli animal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0" y="30492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irca 70% dei miRNA di mammiferi localizzati nelle unità di trascri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990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a maggior parte mappano negli introni sull’elica di sen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- 90 negli introni di geni codificanti prote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- 27 negli introni di RNA non coding (ncRN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- 14 miRNAs presenti sia in esoni che introni (SPLICING ALTERNATI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0520" y="2133720"/>
            <a:ext cx="3179880" cy="468612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0" y="-360"/>
            <a:ext cx="9144000" cy="4038840"/>
            <a:chOff x="0" y="-360"/>
            <a:chExt cx="9144000" cy="4038840"/>
          </a:xfrm>
        </p:grpSpPr>
        <p:pic>
          <p:nvPicPr>
            <p:cNvPr id="229" name="" descr=""/>
            <p:cNvPicPr/>
            <p:nvPr/>
          </p:nvPicPr>
          <p:blipFill>
            <a:blip r:embed="rId2"/>
            <a:stretch/>
          </p:blipFill>
          <p:spPr>
            <a:xfrm>
              <a:off x="3809880" y="6480"/>
              <a:ext cx="5334120" cy="349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0" y="2133720"/>
              <a:ext cx="3200400" cy="1904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9880" y="0"/>
              <a:ext cx="5334120" cy="3505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3200400" y="-360"/>
              <a:ext cx="60948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00400" y="2133720"/>
              <a:ext cx="60948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3581280" y="3870360"/>
            <a:ext cx="556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ocalizzati su tutti i cromosomi…eccetto il cromosoma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70120" y="4479840"/>
            <a:ext cx="557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irca il 50% organizzati in clusters, trascritti come policistroni prim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581280" y="5089680"/>
            <a:ext cx="556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pesso correlati tra di loro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duplicazione genica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utazione associata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(Tanzer et al.2004, Tanzer et al.2005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 altri casi de-novo mi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76720" y="615636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Oltre il 50% dei miRNA mappa in regioni genomiche associate a diversi tipi di tumore o a siti fragil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9520" y="32544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l’uom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06200" y="22320"/>
            <a:ext cx="893952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35800" y="1035000"/>
            <a:ext cx="64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un singolo miRNA può regolare differenti m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37600" y="1461960"/>
            <a:ext cx="66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diversi miRNA possono regolare un singolo m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5880" y="1949400"/>
            <a:ext cx="714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20-30% dei geni umani può essere regolato dai mi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9480" y="609480"/>
            <a:ext cx="40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326 miRNA umani identifi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0480" y="2406600"/>
            <a:ext cx="60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versi siti target a livello dell’mRNA regol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7440" y="3733920"/>
            <a:ext cx="871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edizioni: ca.400-500 miRNA conservati dal nematode all’u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a 800 (2-3% dell’intero genoma umano), considerando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uelli uomo-specif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57200" y="145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-15480" y="5867280"/>
            <a:ext cx="90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trascritto target e i miRNA hanno di solito simili profili di espres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480" y="1042920"/>
            <a:ext cx="862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promotori caratterizzati dei miRNA contengono elementi regola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ella RNA polimerasi II precedentementi identificati nei ge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dificanti proteine (es. TATA bo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7760" y="2316240"/>
            <a:ext cx="9066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trascrizione ad opera della  RNA POL II permette un controllo temporale e posizionale dell’espressione dei mi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- uno specifico set di miRNA puà essere espresso durante lo sviluppo, so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pecifiche condizioni e in certi tipi cellul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-5040" y="4808520"/>
            <a:ext cx="647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. C-myc transattiva il cluster miR-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yoD e Mef2 transattivano miR-1-1 e miR-1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399564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espressione dei miRNA è regolata a livello trascrizionale e pos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scrizion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21800" y="60480"/>
            <a:ext cx="593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Espressione dei microRN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37680" y="138240"/>
            <a:ext cx="849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me i microRNA regolano l’espressione genic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0320" y="11304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regolazione dei geni avvi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64560" y="1143000"/>
            <a:ext cx="4880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locco traduzione (inizio traduzi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locco traduzione (elongazi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leavage mRNA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nelle pia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019240" y="3116160"/>
            <a:ext cx="51055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790640" y="1066680"/>
            <a:ext cx="5562720" cy="40356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71160" y="5686560"/>
            <a:ext cx="34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golazione trascrizi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02640" y="152280"/>
            <a:ext cx="40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golazione post-trascrizi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6248160" y="60948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362320" y="510552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41367" b="0"/>
          <a:stretch/>
        </p:blipFill>
        <p:spPr>
          <a:xfrm>
            <a:off x="2219400" y="838080"/>
            <a:ext cx="4440240" cy="6019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20920" y="281160"/>
            <a:ext cx="80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Verdana"/>
              </a:rPr>
              <a:t>RNA interference pathway: riconoscimento del target siRNA-medi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45840" y="3321000"/>
            <a:ext cx="2416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Arial"/>
              </a:rPr>
              <a:t>(RNA-induced silencing complex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28240" y="601560"/>
            <a:ext cx="35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plessi RISC e miRN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-76320" y="1058760"/>
            <a:ext cx="1000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oteine Argonauta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solo Ago2 presenta attività Rnasi-like e interviene nell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RNA cleav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Ago1, Ago3 e Ago4 promuovono la repressi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72560" y="2317680"/>
            <a:ext cx="796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go1 e Ago 2 di Drosophyla, invece, non hanno fun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verlappanti e sono coinvolte rispettivamente nella repres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RNA-mediata e nel cleavage siRNA-medi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8240" y="4419720"/>
            <a:ext cx="891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RISC localizza a livello dei P(processing)-bodies dove si concentra 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scritto targettato dai miRNA. I P-bodies mancano dei componen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bosomali e questa rilocalizzazione fa da base per l’inibi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800600" y="510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-2520" y="4911840"/>
            <a:ext cx="371196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La repressione miRNA-mediata e la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localizzazione degli mRNA nei P-bodi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è potenzialmente reversibile (in tal caso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i P-bodies farebbero da depositi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96840"/>
            <a:ext cx="4724280" cy="34844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3733920" y="3828960"/>
            <a:ext cx="5410080" cy="30290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5820840" y="676440"/>
            <a:ext cx="30412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Normale traduzione del trascrit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in protein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66080" y="6060960"/>
            <a:ext cx="1268640" cy="1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571640" y="91440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708120" y="395280"/>
            <a:ext cx="7696080" cy="6342120"/>
            <a:chOff x="708120" y="395280"/>
            <a:chExt cx="7696080" cy="6342120"/>
          </a:xfrm>
        </p:grpSpPr>
        <p:pic>
          <p:nvPicPr>
            <p:cNvPr id="274" name="" descr=""/>
            <p:cNvPicPr/>
            <p:nvPr/>
          </p:nvPicPr>
          <p:blipFill>
            <a:blip r:embed="rId1"/>
            <a:stretch/>
          </p:blipFill>
          <p:spPr>
            <a:xfrm>
              <a:off x="708120" y="1523880"/>
              <a:ext cx="7696080" cy="521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2487600" y="69696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95160" y="395280"/>
              <a:ext cx="194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RNA transcr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149880" y="7621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78600" y="460440"/>
              <a:ext cx="192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iRNA biogene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533520" y="4281480"/>
            <a:ext cx="5086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- DIANA MicroT</a:t>
            </a:r>
            <a:r>
              <a:rPr b="0" lang="it-IT" sz="1300" spc="-1" strike="noStrike">
                <a:solidFill>
                  <a:srgbClr val="000000"/>
                </a:solidFill>
                <a:latin typeface="Lucida Grande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it-IT" sz="1300" spc="-1" strike="noStrike">
                <a:solidFill>
                  <a:srgbClr val="000000"/>
                </a:solidFill>
                <a:latin typeface="Lucida Grande"/>
              </a:rPr>
              <a:t>http://diana.pcbi.upenn.edu/cgi-bin/micro_t.cgi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34880" y="85680"/>
            <a:ext cx="64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todi di predizione dei targ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520" y="1273320"/>
            <a:ext cx="4995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Grande"/>
              </a:rPr>
              <a:t>-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iRNA - Target Gene Prediction at EMBL</a:t>
            </a:r>
            <a:r>
              <a:rPr b="0" lang="it-IT" sz="1300" spc="-1" strike="noStrike">
                <a:solidFill>
                  <a:srgbClr val="000000"/>
                </a:solidFill>
                <a:latin typeface="Lucida Grande"/>
              </a:rPr>
              <a:t>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it-IT" sz="13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it-IT" sz="1300" spc="-1" strike="noStrike">
                <a:solidFill>
                  <a:srgbClr val="000000"/>
                </a:solidFill>
                <a:latin typeface="Lucida Grande"/>
              </a:rPr>
              <a:t>http://www.russell.embl.de/miRNAs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3520" y="2300400"/>
            <a:ext cx="56577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- miRanda - Human and Drosophila miRNA target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it-IT" sz="13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it-IT" sz="1300" spc="-1" strike="noStrike">
                <a:solidFill>
                  <a:srgbClr val="000000"/>
                </a:solidFill>
                <a:latin typeface="Lucida Grande"/>
              </a:rPr>
              <a:t>http://www.microrna.or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3290760"/>
            <a:ext cx="46386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- Targetscan -Mammalian miRNA targets</a:t>
            </a:r>
            <a:r>
              <a:rPr b="0" lang="it-IT" sz="1300" spc="-1" strike="noStrike">
                <a:solidFill>
                  <a:srgbClr val="000000"/>
                </a:solidFill>
                <a:latin typeface="Lucida Grande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it-IT" sz="13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it-IT" sz="1300" spc="-1" strike="noStrike">
                <a:solidFill>
                  <a:srgbClr val="000000"/>
                </a:solidFill>
                <a:latin typeface="Lucida Grande"/>
              </a:rPr>
              <a:t>http://genes.mit.edu/targetsc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579320" y="3019320"/>
            <a:ext cx="60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I microRNAs e i tumor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76320" y="762120"/>
            <a:ext cx="9067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Il 50% dei geni miRNA umani mappano di frequente in regioni genomiche alterate, nei siti fragili, nelle regioni LOH, siti di amplificazione o siti caldi di rott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-16200" y="4419720"/>
            <a:ext cx="887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li mRNA target sono legati a livello del 3’UTR e possono controll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versi processi biologici (timing dello sviluppo, differenzi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uronale, proliferazione cellulare, divisione delle stem cells, apoptos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ancro e differenziamento linea emopoiet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084320" y="295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-10440" y="2819520"/>
            <a:ext cx="89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cuni miRNA sono modulati nei tumori e possono essere dirett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involti nella patologia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Croce e Calin, review 20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-1440" y="380880"/>
            <a:ext cx="40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pprocci di studio dei mi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53920" y="106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9360" y="106668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p/down regolazione: - inibitori antisenso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competono con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’mRNA targ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mutazioni puntiformi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dei miRNA o dei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uoi targets, permette di studiarne la funzi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transgen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promotori specif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9120" y="3287880"/>
            <a:ext cx="83829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2) Northern blot: detection dei miRNA a livello di trascritto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però c’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na diversa efficienza di ibridazione e sono rilevabili pochi miRNA insie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- il cluster miR-17-92 è overespresso nel cancro al polm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21720" y="4494240"/>
            <a:ext cx="82929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3) Real-time PCR: studia i differenti profili di espressione dei pr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RNA nei cancri umani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però la correlazione 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re-miRNA e miRNA maturi non è linea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94720" y="5638680"/>
            <a:ext cx="836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4) MicroRNA microarray: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ifferente espressione dei miRNA tra tessuti adulti 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ouse e cellule staminali embrioniche)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70560" y="190440"/>
            <a:ext cx="537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 miRNA regolano la crescita cellulare e l’apopto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3120" y="736560"/>
            <a:ext cx="884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-miR-15 e miR-16 inducono l’apoptosi downregolando Bcl-2 (antiapoptotico), che è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involto in leucemie, linfomi e carcinom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1600" y="1525680"/>
            <a:ext cx="826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-miR-278 causa iperproliferazione nell’occhio in via di sviluppo di Drosophy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quando espresso in modo anomalo, inibendo l’apopto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46240" y="3462480"/>
            <a:ext cx="863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-miR-15a e miR-16a mappano sul chr13q14, regione deleta in più del 50% dei ca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i CLL, e sono gli unici 2 geni che manc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13040" y="2868480"/>
            <a:ext cx="377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 miRNA sono coinvolti nel canc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4280" y="4327560"/>
            <a:ext cx="857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-let-7 è poco espresso nel cancro al polmone, la sua overespressione inibisce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rescita cellulare tumorale, inoltre esso reprime RAS e MYC inibend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tradu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257560" y="2127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914400" y="1330200"/>
            <a:ext cx="7315200" cy="23274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82440" y="198360"/>
            <a:ext cx="9061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-miR17-92 è upregolato nel cancro al polmone, causa iperproliferazion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ownregola PTEN e RB2 (oncosoppressori) 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teragisce e upregola c-myc (oncoge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6560" y="4311720"/>
            <a:ext cx="19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o particol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19080" y="4708440"/>
            <a:ext cx="752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-miR-143 e miR-145 sono poco espressi nel cancro al colon, ma i livel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ei rispettivi pre-miRNA sono norm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472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7" name=""/>
          <p:cNvGrpSpPr/>
          <p:nvPr/>
        </p:nvGrpSpPr>
        <p:grpSpPr>
          <a:xfrm>
            <a:off x="4723920" y="152280"/>
            <a:ext cx="4289040" cy="6400800"/>
            <a:chOff x="4723920" y="152280"/>
            <a:chExt cx="4289040" cy="6400800"/>
          </a:xfrm>
        </p:grpSpPr>
        <p:sp>
          <p:nvSpPr>
            <p:cNvPr id="308" name=""/>
            <p:cNvSpPr/>
            <p:nvPr/>
          </p:nvSpPr>
          <p:spPr>
            <a:xfrm>
              <a:off x="5177520" y="152280"/>
              <a:ext cx="383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miRNAs e patologie correl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5029200" y="685800"/>
              <a:ext cx="220968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29200" y="609480"/>
              <a:ext cx="0" cy="594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4723920" y="609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4723920" y="65530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5334120" y="3429000"/>
            <a:ext cx="40384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Altri esempi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Linfoma di Burkitt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tumore alla mammella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carcinoma della tiroid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carcinoma epatocellulare(HCC), tumore testicolare delle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cellule germinali (TGCTs)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glioblastoma, ec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66760" y="1935000"/>
            <a:ext cx="8610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sa sono i microRN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ove e quando i microRNA sono espress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Quali sono i target diretti dei microRN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me agiscono i microRNA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me interagiscono i microRNA con i pathways che regolano la divisione cellulare, l’apoptosi e il differenziam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55760" y="264960"/>
            <a:ext cx="462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Un po’ di domande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008160" y="87480"/>
            <a:ext cx="31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Gli “onco-mirs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13480" y="925560"/>
            <a:ext cx="30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verespressi nei tum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5000" y="1386000"/>
            <a:ext cx="898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omuovono il tumore inibendo i geni oncosoppressori e/o controll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differenziamento cellulare o l’apopto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026440" y="3530520"/>
            <a:ext cx="50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Gli “oncosuppressor-mirs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5720" y="441000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ownregolati nei tum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3640" y="4921200"/>
            <a:ext cx="872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ibiscono gli oncogeni e/o geni che controllano il differenziamento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apopto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533520" y="631800"/>
            <a:ext cx="807696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00240" y="816120"/>
            <a:ext cx="3573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Genomics of microR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TRENDS in Genetics Vol.22 No.3 March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V.Narry Kim and Jin-Wu N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0760" y="3809880"/>
            <a:ext cx="43365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microRNA as oncogenes and tumor suppres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Developmental biology 302 (2007) 1-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B.Zhang, X.Pan, G.P. Cobb and T.A.Ander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9880" y="68400"/>
            <a:ext cx="6101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Stem cell division is regulated by the microRNA path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Nature Letters vol435-16 June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.D.Hatfield, H.R.Shcherbata, K.A.Nakahara, R.W.Carthew and H.Ruohola-Ba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1480" y="4572000"/>
            <a:ext cx="42224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How do MicroRNAs regulate gene express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ci.STKE 2007 (367) re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R.J.Jackson and N.Stand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6800" y="1523880"/>
            <a:ext cx="5785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microRNA: regulators of gene expression and cell different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Blood 1 December 2006 - Vol.108 - number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R.A.Shivdas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8720" y="2286000"/>
            <a:ext cx="3815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MicroRNA: A new player in stem ce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Journal of cellular physiology 209:266-269 (200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B.Zhang, X.Pan and T.A.Ander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5720" y="3048120"/>
            <a:ext cx="5397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Computational identification of microRNA and their targ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Computational Biology and Chemistry 30 (2006) 395-4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B.Zhang, X.Pan, Q.Wang, G.P. Cobb and T.A.Ander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1400" y="5334120"/>
            <a:ext cx="4879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MicroRNAs in biological processes and carcinogen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Carcinogenesis vol.28 no.1 pp.2.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H.Osada and T.Takahash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6160" y="6110280"/>
            <a:ext cx="6532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he evolution of gene regulation by transcription factors and microR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Nature Reviews Genetics Volume 8 Feb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K.Chen and N.Rajewsk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26200" cy="366696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3809880" y="3838680"/>
            <a:ext cx="53341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2666880" y="284040"/>
            <a:ext cx="381024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0" y="534960"/>
            <a:ext cx="914400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30400" y="60948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5320" y="4952880"/>
            <a:ext cx="114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63640" y="5105520"/>
            <a:ext cx="106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i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56416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165440" y="266688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i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>
            <a:lum contrast="-42000"/>
          </a:blip>
          <a:stretch/>
        </p:blipFill>
        <p:spPr>
          <a:xfrm>
            <a:off x="1542960" y="990720"/>
            <a:ext cx="6058080" cy="5619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47840" y="325440"/>
            <a:ext cx="81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Verdana"/>
              </a:rPr>
              <a:t>RNA interference pathway: riconoscimento del target miRNA-medi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47000" y="304920"/>
            <a:ext cx="405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 microRNA (miRN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219320"/>
            <a:ext cx="853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NAs endogeno non-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golano l’espressione genica attraverso l’appaiamento sequenza specifico al 3’UTR dell’mRNA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dentificati attraverso strategie di clonaggio molecolare e predizioni bioinformatiche in C.elegans (114), D.melanogaster (78), Danio Renio (369), Gallus gallus (122), Homo sapiens (326) e Arabidopsis thaliana (117)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 anche nel virus Epstein-Barr (5), nell’herpesvirus (12), in citomegalovirus umani (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85880" y="304920"/>
            <a:ext cx="7570800" cy="5143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21400" y="5791320"/>
            <a:ext cx="870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 miRNA si sono evoluti indipendentemente nelle piante e negli animali poiché n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i sono omologhi tra i due reg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9360" y="30492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IDENTIFICAZIONE micro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2560" y="2117880"/>
            <a:ext cx="541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1)  APPROCCI BIOINFORMAT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920" y="3763800"/>
            <a:ext cx="505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2)  TECNICHE SPERIMENT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7T10:06:50Z</dcterms:created>
  <dc:creator>mariano caratozzolo</dc:creator>
  <dc:description/>
  <dc:language>en-US</dc:language>
  <cp:lastModifiedBy>mariano caratozzolo</cp:lastModifiedBy>
  <dcterms:modified xsi:type="dcterms:W3CDTF">2007-02-20T12:33:13Z</dcterms:modified>
  <cp:revision>160</cp:revision>
  <dc:subject/>
  <dc:title>PowerPoint Presentation</dc:title>
</cp:coreProperties>
</file>