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ct" ContentType="image/x-pict"/>
  <Override PartName="/ppt/media/image94.jpeg" ContentType="image/jpeg"/>
  <Override PartName="/ppt/media/image55.pct" ContentType="image/x-pict"/>
  <Override PartName="/ppt/media/image3.jpeg" ContentType="image/jpeg"/>
  <Override PartName="/ppt/media/image54.pct" ContentType="image/x-pict"/>
  <Override PartName="/ppt/media/image53.pct" ContentType="image/x-pict"/>
  <Override PartName="/ppt/media/image19.jpeg" ContentType="image/jpeg"/>
  <Override PartName="/ppt/media/image52.pct" ContentType="image/x-pict"/>
  <Override PartName="/ppt/media/image50.pct" ContentType="image/x-pict"/>
  <Override PartName="/ppt/media/image46.pct" ContentType="image/x-pict"/>
  <Override PartName="/ppt/media/image93.jpeg" ContentType="image/jpeg"/>
  <Override PartName="/ppt/media/image44.pct" ContentType="image/x-pict"/>
  <Override PartName="/ppt/media/image43.pct" ContentType="image/x-pict"/>
  <Override PartName="/ppt/media/image18.jpeg" ContentType="image/jpeg"/>
  <Override PartName="/ppt/media/image41.pct" ContentType="image/x-pict"/>
  <Override PartName="/ppt/media/image40.pct" ContentType="image/x-pict"/>
  <Override PartName="/ppt/media/image39.pct" ContentType="image/x-pict"/>
  <Override PartName="/ppt/media/image38.pct" ContentType="image/x-pict"/>
  <Override PartName="/ppt/media/image37.pct" ContentType="image/x-pict"/>
  <Override PartName="/ppt/media/image36.pct" ContentType="image/x-pict"/>
  <Override PartName="/ppt/media/image34.pct" ContentType="image/x-pict"/>
  <Override PartName="/ppt/media/image33.pct" ContentType="image/x-pict"/>
  <Override PartName="/ppt/media/image32.pct" ContentType="image/x-pict"/>
  <Override PartName="/ppt/media/image30.pct" ContentType="image/x-pict"/>
  <Override PartName="/ppt/media/image13.pct" ContentType="image/x-pict"/>
  <Override PartName="/ppt/media/image1.pct" ContentType="image/x-pict"/>
  <Override PartName="/ppt/media/image15.jpeg" ContentType="image/jpeg"/>
  <Override PartName="/ppt/media/image4.jpeg" ContentType="image/jpeg"/>
  <Override PartName="/ppt/media/image65.pct" ContentType="image/x-pict"/>
  <Override PartName="/ppt/media/image2.png" ContentType="image/png"/>
  <Override PartName="/ppt/media/image28.pct" ContentType="image/x-pict"/>
  <Override PartName="/ppt/media/image48.pct" ContentType="image/x-pict"/>
  <Override PartName="/ppt/media/image74.jpeg" ContentType="image/jpeg"/>
  <Override PartName="/ppt/media/image11.pct" ContentType="image/x-pict"/>
  <Override PartName="/ppt/media/image47.pct" ContentType="image/x-pict"/>
  <Override PartName="/ppt/media/image10.pct" ContentType="image/x-pict"/>
  <Override PartName="/ppt/media/image6.jpeg" ContentType="image/jpeg"/>
  <Override PartName="/ppt/media/image14.jpeg" ContentType="image/jpeg"/>
  <Override PartName="/ppt/media/image51.pct" ContentType="image/x-pict"/>
  <Override PartName="/ppt/media/image64.pct" ContentType="image/x-pict"/>
  <Override PartName="/ppt/media/image60.jpeg" ContentType="image/jpeg"/>
  <Override PartName="/ppt/media/image67.pct" ContentType="image/x-pict"/>
  <Override PartName="/ppt/media/image82.jpeg" ContentType="image/jpeg"/>
  <Override PartName="/ppt/media/image68.pct" ContentType="image/x-pict"/>
  <Override PartName="/ppt/media/image12.jpeg" ContentType="image/jpeg"/>
  <Override PartName="/ppt/media/image31.pct" ContentType="image/x-pict"/>
  <Override PartName="/ppt/media/image70.pct" ContentType="image/x-pict"/>
  <Override PartName="/ppt/media/image86.jpeg" ContentType="image/jpeg"/>
  <Override PartName="/ppt/media/image69.pct" ContentType="image/x-pict"/>
  <Override PartName="/ppt/media/image71.pct" ContentType="image/x-pict"/>
  <Override PartName="/ppt/media/image72.pct" ContentType="image/x-pict"/>
  <Override PartName="/ppt/media/image97.jpeg" ContentType="image/jpeg"/>
  <Override PartName="/ppt/media/image77.pct" ContentType="image/x-pict"/>
  <Override PartName="/ppt/media/image83.jpeg" ContentType="image/jpeg"/>
  <Override PartName="/ppt/media/image89.png" ContentType="image/png"/>
  <Override PartName="/ppt/media/image63.pct" ContentType="image/x-pict"/>
  <Override PartName="/ppt/media/image26.pct" ContentType="image/x-pict"/>
  <Override PartName="/ppt/media/image91.jpeg" ContentType="image/jpeg"/>
  <Override PartName="/ppt/media/image25.pct" ContentType="image/x-pict"/>
  <Override PartName="/ppt/media/image7.jpeg" ContentType="image/jpeg"/>
  <Override PartName="/ppt/media/image90.jpeg" ContentType="image/jpeg"/>
  <Override PartName="/ppt/media/image96.jpeg" ContentType="image/jpeg"/>
  <Override PartName="/ppt/media/image76.pct" ContentType="image/x-pict"/>
  <Override PartName="/ppt/media/image85.jpeg" ContentType="image/jpeg"/>
  <Override PartName="/ppt/media/image62.jpeg" ContentType="image/jpeg"/>
  <Override PartName="/ppt/media/image87.jpeg" ContentType="image/jpeg"/>
  <Override PartName="/ppt/media/image95.jpeg" ContentType="image/jpeg"/>
  <Override PartName="/ppt/media/image66.pct" ContentType="image/x-pict"/>
  <Override PartName="/ppt/media/image84.jpeg" ContentType="image/jpeg"/>
  <Override PartName="/ppt/media/image80.jpeg" ContentType="image/jpeg"/>
  <Override PartName="/ppt/media/image79.pct" ContentType="image/x-pict"/>
  <Override PartName="/ppt/media/image73.pct" ContentType="image/x-pict"/>
  <Override PartName="/ppt/media/image81.jpeg" ContentType="image/jpeg"/>
  <Override PartName="/ppt/media/image20.pct" ContentType="image/x-pict"/>
  <Override PartName="/ppt/media/image57.pct" ContentType="image/x-pict"/>
  <Override PartName="/ppt/media/image88.pct" ContentType="image/x-pict"/>
  <Override PartName="/ppt/media/image78.jpeg" ContentType="image/jpeg"/>
  <Override PartName="/ppt/media/image61.jpeg" ContentType="image/jpeg"/>
  <Override PartName="/ppt/media/image27.pct" ContentType="image/x-pict"/>
  <Override PartName="/ppt/media/image22.pct" ContentType="image/x-pict"/>
  <Override PartName="/ppt/media/image42.jpeg" ContentType="image/jpeg"/>
  <Override PartName="/ppt/media/image59.pct" ContentType="image/x-pict"/>
  <Override PartName="/ppt/media/image17.png" ContentType="image/png"/>
  <Override PartName="/ppt/media/image29.pct" ContentType="image/x-pict"/>
  <Override PartName="/ppt/media/image92.jpeg" ContentType="image/jpeg"/>
  <Override PartName="/ppt/media/image8.jpeg" ContentType="image/jpeg"/>
  <Override PartName="/ppt/media/image35.pct" ContentType="image/x-pict"/>
  <Override PartName="/ppt/media/image21.pct" ContentType="image/x-pict"/>
  <Override PartName="/ppt/media/image58.pct" ContentType="image/x-pict"/>
  <Override PartName="/ppt/media/image24.pct" ContentType="image/x-pict"/>
  <Override PartName="/ppt/media/image49.pct" ContentType="image/x-pict"/>
  <Override PartName="/ppt/media/image9.jpeg" ContentType="image/jpeg"/>
  <Override PartName="/ppt/media/image45.pct" ContentType="image/x-pict"/>
  <Override PartName="/ppt/media/image16.jpeg" ContentType="image/jpeg"/>
  <Override PartName="/ppt/media/image23.pct" ContentType="image/x-pict"/>
  <Override PartName="/ppt/media/image5.jpeg" ContentType="image/jpeg"/>
  <Override PartName="/ppt/media/image7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496800"/>
            <a:ext cx="8381880" cy="36720"/>
          </a:xfrm>
          <a:prstGeom prst="line">
            <a:avLst/>
          </a:prstGeom>
          <a:ln w="6480">
            <a:solidFill>
              <a:srgbClr val="0c2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2666880" y="139680"/>
            <a:ext cx="6400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c21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Sc.Biosanitarie   Genetica I</a:t>
            </a:r>
            <a:endParaRPr b="0" lang="en-US" sz="1400" spc="1" strike="noStrike">
              <a:ln w="0">
                <a:noFill/>
              </a:ln>
              <a:solidFill>
                <a:srgbClr val="0c21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24.pct"/><Relationship Id="rId6" Type="http://schemas.openxmlformats.org/officeDocument/2006/relationships/image" Target="../media/image25.pct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image" Target="../media/image27.pct"/><Relationship Id="rId3" Type="http://schemas.openxmlformats.org/officeDocument/2006/relationships/image" Target="../media/image28.pct"/><Relationship Id="rId4" Type="http://schemas.openxmlformats.org/officeDocument/2006/relationships/image" Target="../media/image29.pct"/><Relationship Id="rId5" Type="http://schemas.openxmlformats.org/officeDocument/2006/relationships/image" Target="../media/image30.pct"/><Relationship Id="rId6" Type="http://schemas.openxmlformats.org/officeDocument/2006/relationships/image" Target="../media/image31.pct"/><Relationship Id="rId7" Type="http://schemas.openxmlformats.org/officeDocument/2006/relationships/image" Target="../media/image32.pct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image" Target="../media/image35.pct"/><Relationship Id="rId4" Type="http://schemas.openxmlformats.org/officeDocument/2006/relationships/image" Target="../media/image36.pct"/><Relationship Id="rId5" Type="http://schemas.openxmlformats.org/officeDocument/2006/relationships/image" Target="../media/image37.pct"/><Relationship Id="rId6" Type="http://schemas.openxmlformats.org/officeDocument/2006/relationships/image" Target="../media/image38.pct"/><Relationship Id="rId7" Type="http://schemas.openxmlformats.org/officeDocument/2006/relationships/image" Target="../media/image39.pct"/><Relationship Id="rId8" Type="http://schemas.openxmlformats.org/officeDocument/2006/relationships/image" Target="../media/image40.pct"/><Relationship Id="rId9" Type="http://schemas.openxmlformats.org/officeDocument/2006/relationships/image" Target="../media/image41.pct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ct"/><Relationship Id="rId3" Type="http://schemas.openxmlformats.org/officeDocument/2006/relationships/image" Target="../media/image44.pct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image" Target="../media/image46.pct"/><Relationship Id="rId3" Type="http://schemas.openxmlformats.org/officeDocument/2006/relationships/image" Target="../media/image47.pct"/><Relationship Id="rId4" Type="http://schemas.openxmlformats.org/officeDocument/2006/relationships/image" Target="../media/image48.pct"/><Relationship Id="rId5" Type="http://schemas.openxmlformats.org/officeDocument/2006/relationships/image" Target="../media/image49.pct"/><Relationship Id="rId6" Type="http://schemas.openxmlformats.org/officeDocument/2006/relationships/image" Target="../media/image50.pct"/><Relationship Id="rId7" Type="http://schemas.openxmlformats.org/officeDocument/2006/relationships/image" Target="../media/image51.pct"/><Relationship Id="rId8" Type="http://schemas.openxmlformats.org/officeDocument/2006/relationships/image" Target="../media/image52.pct"/><Relationship Id="rId9" Type="http://schemas.openxmlformats.org/officeDocument/2006/relationships/image" Target="../media/image53.pct"/><Relationship Id="rId10" Type="http://schemas.openxmlformats.org/officeDocument/2006/relationships/image" Target="../media/image54.pct"/><Relationship Id="rId11" Type="http://schemas.openxmlformats.org/officeDocument/2006/relationships/image" Target="../media/image55.pct"/><Relationship Id="rId12" Type="http://schemas.openxmlformats.org/officeDocument/2006/relationships/image" Target="../media/image56.pct"/><Relationship Id="rId13" Type="http://schemas.openxmlformats.org/officeDocument/2006/relationships/image" Target="../media/image57.pct"/><Relationship Id="rId14" Type="http://schemas.openxmlformats.org/officeDocument/2006/relationships/image" Target="../media/image58.pct"/><Relationship Id="rId1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ct"/><Relationship Id="rId3" Type="http://schemas.openxmlformats.org/officeDocument/2006/relationships/image" Target="../media/image64.pct"/><Relationship Id="rId4" Type="http://schemas.openxmlformats.org/officeDocument/2006/relationships/image" Target="../media/image65.pct"/><Relationship Id="rId5" Type="http://schemas.openxmlformats.org/officeDocument/2006/relationships/image" Target="../media/image66.pct"/><Relationship Id="rId6" Type="http://schemas.openxmlformats.org/officeDocument/2006/relationships/image" Target="../media/image67.pct"/><Relationship Id="rId7" Type="http://schemas.openxmlformats.org/officeDocument/2006/relationships/image" Target="../media/image68.pct"/><Relationship Id="rId8" Type="http://schemas.openxmlformats.org/officeDocument/2006/relationships/image" Target="../media/image69.pct"/><Relationship Id="rId9" Type="http://schemas.openxmlformats.org/officeDocument/2006/relationships/image" Target="../media/image70.pct"/><Relationship Id="rId10" Type="http://schemas.openxmlformats.org/officeDocument/2006/relationships/image" Target="../media/image71.pct"/><Relationship Id="rId11" Type="http://schemas.openxmlformats.org/officeDocument/2006/relationships/image" Target="../media/image72.pct"/><Relationship Id="rId12" Type="http://schemas.openxmlformats.org/officeDocument/2006/relationships/image" Target="../media/image73.pct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image" Target="../media/image76.pct"/><Relationship Id="rId3" Type="http://schemas.openxmlformats.org/officeDocument/2006/relationships/image" Target="../media/image77.pct"/><Relationship Id="rId4" Type="http://schemas.openxmlformats.org/officeDocument/2006/relationships/image" Target="../media/image78.jpeg"/><Relationship Id="rId5" Type="http://schemas.openxmlformats.org/officeDocument/2006/relationships/image" Target="../media/image79.pct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pct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2438280"/>
            <a:ext cx="3379680" cy="1231920"/>
            <a:chOff x="609480" y="2438280"/>
            <a:chExt cx="3379680" cy="1231920"/>
          </a:xfrm>
        </p:grpSpPr>
        <p:sp>
          <p:nvSpPr>
            <p:cNvPr id="42" name=""/>
            <p:cNvSpPr/>
            <p:nvPr/>
          </p:nvSpPr>
          <p:spPr>
            <a:xfrm>
              <a:off x="2820960" y="3127320"/>
              <a:ext cx="116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09480" y="2438280"/>
              <a:ext cx="2210040" cy="1231920"/>
              <a:chOff x="609480" y="2438280"/>
              <a:chExt cx="2210040" cy="1231920"/>
            </a:xfrm>
          </p:grpSpPr>
          <p:sp>
            <p:nvSpPr>
              <p:cNvPr id="44" name=""/>
              <p:cNvSpPr/>
              <p:nvPr/>
            </p:nvSpPr>
            <p:spPr>
              <a:xfrm>
                <a:off x="1676520" y="243828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990360" y="2438280"/>
                <a:ext cx="68580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09480" y="3174840"/>
                <a:ext cx="22100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2120" y="3124080"/>
                <a:ext cx="198108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23880" y="3200400"/>
                <a:ext cx="228600" cy="380880"/>
              </a:xfrm>
              <a:custGeom>
                <a:avLst/>
                <a:gdLst>
                  <a:gd name="textAreaLeft" fmla="*/ 11160 w 228600"/>
                  <a:gd name="textAreaRight" fmla="*/ 217440 w 228600"/>
                  <a:gd name="textAreaTop" fmla="*/ 11160 h 380880"/>
                  <a:gd name="textAreaBottom" fmla="*/ 369720 h 380880"/>
                </a:gdLst>
                <a:ahLst/>
                <a:rect l="textAreaLeft" t="textAreaTop" r="textAreaRight" b="textAreaBottom"/>
                <a:pathLst>
                  <a:path w="21600" h="35966">
                    <a:moveTo>
                      <a:pt x="3600" y="0"/>
                    </a:moveTo>
                    <a:arcTo wR="3600" hR="3600" stAng="16200000" swAng="-5400000"/>
                    <a:lnTo>
                      <a:pt x="0" y="32366"/>
                    </a:lnTo>
                    <a:arcTo wR="3600" hR="3600" stAng="10800000" swAng="-5400000"/>
                    <a:lnTo>
                      <a:pt x="18000" y="359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" name=""/>
          <p:cNvGrpSpPr/>
          <p:nvPr/>
        </p:nvGrpSpPr>
        <p:grpSpPr>
          <a:xfrm>
            <a:off x="152280" y="3556080"/>
            <a:ext cx="2743200" cy="1231920"/>
            <a:chOff x="152280" y="3556080"/>
            <a:chExt cx="2743200" cy="1231920"/>
          </a:xfrm>
        </p:grpSpPr>
        <p:sp>
          <p:nvSpPr>
            <p:cNvPr id="50" name=""/>
            <p:cNvSpPr/>
            <p:nvPr/>
          </p:nvSpPr>
          <p:spPr>
            <a:xfrm>
              <a:off x="1701720" y="355608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927000" y="3556080"/>
              <a:ext cx="6098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4267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426744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4267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300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52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92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020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512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96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6232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460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52280" y="4788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62120" y="47880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38280" y="4788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3664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8928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14156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9384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44648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9876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75104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90368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05596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20824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088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513160" y="463536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724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9520" y="4270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620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59200" y="4270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11480" y="4270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63400" y="4270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1604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68320" y="4270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2060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324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25520" y="4270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7800" y="42706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9840" y="443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2480" y="4435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05120" y="4422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4800" y="4422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6720" y="4422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1960" y="4422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4240" y="4422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66880" y="4422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19520" y="4422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71800" y="4422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4080" y="44229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6360" y="4422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240320" y="4090320"/>
            <a:ext cx="1728720" cy="2743560"/>
            <a:chOff x="7240320" y="4090320"/>
            <a:chExt cx="1728720" cy="2743560"/>
          </a:xfrm>
        </p:grpSpPr>
        <p:grpSp>
          <p:nvGrpSpPr>
            <p:cNvPr id="107" name=""/>
            <p:cNvGrpSpPr/>
            <p:nvPr/>
          </p:nvGrpSpPr>
          <p:grpSpPr>
            <a:xfrm>
              <a:off x="7240320" y="4090320"/>
              <a:ext cx="1728720" cy="2743560"/>
              <a:chOff x="7240320" y="4090320"/>
              <a:chExt cx="1728720" cy="2743560"/>
            </a:xfrm>
          </p:grpSpPr>
          <p:sp>
            <p:nvSpPr>
              <p:cNvPr id="108" name=""/>
              <p:cNvSpPr/>
              <p:nvPr/>
            </p:nvSpPr>
            <p:spPr>
              <a:xfrm rot="5388600">
                <a:off x="7391880" y="5180760"/>
                <a:ext cx="2662200" cy="482760"/>
              </a:xfrm>
              <a:prstGeom prst="parallelogram">
                <a:avLst>
                  <a:gd name="adj" fmla="val 13786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8557200" y="4799880"/>
                <a:ext cx="309600" cy="1220040"/>
                <a:chOff x="8557200" y="4799880"/>
                <a:chExt cx="309600" cy="1220040"/>
              </a:xfrm>
            </p:grpSpPr>
            <p:sp>
              <p:nvSpPr>
                <p:cNvPr id="110" name=""/>
                <p:cNvSpPr/>
                <p:nvPr/>
              </p:nvSpPr>
              <p:spPr>
                <a:xfrm rot="5385000">
                  <a:off x="8408160" y="556164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5385000">
                  <a:off x="8557920" y="495216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5385000">
                  <a:off x="8255880" y="5562360"/>
                  <a:ext cx="76176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385000">
                  <a:off x="8405640" y="4952880"/>
                  <a:ext cx="456840" cy="1522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5385000">
                  <a:off x="8634960" y="5142960"/>
                  <a:ext cx="151920" cy="228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 flipH="1">
                <a:off x="7538760" y="5433120"/>
                <a:ext cx="1077120" cy="71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543800" y="548640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40320" y="6253200"/>
                <a:ext cx="1230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c2199"/>
                    </a:solidFill>
                    <a:latin typeface="Times New Roman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c2199"/>
                    </a:solidFill>
                    <a:latin typeface="Times New Roman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8534520" y="5410080"/>
              <a:ext cx="16488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99400" y="5397480"/>
              <a:ext cx="16524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3040" y="4876920"/>
            <a:ext cx="2692440" cy="1282320"/>
            <a:chOff x="203040" y="4876920"/>
            <a:chExt cx="2692440" cy="1282320"/>
          </a:xfrm>
        </p:grpSpPr>
        <p:sp>
          <p:nvSpPr>
            <p:cNvPr id="121" name=""/>
            <p:cNvSpPr/>
            <p:nvPr/>
          </p:nvSpPr>
          <p:spPr>
            <a:xfrm>
              <a:off x="203040" y="5486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03040" y="6147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8640" y="4876920"/>
              <a:ext cx="2436840" cy="1282320"/>
              <a:chOff x="458640" y="4876920"/>
              <a:chExt cx="2436840" cy="1282320"/>
            </a:xfrm>
          </p:grpSpPr>
          <p:sp>
            <p:nvSpPr>
              <p:cNvPr id="124" name=""/>
              <p:cNvSpPr/>
              <p:nvPr/>
            </p:nvSpPr>
            <p:spPr>
              <a:xfrm>
                <a:off x="812880" y="54867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89040" y="5486760"/>
                <a:ext cx="40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884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4148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4604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9868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5096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0324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5588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0816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6044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1308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65360" y="54867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12880" y="61470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2488680" y="6146640"/>
                <a:ext cx="40644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88740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04004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119232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134460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49724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64952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80180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95444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10672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25900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241164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563920" y="599436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00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0280" y="548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5696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09960" y="54896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62240" y="54896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14160" y="548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6680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19080" y="548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7136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2400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6280" y="54896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28560" y="5489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0600" y="5796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03240" y="57945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55880" y="57819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5560" y="57819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47480" y="5781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12720" y="5781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65000" y="57819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7640" y="5781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70280" y="57819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2560" y="57819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74840" y="5781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27120" y="57819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349360" y="61470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09680" y="4876920"/>
                <a:ext cx="228600" cy="45720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8640" y="4881960"/>
                <a:ext cx="13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c2199"/>
                    </a:solidFill>
                    <a:latin typeface="Times New Roman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304920" y="1374840"/>
            <a:ext cx="2662200" cy="1139400"/>
            <a:chOff x="304920" y="1374840"/>
            <a:chExt cx="2662200" cy="1139400"/>
          </a:xfrm>
        </p:grpSpPr>
        <p:sp>
          <p:nvSpPr>
            <p:cNvPr id="180" name=""/>
            <p:cNvSpPr/>
            <p:nvPr/>
          </p:nvSpPr>
          <p:spPr>
            <a:xfrm>
              <a:off x="304920" y="2031840"/>
              <a:ext cx="2662200" cy="482400"/>
            </a:xfrm>
            <a:prstGeom prst="parallelogram">
              <a:avLst>
                <a:gd name="adj" fmla="val 137966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14400" y="2108160"/>
              <a:ext cx="1219320" cy="303840"/>
              <a:chOff x="914400" y="2108160"/>
              <a:chExt cx="1219320" cy="303840"/>
            </a:xfrm>
          </p:grpSpPr>
          <p:sp>
            <p:nvSpPr>
              <p:cNvPr id="182" name=""/>
              <p:cNvSpPr/>
              <p:nvPr/>
            </p:nvSpPr>
            <p:spPr>
              <a:xfrm>
                <a:off x="1371600" y="2108160"/>
                <a:ext cx="762120" cy="15192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14400" y="2108160"/>
                <a:ext cx="457200" cy="15192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71600" y="2260080"/>
                <a:ext cx="762120" cy="15192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14400" y="2260080"/>
                <a:ext cx="457200" cy="15192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95640" y="214596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600200" y="2286000"/>
              <a:ext cx="152280" cy="15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7080" y="1374840"/>
              <a:ext cx="1127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1676160"/>
              <a:ext cx="4572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4120" y="1143000"/>
            <a:ext cx="3657600" cy="1675800"/>
            <a:chOff x="5334120" y="1143000"/>
            <a:chExt cx="3657600" cy="1675800"/>
          </a:xfrm>
        </p:grpSpPr>
        <p:grpSp>
          <p:nvGrpSpPr>
            <p:cNvPr id="191" name=""/>
            <p:cNvGrpSpPr/>
            <p:nvPr/>
          </p:nvGrpSpPr>
          <p:grpSpPr>
            <a:xfrm>
              <a:off x="8229600" y="1371600"/>
              <a:ext cx="457200" cy="1447200"/>
              <a:chOff x="8229600" y="1371600"/>
              <a:chExt cx="457200" cy="1447200"/>
            </a:xfrm>
          </p:grpSpPr>
          <p:sp>
            <p:nvSpPr>
              <p:cNvPr id="192" name=""/>
              <p:cNvSpPr/>
              <p:nvPr/>
            </p:nvSpPr>
            <p:spPr>
              <a:xfrm rot="5400000">
                <a:off x="7753320" y="1961640"/>
                <a:ext cx="1409400" cy="30456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29600" y="1371600"/>
                <a:ext cx="45720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400000">
                <a:off x="7962840" y="2171160"/>
                <a:ext cx="990360" cy="304560"/>
              </a:xfrm>
              <a:prstGeom prst="flowChartDelay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5334120" y="1143000"/>
              <a:ext cx="365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621960" y="4054680"/>
            <a:ext cx="4219920" cy="1701720"/>
            <a:chOff x="3621960" y="4054680"/>
            <a:chExt cx="4219920" cy="1701720"/>
          </a:xfrm>
        </p:grpSpPr>
        <p:sp>
          <p:nvSpPr>
            <p:cNvPr id="197" name=""/>
            <p:cNvSpPr/>
            <p:nvPr/>
          </p:nvSpPr>
          <p:spPr>
            <a:xfrm>
              <a:off x="5487840" y="4119480"/>
              <a:ext cx="2354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621960" y="4054680"/>
              <a:ext cx="1886400" cy="1701720"/>
              <a:chOff x="3621960" y="4054680"/>
              <a:chExt cx="1886400" cy="1701720"/>
            </a:xfrm>
          </p:grpSpPr>
          <p:sp>
            <p:nvSpPr>
              <p:cNvPr id="199" name=""/>
              <p:cNvSpPr/>
              <p:nvPr/>
            </p:nvSpPr>
            <p:spPr>
              <a:xfrm>
                <a:off x="5181480" y="4419360"/>
                <a:ext cx="1526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263600">
                <a:off x="3769920" y="482076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263600">
                <a:off x="4557240" y="449568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263600">
                <a:off x="3824280" y="4257720"/>
                <a:ext cx="137160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263600">
                <a:off x="3661560" y="5093640"/>
                <a:ext cx="29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263600">
                <a:off x="3786840" y="49809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263600">
                <a:off x="3918960" y="49240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263600">
                <a:off x="4071600" y="4924080"/>
                <a:ext cx="28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263600">
                <a:off x="4259160" y="4893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263600">
                <a:off x="4364640" y="47952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263600">
                <a:off x="4476240" y="4676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263600">
                <a:off x="4588560" y="4596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264200">
                <a:off x="4752000" y="4512960"/>
                <a:ext cx="183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263600">
                <a:off x="4966920" y="4532040"/>
                <a:ext cx="27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263600">
                <a:off x="5101920" y="45320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17840" y="44863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483000">
                <a:off x="4639320" y="5113800"/>
                <a:ext cx="838080" cy="211320"/>
              </a:xfrm>
              <a:prstGeom prst="leftArrow">
                <a:avLst>
                  <a:gd name="adj1" fmla="val 50000"/>
                  <a:gd name="adj2" fmla="val 99148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4952520" y="5506920"/>
            <a:ext cx="2959560" cy="907560"/>
            <a:chOff x="4952520" y="5506920"/>
            <a:chExt cx="2959560" cy="907560"/>
          </a:xfrm>
        </p:grpSpPr>
        <p:grpSp>
          <p:nvGrpSpPr>
            <p:cNvPr id="217" name=""/>
            <p:cNvGrpSpPr/>
            <p:nvPr/>
          </p:nvGrpSpPr>
          <p:grpSpPr>
            <a:xfrm>
              <a:off x="4952520" y="5506920"/>
              <a:ext cx="2959560" cy="907560"/>
              <a:chOff x="4952520" y="5506920"/>
              <a:chExt cx="2959560" cy="907560"/>
            </a:xfrm>
          </p:grpSpPr>
          <p:sp>
            <p:nvSpPr>
              <p:cNvPr id="218" name=""/>
              <p:cNvSpPr/>
              <p:nvPr/>
            </p:nvSpPr>
            <p:spPr>
              <a:xfrm>
                <a:off x="5486400" y="5646600"/>
                <a:ext cx="29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78360" y="564660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54880" y="56466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5468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0696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5960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1188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6416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61680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6908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2136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400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2628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7856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31200" y="5646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778000" y="616716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454880" y="61671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585324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00552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15816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31044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646272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661536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76764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691992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07256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22484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737712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7529760" y="60145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70384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56120" y="5649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2280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75440" y="5649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28080" y="564984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80000" y="5649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3228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84560" y="5649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720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948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41760" y="5649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94400" y="5649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16440" y="5816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720" y="5814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021720" y="58021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61400" y="58021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313320" y="5802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78560" y="5802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30840" y="5802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3120" y="5802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36120" y="58021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88400" y="58021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0320" y="5802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2600" y="58021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43600" y="55069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3080" y="550692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58000" y="550692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27800" y="550692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0786200">
                <a:off x="4952520" y="61923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flipH="1">
              <a:off x="5410080" y="6159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666520" y="5781600"/>
            <a:ext cx="2667240" cy="612360"/>
            <a:chOff x="2666520" y="5781600"/>
            <a:chExt cx="2667240" cy="612360"/>
          </a:xfrm>
        </p:grpSpPr>
        <p:sp>
          <p:nvSpPr>
            <p:cNvPr id="278" name=""/>
            <p:cNvSpPr/>
            <p:nvPr/>
          </p:nvSpPr>
          <p:spPr>
            <a:xfrm flipH="1">
              <a:off x="5028840" y="6146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66920" y="5781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666520" y="5781600"/>
              <a:ext cx="2440440" cy="612360"/>
              <a:chOff x="2666520" y="5781600"/>
              <a:chExt cx="2440440" cy="612360"/>
            </a:xfrm>
          </p:grpSpPr>
          <p:sp>
            <p:nvSpPr>
              <p:cNvPr id="281" name=""/>
              <p:cNvSpPr/>
              <p:nvPr/>
            </p:nvSpPr>
            <p:spPr>
              <a:xfrm flipH="1">
                <a:off x="3123720" y="61466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352320" y="614664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2756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57984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73248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88476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03704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18968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34196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49424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64688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79916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95144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104080" y="599400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0760" y="57960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43040" y="57942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96040" y="5781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735720" y="5781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87640" y="5781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52880" y="5781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05160" y="5781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57440" y="5781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10440" y="5781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62720" y="5781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14640" y="5781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0786200">
                <a:off x="2666520" y="617184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Times New Roman"/>
              </a:rPr>
              <a:t>FISH 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c2199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luorescence </a:t>
            </a:r>
            <a:r>
              <a:rPr b="1" i="1" lang="en-US" sz="2400" spc="-1" strike="noStrike" u="sng">
                <a:solidFill>
                  <a:srgbClr val="0c2199"/>
                </a:solidFill>
                <a:uFillTx/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c2199"/>
                </a:solidFill>
                <a:latin typeface="Times New Roman"/>
              </a:rPr>
              <a:t>n </a:t>
            </a:r>
            <a:r>
              <a:rPr b="1" i="1" lang="en-US" sz="2400" spc="-1" strike="noStrike" u="sng">
                <a:solidFill>
                  <a:srgbClr val="0c2199"/>
                </a:solidFill>
                <a:uFillTx/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c2199"/>
                </a:solidFill>
                <a:latin typeface="Times New Roman"/>
              </a:rPr>
              <a:t>itu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c2199"/>
                </a:solidFill>
                <a:uFillTx/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ybrid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638320" y="1981080"/>
            <a:ext cx="2743560" cy="685800"/>
            <a:chOff x="5638320" y="1981080"/>
            <a:chExt cx="2743560" cy="685800"/>
          </a:xfrm>
        </p:grpSpPr>
        <p:grpSp>
          <p:nvGrpSpPr>
            <p:cNvPr id="309" name=""/>
            <p:cNvGrpSpPr/>
            <p:nvPr/>
          </p:nvGrpSpPr>
          <p:grpSpPr>
            <a:xfrm>
              <a:off x="5638320" y="1981080"/>
              <a:ext cx="2743560" cy="685800"/>
              <a:chOff x="5638320" y="1981080"/>
              <a:chExt cx="2743560" cy="685800"/>
            </a:xfrm>
          </p:grpSpPr>
          <p:sp>
            <p:nvSpPr>
              <p:cNvPr id="310" name=""/>
              <p:cNvSpPr/>
              <p:nvPr/>
            </p:nvSpPr>
            <p:spPr>
              <a:xfrm>
                <a:off x="5638680" y="21333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31000" y="21333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07160" y="2133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0696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5960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1188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416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1680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6908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2136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7400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2628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3120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83480" y="2133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931000" y="26542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607160" y="26542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0552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15816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31044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46272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61536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76764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691992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707256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722484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737712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52976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682040" y="250164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5612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08400" y="2136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7508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28080" y="2136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480360" y="2136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32280" y="2136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8492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37200" y="2136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8948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4212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94400" y="2136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546680" y="2136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720" y="23032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21360" y="2301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4000" y="2288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13680" y="2288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65600" y="228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30840" y="228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83120" y="22888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35760" y="228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88400" y="2288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40680" y="2288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92960" y="22888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5240" y="228888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95880" y="198108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05720" y="19810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10280" y="198108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80440" y="19810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638320" y="266688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8077320" y="2361960"/>
                <a:ext cx="3045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8001000" y="205704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8305920" y="2286000"/>
              <a:ext cx="7596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344840" y="2062080"/>
            <a:ext cx="2894040" cy="2020680"/>
            <a:chOff x="4344840" y="2062080"/>
            <a:chExt cx="2894040" cy="2020680"/>
          </a:xfrm>
        </p:grpSpPr>
        <p:grpSp>
          <p:nvGrpSpPr>
            <p:cNvPr id="372" name=""/>
            <p:cNvGrpSpPr/>
            <p:nvPr/>
          </p:nvGrpSpPr>
          <p:grpSpPr>
            <a:xfrm>
              <a:off x="4344840" y="2062080"/>
              <a:ext cx="2894040" cy="1900080"/>
              <a:chOff x="4344840" y="2062080"/>
              <a:chExt cx="2894040" cy="1900080"/>
            </a:xfrm>
          </p:grpSpPr>
          <p:sp>
            <p:nvSpPr>
              <p:cNvPr id="373" name=""/>
              <p:cNvSpPr/>
              <p:nvPr/>
            </p:nvSpPr>
            <p:spPr>
              <a:xfrm>
                <a:off x="4813200" y="32763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05520" y="32763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81680" y="3276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8148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3412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8640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3868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9132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4360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9588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852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0080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5308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0572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58000" y="32763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105520" y="39495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781680" y="39495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18004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533268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548496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563724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578988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594216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09444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24708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39936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55164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70428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856560" y="37969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3064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82920" y="3279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4960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02600" y="3279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654880" y="32796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06800" y="3279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5944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11720" y="3279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6400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1664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68920" y="3279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21200" y="32796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43240" y="35989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95880" y="3597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48520" y="35845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88200" y="35845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40120" y="3584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05360" y="3584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7640" y="3584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10280" y="3584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62920" y="35845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15200" y="35845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7480" y="3584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19760" y="358452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70400" y="312408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0240" y="31240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84800" y="3124080"/>
                <a:ext cx="1526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54960" y="3124080"/>
                <a:ext cx="1522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812840" y="3962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268000">
                <a:off x="5215320" y="2556360"/>
                <a:ext cx="609840" cy="220680"/>
              </a:xfrm>
              <a:prstGeom prst="leftArrow">
                <a:avLst>
                  <a:gd name="adj1" fmla="val 50000"/>
                  <a:gd name="adj2" fmla="val 6908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44840" y="2062080"/>
                <a:ext cx="13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c2199"/>
                    </a:solidFill>
                    <a:latin typeface="Times New Roman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5105520" y="391788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19920" y="3924360"/>
              <a:ext cx="1522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62600" y="3930480"/>
              <a:ext cx="1526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1143000"/>
            <a:ext cx="9144000" cy="4495680"/>
            <a:chOff x="0" y="1143000"/>
            <a:chExt cx="9144000" cy="4495680"/>
          </a:xfrm>
        </p:grpSpPr>
        <p:pic>
          <p:nvPicPr>
            <p:cNvPr id="561" name="" descr=""/>
            <p:cNvPicPr/>
            <p:nvPr/>
          </p:nvPicPr>
          <p:blipFill>
            <a:blip r:embed="rId1"/>
            <a:srcRect l="0" t="45405" r="0" b="0"/>
            <a:stretch/>
          </p:blipFill>
          <p:spPr>
            <a:xfrm>
              <a:off x="0" y="2521080"/>
              <a:ext cx="9144000" cy="31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82800" y="2266920"/>
              <a:ext cx="3587760" cy="15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38280" y="2521080"/>
              <a:ext cx="7621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23880" y="1143000"/>
              <a:ext cx="63248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20b"/>
                  </a:solidFill>
                  <a:latin typeface="Times New Roman"/>
                </a:rPr>
                <a:t>Meccanismo di origine della tetraploi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71800" y="290196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199"/>
                  </a:solidFill>
                  <a:latin typeface="Times New Roman"/>
                </a:rPr>
                <a:t>duplicazione del DNA non seguita da divisione cellul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762120"/>
            <a:ext cx="5867280" cy="58672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2438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,XXY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Metafase umana </a:t>
            </a:r>
            <a:br>
              <a:rPr sz="2400"/>
            </a:b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tetraploide</a:t>
            </a:r>
            <a:br>
              <a:rPr sz="2400"/>
            </a:b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(reperto abor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762120"/>
            <a:ext cx="8839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24"/>
                </a:solidFill>
                <a:latin typeface="Times New Roman"/>
              </a:rPr>
              <a:t>Aneuploidia</a:t>
            </a:r>
            <a:r>
              <a:rPr b="0" lang="it-IT" sz="1800" spc="-1" strike="noStrike">
                <a:solidFill>
                  <a:srgbClr val="0c21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Uno o pochi cromosomi in più o in meno rispetto all’assetto cromosomico normale: 2n+1trisomie; 2n-1 monosomie</a:t>
            </a:r>
            <a:r>
              <a:rPr b="0" lang="it-IT" sz="1800" spc="-1" strike="noStrike">
                <a:solidFill>
                  <a:srgbClr val="0c21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809880" y="2228760"/>
            <a:ext cx="1752840" cy="1609920"/>
            <a:chOff x="3809880" y="2228760"/>
            <a:chExt cx="1752840" cy="1609920"/>
          </a:xfrm>
        </p:grpSpPr>
        <p:grpSp>
          <p:nvGrpSpPr>
            <p:cNvPr id="570" name=""/>
            <p:cNvGrpSpPr/>
            <p:nvPr/>
          </p:nvGrpSpPr>
          <p:grpSpPr>
            <a:xfrm>
              <a:off x="3809880" y="2286000"/>
              <a:ext cx="1752840" cy="1552680"/>
              <a:chOff x="3809880" y="2286000"/>
              <a:chExt cx="1752840" cy="1552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809880" y="23623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09880" y="25909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67080" y="2286000"/>
                <a:ext cx="3049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7080" y="2514600"/>
                <a:ext cx="3049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91120" y="28195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7080" y="2743200"/>
                <a:ext cx="304920" cy="152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46680" y="319896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191120" y="3048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7080" y="2971800"/>
                <a:ext cx="304920" cy="152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809880" y="23623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09880" y="25909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67080" y="2286000"/>
                <a:ext cx="3049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67080" y="2514600"/>
                <a:ext cx="3049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91120" y="28195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67080" y="2743200"/>
                <a:ext cx="304920" cy="152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47040" y="3198960"/>
                <a:ext cx="93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diploi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91120" y="3048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267080" y="2971800"/>
                <a:ext cx="304920" cy="152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38840" y="34704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2n =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268880" y="2228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97320" y="2682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86160" y="2454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06680" y="289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14760" y="4146480"/>
            <a:ext cx="1828440" cy="2435400"/>
            <a:chOff x="914760" y="4146480"/>
            <a:chExt cx="1828440" cy="2435400"/>
          </a:xfrm>
        </p:grpSpPr>
        <p:grpSp>
          <p:nvGrpSpPr>
            <p:cNvPr id="595" name=""/>
            <p:cNvGrpSpPr/>
            <p:nvPr/>
          </p:nvGrpSpPr>
          <p:grpSpPr>
            <a:xfrm>
              <a:off x="914760" y="4203720"/>
              <a:ext cx="1828440" cy="2378160"/>
              <a:chOff x="914760" y="4203720"/>
              <a:chExt cx="1828440" cy="23781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914760" y="4203720"/>
                <a:ext cx="1828440" cy="1966680"/>
                <a:chOff x="914760" y="4203720"/>
                <a:chExt cx="1828440" cy="1966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371600" y="504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447920" y="4965840"/>
                  <a:ext cx="30456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990720" y="4280040"/>
                  <a:ext cx="175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47920" y="4203720"/>
                  <a:ext cx="30456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990720" y="4508640"/>
                  <a:ext cx="175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447920" y="4432320"/>
                  <a:ext cx="30456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71600" y="52704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447920" y="5194440"/>
                  <a:ext cx="30456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990720" y="4737240"/>
                  <a:ext cx="175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447920" y="4660920"/>
                  <a:ext cx="30456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914760" y="5527800"/>
                  <a:ext cx="1421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trisomia de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cromosoma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1065960" y="6213600"/>
                <a:ext cx="11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2n + 1 = 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466640" y="4383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63760" y="4908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4280" y="4608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73120" y="5124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68440" y="414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504240" y="4151160"/>
            <a:ext cx="2058480" cy="2403720"/>
            <a:chOff x="3504240" y="4151160"/>
            <a:chExt cx="2058480" cy="2403720"/>
          </a:xfrm>
        </p:grpSpPr>
        <p:grpSp>
          <p:nvGrpSpPr>
            <p:cNvPr id="615" name=""/>
            <p:cNvGrpSpPr/>
            <p:nvPr/>
          </p:nvGrpSpPr>
          <p:grpSpPr>
            <a:xfrm>
              <a:off x="3504240" y="4203720"/>
              <a:ext cx="2058480" cy="2351160"/>
              <a:chOff x="3504240" y="4203720"/>
              <a:chExt cx="2058480" cy="23511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504240" y="4203720"/>
                <a:ext cx="2058480" cy="1966680"/>
                <a:chOff x="3504240" y="4203720"/>
                <a:chExt cx="2058480" cy="19666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191120" y="51944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267080" y="511812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191120" y="54230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267080" y="534672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191120" y="47372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267080" y="466092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91120" y="49658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267080" y="488952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09880" y="4280040"/>
                  <a:ext cx="175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09880" y="4508640"/>
                  <a:ext cx="175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267080" y="4203720"/>
                  <a:ext cx="30492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267080" y="4432320"/>
                  <a:ext cx="30492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504240" y="5527800"/>
                  <a:ext cx="1532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tetrasomia de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cromosoma 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809160" y="6186600"/>
                <a:ext cx="11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2n + 2 = 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4278240" y="41511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06680" y="460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95520" y="4376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16400" y="4821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97320" y="5288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09920" y="5052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476760" y="4143240"/>
            <a:ext cx="1829160" cy="2411640"/>
            <a:chOff x="6476760" y="4143240"/>
            <a:chExt cx="1829160" cy="2411640"/>
          </a:xfrm>
        </p:grpSpPr>
        <p:grpSp>
          <p:nvGrpSpPr>
            <p:cNvPr id="638" name=""/>
            <p:cNvGrpSpPr/>
            <p:nvPr/>
          </p:nvGrpSpPr>
          <p:grpSpPr>
            <a:xfrm>
              <a:off x="6476760" y="4203720"/>
              <a:ext cx="1829160" cy="2351160"/>
              <a:chOff x="6476760" y="4203720"/>
              <a:chExt cx="1829160" cy="23511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6476760" y="4203720"/>
                <a:ext cx="1829160" cy="1966680"/>
                <a:chOff x="6476760" y="4203720"/>
                <a:chExt cx="1829160" cy="19666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6934320" y="4584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010280" y="450864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934320" y="48132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010280" y="4737240"/>
                  <a:ext cx="304920" cy="1522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53080" y="4280040"/>
                  <a:ext cx="175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010280" y="4203720"/>
                  <a:ext cx="304920" cy="152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476760" y="5527800"/>
                  <a:ext cx="1645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monosomia del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cromosoma 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6705360" y="6186600"/>
                <a:ext cx="107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2n - 1 =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7034040" y="4443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30800" y="4143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043760" y="4659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2d1f"/>
                </a:solidFill>
                <a:latin typeface="Times New Roman"/>
              </a:rPr>
              <a:t>Meccanismo di origine della aneuploi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605480" y="1447920"/>
            <a:ext cx="3976560" cy="51051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561960" y="1473120"/>
            <a:ext cx="37990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666520" y="76212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24"/>
                </a:solidFill>
                <a:latin typeface="Times New Roman"/>
              </a:rPr>
              <a:t>Monosomi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rcRect l="0" t="0" r="2533" b="19722"/>
          <a:stretch/>
        </p:blipFill>
        <p:spPr>
          <a:xfrm>
            <a:off x="3124080" y="1720800"/>
            <a:ext cx="5867640" cy="48322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228600" y="1787400"/>
            <a:ext cx="281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,X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Nei nati v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viene anche chiam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Sindrome di Tur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sesso femminile, amenorrea primar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bassa statu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streak gonad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rcRect l="0" t="183486" r="311321" b="0"/>
          <a:stretch/>
        </p:blipFill>
        <p:spPr>
          <a:xfrm>
            <a:off x="3251160" y="1371600"/>
            <a:ext cx="5511960" cy="523728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361960" y="76212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24"/>
                </a:solidFill>
                <a:latin typeface="Times New Roman"/>
              </a:rPr>
              <a:t>Doppia trisomia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2062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4509000" y="2236680"/>
            <a:ext cx="401400" cy="9586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4546080" y="5427720"/>
            <a:ext cx="762120" cy="66672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3936600" y="4818240"/>
            <a:ext cx="762120" cy="60948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842080" y="6113520"/>
            <a:ext cx="457200" cy="457200"/>
          </a:xfrm>
          <a:prstGeom prst="line">
            <a:avLst/>
          </a:prstGeom>
          <a:ln w="28440">
            <a:solidFill>
              <a:srgbClr val="ff111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765400" y="5656320"/>
            <a:ext cx="685800" cy="685800"/>
          </a:xfrm>
          <a:prstGeom prst="line">
            <a:avLst/>
          </a:prstGeom>
          <a:ln w="28440">
            <a:solidFill>
              <a:srgbClr val="ff111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78120" y="1792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424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10720" y="604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424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92320" y="5432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424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95600" y="595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424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140652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,XYY+15</a:t>
            </a: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La presenza di 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cromosomi 15 e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incompatibile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lo svilup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Re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riscontrato i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aborto sponta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del primo trim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533520" y="1143000"/>
            <a:ext cx="797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Times New Roman"/>
              </a:rPr>
              <a:t>Trisomia parziale del braccio lungo del cromosoma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52440" y="2444760"/>
            <a:ext cx="8439120" cy="3193920"/>
            <a:chOff x="352440" y="2444760"/>
            <a:chExt cx="8439120" cy="3193920"/>
          </a:xfrm>
        </p:grpSpPr>
        <p:grpSp>
          <p:nvGrpSpPr>
            <p:cNvPr id="672" name=""/>
            <p:cNvGrpSpPr/>
            <p:nvPr/>
          </p:nvGrpSpPr>
          <p:grpSpPr>
            <a:xfrm>
              <a:off x="352440" y="2444760"/>
              <a:ext cx="8439120" cy="3193920"/>
              <a:chOff x="352440" y="2444760"/>
              <a:chExt cx="8439120" cy="3193920"/>
            </a:xfrm>
          </p:grpSpPr>
          <p:pic>
            <p:nvPicPr>
              <p:cNvPr id="6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440" y="2444760"/>
                <a:ext cx="8439120" cy="31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4105080" y="3176640"/>
                <a:ext cx="26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648320" y="3473280"/>
              <a:ext cx="7596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1424"/>
                </a:solidFill>
                <a:latin typeface="Times New Roman"/>
              </a:rPr>
              <a:t>Mutazioni cromosomiche di strut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4040" y="1928880"/>
            <a:ext cx="44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199"/>
                </a:solidFill>
                <a:latin typeface="Times New Roman"/>
              </a:rPr>
              <a:t>1. duplicazioni e dele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69800" y="29955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199"/>
                </a:solidFill>
                <a:latin typeface="Times New Roman"/>
              </a:rPr>
              <a:t>2. inver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78560" y="4214880"/>
            <a:ext cx="26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199"/>
                </a:solidFill>
                <a:latin typeface="Times New Roman"/>
              </a:rPr>
              <a:t>3. trasloca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83360" y="5324400"/>
            <a:ext cx="40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199"/>
                </a:solidFill>
                <a:latin typeface="Times New Roman"/>
              </a:rPr>
              <a:t>4. cromosomi ad an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657240" y="7617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424"/>
                </a:solidFill>
                <a:latin typeface="Times New Roman"/>
              </a:rPr>
              <a:t>Dupli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1720" y="5262480"/>
            <a:ext cx="1370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crom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nor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050840" y="1523880"/>
            <a:ext cx="275760" cy="3644640"/>
            <a:chOff x="1050840" y="1523880"/>
            <a:chExt cx="275760" cy="3644640"/>
          </a:xfrm>
        </p:grpSpPr>
        <p:sp>
          <p:nvSpPr>
            <p:cNvPr id="684" name=""/>
            <p:cNvSpPr/>
            <p:nvPr/>
          </p:nvSpPr>
          <p:spPr>
            <a:xfrm>
              <a:off x="1050840" y="1523880"/>
              <a:ext cx="274320" cy="1389240"/>
            </a:xfrm>
            <a:prstGeom prst="can">
              <a:avLst>
                <a:gd name="adj" fmla="val 1418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0800000">
              <a:off x="1051920" y="2893680"/>
              <a:ext cx="274680" cy="2274840"/>
            </a:xfrm>
            <a:prstGeom prst="can">
              <a:avLst>
                <a:gd name="adj" fmla="val 8092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42640" y="1430280"/>
            <a:ext cx="1482120" cy="4932360"/>
            <a:chOff x="2042640" y="1430280"/>
            <a:chExt cx="1482120" cy="4932360"/>
          </a:xfrm>
        </p:grpSpPr>
        <p:grpSp>
          <p:nvGrpSpPr>
            <p:cNvPr id="687" name=""/>
            <p:cNvGrpSpPr/>
            <p:nvPr/>
          </p:nvGrpSpPr>
          <p:grpSpPr>
            <a:xfrm>
              <a:off x="2440080" y="1430280"/>
              <a:ext cx="609480" cy="4108320"/>
              <a:chOff x="2440080" y="1430280"/>
              <a:chExt cx="609480" cy="4108320"/>
            </a:xfrm>
          </p:grpSpPr>
          <p:sp>
            <p:nvSpPr>
              <p:cNvPr id="688" name=""/>
              <p:cNvSpPr/>
              <p:nvPr/>
            </p:nvSpPr>
            <p:spPr>
              <a:xfrm>
                <a:off x="2606400" y="1430280"/>
                <a:ext cx="274320" cy="1389240"/>
              </a:xfrm>
              <a:prstGeom prst="can">
                <a:avLst>
                  <a:gd name="adj" fmla="val 1418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ff00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0800000">
                <a:off x="2592000" y="2793600"/>
                <a:ext cx="304200" cy="2745000"/>
              </a:xfrm>
              <a:prstGeom prst="can">
                <a:avLst>
                  <a:gd name="adj" fmla="val 8092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ff00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40080" y="3581280"/>
                <a:ext cx="609480" cy="68580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40080" y="4267080"/>
                <a:ext cx="609480" cy="68580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042640" y="5629320"/>
              <a:ext cx="148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dupl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in tand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interstiz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933360" y="1392120"/>
            <a:ext cx="1482120" cy="5014800"/>
            <a:chOff x="3933360" y="1392120"/>
            <a:chExt cx="1482120" cy="5014800"/>
          </a:xfrm>
        </p:grpSpPr>
        <p:sp>
          <p:nvSpPr>
            <p:cNvPr id="694" name=""/>
            <p:cNvSpPr/>
            <p:nvPr/>
          </p:nvSpPr>
          <p:spPr>
            <a:xfrm>
              <a:off x="3933360" y="5673600"/>
              <a:ext cx="148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dupl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in tand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termi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4497480" y="1392120"/>
              <a:ext cx="609480" cy="4095720"/>
              <a:chOff x="4497480" y="1392120"/>
              <a:chExt cx="609480" cy="4095720"/>
            </a:xfrm>
          </p:grpSpPr>
          <p:sp>
            <p:nvSpPr>
              <p:cNvPr id="696" name=""/>
              <p:cNvSpPr/>
              <p:nvPr/>
            </p:nvSpPr>
            <p:spPr>
              <a:xfrm>
                <a:off x="4664160" y="1392120"/>
                <a:ext cx="274680" cy="1389240"/>
              </a:xfrm>
              <a:prstGeom prst="can">
                <a:avLst>
                  <a:gd name="adj" fmla="val 14189"/>
                </a:avLst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0800000">
                <a:off x="4649400" y="2743200"/>
                <a:ext cx="304920" cy="2744640"/>
              </a:xfrm>
              <a:prstGeom prst="can">
                <a:avLst>
                  <a:gd name="adj" fmla="val 8092"/>
                </a:avLst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497480" y="3886200"/>
                <a:ext cx="609480" cy="68580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497480" y="4572000"/>
                <a:ext cx="609480" cy="68580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5762160" y="1413000"/>
            <a:ext cx="1482120" cy="4990680"/>
            <a:chOff x="5762160" y="1413000"/>
            <a:chExt cx="1482120" cy="4990680"/>
          </a:xfrm>
        </p:grpSpPr>
        <p:sp>
          <p:nvSpPr>
            <p:cNvPr id="701" name=""/>
            <p:cNvSpPr/>
            <p:nvPr/>
          </p:nvSpPr>
          <p:spPr>
            <a:xfrm>
              <a:off x="5762160" y="5670360"/>
              <a:ext cx="148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dupl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in tand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invert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6173640" y="1413000"/>
              <a:ext cx="609840" cy="4101120"/>
              <a:chOff x="6173640" y="1413000"/>
              <a:chExt cx="609840" cy="4101120"/>
            </a:xfrm>
          </p:grpSpPr>
          <p:sp>
            <p:nvSpPr>
              <p:cNvPr id="703" name=""/>
              <p:cNvSpPr/>
              <p:nvPr/>
            </p:nvSpPr>
            <p:spPr>
              <a:xfrm>
                <a:off x="6340320" y="1413000"/>
                <a:ext cx="274680" cy="1388880"/>
              </a:xfrm>
              <a:prstGeom prst="can">
                <a:avLst>
                  <a:gd name="adj" fmla="val 14189"/>
                </a:avLst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6326280" y="2769840"/>
                <a:ext cx="304560" cy="2744280"/>
              </a:xfrm>
              <a:prstGeom prst="can">
                <a:avLst>
                  <a:gd name="adj" fmla="val 8092"/>
                </a:avLst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c2199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73640" y="3609720"/>
                <a:ext cx="609840" cy="68544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73640" y="4295520"/>
                <a:ext cx="609840" cy="609480"/>
              </a:xfrm>
              <a:prstGeom prst="rect">
                <a:avLst/>
              </a:prstGeom>
              <a:solidFill>
                <a:srgbClr val="ff020b">
                  <a:alpha val="50000"/>
                </a:srgbClr>
              </a:solidFill>
              <a:ln w="19080">
                <a:solidFill>
                  <a:srgbClr val="ff14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7363800" y="1697040"/>
            <a:ext cx="1515600" cy="4248000"/>
            <a:chOff x="7363800" y="1697040"/>
            <a:chExt cx="1515600" cy="4248000"/>
          </a:xfrm>
        </p:grpSpPr>
        <p:sp>
          <p:nvSpPr>
            <p:cNvPr id="708" name=""/>
            <p:cNvSpPr/>
            <p:nvPr/>
          </p:nvSpPr>
          <p:spPr>
            <a:xfrm>
              <a:off x="7924680" y="1697040"/>
              <a:ext cx="274680" cy="1388880"/>
            </a:xfrm>
            <a:prstGeom prst="can">
              <a:avLst>
                <a:gd name="adj" fmla="val 1418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0800000">
              <a:off x="7926120" y="3066480"/>
              <a:ext cx="274680" cy="1297080"/>
            </a:xfrm>
            <a:prstGeom prst="can">
              <a:avLst>
                <a:gd name="adj" fmla="val 8092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ff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2199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1849320"/>
              <a:ext cx="609480" cy="121932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72400" y="3068640"/>
              <a:ext cx="609480" cy="121896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3800" y="5659200"/>
              <a:ext cx="1515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199"/>
                  </a:solidFill>
                  <a:latin typeface="Times New Roman"/>
                </a:rPr>
                <a:t>isocromoso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68920" cy="495324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Duplicazione parziale del cromosoma 12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" y="152388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6,XX,i(12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metafase femminile con presenza di isocromosoma del braccio corto del cromosoma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477120" y="1828800"/>
            <a:ext cx="30456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733920" y="3817800"/>
            <a:ext cx="20574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9760" y="4343400"/>
            <a:ext cx="20574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548640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68720" y="548640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5494320"/>
            <a:ext cx="2286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0" t="0" r="969" b="1833"/>
          <a:stretch/>
        </p:blipFill>
        <p:spPr>
          <a:xfrm>
            <a:off x="422280" y="2373480"/>
            <a:ext cx="8369280" cy="33778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104280" y="1403280"/>
            <a:ext cx="29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NDE PER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424"/>
                </a:solidFill>
                <a:latin typeface="Times New Roman"/>
              </a:rPr>
              <a:t>Duplicazione parziale del cromosoma Y in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5160" y="1917720"/>
            <a:ext cx="5697000" cy="3568320"/>
            <a:chOff x="65160" y="1917720"/>
            <a:chExt cx="5697000" cy="356832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65160" y="1917720"/>
              <a:ext cx="5697000" cy="35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155520" y="2104200"/>
              <a:ext cx="1356120" cy="158688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25464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31640" y="3584520"/>
            <a:ext cx="934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m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148160" y="3510000"/>
            <a:ext cx="18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cromosoma 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985000" y="4470480"/>
            <a:ext cx="152280" cy="152280"/>
          </a:xfrm>
          <a:prstGeom prst="ellipse">
            <a:avLst/>
          </a:prstGeom>
          <a:solidFill>
            <a:srgbClr val="ff0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20000" y="4384800"/>
            <a:ext cx="135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foide crom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85000" y="4851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2640" y="4768920"/>
            <a:ext cx="252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ex determining region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5705640"/>
            <a:ext cx="4345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6,X,-Y,+ i(Y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individuo di sesso maschile azospe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rcRect l="3355" t="0" r="4473" b="0"/>
          <a:stretch/>
        </p:blipFill>
        <p:spPr>
          <a:xfrm>
            <a:off x="5867280" y="1905120"/>
            <a:ext cx="3124440" cy="11700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7238880" y="2286000"/>
            <a:ext cx="1676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28" idx="0"/>
          </p:cNvCxnSpPr>
          <p:nvPr/>
        </p:nvCxnSpPr>
        <p:spPr>
          <a:xfrm flipH="1">
            <a:off x="8074800" y="2971440"/>
            <a:ext cx="2520" cy="53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87680" y="761760"/>
            <a:ext cx="237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24"/>
                </a:solidFill>
                <a:latin typeface="Times New Roman"/>
              </a:rPr>
              <a:t>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95880" y="1523880"/>
            <a:ext cx="1370880" cy="4350600"/>
            <a:chOff x="695880" y="1523880"/>
            <a:chExt cx="1370880" cy="4350600"/>
          </a:xfrm>
        </p:grpSpPr>
        <p:sp>
          <p:nvSpPr>
            <p:cNvPr id="739" name=""/>
            <p:cNvSpPr/>
            <p:nvPr/>
          </p:nvSpPr>
          <p:spPr>
            <a:xfrm>
              <a:off x="695880" y="5262480"/>
              <a:ext cx="1370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omoso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rm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305360" y="1523880"/>
              <a:ext cx="274680" cy="3644640"/>
              <a:chOff x="1305360" y="1523880"/>
              <a:chExt cx="274680" cy="3644640"/>
            </a:xfrm>
          </p:grpSpPr>
          <p:sp>
            <p:nvSpPr>
              <p:cNvPr id="741" name=""/>
              <p:cNvSpPr/>
              <p:nvPr/>
            </p:nvSpPr>
            <p:spPr>
              <a:xfrm>
                <a:off x="1305360" y="1523880"/>
                <a:ext cx="273600" cy="1389240"/>
              </a:xfrm>
              <a:prstGeom prst="can">
                <a:avLst>
                  <a:gd name="adj" fmla="val 14189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0800000">
                <a:off x="1306080" y="2893680"/>
                <a:ext cx="273960" cy="2274840"/>
              </a:xfrm>
              <a:prstGeom prst="can">
                <a:avLst>
                  <a:gd name="adj" fmla="val 8092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1154160" y="1905120"/>
            <a:ext cx="3754800" cy="4028400"/>
            <a:chOff x="1154160" y="1905120"/>
            <a:chExt cx="3754800" cy="4028400"/>
          </a:xfrm>
        </p:grpSpPr>
        <p:sp>
          <p:nvSpPr>
            <p:cNvPr id="744" name=""/>
            <p:cNvSpPr/>
            <p:nvPr/>
          </p:nvSpPr>
          <p:spPr>
            <a:xfrm>
              <a:off x="1154160" y="3429000"/>
              <a:ext cx="609120" cy="104148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476880" y="1905120"/>
              <a:ext cx="1432080" cy="4028400"/>
              <a:chOff x="3476880" y="1905120"/>
              <a:chExt cx="1432080" cy="4028400"/>
            </a:xfrm>
          </p:grpSpPr>
          <p:sp>
            <p:nvSpPr>
              <p:cNvPr id="746" name=""/>
              <p:cNvSpPr/>
              <p:nvPr/>
            </p:nvSpPr>
            <p:spPr>
              <a:xfrm>
                <a:off x="3476880" y="5413320"/>
                <a:ext cx="136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le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stizi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7" name=""/>
              <p:cNvGrpSpPr/>
              <p:nvPr/>
            </p:nvGrpSpPr>
            <p:grpSpPr>
              <a:xfrm>
                <a:off x="3656520" y="1905120"/>
                <a:ext cx="274680" cy="2640960"/>
                <a:chOff x="3656520" y="1905120"/>
                <a:chExt cx="274680" cy="264096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656520" y="1905120"/>
                  <a:ext cx="273960" cy="1388520"/>
                </a:xfrm>
                <a:prstGeom prst="can">
                  <a:avLst>
                    <a:gd name="adj" fmla="val 14189"/>
                  </a:avLst>
                </a:prstGeom>
                <a:gradFill rotWithShape="0">
                  <a:gsLst>
                    <a:gs pos="0">
                      <a:srgbClr val="9eb6fe"/>
                    </a:gs>
                    <a:gs pos="50000">
                      <a:srgbClr val="3366ff"/>
                    </a:gs>
                    <a:gs pos="100000">
                      <a:srgbClr val="9eb6fe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0800000">
                  <a:off x="3657240" y="3274560"/>
                  <a:ext cx="273960" cy="1271520"/>
                </a:xfrm>
                <a:prstGeom prst="can">
                  <a:avLst>
                    <a:gd name="adj" fmla="val 8092"/>
                  </a:avLst>
                </a:prstGeom>
                <a:gradFill rotWithShape="0">
                  <a:gsLst>
                    <a:gs pos="0">
                      <a:srgbClr val="9eb6fe"/>
                    </a:gs>
                    <a:gs pos="50000">
                      <a:srgbClr val="3366ff"/>
                    </a:gs>
                    <a:gs pos="100000">
                      <a:srgbClr val="9eb6fe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" name=""/>
              <p:cNvSpPr/>
              <p:nvPr/>
            </p:nvSpPr>
            <p:spPr>
              <a:xfrm rot="10800000">
                <a:off x="4635000" y="2766960"/>
                <a:ext cx="273960" cy="1424160"/>
              </a:xfrm>
              <a:prstGeom prst="can">
                <a:avLst>
                  <a:gd name="adj" fmla="val 8092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943800" y="2533680"/>
                <a:ext cx="7538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202"/>
                    </a:solidFill>
                    <a:latin typeface="Times New Roman"/>
                  </a:rPr>
                  <a:t>+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2179800" y="3048120"/>
              <a:ext cx="1125000" cy="228600"/>
            </a:xfrm>
            <a:prstGeom prst="rightArrow">
              <a:avLst>
                <a:gd name="adj1" fmla="val 27778"/>
                <a:gd name="adj2" fmla="val 117905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143000" y="2006640"/>
            <a:ext cx="6761880" cy="3926880"/>
            <a:chOff x="1143000" y="2006640"/>
            <a:chExt cx="6761880" cy="3926880"/>
          </a:xfrm>
        </p:grpSpPr>
        <p:sp>
          <p:nvSpPr>
            <p:cNvPr id="754" name=""/>
            <p:cNvSpPr/>
            <p:nvPr/>
          </p:nvSpPr>
          <p:spPr>
            <a:xfrm>
              <a:off x="1143000" y="4178160"/>
              <a:ext cx="609120" cy="1041480"/>
            </a:xfrm>
            <a:prstGeom prst="rect">
              <a:avLst/>
            </a:prstGeom>
            <a:solidFill>
              <a:srgbClr val="ff020b">
                <a:alpha val="50000"/>
              </a:srgbClr>
            </a:solidFill>
            <a:ln w="19080">
              <a:solidFill>
                <a:srgbClr val="ff1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612120" y="2006640"/>
              <a:ext cx="1292760" cy="3926880"/>
              <a:chOff x="6612120" y="2006640"/>
              <a:chExt cx="1292760" cy="3926880"/>
            </a:xfrm>
          </p:grpSpPr>
          <p:sp>
            <p:nvSpPr>
              <p:cNvPr id="756" name=""/>
              <p:cNvSpPr/>
              <p:nvPr/>
            </p:nvSpPr>
            <p:spPr>
              <a:xfrm>
                <a:off x="6612120" y="5413320"/>
                <a:ext cx="1155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le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ermin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652440" y="2006640"/>
                <a:ext cx="273960" cy="1388880"/>
              </a:xfrm>
              <a:prstGeom prst="can">
                <a:avLst>
                  <a:gd name="adj" fmla="val 14189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0800000">
                <a:off x="6654240" y="3376440"/>
                <a:ext cx="273600" cy="1500480"/>
              </a:xfrm>
              <a:prstGeom prst="can">
                <a:avLst>
                  <a:gd name="adj" fmla="val 8092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0800000">
                <a:off x="7631280" y="3048120"/>
                <a:ext cx="273600" cy="1015920"/>
              </a:xfrm>
              <a:prstGeom prst="can">
                <a:avLst>
                  <a:gd name="adj" fmla="val 8092"/>
                </a:avLst>
              </a:prstGeom>
              <a:gradFill rotWithShape="0">
                <a:gsLst>
                  <a:gs pos="0">
                    <a:srgbClr val="9eb6fe"/>
                  </a:gs>
                  <a:gs pos="50000">
                    <a:srgbClr val="3366ff"/>
                  </a:gs>
                  <a:gs pos="100000">
                    <a:srgbClr val="9eb6f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46560" y="2635200"/>
                <a:ext cx="7538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ff0202"/>
                    </a:solidFill>
                    <a:latin typeface="Times New Roman"/>
                  </a:rPr>
                  <a:t>+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168280" y="3187800"/>
              <a:ext cx="4267440" cy="279360"/>
            </a:xfrm>
            <a:prstGeom prst="rightArrow">
              <a:avLst>
                <a:gd name="adj1" fmla="val 18185"/>
                <a:gd name="adj2" fmla="val 126944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Conseguenze genetiche delle dele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2514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1. letalità in omozig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9440" y="35053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2. assenza di ricomb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0880" y="46036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3. espressione del fenotipo recessivo di geni inclusi nella delezione: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mappatura dei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981080" y="92880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46,XY,(del7)(q11.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William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063880"/>
            <a:ext cx="4241880" cy="4005000"/>
            <a:chOff x="4572000" y="2063880"/>
            <a:chExt cx="4241880" cy="4005000"/>
          </a:xfrm>
        </p:grpSpPr>
        <p:pic>
          <p:nvPicPr>
            <p:cNvPr id="768" name="" descr=""/>
            <p:cNvPicPr/>
            <p:nvPr/>
          </p:nvPicPr>
          <p:blipFill>
            <a:blip r:embed="rId1"/>
            <a:stretch/>
          </p:blipFill>
          <p:spPr>
            <a:xfrm>
              <a:off x="4572000" y="2063880"/>
              <a:ext cx="424188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 flipH="1">
              <a:off x="7467120" y="3581280"/>
              <a:ext cx="228600" cy="228600"/>
            </a:xfrm>
            <a:prstGeom prst="line">
              <a:avLst/>
            </a:prstGeom>
            <a:ln w="9360">
              <a:solidFill>
                <a:srgbClr val="3df94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99160" y="4684680"/>
              <a:ext cx="228600" cy="228600"/>
            </a:xfrm>
            <a:prstGeom prst="line">
              <a:avLst/>
            </a:prstGeom>
            <a:ln w="9360">
              <a:solidFill>
                <a:srgbClr val="3df94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343080" y="2057400"/>
            <a:ext cx="4038480" cy="4038480"/>
            <a:chOff x="343080" y="2057400"/>
            <a:chExt cx="4038480" cy="4038480"/>
          </a:xfrm>
        </p:grpSpPr>
        <p:pic>
          <p:nvPicPr>
            <p:cNvPr id="772" name="" descr=""/>
            <p:cNvPicPr/>
            <p:nvPr/>
          </p:nvPicPr>
          <p:blipFill>
            <a:blip r:embed="rId2"/>
            <a:stretch/>
          </p:blipFill>
          <p:spPr>
            <a:xfrm>
              <a:off x="343080" y="2057400"/>
              <a:ext cx="4038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flipV="1">
              <a:off x="2530440" y="3513240"/>
              <a:ext cx="0" cy="304560"/>
            </a:xfrm>
            <a:prstGeom prst="line">
              <a:avLst/>
            </a:prstGeom>
            <a:ln w="9360">
              <a:solidFill>
                <a:srgbClr val="ff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11520" y="4339080"/>
              <a:ext cx="222120" cy="208800"/>
            </a:xfrm>
            <a:prstGeom prst="line">
              <a:avLst/>
            </a:prstGeom>
            <a:ln w="9360">
              <a:solidFill>
                <a:srgbClr val="ff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429000" y="8380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Inver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533520" y="1593720"/>
            <a:ext cx="834840" cy="387684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1447560" y="2925720"/>
            <a:ext cx="1260000" cy="1386720"/>
            <a:chOff x="1447560" y="2925720"/>
            <a:chExt cx="1260000" cy="1386720"/>
          </a:xfrm>
        </p:grpSpPr>
        <p:sp>
          <p:nvSpPr>
            <p:cNvPr id="778" name=""/>
            <p:cNvSpPr/>
            <p:nvPr/>
          </p:nvSpPr>
          <p:spPr>
            <a:xfrm>
              <a:off x="2203560" y="2925720"/>
              <a:ext cx="504000" cy="1134360"/>
            </a:xfrm>
            <a:custGeom>
              <a:avLst/>
              <a:gdLst>
                <a:gd name="textAreaLeft" fmla="*/ 67320 w 504000"/>
                <a:gd name="textAreaRight" fmla="*/ 436680 w 50400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36230"/>
                  <a:lnTo>
                    <a:pt x="6300" y="21271"/>
                  </a:lnTo>
                  <a:lnTo>
                    <a:pt x="0" y="17280"/>
                  </a:lnTo>
                  <a:lnTo>
                    <a:pt x="6300" y="12631"/>
                  </a:lnTo>
                  <a:lnTo>
                    <a:pt x="6300" y="14791"/>
                  </a:lnTo>
                  <a:arcTo wR="21600" hR="7560" stAng="2936230" swAng="-257879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1447200" y="3178080"/>
              <a:ext cx="629640" cy="1134360"/>
            </a:xfrm>
            <a:custGeom>
              <a:avLst/>
              <a:gdLst>
                <a:gd name="textAreaLeft" fmla="*/ 84240 w 629640"/>
                <a:gd name="textAreaRight" fmla="*/ 545400 w 62964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2895480" y="1828800"/>
            <a:ext cx="755640" cy="3645000"/>
            <a:chOff x="2895480" y="1828800"/>
            <a:chExt cx="755640" cy="3645000"/>
          </a:xfrm>
        </p:grpSpPr>
        <p:pic>
          <p:nvPicPr>
            <p:cNvPr id="781" name="" descr=""/>
            <p:cNvPicPr/>
            <p:nvPr/>
          </p:nvPicPr>
          <p:blipFill>
            <a:blip r:embed="rId2"/>
            <a:stretch/>
          </p:blipFill>
          <p:spPr>
            <a:xfrm>
              <a:off x="2895480" y="1828800"/>
              <a:ext cx="75564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3"/>
            <a:stretch/>
          </p:blipFill>
          <p:spPr>
            <a:xfrm>
              <a:off x="3087720" y="2790720"/>
              <a:ext cx="388800" cy="132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5092560" y="1803240"/>
            <a:ext cx="546120" cy="3765600"/>
          </a:xfrm>
          <a:prstGeom prst="rect">
            <a:avLst/>
          </a:prstGeom>
          <a:ln w="0">
            <a:noFill/>
          </a:ln>
        </p:spPr>
      </p:pic>
      <p:grpSp>
        <p:nvGrpSpPr>
          <p:cNvPr id="784" name=""/>
          <p:cNvGrpSpPr/>
          <p:nvPr/>
        </p:nvGrpSpPr>
        <p:grpSpPr>
          <a:xfrm>
            <a:off x="5943240" y="3733920"/>
            <a:ext cx="1260000" cy="1386720"/>
            <a:chOff x="5943240" y="3733920"/>
            <a:chExt cx="1260000" cy="1386720"/>
          </a:xfrm>
        </p:grpSpPr>
        <p:sp>
          <p:nvSpPr>
            <p:cNvPr id="785" name=""/>
            <p:cNvSpPr/>
            <p:nvPr/>
          </p:nvSpPr>
          <p:spPr>
            <a:xfrm>
              <a:off x="6699240" y="3733920"/>
              <a:ext cx="504000" cy="1134360"/>
            </a:xfrm>
            <a:custGeom>
              <a:avLst/>
              <a:gdLst>
                <a:gd name="textAreaLeft" fmla="*/ 67320 w 504000"/>
                <a:gd name="textAreaRight" fmla="*/ 436680 w 50400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36230"/>
                  <a:lnTo>
                    <a:pt x="6300" y="21271"/>
                  </a:lnTo>
                  <a:lnTo>
                    <a:pt x="0" y="17280"/>
                  </a:lnTo>
                  <a:lnTo>
                    <a:pt x="6300" y="12631"/>
                  </a:lnTo>
                  <a:lnTo>
                    <a:pt x="6300" y="14791"/>
                  </a:lnTo>
                  <a:arcTo wR="21600" hR="7560" stAng="2936230" swAng="-257879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942880" y="3986280"/>
              <a:ext cx="629640" cy="1134360"/>
            </a:xfrm>
            <a:custGeom>
              <a:avLst/>
              <a:gdLst>
                <a:gd name="textAreaLeft" fmla="*/ 84240 w 629640"/>
                <a:gd name="textAreaRight" fmla="*/ 545400 w 629640"/>
                <a:gd name="textAreaTop" fmla="*/ 198360 h 1134360"/>
                <a:gd name="textAreaBottom" fmla="*/ 822600 h 113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912600" y="57913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2199"/>
                </a:solidFill>
                <a:latin typeface="Times New Roman"/>
              </a:rPr>
              <a:t>inversione pericen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7400" y="57913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2199"/>
                </a:solidFill>
                <a:latin typeface="Times New Roman"/>
              </a:rPr>
              <a:t>inversione paracen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510320" y="1981080"/>
            <a:ext cx="500040" cy="3505320"/>
            <a:chOff x="7510320" y="1981080"/>
            <a:chExt cx="500040" cy="3505320"/>
          </a:xfrm>
        </p:grpSpPr>
        <p:pic>
          <p:nvPicPr>
            <p:cNvPr id="790" name="" descr=""/>
            <p:cNvPicPr/>
            <p:nvPr/>
          </p:nvPicPr>
          <p:blipFill>
            <a:blip r:embed="rId5"/>
            <a:stretch/>
          </p:blipFill>
          <p:spPr>
            <a:xfrm>
              <a:off x="7510320" y="1981080"/>
              <a:ext cx="50004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6"/>
            <a:stretch/>
          </p:blipFill>
          <p:spPr>
            <a:xfrm>
              <a:off x="7576920" y="3733920"/>
              <a:ext cx="382680" cy="130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648320" y="1479600"/>
            <a:ext cx="0" cy="42552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2262240" y="1801800"/>
            <a:ext cx="5038560" cy="20638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2292480" y="2341440"/>
            <a:ext cx="4965480" cy="26924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4648320" y="4114800"/>
            <a:ext cx="0" cy="52056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28680" y="2286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c2199"/>
                </a:solidFill>
                <a:latin typeface="Times New Roman"/>
              </a:rPr>
              <a:t>Profas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6000" y="4498920"/>
            <a:ext cx="7165440" cy="615240"/>
            <a:chOff x="756000" y="4498920"/>
            <a:chExt cx="7165440" cy="615240"/>
          </a:xfrm>
        </p:grpSpPr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4460760" y="4624560"/>
              <a:ext cx="3460680" cy="4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756000" y="4498920"/>
              <a:ext cx="22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 </a:t>
              </a: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Normale: tutti i geni pres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139040" y="4986360"/>
            <a:ext cx="5769000" cy="727920"/>
            <a:chOff x="1139040" y="4986360"/>
            <a:chExt cx="5769000" cy="727920"/>
          </a:xfrm>
        </p:grpSpPr>
        <p:pic>
          <p:nvPicPr>
            <p:cNvPr id="801" name="" descr=""/>
            <p:cNvPicPr/>
            <p:nvPr/>
          </p:nvPicPr>
          <p:blipFill>
            <a:blip r:embed="rId4"/>
            <a:stretch/>
          </p:blipFill>
          <p:spPr>
            <a:xfrm>
              <a:off x="4691880" y="5159520"/>
              <a:ext cx="221616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1139040" y="4986360"/>
              <a:ext cx="197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Delezioni/duplicazion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EFGH deleti/A duplic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830160" y="5641920"/>
            <a:ext cx="7090920" cy="592920"/>
            <a:chOff x="830160" y="5641920"/>
            <a:chExt cx="7090920" cy="592920"/>
          </a:xfrm>
        </p:grpSpPr>
        <p:pic>
          <p:nvPicPr>
            <p:cNvPr id="804" name="" descr=""/>
            <p:cNvPicPr/>
            <p:nvPr/>
          </p:nvPicPr>
          <p:blipFill>
            <a:blip r:embed="rId5"/>
            <a:stretch/>
          </p:blipFill>
          <p:spPr>
            <a:xfrm>
              <a:off x="4363560" y="5778720"/>
              <a:ext cx="355752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830160" y="5641920"/>
              <a:ext cx="22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Invertito: tutti i geni presen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682200" y="6205680"/>
            <a:ext cx="8108640" cy="651600"/>
            <a:chOff x="682200" y="6205680"/>
            <a:chExt cx="8108640" cy="651600"/>
          </a:xfrm>
        </p:grpSpPr>
        <p:pic>
          <p:nvPicPr>
            <p:cNvPr id="807" name="" descr=""/>
            <p:cNvPicPr/>
            <p:nvPr/>
          </p:nvPicPr>
          <p:blipFill>
            <a:blip r:embed="rId6"/>
            <a:stretch/>
          </p:blipFill>
          <p:spPr>
            <a:xfrm>
              <a:off x="4071960" y="6430320"/>
              <a:ext cx="47188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682200" y="6205680"/>
              <a:ext cx="1978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Delezioni/duplicazioni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A deleto/EFGH duplic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978840" y="1538280"/>
            <a:ext cx="2907360" cy="1047240"/>
            <a:chOff x="978840" y="1538280"/>
            <a:chExt cx="2907360" cy="1047240"/>
          </a:xfrm>
        </p:grpSpPr>
        <p:grpSp>
          <p:nvGrpSpPr>
            <p:cNvPr id="810" name=""/>
            <p:cNvGrpSpPr/>
            <p:nvPr/>
          </p:nvGrpSpPr>
          <p:grpSpPr>
            <a:xfrm>
              <a:off x="978840" y="1538280"/>
              <a:ext cx="2907360" cy="1047240"/>
              <a:chOff x="978840" y="1538280"/>
              <a:chExt cx="2907360" cy="1047240"/>
            </a:xfrm>
          </p:grpSpPr>
          <p:sp>
            <p:nvSpPr>
              <p:cNvPr id="811" name=""/>
              <p:cNvSpPr/>
              <p:nvPr/>
            </p:nvSpPr>
            <p:spPr>
              <a:xfrm flipH="1" flipV="1">
                <a:off x="2870280" y="1866600"/>
                <a:ext cx="1015920" cy="71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978840" y="1538280"/>
                <a:ext cx="145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c2199"/>
                    </a:solidFill>
                    <a:latin typeface="Times New Roman"/>
                  </a:rPr>
                  <a:t>Crossing o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424960" y="1706760"/>
              <a:ext cx="1322280" cy="549000"/>
            </a:xfrm>
            <a:prstGeom prst="line">
              <a:avLst/>
            </a:prstGeom>
            <a:ln w="28440">
              <a:solidFill>
                <a:srgbClr val="ff142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925720" y="914400"/>
            <a:ext cx="3689280" cy="847800"/>
            <a:chOff x="2925720" y="914400"/>
            <a:chExt cx="3689280" cy="847800"/>
          </a:xfrm>
        </p:grpSpPr>
        <p:pic>
          <p:nvPicPr>
            <p:cNvPr id="815" name="" descr=""/>
            <p:cNvPicPr/>
            <p:nvPr/>
          </p:nvPicPr>
          <p:blipFill>
            <a:blip r:embed="rId7"/>
            <a:stretch/>
          </p:blipFill>
          <p:spPr>
            <a:xfrm>
              <a:off x="2925720" y="914400"/>
              <a:ext cx="3689280" cy="84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6" name=""/>
            <p:cNvGrpSpPr/>
            <p:nvPr/>
          </p:nvGrpSpPr>
          <p:grpSpPr>
            <a:xfrm>
              <a:off x="3446640" y="923760"/>
              <a:ext cx="1195200" cy="762120"/>
              <a:chOff x="3446640" y="923760"/>
              <a:chExt cx="1195200" cy="762120"/>
            </a:xfrm>
          </p:grpSpPr>
          <p:sp>
            <p:nvSpPr>
              <p:cNvPr id="817" name=""/>
              <p:cNvSpPr/>
              <p:nvPr/>
            </p:nvSpPr>
            <p:spPr>
              <a:xfrm>
                <a:off x="3446640" y="1000080"/>
                <a:ext cx="0" cy="685800"/>
              </a:xfrm>
              <a:prstGeom prst="line">
                <a:avLst/>
              </a:prstGeom>
              <a:ln w="28440">
                <a:solidFill>
                  <a:srgbClr val="ff2d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41840" y="923760"/>
                <a:ext cx="0" cy="762120"/>
              </a:xfrm>
              <a:prstGeom prst="line">
                <a:avLst/>
              </a:prstGeom>
              <a:ln w="28440">
                <a:solidFill>
                  <a:srgbClr val="ff2d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887480" y="571680"/>
            <a:ext cx="59896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20b"/>
                </a:solidFill>
                <a:latin typeface="Times New Roman"/>
              </a:rPr>
              <a:t>Conseguenze di una inversione pericent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20b"/>
                </a:solidFill>
                <a:latin typeface="Times New Roman"/>
              </a:rPr>
              <a:t>Conseguenze di una inversione paracentr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rcRect l="0" t="96319" r="0" b="0"/>
          <a:stretch/>
        </p:blipFill>
        <p:spPr>
          <a:xfrm>
            <a:off x="3040200" y="1905120"/>
            <a:ext cx="3244680" cy="165096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rcRect l="0" t="144954" r="0" b="0"/>
          <a:stretch/>
        </p:blipFill>
        <p:spPr>
          <a:xfrm>
            <a:off x="3205080" y="3809880"/>
            <a:ext cx="3106800" cy="107964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370400" y="3973680"/>
            <a:ext cx="1906560" cy="644400"/>
          </a:xfrm>
          <a:prstGeom prst="rect">
            <a:avLst/>
          </a:prstGeom>
          <a:ln w="0">
            <a:noFill/>
          </a:ln>
        </p:spPr>
      </p:pic>
      <p:grpSp>
        <p:nvGrpSpPr>
          <p:cNvPr id="824" name=""/>
          <p:cNvGrpSpPr/>
          <p:nvPr/>
        </p:nvGrpSpPr>
        <p:grpSpPr>
          <a:xfrm>
            <a:off x="1996560" y="1538280"/>
            <a:ext cx="2181960" cy="673560"/>
            <a:chOff x="1996560" y="1538280"/>
            <a:chExt cx="2181960" cy="673560"/>
          </a:xfrm>
        </p:grpSpPr>
        <p:sp>
          <p:nvSpPr>
            <p:cNvPr id="825" name=""/>
            <p:cNvSpPr/>
            <p:nvPr/>
          </p:nvSpPr>
          <p:spPr>
            <a:xfrm flipH="1" flipV="1">
              <a:off x="3385800" y="1822680"/>
              <a:ext cx="792720" cy="389160"/>
            </a:xfrm>
            <a:prstGeom prst="line">
              <a:avLst/>
            </a:prstGeom>
            <a:ln w="19080">
              <a:solidFill>
                <a:srgbClr val="ff1119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96560" y="153828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Crossing 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H="1">
            <a:off x="4398840" y="4872600"/>
            <a:ext cx="22680" cy="556200"/>
          </a:xfrm>
          <a:prstGeom prst="line">
            <a:avLst/>
          </a:prstGeom>
          <a:ln w="38160">
            <a:solidFill>
              <a:srgbClr val="ff1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095640" y="3363840"/>
            <a:ext cx="1541160" cy="441000"/>
            <a:chOff x="3095640" y="3363840"/>
            <a:chExt cx="1541160" cy="441000"/>
          </a:xfrm>
        </p:grpSpPr>
        <p:sp>
          <p:nvSpPr>
            <p:cNvPr id="829" name=""/>
            <p:cNvSpPr/>
            <p:nvPr/>
          </p:nvSpPr>
          <p:spPr>
            <a:xfrm>
              <a:off x="4636800" y="3363840"/>
              <a:ext cx="0" cy="44100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95640" y="3457440"/>
              <a:ext cx="8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Anafase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233000" y="3513240"/>
            <a:ext cx="5407560" cy="1370520"/>
            <a:chOff x="1233000" y="3513240"/>
            <a:chExt cx="5407560" cy="1370520"/>
          </a:xfrm>
        </p:grpSpPr>
        <p:grpSp>
          <p:nvGrpSpPr>
            <p:cNvPr id="832" name=""/>
            <p:cNvGrpSpPr/>
            <p:nvPr/>
          </p:nvGrpSpPr>
          <p:grpSpPr>
            <a:xfrm>
              <a:off x="1233000" y="3513240"/>
              <a:ext cx="2622240" cy="1370520"/>
              <a:chOff x="1233000" y="3513240"/>
              <a:chExt cx="2622240" cy="1370520"/>
            </a:xfrm>
          </p:grpSpPr>
          <p:sp>
            <p:nvSpPr>
              <p:cNvPr id="833" name=""/>
              <p:cNvSpPr/>
              <p:nvPr/>
            </p:nvSpPr>
            <p:spPr>
              <a:xfrm rot="19554000">
                <a:off x="3090600" y="3556440"/>
                <a:ext cx="432000" cy="1319400"/>
              </a:xfrm>
              <a:prstGeom prst="lightningBolt">
                <a:avLst/>
              </a:prstGeom>
              <a:solidFill>
                <a:srgbClr val="ff111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233000" y="3513240"/>
                <a:ext cx="155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c2199"/>
                    </a:solidFill>
                    <a:latin typeface="Times New Roman"/>
                  </a:rPr>
                  <a:t>Rottura casuale 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c2199"/>
                    </a:solidFill>
                    <a:latin typeface="Times New Roman"/>
                  </a:rPr>
                  <a:t>Ponte dicentri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4922280" y="4092840"/>
              <a:ext cx="171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Perdita dell’acentr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2495520" y="5421240"/>
            <a:ext cx="2671920" cy="1006560"/>
          </a:xfrm>
          <a:prstGeom prst="rect">
            <a:avLst/>
          </a:prstGeom>
          <a:ln w="0">
            <a:noFill/>
          </a:ln>
        </p:spPr>
      </p:pic>
      <p:grpSp>
        <p:nvGrpSpPr>
          <p:cNvPr id="837" name=""/>
          <p:cNvGrpSpPr/>
          <p:nvPr/>
        </p:nvGrpSpPr>
        <p:grpSpPr>
          <a:xfrm>
            <a:off x="5249880" y="5784840"/>
            <a:ext cx="999000" cy="312480"/>
            <a:chOff x="5249880" y="5784840"/>
            <a:chExt cx="999000" cy="312480"/>
          </a:xfrm>
        </p:grpSpPr>
        <p:sp>
          <p:nvSpPr>
            <p:cNvPr id="838" name=""/>
            <p:cNvSpPr/>
            <p:nvPr/>
          </p:nvSpPr>
          <p:spPr>
            <a:xfrm flipH="1">
              <a:off x="5249880" y="5784840"/>
              <a:ext cx="619920" cy="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19720" y="5790240"/>
              <a:ext cx="92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Anafase I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530120" y="3753000"/>
            <a:ext cx="1432080" cy="2869920"/>
            <a:chOff x="7530120" y="3753000"/>
            <a:chExt cx="1432080" cy="2869920"/>
          </a:xfrm>
        </p:grpSpPr>
        <p:pic>
          <p:nvPicPr>
            <p:cNvPr id="841" name="" descr=""/>
            <p:cNvPicPr/>
            <p:nvPr/>
          </p:nvPicPr>
          <p:blipFill>
            <a:blip r:embed="rId5"/>
            <a:stretch/>
          </p:blipFill>
          <p:spPr>
            <a:xfrm>
              <a:off x="7902360" y="3753000"/>
              <a:ext cx="264600" cy="260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6"/>
            <a:stretch/>
          </p:blipFill>
          <p:spPr>
            <a:xfrm>
              <a:off x="8343360" y="3799080"/>
              <a:ext cx="29592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7530120" y="6315840"/>
              <a:ext cx="143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Prodotti comple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114960" y="4648320"/>
            <a:ext cx="1203480" cy="1939680"/>
            <a:chOff x="6114960" y="4648320"/>
            <a:chExt cx="1203480" cy="1939680"/>
          </a:xfrm>
        </p:grpSpPr>
        <p:pic>
          <p:nvPicPr>
            <p:cNvPr id="845" name="" descr=""/>
            <p:cNvPicPr/>
            <p:nvPr/>
          </p:nvPicPr>
          <p:blipFill>
            <a:blip r:embed="rId7"/>
            <a:stretch/>
          </p:blipFill>
          <p:spPr>
            <a:xfrm>
              <a:off x="6522120" y="4931280"/>
              <a:ext cx="24336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8"/>
            <a:stretch/>
          </p:blipFill>
          <p:spPr>
            <a:xfrm>
              <a:off x="6825960" y="4648320"/>
              <a:ext cx="287640" cy="173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6114960" y="6280920"/>
              <a:ext cx="12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c2199"/>
                  </a:solidFill>
                  <a:latin typeface="Times New Roman"/>
                </a:rPr>
                <a:t>Prodotti dele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6541920" y="4648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122640" y="914400"/>
            <a:ext cx="3179880" cy="785880"/>
            <a:chOff x="3122640" y="914400"/>
            <a:chExt cx="3179880" cy="785880"/>
          </a:xfrm>
        </p:grpSpPr>
        <p:pic>
          <p:nvPicPr>
            <p:cNvPr id="850" name="" descr=""/>
            <p:cNvPicPr/>
            <p:nvPr/>
          </p:nvPicPr>
          <p:blipFill>
            <a:blip r:embed="rId9"/>
            <a:stretch/>
          </p:blipFill>
          <p:spPr>
            <a:xfrm>
              <a:off x="3122640" y="1001880"/>
              <a:ext cx="317988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3581280" y="914400"/>
              <a:ext cx="0" cy="762120"/>
            </a:xfrm>
            <a:prstGeom prst="line">
              <a:avLst/>
            </a:prstGeom>
            <a:ln w="19080">
              <a:solidFill>
                <a:srgbClr val="ff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19720" y="938160"/>
              <a:ext cx="0" cy="762120"/>
            </a:xfrm>
            <a:prstGeom prst="line">
              <a:avLst/>
            </a:prstGeom>
            <a:ln w="19080">
              <a:solidFill>
                <a:srgbClr val="ff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486320" y="1415880"/>
            <a:ext cx="1307520" cy="483840"/>
            <a:chOff x="4486320" y="1415880"/>
            <a:chExt cx="1307520" cy="483840"/>
          </a:xfrm>
        </p:grpSpPr>
        <p:sp>
          <p:nvSpPr>
            <p:cNvPr id="854" name=""/>
            <p:cNvSpPr/>
            <p:nvPr/>
          </p:nvSpPr>
          <p:spPr>
            <a:xfrm>
              <a:off x="4486320" y="1458000"/>
              <a:ext cx="0" cy="441720"/>
            </a:xfrm>
            <a:prstGeom prst="line">
              <a:avLst/>
            </a:prstGeom>
            <a:ln w="38160">
              <a:solidFill>
                <a:srgbClr val="ff11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30760" y="141588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c2199"/>
                  </a:solidFill>
                  <a:latin typeface="Times New Roman"/>
                </a:rPr>
                <a:t>Profase</a:t>
              </a:r>
              <a:r>
                <a:rPr b="0" lang="en-GB" sz="1600" spc="-1" strike="noStrike">
                  <a:solidFill>
                    <a:srgbClr val="0c2199"/>
                  </a:solidFill>
                  <a:latin typeface="Times New Roman"/>
                </a:rPr>
                <a:t>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202"/>
                </a:solidFill>
                <a:latin typeface="Times New Roman"/>
              </a:rPr>
              <a:t>Inversione pericentrica ne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020680" cy="49402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 flipH="1">
            <a:off x="6019560" y="19051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6019560" y="27432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7800" y="19810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20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5638680" y="1905120"/>
            <a:ext cx="304920" cy="914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202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77880" y="617220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6,XX,inv(4)(p15q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629400" y="1295280"/>
            <a:ext cx="304920" cy="1219320"/>
          </a:xfrm>
          <a:prstGeom prst="rect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29400" y="2666880"/>
            <a:ext cx="304920" cy="8384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1295280"/>
            <a:ext cx="304920" cy="762120"/>
          </a:xfrm>
          <a:prstGeom prst="rect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83480" y="2209680"/>
            <a:ext cx="304920" cy="762120"/>
          </a:xfrm>
          <a:prstGeom prst="rect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83480" y="2971800"/>
            <a:ext cx="30492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96080" y="1981080"/>
            <a:ext cx="304920" cy="76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058760" y="1211400"/>
            <a:ext cx="3514680" cy="5341680"/>
            <a:chOff x="1058760" y="1211400"/>
            <a:chExt cx="3514680" cy="5341680"/>
          </a:xfrm>
        </p:grpSpPr>
        <p:pic>
          <p:nvPicPr>
            <p:cNvPr id="870" name="" descr=""/>
            <p:cNvPicPr/>
            <p:nvPr/>
          </p:nvPicPr>
          <p:blipFill>
            <a:blip r:embed="rId2"/>
            <a:stretch/>
          </p:blipFill>
          <p:spPr>
            <a:xfrm>
              <a:off x="1066680" y="4497480"/>
              <a:ext cx="350532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4524480" y="4886280"/>
              <a:ext cx="0" cy="16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82600" y="610560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52520" y="601812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ibrary 4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11400" y="5632560"/>
              <a:ext cx="152280" cy="152280"/>
            </a:xfrm>
            <a:prstGeom prst="ellipse">
              <a:avLst/>
            </a:prstGeom>
            <a:solidFill>
              <a:srgbClr val="ff0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87440" y="5522760"/>
              <a:ext cx="9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ibrary 4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" descr=""/>
            <p:cNvPicPr/>
            <p:nvPr/>
          </p:nvPicPr>
          <p:blipFill>
            <a:blip r:embed="rId3"/>
            <a:stretch/>
          </p:blipFill>
          <p:spPr>
            <a:xfrm>
              <a:off x="1058760" y="1211400"/>
              <a:ext cx="3514680" cy="328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"/>
          <p:cNvSpPr/>
          <p:nvPr/>
        </p:nvSpPr>
        <p:spPr>
          <a:xfrm>
            <a:off x="1219320" y="1295280"/>
            <a:ext cx="152280" cy="152640"/>
          </a:xfrm>
          <a:prstGeom prst="ellipse">
            <a:avLst/>
          </a:prstGeom>
          <a:solidFill>
            <a:srgbClr val="ff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384200" y="12193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brary 4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Traslo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218880" y="1828800"/>
            <a:ext cx="1835640" cy="3877560"/>
            <a:chOff x="218880" y="1828800"/>
            <a:chExt cx="1835640" cy="387756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476280" cy="23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304920" y="2438280"/>
              <a:ext cx="228600" cy="1371600"/>
              <a:chOff x="304920" y="2438280"/>
              <a:chExt cx="228600" cy="1371600"/>
            </a:xfrm>
          </p:grpSpPr>
          <p:sp>
            <p:nvSpPr>
              <p:cNvPr id="883" name=""/>
              <p:cNvSpPr/>
              <p:nvPr/>
            </p:nvSpPr>
            <p:spPr>
              <a:xfrm>
                <a:off x="304920" y="2438280"/>
                <a:ext cx="228600" cy="76320"/>
              </a:xfrm>
              <a:prstGeom prst="lightningBol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04920" y="3200400"/>
                <a:ext cx="228600" cy="75960"/>
              </a:xfrm>
              <a:prstGeom prst="lightningBol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04920" y="3733560"/>
                <a:ext cx="228600" cy="76320"/>
              </a:xfrm>
              <a:prstGeom prst="lightningBol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1219320" y="1914480"/>
              <a:ext cx="3474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3"/>
            <a:stretch/>
          </p:blipFill>
          <p:spPr>
            <a:xfrm>
              <a:off x="1303200" y="3029040"/>
              <a:ext cx="24768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1297080" y="2514600"/>
              <a:ext cx="23796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5"/>
            <a:stretch/>
          </p:blipFill>
          <p:spPr>
            <a:xfrm>
              <a:off x="1295280" y="3857760"/>
              <a:ext cx="28440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18880" y="4789440"/>
              <a:ext cx="183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Traslocazio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intracromoso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non recip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727360" y="1828800"/>
            <a:ext cx="3103920" cy="3634920"/>
            <a:chOff x="2727360" y="1828800"/>
            <a:chExt cx="3103920" cy="3634920"/>
          </a:xfrm>
        </p:grpSpPr>
        <p:sp>
          <p:nvSpPr>
            <p:cNvPr id="892" name=""/>
            <p:cNvSpPr/>
            <p:nvPr/>
          </p:nvSpPr>
          <p:spPr>
            <a:xfrm>
              <a:off x="2727360" y="4821120"/>
              <a:ext cx="31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Traslocazione intercomoso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non recip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3" name="" descr=""/>
            <p:cNvPicPr/>
            <p:nvPr/>
          </p:nvPicPr>
          <p:blipFill>
            <a:blip r:embed="rId6"/>
            <a:stretch/>
          </p:blipFill>
          <p:spPr>
            <a:xfrm>
              <a:off x="3057480" y="1905120"/>
              <a:ext cx="1133640" cy="2222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4" name=""/>
            <p:cNvGrpSpPr/>
            <p:nvPr/>
          </p:nvGrpSpPr>
          <p:grpSpPr>
            <a:xfrm>
              <a:off x="3390480" y="2778480"/>
              <a:ext cx="403200" cy="1031040"/>
              <a:chOff x="3390480" y="2778480"/>
              <a:chExt cx="403200" cy="1031040"/>
            </a:xfrm>
          </p:grpSpPr>
          <p:sp>
            <p:nvSpPr>
              <p:cNvPr id="895" name=""/>
              <p:cNvSpPr/>
              <p:nvPr/>
            </p:nvSpPr>
            <p:spPr>
              <a:xfrm flipH="1">
                <a:off x="3390120" y="3047760"/>
                <a:ext cx="228600" cy="22824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409200" y="3581280"/>
                <a:ext cx="228600" cy="22824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16943400">
                <a:off x="3543120" y="2800080"/>
                <a:ext cx="228240" cy="228600"/>
              </a:xfrm>
              <a:prstGeom prst="lightningBol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8" name="" descr=""/>
            <p:cNvPicPr/>
            <p:nvPr/>
          </p:nvPicPr>
          <p:blipFill>
            <a:blip r:embed="rId7"/>
            <a:stretch/>
          </p:blipFill>
          <p:spPr>
            <a:xfrm>
              <a:off x="4248000" y="1828800"/>
              <a:ext cx="93348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8"/>
            <a:stretch/>
          </p:blipFill>
          <p:spPr>
            <a:xfrm>
              <a:off x="4915080" y="3038400"/>
              <a:ext cx="237960" cy="5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0" name=""/>
            <p:cNvGrpSpPr/>
            <p:nvPr/>
          </p:nvGrpSpPr>
          <p:grpSpPr>
            <a:xfrm>
              <a:off x="4324320" y="3276720"/>
              <a:ext cx="836640" cy="925560"/>
              <a:chOff x="4324320" y="3276720"/>
              <a:chExt cx="836640" cy="925560"/>
            </a:xfrm>
          </p:grpSpPr>
          <p:pic>
            <p:nvPicPr>
              <p:cNvPr id="90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24320" y="3276720"/>
                <a:ext cx="2556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05360" y="3553200"/>
                <a:ext cx="255600" cy="64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03" name=""/>
          <p:cNvGrpSpPr/>
          <p:nvPr/>
        </p:nvGrpSpPr>
        <p:grpSpPr>
          <a:xfrm>
            <a:off x="6092640" y="1828800"/>
            <a:ext cx="3103920" cy="3615840"/>
            <a:chOff x="6092640" y="1828800"/>
            <a:chExt cx="3103920" cy="3615840"/>
          </a:xfrm>
        </p:grpSpPr>
        <p:sp>
          <p:nvSpPr>
            <p:cNvPr id="904" name=""/>
            <p:cNvSpPr/>
            <p:nvPr/>
          </p:nvSpPr>
          <p:spPr>
            <a:xfrm>
              <a:off x="6092640" y="4802040"/>
              <a:ext cx="31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Traslocazione intercomosom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c2199"/>
                  </a:solidFill>
                  <a:latin typeface="Times New Roman"/>
                </a:rPr>
                <a:t>recip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11"/>
            <a:stretch/>
          </p:blipFill>
          <p:spPr>
            <a:xfrm>
              <a:off x="6367320" y="1981080"/>
              <a:ext cx="110664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 flipH="1">
              <a:off x="6766920" y="3429000"/>
              <a:ext cx="22860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rot="16943400">
              <a:off x="6919560" y="2666520"/>
              <a:ext cx="22860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758000" y="1828800"/>
              <a:ext cx="10065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8472600" y="2743200"/>
              <a:ext cx="3016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7862760" y="3525840"/>
              <a:ext cx="255600" cy="95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Conseguenze di una traslocazione recip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576360" y="1066680"/>
            <a:ext cx="2352240" cy="2471760"/>
            <a:chOff x="576360" y="1066680"/>
            <a:chExt cx="2352240" cy="2471760"/>
          </a:xfrm>
        </p:grpSpPr>
        <p:grpSp>
          <p:nvGrpSpPr>
            <p:cNvPr id="913" name=""/>
            <p:cNvGrpSpPr/>
            <p:nvPr/>
          </p:nvGrpSpPr>
          <p:grpSpPr>
            <a:xfrm>
              <a:off x="685800" y="1527120"/>
              <a:ext cx="132840" cy="2010960"/>
              <a:chOff x="685800" y="1527120"/>
              <a:chExt cx="132840" cy="2010960"/>
            </a:xfrm>
          </p:grpSpPr>
          <p:sp>
            <p:nvSpPr>
              <p:cNvPr id="914" name=""/>
              <p:cNvSpPr/>
              <p:nvPr/>
            </p:nvSpPr>
            <p:spPr>
              <a:xfrm>
                <a:off x="685800" y="1527120"/>
                <a:ext cx="132840" cy="2010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85800" y="2063520"/>
                <a:ext cx="132840" cy="134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2563920" y="2197080"/>
              <a:ext cx="133200" cy="134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63920" y="2600280"/>
              <a:ext cx="133200" cy="133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6360" y="106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09440" y="1066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35080" y="1706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442960" y="1703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60720" y="2197080"/>
              <a:ext cx="134640" cy="134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60720" y="2600280"/>
              <a:ext cx="134640" cy="133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1131840" y="1527120"/>
              <a:ext cx="134640" cy="2010960"/>
              <a:chOff x="1131840" y="1527120"/>
              <a:chExt cx="134640" cy="2010960"/>
            </a:xfrm>
          </p:grpSpPr>
          <p:sp>
            <p:nvSpPr>
              <p:cNvPr id="925" name=""/>
              <p:cNvSpPr/>
              <p:nvPr/>
            </p:nvSpPr>
            <p:spPr>
              <a:xfrm>
                <a:off x="1131840" y="1527120"/>
                <a:ext cx="134640" cy="2010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131840" y="2063520"/>
                <a:ext cx="134640" cy="134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1010880" y="4002120"/>
            <a:ext cx="418320" cy="2745360"/>
            <a:chOff x="1010880" y="4002120"/>
            <a:chExt cx="418320" cy="2745360"/>
          </a:xfrm>
        </p:grpSpPr>
        <p:grpSp>
          <p:nvGrpSpPr>
            <p:cNvPr id="928" name=""/>
            <p:cNvGrpSpPr/>
            <p:nvPr/>
          </p:nvGrpSpPr>
          <p:grpSpPr>
            <a:xfrm>
              <a:off x="1143000" y="4471920"/>
              <a:ext cx="148680" cy="2275560"/>
              <a:chOff x="1143000" y="4471920"/>
              <a:chExt cx="148680" cy="2275560"/>
            </a:xfrm>
          </p:grpSpPr>
          <p:sp>
            <p:nvSpPr>
              <p:cNvPr id="929" name=""/>
              <p:cNvSpPr/>
              <p:nvPr/>
            </p:nvSpPr>
            <p:spPr>
              <a:xfrm>
                <a:off x="1148760" y="4471920"/>
                <a:ext cx="139320" cy="14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143000" y="5041080"/>
                <a:ext cx="142920" cy="14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151640" y="5894280"/>
                <a:ext cx="140040" cy="853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1010880" y="4002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829880" y="4184640"/>
            <a:ext cx="418320" cy="1874880"/>
            <a:chOff x="1829880" y="4184640"/>
            <a:chExt cx="418320" cy="1874880"/>
          </a:xfrm>
        </p:grpSpPr>
        <p:sp>
          <p:nvSpPr>
            <p:cNvPr id="934" name=""/>
            <p:cNvSpPr/>
            <p:nvPr/>
          </p:nvSpPr>
          <p:spPr>
            <a:xfrm>
              <a:off x="1981080" y="4767120"/>
              <a:ext cx="139680" cy="68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81080" y="5194080"/>
              <a:ext cx="142920" cy="141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81080" y="5465520"/>
              <a:ext cx="139680" cy="59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29880" y="4184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367000" y="4184640"/>
            <a:ext cx="485640" cy="1996920"/>
            <a:chOff x="2367000" y="4184640"/>
            <a:chExt cx="485640" cy="1996920"/>
          </a:xfrm>
        </p:grpSpPr>
        <p:sp>
          <p:nvSpPr>
            <p:cNvPr id="939" name=""/>
            <p:cNvSpPr/>
            <p:nvPr/>
          </p:nvSpPr>
          <p:spPr>
            <a:xfrm>
              <a:off x="2563920" y="4754520"/>
              <a:ext cx="141120" cy="1427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63920" y="5182920"/>
              <a:ext cx="141120" cy="14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67000" y="4184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82680" y="4014720"/>
            <a:ext cx="485640" cy="2593440"/>
            <a:chOff x="382680" y="4014720"/>
            <a:chExt cx="485640" cy="2593440"/>
          </a:xfrm>
        </p:grpSpPr>
        <p:grpSp>
          <p:nvGrpSpPr>
            <p:cNvPr id="943" name=""/>
            <p:cNvGrpSpPr/>
            <p:nvPr/>
          </p:nvGrpSpPr>
          <p:grpSpPr>
            <a:xfrm>
              <a:off x="533520" y="4471920"/>
              <a:ext cx="140760" cy="2136240"/>
              <a:chOff x="533520" y="4471920"/>
              <a:chExt cx="140760" cy="2136240"/>
            </a:xfrm>
          </p:grpSpPr>
          <p:sp>
            <p:nvSpPr>
              <p:cNvPr id="944" name=""/>
              <p:cNvSpPr/>
              <p:nvPr/>
            </p:nvSpPr>
            <p:spPr>
              <a:xfrm>
                <a:off x="533520" y="4471920"/>
                <a:ext cx="140760" cy="2136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3520" y="5041800"/>
                <a:ext cx="140760" cy="142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382680" y="4014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5334120" y="55198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Come segrega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992520" y="3619440"/>
            <a:ext cx="1252080" cy="757080"/>
            <a:chOff x="992520" y="3619440"/>
            <a:chExt cx="1252080" cy="757080"/>
          </a:xfrm>
        </p:grpSpPr>
        <p:sp>
          <p:nvSpPr>
            <p:cNvPr id="949" name=""/>
            <p:cNvSpPr/>
            <p:nvPr/>
          </p:nvSpPr>
          <p:spPr>
            <a:xfrm>
              <a:off x="1599480" y="3690720"/>
              <a:ext cx="228240" cy="685800"/>
            </a:xfrm>
            <a:prstGeom prst="downArrow">
              <a:avLst>
                <a:gd name="adj1" fmla="val 50000"/>
                <a:gd name="adj2" fmla="val 7511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92520" y="3619440"/>
              <a:ext cx="1252080" cy="337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trasloc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257800" y="1785960"/>
            <a:ext cx="3139920" cy="3429000"/>
            <a:chOff x="5257800" y="1785960"/>
            <a:chExt cx="3139920" cy="3429000"/>
          </a:xfrm>
        </p:grpSpPr>
        <p:sp>
          <p:nvSpPr>
            <p:cNvPr id="952" name=""/>
            <p:cNvSpPr/>
            <p:nvPr/>
          </p:nvSpPr>
          <p:spPr>
            <a:xfrm>
              <a:off x="6318360" y="1785960"/>
              <a:ext cx="230040" cy="184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18360" y="2711520"/>
              <a:ext cx="230040" cy="23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5684400" y="2995560"/>
              <a:ext cx="225360" cy="1041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88160" y="1785960"/>
              <a:ext cx="228600" cy="179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799320" y="2711520"/>
              <a:ext cx="230040" cy="23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16200000">
              <a:off x="7591320" y="2765520"/>
              <a:ext cx="225360" cy="138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16200000">
              <a:off x="7608600" y="3304800"/>
              <a:ext cx="228600" cy="13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8400" y="3865680"/>
              <a:ext cx="225360" cy="134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16200000">
              <a:off x="6818040" y="4503600"/>
              <a:ext cx="230400" cy="23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10800000">
              <a:off x="6318360" y="3903840"/>
              <a:ext cx="225360" cy="1311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0800000">
              <a:off x="6318000" y="4484520"/>
              <a:ext cx="230040" cy="23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16200000">
              <a:off x="5673600" y="3487320"/>
              <a:ext cx="228600" cy="1060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65440" y="2722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39760" y="4154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40480" y="2782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67600" y="4162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256000" y="1227240"/>
            <a:ext cx="2840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STRUTTURA A C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4219200" y="762120"/>
            <a:ext cx="4221000" cy="5867280"/>
            <a:chOff x="4219200" y="762120"/>
            <a:chExt cx="4221000" cy="5867280"/>
          </a:xfrm>
        </p:grpSpPr>
        <p:sp>
          <p:nvSpPr>
            <p:cNvPr id="439" name=""/>
            <p:cNvSpPr/>
            <p:nvPr/>
          </p:nvSpPr>
          <p:spPr>
            <a:xfrm flipV="1" rot="16200000">
              <a:off x="5681880" y="3871080"/>
              <a:ext cx="1295280" cy="4221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-360 h 4221000"/>
                <a:gd name="textAreaBottom" fmla="*/ 4221000 h 42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90e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400000">
              <a:off x="5681880" y="-700560"/>
              <a:ext cx="1295280" cy="4221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221000"/>
                <a:gd name="textAreaBottom" fmla="*/ 4221360 h 42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90e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1160" y="609480"/>
            <a:ext cx="3868200" cy="2971800"/>
            <a:chOff x="281160" y="609480"/>
            <a:chExt cx="3868200" cy="297180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rcRect l="6636" t="23238" r="23651" b="12032"/>
            <a:stretch/>
          </p:blipFill>
          <p:spPr>
            <a:xfrm>
              <a:off x="1195200" y="609480"/>
              <a:ext cx="29541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81160" y="17575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c2199"/>
                  </a:solidFill>
                  <a:latin typeface="Times New Roman"/>
                </a:rPr>
                <a:t>D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24920" y="3657600"/>
            <a:ext cx="4024440" cy="3124080"/>
            <a:chOff x="124920" y="3657600"/>
            <a:chExt cx="4024440" cy="3124080"/>
          </a:xfrm>
        </p:grpSpPr>
        <p:pic>
          <p:nvPicPr>
            <p:cNvPr id="445" name="" descr=""/>
            <p:cNvPicPr/>
            <p:nvPr/>
          </p:nvPicPr>
          <p:blipFill>
            <a:blip r:embed="rId2"/>
            <a:srcRect l="7057" t="21577" r="23238" b="10371"/>
            <a:stretch/>
          </p:blipFill>
          <p:spPr>
            <a:xfrm>
              <a:off x="1194840" y="3657600"/>
              <a:ext cx="2954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24920" y="4708440"/>
              <a:ext cx="106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O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579200" y="2133720"/>
            <a:ext cx="4142160" cy="3124080"/>
            <a:chOff x="4579200" y="2133720"/>
            <a:chExt cx="4142160" cy="3124080"/>
          </a:xfrm>
        </p:grpSpPr>
        <p:pic>
          <p:nvPicPr>
            <p:cNvPr id="448" name="" descr=""/>
            <p:cNvPicPr/>
            <p:nvPr/>
          </p:nvPicPr>
          <p:blipFill>
            <a:blip r:embed="rId3"/>
            <a:srcRect l="6636" t="21577" r="21990" b="10371"/>
            <a:stretch/>
          </p:blipFill>
          <p:spPr>
            <a:xfrm>
              <a:off x="5697720" y="2133720"/>
              <a:ext cx="3023640" cy="3124080"/>
            </a:xfrm>
            <a:prstGeom prst="rect">
              <a:avLst/>
            </a:prstGeom>
            <a:ln w="0">
              <a:noFill/>
            </a:ln>
            <a:effectLst>
              <a:outerShdw dist="20364" dir="2700000" blurRad="0" rotWithShape="0">
                <a:srgbClr val="333399"/>
              </a:outerShdw>
            </a:effectLst>
          </p:spPr>
        </p:pic>
        <p:sp>
          <p:nvSpPr>
            <p:cNvPr id="449" name=""/>
            <p:cNvSpPr/>
            <p:nvPr/>
          </p:nvSpPr>
          <p:spPr>
            <a:xfrm>
              <a:off x="4579200" y="3444840"/>
              <a:ext cx="1070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20364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2d1f"/>
                  </a:solidFill>
                  <a:latin typeface="Times New Roman"/>
                </a:rPr>
                <a:t>ME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3890520" y="1224000"/>
            <a:ext cx="1444680" cy="1882440"/>
            <a:chOff x="3890520" y="1224000"/>
            <a:chExt cx="1444680" cy="1882440"/>
          </a:xfrm>
        </p:grpSpPr>
        <p:grpSp>
          <p:nvGrpSpPr>
            <p:cNvPr id="970" name=""/>
            <p:cNvGrpSpPr/>
            <p:nvPr/>
          </p:nvGrpSpPr>
          <p:grpSpPr>
            <a:xfrm>
              <a:off x="3890520" y="1569960"/>
              <a:ext cx="1444680" cy="1536480"/>
              <a:chOff x="3890520" y="1569960"/>
              <a:chExt cx="1444680" cy="1536480"/>
            </a:xfrm>
          </p:grpSpPr>
          <p:sp>
            <p:nvSpPr>
              <p:cNvPr id="971" name=""/>
              <p:cNvSpPr/>
              <p:nvPr/>
            </p:nvSpPr>
            <p:spPr>
              <a:xfrm>
                <a:off x="4428000" y="1569960"/>
                <a:ext cx="96840" cy="776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8000" y="1958760"/>
                <a:ext cx="96840" cy="9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5400000">
                <a:off x="4163400" y="2079360"/>
                <a:ext cx="95760" cy="433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625280" y="1569960"/>
                <a:ext cx="93240" cy="751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628880" y="1958760"/>
                <a:ext cx="96480" cy="95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200000">
                <a:off x="4958640" y="1983240"/>
                <a:ext cx="93600" cy="577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6200000">
                <a:off x="4966920" y="2209320"/>
                <a:ext cx="93960" cy="56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637880" y="2443680"/>
                <a:ext cx="92880" cy="564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6200000">
                <a:off x="4636800" y="2711520"/>
                <a:ext cx="97200" cy="95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0800000">
                <a:off x="4428000" y="2459880"/>
                <a:ext cx="95040" cy="54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0800000">
                <a:off x="4427640" y="2701800"/>
                <a:ext cx="96840" cy="97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6200000">
                <a:off x="4160520" y="2286360"/>
                <a:ext cx="93960" cy="439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718520" y="18237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046760" y="24915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028040" y="18396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718160" y="2518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5143320" y="1651320"/>
                <a:ext cx="191880" cy="1936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46480" y="2912760"/>
                <a:ext cx="191520" cy="1936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3890520" y="1651320"/>
                <a:ext cx="191880" cy="19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87720" y="2815200"/>
                <a:ext cx="144000" cy="29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3967560" y="12240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Adiacent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7244280" y="1230480"/>
            <a:ext cx="1416600" cy="1885320"/>
            <a:chOff x="7244280" y="1230480"/>
            <a:chExt cx="1416600" cy="1885320"/>
          </a:xfrm>
        </p:grpSpPr>
        <p:grpSp>
          <p:nvGrpSpPr>
            <p:cNvPr id="993" name=""/>
            <p:cNvGrpSpPr/>
            <p:nvPr/>
          </p:nvGrpSpPr>
          <p:grpSpPr>
            <a:xfrm>
              <a:off x="7251840" y="1600200"/>
              <a:ext cx="1409040" cy="1515600"/>
              <a:chOff x="7251840" y="1600200"/>
              <a:chExt cx="1409040" cy="1515600"/>
            </a:xfrm>
          </p:grpSpPr>
          <p:sp>
            <p:nvSpPr>
              <p:cNvPr id="994" name=""/>
              <p:cNvSpPr/>
              <p:nvPr/>
            </p:nvSpPr>
            <p:spPr>
              <a:xfrm>
                <a:off x="7776360" y="1600200"/>
                <a:ext cx="92880" cy="757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76360" y="1980000"/>
                <a:ext cx="92880" cy="9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400000">
                <a:off x="7517880" y="2097720"/>
                <a:ext cx="93600" cy="423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967160" y="1600200"/>
                <a:ext cx="92880" cy="73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972200" y="1980000"/>
                <a:ext cx="92880" cy="9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6200000">
                <a:off x="8292600" y="2004480"/>
                <a:ext cx="93600" cy="562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200000">
                <a:off x="8301240" y="2225160"/>
                <a:ext cx="91800" cy="547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979040" y="2453400"/>
                <a:ext cx="92880" cy="551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6200000">
                <a:off x="7978320" y="2712600"/>
                <a:ext cx="95400" cy="943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0800000">
                <a:off x="7776000" y="2468160"/>
                <a:ext cx="91080" cy="537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0800000">
                <a:off x="7776360" y="2706120"/>
                <a:ext cx="92880" cy="93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6200000">
                <a:off x="7513560" y="2298960"/>
                <a:ext cx="93600" cy="43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56080" y="18460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03760" y="25020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86480" y="1861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066880" y="2527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8473680" y="1695240"/>
                <a:ext cx="187200" cy="188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378640" y="2927160"/>
                <a:ext cx="187560" cy="188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7251840" y="1695240"/>
                <a:ext cx="187200" cy="1886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7344720" y="2831400"/>
                <a:ext cx="141120" cy="28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244280" y="123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Adiacent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912000" y="3381480"/>
            <a:ext cx="844200" cy="1875960"/>
            <a:chOff x="6912000" y="3381480"/>
            <a:chExt cx="844200" cy="1875960"/>
          </a:xfrm>
        </p:grpSpPr>
        <p:grpSp>
          <p:nvGrpSpPr>
            <p:cNvPr id="1016" name=""/>
            <p:cNvGrpSpPr/>
            <p:nvPr/>
          </p:nvGrpSpPr>
          <p:grpSpPr>
            <a:xfrm>
              <a:off x="7080480" y="3722400"/>
              <a:ext cx="83880" cy="1278720"/>
              <a:chOff x="7080480" y="3722400"/>
              <a:chExt cx="83880" cy="1278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7080480" y="3722400"/>
                <a:ext cx="83880" cy="127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080480" y="4063320"/>
                <a:ext cx="8388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7418520" y="3722400"/>
              <a:ext cx="87120" cy="1363680"/>
              <a:chOff x="7418520" y="3722400"/>
              <a:chExt cx="87120" cy="1363680"/>
            </a:xfrm>
          </p:grpSpPr>
          <p:sp>
            <p:nvSpPr>
              <p:cNvPr id="1020" name=""/>
              <p:cNvSpPr/>
              <p:nvPr/>
            </p:nvSpPr>
            <p:spPr>
              <a:xfrm>
                <a:off x="7421760" y="3722400"/>
                <a:ext cx="81720" cy="845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18520" y="4063320"/>
                <a:ext cx="8388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23560" y="4574880"/>
                <a:ext cx="82080" cy="511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7279920" y="33850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2199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42240" y="33991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912000" y="3381480"/>
              <a:ext cx="844200" cy="187596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8010360" y="3381480"/>
            <a:ext cx="846000" cy="1875960"/>
            <a:chOff x="8010360" y="3381480"/>
            <a:chExt cx="846000" cy="1875960"/>
          </a:xfrm>
        </p:grpSpPr>
        <p:sp>
          <p:nvSpPr>
            <p:cNvPr id="1027" name=""/>
            <p:cNvSpPr/>
            <p:nvPr/>
          </p:nvSpPr>
          <p:spPr>
            <a:xfrm>
              <a:off x="8010360" y="3381480"/>
              <a:ext cx="846000" cy="187596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8434800" y="3811320"/>
              <a:ext cx="333000" cy="1168560"/>
              <a:chOff x="8434800" y="3811320"/>
              <a:chExt cx="333000" cy="1168560"/>
            </a:xfrm>
          </p:grpSpPr>
          <p:sp>
            <p:nvSpPr>
              <p:cNvPr id="1029" name=""/>
              <p:cNvSpPr/>
              <p:nvPr/>
            </p:nvSpPr>
            <p:spPr>
              <a:xfrm>
                <a:off x="8580960" y="4127400"/>
                <a:ext cx="8460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580960" y="4383000"/>
                <a:ext cx="84600" cy="853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434800" y="38113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8083800" y="3853800"/>
              <a:ext cx="299520" cy="1082880"/>
              <a:chOff x="8083800" y="3853800"/>
              <a:chExt cx="299520" cy="1082880"/>
            </a:xfrm>
          </p:grpSpPr>
          <p:sp>
            <p:nvSpPr>
              <p:cNvPr id="1033" name=""/>
              <p:cNvSpPr/>
              <p:nvPr/>
            </p:nvSpPr>
            <p:spPr>
              <a:xfrm>
                <a:off x="8223120" y="4163040"/>
                <a:ext cx="82440" cy="411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3120" y="4418640"/>
                <a:ext cx="84600" cy="849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3120" y="4581720"/>
                <a:ext cx="82440" cy="354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083800" y="385380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7" name=""/>
          <p:cNvGrpSpPr/>
          <p:nvPr/>
        </p:nvGrpSpPr>
        <p:grpSpPr>
          <a:xfrm>
            <a:off x="4737240" y="3360600"/>
            <a:ext cx="845640" cy="1874520"/>
            <a:chOff x="4737240" y="3360600"/>
            <a:chExt cx="845640" cy="1874520"/>
          </a:xfrm>
        </p:grpSpPr>
        <p:grpSp>
          <p:nvGrpSpPr>
            <p:cNvPr id="1038" name=""/>
            <p:cNvGrpSpPr/>
            <p:nvPr/>
          </p:nvGrpSpPr>
          <p:grpSpPr>
            <a:xfrm>
              <a:off x="4976640" y="3687480"/>
              <a:ext cx="84240" cy="1277640"/>
              <a:chOff x="4976640" y="3687480"/>
              <a:chExt cx="84240" cy="1277640"/>
            </a:xfrm>
          </p:grpSpPr>
          <p:sp>
            <p:nvSpPr>
              <p:cNvPr id="1039" name=""/>
              <p:cNvSpPr/>
              <p:nvPr/>
            </p:nvSpPr>
            <p:spPr>
              <a:xfrm>
                <a:off x="4976640" y="3687480"/>
                <a:ext cx="84240" cy="127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976640" y="4028400"/>
                <a:ext cx="8424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4834080" y="33642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164920" y="3534480"/>
              <a:ext cx="299520" cy="1082520"/>
              <a:chOff x="5164920" y="3534480"/>
              <a:chExt cx="299520" cy="1082520"/>
            </a:xfrm>
          </p:grpSpPr>
          <p:sp>
            <p:nvSpPr>
              <p:cNvPr id="1043" name=""/>
              <p:cNvSpPr/>
              <p:nvPr/>
            </p:nvSpPr>
            <p:spPr>
              <a:xfrm>
                <a:off x="5302440" y="3843360"/>
                <a:ext cx="82440" cy="411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02440" y="4098960"/>
                <a:ext cx="84600" cy="84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02440" y="4262040"/>
                <a:ext cx="82440" cy="354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64920" y="35344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4737240" y="3360600"/>
              <a:ext cx="845640" cy="18745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637080" y="3360600"/>
            <a:ext cx="845640" cy="1874520"/>
            <a:chOff x="3637080" y="3360600"/>
            <a:chExt cx="845640" cy="1874520"/>
          </a:xfrm>
        </p:grpSpPr>
        <p:grpSp>
          <p:nvGrpSpPr>
            <p:cNvPr id="1049" name=""/>
            <p:cNvGrpSpPr/>
            <p:nvPr/>
          </p:nvGrpSpPr>
          <p:grpSpPr>
            <a:xfrm>
              <a:off x="4216680" y="3701520"/>
              <a:ext cx="87480" cy="1362600"/>
              <a:chOff x="4216680" y="3701520"/>
              <a:chExt cx="87480" cy="1362600"/>
            </a:xfrm>
          </p:grpSpPr>
          <p:sp>
            <p:nvSpPr>
              <p:cNvPr id="1050" name=""/>
              <p:cNvSpPr/>
              <p:nvPr/>
            </p:nvSpPr>
            <p:spPr>
              <a:xfrm>
                <a:off x="4219920" y="3701520"/>
                <a:ext cx="82080" cy="84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216680" y="4042440"/>
                <a:ext cx="8388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221720" y="4553280"/>
                <a:ext cx="82440" cy="51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4107240" y="3364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2199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3723120" y="3450960"/>
              <a:ext cx="333000" cy="1165680"/>
              <a:chOff x="3723120" y="3450960"/>
              <a:chExt cx="333000" cy="1165680"/>
            </a:xfrm>
          </p:grpSpPr>
          <p:sp>
            <p:nvSpPr>
              <p:cNvPr id="1055" name=""/>
              <p:cNvSpPr/>
              <p:nvPr/>
            </p:nvSpPr>
            <p:spPr>
              <a:xfrm>
                <a:off x="3869280" y="3764880"/>
                <a:ext cx="84600" cy="85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69280" y="4020120"/>
                <a:ext cx="84600" cy="853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723120" y="34509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3637080" y="3360600"/>
              <a:ext cx="845640" cy="18745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93640" y="1230480"/>
            <a:ext cx="1445760" cy="1901160"/>
            <a:chOff x="593640" y="1230480"/>
            <a:chExt cx="1445760" cy="1901160"/>
          </a:xfrm>
        </p:grpSpPr>
        <p:sp>
          <p:nvSpPr>
            <p:cNvPr id="1060" name=""/>
            <p:cNvSpPr/>
            <p:nvPr/>
          </p:nvSpPr>
          <p:spPr>
            <a:xfrm>
              <a:off x="707040" y="123048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c2199"/>
                  </a:solidFill>
                  <a:latin typeface="Times New Roman"/>
                </a:rPr>
                <a:t>Altern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593640" y="1577880"/>
              <a:ext cx="1445760" cy="1553760"/>
              <a:chOff x="593640" y="1577880"/>
              <a:chExt cx="1445760" cy="1553760"/>
            </a:xfrm>
          </p:grpSpPr>
          <p:sp>
            <p:nvSpPr>
              <p:cNvPr id="1062" name=""/>
              <p:cNvSpPr/>
              <p:nvPr/>
            </p:nvSpPr>
            <p:spPr>
              <a:xfrm>
                <a:off x="1131480" y="1577880"/>
                <a:ext cx="96840" cy="777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131480" y="1966320"/>
                <a:ext cx="96840" cy="9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5400000">
                <a:off x="867600" y="2088000"/>
                <a:ext cx="93600" cy="433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328760" y="1577880"/>
                <a:ext cx="93240" cy="752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332360" y="1966320"/>
                <a:ext cx="96840" cy="9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6200000">
                <a:off x="1661760" y="1991520"/>
                <a:ext cx="95760" cy="578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200000">
                <a:off x="1669680" y="2217960"/>
                <a:ext cx="95760" cy="5623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41360" y="2451240"/>
                <a:ext cx="93240" cy="566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6200000">
                <a:off x="1341000" y="2720160"/>
                <a:ext cx="95760" cy="95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0800000">
                <a:off x="1131480" y="2467080"/>
                <a:ext cx="95040" cy="550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0800000">
                <a:off x="1131120" y="2710440"/>
                <a:ext cx="96840" cy="975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862920" y="2295000"/>
                <a:ext cx="95760" cy="440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22360" y="183132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50600" y="250488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31160" y="18475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24160" y="25315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1847520" y="1675080"/>
                <a:ext cx="191880" cy="1936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50320" y="2938320"/>
                <a:ext cx="192240" cy="19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593640" y="1675080"/>
                <a:ext cx="192240" cy="19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90120" y="2840400"/>
                <a:ext cx="144360" cy="2908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255600" y="3368520"/>
            <a:ext cx="845640" cy="1874520"/>
            <a:chOff x="255600" y="3368520"/>
            <a:chExt cx="845640" cy="1874520"/>
          </a:xfrm>
        </p:grpSpPr>
        <p:grpSp>
          <p:nvGrpSpPr>
            <p:cNvPr id="1083" name=""/>
            <p:cNvGrpSpPr/>
            <p:nvPr/>
          </p:nvGrpSpPr>
          <p:grpSpPr>
            <a:xfrm>
              <a:off x="509400" y="3794400"/>
              <a:ext cx="83880" cy="1277640"/>
              <a:chOff x="509400" y="3794400"/>
              <a:chExt cx="83880" cy="1277640"/>
            </a:xfrm>
          </p:grpSpPr>
          <p:sp>
            <p:nvSpPr>
              <p:cNvPr id="1084" name=""/>
              <p:cNvSpPr/>
              <p:nvPr/>
            </p:nvSpPr>
            <p:spPr>
              <a:xfrm>
                <a:off x="509400" y="3794400"/>
                <a:ext cx="83880" cy="127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9400" y="4135320"/>
                <a:ext cx="8388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706320" y="3884760"/>
              <a:ext cx="333000" cy="1165680"/>
              <a:chOff x="706320" y="3884760"/>
              <a:chExt cx="333000" cy="1165680"/>
            </a:xfrm>
          </p:grpSpPr>
          <p:sp>
            <p:nvSpPr>
              <p:cNvPr id="1087" name=""/>
              <p:cNvSpPr/>
              <p:nvPr/>
            </p:nvSpPr>
            <p:spPr>
              <a:xfrm>
                <a:off x="852480" y="4198680"/>
                <a:ext cx="84600" cy="851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52480" y="4453920"/>
                <a:ext cx="84600" cy="853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06320" y="38847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n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391320" y="3458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2199"/>
                  </a:solidFill>
                  <a:latin typeface="Times New Roman"/>
                </a:rPr>
                <a:t>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5600" y="3368520"/>
              <a:ext cx="845640" cy="18745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1440000" y="3368520"/>
            <a:ext cx="845640" cy="1874520"/>
            <a:chOff x="1440000" y="3368520"/>
            <a:chExt cx="845640" cy="1874520"/>
          </a:xfrm>
        </p:grpSpPr>
        <p:grpSp>
          <p:nvGrpSpPr>
            <p:cNvPr id="1093" name=""/>
            <p:cNvGrpSpPr/>
            <p:nvPr/>
          </p:nvGrpSpPr>
          <p:grpSpPr>
            <a:xfrm>
              <a:off x="1532880" y="3512160"/>
              <a:ext cx="632520" cy="1644480"/>
              <a:chOff x="1532880" y="3512160"/>
              <a:chExt cx="632520" cy="164448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2019600" y="3794040"/>
                <a:ext cx="87480" cy="1362600"/>
                <a:chOff x="2019600" y="3794040"/>
                <a:chExt cx="87480" cy="136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2022840" y="3794040"/>
                  <a:ext cx="82080" cy="844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019600" y="4134960"/>
                  <a:ext cx="8388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024640" y="4645800"/>
                  <a:ext cx="82440" cy="5108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1865880" y="3512160"/>
                <a:ext cx="29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2199"/>
                    </a:solidFill>
                    <a:latin typeface="Times New Roman"/>
                  </a:rPr>
                  <a:t>t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1532880" y="3962880"/>
                <a:ext cx="299520" cy="1087560"/>
                <a:chOff x="1532880" y="3962880"/>
                <a:chExt cx="299520" cy="108756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1674000" y="4277160"/>
                  <a:ext cx="82440" cy="411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674000" y="4532760"/>
                  <a:ext cx="84600" cy="8460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674000" y="4695480"/>
                  <a:ext cx="82440" cy="354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532880" y="396288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c2199"/>
                      </a:solidFill>
                      <a:latin typeface="Times New Roman"/>
                    </a:rPr>
                    <a:t>t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4" name=""/>
            <p:cNvSpPr/>
            <p:nvPr/>
          </p:nvSpPr>
          <p:spPr>
            <a:xfrm>
              <a:off x="1440000" y="3368520"/>
              <a:ext cx="845640" cy="18745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453960" y="55134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Gameti v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476880" y="5364000"/>
            <a:ext cx="218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Gameti spesso non v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Duplicazioni e dele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43960" y="5294160"/>
            <a:ext cx="216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Gameti non vi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Duplicazioni e dele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315920" y="6027840"/>
            <a:ext cx="13114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2199"/>
                </a:solidFill>
                <a:latin typeface="Times New Roman"/>
              </a:rPr>
              <a:t>R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gregazione della struttura a cr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Traslocazione X/2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5967360" cy="52909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90520" y="15843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6,X,t(X;2)(28q;23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Traslocazione reciproca 14/18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181080" y="2133720"/>
            <a:ext cx="4279680" cy="233676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4038840" cy="25909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5852160" y="4775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541200" y="477684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18/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952400" y="410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483800" y="409104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14/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335200" y="382752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81680" y="3809880"/>
            <a:ext cx="762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52720" y="413244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533520" y="5486400"/>
            <a:ext cx="7924680" cy="642600"/>
            <a:chOff x="533520" y="5486400"/>
            <a:chExt cx="7924680" cy="642600"/>
          </a:xfrm>
        </p:grpSpPr>
        <p:sp>
          <p:nvSpPr>
            <p:cNvPr id="1124" name=""/>
            <p:cNvSpPr/>
            <p:nvPr/>
          </p:nvSpPr>
          <p:spPr>
            <a:xfrm>
              <a:off x="533520" y="5486400"/>
              <a:ext cx="79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6,XX t(14;18)(14pter      14q23::18q22     18qter;18pter     18q22::14q23    14qter)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3200" y="5667480"/>
              <a:ext cx="26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22880" y="566748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67280" y="566748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21400" y="566748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8001000" y="2362320"/>
            <a:ext cx="380880" cy="38088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001000" y="2895480"/>
            <a:ext cx="380880" cy="121932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07240" y="2286000"/>
            <a:ext cx="380880" cy="38088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19840" y="2819520"/>
            <a:ext cx="381240" cy="99036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775040" y="3886200"/>
            <a:ext cx="304920" cy="152280"/>
          </a:xfrm>
          <a:prstGeom prst="flowChartTerminator">
            <a:avLst/>
          </a:prstGeom>
          <a:solidFill>
            <a:srgbClr val="ff020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2120" y="4648320"/>
            <a:ext cx="228600" cy="228600"/>
          </a:xfrm>
          <a:prstGeom prst="ellipse">
            <a:avLst/>
          </a:prstGeom>
          <a:solidFill>
            <a:srgbClr val="ff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73080" y="455616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crom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927360" y="1450800"/>
            <a:ext cx="333000" cy="1166760"/>
            <a:chOff x="927360" y="1450800"/>
            <a:chExt cx="333000" cy="1166760"/>
          </a:xfrm>
        </p:grpSpPr>
        <p:sp>
          <p:nvSpPr>
            <p:cNvPr id="1137" name=""/>
            <p:cNvSpPr/>
            <p:nvPr/>
          </p:nvSpPr>
          <p:spPr>
            <a:xfrm>
              <a:off x="1073160" y="1765080"/>
              <a:ext cx="84240" cy="85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73160" y="1842840"/>
              <a:ext cx="84240" cy="85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927360" y="1450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459000" y="1433520"/>
            <a:ext cx="333000" cy="1614600"/>
            <a:chOff x="459000" y="1433520"/>
            <a:chExt cx="333000" cy="1614600"/>
          </a:xfrm>
        </p:grpSpPr>
        <p:sp>
          <p:nvSpPr>
            <p:cNvPr id="1141" name=""/>
            <p:cNvSpPr/>
            <p:nvPr/>
          </p:nvSpPr>
          <p:spPr>
            <a:xfrm>
              <a:off x="577800" y="1768680"/>
              <a:ext cx="84240" cy="1279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800" y="1843200"/>
              <a:ext cx="84240" cy="85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00" y="1433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2199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692720" y="658800"/>
            <a:ext cx="857520" cy="2464920"/>
            <a:chOff x="1692720" y="658800"/>
            <a:chExt cx="857520" cy="2464920"/>
          </a:xfrm>
        </p:grpSpPr>
        <p:grpSp>
          <p:nvGrpSpPr>
            <p:cNvPr id="1145" name=""/>
            <p:cNvGrpSpPr/>
            <p:nvPr/>
          </p:nvGrpSpPr>
          <p:grpSpPr>
            <a:xfrm>
              <a:off x="2108160" y="991800"/>
              <a:ext cx="88920" cy="2131920"/>
              <a:chOff x="2108160" y="991800"/>
              <a:chExt cx="88920" cy="2131920"/>
            </a:xfrm>
          </p:grpSpPr>
          <p:sp>
            <p:nvSpPr>
              <p:cNvPr id="1146" name=""/>
              <p:cNvSpPr/>
              <p:nvPr/>
            </p:nvSpPr>
            <p:spPr>
              <a:xfrm rot="10800000">
                <a:off x="2112840" y="991800"/>
                <a:ext cx="84240" cy="852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0800000">
                <a:off x="2112840" y="1682280"/>
                <a:ext cx="84240" cy="853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8160" y="1844280"/>
                <a:ext cx="8424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108160" y="1919160"/>
                <a:ext cx="84240" cy="85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1692720" y="6588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2199"/>
                  </a:solidFill>
                  <a:latin typeface="Times New Roman"/>
                </a:rPr>
                <a:t>t(13-2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970560" y="6094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21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44840" y="61452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21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98240" y="61452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2199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28600" y="4267080"/>
            <a:ext cx="990720" cy="1904760"/>
            <a:chOff x="228600" y="4267080"/>
            <a:chExt cx="990720" cy="1904760"/>
          </a:xfrm>
        </p:grpSpPr>
        <p:grpSp>
          <p:nvGrpSpPr>
            <p:cNvPr id="1155" name=""/>
            <p:cNvGrpSpPr/>
            <p:nvPr/>
          </p:nvGrpSpPr>
          <p:grpSpPr>
            <a:xfrm>
              <a:off x="698760" y="4790880"/>
              <a:ext cx="333000" cy="1166760"/>
              <a:chOff x="698760" y="4790880"/>
              <a:chExt cx="333000" cy="1166760"/>
            </a:xfrm>
          </p:grpSpPr>
          <p:sp>
            <p:nvSpPr>
              <p:cNvPr id="1156" name=""/>
              <p:cNvSpPr/>
              <p:nvPr/>
            </p:nvSpPr>
            <p:spPr>
              <a:xfrm>
                <a:off x="844560" y="5105160"/>
                <a:ext cx="8424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44560" y="5182920"/>
                <a:ext cx="8424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98760" y="47908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317880" y="4346280"/>
              <a:ext cx="333000" cy="1614600"/>
              <a:chOff x="317880" y="4346280"/>
              <a:chExt cx="333000" cy="1614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436680" y="4681440"/>
                <a:ext cx="8424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36680" y="4755960"/>
                <a:ext cx="8424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17880" y="434628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228600" y="4267080"/>
              <a:ext cx="990720" cy="190476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371600" y="3581280"/>
            <a:ext cx="914400" cy="2590920"/>
            <a:chOff x="1371600" y="3581280"/>
            <a:chExt cx="914400" cy="2590920"/>
          </a:xfrm>
        </p:grpSpPr>
        <p:grpSp>
          <p:nvGrpSpPr>
            <p:cNvPr id="1165" name=""/>
            <p:cNvGrpSpPr/>
            <p:nvPr/>
          </p:nvGrpSpPr>
          <p:grpSpPr>
            <a:xfrm>
              <a:off x="1372680" y="3585960"/>
              <a:ext cx="723240" cy="2464920"/>
              <a:chOff x="1372680" y="3585960"/>
              <a:chExt cx="723240" cy="246492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1789200" y="3918960"/>
                <a:ext cx="88920" cy="2131920"/>
                <a:chOff x="1789200" y="3918960"/>
                <a:chExt cx="88920" cy="2131920"/>
              </a:xfrm>
            </p:grpSpPr>
            <p:sp>
              <p:nvSpPr>
                <p:cNvPr id="1167" name=""/>
                <p:cNvSpPr/>
                <p:nvPr/>
              </p:nvSpPr>
              <p:spPr>
                <a:xfrm rot="10800000">
                  <a:off x="1793880" y="3918960"/>
                  <a:ext cx="8424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0800000">
                  <a:off x="1793880" y="4609440"/>
                  <a:ext cx="8424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789200" y="4771440"/>
                  <a:ext cx="8424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789200" y="4846320"/>
                  <a:ext cx="8424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"/>
              <p:cNvSpPr/>
              <p:nvPr/>
            </p:nvSpPr>
            <p:spPr>
              <a:xfrm>
                <a:off x="1372680" y="358596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2199"/>
                    </a:solidFill>
                    <a:latin typeface="Times New Roman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1371600" y="3581280"/>
              <a:ext cx="914400" cy="259092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648320" y="3484440"/>
            <a:ext cx="1447560" cy="2693880"/>
            <a:chOff x="4648320" y="3484440"/>
            <a:chExt cx="1447560" cy="2693880"/>
          </a:xfrm>
        </p:grpSpPr>
        <p:grpSp>
          <p:nvGrpSpPr>
            <p:cNvPr id="1174" name=""/>
            <p:cNvGrpSpPr/>
            <p:nvPr/>
          </p:nvGrpSpPr>
          <p:grpSpPr>
            <a:xfrm>
              <a:off x="4725000" y="3484440"/>
              <a:ext cx="723240" cy="2464920"/>
              <a:chOff x="4725000" y="3484440"/>
              <a:chExt cx="723240" cy="246492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5141520" y="3817440"/>
                <a:ext cx="87840" cy="2131920"/>
                <a:chOff x="5141520" y="3817440"/>
                <a:chExt cx="87840" cy="2131920"/>
              </a:xfrm>
            </p:grpSpPr>
            <p:sp>
              <p:nvSpPr>
                <p:cNvPr id="1176" name=""/>
                <p:cNvSpPr/>
                <p:nvPr/>
              </p:nvSpPr>
              <p:spPr>
                <a:xfrm rot="10800000">
                  <a:off x="5145480" y="3817440"/>
                  <a:ext cx="8388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0800000">
                  <a:off x="5145480" y="4507920"/>
                  <a:ext cx="8388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141520" y="4669920"/>
                  <a:ext cx="8388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141520" y="4744800"/>
                  <a:ext cx="8388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0" name=""/>
              <p:cNvSpPr/>
              <p:nvPr/>
            </p:nvSpPr>
            <p:spPr>
              <a:xfrm>
                <a:off x="4725000" y="34844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2199"/>
                    </a:solidFill>
                    <a:latin typeface="Times New Roman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5487840" y="4352760"/>
              <a:ext cx="333000" cy="1166760"/>
              <a:chOff x="5487840" y="4352760"/>
              <a:chExt cx="333000" cy="11667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633640" y="4667040"/>
                <a:ext cx="8388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33640" y="4744800"/>
                <a:ext cx="8388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87840" y="43527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4648320" y="3511440"/>
              <a:ext cx="1447560" cy="2666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6934320" y="4826160"/>
            <a:ext cx="609480" cy="1371600"/>
            <a:chOff x="6934320" y="4826160"/>
            <a:chExt cx="609480" cy="1371600"/>
          </a:xfrm>
        </p:grpSpPr>
        <p:grpSp>
          <p:nvGrpSpPr>
            <p:cNvPr id="1187" name=""/>
            <p:cNvGrpSpPr/>
            <p:nvPr/>
          </p:nvGrpSpPr>
          <p:grpSpPr>
            <a:xfrm>
              <a:off x="7012440" y="4905360"/>
              <a:ext cx="333000" cy="1166760"/>
              <a:chOff x="7012440" y="4905360"/>
              <a:chExt cx="333000" cy="1166760"/>
            </a:xfrm>
          </p:grpSpPr>
          <p:sp>
            <p:nvSpPr>
              <p:cNvPr id="1188" name=""/>
              <p:cNvSpPr/>
              <p:nvPr/>
            </p:nvSpPr>
            <p:spPr>
              <a:xfrm>
                <a:off x="7158240" y="5219640"/>
                <a:ext cx="84240" cy="852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158240" y="5297400"/>
                <a:ext cx="84240" cy="85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012440" y="490536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934320" y="4826160"/>
              <a:ext cx="609480" cy="137160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848720" y="3530520"/>
            <a:ext cx="1066680" cy="2666880"/>
            <a:chOff x="7848720" y="3530520"/>
            <a:chExt cx="1066680" cy="2666880"/>
          </a:xfrm>
        </p:grpSpPr>
        <p:grpSp>
          <p:nvGrpSpPr>
            <p:cNvPr id="1193" name=""/>
            <p:cNvGrpSpPr/>
            <p:nvPr/>
          </p:nvGrpSpPr>
          <p:grpSpPr>
            <a:xfrm>
              <a:off x="8092440" y="3649320"/>
              <a:ext cx="723240" cy="2464920"/>
              <a:chOff x="8092440" y="3649320"/>
              <a:chExt cx="723240" cy="2464920"/>
            </a:xfrm>
          </p:grpSpPr>
          <p:grpSp>
            <p:nvGrpSpPr>
              <p:cNvPr id="1194" name=""/>
              <p:cNvGrpSpPr/>
              <p:nvPr/>
            </p:nvGrpSpPr>
            <p:grpSpPr>
              <a:xfrm>
                <a:off x="8508960" y="3982320"/>
                <a:ext cx="88920" cy="2131920"/>
                <a:chOff x="8508960" y="3982320"/>
                <a:chExt cx="88920" cy="2131920"/>
              </a:xfrm>
            </p:grpSpPr>
            <p:sp>
              <p:nvSpPr>
                <p:cNvPr id="1195" name=""/>
                <p:cNvSpPr/>
                <p:nvPr/>
              </p:nvSpPr>
              <p:spPr>
                <a:xfrm rot="10800000">
                  <a:off x="8513640" y="3982320"/>
                  <a:ext cx="84240" cy="8521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10800000">
                  <a:off x="8513640" y="4672800"/>
                  <a:ext cx="84240" cy="853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508960" y="4834800"/>
                  <a:ext cx="84240" cy="1279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508960" y="4909680"/>
                  <a:ext cx="84240" cy="85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>
                <a:off x="8092440" y="36493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2199"/>
                    </a:solidFill>
                    <a:latin typeface="Times New Roman"/>
                  </a:rPr>
                  <a:t>t13-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8002800" y="4371840"/>
              <a:ext cx="333000" cy="1614600"/>
              <a:chOff x="8002800" y="4371840"/>
              <a:chExt cx="333000" cy="1614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8121600" y="4707000"/>
                <a:ext cx="8424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121600" y="4781520"/>
                <a:ext cx="8424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002800" y="437184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>
              <a:off x="7848720" y="3530520"/>
              <a:ext cx="1066680" cy="2666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3657600" y="4486320"/>
            <a:ext cx="838080" cy="1673280"/>
            <a:chOff x="3657600" y="4486320"/>
            <a:chExt cx="838080" cy="1673280"/>
          </a:xfrm>
        </p:grpSpPr>
        <p:grpSp>
          <p:nvGrpSpPr>
            <p:cNvPr id="1206" name=""/>
            <p:cNvGrpSpPr/>
            <p:nvPr/>
          </p:nvGrpSpPr>
          <p:grpSpPr>
            <a:xfrm>
              <a:off x="3964320" y="4486320"/>
              <a:ext cx="333000" cy="1614600"/>
              <a:chOff x="3964320" y="4486320"/>
              <a:chExt cx="333000" cy="1614600"/>
            </a:xfrm>
          </p:grpSpPr>
          <p:sp>
            <p:nvSpPr>
              <p:cNvPr id="1207" name=""/>
              <p:cNvSpPr/>
              <p:nvPr/>
            </p:nvSpPr>
            <p:spPr>
              <a:xfrm>
                <a:off x="4083120" y="4821480"/>
                <a:ext cx="84240" cy="1279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083120" y="4896000"/>
                <a:ext cx="8424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964320" y="448632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c2199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3657600" y="4495680"/>
              <a:ext cx="838080" cy="166392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733560" y="60948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Traslocazioni robertson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9560" y="1143000"/>
            <a:ext cx="586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Avvengono fra cromosomi acrocentrici o telocentr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nell’uomo i chr:13,14,15,21,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199"/>
                </a:solidFill>
                <a:latin typeface="Times New Roman"/>
              </a:rPr>
              <a:t>La segregazione degli omologhi porta a differenti tipologie di game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9480" y="1066680"/>
            <a:ext cx="577800" cy="408240"/>
          </a:xfrm>
          <a:custGeom>
            <a:avLst/>
            <a:gdLst>
              <a:gd name="textAreaLeft" fmla="*/ 121320 w 577800"/>
              <a:gd name="textAreaRight" fmla="*/ 398520 w 577800"/>
              <a:gd name="textAreaTop" fmla="*/ 54720 h 408240"/>
              <a:gd name="textAreaBottom" fmla="*/ 353520 h 408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85" hR="21600" stAng="10800000" swAng="5400000"/>
                <a:lnTo>
                  <a:pt x="10355" y="0"/>
                </a:lnTo>
                <a:arcTo wR="9085" hR="21600" stAng="-5400000" swAng="2912857"/>
                <a:lnTo>
                  <a:pt x="21031" y="14078"/>
                </a:lnTo>
                <a:lnTo>
                  <a:pt x="18805" y="21600"/>
                </a:lnTo>
                <a:lnTo>
                  <a:pt x="15441" y="14078"/>
                </a:lnTo>
                <a:lnTo>
                  <a:pt x="17601" y="14078"/>
                </a:lnTo>
                <a:arcTo wR="9085" hR="21600" stAng="-2487143" swAng="-2811575"/>
                <a:lnTo>
                  <a:pt x="9720" y="53"/>
                </a:lnTo>
                <a:arcTo wR="9085" hR="21600" stAng="-5501282" swAng="-5298718"/>
                <a:close/>
              </a:path>
              <a:path fill="darkenLess" w="21600" h="21600">
                <a:moveTo>
                  <a:pt x="0" y="21600"/>
                </a:moveTo>
                <a:arcTo wR="9085" hR="21600" stAng="10800000" swAng="5400000"/>
                <a:lnTo>
                  <a:pt x="9085" y="0"/>
                </a:lnTo>
                <a:arcTo wR="9085" hR="21600" stAng="-5400000" swAng="101282"/>
                <a:lnTo>
                  <a:pt x="9720" y="53"/>
                </a:lnTo>
                <a:arcTo wR="9085" hR="21600" stAng="-5501282" swAng="-5298718"/>
                <a:close/>
              </a:path>
            </a:pathLst>
          </a:cu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371600" y="19810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209520" y="134784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4572000" y="1306440"/>
            <a:ext cx="4444920" cy="5399280"/>
          </a:xfrm>
          <a:prstGeom prst="rect">
            <a:avLst/>
          </a:prstGeom>
          <a:ln w="0">
            <a:noFill/>
          </a:ln>
        </p:spPr>
      </p:pic>
      <p:grpSp>
        <p:nvGrpSpPr>
          <p:cNvPr id="1217" name=""/>
          <p:cNvGrpSpPr/>
          <p:nvPr/>
        </p:nvGrpSpPr>
        <p:grpSpPr>
          <a:xfrm>
            <a:off x="4724280" y="1295280"/>
            <a:ext cx="3886200" cy="5295960"/>
            <a:chOff x="4724280" y="1295280"/>
            <a:chExt cx="3886200" cy="5295960"/>
          </a:xfrm>
        </p:grpSpPr>
        <p:sp>
          <p:nvSpPr>
            <p:cNvPr id="1218" name=""/>
            <p:cNvSpPr/>
            <p:nvPr/>
          </p:nvSpPr>
          <p:spPr>
            <a:xfrm>
              <a:off x="4724280" y="1295280"/>
              <a:ext cx="3327480" cy="2774880"/>
            </a:xfrm>
            <a:custGeom>
              <a:avLst/>
              <a:gdLst/>
              <a:ahLst/>
              <a:rect l="l" t="t" r="r" b="b"/>
              <a:pathLst>
                <a:path w="2096" h="1748">
                  <a:moveTo>
                    <a:pt x="0" y="1600"/>
                  </a:moveTo>
                  <a:cubicBezTo>
                    <a:pt x="222" y="1748"/>
                    <a:pt x="347" y="1713"/>
                    <a:pt x="648" y="1720"/>
                  </a:cubicBezTo>
                  <a:cubicBezTo>
                    <a:pt x="752" y="1717"/>
                    <a:pt x="856" y="1716"/>
                    <a:pt x="960" y="1712"/>
                  </a:cubicBezTo>
                  <a:cubicBezTo>
                    <a:pt x="1021" y="1709"/>
                    <a:pt x="1062" y="1654"/>
                    <a:pt x="1120" y="1640"/>
                  </a:cubicBezTo>
                  <a:cubicBezTo>
                    <a:pt x="1240" y="1609"/>
                    <a:pt x="1058" y="1657"/>
                    <a:pt x="1184" y="1616"/>
                  </a:cubicBezTo>
                  <a:cubicBezTo>
                    <a:pt x="1223" y="1602"/>
                    <a:pt x="1246" y="1612"/>
                    <a:pt x="1288" y="1592"/>
                  </a:cubicBezTo>
                  <a:cubicBezTo>
                    <a:pt x="1353" y="1559"/>
                    <a:pt x="1377" y="1543"/>
                    <a:pt x="1440" y="1528"/>
                  </a:cubicBezTo>
                  <a:cubicBezTo>
                    <a:pt x="1529" y="1456"/>
                    <a:pt x="1675" y="1411"/>
                    <a:pt x="1744" y="1320"/>
                  </a:cubicBezTo>
                  <a:cubicBezTo>
                    <a:pt x="1768" y="1286"/>
                    <a:pt x="1784" y="1238"/>
                    <a:pt x="1800" y="1200"/>
                  </a:cubicBezTo>
                  <a:cubicBezTo>
                    <a:pt x="1806" y="1184"/>
                    <a:pt x="1804" y="1163"/>
                    <a:pt x="1816" y="1152"/>
                  </a:cubicBezTo>
                  <a:cubicBezTo>
                    <a:pt x="1833" y="1134"/>
                    <a:pt x="1851" y="1118"/>
                    <a:pt x="1864" y="1096"/>
                  </a:cubicBezTo>
                  <a:cubicBezTo>
                    <a:pt x="1903" y="1023"/>
                    <a:pt x="1865" y="1055"/>
                    <a:pt x="1912" y="1024"/>
                  </a:cubicBezTo>
                  <a:cubicBezTo>
                    <a:pt x="1929" y="997"/>
                    <a:pt x="1976" y="952"/>
                    <a:pt x="1976" y="952"/>
                  </a:cubicBezTo>
                  <a:cubicBezTo>
                    <a:pt x="2009" y="850"/>
                    <a:pt x="2062" y="762"/>
                    <a:pt x="2080" y="656"/>
                  </a:cubicBezTo>
                  <a:cubicBezTo>
                    <a:pt x="2065" y="435"/>
                    <a:pt x="2096" y="219"/>
                    <a:pt x="209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97400" y="3975120"/>
              <a:ext cx="444600" cy="2616120"/>
            </a:xfrm>
            <a:custGeom>
              <a:avLst/>
              <a:gdLst/>
              <a:ahLst/>
              <a:rect l="l" t="t" r="r" b="b"/>
              <a:pathLst>
                <a:path w="280" h="1648">
                  <a:moveTo>
                    <a:pt x="168" y="0"/>
                  </a:moveTo>
                  <a:cubicBezTo>
                    <a:pt x="170" y="26"/>
                    <a:pt x="171" y="53"/>
                    <a:pt x="176" y="80"/>
                  </a:cubicBezTo>
                  <a:cubicBezTo>
                    <a:pt x="182" y="124"/>
                    <a:pt x="216" y="162"/>
                    <a:pt x="224" y="208"/>
                  </a:cubicBezTo>
                  <a:cubicBezTo>
                    <a:pt x="226" y="224"/>
                    <a:pt x="228" y="240"/>
                    <a:pt x="232" y="256"/>
                  </a:cubicBezTo>
                  <a:cubicBezTo>
                    <a:pt x="236" y="277"/>
                    <a:pt x="248" y="320"/>
                    <a:pt x="248" y="320"/>
                  </a:cubicBezTo>
                  <a:cubicBezTo>
                    <a:pt x="226" y="384"/>
                    <a:pt x="258" y="309"/>
                    <a:pt x="216" y="352"/>
                  </a:cubicBezTo>
                  <a:cubicBezTo>
                    <a:pt x="210" y="357"/>
                    <a:pt x="212" y="368"/>
                    <a:pt x="208" y="376"/>
                  </a:cubicBezTo>
                  <a:lnTo>
                    <a:pt x="176" y="424"/>
                  </a:lnTo>
                  <a:cubicBezTo>
                    <a:pt x="176" y="424"/>
                    <a:pt x="176" y="424"/>
                    <a:pt x="176" y="424"/>
                  </a:cubicBezTo>
                  <a:cubicBezTo>
                    <a:pt x="145" y="444"/>
                    <a:pt x="115" y="447"/>
                    <a:pt x="80" y="456"/>
                  </a:cubicBezTo>
                  <a:cubicBezTo>
                    <a:pt x="48" y="477"/>
                    <a:pt x="12" y="537"/>
                    <a:pt x="0" y="576"/>
                  </a:cubicBezTo>
                  <a:cubicBezTo>
                    <a:pt x="8" y="584"/>
                    <a:pt x="14" y="594"/>
                    <a:pt x="24" y="600"/>
                  </a:cubicBezTo>
                  <a:cubicBezTo>
                    <a:pt x="38" y="608"/>
                    <a:pt x="72" y="616"/>
                    <a:pt x="72" y="616"/>
                  </a:cubicBezTo>
                  <a:cubicBezTo>
                    <a:pt x="84" y="607"/>
                    <a:pt x="103" y="592"/>
                    <a:pt x="120" y="592"/>
                  </a:cubicBezTo>
                  <a:cubicBezTo>
                    <a:pt x="128" y="592"/>
                    <a:pt x="135" y="598"/>
                    <a:pt x="144" y="600"/>
                  </a:cubicBezTo>
                  <a:cubicBezTo>
                    <a:pt x="193" y="611"/>
                    <a:pt x="237" y="611"/>
                    <a:pt x="280" y="640"/>
                  </a:cubicBezTo>
                  <a:cubicBezTo>
                    <a:pt x="277" y="661"/>
                    <a:pt x="277" y="683"/>
                    <a:pt x="272" y="704"/>
                  </a:cubicBezTo>
                  <a:cubicBezTo>
                    <a:pt x="264" y="732"/>
                    <a:pt x="251" y="736"/>
                    <a:pt x="240" y="760"/>
                  </a:cubicBezTo>
                  <a:cubicBezTo>
                    <a:pt x="213" y="812"/>
                    <a:pt x="178" y="871"/>
                    <a:pt x="160" y="928"/>
                  </a:cubicBezTo>
                  <a:cubicBezTo>
                    <a:pt x="141" y="984"/>
                    <a:pt x="118" y="1038"/>
                    <a:pt x="104" y="1096"/>
                  </a:cubicBezTo>
                  <a:cubicBezTo>
                    <a:pt x="86" y="1266"/>
                    <a:pt x="100" y="1204"/>
                    <a:pt x="80" y="1288"/>
                  </a:cubicBezTo>
                  <a:cubicBezTo>
                    <a:pt x="77" y="1314"/>
                    <a:pt x="64" y="1443"/>
                    <a:pt x="64" y="1464"/>
                  </a:cubicBezTo>
                  <a:cubicBezTo>
                    <a:pt x="64" y="1525"/>
                    <a:pt x="72" y="1648"/>
                    <a:pt x="72" y="16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32640" y="3284280"/>
              <a:ext cx="1077840" cy="2367000"/>
            </a:xfrm>
            <a:custGeom>
              <a:avLst/>
              <a:gdLst/>
              <a:ahLst/>
              <a:rect l="l" t="t" r="r" b="b"/>
              <a:pathLst>
                <a:path w="679" h="1491">
                  <a:moveTo>
                    <a:pt x="7" y="19"/>
                  </a:moveTo>
                  <a:cubicBezTo>
                    <a:pt x="55" y="91"/>
                    <a:pt x="0" y="0"/>
                    <a:pt x="39" y="195"/>
                  </a:cubicBezTo>
                  <a:cubicBezTo>
                    <a:pt x="48" y="243"/>
                    <a:pt x="71" y="284"/>
                    <a:pt x="87" y="331"/>
                  </a:cubicBezTo>
                  <a:cubicBezTo>
                    <a:pt x="91" y="400"/>
                    <a:pt x="90" y="471"/>
                    <a:pt x="111" y="539"/>
                  </a:cubicBezTo>
                  <a:cubicBezTo>
                    <a:pt x="118" y="563"/>
                    <a:pt x="127" y="587"/>
                    <a:pt x="135" y="611"/>
                  </a:cubicBezTo>
                  <a:cubicBezTo>
                    <a:pt x="137" y="619"/>
                    <a:pt x="143" y="635"/>
                    <a:pt x="143" y="635"/>
                  </a:cubicBezTo>
                  <a:cubicBezTo>
                    <a:pt x="150" y="708"/>
                    <a:pt x="168" y="777"/>
                    <a:pt x="175" y="851"/>
                  </a:cubicBezTo>
                  <a:cubicBezTo>
                    <a:pt x="182" y="928"/>
                    <a:pt x="166" y="1012"/>
                    <a:pt x="199" y="1083"/>
                  </a:cubicBezTo>
                  <a:cubicBezTo>
                    <a:pt x="214" y="1116"/>
                    <a:pt x="299" y="1168"/>
                    <a:pt x="335" y="1195"/>
                  </a:cubicBezTo>
                  <a:cubicBezTo>
                    <a:pt x="363" y="1242"/>
                    <a:pt x="400" y="1268"/>
                    <a:pt x="439" y="1307"/>
                  </a:cubicBezTo>
                  <a:cubicBezTo>
                    <a:pt x="464" y="1332"/>
                    <a:pt x="483" y="1371"/>
                    <a:pt x="511" y="1395"/>
                  </a:cubicBezTo>
                  <a:cubicBezTo>
                    <a:pt x="520" y="1402"/>
                    <a:pt x="533" y="1404"/>
                    <a:pt x="543" y="1411"/>
                  </a:cubicBezTo>
                  <a:cubicBezTo>
                    <a:pt x="585" y="1441"/>
                    <a:pt x="622" y="1491"/>
                    <a:pt x="679" y="149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937760" y="1960560"/>
            <a:ext cx="3865680" cy="4132800"/>
            <a:chOff x="4937760" y="1960560"/>
            <a:chExt cx="3865680" cy="4132800"/>
          </a:xfrm>
        </p:grpSpPr>
        <p:sp>
          <p:nvSpPr>
            <p:cNvPr id="1222" name=""/>
            <p:cNvSpPr/>
            <p:nvPr/>
          </p:nvSpPr>
          <p:spPr>
            <a:xfrm>
              <a:off x="6004800" y="19605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366760" y="47800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452720" y="5694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37760" y="4398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8138520" y="6114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3962520" y="5943600"/>
            <a:ext cx="411120" cy="59364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3"/>
          <a:stretch/>
        </p:blipFill>
        <p:spPr>
          <a:xfrm>
            <a:off x="3352680" y="6095880"/>
            <a:ext cx="338400" cy="43812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4"/>
          <a:stretch/>
        </p:blipFill>
        <p:spPr>
          <a:xfrm>
            <a:off x="2933640" y="6202440"/>
            <a:ext cx="201600" cy="274680"/>
          </a:xfrm>
          <a:prstGeom prst="rect">
            <a:avLst/>
          </a:prstGeom>
          <a:ln w="28440">
            <a:solidFill>
              <a:srgbClr val="ff2d1f"/>
            </a:solidFill>
            <a:miter/>
          </a:ln>
        </p:spPr>
      </p:pic>
      <p:pic>
        <p:nvPicPr>
          <p:cNvPr id="1230" name="" descr=""/>
          <p:cNvPicPr/>
          <p:nvPr/>
        </p:nvPicPr>
        <p:blipFill>
          <a:blip r:embed="rId5"/>
          <a:stretch/>
        </p:blipFill>
        <p:spPr>
          <a:xfrm>
            <a:off x="1449360" y="5259240"/>
            <a:ext cx="320760" cy="53028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6"/>
          <a:stretch/>
        </p:blipFill>
        <p:spPr>
          <a:xfrm>
            <a:off x="961920" y="5257800"/>
            <a:ext cx="365400" cy="49356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7"/>
          <a:stretch/>
        </p:blipFill>
        <p:spPr>
          <a:xfrm>
            <a:off x="380880" y="5181480"/>
            <a:ext cx="374760" cy="520920"/>
          </a:xfrm>
          <a:prstGeom prst="rect">
            <a:avLst/>
          </a:prstGeom>
          <a:ln w="28440">
            <a:solidFill>
              <a:srgbClr val="ff2d1f"/>
            </a:solidFill>
            <a:miter/>
          </a:ln>
        </p:spPr>
      </p:pic>
      <p:pic>
        <p:nvPicPr>
          <p:cNvPr id="1233" name="" descr=""/>
          <p:cNvPicPr/>
          <p:nvPr/>
        </p:nvPicPr>
        <p:blipFill>
          <a:blip r:embed="rId8"/>
          <a:stretch/>
        </p:blipFill>
        <p:spPr>
          <a:xfrm>
            <a:off x="666720" y="6019920"/>
            <a:ext cx="933480" cy="51264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9"/>
          <a:stretch/>
        </p:blipFill>
        <p:spPr>
          <a:xfrm>
            <a:off x="2666880" y="5257800"/>
            <a:ext cx="1692360" cy="466560"/>
          </a:xfrm>
          <a:prstGeom prst="rect">
            <a:avLst/>
          </a:prstGeom>
          <a:ln w="0">
            <a:noFill/>
          </a:ln>
        </p:spPr>
      </p:pic>
      <p:grpSp>
        <p:nvGrpSpPr>
          <p:cNvPr id="1235" name=""/>
          <p:cNvGrpSpPr/>
          <p:nvPr/>
        </p:nvGrpSpPr>
        <p:grpSpPr>
          <a:xfrm>
            <a:off x="0" y="2514600"/>
            <a:ext cx="4800600" cy="2197080"/>
            <a:chOff x="0" y="2514600"/>
            <a:chExt cx="4800600" cy="2197080"/>
          </a:xfrm>
        </p:grpSpPr>
        <p:pic>
          <p:nvPicPr>
            <p:cNvPr id="1236" name="" descr=""/>
            <p:cNvPicPr/>
            <p:nvPr/>
          </p:nvPicPr>
          <p:blipFill>
            <a:blip r:embed="rId10"/>
            <a:stretch/>
          </p:blipFill>
          <p:spPr>
            <a:xfrm>
              <a:off x="112680" y="3962520"/>
              <a:ext cx="45356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11"/>
            <a:stretch/>
          </p:blipFill>
          <p:spPr>
            <a:xfrm>
              <a:off x="0" y="2514600"/>
              <a:ext cx="4800600" cy="10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Traslocazione robertsoniana 13/21 bilanc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0" y="1752480"/>
            <a:ext cx="4800600" cy="420840"/>
            <a:chOff x="0" y="1752480"/>
            <a:chExt cx="4800600" cy="420840"/>
          </a:xfrm>
        </p:grpSpPr>
        <p:pic>
          <p:nvPicPr>
            <p:cNvPr id="1240" name="" descr=""/>
            <p:cNvPicPr/>
            <p:nvPr/>
          </p:nvPicPr>
          <p:blipFill>
            <a:blip r:embed="rId12"/>
            <a:stretch/>
          </p:blipFill>
          <p:spPr>
            <a:xfrm>
              <a:off x="0" y="1752480"/>
              <a:ext cx="48006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166680" y="186228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Traslocazione robertsoniana 13/13 sbilanc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3971880" y="1523880"/>
            <a:ext cx="456264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4" name=""/>
          <p:cNvGrpSpPr/>
          <p:nvPr/>
        </p:nvGrpSpPr>
        <p:grpSpPr>
          <a:xfrm>
            <a:off x="4111560" y="2324160"/>
            <a:ext cx="4127040" cy="3530520"/>
            <a:chOff x="4111560" y="2324160"/>
            <a:chExt cx="4127040" cy="3530520"/>
          </a:xfrm>
        </p:grpSpPr>
        <p:sp>
          <p:nvSpPr>
            <p:cNvPr id="1245" name=""/>
            <p:cNvSpPr/>
            <p:nvPr/>
          </p:nvSpPr>
          <p:spPr>
            <a:xfrm>
              <a:off x="4111560" y="2324160"/>
              <a:ext cx="1587240" cy="3530520"/>
            </a:xfrm>
            <a:custGeom>
              <a:avLst/>
              <a:gdLst/>
              <a:ahLst/>
              <a:rect l="l" t="t" r="r" b="b"/>
              <a:pathLst>
                <a:path w="1000" h="2224">
                  <a:moveTo>
                    <a:pt x="0" y="0"/>
                  </a:moveTo>
                  <a:cubicBezTo>
                    <a:pt x="44" y="11"/>
                    <a:pt x="92" y="16"/>
                    <a:pt x="136" y="32"/>
                  </a:cubicBezTo>
                  <a:cubicBezTo>
                    <a:pt x="252" y="73"/>
                    <a:pt x="175" y="57"/>
                    <a:pt x="264" y="72"/>
                  </a:cubicBezTo>
                  <a:cubicBezTo>
                    <a:pt x="306" y="88"/>
                    <a:pt x="352" y="106"/>
                    <a:pt x="392" y="128"/>
                  </a:cubicBezTo>
                  <a:cubicBezTo>
                    <a:pt x="408" y="137"/>
                    <a:pt x="422" y="151"/>
                    <a:pt x="440" y="160"/>
                  </a:cubicBezTo>
                  <a:cubicBezTo>
                    <a:pt x="479" y="179"/>
                    <a:pt x="528" y="200"/>
                    <a:pt x="560" y="232"/>
                  </a:cubicBezTo>
                  <a:cubicBezTo>
                    <a:pt x="601" y="273"/>
                    <a:pt x="579" y="254"/>
                    <a:pt x="624" y="288"/>
                  </a:cubicBezTo>
                  <a:cubicBezTo>
                    <a:pt x="653" y="336"/>
                    <a:pt x="688" y="376"/>
                    <a:pt x="736" y="408"/>
                  </a:cubicBezTo>
                  <a:cubicBezTo>
                    <a:pt x="806" y="513"/>
                    <a:pt x="928" y="584"/>
                    <a:pt x="976" y="704"/>
                  </a:cubicBezTo>
                  <a:cubicBezTo>
                    <a:pt x="987" y="951"/>
                    <a:pt x="994" y="1047"/>
                    <a:pt x="1000" y="1344"/>
                  </a:cubicBezTo>
                  <a:cubicBezTo>
                    <a:pt x="984" y="1481"/>
                    <a:pt x="1000" y="1347"/>
                    <a:pt x="976" y="1520"/>
                  </a:cubicBezTo>
                  <a:cubicBezTo>
                    <a:pt x="971" y="1551"/>
                    <a:pt x="974" y="1589"/>
                    <a:pt x="952" y="1616"/>
                  </a:cubicBezTo>
                  <a:cubicBezTo>
                    <a:pt x="943" y="1626"/>
                    <a:pt x="928" y="1630"/>
                    <a:pt x="920" y="1640"/>
                  </a:cubicBezTo>
                  <a:cubicBezTo>
                    <a:pt x="907" y="1654"/>
                    <a:pt x="902" y="1675"/>
                    <a:pt x="888" y="1688"/>
                  </a:cubicBezTo>
                  <a:cubicBezTo>
                    <a:pt x="821" y="1743"/>
                    <a:pt x="749" y="1790"/>
                    <a:pt x="680" y="1840"/>
                  </a:cubicBezTo>
                  <a:cubicBezTo>
                    <a:pt x="594" y="1900"/>
                    <a:pt x="527" y="1984"/>
                    <a:pt x="432" y="2032"/>
                  </a:cubicBezTo>
                  <a:cubicBezTo>
                    <a:pt x="400" y="2094"/>
                    <a:pt x="435" y="2036"/>
                    <a:pt x="384" y="2088"/>
                  </a:cubicBezTo>
                  <a:cubicBezTo>
                    <a:pt x="350" y="2121"/>
                    <a:pt x="329" y="2158"/>
                    <a:pt x="288" y="2184"/>
                  </a:cubicBezTo>
                  <a:cubicBezTo>
                    <a:pt x="263" y="2199"/>
                    <a:pt x="228" y="2203"/>
                    <a:pt x="208" y="2224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48040" y="2755800"/>
              <a:ext cx="2514240" cy="1063800"/>
            </a:xfrm>
            <a:custGeom>
              <a:avLst/>
              <a:gdLst/>
              <a:ahLst/>
              <a:rect l="l" t="t" r="r" b="b"/>
              <a:pathLst>
                <a:path w="1576" h="622">
                  <a:moveTo>
                    <a:pt x="0" y="600"/>
                  </a:moveTo>
                  <a:cubicBezTo>
                    <a:pt x="67" y="622"/>
                    <a:pt x="181" y="588"/>
                    <a:pt x="256" y="576"/>
                  </a:cubicBezTo>
                  <a:cubicBezTo>
                    <a:pt x="288" y="559"/>
                    <a:pt x="320" y="543"/>
                    <a:pt x="352" y="528"/>
                  </a:cubicBezTo>
                  <a:cubicBezTo>
                    <a:pt x="381" y="513"/>
                    <a:pt x="400" y="490"/>
                    <a:pt x="432" y="480"/>
                  </a:cubicBezTo>
                  <a:cubicBezTo>
                    <a:pt x="451" y="422"/>
                    <a:pt x="423" y="488"/>
                    <a:pt x="464" y="440"/>
                  </a:cubicBezTo>
                  <a:cubicBezTo>
                    <a:pt x="502" y="394"/>
                    <a:pt x="455" y="416"/>
                    <a:pt x="504" y="400"/>
                  </a:cubicBezTo>
                  <a:cubicBezTo>
                    <a:pt x="541" y="343"/>
                    <a:pt x="542" y="302"/>
                    <a:pt x="600" y="264"/>
                  </a:cubicBezTo>
                  <a:cubicBezTo>
                    <a:pt x="618" y="236"/>
                    <a:pt x="624" y="221"/>
                    <a:pt x="664" y="208"/>
                  </a:cubicBezTo>
                  <a:cubicBezTo>
                    <a:pt x="680" y="202"/>
                    <a:pt x="712" y="192"/>
                    <a:pt x="712" y="192"/>
                  </a:cubicBezTo>
                  <a:cubicBezTo>
                    <a:pt x="758" y="207"/>
                    <a:pt x="808" y="178"/>
                    <a:pt x="856" y="168"/>
                  </a:cubicBezTo>
                  <a:cubicBezTo>
                    <a:pt x="950" y="146"/>
                    <a:pt x="1047" y="138"/>
                    <a:pt x="1144" y="128"/>
                  </a:cubicBezTo>
                  <a:cubicBezTo>
                    <a:pt x="1225" y="107"/>
                    <a:pt x="1291" y="50"/>
                    <a:pt x="1376" y="32"/>
                  </a:cubicBezTo>
                  <a:cubicBezTo>
                    <a:pt x="1433" y="19"/>
                    <a:pt x="1493" y="16"/>
                    <a:pt x="1552" y="8"/>
                  </a:cubicBezTo>
                  <a:cubicBezTo>
                    <a:pt x="1560" y="5"/>
                    <a:pt x="1576" y="0"/>
                    <a:pt x="1576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48040" y="4280040"/>
              <a:ext cx="2590560" cy="1015920"/>
            </a:xfrm>
            <a:custGeom>
              <a:avLst/>
              <a:gdLst/>
              <a:ahLst/>
              <a:rect l="l" t="t" r="r" b="b"/>
              <a:pathLst>
                <a:path w="1632" h="640">
                  <a:moveTo>
                    <a:pt x="0" y="32"/>
                  </a:moveTo>
                  <a:cubicBezTo>
                    <a:pt x="127" y="0"/>
                    <a:pt x="278" y="45"/>
                    <a:pt x="408" y="64"/>
                  </a:cubicBezTo>
                  <a:cubicBezTo>
                    <a:pt x="416" y="88"/>
                    <a:pt x="417" y="114"/>
                    <a:pt x="432" y="136"/>
                  </a:cubicBezTo>
                  <a:cubicBezTo>
                    <a:pt x="500" y="239"/>
                    <a:pt x="574" y="271"/>
                    <a:pt x="688" y="304"/>
                  </a:cubicBezTo>
                  <a:cubicBezTo>
                    <a:pt x="819" y="295"/>
                    <a:pt x="956" y="337"/>
                    <a:pt x="1032" y="224"/>
                  </a:cubicBezTo>
                  <a:cubicBezTo>
                    <a:pt x="1062" y="234"/>
                    <a:pt x="1088" y="248"/>
                    <a:pt x="1120" y="256"/>
                  </a:cubicBezTo>
                  <a:cubicBezTo>
                    <a:pt x="1151" y="302"/>
                    <a:pt x="1197" y="324"/>
                    <a:pt x="1240" y="360"/>
                  </a:cubicBezTo>
                  <a:cubicBezTo>
                    <a:pt x="1278" y="391"/>
                    <a:pt x="1321" y="437"/>
                    <a:pt x="1368" y="456"/>
                  </a:cubicBezTo>
                  <a:cubicBezTo>
                    <a:pt x="1381" y="461"/>
                    <a:pt x="1395" y="464"/>
                    <a:pt x="1408" y="472"/>
                  </a:cubicBezTo>
                  <a:cubicBezTo>
                    <a:pt x="1433" y="486"/>
                    <a:pt x="1454" y="507"/>
                    <a:pt x="1480" y="520"/>
                  </a:cubicBezTo>
                  <a:cubicBezTo>
                    <a:pt x="1525" y="542"/>
                    <a:pt x="1538" y="546"/>
                    <a:pt x="1584" y="592"/>
                  </a:cubicBezTo>
                  <a:cubicBezTo>
                    <a:pt x="1600" y="608"/>
                    <a:pt x="1632" y="640"/>
                    <a:pt x="1632" y="64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4719600" y="2228760"/>
            <a:ext cx="2695320" cy="3797280"/>
            <a:chOff x="4719600" y="2228760"/>
            <a:chExt cx="2695320" cy="3797280"/>
          </a:xfrm>
        </p:grpSpPr>
        <p:sp>
          <p:nvSpPr>
            <p:cNvPr id="1249" name=""/>
            <p:cNvSpPr/>
            <p:nvPr/>
          </p:nvSpPr>
          <p:spPr>
            <a:xfrm>
              <a:off x="6777000" y="2228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719600" y="3676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77000" y="3981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005600" y="5657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385760" y="166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33520" y="16747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Reperto di aborto spontaneo del I 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Trisomia cromosom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020000" y="3517560"/>
            <a:ext cx="457200" cy="152280"/>
          </a:xfrm>
          <a:prstGeom prst="line">
            <a:avLst/>
          </a:prstGeom>
          <a:ln w="9360">
            <a:solidFill>
              <a:srgbClr val="ff020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181480" y="1981080"/>
            <a:ext cx="457200" cy="152640"/>
          </a:xfrm>
          <a:prstGeom prst="line">
            <a:avLst/>
          </a:prstGeom>
          <a:ln w="9360">
            <a:solidFill>
              <a:srgbClr val="ff020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Conseguenze genetiche delle traslo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04920" y="198108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cambia il gruppo di associ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fertilità e vit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esempio nell’uomo traslocazione 13/21 e 13/13: differente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3294000" y="624852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(Morrissette et al,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24720" y="396396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en-13q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715000" y="2883240"/>
            <a:ext cx="1066680" cy="792000"/>
            <a:chOff x="5715000" y="2883240"/>
            <a:chExt cx="1066680" cy="792000"/>
          </a:xfrm>
        </p:grpSpPr>
        <p:grpSp>
          <p:nvGrpSpPr>
            <p:cNvPr id="1262" name=""/>
            <p:cNvGrpSpPr/>
            <p:nvPr/>
          </p:nvGrpSpPr>
          <p:grpSpPr>
            <a:xfrm>
              <a:off x="5790960" y="2883240"/>
              <a:ext cx="990720" cy="792000"/>
              <a:chOff x="5790960" y="2883240"/>
              <a:chExt cx="990720" cy="792000"/>
            </a:xfrm>
          </p:grpSpPr>
          <p:sp>
            <p:nvSpPr>
              <p:cNvPr id="1263" name=""/>
              <p:cNvSpPr/>
              <p:nvPr/>
            </p:nvSpPr>
            <p:spPr>
              <a:xfrm>
                <a:off x="5790960" y="2911320"/>
                <a:ext cx="990720" cy="763920"/>
              </a:xfrm>
              <a:prstGeom prst="donut">
                <a:avLst>
                  <a:gd name="adj" fmla="val 25000"/>
                </a:avLst>
              </a:prstGeom>
              <a:solidFill>
                <a:srgbClr val="66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011000">
                <a:off x="6232320" y="2919600"/>
                <a:ext cx="280800" cy="190800"/>
              </a:xfrm>
              <a:custGeom>
                <a:avLst/>
                <a:gdLst>
                  <a:gd name="textAreaLeft" fmla="*/ 61560 w 280800"/>
                  <a:gd name="textAreaRight" fmla="*/ 219240 w 280800"/>
                  <a:gd name="textAreaTop" fmla="*/ 41760 h 190800"/>
                  <a:gd name="textAreaBottom" fmla="*/ 149040 h 19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5715000" y="3119400"/>
              <a:ext cx="457200" cy="370440"/>
            </a:xfrm>
            <a:prstGeom prst="ellipse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2514600" y="9907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Cromosomi ad an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210400" y="2532240"/>
            <a:ext cx="805680" cy="3108960"/>
            <a:chOff x="2210400" y="2532240"/>
            <a:chExt cx="805680" cy="3108960"/>
          </a:xfrm>
        </p:grpSpPr>
        <p:sp>
          <p:nvSpPr>
            <p:cNvPr id="1268" name=""/>
            <p:cNvSpPr/>
            <p:nvPr/>
          </p:nvSpPr>
          <p:spPr>
            <a:xfrm>
              <a:off x="2210400" y="2881440"/>
              <a:ext cx="36072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13160" y="2855880"/>
              <a:ext cx="457200" cy="236088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2360880"/>
                <a:gd name="textAreaBottom" fmla="*/ 2338560 h 2360880"/>
              </a:gdLst>
              <a:ahLst/>
              <a:rect l="textAreaLeft" t="textAreaTop" r="textAreaRight" b="textAreaBottom"/>
              <a:pathLst>
                <a:path w="21600" h="111467">
                  <a:moveTo>
                    <a:pt x="3600" y="0"/>
                  </a:moveTo>
                  <a:arcTo wR="3600" hR="3600" stAng="16200000" swAng="-5400000"/>
                  <a:lnTo>
                    <a:pt x="0" y="107867"/>
                  </a:lnTo>
                  <a:arcTo wR="3600" hR="3600" stAng="10800000" swAng="-5400000"/>
                  <a:lnTo>
                    <a:pt x="18000" y="1114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513160" y="3203640"/>
              <a:ext cx="449280" cy="1382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13160" y="3689280"/>
              <a:ext cx="449280" cy="416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13160" y="4869000"/>
              <a:ext cx="452160" cy="13968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513160" y="4383000"/>
              <a:ext cx="449280" cy="277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84360" y="2532240"/>
              <a:ext cx="531720" cy="369720"/>
            </a:xfrm>
            <a:prstGeom prst="ellipse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84360" y="5181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1828800" y="3675240"/>
            <a:ext cx="1828800" cy="0"/>
          </a:xfrm>
          <a:prstGeom prst="line">
            <a:avLst/>
          </a:prstGeom>
          <a:ln w="28440">
            <a:solidFill>
              <a:srgbClr val="ff2d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4040280" y="2532240"/>
            <a:ext cx="531720" cy="1143000"/>
            <a:chOff x="4040280" y="2532240"/>
            <a:chExt cx="531720" cy="1143000"/>
          </a:xfrm>
        </p:grpSpPr>
        <p:sp>
          <p:nvSpPr>
            <p:cNvPr id="1278" name=""/>
            <p:cNvSpPr/>
            <p:nvPr/>
          </p:nvSpPr>
          <p:spPr>
            <a:xfrm>
              <a:off x="4064040" y="2906640"/>
              <a:ext cx="457200" cy="76860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768600"/>
                <a:gd name="textAreaBottom" fmla="*/ 746280 h 768600"/>
              </a:gdLst>
              <a:ahLst/>
              <a:rect l="textAreaLeft" t="textAreaTop" r="textAreaRight" b="textAreaBottom"/>
              <a:pathLst>
                <a:path w="21600" h="36300">
                  <a:moveTo>
                    <a:pt x="3600" y="0"/>
                  </a:moveTo>
                  <a:arcTo wR="3600" hR="3600" stAng="16200000" swAng="-5400000"/>
                  <a:lnTo>
                    <a:pt x="0" y="32700"/>
                  </a:lnTo>
                  <a:arcTo wR="3600" hR="3600" stAng="10800000" swAng="-5400000"/>
                  <a:lnTo>
                    <a:pt x="18000" y="36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68720" y="3203640"/>
              <a:ext cx="449280" cy="1382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40280" y="2532240"/>
              <a:ext cx="531720" cy="369720"/>
            </a:xfrm>
            <a:prstGeom prst="ellipse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4876920" y="2989440"/>
            <a:ext cx="685800" cy="533160"/>
            <a:chOff x="4876920" y="2989440"/>
            <a:chExt cx="685800" cy="533160"/>
          </a:xfrm>
        </p:grpSpPr>
        <p:sp>
          <p:nvSpPr>
            <p:cNvPr id="1282" name=""/>
            <p:cNvSpPr/>
            <p:nvPr/>
          </p:nvSpPr>
          <p:spPr>
            <a:xfrm>
              <a:off x="4876920" y="3065400"/>
              <a:ext cx="304920" cy="4572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20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5257800" y="2989440"/>
              <a:ext cx="304920" cy="49824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87120 h 498240"/>
                <a:gd name="textAreaBottom" fmla="*/ 36144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202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726360" y="2908440"/>
            <a:ext cx="3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2819520" y="100476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Ring del cromosom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rcRect l="17778" t="0" r="0" b="0"/>
          <a:stretch/>
        </p:blipFill>
        <p:spPr>
          <a:xfrm>
            <a:off x="5692680" y="2133720"/>
            <a:ext cx="1981440" cy="18302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2"/>
          <a:srcRect l="28571" t="0" r="10204" b="0"/>
          <a:stretch/>
        </p:blipFill>
        <p:spPr>
          <a:xfrm>
            <a:off x="7454880" y="2133720"/>
            <a:ext cx="1231920" cy="182556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rcRect l="81159" t="0" r="0" b="0"/>
          <a:stretch/>
        </p:blipFill>
        <p:spPr>
          <a:xfrm>
            <a:off x="6248520" y="4438800"/>
            <a:ext cx="2361960" cy="1733400"/>
          </a:xfrm>
          <a:prstGeom prst="rect">
            <a:avLst/>
          </a:prstGeom>
          <a:ln w="0">
            <a:noFill/>
          </a:ln>
        </p:spPr>
      </p:pic>
      <p:grpSp>
        <p:nvGrpSpPr>
          <p:cNvPr id="1289" name=""/>
          <p:cNvGrpSpPr/>
          <p:nvPr/>
        </p:nvGrpSpPr>
        <p:grpSpPr>
          <a:xfrm>
            <a:off x="380880" y="2168640"/>
            <a:ext cx="4953240" cy="4079880"/>
            <a:chOff x="380880" y="2168640"/>
            <a:chExt cx="4953240" cy="4079880"/>
          </a:xfrm>
        </p:grpSpPr>
        <p:pic>
          <p:nvPicPr>
            <p:cNvPr id="1290" name="" descr=""/>
            <p:cNvPicPr/>
            <p:nvPr/>
          </p:nvPicPr>
          <p:blipFill>
            <a:blip r:embed="rId4"/>
            <a:stretch/>
          </p:blipFill>
          <p:spPr>
            <a:xfrm>
              <a:off x="380880" y="2168640"/>
              <a:ext cx="4953240" cy="407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5"/>
            <a:stretch/>
          </p:blipFill>
          <p:spPr>
            <a:xfrm>
              <a:off x="380880" y="5105520"/>
              <a:ext cx="1828800" cy="110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768760" cy="222876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20960" cy="289548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 rot="5400000">
            <a:off x="2914200" y="1504800"/>
            <a:ext cx="2882880" cy="23115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4"/>
          <a:stretch/>
        </p:blipFill>
        <p:spPr>
          <a:xfrm>
            <a:off x="25560" y="4108320"/>
            <a:ext cx="2641320" cy="24069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5581800" y="1523880"/>
            <a:ext cx="3525840" cy="4267440"/>
          </a:xfrm>
          <a:prstGeom prst="rect">
            <a:avLst/>
          </a:prstGeom>
          <a:ln w="0">
            <a:noFill/>
          </a:ln>
        </p:spPr>
      </p:pic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5257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119"/>
                </a:solidFill>
                <a:latin typeface="Times New Roman"/>
              </a:rPr>
              <a:t>Esempi di metafasi 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00400" y="8380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Times New Roman"/>
              </a:rPr>
              <a:t>M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158400" y="1523880"/>
            <a:ext cx="79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Cambiamento  nella costituzione genetica di una cel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cellule somatic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1424"/>
                </a:solidFill>
                <a:latin typeface="Times New Roman"/>
              </a:rPr>
              <a:t>non ereditabile</a:t>
            </a:r>
            <a:r>
              <a:rPr b="0" lang="en-US" sz="2400" spc="-1" strike="noStrike">
                <a:solidFill>
                  <a:srgbClr val="ff142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cellule germin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1424"/>
                </a:solidFill>
                <a:latin typeface="Times New Roman"/>
              </a:rPr>
              <a:t>eredi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04920" y="3198960"/>
            <a:ext cx="8001000" cy="2820960"/>
            <a:chOff x="304920" y="3198960"/>
            <a:chExt cx="8001000" cy="2820960"/>
          </a:xfrm>
        </p:grpSpPr>
        <p:sp>
          <p:nvSpPr>
            <p:cNvPr id="453" name=""/>
            <p:cNvSpPr/>
            <p:nvPr/>
          </p:nvSpPr>
          <p:spPr>
            <a:xfrm>
              <a:off x="304920" y="435924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2199"/>
                  </a:solidFill>
                  <a:latin typeface="Times New Roman"/>
                </a:rPr>
                <a:t>Può interessare 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0400" y="3276720"/>
              <a:ext cx="152280" cy="2743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14120 h 2743200"/>
                <a:gd name="textAreaBottom" fmla="*/ 262908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c2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08400" y="3198960"/>
              <a:ext cx="49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c2199"/>
                  </a:solidFill>
                  <a:latin typeface="Times New Roman"/>
                </a:rPr>
                <a:t>genom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it-IT" sz="2400" spc="-1" strike="noStrike">
                  <a:solidFill>
                    <a:srgbClr val="ff1424"/>
                  </a:solidFill>
                  <a:latin typeface="Times New Roman"/>
                </a:rPr>
                <a:t>mutazioni genomi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308400" y="434196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cromosom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ff1424"/>
                </a:solidFill>
                <a:latin typeface="Times New Roman"/>
              </a:rPr>
              <a:t>mutazioni cromos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53040" y="533232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c2199"/>
                </a:solidFill>
                <a:latin typeface="Times New Roman"/>
              </a:rPr>
              <a:t>g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ff1424"/>
                </a:solidFill>
                <a:latin typeface="Times New Roman"/>
              </a:rPr>
              <a:t>mutazioni ge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380880" y="548496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Si formano due geni di fus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21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ABL-BCR su DER9 (nessuna proteina prodot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21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199"/>
                </a:solidFill>
                <a:latin typeface="Times New Roman"/>
              </a:rPr>
              <a:t>BCR-ABL su Ph (proteina di fusione coinvolta nella proliferazone cellul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0880" y="450072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60948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119"/>
                </a:solidFill>
                <a:latin typeface="Times New Roman"/>
              </a:rPr>
              <a:t>CML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133720" y="990720"/>
            <a:ext cx="4267080" cy="3429000"/>
            <a:chOff x="2133720" y="990720"/>
            <a:chExt cx="4267080" cy="3429000"/>
          </a:xfrm>
        </p:grpSpPr>
        <p:grpSp>
          <p:nvGrpSpPr>
            <p:cNvPr id="1303" name=""/>
            <p:cNvGrpSpPr/>
            <p:nvPr/>
          </p:nvGrpSpPr>
          <p:grpSpPr>
            <a:xfrm>
              <a:off x="2133720" y="990720"/>
              <a:ext cx="4267080" cy="3429000"/>
              <a:chOff x="2133720" y="990720"/>
              <a:chExt cx="4267080" cy="3429000"/>
            </a:xfrm>
          </p:grpSpPr>
          <p:sp>
            <p:nvSpPr>
              <p:cNvPr id="1304" name=""/>
              <p:cNvSpPr/>
              <p:nvPr/>
            </p:nvSpPr>
            <p:spPr>
              <a:xfrm>
                <a:off x="5316480" y="1949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5" name="" descr=""/>
              <p:cNvPicPr/>
              <p:nvPr/>
            </p:nvPicPr>
            <p:blipFill>
              <a:blip r:embed="rId1"/>
              <a:srcRect l="0" t="3751" r="5083" b="11775"/>
              <a:stretch/>
            </p:blipFill>
            <p:spPr>
              <a:xfrm>
                <a:off x="2133720" y="990720"/>
                <a:ext cx="426708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>
                <a:off x="3962520" y="2459160"/>
                <a:ext cx="380880" cy="304560"/>
              </a:xfrm>
              <a:prstGeom prst="rightArrow">
                <a:avLst>
                  <a:gd name="adj1" fmla="val 50000"/>
                  <a:gd name="adj2" fmla="val 312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27120" y="1028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125880" y="1511280"/>
                <a:ext cx="55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421160" y="1031760"/>
                <a:ext cx="101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BL/BC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295600" y="1488960"/>
                <a:ext cx="101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R/AB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2819520" y="1295280"/>
              <a:ext cx="228600" cy="243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64120" y="1295280"/>
              <a:ext cx="228600" cy="258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962680" y="1727280"/>
              <a:ext cx="22860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589200" y="1782720"/>
              <a:ext cx="228600" cy="88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" descr=""/>
          <p:cNvPicPr/>
          <p:nvPr/>
        </p:nvPicPr>
        <p:blipFill>
          <a:blip r:embed="rId1"/>
          <a:srcRect l="0" t="0" r="-421" b="0"/>
          <a:stretch/>
        </p:blipFill>
        <p:spPr>
          <a:xfrm>
            <a:off x="4502160" y="2733840"/>
            <a:ext cx="4489560" cy="381924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1530360" y="6037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a1a1a1"/>
                </a:solidFill>
                <a:latin typeface="Times New Roman"/>
              </a:rPr>
              <a:t>(P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2"/>
          <a:srcRect l="0" t="5032" r="0" b="4400"/>
          <a:stretch/>
        </p:blipFill>
        <p:spPr>
          <a:xfrm>
            <a:off x="685800" y="1066680"/>
            <a:ext cx="3784680" cy="54864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609480" y="60948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119"/>
                </a:solidFill>
                <a:latin typeface="Times New Roman"/>
              </a:rPr>
              <a:t>CML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3"/>
          <a:srcRect l="0" t="40984" r="6472" b="0"/>
          <a:stretch/>
        </p:blipFill>
        <p:spPr>
          <a:xfrm>
            <a:off x="4495680" y="1082520"/>
            <a:ext cx="44960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838080" y="10256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W.Flemminf: immagini di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romosomi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(cromat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76160" y="48564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4"/>
                </a:solidFill>
                <a:latin typeface="Times New Roman"/>
              </a:rPr>
              <a:t>Storia della citogene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52480" y="1981080"/>
            <a:ext cx="37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Studi su sezioni di testicoli (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48 cromosomi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38080" y="250344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46 CROMOSOMI</a:t>
            </a:r>
            <a:r>
              <a:rPr b="0" lang="en-GB" sz="1600" spc="-1" strike="noStrike">
                <a:solidFill>
                  <a:srgbClr val="0c21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c2199"/>
                </a:solidFill>
                <a:latin typeface="Times New Roman"/>
              </a:rPr>
              <a:t>Tjio JH and Levan A. </a:t>
            </a:r>
            <a:r>
              <a:rPr b="0" lang="en-GB" sz="1600" spc="-1" strike="noStrike">
                <a:solidFill>
                  <a:srgbClr val="336600"/>
                </a:solidFill>
                <a:latin typeface="Times New Roman"/>
              </a:rPr>
              <a:t>The chromosome number of m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c2199"/>
                </a:solidFill>
                <a:latin typeface="Times New Roman"/>
              </a:rPr>
              <a:t>Hereditas, 1956, 42:1-1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63640" y="3430440"/>
            <a:ext cx="44704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Denver Conference:</a:t>
            </a:r>
            <a:br>
              <a:rPr sz="1600"/>
            </a:b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-J. Lejeune: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trisomy 21</a:t>
            </a: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own syndrome</a:t>
            </a:r>
            <a:br>
              <a:rPr sz="1600"/>
            </a:b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-C. Ford: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XXY</a:t>
            </a: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karyotype and</a:t>
            </a: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Klinefelter syndrome</a:t>
            </a:r>
            <a:br>
              <a:rPr sz="1600"/>
            </a:b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-P. Jacobs: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X0 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karyotype and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Turner synd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romosoma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73000" y="49291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Conferenza di Den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080" y="5410080"/>
            <a:ext cx="44197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Quinacrine mustard: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Q-banding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 (Caspers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70120" y="5918040"/>
            <a:ext cx="2209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Giemsa: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G-b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76240" y="6400800"/>
            <a:ext cx="4724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FISH (</a:t>
            </a:r>
            <a:r>
              <a:rPr b="1" lang="en-US" sz="1600" spc="-1" strike="noStrike" u="sng">
                <a:solidFill>
                  <a:srgbClr val="336600"/>
                </a:solidFill>
                <a:uFillTx/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luorescence </a:t>
            </a:r>
            <a:r>
              <a:rPr b="1" i="1" lang="en-US" sz="1600" spc="-1" strike="noStrike" u="sng">
                <a:solidFill>
                  <a:srgbClr val="336600"/>
                </a:solidFill>
                <a:uFillTx/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c2199"/>
                </a:solidFill>
                <a:latin typeface="Times New Roman"/>
              </a:rPr>
              <a:t>n </a:t>
            </a:r>
            <a:r>
              <a:rPr b="1" i="1" lang="en-US" sz="1600" spc="-1" strike="noStrike" u="sng">
                <a:solidFill>
                  <a:srgbClr val="336600"/>
                </a:solidFill>
                <a:uFillTx/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c2199"/>
                </a:solidFill>
                <a:latin typeface="Times New Roman"/>
              </a:rPr>
              <a:t>itu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336600"/>
                </a:solidFill>
                <a:uFillTx/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ybridization) (P.Lich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28600" y="990720"/>
            <a:ext cx="685800" cy="5715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8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d1f"/>
                </a:solidFill>
                <a:latin typeface="Times New Roman"/>
              </a:rPr>
              <a:t>19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d1f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70840" y="14860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199"/>
                </a:solidFill>
                <a:latin typeface="Times New Roman"/>
              </a:rPr>
              <a:t>Painter: determinazione del sesso nell’uomo: </a:t>
            </a: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1"/>
          <a:srcRect l="31945" t="8763" r="22221" b="20527"/>
          <a:stretch/>
        </p:blipFill>
        <p:spPr>
          <a:xfrm rot="5400000">
            <a:off x="7013160" y="682560"/>
            <a:ext cx="1746000" cy="1904760"/>
          </a:xfrm>
          <a:prstGeom prst="rect">
            <a:avLst/>
          </a:prstGeom>
          <a:ln w="0">
            <a:noFill/>
          </a:ln>
        </p:spPr>
      </p:pic>
      <p:cxnSp>
        <p:nvCxnSpPr>
          <p:cNvPr id="1332" name=""/>
          <p:cNvCxnSpPr>
            <a:stCxn id="1322" idx="3"/>
            <a:endCxn id="1331" idx="2"/>
          </p:cNvCxnSpPr>
          <p:nvPr/>
        </p:nvCxnSpPr>
        <p:spPr>
          <a:xfrm flipV="1">
            <a:off x="4600440" y="1632960"/>
            <a:ext cx="2332800" cy="516600"/>
          </a:xfrm>
          <a:prstGeom prst="bentConnector3">
            <a:avLst>
              <a:gd name="adj1" fmla="val 50023"/>
            </a:avLst>
          </a:prstGeom>
          <a:ln w="9360">
            <a:solidFill>
              <a:srgbClr val="ff0000"/>
            </a:solidFill>
            <a:miter/>
          </a:ln>
        </p:spPr>
      </p:cxnSp>
      <p:pic>
        <p:nvPicPr>
          <p:cNvPr id="1333" name="" descr=""/>
          <p:cNvPicPr/>
          <p:nvPr/>
        </p:nvPicPr>
        <p:blipFill>
          <a:blip r:embed="rId2"/>
          <a:srcRect l="0" t="5470" r="0" b="0"/>
          <a:stretch/>
        </p:blipFill>
        <p:spPr>
          <a:xfrm>
            <a:off x="6095880" y="2590920"/>
            <a:ext cx="2971800" cy="1917720"/>
          </a:xfrm>
          <a:prstGeom prst="rect">
            <a:avLst/>
          </a:prstGeom>
          <a:ln w="0">
            <a:noFill/>
          </a:ln>
        </p:spPr>
      </p:pic>
      <p:cxnSp>
        <p:nvCxnSpPr>
          <p:cNvPr id="1334" name=""/>
          <p:cNvCxnSpPr>
            <a:stCxn id="1323" idx="3"/>
            <a:endCxn id="1333" idx="1"/>
          </p:cNvCxnSpPr>
          <p:nvPr/>
        </p:nvCxnSpPr>
        <p:spPr>
          <a:xfrm>
            <a:off x="5638680" y="2916000"/>
            <a:ext cx="457920" cy="633960"/>
          </a:xfrm>
          <a:prstGeom prst="bentConnector3">
            <a:avLst>
              <a:gd name="adj1" fmla="val 49960"/>
            </a:avLst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1335" name=""/>
          <p:cNvGrpSpPr/>
          <p:nvPr/>
        </p:nvGrpSpPr>
        <p:grpSpPr>
          <a:xfrm>
            <a:off x="6120000" y="4572000"/>
            <a:ext cx="2795040" cy="2197080"/>
            <a:chOff x="6120000" y="4572000"/>
            <a:chExt cx="2795040" cy="2197080"/>
          </a:xfrm>
        </p:grpSpPr>
        <p:pic>
          <p:nvPicPr>
            <p:cNvPr id="1336" name="" descr=""/>
            <p:cNvPicPr/>
            <p:nvPr/>
          </p:nvPicPr>
          <p:blipFill>
            <a:blip r:embed="rId3"/>
            <a:stretch/>
          </p:blipFill>
          <p:spPr>
            <a:xfrm>
              <a:off x="6217920" y="4572000"/>
              <a:ext cx="1230480" cy="4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4"/>
            <a:stretch/>
          </p:blipFill>
          <p:spPr>
            <a:xfrm>
              <a:off x="7993440" y="4642560"/>
              <a:ext cx="7272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5"/>
            <a:stretch/>
          </p:blipFill>
          <p:spPr>
            <a:xfrm>
              <a:off x="6217920" y="5240160"/>
              <a:ext cx="2697120" cy="3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6"/>
            <a:stretch/>
          </p:blipFill>
          <p:spPr>
            <a:xfrm>
              <a:off x="6217920" y="5770080"/>
              <a:ext cx="93348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7"/>
            <a:stretch/>
          </p:blipFill>
          <p:spPr>
            <a:xfrm>
              <a:off x="7897680" y="5810760"/>
              <a:ext cx="914400" cy="29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8"/>
            <a:stretch/>
          </p:blipFill>
          <p:spPr>
            <a:xfrm>
              <a:off x="6288120" y="6325200"/>
              <a:ext cx="61488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9"/>
            <a:stretch/>
          </p:blipFill>
          <p:spPr>
            <a:xfrm>
              <a:off x="7720560" y="6303960"/>
              <a:ext cx="1066680" cy="1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6263640" y="5033520"/>
              <a:ext cx="1136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93440" y="5033520"/>
              <a:ext cx="68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63640" y="5637960"/>
              <a:ext cx="264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263640" y="6071400"/>
              <a:ext cx="819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43760" y="6067080"/>
              <a:ext cx="819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09360" y="6532560"/>
              <a:ext cx="54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66640" y="6541200"/>
              <a:ext cx="95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436800" y="5011560"/>
              <a:ext cx="763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1-3 gruppo 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918920" y="5011560"/>
              <a:ext cx="729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4-5 gruppo 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035120" y="5626800"/>
              <a:ext cx="866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X-6-12 gruppo 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120000" y="6107760"/>
              <a:ext cx="82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13-15 gruppo 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17120" y="6079680"/>
              <a:ext cx="82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16-18 gruppo 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67520" y="6583680"/>
              <a:ext cx="820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19-20 gruppo 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712640" y="6489720"/>
              <a:ext cx="912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omic Sans MS"/>
                </a:rPr>
                <a:t>Y-21-22 gruppo 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7" name=""/>
          <p:cNvCxnSpPr>
            <a:stCxn id="1325" idx="3"/>
          </p:cNvCxnSpPr>
          <p:nvPr/>
        </p:nvCxnSpPr>
        <p:spPr>
          <a:xfrm>
            <a:off x="2854440" y="5097240"/>
            <a:ext cx="3242160" cy="541800"/>
          </a:xfrm>
          <a:prstGeom prst="bentConnector3">
            <a:avLst>
              <a:gd name="adj1" fmla="val 69094"/>
            </a:avLst>
          </a:prstGeom>
          <a:ln w="93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09320" y="12952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Times New Roman"/>
              </a:rPr>
              <a:t>Mutazioni cromosom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72736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424"/>
                </a:solidFill>
                <a:latin typeface="Times New Roman"/>
              </a:rPr>
              <a:t>NUME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199"/>
                </a:solidFill>
                <a:latin typeface="Times New Roman"/>
              </a:rPr>
              <a:t>varia il numero totale de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27273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STRUTTURA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2199"/>
                </a:solidFill>
                <a:latin typeface="Times New Roman"/>
              </a:rPr>
              <a:t>varia la struttura del/i cromosoma/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3733920" y="2320920"/>
            <a:ext cx="1752480" cy="1818720"/>
            <a:chOff x="3733920" y="2320920"/>
            <a:chExt cx="1752480" cy="1818720"/>
          </a:xfrm>
        </p:grpSpPr>
        <p:sp>
          <p:nvSpPr>
            <p:cNvPr id="462" name=""/>
            <p:cNvSpPr/>
            <p:nvPr/>
          </p:nvSpPr>
          <p:spPr>
            <a:xfrm>
              <a:off x="3733920" y="239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33920" y="262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2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91120" y="254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14800" y="285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91120" y="277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720" y="316404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4800" y="308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91120" y="300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3920" y="23972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3920" y="2625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91120" y="23209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91120" y="2549520"/>
              <a:ext cx="30492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4800" y="285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91120" y="27781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70360" y="3164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14800" y="3083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91120" y="3006720"/>
              <a:ext cx="30492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24080" y="367992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n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600200" y="3827520"/>
            <a:ext cx="1752480" cy="2369520"/>
            <a:chOff x="1600200" y="3827520"/>
            <a:chExt cx="1752480" cy="2369520"/>
          </a:xfrm>
        </p:grpSpPr>
        <p:sp>
          <p:nvSpPr>
            <p:cNvPr id="482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9280" y="5280120"/>
              <a:ext cx="121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ri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81080" y="4665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57400" y="45896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3903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57400" y="38275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00200" y="4132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57400" y="40561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81080" y="4894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57400" y="48182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00200" y="43610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57400" y="4284720"/>
              <a:ext cx="30492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81080" y="512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57400" y="5046840"/>
              <a:ext cx="304920" cy="1522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89280" y="5280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30600" y="573732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n+n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943240" y="3751200"/>
            <a:ext cx="1778400" cy="2750400"/>
            <a:chOff x="5943240" y="3751200"/>
            <a:chExt cx="1778400" cy="2750400"/>
          </a:xfrm>
        </p:grpSpPr>
        <p:sp>
          <p:nvSpPr>
            <p:cNvPr id="510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43240" y="564516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traplo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69160" y="3827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69160" y="4056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26360" y="37512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26360" y="39798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50040" y="5199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26360" y="51228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50040" y="542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26360" y="53514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0040" y="4741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26360" y="46656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50040" y="4970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26360" y="4894200"/>
              <a:ext cx="304560" cy="152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69160" y="4284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69160" y="45133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26360" y="42084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26360" y="4437000"/>
              <a:ext cx="30456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26040" y="604188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n+2n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80880" y="102060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0b"/>
                </a:solidFill>
                <a:latin typeface="Times New Roman"/>
              </a:rPr>
              <a:t>Poliploi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Presenza di copie multiple di un corredo cromosomico nor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Triploi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2422440"/>
            <a:ext cx="847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2d1f"/>
                </a:solidFill>
                <a:latin typeface="Times New Roman"/>
              </a:rPr>
              <a:t>Origine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142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per fusione di un gamete diploide, non ridotto con un gamete aploi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in seguito a doppia fecondazione (polispermi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c21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nell’uomo, in cui la meiosi II viene completata dopo la fecondazione, anche per mancata emissione del globulo polare 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47275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Times New Roman"/>
              </a:rPr>
              <a:t>La triploidia è comune nelle piante, rara negli animali. Esempi di specie animali sono </a:t>
            </a:r>
            <a:r>
              <a:rPr b="0" i="1" lang="it-IT" sz="1800" spc="-1" strike="noStrike">
                <a:solidFill>
                  <a:srgbClr val="336600"/>
                </a:solidFill>
                <a:latin typeface="Times New Roman"/>
              </a:rPr>
              <a:t>Drosophila, </a:t>
            </a:r>
            <a:r>
              <a:rPr b="0" lang="it-IT" sz="1800" spc="-1" strike="noStrike">
                <a:solidFill>
                  <a:srgbClr val="336600"/>
                </a:solidFill>
                <a:latin typeface="Times New Roman"/>
              </a:rPr>
              <a:t>salamandre</a:t>
            </a:r>
            <a:r>
              <a:rPr b="0" i="1" lang="it-IT" sz="1800" spc="-1" strike="noStrike">
                <a:solidFill>
                  <a:srgbClr val="336600"/>
                </a:solidFill>
                <a:latin typeface="Times New Roman"/>
              </a:rPr>
              <a:t>. </a:t>
            </a:r>
            <a:r>
              <a:rPr b="0" lang="it-IT" sz="1800" spc="-1" strike="noStrike">
                <a:solidFill>
                  <a:srgbClr val="336600"/>
                </a:solidFill>
                <a:latin typeface="Times New Roman"/>
              </a:rPr>
              <a:t>Nell’uomo si ritrova solo negli aborti spontan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2040" y="145404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Tre genomi (set aplodi) per nu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1447920"/>
            <a:ext cx="9144000" cy="4647960"/>
            <a:chOff x="0" y="1447920"/>
            <a:chExt cx="9144000" cy="4647960"/>
          </a:xfrm>
        </p:grpSpPr>
        <p:grpSp>
          <p:nvGrpSpPr>
            <p:cNvPr id="550" name=""/>
            <p:cNvGrpSpPr/>
            <p:nvPr/>
          </p:nvGrpSpPr>
          <p:grpSpPr>
            <a:xfrm>
              <a:off x="0" y="1447920"/>
              <a:ext cx="9144000" cy="4647960"/>
              <a:chOff x="0" y="1447920"/>
              <a:chExt cx="9144000" cy="4647960"/>
            </a:xfrm>
          </p:grpSpPr>
          <p:pic>
            <p:nvPicPr>
              <p:cNvPr id="5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447920"/>
                <a:ext cx="9144000" cy="46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1523880" y="1447920"/>
                <a:ext cx="670572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752480" y="4495680"/>
              <a:ext cx="5335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7920" y="4876920"/>
              <a:ext cx="7617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146240" y="1022400"/>
            <a:ext cx="66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20b"/>
                </a:solidFill>
                <a:latin typeface="Times New Roman"/>
              </a:rPr>
              <a:t>Alcuni meccanismi di origine della triploi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33720" y="9903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24"/>
                </a:solidFill>
                <a:latin typeface="Times New Roman"/>
              </a:rPr>
              <a:t>Tetraploi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24987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2d1f"/>
                </a:solidFill>
                <a:latin typeface="Times New Roman"/>
              </a:rPr>
              <a:t>Origine:</a:t>
            </a: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c21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si formano per fusione di due gameti diploi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c21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2199"/>
                </a:solidFill>
                <a:latin typeface="Times New Roman"/>
              </a:rPr>
              <a:t>mancata divisione dei primi blastom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4191120"/>
            <a:ext cx="83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Times New Roman"/>
              </a:rPr>
              <a:t>Molte piante ornamentali e piante da frutto sono tetraploid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00"/>
                </a:solidFill>
                <a:latin typeface="Times New Roman"/>
              </a:rPr>
              <a:t>Nell’uomo sono sempre abortivi ai primissimi stadi di sviluppo emb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1320" y="16765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199"/>
                </a:solidFill>
                <a:latin typeface="Times New Roman"/>
              </a:rPr>
              <a:t>Quattro genomi (set aplodi) per nu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9:53:23Z</dcterms:created>
  <dc:creator>Mariano Rocchi</dc:creator>
  <dc:description/>
  <dc:language>en-US</dc:language>
  <cp:lastModifiedBy>Mariano Rocchi</cp:lastModifiedBy>
  <dcterms:modified xsi:type="dcterms:W3CDTF">2007-11-12T08:51:32Z</dcterms:modified>
  <cp:revision>277</cp:revision>
  <dc:subject/>
  <dc:title>Storia della citogenetica</dc:title>
</cp:coreProperties>
</file>