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14.jpeg" ContentType="image/jpeg"/>
  <Override PartName="/ppt/media/image9.png" ContentType="image/png"/>
  <Override PartName="/ppt/media/image22.pct" ContentType="image/x-pict"/>
  <Override PartName="/ppt/media/image13.png" ContentType="image/pn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5.png" ContentType="image/png"/>
  <Override PartName="/ppt/media/image2.pct" ContentType="image/x-pict"/>
  <Override PartName="/ppt/media/image1.png" ContentType="image/png"/>
  <Override PartName="/ppt/media/image21.pct" ContentType="image/x-pict"/>
  <Override PartName="/ppt/media/image24.png" ContentType="image/png"/>
  <Override PartName="/ppt/media/image11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28.jpeg" ContentType="image/jpeg"/>
  <Override PartName="/ppt/media/image23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408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209760" cy="46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96880" y="-360"/>
            <a:ext cx="3210120" cy="46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39840" y="77004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480" y="469548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393120"/>
            <a:ext cx="3209760" cy="46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96880" y="9393120"/>
            <a:ext cx="3210120" cy="46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AA700C4-AFDF-438D-8A22-49A5BA50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15F-510D-4F4E-A77D-691B3539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560" y="397764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B30-6823-4CF5-B78C-057130A8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720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CE2-FD1A-4076-A07E-B98FB6E8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812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304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56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812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304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D69-76ED-4F67-AB7E-61726D72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B2E-21FC-4864-97E7-91A0566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DB1-C9CF-4633-89EB-EBA07B9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79F-B416-4EAE-BAD4-99DD5A1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11F-B165-4BC8-B9D8-1140F3B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E21-4FD2-491C-978D-2ADA39D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5C7-85B2-4D20-9F41-D8E58A7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ADD-39E2-4ED5-94F0-EB36BAE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3AC-3A3E-49C3-9A67-1922C26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96216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4160" y="7124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695720" y="708660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1D1C18C4-2B22-49CA-A279-9F47D79A0E70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33480" y="16344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920" y="579600"/>
            <a:ext cx="815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282920" y="1224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rediti a scelta Genetica Uman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ff0502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  <a:p>
            <a:pPr lvl="1" marL="696960" indent="-268200">
              <a:spcBef>
                <a:spcPts val="649"/>
              </a:spcBef>
              <a:buClr>
                <a:srgbClr val="ff0502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600" spc="-1" strike="noStrike">
                <a:solidFill>
                  <a:srgbClr val="ff0502"/>
                </a:solidFill>
                <a:latin typeface="Comic Sans MS"/>
              </a:rPr>
              <a:t>Second Outline Level</a:t>
            </a:r>
            <a:endParaRPr b="1" lang="en-US" sz="2600" spc="-1" strike="noStrike">
              <a:solidFill>
                <a:srgbClr val="ff0502"/>
              </a:solidFill>
              <a:latin typeface="Comic Sans MS"/>
            </a:endParaRPr>
          </a:p>
          <a:p>
            <a:pPr lvl="2" marL="1073160" indent="-214200">
              <a:spcBef>
                <a:spcPts val="550"/>
              </a:spcBef>
              <a:buClr>
                <a:srgbClr val="ff0502"/>
              </a:buClr>
              <a:buFont typeface="Comic Sans MS"/>
              <a:buChar char="•"/>
              <a:tabLst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200" spc="-1" strike="noStrike">
                <a:solidFill>
                  <a:srgbClr val="ff0502"/>
                </a:solidFill>
                <a:latin typeface="Comic Sans MS"/>
              </a:rPr>
              <a:t>Third Outline Level</a:t>
            </a:r>
            <a:endParaRPr b="1" lang="en-US" sz="2200" spc="-1" strike="noStrike">
              <a:solidFill>
                <a:srgbClr val="ff0502"/>
              </a:solidFill>
              <a:latin typeface="Comic Sans MS"/>
            </a:endParaRPr>
          </a:p>
          <a:p>
            <a:pPr lvl="3" marL="1503360" indent="-216000">
              <a:spcBef>
                <a:spcPts val="476"/>
              </a:spcBef>
              <a:buClr>
                <a:srgbClr val="ff0502"/>
              </a:buClr>
              <a:buFont typeface="Comic Sans MS"/>
              <a:buChar char="–"/>
              <a:tabLst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Four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4" marL="1930320" indent="-214200">
              <a:spcBef>
                <a:spcPts val="476"/>
              </a:spcBef>
              <a:buClr>
                <a:srgbClr val="ff0502"/>
              </a:buClr>
              <a:buFont typeface="Comic Sans MS"/>
              <a:buChar char="»"/>
              <a:tabLst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Fif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5" marL="1930320" indent="-214200">
              <a:spcBef>
                <a:spcPts val="476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Six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6" marL="1930320" indent="-214200">
              <a:spcBef>
                <a:spcPts val="476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Seven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114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marL="53352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100" spc="-1" strike="noStrike">
                <a:solidFill>
                  <a:srgbClr val="fe2c02"/>
                </a:solidFill>
                <a:latin typeface="Comic Sans MS"/>
              </a:rPr>
              <a:t>L’identificazione dei determinanti genetici nei fenotipi umani II </a:t>
            </a:r>
            <a:endParaRPr b="1" lang="en-US" sz="31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3921120" cy="33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304-328A-4D6D-A88C-D4D8E3A5DA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991360" cy="206064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589320" y="2766600"/>
            <a:ext cx="7716600" cy="1966320"/>
            <a:chOff x="589320" y="2766600"/>
            <a:chExt cx="7716600" cy="1966320"/>
          </a:xfrm>
        </p:grpSpPr>
        <p:sp>
          <p:nvSpPr>
            <p:cNvPr id="534" name=""/>
            <p:cNvSpPr/>
            <p:nvPr/>
          </p:nvSpPr>
          <p:spPr>
            <a:xfrm>
              <a:off x="589320" y="29930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19520" y="40384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05120" y="434340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7040" y="367884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~290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74880" y="311544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61080" y="31075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4440" y="31453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91880" y="38772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8800" y="3494160"/>
              <a:ext cx="2779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06520" y="349416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29000" y="3500280"/>
              <a:ext cx="2133720" cy="244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080" y="349416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7680240" y="3294000"/>
              <a:ext cx="189000" cy="752040"/>
              <a:chOff x="7680240" y="3294000"/>
              <a:chExt cx="189000" cy="752040"/>
            </a:xfrm>
          </p:grpSpPr>
          <p:sp>
            <p:nvSpPr>
              <p:cNvPr id="547" name=""/>
              <p:cNvSpPr/>
              <p:nvPr/>
            </p:nvSpPr>
            <p:spPr>
              <a:xfrm>
                <a:off x="7680240" y="33296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74200" y="3294000"/>
                <a:ext cx="9504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990720" y="3432240"/>
              <a:ext cx="215640" cy="3571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219320" y="3305160"/>
              <a:ext cx="188280" cy="752040"/>
              <a:chOff x="1219320" y="3305160"/>
              <a:chExt cx="188280" cy="752040"/>
            </a:xfrm>
          </p:grpSpPr>
          <p:sp>
            <p:nvSpPr>
              <p:cNvPr id="551" name=""/>
              <p:cNvSpPr/>
              <p:nvPr/>
            </p:nvSpPr>
            <p:spPr>
              <a:xfrm>
                <a:off x="1219320" y="334080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12920" y="330516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676520" y="3494160"/>
              <a:ext cx="1371600" cy="374400"/>
            </a:xfrm>
            <a:prstGeom prst="rightArrow">
              <a:avLst>
                <a:gd name="adj1" fmla="val 50000"/>
                <a:gd name="adj2" fmla="val 9158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3557520"/>
              <a:ext cx="533520" cy="249480"/>
            </a:xfrm>
            <a:prstGeom prst="rightArrow">
              <a:avLst>
                <a:gd name="adj1" fmla="val 50000"/>
                <a:gd name="adj2" fmla="val 5346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5960" y="352584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3608280"/>
              <a:ext cx="533160" cy="250920"/>
            </a:xfrm>
            <a:prstGeom prst="rightArrow">
              <a:avLst>
                <a:gd name="adj1" fmla="val 50000"/>
                <a:gd name="adj2" fmla="val 5312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37320" y="3500280"/>
              <a:ext cx="101268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67080" y="3432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13200" y="4364640"/>
              <a:ext cx="42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benigna: 1,3% omozigo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45840" y="27666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q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0720" y="4860000"/>
            <a:ext cx="8581680" cy="2082600"/>
            <a:chOff x="360720" y="4860000"/>
            <a:chExt cx="8581680" cy="2082600"/>
          </a:xfrm>
        </p:grpSpPr>
        <p:sp>
          <p:nvSpPr>
            <p:cNvPr id="562" name=""/>
            <p:cNvSpPr/>
            <p:nvPr/>
          </p:nvSpPr>
          <p:spPr>
            <a:xfrm>
              <a:off x="7694640" y="535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3400" y="5715000"/>
              <a:ext cx="1752480" cy="228600"/>
            </a:xfrm>
            <a:prstGeom prst="rightArrow">
              <a:avLst>
                <a:gd name="adj1" fmla="val 50000"/>
                <a:gd name="adj2" fmla="val 19165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25880" y="575316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25880" y="54864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75040" y="5486400"/>
              <a:ext cx="175284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4950000">
              <a:off x="4348080" y="4668120"/>
              <a:ext cx="916200" cy="1485720"/>
            </a:xfrm>
            <a:prstGeom prst="blockArc">
              <a:avLst>
                <a:gd name="adj1" fmla="val 9922134"/>
                <a:gd name="adj2" fmla="val 877866"/>
                <a:gd name="adj3" fmla="val 522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25880" y="4876920"/>
              <a:ext cx="609480" cy="685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6481" y="4275"/>
                  </a:lnTo>
                  <a:lnTo>
                    <a:pt x="16481" y="0"/>
                  </a:lnTo>
                  <a:lnTo>
                    <a:pt x="21600" y="6079"/>
                  </a:lnTo>
                  <a:lnTo>
                    <a:pt x="16481" y="12158"/>
                  </a:lnTo>
                  <a:lnTo>
                    <a:pt x="16481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54480" y="556272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0720" y="5659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70080" y="5791320"/>
              <a:ext cx="99036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02320" y="551196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56760" y="6498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35160" y="6629400"/>
              <a:ext cx="1752840" cy="228600"/>
            </a:xfrm>
            <a:prstGeom prst="rightArrow">
              <a:avLst>
                <a:gd name="adj1" fmla="val 50000"/>
                <a:gd name="adj2" fmla="val 19169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88000" y="66675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37160" y="6667560"/>
              <a:ext cx="175248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2840" y="65743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31840" y="670572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64440" y="6692760"/>
              <a:ext cx="9907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543800" y="5334120"/>
              <a:ext cx="151920" cy="380880"/>
              <a:chOff x="7543800" y="5334120"/>
              <a:chExt cx="151920" cy="380880"/>
            </a:xfrm>
          </p:grpSpPr>
          <p:sp>
            <p:nvSpPr>
              <p:cNvPr id="581" name=""/>
              <p:cNvSpPr/>
              <p:nvPr/>
            </p:nvSpPr>
            <p:spPr>
              <a:xfrm>
                <a:off x="7543800" y="5352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400" y="5334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1066680" y="5638680"/>
              <a:ext cx="152640" cy="381240"/>
              <a:chOff x="1066680" y="5638680"/>
              <a:chExt cx="152640" cy="381240"/>
            </a:xfrm>
          </p:grpSpPr>
          <p:sp>
            <p:nvSpPr>
              <p:cNvPr id="584" name=""/>
              <p:cNvSpPr/>
              <p:nvPr/>
            </p:nvSpPr>
            <p:spPr>
              <a:xfrm>
                <a:off x="1066680" y="56566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42640" y="5638680"/>
                <a:ext cx="7668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305920" y="6477120"/>
              <a:ext cx="151920" cy="380880"/>
              <a:chOff x="8305920" y="6477120"/>
              <a:chExt cx="151920" cy="380880"/>
            </a:xfrm>
          </p:grpSpPr>
          <p:sp>
            <p:nvSpPr>
              <p:cNvPr id="587" name=""/>
              <p:cNvSpPr/>
              <p:nvPr/>
            </p:nvSpPr>
            <p:spPr>
              <a:xfrm>
                <a:off x="8305920" y="6495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381520" y="6477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28800" y="6553080"/>
              <a:ext cx="151920" cy="381240"/>
              <a:chOff x="1828800" y="6553080"/>
              <a:chExt cx="151920" cy="381240"/>
            </a:xfrm>
          </p:grpSpPr>
          <p:sp>
            <p:nvSpPr>
              <p:cNvPr id="590" name=""/>
              <p:cNvSpPr/>
              <p:nvPr/>
            </p:nvSpPr>
            <p:spPr>
              <a:xfrm>
                <a:off x="1828800" y="6571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904400" y="6553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 rot="5500200">
              <a:off x="5028480" y="601956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5105520"/>
              <a:ext cx="91440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PHP1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AFD-FB01-422D-99AE-7B1AC3E14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 flipH="1">
            <a:off x="3776400" y="1968480"/>
            <a:ext cx="1020600" cy="46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62400" y="1968480"/>
            <a:ext cx="3498840" cy="46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5040" y="2631960"/>
            <a:ext cx="65556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30600" y="2631960"/>
            <a:ext cx="5030640" cy="200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4320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9276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4064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91680" y="2631960"/>
            <a:ext cx="1443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12000" y="2631960"/>
            <a:ext cx="217440" cy="200160"/>
          </a:xfrm>
          <a:custGeom>
            <a:avLst/>
            <a:gdLst>
              <a:gd name="textAreaLeft" fmla="*/ 49680 w 217440"/>
              <a:gd name="textAreaRight" fmla="*/ 167760 w 217440"/>
              <a:gd name="textAreaTop" fmla="*/ 45720 h 200160"/>
              <a:gd name="textAreaBottom" fmla="*/ 154440 h 2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ff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56360" y="2300400"/>
            <a:ext cx="1459080" cy="133200"/>
          </a:xfrm>
          <a:prstGeom prst="rightArrow">
            <a:avLst>
              <a:gd name="adj1" fmla="val 50000"/>
              <a:gd name="adj2" fmla="val 273851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983280" y="183528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563280" y="3070080"/>
            <a:ext cx="5303520" cy="368280"/>
            <a:chOff x="3563280" y="3070080"/>
            <a:chExt cx="5303520" cy="368280"/>
          </a:xfrm>
        </p:grpSpPr>
        <p:sp>
          <p:nvSpPr>
            <p:cNvPr id="607" name=""/>
            <p:cNvSpPr/>
            <p:nvPr/>
          </p:nvSpPr>
          <p:spPr>
            <a:xfrm>
              <a:off x="3563280" y="3070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75320" y="3070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0200" y="3070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24000" y="30700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24280" y="1676520"/>
            <a:ext cx="6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30600" y="2944800"/>
            <a:ext cx="3425760" cy="331920"/>
          </a:xfrm>
          <a:prstGeom prst="leftArrow">
            <a:avLst>
              <a:gd name="adj1" fmla="val 56667"/>
              <a:gd name="adj2" fmla="val 14459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6181560" y="2367000"/>
            <a:ext cx="874800" cy="331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54880" y="2101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3400" y="25614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931600" y="256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2960" y="2631960"/>
            <a:ext cx="211284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8734320" y="2300400"/>
            <a:ext cx="290160" cy="663120"/>
            <a:chOff x="8734320" y="2300400"/>
            <a:chExt cx="290160" cy="663120"/>
          </a:xfrm>
        </p:grpSpPr>
        <p:sp>
          <p:nvSpPr>
            <p:cNvPr id="619" name=""/>
            <p:cNvSpPr/>
            <p:nvPr/>
          </p:nvSpPr>
          <p:spPr>
            <a:xfrm>
              <a:off x="8734320" y="2331720"/>
              <a:ext cx="14544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878680" y="2300400"/>
              <a:ext cx="14580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2755800" y="2300400"/>
            <a:ext cx="291960" cy="663120"/>
            <a:chOff x="2755800" y="2300400"/>
            <a:chExt cx="291960" cy="663120"/>
          </a:xfrm>
        </p:grpSpPr>
        <p:sp>
          <p:nvSpPr>
            <p:cNvPr id="622" name=""/>
            <p:cNvSpPr/>
            <p:nvPr/>
          </p:nvSpPr>
          <p:spPr>
            <a:xfrm>
              <a:off x="2755800" y="2331720"/>
              <a:ext cx="14652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00880" y="2300400"/>
              <a:ext cx="14688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14240" y="2631960"/>
            <a:ext cx="365400" cy="20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98520" y="2631960"/>
            <a:ext cx="363600" cy="20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40" y="2300400"/>
            <a:ext cx="5842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2300400"/>
            <a:ext cx="5824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180880" y="3581280"/>
            <a:ext cx="6939360" cy="1447920"/>
            <a:chOff x="2180880" y="3581280"/>
            <a:chExt cx="6939360" cy="1447920"/>
          </a:xfrm>
        </p:grpSpPr>
        <p:grpSp>
          <p:nvGrpSpPr>
            <p:cNvPr id="629" name=""/>
            <p:cNvGrpSpPr/>
            <p:nvPr/>
          </p:nvGrpSpPr>
          <p:grpSpPr>
            <a:xfrm>
              <a:off x="3024000" y="3581280"/>
              <a:ext cx="304560" cy="761760"/>
              <a:chOff x="3024000" y="3581280"/>
              <a:chExt cx="304560" cy="761760"/>
            </a:xfrm>
          </p:grpSpPr>
          <p:sp>
            <p:nvSpPr>
              <p:cNvPr id="630" name=""/>
              <p:cNvSpPr/>
              <p:nvPr/>
            </p:nvSpPr>
            <p:spPr>
              <a:xfrm>
                <a:off x="3024000" y="3617280"/>
                <a:ext cx="15264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75560" y="3581280"/>
                <a:ext cx="15300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176640" y="3959280"/>
              <a:ext cx="685800" cy="16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62440" y="3959280"/>
              <a:ext cx="5257800" cy="168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750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628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53200" y="3959280"/>
              <a:ext cx="15264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4240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91440" y="3959280"/>
              <a:ext cx="228600" cy="16812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8160 h 168120"/>
                <a:gd name="textAreaBottom" fmla="*/ 12996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43720" y="3733920"/>
              <a:ext cx="1523880" cy="112680"/>
            </a:xfrm>
            <a:prstGeom prst="rightArrow">
              <a:avLst>
                <a:gd name="adj1" fmla="val 50000"/>
                <a:gd name="adj2" fmla="val 33809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62440" y="4184640"/>
              <a:ext cx="3581280" cy="281160"/>
            </a:xfrm>
            <a:prstGeom prst="leftArrow">
              <a:avLst>
                <a:gd name="adj1" fmla="val 56667"/>
                <a:gd name="adj2" fmla="val 17844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6239600">
              <a:off x="2344680" y="3803400"/>
              <a:ext cx="900000" cy="1217520"/>
            </a:xfrm>
            <a:prstGeom prst="blockArc">
              <a:avLst>
                <a:gd name="adj1" fmla="val 9722955"/>
                <a:gd name="adj2" fmla="val 1077045"/>
                <a:gd name="adj3" fmla="val 2072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17640" y="4680000"/>
              <a:ext cx="6400800" cy="1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77240" y="4691160"/>
              <a:ext cx="380880" cy="169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62440" y="4691160"/>
              <a:ext cx="3504960" cy="169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24400" y="50292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48640" y="502920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38800" y="4343400"/>
              <a:ext cx="304920" cy="30492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7007040" y="55926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5380200"/>
            <a:ext cx="6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7160" y="5659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1200" y="6413400"/>
            <a:ext cx="6858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3320" y="6413400"/>
            <a:ext cx="462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5960" y="6400800"/>
            <a:ext cx="211320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39160" y="6389640"/>
            <a:ext cx="1827000" cy="163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45560" y="6389640"/>
            <a:ext cx="14580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796240" y="6389640"/>
            <a:ext cx="14472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16920" y="6389640"/>
            <a:ext cx="217440" cy="200160"/>
          </a:xfrm>
          <a:custGeom>
            <a:avLst/>
            <a:gdLst>
              <a:gd name="textAreaLeft" fmla="*/ 49680 w 217440"/>
              <a:gd name="textAreaRight" fmla="*/ 167760 w 217440"/>
              <a:gd name="textAreaTop" fmla="*/ 45720 h 200160"/>
              <a:gd name="textAreaBottom" fmla="*/ 154440 h 2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ff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6058080"/>
            <a:ext cx="1458720" cy="133200"/>
          </a:xfrm>
          <a:prstGeom prst="rightArrow">
            <a:avLst>
              <a:gd name="adj1" fmla="val 50000"/>
              <a:gd name="adj2" fmla="val 273784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968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58680" y="57913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200" y="68277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728920" y="6827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6486480" y="6124320"/>
            <a:ext cx="874800" cy="33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59800" y="585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236520" y="63187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9039240" y="6058080"/>
            <a:ext cx="290160" cy="663120"/>
            <a:chOff x="9039240" y="6058080"/>
            <a:chExt cx="290160" cy="663120"/>
          </a:xfrm>
        </p:grpSpPr>
        <p:sp>
          <p:nvSpPr>
            <p:cNvPr id="667" name=""/>
            <p:cNvSpPr/>
            <p:nvPr/>
          </p:nvSpPr>
          <p:spPr>
            <a:xfrm>
              <a:off x="9039240" y="6089400"/>
              <a:ext cx="14544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83600" y="6058080"/>
              <a:ext cx="14580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776840" y="6019920"/>
            <a:ext cx="291600" cy="663120"/>
            <a:chOff x="4776840" y="6019920"/>
            <a:chExt cx="291600" cy="663120"/>
          </a:xfrm>
        </p:grpSpPr>
        <p:sp>
          <p:nvSpPr>
            <p:cNvPr id="670" name=""/>
            <p:cNvSpPr/>
            <p:nvPr/>
          </p:nvSpPr>
          <p:spPr>
            <a:xfrm>
              <a:off x="4776840" y="6051240"/>
              <a:ext cx="14616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21920" y="6019920"/>
              <a:ext cx="14652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939960" y="6058080"/>
            <a:ext cx="279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605808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41280" y="6400800"/>
            <a:ext cx="462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36640" y="6389640"/>
            <a:ext cx="2113200" cy="239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640080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33920" y="6400800"/>
            <a:ext cx="228600" cy="225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6400800"/>
            <a:ext cx="66204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8280" y="6058080"/>
            <a:ext cx="9907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00200" y="6781680"/>
            <a:ext cx="2362320" cy="228600"/>
          </a:xfrm>
          <a:prstGeom prst="rightArrow">
            <a:avLst>
              <a:gd name="adj1" fmla="val 50000"/>
              <a:gd name="adj2" fmla="val 258346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5383800">
            <a:off x="4798800" y="53719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0"/>
          <a:stretch/>
        </p:blipFill>
        <p:spPr>
          <a:xfrm>
            <a:off x="304920" y="838080"/>
            <a:ext cx="4519440" cy="6606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08160" y="1522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versione in Xq28 :Emofilia A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214-2D02-4F44-B6D5-98422E30B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Difficolta’ di indentificazione delle muta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400680" y="4288320"/>
            <a:ext cx="91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questo caso non si riusciva a trovare la mutazione perche’ si test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ssenza degli esoni con PCR e si aveva amplificato, in realta’ gli es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’erano ma il gene non poteva funzionare perche’ era stato alter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’inv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7560" y="2383200"/>
            <a:ext cx="946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parte degli affetti da emofilia A presenta delezione del gene par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e, quando si cercavano le mutazioni c’erano alcuni pazienti emofil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 deficienza di Fattore VIII, ma non erano deleti e si comincio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ensare alla presenza di un altro locus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212-4272-4B54-BE1E-3EA6739DF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illiams-Beuren syndrome (WBS)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990720" y="6858000"/>
            <a:ext cx="51814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8560" y="3057480"/>
            <a:ext cx="9412920" cy="828360"/>
            <a:chOff x="268560" y="3057480"/>
            <a:chExt cx="9412920" cy="828360"/>
          </a:xfrm>
        </p:grpSpPr>
        <p:sp>
          <p:nvSpPr>
            <p:cNvPr id="690" name=""/>
            <p:cNvSpPr/>
            <p:nvPr/>
          </p:nvSpPr>
          <p:spPr>
            <a:xfrm>
              <a:off x="6788160" y="3514680"/>
              <a:ext cx="57780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27160" y="3514680"/>
              <a:ext cx="77472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0880" y="3514680"/>
              <a:ext cx="4701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5720400">
              <a:off x="771120" y="3505320"/>
              <a:ext cx="279360" cy="17784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998640" y="3286080"/>
              <a:ext cx="117360" cy="599760"/>
              <a:chOff x="998640" y="3286080"/>
              <a:chExt cx="117360" cy="599760"/>
            </a:xfrm>
          </p:grpSpPr>
          <p:sp>
            <p:nvSpPr>
              <p:cNvPr id="695" name=""/>
              <p:cNvSpPr/>
              <p:nvPr/>
            </p:nvSpPr>
            <p:spPr>
              <a:xfrm>
                <a:off x="998640" y="3314520"/>
                <a:ext cx="5868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5696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812960" y="3514680"/>
              <a:ext cx="522360" cy="309600"/>
            </a:xfrm>
            <a:prstGeom prst="rightArrow">
              <a:avLst>
                <a:gd name="adj1" fmla="val 50000"/>
                <a:gd name="adj2" fmla="val 4218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27400" y="3522600"/>
              <a:ext cx="522000" cy="311040"/>
            </a:xfrm>
            <a:prstGeom prst="rightArrow">
              <a:avLst>
                <a:gd name="adj1" fmla="val 50000"/>
                <a:gd name="adj2" fmla="val 4195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0040" y="3522600"/>
              <a:ext cx="522360" cy="311040"/>
            </a:xfrm>
            <a:prstGeom prst="rightArrow">
              <a:avLst>
                <a:gd name="adj1" fmla="val 50000"/>
                <a:gd name="adj2" fmla="val 4198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62400" y="3525840"/>
              <a:ext cx="285840" cy="3096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26000" y="3514680"/>
              <a:ext cx="21240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54600" y="3527280"/>
              <a:ext cx="522360" cy="311400"/>
            </a:xfrm>
            <a:prstGeom prst="rightArrow">
              <a:avLst>
                <a:gd name="adj1" fmla="val 50000"/>
                <a:gd name="adj2" fmla="val 4193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75520" y="3527280"/>
              <a:ext cx="522000" cy="311400"/>
            </a:xfrm>
            <a:prstGeom prst="rightArrow">
              <a:avLst>
                <a:gd name="adj1" fmla="val 50000"/>
                <a:gd name="adj2" fmla="val 4190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01080" y="3514680"/>
              <a:ext cx="531720" cy="304920"/>
            </a:xfrm>
            <a:prstGeom prst="leftArrow">
              <a:avLst>
                <a:gd name="adj1" fmla="val 50000"/>
                <a:gd name="adj2" fmla="val 4359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9040" y="3514680"/>
              <a:ext cx="533160" cy="304920"/>
            </a:xfrm>
            <a:prstGeom prst="leftArrow">
              <a:avLst>
                <a:gd name="adj1" fmla="val 50000"/>
                <a:gd name="adj2" fmla="val 4371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29600" y="35146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7631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9067680" y="3286080"/>
              <a:ext cx="117360" cy="599760"/>
              <a:chOff x="9067680" y="3286080"/>
              <a:chExt cx="117360" cy="599760"/>
            </a:xfrm>
          </p:grpSpPr>
          <p:sp>
            <p:nvSpPr>
              <p:cNvPr id="709" name=""/>
              <p:cNvSpPr/>
              <p:nvPr/>
            </p:nvSpPr>
            <p:spPr>
              <a:xfrm>
                <a:off x="9067680" y="331452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12600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92203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8560" y="3085560"/>
              <a:ext cx="6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162360" y="3080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724280" y="3057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098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67080" y="3543480"/>
              <a:ext cx="152640" cy="15228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05520" y="3530520"/>
              <a:ext cx="152280" cy="15264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341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627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84600" y="3505320"/>
              <a:ext cx="304920" cy="20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66760" y="5050440"/>
            <a:ext cx="9413280" cy="807120"/>
            <a:chOff x="266760" y="5050440"/>
            <a:chExt cx="9413280" cy="807120"/>
          </a:xfrm>
        </p:grpSpPr>
        <p:grpSp>
          <p:nvGrpSpPr>
            <p:cNvPr id="723" name=""/>
            <p:cNvGrpSpPr/>
            <p:nvPr/>
          </p:nvGrpSpPr>
          <p:grpSpPr>
            <a:xfrm>
              <a:off x="266760" y="5052600"/>
              <a:ext cx="9413280" cy="804960"/>
              <a:chOff x="266760" y="5052600"/>
              <a:chExt cx="9413280" cy="804960"/>
            </a:xfrm>
          </p:grpSpPr>
          <p:sp>
            <p:nvSpPr>
              <p:cNvPr id="724" name=""/>
              <p:cNvSpPr/>
              <p:nvPr/>
            </p:nvSpPr>
            <p:spPr>
              <a:xfrm>
                <a:off x="3716280" y="5486400"/>
                <a:ext cx="482760" cy="142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097160" y="5476680"/>
                <a:ext cx="533520" cy="304920"/>
              </a:xfrm>
              <a:prstGeom prst="leftArrow">
                <a:avLst>
                  <a:gd name="adj1" fmla="val 50000"/>
                  <a:gd name="adj2" fmla="val 4374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06920" y="5464080"/>
                <a:ext cx="531720" cy="304920"/>
              </a:xfrm>
              <a:prstGeom prst="leftArrow">
                <a:avLst>
                  <a:gd name="adj1" fmla="val 50000"/>
                  <a:gd name="adj2" fmla="val 4359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5189400" y="5489640"/>
                <a:ext cx="2124000" cy="203040"/>
                <a:chOff x="5189400" y="5489640"/>
                <a:chExt cx="2124000" cy="203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189400" y="5499000"/>
                  <a:ext cx="2124000" cy="151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2736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5022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30840" y="5527440"/>
                  <a:ext cx="152280" cy="15228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568920" y="5514840"/>
                  <a:ext cx="152640" cy="15192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7975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261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048360" y="5489640"/>
                  <a:ext cx="304560" cy="2030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1125360" y="5486400"/>
                <a:ext cx="7747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9440" y="5486400"/>
                <a:ext cx="46980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720400">
                <a:off x="769680" y="5476680"/>
                <a:ext cx="27936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996840" y="5257800"/>
                <a:ext cx="117360" cy="599760"/>
                <a:chOff x="996840" y="5257800"/>
                <a:chExt cx="117360" cy="5997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996840" y="528624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0551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" name=""/>
              <p:cNvSpPr/>
              <p:nvPr/>
            </p:nvSpPr>
            <p:spPr>
              <a:xfrm>
                <a:off x="1811160" y="5486400"/>
                <a:ext cx="522360" cy="309600"/>
              </a:xfrm>
              <a:prstGeom prst="rightArrow">
                <a:avLst>
                  <a:gd name="adj1" fmla="val 50000"/>
                  <a:gd name="adj2" fmla="val 421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25600" y="5494320"/>
                <a:ext cx="522360" cy="311040"/>
              </a:xfrm>
              <a:prstGeom prst="rightArrow">
                <a:avLst>
                  <a:gd name="adj1" fmla="val 50000"/>
                  <a:gd name="adj2" fmla="val 4198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38600" y="5494320"/>
                <a:ext cx="522000" cy="311040"/>
              </a:xfrm>
              <a:prstGeom prst="rightArrow">
                <a:avLst>
                  <a:gd name="adj1" fmla="val 50000"/>
                  <a:gd name="adj2" fmla="val 4195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60600" y="5497560"/>
                <a:ext cx="285840" cy="309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99280" y="5486400"/>
                <a:ext cx="531720" cy="304560"/>
              </a:xfrm>
              <a:prstGeom prst="leftArrow">
                <a:avLst>
                  <a:gd name="adj1" fmla="val 50000"/>
                  <a:gd name="adj2" fmla="val 4364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7240" y="548640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28160" y="5486400"/>
                <a:ext cx="533160" cy="304560"/>
              </a:xfrm>
              <a:prstGeom prst="leftArrow">
                <a:avLst>
                  <a:gd name="adj1" fmla="val 50000"/>
                  <a:gd name="adj2" fmla="val 437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613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9066240" y="5257800"/>
                <a:ext cx="117360" cy="599760"/>
                <a:chOff x="9066240" y="5257800"/>
                <a:chExt cx="117360" cy="5997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9066240" y="5286240"/>
                  <a:ext cx="5868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1245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92185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66760" y="505728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160920" y="5052600"/>
                <a:ext cx="5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153480" y="5050440"/>
              <a:ext cx="25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invert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33280" y="3809880"/>
            <a:ext cx="7389000" cy="1151640"/>
            <a:chOff x="233280" y="3809880"/>
            <a:chExt cx="7389000" cy="1151640"/>
          </a:xfrm>
        </p:grpSpPr>
        <p:sp>
          <p:nvSpPr>
            <p:cNvPr id="758" name=""/>
            <p:cNvSpPr/>
            <p:nvPr/>
          </p:nvSpPr>
          <p:spPr>
            <a:xfrm>
              <a:off x="2383920" y="45932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33280" y="3809880"/>
              <a:ext cx="7389000" cy="928440"/>
              <a:chOff x="233280" y="3809880"/>
              <a:chExt cx="7389000" cy="92844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33280" y="3933360"/>
                <a:ext cx="7389000" cy="804960"/>
                <a:chOff x="233280" y="3933360"/>
                <a:chExt cx="7389000" cy="8049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728960" y="4367160"/>
                  <a:ext cx="57780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092240" y="4367160"/>
                  <a:ext cx="7743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45960" y="4367160"/>
                  <a:ext cx="46944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5720400">
                  <a:off x="735840" y="4357800"/>
                  <a:ext cx="279360" cy="1774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963720" y="4138560"/>
                  <a:ext cx="116640" cy="599760"/>
                  <a:chOff x="963720" y="4138560"/>
                  <a:chExt cx="116640" cy="59976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96372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02168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" name=""/>
                <p:cNvSpPr/>
                <p:nvPr/>
              </p:nvSpPr>
              <p:spPr>
                <a:xfrm>
                  <a:off x="1778040" y="4367160"/>
                  <a:ext cx="522000" cy="309600"/>
                </a:xfrm>
                <a:prstGeom prst="rightArrow">
                  <a:avLst>
                    <a:gd name="adj1" fmla="val 50000"/>
                    <a:gd name="adj2" fmla="val 4215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292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805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327480" y="4378320"/>
                  <a:ext cx="285120" cy="30960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95760" y="4379760"/>
                  <a:ext cx="521640" cy="311400"/>
                </a:xfrm>
                <a:prstGeom prst="rightArrow">
                  <a:avLst>
                    <a:gd name="adj1" fmla="val 50000"/>
                    <a:gd name="adj2" fmla="val 41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16320" y="4379760"/>
                  <a:ext cx="522000" cy="311400"/>
                </a:xfrm>
                <a:prstGeom prst="rightArrow">
                  <a:avLst>
                    <a:gd name="adj1" fmla="val 50000"/>
                    <a:gd name="adj2" fmla="val 4190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41880" y="4367160"/>
                  <a:ext cx="531360" cy="304920"/>
                </a:xfrm>
                <a:prstGeom prst="leftArrow">
                  <a:avLst>
                    <a:gd name="adj1" fmla="val 50000"/>
                    <a:gd name="adj2" fmla="val 4356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64984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17040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039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" name=""/>
                <p:cNvGrpSpPr/>
                <p:nvPr/>
              </p:nvGrpSpPr>
              <p:grpSpPr>
                <a:xfrm>
                  <a:off x="7008840" y="4138560"/>
                  <a:ext cx="116640" cy="599760"/>
                  <a:chOff x="7008840" y="4138560"/>
                  <a:chExt cx="116640" cy="5997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700884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680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71611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33280" y="3938040"/>
                  <a:ext cx="63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103160" y="3933360"/>
                  <a:ext cx="51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 rot="5400000">
                <a:off x="4799880" y="3962160"/>
                <a:ext cx="533520" cy="22860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3558960" y="1542600"/>
            <a:ext cx="5203800" cy="3638880"/>
            <a:chOff x="3558960" y="1542600"/>
            <a:chExt cx="5203800" cy="3638880"/>
          </a:xfrm>
        </p:grpSpPr>
        <p:sp>
          <p:nvSpPr>
            <p:cNvPr id="786" name=""/>
            <p:cNvSpPr/>
            <p:nvPr/>
          </p:nvSpPr>
          <p:spPr>
            <a:xfrm>
              <a:off x="3558960" y="1542600"/>
              <a:ext cx="43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nversione benigna nel 28% dei genitori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6200000">
              <a:off x="4686120" y="952200"/>
              <a:ext cx="1600200" cy="3504960"/>
            </a:xfrm>
            <a:custGeom>
              <a:avLst/>
              <a:gdLst>
                <a:gd name="textAreaLeft" fmla="*/ 0 w 1600200"/>
                <a:gd name="textAreaRight" fmla="*/ 1122480 w 160020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8038800" y="445752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990720" y="6173640"/>
            <a:ext cx="7937280" cy="9129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5"/>
          <a:stretch/>
        </p:blipFill>
        <p:spPr>
          <a:xfrm>
            <a:off x="5943600" y="7051680"/>
            <a:ext cx="2997360" cy="30492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720720" y="844560"/>
            <a:ext cx="1976040" cy="2005560"/>
            <a:chOff x="720720" y="844560"/>
            <a:chExt cx="1976040" cy="2005560"/>
          </a:xfrm>
        </p:grpSpPr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762120" y="844560"/>
              <a:ext cx="71424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295280" y="17524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20720" y="2481840"/>
              <a:ext cx="9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90840" y="15451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q11.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733920" y="2324880"/>
            <a:ext cx="2959920" cy="1180080"/>
            <a:chOff x="3733920" y="2324880"/>
            <a:chExt cx="2959920" cy="1180080"/>
          </a:xfrm>
        </p:grpSpPr>
        <p:grpSp>
          <p:nvGrpSpPr>
            <p:cNvPr id="797" name=""/>
            <p:cNvGrpSpPr/>
            <p:nvPr/>
          </p:nvGrpSpPr>
          <p:grpSpPr>
            <a:xfrm>
              <a:off x="3733920" y="2666520"/>
              <a:ext cx="2057400" cy="838440"/>
              <a:chOff x="3733920" y="2666520"/>
              <a:chExt cx="2057400" cy="838440"/>
            </a:xfrm>
          </p:grpSpPr>
          <p:sp>
            <p:nvSpPr>
              <p:cNvPr id="798" name=""/>
              <p:cNvSpPr/>
              <p:nvPr/>
            </p:nvSpPr>
            <p:spPr>
              <a:xfrm>
                <a:off x="4423680" y="271116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L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6200000">
                <a:off x="4343400" y="2057040"/>
                <a:ext cx="838440" cy="2057400"/>
              </a:xfrm>
              <a:custGeom>
                <a:avLst/>
                <a:gdLst>
                  <a:gd name="textAreaLeft" fmla="*/ 0 w 838440"/>
                  <a:gd name="textAreaRight" fmla="*/ 588240 w 83844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4237920" y="232488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lezione di 160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74B-1EC0-4658-BB37-6D27B5FD0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GS/VCFS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419720" y="6858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2589120" y="609480"/>
            <a:ext cx="412920" cy="658800"/>
          </a:xfrm>
          <a:prstGeom prst="rect">
            <a:avLst/>
          </a:prstGeom>
          <a:ln w="0">
            <a:noFill/>
          </a:ln>
        </p:spPr>
      </p:pic>
      <p:grpSp>
        <p:nvGrpSpPr>
          <p:cNvPr id="804" name=""/>
          <p:cNvGrpSpPr/>
          <p:nvPr/>
        </p:nvGrpSpPr>
        <p:grpSpPr>
          <a:xfrm>
            <a:off x="2949480" y="783360"/>
            <a:ext cx="1480320" cy="368280"/>
            <a:chOff x="2949480" y="783360"/>
            <a:chExt cx="1480320" cy="368280"/>
          </a:xfrm>
        </p:grpSpPr>
        <p:sp>
          <p:nvSpPr>
            <p:cNvPr id="805" name=""/>
            <p:cNvSpPr/>
            <p:nvPr/>
          </p:nvSpPr>
          <p:spPr>
            <a:xfrm>
              <a:off x="2949480" y="9907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64480" y="7833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q11.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676520" y="1523880"/>
            <a:ext cx="3809880" cy="2895840"/>
            <a:chOff x="1676520" y="1523880"/>
            <a:chExt cx="3809880" cy="2895840"/>
          </a:xfrm>
        </p:grpSpPr>
        <p:grpSp>
          <p:nvGrpSpPr>
            <p:cNvPr id="808" name=""/>
            <p:cNvGrpSpPr/>
            <p:nvPr/>
          </p:nvGrpSpPr>
          <p:grpSpPr>
            <a:xfrm>
              <a:off x="1676520" y="1752480"/>
              <a:ext cx="469080" cy="2168280"/>
              <a:chOff x="1676520" y="1752480"/>
              <a:chExt cx="469080" cy="2168280"/>
            </a:xfrm>
          </p:grpSpPr>
          <p:sp>
            <p:nvSpPr>
              <p:cNvPr id="809" name=""/>
              <p:cNvSpPr/>
              <p:nvPr/>
            </p:nvSpPr>
            <p:spPr>
              <a:xfrm>
                <a:off x="1676520" y="3771000"/>
                <a:ext cx="464400" cy="149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76520" y="36658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676520" y="355320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76520" y="34480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76520" y="3152160"/>
                <a:ext cx="464400" cy="358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76520" y="298980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676520" y="281268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676520" y="272736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76520" y="262224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76520" y="244476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53920" y="2284200"/>
                <a:ext cx="309600" cy="177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81200" y="1752480"/>
                <a:ext cx="464400" cy="177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681200" y="2075400"/>
                <a:ext cx="464400" cy="253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38800" y="1981080"/>
                <a:ext cx="348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38800" y="2051280"/>
                <a:ext cx="34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V="1">
              <a:off x="2133720" y="1905120"/>
              <a:ext cx="236196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33720" y="274320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5520" y="1523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29200" y="182880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29200" y="25671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9606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29200" y="34052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29200" y="3786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86400" y="1676520"/>
            <a:ext cx="3340080" cy="1981080"/>
            <a:chOff x="5486400" y="1676520"/>
            <a:chExt cx="3340080" cy="1981080"/>
          </a:xfrm>
        </p:grpSpPr>
        <p:sp>
          <p:nvSpPr>
            <p:cNvPr id="833" name=""/>
            <p:cNvSpPr/>
            <p:nvPr/>
          </p:nvSpPr>
          <p:spPr>
            <a:xfrm>
              <a:off x="6553080" y="167652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97600" y="223956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86400" y="167652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98240" y="183132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86400" y="167652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7000" y="266616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23840" y="4214520"/>
            <a:ext cx="9263160" cy="2134800"/>
            <a:chOff x="123840" y="4214520"/>
            <a:chExt cx="9263160" cy="2134800"/>
          </a:xfrm>
        </p:grpSpPr>
        <p:sp>
          <p:nvSpPr>
            <p:cNvPr id="840" name=""/>
            <p:cNvSpPr/>
            <p:nvPr/>
          </p:nvSpPr>
          <p:spPr>
            <a:xfrm>
              <a:off x="5867280" y="5316120"/>
              <a:ext cx="457200" cy="215640"/>
            </a:xfrm>
            <a:prstGeom prst="leftArrow">
              <a:avLst>
                <a:gd name="adj1" fmla="val 50000"/>
                <a:gd name="adj2" fmla="val 5300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2448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6934320" y="5265360"/>
              <a:ext cx="380880" cy="299880"/>
              <a:chOff x="6934320" y="5265360"/>
              <a:chExt cx="380880" cy="299880"/>
            </a:xfrm>
          </p:grpSpPr>
          <p:sp>
            <p:nvSpPr>
              <p:cNvPr id="843" name=""/>
              <p:cNvSpPr/>
              <p:nvPr/>
            </p:nvSpPr>
            <p:spPr>
              <a:xfrm>
                <a:off x="6934320" y="52653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72120" y="543024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1257480" y="4570200"/>
              <a:ext cx="7530840" cy="299520"/>
              <a:chOff x="1257480" y="4570200"/>
              <a:chExt cx="7530840" cy="299520"/>
            </a:xfrm>
          </p:grpSpPr>
          <p:sp>
            <p:nvSpPr>
              <p:cNvPr id="846" name=""/>
              <p:cNvSpPr/>
              <p:nvPr/>
            </p:nvSpPr>
            <p:spPr>
              <a:xfrm>
                <a:off x="1257480" y="46206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71468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2416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6290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62240" y="457020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4671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006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338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0673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008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6232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66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0040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50532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384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57200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1340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927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0260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71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67760" y="4620600"/>
                <a:ext cx="520560" cy="228240"/>
              </a:xfrm>
              <a:prstGeom prst="rightArrow">
                <a:avLst>
                  <a:gd name="adj1" fmla="val 50000"/>
                  <a:gd name="adj2" fmla="val 5701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07996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600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13404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53360" y="47476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828360" y="44830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849600" y="5143320"/>
              <a:ext cx="4484160" cy="459720"/>
              <a:chOff x="849600" y="5143320"/>
              <a:chExt cx="4484160" cy="459720"/>
            </a:xfrm>
          </p:grpSpPr>
          <p:sp>
            <p:nvSpPr>
              <p:cNvPr id="873" name=""/>
              <p:cNvSpPr/>
              <p:nvPr/>
            </p:nvSpPr>
            <p:spPr>
              <a:xfrm>
                <a:off x="1447560" y="53064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0476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76080" y="525564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09600" y="525564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7608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00960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43120" y="525564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81280" y="5420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847680" y="525096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873240" y="5433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5260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12840" y="5306400"/>
                <a:ext cx="520920" cy="228240"/>
              </a:xfrm>
              <a:prstGeom prst="rightArrow">
                <a:avLst>
                  <a:gd name="adj1" fmla="val 50000"/>
                  <a:gd name="adj2" fmla="val 5705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49600" y="5143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201080" y="5265360"/>
              <a:ext cx="6094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ffffff"/>
                </a:gs>
                <a:gs pos="100000">
                  <a:srgbClr val="00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01080" y="543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7240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32640" y="5316120"/>
              <a:ext cx="520920" cy="228240"/>
            </a:xfrm>
            <a:prstGeom prst="rightArrow">
              <a:avLst>
                <a:gd name="adj1" fmla="val 50000"/>
                <a:gd name="adj2" fmla="val 5705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914680" y="5127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3840" y="42145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95280" y="6068880"/>
              <a:ext cx="457200" cy="215280"/>
            </a:xfrm>
            <a:prstGeom prst="leftArrow">
              <a:avLst>
                <a:gd name="adj1" fmla="val 50000"/>
                <a:gd name="adj2" fmla="val 5309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24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362320" y="6018120"/>
              <a:ext cx="609480" cy="299520"/>
              <a:chOff x="2362320" y="6018120"/>
              <a:chExt cx="609480" cy="299520"/>
            </a:xfrm>
          </p:grpSpPr>
          <p:sp>
            <p:nvSpPr>
              <p:cNvPr id="895" name=""/>
              <p:cNvSpPr/>
              <p:nvPr/>
            </p:nvSpPr>
            <p:spPr>
              <a:xfrm>
                <a:off x="236232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400120" y="61952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2895480" y="6018120"/>
              <a:ext cx="609480" cy="299520"/>
              <a:chOff x="2895480" y="6018120"/>
              <a:chExt cx="609480" cy="299520"/>
            </a:xfrm>
          </p:grpSpPr>
          <p:sp>
            <p:nvSpPr>
              <p:cNvPr id="898" name=""/>
              <p:cNvSpPr/>
              <p:nvPr/>
            </p:nvSpPr>
            <p:spPr>
              <a:xfrm>
                <a:off x="289548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3364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3416400" y="6018120"/>
              <a:ext cx="609480" cy="299520"/>
              <a:chOff x="3416400" y="6018120"/>
              <a:chExt cx="609480" cy="299520"/>
            </a:xfrm>
          </p:grpSpPr>
          <p:sp>
            <p:nvSpPr>
              <p:cNvPr id="901" name=""/>
              <p:cNvSpPr/>
              <p:nvPr/>
            </p:nvSpPr>
            <p:spPr>
              <a:xfrm>
                <a:off x="341640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5456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3949560" y="6005160"/>
              <a:ext cx="609480" cy="299880"/>
              <a:chOff x="3949560" y="6005160"/>
              <a:chExt cx="609480" cy="299880"/>
            </a:xfrm>
          </p:grpSpPr>
          <p:sp>
            <p:nvSpPr>
              <p:cNvPr id="904" name=""/>
              <p:cNvSpPr/>
              <p:nvPr/>
            </p:nvSpPr>
            <p:spPr>
              <a:xfrm>
                <a:off x="394956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6216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4483080" y="6005160"/>
              <a:ext cx="609480" cy="299880"/>
              <a:chOff x="4483080" y="6005160"/>
              <a:chExt cx="609480" cy="299880"/>
            </a:xfrm>
          </p:grpSpPr>
          <p:sp>
            <p:nvSpPr>
              <p:cNvPr id="907" name=""/>
              <p:cNvSpPr/>
              <p:nvPr/>
            </p:nvSpPr>
            <p:spPr>
              <a:xfrm>
                <a:off x="448308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483080" y="61826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5003640" y="6005160"/>
              <a:ext cx="380880" cy="299880"/>
              <a:chOff x="5003640" y="6005160"/>
              <a:chExt cx="380880" cy="299880"/>
            </a:xfrm>
          </p:grpSpPr>
          <p:sp>
            <p:nvSpPr>
              <p:cNvPr id="910" name=""/>
              <p:cNvSpPr/>
              <p:nvPr/>
            </p:nvSpPr>
            <p:spPr>
              <a:xfrm>
                <a:off x="5003640" y="60051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41800" y="6170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5308560" y="6005160"/>
              <a:ext cx="3808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46720" y="6170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386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248520" y="6005160"/>
              <a:ext cx="609480" cy="299880"/>
              <a:chOff x="6248520" y="6005160"/>
              <a:chExt cx="609480" cy="299880"/>
            </a:xfrm>
          </p:grpSpPr>
          <p:sp>
            <p:nvSpPr>
              <p:cNvPr id="916" name=""/>
              <p:cNvSpPr/>
              <p:nvPr/>
            </p:nvSpPr>
            <p:spPr>
              <a:xfrm>
                <a:off x="624852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8668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7480440" y="6068880"/>
              <a:ext cx="520560" cy="228240"/>
            </a:xfrm>
            <a:prstGeom prst="rightArrow">
              <a:avLst>
                <a:gd name="adj1" fmla="val 50000"/>
                <a:gd name="adj2" fmla="val 5701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1984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1520" y="5889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06480" y="5884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866" idx="0"/>
              <a:endCxn id="885" idx="0"/>
            </p:cNvCxnSpPr>
            <p:nvPr/>
          </p:nvCxnSpPr>
          <p:spPr>
            <a:xfrm flipH="1">
              <a:off x="1042200" y="4735440"/>
              <a:ext cx="7746120" cy="379440"/>
            </a:xfrm>
            <a:prstGeom prst="bentConnector4">
              <a:avLst>
                <a:gd name="adj1" fmla="val -2951"/>
                <a:gd name="adj2" fmla="val 64767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23" name=""/>
            <p:cNvSpPr/>
            <p:nvPr/>
          </p:nvSpPr>
          <p:spPr>
            <a:xfrm>
              <a:off x="5308560" y="5416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/>
            <p:nvPr/>
          </p:nvCxnSpPr>
          <p:spPr>
            <a:xfrm flipH="1">
              <a:off x="1194840" y="5557320"/>
              <a:ext cx="7746120" cy="379800"/>
            </a:xfrm>
            <a:prstGeom prst="bentConnector4">
              <a:avLst>
                <a:gd name="adj1" fmla="val -5763"/>
                <a:gd name="adj2" fmla="val 648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25" name=""/>
          <p:cNvSpPr/>
          <p:nvPr/>
        </p:nvSpPr>
        <p:spPr>
          <a:xfrm>
            <a:off x="1721880" y="652068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et al: Hum.Mol.Genet.9(4) 489-501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&amp; B.S.Emanuel:Nat.Rev.Genet.2(10) 791-800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2400" y="121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1B3-6E35-4B24-8241-B049FB489A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e2c02"/>
                </a:solidFill>
                <a:latin typeface="Comic Sans MS"/>
              </a:rPr>
              <a:t>RICERCANDO UN GENE NELLE BANCHE GENOMICHE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3571560" y="3311280"/>
            <a:ext cx="257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reening di libr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0160" y="4773240"/>
            <a:ext cx="79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anche il clone genomico che contiene un dato 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4040" y="2130840"/>
            <a:ext cx="93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trovare un clone di interesse e’ necessario testare la libreria con una data seq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343400" y="2705040"/>
            <a:ext cx="990720" cy="4572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74040" y="547020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anche il clone genomico che contiene un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80600" y="6232320"/>
            <a:ext cx="69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il numero di copie di un dato gene (o 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AD8-7865-45D6-9062-DC222B913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27160" y="7213680"/>
            <a:ext cx="951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47451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Esempio di screening 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533520" y="1828800"/>
            <a:ext cx="3733560" cy="1143000"/>
            <a:chOff x="533520" y="1828800"/>
            <a:chExt cx="3733560" cy="1143000"/>
          </a:xfrm>
        </p:grpSpPr>
        <p:sp>
          <p:nvSpPr>
            <p:cNvPr id="937" name=""/>
            <p:cNvSpPr/>
            <p:nvPr/>
          </p:nvSpPr>
          <p:spPr>
            <a:xfrm>
              <a:off x="533520" y="1828800"/>
              <a:ext cx="380880" cy="1143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3520" y="2432160"/>
              <a:ext cx="380880" cy="533160"/>
            </a:xfrm>
            <a:prstGeom prst="can">
              <a:avLst>
                <a:gd name="adj" fmla="val 46430"/>
              </a:avLst>
            </a:prstGeom>
            <a:solidFill>
              <a:srgbClr val="ffffff">
                <a:alpha val="59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6680" y="2286000"/>
              <a:ext cx="1524240" cy="457200"/>
            </a:xfrm>
            <a:prstGeom prst="rightArrow">
              <a:avLst>
                <a:gd name="adj1" fmla="val 50000"/>
                <a:gd name="adj2" fmla="val 83346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6240" y="1884600"/>
              <a:ext cx="151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rcatura radioat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2286000"/>
              <a:ext cx="1447560" cy="457200"/>
            </a:xfrm>
            <a:prstGeom prst="rightArrow">
              <a:avLst>
                <a:gd name="adj1" fmla="val 50000"/>
                <a:gd name="adj2" fmla="val 79154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0440" y="21150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brid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660920" y="819000"/>
            <a:ext cx="5124600" cy="6553440"/>
            <a:chOff x="4660920" y="819000"/>
            <a:chExt cx="5124600" cy="6553440"/>
          </a:xfrm>
        </p:grpSpPr>
        <p:pic>
          <p:nvPicPr>
            <p:cNvPr id="944" name="" descr=""/>
            <p:cNvPicPr/>
            <p:nvPr/>
          </p:nvPicPr>
          <p:blipFill>
            <a:blip r:embed="rId1"/>
            <a:stretch/>
          </p:blipFill>
          <p:spPr>
            <a:xfrm>
              <a:off x="4660920" y="819000"/>
              <a:ext cx="5124600" cy="32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"/>
            <a:stretch/>
          </p:blipFill>
          <p:spPr>
            <a:xfrm>
              <a:off x="4660920" y="4098960"/>
              <a:ext cx="5124600" cy="327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5854680" y="3594240"/>
            <a:ext cx="3972240" cy="3733560"/>
            <a:chOff x="5854680" y="3594240"/>
            <a:chExt cx="3972240" cy="3733560"/>
          </a:xfrm>
        </p:grpSpPr>
        <p:grpSp>
          <p:nvGrpSpPr>
            <p:cNvPr id="947" name=""/>
            <p:cNvGrpSpPr/>
            <p:nvPr/>
          </p:nvGrpSpPr>
          <p:grpSpPr>
            <a:xfrm>
              <a:off x="6151680" y="3724200"/>
              <a:ext cx="1820520" cy="1198800"/>
              <a:chOff x="6151680" y="3724200"/>
              <a:chExt cx="1820520" cy="119880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6151680" y="3726000"/>
                <a:ext cx="1820520" cy="1187280"/>
                <a:chOff x="6151680" y="3726000"/>
                <a:chExt cx="1820520" cy="11872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151680" y="43246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52760" y="4249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154200" y="4177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55640" y="41018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57080" y="40298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158520" y="39553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160320" y="3880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161760" y="38044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163200" y="372600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157800" y="49111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159240" y="48391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60320" y="47638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161760" y="46886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163200" y="46166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64640" y="454176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166800" y="44665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169320" y="439380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 flipH="1">
                <a:off x="675900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6835320" y="37242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690840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6984360" y="372816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705636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7131600" y="37270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7207920" y="372708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7284240" y="37292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2720" y="3730320"/>
                <a:ext cx="1440" cy="11862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616680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623988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6315120" y="372708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639144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646452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6539760" y="37270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615720" y="37242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68916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743364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750672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7581960" y="373356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7658280" y="37314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773136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7806240" y="37335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7882560" y="37303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7957800" y="37281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7942320" y="6129360"/>
              <a:ext cx="1821960" cy="1198440"/>
              <a:chOff x="7942320" y="6129360"/>
              <a:chExt cx="1821960" cy="119844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7942320" y="6131160"/>
                <a:ext cx="1821960" cy="1186920"/>
                <a:chOff x="7942320" y="6131160"/>
                <a:chExt cx="1821960" cy="1186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7942320" y="6729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943400" y="6654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944840" y="6582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946280" y="6507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947720" y="6435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949160" y="6360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950960" y="62848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952400" y="62096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953840" y="61311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948440" y="7315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949880" y="7243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950960" y="71686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952400" y="7093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953840" y="7021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955280" y="6946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957440" y="6871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959960" y="6798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 flipH="1">
                <a:off x="855000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8626320" y="6129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869940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8775720" y="61333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88477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922960" y="6132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8999280" y="6132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9075600" y="6134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9154440" y="61354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795744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80305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8106120" y="6132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818244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82555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330760" y="6132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407080" y="6129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848016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922536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929844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9373680" y="6138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9450000" y="6136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952308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9598320" y="6138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9674640" y="6135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9749880" y="61333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143760" y="6119640"/>
              <a:ext cx="1821960" cy="1198800"/>
              <a:chOff x="6143760" y="6119640"/>
              <a:chExt cx="1821960" cy="119880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6143760" y="6121440"/>
                <a:ext cx="1821960" cy="1187280"/>
                <a:chOff x="6143760" y="6121440"/>
                <a:chExt cx="1821960" cy="11872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6143760" y="67201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44840" y="6644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46280" y="6572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47720" y="64972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149160" y="64252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50600" y="63507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152400" y="6275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153840" y="6199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155280" y="6121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149880" y="7306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51320" y="7234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152400" y="7159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153840" y="70840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55280" y="70120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156720" y="69372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58880" y="6861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161400" y="6789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675144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827760" y="61196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90084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977160" y="612360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70491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7124400" y="61225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7200720" y="612252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7277040" y="61246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355880" y="6125760"/>
                <a:ext cx="1440" cy="11862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15888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2319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307560" y="612252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638388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569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532200" y="61225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608520" y="61196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668160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742680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49988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7575120" y="612900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651440" y="61268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772452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7799760" y="6129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7876080" y="61257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7951320" y="61236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7945560" y="4932360"/>
              <a:ext cx="1821960" cy="1198440"/>
              <a:chOff x="7945560" y="4932360"/>
              <a:chExt cx="1821960" cy="119844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7945560" y="4934160"/>
                <a:ext cx="1821960" cy="1186920"/>
                <a:chOff x="7945560" y="4934160"/>
                <a:chExt cx="1821960" cy="11869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7945560" y="5532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946640" y="5457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948080" y="5385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949520" y="5310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950960" y="5238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952400" y="5163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954200" y="50878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955640" y="50126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957080" y="49341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951680" y="6118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953120" y="6046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954200" y="59716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955640" y="5896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957080" y="5824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958520" y="5749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960680" y="5674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963200" y="5601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 flipH="1">
                <a:off x="855324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8629560" y="4932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870264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8778960" y="49363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88509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8926200" y="4935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9002520" y="4935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9078840" y="4937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9157680" y="49384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796068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80337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8109360" y="4935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818568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82587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8334000" y="4935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410320" y="4932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340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922860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930168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9376920" y="4941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9453240" y="4939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952632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9601560" y="4941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9677880" y="4938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9753120" y="49363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6146640" y="4919760"/>
              <a:ext cx="1822680" cy="1198440"/>
              <a:chOff x="6146640" y="4919760"/>
              <a:chExt cx="1822680" cy="11984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6146640" y="4921560"/>
                <a:ext cx="1822680" cy="1186920"/>
                <a:chOff x="6146640" y="4921560"/>
                <a:chExt cx="1822680" cy="11869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146640" y="5519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147720" y="5444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149160" y="5372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150600" y="52974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152040" y="52254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153480" y="5150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155640" y="50752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156720" y="50000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158160" y="4921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152760" y="6106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154200" y="6034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155640" y="59590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156720" y="58838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158160" y="58118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159600" y="57369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161760" y="56617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164640" y="55893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 flipH="1">
                <a:off x="675432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830640" y="49197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90408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980400" y="4923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05240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7127640" y="4922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203960" y="4922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280280" y="49248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7358760" y="49258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616176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623484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6310440" y="4922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638676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645984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6535080" y="4922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6611400" y="49197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668448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742968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750312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7578360" y="49291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7654680" y="4926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772776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803000" y="49291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7879320" y="49258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7954560" y="4923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7951680" y="3730680"/>
              <a:ext cx="1822680" cy="1198440"/>
              <a:chOff x="7951680" y="3730680"/>
              <a:chExt cx="1822680" cy="119844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951680" y="3732480"/>
                <a:ext cx="1822680" cy="1186920"/>
                <a:chOff x="7951680" y="3732480"/>
                <a:chExt cx="1822680" cy="11869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7951680" y="43308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952760" y="4255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954200" y="4183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955640" y="4108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957080" y="4036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958520" y="39618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960680" y="38862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961760" y="38109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963200" y="37324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957800" y="49172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959240" y="48452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960680" y="47700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961760" y="46947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963200" y="46227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964640" y="4547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966800" y="4472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969680" y="44002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 flipH="1">
                <a:off x="855936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8635680" y="37306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870912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8785440" y="3734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885744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8932680" y="3733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9009000" y="373356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9085320" y="3735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9163800" y="373680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796680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803988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8115480" y="373356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819180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826488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8340120" y="3733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8416440" y="37306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848952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923472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930816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9383400" y="37400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9459720" y="37378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953280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9608040" y="3740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9684360" y="37368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9759600" y="3734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>
              <a:off x="5854680" y="3700440"/>
              <a:ext cx="309600" cy="50760"/>
            </a:xfrm>
            <a:prstGeom prst="rect">
              <a:avLst/>
            </a:prstGeom>
            <a:solidFill>
              <a:srgbClr val="44ad05"/>
            </a:solidFill>
            <a:ln w="9360">
              <a:solidFill>
                <a:srgbClr val="44a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9740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2432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486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149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1508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8972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408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7048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04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424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59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640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863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86268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93252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9272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2168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944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4707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7384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24520" y="3782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183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993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517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85000" y="36781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85000" y="38368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85000" y="39783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85000" y="37530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85000" y="39099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85000" y="40543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85000" y="41306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85000" y="4208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85000" y="42782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85000" y="4344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85000" y="44226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85000" y="45687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85000" y="4641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85000" y="4803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85000" y="47052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85000" y="44928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37120" y="498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97600" y="48769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97600" y="50356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97600" y="51768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97600" y="49514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7600" y="5108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97600" y="52531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97600" y="53290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7600" y="54072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97600" y="54770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97600" y="55436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97600" y="5621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97600" y="57675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97600" y="58402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7600" y="59850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7600" y="59133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97600" y="56912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981800">
              <a:off x="7381440" y="476244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99cc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110280" y="4614480"/>
              <a:ext cx="3716640" cy="2696040"/>
              <a:chOff x="6110280" y="4614480"/>
              <a:chExt cx="3716640" cy="2696040"/>
            </a:xfrm>
          </p:grpSpPr>
          <p:sp>
            <p:nvSpPr>
              <p:cNvPr id="1272" name=""/>
              <p:cNvSpPr/>
              <p:nvPr/>
            </p:nvSpPr>
            <p:spPr>
              <a:xfrm>
                <a:off x="6120000" y="462420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110280" y="581472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110280" y="701496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872560" y="703404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881920" y="582444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891640" y="461448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8" name=""/>
          <p:cNvSpPr/>
          <p:nvPr/>
        </p:nvSpPr>
        <p:spPr>
          <a:xfrm>
            <a:off x="8375760" y="2080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ILTR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18160" y="55861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ILTRO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3840" y="477072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gn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gmen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’ costituito da un numero variabile d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ltr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fogli di nitrocellulosa dove sono depositati I cloni BAC della libre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76E-A252-4B85-91E4-916CD667EF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-9360" y="990360"/>
            <a:ext cx="487656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Esempio di screening I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171360" y="7270920"/>
            <a:ext cx="719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5029200" y="785880"/>
            <a:ext cx="4846680" cy="355752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73080" y="4419720"/>
            <a:ext cx="7547040" cy="2900160"/>
          </a:xfrm>
          <a:prstGeom prst="rect">
            <a:avLst/>
          </a:prstGeom>
          <a:ln w="0">
            <a:noFill/>
          </a:ln>
        </p:spPr>
      </p:pic>
      <p:grpSp>
        <p:nvGrpSpPr>
          <p:cNvPr id="1285" name=""/>
          <p:cNvGrpSpPr/>
          <p:nvPr/>
        </p:nvGrpSpPr>
        <p:grpSpPr>
          <a:xfrm>
            <a:off x="1405440" y="3234960"/>
            <a:ext cx="3412440" cy="1134720"/>
            <a:chOff x="1405440" y="3234960"/>
            <a:chExt cx="3412440" cy="1134720"/>
          </a:xfrm>
        </p:grpSpPr>
        <p:sp>
          <p:nvSpPr>
            <p:cNvPr id="1286" name=""/>
            <p:cNvSpPr/>
            <p:nvPr/>
          </p:nvSpPr>
          <p:spPr>
            <a:xfrm rot="12600000">
              <a:off x="3352320" y="358092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05440" y="3234960"/>
              <a:ext cx="194688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BAC e’ 151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FA7-D387-4F2A-81A3-9C2EC7D7AD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227160" y="7213680"/>
            <a:ext cx="951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162000" y="1280880"/>
            <a:ext cx="95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reezer a -80ºC sono utilizzati per conservare le plate in cui ogni clone (in glicerolo) e’ separato dagli altri e facilmente identificabile dagli altri (sistema delle coordi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2832120" y="20700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687-4D27-4E6A-895E-2B4201573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4410000" y="3308400"/>
            <a:ext cx="5465880" cy="40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875-060C-4A8A-8B18-260C8C7F17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838080"/>
            <a:ext cx="1905120" cy="5639040"/>
            <a:chOff x="0" y="838080"/>
            <a:chExt cx="1905120" cy="5639040"/>
          </a:xfrm>
        </p:grpSpPr>
        <p:sp>
          <p:nvSpPr>
            <p:cNvPr id="55" name=""/>
            <p:cNvSpPr/>
            <p:nvPr/>
          </p:nvSpPr>
          <p:spPr>
            <a:xfrm>
              <a:off x="0" y="838080"/>
              <a:ext cx="1905120" cy="5639040"/>
            </a:xfrm>
            <a:prstGeom prst="rect">
              <a:avLst/>
            </a:prstGeom>
            <a:gradFill rotWithShape="0">
              <a:gsLst>
                <a:gs pos="0">
                  <a:srgbClr val="ddebcf">
                    <a:alpha val="60392"/>
                  </a:srgbClr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alisi 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3040" y="1013040"/>
              <a:ext cx="154008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Omolog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ni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to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2184120"/>
              <a:ext cx="168912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molog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ni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on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240" y="354312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ei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62520" y="838080"/>
            <a:ext cx="1904760" cy="6324840"/>
            <a:chOff x="3962520" y="838080"/>
            <a:chExt cx="1904760" cy="6324840"/>
          </a:xfrm>
        </p:grpSpPr>
        <p:sp>
          <p:nvSpPr>
            <p:cNvPr id="60" name=""/>
            <p:cNvSpPr/>
            <p:nvPr/>
          </p:nvSpPr>
          <p:spPr>
            <a:xfrm>
              <a:off x="3962520" y="838080"/>
              <a:ext cx="1904760" cy="6324840"/>
            </a:xfrm>
            <a:prstGeom prst="rect">
              <a:avLst/>
            </a:prstGeom>
            <a:gradFill rotWithShape="0">
              <a:gsLst>
                <a:gs pos="0">
                  <a:srgbClr val="8488c4">
                    <a:alpha val="60392"/>
                  </a:srgbClr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form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ini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0360" y="1030320"/>
              <a:ext cx="165096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racco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amiglie 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0360" y="1940760"/>
              <a:ext cx="1650960" cy="116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ezioni o trasloc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0360" y="558936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acco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zienti n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mparent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981080" y="1025640"/>
            <a:ext cx="1819440" cy="4651920"/>
            <a:chOff x="1981080" y="1025640"/>
            <a:chExt cx="1819440" cy="4651920"/>
          </a:xfrm>
        </p:grpSpPr>
        <p:sp>
          <p:nvSpPr>
            <p:cNvPr id="65" name=""/>
            <p:cNvSpPr/>
            <p:nvPr/>
          </p:nvSpPr>
          <p:spPr>
            <a:xfrm>
              <a:off x="2133720" y="1025640"/>
              <a:ext cx="166680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regio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ndidata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2239200"/>
              <a:ext cx="1650960" cy="75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Verifica nei database dei geni della reg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3558960"/>
              <a:ext cx="1636560" cy="77508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100000">
                  <a:srgbClr val="f8f5c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ossi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andid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4708080"/>
              <a:ext cx="178920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4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’ st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leta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ratterizz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19920" y="838080"/>
            <a:ext cx="1904760" cy="6324840"/>
            <a:chOff x="6019920" y="838080"/>
            <a:chExt cx="1904760" cy="6324840"/>
          </a:xfrm>
        </p:grpSpPr>
        <p:sp>
          <p:nvSpPr>
            <p:cNvPr id="70" name=""/>
            <p:cNvSpPr/>
            <p:nvPr/>
          </p:nvSpPr>
          <p:spPr>
            <a:xfrm>
              <a:off x="6019920" y="838080"/>
              <a:ext cx="1904760" cy="6324840"/>
            </a:xfrm>
            <a:prstGeom prst="rect">
              <a:avLst/>
            </a:prstGeom>
            <a:gradFill rotWithShape="0">
              <a:gsLst>
                <a:gs pos="0">
                  <a:srgbClr val="fbeac7">
                    <a:alpha val="60392"/>
                  </a:srgbClr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form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 labora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9920" y="1030320"/>
              <a:ext cx="190476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mappa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a: 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o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97760" y="2134800"/>
              <a:ext cx="16509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onaggio dei punti di rottura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7760" y="3160440"/>
              <a:ext cx="16365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uovi ge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umani identific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7760" y="4326840"/>
              <a:ext cx="16509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4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trut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omica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equenza compl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7760" y="5637960"/>
              <a:ext cx="1636560" cy="67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le mut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8077320" y="1029240"/>
            <a:ext cx="1746360" cy="5290560"/>
            <a:chOff x="8077320" y="1029240"/>
            <a:chExt cx="1746360" cy="5290560"/>
          </a:xfrm>
        </p:grpSpPr>
        <p:sp>
          <p:nvSpPr>
            <p:cNvPr id="77" name=""/>
            <p:cNvSpPr/>
            <p:nvPr/>
          </p:nvSpPr>
          <p:spPr>
            <a:xfrm>
              <a:off x="8096040" y="1029240"/>
              <a:ext cx="1727640" cy="53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trovata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ocalizzazione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02520" y="2076480"/>
              <a:ext cx="1650960" cy="89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rrore nel tipo di eredita’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geneit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7320" y="3299760"/>
              <a:ext cx="16365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pensare ai geni candidati: va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2,A3,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554472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o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utazio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togen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533160"/>
            <a:ext cx="839340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b00"/>
                </a:solidFill>
                <a:latin typeface="Comic Sans MS"/>
              </a:rPr>
              <a:t>Come identificare i geni</a:t>
            </a:r>
            <a:endParaRPr b="1" lang="en-US" sz="2400" spc="-1" strike="noStrike">
              <a:solidFill>
                <a:srgbClr val="ff0b00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791320"/>
            <a:ext cx="8462520" cy="1676160"/>
            <a:chOff x="762120" y="5791320"/>
            <a:chExt cx="8462520" cy="1676160"/>
          </a:xfrm>
        </p:grpSpPr>
        <p:sp>
          <p:nvSpPr>
            <p:cNvPr id="83" name=""/>
            <p:cNvSpPr/>
            <p:nvPr/>
          </p:nvSpPr>
          <p:spPr>
            <a:xfrm>
              <a:off x="762120" y="5791320"/>
              <a:ext cx="2819160" cy="1676160"/>
            </a:xfrm>
            <a:prstGeom prst="irregularSeal2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ROVATO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20320" y="6400800"/>
              <a:ext cx="0" cy="838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488680" y="7237440"/>
              <a:ext cx="6735960" cy="14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49720" y="665280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76240" y="1295280"/>
            <a:ext cx="8572680" cy="4791240"/>
            <a:chOff x="876240" y="1295280"/>
            <a:chExt cx="8572680" cy="4791240"/>
          </a:xfrm>
        </p:grpSpPr>
        <p:sp>
          <p:nvSpPr>
            <p:cNvPr id="88" name=""/>
            <p:cNvSpPr/>
            <p:nvPr/>
          </p:nvSpPr>
          <p:spPr>
            <a:xfrm>
              <a:off x="3657600" y="1905120"/>
              <a:ext cx="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29528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2723760" y="1809720"/>
              <a:ext cx="419400" cy="304920"/>
            </a:xfrm>
            <a:prstGeom prst="rightArrow">
              <a:avLst>
                <a:gd name="adj1" fmla="val 50000"/>
                <a:gd name="adj2" fmla="val 34386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838080" y="182844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129528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1371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1371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466800" y="2095200"/>
              <a:ext cx="381240" cy="152640"/>
            </a:xfrm>
            <a:prstGeom prst="rightArrow">
              <a:avLst>
                <a:gd name="adj1" fmla="val 50000"/>
                <a:gd name="adj2" fmla="val 6244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57600" y="1905120"/>
              <a:ext cx="47372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81880" y="159984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63920" y="15472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8743320" y="1695240"/>
              <a:ext cx="571680" cy="304920"/>
            </a:xfrm>
            <a:prstGeom prst="rightArrow">
              <a:avLst>
                <a:gd name="adj1" fmla="val 50000"/>
                <a:gd name="adj2" fmla="val 4687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9448920" y="1600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99072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886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048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3276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32767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2971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76360" y="3124080"/>
              <a:ext cx="41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124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1320" y="2514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514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4419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5638680"/>
              <a:ext cx="0" cy="3812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5480" y="6019920"/>
              <a:ext cx="12193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91920" y="56876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1056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305920" y="472392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8720" y="3657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373392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5181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4800600"/>
              <a:ext cx="2362320" cy="304920"/>
            </a:xfrm>
            <a:prstGeom prst="rightArrow">
              <a:avLst>
                <a:gd name="adj1" fmla="val 58333"/>
                <a:gd name="adj2" fmla="val 13536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4B2-9A9E-49F4-A3D2-092BBF036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816880" cy="43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922-5D81-4B89-B1E1-6DA991EDAB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400068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Le piastre e i filtr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4711680" y="35053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A4E-0576-4653-9DD4-1D857E9325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e2c02"/>
                </a:solidFill>
                <a:latin typeface="Comic Sans MS"/>
              </a:rPr>
              <a:t>RICERCANDO UN GENE NELLE BANCHE DATI GENOMICHE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3571560" y="3311280"/>
            <a:ext cx="257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reening di libr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28600" y="4436640"/>
            <a:ext cx="9220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 puo’ cercare il clone genomico che contiene un dato 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(si amplifica il DNA genomico con i primer corrispodnenti all’STS e si ibrida sui filtri il prodotto di P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4040" y="2130840"/>
            <a:ext cx="93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trovare un clone di interesse e’ necessario testare la libreria con una data seq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343400" y="2705040"/>
            <a:ext cx="990720" cy="4572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914400" y="5403240"/>
            <a:ext cx="9372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Si puo’ cercare il clone genomico che contiene un g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Comic Sans MS"/>
              </a:rPr>
              <a:t>(si puo’ utilizzare la stessa strategia amplificando un frammento di un g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3400" y="6357240"/>
            <a:ext cx="69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Si puo’ cercare il numero di copie di un dato gene (o 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mic Sans MS"/>
              </a:rPr>
              <a:t>(e’ essenziale conoscere la ridondanza della libre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A87-F3C2-4A9C-A4F7-F8B9A224FA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dele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36520" y="1408320"/>
            <a:ext cx="94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sono molto ampie :visibili al microscopio possono essere il punto di partenza per identificare una regione candidata: PW/As, Cat ey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erdita di una regione ampia genera un fenotipo complesso, in cui poi bisogna identificare la regione di minimo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93040"/>
            <a:ext cx="944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ggi ci si concentra sulle microdelezioni, invisibili al microsocpio, ma identificabili con le metodiche molecolari. Le microdelezioni sono comunque nell’ordine di centinaia di kilobasi e possono essere originate dalla presenza di sequenze ripetute che mediano riarrangiamenti genom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066280"/>
            <a:ext cx="94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erdita di eterozigosi e’ una evidenza di delezioni, spesso utilizzata n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um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E7D-5C4B-4BD9-B1A8-4349D125F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5360" y="129528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miglia con figlia affetta da retinoblastoma: RFLP dell’esterasi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8880" y="1981080"/>
            <a:ext cx="578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4960" y="1981080"/>
            <a:ext cx="577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7040" y="2222640"/>
            <a:ext cx="90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9600" y="22096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9600" y="28954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2140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3200400"/>
            <a:ext cx="577800" cy="5335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8880" y="3962520"/>
            <a:ext cx="5283360" cy="2666880"/>
          </a:xfrm>
          <a:prstGeom prst="rect">
            <a:avLst/>
          </a:prstGeom>
          <a:solidFill>
            <a:srgbClr val="c2b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1680" y="4419720"/>
            <a:ext cx="495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10200" y="4419720"/>
            <a:ext cx="494640" cy="990360"/>
            <a:chOff x="4210200" y="4419720"/>
            <a:chExt cx="494640" cy="990360"/>
          </a:xfrm>
        </p:grpSpPr>
        <p:sp>
          <p:nvSpPr>
            <p:cNvPr id="138" name=""/>
            <p:cNvSpPr/>
            <p:nvPr/>
          </p:nvSpPr>
          <p:spPr>
            <a:xfrm>
              <a:off x="4210200" y="4419720"/>
              <a:ext cx="494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0200" y="5257800"/>
              <a:ext cx="494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182000" y="5257800"/>
            <a:ext cx="495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73720" y="4419720"/>
            <a:ext cx="495000" cy="990360"/>
            <a:chOff x="6273720" y="4419720"/>
            <a:chExt cx="495000" cy="990360"/>
          </a:xfrm>
        </p:grpSpPr>
        <p:sp>
          <p:nvSpPr>
            <p:cNvPr id="142" name=""/>
            <p:cNvSpPr/>
            <p:nvPr/>
          </p:nvSpPr>
          <p:spPr>
            <a:xfrm>
              <a:off x="6273720" y="4419720"/>
              <a:ext cx="4950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3720" y="5257800"/>
              <a:ext cx="4950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915600" y="338148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ell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umo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3080" y="57913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m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8760" y="5791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er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82520" y="5791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er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5600" y="579132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Perdita di eterozigosita’ LOH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026-68BA-478D-886A-7A699E63E0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Multiplex per le delezioni DMD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22320" y="124632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st per evidenziare gli esoni 42, 43, 44, 45, 47, 48, 50, 51, 52, 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920" y="1676520"/>
            <a:ext cx="412560" cy="2133360"/>
          </a:xfrm>
          <a:prstGeom prst="can">
            <a:avLst>
              <a:gd name="adj" fmla="val 1168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1676520"/>
            <a:ext cx="412560" cy="2133360"/>
          </a:xfrm>
          <a:prstGeom prst="can">
            <a:avLst>
              <a:gd name="adj" fmla="val 1168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760" y="370836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sc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9240" y="370836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sc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0120" y="4267080"/>
            <a:ext cx="577440" cy="533520"/>
            <a:chOff x="330120" y="4267080"/>
            <a:chExt cx="577440" cy="533520"/>
          </a:xfrm>
        </p:grpSpPr>
        <p:sp>
          <p:nvSpPr>
            <p:cNvPr id="157" name=""/>
            <p:cNvSpPr/>
            <p:nvPr/>
          </p:nvSpPr>
          <p:spPr>
            <a:xfrm>
              <a:off x="330120" y="4267080"/>
              <a:ext cx="247680" cy="5335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880" y="4267080"/>
              <a:ext cx="247680" cy="5335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55600" y="4267080"/>
            <a:ext cx="577440" cy="533520"/>
            <a:chOff x="1155600" y="4267080"/>
            <a:chExt cx="577440" cy="533520"/>
          </a:xfrm>
        </p:grpSpPr>
        <p:sp>
          <p:nvSpPr>
            <p:cNvPr id="160" name=""/>
            <p:cNvSpPr/>
            <p:nvPr/>
          </p:nvSpPr>
          <p:spPr>
            <a:xfrm>
              <a:off x="1155600" y="42670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5720" y="42670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44520" y="4952880"/>
            <a:ext cx="577440" cy="533520"/>
            <a:chOff x="344520" y="4952880"/>
            <a:chExt cx="577440" cy="533520"/>
          </a:xfrm>
        </p:grpSpPr>
        <p:sp>
          <p:nvSpPr>
            <p:cNvPr id="163" name=""/>
            <p:cNvSpPr/>
            <p:nvPr/>
          </p:nvSpPr>
          <p:spPr>
            <a:xfrm>
              <a:off x="34452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55600" y="4952880"/>
            <a:ext cx="577440" cy="533520"/>
            <a:chOff x="1155600" y="4952880"/>
            <a:chExt cx="577440" cy="533520"/>
          </a:xfrm>
        </p:grpSpPr>
        <p:sp>
          <p:nvSpPr>
            <p:cNvPr id="166" name=""/>
            <p:cNvSpPr/>
            <p:nvPr/>
          </p:nvSpPr>
          <p:spPr>
            <a:xfrm>
              <a:off x="115560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572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155600" y="5651640"/>
            <a:ext cx="577440" cy="533160"/>
            <a:chOff x="1155600" y="5651640"/>
            <a:chExt cx="577440" cy="533160"/>
          </a:xfrm>
        </p:grpSpPr>
        <p:sp>
          <p:nvSpPr>
            <p:cNvPr id="169" name=""/>
            <p:cNvSpPr/>
            <p:nvPr/>
          </p:nvSpPr>
          <p:spPr>
            <a:xfrm>
              <a:off x="115560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8572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73200" y="6095880"/>
            <a:ext cx="8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FF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06560" y="2209680"/>
            <a:ext cx="652176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3200" y="1892160"/>
            <a:ext cx="42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    1     2     3     4     5    6   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1    2     3    4    5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7120" y="5651640"/>
            <a:ext cx="577440" cy="533160"/>
            <a:chOff x="357120" y="5651640"/>
            <a:chExt cx="577440" cy="533160"/>
          </a:xfrm>
        </p:grpSpPr>
        <p:sp>
          <p:nvSpPr>
            <p:cNvPr id="175" name=""/>
            <p:cNvSpPr/>
            <p:nvPr/>
          </p:nvSpPr>
          <p:spPr>
            <a:xfrm>
              <a:off x="35712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24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33560" y="2514600"/>
            <a:ext cx="261720" cy="2997360"/>
            <a:chOff x="2833560" y="2514600"/>
            <a:chExt cx="261720" cy="2997360"/>
          </a:xfrm>
        </p:grpSpPr>
        <p:sp>
          <p:nvSpPr>
            <p:cNvPr id="178" name=""/>
            <p:cNvSpPr/>
            <p:nvPr/>
          </p:nvSpPr>
          <p:spPr>
            <a:xfrm>
              <a:off x="2833560" y="25146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560" y="26290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560" y="27432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3560" y="28576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33560" y="30225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33560" y="31114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3560" y="33019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33560" y="34164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47600" y="37339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7600" y="3936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47600" y="41655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47600" y="430524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7600" y="44704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7600" y="46990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3560" y="499104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3560" y="51055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3560" y="5295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3560" y="5511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6480" y="1581120"/>
            <a:ext cx="2889000" cy="475920"/>
            <a:chOff x="3246480" y="1581120"/>
            <a:chExt cx="2889000" cy="475920"/>
          </a:xfrm>
        </p:grpSpPr>
        <p:sp>
          <p:nvSpPr>
            <p:cNvPr id="197" name=""/>
            <p:cNvSpPr/>
            <p:nvPr/>
          </p:nvSpPr>
          <p:spPr>
            <a:xfrm>
              <a:off x="4309920" y="1581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576680" y="498240"/>
              <a:ext cx="228600" cy="28890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120240 h 2889000"/>
                <a:gd name="textAreaBottom" fmla="*/ 2768760 h 28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59640" y="1581120"/>
            <a:ext cx="2723760" cy="475920"/>
            <a:chOff x="6659640" y="1581120"/>
            <a:chExt cx="2723760" cy="475920"/>
          </a:xfrm>
        </p:grpSpPr>
        <p:sp>
          <p:nvSpPr>
            <p:cNvPr id="200" name=""/>
            <p:cNvSpPr/>
            <p:nvPr/>
          </p:nvSpPr>
          <p:spPr>
            <a:xfrm>
              <a:off x="7656120" y="15811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7907040" y="580680"/>
              <a:ext cx="228600" cy="272376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113400 h 2723760"/>
                <a:gd name="textAreaBottom" fmla="*/ 2610360 h 27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19120" y="42642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9120" y="3638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9120" y="4653000"/>
            <a:ext cx="3848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73720" y="2209680"/>
            <a:ext cx="330120" cy="4038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6716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6716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716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716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716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716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6568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6568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568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5680" y="4933800"/>
            <a:ext cx="2476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568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568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56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4040" y="594828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4040" y="57150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34040" y="541980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34040" y="49338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34040" y="48006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34040" y="446256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34040" y="380988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044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044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044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044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044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044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6580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6580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580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580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580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580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58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76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276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276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276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276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276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35880" y="2550960"/>
            <a:ext cx="38484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9784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9784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99784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8528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852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8528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8992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8992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7700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7700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770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7700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200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20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2768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2768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276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2768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6360" y="63882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g 7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C87-1D9B-4A9A-8EB9-727A25D36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0400" y="1143000"/>
            <a:ext cx="86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parte la PCR quantitativa e’ possibile utilizzare i polimorfismi dovuti a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senza di microsatelli all’interno del gene DMD. Se il malato e’ d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 una regione che contiene una STR (Short Tandem Repeat CAn) si puo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stare la perdita di eterozigosi nella madre e in altre probabili portatr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77800" y="3160800"/>
            <a:ext cx="2615760" cy="1170000"/>
            <a:chOff x="577800" y="3160800"/>
            <a:chExt cx="2615760" cy="1170000"/>
          </a:xfrm>
        </p:grpSpPr>
        <p:sp>
          <p:nvSpPr>
            <p:cNvPr id="271" name=""/>
            <p:cNvSpPr/>
            <p:nvPr/>
          </p:nvSpPr>
          <p:spPr>
            <a:xfrm>
              <a:off x="1865880" y="320040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96640" y="327816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66560" y="3278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42600" y="3492360"/>
              <a:ext cx="152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68280" y="34876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4800" y="34923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42600" y="34876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54520" y="363708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09480" y="316080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92760" y="362736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3800" y="3697200"/>
              <a:ext cx="230400" cy="19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14200" y="377496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4480" y="377496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4000" y="398952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6040" y="39718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4000" y="39718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7800" y="4133880"/>
              <a:ext cx="230400" cy="196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2640" y="412128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7040" y="365760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12920" y="251460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CR con primer che fiancheggiano la STR: i diversi alleli sono dati dal numero di ripet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67160" y="3809880"/>
            <a:ext cx="6273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67160" y="4419720"/>
            <a:ext cx="6273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10200" y="3657600"/>
            <a:ext cx="3466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CACACACACACACACA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67160" y="365760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59800" y="396252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4267080"/>
            <a:ext cx="4705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CACACACACACACACAACCACAC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67160" y="426708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97840" y="4267080"/>
            <a:ext cx="660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2960" y="33368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1 136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27840" y="39686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2 132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9200" y="5105520"/>
            <a:ext cx="4375080" cy="1600200"/>
          </a:xfrm>
          <a:prstGeom prst="rect">
            <a:avLst/>
          </a:prstGeom>
          <a:solidFill>
            <a:srgbClr val="d1d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72280" y="4800600"/>
            <a:ext cx="28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     2     3    4     5     6    7    8   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800" y="4572000"/>
            <a:ext cx="272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3 120p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4 150pb etc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1640" y="53341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22600" y="57913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617220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28600" y="50292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7720" y="54943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07720" y="5943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016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0552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0088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94400" y="57913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29680" y="617220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2968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4680" y="51814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5257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53341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54100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4680" y="55627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56386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4680" y="57150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4680" y="57913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24680" y="59436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4680" y="60199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4680" y="60958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24680" y="61722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4680" y="6400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64771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6616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0120" y="5340240"/>
            <a:ext cx="33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sorella dell’affetto non 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rtatrice, mentre lo e’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e   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eterozigoti per le delezioni DMD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F70-AE45-4D30-A28E-EF023D16A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dele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36520" y="1408320"/>
            <a:ext cx="94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e sono molto ampie :visibili al microscopio possono essere il punto di partenza per identificare una regione candidata: PW/As, Cat ey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a perdita di una regione ampia genera un fenotipo complesso, in cui poi bisogna identificare la regione di minimo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993040"/>
            <a:ext cx="944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ggi ci si concentra sulle microdelezioni, invisibili al microsocpio, ma identificabili con le metodiche molecolari. Le microdelezioni sono comunque nell’ordine di centinaia di kilobasi e possono essere originate dalla presenza di sequenze ripetute che mediano riarrangiamenti genom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066280"/>
            <a:ext cx="94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a perdita di eterozigosi e’ una evidenza di delezioni, spesso utilizzata n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um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6B1-56D8-4812-8817-FBCEDFC27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sordini genomic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5560" y="1251000"/>
            <a:ext cx="96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l fenotipo clinico e’ conseguenza di alterato dosaggio genico di un gene o piu’ localizzati all’interno di segmenti genomici riarrang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48200" y="5834880"/>
            <a:ext cx="9038520" cy="1184400"/>
            <a:chOff x="448200" y="5834880"/>
            <a:chExt cx="9038520" cy="1184400"/>
          </a:xfrm>
        </p:grpSpPr>
        <p:grpSp>
          <p:nvGrpSpPr>
            <p:cNvPr id="340" name=""/>
            <p:cNvGrpSpPr/>
            <p:nvPr/>
          </p:nvGrpSpPr>
          <p:grpSpPr>
            <a:xfrm>
              <a:off x="448200" y="6013800"/>
              <a:ext cx="6104520" cy="347760"/>
              <a:chOff x="448200" y="6013800"/>
              <a:chExt cx="6104520" cy="347760"/>
            </a:xfrm>
          </p:grpSpPr>
          <p:sp>
            <p:nvSpPr>
              <p:cNvPr id="341" name=""/>
              <p:cNvSpPr/>
              <p:nvPr/>
            </p:nvSpPr>
            <p:spPr>
              <a:xfrm rot="5394000">
                <a:off x="4005360" y="3800520"/>
                <a:ext cx="329400" cy="47638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57000">
                <a:off x="844560" y="5628960"/>
                <a:ext cx="329400" cy="111708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2139840" y="6020640"/>
                <a:ext cx="1150560" cy="327960"/>
                <a:chOff x="2139840" y="6020640"/>
                <a:chExt cx="1150560" cy="3279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139840" y="6020640"/>
                  <a:ext cx="245880" cy="3279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029400" y="6020640"/>
                  <a:ext cx="261000" cy="327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2418120" y="6135480"/>
                  <a:ext cx="561240" cy="130320"/>
                  <a:chOff x="2418120" y="6135480"/>
                  <a:chExt cx="561240" cy="1303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24181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8048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7367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89944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1" name=""/>
              <p:cNvSpPr/>
              <p:nvPr/>
            </p:nvSpPr>
            <p:spPr>
              <a:xfrm rot="5568000">
                <a:off x="1584000" y="607716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55040" y="6024600"/>
                <a:ext cx="122400" cy="328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09960" y="6024600"/>
                <a:ext cx="261360" cy="328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314520" y="6139800"/>
                <a:ext cx="561240" cy="130320"/>
                <a:chOff x="3314520" y="6139800"/>
                <a:chExt cx="561240" cy="1303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3145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47688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331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79584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1340640" y="6671880"/>
              <a:ext cx="2974320" cy="347400"/>
              <a:chOff x="1340640" y="6671880"/>
              <a:chExt cx="2974320" cy="347400"/>
            </a:xfrm>
          </p:grpSpPr>
          <p:sp>
            <p:nvSpPr>
              <p:cNvPr id="360" name=""/>
              <p:cNvSpPr/>
              <p:nvPr/>
            </p:nvSpPr>
            <p:spPr>
              <a:xfrm rot="5394000">
                <a:off x="3326040" y="6017400"/>
                <a:ext cx="329040" cy="1647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57000">
                <a:off x="1737000" y="6287040"/>
                <a:ext cx="3290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32280" y="6678360"/>
                <a:ext cx="246240" cy="327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62240" y="6678360"/>
                <a:ext cx="150120" cy="327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568000">
                <a:off x="2476080" y="673452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822000" y="583488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uplic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60120" y="65444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-10080" y="2181600"/>
            <a:ext cx="98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stabilita’ di alcune regioni genomiche e’ dovuta alla presenza di low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ats: duplicazioni segmentali/duplic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14920" y="3207960"/>
            <a:ext cx="9496800" cy="2304360"/>
            <a:chOff x="214920" y="3207960"/>
            <a:chExt cx="9496800" cy="2304360"/>
          </a:xfrm>
        </p:grpSpPr>
        <p:sp>
          <p:nvSpPr>
            <p:cNvPr id="369" name=""/>
            <p:cNvSpPr/>
            <p:nvPr/>
          </p:nvSpPr>
          <p:spPr>
            <a:xfrm>
              <a:off x="6477120" y="3522600"/>
              <a:ext cx="761760" cy="3049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14920" y="4488120"/>
              <a:ext cx="4241160" cy="349200"/>
              <a:chOff x="214920" y="4488120"/>
              <a:chExt cx="4241160" cy="349200"/>
            </a:xfrm>
          </p:grpSpPr>
          <p:sp>
            <p:nvSpPr>
              <p:cNvPr id="371" name=""/>
              <p:cNvSpPr/>
              <p:nvPr/>
            </p:nvSpPr>
            <p:spPr>
              <a:xfrm rot="5394000">
                <a:off x="2841480" y="3212280"/>
                <a:ext cx="330480" cy="28972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57000">
                <a:off x="610200" y="4104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568000">
                <a:off x="1347840" y="4548600"/>
                <a:ext cx="19764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92520" y="4495680"/>
                <a:ext cx="259920" cy="329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96120" y="4495680"/>
                <a:ext cx="284760" cy="329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184840" y="4610520"/>
                <a:ext cx="561240" cy="130680"/>
                <a:chOff x="2184840" y="4610520"/>
                <a:chExt cx="561240" cy="1306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1848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4720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034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616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2820960" y="4835520"/>
              <a:ext cx="223920" cy="3510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116720" y="5163120"/>
              <a:ext cx="4242240" cy="349200"/>
              <a:chOff x="1116720" y="5163120"/>
              <a:chExt cx="4242240" cy="349200"/>
            </a:xfrm>
          </p:grpSpPr>
          <p:sp>
            <p:nvSpPr>
              <p:cNvPr id="383" name=""/>
              <p:cNvSpPr/>
              <p:nvPr/>
            </p:nvSpPr>
            <p:spPr>
              <a:xfrm rot="5394000">
                <a:off x="3743640" y="3886560"/>
                <a:ext cx="330840" cy="2898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257000">
                <a:off x="1512000" y="4779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08720" y="5170320"/>
                <a:ext cx="245880" cy="3294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99000" y="5170320"/>
                <a:ext cx="261360" cy="329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087360" y="5285520"/>
                <a:ext cx="560880" cy="130680"/>
                <a:chOff x="3087360" y="5285520"/>
                <a:chExt cx="560880" cy="1306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0873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497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4059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5683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 rot="5568000">
                <a:off x="2251080" y="5227200"/>
                <a:ext cx="197640" cy="22284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388760" y="4745520"/>
              <a:ext cx="44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icombinazione omologa non allel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43000" y="3446640"/>
              <a:ext cx="47484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70000" y="3446640"/>
              <a:ext cx="52092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41320" y="3489840"/>
              <a:ext cx="36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oni altamente omolog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553080" y="3598920"/>
              <a:ext cx="576000" cy="151920"/>
              <a:chOff x="6553080" y="3598920"/>
              <a:chExt cx="576000" cy="151920"/>
            </a:xfrm>
          </p:grpSpPr>
          <p:sp>
            <p:nvSpPr>
              <p:cNvPr id="398" name=""/>
              <p:cNvSpPr/>
              <p:nvPr/>
            </p:nvSpPr>
            <p:spPr>
              <a:xfrm>
                <a:off x="655308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1976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032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700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225200" y="3207960"/>
              <a:ext cx="248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gione conten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meno un g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osage sen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8B1-5E16-4E90-96E8-4A5104C3EC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3962520" cy="558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MT1A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64080" y="5018040"/>
            <a:ext cx="37440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90760" y="501804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865920" y="609480"/>
            <a:ext cx="2937960" cy="1066680"/>
            <a:chOff x="6865920" y="609480"/>
            <a:chExt cx="2937960" cy="1066680"/>
          </a:xfrm>
        </p:grpSpPr>
        <p:grpSp>
          <p:nvGrpSpPr>
            <p:cNvPr id="407" name=""/>
            <p:cNvGrpSpPr/>
            <p:nvPr/>
          </p:nvGrpSpPr>
          <p:grpSpPr>
            <a:xfrm>
              <a:off x="6865920" y="838080"/>
              <a:ext cx="545760" cy="761760"/>
              <a:chOff x="6865920" y="838080"/>
              <a:chExt cx="545760" cy="761760"/>
            </a:xfrm>
          </p:grpSpPr>
          <p:sp>
            <p:nvSpPr>
              <p:cNvPr id="408" name=""/>
              <p:cNvSpPr/>
              <p:nvPr/>
            </p:nvSpPr>
            <p:spPr>
              <a:xfrm>
                <a:off x="6871680" y="83808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65920" y="127944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7488000" y="609480"/>
              <a:ext cx="152640" cy="1066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66200" y="811800"/>
              <a:ext cx="21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4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8,7% di ide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180520" y="10954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,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3440" y="281952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67000" y="2824200"/>
            <a:ext cx="3747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271944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84720" y="282420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83360" y="271944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31000" y="282420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58080" y="2460600"/>
            <a:ext cx="189000" cy="917280"/>
            <a:chOff x="7858080" y="2460600"/>
            <a:chExt cx="189000" cy="917280"/>
          </a:xfrm>
        </p:grpSpPr>
        <p:sp>
          <p:nvSpPr>
            <p:cNvPr id="420" name=""/>
            <p:cNvSpPr/>
            <p:nvPr/>
          </p:nvSpPr>
          <p:spPr>
            <a:xfrm>
              <a:off x="7858080" y="25041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52040" y="24606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037360" y="2635200"/>
            <a:ext cx="139680" cy="436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25880" y="2475000"/>
            <a:ext cx="189000" cy="917280"/>
            <a:chOff x="3125880" y="2475000"/>
            <a:chExt cx="189000" cy="917280"/>
          </a:xfrm>
        </p:grpSpPr>
        <p:sp>
          <p:nvSpPr>
            <p:cNvPr id="424" name=""/>
            <p:cNvSpPr/>
            <p:nvPr/>
          </p:nvSpPr>
          <p:spPr>
            <a:xfrm>
              <a:off x="3125880" y="25185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9840" y="24750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894040" y="2824200"/>
            <a:ext cx="2793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1760" y="307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3600" y="319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201924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400" y="2023920"/>
            <a:ext cx="3747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20680" y="191916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70120" y="202392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8760" y="191916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0" y="202392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20680" y="176220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60920" y="17622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508040"/>
            <a:ext cx="322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343480" y="1660680"/>
            <a:ext cx="189000" cy="916920"/>
            <a:chOff x="5343480" y="1660680"/>
            <a:chExt cx="189000" cy="916920"/>
          </a:xfrm>
        </p:grpSpPr>
        <p:sp>
          <p:nvSpPr>
            <p:cNvPr id="439" name=""/>
            <p:cNvSpPr/>
            <p:nvPr/>
          </p:nvSpPr>
          <p:spPr>
            <a:xfrm>
              <a:off x="5343480" y="1704240"/>
              <a:ext cx="9468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37440" y="1660680"/>
              <a:ext cx="9504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522760" y="1835280"/>
            <a:ext cx="139680" cy="4363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11280" y="1674720"/>
            <a:ext cx="189000" cy="917280"/>
            <a:chOff x="611280" y="1674720"/>
            <a:chExt cx="189000" cy="917280"/>
          </a:xfrm>
        </p:grpSpPr>
        <p:sp>
          <p:nvSpPr>
            <p:cNvPr id="443" name=""/>
            <p:cNvSpPr/>
            <p:nvPr/>
          </p:nvSpPr>
          <p:spPr>
            <a:xfrm>
              <a:off x="611280" y="171828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240" y="167472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79440" y="202392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7160" y="227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09000" y="13928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2270160"/>
            <a:ext cx="609480" cy="53352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790640" y="2079720"/>
            <a:ext cx="1790640" cy="152280"/>
            <a:chOff x="1790640" y="2079720"/>
            <a:chExt cx="1790640" cy="152280"/>
          </a:xfrm>
        </p:grpSpPr>
        <p:sp>
          <p:nvSpPr>
            <p:cNvPr id="450" name=""/>
            <p:cNvSpPr/>
            <p:nvPr/>
          </p:nvSpPr>
          <p:spPr>
            <a:xfrm>
              <a:off x="1790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829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30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17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225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26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330800" y="2879640"/>
            <a:ext cx="1790640" cy="152280"/>
            <a:chOff x="4330800" y="2879640"/>
            <a:chExt cx="1790640" cy="152280"/>
          </a:xfrm>
        </p:grpSpPr>
        <p:sp>
          <p:nvSpPr>
            <p:cNvPr id="457" name=""/>
            <p:cNvSpPr/>
            <p:nvPr/>
          </p:nvSpPr>
          <p:spPr>
            <a:xfrm>
              <a:off x="4330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231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32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57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928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973680" y="4913280"/>
            <a:ext cx="446040" cy="3682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4911840"/>
            <a:ext cx="373320" cy="368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24440" y="501336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01804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599080" y="4654440"/>
            <a:ext cx="189000" cy="917280"/>
            <a:chOff x="5599080" y="4654440"/>
            <a:chExt cx="189000" cy="917280"/>
          </a:xfrm>
        </p:grpSpPr>
        <p:sp>
          <p:nvSpPr>
            <p:cNvPr id="468" name=""/>
            <p:cNvSpPr/>
            <p:nvPr/>
          </p:nvSpPr>
          <p:spPr>
            <a:xfrm>
              <a:off x="5599080" y="469800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465444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78360" y="4829040"/>
            <a:ext cx="139680" cy="4366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64600" y="53856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22600" y="4713120"/>
            <a:ext cx="95400" cy="87336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6200" y="4668840"/>
            <a:ext cx="95400" cy="87300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9440" y="3884760"/>
            <a:ext cx="6651720" cy="970560"/>
            <a:chOff x="379440" y="3884760"/>
            <a:chExt cx="6651720" cy="970560"/>
          </a:xfrm>
        </p:grpSpPr>
        <p:sp>
          <p:nvSpPr>
            <p:cNvPr id="475" name=""/>
            <p:cNvSpPr/>
            <p:nvPr/>
          </p:nvSpPr>
          <p:spPr>
            <a:xfrm>
              <a:off x="905040" y="4233960"/>
              <a:ext cx="37440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73320" y="4129200"/>
              <a:ext cx="6951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22400" y="4233960"/>
              <a:ext cx="1990800" cy="209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1040" y="4129200"/>
              <a:ext cx="4460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7332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13200" y="39718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763560" y="3884760"/>
              <a:ext cx="189000" cy="916920"/>
              <a:chOff x="763560" y="3884760"/>
              <a:chExt cx="189000" cy="916920"/>
            </a:xfrm>
          </p:grpSpPr>
          <p:sp>
            <p:nvSpPr>
              <p:cNvPr id="482" name=""/>
              <p:cNvSpPr/>
              <p:nvPr/>
            </p:nvSpPr>
            <p:spPr>
              <a:xfrm>
                <a:off x="763560" y="3928320"/>
                <a:ext cx="9468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57520" y="3884760"/>
                <a:ext cx="9504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531720" y="4233960"/>
              <a:ext cx="27936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440" y="4487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43280" y="4289400"/>
              <a:ext cx="1790640" cy="152280"/>
              <a:chOff x="1943280" y="4289400"/>
              <a:chExt cx="1790640" cy="152280"/>
            </a:xfrm>
          </p:grpSpPr>
          <p:sp>
            <p:nvSpPr>
              <p:cNvPr id="487" name=""/>
              <p:cNvSpPr/>
              <p:nvPr/>
            </p:nvSpPr>
            <p:spPr>
              <a:xfrm>
                <a:off x="1943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356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657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70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52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053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114800" y="4127400"/>
              <a:ext cx="3729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437000" y="4124160"/>
              <a:ext cx="2594160" cy="368280"/>
              <a:chOff x="4437000" y="4124160"/>
              <a:chExt cx="2594160" cy="368280"/>
            </a:xfrm>
          </p:grpSpPr>
          <p:sp>
            <p:nvSpPr>
              <p:cNvPr id="495" name=""/>
              <p:cNvSpPr/>
              <p:nvPr/>
            </p:nvSpPr>
            <p:spPr>
              <a:xfrm>
                <a:off x="4437000" y="4228920"/>
                <a:ext cx="1990800" cy="20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35640" y="4124160"/>
                <a:ext cx="695520" cy="368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4483080" y="4284720"/>
                <a:ext cx="1790640" cy="152280"/>
                <a:chOff x="4483080" y="4284720"/>
                <a:chExt cx="1790640" cy="1522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483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7754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1055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410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150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0451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4065480" y="47563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6120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8186760" y="4229280"/>
            <a:ext cx="45072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423396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961400" y="3870360"/>
            <a:ext cx="189000" cy="917280"/>
            <a:chOff x="7961400" y="3870360"/>
            <a:chExt cx="189000" cy="917280"/>
          </a:xfrm>
        </p:grpSpPr>
        <p:sp>
          <p:nvSpPr>
            <p:cNvPr id="509" name=""/>
            <p:cNvSpPr/>
            <p:nvPr/>
          </p:nvSpPr>
          <p:spPr>
            <a:xfrm>
              <a:off x="7961400" y="391392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55360" y="387036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8140680" y="4044960"/>
            <a:ext cx="139680" cy="4366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26920" y="4601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62120" y="1540080"/>
            <a:ext cx="5703120" cy="5484960"/>
            <a:chOff x="762120" y="1540080"/>
            <a:chExt cx="5703120" cy="5484960"/>
          </a:xfrm>
        </p:grpSpPr>
        <p:grpSp>
          <p:nvGrpSpPr>
            <p:cNvPr id="514" name=""/>
            <p:cNvGrpSpPr/>
            <p:nvPr/>
          </p:nvGrpSpPr>
          <p:grpSpPr>
            <a:xfrm>
              <a:off x="2996280" y="1540080"/>
              <a:ext cx="3468960" cy="2898720"/>
              <a:chOff x="2996280" y="1540080"/>
              <a:chExt cx="3468960" cy="2898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025800" y="20764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39920" y="1733040"/>
                <a:ext cx="0" cy="34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96280" y="1540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92600" y="28828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707080" y="254016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3080" y="23464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196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8341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901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780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2925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485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762120" y="601632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ll’interno della regione sono stati identificati almeno 6-7 geni: solo uno e’ dosage sensit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 rot="5361600">
            <a:off x="4457520" y="339084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7"/>
          <a:stretch/>
        </p:blipFill>
        <p:spPr>
          <a:xfrm>
            <a:off x="7010280" y="5105520"/>
            <a:ext cx="2819520" cy="2211120"/>
          </a:xfrm>
          <a:prstGeom prst="rect">
            <a:avLst/>
          </a:prstGeom>
          <a:ln w="9360">
            <a:solidFill>
              <a:srgbClr val="f3ff20"/>
            </a:solidFill>
            <a:miter/>
          </a:ln>
        </p:spPr>
      </p:pic>
      <p:sp>
        <p:nvSpPr>
          <p:cNvPr id="530" name=""/>
          <p:cNvSpPr/>
          <p:nvPr/>
        </p:nvSpPr>
        <p:spPr>
          <a:xfrm>
            <a:off x="128160" y="3656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MT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20760" y="4768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N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A74-6B76-4606-B4E7-3D813EF3AC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4-06-16T17:15:28Z</cp:lastPrinted>
  <dcterms:modified xsi:type="dcterms:W3CDTF">2004-06-16T17:17:09Z</dcterms:modified>
  <cp:revision>663</cp:revision>
  <dc:subject/>
  <dc:title>Geen diatitel</dc:title>
</cp:coreProperties>
</file>