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35A-21A0-45E1-ADD0-7B2E2800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ADD-1BD9-477F-9813-9BE25D0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823-B3D4-415B-9925-D3AD75D9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212-636F-4D97-BBDE-9CD90504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975-32F1-44FC-AA6B-F82DCD0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650-C09A-4F22-BBDB-337317D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7A7-8937-43E4-836C-B3CE1D02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5FC-1A88-4514-AE8C-8D31D198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81A-E97F-41EF-990D-8414BD4D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85C-4E18-439E-B3EF-5AF051A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4AB-C403-489E-AA73-61F54C8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0CE-40E9-4F57-9163-FA3C6F37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303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596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900A-C5D8-4155-8288-0A484ADF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303"/>
                </a:solidFill>
                <a:latin typeface="Comic Sans MS"/>
              </a:rPr>
              <a:t>Verifica</a:t>
            </a:r>
            <a:endParaRPr b="1" lang="en-US" sz="4000" spc="-1" strike="noStrike">
              <a:solidFill>
                <a:srgbClr val="ff0303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3022560" cy="384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7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6680"/>
            <a:ext cx="90075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'atassia-telangectasia (AT) e' una malattia autosomica recessiva caratterizzata 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gressiva atassia (instabilita'), telangectasia (dilatazione dei capillari cutanei), immunodeficienz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edisposizione ai linfomi. La frequenza della AT nella popolazione e' di circa 1 su 40000 /70000 individu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' stato suggerito che i portatori dell'allele AT mutante possano avere anche un rischio di neoplas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iu' elevato. Qual e' la frequenza dei portatori del gene AT? Come si spiega l'aumento del rischio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ontrarre le neoplasi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isognava applicare HW, il gene dell'AT e' un gene oncosoppressore, per questo la presenza di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utazione costituzionale predispone alla comparsa del fenotipo tumorale, in quanto e' necessario so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n secondo evento mutazionale per perdere la funzi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b. Se l'ipotesi del rischio negli eteroziogoti fosse corretta, e l'n% dei portatori morisse di cancro tra i 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 i 70 anni o 20/ 50 anni, quale effetto avrebbe questa selezione sulla frequenza del gene A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 questo caso le risposte dei due compiti sono diverse: nel compito A nessun effetto perche'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lezione avviene dopo l'eta' riproduttiva e quindi tutti i portatori hanno potuto immettere nel po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co della generazione successiva l'allele mutato.  Nel compito B  la frequenza del gene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inuisce perche' la selezione agisce prima che si completi l'eta' riproduttiva e quindi m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rtatori hanno la possibilita' di immettere nel pool genico della generazione successiva l'all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ut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mento: a parte gli errori di calcolo di cui non ho tenuto conto, avete applicato correttamente HW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n  tutti hanno collegato AT con gli oncosoppressori e cosi’ il punteggio e' sceso, e sulla seconda rispos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i sono stati spunti fantasiosi (pochi) o non avete neanche provato a rispondere(poch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1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095480"/>
            <a:ext cx="883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a famiglia richiede un'analisi del linkage per una diagnosi presintomatica di malattia Boom (Bo) o Pinco, che e' una patologia autosomica dominante. Viene utilizzato un polimorfismo di restrizione all'interno del gene, che evidenzia un allele di 5Kb o un allele di 3kb nel DNA tagliato con Sau3A. Si ottiene il Southern blot riportato sot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057400"/>
            <a:ext cx="3879360" cy="1424160"/>
            <a:chOff x="2971800" y="2057400"/>
            <a:chExt cx="3879360" cy="1424160"/>
          </a:xfrm>
        </p:grpSpPr>
        <p:sp>
          <p:nvSpPr>
            <p:cNvPr id="54" name=""/>
            <p:cNvSpPr/>
            <p:nvPr/>
          </p:nvSpPr>
          <p:spPr>
            <a:xfrm>
              <a:off x="3362400" y="2300040"/>
              <a:ext cx="24228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7680" y="2300040"/>
              <a:ext cx="24228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62400" y="3028680"/>
              <a:ext cx="242280" cy="24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47680" y="3028680"/>
              <a:ext cx="242280" cy="24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05040" y="2421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70400" y="278748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2480" y="2421000"/>
              <a:ext cx="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70400" y="278604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4320" y="278748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37920" y="2514240"/>
              <a:ext cx="969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          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40440" y="3238920"/>
              <a:ext cx="969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          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99520" y="2298600"/>
              <a:ext cx="30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3028680"/>
              <a:ext cx="363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18080" y="2300040"/>
              <a:ext cx="1333080" cy="109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18080" y="2057400"/>
              <a:ext cx="133308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I-1    I-2    II-1       II-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53760" y="2543760"/>
              <a:ext cx="484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5k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53760" y="2907720"/>
              <a:ext cx="484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k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9040" y="3028680"/>
              <a:ext cx="12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6120" y="2664000"/>
              <a:ext cx="12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98120" y="3028680"/>
              <a:ext cx="12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5120" y="3028680"/>
              <a:ext cx="12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90520" y="2654640"/>
              <a:ext cx="12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-538920" y="3581280"/>
            <a:ext cx="10387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po un attento esame, concludi che questo blot ha effettivamente rivelato la probabile mutazion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questa famiglia. In che consiste la mutazione e come questo e' dimostrato dal blo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 mutazione e' una delezione . come si deduce dal fatto che I-2 (malata) non ha trasmesso il prop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lele di 5kb a II-1(malato). I-2 e' evidentemente emizigote, avendo un allele 5kb, ma nessun alle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ll'altro cromosoma (se fosse stata omoziogote 5/5 avrebbe dovuto trasmettere l'allele 5). Il pad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' omozigote 3/3 e ha tramesso correttamente uno dei due alleli.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ovete leggere il testo con attenzion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il polimorfismo e' interno al gene: vuol dire che la sonda riconosce parte del gene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la mancanza dell'ibrid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 dice che non e' assente il sito di restrizione, ma la sequenza omologa alla sonda. se fosse andato perso so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l sito, per effetto di una mutazione puntiforme, l'ibridazione ci sarebbe stata su un frammento piu' lungo.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n possiamo sapere quale allele e' andato perso perche' non sappiamo come erano i nonni materni :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sostanza in questa famiglia I-2 e' eterozigote per 5kb/0, e' l'assenza di parte del gene (allele 0) 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voca il fenotipo, no non avere l'allele3 o una mutazione sull'allele5 (come qualcuno ha detto)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1  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52680" y="2462040"/>
            <a:ext cx="3879720" cy="1424160"/>
            <a:chOff x="3352680" y="2462040"/>
            <a:chExt cx="3879720" cy="1424160"/>
          </a:xfrm>
        </p:grpSpPr>
        <p:sp>
          <p:nvSpPr>
            <p:cNvPr id="83" name=""/>
            <p:cNvSpPr/>
            <p:nvPr/>
          </p:nvSpPr>
          <p:spPr>
            <a:xfrm>
              <a:off x="3743280" y="2704680"/>
              <a:ext cx="24228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28560" y="2704680"/>
              <a:ext cx="24228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3280" y="3433320"/>
              <a:ext cx="242280" cy="24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28560" y="3433320"/>
              <a:ext cx="242280" cy="24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85920" y="28256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51280" y="319212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13720" y="2825640"/>
              <a:ext cx="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1280" y="319068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5200" y="31921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18800" y="2918880"/>
              <a:ext cx="969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          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21320" y="3643560"/>
              <a:ext cx="969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          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80400" y="2703240"/>
              <a:ext cx="30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3433320"/>
              <a:ext cx="363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99320" y="2704680"/>
              <a:ext cx="1333080" cy="109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99320" y="2462040"/>
              <a:ext cx="133308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I-1    I-2    II-1       II-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35000" y="2948400"/>
              <a:ext cx="4852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5k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5000" y="3312360"/>
              <a:ext cx="485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k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20280" y="3433320"/>
              <a:ext cx="12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360" y="3068640"/>
              <a:ext cx="12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79360" y="3433320"/>
              <a:ext cx="12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66360" y="3433320"/>
              <a:ext cx="12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1760" y="3059280"/>
              <a:ext cx="12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97640" y="4289400"/>
            <a:ext cx="8967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.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' probabile, sulla base dei dati mostrati, che II-2 sia affetto dalla malatti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I-2   avendo l'allele 5  evidentemente non ha ereditato l'allele 0 dalla madre che e' l'unica che puo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verle trasmesso l'allele 5: il padre e' omozigote 3/3.  Quindi non manifestera' la malat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mento: oltre a non leggere la traccia (causa principale) chi ha sbagliato questo esercizio (22) h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mostrato di aver studiato ma di non aver ben assimilato le informazioni e di avere un po' di confus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095480"/>
            <a:ext cx="883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na famiglia richiede un'analisi del linkage per una diagnosi presintomatica di malattia Boom (Bo) o Pinco, che e' una patologia autosomica dominante. Viene utilizzato un polimorfismo di restrizione all'interno del gene, che evidenzia un allele di 5Kb o un allele di 3kb nel DNA tagliato con Sau3A. Si ottiene il Southern blot riportato sot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2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-37800" y="1600200"/>
            <a:ext cx="91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ossedere le orecchie a punta/non avere il surrene e' un carattere autosomico recessivo di cui e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responsabile un singolo gene. Un bambino con fenotipo mutato nasce da genitori fenotipicamente norma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entre il nonno paterno presenta il fenotipo. Un'indagine familiare approfondita lascia supporre che ne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a madre ne' i progenitori della madre siano portatori dell'allele. Suggerisci un meccanismo che spiegh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questa situ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 padre e' eterozigote perche' e' figlio di un doppio mutante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ovete leggere la traccia: c'e' scrit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he il fenotipo e' recessivo).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 il figlio esprime il carattere vuol dire che e' ha ereditato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utazione dal padre e una dalla madre che evidentemente ha trasmesso un gamete mutato 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ne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traccia c'e' scritto che non ci sono evidenze della presenza di una mutazione nella famiglia materna).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 meccanismo e' la nuova mut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mento come sopra: l'incapacita' di leggere la traccia e' pero' preponderante. e l'avete sbagliato in 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pratutto per questo motivo. La non penetranza invocata da molti per giustificare la mancata espress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l padre riguarda i fenotipi dominanti, e quindi non c'entra con l'esercizio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3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83520" y="1434960"/>
            <a:ext cx="8991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3.Per una patologia autosomica recessiva viene organizzato un saggio basato sulla PCR in cui vie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mplificata la regione circostante una mutazione frequente. I prodotti di amplificazione ottenuti da og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viduo vengono fissati su due membrane di nylon. Una membrana viene poi ibridata con un oligonucluot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marcato, specifico per l'allele wild-type, mentre l'altra viene ibridata con un oligonucleotide specifico p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'allele mutante. Determina il genotipo dei soggetti mostrati in figu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4720" y="2666880"/>
            <a:ext cx="4209840" cy="1168560"/>
            <a:chOff x="1674720" y="2666880"/>
            <a:chExt cx="4209840" cy="1168560"/>
          </a:xfrm>
        </p:grpSpPr>
        <p:sp>
          <p:nvSpPr>
            <p:cNvPr id="120" name=""/>
            <p:cNvSpPr/>
            <p:nvPr/>
          </p:nvSpPr>
          <p:spPr>
            <a:xfrm>
              <a:off x="1674720" y="3043080"/>
              <a:ext cx="25146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4720" y="3492360"/>
              <a:ext cx="25146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7800" y="3178080"/>
              <a:ext cx="22860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7600" y="3178080"/>
              <a:ext cx="22860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6320" y="3178080"/>
              <a:ext cx="22860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7240" y="3178080"/>
              <a:ext cx="22860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9840" y="3606840"/>
              <a:ext cx="22860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17800" y="3606840"/>
              <a:ext cx="22860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3160" y="3605040"/>
              <a:ext cx="22860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6320" y="3605040"/>
              <a:ext cx="22860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77640" y="266688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    2     3    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4880" y="295128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ligo wil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03720" y="3449520"/>
              <a:ext cx="16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ligo mut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840" y="4406760"/>
            <a:ext cx="9349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bridazione in una membrana: omozigote wild-type o omozigote mutante-Ibridazione in entramb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erozigote - Nessuna ibridazione insuccesso della PCR o qualche altra mutazione in entrambi g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leli che rende impossibile l'ibridazione degli oligonucleotidi sia wt che M noto 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iaramente si inte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e la mutazione sia praticamente l'unica nella popolazione che sto testando, infatti a voler essere precis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l segnale su un solo filtro vuol dire che non e' presente la sequenza testata dall'oligonucleotide utilizzato)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mento: i pochi che non hanno risposto bene hanno sbagliato l'interpretazione dell'assenza di ibrid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n e' chiaro che la risposta viene dal confronto fra  i due risultati e dal fatto che gli oligonucleoti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tilizzati sono a sequenz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4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3480" y="1254240"/>
            <a:ext cx="9250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Un uomo con un carattere recessivo associato al cromosoma X sposato con una donna n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portatrice ha una figlia gravemente affetta. Come questo potrebbe essere spiega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 figlia potrebbe avere la sindrome di Turner (un singolo cromosoma X), oppure qual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tra anomalia del cromosoma X, che abbia come conseguenza inattivazione non casu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l cromosoma 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ento: solo pochi hanno considerato queste due possibilita' e quindi non ho considera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ompleta la risposta. Altri (pochi) oltre a non aver letto (come al solito) la traccia hanno da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a di grande fantasia che testimonia un po' di confus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5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4640" y="1282680"/>
            <a:ext cx="9061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'analisi dei cromosomi in un campione di villi coriali rivela una trisomia 15 a mosaico. Un success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ampione di liquido amniotico presenta esclusivametne cellule con assetto cromosomico norm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. Come spieghi questa discrepanz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ll'embrione si e' verificato un evento di non-disgiunzione. L'embrione poteva essere inizialm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rmale, ed una linea cellulare trisomica per il cromosoma 15 puo' essersi originata nei villi corial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ppure, L'embrione poteva essere inizialmente trisomico per il cromosoma 15 ed ave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ccessivamente perso una copia di tale cromosoma in alcuni tessu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600" y="4038480"/>
            <a:ext cx="9009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b. Successivamente nasce un bambino al quale viene diagnosticata la sindrome di Prader-Willi o Angelman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' verosimile che questa sia correlata ai risultati del test diagnostico prenatale? In che m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 presenza di PWS o AS suggerisce che l'interpretazione corretta sia la seconda: l'embrione ave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izialmente una trisomia 15. Tale trisomia sarebbe stata letale, ma si e' verificata la perdita de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pia paterna o materna, il che ha ripristinato la disomia ma ha generato la PWS o AS co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eguenza della disomia uniparent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mento: in pochi avete sbagliato o non risposto completamente (il punteggio scende lo stesso), chi h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bagliato sapeva che era coinvolto l' imprinting, ma ha l'idee confuse andatelo a rived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6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" y="1130400"/>
            <a:ext cx="870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a figura sottostante rappresenta un ipotetico gene contenente tre esoni e due introni. L'unita'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trascrizione e' rappresentata dai quadrettini adiacenti che simboleggiano gli esoni (quadrati piu' scuri)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li introni (quadrati bianchi). Gli inneschi della PCR, rappresentati con le frecce, comprendono 20 nucleoti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 sono derivati da sequenze di DNA localizzate immediatamente all'esterno dei confini di ciascun es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e dimensioni di ciuscun prodotto di PCR superano di 40bp le dimensioni dell'esone (es. prodotto della PC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ell'esone1 = 360bp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91456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2857680"/>
            <a:ext cx="1028880" cy="114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67160" y="2857680"/>
            <a:ext cx="45720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2857680"/>
            <a:ext cx="571320" cy="114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854440"/>
            <a:ext cx="190800" cy="11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6480" y="2857680"/>
            <a:ext cx="1218960" cy="114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274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49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466800" y="30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95320" y="30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24160" y="30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7440" y="28065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0120" y="28065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28065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666880" y="2971800"/>
            <a:ext cx="3124080" cy="228600"/>
            <a:chOff x="2666880" y="2971800"/>
            <a:chExt cx="3124080" cy="228600"/>
          </a:xfrm>
        </p:grpSpPr>
        <p:sp>
          <p:nvSpPr>
            <p:cNvPr id="169" name=""/>
            <p:cNvSpPr/>
            <p:nvPr/>
          </p:nvSpPr>
          <p:spPr>
            <a:xfrm>
              <a:off x="2666880" y="2971800"/>
              <a:ext cx="50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320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05080" y="2971800"/>
              <a:ext cx="50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455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87320" y="2971800"/>
              <a:ext cx="50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mic Sans MS"/>
                </a:rPr>
                <a:t>155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9600" y="3298680"/>
            <a:ext cx="863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l seguente albero genealogico appartiene ad una famiglia esposta al rischio per una malattia autosom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recessiva con espressivita' moderata. Il soggetto in esame (II-2) e' indicato con il simbolo pie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52680" y="3962520"/>
            <a:ext cx="1733760" cy="933480"/>
            <a:chOff x="3352680" y="3962520"/>
            <a:chExt cx="1733760" cy="933480"/>
          </a:xfrm>
        </p:grpSpPr>
        <p:sp>
          <p:nvSpPr>
            <p:cNvPr id="174" name=""/>
            <p:cNvSpPr/>
            <p:nvPr/>
          </p:nvSpPr>
          <p:spPr>
            <a:xfrm>
              <a:off x="4334040" y="4686480"/>
              <a:ext cx="223560" cy="207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56120" y="3962520"/>
              <a:ext cx="22212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9520" y="3962520"/>
              <a:ext cx="223920" cy="207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78240" y="40654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87720" y="4394160"/>
              <a:ext cx="9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46720" y="406548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7720" y="439416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75200" y="439416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5040" y="4686480"/>
              <a:ext cx="22392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2520" y="4686480"/>
              <a:ext cx="22392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78240" y="3962520"/>
              <a:ext cx="274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52680" y="4687920"/>
              <a:ext cx="4111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51440" y="4141800"/>
              <a:ext cx="941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                    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870360" y="5106960"/>
            <a:ext cx="1679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               2                  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7800" y="5334120"/>
            <a:ext cx="8556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i esegue la PCR utilizzando le tre coppie di inneschi specifiche degli esoni ed un DNA stampo ottenu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a ciascuno dei tre membri dell'albero genealogico. L'analisi elettroforetica dei prodotti di PCR e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llustrata di seguito. Le colonne da A a D contengono campioni preparati dal DNA di controllo, utilizza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e coppie degli inneschi indicati.</a:t>
            </a:r>
            <a:r>
              <a:rPr b="0" i="1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715000" y="380880"/>
            <a:ext cx="3276720" cy="2057400"/>
            <a:chOff x="5715000" y="380880"/>
            <a:chExt cx="3276720" cy="2057400"/>
          </a:xfrm>
        </p:grpSpPr>
        <p:grpSp>
          <p:nvGrpSpPr>
            <p:cNvPr id="190" name=""/>
            <p:cNvGrpSpPr/>
            <p:nvPr/>
          </p:nvGrpSpPr>
          <p:grpSpPr>
            <a:xfrm>
              <a:off x="5715000" y="614160"/>
              <a:ext cx="3276720" cy="1824120"/>
              <a:chOff x="5715000" y="614160"/>
              <a:chExt cx="3276720" cy="1824120"/>
            </a:xfrm>
          </p:grpSpPr>
          <p:sp>
            <p:nvSpPr>
              <p:cNvPr id="191" name=""/>
              <p:cNvSpPr/>
              <p:nvPr/>
            </p:nvSpPr>
            <p:spPr>
              <a:xfrm>
                <a:off x="6042600" y="614160"/>
                <a:ext cx="2949120" cy="18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15000" y="709920"/>
                <a:ext cx="546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9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15000" y="997920"/>
                <a:ext cx="546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3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15000" y="1670040"/>
                <a:ext cx="546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15000" y="2150280"/>
                <a:ext cx="546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9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7020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9780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2540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5336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68096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00856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3616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664120" y="614160"/>
                <a:ext cx="0" cy="18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5168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73520" y="806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0724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3484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3484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34840" y="806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62440" y="806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6244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2440" y="176616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46244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9040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9040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90400" y="806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1800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44560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445600" y="806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773200" y="1094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773200" y="80604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118000" y="176616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773200" y="176616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1800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4560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773200" y="2246400"/>
                <a:ext cx="10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6042600" y="380880"/>
              <a:ext cx="294912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      B         C       D       I-1     II-1    II-2    II-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sercizio 6</a:t>
            </a:r>
            <a:endParaRPr b="1" lang="en-US" sz="2800" spc="-1" strike="noStrike">
              <a:solidFill>
                <a:srgbClr val="ff0303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-444240" y="1219320"/>
            <a:ext cx="9858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ai dati in quali delle seguenti sequenze puo' essere localizz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a mutazione del g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sone 1; b) Esone 2; c) Esone 3; d) Introne 1; e) Introne 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iustifica la risposta: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 risposta e' B. I dati dell'analisi elettroforetica indicano 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l DNA ottenuto dal soggetto in esame, rispetto al sogget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rmale, l'esone 2 e' piu' piccolo di 245 bp. Quando la PCR vie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eguita con gli inneschi per l'esone 2, nel soggetto in esame si ottiene un prodotto di 250 b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ece di 495bp. La mutazione e' localizzata all'interno dell'esone 2 del ge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2. In quali dei seguenti modi verra' alterata la proteina codificata dalla mutazione del g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) La proteina mutante presentera', rispetto alla norma, un singolo cambiamento aminoacid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b) La proteina mutante sara' piu' grande di 20 aminoacidi rispetto alla proteina norm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) La proteina mutante sara' piu' piccola di 85 aminoacidi rispetto alla rpteina normale e verra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tradotta in modulodi let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) la proteina mutante avra' le stesse dimnsioni con molteplici cambiamenti aminoacid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) La proteina mutante sara' piu' piccola di 81 aminoacidi e verra' tradotta fuori del modulo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et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iustifica la rispos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a risposta e' E. La delezione di 245bp rimuove 81 codoni (243bp) oltre a due coppie di bas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lementari causando il frame-shif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mento: in pochi avete sbagliato o non risposto completamente, chi ha sbagliato nella seconda par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n ha saputo collegare la perdita in basi con il risultato nel prodotto (rivedetevi la biologia molecol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4-05-31T06:33:19Z</cp:lastPrinted>
  <dcterms:modified xsi:type="dcterms:W3CDTF">2004-05-31T06:35:34Z</dcterms:modified>
  <cp:revision>92</cp:revision>
  <dc:subject/>
  <dc:title>Procedimento sperimentale di Mendel</dc:title>
</cp:coreProperties>
</file>