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E3C-E978-4719-A66C-5759D735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7B1-BDD0-411F-B212-68A52E1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2EB-AC97-41DB-86A4-594061C6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76E-C057-45B7-887F-DDC02E7C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800-48C6-4FDF-AD18-4BBD13C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F64-70AB-4F2A-9A03-549FB94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8B9-150A-44B0-8DA4-2C0B2B9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678-5278-4555-A6F3-28D6D93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72B-8564-4EF5-93CA-5AC1B756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E40-EF38-4ACD-A07B-C47C9A9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C39-EE87-444C-A396-55DBDF3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862-7B04-4708-82D9-762B4137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ED2-8F11-4EFA-A25B-78C7E9B5ED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714"/>
                </a:solidFill>
                <a:latin typeface="Comic Sans MS"/>
              </a:rPr>
              <a:t>genetica di popol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FREQUENZE ALLELI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840" y="966960"/>
            <a:ext cx="880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4840" y="6678720"/>
            <a:ext cx="880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447920"/>
            <a:ext cx="846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0aff"/>
                </a:solidFill>
                <a:latin typeface="Comic Sans MS"/>
              </a:rPr>
              <a:t>E’ piu’ vantaggioso descrivere il pool genico in termini di frequenza degli alleli: negli organismi a riproduzione sessuale sono gli alleli ad essere trasmessi alla generazione successiva. Inoltre gli alleli sono meno dei genotipi: se ci sono 2 alleli ad un locus ci sono 3 genotipi, se 3 alleli 6 genotipi e cosi’ v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4290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e frequenze genotipiche derivano dalla quantita’ di gameti che portano un certo allele: la probabilita’ che si origini un certo genotipo dipende dalla frequenza degli alleli che lo compong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frequenza allelic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7720" y="542448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ero di copie di un 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2360" y="595944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di alleli nel pool 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95944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714"/>
                </a:solidFill>
                <a:latin typeface="Comic Sans MS"/>
              </a:rPr>
              <a:t>frequenza allelica nella popo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295280"/>
            <a:ext cx="8016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lcoliamo il numero di rappresentanti della coppia allelica nella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0640" y="2057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7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560" y="30481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(119 x 2) + 76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3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7320" y="350352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 76 + (13 x 2)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240" y="5286240"/>
            <a:ext cx="6793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i due alleli nella popolazione 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M = 314/416 = 0,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N = 102/416 = 0,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6600" y="4199040"/>
            <a:ext cx="649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IL TOTALE DEVE ESSERE MOLTIPLICATO X 2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GLI ORGANISMI DIPLOIDI INTRODUCONO 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POOL </a:t>
            </a:r>
            <a:r>
              <a:rPr b="1" lang="en-US" sz="1800" spc="-1" strike="noStrike" u="sng">
                <a:solidFill>
                  <a:srgbClr val="0a0aff"/>
                </a:solidFill>
                <a:uFillTx/>
                <a:latin typeface="Comic Sans MS"/>
              </a:rPr>
              <a:t>2 ALLELI INDIPENDENTEMENTE DA QUALE ALL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distribuzione binomiale delle frequenze genotip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" y="1828800"/>
            <a:ext cx="84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le coppie di alleli sono combinate a caso, la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probabil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i differenti genotipi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0320" y="3276720"/>
            <a:ext cx="376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 = 0,76 x 0,76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 = 0,76 x 0,24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M = 0,24 x 0,76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 = 0,24 x 0,24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07160" y="38116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3840" y="3979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distribuzione di genotipi nel campione di bedu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880" y="380988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58  x  208  =  121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M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36  x  208  =   75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06  x  208  =   12    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97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distribuzione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teorica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sper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combinazione da incrocio casuale e frequenze relative nella popolazione dei bedu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33720" y="2498760"/>
          <a:ext cx="4876560" cy="304812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322000" y="1981080"/>
            <a:ext cx="43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M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N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9440" y="2955960"/>
            <a:ext cx="85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3960" y="2955960"/>
            <a:ext cx="8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47360" y="272556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3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48800" y="37162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0,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3480" y="47070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714"/>
                </a:solidFill>
                <a:latin typeface="Comic Sans MS"/>
              </a:rPr>
              <a:t>0,0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0,0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0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4040" y="58658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a che 3 sono incroci reciproci e quindi vi son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differenti combin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frequenza dei discendenti prodotti da incroci casuali nella popolazione di bedu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905120"/>
          <a:ext cx="8610840" cy="4724280"/>
        </p:xfrm>
        <a:graphic>
          <a:graphicData uri="http://schemas.openxmlformats.org/drawingml/2006/table">
            <a:tbl>
              <a:tblPr/>
              <a:tblGrid>
                <a:gridCol w="2210040"/>
                <a:gridCol w="1676160"/>
                <a:gridCol w="47246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quenze ne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en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 di incro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q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           MN       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1          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N x 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          0,06       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N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1      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N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generazione n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714"/>
                          </a:solidFill>
                          <a:latin typeface="Comic Sans MS"/>
                        </a:rPr>
                        <a:t>generazione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0,58          0,34       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714"/>
                          </a:solidFill>
                          <a:latin typeface="Comic Sans MS"/>
                        </a:rPr>
                        <a:t>0,58          0,36       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antigeni M e N in altre popol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440" y="1903320"/>
            <a:ext cx="870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i                   fr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polazione    #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osserva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gen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vidui      M      M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(M)     q(N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87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924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600" y="285768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4200" y="3182760"/>
            <a:ext cx="81388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Pueblo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140         83     46     11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 0,76     0,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Brooklyn     1849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541    903   405  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0,54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0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borigeni     102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3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44     55           0,25     0,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ustrali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45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0680" y="5276880"/>
            <a:ext cx="68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beduini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       208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   119    76     13           0,76     0,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          </a:t>
            </a: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importante</a:t>
            </a:r>
            <a:br>
              <a:rPr sz="3600"/>
            </a:b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l’equilibrio di Hardy-Weinberg si realizza 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34560" y="3124080"/>
            <a:ext cx="667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 è accoppiamento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è selezione per un particolare 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sono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è immi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 è una grande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Cosa vuol dire incroci casual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00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i fenotipi originati dagli alleli del locus in esame non condizionano la possibilita’ di riprodursi del portatore: cioe’ tutti i genotipi hanno la stessa possibilita’ di fornire alleli al pool della generazione success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4480" y="434340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BISOGNA SCEGLIERE CON ATTENZIONE IL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DA STUDI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incrocio casuale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ed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inincr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4479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ocio fra individui più strettamente correlati della media della popolazione esamin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362320"/>
            <a:ext cx="79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livelli di inincrocio nelle popolazioni naturali sono una consegu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stribuzione ge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ccanismo di ripro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ratteristiche comportam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95288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CONSEGUENZE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sulla struttura della popolazione</a:t>
            </a:r>
            <a:r>
              <a:rPr b="0" lang="it-IT" sz="2800" spc="-1" strike="noStrike">
                <a:solidFill>
                  <a:srgbClr val="0a0a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aumento dell’omozigosi al di là del livello predetto dall’equilibrio di Hardy-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Aspetti diversi dell’ereditarie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880" y="135108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949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genetica classica studia i processi genetici che riguardano i singoli individui e come i geni vengono trasmessi da un individuo all’al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’unita’ di studio e’ l’individ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08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genetica di popolazione studia l’ereditarieta’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caratteri determinati da uno o pochi geni in gruppi di individ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9304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genetica molecolare studia la natura molecolare della eredita’: come viene codificata nel DNA e come i processi biochimici la traducano in un fenoti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’interesse e’ concentrato sulla cel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3962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deriva ge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193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piccole popolazioni le fluttuazioni casuali della frequenza genica, generazione dopo generazione, può portare alla eliminazione di un allele e quindi alla fissazione di una alterna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971800"/>
            <a:ext cx="786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tipo particolare  di deriva genetica si ha quando un piccolo gruppo di individui si stacca da una popolazione più ampia &gt; </a:t>
            </a:r>
            <a:r>
              <a:rPr b="1" lang="it-IT" sz="3600" spc="-1" strike="noStrike">
                <a:solidFill>
                  <a:srgbClr val="0a0aff"/>
                </a:solidFill>
                <a:latin typeface="Comic Sans MS"/>
              </a:rPr>
              <a:t>effetto del fonda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Indiani d’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Dankers, Am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714"/>
                </a:solidFill>
                <a:latin typeface="Comic Sans MS"/>
              </a:rPr>
              <a:t>Drosophila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 “</a:t>
            </a:r>
            <a:r>
              <a:rPr b="1" i="1" lang="it-IT" sz="2400" spc="-1" strike="noStrike">
                <a:solidFill>
                  <a:srgbClr val="ff0714"/>
                </a:solidFill>
                <a:latin typeface="Comic Sans MS"/>
              </a:rPr>
              <a:t>picture wing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55040" y="5977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ff"/>
                </a:solidFill>
                <a:latin typeface="Comic Sans MS"/>
              </a:rPr>
              <a:t>effetto collo di bottig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drosophila “puncted wing”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3000" y="3427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87800" y="399240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1077840"/>
            <a:ext cx="8001000" cy="57070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5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mut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5640" y="129528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nte della variabilità genetica e base dell’evol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82880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ggior parte delle nuove mutazioni, anche se non vi è selezione contro di esse, non riesce ad entrare nella popolazione per effetto della deriva gene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’altro canto, può entrare nella popolazione e fissarsi, specie in una piccola popolazione, sempre per lo stesso meccanismo di deriva gene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00" y="4722840"/>
            <a:ext cx="76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vantaggio dell’eterozigo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ipende dall’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azioni sfavorevoli o neutre possono rivela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taggi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anemia falcifor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10666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anemia falcifor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gli omozigoti Sk/Sk presentano una forte mortalità infantile; gli eterozigoti si trovano fino al 40% nelle popolazioni dell’Africa orientale, della Grecia , dell’India e nel bacino del Mediterraneo. Tale frequenza si può spiegare solo ammettendo un vantaggio degli eterozig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rea di distribuzione coincide con le regioni in cui la malaria è allo stato endemico. Il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lasmodiu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è ben adattato agli eritrociti norm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320" y="457056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Lo svantaggio conseguente al gene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 allo stato omozigote è controbilanciato dalla resistenza alla malaria conferita ai portatori eterozigoti. Questo porta a stabilire un equilibrio tra i geni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 e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7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482"/>
                </a:solidFill>
                <a:latin typeface="Comic Sans MS"/>
              </a:rPr>
              <a:t>migr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990720"/>
            <a:ext cx="740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usso gen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roduce nuovi alleli nella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ambia le frequenze geniche nella popol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680" y="2590920"/>
            <a:ext cx="816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Conseguen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a0a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attraverso lo scambio genico le popolazioni rimangono simili e quindi previene che le popolazioni evolvano tra di loro differenze da un punto di vista gen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a0a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migrazione tra popolazioni tende ad aumentare le dimensioni della popolazione, riducendo gli effetti della deriva ge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                 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fitness:</a:t>
            </a: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 </a:t>
            </a:r>
            <a:br>
              <a:rPr sz="2800"/>
            </a:b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capacità riproduttiva di un dato gen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2438280"/>
            <a:ext cx="86104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selezione naturale agisce selezionando nel pool genico di una popolazione i genotipi piu adatti ad un certo ambiente: un certo genotipo ha piu’ possibilita’ dell’altro di contribuire alla generazione successi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 FITNESS MAGG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600" y="46465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albinismo negli indiani H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mutazion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Bar: ridotta fit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739880"/>
            <a:ext cx="5486400" cy="506880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0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714"/>
                </a:solidFill>
                <a:latin typeface="Comic Sans MS"/>
              </a:rPr>
              <a:t>I geni nelle popolazio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6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 un punto di vista genetico vi sono due fondamentali differenze tra esperimenti di laboratorio e popolazioni natur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80" y="3247920"/>
            <a:ext cx="93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laboratorio la frequenza degli alleli è fissata dal pi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rimentale, in popolazioni naturali questa è vari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477216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 laboratorio gli accoppiamenti seguono uno sch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rimentale, in popolazioni naturali sono cas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714"/>
                </a:solidFill>
                <a:latin typeface="Comic Sans MS"/>
              </a:rPr>
              <a:t>La genetica di popolazione studia l’ereditarieta’ di caratteri determinati da uno o pochi geni in 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gruppi di individ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4120" y="1447920"/>
            <a:ext cx="74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in una popolazione mendelia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gruppo di individui di una stessa specie in una data area i cui membri possono accoppiarsi e che quindi condividono un insieme di alleli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ol ge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Tutti gli individui di una specie condividono gli stessi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8440" y="33876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" y="4572000"/>
            <a:ext cx="80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ciascun pool genico contiene tut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gli alleli che specificano per tut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i caratteri di tutta la popol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36232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a0a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Comic Sans MS"/>
              </a:rPr>
              <a:t>I loci possono presentare piu’ alleli: gruppi di individui possono presentare assortimenti allelici differen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genotipi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legge di HARDY - WEIN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640" y="2209680"/>
            <a:ext cx="7788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una popolazione panmittica all’equilibrio, che non presenti selezione, mutazione, migrazione e che sia composta di un numero elevato di individui, il rapporto tra gli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alleli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e tra i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genotipi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è costante da una generazione all’al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9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Consideriamo una popolazione il cui pool genico contiene gli alleli 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A </a:t>
            </a: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 e 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3320" y="1600200"/>
            <a:ext cx="770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chiamo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p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ll’all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q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ll’all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omma degli alleli deve essere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quindi    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26200" y="3657600"/>
            <a:ext cx="488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loro distribuzione casuale sar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A + 2Aa + 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p</a:t>
            </a:r>
            <a:r>
              <a:rPr b="1" lang="it-IT" sz="32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 + 2pq + q</a:t>
            </a:r>
            <a:r>
              <a:rPr b="1" lang="it-IT" sz="32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34600" y="5430960"/>
            <a:ext cx="58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altro che l’espressione binomial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0a0aff"/>
                </a:solidFill>
                <a:latin typeface="Comic Sans MS"/>
              </a:rPr>
              <a:t>(</a:t>
            </a:r>
            <a:r>
              <a:rPr b="1" lang="it-IT" sz="3600" spc="-1" strike="noStrike">
                <a:solidFill>
                  <a:srgbClr val="0a0aff"/>
                </a:solidFill>
                <a:latin typeface="Comic Sans MS"/>
              </a:rPr>
              <a:t>p + q)</a:t>
            </a:r>
            <a:r>
              <a:rPr b="1" lang="it-IT" sz="36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frequenze genotip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9520" y="31003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743200"/>
            <a:ext cx="85341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struttura genetica di una popolazione viene espressa in termini sia di frequenza allelica che genotipica</a:t>
            </a:r>
            <a:r>
              <a:rPr b="1" lang="en-US" sz="32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1911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Per calcolare la frequenza genotipica basta contare gli individui con un certo fenotipo e dividere per il totale de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individui. 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somma dei diversi genotipi deve essere = 1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1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frequenza genotipica della coppia allelica M e N in una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4440" y="160020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iamo una popolazione di beduini del deserto si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116080"/>
            <a:ext cx="53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7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    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36576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requenze genotipiche:   f(MM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119/208 = 0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(MN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  76/208 = 0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(NN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  13/208 = 0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280" y="5105520"/>
            <a:ext cx="75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somma e’ 1 e le singole percentuali descrivono quantitativamente il pool genico per quel locus all’interno del gruppo di individui consid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2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19:36Z</dcterms:created>
  <dc:creator>Palumbo</dc:creator>
  <dc:description/>
  <dc:language>en-US</dc:language>
  <cp:lastModifiedBy>Rocchi</cp:lastModifiedBy>
  <dcterms:modified xsi:type="dcterms:W3CDTF">2003-02-03T10:26:02Z</dcterms:modified>
  <cp:revision>48</cp:revision>
  <dc:subject/>
  <dc:title>I geni nelle popolazioni</dc:title>
</cp:coreProperties>
</file>