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87C-6C89-4BE0-B5A9-A11E11A3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D06-BE10-4E03-AE64-659A916D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E57-8B37-4EA9-861A-1CCE63B8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EAA-3302-47C8-8DFD-EA7273CA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2D7-E4FE-4ECF-A1AC-B4C1CFE0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C19-3DE6-482A-AE97-23EACAFA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8D9-0D1C-46DD-BBD8-94264C6F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532-EF07-4ACF-A03D-40A51504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8E2-62E9-4F16-8AEF-25ED7B0B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C19-DD64-4BA2-8317-D1B8F90F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DE7-BAB4-490F-927D-36CB08AA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AF7-91C1-4D55-847B-D63790A2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959F-C594-4518-B782-5BB7B4E72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83808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Le mutazioni</a:t>
            </a:r>
            <a:r>
              <a:rPr b="1" lang="en-US" sz="2800" spc="-1" strike="noStrike">
                <a:solidFill>
                  <a:srgbClr val="ff1482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6002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riguardano tutti i sistemi biologici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093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72c"/>
                </a:solidFill>
                <a:latin typeface="Comic Sans MS"/>
              </a:rPr>
              <a:t>la variabilità genetica è alla base dell’evolu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2c"/>
                </a:solidFill>
                <a:latin typeface="Comic Sans MS"/>
              </a:rPr>
              <a:t>Radiazioni ionizzanti e consegue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600" y="4800600"/>
            <a:ext cx="80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8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72c"/>
                </a:solidFill>
                <a:latin typeface="Comic Sans MS"/>
              </a:rPr>
              <a:t>Le radiazioni ionizzanti possono provocare rotture cromosomiche e quindi sia riarrangiamenti cromosomici che mutazioni puntiformi.</a:t>
            </a:r>
            <a:r>
              <a:rPr b="0" lang="it-IT" sz="2400" spc="-1" strike="noStrike">
                <a:solidFill>
                  <a:srgbClr val="ff072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2193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radiazioni ionizzanti penetrano nei tessuti in notevole profondità. Nel loro percorso collidono con gli  atomi che incontrano e determinano il rilascio di elettroni e la formazione di ioni carichi positivamente. Questi collidono con altre molecole e quindi si liberano ulteriori elettroni e così via. Si forma quindi un cono di ioni lungo il percorso di ogni raggio ad alta energia attraverso i tessuti vive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0" y="685440"/>
            <a:ext cx="4572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Radiazioni non  ionizzanti e ri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82880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 raggi UV inducono la formazione di dimeri di timina adiacenti nel DNA; questo modifica la conformazione della doppia el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a distorsione può essere riparata mediante fotoreattivazione e per escissione (a sinistr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9840" y="946080"/>
            <a:ext cx="186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2361960" y="685080"/>
            <a:ext cx="119160" cy="424080"/>
          </a:xfrm>
          <a:custGeom>
            <a:avLst/>
            <a:gdLst>
              <a:gd name="textAreaLeft" fmla="*/ 0 w 119160"/>
              <a:gd name="textAreaRight" fmla="*/ 83520 w 119160"/>
              <a:gd name="textAreaTop" fmla="*/ 17640 h 424080"/>
              <a:gd name="textAreaBottom" fmla="*/ 4064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9460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800" y="903240"/>
            <a:ext cx="38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GCTCATATGGACA T T AGTCGGTTCATGG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980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60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644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588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8272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216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8900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9844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0508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0192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1136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0820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764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2740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2568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3196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3996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3860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4624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6720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6404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348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7032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7976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7660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8604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3080" y="1349280"/>
            <a:ext cx="38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GAGTATACCTGT A A TCAGCCAAGTA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960" y="1652760"/>
            <a:ext cx="384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2057400"/>
            <a:ext cx="17524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6640" y="2022480"/>
            <a:ext cx="38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GCTCATATGGACA T T AGTCGGTTCATGG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044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844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672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472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300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8100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7964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8728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9392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9220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0020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9848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0648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1768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452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2080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3060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2744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3688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5604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5288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232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916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6860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6544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7524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1920" y="2467080"/>
            <a:ext cx="38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GAGTATACCTGT A A TCAGCCAAGTA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800" y="2766960"/>
            <a:ext cx="38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76480" y="193212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71760" y="1927080"/>
            <a:ext cx="4284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8960" y="3303720"/>
            <a:ext cx="122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0800" y="3303720"/>
            <a:ext cx="16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3260880"/>
            <a:ext cx="36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GCTCATATGG          CGGTTCATGGTTG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28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56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356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6184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6984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848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7648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7476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276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8104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1000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1944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628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2572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488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4316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5116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4980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5744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5608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6408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120" y="3733920"/>
            <a:ext cx="38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GAGTATACCTGT A A TCAGCCAAGTA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4640" y="3986280"/>
            <a:ext cx="386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4440" y="4551480"/>
            <a:ext cx="122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4560" y="4551480"/>
            <a:ext cx="183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2560" y="4508640"/>
            <a:ext cx="350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GCTCATATGGACATAGCGGTTCATGG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440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240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5104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5868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732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6532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6360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6988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7788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6852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7796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7480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8460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0340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0204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1004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832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1632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460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2260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4760" y="495288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GAGTATACCTGTATCAGCCAAGTA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0120" y="5237280"/>
            <a:ext cx="351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63640" y="4551480"/>
            <a:ext cx="4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7336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8280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7964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8908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9708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1768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9220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3280" y="5618160"/>
            <a:ext cx="132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618160"/>
            <a:ext cx="185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1400" y="5575320"/>
            <a:ext cx="350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GCTCATATGGACATAGCGGTTCATGG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324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124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988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4788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4616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5416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244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6044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5908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6672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6536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5736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6716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400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7344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9260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9088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9888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9716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516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0344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1144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3600" y="6019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GAGTATACCTGTATCAGCCAAGTA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0400" y="6324480"/>
            <a:ext cx="344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5618160"/>
            <a:ext cx="48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6364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7164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6992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7792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8592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0652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8284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6520" y="609480"/>
            <a:ext cx="228600" cy="152640"/>
          </a:xfrm>
          <a:prstGeom prst="lightningBolt">
            <a:avLst/>
          </a:prstGeom>
          <a:solidFill>
            <a:srgbClr val="ff0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31680" y="533520"/>
            <a:ext cx="4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69360" y="533520"/>
            <a:ext cx="20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rmazione di dime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43200" y="16765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2480" y="175248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ndonucle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5320" y="28954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onucle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2440" y="4191120"/>
            <a:ext cx="16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NA polimerasi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4880" y="529920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g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2819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09680" y="3994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257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03760" y="3517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569960" y="35244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9056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49400" y="11556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1143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49400" y="22986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7400" y="2286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2c"/>
                </a:solidFill>
                <a:latin typeface="Comic Sans MS"/>
              </a:rPr>
              <a:t>Riparazione del DNA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1905120"/>
            <a:ext cx="85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3399"/>
                </a:solidFill>
                <a:latin typeface="Comic Sans MS"/>
              </a:rPr>
              <a:t>Xeroderma pigmentosum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malattia autosomica recessiv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strema sensibilità della pelle ai raggi UV ed elevata incidenza di carcinomi della pelle e melano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Caus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ncapacità di riparare i danni al DNA provocati dai raggi UV per l’inabilità ad operare il taglio iniziale che porta alla eliminazione del dimero di timina ed alla sua riparazione.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2c"/>
                </a:solidFill>
                <a:latin typeface="Comic Sans MS"/>
              </a:rPr>
              <a:t>Origine delle mutazioni sponta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5040" y="1469880"/>
            <a:ext cx="8321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Non esiste una quantità adeguata di radiazioni di fondo (raggi cosmici, materiali radioattivi terrestri) sufficiente per spiegare i tassi di mutazione osservati nella maggior parte degli organismi. Ad esempio, in 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, il tasso di mutazione spontanea è circa 1300 volte quello atteso considerando l’intensità delle radiazioni naturali e quindi hanno piccola responsabilità nella determinazione delle mutazioni spontan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28440" y="53352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Carico da radiazione naturale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05680" y="1295280"/>
            <a:ext cx="7404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orgente di radia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dose in mSv/an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diazioni natural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diazione cosmic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dioisotopi nel corp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0,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tre radiazion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0,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diazioni dovute alla civilizzazio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0,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sami radioscopic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diofarmac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02-,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rradiazione da raggi X dovuti a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04-,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elevisione, radiazione da edific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0,04-,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quadramento da test armi nuclear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0,04-,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entrali nuclear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ere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004-,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TOTALE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ca. 1,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04760" y="7617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2c"/>
                </a:solidFill>
                <a:latin typeface="Comic Sans MS"/>
              </a:rPr>
              <a:t>Cause delle mutazioni sponta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La natura del processo di  mutazione spontanea va cercata   all’interno della cellula e dell’organis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81440" y="3581280"/>
            <a:ext cx="4062240" cy="249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72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2c"/>
                </a:solidFill>
                <a:latin typeface="Comic Sans MS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72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2c"/>
                </a:solidFill>
                <a:latin typeface="Comic Sans MS"/>
              </a:rPr>
              <a:t>E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72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2c"/>
                </a:solidFill>
                <a:latin typeface="Comic Sans MS"/>
              </a:rPr>
              <a:t>GENI MUT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72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2c"/>
                </a:solidFill>
                <a:latin typeface="Comic Sans MS"/>
              </a:rPr>
              <a:t>ELEMENTI TRASPON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880" y="3657600"/>
            <a:ext cx="37339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Drosophila maschi e femmine dello stesso ceppo hanno = tasso di mutazione, mentre individui di ceppi diversi hanno TM differ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428640" y="53316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Elementi trasponibili (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2280" y="563868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8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8"/>
                </a:solidFill>
                <a:latin typeface="Comic Sans MS"/>
              </a:rPr>
              <a:t>Le mutazioni da ET sono molto elevate; per esemp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8"/>
                </a:solidFill>
                <a:latin typeface="Comic Sans MS"/>
              </a:rPr>
              <a:t>nel granturco i mutanti </a:t>
            </a:r>
            <a:r>
              <a:rPr b="1" i="1" lang="it-IT" sz="2000" spc="-1" strike="noStrike">
                <a:solidFill>
                  <a:srgbClr val="ff0008"/>
                </a:solidFill>
                <a:latin typeface="Comic Sans MS"/>
              </a:rPr>
              <a:t>waxy</a:t>
            </a:r>
            <a:r>
              <a:rPr b="1" lang="it-IT" sz="2000" spc="-1" strike="noStrike">
                <a:solidFill>
                  <a:srgbClr val="ff0008"/>
                </a:solidFill>
                <a:latin typeface="Comic Sans MS"/>
              </a:rPr>
              <a:t> naturali da ET sono circa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320" y="106668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Elementi genetici che si spostano nel genoma. Se si inseriscono in/o nelle vicinanze di un gene lo inattiv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600200" y="2205000"/>
            <a:ext cx="3762360" cy="330120"/>
            <a:chOff x="1600200" y="2205000"/>
            <a:chExt cx="3762360" cy="330120"/>
          </a:xfrm>
        </p:grpSpPr>
        <p:sp>
          <p:nvSpPr>
            <p:cNvPr id="478" name=""/>
            <p:cNvSpPr/>
            <p:nvPr/>
          </p:nvSpPr>
          <p:spPr>
            <a:xfrm>
              <a:off x="2151360" y="2282400"/>
              <a:ext cx="672480" cy="184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74160" y="2282400"/>
              <a:ext cx="1455120" cy="184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79600" y="2282400"/>
              <a:ext cx="672480" cy="184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8520" y="2205000"/>
              <a:ext cx="29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08640" y="2525400"/>
              <a:ext cx="28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96000" y="2214360"/>
              <a:ext cx="29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36120" y="2535120"/>
              <a:ext cx="28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20040" y="2370240"/>
              <a:ext cx="542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00200" y="2370240"/>
              <a:ext cx="542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3185640" y="1828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8"/>
                </a:solidFill>
                <a:latin typeface="Comic Sans MS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935440" y="3122640"/>
            <a:ext cx="785520" cy="174600"/>
            <a:chOff x="2935440" y="3122640"/>
            <a:chExt cx="785520" cy="174600"/>
          </a:xfrm>
        </p:grpSpPr>
        <p:sp>
          <p:nvSpPr>
            <p:cNvPr id="489" name=""/>
            <p:cNvSpPr/>
            <p:nvPr/>
          </p:nvSpPr>
          <p:spPr>
            <a:xfrm>
              <a:off x="3107520" y="3122640"/>
              <a:ext cx="447120" cy="1746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54640" y="3205080"/>
              <a:ext cx="166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35440" y="3205080"/>
              <a:ext cx="166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600200" y="3838680"/>
            <a:ext cx="1119240" cy="164880"/>
            <a:chOff x="1600200" y="3838680"/>
            <a:chExt cx="1119240" cy="164880"/>
          </a:xfrm>
        </p:grpSpPr>
        <p:sp>
          <p:nvSpPr>
            <p:cNvPr id="493" name=""/>
            <p:cNvSpPr/>
            <p:nvPr/>
          </p:nvSpPr>
          <p:spPr>
            <a:xfrm>
              <a:off x="1772640" y="3838680"/>
              <a:ext cx="780120" cy="1648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00200" y="3921480"/>
              <a:ext cx="1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52760" y="3921480"/>
              <a:ext cx="1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619440" y="3838680"/>
            <a:ext cx="1047960" cy="176040"/>
            <a:chOff x="3619440" y="3838680"/>
            <a:chExt cx="1047960" cy="176040"/>
          </a:xfrm>
        </p:grpSpPr>
        <p:sp>
          <p:nvSpPr>
            <p:cNvPr id="497" name=""/>
            <p:cNvSpPr/>
            <p:nvPr/>
          </p:nvSpPr>
          <p:spPr>
            <a:xfrm>
              <a:off x="3619440" y="3838680"/>
              <a:ext cx="448560" cy="1760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12480" y="3838680"/>
              <a:ext cx="448560" cy="1760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36200" y="3838680"/>
              <a:ext cx="331200" cy="1760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792440" y="4565520"/>
            <a:ext cx="779400" cy="8748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040280" y="5083200"/>
            <a:ext cx="428400" cy="71280"/>
          </a:xfrm>
          <a:custGeom>
            <a:avLst/>
            <a:gdLst/>
            <a:ahLst/>
            <a:rect l="l" t="t" r="r" b="b"/>
            <a:pathLst>
              <a:path w="1096" h="77">
                <a:moveTo>
                  <a:pt x="0" y="52"/>
                </a:moveTo>
                <a:cubicBezTo>
                  <a:pt x="58" y="26"/>
                  <a:pt x="116" y="0"/>
                  <a:pt x="160" y="4"/>
                </a:cubicBezTo>
                <a:cubicBezTo>
                  <a:pt x="204" y="8"/>
                  <a:pt x="224" y="75"/>
                  <a:pt x="264" y="76"/>
                </a:cubicBezTo>
                <a:cubicBezTo>
                  <a:pt x="304" y="77"/>
                  <a:pt x="361" y="12"/>
                  <a:pt x="400" y="12"/>
                </a:cubicBezTo>
                <a:cubicBezTo>
                  <a:pt x="439" y="12"/>
                  <a:pt x="457" y="77"/>
                  <a:pt x="496" y="76"/>
                </a:cubicBezTo>
                <a:cubicBezTo>
                  <a:pt x="535" y="75"/>
                  <a:pt x="593" y="4"/>
                  <a:pt x="632" y="4"/>
                </a:cubicBezTo>
                <a:cubicBezTo>
                  <a:pt x="671" y="4"/>
                  <a:pt x="689" y="75"/>
                  <a:pt x="728" y="76"/>
                </a:cubicBezTo>
                <a:cubicBezTo>
                  <a:pt x="767" y="77"/>
                  <a:pt x="823" y="13"/>
                  <a:pt x="864" y="12"/>
                </a:cubicBezTo>
                <a:cubicBezTo>
                  <a:pt x="905" y="11"/>
                  <a:pt x="937" y="69"/>
                  <a:pt x="976" y="68"/>
                </a:cubicBezTo>
                <a:cubicBezTo>
                  <a:pt x="1015" y="67"/>
                  <a:pt x="1077" y="13"/>
                  <a:pt x="1096" y="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43480" y="5079960"/>
            <a:ext cx="357120" cy="101520"/>
          </a:xfrm>
          <a:custGeom>
            <a:avLst/>
            <a:gdLst/>
            <a:ahLst/>
            <a:rect l="l" t="t" r="r" b="b"/>
            <a:pathLst>
              <a:path w="1096" h="77">
                <a:moveTo>
                  <a:pt x="0" y="52"/>
                </a:moveTo>
                <a:cubicBezTo>
                  <a:pt x="58" y="26"/>
                  <a:pt x="116" y="0"/>
                  <a:pt x="160" y="4"/>
                </a:cubicBezTo>
                <a:cubicBezTo>
                  <a:pt x="204" y="8"/>
                  <a:pt x="224" y="75"/>
                  <a:pt x="264" y="76"/>
                </a:cubicBezTo>
                <a:cubicBezTo>
                  <a:pt x="304" y="77"/>
                  <a:pt x="361" y="12"/>
                  <a:pt x="400" y="12"/>
                </a:cubicBezTo>
                <a:cubicBezTo>
                  <a:pt x="439" y="12"/>
                  <a:pt x="457" y="77"/>
                  <a:pt x="496" y="76"/>
                </a:cubicBezTo>
                <a:cubicBezTo>
                  <a:pt x="535" y="75"/>
                  <a:pt x="593" y="4"/>
                  <a:pt x="632" y="4"/>
                </a:cubicBezTo>
                <a:cubicBezTo>
                  <a:pt x="671" y="4"/>
                  <a:pt x="689" y="75"/>
                  <a:pt x="728" y="76"/>
                </a:cubicBezTo>
                <a:cubicBezTo>
                  <a:pt x="767" y="77"/>
                  <a:pt x="823" y="13"/>
                  <a:pt x="864" y="12"/>
                </a:cubicBezTo>
                <a:cubicBezTo>
                  <a:pt x="905" y="11"/>
                  <a:pt x="937" y="69"/>
                  <a:pt x="976" y="68"/>
                </a:cubicBezTo>
                <a:cubicBezTo>
                  <a:pt x="1015" y="67"/>
                  <a:pt x="1077" y="13"/>
                  <a:pt x="1096" y="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685880" y="5049720"/>
            <a:ext cx="1260000" cy="114120"/>
            <a:chOff x="1685880" y="5049720"/>
            <a:chExt cx="1260000" cy="114120"/>
          </a:xfrm>
        </p:grpSpPr>
        <p:sp>
          <p:nvSpPr>
            <p:cNvPr id="504" name=""/>
            <p:cNvSpPr/>
            <p:nvPr/>
          </p:nvSpPr>
          <p:spPr>
            <a:xfrm>
              <a:off x="1685880" y="5060160"/>
              <a:ext cx="662400" cy="103680"/>
            </a:xfrm>
            <a:custGeom>
              <a:avLst/>
              <a:gdLst/>
              <a:ahLst/>
              <a:rect l="l" t="t" r="r" b="b"/>
              <a:pathLst>
                <a:path w="1096" h="77">
                  <a:moveTo>
                    <a:pt x="0" y="52"/>
                  </a:moveTo>
                  <a:cubicBezTo>
                    <a:pt x="58" y="26"/>
                    <a:pt x="116" y="0"/>
                    <a:pt x="160" y="4"/>
                  </a:cubicBezTo>
                  <a:cubicBezTo>
                    <a:pt x="204" y="8"/>
                    <a:pt x="224" y="75"/>
                    <a:pt x="264" y="76"/>
                  </a:cubicBezTo>
                  <a:cubicBezTo>
                    <a:pt x="304" y="77"/>
                    <a:pt x="361" y="12"/>
                    <a:pt x="400" y="12"/>
                  </a:cubicBezTo>
                  <a:cubicBezTo>
                    <a:pt x="439" y="12"/>
                    <a:pt x="457" y="77"/>
                    <a:pt x="496" y="76"/>
                  </a:cubicBezTo>
                  <a:cubicBezTo>
                    <a:pt x="535" y="75"/>
                    <a:pt x="593" y="4"/>
                    <a:pt x="632" y="4"/>
                  </a:cubicBezTo>
                  <a:cubicBezTo>
                    <a:pt x="671" y="4"/>
                    <a:pt x="689" y="75"/>
                    <a:pt x="728" y="76"/>
                  </a:cubicBezTo>
                  <a:cubicBezTo>
                    <a:pt x="767" y="77"/>
                    <a:pt x="823" y="13"/>
                    <a:pt x="864" y="12"/>
                  </a:cubicBezTo>
                  <a:cubicBezTo>
                    <a:pt x="905" y="11"/>
                    <a:pt x="937" y="69"/>
                    <a:pt x="976" y="68"/>
                  </a:cubicBezTo>
                  <a:cubicBezTo>
                    <a:pt x="1015" y="67"/>
                    <a:pt x="1077" y="13"/>
                    <a:pt x="1096" y="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83480" y="5049720"/>
              <a:ext cx="662400" cy="103680"/>
            </a:xfrm>
            <a:custGeom>
              <a:avLst/>
              <a:gdLst/>
              <a:ahLst/>
              <a:rect l="l" t="t" r="r" b="b"/>
              <a:pathLst>
                <a:path w="1096" h="77">
                  <a:moveTo>
                    <a:pt x="0" y="52"/>
                  </a:moveTo>
                  <a:cubicBezTo>
                    <a:pt x="58" y="26"/>
                    <a:pt x="116" y="0"/>
                    <a:pt x="160" y="4"/>
                  </a:cubicBezTo>
                  <a:cubicBezTo>
                    <a:pt x="204" y="8"/>
                    <a:pt x="224" y="75"/>
                    <a:pt x="264" y="76"/>
                  </a:cubicBezTo>
                  <a:cubicBezTo>
                    <a:pt x="304" y="77"/>
                    <a:pt x="361" y="12"/>
                    <a:pt x="400" y="12"/>
                  </a:cubicBezTo>
                  <a:cubicBezTo>
                    <a:pt x="439" y="12"/>
                    <a:pt x="457" y="77"/>
                    <a:pt x="496" y="76"/>
                  </a:cubicBezTo>
                  <a:cubicBezTo>
                    <a:pt x="535" y="75"/>
                    <a:pt x="593" y="4"/>
                    <a:pt x="632" y="4"/>
                  </a:cubicBezTo>
                  <a:cubicBezTo>
                    <a:pt x="671" y="4"/>
                    <a:pt x="689" y="75"/>
                    <a:pt x="728" y="76"/>
                  </a:cubicBezTo>
                  <a:cubicBezTo>
                    <a:pt x="767" y="77"/>
                    <a:pt x="823" y="13"/>
                    <a:pt x="864" y="12"/>
                  </a:cubicBezTo>
                  <a:cubicBezTo>
                    <a:pt x="905" y="11"/>
                    <a:pt x="937" y="69"/>
                    <a:pt x="976" y="68"/>
                  </a:cubicBezTo>
                  <a:cubicBezTo>
                    <a:pt x="1015" y="67"/>
                    <a:pt x="1077" y="13"/>
                    <a:pt x="1096" y="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699000" y="4587840"/>
            <a:ext cx="1046160" cy="98640"/>
            <a:chOff x="3699000" y="4587840"/>
            <a:chExt cx="1046160" cy="98640"/>
          </a:xfrm>
        </p:grpSpPr>
        <p:sp>
          <p:nvSpPr>
            <p:cNvPr id="507" name=""/>
            <p:cNvSpPr/>
            <p:nvPr/>
          </p:nvSpPr>
          <p:spPr>
            <a:xfrm>
              <a:off x="3699000" y="4587840"/>
              <a:ext cx="447840" cy="98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91680" y="4587840"/>
              <a:ext cx="447840" cy="986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14320" y="4587840"/>
              <a:ext cx="330840" cy="98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640400" y="3911760"/>
            <a:ext cx="16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57440" y="3932280"/>
            <a:ext cx="1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06920" y="2590920"/>
            <a:ext cx="18968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8"/>
                </a:solidFill>
                <a:latin typeface="Comic Sans MS"/>
              </a:rPr>
              <a:t>elemento geneti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8"/>
                </a:solidFill>
                <a:latin typeface="Comic Sans MS"/>
              </a:rPr>
              <a:t>trasponi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53000" y="351144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2880" y="420516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12960" y="523728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olipeptide at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30440" y="3330720"/>
            <a:ext cx="898560" cy="411120"/>
          </a:xfrm>
          <a:custGeom>
            <a:avLst/>
            <a:gdLst/>
            <a:ahLst/>
            <a:rect l="l" t="t" r="r" b="b"/>
            <a:pathLst>
              <a:path w="1105" h="304">
                <a:moveTo>
                  <a:pt x="969" y="0"/>
                </a:moveTo>
                <a:cubicBezTo>
                  <a:pt x="1037" y="45"/>
                  <a:pt x="1105" y="91"/>
                  <a:pt x="969" y="112"/>
                </a:cubicBezTo>
                <a:cubicBezTo>
                  <a:pt x="833" y="133"/>
                  <a:pt x="306" y="96"/>
                  <a:pt x="153" y="128"/>
                </a:cubicBezTo>
                <a:cubicBezTo>
                  <a:pt x="0" y="160"/>
                  <a:pt x="66" y="279"/>
                  <a:pt x="49" y="30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27520" y="3905280"/>
            <a:ext cx="396720" cy="109440"/>
          </a:xfrm>
          <a:prstGeom prst="rightArrow">
            <a:avLst>
              <a:gd name="adj1" fmla="val 50000"/>
              <a:gd name="adj2" fmla="val 90625"/>
            </a:avLst>
          </a:prstGeom>
          <a:gradFill rotWithShape="0">
            <a:gsLst>
              <a:gs pos="0">
                <a:srgbClr val="ff070b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79320" y="3537000"/>
            <a:ext cx="361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Segmento genico separato da un 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86280" y="422748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24640" y="5237280"/>
            <a:ext cx="270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olipeptide tronco</a:t>
            </a:r>
            <a:r>
              <a:rPr b="0" lang="en-US" sz="1600" spc="-1" strike="noStrike">
                <a:solidFill>
                  <a:srgbClr val="f0451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8"/>
                </a:solidFill>
                <a:latin typeface="Comic Sans MS"/>
              </a:rPr>
              <a:t>inat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04920" y="2513160"/>
            <a:ext cx="636840" cy="63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925440" y="2579760"/>
            <a:ext cx="855720" cy="6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8"/>
                </a:solidFill>
                <a:latin typeface="Comic Sans MS"/>
              </a:rPr>
              <a:t>Possiamo incrementare la frequenza di mutazi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60960" y="5851440"/>
            <a:ext cx="215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enet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7600" y="38466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mutageni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2362320"/>
            <a:ext cx="914400" cy="3886200"/>
          </a:xfrm>
          <a:custGeom>
            <a:avLst/>
            <a:gdLst>
              <a:gd name="textAreaLeft" fmla="*/ 584280 w 914400"/>
              <a:gd name="textAreaRight" fmla="*/ 914760 w 9144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380988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s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190512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im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8"/>
                </a:solidFill>
                <a:latin typeface="Comic Sans MS"/>
              </a:rPr>
              <a:t>Mutageni chimici e loro 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800" y="1143000"/>
            <a:ext cx="69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Nome comune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azione, proprietà partico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1600200"/>
            <a:ext cx="88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8"/>
                </a:solidFill>
                <a:latin typeface="Comic Sans MS"/>
              </a:rPr>
              <a:t>A. AGENTI ALCHILANTI:       donano gruppi alchilici ad altre molec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Gas di mostard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(iprite)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trans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M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tilazione; transizioni G:C-A: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E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tilazione; bifunzionale lega i due fila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el DNA provocando rotture ed aberrazio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NTG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eamin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-8640" y="3657600"/>
            <a:ext cx="85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8"/>
                </a:solidFill>
                <a:latin typeface="Comic Sans MS"/>
              </a:rPr>
              <a:t>B. ANALOGHI DI BASE: incorporati durante la repl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5-BU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nalogo della timina; transizioni per tautom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5-BrDU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nalogo della adenina;transizioni per tautom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-AP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transizioni per tautom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15177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5751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440" y="5181480"/>
            <a:ext cx="900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8"/>
                </a:solidFill>
                <a:latin typeface="Comic Sans MS"/>
              </a:rPr>
              <a:t>C. COLORANTI ACRIDINICI: intercalanti, distorcono la struttura del DNA; </a:t>
            </a:r>
            <a:r>
              <a:rPr b="1" lang="it-IT" sz="1800" spc="-1" strike="noStrike">
                <a:solidFill>
                  <a:srgbClr val="ff0008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08"/>
                </a:solidFill>
                <a:latin typeface="Comic Sans MS"/>
              </a:rPr>
              <a:t>alla replicazione si ha l’inserzione o la delezione di una o più b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roflavin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fasamento del modulo di let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rancio di acridin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fasamento del modulo di let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517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2520" y="609480"/>
            <a:ext cx="4038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714"/>
                </a:solidFill>
                <a:latin typeface="Comic Sans MS"/>
              </a:rPr>
              <a:t>ClB:  </a:t>
            </a: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test per la selezione di mutazioni X-linked indotte</a:t>
            </a:r>
            <a:r>
              <a:rPr b="1" i="1" lang="it-IT" sz="2800" spc="-1" strike="noStrike">
                <a:solidFill>
                  <a:srgbClr val="ff0714"/>
                </a:solidFill>
                <a:latin typeface="Comic Sans MS"/>
              </a:rPr>
              <a:t> in D.melanog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5160" y="100332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251160" y="1015920"/>
            <a:ext cx="343080" cy="762120"/>
            <a:chOff x="3251160" y="1015920"/>
            <a:chExt cx="343080" cy="762120"/>
          </a:xfrm>
        </p:grpSpPr>
        <p:sp>
          <p:nvSpPr>
            <p:cNvPr id="550" name=""/>
            <p:cNvSpPr/>
            <p:nvPr/>
          </p:nvSpPr>
          <p:spPr>
            <a:xfrm>
              <a:off x="3251160" y="1155600"/>
              <a:ext cx="114480" cy="622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51160" y="1015920"/>
              <a:ext cx="343080" cy="546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031840" y="99072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6325200">
            <a:off x="3110760" y="660240"/>
            <a:ext cx="533520" cy="266760"/>
          </a:xfrm>
          <a:prstGeom prst="lightningBolt">
            <a:avLst/>
          </a:prstGeom>
          <a:solidFill>
            <a:srgbClr val="ff0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06520" y="246384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803240" y="977760"/>
            <a:ext cx="114480" cy="774360"/>
            <a:chOff x="1803240" y="977760"/>
            <a:chExt cx="114480" cy="774360"/>
          </a:xfrm>
        </p:grpSpPr>
        <p:sp>
          <p:nvSpPr>
            <p:cNvPr id="556" name=""/>
            <p:cNvSpPr/>
            <p:nvPr/>
          </p:nvSpPr>
          <p:spPr>
            <a:xfrm>
              <a:off x="1803240" y="977760"/>
              <a:ext cx="11448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03240" y="1282320"/>
              <a:ext cx="11448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978200" y="2413080"/>
            <a:ext cx="11412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bff00"/>
              </a:gs>
              <a:gs pos="50000">
                <a:srgbClr val="ff4911"/>
              </a:gs>
              <a:gs pos="100000">
                <a:srgbClr val="fb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181240" y="2425680"/>
            <a:ext cx="114120" cy="774360"/>
            <a:chOff x="2181240" y="2425680"/>
            <a:chExt cx="114120" cy="774360"/>
          </a:xfrm>
        </p:grpSpPr>
        <p:sp>
          <p:nvSpPr>
            <p:cNvPr id="560" name=""/>
            <p:cNvSpPr/>
            <p:nvPr/>
          </p:nvSpPr>
          <p:spPr>
            <a:xfrm>
              <a:off x="2181240" y="2425680"/>
              <a:ext cx="11412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81240" y="2730240"/>
              <a:ext cx="1141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184560" y="2489040"/>
            <a:ext cx="114120" cy="774360"/>
            <a:chOff x="3184560" y="2489040"/>
            <a:chExt cx="114120" cy="774360"/>
          </a:xfrm>
        </p:grpSpPr>
        <p:sp>
          <p:nvSpPr>
            <p:cNvPr id="563" name=""/>
            <p:cNvSpPr/>
            <p:nvPr/>
          </p:nvSpPr>
          <p:spPr>
            <a:xfrm>
              <a:off x="3184560" y="2489040"/>
              <a:ext cx="11412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84560" y="2793600"/>
              <a:ext cx="1141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413160" y="2489040"/>
            <a:ext cx="342720" cy="762120"/>
            <a:chOff x="3413160" y="2489040"/>
            <a:chExt cx="342720" cy="762120"/>
          </a:xfrm>
        </p:grpSpPr>
        <p:sp>
          <p:nvSpPr>
            <p:cNvPr id="566" name=""/>
            <p:cNvSpPr/>
            <p:nvPr/>
          </p:nvSpPr>
          <p:spPr>
            <a:xfrm>
              <a:off x="3413160" y="2628720"/>
              <a:ext cx="114120" cy="622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13160" y="2489040"/>
              <a:ext cx="342720" cy="546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4226040" y="2540160"/>
            <a:ext cx="11412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441680" y="2540160"/>
            <a:ext cx="343080" cy="761400"/>
            <a:chOff x="4441680" y="2540160"/>
            <a:chExt cx="343080" cy="761400"/>
          </a:xfrm>
        </p:grpSpPr>
        <p:sp>
          <p:nvSpPr>
            <p:cNvPr id="570" name=""/>
            <p:cNvSpPr/>
            <p:nvPr/>
          </p:nvSpPr>
          <p:spPr>
            <a:xfrm>
              <a:off x="4441680" y="2679480"/>
              <a:ext cx="114480" cy="622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41680" y="2540160"/>
              <a:ext cx="343080" cy="5457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340000" y="4152960"/>
            <a:ext cx="11412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bff00"/>
              </a:gs>
              <a:gs pos="50000">
                <a:srgbClr val="ff4911"/>
              </a:gs>
              <a:gs pos="100000">
                <a:srgbClr val="fb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543040" y="4165560"/>
            <a:ext cx="114480" cy="774360"/>
            <a:chOff x="2543040" y="4165560"/>
            <a:chExt cx="114480" cy="774360"/>
          </a:xfrm>
        </p:grpSpPr>
        <p:sp>
          <p:nvSpPr>
            <p:cNvPr id="574" name=""/>
            <p:cNvSpPr/>
            <p:nvPr/>
          </p:nvSpPr>
          <p:spPr>
            <a:xfrm>
              <a:off x="2543040" y="4165560"/>
              <a:ext cx="11448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43040" y="4470120"/>
              <a:ext cx="11448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448160" y="414036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664160" y="4140360"/>
            <a:ext cx="342720" cy="761400"/>
            <a:chOff x="4664160" y="4140360"/>
            <a:chExt cx="342720" cy="761400"/>
          </a:xfrm>
        </p:grpSpPr>
        <p:sp>
          <p:nvSpPr>
            <p:cNvPr id="578" name=""/>
            <p:cNvSpPr/>
            <p:nvPr/>
          </p:nvSpPr>
          <p:spPr>
            <a:xfrm>
              <a:off x="4664160" y="4279680"/>
              <a:ext cx="114120" cy="622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64160" y="4140360"/>
              <a:ext cx="342720" cy="5457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933560" y="547380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692360" y="5486400"/>
            <a:ext cx="114120" cy="774360"/>
            <a:chOff x="1692360" y="5486400"/>
            <a:chExt cx="114120" cy="774360"/>
          </a:xfrm>
        </p:grpSpPr>
        <p:sp>
          <p:nvSpPr>
            <p:cNvPr id="582" name=""/>
            <p:cNvSpPr/>
            <p:nvPr/>
          </p:nvSpPr>
          <p:spPr>
            <a:xfrm>
              <a:off x="1692360" y="5486400"/>
              <a:ext cx="11412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92360" y="5790960"/>
              <a:ext cx="1141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3048120" y="5460840"/>
            <a:ext cx="11412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bff00"/>
              </a:gs>
              <a:gs pos="50000">
                <a:srgbClr val="ff4911"/>
              </a:gs>
              <a:gs pos="100000">
                <a:srgbClr val="fb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89320" y="5448240"/>
            <a:ext cx="11412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80160" y="544824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bff00"/>
              </a:gs>
              <a:gs pos="50000">
                <a:srgbClr val="ff4911"/>
              </a:gs>
              <a:gs pos="100000">
                <a:srgbClr val="fb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934320" y="5435640"/>
            <a:ext cx="342720" cy="762120"/>
            <a:chOff x="6934320" y="5435640"/>
            <a:chExt cx="342720" cy="762120"/>
          </a:xfrm>
        </p:grpSpPr>
        <p:sp>
          <p:nvSpPr>
            <p:cNvPr id="588" name=""/>
            <p:cNvSpPr/>
            <p:nvPr/>
          </p:nvSpPr>
          <p:spPr>
            <a:xfrm>
              <a:off x="6934320" y="5575320"/>
              <a:ext cx="114120" cy="622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435640"/>
              <a:ext cx="342720" cy="546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386720" y="115560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32760" y="26668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?     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05840" y="265428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77920" y="246384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80640" y="267984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86920" y="3206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155960" y="6778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6360" y="260820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19960" y="42670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incr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88080" y="570240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27440" y="56196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876920" y="5410080"/>
            <a:ext cx="114120" cy="774360"/>
            <a:chOff x="4876920" y="5410080"/>
            <a:chExt cx="114120" cy="774360"/>
          </a:xfrm>
        </p:grpSpPr>
        <p:sp>
          <p:nvSpPr>
            <p:cNvPr id="602" name=""/>
            <p:cNvSpPr/>
            <p:nvPr/>
          </p:nvSpPr>
          <p:spPr>
            <a:xfrm>
              <a:off x="4876920" y="5410080"/>
              <a:ext cx="11412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6920" y="5714640"/>
              <a:ext cx="1141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105520" y="5410080"/>
            <a:ext cx="342720" cy="762120"/>
            <a:chOff x="5105520" y="5410080"/>
            <a:chExt cx="342720" cy="762120"/>
          </a:xfrm>
        </p:grpSpPr>
        <p:sp>
          <p:nvSpPr>
            <p:cNvPr id="605" name=""/>
            <p:cNvSpPr/>
            <p:nvPr/>
          </p:nvSpPr>
          <p:spPr>
            <a:xfrm>
              <a:off x="5105520" y="5549760"/>
              <a:ext cx="114120" cy="622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05520" y="5410080"/>
              <a:ext cx="342720" cy="546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498200" y="557532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79280" y="61279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21320" y="56707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311880" y="5321160"/>
            <a:ext cx="1079640" cy="1079640"/>
          </a:xfrm>
          <a:prstGeom prst="rect">
            <a:avLst/>
          </a:prstGeom>
          <a:noFill/>
          <a:ln w="19080">
            <a:solidFill>
              <a:srgbClr val="ff4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752480" y="2286000"/>
            <a:ext cx="911520" cy="990720"/>
          </a:xfrm>
          <a:prstGeom prst="rect">
            <a:avLst/>
          </a:prstGeom>
          <a:noFill/>
          <a:ln w="19080">
            <a:solidFill>
              <a:srgbClr val="ff4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57400" y="4038480"/>
            <a:ext cx="968400" cy="990720"/>
          </a:xfrm>
          <a:prstGeom prst="rect">
            <a:avLst/>
          </a:prstGeom>
          <a:noFill/>
          <a:ln w="19080">
            <a:solidFill>
              <a:srgbClr val="ff4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743200" y="5334120"/>
            <a:ext cx="1066680" cy="1066680"/>
          </a:xfrm>
          <a:prstGeom prst="rect">
            <a:avLst/>
          </a:prstGeom>
          <a:noFill/>
          <a:ln w="19080">
            <a:solidFill>
              <a:srgbClr val="ff4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18760" y="1065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15760" y="429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83760" y="43434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?     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410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sso di mu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7181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QUENZA DI MUTAZIONE= numero di eventi di un tipo di mutazione(frazione di cellule o individui di una popol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371600"/>
            <a:ext cx="86104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ta’ di un particolare  tipo di mutazione in funzione del temp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 mutazioni per coppia di nucleotidi per generazione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so e’ influenzato dalla “costituzione” genetica dell’org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chi e femmine dello tesso ceppo di Drosophila hanno lo stesso TM,mentre ceppi diversi n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3809880" y="1257480"/>
            <a:ext cx="5292720" cy="51274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8"/>
                </a:solidFill>
                <a:latin typeface="Comic Sans MS"/>
              </a:rPr>
              <a:t>Azione mutagena dei raggi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280" y="1676520"/>
            <a:ext cx="3657600" cy="3751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numero delle mutazioni legate al sesso aumenta </a:t>
            </a:r>
            <a:r>
              <a:rPr b="1" lang="it-IT" sz="2400" spc="-1" strike="noStrike" u="sng">
                <a:solidFill>
                  <a:srgbClr val="ff0008"/>
                </a:solidFill>
                <a:uFillTx/>
                <a:latin typeface="Comic Sans MS"/>
              </a:rPr>
              <a:t>linearmente</a:t>
            </a:r>
            <a:r>
              <a:rPr b="1" lang="it-IT" sz="2400" spc="-1" strike="noStrike">
                <a:solidFill>
                  <a:srgbClr val="ff0008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n la dose somminist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numero di mutazioni è </a:t>
            </a:r>
            <a:r>
              <a:rPr b="1" lang="it-IT" sz="2400" spc="-1" strike="noStrike" u="sng">
                <a:solidFill>
                  <a:srgbClr val="ff0008"/>
                </a:solidFill>
                <a:uFillTx/>
                <a:latin typeface="Comic Sans MS"/>
              </a:rPr>
              <a:t>cumu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304920" y="533520"/>
            <a:ext cx="3754080" cy="6324480"/>
            <a:chOff x="304920" y="533520"/>
            <a:chExt cx="3754080" cy="6324480"/>
          </a:xfrm>
        </p:grpSpPr>
        <p:pic>
          <p:nvPicPr>
            <p:cNvPr id="631" name="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355104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585240" y="4187520"/>
              <a:ext cx="47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 flipV="1">
            <a:off x="2743200" y="518112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86200" y="68544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Incrocio disgenico </a:t>
            </a:r>
            <a:br>
              <a:rPr sz="2800"/>
            </a:b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promuove la mobilizzazione </a:t>
            </a:r>
            <a:br>
              <a:rPr sz="2800"/>
            </a:b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dell’elemento trasponibil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05320" y="3200400"/>
            <a:ext cx="53337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8"/>
                </a:solidFill>
                <a:latin typeface="Comic Sans MS"/>
              </a:rPr>
              <a:t>conseguen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8"/>
                </a:solidFill>
                <a:latin typeface="Comic Sans MS"/>
              </a:rPr>
              <a:t>- sterilit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8"/>
                </a:solidFill>
                <a:latin typeface="Comic Sans MS"/>
              </a:rPr>
              <a:t>- alta frequenza di mutazioni - alterazioni cromosomiche  - non disgiun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Tassi di mutazione sponta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73400" y="28353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45000" y="357984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89520" y="3630600"/>
            <a:ext cx="183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330200"/>
            <a:ext cx="90075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organism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gene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ass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Zea may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Sh&gt;sh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gene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Su&gt;su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gene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D. melanogaster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it-IT" sz="18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&gt; 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1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bw</a:t>
            </a:r>
            <a:r>
              <a:rPr b="1" i="1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&gt;bw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Mus musculus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D &gt; d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Homo sapiens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emofilia 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distrofia Duchenn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acondroplasi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7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corea di Huntinghton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retinoblastoma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neurofibromatosi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9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Cause delle mutazioni sponta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0160" y="198108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99"/>
                </a:solidFill>
                <a:latin typeface="Comic Sans MS"/>
              </a:rPr>
              <a:t>1. errori nella repl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9880" y="2819520"/>
            <a:ext cx="805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2. tautomeria: modificazioni spontanee ed occasion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delle basi del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3680" y="397836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99"/>
                </a:solidFill>
                <a:latin typeface="Comic Sans MS"/>
              </a:rPr>
              <a:t>3. errori del crossing over durante la mei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7760" y="481644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4. radi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120" y="5638680"/>
            <a:ext cx="80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99"/>
                </a:solidFill>
                <a:latin typeface="Comic Sans MS"/>
              </a:rPr>
              <a:t>5. destabilizzazione indotta dagli elementi traspon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Errori nella replic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28520" y="3124080"/>
            <a:ext cx="50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enoma umano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,75 x 10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b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04920" y="1446120"/>
            <a:ext cx="8381880" cy="1312920"/>
            <a:chOff x="304920" y="1446120"/>
            <a:chExt cx="8381880" cy="1312920"/>
          </a:xfrm>
        </p:grpSpPr>
        <p:sp>
          <p:nvSpPr>
            <p:cNvPr id="83" name=""/>
            <p:cNvSpPr/>
            <p:nvPr/>
          </p:nvSpPr>
          <p:spPr>
            <a:xfrm>
              <a:off x="304920" y="1446120"/>
              <a:ext cx="838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DNA polimerasi III (5’      3’) compie errori con frequenza di 1/10</a:t>
              </a:r>
              <a:r>
                <a:rPr b="1" lang="it-IT" sz="2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 bas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Sistema di controllo (3’      5’) riduce gli errori 1/10</a:t>
              </a:r>
              <a:r>
                <a:rPr b="1" lang="it-IT" sz="2800" spc="-1" strike="noStrike" baseline="30000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86200" y="1676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86200" y="24382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06040" y="3997440"/>
            <a:ext cx="7619400" cy="520560"/>
            <a:chOff x="806040" y="3997440"/>
            <a:chExt cx="7619400" cy="520560"/>
          </a:xfrm>
        </p:grpSpPr>
        <p:sp>
          <p:nvSpPr>
            <p:cNvPr id="87" name=""/>
            <p:cNvSpPr/>
            <p:nvPr/>
          </p:nvSpPr>
          <p:spPr>
            <a:xfrm>
              <a:off x="806040" y="3997440"/>
              <a:ext cx="76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Ad ogni ciclo replicativo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5,5 x 10</a:t>
              </a:r>
              <a:r>
                <a:rPr b="1" lang="it-IT" sz="2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it-IT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mutazio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9720" y="42670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371600" y="4967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gni secondo si replicano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ellu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38680" y="68580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Tautom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1219320"/>
            <a:ext cx="3505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e basi possono passare dallo stato chetonico </a:t>
            </a:r>
            <a:r>
              <a:rPr b="1" lang="it-IT" sz="3200" spc="-1" strike="noStrike">
                <a:solidFill>
                  <a:srgbClr val="ff072c"/>
                </a:solidFill>
                <a:latin typeface="Comic Sans MS"/>
              </a:rPr>
              <a:t>normale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a quello enolico </a:t>
            </a: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rar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; dalla forma iminica </a:t>
            </a:r>
            <a:r>
              <a:rPr b="1" lang="it-IT" sz="3200" spc="-1" strike="noStrike">
                <a:solidFill>
                  <a:srgbClr val="ff072c"/>
                </a:solidFill>
                <a:latin typeface="Comic Sans MS"/>
              </a:rPr>
              <a:t>normale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a quella aminica </a:t>
            </a: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rara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7680" y="4189320"/>
            <a:ext cx="8245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5638680"/>
            <a:ext cx="1143000" cy="0"/>
          </a:xfrm>
          <a:prstGeom prst="line">
            <a:avLst/>
          </a:prstGeom>
          <a:ln w="28440">
            <a:solidFill>
              <a:srgbClr val="ff07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799160" cy="632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78360" y="990720"/>
            <a:ext cx="4979880" cy="58672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Tautomeria e consegue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1040" y="3681360"/>
            <a:ext cx="183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4038480"/>
            <a:ext cx="1989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752480"/>
            <a:ext cx="4038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Nella sua forma rara una base puo’ formare legami diversi rispetto a quelli normali e causare appaiamenti erra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68544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2c"/>
                </a:solidFill>
                <a:latin typeface="Comic Sans MS"/>
              </a:rPr>
              <a:t>Transi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4640" y="3871800"/>
            <a:ext cx="1364040" cy="687600"/>
            <a:chOff x="134640" y="3871800"/>
            <a:chExt cx="1364040" cy="687600"/>
          </a:xfrm>
        </p:grpSpPr>
        <p:sp>
          <p:nvSpPr>
            <p:cNvPr id="117" name=""/>
            <p:cNvSpPr/>
            <p:nvPr/>
          </p:nvSpPr>
          <p:spPr>
            <a:xfrm>
              <a:off x="134640" y="387180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00" y="430668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91600" y="3875040"/>
              <a:ext cx="1207080" cy="684360"/>
              <a:chOff x="291600" y="3875040"/>
              <a:chExt cx="1207080" cy="684360"/>
            </a:xfrm>
          </p:grpSpPr>
          <p:sp>
            <p:nvSpPr>
              <p:cNvPr id="120" name=""/>
              <p:cNvSpPr/>
              <p:nvPr/>
            </p:nvSpPr>
            <p:spPr>
              <a:xfrm>
                <a:off x="380880" y="40179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0600" y="44370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23640" y="43131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23640" y="38750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3040" y="39654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1600" y="4155840"/>
                <a:ext cx="99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C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1447920" y="4246560"/>
            <a:ext cx="685800" cy="0"/>
          </a:xfrm>
          <a:prstGeom prst="line">
            <a:avLst/>
          </a:prstGeom>
          <a:ln w="38160">
            <a:solidFill>
              <a:srgbClr val="ff07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21200" y="3484440"/>
            <a:ext cx="1339560" cy="1651680"/>
            <a:chOff x="2221200" y="3484440"/>
            <a:chExt cx="1339560" cy="1651680"/>
          </a:xfrm>
        </p:grpSpPr>
        <p:sp>
          <p:nvSpPr>
            <p:cNvPr id="128" name=""/>
            <p:cNvSpPr/>
            <p:nvPr/>
          </p:nvSpPr>
          <p:spPr>
            <a:xfrm>
              <a:off x="2221200" y="3998880"/>
              <a:ext cx="4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 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8935400">
              <a:off x="2709720" y="3663720"/>
              <a:ext cx="66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72c"/>
                  </a:solidFill>
                  <a:latin typeface="Comic Sans MS"/>
                </a:rPr>
                <a:t>G*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72c"/>
                  </a:solidFill>
                  <a:latin typeface="Comic Sans MS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A 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904000">
              <a:off x="2764800" y="4467960"/>
              <a:ext cx="62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G T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 A 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65480" y="4017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74840" y="4551120"/>
              <a:ext cx="29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0040" y="4551120"/>
              <a:ext cx="4572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570040" y="348444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103560" y="38653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03560" y="4322520"/>
              <a:ext cx="3808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86200" y="4419720"/>
            <a:ext cx="457200" cy="0"/>
          </a:xfrm>
          <a:prstGeom prst="line">
            <a:avLst/>
          </a:prstGeom>
          <a:ln w="28440">
            <a:solidFill>
              <a:srgbClr val="ff07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348444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930560" y="3255840"/>
            <a:ext cx="1330560" cy="684360"/>
            <a:chOff x="4930560" y="3255840"/>
            <a:chExt cx="1330560" cy="684360"/>
          </a:xfrm>
        </p:grpSpPr>
        <p:grpSp>
          <p:nvGrpSpPr>
            <p:cNvPr id="140" name=""/>
            <p:cNvGrpSpPr/>
            <p:nvPr/>
          </p:nvGrpSpPr>
          <p:grpSpPr>
            <a:xfrm>
              <a:off x="5055480" y="3255840"/>
              <a:ext cx="1205640" cy="684360"/>
              <a:chOff x="5055480" y="3255840"/>
              <a:chExt cx="1205640" cy="684360"/>
            </a:xfrm>
          </p:grpSpPr>
          <p:sp>
            <p:nvSpPr>
              <p:cNvPr id="141" name=""/>
              <p:cNvSpPr/>
              <p:nvPr/>
            </p:nvSpPr>
            <p:spPr>
              <a:xfrm>
                <a:off x="5143320" y="33987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53040" y="38178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86080" y="36939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86080" y="32558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55480" y="33462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68080" y="3536640"/>
                <a:ext cx="98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</a:t>
                </a:r>
                <a:r>
                  <a:rPr b="0" lang="en-US" sz="1400" spc="-1" strike="noStrike">
                    <a:solidFill>
                      <a:srgbClr val="ff072c"/>
                    </a:solidFill>
                    <a:latin typeface="Comic Sans MS"/>
                  </a:rPr>
                  <a:t>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930560" y="325584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39920" y="369072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98520" y="4975200"/>
            <a:ext cx="1364040" cy="687600"/>
            <a:chOff x="4898520" y="4975200"/>
            <a:chExt cx="1364040" cy="687600"/>
          </a:xfrm>
        </p:grpSpPr>
        <p:sp>
          <p:nvSpPr>
            <p:cNvPr id="150" name=""/>
            <p:cNvSpPr/>
            <p:nvPr/>
          </p:nvSpPr>
          <p:spPr>
            <a:xfrm>
              <a:off x="4898520" y="497520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07880" y="541008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055480" y="4978440"/>
              <a:ext cx="1207080" cy="684360"/>
              <a:chOff x="5055480" y="4978440"/>
              <a:chExt cx="1207080" cy="684360"/>
            </a:xfrm>
          </p:grpSpPr>
          <p:sp>
            <p:nvSpPr>
              <p:cNvPr id="153" name=""/>
              <p:cNvSpPr/>
              <p:nvPr/>
            </p:nvSpPr>
            <p:spPr>
              <a:xfrm>
                <a:off x="5144760" y="51213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54480" y="55404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87520" y="54165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87520" y="49784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56920" y="50688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55480" y="5259240"/>
                <a:ext cx="99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C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6324480" y="3560760"/>
            <a:ext cx="457200" cy="0"/>
          </a:xfrm>
          <a:prstGeom prst="line">
            <a:avLst/>
          </a:prstGeom>
          <a:ln w="28440">
            <a:solidFill>
              <a:srgbClr val="ff07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66000" y="273996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241760" y="2622600"/>
            <a:ext cx="1364040" cy="687600"/>
            <a:chOff x="7241760" y="2622600"/>
            <a:chExt cx="1364040" cy="687600"/>
          </a:xfrm>
        </p:grpSpPr>
        <p:sp>
          <p:nvSpPr>
            <p:cNvPr id="162" name=""/>
            <p:cNvSpPr/>
            <p:nvPr/>
          </p:nvSpPr>
          <p:spPr>
            <a:xfrm>
              <a:off x="7241760" y="262260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51120" y="305748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398720" y="2625840"/>
              <a:ext cx="1207080" cy="684360"/>
              <a:chOff x="7398720" y="2625840"/>
              <a:chExt cx="1207080" cy="684360"/>
            </a:xfrm>
          </p:grpSpPr>
          <p:sp>
            <p:nvSpPr>
              <p:cNvPr id="165" name=""/>
              <p:cNvSpPr/>
              <p:nvPr/>
            </p:nvSpPr>
            <p:spPr>
              <a:xfrm>
                <a:off x="7488000" y="27687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497720" y="31878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30760" y="30639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30760" y="26258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400160" y="27162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98720" y="2906640"/>
                <a:ext cx="99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C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7243560" y="3713040"/>
            <a:ext cx="1330560" cy="684360"/>
            <a:chOff x="7243560" y="3713040"/>
            <a:chExt cx="1330560" cy="684360"/>
          </a:xfrm>
        </p:grpSpPr>
        <p:grpSp>
          <p:nvGrpSpPr>
            <p:cNvPr id="172" name=""/>
            <p:cNvGrpSpPr/>
            <p:nvPr/>
          </p:nvGrpSpPr>
          <p:grpSpPr>
            <a:xfrm>
              <a:off x="7380720" y="3713040"/>
              <a:ext cx="1193400" cy="684360"/>
              <a:chOff x="7380720" y="3713040"/>
              <a:chExt cx="1193400" cy="684360"/>
            </a:xfrm>
          </p:grpSpPr>
          <p:sp>
            <p:nvSpPr>
              <p:cNvPr id="173" name=""/>
              <p:cNvSpPr/>
              <p:nvPr/>
            </p:nvSpPr>
            <p:spPr>
              <a:xfrm>
                <a:off x="7456320" y="38559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66040" y="42750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99080" y="41511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299080" y="37130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80720" y="3803400"/>
                <a:ext cx="96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</a:t>
                </a:r>
                <a:r>
                  <a:rPr b="0" lang="en-US" sz="1400" spc="-1" strike="noStrike">
                    <a:solidFill>
                      <a:srgbClr val="ff072c"/>
                    </a:solidFill>
                    <a:latin typeface="Comic Sans MS"/>
                  </a:rPr>
                  <a:t>A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81080" y="3993840"/>
                <a:ext cx="98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</a:t>
                </a:r>
                <a:r>
                  <a:rPr b="0" lang="en-US" sz="1400" spc="-1" strike="noStrike">
                    <a:solidFill>
                      <a:srgbClr val="ff072c"/>
                    </a:solidFill>
                    <a:latin typeface="Comic Sans MS"/>
                  </a:rPr>
                  <a:t>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7243560" y="371304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52920" y="414792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324480" y="5369040"/>
            <a:ext cx="457200" cy="0"/>
          </a:xfrm>
          <a:prstGeom prst="line">
            <a:avLst/>
          </a:prstGeom>
          <a:ln w="28440">
            <a:solidFill>
              <a:srgbClr val="ff07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66000" y="454824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241760" y="4430880"/>
            <a:ext cx="1364040" cy="687600"/>
            <a:chOff x="7241760" y="4430880"/>
            <a:chExt cx="1364040" cy="687600"/>
          </a:xfrm>
        </p:grpSpPr>
        <p:sp>
          <p:nvSpPr>
            <p:cNvPr id="184" name=""/>
            <p:cNvSpPr/>
            <p:nvPr/>
          </p:nvSpPr>
          <p:spPr>
            <a:xfrm>
              <a:off x="7241760" y="443088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51120" y="486576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7398720" y="4434120"/>
              <a:ext cx="1207080" cy="684360"/>
              <a:chOff x="7398720" y="4434120"/>
              <a:chExt cx="1207080" cy="684360"/>
            </a:xfrm>
          </p:grpSpPr>
          <p:sp>
            <p:nvSpPr>
              <p:cNvPr id="187" name=""/>
              <p:cNvSpPr/>
              <p:nvPr/>
            </p:nvSpPr>
            <p:spPr>
              <a:xfrm>
                <a:off x="7488000" y="457704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97720" y="499608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330760" y="48722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330760" y="443412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00160" y="452448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98720" y="4714920"/>
                <a:ext cx="99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C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7243560" y="5541840"/>
            <a:ext cx="1330560" cy="684360"/>
            <a:chOff x="7243560" y="5541840"/>
            <a:chExt cx="1330560" cy="684360"/>
          </a:xfrm>
        </p:grpSpPr>
        <p:grpSp>
          <p:nvGrpSpPr>
            <p:cNvPr id="194" name=""/>
            <p:cNvGrpSpPr/>
            <p:nvPr/>
          </p:nvGrpSpPr>
          <p:grpSpPr>
            <a:xfrm>
              <a:off x="7367040" y="5541840"/>
              <a:ext cx="1207080" cy="684360"/>
              <a:chOff x="7367040" y="5541840"/>
              <a:chExt cx="1207080" cy="684360"/>
            </a:xfrm>
          </p:grpSpPr>
          <p:sp>
            <p:nvSpPr>
              <p:cNvPr id="195" name=""/>
              <p:cNvSpPr/>
              <p:nvPr/>
            </p:nvSpPr>
            <p:spPr>
              <a:xfrm>
                <a:off x="7456320" y="56847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66040" y="61038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99080" y="59799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299080" y="55418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68480" y="56322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67040" y="5822640"/>
                <a:ext cx="994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</a:t>
                </a:r>
                <a:r>
                  <a:rPr b="0" lang="en-US" sz="1400" spc="-1" strike="noStrike">
                    <a:solidFill>
                      <a:srgbClr val="ff072c"/>
                    </a:solidFill>
                    <a:latin typeface="Comic Sans MS"/>
                  </a:rPr>
                  <a:t>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243560" y="554184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52920" y="597672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519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la transizione avviene durante la duplicazione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romosoma causa sostituzione di b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2c"/>
                </a:solidFill>
                <a:latin typeface="Comic Sans MS"/>
              </a:rPr>
              <a:t>Lo spettro elettromagne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 rot="10800000">
            <a:off x="3275640" y="3165480"/>
            <a:ext cx="2097000" cy="1295280"/>
          </a:xfrm>
          <a:custGeom>
            <a:avLst/>
            <a:gdLst>
              <a:gd name="textAreaLeft" fmla="*/ 461160 w 2097000"/>
              <a:gd name="textAreaRight" fmla="*/ 1635840 w 209700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897000" y="1206720"/>
            <a:ext cx="91296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80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ia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oss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50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078080" y="799920"/>
            <a:ext cx="457200" cy="2667240"/>
          </a:xfrm>
          <a:custGeom>
            <a:avLst/>
            <a:gdLst>
              <a:gd name="textAreaLeft" fmla="*/ 0 w 457200"/>
              <a:gd name="textAreaRight" fmla="*/ 164880 w 4572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27280" y="15238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UCE VISI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43800" y="4460760"/>
            <a:ext cx="129528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nde 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6720" y="4459320"/>
            <a:ext cx="129564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croo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1440" y="4459320"/>
            <a:ext cx="129528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6160" y="4459320"/>
            <a:ext cx="129528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7720" y="4459320"/>
            <a:ext cx="83844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79640" y="4459320"/>
            <a:ext cx="83808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i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1560" y="4459320"/>
            <a:ext cx="83808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am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3120" y="4459320"/>
            <a:ext cx="83844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m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4460760"/>
            <a:ext cx="129564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fraro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9160" y="49816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2040" y="495936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98400" y="49687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3120" y="4956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6120" y="4994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92440" y="49942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42360" y="499428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3640" y="501660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unghezza d’o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1523880" y="419076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240" y="5397480"/>
            <a:ext cx="20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diazione ionizz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943600"/>
            <a:ext cx="7696080" cy="304920"/>
          </a:xfrm>
          <a:prstGeom prst="leftRightArrow">
            <a:avLst>
              <a:gd name="adj1" fmla="val 50000"/>
              <a:gd name="adj2" fmla="val 502456"/>
            </a:avLst>
          </a:prstGeom>
          <a:gradFill rotWithShape="0">
            <a:gsLst>
              <a:gs pos="0">
                <a:srgbClr val="f9fd02"/>
              </a:gs>
              <a:gs pos="100000">
                <a:srgbClr val="ff02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556884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vello energe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5640" y="613728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u’ 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91800" y="613404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u’ 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9:18:49Z</dcterms:created>
  <dc:creator>Palumbo</dc:creator>
  <dc:description/>
  <dc:language>en-US</dc:language>
  <cp:lastModifiedBy>Rocchi</cp:lastModifiedBy>
  <dcterms:modified xsi:type="dcterms:W3CDTF">2003-02-03T13:15:06Z</dcterms:modified>
  <cp:revision>58</cp:revision>
  <dc:subject/>
  <dc:title>Le mutazioni </dc:title>
</cp:coreProperties>
</file>