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22.jpeg" ContentType="image/jpeg"/>
  <Override PartName="/ppt/media/image18.pct" ContentType="image/x-pict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555-B249-443F-84B4-C38DA07D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E0F-A411-4A20-A780-38FA7FB7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243-1F58-45FD-A769-AB3ECD5A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B14-3558-4B7E-874C-1F24BF95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FB1-F718-4977-8E06-44C91931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EEE6-918C-470D-9D98-A8870F59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BE3-126C-4D6F-9C5A-763CFE3C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84F-F413-4A14-A6E4-32094799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9B00-EF1E-4487-AA94-05A590A1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194-66A3-4162-90AD-4D1EF9B5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CFF-9941-4BC5-A6F4-3836C1F7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D3B-1AF2-4681-A889-9E82B494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623E-343B-4CF3-8CFD-C7FC43B77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9520" y="96696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16480" y="19494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5680" y="228600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tumori e la citogene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16480" y="19494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6858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119"/>
                </a:solidFill>
                <a:latin typeface="Comic Sans MS"/>
              </a:rPr>
              <a:t>Cellule normali e cancer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5240" y="137160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119"/>
                </a:solidFill>
                <a:latin typeface="Comic Sans MS"/>
              </a:rPr>
              <a:t>CELLULE N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1379520"/>
            <a:ext cx="33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119"/>
                </a:solidFill>
                <a:latin typeface="Comic Sans MS"/>
              </a:rPr>
              <a:t>CELLULE CANCE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2057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DITA INIBI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 CONTA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4760" y="2286000"/>
            <a:ext cx="200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IBI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 CONTA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3341520"/>
            <a:ext cx="416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CAPACI DI CRESCERE IN SOSPEN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ECCEZIONE I LINFOCI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91320" y="3352680"/>
            <a:ext cx="407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ESCONO IN SOSPEN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4762440"/>
            <a:ext cx="42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DIPENDENTI DA FATTORI DI CRES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476244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ENDENTI DAI FATTORI DI CRES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0240" y="5802480"/>
            <a:ext cx="16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RT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38840" y="5802480"/>
            <a:ext cx="197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MMORT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09520" y="685800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16480" y="2128680"/>
            <a:ext cx="18432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romosomi e tum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1550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anomalie cromosomiche fanno parte della descrizione classica del fenotipo citologico delle cellule tumo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28465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izialmente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roppo varie per localizzazione e per natura (aneuploidie, inversioni, traslocazioni, inversioni) per poter essere class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con il miglioramento delle tecniche citogenetiche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6920" y="5410080"/>
            <a:ext cx="7564320" cy="429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IDIVIDUAZIONE DI RIARRANGIAMENTI NON CASU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16480" y="19494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1841400"/>
            <a:ext cx="871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o studio dei riarrangiamenti non casuali è stato riportato essenzialmente nel campo delle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emopatie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maligne, poiché le cellule ematiche si prestano molto meglio delle cellule dei tumori solidi all’esplorazione citogene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76360" y="685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romosomi e tum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60280" y="1743120"/>
            <a:ext cx="161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RITROC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81960" y="1752480"/>
            <a:ext cx="1520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IAST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2360" y="3581280"/>
            <a:ext cx="1531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UCOC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0560" y="2666880"/>
            <a:ext cx="3731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RANULOCITI POLIMORFONUCLE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72000" y="2133720"/>
            <a:ext cx="1197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utrof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53640" y="2666880"/>
            <a:ext cx="962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of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64080" y="3276720"/>
            <a:ext cx="115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osinof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15640" y="4759200"/>
            <a:ext cx="2707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U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NONUCL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1360" y="4114800"/>
            <a:ext cx="1118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oci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90720" y="5334120"/>
            <a:ext cx="103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foci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800600"/>
            <a:ext cx="328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86920" y="5761080"/>
            <a:ext cx="313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867280" y="2286000"/>
            <a:ext cx="137160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943600" y="28954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943600" y="3123720"/>
            <a:ext cx="12952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274320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800240" y="44197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800240" y="51055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552720" y="502920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6629400" y="563832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Elementi figurati del san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16480" y="1892160"/>
            <a:ext cx="184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55680" y="214488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705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assificazione dei tumori ematolog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6760" y="4203720"/>
            <a:ext cx="662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ucemie acute e croni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in relazione al decorso clin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7880" y="2146320"/>
            <a:ext cx="73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ucemie se colpiscono il mid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2920" y="3213000"/>
            <a:ext cx="71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nfomi se colpiscono i linfono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2768760" cy="22287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820960" cy="28954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 rot="5400000">
            <a:off x="2914200" y="1504800"/>
            <a:ext cx="2882880" cy="23115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25560" y="4108320"/>
            <a:ext cx="2641320" cy="24069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5581800" y="1523880"/>
            <a:ext cx="3525840" cy="426744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0560" y="5331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119"/>
                </a:solidFill>
                <a:latin typeface="Comic Sans MS"/>
              </a:rPr>
              <a:t>Esempi di metafasi tumor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16480" y="19494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1523880"/>
            <a:ext cx="4876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CML è stata la prima malattia neoplastica dell’u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cui una specifica anomalia del cariotipo, il cromosoma Philadelphia (Ph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è stata associata alla generazione della leucem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935600" y="1371600"/>
            <a:ext cx="4056120" cy="5029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flipV="1">
            <a:off x="8211960" y="3048120"/>
            <a:ext cx="685800" cy="457200"/>
          </a:xfrm>
          <a:prstGeom prst="line">
            <a:avLst/>
          </a:prstGeom>
          <a:ln w="38160">
            <a:solidFill>
              <a:srgbClr val="ffff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16480" y="19494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1962000"/>
            <a:ext cx="3932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cromosoma non norm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r Philadelphia (19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1143000"/>
            <a:ext cx="458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Nel 95% dei casi di C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1730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gradFill rotWithShape="0">
            <a:gsLst>
              <a:gs pos="0">
                <a:srgbClr val="ff1119"/>
              </a:gs>
              <a:gs pos="50000">
                <a:srgbClr val="ffff02"/>
              </a:gs>
              <a:gs pos="100000">
                <a:srgbClr val="ff111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3276720"/>
            <a:ext cx="297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dagini FISH E MOLECOL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280" y="4800600"/>
            <a:ext cx="89917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 FORMANO DUE GENI DI FUSIO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BL-BCR su DER9 (nessuna proteina prodot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BCR-ABL su P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(proteina di fusione coinvolta nella proliferazone cellul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648320" y="762120"/>
            <a:ext cx="4495680" cy="4059000"/>
            <a:chOff x="4648320" y="762120"/>
            <a:chExt cx="4495680" cy="4059000"/>
          </a:xfrm>
        </p:grpSpPr>
        <p:grpSp>
          <p:nvGrpSpPr>
            <p:cNvPr id="339" name=""/>
            <p:cNvGrpSpPr/>
            <p:nvPr/>
          </p:nvGrpSpPr>
          <p:grpSpPr>
            <a:xfrm>
              <a:off x="4648320" y="762120"/>
              <a:ext cx="4495680" cy="4059000"/>
              <a:chOff x="4648320" y="762120"/>
              <a:chExt cx="4495680" cy="4059000"/>
            </a:xfrm>
          </p:grpSpPr>
          <p:pic>
            <p:nvPicPr>
              <p:cNvPr id="3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48320" y="762120"/>
                <a:ext cx="4495680" cy="40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6477120" y="2382480"/>
                <a:ext cx="380880" cy="304560"/>
              </a:xfrm>
              <a:prstGeom prst="rightArrow">
                <a:avLst>
                  <a:gd name="adj1" fmla="val 50000"/>
                  <a:gd name="adj2" fmla="val 31265"/>
                </a:avLst>
              </a:prstGeom>
              <a:gradFill rotWithShape="0">
                <a:gsLst>
                  <a:gs pos="0">
                    <a:srgbClr val="ff1119"/>
                  </a:gs>
                  <a:gs pos="100000">
                    <a:srgbClr val="75070b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40280" y="952200"/>
                <a:ext cx="52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B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32920" y="1434960"/>
                <a:ext cx="53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C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6951240" y="95544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BL/BC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26040" y="141264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CR/AB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5562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2280" y="3657600"/>
            <a:ext cx="466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locazione reciproca braccio lungo chr.9 e il braccio lungo chr.22: t(9;22)(q34;q1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16480" y="19494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137800" cy="43956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04760" y="762120"/>
            <a:ext cx="5562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16480" y="19494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3809880" cy="46483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3746520" cy="45338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74720" y="609120"/>
            <a:ext cx="5549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76160"/>
            <a:ext cx="8894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6440" y="6723000"/>
            <a:ext cx="8894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520" y="7617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genesi dei tumori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647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- Le cellule di un organismo multicellulare collaborano a vantaggio dell’intero org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720880"/>
            <a:ext cx="866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-    Quando una cellula ha un vantaggio riproduttivo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POTREBBE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venire la fondatrice di un clone di cellule numeroso che potrà prendere il controllo dell’org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524560"/>
            <a:ext cx="8001000" cy="11912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i sono dei meccanismi di controllo che regolano la morte cellulare (apoptosi)……………….p53 ad 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7840" y="420840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l corso dell’evoluzione, tuttavia, gli esseri viventi hanno evoluto molti e sofisticati livelli di controllo per cui si ha la manifestazione del tumore solo dopo che siano andati persi più controlli indipend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16560" y="65739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16480" y="19494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572000" cy="35020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4648320" y="1990800"/>
            <a:ext cx="4343400" cy="34956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5638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16480" y="19494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529160" cy="46479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009080" y="1371600"/>
            <a:ext cx="75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119"/>
                </a:solidFill>
                <a:latin typeface="Comic Sans MS"/>
              </a:rPr>
              <a:t>AML  INVERSIONE inv(16)(p13;q22) (CBFB-MYH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AML, Leucemia Mieloide Acu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16480" y="19494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11760" y="1828800"/>
            <a:ext cx="4698720" cy="45975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770120" y="1219320"/>
            <a:ext cx="53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119"/>
                </a:solidFill>
                <a:latin typeface="Comic Sans MS"/>
              </a:rPr>
              <a:t>AML  INVERSIONE inv(16)(p13;q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AML, Leucemia Mieloide Acu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262584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111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119"/>
                </a:solidFill>
                <a:latin typeface="Comic Sans MS"/>
              </a:rPr>
              <a:t>Utilizzando sonde non opportune puo’non vedersi l’inver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10960" y="77616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2610000" y="1693800"/>
            <a:ext cx="4633920" cy="49402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2187720" y="958680"/>
            <a:ext cx="5715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80720" y="761760"/>
            <a:ext cx="5715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AML, Leucemia Mieloide Acu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36440" y="6723000"/>
            <a:ext cx="8894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 flipH="1">
            <a:off x="3504960" y="1523880"/>
            <a:ext cx="114120" cy="968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 flipH="1">
            <a:off x="3249720" y="1192320"/>
            <a:ext cx="5548320" cy="5589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04920" y="2035080"/>
            <a:ext cx="268128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000" spc="-1" strike="noStrike">
                <a:solidFill>
                  <a:srgbClr val="ff1119"/>
                </a:solidFill>
                <a:latin typeface="Comic Sans MS"/>
              </a:rPr>
              <a:t>Esempio dell’uso di librerie totali  per evidenziare  riarrangia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119"/>
                </a:solidFill>
                <a:latin typeface="Comic Sans MS"/>
              </a:rPr>
              <a:t>Traslocazioni complesse in A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4760" y="4863960"/>
            <a:ext cx="191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1119"/>
                </a:solidFill>
                <a:latin typeface="Comic Sans MS"/>
              </a:rPr>
              <a:t>t(8;13;14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71600" y="42037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457200" y="2438280"/>
            <a:ext cx="24541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1119"/>
                </a:solidFill>
                <a:latin typeface="Comic Sans MS"/>
              </a:rPr>
              <a:t>La traslocazione t(15;17)(q22;q21) è associata clinicamente alla leucemia acuta promielocitica (AP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276720" y="1477800"/>
            <a:ext cx="5651280" cy="50752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1119"/>
                </a:solidFill>
                <a:latin typeface="Comic Sans MS"/>
              </a:rPr>
              <a:t>Leucemia Acuta Promielocitica (APL) </a:t>
            </a:r>
            <a:r>
              <a:rPr b="0" lang="it-IT" sz="2000" spc="-1" strike="noStrike">
                <a:solidFill>
                  <a:srgbClr val="ff1119"/>
                </a:solidFill>
                <a:latin typeface="Comic Sans MS"/>
              </a:rPr>
              <a:t>(geni coinvolti PML-RAR</a:t>
            </a:r>
            <a:r>
              <a:rPr b="0" lang="it-IT" sz="2000" spc="-1" strike="noStrike">
                <a:solidFill>
                  <a:srgbClr val="ff1119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ff111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0720" y="557532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ff0b"/>
                </a:solidFill>
                <a:latin typeface="Comic Sans MS"/>
              </a:rPr>
              <a:t>In verde chr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119"/>
                </a:solidFill>
                <a:latin typeface="Comic Sans MS"/>
              </a:rPr>
              <a:t>In rosso chr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16480" y="19494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5480280" cy="52228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460800" y="556272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119"/>
                </a:solidFill>
                <a:latin typeface="Comic Sans MS"/>
              </a:rPr>
              <a:t>t(15;17)(q22;q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213372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119"/>
                </a:solidFill>
                <a:latin typeface="Comic Sans MS"/>
              </a:rPr>
              <a:t>La FISH permette di trovare traslocazioni criptiche (quelle che non si vedono dall’analisi del cariotip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1119"/>
                </a:solidFill>
                <a:latin typeface="Comic Sans MS"/>
              </a:rPr>
              <a:t>Leucemia Acuta Promielocitica (A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16480" y="19494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40920" y="13716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119"/>
                </a:solidFill>
                <a:latin typeface="Comic Sans MS"/>
              </a:rPr>
              <a:t>t(8;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826160" cy="47624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495680" cy="472428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Linfomi Non Hodgk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316480" y="19494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91520" y="1047600"/>
            <a:ext cx="44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1119"/>
                </a:solidFill>
                <a:latin typeface="Comic Sans MS"/>
              </a:rPr>
              <a:t>TRASLOCAZIONE t(14;18)(q32;q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648320" cy="50943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227240" y="0"/>
            <a:ext cx="1839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Linfomi Non Hodgk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16480" y="19494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5640" y="7621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genesi dei tumori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14624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trasformazione di una cellula normale in una cellula di un tumore maligno richiede una media di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se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sett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utazioni successive che si sommino nella stessa cell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8600" y="4800600"/>
            <a:ext cx="9677520" cy="1512000"/>
            <a:chOff x="228600" y="4800600"/>
            <a:chExt cx="9677520" cy="1512000"/>
          </a:xfrm>
        </p:grpSpPr>
        <p:sp>
          <p:nvSpPr>
            <p:cNvPr id="68" name=""/>
            <p:cNvSpPr/>
            <p:nvPr/>
          </p:nvSpPr>
          <p:spPr>
            <a:xfrm>
              <a:off x="228600" y="5121360"/>
              <a:ext cx="9677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improbabile che si raggiunga l’effetto additivo in una line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cellulare: le cellule potrebbero completare il loro ciclo vita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prima di riuscire a collezionare tutte le mutazio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9880" y="4800600"/>
              <a:ext cx="838440" cy="381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1119"/>
                </a:gs>
                <a:gs pos="50000">
                  <a:srgbClr val="ffffff"/>
                </a:gs>
                <a:gs pos="100000">
                  <a:srgbClr val="ff111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2971800"/>
            <a:ext cx="83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e mutazioni devono realizzarsi in geni il cui prodotto sia essenziale per il ciclo cellu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4840" y="4206960"/>
            <a:ext cx="59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ipici tassi di mutazione di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-6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 g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16560" y="65739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16480" y="19494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55680" y="228600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371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ccanismi generali possono rendere più probabile tale accumulo di mutazion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utazioni che intaccano la stabilità dell’intero genoma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aumentare il tasso complessivo di mutazione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tazioni nel processo tum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648320"/>
            <a:ext cx="880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. mutazioni che aumentano la proliferazione cellulare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creando     una popolazione espansa di cellule bersaglio per la mutazione successiv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161160" y="3581280"/>
            <a:ext cx="2872080" cy="871200"/>
            <a:chOff x="3161160" y="3581280"/>
            <a:chExt cx="2872080" cy="871200"/>
          </a:xfrm>
        </p:grpSpPr>
        <p:sp>
          <p:nvSpPr>
            <p:cNvPr id="84" name=""/>
            <p:cNvSpPr/>
            <p:nvPr/>
          </p:nvSpPr>
          <p:spPr>
            <a:xfrm>
              <a:off x="3161160" y="3962520"/>
              <a:ext cx="2872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1119"/>
                  </a:solidFill>
                  <a:latin typeface="Comic Sans MS"/>
                </a:rPr>
                <a:t>GENI MUTATOR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19720" y="3581280"/>
              <a:ext cx="380880" cy="381240"/>
            </a:xfrm>
            <a:prstGeom prst="downArrow">
              <a:avLst>
                <a:gd name="adj1" fmla="val 50000"/>
                <a:gd name="adj2" fmla="val 25024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684080" y="5638680"/>
            <a:ext cx="5610600" cy="871200"/>
            <a:chOff x="1684080" y="5638680"/>
            <a:chExt cx="5610600" cy="871200"/>
          </a:xfrm>
        </p:grpSpPr>
        <p:sp>
          <p:nvSpPr>
            <p:cNvPr id="87" name=""/>
            <p:cNvSpPr/>
            <p:nvPr/>
          </p:nvSpPr>
          <p:spPr>
            <a:xfrm>
              <a:off x="1684080" y="6019920"/>
              <a:ext cx="5610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1119"/>
                  </a:solidFill>
                  <a:latin typeface="Comic Sans MS"/>
                </a:rPr>
                <a:t>ONCOGENI E ONCOSOPPRESSOR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19720" y="5638680"/>
              <a:ext cx="380880" cy="381240"/>
            </a:xfrm>
            <a:prstGeom prst="downArrow">
              <a:avLst>
                <a:gd name="adj1" fmla="val 50000"/>
                <a:gd name="adj2" fmla="val 25024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16560" y="65739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66880" y="685800"/>
            <a:ext cx="4572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i coinvolti nei tum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1177920"/>
            <a:ext cx="900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119"/>
                </a:solidFill>
                <a:latin typeface="Comic Sans MS"/>
              </a:rPr>
              <a:t>GENI MUTATORI</a:t>
            </a:r>
            <a:r>
              <a:rPr b="0" lang="en-US" sz="2400" spc="-1" strike="noStrike">
                <a:solidFill>
                  <a:srgbClr val="ff8b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sabili del mantenimento dell’integrita’ del genoma durante le replicazione cellulare. La perdita di funzione di entrambi gli alleli espone la cellula a commettere errori (mutazioni recessiv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3048120"/>
            <a:ext cx="905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119"/>
                </a:solidFill>
                <a:latin typeface="Comic Sans MS"/>
              </a:rPr>
              <a:t>ONCOGENI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i la cui azione promuove positivamente la proliferazione cellulare. Un singolo allele mutante puo’ influenzare il fenotipo dell’intera cellula (mutazioni dominanti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60" y="4848120"/>
            <a:ext cx="906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119"/>
                </a:solidFill>
                <a:latin typeface="Comic Sans MS"/>
              </a:rPr>
              <a:t>ONCOSOPPRESSORI (TS)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prodotti di tali geni inibiscono la proliferazione cellulare. Per cambiare il comportamento di una cellula devono essere inattivati entrambi gli alleli (mutazioni recessiv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16560" y="65739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5640" y="533520"/>
            <a:ext cx="4419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i coinvolti nei tum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95280" y="1600200"/>
            <a:ext cx="1219320" cy="1066680"/>
            <a:chOff x="1295280" y="1600200"/>
            <a:chExt cx="1219320" cy="1066680"/>
          </a:xfrm>
        </p:grpSpPr>
        <p:sp>
          <p:nvSpPr>
            <p:cNvPr id="105" name=""/>
            <p:cNvSpPr/>
            <p:nvPr/>
          </p:nvSpPr>
          <p:spPr>
            <a:xfrm>
              <a:off x="1295280" y="1600200"/>
              <a:ext cx="1219320" cy="1066680"/>
            </a:xfrm>
            <a:prstGeom prst="ellipse">
              <a:avLst/>
            </a:prstGeom>
            <a:solidFill>
              <a:srgbClr val="ffff99">
                <a:alpha val="92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676520" y="1676520"/>
              <a:ext cx="152280" cy="901080"/>
              <a:chOff x="1676520" y="1676520"/>
              <a:chExt cx="152280" cy="901080"/>
            </a:xfrm>
          </p:grpSpPr>
          <p:sp>
            <p:nvSpPr>
              <p:cNvPr id="107" name=""/>
              <p:cNvSpPr/>
              <p:nvPr/>
            </p:nvSpPr>
            <p:spPr>
              <a:xfrm>
                <a:off x="1676520" y="2120760"/>
                <a:ext cx="152280" cy="456840"/>
              </a:xfrm>
              <a:custGeom>
                <a:avLst/>
                <a:gdLst>
                  <a:gd name="textAreaLeft" fmla="*/ 22320 w 152280"/>
                  <a:gd name="textAreaRight" fmla="*/ 129960 w 152280"/>
                  <a:gd name="textAreaTop" fmla="*/ 22320 h 456840"/>
                  <a:gd name="textAreaBottom" fmla="*/ 434520 h 456840"/>
                </a:gdLst>
                <a:ahLst/>
                <a:rect l="textAreaLeft" t="textAreaTop" r="textAreaRight" b="textAreaBottom"/>
                <a:pathLst>
                  <a:path w="21600" h="64698">
                    <a:moveTo>
                      <a:pt x="10800" y="0"/>
                    </a:moveTo>
                    <a:arcTo wR="10800" hR="10800" stAng="16200000" swAng="-5400000"/>
                    <a:lnTo>
                      <a:pt x="0" y="53898"/>
                    </a:lnTo>
                    <a:arcTo wR="10800" hR="10800" stAng="10800000" swAng="-5400000"/>
                    <a:lnTo>
                      <a:pt x="10800" y="6469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676520" y="1676520"/>
                <a:ext cx="152280" cy="456840"/>
              </a:xfrm>
              <a:custGeom>
                <a:avLst/>
                <a:gdLst>
                  <a:gd name="textAreaLeft" fmla="*/ 22320 w 152280"/>
                  <a:gd name="textAreaRight" fmla="*/ 129960 w 152280"/>
                  <a:gd name="textAreaTop" fmla="*/ 22320 h 456840"/>
                  <a:gd name="textAreaBottom" fmla="*/ 434520 h 456840"/>
                </a:gdLst>
                <a:ahLst/>
                <a:rect l="textAreaLeft" t="textAreaTop" r="textAreaRight" b="textAreaBottom"/>
                <a:pathLst>
                  <a:path w="21600" h="64698">
                    <a:moveTo>
                      <a:pt x="10800" y="0"/>
                    </a:moveTo>
                    <a:arcTo wR="10800" hR="10800" stAng="16200000" swAng="-5400000"/>
                    <a:lnTo>
                      <a:pt x="0" y="53898"/>
                    </a:lnTo>
                    <a:arcTo wR="10800" hR="10800" stAng="10800000" swAng="-5400000"/>
                    <a:lnTo>
                      <a:pt x="10800" y="6469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79400" y="1815840"/>
                <a:ext cx="139320" cy="0"/>
              </a:xfrm>
              <a:prstGeom prst="line">
                <a:avLst/>
              </a:prstGeom>
              <a:ln w="5724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1981080" y="1676520"/>
              <a:ext cx="152640" cy="901080"/>
              <a:chOff x="1981080" y="1676520"/>
              <a:chExt cx="152640" cy="901080"/>
            </a:xfrm>
          </p:grpSpPr>
          <p:sp>
            <p:nvSpPr>
              <p:cNvPr id="111" name=""/>
              <p:cNvSpPr/>
              <p:nvPr/>
            </p:nvSpPr>
            <p:spPr>
              <a:xfrm>
                <a:off x="1981080" y="2120760"/>
                <a:ext cx="152640" cy="456840"/>
              </a:xfrm>
              <a:custGeom>
                <a:avLst/>
                <a:gdLst>
                  <a:gd name="textAreaLeft" fmla="*/ 22320 w 152640"/>
                  <a:gd name="textAreaRight" fmla="*/ 130320 w 152640"/>
                  <a:gd name="textAreaTop" fmla="*/ 22320 h 456840"/>
                  <a:gd name="textAreaBottom" fmla="*/ 434520 h 456840"/>
                </a:gdLst>
                <a:ahLst/>
                <a:rect l="textAreaLeft" t="textAreaTop" r="textAreaRight" b="textAreaBottom"/>
                <a:pathLst>
                  <a:path w="21600" h="64546">
                    <a:moveTo>
                      <a:pt x="10800" y="0"/>
                    </a:moveTo>
                    <a:arcTo wR="10800" hR="10800" stAng="16200000" swAng="-5400000"/>
                    <a:lnTo>
                      <a:pt x="0" y="53746"/>
                    </a:lnTo>
                    <a:arcTo wR="10800" hR="10800" stAng="10800000" swAng="-5400000"/>
                    <a:lnTo>
                      <a:pt x="10800" y="6454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81080" y="1676520"/>
                <a:ext cx="152640" cy="456840"/>
              </a:xfrm>
              <a:custGeom>
                <a:avLst/>
                <a:gdLst>
                  <a:gd name="textAreaLeft" fmla="*/ 22320 w 152640"/>
                  <a:gd name="textAreaRight" fmla="*/ 130320 w 152640"/>
                  <a:gd name="textAreaTop" fmla="*/ 22320 h 456840"/>
                  <a:gd name="textAreaBottom" fmla="*/ 434520 h 456840"/>
                </a:gdLst>
                <a:ahLst/>
                <a:rect l="textAreaLeft" t="textAreaTop" r="textAreaRight" b="textAreaBottom"/>
                <a:pathLst>
                  <a:path w="21600" h="64546">
                    <a:moveTo>
                      <a:pt x="10800" y="0"/>
                    </a:moveTo>
                    <a:arcTo wR="10800" hR="10800" stAng="16200000" swAng="-5400000"/>
                    <a:lnTo>
                      <a:pt x="0" y="53746"/>
                    </a:lnTo>
                    <a:arcTo wR="10800" hR="10800" stAng="10800000" swAng="-5400000"/>
                    <a:lnTo>
                      <a:pt x="10800" y="6454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84320" y="1815840"/>
                <a:ext cx="139680" cy="0"/>
              </a:xfrm>
              <a:prstGeom prst="line">
                <a:avLst/>
              </a:prstGeom>
              <a:ln w="5724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1295280" y="3048120"/>
            <a:ext cx="1219320" cy="1066680"/>
            <a:chOff x="1295280" y="3048120"/>
            <a:chExt cx="1219320" cy="1066680"/>
          </a:xfrm>
        </p:grpSpPr>
        <p:sp>
          <p:nvSpPr>
            <p:cNvPr id="115" name=""/>
            <p:cNvSpPr/>
            <p:nvPr/>
          </p:nvSpPr>
          <p:spPr>
            <a:xfrm>
              <a:off x="1295280" y="3048120"/>
              <a:ext cx="1219320" cy="1066680"/>
            </a:xfrm>
            <a:prstGeom prst="ellipse">
              <a:avLst/>
            </a:prstGeom>
            <a:solidFill>
              <a:srgbClr val="ffff99">
                <a:alpha val="92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676520" y="3124440"/>
              <a:ext cx="152280" cy="901080"/>
              <a:chOff x="1676520" y="3124440"/>
              <a:chExt cx="152280" cy="901080"/>
            </a:xfrm>
          </p:grpSpPr>
          <p:sp>
            <p:nvSpPr>
              <p:cNvPr id="117" name=""/>
              <p:cNvSpPr/>
              <p:nvPr/>
            </p:nvSpPr>
            <p:spPr>
              <a:xfrm>
                <a:off x="1676520" y="3568680"/>
                <a:ext cx="152280" cy="456840"/>
              </a:xfrm>
              <a:custGeom>
                <a:avLst/>
                <a:gdLst>
                  <a:gd name="textAreaLeft" fmla="*/ 22320 w 152280"/>
                  <a:gd name="textAreaRight" fmla="*/ 129960 w 152280"/>
                  <a:gd name="textAreaTop" fmla="*/ 22320 h 456840"/>
                  <a:gd name="textAreaBottom" fmla="*/ 434520 h 456840"/>
                </a:gdLst>
                <a:ahLst/>
                <a:rect l="textAreaLeft" t="textAreaTop" r="textAreaRight" b="textAreaBottom"/>
                <a:pathLst>
                  <a:path w="21600" h="64698">
                    <a:moveTo>
                      <a:pt x="10800" y="0"/>
                    </a:moveTo>
                    <a:arcTo wR="10800" hR="10800" stAng="16200000" swAng="-5400000"/>
                    <a:lnTo>
                      <a:pt x="0" y="53898"/>
                    </a:lnTo>
                    <a:arcTo wR="10800" hR="10800" stAng="10800000" swAng="-5400000"/>
                    <a:lnTo>
                      <a:pt x="10800" y="6469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676520" y="3124440"/>
                <a:ext cx="152280" cy="456840"/>
              </a:xfrm>
              <a:custGeom>
                <a:avLst/>
                <a:gdLst>
                  <a:gd name="textAreaLeft" fmla="*/ 22320 w 152280"/>
                  <a:gd name="textAreaRight" fmla="*/ 129960 w 152280"/>
                  <a:gd name="textAreaTop" fmla="*/ 22320 h 456840"/>
                  <a:gd name="textAreaBottom" fmla="*/ 434520 h 456840"/>
                </a:gdLst>
                <a:ahLst/>
                <a:rect l="textAreaLeft" t="textAreaTop" r="textAreaRight" b="textAreaBottom"/>
                <a:pathLst>
                  <a:path w="21600" h="64698">
                    <a:moveTo>
                      <a:pt x="10800" y="0"/>
                    </a:moveTo>
                    <a:arcTo wR="10800" hR="10800" stAng="16200000" swAng="-5400000"/>
                    <a:lnTo>
                      <a:pt x="0" y="53898"/>
                    </a:lnTo>
                    <a:arcTo wR="10800" hR="10800" stAng="10800000" swAng="-5400000"/>
                    <a:lnTo>
                      <a:pt x="10800" y="6469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679400" y="3263760"/>
                <a:ext cx="139320" cy="0"/>
              </a:xfrm>
              <a:prstGeom prst="line">
                <a:avLst/>
              </a:prstGeom>
              <a:ln w="5724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1981080" y="3568680"/>
              <a:ext cx="152640" cy="457200"/>
            </a:xfrm>
            <a:custGeom>
              <a:avLst/>
              <a:gdLst>
                <a:gd name="textAreaLeft" fmla="*/ 22320 w 152640"/>
                <a:gd name="textAreaRight" fmla="*/ 130320 w 152640"/>
                <a:gd name="textAreaTop" fmla="*/ 22320 h 457200"/>
                <a:gd name="textAreaBottom" fmla="*/ 434880 h 457200"/>
              </a:gdLst>
              <a:ahLst/>
              <a:rect l="textAreaLeft" t="textAreaTop" r="textAreaRight" b="textAreaBottom"/>
              <a:pathLst>
                <a:path w="21600" h="64597">
                  <a:moveTo>
                    <a:pt x="10800" y="0"/>
                  </a:moveTo>
                  <a:arcTo wR="10800" hR="10800" stAng="16200000" swAng="-5400000"/>
                  <a:lnTo>
                    <a:pt x="0" y="53797"/>
                  </a:lnTo>
                  <a:arcTo wR="10800" hR="10800" stAng="10800000" swAng="-5400000"/>
                  <a:lnTo>
                    <a:pt x="10800" y="6459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81080" y="3124440"/>
              <a:ext cx="152640" cy="457200"/>
            </a:xfrm>
            <a:custGeom>
              <a:avLst/>
              <a:gdLst>
                <a:gd name="textAreaLeft" fmla="*/ 22320 w 152640"/>
                <a:gd name="textAreaRight" fmla="*/ 130320 w 152640"/>
                <a:gd name="textAreaTop" fmla="*/ 22320 h 457200"/>
                <a:gd name="textAreaBottom" fmla="*/ 434880 h 457200"/>
              </a:gdLst>
              <a:ahLst/>
              <a:rect l="textAreaLeft" t="textAreaTop" r="textAreaRight" b="textAreaBottom"/>
              <a:pathLst>
                <a:path w="21600" h="64597">
                  <a:moveTo>
                    <a:pt x="10800" y="0"/>
                  </a:moveTo>
                  <a:arcTo wR="10800" hR="10800" stAng="16200000" swAng="-5400000"/>
                  <a:lnTo>
                    <a:pt x="0" y="53797"/>
                  </a:lnTo>
                  <a:arcTo wR="10800" hR="10800" stAng="10800000" swAng="-5400000"/>
                  <a:lnTo>
                    <a:pt x="10800" y="6459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4320" y="3264120"/>
              <a:ext cx="139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295280" y="4648320"/>
            <a:ext cx="1219320" cy="1066680"/>
            <a:chOff x="1295280" y="4648320"/>
            <a:chExt cx="1219320" cy="1066680"/>
          </a:xfrm>
        </p:grpSpPr>
        <p:sp>
          <p:nvSpPr>
            <p:cNvPr id="124" name=""/>
            <p:cNvSpPr/>
            <p:nvPr/>
          </p:nvSpPr>
          <p:spPr>
            <a:xfrm>
              <a:off x="1295280" y="4648320"/>
              <a:ext cx="1219320" cy="1066680"/>
            </a:xfrm>
            <a:prstGeom prst="ellipse">
              <a:avLst/>
            </a:prstGeom>
            <a:solidFill>
              <a:srgbClr val="ffff99">
                <a:alpha val="92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76520" y="5168880"/>
              <a:ext cx="152280" cy="457200"/>
            </a:xfrm>
            <a:custGeom>
              <a:avLst/>
              <a:gdLst>
                <a:gd name="textAreaLeft" fmla="*/ 22320 w 152280"/>
                <a:gd name="textAreaRight" fmla="*/ 129960 w 152280"/>
                <a:gd name="textAreaTop" fmla="*/ 22320 h 457200"/>
                <a:gd name="textAreaBottom" fmla="*/ 434880 h 457200"/>
              </a:gdLst>
              <a:ahLst/>
              <a:rect l="textAreaLeft" t="textAreaTop" r="textAreaRight" b="textAreaBottom"/>
              <a:pathLst>
                <a:path w="21600" h="64749">
                  <a:moveTo>
                    <a:pt x="10800" y="0"/>
                  </a:moveTo>
                  <a:arcTo wR="10800" hR="10800" stAng="16200000" swAng="-5400000"/>
                  <a:lnTo>
                    <a:pt x="0" y="53949"/>
                  </a:lnTo>
                  <a:arcTo wR="10800" hR="10800" stAng="10800000" swAng="-5400000"/>
                  <a:lnTo>
                    <a:pt x="10800" y="6474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76520" y="4724640"/>
              <a:ext cx="152280" cy="457200"/>
            </a:xfrm>
            <a:custGeom>
              <a:avLst/>
              <a:gdLst>
                <a:gd name="textAreaLeft" fmla="*/ 22320 w 152280"/>
                <a:gd name="textAreaRight" fmla="*/ 129960 w 152280"/>
                <a:gd name="textAreaTop" fmla="*/ 22320 h 457200"/>
                <a:gd name="textAreaBottom" fmla="*/ 434880 h 457200"/>
              </a:gdLst>
              <a:ahLst/>
              <a:rect l="textAreaLeft" t="textAreaTop" r="textAreaRight" b="textAreaBottom"/>
              <a:pathLst>
                <a:path w="21600" h="64749">
                  <a:moveTo>
                    <a:pt x="10800" y="0"/>
                  </a:moveTo>
                  <a:arcTo wR="10800" hR="10800" stAng="16200000" swAng="-5400000"/>
                  <a:lnTo>
                    <a:pt x="0" y="53949"/>
                  </a:lnTo>
                  <a:arcTo wR="10800" hR="10800" stAng="10800000" swAng="-5400000"/>
                  <a:lnTo>
                    <a:pt x="10800" y="6474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79400" y="4864320"/>
              <a:ext cx="140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5168880"/>
              <a:ext cx="152640" cy="457200"/>
            </a:xfrm>
            <a:custGeom>
              <a:avLst/>
              <a:gdLst>
                <a:gd name="textAreaLeft" fmla="*/ 22320 w 152640"/>
                <a:gd name="textAreaRight" fmla="*/ 130320 w 152640"/>
                <a:gd name="textAreaTop" fmla="*/ 22320 h 457200"/>
                <a:gd name="textAreaBottom" fmla="*/ 434880 h 457200"/>
              </a:gdLst>
              <a:ahLst/>
              <a:rect l="textAreaLeft" t="textAreaTop" r="textAreaRight" b="textAreaBottom"/>
              <a:pathLst>
                <a:path w="21600" h="64597">
                  <a:moveTo>
                    <a:pt x="10800" y="0"/>
                  </a:moveTo>
                  <a:arcTo wR="10800" hR="10800" stAng="16200000" swAng="-5400000"/>
                  <a:lnTo>
                    <a:pt x="0" y="53797"/>
                  </a:lnTo>
                  <a:arcTo wR="10800" hR="10800" stAng="10800000" swAng="-5400000"/>
                  <a:lnTo>
                    <a:pt x="10800" y="6459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81080" y="4724640"/>
              <a:ext cx="152640" cy="457200"/>
            </a:xfrm>
            <a:custGeom>
              <a:avLst/>
              <a:gdLst>
                <a:gd name="textAreaLeft" fmla="*/ 22320 w 152640"/>
                <a:gd name="textAreaRight" fmla="*/ 130320 w 152640"/>
                <a:gd name="textAreaTop" fmla="*/ 22320 h 457200"/>
                <a:gd name="textAreaBottom" fmla="*/ 434880 h 457200"/>
              </a:gdLst>
              <a:ahLst/>
              <a:rect l="textAreaLeft" t="textAreaTop" r="textAreaRight" b="textAreaBottom"/>
              <a:pathLst>
                <a:path w="21600" h="64597">
                  <a:moveTo>
                    <a:pt x="10800" y="0"/>
                  </a:moveTo>
                  <a:arcTo wR="10800" hR="10800" stAng="16200000" swAng="-5400000"/>
                  <a:lnTo>
                    <a:pt x="0" y="53797"/>
                  </a:lnTo>
                  <a:arcTo wR="10800" hR="10800" stAng="10800000" swAng="-5400000"/>
                  <a:lnTo>
                    <a:pt x="10800" y="6459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4320" y="4864320"/>
              <a:ext cx="139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1601640"/>
            <a:ext cx="1218960" cy="1066680"/>
            <a:chOff x="5791320" y="1601640"/>
            <a:chExt cx="1218960" cy="1066680"/>
          </a:xfrm>
        </p:grpSpPr>
        <p:sp>
          <p:nvSpPr>
            <p:cNvPr id="132" name=""/>
            <p:cNvSpPr/>
            <p:nvPr/>
          </p:nvSpPr>
          <p:spPr>
            <a:xfrm>
              <a:off x="5791320" y="1601640"/>
              <a:ext cx="1218960" cy="1066680"/>
            </a:xfrm>
            <a:prstGeom prst="ellipse">
              <a:avLst/>
            </a:prstGeom>
            <a:solidFill>
              <a:srgbClr val="ffff99">
                <a:alpha val="92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167520" y="1697040"/>
              <a:ext cx="147600" cy="820080"/>
              <a:chOff x="6167520" y="1697040"/>
              <a:chExt cx="147600" cy="820080"/>
            </a:xfrm>
          </p:grpSpPr>
          <p:sp>
            <p:nvSpPr>
              <p:cNvPr id="134" name=""/>
              <p:cNvSpPr/>
              <p:nvPr/>
            </p:nvSpPr>
            <p:spPr>
              <a:xfrm>
                <a:off x="6167520" y="1844280"/>
                <a:ext cx="147600" cy="672840"/>
              </a:xfrm>
              <a:custGeom>
                <a:avLst/>
                <a:gdLst>
                  <a:gd name="textAreaLeft" fmla="*/ 21600 w 147600"/>
                  <a:gd name="textAreaRight" fmla="*/ 126000 w 147600"/>
                  <a:gd name="textAreaTop" fmla="*/ 21600 h 672840"/>
                  <a:gd name="textAreaBottom" fmla="*/ 651240 h 672840"/>
                </a:gdLst>
                <a:ahLst/>
                <a:rect l="textAreaLeft" t="textAreaTop" r="textAreaRight" b="textAreaBottom"/>
                <a:pathLst>
                  <a:path w="21600" h="98277">
                    <a:moveTo>
                      <a:pt x="10800" y="0"/>
                    </a:moveTo>
                    <a:arcTo wR="10800" hR="10800" stAng="16200000" swAng="-5400000"/>
                    <a:lnTo>
                      <a:pt x="0" y="87477"/>
                    </a:lnTo>
                    <a:arcTo wR="10800" hR="10800" stAng="10800000" swAng="-5400000"/>
                    <a:lnTo>
                      <a:pt x="10800" y="9827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70760" y="2377800"/>
                <a:ext cx="139680" cy="0"/>
              </a:xfrm>
              <a:prstGeom prst="line">
                <a:avLst/>
              </a:prstGeom>
              <a:ln w="5724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67520" y="1697040"/>
                <a:ext cx="144720" cy="15660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477120" y="1692000"/>
              <a:ext cx="147600" cy="820800"/>
              <a:chOff x="6477120" y="1692000"/>
              <a:chExt cx="147600" cy="820800"/>
            </a:xfrm>
          </p:grpSpPr>
          <p:sp>
            <p:nvSpPr>
              <p:cNvPr id="138" name=""/>
              <p:cNvSpPr/>
              <p:nvPr/>
            </p:nvSpPr>
            <p:spPr>
              <a:xfrm>
                <a:off x="6477120" y="1839600"/>
                <a:ext cx="147600" cy="673200"/>
              </a:xfrm>
              <a:custGeom>
                <a:avLst/>
                <a:gdLst>
                  <a:gd name="textAreaLeft" fmla="*/ 21600 w 147600"/>
                  <a:gd name="textAreaRight" fmla="*/ 126000 w 147600"/>
                  <a:gd name="textAreaTop" fmla="*/ 21600 h 673200"/>
                  <a:gd name="textAreaBottom" fmla="*/ 651600 h 673200"/>
                </a:gdLst>
                <a:ahLst/>
                <a:rect l="textAreaLeft" t="textAreaTop" r="textAreaRight" b="textAreaBottom"/>
                <a:pathLst>
                  <a:path w="21600" h="98330">
                    <a:moveTo>
                      <a:pt x="10800" y="0"/>
                    </a:moveTo>
                    <a:arcTo wR="10800" hR="10800" stAng="16200000" swAng="-5400000"/>
                    <a:lnTo>
                      <a:pt x="0" y="87530"/>
                    </a:lnTo>
                    <a:arcTo wR="10800" hR="10800" stAng="10800000" swAng="-5400000"/>
                    <a:lnTo>
                      <a:pt x="10800" y="9833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480360" y="2373120"/>
                <a:ext cx="139680" cy="0"/>
              </a:xfrm>
              <a:prstGeom prst="line">
                <a:avLst/>
              </a:prstGeom>
              <a:ln w="5724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477120" y="1692000"/>
                <a:ext cx="144720" cy="1569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5791320" y="4495680"/>
            <a:ext cx="1218960" cy="1066680"/>
            <a:chOff x="5791320" y="4495680"/>
            <a:chExt cx="1218960" cy="1066680"/>
          </a:xfrm>
        </p:grpSpPr>
        <p:sp>
          <p:nvSpPr>
            <p:cNvPr id="142" name=""/>
            <p:cNvSpPr/>
            <p:nvPr/>
          </p:nvSpPr>
          <p:spPr>
            <a:xfrm>
              <a:off x="5791320" y="4495680"/>
              <a:ext cx="1218960" cy="1066680"/>
            </a:xfrm>
            <a:prstGeom prst="ellipse">
              <a:avLst/>
            </a:prstGeom>
            <a:solidFill>
              <a:srgbClr val="ffff99">
                <a:alpha val="92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6167520" y="4590720"/>
              <a:ext cx="147600" cy="820800"/>
              <a:chOff x="6167520" y="4590720"/>
              <a:chExt cx="147600" cy="820800"/>
            </a:xfrm>
          </p:grpSpPr>
          <p:sp>
            <p:nvSpPr>
              <p:cNvPr id="144" name=""/>
              <p:cNvSpPr/>
              <p:nvPr/>
            </p:nvSpPr>
            <p:spPr>
              <a:xfrm>
                <a:off x="6167520" y="4738320"/>
                <a:ext cx="147600" cy="673200"/>
              </a:xfrm>
              <a:custGeom>
                <a:avLst/>
                <a:gdLst>
                  <a:gd name="textAreaLeft" fmla="*/ 21600 w 147600"/>
                  <a:gd name="textAreaRight" fmla="*/ 126000 w 147600"/>
                  <a:gd name="textAreaTop" fmla="*/ 21600 h 673200"/>
                  <a:gd name="textAreaBottom" fmla="*/ 651600 h 673200"/>
                </a:gdLst>
                <a:ahLst/>
                <a:rect l="textAreaLeft" t="textAreaTop" r="textAreaRight" b="textAreaBottom"/>
                <a:pathLst>
                  <a:path w="21600" h="98330">
                    <a:moveTo>
                      <a:pt x="10800" y="0"/>
                    </a:moveTo>
                    <a:arcTo wR="10800" hR="10800" stAng="16200000" swAng="-5400000"/>
                    <a:lnTo>
                      <a:pt x="0" y="87530"/>
                    </a:lnTo>
                    <a:arcTo wR="10800" hR="10800" stAng="10800000" swAng="-5400000"/>
                    <a:lnTo>
                      <a:pt x="10800" y="9833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70760" y="5271840"/>
                <a:ext cx="139680" cy="0"/>
              </a:xfrm>
              <a:prstGeom prst="line">
                <a:avLst/>
              </a:prstGeom>
              <a:ln w="5724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167520" y="4590720"/>
                <a:ext cx="144720" cy="1569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477120" y="4733640"/>
              <a:ext cx="147600" cy="673200"/>
            </a:xfrm>
            <a:custGeom>
              <a:avLst/>
              <a:gdLst>
                <a:gd name="textAreaLeft" fmla="*/ 21600 w 147600"/>
                <a:gd name="textAreaRight" fmla="*/ 126000 w 147600"/>
                <a:gd name="textAreaTop" fmla="*/ 21600 h 673200"/>
                <a:gd name="textAreaBottom" fmla="*/ 651600 h 673200"/>
              </a:gdLst>
              <a:ahLst/>
              <a:rect l="textAreaLeft" t="textAreaTop" r="textAreaRight" b="textAreaBottom"/>
              <a:pathLst>
                <a:path w="21600" h="98330">
                  <a:moveTo>
                    <a:pt x="10800" y="0"/>
                  </a:moveTo>
                  <a:arcTo wR="10800" hR="10800" stAng="16200000" swAng="-5400000"/>
                  <a:lnTo>
                    <a:pt x="0" y="87530"/>
                  </a:lnTo>
                  <a:arcTo wR="10800" hR="10800" stAng="10800000" swAng="-5400000"/>
                  <a:lnTo>
                    <a:pt x="10800" y="9833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80000" y="5267160"/>
              <a:ext cx="140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77120" y="4586040"/>
              <a:ext cx="144360" cy="1573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28600" y="1004760"/>
            <a:ext cx="4600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tazioni in un gene soppressore del tu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1004760"/>
            <a:ext cx="3570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tazioni in un proto-onco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08960" y="1384200"/>
            <a:ext cx="2150280" cy="523800"/>
            <a:chOff x="2208960" y="1384200"/>
            <a:chExt cx="2150280" cy="523800"/>
          </a:xfrm>
        </p:grpSpPr>
        <p:sp>
          <p:nvSpPr>
            <p:cNvPr id="153" name=""/>
            <p:cNvSpPr/>
            <p:nvPr/>
          </p:nvSpPr>
          <p:spPr>
            <a:xfrm>
              <a:off x="2530440" y="1384200"/>
              <a:ext cx="1828800" cy="52020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Gene soppressor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el tu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"/>
            <p:cNvCxnSpPr/>
            <p:nvPr/>
          </p:nvCxnSpPr>
          <p:spPr>
            <a:xfrm flipH="1">
              <a:off x="2208960" y="1652400"/>
              <a:ext cx="315000" cy="255960"/>
            </a:xfrm>
            <a:prstGeom prst="straightConnector1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</p:cxnSp>
      </p:grpSp>
      <p:grpSp>
        <p:nvGrpSpPr>
          <p:cNvPr id="155" name=""/>
          <p:cNvGrpSpPr/>
          <p:nvPr/>
        </p:nvGrpSpPr>
        <p:grpSpPr>
          <a:xfrm>
            <a:off x="1852560" y="2514600"/>
            <a:ext cx="2097360" cy="520200"/>
            <a:chOff x="1852560" y="2514600"/>
            <a:chExt cx="2097360" cy="520200"/>
          </a:xfrm>
        </p:grpSpPr>
        <p:sp>
          <p:nvSpPr>
            <p:cNvPr id="156" name=""/>
            <p:cNvSpPr/>
            <p:nvPr/>
          </p:nvSpPr>
          <p:spPr>
            <a:xfrm>
              <a:off x="2143080" y="2514600"/>
              <a:ext cx="1806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ontrollo norm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ella cres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52560" y="26514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849320" y="4038480"/>
            <a:ext cx="2100600" cy="520200"/>
            <a:chOff x="1849320" y="4038480"/>
            <a:chExt cx="2100600" cy="520200"/>
          </a:xfrm>
        </p:grpSpPr>
        <p:sp>
          <p:nvSpPr>
            <p:cNvPr id="159" name=""/>
            <p:cNvSpPr/>
            <p:nvPr/>
          </p:nvSpPr>
          <p:spPr>
            <a:xfrm>
              <a:off x="2143080" y="4038480"/>
              <a:ext cx="1806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ontrollo norm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ella cres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49320" y="4136760"/>
              <a:ext cx="152640" cy="381240"/>
            </a:xfrm>
            <a:prstGeom prst="downArrow">
              <a:avLst>
                <a:gd name="adj1" fmla="val 50000"/>
                <a:gd name="adj2" fmla="val 624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44360" y="5791320"/>
            <a:ext cx="3830760" cy="552960"/>
            <a:chOff x="144360" y="5791320"/>
            <a:chExt cx="3830760" cy="552960"/>
          </a:xfrm>
        </p:grpSpPr>
        <p:sp>
          <p:nvSpPr>
            <p:cNvPr id="162" name=""/>
            <p:cNvSpPr/>
            <p:nvPr/>
          </p:nvSpPr>
          <p:spPr>
            <a:xfrm>
              <a:off x="144360" y="6037200"/>
              <a:ext cx="383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ERDITA DI CONTROLLO DELLA CRES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60480" y="5791320"/>
              <a:ext cx="136440" cy="228600"/>
            </a:xfrm>
            <a:prstGeom prst="downArrow">
              <a:avLst>
                <a:gd name="adj1" fmla="val 50000"/>
                <a:gd name="adj2" fmla="val 418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338880" y="2743200"/>
            <a:ext cx="2026080" cy="1676520"/>
            <a:chOff x="6338880" y="2743200"/>
            <a:chExt cx="2026080" cy="1676520"/>
          </a:xfrm>
        </p:grpSpPr>
        <p:sp>
          <p:nvSpPr>
            <p:cNvPr id="165" name=""/>
            <p:cNvSpPr/>
            <p:nvPr/>
          </p:nvSpPr>
          <p:spPr>
            <a:xfrm>
              <a:off x="6558120" y="3380400"/>
              <a:ext cx="1806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ontrollo norm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ella cres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38880" y="2743200"/>
              <a:ext cx="107280" cy="1676520"/>
            </a:xfrm>
            <a:prstGeom prst="downArrow">
              <a:avLst>
                <a:gd name="adj1" fmla="val 60417"/>
                <a:gd name="adj2" fmla="val 864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705720" y="2438280"/>
            <a:ext cx="2032560" cy="383400"/>
            <a:chOff x="6705720" y="2438280"/>
            <a:chExt cx="2032560" cy="383400"/>
          </a:xfrm>
        </p:grpSpPr>
        <p:sp>
          <p:nvSpPr>
            <p:cNvPr id="168" name=""/>
            <p:cNvSpPr/>
            <p:nvPr/>
          </p:nvSpPr>
          <p:spPr>
            <a:xfrm>
              <a:off x="7140240" y="2514600"/>
              <a:ext cx="1598040" cy="3070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roto-oncog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05720" y="2438280"/>
              <a:ext cx="457200" cy="26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904760" y="4898880"/>
            <a:ext cx="2532240" cy="520200"/>
            <a:chOff x="1904760" y="4898880"/>
            <a:chExt cx="2532240" cy="520200"/>
          </a:xfrm>
        </p:grpSpPr>
        <p:sp>
          <p:nvSpPr>
            <p:cNvPr id="171" name=""/>
            <p:cNvSpPr/>
            <p:nvPr/>
          </p:nvSpPr>
          <p:spPr>
            <a:xfrm>
              <a:off x="2608200" y="4898880"/>
              <a:ext cx="1828800" cy="52020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ntrambi gli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lleli sono muta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1904760" y="4952520"/>
              <a:ext cx="685800" cy="2286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209320" y="4952520"/>
              <a:ext cx="381240" cy="2286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944960" y="5791320"/>
            <a:ext cx="3830760" cy="541800"/>
            <a:chOff x="4944960" y="5791320"/>
            <a:chExt cx="3830760" cy="541800"/>
          </a:xfrm>
        </p:grpSpPr>
        <p:sp>
          <p:nvSpPr>
            <p:cNvPr id="175" name=""/>
            <p:cNvSpPr/>
            <p:nvPr/>
          </p:nvSpPr>
          <p:spPr>
            <a:xfrm>
              <a:off x="4944960" y="6026040"/>
              <a:ext cx="383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ERDITA DI CONTROLLO DELLA CRES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00800" y="5791320"/>
              <a:ext cx="136440" cy="228600"/>
            </a:xfrm>
            <a:prstGeom prst="downArrow">
              <a:avLst>
                <a:gd name="adj1" fmla="val 50000"/>
                <a:gd name="adj2" fmla="val 418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705720" y="4994280"/>
            <a:ext cx="2292120" cy="529920"/>
            <a:chOff x="6705720" y="4994280"/>
            <a:chExt cx="2292120" cy="529920"/>
          </a:xfrm>
        </p:grpSpPr>
        <p:sp>
          <p:nvSpPr>
            <p:cNvPr id="178" name=""/>
            <p:cNvSpPr/>
            <p:nvPr/>
          </p:nvSpPr>
          <p:spPr>
            <a:xfrm>
              <a:off x="7018920" y="4994280"/>
              <a:ext cx="1978920" cy="52020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roto-oncog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mutato in oncog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6705720" y="5333760"/>
              <a:ext cx="380880" cy="1904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16560" y="65739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16480" y="19494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utazioni che intaccano la stabilità dell’intero  gen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41640" y="1600200"/>
            <a:ext cx="4780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Atassia telangectas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25909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Patologia recessiva caratterizzata da disturbi neurologici e dilatazione dei vasi sanguigni nella congiuntiva e nei bulbi ocu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2160" y="4191120"/>
            <a:ext cx="74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Pazienti con AT hanno predisposizione ai tum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85920" y="472428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CHE’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4100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1119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11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1119"/>
                </a:solidFill>
                <a:latin typeface="Comic Sans MS"/>
              </a:rPr>
              <a:t>LA MUTAZIONE ALLA BASE DI QUESTA PATOLOGIA E’ IN UN GENE ADIBITO AL RIPARO DEGLI ERRORI DEL 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16560" y="65739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utazioni che aumentano la proliferazione cellu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30200" y="224784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7720" y="1066680"/>
            <a:ext cx="455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Carcinoma del col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640" y="5638680"/>
            <a:ext cx="91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empio di progressione a tappe da tumore benigno a tumore malig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38862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114800"/>
            <a:ext cx="1219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perplasia Le cellule conservano morfolo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419112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ncro in situ Le cellule perdono il contatto con il tess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066680" y="2286000"/>
            <a:ext cx="6605640" cy="19479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04920" y="175248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 cellule mutate iniziano a duplicarsi in modo incontroll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2666880"/>
            <a:ext cx="2286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33720" y="350496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20574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splasia. Le cellule perdono morfolo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281952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257800" y="34286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1520" y="1523880"/>
            <a:ext cx="1523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ncro invasivo Le cellule divengo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vasive e metastatizz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3581280"/>
            <a:ext cx="2971800" cy="307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cesso di vascolarizz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6480" y="19494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55680" y="228600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600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’ cruciale il tipo cellulare dove si localizza la mutazione</a:t>
            </a:r>
            <a:r>
              <a:rPr b="0" lang="en-US" sz="4400" spc="-1" strike="noStrike">
                <a:solidFill>
                  <a:srgbClr val="ffff02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03480" y="27432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358128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empio: traslocazione di un gene, poco attivo o inattivo, in prossimita’ della zona regolatrice di un altro gene attivamente trascritto in un tipo cellu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28800" y="5524560"/>
            <a:ext cx="407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Esempi: linfo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8T13:04:24Z</dcterms:created>
  <dc:creator>Rocchi</dc:creator>
  <dc:description/>
  <dc:language>en-US</dc:language>
  <cp:lastModifiedBy>M.Rocchi</cp:lastModifiedBy>
  <dcterms:modified xsi:type="dcterms:W3CDTF">2003-01-31T17:29:58Z</dcterms:modified>
  <cp:revision>322</cp:revision>
  <dc:subject/>
  <dc:title>PowerPoint Presentation</dc:title>
</cp:coreProperties>
</file>