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C62-E21A-4482-B970-2A007124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E75-81F5-46FF-A86D-12113AFA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460D-4F6F-45E9-A415-D9F917C9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F1FE-927B-4659-8169-64575CD6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E3D-9C55-4368-A0B4-E1FB3868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87E-2351-4AC2-BF68-F599BBFD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ED2-484A-430A-A08E-68D5C9F6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D8D-F453-4196-9310-BB125191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4761-4EA3-46CE-91C7-E87CEE63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5D7-08E8-42D1-8B35-2E6F7BF8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5C3-0594-47A2-B246-BAB4A66F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5D7-35EB-4861-9055-9263C349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0A8A-4A87-48FC-A60F-F1CB88644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81280"/>
            <a:ext cx="38102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I DI COLTURE CELLUL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29200" y="20574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ture di tess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3962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ture di org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9436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ture di cell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22860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63"/>
                </a:lnTo>
                <a:cubicBezTo>
                  <a:pt x="10800" y="9263"/>
                  <a:pt x="5400" y="10163"/>
                  <a:pt x="0" y="10163"/>
                </a:cubicBezTo>
                <a:cubicBezTo>
                  <a:pt x="5400" y="10163"/>
                  <a:pt x="10800" y="11063"/>
                  <a:pt x="10800" y="1196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1800" y="6854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COLTURE CELLUL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2239920"/>
            <a:ext cx="4343400" cy="3259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48640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LIEVO DI PARTE DELLA MEMBRANA FRAMMENT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48320" y="2201760"/>
            <a:ext cx="4419360" cy="3316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952880" y="556272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SIZIONAMENTO DEI FRAMMENTI IN UNA CAPSULA PETRI PICC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4495680" cy="3373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2280" y="5189400"/>
            <a:ext cx="42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TRIBUZIONE DEI FRAMMENTI NELLA CAPSULA PETRI PICC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83160" y="1913040"/>
            <a:ext cx="4484520" cy="336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876920" y="518940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RAMMENTI DISTRIBUITI UNIFORME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920" y="1406520"/>
            <a:ext cx="3962160" cy="2973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04920" y="422928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SIZIONAMENTO DEL VETRINO ROT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724280" y="1332000"/>
            <a:ext cx="4419720" cy="2554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00600" y="3505320"/>
            <a:ext cx="41911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IMIN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LLE BOLLE D’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572000" y="4451400"/>
            <a:ext cx="4419720" cy="2330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62120" y="57913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GGIUNTA DEL TER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90920" y="58672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BROBLASTI CRESCIUTI INTORNO AD UN FRAMMENTO DI TESS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09320" y="6858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ONE DI CRES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3989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399280" cy="4051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62320" y="586728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BROBLASTI CRESCIUTI INTORNO AD UN FRAMMENTO DI TESS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0560" y="7621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ONE DI CRES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59480" cy="4406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23720" y="761760"/>
            <a:ext cx="3048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FIBROB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3720" y="761760"/>
            <a:ext cx="3048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FIBROB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8784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CELLULE ENDOTELI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64879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119640" cy="4089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90920" y="761760"/>
            <a:ext cx="4114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CELLULE EPITELI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22920" cy="4822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00040" y="99036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LINFOB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12952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PI DI CO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362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lture cell.ri prim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3623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lture cell.ri stabilizz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30481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b07"/>
                </a:solidFill>
                <a:uFillTx/>
                <a:latin typeface="Comic Sans MS"/>
              </a:rPr>
              <a:t>NO 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Cariotipo nor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46483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b07"/>
                </a:solidFill>
                <a:uFillTx/>
                <a:latin typeface="Comic Sans MS"/>
              </a:rPr>
              <a:t>NO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 Senesc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61720" y="5308560"/>
            <a:ext cx="247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b07"/>
                </a:solidFill>
                <a:uFillTx/>
                <a:latin typeface="Comic Sans MS"/>
              </a:rPr>
              <a:t>SI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 Trasformazio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spontan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3733920"/>
            <a:ext cx="289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b07"/>
                </a:solidFill>
                <a:uFillTx/>
                <a:latin typeface="Comic Sans MS"/>
              </a:rPr>
              <a:t>NO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 Inibizione da                                    conta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048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b07"/>
                </a:solidFill>
                <a:uFillTx/>
                <a:latin typeface="Comic Sans MS"/>
              </a:rPr>
              <a:t>SI 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Cariotipo nor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80988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b07"/>
                </a:solidFill>
                <a:uFillTx/>
                <a:latin typeface="Comic Sans MS"/>
              </a:rPr>
              <a:t>SI 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Inibizione da      contatto</a:t>
            </a:r>
            <a:r>
              <a:rPr b="1" lang="en-US" sz="2000" spc="-1" strike="noStrike">
                <a:solidFill>
                  <a:srgbClr val="2e20f9"/>
                </a:solidFill>
                <a:latin typeface="Comic Sans MS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6483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b07"/>
                </a:solidFill>
                <a:uFillTx/>
                <a:latin typeface="Comic Sans MS"/>
              </a:rPr>
              <a:t>SI 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Senesc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18148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b07"/>
                </a:solidFill>
                <a:uFillTx/>
                <a:latin typeface="Comic Sans MS"/>
              </a:rPr>
              <a:t>No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 Trasformazioni        spontan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8017800">
            <a:off x="1333080" y="1714320"/>
            <a:ext cx="1371600" cy="3808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b07"/>
              </a:gs>
              <a:gs pos="100000">
                <a:srgbClr val="ff0b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3087600">
            <a:off x="6210360" y="1714320"/>
            <a:ext cx="1371600" cy="3808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b07"/>
              </a:gs>
              <a:gs pos="100000">
                <a:srgbClr val="ff0b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23920" y="685440"/>
            <a:ext cx="403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COLTURE CELLUL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52480" y="1905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1124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2120" y="1295280"/>
            <a:ext cx="4800600" cy="2133720"/>
            <a:chOff x="762120" y="1295280"/>
            <a:chExt cx="4800600" cy="2133720"/>
          </a:xfrm>
        </p:grpSpPr>
        <p:sp>
          <p:nvSpPr>
            <p:cNvPr id="222" name=""/>
            <p:cNvSpPr/>
            <p:nvPr/>
          </p:nvSpPr>
          <p:spPr>
            <a:xfrm>
              <a:off x="762120" y="236232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liminazione del terreno di colt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62120" y="1295280"/>
              <a:ext cx="3200400" cy="1067040"/>
              <a:chOff x="762120" y="1295280"/>
              <a:chExt cx="3200400" cy="1067040"/>
            </a:xfrm>
          </p:grpSpPr>
          <p:sp>
            <p:nvSpPr>
              <p:cNvPr id="224" name=""/>
              <p:cNvSpPr/>
              <p:nvPr/>
            </p:nvSpPr>
            <p:spPr>
              <a:xfrm>
                <a:off x="762120" y="1295280"/>
                <a:ext cx="320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giunta di colchici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09680" y="1828800"/>
                <a:ext cx="228600" cy="533520"/>
              </a:xfrm>
              <a:prstGeom prst="downArrow">
                <a:avLst>
                  <a:gd name="adj1" fmla="val 50000"/>
                  <a:gd name="adj2" fmla="val 58346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209680" y="28954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62120" y="3429000"/>
            <a:ext cx="4647960" cy="1066680"/>
            <a:chOff x="762120" y="3429000"/>
            <a:chExt cx="4647960" cy="1066680"/>
          </a:xfrm>
        </p:grpSpPr>
        <p:sp>
          <p:nvSpPr>
            <p:cNvPr id="228" name=""/>
            <p:cNvSpPr/>
            <p:nvPr/>
          </p:nvSpPr>
          <p:spPr>
            <a:xfrm>
              <a:off x="762120" y="342900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ggiunta della soluzione ipoton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71600" y="39625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62120" y="4495680"/>
            <a:ext cx="1828800" cy="1526760"/>
            <a:chOff x="762120" y="4495680"/>
            <a:chExt cx="1828800" cy="1526760"/>
          </a:xfrm>
        </p:grpSpPr>
        <p:sp>
          <p:nvSpPr>
            <p:cNvPr id="231" name=""/>
            <p:cNvSpPr/>
            <p:nvPr/>
          </p:nvSpPr>
          <p:spPr>
            <a:xfrm>
              <a:off x="762120" y="4495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fissagg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556272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ssagg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71600" y="502920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58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PREPARAZIONE DEL VETR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38080" y="176364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NDEGGIO COL FLUOROCROMO MOSTARDA DI QUINAC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39736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ISI DELLE IMMAGIN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61070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RI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1459080"/>
            <a:ext cx="838080" cy="2357280"/>
          </a:xfrm>
          <a:custGeom>
            <a:avLst/>
            <a:gdLst>
              <a:gd name="textAreaLeft" fmla="*/ 112320 w 838080"/>
              <a:gd name="textAreaRight" fmla="*/ 725760 w 838080"/>
              <a:gd name="textAreaTop" fmla="*/ 412560 h 2357280"/>
              <a:gd name="textAreaBottom" fmla="*/ 17092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40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06840"/>
            <a:ext cx="380880" cy="1524240"/>
          </a:xfrm>
          <a:prstGeom prst="downArrow">
            <a:avLst>
              <a:gd name="adj1" fmla="val 50000"/>
              <a:gd name="adj2" fmla="val 100047"/>
            </a:avLst>
          </a:prstGeom>
          <a:solidFill>
            <a:srgbClr val="340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830680"/>
            <a:ext cx="73152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SSERVAZIONE AL MICROSCOPIO E ACQUIS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LE IMMAG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OSSERVAZIONE DEL PREPA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84440" y="1752480"/>
            <a:ext cx="6011640" cy="4797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09520" y="96696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75248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14240" y="990360"/>
            <a:ext cx="3352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CARIOTIPO Q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724280" y="594360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TAFASE 45, X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1336680"/>
            <a:ext cx="4422600" cy="4495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57200" y="58928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TAFASE 47,XX +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ESEMPI DI CARIOTIPI  ABOR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5410080" cy="5410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ESEMPIO CARIOTIPO ABOR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819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TAFASE 92 XXY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858000" y="23623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6172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3200400" y="838080"/>
          <a:ext cx="5867280" cy="58039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CENTUALE DELLE ANOMAL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A’ GESTAZIONALE (settima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e dalla 2^-7^ set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e dall’ 8^-12^ set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320" y="99072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NOMALIE </a:t>
            </a:r>
            <a:br>
              <a:rPr sz="2800"/>
            </a:b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ED ETA’ GESTAZ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600200" y="2895480"/>
          <a:ext cx="7192800" cy="3071880"/>
        </p:xfrm>
        <a:graphic>
          <a:graphicData uri="http://schemas.openxmlformats.org/drawingml/2006/table">
            <a:tbl>
              <a:tblPr/>
              <a:tblGrid>
                <a:gridCol w="1403280"/>
                <a:gridCol w="1401840"/>
                <a:gridCol w="1405080"/>
                <a:gridCol w="1403280"/>
                <a:gridCol w="157932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-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-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0" name=""/>
          <p:cNvGrpSpPr/>
          <p:nvPr/>
        </p:nvGrpSpPr>
        <p:grpSpPr>
          <a:xfrm>
            <a:off x="1523880" y="1981080"/>
            <a:ext cx="7315200" cy="824040"/>
            <a:chOff x="1523880" y="1981080"/>
            <a:chExt cx="7315200" cy="824040"/>
          </a:xfrm>
        </p:grpSpPr>
        <p:sp>
          <p:nvSpPr>
            <p:cNvPr id="291" name=""/>
            <p:cNvSpPr/>
            <p:nvPr/>
          </p:nvSpPr>
          <p:spPr>
            <a:xfrm>
              <a:off x="1523880" y="1981080"/>
              <a:ext cx="152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6007a"/>
                  </a:solidFill>
                  <a:latin typeface="Comic Sans MS"/>
                </a:rPr>
                <a:t>ETA’ MATERNA (ann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95480" y="2057400"/>
              <a:ext cx="152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6007a"/>
                  </a:solidFill>
                  <a:latin typeface="Comic Sans MS"/>
                </a:rPr>
                <a:t>NUMERO DI CARIOTI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205740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6007a"/>
                  </a:solidFill>
                  <a:latin typeface="Comic Sans MS"/>
                </a:rPr>
                <a:t>% DI ANOMAL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205740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6007a"/>
                  </a:solidFill>
                  <a:latin typeface="Comic Sans MS"/>
                </a:rPr>
                <a:t>% DI TRISOM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388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6007a"/>
                  </a:solidFill>
                  <a:latin typeface="Comic Sans MS"/>
                </a:rPr>
                <a:t>% DI NON-TRISOMI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09680" y="7617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EFFETTO DELL’ETA’ MA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2819520" y="0"/>
            <a:ext cx="5562360" cy="580680"/>
            <a:chOff x="2819520" y="0"/>
            <a:chExt cx="5562360" cy="580680"/>
          </a:xfrm>
        </p:grpSpPr>
        <p:sp>
          <p:nvSpPr>
            <p:cNvPr id="303" name=""/>
            <p:cNvSpPr/>
            <p:nvPr/>
          </p:nvSpPr>
          <p:spPr>
            <a:xfrm>
              <a:off x="2819520" y="1522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df911"/>
                  </a:solidFill>
                  <a:latin typeface="Textile"/>
                </a:rPr>
                <a:t>ANOMAL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00600" y="0"/>
              <a:ext cx="17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df911"/>
                  </a:solidFill>
                  <a:latin typeface="Textile"/>
                </a:rPr>
                <a:t>ABORTI SPONTANE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29400" y="1522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df911"/>
                  </a:solidFill>
                  <a:latin typeface="Textile"/>
                </a:rPr>
                <a:t>NATI VI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6" name=""/>
          <p:cNvGraphicFramePr/>
          <p:nvPr/>
        </p:nvGraphicFramePr>
        <p:xfrm>
          <a:off x="2971800" y="685800"/>
          <a:ext cx="5532480" cy="5979960"/>
        </p:xfrm>
        <a:graphic>
          <a:graphicData uri="http://schemas.openxmlformats.org/drawingml/2006/table">
            <a:tbl>
              <a:tblPr/>
              <a:tblGrid>
                <a:gridCol w="1843200"/>
                <a:gridCol w="1844640"/>
                <a:gridCol w="184464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somie autoso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8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e triso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.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osomie della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somie crom. sessu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ploid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traploid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e anomal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.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mero dei carioti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1676520"/>
            <a:ext cx="2590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CONFRONTO </a:t>
            </a:r>
            <a:br>
              <a:rPr sz="2800"/>
            </a:b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BORTI  E </a:t>
            </a:r>
            <a:br>
              <a:rPr sz="2800"/>
            </a:b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NATI V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828800" y="1981080"/>
          <a:ext cx="5638680" cy="4529160"/>
        </p:xfrm>
        <a:graphic>
          <a:graphicData uri="http://schemas.openxmlformats.org/drawingml/2006/table">
            <a:tbl>
              <a:tblPr/>
              <a:tblGrid>
                <a:gridCol w="2832120"/>
                <a:gridCol w="280656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osomie degli autoso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traploi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ploi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osomie della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somie degli autoso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aicis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arrangiamenti struttur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somie dei cromos.  sessu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18288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OM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1447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 di MORTE PRENA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ESITI DELLE ANOMALIE CROMOSOM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1828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7"/>
                </a:solidFill>
                <a:latin typeface="Comic Sans MS"/>
              </a:rPr>
              <a:t>EMBR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24382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O ALLA 11° SETTIM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 AMENOR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7"/>
                </a:solidFill>
                <a:latin typeface="Textile"/>
              </a:rPr>
              <a:t>    </a:t>
            </a:r>
            <a:r>
              <a:rPr b="0" lang="en-US" sz="2400" spc="-1" strike="noStrike">
                <a:solidFill>
                  <a:srgbClr val="ff0b07"/>
                </a:solidFill>
                <a:latin typeface="Textile"/>
              </a:rPr>
              <a:t>F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45720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DALLA 12° SETTIMANA DI AMENORREA (iniziano i       processi di ossifica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43440" y="1386000"/>
            <a:ext cx="5060880" cy="5181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DISTINZIONE TRA EMBRIONE E F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43200" y="57913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MERA GESTA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399280" cy="4064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5399280" cy="405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8620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MERA GESTA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5640" y="761760"/>
            <a:ext cx="6248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28800" y="60199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MERA GESTAZIONALE E SACCO VITELL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057400" y="1816200"/>
            <a:ext cx="5398920" cy="4051080"/>
            <a:chOff x="2057400" y="1816200"/>
            <a:chExt cx="5398920" cy="405108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057400" y="1816200"/>
              <a:ext cx="5398920" cy="40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95680" y="2501640"/>
              <a:ext cx="0" cy="838080"/>
            </a:xfrm>
            <a:prstGeom prst="line">
              <a:avLst/>
            </a:prstGeom>
            <a:ln w="38160">
              <a:solidFill>
                <a:srgbClr val="340d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5480" y="3797280"/>
              <a:ext cx="762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398920" cy="405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52480" y="594360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ELIEVO DI UN PICCOLO FRAMMENTO DI MEMB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8072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7480" y="1371600"/>
            <a:ext cx="4484520" cy="336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49989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IMINAZIONE DEI VIL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97560" y="1371600"/>
            <a:ext cx="4495680" cy="3373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29200" y="4876920"/>
            <a:ext cx="35053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BRANA PARZIALM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IVA DEI VIL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" y="157320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080" y="54100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AMMENTAZIONE DI UN PICCOLO PEZZO DI CAM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21240" y="157320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5:27:09Z</dcterms:created>
  <dc:creator>Bo</dc:creator>
  <dc:description/>
  <dc:language>en-US</dc:language>
  <cp:lastModifiedBy>Rocchi</cp:lastModifiedBy>
  <cp:lastPrinted>2002-11-18T15:32:41Z</cp:lastPrinted>
  <dcterms:modified xsi:type="dcterms:W3CDTF">2003-02-03T10:32:35Z</dcterms:modified>
  <cp:revision>270</cp:revision>
  <dc:subject/>
  <dc:title>ANALISI CITOGENETICA DI 100 ABORTI SPONTANEI UMANI NEL PRIMO TRIMESTRE DI GRAVIDANZA</dc:title>
</cp:coreProperties>
</file>