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5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55E-A643-41CD-A5C2-115F85E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299-ADA3-4A0D-999E-695C2B8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F33-A905-4811-8C30-56D077C8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FEA-C498-46AF-A915-39358D01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A1F-A798-45C5-A0C4-803A36E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B6B-812B-4424-ABAF-CF25F91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8DE-0A6C-4625-9F2A-49071D9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8A1-2D96-4D1A-96BB-B973929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5C8-8057-4F50-8E72-0208064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609-A01C-4B0D-958D-4DC1559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26D-956F-4321-97B5-137A913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07C-3909-4FBC-AB77-FE13391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C5B-3C71-4D17-9C0B-57CEB9BF4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8920" y="36021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2232000"/>
            <a:ext cx="206028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2357280"/>
            <a:ext cx="1218960" cy="60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90920" y="3417840"/>
            <a:ext cx="4516200" cy="6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90920" y="43560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05400" y="4427640"/>
            <a:ext cx="1528920" cy="5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66880" y="5340240"/>
            <a:ext cx="103032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06960" y="5302080"/>
            <a:ext cx="1785960" cy="34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304812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121280"/>
            <a:ext cx="44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895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1720" y="488304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70852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3280" y="572148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39040" y="29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1200" y="29718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0449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0760" y="480060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01720" y="48070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83360" y="56451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0400" y="564516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4724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ferenza di Den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9520" y="6843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480" y="2057400"/>
            <a:ext cx="3513960" cy="1231920"/>
            <a:chOff x="609480" y="2057400"/>
            <a:chExt cx="3513960" cy="1231920"/>
          </a:xfrm>
        </p:grpSpPr>
        <p:sp>
          <p:nvSpPr>
            <p:cNvPr id="175" name=""/>
            <p:cNvSpPr/>
            <p:nvPr/>
          </p:nvSpPr>
          <p:spPr>
            <a:xfrm>
              <a:off x="2796840" y="2743200"/>
              <a:ext cx="132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9480" y="2057400"/>
              <a:ext cx="2210040" cy="1231920"/>
              <a:chOff x="609480" y="2057400"/>
              <a:chExt cx="2210040" cy="123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99036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480" y="2793960"/>
                <a:ext cx="22100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2120" y="2743200"/>
                <a:ext cx="198108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3880" y="2819520"/>
                <a:ext cx="228600" cy="38088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380880"/>
                  <a:gd name="textAreaBottom" fmla="*/ 369720 h 380880"/>
                </a:gdLst>
                <a:ahLst/>
                <a:rect l="textAreaLeft" t="textAreaTop" r="textAreaRight" b="textAreaBottom"/>
                <a:pathLst>
                  <a:path w="21600" h="35966">
                    <a:moveTo>
                      <a:pt x="3600" y="0"/>
                    </a:moveTo>
                    <a:arcTo wR="3600" hR="3600" stAng="16200000" swAng="-5400000"/>
                    <a:lnTo>
                      <a:pt x="0" y="32366"/>
                    </a:lnTo>
                    <a:arcTo wR="3600" hR="3600" stAng="10800000" swAng="-5400000"/>
                    <a:lnTo>
                      <a:pt x="18000" y="359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152280" y="3174840"/>
            <a:ext cx="2743200" cy="1231920"/>
            <a:chOff x="152280" y="3174840"/>
            <a:chExt cx="2743200" cy="1231920"/>
          </a:xfrm>
        </p:grpSpPr>
        <p:sp>
          <p:nvSpPr>
            <p:cNvPr id="183" name=""/>
            <p:cNvSpPr/>
            <p:nvPr/>
          </p:nvSpPr>
          <p:spPr>
            <a:xfrm>
              <a:off x="170172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92700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38862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3886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96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2280" y="4406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2120" y="440676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438280" y="44067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66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9892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1415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938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464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5987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7510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036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0559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082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3608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5131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4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47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596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824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240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192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73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144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4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104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840" y="40528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4051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18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5280" y="403848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6520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324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01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62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8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73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536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23040" y="3709440"/>
            <a:ext cx="1746000" cy="2738520"/>
            <a:chOff x="7223040" y="3709440"/>
            <a:chExt cx="1746000" cy="2738520"/>
          </a:xfrm>
        </p:grpSpPr>
        <p:grpSp>
          <p:nvGrpSpPr>
            <p:cNvPr id="240" name=""/>
            <p:cNvGrpSpPr/>
            <p:nvPr/>
          </p:nvGrpSpPr>
          <p:grpSpPr>
            <a:xfrm>
              <a:off x="7223040" y="3709440"/>
              <a:ext cx="1746000" cy="2738520"/>
              <a:chOff x="7223040" y="3709440"/>
              <a:chExt cx="1746000" cy="2738520"/>
            </a:xfrm>
          </p:grpSpPr>
          <p:sp>
            <p:nvSpPr>
              <p:cNvPr id="241" name=""/>
              <p:cNvSpPr/>
              <p:nvPr/>
            </p:nvSpPr>
            <p:spPr>
              <a:xfrm rot="5388600">
                <a:off x="7391880" y="4799880"/>
                <a:ext cx="2662200" cy="482760"/>
              </a:xfrm>
              <a:prstGeom prst="parallelogram">
                <a:avLst>
                  <a:gd name="adj" fmla="val 13786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8557200" y="4419000"/>
                <a:ext cx="309600" cy="1220040"/>
                <a:chOff x="8557200" y="4419000"/>
                <a:chExt cx="309600" cy="1220040"/>
              </a:xfrm>
            </p:grpSpPr>
            <p:sp>
              <p:nvSpPr>
                <p:cNvPr id="243" name=""/>
                <p:cNvSpPr/>
                <p:nvPr/>
              </p:nvSpPr>
              <p:spPr>
                <a:xfrm rot="5385000">
                  <a:off x="8408160" y="518076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385000">
                  <a:off x="8557920" y="457128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5385000">
                  <a:off x="8255880" y="518148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5385000">
                  <a:off x="8405640" y="457200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5385000">
                  <a:off x="8634960" y="4762080"/>
                  <a:ext cx="151920" cy="228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7538760" y="5052240"/>
                <a:ext cx="1077120" cy="71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543800" y="510552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3040" y="5867280"/>
                <a:ext cx="142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534520" y="5029200"/>
              <a:ext cx="16488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99400" y="5016600"/>
              <a:ext cx="16524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3040" y="4495680"/>
            <a:ext cx="2692440" cy="1282320"/>
            <a:chOff x="203040" y="4495680"/>
            <a:chExt cx="2692440" cy="1282320"/>
          </a:xfrm>
        </p:grpSpPr>
        <p:sp>
          <p:nvSpPr>
            <p:cNvPr id="254" name=""/>
            <p:cNvSpPr/>
            <p:nvPr/>
          </p:nvSpPr>
          <p:spPr>
            <a:xfrm>
              <a:off x="203040" y="5105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03040" y="576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" y="4495680"/>
              <a:ext cx="2459880" cy="1282320"/>
              <a:chOff x="435600" y="4495680"/>
              <a:chExt cx="2459880" cy="1282320"/>
            </a:xfrm>
          </p:grpSpPr>
          <p:sp>
            <p:nvSpPr>
              <p:cNvPr id="257" name=""/>
              <p:cNvSpPr/>
              <p:nvPr/>
            </p:nvSpPr>
            <p:spPr>
              <a:xfrm>
                <a:off x="812880" y="5105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89040" y="5105520"/>
                <a:ext cx="40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1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37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60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986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509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032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558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81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604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130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12880" y="57657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2488680" y="5765400"/>
                <a:ext cx="406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87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040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1923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3446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97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649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018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954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1067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590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411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563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2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9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555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0672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5900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316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0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699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225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85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180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960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064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526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2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604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159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400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0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670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19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780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3612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349360" y="57657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4495680"/>
                <a:ext cx="228600" cy="45720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5600" y="449568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58120" y="990720"/>
            <a:ext cx="2709000" cy="1143000"/>
            <a:chOff x="258120" y="990720"/>
            <a:chExt cx="2709000" cy="1143000"/>
          </a:xfrm>
        </p:grpSpPr>
        <p:sp>
          <p:nvSpPr>
            <p:cNvPr id="313" name=""/>
            <p:cNvSpPr/>
            <p:nvPr/>
          </p:nvSpPr>
          <p:spPr>
            <a:xfrm>
              <a:off x="304920" y="1650960"/>
              <a:ext cx="2662200" cy="482760"/>
            </a:xfrm>
            <a:prstGeom prst="parallelogram">
              <a:avLst>
                <a:gd name="adj" fmla="val 137864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914400" y="1727280"/>
              <a:ext cx="1219320" cy="304560"/>
              <a:chOff x="914400" y="1727280"/>
              <a:chExt cx="1219320" cy="3045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72728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4400" y="172728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71600" y="187956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4400" y="187956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95640" y="17654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600200" y="1905120"/>
              <a:ext cx="152280" cy="15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8120" y="990720"/>
              <a:ext cx="131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129528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4120" y="762120"/>
            <a:ext cx="3657600" cy="1675800"/>
            <a:chOff x="5334120" y="762120"/>
            <a:chExt cx="3657600" cy="1675800"/>
          </a:xfrm>
        </p:grpSpPr>
        <p:grpSp>
          <p:nvGrpSpPr>
            <p:cNvPr id="324" name=""/>
            <p:cNvGrpSpPr/>
            <p:nvPr/>
          </p:nvGrpSpPr>
          <p:grpSpPr>
            <a:xfrm>
              <a:off x="8229600" y="990720"/>
              <a:ext cx="457200" cy="1447200"/>
              <a:chOff x="8229600" y="990720"/>
              <a:chExt cx="457200" cy="1447200"/>
            </a:xfrm>
          </p:grpSpPr>
          <p:sp>
            <p:nvSpPr>
              <p:cNvPr id="325" name=""/>
              <p:cNvSpPr/>
              <p:nvPr/>
            </p:nvSpPr>
            <p:spPr>
              <a:xfrm rot="5400000">
                <a:off x="7753320" y="1580760"/>
                <a:ext cx="1409400" cy="30456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29600" y="990720"/>
                <a:ext cx="45720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7962840" y="1790280"/>
                <a:ext cx="990360" cy="30456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5334120" y="762120"/>
              <a:ext cx="36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21240" y="3673800"/>
            <a:ext cx="4551480" cy="1701720"/>
            <a:chOff x="3621240" y="3673800"/>
            <a:chExt cx="4551480" cy="1701720"/>
          </a:xfrm>
        </p:grpSpPr>
        <p:sp>
          <p:nvSpPr>
            <p:cNvPr id="330" name=""/>
            <p:cNvSpPr/>
            <p:nvPr/>
          </p:nvSpPr>
          <p:spPr>
            <a:xfrm>
              <a:off x="5456160" y="3733920"/>
              <a:ext cx="271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621240" y="3673800"/>
              <a:ext cx="1885680" cy="1701720"/>
              <a:chOff x="3621240" y="3673800"/>
              <a:chExt cx="1885680" cy="170172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263600">
                <a:off x="3769920" y="44398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263600">
                <a:off x="4557240" y="41148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263600">
                <a:off x="3824280" y="387684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263600">
                <a:off x="3660840" y="4712400"/>
                <a:ext cx="29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263600">
                <a:off x="3796920" y="4596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263600">
                <a:off x="3918240" y="4536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263600">
                <a:off x="4070520" y="454248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263600">
                <a:off x="4256640" y="4506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263600">
                <a:off x="4374720" y="44103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263600">
                <a:off x="4479840" y="42919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263600">
                <a:off x="4598640" y="4212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264200">
                <a:off x="4751280" y="4131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263600">
                <a:off x="4965840" y="4150800"/>
                <a:ext cx="2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263600">
                <a:off x="5100840" y="4150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21080" y="41022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483000">
                <a:off x="4639320" y="4732920"/>
                <a:ext cx="838080" cy="211320"/>
              </a:xfrm>
              <a:prstGeom prst="leftArrow">
                <a:avLst>
                  <a:gd name="adj1" fmla="val 50000"/>
                  <a:gd name="adj2" fmla="val 99148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952520" y="5126040"/>
            <a:ext cx="2959560" cy="907560"/>
            <a:chOff x="4952520" y="5126040"/>
            <a:chExt cx="2959560" cy="907560"/>
          </a:xfrm>
        </p:grpSpPr>
        <p:grpSp>
          <p:nvGrpSpPr>
            <p:cNvPr id="350" name=""/>
            <p:cNvGrpSpPr/>
            <p:nvPr/>
          </p:nvGrpSpPr>
          <p:grpSpPr>
            <a:xfrm>
              <a:off x="4952520" y="5126040"/>
              <a:ext cx="2959560" cy="907560"/>
              <a:chOff x="4952520" y="5126040"/>
              <a:chExt cx="2959560" cy="907560"/>
            </a:xfrm>
          </p:grpSpPr>
          <p:sp>
            <p:nvSpPr>
              <p:cNvPr id="351" name=""/>
              <p:cNvSpPr/>
              <p:nvPr/>
            </p:nvSpPr>
            <p:spPr>
              <a:xfrm>
                <a:off x="5486400" y="52657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78360" y="526572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54880" y="5265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46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69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9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18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641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168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690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21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40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262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312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8000" y="578628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454880" y="57862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8532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0055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158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3104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4627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153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7676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919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0725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2248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3771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75297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0708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5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213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2484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8900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3552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939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357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880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51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764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25440" y="5432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71960" y="54306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184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8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11880" y="54180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8180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984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63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28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5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35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0196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436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580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2780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786200">
                <a:off x="4952520" y="5811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5410080" y="5778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5397480"/>
            <a:ext cx="2667240" cy="615600"/>
            <a:chOff x="2666520" y="5397480"/>
            <a:chExt cx="2667240" cy="615600"/>
          </a:xfrm>
        </p:grpSpPr>
        <p:sp>
          <p:nvSpPr>
            <p:cNvPr id="411" name=""/>
            <p:cNvSpPr/>
            <p:nvPr/>
          </p:nvSpPr>
          <p:spPr>
            <a:xfrm flipH="1">
              <a:off x="5028840" y="5765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76280" y="5397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66520" y="5397480"/>
              <a:ext cx="2440440" cy="615600"/>
              <a:chOff x="2666520" y="5397480"/>
              <a:chExt cx="2440440" cy="61560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3123720" y="57657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352320" y="576576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4275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98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7324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8847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037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896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3419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494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646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799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951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1040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29976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462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928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32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620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561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1416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06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072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59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17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786200">
                <a:off x="2666520" y="57909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638320" y="1600200"/>
            <a:ext cx="2743560" cy="685800"/>
            <a:chOff x="5638320" y="1600200"/>
            <a:chExt cx="2743560" cy="685800"/>
          </a:xfrm>
        </p:grpSpPr>
        <p:grpSp>
          <p:nvGrpSpPr>
            <p:cNvPr id="442" name=""/>
            <p:cNvGrpSpPr/>
            <p:nvPr/>
          </p:nvGrpSpPr>
          <p:grpSpPr>
            <a:xfrm>
              <a:off x="5638320" y="1600200"/>
              <a:ext cx="2743560" cy="685800"/>
              <a:chOff x="5638320" y="1600200"/>
              <a:chExt cx="2743560" cy="685800"/>
            </a:xfrm>
          </p:grpSpPr>
          <p:sp>
            <p:nvSpPr>
              <p:cNvPr id="443" name=""/>
              <p:cNvSpPr/>
              <p:nvPr/>
            </p:nvSpPr>
            <p:spPr>
              <a:xfrm>
                <a:off x="5638680" y="1752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31000" y="1752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07160" y="175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069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96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118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4641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6168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690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213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740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262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785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31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834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931000" y="22734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07160" y="2273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055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581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3104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4627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6153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7676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9199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0725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2248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3771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7529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6820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93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7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736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484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71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4128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881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462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880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03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03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4992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77720" y="1919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24600" y="1917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707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10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64160" y="190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3408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9212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390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51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37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962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5424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958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0572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102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8044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38320" y="22860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077320" y="19810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8001000" y="16761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05920" y="1905120"/>
              <a:ext cx="7596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321800" y="1676520"/>
            <a:ext cx="2917080" cy="2025360"/>
            <a:chOff x="4321800" y="1676520"/>
            <a:chExt cx="2917080" cy="2025360"/>
          </a:xfrm>
        </p:grpSpPr>
        <p:grpSp>
          <p:nvGrpSpPr>
            <p:cNvPr id="505" name=""/>
            <p:cNvGrpSpPr/>
            <p:nvPr/>
          </p:nvGrpSpPr>
          <p:grpSpPr>
            <a:xfrm>
              <a:off x="4321800" y="1676520"/>
              <a:ext cx="2917080" cy="1904760"/>
              <a:chOff x="4321800" y="1676520"/>
              <a:chExt cx="2917080" cy="190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4813200" y="2895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05520" y="2895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81680" y="2895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814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4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86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86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913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36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95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48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008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5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105520" y="35686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781680" y="3568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1800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3326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849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6372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898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9421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0944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2470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3993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5516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04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8565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0338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91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481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936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65164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1580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626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207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625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1484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77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2444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2240" y="32148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99120" y="3213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452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4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8680" y="3200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860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96664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135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596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11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707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2876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704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8024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848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5496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812840" y="3581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268000">
                <a:off x="5215320" y="2175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21800" y="167652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5105520" y="353700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9920" y="354348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62600" y="3549600"/>
              <a:ext cx="1526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959520" y="4788000"/>
            <a:ext cx="1828800" cy="711000"/>
          </a:xfrm>
          <a:prstGeom prst="flowChartOffpageConnector">
            <a:avLst/>
          </a:prstGeom>
          <a:solidFill>
            <a:srgbClr val="fafa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16720" y="2286000"/>
            <a:ext cx="1562040" cy="609480"/>
          </a:xfrm>
          <a:prstGeom prst="flowChartMultidocument">
            <a:avLst/>
          </a:prstGeom>
          <a:solidFill>
            <a:srgbClr val="eeee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30520" y="1854360"/>
            <a:ext cx="533520" cy="380880"/>
          </a:xfrm>
          <a:prstGeom prst="leftArrowCallout">
            <a:avLst>
              <a:gd name="adj1" fmla="val 25002"/>
              <a:gd name="adj2" fmla="val 25000"/>
              <a:gd name="adj3" fmla="val 23346"/>
              <a:gd name="adj4" fmla="val 6667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305240" y="2171880"/>
            <a:ext cx="457200" cy="2996640"/>
            <a:chOff x="4305240" y="2171880"/>
            <a:chExt cx="457200" cy="2996640"/>
          </a:xfrm>
        </p:grpSpPr>
        <p:sp>
          <p:nvSpPr>
            <p:cNvPr id="573" name=""/>
            <p:cNvSpPr/>
            <p:nvPr/>
          </p:nvSpPr>
          <p:spPr>
            <a:xfrm>
              <a:off x="430524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3536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94680" y="3517920"/>
            <a:ext cx="123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0000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90840" y="2730600"/>
            <a:ext cx="1981440" cy="406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2700000">
            <a:off x="3517920" y="3682440"/>
            <a:ext cx="18414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eeee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chio dicro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221920" y="4203360"/>
            <a:ext cx="2082960" cy="381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cci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4040" y="5378400"/>
            <a:ext cx="1665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iettiv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8752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152960" y="6273720"/>
            <a:ext cx="584280" cy="131760"/>
            <a:chOff x="4152960" y="6273720"/>
            <a:chExt cx="584280" cy="131760"/>
          </a:xfrm>
        </p:grpSpPr>
        <p:sp>
          <p:nvSpPr>
            <p:cNvPr id="588" name=""/>
            <p:cNvSpPr/>
            <p:nvPr/>
          </p:nvSpPr>
          <p:spPr>
            <a:xfrm>
              <a:off x="415296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05240" y="636264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788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019240" y="4057560"/>
            <a:ext cx="863640" cy="540000"/>
          </a:xfrm>
          <a:prstGeom prst="rightArrowCallout">
            <a:avLst>
              <a:gd name="adj1" fmla="val 25002"/>
              <a:gd name="adj2" fmla="val 25000"/>
              <a:gd name="adj3" fmla="val 26656"/>
              <a:gd name="adj4" fmla="val 6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57600" y="606420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812520" y="3720960"/>
            <a:ext cx="1181160" cy="1193760"/>
          </a:xfrm>
          <a:custGeom>
            <a:avLst/>
            <a:gdLst>
              <a:gd name="textAreaLeft" fmla="*/ 259560 w 1181160"/>
              <a:gd name="textAreaRight" fmla="*/ 921600 w 1181160"/>
              <a:gd name="textAreaTop" fmla="*/ 262440 h 1193760"/>
              <a:gd name="textAreaBottom" fmla="*/ 93132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27000" y="3949560"/>
            <a:ext cx="1346400" cy="749520"/>
          </a:xfrm>
          <a:custGeom>
            <a:avLst/>
            <a:gdLst>
              <a:gd name="textAreaLeft" fmla="*/ 307440 w 1346400"/>
              <a:gd name="textAreaRight" fmla="*/ 1038960 w 134640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9240" y="5175360"/>
            <a:ext cx="749520" cy="863640"/>
          </a:xfrm>
          <a:prstGeom prst="flowChartOffpageConnector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9880" y="5987880"/>
            <a:ext cx="234720" cy="76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4449240" y="6082920"/>
            <a:ext cx="96840" cy="157320"/>
          </a:xfrm>
          <a:prstGeom prst="downArrow">
            <a:avLst>
              <a:gd name="adj1" fmla="val 50000"/>
              <a:gd name="adj2" fmla="val 4061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4373280" y="608976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2120" y="607068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46480" y="4019400"/>
            <a:ext cx="139680" cy="1136880"/>
          </a:xfrm>
          <a:prstGeom prst="downArrow">
            <a:avLst>
              <a:gd name="adj1" fmla="val 50000"/>
              <a:gd name="adj2" fmla="val 20347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02160" y="4336920"/>
            <a:ext cx="146160" cy="838440"/>
          </a:xfrm>
          <a:prstGeom prst="downArrow">
            <a:avLst>
              <a:gd name="adj1" fmla="val 50000"/>
              <a:gd name="adj2" fmla="val 14341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48080" y="4292640"/>
            <a:ext cx="1168200" cy="101520"/>
          </a:xfrm>
          <a:prstGeom prst="rightArrow">
            <a:avLst>
              <a:gd name="adj1" fmla="val 50000"/>
              <a:gd name="adj2" fmla="val 28767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73280" y="3962520"/>
            <a:ext cx="793800" cy="114120"/>
          </a:xfrm>
          <a:prstGeom prst="rightArrow">
            <a:avLst>
              <a:gd name="adj1" fmla="val 50000"/>
              <a:gd name="adj2" fmla="val 1738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4417560" y="622944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64040" y="1727280"/>
            <a:ext cx="851040" cy="495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eeeee"/>
              </a:gs>
              <a:gs pos="50000">
                <a:srgbClr val="808080"/>
              </a:gs>
              <a:gs pos="100000">
                <a:srgbClr val="eeee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88000" y="1854360"/>
            <a:ext cx="558720" cy="380880"/>
          </a:xfrm>
          <a:prstGeom prst="rightArrowCallout">
            <a:avLst>
              <a:gd name="adj1" fmla="val 25002"/>
              <a:gd name="adj2" fmla="val 25000"/>
              <a:gd name="adj3" fmla="val 24449"/>
              <a:gd name="adj4" fmla="val 6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2920200">
            <a:off x="4751280" y="3157200"/>
            <a:ext cx="2940120" cy="425520"/>
          </a:xfrm>
          <a:custGeom>
            <a:avLst/>
            <a:gdLst>
              <a:gd name="textAreaLeft" fmla="*/ 459360 w 2940120"/>
              <a:gd name="textAreaRight" fmla="*/ 2572560 w 29401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88080" y="2579760"/>
            <a:ext cx="13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42040" y="1712880"/>
            <a:ext cx="2141280" cy="380880"/>
          </a:xfrm>
          <a:custGeom>
            <a:avLst/>
            <a:gdLst>
              <a:gd name="textAreaLeft" fmla="*/ 334440 w 2141280"/>
              <a:gd name="textAreaRight" fmla="*/ 1873800 w 2141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59480" y="1039680"/>
            <a:ext cx="13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21640" y="13460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7632720" y="3860640"/>
            <a:ext cx="660240" cy="444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7517880" y="2394000"/>
            <a:ext cx="13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81880" y="26766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C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7283600">
            <a:off x="2959200" y="16632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7283600">
            <a:off x="2959200" y="18918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7000" y="3205080"/>
            <a:ext cx="210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ada a vap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mercu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90840" y="4794120"/>
            <a:ext cx="1820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borazion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87320" y="7236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602"/>
                </a:solidFill>
                <a:latin typeface="Comic Sans MS"/>
              </a:rPr>
              <a:t>FISH : microscopio a fluo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953640" y="1352520"/>
            <a:ext cx="2122920" cy="825120"/>
            <a:chOff x="953640" y="1352520"/>
            <a:chExt cx="2122920" cy="825120"/>
          </a:xfrm>
        </p:grpSpPr>
        <p:sp>
          <p:nvSpPr>
            <p:cNvPr id="621" name=""/>
            <p:cNvSpPr/>
            <p:nvPr/>
          </p:nvSpPr>
          <p:spPr>
            <a:xfrm>
              <a:off x="953640" y="1352520"/>
              <a:ext cx="56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ebdings" charset="2"/>
                <a:buChar char="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1655640"/>
              <a:ext cx="1739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sser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 microsco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886120" y="1371600"/>
            <a:ext cx="5419800" cy="5418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59200" y="251460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enatu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olorati con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tafase in D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835280" y="1433520"/>
            <a:ext cx="5348160" cy="534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seg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352600" y="1362240"/>
            <a:ext cx="5419800" cy="54194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0920" y="76176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71000" y="1328760"/>
            <a:ext cx="57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Allestimento della coltu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1640" y="242244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80" y="3532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50990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Osservazione al microscopio, selezione delle metafasi e acquisizione delle immag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3513240" y="2341440"/>
            <a:ext cx="361800" cy="1753920"/>
            <a:chOff x="3513240" y="2341440"/>
            <a:chExt cx="361800" cy="1753920"/>
          </a:xfrm>
        </p:grpSpPr>
        <p:sp>
          <p:nvSpPr>
            <p:cNvPr id="656" name=""/>
            <p:cNvSpPr/>
            <p:nvPr/>
          </p:nvSpPr>
          <p:spPr>
            <a:xfrm>
              <a:off x="3556080" y="234288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56080" y="2463480"/>
              <a:ext cx="298440" cy="292320"/>
            </a:xfrm>
            <a:prstGeom prst="can">
              <a:avLst>
                <a:gd name="adj" fmla="val 1449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34144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494320" y="2290680"/>
            <a:ext cx="361800" cy="1753920"/>
            <a:chOff x="5494320" y="2290680"/>
            <a:chExt cx="361800" cy="1753920"/>
          </a:xfrm>
        </p:grpSpPr>
        <p:sp>
          <p:nvSpPr>
            <p:cNvPr id="660" name=""/>
            <p:cNvSpPr/>
            <p:nvPr/>
          </p:nvSpPr>
          <p:spPr>
            <a:xfrm>
              <a:off x="5537160" y="229212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7160" y="238752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d1d1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94320" y="229068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8369280" y="2252520"/>
            <a:ext cx="361800" cy="1754280"/>
            <a:chOff x="8369280" y="2252520"/>
            <a:chExt cx="361800" cy="1754280"/>
          </a:xfrm>
        </p:grpSpPr>
        <p:sp>
          <p:nvSpPr>
            <p:cNvPr id="664" name=""/>
            <p:cNvSpPr/>
            <p:nvPr/>
          </p:nvSpPr>
          <p:spPr>
            <a:xfrm>
              <a:off x="8412120" y="2253960"/>
              <a:ext cx="298440" cy="1752840"/>
            </a:xfrm>
            <a:prstGeom prst="can">
              <a:avLst>
                <a:gd name="adj" fmla="val 144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12120" y="2349360"/>
              <a:ext cx="298440" cy="1428840"/>
            </a:xfrm>
            <a:prstGeom prst="can">
              <a:avLst>
                <a:gd name="adj" fmla="val 5810"/>
              </a:avLst>
            </a:prstGeom>
            <a:solidFill>
              <a:srgbClr val="ff6b68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9280" y="225252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9200" y="4597560"/>
            <a:ext cx="361800" cy="1753920"/>
            <a:chOff x="79200" y="4597560"/>
            <a:chExt cx="361800" cy="1753920"/>
          </a:xfrm>
        </p:grpSpPr>
        <p:sp>
          <p:nvSpPr>
            <p:cNvPr id="668" name=""/>
            <p:cNvSpPr/>
            <p:nvPr/>
          </p:nvSpPr>
          <p:spPr>
            <a:xfrm>
              <a:off x="122040" y="459900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2040" y="469440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200" y="4597560"/>
              <a:ext cx="361800" cy="169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146640" y="4440960"/>
            <a:ext cx="2933640" cy="1629360"/>
            <a:chOff x="6146640" y="4440960"/>
            <a:chExt cx="2933640" cy="1629360"/>
          </a:xfrm>
        </p:grpSpPr>
        <p:sp>
          <p:nvSpPr>
            <p:cNvPr id="672" name=""/>
            <p:cNvSpPr/>
            <p:nvPr/>
          </p:nvSpPr>
          <p:spPr>
            <a:xfrm>
              <a:off x="666720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4664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0f0f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1638000">
              <a:off x="8387640" y="4722120"/>
              <a:ext cx="82440" cy="774720"/>
            </a:xfrm>
            <a:prstGeom prst="can">
              <a:avLst>
                <a:gd name="adj" fmla="val 338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37400">
              <a:off x="8569080" y="4460400"/>
              <a:ext cx="177840" cy="379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37400">
              <a:off x="8486280" y="4807800"/>
              <a:ext cx="82440" cy="23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3600" y="5499000"/>
              <a:ext cx="6336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04040" y="5486040"/>
              <a:ext cx="63360" cy="76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27720" y="5600520"/>
              <a:ext cx="63720" cy="75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24680" y="5549760"/>
              <a:ext cx="63360" cy="75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6960" y="5752800"/>
              <a:ext cx="63720" cy="763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62840" y="5625720"/>
              <a:ext cx="63360" cy="76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48360" y="5905080"/>
              <a:ext cx="637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1920" y="5829120"/>
              <a:ext cx="63720" cy="759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65960" y="5879880"/>
              <a:ext cx="63360" cy="763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7920" y="5829120"/>
              <a:ext cx="63360" cy="759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32680" y="5581440"/>
              <a:ext cx="63360" cy="759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5000" y="5790960"/>
              <a:ext cx="63360" cy="763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24680" y="5790960"/>
              <a:ext cx="63360" cy="763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26240" y="5924160"/>
              <a:ext cx="63360" cy="7632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5848200"/>
              <a:ext cx="63360" cy="7596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3480" y="5898960"/>
              <a:ext cx="63720" cy="759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35800" y="5848200"/>
              <a:ext cx="63360" cy="7596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62520" y="5810040"/>
              <a:ext cx="63720" cy="7596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5810040"/>
              <a:ext cx="63360" cy="759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7080" y="1968480"/>
            <a:ext cx="1842840" cy="2203200"/>
            <a:chOff x="127080" y="1968480"/>
            <a:chExt cx="1842840" cy="2203200"/>
          </a:xfrm>
        </p:grpSpPr>
        <p:grpSp>
          <p:nvGrpSpPr>
            <p:cNvPr id="697" name=""/>
            <p:cNvGrpSpPr/>
            <p:nvPr/>
          </p:nvGrpSpPr>
          <p:grpSpPr>
            <a:xfrm>
              <a:off x="1608120" y="2417760"/>
              <a:ext cx="361800" cy="1753920"/>
              <a:chOff x="1608120" y="2417760"/>
              <a:chExt cx="361800" cy="1753920"/>
            </a:xfrm>
          </p:grpSpPr>
          <p:sp>
            <p:nvSpPr>
              <p:cNvPr id="698" name=""/>
              <p:cNvSpPr/>
              <p:nvPr/>
            </p:nvSpPr>
            <p:spPr>
              <a:xfrm>
                <a:off x="1650600" y="24192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50600" y="2539800"/>
                <a:ext cx="298080" cy="29232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8120" y="24177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244520" y="2324160"/>
              <a:ext cx="49536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680" y="1968480"/>
              <a:ext cx="11178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fe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080" y="3581280"/>
              <a:ext cx="1307880" cy="5842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reno 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008800" y="2892600"/>
            <a:ext cx="1506600" cy="765000"/>
            <a:chOff x="2008800" y="2892600"/>
            <a:chExt cx="1506600" cy="765000"/>
          </a:xfrm>
        </p:grpSpPr>
        <p:sp>
          <p:nvSpPr>
            <p:cNvPr id="705" name=""/>
            <p:cNvSpPr/>
            <p:nvPr/>
          </p:nvSpPr>
          <p:spPr>
            <a:xfrm>
              <a:off x="2095560" y="3174840"/>
              <a:ext cx="1066680" cy="48276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120600 h 482760"/>
                <a:gd name="textAreaBottom" fmla="*/ 3621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4911"/>
                </a:gs>
                <a:gs pos="100000">
                  <a:srgbClr val="f6fa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8-96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08800" y="289260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lifer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63760" y="1320840"/>
            <a:ext cx="1486080" cy="1079640"/>
            <a:chOff x="3263760" y="1320840"/>
            <a:chExt cx="1486080" cy="1079640"/>
          </a:xfrm>
        </p:grpSpPr>
        <p:sp>
          <p:nvSpPr>
            <p:cNvPr id="708" name=""/>
            <p:cNvSpPr/>
            <p:nvPr/>
          </p:nvSpPr>
          <p:spPr>
            <a:xfrm flipV="1">
              <a:off x="3720960" y="1930320"/>
              <a:ext cx="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63760" y="1320840"/>
              <a:ext cx="148608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chic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ultimi 3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2960" y="2892600"/>
            <a:ext cx="1669680" cy="384120"/>
            <a:chOff x="3882960" y="2892600"/>
            <a:chExt cx="1669680" cy="384120"/>
          </a:xfrm>
        </p:grpSpPr>
        <p:sp>
          <p:nvSpPr>
            <p:cNvPr id="711" name=""/>
            <p:cNvSpPr/>
            <p:nvPr/>
          </p:nvSpPr>
          <p:spPr>
            <a:xfrm>
              <a:off x="3882960" y="289260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36960" y="327672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80520" y="3906720"/>
            <a:ext cx="982440" cy="456120"/>
            <a:chOff x="5780520" y="3906720"/>
            <a:chExt cx="982440" cy="456120"/>
          </a:xfrm>
        </p:grpSpPr>
        <p:sp>
          <p:nvSpPr>
            <p:cNvPr id="714" name=""/>
            <p:cNvSpPr/>
            <p:nvPr/>
          </p:nvSpPr>
          <p:spPr>
            <a:xfrm>
              <a:off x="5867280" y="393696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0520" y="390672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753160" y="1346040"/>
            <a:ext cx="1650960" cy="2673000"/>
            <a:chOff x="5753160" y="1346040"/>
            <a:chExt cx="1650960" cy="2673000"/>
          </a:xfrm>
        </p:grpSpPr>
        <p:grpSp>
          <p:nvGrpSpPr>
            <p:cNvPr id="717" name=""/>
            <p:cNvGrpSpPr/>
            <p:nvPr/>
          </p:nvGrpSpPr>
          <p:grpSpPr>
            <a:xfrm>
              <a:off x="6459480" y="2265480"/>
              <a:ext cx="362160" cy="1753560"/>
              <a:chOff x="6459480" y="2265480"/>
              <a:chExt cx="362160" cy="175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502320" y="22665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02320" y="2387520"/>
                <a:ext cx="298440" cy="29160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59480" y="2265480"/>
                <a:ext cx="36216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591240" y="172728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53160" y="1346040"/>
              <a:ext cx="1650960" cy="36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potonica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2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778800" y="2841480"/>
            <a:ext cx="1669680" cy="486000"/>
            <a:chOff x="6778800" y="2841480"/>
            <a:chExt cx="1669680" cy="486000"/>
          </a:xfrm>
        </p:grpSpPr>
        <p:sp>
          <p:nvSpPr>
            <p:cNvPr id="724" name=""/>
            <p:cNvSpPr/>
            <p:nvPr/>
          </p:nvSpPr>
          <p:spPr>
            <a:xfrm>
              <a:off x="6778800" y="28414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32440" y="3327480"/>
              <a:ext cx="13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54240" y="5918040"/>
            <a:ext cx="982440" cy="456120"/>
            <a:chOff x="354240" y="5918040"/>
            <a:chExt cx="982440" cy="456120"/>
          </a:xfrm>
        </p:grpSpPr>
        <p:sp>
          <p:nvSpPr>
            <p:cNvPr id="727" name=""/>
            <p:cNvSpPr/>
            <p:nvPr/>
          </p:nvSpPr>
          <p:spPr>
            <a:xfrm>
              <a:off x="354240" y="591804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560" y="6210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1640" y="4452840"/>
            <a:ext cx="1389240" cy="1892520"/>
            <a:chOff x="431640" y="4452840"/>
            <a:chExt cx="1389240" cy="1892520"/>
          </a:xfrm>
        </p:grpSpPr>
        <p:grpSp>
          <p:nvGrpSpPr>
            <p:cNvPr id="730" name=""/>
            <p:cNvGrpSpPr/>
            <p:nvPr/>
          </p:nvGrpSpPr>
          <p:grpSpPr>
            <a:xfrm>
              <a:off x="1459080" y="4591080"/>
              <a:ext cx="361800" cy="1754280"/>
              <a:chOff x="1459080" y="4591080"/>
              <a:chExt cx="361800" cy="1754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501560" y="459288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1560" y="4713480"/>
                <a:ext cx="29808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59080" y="459108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852480" y="4452840"/>
              <a:ext cx="722160" cy="67788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1640" y="514368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915200" y="6283440"/>
            <a:ext cx="2079720" cy="358560"/>
            <a:chOff x="1915200" y="6283440"/>
            <a:chExt cx="2079720" cy="358560"/>
          </a:xfrm>
        </p:grpSpPr>
        <p:sp>
          <p:nvSpPr>
            <p:cNvPr id="737" name=""/>
            <p:cNvSpPr/>
            <p:nvPr/>
          </p:nvSpPr>
          <p:spPr>
            <a:xfrm>
              <a:off x="1915200" y="6283440"/>
              <a:ext cx="20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i (2-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5880" y="66420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41480" y="4529160"/>
            <a:ext cx="1724040" cy="1862280"/>
            <a:chOff x="1941480" y="4529160"/>
            <a:chExt cx="1724040" cy="1862280"/>
          </a:xfrm>
        </p:grpSpPr>
        <p:grpSp>
          <p:nvGrpSpPr>
            <p:cNvPr id="740" name=""/>
            <p:cNvGrpSpPr/>
            <p:nvPr/>
          </p:nvGrpSpPr>
          <p:grpSpPr>
            <a:xfrm>
              <a:off x="1941480" y="4597560"/>
              <a:ext cx="361800" cy="1753920"/>
              <a:chOff x="1941480" y="4597560"/>
              <a:chExt cx="361800" cy="17539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84320" y="459900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984320" y="4694400"/>
                <a:ext cx="298440" cy="142848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41480" y="459756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303720" y="4637160"/>
              <a:ext cx="361800" cy="1754280"/>
              <a:chOff x="3303720" y="4637160"/>
              <a:chExt cx="361800" cy="1754280"/>
            </a:xfrm>
          </p:grpSpPr>
          <p:sp>
            <p:nvSpPr>
              <p:cNvPr id="745" name=""/>
              <p:cNvSpPr/>
              <p:nvPr/>
            </p:nvSpPr>
            <p:spPr>
              <a:xfrm>
                <a:off x="3346560" y="46389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6560" y="4759560"/>
                <a:ext cx="29844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03720" y="46371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706840" y="4529160"/>
              <a:ext cx="823680" cy="56340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510552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751200" y="4648320"/>
            <a:ext cx="2325600" cy="1774800"/>
            <a:chOff x="3751200" y="4648320"/>
            <a:chExt cx="2325600" cy="1774800"/>
          </a:xfrm>
        </p:grpSpPr>
        <p:grpSp>
          <p:nvGrpSpPr>
            <p:cNvPr id="751" name=""/>
            <p:cNvGrpSpPr/>
            <p:nvPr/>
          </p:nvGrpSpPr>
          <p:grpSpPr>
            <a:xfrm>
              <a:off x="3751200" y="4668840"/>
              <a:ext cx="362160" cy="1754280"/>
              <a:chOff x="3751200" y="4668840"/>
              <a:chExt cx="362160" cy="1754280"/>
            </a:xfrm>
          </p:grpSpPr>
          <p:sp>
            <p:nvSpPr>
              <p:cNvPr id="752" name=""/>
              <p:cNvSpPr/>
              <p:nvPr/>
            </p:nvSpPr>
            <p:spPr>
              <a:xfrm>
                <a:off x="3794040" y="467064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4040" y="4765680"/>
                <a:ext cx="298440" cy="142884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51200" y="4668840"/>
                <a:ext cx="36216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715000" y="4648320"/>
              <a:ext cx="361800" cy="1753560"/>
              <a:chOff x="5715000" y="4648320"/>
              <a:chExt cx="361800" cy="1753560"/>
            </a:xfrm>
          </p:grpSpPr>
          <p:sp>
            <p:nvSpPr>
              <p:cNvPr id="756" name=""/>
              <p:cNvSpPr/>
              <p:nvPr/>
            </p:nvSpPr>
            <p:spPr>
              <a:xfrm>
                <a:off x="5757480" y="46494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57480" y="4744800"/>
                <a:ext cx="298080" cy="114732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15000" y="464832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140360" y="4692600"/>
              <a:ext cx="15620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sospen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 po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29280" y="60768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134040" y="4622760"/>
            <a:ext cx="2171880" cy="1587600"/>
            <a:chOff x="6134040" y="4622760"/>
            <a:chExt cx="2171880" cy="1587600"/>
          </a:xfrm>
        </p:grpSpPr>
        <p:sp>
          <p:nvSpPr>
            <p:cNvPr id="762" name=""/>
            <p:cNvSpPr/>
            <p:nvPr/>
          </p:nvSpPr>
          <p:spPr>
            <a:xfrm>
              <a:off x="6311880" y="4622760"/>
              <a:ext cx="199404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estimento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pa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4040" y="6210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llestimento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95280"/>
            <a:ext cx="2095560" cy="1206720"/>
            <a:chOff x="914400" y="1295280"/>
            <a:chExt cx="2095560" cy="1206720"/>
          </a:xfrm>
        </p:grpSpPr>
        <p:sp>
          <p:nvSpPr>
            <p:cNvPr id="771" name=""/>
            <p:cNvSpPr/>
            <p:nvPr/>
          </p:nvSpPr>
          <p:spPr>
            <a:xfrm>
              <a:off x="914400" y="1295280"/>
              <a:ext cx="20955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toemoaggluti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stimola la cresci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790280" y="1816200"/>
              <a:ext cx="38124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160" y="30481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Colorazione del preparato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lorazioni differenziali di 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81240" y="14479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28195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luorocromi: Q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. Necessario un microsc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 flu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67080" y="2209680"/>
            <a:ext cx="4724640" cy="4262400"/>
            <a:chOff x="4267080" y="2209680"/>
            <a:chExt cx="4724640" cy="4262400"/>
          </a:xfrm>
        </p:grpSpPr>
        <p:pic>
          <p:nvPicPr>
            <p:cNvPr id="786" name="" descr=""/>
            <p:cNvPicPr/>
            <p:nvPr/>
          </p:nvPicPr>
          <p:blipFill>
            <a:blip r:embed="rId1"/>
            <a:stretch/>
          </p:blipFill>
          <p:spPr>
            <a:xfrm>
              <a:off x="4267080" y="2209680"/>
              <a:ext cx="4724640" cy="42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701840" y="4665600"/>
              <a:ext cx="317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41040" y="2217600"/>
              <a:ext cx="0" cy="32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3720" y="685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Q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3040" y="2854440"/>
            <a:ext cx="23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-banding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iemsa do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tratt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on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1240" y="106668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324160" y="1409760"/>
            <a:ext cx="6743520" cy="5371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505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Giem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69920" y="2222640"/>
            <a:ext cx="1596960" cy="61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371760" y="2319480"/>
            <a:ext cx="944640" cy="46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069920" y="3141720"/>
            <a:ext cx="349884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69920" y="3868560"/>
            <a:ext cx="1209600" cy="49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249720" y="3922560"/>
            <a:ext cx="1184040" cy="41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130400" y="4630680"/>
            <a:ext cx="796680" cy="29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019320" y="4600440"/>
            <a:ext cx="1382760" cy="266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30400" y="285444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1760" y="285444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30400" y="3686040"/>
            <a:ext cx="34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4281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09840" y="427680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9080" y="491652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78000" y="49258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7400" y="2795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21640" y="2795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0320" y="36273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7400" y="42116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1360" y="42181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680" y="48672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51840" y="4879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2560" y="2146320"/>
            <a:ext cx="3659040" cy="318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i a conf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4952880" y="2209680"/>
            <a:ext cx="37353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480" y="3103560"/>
            <a:ext cx="65890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) Colorazione del preparato c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639040" cy="56386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4440" y="1644480"/>
            <a:ext cx="283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Ott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ma…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06668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Puo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esse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anche cosi’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6320" y="3809880"/>
            <a:ext cx="32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non ben riconoscibili, difficili anch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Scartare!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b02"/>
                </a:solidFill>
                <a:latin typeface="Comic Sans MS"/>
              </a:rPr>
              <a:t>(potend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562360" cy="55623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219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.. O cosi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60" y="2362320"/>
            <a:ext cx="32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roppo 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o’ si puo’ u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 con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cartare! </a:t>
            </a: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(pote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886200" y="1549440"/>
            <a:ext cx="5232240" cy="52322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44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2"/>
                </a:solidFill>
                <a:latin typeface="Comic Sans MS"/>
              </a:rPr>
              <a:t>Suf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600" y="2152800"/>
            <a:ext cx="402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c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uo’ essere utile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non sovrapp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Discre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9640" y="2362320"/>
            <a:ext cx="301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733920" y="761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632040" y="1320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62160" y="6858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2600" y="2362320"/>
            <a:ext cx="301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la morfologia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52280" y="1905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I CONTANO I CROMOSOMI : IMPORTANTE PER SOSPETTARE LA PRESENZA DI ALTERAZIONI NEL NUMERO CROM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080" y="388620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I APPAIANO GLI OMOLOGHI PER 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5400" y="5121360"/>
            <a:ext cx="90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SI METTONO IN ORDINE SECONDO LA CON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me si fa il carioti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95800" y="990720"/>
            <a:ext cx="5790960" cy="57909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7156440" y="1262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1520" y="5224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956040" y="1371600"/>
            <a:ext cx="4610160" cy="4749840"/>
            <a:chOff x="3956040" y="1371600"/>
            <a:chExt cx="4610160" cy="4749840"/>
          </a:xfrm>
        </p:grpSpPr>
        <p:sp>
          <p:nvSpPr>
            <p:cNvPr id="880" name=""/>
            <p:cNvSpPr/>
            <p:nvPr/>
          </p:nvSpPr>
          <p:spPr>
            <a:xfrm>
              <a:off x="5124240" y="1371600"/>
              <a:ext cx="3441960" cy="2662200"/>
            </a:xfrm>
            <a:custGeom>
              <a:avLst/>
              <a:gdLst/>
              <a:ahLst/>
              <a:rect l="l" t="t" r="r" b="b"/>
              <a:pathLst>
                <a:path w="2168" h="1677">
                  <a:moveTo>
                    <a:pt x="0" y="0"/>
                  </a:moveTo>
                  <a:cubicBezTo>
                    <a:pt x="67" y="101"/>
                    <a:pt x="134" y="198"/>
                    <a:pt x="208" y="296"/>
                  </a:cubicBezTo>
                  <a:cubicBezTo>
                    <a:pt x="232" y="369"/>
                    <a:pt x="295" y="421"/>
                    <a:pt x="320" y="496"/>
                  </a:cubicBezTo>
                  <a:cubicBezTo>
                    <a:pt x="336" y="545"/>
                    <a:pt x="342" y="612"/>
                    <a:pt x="368" y="656"/>
                  </a:cubicBezTo>
                  <a:cubicBezTo>
                    <a:pt x="388" y="690"/>
                    <a:pt x="416" y="740"/>
                    <a:pt x="440" y="776"/>
                  </a:cubicBezTo>
                  <a:cubicBezTo>
                    <a:pt x="452" y="826"/>
                    <a:pt x="481" y="861"/>
                    <a:pt x="520" y="896"/>
                  </a:cubicBezTo>
                  <a:cubicBezTo>
                    <a:pt x="541" y="914"/>
                    <a:pt x="555" y="912"/>
                    <a:pt x="576" y="936"/>
                  </a:cubicBezTo>
                  <a:cubicBezTo>
                    <a:pt x="611" y="976"/>
                    <a:pt x="615" y="1004"/>
                    <a:pt x="624" y="1056"/>
                  </a:cubicBezTo>
                  <a:cubicBezTo>
                    <a:pt x="618" y="1141"/>
                    <a:pt x="610" y="1213"/>
                    <a:pt x="600" y="1296"/>
                  </a:cubicBezTo>
                  <a:cubicBezTo>
                    <a:pt x="602" y="1317"/>
                    <a:pt x="595" y="1342"/>
                    <a:pt x="608" y="1360"/>
                  </a:cubicBezTo>
                  <a:cubicBezTo>
                    <a:pt x="617" y="1373"/>
                    <a:pt x="640" y="1370"/>
                    <a:pt x="656" y="1376"/>
                  </a:cubicBezTo>
                  <a:cubicBezTo>
                    <a:pt x="713" y="1395"/>
                    <a:pt x="774" y="1396"/>
                    <a:pt x="832" y="1416"/>
                  </a:cubicBezTo>
                  <a:cubicBezTo>
                    <a:pt x="890" y="1474"/>
                    <a:pt x="815" y="1405"/>
                    <a:pt x="896" y="1456"/>
                  </a:cubicBezTo>
                  <a:cubicBezTo>
                    <a:pt x="931" y="1478"/>
                    <a:pt x="914" y="1500"/>
                    <a:pt x="968" y="1512"/>
                  </a:cubicBezTo>
                  <a:cubicBezTo>
                    <a:pt x="1088" y="1538"/>
                    <a:pt x="1207" y="1573"/>
                    <a:pt x="1328" y="1600"/>
                  </a:cubicBezTo>
                  <a:cubicBezTo>
                    <a:pt x="1569" y="1653"/>
                    <a:pt x="1402" y="1635"/>
                    <a:pt x="1632" y="1648"/>
                  </a:cubicBezTo>
                  <a:cubicBezTo>
                    <a:pt x="1719" y="1677"/>
                    <a:pt x="1814" y="1668"/>
                    <a:pt x="1904" y="1656"/>
                  </a:cubicBezTo>
                  <a:cubicBezTo>
                    <a:pt x="1961" y="1636"/>
                    <a:pt x="1993" y="1564"/>
                    <a:pt x="2048" y="1528"/>
                  </a:cubicBezTo>
                  <a:cubicBezTo>
                    <a:pt x="2077" y="1483"/>
                    <a:pt x="2049" y="1518"/>
                    <a:pt x="2112" y="1472"/>
                  </a:cubicBezTo>
                  <a:cubicBezTo>
                    <a:pt x="2122" y="1464"/>
                    <a:pt x="2132" y="1454"/>
                    <a:pt x="2144" y="1448"/>
                  </a:cubicBezTo>
                  <a:cubicBezTo>
                    <a:pt x="2151" y="1443"/>
                    <a:pt x="2168" y="1440"/>
                    <a:pt x="2168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29160" y="3530520"/>
              <a:ext cx="1155600" cy="2590920"/>
            </a:xfrm>
            <a:custGeom>
              <a:avLst/>
              <a:gdLst/>
              <a:ahLst/>
              <a:rect l="l" t="t" r="r" b="b"/>
              <a:pathLst>
                <a:path w="728" h="1632">
                  <a:moveTo>
                    <a:pt x="384" y="0"/>
                  </a:moveTo>
                  <a:cubicBezTo>
                    <a:pt x="377" y="100"/>
                    <a:pt x="368" y="198"/>
                    <a:pt x="344" y="296"/>
                  </a:cubicBezTo>
                  <a:cubicBezTo>
                    <a:pt x="332" y="450"/>
                    <a:pt x="345" y="353"/>
                    <a:pt x="328" y="432"/>
                  </a:cubicBezTo>
                  <a:cubicBezTo>
                    <a:pt x="325" y="445"/>
                    <a:pt x="328" y="461"/>
                    <a:pt x="320" y="472"/>
                  </a:cubicBezTo>
                  <a:cubicBezTo>
                    <a:pt x="287" y="513"/>
                    <a:pt x="238" y="502"/>
                    <a:pt x="200" y="528"/>
                  </a:cubicBezTo>
                  <a:cubicBezTo>
                    <a:pt x="166" y="550"/>
                    <a:pt x="184" y="539"/>
                    <a:pt x="144" y="560"/>
                  </a:cubicBezTo>
                  <a:cubicBezTo>
                    <a:pt x="84" y="639"/>
                    <a:pt x="31" y="712"/>
                    <a:pt x="0" y="808"/>
                  </a:cubicBezTo>
                  <a:cubicBezTo>
                    <a:pt x="13" y="826"/>
                    <a:pt x="23" y="847"/>
                    <a:pt x="40" y="864"/>
                  </a:cubicBezTo>
                  <a:cubicBezTo>
                    <a:pt x="78" y="902"/>
                    <a:pt x="53" y="850"/>
                    <a:pt x="96" y="912"/>
                  </a:cubicBezTo>
                  <a:cubicBezTo>
                    <a:pt x="151" y="993"/>
                    <a:pt x="193" y="1085"/>
                    <a:pt x="248" y="1168"/>
                  </a:cubicBezTo>
                  <a:cubicBezTo>
                    <a:pt x="304" y="1253"/>
                    <a:pt x="377" y="1321"/>
                    <a:pt x="448" y="1392"/>
                  </a:cubicBezTo>
                  <a:cubicBezTo>
                    <a:pt x="490" y="1434"/>
                    <a:pt x="517" y="1486"/>
                    <a:pt x="568" y="1520"/>
                  </a:cubicBezTo>
                  <a:cubicBezTo>
                    <a:pt x="607" y="1579"/>
                    <a:pt x="680" y="1584"/>
                    <a:pt x="728" y="1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56040" y="3809880"/>
              <a:ext cx="1955880" cy="482760"/>
            </a:xfrm>
            <a:custGeom>
              <a:avLst/>
              <a:gdLst/>
              <a:ahLst/>
              <a:rect l="l" t="t" r="r" b="b"/>
              <a:pathLst>
                <a:path w="1232" h="304">
                  <a:moveTo>
                    <a:pt x="1232" y="304"/>
                  </a:moveTo>
                  <a:cubicBezTo>
                    <a:pt x="1219" y="253"/>
                    <a:pt x="1196" y="220"/>
                    <a:pt x="1160" y="184"/>
                  </a:cubicBezTo>
                  <a:cubicBezTo>
                    <a:pt x="1148" y="150"/>
                    <a:pt x="1138" y="141"/>
                    <a:pt x="1112" y="120"/>
                  </a:cubicBezTo>
                  <a:cubicBezTo>
                    <a:pt x="1096" y="106"/>
                    <a:pt x="1088" y="85"/>
                    <a:pt x="1072" y="72"/>
                  </a:cubicBezTo>
                  <a:cubicBezTo>
                    <a:pt x="1038" y="44"/>
                    <a:pt x="942" y="15"/>
                    <a:pt x="896" y="0"/>
                  </a:cubicBezTo>
                  <a:cubicBezTo>
                    <a:pt x="783" y="12"/>
                    <a:pt x="678" y="41"/>
                    <a:pt x="568" y="64"/>
                  </a:cubicBezTo>
                  <a:cubicBezTo>
                    <a:pt x="504" y="61"/>
                    <a:pt x="439" y="61"/>
                    <a:pt x="376" y="56"/>
                  </a:cubicBezTo>
                  <a:cubicBezTo>
                    <a:pt x="329" y="51"/>
                    <a:pt x="286" y="30"/>
                    <a:pt x="240" y="24"/>
                  </a:cubicBezTo>
                  <a:cubicBezTo>
                    <a:pt x="221" y="21"/>
                    <a:pt x="54" y="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87800" y="4995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62480" y="2120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16920" y="1130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are i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684440" y="190800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1523880" y="129528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ARIOTIPO IN QM (specifico il bande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8640" y="685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o ordi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5440" y="4343400"/>
            <a:ext cx="80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no un’alternanza di bande chiare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ure lungo l’asse del cromoso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 per ogni coppia di omologh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720" y="1736640"/>
            <a:ext cx="87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ano una regione specifica di alcuni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tutti i cromosom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800" y="3048120"/>
            <a:ext cx="78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-bande : tutti i centromeri e le regioni eterocromatich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i cromosomi 1,9,16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Metodi colorazione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554520" cy="499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22096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657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60199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396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ndo la mostarda di quinacrin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6884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QM-banding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   e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892160"/>
            <a:ext cx="4114800" cy="411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114800" y="2057400"/>
            <a:ext cx="5029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743520" cy="5372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G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502680" cy="506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R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30532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449568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4800" y="304812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2760" y="1219320"/>
            <a:ext cx="4862520" cy="916920"/>
            <a:chOff x="662760" y="1219320"/>
            <a:chExt cx="4862520" cy="916920"/>
          </a:xfrm>
        </p:grpSpPr>
        <p:sp>
          <p:nvSpPr>
            <p:cNvPr id="153" name=""/>
            <p:cNvSpPr/>
            <p:nvPr/>
          </p:nvSpPr>
          <p:spPr>
            <a:xfrm>
              <a:off x="662760" y="1219320"/>
              <a:ext cx="48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X - cariotipo normale Femmin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640" y="1676520"/>
              <a:ext cx="46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Y - cariotipo normale Masch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30560" y="220968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modo di scrivere ci da’ due inform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ero totale dei cromosomi (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o dell’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240" y="3568680"/>
            <a:ext cx="620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7,XY,+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schio con 47 cromosomi (invece di 4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un cromosoma 21 in piu’ (sindrome di D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560" y="518148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del(14)(q23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=del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800" y="5562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Y,dup(14)(q22q2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= 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80" y="59436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r(7)(p22q36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ring (cromosoma ad anell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8380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Rocchi</cp:lastModifiedBy>
  <dcterms:modified xsi:type="dcterms:W3CDTF">2003-02-07T13:58:51Z</dcterms:modified>
  <cp:revision>92</cp:revision>
  <dc:subject/>
  <dc:title>PowerPoint Presentation</dc:title>
</cp:coreProperties>
</file>