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9.jpeg" ContentType="image/jpeg"/>
  <Override PartName="/ppt/media/image13.pct" ContentType="image/x-pict"/>
  <Override PartName="/ppt/media/image8.pct" ContentType="image/x-pict"/>
  <Override PartName="/ppt/media/image6.jpeg" ContentType="image/jpeg"/>
  <Override PartName="/ppt/media/image10.pct" ContentType="image/x-pict"/>
  <Override PartName="/ppt/media/image12.pct" ContentType="image/x-pict"/>
  <Override PartName="/ppt/media/image1.png" ContentType="image/png"/>
  <Override PartName="/ppt/media/image22.pct" ContentType="image/x-pict"/>
  <Override PartName="/ppt/media/image21.pct" ContentType="image/x-pict"/>
  <Override PartName="/ppt/media/image18.jpeg" ContentType="image/jpeg"/>
  <Override PartName="/ppt/media/image4.pct" ContentType="image/x-pict"/>
  <Override PartName="/ppt/media/image20.jpeg" ContentType="image/jpeg"/>
  <Override PartName="/ppt/media/image15.pct" ContentType="image/x-pict"/>
  <Override PartName="/ppt/media/image17.pct" ContentType="image/x-pict"/>
  <Override PartName="/ppt/media/image16.pct" ContentType="image/x-pict"/>
  <Override PartName="/ppt/media/image14.pct" ContentType="image/x-pict"/>
  <Override PartName="/ppt/media/image2.jpeg" ContentType="image/jpeg"/>
  <Override PartName="/ppt/media/image3.pct" ContentType="image/x-pict"/>
  <Override PartName="/ppt/media/image5.jpeg" ContentType="image/jpeg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7FC-DEB5-4A1C-ADBC-61C6EAC9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C0D-80F8-40F9-8C97-38BE24D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928-8365-46B7-B7EC-52DA762B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380-9EFD-44D7-8830-BD25F85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80A-DE0E-419A-B837-B716FF5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419-D780-453E-80EF-64211E0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B14-50E7-4DDB-9CAD-76177CAC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866-1C8D-49AC-B6F6-7F8B070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2EE-860F-4E9C-971D-AD89200F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88C-C2FD-447D-B7F3-811025B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BB0-DCAF-4CD7-9D01-B6CE2B6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5ED-AE5D-43CB-80BE-4E05697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DF28-378B-478B-BCDB-BD31A44A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.png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50280" y="1523880"/>
            <a:ext cx="96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mbiamento  nella costituzione genetica di una cel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e somatic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non eredita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e germinal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eredi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960" y="428292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ò interess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3276720"/>
            <a:ext cx="152280" cy="2743200"/>
          </a:xfrm>
          <a:custGeom>
            <a:avLst/>
            <a:gdLst>
              <a:gd name="textAreaLeft" fmla="*/ 44640 w 152280"/>
              <a:gd name="textAreaRight" fmla="*/ 152640 w 15228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5200" y="319896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o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mutazioni gen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0720" y="434196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mutazioni cromos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00000" y="5332320"/>
            <a:ext cx="50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mutazioni ge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25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Monosomi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68320" y="198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5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9120" y="2749680"/>
            <a:ext cx="358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riscont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 nati v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ene anche chiam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drome di Tu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o femminile, amenor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ia, bassa statura, “strea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nad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25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Trisomi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51240" y="1219320"/>
            <a:ext cx="5183280" cy="5182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360" y="1752480"/>
            <a:ext cx="333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7XX+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isomia del cromosoma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ompatibile con lo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rto rinvenuto in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rto spontaneo del pri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438280" y="1084320"/>
            <a:ext cx="6045480" cy="5524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25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Doppia trisomi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05740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696120" y="2236680"/>
            <a:ext cx="401400" cy="9586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33920" y="5427720"/>
            <a:ext cx="761760" cy="66672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123720" y="4818240"/>
            <a:ext cx="762120" cy="6094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29200" y="6113520"/>
            <a:ext cx="457200" cy="457200"/>
          </a:xfrm>
          <a:prstGeom prst="line">
            <a:avLst/>
          </a:prstGeom>
          <a:ln w="28440">
            <a:solidFill>
              <a:srgbClr val="ff111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952520" y="5656320"/>
            <a:ext cx="685800" cy="685800"/>
          </a:xfrm>
          <a:prstGeom prst="line">
            <a:avLst/>
          </a:prstGeom>
          <a:ln w="28440">
            <a:solidFill>
              <a:srgbClr val="ff111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53000" y="1785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08280" y="603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67200" y="5425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04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200" y="14479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XYY +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1240" y="2139840"/>
            <a:ext cx="21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za di d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osomi Y e di tre cromosomi 1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800" y="3429000"/>
            <a:ext cx="232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resenza di 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osomi 15 e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ompatibile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sviluppo. Rep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contrato in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rto sponta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 primo 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2210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24"/>
                </a:solidFill>
                <a:latin typeface="Comic Sans MS"/>
              </a:rPr>
              <a:t>Percentuale delle anomalie cromosomiche tra gli    aborti spontanei ed i nati vivi</a:t>
            </a:r>
            <a:r>
              <a:rPr b="1" lang="en-US" sz="1800" spc="-1" strike="noStrike">
                <a:solidFill>
                  <a:srgbClr val="ff1424"/>
                </a:solidFill>
                <a:latin typeface="Tex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71800" y="598320"/>
            <a:ext cx="5562360" cy="489600"/>
            <a:chOff x="2971800" y="598320"/>
            <a:chExt cx="5562360" cy="489600"/>
          </a:xfrm>
        </p:grpSpPr>
        <p:sp>
          <p:nvSpPr>
            <p:cNvPr id="292" name=""/>
            <p:cNvSpPr/>
            <p:nvPr/>
          </p:nvSpPr>
          <p:spPr>
            <a:xfrm>
              <a:off x="2971800" y="7506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1424"/>
                  </a:solidFill>
                  <a:latin typeface="Comic Sans MS"/>
                </a:rPr>
                <a:t>ANOMA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52880" y="598320"/>
              <a:ext cx="17524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1424"/>
                  </a:solidFill>
                  <a:latin typeface="Comic Sans MS"/>
                </a:rPr>
                <a:t>ABORTI SPONTAN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1680" y="75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1424"/>
                  </a:solidFill>
                  <a:latin typeface="Comic Sans MS"/>
                </a:rPr>
                <a:t>NATI VI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5" name=""/>
          <p:cNvGraphicFramePr/>
          <p:nvPr/>
        </p:nvGraphicFramePr>
        <p:xfrm>
          <a:off x="2590920" y="1198440"/>
          <a:ext cx="6324480" cy="5506920"/>
        </p:xfrm>
        <a:graphic>
          <a:graphicData uri="http://schemas.openxmlformats.org/drawingml/2006/table">
            <a:tbl>
              <a:tblPr/>
              <a:tblGrid>
                <a:gridCol w="2377800"/>
                <a:gridCol w="1973520"/>
                <a:gridCol w="197316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risomie autoso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Al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1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otale tris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1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.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Monosomie della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risomie crom. sessu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ri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etra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otale anom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41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Numero dei carioti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1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3352680" y="1143000"/>
          <a:ext cx="5532480" cy="5506920"/>
        </p:xfrm>
        <a:graphic>
          <a:graphicData uri="http://schemas.openxmlformats.org/drawingml/2006/table">
            <a:tbl>
              <a:tblPr/>
              <a:tblGrid>
                <a:gridCol w="2767320"/>
                <a:gridCol w="276516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7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4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Totale dalla 2</a:t>
                      </a:r>
                      <a:r>
                        <a:rPr b="0" lang="en-US" sz="14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-7</a:t>
                      </a:r>
                      <a:r>
                        <a:rPr b="0" lang="en-US" sz="14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 set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6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2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3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Totale dall’ 8</a:t>
                      </a:r>
                      <a:r>
                        <a:rPr b="0" lang="en-US" sz="14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-12</a:t>
                      </a:r>
                      <a:r>
                        <a:rPr b="0" lang="en-US" sz="1400" spc="-1" strike="noStrike" baseline="30000">
                          <a:solidFill>
                            <a:srgbClr val="ff1424"/>
                          </a:solidFill>
                          <a:latin typeface="Textile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 set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1424"/>
                          </a:solidFill>
                          <a:latin typeface="Textile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xtile"/>
                        </a:rPr>
                        <a:t>6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3200400" y="7239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424"/>
                </a:solidFill>
                <a:latin typeface="Comic Sans MS"/>
              </a:rPr>
              <a:t>Eta’ gestazionale (settim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7682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424"/>
                </a:solidFill>
                <a:latin typeface="Comic Sans MS"/>
              </a:rPr>
              <a:t>Percentuale delle anoma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1904760"/>
            <a:ext cx="30481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424"/>
                </a:solidFill>
                <a:latin typeface="Comic Sans MS"/>
              </a:rPr>
              <a:t>Anomalie cromosomiche </a:t>
            </a:r>
            <a:br>
              <a:rPr sz="2800"/>
            </a:br>
            <a:r>
              <a:rPr b="0" lang="en-US" sz="2800" spc="-1" strike="noStrike">
                <a:solidFill>
                  <a:srgbClr val="ff1424"/>
                </a:solidFill>
                <a:latin typeface="Comic Sans MS"/>
              </a:rPr>
              <a:t>ed eta' gest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Mutazioni cromosomiche di strut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192096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duplicazioni e dele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39920" y="2987640"/>
            <a:ext cx="26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inver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78200" y="4206960"/>
            <a:ext cx="32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trasloc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0560" y="5316480"/>
            <a:ext cx="48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cromosomi ad an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1424"/>
                </a:solidFill>
                <a:latin typeface="Comic Sans MS"/>
              </a:rPr>
              <a:t>DUPLICAZION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070000" y="977760"/>
            <a:ext cx="5397480" cy="5803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Meccanismo di formazione delle dupli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14800" y="6854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24"/>
                </a:solidFill>
                <a:latin typeface="Comic Sans MS"/>
              </a:rPr>
              <a:t>Dupli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680" y="5257800"/>
            <a:ext cx="1678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352680" y="1430280"/>
            <a:ext cx="609840" cy="4108320"/>
            <a:chOff x="3352680" y="1430280"/>
            <a:chExt cx="609840" cy="4108320"/>
          </a:xfrm>
        </p:grpSpPr>
        <p:sp>
          <p:nvSpPr>
            <p:cNvPr id="341" name=""/>
            <p:cNvSpPr/>
            <p:nvPr/>
          </p:nvSpPr>
          <p:spPr>
            <a:xfrm>
              <a:off x="3519360" y="1430280"/>
              <a:ext cx="274680" cy="1389240"/>
            </a:xfrm>
            <a:prstGeom prst="can">
              <a:avLst>
                <a:gd name="adj" fmla="val 1418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3505320" y="2793600"/>
              <a:ext cx="304560" cy="2745000"/>
            </a:xfrm>
            <a:prstGeom prst="can">
              <a:avLst>
                <a:gd name="adj" fmla="val 8092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2680" y="3581280"/>
              <a:ext cx="60984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52680" y="4267080"/>
              <a:ext cx="60984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10080" y="1392120"/>
            <a:ext cx="609840" cy="4095720"/>
            <a:chOff x="5410080" y="1392120"/>
            <a:chExt cx="609840" cy="4095720"/>
          </a:xfrm>
        </p:grpSpPr>
        <p:sp>
          <p:nvSpPr>
            <p:cNvPr id="346" name=""/>
            <p:cNvSpPr/>
            <p:nvPr/>
          </p:nvSpPr>
          <p:spPr>
            <a:xfrm>
              <a:off x="5576760" y="1392120"/>
              <a:ext cx="274680" cy="1389240"/>
            </a:xfrm>
            <a:prstGeom prst="can">
              <a:avLst>
                <a:gd name="adj" fmla="val 14189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800000">
              <a:off x="5562720" y="2743200"/>
              <a:ext cx="304560" cy="2744640"/>
            </a:xfrm>
            <a:prstGeom prst="can">
              <a:avLst>
                <a:gd name="adj" fmla="val 8092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0080" y="3886200"/>
              <a:ext cx="60984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4572000"/>
              <a:ext cx="60984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70160" y="1523880"/>
            <a:ext cx="275760" cy="3644640"/>
            <a:chOff x="1370160" y="1523880"/>
            <a:chExt cx="275760" cy="3644640"/>
          </a:xfrm>
        </p:grpSpPr>
        <p:sp>
          <p:nvSpPr>
            <p:cNvPr id="351" name=""/>
            <p:cNvSpPr/>
            <p:nvPr/>
          </p:nvSpPr>
          <p:spPr>
            <a:xfrm>
              <a:off x="1370160" y="1523880"/>
              <a:ext cx="274320" cy="1389240"/>
            </a:xfrm>
            <a:prstGeom prst="can">
              <a:avLst>
                <a:gd name="adj" fmla="val 1418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800000">
              <a:off x="1371240" y="2893680"/>
              <a:ext cx="274680" cy="2274840"/>
            </a:xfrm>
            <a:prstGeom prst="can">
              <a:avLst>
                <a:gd name="adj" fmla="val 8092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086600" y="1384200"/>
            <a:ext cx="609480" cy="4102200"/>
            <a:chOff x="7086600" y="1384200"/>
            <a:chExt cx="609480" cy="4102200"/>
          </a:xfrm>
        </p:grpSpPr>
        <p:sp>
          <p:nvSpPr>
            <p:cNvPr id="354" name=""/>
            <p:cNvSpPr/>
            <p:nvPr/>
          </p:nvSpPr>
          <p:spPr>
            <a:xfrm>
              <a:off x="7253280" y="1384200"/>
              <a:ext cx="274680" cy="1389240"/>
            </a:xfrm>
            <a:prstGeom prst="can">
              <a:avLst>
                <a:gd name="adj" fmla="val 14189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7238520" y="2741760"/>
              <a:ext cx="304920" cy="2744640"/>
            </a:xfrm>
            <a:prstGeom prst="can">
              <a:avLst>
                <a:gd name="adj" fmla="val 8092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70b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86600" y="3581280"/>
              <a:ext cx="60948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86600" y="4267080"/>
              <a:ext cx="609480" cy="68580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885040" y="5626080"/>
            <a:ext cx="178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ta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sti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1760" y="5626080"/>
            <a:ext cx="178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ta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r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50560" y="5562720"/>
            <a:ext cx="178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ta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vert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Origine della duplicazione </a:t>
            </a:r>
            <a:r>
              <a:rPr b="1" i="1" lang="it-IT" sz="2800" spc="-1" strike="noStrike">
                <a:solidFill>
                  <a:srgbClr val="ff020b"/>
                </a:solidFill>
                <a:latin typeface="Comic Sans MS"/>
              </a:rPr>
              <a:t>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930320" y="3047760"/>
            <a:ext cx="1168560" cy="546480"/>
            <a:chOff x="1930320" y="3047760"/>
            <a:chExt cx="1168560" cy="546480"/>
          </a:xfrm>
        </p:grpSpPr>
        <p:sp>
          <p:nvSpPr>
            <p:cNvPr id="368" name=""/>
            <p:cNvSpPr/>
            <p:nvPr/>
          </p:nvSpPr>
          <p:spPr>
            <a:xfrm flipV="1">
              <a:off x="1930320" y="3047760"/>
              <a:ext cx="11685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94040" y="3594240"/>
              <a:ext cx="105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38560" y="1479600"/>
            <a:ext cx="4641480" cy="1602720"/>
            <a:chOff x="4138560" y="1479600"/>
            <a:chExt cx="4641480" cy="160272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5689440" y="1612800"/>
              <a:ext cx="7905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19386600">
              <a:off x="4063680" y="2398320"/>
              <a:ext cx="1511280" cy="255600"/>
            </a:xfrm>
            <a:prstGeom prst="rightArrow">
              <a:avLst>
                <a:gd name="adj1" fmla="val 50000"/>
                <a:gd name="adj2" fmla="val 147817"/>
              </a:avLst>
            </a:prstGeom>
            <a:gradFill rotWithShape="0">
              <a:gsLst>
                <a:gs pos="0">
                  <a:srgbClr val="ff070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49760" y="1714680"/>
              <a:ext cx="1028880" cy="38088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06440" y="1479600"/>
              <a:ext cx="2073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rmale 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versione da 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138200" y="3467160"/>
            <a:ext cx="4062240" cy="1419120"/>
            <a:chOff x="4138200" y="3467160"/>
            <a:chExt cx="4062240" cy="141912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5676840" y="3467160"/>
              <a:ext cx="988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 rot="1627800">
              <a:off x="4113360" y="3833640"/>
              <a:ext cx="1511280" cy="255600"/>
            </a:xfrm>
            <a:prstGeom prst="rightArrow">
              <a:avLst>
                <a:gd name="adj1" fmla="val 50000"/>
                <a:gd name="adj2" fmla="val 147817"/>
              </a:avLst>
            </a:prstGeom>
            <a:gradFill rotWithShape="0">
              <a:gsLst>
                <a:gs pos="0">
                  <a:srgbClr val="ff070b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6840" y="3708360"/>
              <a:ext cx="1028880" cy="30492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76840" y="4013280"/>
              <a:ext cx="1028880" cy="26676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76840" y="4254480"/>
              <a:ext cx="1028880" cy="26676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12640" y="3790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ppio 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47400" y="1812960"/>
            <a:ext cx="2031120" cy="3489120"/>
            <a:chOff x="347400" y="1812960"/>
            <a:chExt cx="2031120" cy="3489120"/>
          </a:xfrm>
        </p:grpSpPr>
        <p:sp>
          <p:nvSpPr>
            <p:cNvPr id="383" name=""/>
            <p:cNvSpPr/>
            <p:nvPr/>
          </p:nvSpPr>
          <p:spPr>
            <a:xfrm>
              <a:off x="777960" y="1897200"/>
              <a:ext cx="49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7040" y="2075040"/>
              <a:ext cx="47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8240" y="2286000"/>
              <a:ext cx="517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1480" y="2522520"/>
              <a:ext cx="51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480" y="2895480"/>
              <a:ext cx="59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5040" y="327672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7960" y="3641760"/>
              <a:ext cx="49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0040" y="4259160"/>
              <a:ext cx="60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0040" y="4784760"/>
              <a:ext cx="56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000" y="1812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3320" y="19908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3320" y="22320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2040" y="28926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2760" y="2562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7800" y="3768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33242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1480" y="43783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7400" y="2971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7400" y="3225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1206360" y="1816200"/>
              <a:ext cx="844560" cy="31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260360" y="49338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086280" y="2603520"/>
            <a:ext cx="1028520" cy="2031840"/>
            <a:chOff x="3086280" y="2603520"/>
            <a:chExt cx="1028520" cy="2031840"/>
          </a:xfrm>
        </p:grpSpPr>
        <p:pic>
          <p:nvPicPr>
            <p:cNvPr id="405" name="" descr=""/>
            <p:cNvPicPr/>
            <p:nvPr/>
          </p:nvPicPr>
          <p:blipFill>
            <a:blip r:embed="rId5"/>
            <a:stretch/>
          </p:blipFill>
          <p:spPr>
            <a:xfrm>
              <a:off x="3086280" y="2603520"/>
              <a:ext cx="94284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086280" y="3048120"/>
              <a:ext cx="1028520" cy="29196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86280" y="3340080"/>
              <a:ext cx="1028520" cy="291960"/>
            </a:xfrm>
            <a:prstGeom prst="rect">
              <a:avLst/>
            </a:prstGeom>
            <a:noFill/>
            <a:ln w="19080">
              <a:solidFill>
                <a:srgbClr val="ff0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53760" y="42670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52280" y="5638680"/>
            <a:ext cx="4260960" cy="1069560"/>
            <a:chOff x="152280" y="5638680"/>
            <a:chExt cx="4260960" cy="1069560"/>
          </a:xfrm>
        </p:grpSpPr>
        <p:sp>
          <p:nvSpPr>
            <p:cNvPr id="410" name=""/>
            <p:cNvSpPr/>
            <p:nvPr/>
          </p:nvSpPr>
          <p:spPr>
            <a:xfrm>
              <a:off x="609480" y="571500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2480" y="563868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3720" y="563868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14600" y="571500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2280" y="609588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95280" y="601992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601992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7400" y="609588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52480" y="5867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67652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70520" y="6273720"/>
              <a:ext cx="3042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ssing over ineguale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na femmina omozigote “ba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257800" y="5257800"/>
            <a:ext cx="3429000" cy="489600"/>
            <a:chOff x="5257800" y="5257800"/>
            <a:chExt cx="3429000" cy="489600"/>
          </a:xfrm>
        </p:grpSpPr>
        <p:sp>
          <p:nvSpPr>
            <p:cNvPr id="422" name=""/>
            <p:cNvSpPr/>
            <p:nvPr/>
          </p:nvSpPr>
          <p:spPr>
            <a:xfrm>
              <a:off x="5257800" y="5334120"/>
              <a:ext cx="1219320" cy="7596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00800" y="525780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25780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86600" y="525780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67480" y="5334120"/>
              <a:ext cx="1219320" cy="7596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90000" y="5410080"/>
              <a:ext cx="21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atidio triplo 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029200" y="6095880"/>
            <a:ext cx="2743200" cy="565920"/>
            <a:chOff x="5029200" y="6095880"/>
            <a:chExt cx="2743200" cy="565920"/>
          </a:xfrm>
        </p:grpSpPr>
        <p:sp>
          <p:nvSpPr>
            <p:cNvPr id="429" name=""/>
            <p:cNvSpPr/>
            <p:nvPr/>
          </p:nvSpPr>
          <p:spPr>
            <a:xfrm>
              <a:off x="5029200" y="617220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72200" y="6095880"/>
              <a:ext cx="457200" cy="228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02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53080" y="6172200"/>
              <a:ext cx="1219320" cy="763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97400" y="6324480"/>
              <a:ext cx="20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atidio nor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733920" y="5486040"/>
            <a:ext cx="1295280" cy="762480"/>
            <a:chOff x="3733920" y="5486040"/>
            <a:chExt cx="1295280" cy="762480"/>
          </a:xfrm>
        </p:grpSpPr>
        <p:sp>
          <p:nvSpPr>
            <p:cNvPr id="434" name=""/>
            <p:cNvSpPr/>
            <p:nvPr/>
          </p:nvSpPr>
          <p:spPr>
            <a:xfrm flipV="1">
              <a:off x="3962520" y="5486040"/>
              <a:ext cx="10666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33920" y="6095880"/>
              <a:ext cx="11430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854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Mutazioni cromoso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120" y="1447920"/>
            <a:ext cx="896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distinguono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numero (varia il numero totale dei cromoso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struttura (varia la struttura del/i cromosoma/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1840" y="536112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24"/>
                </a:solidFill>
                <a:latin typeface="Comic Sans MS"/>
              </a:rPr>
              <a:t>Mutazioni cromosomiche di numero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43240" y="1980720"/>
            <a:ext cx="3048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Conseguenze fenotipiche della duplicazione Bar              </a:t>
            </a: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in </a:t>
            </a:r>
            <a:br>
              <a:rPr sz="2800"/>
            </a:b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D. </a:t>
            </a:r>
            <a:r>
              <a:rPr b="1" i="1" lang="it-IT" sz="2800" spc="-1" strike="noStrike">
                <a:solidFill>
                  <a:srgbClr val="ff020b"/>
                </a:solidFill>
                <a:latin typeface="Comic Sans MS"/>
              </a:rPr>
              <a:t>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52960" y="2921040"/>
            <a:ext cx="1767240" cy="1346040"/>
            <a:chOff x="4152960" y="2921040"/>
            <a:chExt cx="1767240" cy="1346040"/>
          </a:xfrm>
        </p:grpSpPr>
        <p:sp>
          <p:nvSpPr>
            <p:cNvPr id="438" name=""/>
            <p:cNvSpPr/>
            <p:nvPr/>
          </p:nvSpPr>
          <p:spPr>
            <a:xfrm>
              <a:off x="5392080" y="321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4152960" y="2921040"/>
              <a:ext cx="1231920" cy="13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4238640" y="5372280"/>
            <a:ext cx="1767240" cy="1371600"/>
            <a:chOff x="4238640" y="5372280"/>
            <a:chExt cx="1767240" cy="1371600"/>
          </a:xfrm>
        </p:grpSpPr>
        <p:sp>
          <p:nvSpPr>
            <p:cNvPr id="441" name=""/>
            <p:cNvSpPr/>
            <p:nvPr/>
          </p:nvSpPr>
          <p:spPr>
            <a:xfrm>
              <a:off x="5477760" y="5713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4238640" y="5372280"/>
              <a:ext cx="132084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3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175280" y="4191120"/>
            <a:ext cx="1754640" cy="1295280"/>
            <a:chOff x="4175280" y="4191120"/>
            <a:chExt cx="1754640" cy="1295280"/>
          </a:xfrm>
        </p:grpSpPr>
        <p:sp>
          <p:nvSpPr>
            <p:cNvPr id="449" name=""/>
            <p:cNvSpPr/>
            <p:nvPr/>
          </p:nvSpPr>
          <p:spPr>
            <a:xfrm>
              <a:off x="5401800" y="4587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4175280" y="4191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4140360" y="1752480"/>
            <a:ext cx="2024640" cy="1320840"/>
            <a:chOff x="4140360" y="1752480"/>
            <a:chExt cx="2024640" cy="1320840"/>
          </a:xfrm>
        </p:grpSpPr>
        <p:sp>
          <p:nvSpPr>
            <p:cNvPr id="452" name=""/>
            <p:cNvSpPr/>
            <p:nvPr/>
          </p:nvSpPr>
          <p:spPr>
            <a:xfrm>
              <a:off x="5463000" y="19922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5"/>
            <a:stretch/>
          </p:blipFill>
          <p:spPr>
            <a:xfrm>
              <a:off x="4140360" y="1752480"/>
              <a:ext cx="128268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4" name=""/>
          <p:cNvGrpSpPr/>
          <p:nvPr/>
        </p:nvGrpSpPr>
        <p:grpSpPr>
          <a:xfrm>
            <a:off x="4165560" y="533520"/>
            <a:ext cx="2081520" cy="1358640"/>
            <a:chOff x="4165560" y="533520"/>
            <a:chExt cx="2081520" cy="1358640"/>
          </a:xfrm>
        </p:grpSpPr>
        <p:sp>
          <p:nvSpPr>
            <p:cNvPr id="455" name=""/>
            <p:cNvSpPr/>
            <p:nvPr/>
          </p:nvSpPr>
          <p:spPr>
            <a:xfrm>
              <a:off x="5371560" y="760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6"/>
            <a:stretch/>
          </p:blipFill>
          <p:spPr>
            <a:xfrm>
              <a:off x="4165560" y="533520"/>
              <a:ext cx="1244520" cy="13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380880" y="5562720"/>
            <a:ext cx="3810240" cy="761760"/>
            <a:chOff x="380880" y="5562720"/>
            <a:chExt cx="3810240" cy="761760"/>
          </a:xfrm>
        </p:grpSpPr>
        <p:sp>
          <p:nvSpPr>
            <p:cNvPr id="458" name=""/>
            <p:cNvSpPr/>
            <p:nvPr/>
          </p:nvSpPr>
          <p:spPr>
            <a:xfrm>
              <a:off x="380880" y="617220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5800" y="60199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00200" y="60199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38280" y="6019920"/>
              <a:ext cx="106704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9000" y="6172200"/>
              <a:ext cx="76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571500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55627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00200" y="55627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8280" y="5562720"/>
              <a:ext cx="106704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29000" y="5715000"/>
              <a:ext cx="76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4419720"/>
            <a:ext cx="3810240" cy="761760"/>
            <a:chOff x="380880" y="4419720"/>
            <a:chExt cx="3810240" cy="761760"/>
          </a:xfrm>
        </p:grpSpPr>
        <p:sp>
          <p:nvSpPr>
            <p:cNvPr id="469" name=""/>
            <p:cNvSpPr/>
            <p:nvPr/>
          </p:nvSpPr>
          <p:spPr>
            <a:xfrm>
              <a:off x="380880" y="502920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" y="48769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76520" y="5029200"/>
              <a:ext cx="25146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880" y="457200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800" y="44197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00200" y="4419720"/>
              <a:ext cx="106668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38280" y="4419720"/>
              <a:ext cx="1067040" cy="304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29000" y="4572000"/>
              <a:ext cx="76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80880" y="3200400"/>
            <a:ext cx="3810240" cy="762120"/>
            <a:chOff x="380880" y="3200400"/>
            <a:chExt cx="3810240" cy="762120"/>
          </a:xfrm>
        </p:grpSpPr>
        <p:sp>
          <p:nvSpPr>
            <p:cNvPr id="478" name=""/>
            <p:cNvSpPr/>
            <p:nvPr/>
          </p:nvSpPr>
          <p:spPr>
            <a:xfrm>
              <a:off x="380880" y="380988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365760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0200" y="365760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3809880"/>
              <a:ext cx="1600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880" y="3352680"/>
              <a:ext cx="6858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320040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320040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90920" y="3352680"/>
              <a:ext cx="16002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880" y="1981080"/>
            <a:ext cx="3810240" cy="762120"/>
            <a:chOff x="380880" y="1981080"/>
            <a:chExt cx="3810240" cy="762120"/>
          </a:xfrm>
        </p:grpSpPr>
        <p:sp>
          <p:nvSpPr>
            <p:cNvPr id="487" name=""/>
            <p:cNvSpPr/>
            <p:nvPr/>
          </p:nvSpPr>
          <p:spPr>
            <a:xfrm>
              <a:off x="380880" y="2590920"/>
              <a:ext cx="6858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" y="243828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76520" y="2590920"/>
              <a:ext cx="2514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0880" y="2133720"/>
              <a:ext cx="6858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198108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198108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90920" y="2133720"/>
              <a:ext cx="16002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380880" y="838080"/>
            <a:ext cx="3810240" cy="762120"/>
            <a:chOff x="380880" y="838080"/>
            <a:chExt cx="3810240" cy="762120"/>
          </a:xfrm>
        </p:grpSpPr>
        <p:sp>
          <p:nvSpPr>
            <p:cNvPr id="495" name=""/>
            <p:cNvSpPr/>
            <p:nvPr/>
          </p:nvSpPr>
          <p:spPr>
            <a:xfrm>
              <a:off x="380880" y="990720"/>
              <a:ext cx="6858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83808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76520" y="990720"/>
              <a:ext cx="2514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880" y="1447920"/>
              <a:ext cx="6858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1295280"/>
              <a:ext cx="106668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20b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76520" y="1447920"/>
              <a:ext cx="2514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68920" cy="4952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Comic Sans MS"/>
              </a:rPr>
              <a:t>Duplicazione del braccio corto cromosoma 18</a:t>
            </a:r>
            <a:br>
              <a:rPr sz="2800"/>
            </a:br>
            <a:r>
              <a:rPr b="0" lang="en-US" sz="2800" spc="-1" strike="noStrike">
                <a:solidFill>
                  <a:srgbClr val="ff020b"/>
                </a:solidFill>
                <a:latin typeface="Comic Sans MS"/>
              </a:rPr>
              <a:t>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Duplicazione braccio corto del cromosoma Y nell’uomo</a:t>
            </a:r>
            <a:r>
              <a:rPr b="1" lang="en-US" sz="6000" spc="-1" strike="noStrike">
                <a:solidFill>
                  <a:srgbClr val="ff1424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4800600" cy="29131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2057400" cy="7095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5800" y="1981080"/>
            <a:ext cx="1143000" cy="1295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1680" y="25146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924680" y="25146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5000" y="2895480"/>
            <a:ext cx="1086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02600" y="28195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p dupl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3657600"/>
            <a:ext cx="152280" cy="152280"/>
          </a:xfrm>
          <a:prstGeom prst="ellipse">
            <a:avLst/>
          </a:prstGeom>
          <a:solidFill>
            <a:srgbClr val="ff0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13320" y="356868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foide crom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2200" y="4038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0720" y="39528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4560" y="5035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6X -Y + mar(dupY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87040" y="50356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o di sesso maschile azospe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1482"/>
                </a:solidFill>
                <a:latin typeface="Comic Sans MS"/>
              </a:rPr>
              <a:t>DELEZION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082760" cy="58676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50796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Meccanismo di formazione delle 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495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Visualizziamo le 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3152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20b"/>
                </a:solidFill>
                <a:latin typeface="Comic Sans MS"/>
              </a:rPr>
              <a:t>Conseguenze genetiche delle 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137160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alità in omozig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assenza di ricombin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espressione del fenotipo recessivo di geni inclusi nella delezione:      mappatura dei g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4572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1482"/>
                </a:solidFill>
                <a:latin typeface="Comic Sans MS"/>
              </a:rPr>
              <a:t>Nomencla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33920" y="2320920"/>
            <a:ext cx="1752480" cy="1812240"/>
            <a:chOff x="3733920" y="2320920"/>
            <a:chExt cx="1752480" cy="1812240"/>
          </a:xfrm>
        </p:grpSpPr>
        <p:sp>
          <p:nvSpPr>
            <p:cNvPr id="63" name=""/>
            <p:cNvSpPr/>
            <p:nvPr/>
          </p:nvSpPr>
          <p:spPr>
            <a:xfrm>
              <a:off x="3733920" y="239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262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91120" y="232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1120" y="254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285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91120" y="277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46240" y="315756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14800" y="308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300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33920" y="239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33920" y="262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232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1120" y="254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4800" y="285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277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22120" y="315756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308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91120" y="300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24440" y="36734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00200" y="3827520"/>
            <a:ext cx="1752480" cy="2363040"/>
            <a:chOff x="1600200" y="3827520"/>
            <a:chExt cx="1752480" cy="2363040"/>
          </a:xfrm>
        </p:grpSpPr>
        <p:sp>
          <p:nvSpPr>
            <p:cNvPr id="83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5400" y="527364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1280" y="5273640"/>
              <a:ext cx="143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3240" y="57308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928840" y="3751200"/>
            <a:ext cx="1811160" cy="2744280"/>
            <a:chOff x="5928840" y="3751200"/>
            <a:chExt cx="1811160" cy="2744280"/>
          </a:xfrm>
        </p:grpSpPr>
        <p:sp>
          <p:nvSpPr>
            <p:cNvPr id="111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28840" y="5638680"/>
              <a:ext cx="18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tra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41760" y="60357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3440" y="13701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PLOI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76920" y="7617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82"/>
                </a:solidFill>
                <a:latin typeface="Comic Sans MS"/>
              </a:rPr>
              <a:t>Triploid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077920"/>
            <a:ext cx="847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Origin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per fusione di un gamete diploide, non ridotto con un gamete aploi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in seguito a doppia fecondazione (polispermi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424"/>
                </a:solidFill>
                <a:latin typeface="Comic Sans MS"/>
              </a:rPr>
              <a:t>nell’uomo,in cui la meiosi II viene completata dopo la fecondazione,anche per mancata emissione del globulo polar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727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triploidia è comune nelle piante, rara negli animali. Esempi di specie animali sono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Drosophila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alamandre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ll’uomo si ritrova solo negli aborti spont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9400" y="1447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e genomi (set aplodi) per nu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9903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24"/>
                </a:solidFill>
                <a:latin typeface="Comic Sans MS"/>
              </a:rPr>
              <a:t>Tetraploi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0968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Comic Sans MS"/>
              </a:rPr>
              <a:t>Origine:</a:t>
            </a:r>
            <a:r>
              <a:rPr b="0" lang="it-IT" sz="2400" spc="-1" strike="noStrike">
                <a:solidFill>
                  <a:srgbClr val="ff142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24"/>
                </a:solidFill>
                <a:latin typeface="Comic Sans MS"/>
              </a:rPr>
              <a:t>si formano per fusione di due gameti diploi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1424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24"/>
                </a:solidFill>
                <a:latin typeface="Comic Sans MS"/>
              </a:rPr>
              <a:t>mancata divisione dei primi blastom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19112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ornamentali e piante da frutto sono tetraploid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uomo sono sempre abortivi ai primissimi stadi di sviluppo embr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71800" y="762120"/>
            <a:ext cx="586728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2971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xtile"/>
              </a:rPr>
              <a:t>92 X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13400" y="65134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Comic Sans MS"/>
              </a:rPr>
              <a:t>Metafase </a:t>
            </a:r>
            <a:br>
              <a:rPr sz="2800"/>
            </a:br>
            <a:r>
              <a:rPr b="0" lang="en-US" sz="2800" spc="-1" strike="noStrike">
                <a:solidFill>
                  <a:srgbClr val="ff020b"/>
                </a:solidFill>
                <a:latin typeface="Comic Sans MS"/>
              </a:rPr>
              <a:t>tetraplo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1424"/>
                </a:solidFill>
                <a:latin typeface="Comic Sans MS"/>
              </a:rPr>
              <a:t>Aneuploi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4940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Uno o pochi cromoso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in più o in meno rispet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all’assetto cromosomico norma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50600" y="4162320"/>
            <a:ext cx="2146680" cy="2073240"/>
            <a:chOff x="750600" y="4162320"/>
            <a:chExt cx="2146680" cy="2073240"/>
          </a:xfrm>
        </p:grpSpPr>
        <p:sp>
          <p:nvSpPr>
            <p:cNvPr id="185" name=""/>
            <p:cNvSpPr/>
            <p:nvPr/>
          </p:nvSpPr>
          <p:spPr>
            <a:xfrm>
              <a:off x="1295280" y="50007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9244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4238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7160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446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71600" y="439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5229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51530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4400" y="469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600" y="461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0600" y="5410080"/>
              <a:ext cx="214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i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488760" y="4162320"/>
            <a:ext cx="2382480" cy="2073240"/>
            <a:chOff x="3488760" y="4162320"/>
            <a:chExt cx="2382480" cy="2073240"/>
          </a:xfrm>
        </p:grpSpPr>
        <p:sp>
          <p:nvSpPr>
            <p:cNvPr id="197" name=""/>
            <p:cNvSpPr/>
            <p:nvPr/>
          </p:nvSpPr>
          <p:spPr>
            <a:xfrm>
              <a:off x="4191120" y="515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507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381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53053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4695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46195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1120" y="492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484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9880" y="42386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9880" y="44672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439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8760" y="5410080"/>
              <a:ext cx="238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tra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65520" y="4162320"/>
            <a:ext cx="2536560" cy="2073240"/>
            <a:chOff x="6365520" y="4162320"/>
            <a:chExt cx="2536560" cy="2073240"/>
          </a:xfrm>
        </p:grpSpPr>
        <p:sp>
          <p:nvSpPr>
            <p:cNvPr id="211" name=""/>
            <p:cNvSpPr/>
            <p:nvPr/>
          </p:nvSpPr>
          <p:spPr>
            <a:xfrm>
              <a:off x="69343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0280" y="4467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4772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10280" y="4695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3080" y="42386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10280" y="41623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5520" y="5410080"/>
              <a:ext cx="253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no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ia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d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romoso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081080" y="6170760"/>
            <a:ext cx="70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 + 1 =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 + 2 =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n - 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9880" y="2016000"/>
            <a:ext cx="1752840" cy="1812240"/>
            <a:chOff x="3809880" y="2016000"/>
            <a:chExt cx="1752840" cy="1812240"/>
          </a:xfrm>
        </p:grpSpPr>
        <p:sp>
          <p:nvSpPr>
            <p:cNvPr id="220" name=""/>
            <p:cNvSpPr/>
            <p:nvPr/>
          </p:nvSpPr>
          <p:spPr>
            <a:xfrm>
              <a:off x="3809880" y="20923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23209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01600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7080" y="224460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254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67080" y="247320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22560" y="285264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1120" y="277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7080" y="270180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20923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23209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201600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224460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254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247320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2560" y="285264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77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7080" y="270180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00400" y="33685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36880" cy="46483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956120" y="1774800"/>
            <a:ext cx="3862440" cy="4708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536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33520"/>
            <a:ext cx="8153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120" y="7621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Non disgi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3440" y="10652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avvie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4:18:38Z</dcterms:created>
  <dc:creator>Palumbo</dc:creator>
  <dc:description/>
  <dc:language>en-US</dc:language>
  <cp:lastModifiedBy>M.Rocchi</cp:lastModifiedBy>
  <dcterms:modified xsi:type="dcterms:W3CDTF">2003-01-28T18:38:42Z</dcterms:modified>
  <cp:revision>134</cp:revision>
  <dc:subject/>
  <dc:title>MUTAZIONE</dc:title>
</cp:coreProperties>
</file>