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ct" ContentType="image/x-pict"/>
  <Override PartName="/ppt/media/image27.pct" ContentType="image/x-pict"/>
  <Override PartName="/ppt/media/image25.pct" ContentType="image/x-pict"/>
  <Override PartName="/ppt/media/image7.jpeg" ContentType="image/jpeg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1.jpeg" ContentType="image/jpeg"/>
  <Override PartName="/ppt/media/image19.png" ContentType="image/png"/>
  <Override PartName="/ppt/media/image16.png" ContentType="image/png"/>
  <Override PartName="/ppt/media/image29.pct" ContentType="image/x-pict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30.pct" ContentType="image/x-pict"/>
  <Override PartName="/ppt/media/image4.png" ContentType="image/png"/>
  <Override PartName="/ppt/media/image12.jpeg" ContentType="image/jpeg"/>
  <Override PartName="/ppt/media/image31.pct" ContentType="image/x-pict"/>
  <Override PartName="/ppt/media/image37.jpeg" ContentType="image/jpeg"/>
  <Override PartName="/ppt/media/image36.pct" ContentType="image/x-pict"/>
  <Override PartName="/ppt/media/image50.png" ContentType="image/png"/>
  <Override PartName="/ppt/media/image38.pct" ContentType="image/x-pict"/>
  <Override PartName="/ppt/media/image40.pct" ContentType="image/x-pict"/>
  <Override PartName="/ppt/media/image42.pct" ContentType="image/x-pict"/>
  <Override PartName="/ppt/media/image44.jpeg" ContentType="image/jpeg"/>
  <Override PartName="/ppt/media/image45.jpeg" ContentType="image/jpeg"/>
  <Override PartName="/ppt/media/image52.pct" ContentType="image/x-pict"/>
  <Override PartName="/ppt/media/image46.png" ContentType="image/png"/>
  <Override PartName="/ppt/media/image49.pct" ContentType="image/x-pict"/>
  <Override PartName="/ppt/media/image51.png" ContentType="image/png"/>
  <Override PartName="/ppt/media/image47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34.jpeg" ContentType="image/jpeg"/>
  <Override PartName="/ppt/media/image20.png" ContentType="image/png"/>
  <Override PartName="/ppt/media/image33.pct" ContentType="image/x-pict"/>
  <Override PartName="/ppt/media/image18.png" ContentType="image/png"/>
  <Override PartName="/ppt/media/image6.jpeg" ContentType="image/jpeg"/>
  <Override PartName="/ppt/media/image32.pct" ContentType="image/x-pict"/>
  <Override PartName="/ppt/media/image5.png" ContentType="image/png"/>
  <Override PartName="/ppt/media/image43.jpeg" ContentType="image/jpeg"/>
  <Override PartName="/ppt/media/image48.png" ContentType="image/png"/>
  <Override PartName="/ppt/media/image9.jpeg" ContentType="image/jpeg"/>
  <Override PartName="/ppt/media/image26.pct" ContentType="image/x-pict"/>
  <Override PartName="/ppt/media/image41.pct" ContentType="image/x-pict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617-484A-42B6-8CFC-98501E77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B83-3ACD-4A41-B853-8BD3E098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4AD0-2592-4275-BB3B-F6B89C0B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7DD-1E06-43EF-AC96-BC752281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2F3-95A0-4C6C-83DE-B2C3C67C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F8A-E2BC-4BE1-B5D2-DCEC18DC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D3E4-D5EF-417E-B989-581BFFFA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4B9-3118-4F78-BD50-AE7A3323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323-F537-40A6-9BFD-8C14FA86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1B0-8C83-4A3C-B8E5-98DA2BB3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01CA-1953-40BF-A1DB-E65FC123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B1D-3EAE-4412-996E-251422CD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A0AE-A48E-4344-BBB9-59ED70DC1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3.pct"/><Relationship Id="rId3" Type="http://schemas.openxmlformats.org/officeDocument/2006/relationships/image" Target="../media/image24.pct"/><Relationship Id="rId4" Type="http://schemas.openxmlformats.org/officeDocument/2006/relationships/image" Target="../media/image25.pct"/><Relationship Id="rId5" Type="http://schemas.openxmlformats.org/officeDocument/2006/relationships/image" Target="../media/image26.pct"/><Relationship Id="rId6" Type="http://schemas.openxmlformats.org/officeDocument/2006/relationships/image" Target="../media/image27.pct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ct"/><Relationship Id="rId3" Type="http://schemas.openxmlformats.org/officeDocument/2006/relationships/image" Target="../media/image29.pct"/><Relationship Id="rId4" Type="http://schemas.openxmlformats.org/officeDocument/2006/relationships/image" Target="../media/image30.pct"/><Relationship Id="rId5" Type="http://schemas.openxmlformats.org/officeDocument/2006/relationships/image" Target="../media/image31.pct"/><Relationship Id="rId6" Type="http://schemas.openxmlformats.org/officeDocument/2006/relationships/image" Target="../media/image32.pct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pct"/><Relationship Id="rId4" Type="http://schemas.openxmlformats.org/officeDocument/2006/relationships/image" Target="../media/image37.jpeg"/><Relationship Id="rId5" Type="http://schemas.openxmlformats.org/officeDocument/2006/relationships/image" Target="../media/image36.pct"/><Relationship Id="rId6" Type="http://schemas.openxmlformats.org/officeDocument/2006/relationships/image" Target="../media/image38.pct"/><Relationship Id="rId7" Type="http://schemas.openxmlformats.org/officeDocument/2006/relationships/image" Target="../media/image39.jpeg"/><Relationship Id="rId8" Type="http://schemas.openxmlformats.org/officeDocument/2006/relationships/image" Target="../media/image40.pct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0.pct"/><Relationship Id="rId4" Type="http://schemas.openxmlformats.org/officeDocument/2006/relationships/image" Target="../media/image41.pct"/><Relationship Id="rId5" Type="http://schemas.openxmlformats.org/officeDocument/2006/relationships/image" Target="../media/image42.pct"/><Relationship Id="rId6" Type="http://schemas.openxmlformats.org/officeDocument/2006/relationships/image" Target="../media/image39.jpeg"/><Relationship Id="rId7" Type="http://schemas.openxmlformats.org/officeDocument/2006/relationships/image" Target="../media/image40.pct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image" Target="../media/image46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image" Target="../media/image49.pct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0680" y="1639800"/>
            <a:ext cx="7043400" cy="999720"/>
            <a:chOff x="220680" y="1639800"/>
            <a:chExt cx="7043400" cy="999720"/>
          </a:xfrm>
        </p:grpSpPr>
        <p:sp>
          <p:nvSpPr>
            <p:cNvPr id="42" name=""/>
            <p:cNvSpPr/>
            <p:nvPr/>
          </p:nvSpPr>
          <p:spPr>
            <a:xfrm>
              <a:off x="1279440" y="1639800"/>
              <a:ext cx="598464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W.Flemminf: immagini di cromosomi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cromatina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0680" y="1639800"/>
              <a:ext cx="942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e2c02"/>
                  </a:solidFill>
                  <a:latin typeface="Times New Roman"/>
                </a:rPr>
                <a:t>188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220680" y="2935440"/>
            <a:ext cx="6377760" cy="550800"/>
            <a:chOff x="220680" y="2935440"/>
            <a:chExt cx="6377760" cy="550800"/>
          </a:xfrm>
        </p:grpSpPr>
        <p:sp>
          <p:nvSpPr>
            <p:cNvPr id="45" name=""/>
            <p:cNvSpPr/>
            <p:nvPr/>
          </p:nvSpPr>
          <p:spPr>
            <a:xfrm>
              <a:off x="220680" y="2935440"/>
              <a:ext cx="942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e2c02"/>
                  </a:solidFill>
                  <a:latin typeface="Times New Roman"/>
                </a:rPr>
                <a:t>1888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78360" y="2935440"/>
              <a:ext cx="53200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Waldeyer: termine “cromosoma”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20680" y="3921120"/>
            <a:ext cx="7723080" cy="999720"/>
            <a:chOff x="220680" y="3921120"/>
            <a:chExt cx="7723080" cy="999720"/>
          </a:xfrm>
        </p:grpSpPr>
        <p:sp>
          <p:nvSpPr>
            <p:cNvPr id="48" name=""/>
            <p:cNvSpPr/>
            <p:nvPr/>
          </p:nvSpPr>
          <p:spPr>
            <a:xfrm>
              <a:off x="220680" y="3946680"/>
              <a:ext cx="942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e2c02"/>
                  </a:solidFill>
                  <a:latin typeface="Times New Roman"/>
                </a:rPr>
                <a:t>19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80880" y="3921120"/>
              <a:ext cx="666288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Riscoperta di Mendel. Sutton e Bovery: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eoria cromosomica dell’ereditatarieta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03120" y="5099040"/>
            <a:ext cx="8668080" cy="550800"/>
            <a:chOff x="303120" y="5099040"/>
            <a:chExt cx="8668080" cy="550800"/>
          </a:xfrm>
        </p:grpSpPr>
        <p:sp>
          <p:nvSpPr>
            <p:cNvPr id="51" name=""/>
            <p:cNvSpPr/>
            <p:nvPr/>
          </p:nvSpPr>
          <p:spPr>
            <a:xfrm>
              <a:off x="303120" y="5099040"/>
              <a:ext cx="1038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e2c02"/>
                  </a:solidFill>
                  <a:latin typeface="Times New Roman"/>
                </a:rPr>
                <a:t>1923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02480" y="5105520"/>
              <a:ext cx="76687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Painter: determinazione del sesso nell’uomo: X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4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Storia della citogen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81080" y="7617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Storia della citogen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069920" y="2222640"/>
            <a:ext cx="1596960" cy="612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371760" y="2319480"/>
            <a:ext cx="944640" cy="466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069920" y="3141720"/>
            <a:ext cx="3498840" cy="504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1069920" y="3868560"/>
            <a:ext cx="1209600" cy="490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249720" y="3922560"/>
            <a:ext cx="1184040" cy="412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1130400" y="4630680"/>
            <a:ext cx="796680" cy="292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3019320" y="4600440"/>
            <a:ext cx="1382760" cy="266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30400" y="2854440"/>
            <a:ext cx="14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71760" y="2854440"/>
            <a:ext cx="88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0400" y="3686040"/>
            <a:ext cx="342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30400" y="428148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09840" y="427680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89080" y="4916520"/>
            <a:ext cx="70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78000" y="4925880"/>
            <a:ext cx="123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37400" y="279576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-3 grupp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21640" y="279576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-5 grupp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0320" y="3627360"/>
            <a:ext cx="171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-6-12 grupp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77400" y="421164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3-15 grupp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71360" y="42181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6-18 gruppo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22680" y="4867200"/>
            <a:ext cx="16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9-20 grupp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51840" y="48798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-21-22 gruppo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560" y="2146320"/>
            <a:ext cx="3659040" cy="3187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9"/>
          <a:stretch/>
        </p:blipFill>
        <p:spPr>
          <a:xfrm>
            <a:off x="4952880" y="2209680"/>
            <a:ext cx="37353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71360" y="123984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c02"/>
                </a:solidFill>
                <a:latin typeface="Comic Sans MS"/>
              </a:rPr>
              <a:t>19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2514600"/>
            <a:ext cx="2210040" cy="9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-ban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Giem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71880" y="1486080"/>
            <a:ext cx="6743520" cy="5371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563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4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Storia della citogen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33120" y="169704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c02"/>
                </a:solidFill>
                <a:latin typeface="Comic Sans MS"/>
              </a:rPr>
              <a:t>19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1800" y="2441520"/>
            <a:ext cx="2692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SH (P.Lich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5176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620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9288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581280" y="1752480"/>
            <a:ext cx="5178600" cy="49118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76720" y="6858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4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Storia della citogen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16560" y="65739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00400" y="76176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Dimensioni dei cromoso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6089760" cy="3530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676520" y="571500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0880" y="56847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41120" y="1905120"/>
            <a:ext cx="10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ritu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ri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676520"/>
            <a:ext cx="4495680" cy="3886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10080" y="1676520"/>
            <a:ext cx="2819520" cy="2133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97680" y="1758960"/>
            <a:ext cx="9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Ho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api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3809880"/>
            <a:ext cx="2819520" cy="17528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3886200"/>
            <a:ext cx="15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melanog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7800" y="1714680"/>
            <a:ext cx="238356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Muntiacus reeve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1920" y="4000680"/>
            <a:ext cx="256320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Muntiacus muntj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Muntjac  dimensioni dei cromoso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743200" y="1341360"/>
            <a:ext cx="5410080" cy="2621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2743200" y="3843360"/>
            <a:ext cx="54100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Mus musculus domesticus riarrangia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593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86360" y="2057400"/>
            <a:ext cx="18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0.000: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437080" y="457200"/>
            <a:ext cx="2779920" cy="703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423040" y="1206360"/>
            <a:ext cx="2781000" cy="1341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437080" y="2260440"/>
            <a:ext cx="2779920" cy="1243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516640" y="3301920"/>
            <a:ext cx="2763720" cy="1243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5489640" y="4330800"/>
            <a:ext cx="2765520" cy="15872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5410080" y="5867280"/>
            <a:ext cx="2781360" cy="8510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518080" y="2895480"/>
            <a:ext cx="2567160" cy="549360"/>
            <a:chOff x="5518080" y="2895480"/>
            <a:chExt cx="2567160" cy="549360"/>
          </a:xfrm>
        </p:grpSpPr>
        <p:sp>
          <p:nvSpPr>
            <p:cNvPr id="252" name=""/>
            <p:cNvSpPr/>
            <p:nvPr/>
          </p:nvSpPr>
          <p:spPr>
            <a:xfrm>
              <a:off x="5518080" y="28954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30680" y="3284640"/>
              <a:ext cx="1022400" cy="68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6553080" y="3352680"/>
              <a:ext cx="0" cy="76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086600" y="3352680"/>
              <a:ext cx="0" cy="76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53080" y="3444840"/>
              <a:ext cx="533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085240" y="28954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086600" y="3276360"/>
              <a:ext cx="998640" cy="75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62720" y="609480"/>
            <a:ext cx="2514600" cy="1295640"/>
            <a:chOff x="5562720" y="609480"/>
            <a:chExt cx="2514600" cy="1295640"/>
          </a:xfrm>
        </p:grpSpPr>
        <p:grpSp>
          <p:nvGrpSpPr>
            <p:cNvPr id="260" name=""/>
            <p:cNvGrpSpPr/>
            <p:nvPr/>
          </p:nvGrpSpPr>
          <p:grpSpPr>
            <a:xfrm>
              <a:off x="5562720" y="609480"/>
              <a:ext cx="2514600" cy="1295640"/>
              <a:chOff x="5562720" y="609480"/>
              <a:chExt cx="2514600" cy="129564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60948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562720" y="990720"/>
                <a:ext cx="761760" cy="68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6299280" y="1066320"/>
                <a:ext cx="0" cy="83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6477120" y="1066320"/>
                <a:ext cx="0" cy="83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1905120"/>
                <a:ext cx="152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077320" y="60948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6477120" y="990360"/>
                <a:ext cx="1600200" cy="75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6388200" y="9907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510160" y="1523880"/>
            <a:ext cx="2567160" cy="1828800"/>
            <a:chOff x="5510160" y="1523880"/>
            <a:chExt cx="2567160" cy="1828800"/>
          </a:xfrm>
        </p:grpSpPr>
        <p:grpSp>
          <p:nvGrpSpPr>
            <p:cNvPr id="270" name=""/>
            <p:cNvGrpSpPr/>
            <p:nvPr/>
          </p:nvGrpSpPr>
          <p:grpSpPr>
            <a:xfrm>
              <a:off x="5510160" y="1523880"/>
              <a:ext cx="2567160" cy="1676520"/>
              <a:chOff x="5510160" y="1523880"/>
              <a:chExt cx="2567160" cy="1676520"/>
            </a:xfrm>
          </p:grpSpPr>
          <p:sp>
            <p:nvSpPr>
              <p:cNvPr id="271" name=""/>
              <p:cNvSpPr/>
              <p:nvPr/>
            </p:nvSpPr>
            <p:spPr>
              <a:xfrm>
                <a:off x="5510160" y="152388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522760" y="1913040"/>
                <a:ext cx="954360" cy="372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77120" y="228600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6934320" y="228600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477120" y="3200400"/>
                <a:ext cx="457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077320" y="152388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934320" y="1905120"/>
                <a:ext cx="1143000" cy="380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6781680" y="3200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562720" y="3886200"/>
            <a:ext cx="2590560" cy="1523880"/>
            <a:chOff x="5562720" y="3886200"/>
            <a:chExt cx="2590560" cy="1523880"/>
          </a:xfrm>
        </p:grpSpPr>
        <p:grpSp>
          <p:nvGrpSpPr>
            <p:cNvPr id="280" name=""/>
            <p:cNvGrpSpPr/>
            <p:nvPr/>
          </p:nvGrpSpPr>
          <p:grpSpPr>
            <a:xfrm>
              <a:off x="5562720" y="3886200"/>
              <a:ext cx="2590560" cy="1523880"/>
              <a:chOff x="5562720" y="3886200"/>
              <a:chExt cx="2590560" cy="1523880"/>
            </a:xfrm>
          </p:grpSpPr>
          <p:sp>
            <p:nvSpPr>
              <p:cNvPr id="281" name=""/>
              <p:cNvSpPr/>
              <p:nvPr/>
            </p:nvSpPr>
            <p:spPr>
              <a:xfrm>
                <a:off x="5591160" y="3886200"/>
                <a:ext cx="0" cy="380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562720" y="4267080"/>
                <a:ext cx="1447560" cy="152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6986520" y="441936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8008920" y="4648320"/>
                <a:ext cx="0" cy="761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010280" y="539748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137440" y="3886200"/>
                <a:ext cx="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8001000" y="4343040"/>
                <a:ext cx="152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7543800" y="42670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562720" y="5318280"/>
            <a:ext cx="2566800" cy="929880"/>
            <a:chOff x="5562720" y="5318280"/>
            <a:chExt cx="2566800" cy="929880"/>
          </a:xfrm>
        </p:grpSpPr>
        <p:grpSp>
          <p:nvGrpSpPr>
            <p:cNvPr id="290" name=""/>
            <p:cNvGrpSpPr/>
            <p:nvPr/>
          </p:nvGrpSpPr>
          <p:grpSpPr>
            <a:xfrm>
              <a:off x="5562720" y="5318280"/>
              <a:ext cx="2566800" cy="929880"/>
              <a:chOff x="5562720" y="5318280"/>
              <a:chExt cx="2566800" cy="929880"/>
            </a:xfrm>
          </p:grpSpPr>
          <p:sp>
            <p:nvSpPr>
              <p:cNvPr id="291" name=""/>
              <p:cNvSpPr/>
              <p:nvPr/>
            </p:nvSpPr>
            <p:spPr>
              <a:xfrm>
                <a:off x="5562720" y="5318280"/>
                <a:ext cx="0" cy="39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75320" y="5707080"/>
                <a:ext cx="749160" cy="160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6308640" y="58669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6400800" y="58669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299280" y="6222960"/>
                <a:ext cx="1015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129520" y="5318280"/>
                <a:ext cx="0" cy="380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6400800" y="5698800"/>
                <a:ext cx="1728720" cy="168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6350040" y="5715000"/>
              <a:ext cx="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960" y="8377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4"/>
                </a:solidFill>
                <a:latin typeface="Comic Sans MS"/>
              </a:rPr>
              <a:t>Lunghezza del cromos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36840" y="1295280"/>
            <a:ext cx="1573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zione d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oma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46840" y="558720"/>
            <a:ext cx="2049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 avvolgi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lla doppia e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76720" y="2263680"/>
            <a:ext cx="2361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bra di 30nm con i nucleoso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ettamente impacchet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3429000"/>
            <a:ext cx="2438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e di una sezione di cromos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52680" y="4476600"/>
            <a:ext cx="2438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zione condens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un cromosoma metafa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5924520"/>
            <a:ext cx="1676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omosoma metafa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153280" y="539640"/>
            <a:ext cx="704160" cy="527040"/>
            <a:chOff x="8153280" y="539640"/>
            <a:chExt cx="704160" cy="527040"/>
          </a:xfrm>
        </p:grpSpPr>
        <p:sp>
          <p:nvSpPr>
            <p:cNvPr id="307" name=""/>
            <p:cNvSpPr/>
            <p:nvPr/>
          </p:nvSpPr>
          <p:spPr>
            <a:xfrm>
              <a:off x="8153280" y="609480"/>
              <a:ext cx="76320" cy="4572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90720" y="53964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n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8153280" y="1295280"/>
            <a:ext cx="879480" cy="533520"/>
            <a:chOff x="8153280" y="1295280"/>
            <a:chExt cx="879480" cy="533520"/>
          </a:xfrm>
        </p:grpSpPr>
        <p:sp>
          <p:nvSpPr>
            <p:cNvPr id="310" name=""/>
            <p:cNvSpPr/>
            <p:nvPr/>
          </p:nvSpPr>
          <p:spPr>
            <a:xfrm>
              <a:off x="8153280" y="1295280"/>
              <a:ext cx="76320" cy="53352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34640" y="1301760"/>
              <a:ext cx="79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1n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8140680" y="2286000"/>
            <a:ext cx="906480" cy="914400"/>
            <a:chOff x="8140680" y="2286000"/>
            <a:chExt cx="906480" cy="914400"/>
          </a:xfrm>
        </p:grpSpPr>
        <p:sp>
          <p:nvSpPr>
            <p:cNvPr id="313" name=""/>
            <p:cNvSpPr/>
            <p:nvPr/>
          </p:nvSpPr>
          <p:spPr>
            <a:xfrm>
              <a:off x="8140680" y="2286000"/>
              <a:ext cx="152640" cy="9144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49040" y="2514600"/>
              <a:ext cx="79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0n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8153280" y="3352680"/>
            <a:ext cx="930240" cy="990720"/>
            <a:chOff x="8153280" y="3352680"/>
            <a:chExt cx="930240" cy="990720"/>
          </a:xfrm>
        </p:grpSpPr>
        <p:sp>
          <p:nvSpPr>
            <p:cNvPr id="316" name=""/>
            <p:cNvSpPr/>
            <p:nvPr/>
          </p:nvSpPr>
          <p:spPr>
            <a:xfrm>
              <a:off x="8191440" y="3352680"/>
              <a:ext cx="76320" cy="99072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53280" y="3429000"/>
              <a:ext cx="93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00n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123040" y="4502160"/>
            <a:ext cx="929160" cy="1060560"/>
            <a:chOff x="8123040" y="4502160"/>
            <a:chExt cx="929160" cy="1060560"/>
          </a:xfrm>
        </p:grpSpPr>
        <p:sp>
          <p:nvSpPr>
            <p:cNvPr id="319" name=""/>
            <p:cNvSpPr/>
            <p:nvPr/>
          </p:nvSpPr>
          <p:spPr>
            <a:xfrm>
              <a:off x="8123040" y="450216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00n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140680" y="4572000"/>
              <a:ext cx="152280" cy="9907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8077320" y="5791320"/>
            <a:ext cx="1091880" cy="838080"/>
            <a:chOff x="8077320" y="5791320"/>
            <a:chExt cx="1091880" cy="838080"/>
          </a:xfrm>
        </p:grpSpPr>
        <p:sp>
          <p:nvSpPr>
            <p:cNvPr id="322" name=""/>
            <p:cNvSpPr/>
            <p:nvPr/>
          </p:nvSpPr>
          <p:spPr>
            <a:xfrm>
              <a:off x="8077320" y="5791320"/>
              <a:ext cx="75960" cy="8380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109000" y="579744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400n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1400" y="745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18972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896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Organizzazione del cromosoma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1854360" cy="17146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2755800" y="1828800"/>
            <a:ext cx="2273400" cy="4343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62720" y="2209680"/>
            <a:ext cx="1371600" cy="381240"/>
          </a:xfrm>
          <a:prstGeom prst="rect">
            <a:avLst/>
          </a:prstGeom>
          <a:solidFill>
            <a:srgbClr val="ea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iraliz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4120" y="3733920"/>
            <a:ext cx="1676160" cy="609480"/>
          </a:xfrm>
          <a:prstGeom prst="rect">
            <a:avLst/>
          </a:prstGeom>
          <a:solidFill>
            <a:srgbClr val="ea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zialm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piraliz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5181480"/>
            <a:ext cx="1676160" cy="381240"/>
          </a:xfrm>
          <a:prstGeom prst="rect">
            <a:avLst/>
          </a:prstGeom>
          <a:solidFill>
            <a:srgbClr val="ea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piraliz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7385040" y="2038320"/>
            <a:ext cx="1155600" cy="12319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7391520" y="3581280"/>
            <a:ext cx="1168200" cy="1206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6"/>
          <a:stretch/>
        </p:blipFill>
        <p:spPr>
          <a:xfrm>
            <a:off x="7391520" y="4952880"/>
            <a:ext cx="1168200" cy="1600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743200" y="6172200"/>
            <a:ext cx="2895480" cy="304920"/>
          </a:xfrm>
          <a:prstGeom prst="rect">
            <a:avLst/>
          </a:prstGeom>
          <a:solidFill>
            <a:srgbClr val="ea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uttura della croma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5410080"/>
            <a:ext cx="1371600" cy="381240"/>
          </a:xfrm>
          <a:prstGeom prst="rect">
            <a:avLst/>
          </a:prstGeom>
          <a:solidFill>
            <a:srgbClr val="ea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cleos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685800" y="3505320"/>
            <a:ext cx="38088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6480" y="3159000"/>
            <a:ext cx="7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st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90720" y="38098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2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98680" y="384804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2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43434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43434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12800" y="4800600"/>
            <a:ext cx="292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2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4724280"/>
            <a:ext cx="2919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H2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828800" y="342864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73200" y="2806560"/>
            <a:ext cx="14731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ppia e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352680" y="5257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74680" y="493380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495288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43400" y="4876920"/>
            <a:ext cx="7632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78080" y="5151600"/>
            <a:ext cx="7340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745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0" y="966960"/>
            <a:ext cx="883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896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Organizzazione del cromosoma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47680" y="3124080"/>
            <a:ext cx="8497800" cy="19274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914560" y="5486400"/>
            <a:ext cx="2667240" cy="4572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gmento di croma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04520" y="3200040"/>
            <a:ext cx="196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5400" y="2819520"/>
            <a:ext cx="144756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cleos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371760" y="2742840"/>
            <a:ext cx="5335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05280" y="2743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743360" y="2209680"/>
            <a:ext cx="243864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ine DNA-bi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quenza specif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10400" y="2819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429160" y="380952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534520" y="3352680"/>
            <a:ext cx="152280" cy="1143000"/>
          </a:xfrm>
          <a:custGeom>
            <a:avLst/>
            <a:gdLst>
              <a:gd name="textAreaLeft" fmla="*/ 0 w 152280"/>
              <a:gd name="textAreaRight" fmla="*/ 106920 w 15228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643600" y="3357720"/>
            <a:ext cx="53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8080" y="74520"/>
            <a:ext cx="720720" cy="8064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574560" y="1447920"/>
            <a:ext cx="4175280" cy="50450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221440" y="1211400"/>
            <a:ext cx="0" cy="5205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573880" y="1211040"/>
            <a:ext cx="0" cy="5205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8325000" y="1211040"/>
            <a:ext cx="0" cy="5205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67680" y="1211400"/>
            <a:ext cx="0" cy="5205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478640" y="1211040"/>
            <a:ext cx="0" cy="5205240"/>
          </a:xfrm>
          <a:prstGeom prst="line">
            <a:avLst/>
          </a:prstGeom>
          <a:ln w="38160">
            <a:solidFill>
              <a:srgbClr val="fe2c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07600" y="1211400"/>
            <a:ext cx="0" cy="5205240"/>
          </a:xfrm>
          <a:prstGeom prst="line">
            <a:avLst/>
          </a:prstGeom>
          <a:ln w="38160">
            <a:solidFill>
              <a:srgbClr val="fe2c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38720" y="3614760"/>
            <a:ext cx="563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07480" y="2411280"/>
            <a:ext cx="4244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3000" spc="-1" strike="noStrike">
                <a:solidFill>
                  <a:srgbClr val="fe2c02"/>
                </a:solidFill>
                <a:latin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5896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Duplicazione del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837360" y="1351080"/>
            <a:ext cx="7937280" cy="550800"/>
            <a:chOff x="837360" y="1351080"/>
            <a:chExt cx="7937280" cy="550800"/>
          </a:xfrm>
        </p:grpSpPr>
        <p:sp>
          <p:nvSpPr>
            <p:cNvPr id="60" name=""/>
            <p:cNvSpPr/>
            <p:nvPr/>
          </p:nvSpPr>
          <p:spPr>
            <a:xfrm>
              <a:off x="1960920" y="1403280"/>
              <a:ext cx="68137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Studi su sezioni di testicoli (48 cromosomi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7360" y="1351080"/>
              <a:ext cx="1052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e2c02"/>
                  </a:solidFill>
                  <a:latin typeface="Comic Sans MS"/>
                </a:rPr>
                <a:t>195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113400" y="640080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4952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4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Storia della citogen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981080" y="2050920"/>
            <a:ext cx="548640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8080" y="74520"/>
            <a:ext cx="720720" cy="8064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282600" y="1008000"/>
            <a:ext cx="2047680" cy="33814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1041480" y="4524480"/>
            <a:ext cx="546120" cy="2114280"/>
          </a:xfrm>
          <a:prstGeom prst="rect">
            <a:avLst/>
          </a:prstGeom>
          <a:ln w="0">
            <a:noFill/>
          </a:ln>
        </p:spPr>
      </p:pic>
      <p:grpSp>
        <p:nvGrpSpPr>
          <p:cNvPr id="392" name=""/>
          <p:cNvGrpSpPr/>
          <p:nvPr/>
        </p:nvGrpSpPr>
        <p:grpSpPr>
          <a:xfrm>
            <a:off x="2474640" y="2606760"/>
            <a:ext cx="913680" cy="672480"/>
            <a:chOff x="2474640" y="2606760"/>
            <a:chExt cx="913680" cy="672480"/>
          </a:xfrm>
        </p:grpSpPr>
        <p:sp>
          <p:nvSpPr>
            <p:cNvPr id="393" name=""/>
            <p:cNvSpPr/>
            <p:nvPr/>
          </p:nvSpPr>
          <p:spPr>
            <a:xfrm>
              <a:off x="2602440" y="2606760"/>
              <a:ext cx="633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74640" y="2858760"/>
              <a:ext cx="9136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2200" spc="-1" strike="noStrike">
                  <a:solidFill>
                    <a:srgbClr val="ff0004"/>
                  </a:solidFill>
                  <a:latin typeface="Arial"/>
                </a:rPr>
                <a:t>BUd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071760" y="2521080"/>
            <a:ext cx="913680" cy="720000"/>
            <a:chOff x="6071760" y="2521080"/>
            <a:chExt cx="913680" cy="720000"/>
          </a:xfrm>
        </p:grpSpPr>
        <p:sp>
          <p:nvSpPr>
            <p:cNvPr id="396" name=""/>
            <p:cNvSpPr/>
            <p:nvPr/>
          </p:nvSpPr>
          <p:spPr>
            <a:xfrm>
              <a:off x="6199920" y="2521080"/>
              <a:ext cx="633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71760" y="2820600"/>
              <a:ext cx="9136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2200" spc="-1" strike="noStrike">
                  <a:solidFill>
                    <a:srgbClr val="ff0004"/>
                  </a:solidFill>
                  <a:latin typeface="Arial"/>
                </a:rPr>
                <a:t>BUd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598920" y="1008000"/>
            <a:ext cx="2116080" cy="5630040"/>
            <a:chOff x="3598920" y="1008000"/>
            <a:chExt cx="2116080" cy="5630040"/>
          </a:xfrm>
        </p:grpSpPr>
        <p:grpSp>
          <p:nvGrpSpPr>
            <p:cNvPr id="399" name=""/>
            <p:cNvGrpSpPr/>
            <p:nvPr/>
          </p:nvGrpSpPr>
          <p:grpSpPr>
            <a:xfrm>
              <a:off x="3598920" y="1008000"/>
              <a:ext cx="2022840" cy="5630040"/>
              <a:chOff x="3598920" y="1008000"/>
              <a:chExt cx="2022840" cy="563004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3598920" y="1008000"/>
                <a:ext cx="2022840" cy="3312360"/>
                <a:chOff x="3598920" y="1008000"/>
                <a:chExt cx="2022840" cy="3312360"/>
              </a:xfrm>
            </p:grpSpPr>
            <p:pic>
              <p:nvPicPr>
                <p:cNvPr id="40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598920" y="1008000"/>
                  <a:ext cx="2022840" cy="331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2" name=""/>
                <p:cNvSpPr/>
                <p:nvPr/>
              </p:nvSpPr>
              <p:spPr>
                <a:xfrm>
                  <a:off x="4376160" y="1094400"/>
                  <a:ext cx="789840" cy="188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120" bIns="421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0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849840" y="4446720"/>
                <a:ext cx="557640" cy="218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837320" y="4458240"/>
                <a:ext cx="560520" cy="2179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5" name=""/>
            <p:cNvSpPr/>
            <p:nvPr/>
          </p:nvSpPr>
          <p:spPr>
            <a:xfrm>
              <a:off x="5085000" y="3774240"/>
              <a:ext cx="6300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7189920" y="1008000"/>
            <a:ext cx="1954080" cy="5630040"/>
            <a:chOff x="7189920" y="1008000"/>
            <a:chExt cx="1954080" cy="5630040"/>
          </a:xfrm>
        </p:grpSpPr>
        <p:grpSp>
          <p:nvGrpSpPr>
            <p:cNvPr id="407" name=""/>
            <p:cNvGrpSpPr/>
            <p:nvPr/>
          </p:nvGrpSpPr>
          <p:grpSpPr>
            <a:xfrm>
              <a:off x="7189920" y="1008000"/>
              <a:ext cx="1888200" cy="5630040"/>
              <a:chOff x="7189920" y="1008000"/>
              <a:chExt cx="1888200" cy="563004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7189920" y="1008000"/>
                <a:ext cx="1888200" cy="3310560"/>
                <a:chOff x="7189920" y="1008000"/>
                <a:chExt cx="1888200" cy="3310560"/>
              </a:xfrm>
            </p:grpSpPr>
            <p:pic>
              <p:nvPicPr>
                <p:cNvPr id="40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89920" y="1008000"/>
                  <a:ext cx="1888200" cy="331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0" name=""/>
                <p:cNvSpPr/>
                <p:nvPr/>
              </p:nvSpPr>
              <p:spPr>
                <a:xfrm>
                  <a:off x="7870680" y="1100160"/>
                  <a:ext cx="737280" cy="187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120" bIns="421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1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872120" y="4479480"/>
                <a:ext cx="674640" cy="215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2" name=""/>
            <p:cNvSpPr/>
            <p:nvPr/>
          </p:nvSpPr>
          <p:spPr>
            <a:xfrm>
              <a:off x="8514000" y="3751920"/>
              <a:ext cx="6300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5896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4496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Incorporazione di BUdR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8080" y="745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4289400" y="968400"/>
            <a:ext cx="2244600" cy="36543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4956120" y="4654440"/>
            <a:ext cx="666720" cy="19843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6664320" y="963720"/>
            <a:ext cx="2173320" cy="36590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5"/>
          <a:stretch/>
        </p:blipFill>
        <p:spPr>
          <a:xfrm>
            <a:off x="7299360" y="4621320"/>
            <a:ext cx="717480" cy="20174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6"/>
          <a:stretch/>
        </p:blipFill>
        <p:spPr>
          <a:xfrm>
            <a:off x="704880" y="1092240"/>
            <a:ext cx="2168640" cy="35323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7"/>
          <a:stretch/>
        </p:blipFill>
        <p:spPr>
          <a:xfrm>
            <a:off x="1488960" y="4667400"/>
            <a:ext cx="663840" cy="1971360"/>
          </a:xfrm>
          <a:prstGeom prst="rect">
            <a:avLst/>
          </a:prstGeom>
          <a:ln w="0">
            <a:noFill/>
          </a:ln>
        </p:spPr>
      </p:pic>
      <p:grpSp>
        <p:nvGrpSpPr>
          <p:cNvPr id="426" name=""/>
          <p:cNvGrpSpPr/>
          <p:nvPr/>
        </p:nvGrpSpPr>
        <p:grpSpPr>
          <a:xfrm>
            <a:off x="1270080" y="963720"/>
            <a:ext cx="3598560" cy="301320"/>
            <a:chOff x="1270080" y="963720"/>
            <a:chExt cx="3598560" cy="301320"/>
          </a:xfrm>
        </p:grpSpPr>
        <p:sp>
          <p:nvSpPr>
            <p:cNvPr id="427" name=""/>
            <p:cNvSpPr/>
            <p:nvPr/>
          </p:nvSpPr>
          <p:spPr>
            <a:xfrm>
              <a:off x="1270080" y="963720"/>
              <a:ext cx="211680" cy="30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10840" y="1101600"/>
              <a:ext cx="34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610000" y="1127160"/>
            <a:ext cx="4585680" cy="301320"/>
            <a:chOff x="2610000" y="1127160"/>
            <a:chExt cx="4585680" cy="301320"/>
          </a:xfrm>
        </p:grpSpPr>
        <p:sp>
          <p:nvSpPr>
            <p:cNvPr id="430" name=""/>
            <p:cNvSpPr/>
            <p:nvPr/>
          </p:nvSpPr>
          <p:spPr>
            <a:xfrm>
              <a:off x="2610000" y="1127160"/>
              <a:ext cx="211320" cy="30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50760" y="1265040"/>
              <a:ext cx="444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3109680" y="2185920"/>
            <a:ext cx="913680" cy="718560"/>
            <a:chOff x="3109680" y="2185920"/>
            <a:chExt cx="913680" cy="718560"/>
          </a:xfrm>
        </p:grpSpPr>
        <p:sp>
          <p:nvSpPr>
            <p:cNvPr id="433" name=""/>
            <p:cNvSpPr/>
            <p:nvPr/>
          </p:nvSpPr>
          <p:spPr>
            <a:xfrm>
              <a:off x="3236040" y="2185920"/>
              <a:ext cx="634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09680" y="2484000"/>
              <a:ext cx="9136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2200" spc="-1" strike="noStrike">
                  <a:solidFill>
                    <a:srgbClr val="ff0004"/>
                  </a:solidFill>
                  <a:latin typeface="Arial"/>
                </a:rPr>
                <a:t>BUd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5896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4572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Incorporazione BUdR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8080" y="745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5896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1523880" y="1111320"/>
            <a:ext cx="5856480" cy="567036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200040" y="685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M2 BUd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8080" y="745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5896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95120" y="762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M3 BUd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2286000" y="1254240"/>
            <a:ext cx="513720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8080" y="745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352320" y="7621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M4 BUd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5896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1676520" y="1154160"/>
            <a:ext cx="609120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8080" y="745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303480" y="1054080"/>
            <a:ext cx="68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La cromatina si distingue i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9920" y="2743200"/>
            <a:ext cx="35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ucromat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6840" y="4376880"/>
            <a:ext cx="42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terocromat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324480" y="3733920"/>
            <a:ext cx="27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facoltativ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256080" y="5062680"/>
            <a:ext cx="26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ostitu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20277000">
            <a:off x="4978440" y="426672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gradFill rotWithShape="0">
            <a:gsLst>
              <a:gs pos="0">
                <a:srgbClr val="eaff00"/>
              </a:gs>
              <a:gs pos="50000">
                <a:srgbClr val="e30000"/>
              </a:gs>
              <a:gs pos="100000">
                <a:srgbClr val="ea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398000">
            <a:off x="4952520" y="5105520"/>
            <a:ext cx="1295640" cy="304560"/>
          </a:xfrm>
          <a:prstGeom prst="rightArrow">
            <a:avLst>
              <a:gd name="adj1" fmla="val 50000"/>
              <a:gd name="adj2" fmla="val 106353"/>
            </a:avLst>
          </a:prstGeom>
          <a:gradFill rotWithShape="0">
            <a:gsLst>
              <a:gs pos="0">
                <a:srgbClr val="eaff00"/>
              </a:gs>
              <a:gs pos="50000">
                <a:srgbClr val="e30000"/>
              </a:gs>
              <a:gs pos="100000">
                <a:srgbClr val="ea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858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Cromatina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896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82600" y="141120"/>
            <a:ext cx="719280" cy="8049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51360" y="2170080"/>
            <a:ext cx="17179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Comic Sans MS"/>
              </a:rPr>
              <a:t>DNA satelli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13920" y="2592360"/>
            <a:ext cx="214776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Comic Sans MS"/>
              </a:rPr>
              <a:t>C-bande posi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4080" y="3033720"/>
            <a:ext cx="29023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Comic Sans MS"/>
              </a:rPr>
              <a:t>Sempre late-replica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1800" y="3510000"/>
            <a:ext cx="176220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Comic Sans MS"/>
              </a:rPr>
              <a:t>Mai trascrit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0280" y="4003560"/>
            <a:ext cx="30315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Comic Sans MS"/>
              </a:rPr>
              <a:t>Assenza di crossing ov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7080" y="4427640"/>
            <a:ext cx="304416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0" lang="en-US" sz="1900" spc="-1" strike="noStrike">
                <a:solidFill>
                  <a:srgbClr val="333399"/>
                </a:solidFill>
                <a:latin typeface="Comic Sans MS"/>
              </a:rPr>
              <a:t>Appiccicosa”e soggett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Comic Sans MS"/>
              </a:rPr>
              <a:t>ad appaiamento ectop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6360" y="5257800"/>
            <a:ext cx="357768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Comic Sans MS"/>
              </a:rPr>
              <a:t>Puo’ concorrere 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Comic Sans MS"/>
              </a:rPr>
              <a:t>           “</a:t>
            </a:r>
            <a:r>
              <a:rPr b="0" lang="en-US" sz="1900" spc="-1" strike="noStrike">
                <a:solidFill>
                  <a:srgbClr val="333399"/>
                </a:solidFill>
                <a:latin typeface="Comic Sans MS"/>
              </a:rPr>
              <a:t>silenziamento” dei gen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3920" y="1295280"/>
            <a:ext cx="19850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COSTITU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458680" y="1295280"/>
            <a:ext cx="1963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200" spc="-1" strike="noStrike">
                <a:solidFill>
                  <a:srgbClr val="ff1420"/>
                </a:solidFill>
                <a:latin typeface="Comic Sans MS"/>
              </a:rPr>
              <a:t>FACOLTA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905720" y="2046240"/>
            <a:ext cx="27025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algn="ctr">
              <a:lnSpc>
                <a:spcPct val="100000"/>
              </a:lnSpc>
              <a:buClr>
                <a:srgbClr val="ff1420"/>
              </a:buClr>
              <a:buFont typeface="Comic Sans MS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ff1420"/>
                </a:solidFill>
                <a:latin typeface="Comic Sans MS"/>
              </a:rPr>
              <a:t>Qualsiasi tipo di DN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38760" y="2540160"/>
            <a:ext cx="36658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algn="ctr">
              <a:lnSpc>
                <a:spcPct val="100000"/>
              </a:lnSpc>
              <a:buClr>
                <a:srgbClr val="ff1420"/>
              </a:buClr>
              <a:buFont typeface="Comic Sans MS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ff1420"/>
                </a:solidFill>
                <a:latin typeface="Comic Sans MS"/>
              </a:rPr>
              <a:t>Solitamente C-bande nega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95640" y="3033720"/>
            <a:ext cx="2012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algn="ctr">
              <a:lnSpc>
                <a:spcPct val="100000"/>
              </a:lnSpc>
              <a:buClr>
                <a:srgbClr val="ff1420"/>
              </a:buClr>
              <a:buFont typeface="Comic Sans MS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ff1420"/>
                </a:solidFill>
                <a:latin typeface="Comic Sans MS"/>
              </a:rPr>
              <a:t>Late replica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928040" y="3527280"/>
            <a:ext cx="1824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algn="ctr">
              <a:lnSpc>
                <a:spcPct val="100000"/>
              </a:lnSpc>
              <a:buClr>
                <a:srgbClr val="ff1420"/>
              </a:buClr>
              <a:buFont typeface="Comic Sans MS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ff1420"/>
                </a:solidFill>
                <a:latin typeface="Comic Sans MS"/>
              </a:rPr>
              <a:t>Non trascrit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67560" y="3951360"/>
            <a:ext cx="1814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algn="ctr">
              <a:lnSpc>
                <a:spcPct val="100000"/>
              </a:lnSpc>
              <a:buClr>
                <a:srgbClr val="ff1420"/>
              </a:buClr>
              <a:buFont typeface="Comic Sans MS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ff1420"/>
                </a:solidFill>
                <a:latin typeface="Comic Sans MS"/>
              </a:rPr>
              <a:t>Crossing ov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99520" y="4444920"/>
            <a:ext cx="4307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algn="ctr">
              <a:lnSpc>
                <a:spcPct val="100000"/>
              </a:lnSpc>
              <a:buClr>
                <a:srgbClr val="ff1420"/>
              </a:buClr>
              <a:buFont typeface="Comic Sans MS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ff1420"/>
                </a:solidFill>
                <a:latin typeface="Comic Sans MS"/>
              </a:rPr>
              <a:t>Nessun comportamento particola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49720" y="5221440"/>
            <a:ext cx="1684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90240" y="5221440"/>
            <a:ext cx="310176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algn="ctr">
              <a:lnSpc>
                <a:spcPct val="100000"/>
              </a:lnSpc>
              <a:buClr>
                <a:srgbClr val="ff1420"/>
              </a:buClr>
              <a:buFont typeface="Comic Sans MS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ff1420"/>
                </a:solidFill>
                <a:latin typeface="Comic Sans MS"/>
              </a:rPr>
              <a:t>Silenzia i geni sul crom X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1420"/>
              </a:buClr>
              <a:buFont typeface="Comic Sans MS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ff1420"/>
                </a:solidFill>
                <a:latin typeface="Comic Sans MS"/>
              </a:rPr>
              <a:t>e sugli autosom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46680" y="5996160"/>
            <a:ext cx="41958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algn="ctr">
              <a:lnSpc>
                <a:spcPct val="100000"/>
              </a:lnSpc>
              <a:buClr>
                <a:srgbClr val="ff1420"/>
              </a:buClr>
              <a:buFont typeface="Comic Sans MS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ff1420"/>
                </a:solidFill>
                <a:latin typeface="Comic Sans MS"/>
              </a:rPr>
              <a:t>Limitata a specifiche linee cellulari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54936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5896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2362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Cromatina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8080" y="745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2514600" y="2590920"/>
            <a:ext cx="304920" cy="144756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102447">
                <a:moveTo>
                  <a:pt x="10800" y="0"/>
                </a:moveTo>
                <a:arcTo wR="10800" hR="10800" stAng="16200000" swAng="-5400000"/>
                <a:lnTo>
                  <a:pt x="0" y="91647"/>
                </a:lnTo>
                <a:arcTo wR="10800" hR="10800" stAng="10800000" swAng="-5400000"/>
                <a:lnTo>
                  <a:pt x="10800" y="10244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71800" y="2590920"/>
            <a:ext cx="304920" cy="144756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102447">
                <a:moveTo>
                  <a:pt x="10800" y="0"/>
                </a:moveTo>
                <a:arcTo wR="10800" hR="10800" stAng="16200000" swAng="-5400000"/>
                <a:lnTo>
                  <a:pt x="0" y="91647"/>
                </a:lnTo>
                <a:arcTo wR="10800" hR="10800" stAng="10800000" swAng="-5400000"/>
                <a:lnTo>
                  <a:pt x="10800" y="10244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514600" y="1905120"/>
            <a:ext cx="304920" cy="45720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457200"/>
              <a:gd name="textAreaBottom" fmla="*/ 412560 h 457200"/>
            </a:gdLst>
            <a:ahLst/>
            <a:rect l="textAreaLeft" t="textAreaTop" r="textAreaRight" b="textAreaBottom"/>
            <a:pathLst>
              <a:path w="21600" h="32375">
                <a:moveTo>
                  <a:pt x="10800" y="0"/>
                </a:moveTo>
                <a:arcTo wR="10800" hR="10800" stAng="16200000" swAng="-5400000"/>
                <a:lnTo>
                  <a:pt x="0" y="21575"/>
                </a:lnTo>
                <a:arcTo wR="10800" hR="10800" stAng="10800000" swAng="-5400000"/>
                <a:lnTo>
                  <a:pt x="10800" y="3237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71800" y="1905120"/>
            <a:ext cx="304920" cy="45720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457200"/>
              <a:gd name="textAreaBottom" fmla="*/ 412560 h 457200"/>
            </a:gdLst>
            <a:ahLst/>
            <a:rect l="textAreaLeft" t="textAreaTop" r="textAreaRight" b="textAreaBottom"/>
            <a:pathLst>
              <a:path w="21600" h="32375">
                <a:moveTo>
                  <a:pt x="10800" y="0"/>
                </a:moveTo>
                <a:arcTo wR="10800" hR="10800" stAng="16200000" swAng="-5400000"/>
                <a:lnTo>
                  <a:pt x="0" y="21575"/>
                </a:lnTo>
                <a:arcTo wR="10800" hR="10800" stAng="10800000" swAng="-5400000"/>
                <a:lnTo>
                  <a:pt x="10800" y="3237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71800" y="3962520"/>
            <a:ext cx="304920" cy="243828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2438280"/>
              <a:gd name="textAreaBottom" fmla="*/ 2393640 h 2438280"/>
            </a:gdLst>
            <a:ahLst/>
            <a:rect l="textAreaLeft" t="textAreaTop" r="textAreaRight" b="textAreaBottom"/>
            <a:pathLst>
              <a:path w="21600" h="172545">
                <a:moveTo>
                  <a:pt x="10800" y="0"/>
                </a:moveTo>
                <a:arcTo wR="10800" hR="10800" stAng="16200000" swAng="-5400000"/>
                <a:lnTo>
                  <a:pt x="0" y="161745"/>
                </a:lnTo>
                <a:arcTo wR="10800" hR="10800" stAng="10800000" swAng="-5400000"/>
                <a:lnTo>
                  <a:pt x="10800" y="17254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603520" y="2311560"/>
            <a:ext cx="93600" cy="279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60720" y="2286000"/>
            <a:ext cx="101520" cy="304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14600" y="3962520"/>
            <a:ext cx="304920" cy="243828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2438280"/>
              <a:gd name="textAreaBottom" fmla="*/ 2393640 h 2438280"/>
            </a:gdLst>
            <a:ahLst/>
            <a:rect l="textAreaLeft" t="textAreaTop" r="textAreaRight" b="textAreaBottom"/>
            <a:pathLst>
              <a:path w="21600" h="172545">
                <a:moveTo>
                  <a:pt x="10800" y="0"/>
                </a:moveTo>
                <a:arcTo wR="10800" hR="10800" stAng="16200000" swAng="-5400000"/>
                <a:lnTo>
                  <a:pt x="0" y="161745"/>
                </a:lnTo>
                <a:arcTo wR="10800" hR="10800" stAng="10800000" swAng="-5400000"/>
                <a:lnTo>
                  <a:pt x="10800" y="17254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52760" y="3822840"/>
            <a:ext cx="68580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4191120" y="1674720"/>
            <a:ext cx="2515320" cy="459720"/>
            <a:chOff x="4191120" y="1674720"/>
            <a:chExt cx="2515320" cy="459720"/>
          </a:xfrm>
        </p:grpSpPr>
        <p:sp>
          <p:nvSpPr>
            <p:cNvPr id="509" name=""/>
            <p:cNvSpPr/>
            <p:nvPr/>
          </p:nvSpPr>
          <p:spPr>
            <a:xfrm>
              <a:off x="4191120" y="1828800"/>
              <a:ext cx="609480" cy="303120"/>
            </a:xfrm>
            <a:prstGeom prst="rightArrow">
              <a:avLst>
                <a:gd name="adj1" fmla="val 50000"/>
                <a:gd name="adj2" fmla="val 50267"/>
              </a:avLst>
            </a:pr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861440" y="1674720"/>
              <a:ext cx="184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4"/>
                  </a:solidFill>
                  <a:latin typeface="Comic Sans MS"/>
                </a:rPr>
                <a:t>TELOM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191120" y="5959440"/>
            <a:ext cx="2518560" cy="459720"/>
            <a:chOff x="4191120" y="5959440"/>
            <a:chExt cx="2518560" cy="459720"/>
          </a:xfrm>
        </p:grpSpPr>
        <p:sp>
          <p:nvSpPr>
            <p:cNvPr id="512" name=""/>
            <p:cNvSpPr/>
            <p:nvPr/>
          </p:nvSpPr>
          <p:spPr>
            <a:xfrm>
              <a:off x="4191120" y="6095880"/>
              <a:ext cx="609480" cy="303480"/>
            </a:xfrm>
            <a:prstGeom prst="rightArrow">
              <a:avLst>
                <a:gd name="adj1" fmla="val 50000"/>
                <a:gd name="adj2" fmla="val 50208"/>
              </a:avLst>
            </a:pr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64680" y="5959440"/>
              <a:ext cx="184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4"/>
                  </a:solidFill>
                  <a:latin typeface="Comic Sans MS"/>
                </a:rPr>
                <a:t>TELOM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4191120" y="3619440"/>
            <a:ext cx="4495680" cy="764640"/>
            <a:chOff x="4191120" y="3619440"/>
            <a:chExt cx="4495680" cy="764640"/>
          </a:xfrm>
        </p:grpSpPr>
        <p:sp>
          <p:nvSpPr>
            <p:cNvPr id="515" name=""/>
            <p:cNvSpPr/>
            <p:nvPr/>
          </p:nvSpPr>
          <p:spPr>
            <a:xfrm>
              <a:off x="4191120" y="3886200"/>
              <a:ext cx="609480" cy="303120"/>
            </a:xfrm>
            <a:prstGeom prst="rightArrow">
              <a:avLst>
                <a:gd name="adj1" fmla="val 50000"/>
                <a:gd name="adj2" fmla="val 50267"/>
              </a:avLst>
            </a:pr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38760" y="3619440"/>
              <a:ext cx="38480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4"/>
                  </a:solidFill>
                  <a:latin typeface="Comic Sans MS"/>
                </a:rPr>
                <a:t>CENTROMERO </a:t>
              </a:r>
              <a:r>
                <a:rPr b="1" lang="en-US" sz="2000" spc="-1" strike="noStrike">
                  <a:solidFill>
                    <a:srgbClr val="ff0004"/>
                  </a:solidFill>
                  <a:latin typeface="Comic Sans MS"/>
                </a:rPr>
                <a:t>(COSTRIZIONE PRIMARI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191120" y="2209680"/>
            <a:ext cx="4800240" cy="398880"/>
            <a:chOff x="4191120" y="2209680"/>
            <a:chExt cx="4800240" cy="398880"/>
          </a:xfrm>
        </p:grpSpPr>
        <p:sp>
          <p:nvSpPr>
            <p:cNvPr id="518" name=""/>
            <p:cNvSpPr/>
            <p:nvPr/>
          </p:nvSpPr>
          <p:spPr>
            <a:xfrm>
              <a:off x="4191120" y="2287440"/>
              <a:ext cx="556200" cy="303480"/>
            </a:xfrm>
            <a:prstGeom prst="rightArrow">
              <a:avLst>
                <a:gd name="adj1" fmla="val 50000"/>
                <a:gd name="adj2" fmla="val 45819"/>
              </a:avLst>
            </a:pr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82240" y="2209680"/>
              <a:ext cx="42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4"/>
                  </a:solidFill>
                  <a:latin typeface="Comic Sans MS"/>
                </a:rPr>
                <a:t>COSTRIZIONE SECONDA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82844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Costituenti del cromos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54936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5896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8080" y="745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666880" y="990360"/>
            <a:ext cx="236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Centrom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5896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422360" cy="17524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2133720" y="2057400"/>
            <a:ext cx="1841400" cy="334008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 flipH="1" flipV="1">
            <a:off x="2438280" y="2550600"/>
            <a:ext cx="609840" cy="52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2514600" y="243828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2209320" y="2652480"/>
            <a:ext cx="762120" cy="43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2057400" y="2671920"/>
            <a:ext cx="914400" cy="52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1904760" y="3011040"/>
            <a:ext cx="990360" cy="26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2209320" y="252684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3505320" y="2980800"/>
            <a:ext cx="53316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29000" y="318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429000" y="326376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29000" y="334008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429000" y="3263760"/>
            <a:ext cx="10666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3460680"/>
            <a:ext cx="91440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29000" y="349884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676160" y="3352680"/>
            <a:ext cx="1523880" cy="507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52680" y="3581280"/>
            <a:ext cx="2362320" cy="16002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2971800"/>
            <a:ext cx="2514600" cy="5335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553080" y="3784680"/>
            <a:ext cx="34308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07240" y="3746520"/>
            <a:ext cx="34272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86600" y="3962520"/>
            <a:ext cx="9907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934320" y="42544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7010280" y="3962160"/>
            <a:ext cx="12193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010280" y="44956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7010280" y="4191120"/>
            <a:ext cx="8384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010280" y="4495680"/>
            <a:ext cx="11430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7086600" y="4419360"/>
            <a:ext cx="9907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086600" y="4647960"/>
            <a:ext cx="9907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13520" y="3429000"/>
            <a:ext cx="102060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4"/>
                </a:solidFill>
                <a:latin typeface="Comic Sans MS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4"/>
                </a:solidFill>
                <a:latin typeface="Comic Sans MS"/>
              </a:rPr>
              <a:t>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39240" y="2057400"/>
            <a:ext cx="16408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4"/>
                </a:solidFill>
                <a:latin typeface="Comic Sans MS"/>
              </a:rPr>
              <a:t>Fibre del fu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286680" y="2742840"/>
            <a:ext cx="0" cy="100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16216800">
            <a:off x="6178320" y="3619080"/>
            <a:ext cx="228600" cy="533520"/>
          </a:xfrm>
          <a:custGeom>
            <a:avLst/>
            <a:gdLst>
              <a:gd name="textAreaLeft" fmla="*/ 0 w 228600"/>
              <a:gd name="textAreaRight" fmla="*/ 160560 w 22860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62720" y="2438280"/>
            <a:ext cx="19047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minio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350200">
            <a:off x="5829120" y="4735080"/>
            <a:ext cx="152280" cy="228600"/>
          </a:xfrm>
          <a:custGeom>
            <a:avLst/>
            <a:gdLst>
              <a:gd name="textAreaLeft" fmla="*/ 0 w 152280"/>
              <a:gd name="textAreaRight" fmla="*/ 106920 w 152280"/>
              <a:gd name="textAreaTop" fmla="*/ 9360 h 228600"/>
              <a:gd name="textAreaBottom" fmla="*/ 2192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43600" y="4876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29200" y="5257800"/>
            <a:ext cx="14479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minio 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pa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5427000">
            <a:off x="6819840" y="4571640"/>
            <a:ext cx="75960" cy="685800"/>
          </a:xfrm>
          <a:custGeom>
            <a:avLst/>
            <a:gdLst>
              <a:gd name="textAreaLeft" fmla="*/ 0 w 75960"/>
              <a:gd name="textAreaRight" fmla="*/ 53280 w 759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07240" y="4952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781680" y="5334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162920" y="5181480"/>
            <a:ext cx="14475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minio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neto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8080" y="745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5896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86200" y="761760"/>
            <a:ext cx="1752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C-b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63244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532800" y="1457280"/>
            <a:ext cx="8398440" cy="550800"/>
            <a:chOff x="532800" y="1457280"/>
            <a:chExt cx="8398440" cy="550800"/>
          </a:xfrm>
        </p:grpSpPr>
        <p:sp>
          <p:nvSpPr>
            <p:cNvPr id="70" name=""/>
            <p:cNvSpPr/>
            <p:nvPr/>
          </p:nvSpPr>
          <p:spPr>
            <a:xfrm>
              <a:off x="532800" y="1457280"/>
              <a:ext cx="1052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e2c02"/>
                  </a:solidFill>
                  <a:latin typeface="Comic Sans MS"/>
                </a:rPr>
                <a:t>195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99120" y="1512720"/>
              <a:ext cx="73321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Soluzione ipotonica  (T.C.Hsu) (48 cromosomi)</a:t>
              </a:r>
              <a:r>
                <a:rPr b="0" lang="en-US" sz="26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4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Storia della citogen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209680" y="2133720"/>
            <a:ext cx="48103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8080" y="745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1754280" y="4343400"/>
            <a:ext cx="4944600" cy="947160"/>
          </a:xfrm>
          <a:prstGeom prst="rect">
            <a:avLst/>
          </a:prstGeom>
          <a:noFill/>
          <a:ln w="9360">
            <a:solidFill>
              <a:srgbClr val="ff0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SSENZIAL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E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BILITA’ DEI CROMOSO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08200" y="1905120"/>
            <a:ext cx="54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3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0000"/>
                </a:solidFill>
                <a:latin typeface="Comic Sans MS"/>
              </a:rPr>
              <a:t>COMPOSTI DA ETEROCROM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8600" y="2819520"/>
            <a:ext cx="8610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NNO UNA SEQUENZA COMUNE ( in uomo TTAGG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5896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352320" y="761760"/>
            <a:ext cx="1752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Telom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8080" y="745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5896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Telomeri 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1454040" y="1728720"/>
            <a:ext cx="563904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267920" y="1320840"/>
            <a:ext cx="5693400" cy="550800"/>
            <a:chOff x="1267920" y="1320840"/>
            <a:chExt cx="5693400" cy="550800"/>
          </a:xfrm>
        </p:grpSpPr>
        <p:sp>
          <p:nvSpPr>
            <p:cNvPr id="80" name=""/>
            <p:cNvSpPr/>
            <p:nvPr/>
          </p:nvSpPr>
          <p:spPr>
            <a:xfrm>
              <a:off x="1267920" y="1320840"/>
              <a:ext cx="1052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e2c02"/>
                  </a:solidFill>
                  <a:latin typeface="Comic Sans MS"/>
                </a:rPr>
                <a:t>1955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52600" y="1376280"/>
              <a:ext cx="46087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Ford e Hamerton: colchicin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92880" y="65134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5410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142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Storia della citogen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533412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5400" y="1395360"/>
            <a:ext cx="8475480" cy="640440"/>
            <a:chOff x="455400" y="1395360"/>
            <a:chExt cx="8475480" cy="640440"/>
          </a:xfrm>
        </p:grpSpPr>
        <p:sp>
          <p:nvSpPr>
            <p:cNvPr id="91" name=""/>
            <p:cNvSpPr/>
            <p:nvPr/>
          </p:nvSpPr>
          <p:spPr>
            <a:xfrm>
              <a:off x="455400" y="1427040"/>
              <a:ext cx="111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e2c02"/>
                  </a:solidFill>
                  <a:latin typeface="Comic Sans MS"/>
                </a:rPr>
                <a:t>195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82000" y="1395360"/>
              <a:ext cx="71488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Tijo e Levan: uso della colchicina e ipotonica: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46 cromosomi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16560" y="65739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4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Storia della citogen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571500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Metafase Giemsa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371600" y="1295280"/>
            <a:ext cx="63244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992160" y="1981080"/>
            <a:ext cx="5358960" cy="642600"/>
            <a:chOff x="992160" y="1981080"/>
            <a:chExt cx="5358960" cy="642600"/>
          </a:xfrm>
        </p:grpSpPr>
        <p:sp>
          <p:nvSpPr>
            <p:cNvPr id="108" name=""/>
            <p:cNvSpPr/>
            <p:nvPr/>
          </p:nvSpPr>
          <p:spPr>
            <a:xfrm>
              <a:off x="992160" y="1981080"/>
              <a:ext cx="12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e2c02"/>
                  </a:solidFill>
                  <a:latin typeface="Times New Roman"/>
                </a:rPr>
                <a:t>1959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76720" y="2031840"/>
              <a:ext cx="39744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Sindromi:  +21; X0; XX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992160" y="3352680"/>
            <a:ext cx="7011000" cy="642600"/>
            <a:chOff x="992160" y="3352680"/>
            <a:chExt cx="7011000" cy="642600"/>
          </a:xfrm>
        </p:grpSpPr>
        <p:sp>
          <p:nvSpPr>
            <p:cNvPr id="111" name=""/>
            <p:cNvSpPr/>
            <p:nvPr/>
          </p:nvSpPr>
          <p:spPr>
            <a:xfrm>
              <a:off x="992160" y="3352680"/>
              <a:ext cx="12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e2c02"/>
                  </a:solidFill>
                  <a:latin typeface="Times New Roman"/>
                </a:rPr>
                <a:t>1960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48560" y="3403440"/>
              <a:ext cx="5754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.Nowell: PHA per coltura linfocit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92160" y="4572000"/>
            <a:ext cx="5520240" cy="642600"/>
            <a:chOff x="992160" y="4572000"/>
            <a:chExt cx="5520240" cy="642600"/>
          </a:xfrm>
        </p:grpSpPr>
        <p:sp>
          <p:nvSpPr>
            <p:cNvPr id="114" name=""/>
            <p:cNvSpPr/>
            <p:nvPr/>
          </p:nvSpPr>
          <p:spPr>
            <a:xfrm>
              <a:off x="992160" y="4572000"/>
              <a:ext cx="12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e2c02"/>
                  </a:solidFill>
                  <a:latin typeface="Times New Roman"/>
                </a:rPr>
                <a:t>1960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43080" y="4622760"/>
              <a:ext cx="4369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romosoma Philadelph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4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Storia della citogen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4000" y="131904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c02"/>
                </a:solidFill>
                <a:latin typeface="Comic Sans MS"/>
              </a:rPr>
              <a:t>19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1371600"/>
            <a:ext cx="56386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nferenza di Denv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600" y="68544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4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Storia della citogen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590920" y="2232000"/>
            <a:ext cx="2060280" cy="790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562720" y="2357280"/>
            <a:ext cx="1218960" cy="601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590920" y="3417840"/>
            <a:ext cx="4516200" cy="652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590920" y="43560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405400" y="4427640"/>
            <a:ext cx="1528920" cy="531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2666880" y="5340240"/>
            <a:ext cx="1030320" cy="37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5106960" y="5302080"/>
            <a:ext cx="1785960" cy="343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6668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41212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4889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1720" y="4883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5708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3280" y="572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9040" y="29718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-3 grupp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71200" y="297180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-5 grupp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4044960"/>
            <a:ext cx="171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-6-12 grupp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0760" y="480060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3-15 grupp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01720" y="480708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6-18 gruppo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83360" y="5645160"/>
            <a:ext cx="16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9-20 grupp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90400" y="564516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-21-22 gruppo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2133720"/>
            <a:ext cx="472464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51600" y="132228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c02"/>
                </a:solidFill>
                <a:latin typeface="Comic Sans MS"/>
              </a:rPr>
              <a:t>197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1447920"/>
            <a:ext cx="73152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Quinacrine mustard:Q-banding (Casperss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80720" y="685800"/>
            <a:ext cx="4876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4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4"/>
                </a:solidFill>
                <a:latin typeface="Comic Sans MS"/>
              </a:rPr>
              <a:t>Storia della citogen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362320" y="2230560"/>
            <a:ext cx="5105160" cy="4182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4:41:08Z</dcterms:created>
  <dc:creator>M. Rocchi</dc:creator>
  <dc:description/>
  <dc:language>en-US</dc:language>
  <cp:lastModifiedBy>Rocchi</cp:lastModifiedBy>
  <dcterms:modified xsi:type="dcterms:W3CDTF">2003-02-07T13:50:25Z</dcterms:modified>
  <cp:revision>182</cp:revision>
  <dc:subject/>
  <dc:title>PowerPoint Presentation</dc:title>
</cp:coreProperties>
</file>