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2.png" ContentType="image/png"/>
  <Override PartName="/ppt/media/image15.png" ContentType="image/png"/>
  <Override PartName="/ppt/media/image12.pct" ContentType="image/x-pict"/>
  <Override PartName="/ppt/media/image1.pct" ContentType="image/x-pict"/>
  <Override PartName="/ppt/media/image4.png" ContentType="image/png"/>
  <Override PartName="/ppt/media/image9.pct" ContentType="image/x-pict"/>
  <Override PartName="/ppt/media/image14.pct" ContentType="image/x-pict"/>
  <Override PartName="/ppt/media/image3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2D2-B70D-47D4-A0BC-6532616C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2B3-10B3-4A63-9A93-70EC2D8F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CDA-443E-425C-944B-2BB42F99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86D-E0F6-4561-AB66-56E8BF8E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E8C-CCAE-47E7-A087-D719A800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028-F9EC-47B8-8DBA-9D37DAD5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5B3-6464-4512-816B-02BAC802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732-CB19-4EFF-AB1C-8E573955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148-F3EB-429D-9EA8-431F3639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743-3E9C-40ED-8D6D-461E24EA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990-F0E2-4314-8895-427513DC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ED0-D89B-4348-859C-27E5660B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9533-6972-4350-B870-4D1EAD7A3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15.png"/><Relationship Id="rId35" Type="http://schemas.openxmlformats.org/officeDocument/2006/relationships/image" Target="../media/image15.png"/><Relationship Id="rId36" Type="http://schemas.openxmlformats.org/officeDocument/2006/relationships/image" Target="../media/image15.png"/><Relationship Id="rId37" Type="http://schemas.openxmlformats.org/officeDocument/2006/relationships/image" Target="../media/image15.png"/><Relationship Id="rId38" Type="http://schemas.openxmlformats.org/officeDocument/2006/relationships/image" Target="../media/image15.png"/><Relationship Id="rId39" Type="http://schemas.openxmlformats.org/officeDocument/2006/relationships/image" Target="../media/image15.png"/><Relationship Id="rId40" Type="http://schemas.openxmlformats.org/officeDocument/2006/relationships/image" Target="../media/image15.png"/><Relationship Id="rId41" Type="http://schemas.openxmlformats.org/officeDocument/2006/relationships/image" Target="../media/image15.png"/><Relationship Id="rId42" Type="http://schemas.openxmlformats.org/officeDocument/2006/relationships/image" Target="../media/image15.png"/><Relationship Id="rId43" Type="http://schemas.openxmlformats.org/officeDocument/2006/relationships/image" Target="../media/image15.png"/><Relationship Id="rId44" Type="http://schemas.openxmlformats.org/officeDocument/2006/relationships/image" Target="../media/image15.png"/><Relationship Id="rId45" Type="http://schemas.openxmlformats.org/officeDocument/2006/relationships/image" Target="../media/image15.png"/><Relationship Id="rId4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image" Target="../media/image14.pct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86400" y="1752480"/>
            <a:ext cx="3657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a1e"/>
                </a:solidFill>
                <a:latin typeface="Comic Sans MS"/>
              </a:rPr>
              <a:t>Costruzione delle mappe genetiche: mappa genetica della </a:t>
            </a:r>
            <a:r>
              <a:rPr b="1" i="1" lang="en-US" sz="3200" spc="-1" strike="noStrike">
                <a:solidFill>
                  <a:srgbClr val="ff0a1e"/>
                </a:solidFill>
                <a:latin typeface="Comic Sans MS"/>
              </a:rPr>
              <a:t>Drosoph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4686120" cy="62006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44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a1e"/>
                </a:solidFill>
                <a:latin typeface="Comic Sans MS"/>
              </a:rPr>
              <a:t>meio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7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74160" y="3122640"/>
            <a:ext cx="744480" cy="763200"/>
            <a:chOff x="74160" y="3122640"/>
            <a:chExt cx="744480" cy="763200"/>
          </a:xfrm>
        </p:grpSpPr>
        <p:grpSp>
          <p:nvGrpSpPr>
            <p:cNvPr id="481" name=""/>
            <p:cNvGrpSpPr/>
            <p:nvPr/>
          </p:nvGrpSpPr>
          <p:grpSpPr>
            <a:xfrm>
              <a:off x="276120" y="3122640"/>
              <a:ext cx="326520" cy="763200"/>
              <a:chOff x="276120" y="3122640"/>
              <a:chExt cx="326520" cy="763200"/>
            </a:xfrm>
          </p:grpSpPr>
          <p:sp>
            <p:nvSpPr>
              <p:cNvPr id="482" name=""/>
              <p:cNvSpPr/>
              <p:nvPr/>
            </p:nvSpPr>
            <p:spPr>
              <a:xfrm rot="5400000">
                <a:off x="166320" y="3449520"/>
                <a:ext cx="763200" cy="109080"/>
              </a:xfrm>
              <a:prstGeom prst="flowChartMagneticDrum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5400000">
                <a:off x="-51120" y="3449880"/>
                <a:ext cx="763200" cy="108360"/>
              </a:xfrm>
              <a:prstGeom prst="flowChartMagneticDrum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5400000">
                <a:off x="384840" y="3013920"/>
                <a:ext cx="109080" cy="32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525240" y="347652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160" y="348948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64560" y="3122640"/>
            <a:ext cx="777240" cy="763200"/>
            <a:chOff x="664560" y="3122640"/>
            <a:chExt cx="777240" cy="763200"/>
          </a:xfrm>
        </p:grpSpPr>
        <p:grpSp>
          <p:nvGrpSpPr>
            <p:cNvPr id="488" name=""/>
            <p:cNvGrpSpPr/>
            <p:nvPr/>
          </p:nvGrpSpPr>
          <p:grpSpPr>
            <a:xfrm>
              <a:off x="883800" y="3122640"/>
              <a:ext cx="326520" cy="763200"/>
              <a:chOff x="883800" y="3122640"/>
              <a:chExt cx="326520" cy="763200"/>
            </a:xfrm>
          </p:grpSpPr>
          <p:sp>
            <p:nvSpPr>
              <p:cNvPr id="489" name=""/>
              <p:cNvSpPr/>
              <p:nvPr/>
            </p:nvSpPr>
            <p:spPr>
              <a:xfrm rot="5400000">
                <a:off x="774000" y="3449520"/>
                <a:ext cx="763200" cy="109080"/>
              </a:xfrm>
              <a:prstGeom prst="flowChartMagneticDrum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5400000">
                <a:off x="556200" y="3449880"/>
                <a:ext cx="763200" cy="108360"/>
              </a:xfrm>
              <a:prstGeom prst="flowChartMagneticDrum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5400000">
                <a:off x="992520" y="3013920"/>
                <a:ext cx="109080" cy="32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1140840" y="350352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4560" y="348948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670120" y="1295280"/>
            <a:ext cx="608760" cy="713520"/>
            <a:chOff x="2670120" y="1295280"/>
            <a:chExt cx="608760" cy="713520"/>
          </a:xfrm>
        </p:grpSpPr>
        <p:sp>
          <p:nvSpPr>
            <p:cNvPr id="495" name=""/>
            <p:cNvSpPr/>
            <p:nvPr/>
          </p:nvSpPr>
          <p:spPr>
            <a:xfrm>
              <a:off x="2670120" y="1549440"/>
              <a:ext cx="533520" cy="76320"/>
            </a:xfrm>
            <a:prstGeom prst="flowChartMagneticDrum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70120" y="1701720"/>
              <a:ext cx="533520" cy="76320"/>
            </a:xfrm>
            <a:prstGeom prst="flowChartMagneticDrum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70120" y="1549440"/>
              <a:ext cx="7632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2880" y="129528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85480" y="170172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670120" y="2146320"/>
            <a:ext cx="599040" cy="716400"/>
            <a:chOff x="2670120" y="2146320"/>
            <a:chExt cx="599040" cy="716400"/>
          </a:xfrm>
        </p:grpSpPr>
        <p:sp>
          <p:nvSpPr>
            <p:cNvPr id="501" name=""/>
            <p:cNvSpPr/>
            <p:nvPr/>
          </p:nvSpPr>
          <p:spPr>
            <a:xfrm>
              <a:off x="2670120" y="2400120"/>
              <a:ext cx="533520" cy="76320"/>
            </a:xfrm>
            <a:prstGeom prst="flowChartMagneticDrum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0120" y="2552760"/>
              <a:ext cx="533520" cy="75960"/>
            </a:xfrm>
            <a:prstGeom prst="flowChartMagneticDrum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70120" y="2400120"/>
              <a:ext cx="7632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68200" y="214632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968200" y="255564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2590920" y="137160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gradFill rotWithShape="0">
            <a:gsLst>
              <a:gs pos="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0800000">
            <a:off x="2590560" y="2437920"/>
            <a:ext cx="152280" cy="381240"/>
          </a:xfrm>
          <a:prstGeom prst="upArrow">
            <a:avLst>
              <a:gd name="adj1" fmla="val 50000"/>
              <a:gd name="adj2" fmla="val 62589"/>
            </a:avLst>
          </a:prstGeom>
          <a:gradFill rotWithShape="0">
            <a:gsLst>
              <a:gs pos="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76840" y="196848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eios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813120" y="990720"/>
            <a:ext cx="608760" cy="713160"/>
            <a:chOff x="3813120" y="990720"/>
            <a:chExt cx="608760" cy="713160"/>
          </a:xfrm>
        </p:grpSpPr>
        <p:sp>
          <p:nvSpPr>
            <p:cNvPr id="510" name=""/>
            <p:cNvSpPr/>
            <p:nvPr/>
          </p:nvSpPr>
          <p:spPr>
            <a:xfrm>
              <a:off x="3813120" y="1244520"/>
              <a:ext cx="533520" cy="75960"/>
            </a:xfrm>
            <a:prstGeom prst="flowChartMagneticDrum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13120" y="1396800"/>
              <a:ext cx="533520" cy="75960"/>
            </a:xfrm>
            <a:prstGeom prst="flowChartMagneticDrum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13120" y="1244520"/>
              <a:ext cx="7632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15880" y="99072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28480" y="139680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822840" y="2438280"/>
            <a:ext cx="599040" cy="716400"/>
            <a:chOff x="3822840" y="2438280"/>
            <a:chExt cx="599040" cy="716400"/>
          </a:xfrm>
        </p:grpSpPr>
        <p:sp>
          <p:nvSpPr>
            <p:cNvPr id="516" name=""/>
            <p:cNvSpPr/>
            <p:nvPr/>
          </p:nvSpPr>
          <p:spPr>
            <a:xfrm>
              <a:off x="3822840" y="2692080"/>
              <a:ext cx="533520" cy="76320"/>
            </a:xfrm>
            <a:prstGeom prst="flowChartMagneticDrum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22840" y="2844720"/>
              <a:ext cx="533520" cy="75960"/>
            </a:xfrm>
            <a:prstGeom prst="flowChartMagneticDrum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22840" y="2692080"/>
              <a:ext cx="7632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20920" y="243828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120920" y="284760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3441240" y="198108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eios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022720" y="685800"/>
            <a:ext cx="596160" cy="343080"/>
            <a:chOff x="5022720" y="685800"/>
            <a:chExt cx="596160" cy="343080"/>
          </a:xfrm>
        </p:grpSpPr>
        <p:sp>
          <p:nvSpPr>
            <p:cNvPr id="523" name=""/>
            <p:cNvSpPr/>
            <p:nvPr/>
          </p:nvSpPr>
          <p:spPr>
            <a:xfrm>
              <a:off x="5022720" y="939960"/>
              <a:ext cx="533520" cy="75960"/>
            </a:xfrm>
            <a:prstGeom prst="flowChartMagneticDrum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25480" y="68580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22720" y="927000"/>
              <a:ext cx="76320" cy="10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022720" y="1701720"/>
            <a:ext cx="608760" cy="322920"/>
            <a:chOff x="5022720" y="1701720"/>
            <a:chExt cx="608760" cy="322920"/>
          </a:xfrm>
        </p:grpSpPr>
        <p:sp>
          <p:nvSpPr>
            <p:cNvPr id="527" name=""/>
            <p:cNvSpPr/>
            <p:nvPr/>
          </p:nvSpPr>
          <p:spPr>
            <a:xfrm>
              <a:off x="5022720" y="1717560"/>
              <a:ext cx="533520" cy="76320"/>
            </a:xfrm>
            <a:prstGeom prst="flowChartMagneticDrum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8080" y="171756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5320" y="170172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022720" y="2133720"/>
            <a:ext cx="599040" cy="342360"/>
            <a:chOff x="5022720" y="2133720"/>
            <a:chExt cx="599040" cy="342360"/>
          </a:xfrm>
        </p:grpSpPr>
        <p:sp>
          <p:nvSpPr>
            <p:cNvPr id="531" name=""/>
            <p:cNvSpPr/>
            <p:nvPr/>
          </p:nvSpPr>
          <p:spPr>
            <a:xfrm>
              <a:off x="5022720" y="2387520"/>
              <a:ext cx="533520" cy="75960"/>
            </a:xfrm>
            <a:prstGeom prst="flowChartMagneticDrum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20800" y="213372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22720" y="2374920"/>
              <a:ext cx="76320" cy="101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022720" y="3124080"/>
            <a:ext cx="599040" cy="322920"/>
            <a:chOff x="5022720" y="3124080"/>
            <a:chExt cx="599040" cy="322920"/>
          </a:xfrm>
        </p:grpSpPr>
        <p:sp>
          <p:nvSpPr>
            <p:cNvPr id="535" name=""/>
            <p:cNvSpPr/>
            <p:nvPr/>
          </p:nvSpPr>
          <p:spPr>
            <a:xfrm>
              <a:off x="5022720" y="3137040"/>
              <a:ext cx="533520" cy="75960"/>
            </a:xfrm>
            <a:prstGeom prst="flowChartMagneticDrum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20800" y="313992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22720" y="312408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657600" y="257796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gradFill rotWithShape="0">
            <a:gsLst>
              <a:gs pos="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57600" y="112716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gradFill rotWithShape="0">
            <a:gsLst>
              <a:gs pos="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188040" y="533520"/>
            <a:ext cx="596160" cy="342360"/>
            <a:chOff x="6188040" y="533520"/>
            <a:chExt cx="596160" cy="342360"/>
          </a:xfrm>
        </p:grpSpPr>
        <p:sp>
          <p:nvSpPr>
            <p:cNvPr id="541" name=""/>
            <p:cNvSpPr/>
            <p:nvPr/>
          </p:nvSpPr>
          <p:spPr>
            <a:xfrm>
              <a:off x="6188040" y="787320"/>
              <a:ext cx="533520" cy="75600"/>
            </a:xfrm>
            <a:prstGeom prst="flowChartMagneticDrum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90800" y="53352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88040" y="77436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178680" y="914400"/>
            <a:ext cx="596160" cy="343080"/>
            <a:chOff x="6178680" y="914400"/>
            <a:chExt cx="596160" cy="343080"/>
          </a:xfrm>
        </p:grpSpPr>
        <p:sp>
          <p:nvSpPr>
            <p:cNvPr id="545" name=""/>
            <p:cNvSpPr/>
            <p:nvPr/>
          </p:nvSpPr>
          <p:spPr>
            <a:xfrm>
              <a:off x="6178680" y="1168560"/>
              <a:ext cx="533520" cy="75960"/>
            </a:xfrm>
            <a:prstGeom prst="flowChartMagneticDrum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81440" y="91440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78680" y="1155600"/>
              <a:ext cx="76320" cy="10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165720" y="1422360"/>
            <a:ext cx="608760" cy="322920"/>
            <a:chOff x="6165720" y="1422360"/>
            <a:chExt cx="608760" cy="322920"/>
          </a:xfrm>
        </p:grpSpPr>
        <p:sp>
          <p:nvSpPr>
            <p:cNvPr id="549" name=""/>
            <p:cNvSpPr/>
            <p:nvPr/>
          </p:nvSpPr>
          <p:spPr>
            <a:xfrm>
              <a:off x="6165720" y="1438200"/>
              <a:ext cx="533520" cy="76320"/>
            </a:xfrm>
            <a:prstGeom prst="flowChartMagneticDrum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81080" y="143820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78320" y="142236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6175440" y="1803240"/>
            <a:ext cx="608400" cy="322920"/>
            <a:chOff x="6175440" y="1803240"/>
            <a:chExt cx="608400" cy="322920"/>
          </a:xfrm>
        </p:grpSpPr>
        <p:sp>
          <p:nvSpPr>
            <p:cNvPr id="553" name=""/>
            <p:cNvSpPr/>
            <p:nvPr/>
          </p:nvSpPr>
          <p:spPr>
            <a:xfrm>
              <a:off x="6175440" y="1819080"/>
              <a:ext cx="533160" cy="76320"/>
            </a:xfrm>
            <a:prstGeom prst="flowChartMagneticDrum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90440" y="181908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87680" y="1803240"/>
              <a:ext cx="7596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175440" y="2031840"/>
            <a:ext cx="599040" cy="343080"/>
            <a:chOff x="6175440" y="2031840"/>
            <a:chExt cx="599040" cy="343080"/>
          </a:xfrm>
        </p:grpSpPr>
        <p:sp>
          <p:nvSpPr>
            <p:cNvPr id="557" name=""/>
            <p:cNvSpPr/>
            <p:nvPr/>
          </p:nvSpPr>
          <p:spPr>
            <a:xfrm>
              <a:off x="6175440" y="2286000"/>
              <a:ext cx="533520" cy="76320"/>
            </a:xfrm>
            <a:prstGeom prst="flowChartMagneticDrum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73520" y="203184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75440" y="227340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6162840" y="2336760"/>
            <a:ext cx="599040" cy="343080"/>
            <a:chOff x="6162840" y="2336760"/>
            <a:chExt cx="599040" cy="343080"/>
          </a:xfrm>
        </p:grpSpPr>
        <p:sp>
          <p:nvSpPr>
            <p:cNvPr id="561" name=""/>
            <p:cNvSpPr/>
            <p:nvPr/>
          </p:nvSpPr>
          <p:spPr>
            <a:xfrm>
              <a:off x="6162840" y="2590920"/>
              <a:ext cx="533520" cy="76320"/>
            </a:xfrm>
            <a:prstGeom prst="flowChartMagneticDrum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60920" y="233676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62840" y="257832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6175440" y="2882880"/>
            <a:ext cx="599040" cy="322920"/>
            <a:chOff x="6175440" y="2882880"/>
            <a:chExt cx="599040" cy="322920"/>
          </a:xfrm>
        </p:grpSpPr>
        <p:sp>
          <p:nvSpPr>
            <p:cNvPr id="565" name=""/>
            <p:cNvSpPr/>
            <p:nvPr/>
          </p:nvSpPr>
          <p:spPr>
            <a:xfrm>
              <a:off x="6175440" y="2895840"/>
              <a:ext cx="533520" cy="75960"/>
            </a:xfrm>
            <a:prstGeom prst="flowChartMagneticDrum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73520" y="289872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75440" y="288288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676520" y="365760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6172200" y="3213000"/>
            <a:ext cx="599040" cy="322920"/>
            <a:chOff x="6172200" y="3213000"/>
            <a:chExt cx="599040" cy="322920"/>
          </a:xfrm>
        </p:grpSpPr>
        <p:sp>
          <p:nvSpPr>
            <p:cNvPr id="570" name=""/>
            <p:cNvSpPr/>
            <p:nvPr/>
          </p:nvSpPr>
          <p:spPr>
            <a:xfrm>
              <a:off x="6172200" y="3225960"/>
              <a:ext cx="533520" cy="75960"/>
            </a:xfrm>
            <a:prstGeom prst="flowChartMagneticDrum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70280" y="322884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172200" y="321300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6095880" y="609480"/>
            <a:ext cx="685800" cy="3049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5880" y="990720"/>
            <a:ext cx="685800" cy="304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95880" y="1371600"/>
            <a:ext cx="685800" cy="3049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95880" y="1727280"/>
            <a:ext cx="685800" cy="304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95880" y="2108160"/>
            <a:ext cx="685800" cy="3049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5880" y="2451240"/>
            <a:ext cx="685800" cy="304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5880" y="2832120"/>
            <a:ext cx="685800" cy="3049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5880" y="3187800"/>
            <a:ext cx="685800" cy="304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10280" y="685800"/>
            <a:ext cx="381240" cy="2743200"/>
          </a:xfrm>
          <a:prstGeom prst="flowChartTerminator">
            <a:avLst/>
          </a:prstGeom>
          <a:gradFill rotWithShape="0">
            <a:gsLst>
              <a:gs pos="0">
                <a:srgbClr val="629709"/>
              </a:gs>
              <a:gs pos="100000">
                <a:srgbClr val="90b5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086600" y="76212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086600" y="106668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86600" y="137160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086600" y="167652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086600" y="212076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086600" y="243828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274320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304812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441520" y="4511520"/>
            <a:ext cx="608760" cy="713520"/>
            <a:chOff x="2441520" y="4511520"/>
            <a:chExt cx="608760" cy="713520"/>
          </a:xfrm>
        </p:grpSpPr>
        <p:sp>
          <p:nvSpPr>
            <p:cNvPr id="591" name=""/>
            <p:cNvSpPr/>
            <p:nvPr/>
          </p:nvSpPr>
          <p:spPr>
            <a:xfrm>
              <a:off x="2441520" y="4765680"/>
              <a:ext cx="533520" cy="76320"/>
            </a:xfrm>
            <a:prstGeom prst="flowChartMagneticDrum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441520" y="4917960"/>
              <a:ext cx="533520" cy="76320"/>
            </a:xfrm>
            <a:prstGeom prst="flowChartMagneticDrum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41520" y="4765680"/>
              <a:ext cx="7632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44280" y="451152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56880" y="491796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441520" y="5181480"/>
            <a:ext cx="599040" cy="716400"/>
            <a:chOff x="2441520" y="5181480"/>
            <a:chExt cx="599040" cy="716400"/>
          </a:xfrm>
        </p:grpSpPr>
        <p:sp>
          <p:nvSpPr>
            <p:cNvPr id="597" name=""/>
            <p:cNvSpPr/>
            <p:nvPr/>
          </p:nvSpPr>
          <p:spPr>
            <a:xfrm>
              <a:off x="2441520" y="5435280"/>
              <a:ext cx="533520" cy="76320"/>
            </a:xfrm>
            <a:prstGeom prst="flowChartMagneticDrum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41520" y="5587920"/>
              <a:ext cx="533520" cy="75960"/>
            </a:xfrm>
            <a:prstGeom prst="flowChartMagneticDrum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41520" y="5435280"/>
              <a:ext cx="7632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39600" y="518148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39600" y="559080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2362320" y="458784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gradFill rotWithShape="0">
            <a:gsLst>
              <a:gs pos="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10800000">
            <a:off x="2361960" y="547380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gradFill rotWithShape="0">
            <a:gsLst>
              <a:gs pos="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03720" y="502920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eios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90920" y="5029200"/>
            <a:ext cx="15228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560" y="5029200"/>
            <a:ext cx="15228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09680" y="502920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794040" y="4114800"/>
            <a:ext cx="616680" cy="713520"/>
            <a:chOff x="3794040" y="4114800"/>
            <a:chExt cx="616680" cy="713520"/>
          </a:xfrm>
        </p:grpSpPr>
        <p:sp>
          <p:nvSpPr>
            <p:cNvPr id="609" name=""/>
            <p:cNvSpPr/>
            <p:nvPr/>
          </p:nvSpPr>
          <p:spPr>
            <a:xfrm>
              <a:off x="3794040" y="4368960"/>
              <a:ext cx="533520" cy="76320"/>
            </a:xfrm>
            <a:prstGeom prst="flowChartMagneticDrum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94040" y="4521240"/>
              <a:ext cx="533520" cy="76320"/>
            </a:xfrm>
            <a:prstGeom prst="flowChartMagneticDrum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4040" y="4368960"/>
              <a:ext cx="7632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96800" y="411480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09760" y="452124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3803760" y="5727600"/>
            <a:ext cx="599040" cy="716400"/>
            <a:chOff x="3803760" y="5727600"/>
            <a:chExt cx="599040" cy="716400"/>
          </a:xfrm>
        </p:grpSpPr>
        <p:sp>
          <p:nvSpPr>
            <p:cNvPr id="615" name=""/>
            <p:cNvSpPr/>
            <p:nvPr/>
          </p:nvSpPr>
          <p:spPr>
            <a:xfrm>
              <a:off x="3803760" y="5981400"/>
              <a:ext cx="533520" cy="76320"/>
            </a:xfrm>
            <a:prstGeom prst="flowChartMagneticDrum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03760" y="6134040"/>
              <a:ext cx="533520" cy="75960"/>
            </a:xfrm>
            <a:prstGeom prst="flowChartMagneticDrum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03760" y="5981400"/>
              <a:ext cx="7632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01480" y="572760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01840" y="613692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422160" y="510552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eios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638520" y="586728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gradFill rotWithShape="0">
            <a:gsLst>
              <a:gs pos="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38520" y="425124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gradFill rotWithShape="0">
            <a:gsLst>
              <a:gs pos="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5029200" y="3911760"/>
            <a:ext cx="596160" cy="342360"/>
            <a:chOff x="5029200" y="3911760"/>
            <a:chExt cx="596160" cy="342360"/>
          </a:xfrm>
        </p:grpSpPr>
        <p:sp>
          <p:nvSpPr>
            <p:cNvPr id="624" name=""/>
            <p:cNvSpPr/>
            <p:nvPr/>
          </p:nvSpPr>
          <p:spPr>
            <a:xfrm>
              <a:off x="5029200" y="4165560"/>
              <a:ext cx="533520" cy="75600"/>
            </a:xfrm>
            <a:prstGeom prst="flowChartMagneticDrum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331960" y="391176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29200" y="415260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029200" y="4813200"/>
            <a:ext cx="616680" cy="322920"/>
            <a:chOff x="5029200" y="4813200"/>
            <a:chExt cx="616680" cy="322920"/>
          </a:xfrm>
        </p:grpSpPr>
        <p:sp>
          <p:nvSpPr>
            <p:cNvPr id="628" name=""/>
            <p:cNvSpPr/>
            <p:nvPr/>
          </p:nvSpPr>
          <p:spPr>
            <a:xfrm>
              <a:off x="5029200" y="4829040"/>
              <a:ext cx="533520" cy="76320"/>
            </a:xfrm>
            <a:prstGeom prst="flowChartMagneticDrum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44920" y="482904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041800" y="481320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5029200" y="5435640"/>
            <a:ext cx="591480" cy="342360"/>
            <a:chOff x="5029200" y="5435640"/>
            <a:chExt cx="591480" cy="342360"/>
          </a:xfrm>
        </p:grpSpPr>
        <p:sp>
          <p:nvSpPr>
            <p:cNvPr id="632" name=""/>
            <p:cNvSpPr/>
            <p:nvPr/>
          </p:nvSpPr>
          <p:spPr>
            <a:xfrm>
              <a:off x="5029200" y="5689440"/>
              <a:ext cx="533520" cy="75960"/>
            </a:xfrm>
            <a:prstGeom prst="flowChartMagneticDrum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27280" y="543564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29200" y="5676840"/>
              <a:ext cx="76320" cy="101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029200" y="6489720"/>
            <a:ext cx="599040" cy="322920"/>
            <a:chOff x="5029200" y="6489720"/>
            <a:chExt cx="599040" cy="322920"/>
          </a:xfrm>
        </p:grpSpPr>
        <p:sp>
          <p:nvSpPr>
            <p:cNvPr id="636" name=""/>
            <p:cNvSpPr/>
            <p:nvPr/>
          </p:nvSpPr>
          <p:spPr>
            <a:xfrm>
              <a:off x="5029200" y="6502680"/>
              <a:ext cx="533520" cy="75960"/>
            </a:xfrm>
            <a:prstGeom prst="flowChartMagneticDrum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27280" y="650556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29200" y="648972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188040" y="3822840"/>
            <a:ext cx="596160" cy="342360"/>
            <a:chOff x="6188040" y="3822840"/>
            <a:chExt cx="596160" cy="342360"/>
          </a:xfrm>
        </p:grpSpPr>
        <p:sp>
          <p:nvSpPr>
            <p:cNvPr id="640" name=""/>
            <p:cNvSpPr/>
            <p:nvPr/>
          </p:nvSpPr>
          <p:spPr>
            <a:xfrm>
              <a:off x="6188040" y="4076640"/>
              <a:ext cx="533520" cy="75600"/>
            </a:xfrm>
            <a:prstGeom prst="flowChartMagneticDrum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490800" y="382284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88040" y="406368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178680" y="4203720"/>
            <a:ext cx="596160" cy="342360"/>
            <a:chOff x="6178680" y="4203720"/>
            <a:chExt cx="596160" cy="342360"/>
          </a:xfrm>
        </p:grpSpPr>
        <p:sp>
          <p:nvSpPr>
            <p:cNvPr id="644" name=""/>
            <p:cNvSpPr/>
            <p:nvPr/>
          </p:nvSpPr>
          <p:spPr>
            <a:xfrm>
              <a:off x="6178680" y="4457520"/>
              <a:ext cx="533520" cy="75600"/>
            </a:xfrm>
            <a:prstGeom prst="flowChartMagneticDrum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81440" y="420372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8680" y="444456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165720" y="4711680"/>
            <a:ext cx="616680" cy="322920"/>
            <a:chOff x="6165720" y="4711680"/>
            <a:chExt cx="616680" cy="322920"/>
          </a:xfrm>
        </p:grpSpPr>
        <p:sp>
          <p:nvSpPr>
            <p:cNvPr id="648" name=""/>
            <p:cNvSpPr/>
            <p:nvPr/>
          </p:nvSpPr>
          <p:spPr>
            <a:xfrm>
              <a:off x="6165720" y="4727520"/>
              <a:ext cx="533520" cy="76320"/>
            </a:xfrm>
            <a:prstGeom prst="flowChartMagneticDrum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81440" y="472752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78320" y="471168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175440" y="5092560"/>
            <a:ext cx="615960" cy="322920"/>
            <a:chOff x="6175440" y="5092560"/>
            <a:chExt cx="615960" cy="322920"/>
          </a:xfrm>
        </p:grpSpPr>
        <p:sp>
          <p:nvSpPr>
            <p:cNvPr id="652" name=""/>
            <p:cNvSpPr/>
            <p:nvPr/>
          </p:nvSpPr>
          <p:spPr>
            <a:xfrm>
              <a:off x="6175440" y="5108400"/>
              <a:ext cx="533160" cy="76320"/>
            </a:xfrm>
            <a:prstGeom prst="flowChartMagneticDrum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490440" y="510840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187680" y="5092560"/>
              <a:ext cx="7596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175440" y="5321160"/>
            <a:ext cx="591480" cy="343080"/>
            <a:chOff x="6175440" y="5321160"/>
            <a:chExt cx="591480" cy="343080"/>
          </a:xfrm>
        </p:grpSpPr>
        <p:sp>
          <p:nvSpPr>
            <p:cNvPr id="656" name=""/>
            <p:cNvSpPr/>
            <p:nvPr/>
          </p:nvSpPr>
          <p:spPr>
            <a:xfrm>
              <a:off x="6175440" y="5575320"/>
              <a:ext cx="533520" cy="76320"/>
            </a:xfrm>
            <a:prstGeom prst="flowChartMagneticDrum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73520" y="532116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175440" y="556272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162840" y="5626080"/>
            <a:ext cx="591480" cy="343080"/>
            <a:chOff x="6162840" y="5626080"/>
            <a:chExt cx="591480" cy="343080"/>
          </a:xfrm>
        </p:grpSpPr>
        <p:sp>
          <p:nvSpPr>
            <p:cNvPr id="660" name=""/>
            <p:cNvSpPr/>
            <p:nvPr/>
          </p:nvSpPr>
          <p:spPr>
            <a:xfrm>
              <a:off x="6162840" y="5880240"/>
              <a:ext cx="533520" cy="76320"/>
            </a:xfrm>
            <a:prstGeom prst="flowChartMagneticDrum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60920" y="562608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62840" y="586764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6175440" y="6172200"/>
            <a:ext cx="599040" cy="322920"/>
            <a:chOff x="6175440" y="6172200"/>
            <a:chExt cx="599040" cy="322920"/>
          </a:xfrm>
        </p:grpSpPr>
        <p:sp>
          <p:nvSpPr>
            <p:cNvPr id="664" name=""/>
            <p:cNvSpPr/>
            <p:nvPr/>
          </p:nvSpPr>
          <p:spPr>
            <a:xfrm>
              <a:off x="6175440" y="6185160"/>
              <a:ext cx="533520" cy="75960"/>
            </a:xfrm>
            <a:prstGeom prst="flowChartMagneticDrum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473520" y="618804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175440" y="617220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6172200" y="6502320"/>
            <a:ext cx="599040" cy="322920"/>
            <a:chOff x="6172200" y="6502320"/>
            <a:chExt cx="599040" cy="322920"/>
          </a:xfrm>
        </p:grpSpPr>
        <p:sp>
          <p:nvSpPr>
            <p:cNvPr id="668" name=""/>
            <p:cNvSpPr/>
            <p:nvPr/>
          </p:nvSpPr>
          <p:spPr>
            <a:xfrm>
              <a:off x="6172200" y="6515280"/>
              <a:ext cx="533520" cy="75960"/>
            </a:xfrm>
            <a:prstGeom prst="flowChartMagneticDrum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470280" y="651816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72200" y="6502320"/>
              <a:ext cx="763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6095880" y="3898800"/>
            <a:ext cx="685800" cy="3049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5880" y="4280040"/>
            <a:ext cx="685800" cy="304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5880" y="4660920"/>
            <a:ext cx="685800" cy="3049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95880" y="5016600"/>
            <a:ext cx="685800" cy="304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5397480"/>
            <a:ext cx="685800" cy="3049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95880" y="5740560"/>
            <a:ext cx="685800" cy="304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95880" y="6121440"/>
            <a:ext cx="685800" cy="3049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5880" y="6477120"/>
            <a:ext cx="685800" cy="304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934320" y="3962520"/>
            <a:ext cx="380880" cy="2743200"/>
          </a:xfrm>
          <a:prstGeom prst="flowChartTerminator">
            <a:avLst/>
          </a:prstGeom>
          <a:gradFill rotWithShape="0">
            <a:gsLst>
              <a:gs pos="0">
                <a:srgbClr val="629709"/>
              </a:gs>
              <a:gs pos="100000">
                <a:srgbClr val="90b5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10280" y="403848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010280" y="434340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023240" y="543564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023240" y="574056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010280" y="468648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010280" y="502920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10280" y="601992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10280" y="632448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77800" y="121932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to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077800" y="263196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to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925160" y="434340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to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25160" y="598500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to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-52920" y="1523880"/>
            <a:ext cx="204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senza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icombin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ssun crossing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15920" y="4419720"/>
            <a:ext cx="19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icombin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ossing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405560" y="685800"/>
            <a:ext cx="180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greg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 pr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e meio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391520" y="3733920"/>
            <a:ext cx="167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greg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 seco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e meio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a1e"/>
                </a:solidFill>
                <a:latin typeface="Comic Sans MS"/>
              </a:rPr>
              <a:t>aschi non ricombinanti </a:t>
            </a:r>
            <a:r>
              <a:rPr b="1" i="1" lang="en-US" sz="3200" spc="-1" strike="noStrike">
                <a:solidFill>
                  <a:srgbClr val="ff0a1e"/>
                </a:solidFill>
                <a:latin typeface="Comic Sans MS"/>
              </a:rPr>
              <a:t>vs. </a:t>
            </a:r>
            <a:r>
              <a:rPr b="1" lang="en-US" sz="3200" spc="-1" strike="noStrike">
                <a:solidFill>
                  <a:srgbClr val="ff0a1e"/>
                </a:solidFill>
                <a:latin typeface="Comic Sans MS"/>
              </a:rPr>
              <a:t>ricombin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69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1371600" y="1828800"/>
            <a:ext cx="533520" cy="2895480"/>
          </a:xfrm>
          <a:prstGeom prst="flowChartTerminator">
            <a:avLst/>
          </a:prstGeom>
          <a:gradFill rotWithShape="0">
            <a:gsLst>
              <a:gs pos="0">
                <a:srgbClr val="629709"/>
              </a:gs>
              <a:gs pos="100000">
                <a:srgbClr val="90b5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447920" y="3276720"/>
            <a:ext cx="320400" cy="24120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447920" y="3619440"/>
            <a:ext cx="320400" cy="24120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3949560"/>
            <a:ext cx="320400" cy="24156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560"/>
              <a:gd name="textAreaBottom" fmla="*/ 186480 h 24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447920" y="4317840"/>
            <a:ext cx="320400" cy="24156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560"/>
              <a:gd name="textAreaBottom" fmla="*/ 186480 h 24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447920" y="1828800"/>
            <a:ext cx="320400" cy="24120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2197080"/>
            <a:ext cx="320400" cy="24120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447920" y="2540160"/>
            <a:ext cx="320400" cy="24120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447920" y="2895480"/>
            <a:ext cx="320400" cy="24156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560"/>
              <a:gd name="textAreaBottom" fmla="*/ 186480 h 24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343400" y="1752480"/>
            <a:ext cx="533520" cy="2895840"/>
          </a:xfrm>
          <a:prstGeom prst="flowChartTerminator">
            <a:avLst/>
          </a:prstGeom>
          <a:gradFill rotWithShape="0">
            <a:gsLst>
              <a:gs pos="0">
                <a:srgbClr val="629709"/>
              </a:gs>
              <a:gs pos="100000">
                <a:srgbClr val="90b5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19720" y="1828800"/>
            <a:ext cx="320400" cy="24120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19720" y="2133720"/>
            <a:ext cx="320400" cy="24120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32320" y="320040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432320" y="350532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19720" y="2476440"/>
            <a:ext cx="320400" cy="24120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419720" y="2819520"/>
            <a:ext cx="320400" cy="24120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419720" y="3809880"/>
            <a:ext cx="320400" cy="24156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560"/>
              <a:gd name="textAreaBottom" fmla="*/ 186480 h 24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419720" y="4114800"/>
            <a:ext cx="320400" cy="24120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7200" y="1905120"/>
            <a:ext cx="533520" cy="2895480"/>
          </a:xfrm>
          <a:prstGeom prst="flowChartTerminator">
            <a:avLst/>
          </a:prstGeom>
          <a:gradFill rotWithShape="0">
            <a:gsLst>
              <a:gs pos="0">
                <a:srgbClr val="629709"/>
              </a:gs>
              <a:gs pos="100000">
                <a:srgbClr val="90b5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1905120"/>
            <a:ext cx="320400" cy="24120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33520" y="2247840"/>
            <a:ext cx="320400" cy="24120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3520" y="2577960"/>
            <a:ext cx="320400" cy="24156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560"/>
              <a:gd name="textAreaBottom" fmla="*/ 186480 h 24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2946240"/>
            <a:ext cx="320400" cy="24156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560"/>
              <a:gd name="textAreaBottom" fmla="*/ 186480 h 24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17680" y="3340080"/>
            <a:ext cx="320400" cy="24120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7680" y="3708360"/>
            <a:ext cx="320400" cy="24120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17680" y="4051440"/>
            <a:ext cx="320400" cy="24120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7680" y="4406760"/>
            <a:ext cx="320400" cy="24156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560"/>
              <a:gd name="textAreaBottom" fmla="*/ 186480 h 24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10080" y="1752480"/>
            <a:ext cx="533520" cy="2895840"/>
          </a:xfrm>
          <a:prstGeom prst="flowChartTerminator">
            <a:avLst/>
          </a:prstGeom>
          <a:gradFill rotWithShape="0">
            <a:gsLst>
              <a:gs pos="0">
                <a:srgbClr val="629709"/>
              </a:gs>
              <a:gs pos="100000">
                <a:srgbClr val="90b5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486400" y="250200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486400" y="2806560"/>
            <a:ext cx="320760" cy="24156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560"/>
              <a:gd name="textAreaBottom" fmla="*/ 186480 h 24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508720" y="387360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508720" y="4178160"/>
            <a:ext cx="320760" cy="24156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560"/>
              <a:gd name="textAreaBottom" fmla="*/ 186480 h 24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08720" y="176544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08720" y="210816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86400" y="320040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86400" y="350532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477120" y="1752480"/>
            <a:ext cx="533160" cy="2895840"/>
          </a:xfrm>
          <a:prstGeom prst="flowChartTerminator">
            <a:avLst/>
          </a:prstGeom>
          <a:gradFill rotWithShape="0">
            <a:gsLst>
              <a:gs pos="0">
                <a:srgbClr val="629709"/>
              </a:gs>
              <a:gs pos="100000">
                <a:srgbClr val="90b5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553080" y="255276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553080" y="285768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566040" y="3225960"/>
            <a:ext cx="320400" cy="24120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566040" y="3530520"/>
            <a:ext cx="320400" cy="241560"/>
          </a:xfrm>
          <a:custGeom>
            <a:avLst/>
            <a:gdLst>
              <a:gd name="textAreaLeft" fmla="*/ 73080 w 320400"/>
              <a:gd name="textAreaRight" fmla="*/ 247320 w 320400"/>
              <a:gd name="textAreaTop" fmla="*/ 55080 h 241560"/>
              <a:gd name="textAreaBottom" fmla="*/ 186480 h 24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75400" y="182880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575400" y="217188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53080" y="3809880"/>
            <a:ext cx="320760" cy="24156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560"/>
              <a:gd name="textAreaBottom" fmla="*/ 186480 h 24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553080" y="411480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467480" y="1752480"/>
            <a:ext cx="533520" cy="2895840"/>
          </a:xfrm>
          <a:prstGeom prst="flowChartTerminator">
            <a:avLst/>
          </a:prstGeom>
          <a:gradFill rotWithShape="0">
            <a:gsLst>
              <a:gs pos="0">
                <a:srgbClr val="629709"/>
              </a:gs>
              <a:gs pos="100000">
                <a:srgbClr val="90b5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543800" y="182880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543800" y="213372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543800" y="387360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43800" y="4178160"/>
            <a:ext cx="320760" cy="24156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560"/>
              <a:gd name="textAreaBottom" fmla="*/ 186480 h 24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543800" y="247644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43800" y="281952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43800" y="320040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3505320"/>
            <a:ext cx="320760" cy="241200"/>
          </a:xfrm>
          <a:custGeom>
            <a:avLst/>
            <a:gdLst>
              <a:gd name="textAreaLeft" fmla="*/ 73080 w 320760"/>
              <a:gd name="textAreaRight" fmla="*/ 247680 w 32076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298040" y="50356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gregazione in II divisione meio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08360" y="5049720"/>
            <a:ext cx="232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gregazione in 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visione meio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553080" y="1142640"/>
            <a:ext cx="2438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1e"/>
                </a:solidFill>
                <a:latin typeface="Comic Sans MS"/>
              </a:rPr>
              <a:t>Posizione dei crossing-over e segregazione degli alle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76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692280" y="2587680"/>
            <a:ext cx="9792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42880" y="250992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6960" y="2509920"/>
            <a:ext cx="5936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306520"/>
            <a:ext cx="985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90480" y="2379600"/>
            <a:ext cx="59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442880" y="2509920"/>
            <a:ext cx="2286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42880" y="23860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1290600" y="2404800"/>
            <a:ext cx="157320" cy="1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1290240" y="2408400"/>
            <a:ext cx="152280" cy="10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833400" y="2498760"/>
            <a:ext cx="76320" cy="101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833400" y="2294640"/>
            <a:ext cx="76320" cy="101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685800" y="1511280"/>
            <a:ext cx="985680" cy="304560"/>
            <a:chOff x="685800" y="1511280"/>
            <a:chExt cx="985680" cy="304560"/>
          </a:xfrm>
        </p:grpSpPr>
        <p:sp>
          <p:nvSpPr>
            <p:cNvPr id="778" name=""/>
            <p:cNvSpPr/>
            <p:nvPr/>
          </p:nvSpPr>
          <p:spPr>
            <a:xfrm>
              <a:off x="691920" y="1802880"/>
              <a:ext cx="979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42880" y="1724760"/>
              <a:ext cx="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96600" y="1724760"/>
              <a:ext cx="59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85800" y="1521720"/>
              <a:ext cx="9856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0120" y="1595520"/>
              <a:ext cx="59364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442880" y="1724760"/>
              <a:ext cx="22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442880" y="1602360"/>
              <a:ext cx="22824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290240" y="1623600"/>
              <a:ext cx="152280" cy="10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 flipV="1">
              <a:off x="1289880" y="1623600"/>
              <a:ext cx="152280" cy="10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833040" y="1714320"/>
              <a:ext cx="75960" cy="1015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833040" y="1511280"/>
              <a:ext cx="75960" cy="1015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1033920" y="125748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038240" y="17049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95760" y="251136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012680" y="20448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473560" y="1276200"/>
            <a:ext cx="574200" cy="828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489040" y="1265400"/>
            <a:ext cx="279720" cy="161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768760" y="1438200"/>
            <a:ext cx="186840" cy="10800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2381040" y="1276920"/>
            <a:ext cx="107640" cy="1864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2253240" y="1276920"/>
            <a:ext cx="220680" cy="59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20700000">
            <a:off x="2449080" y="1240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2476440" y="1782360"/>
            <a:ext cx="574560" cy="8244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2476440" y="1703160"/>
            <a:ext cx="279720" cy="16164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756160" y="1584360"/>
            <a:ext cx="186840" cy="1080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2368440" y="1678680"/>
            <a:ext cx="107640" cy="18648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2256120" y="1805760"/>
            <a:ext cx="220680" cy="5904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 rot="900000">
            <a:off x="2452320" y="18230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2280240" y="2441880"/>
            <a:ext cx="803880" cy="282240"/>
            <a:chOff x="2280240" y="2441880"/>
            <a:chExt cx="803880" cy="282240"/>
          </a:xfrm>
        </p:grpSpPr>
        <p:sp>
          <p:nvSpPr>
            <p:cNvPr id="806" name=""/>
            <p:cNvSpPr/>
            <p:nvPr/>
          </p:nvSpPr>
          <p:spPr>
            <a:xfrm flipH="1">
              <a:off x="2280240" y="2649600"/>
              <a:ext cx="578160" cy="745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2530800" y="2560320"/>
              <a:ext cx="327600" cy="921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2313000" y="2497320"/>
              <a:ext cx="217080" cy="62280"/>
            </a:xfrm>
            <a:prstGeom prst="line">
              <a:avLst/>
            </a:prstGeom>
            <a:ln w="38160">
              <a:solidFill>
                <a:srgbClr val="ff07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2858760" y="2441880"/>
              <a:ext cx="81360" cy="21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2859480" y="2541240"/>
              <a:ext cx="224640" cy="111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9213600">
              <a:off x="2800080" y="2615760"/>
              <a:ext cx="8388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 flipH="1">
            <a:off x="2187720" y="2040840"/>
            <a:ext cx="574560" cy="8244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482200" y="2039400"/>
            <a:ext cx="279720" cy="16164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2295360" y="2202840"/>
            <a:ext cx="186480" cy="107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762280" y="2039400"/>
            <a:ext cx="108000" cy="18684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760840" y="2040480"/>
            <a:ext cx="220680" cy="5904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 rot="11700000">
            <a:off x="2709720" y="2004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557800" y="102888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43320" y="131112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7680" y="16635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485800" y="1486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495520" y="2035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371680" y="19335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570400" y="234936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456280" y="263196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58720" y="1981080"/>
            <a:ext cx="492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533520" y="2971440"/>
            <a:ext cx="60958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2280" y="5156280"/>
            <a:ext cx="979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42880" y="507852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285920" y="5078520"/>
            <a:ext cx="37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" y="4875120"/>
            <a:ext cx="985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87360" y="4956120"/>
            <a:ext cx="3812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85800" y="5078520"/>
            <a:ext cx="449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85800" y="4954680"/>
            <a:ext cx="449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833400" y="5067360"/>
            <a:ext cx="76320" cy="101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833400" y="4863240"/>
            <a:ext cx="76320" cy="101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14640" y="461016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263600" y="50576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138320" y="4963680"/>
            <a:ext cx="156960" cy="1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137960" y="4967280"/>
            <a:ext cx="152280" cy="10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291400" y="4892760"/>
            <a:ext cx="1044720" cy="624240"/>
            <a:chOff x="2291400" y="4892760"/>
            <a:chExt cx="1044720" cy="624240"/>
          </a:xfrm>
        </p:grpSpPr>
        <p:sp>
          <p:nvSpPr>
            <p:cNvPr id="842" name=""/>
            <p:cNvSpPr/>
            <p:nvPr/>
          </p:nvSpPr>
          <p:spPr>
            <a:xfrm flipV="1">
              <a:off x="2561400" y="5257080"/>
              <a:ext cx="774720" cy="112680"/>
            </a:xfrm>
            <a:prstGeom prst="line">
              <a:avLst/>
            </a:prstGeom>
            <a:ln w="38160">
              <a:solidFill>
                <a:srgbClr val="ff07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2589480" y="5205960"/>
              <a:ext cx="172440" cy="121320"/>
            </a:xfrm>
            <a:prstGeom prst="line">
              <a:avLst/>
            </a:prstGeom>
            <a:ln w="38160">
              <a:solidFill>
                <a:srgbClr val="ff07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2747520" y="5030280"/>
              <a:ext cx="413640" cy="1828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2438640" y="5122080"/>
              <a:ext cx="141480" cy="244440"/>
            </a:xfrm>
            <a:prstGeom prst="line">
              <a:avLst/>
            </a:prstGeom>
            <a:ln w="38160">
              <a:solidFill>
                <a:srgbClr val="ff07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2291400" y="5288400"/>
              <a:ext cx="290880" cy="80280"/>
            </a:xfrm>
            <a:prstGeom prst="line">
              <a:avLst/>
            </a:prstGeom>
            <a:ln w="38160">
              <a:solidFill>
                <a:srgbClr val="ff07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 rot="900000">
              <a:off x="2549520" y="5312880"/>
              <a:ext cx="100080" cy="9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662560" y="4892760"/>
              <a:ext cx="30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739960" y="520992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2215080" y="4295880"/>
            <a:ext cx="1047240" cy="611640"/>
            <a:chOff x="2215080" y="4295880"/>
            <a:chExt cx="1047240" cy="611640"/>
          </a:xfrm>
        </p:grpSpPr>
        <p:grpSp>
          <p:nvGrpSpPr>
            <p:cNvPr id="851" name=""/>
            <p:cNvGrpSpPr/>
            <p:nvPr/>
          </p:nvGrpSpPr>
          <p:grpSpPr>
            <a:xfrm>
              <a:off x="2215080" y="4295880"/>
              <a:ext cx="1047240" cy="578160"/>
              <a:chOff x="2215080" y="4295880"/>
              <a:chExt cx="1047240" cy="578160"/>
            </a:xfrm>
          </p:grpSpPr>
          <p:sp>
            <p:nvSpPr>
              <p:cNvPr id="852" name=""/>
              <p:cNvSpPr/>
              <p:nvPr/>
            </p:nvSpPr>
            <p:spPr>
              <a:xfrm>
                <a:off x="2504880" y="4502880"/>
                <a:ext cx="757440" cy="1094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570040" y="4510080"/>
                <a:ext cx="225360" cy="1285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786760" y="4646160"/>
                <a:ext cx="358560" cy="227880"/>
              </a:xfrm>
              <a:prstGeom prst="line">
                <a:avLst/>
              </a:prstGeom>
              <a:ln w="38160">
                <a:solidFill>
                  <a:srgbClr val="ff07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2383560" y="4503240"/>
                <a:ext cx="142560" cy="2469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2215080" y="4504680"/>
                <a:ext cx="290880" cy="792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0700000">
                <a:off x="2473200" y="445752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748240" y="4295880"/>
                <a:ext cx="30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9" name=""/>
            <p:cNvSpPr/>
            <p:nvPr/>
          </p:nvSpPr>
          <p:spPr>
            <a:xfrm>
              <a:off x="2663640" y="460044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 flipH="1" flipV="1">
            <a:off x="3616200" y="3111480"/>
            <a:ext cx="273600" cy="25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20700000">
            <a:off x="3852720" y="307008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62520" y="3124080"/>
            <a:ext cx="53316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rot="20700000">
            <a:off x="3889440" y="332892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998880" y="3382920"/>
            <a:ext cx="19224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3627000" y="3390840"/>
            <a:ext cx="273600" cy="25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191120" y="337824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rot="20700000">
            <a:off x="3914640" y="354492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24440" y="3598920"/>
            <a:ext cx="191880" cy="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 flipV="1">
            <a:off x="3639960" y="3606840"/>
            <a:ext cx="273600" cy="252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191120" y="3594240"/>
            <a:ext cx="3301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rot="20700000">
            <a:off x="3889440" y="378612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98880" y="3840120"/>
            <a:ext cx="533520" cy="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 flipV="1">
            <a:off x="3627000" y="3835440"/>
            <a:ext cx="273600" cy="252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23080" y="288288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162320" y="31114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 flipV="1">
            <a:off x="3616200" y="4102200"/>
            <a:ext cx="273600" cy="25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rot="20700000">
            <a:off x="3852720" y="40608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962520" y="4114800"/>
            <a:ext cx="53316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rot="20700000">
            <a:off x="3900600" y="425592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010040" y="4309920"/>
            <a:ext cx="19224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 flipV="1">
            <a:off x="3638160" y="4317840"/>
            <a:ext cx="273600" cy="25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191120" y="4317840"/>
            <a:ext cx="315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rot="20700000">
            <a:off x="3925800" y="466236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035600" y="4716360"/>
            <a:ext cx="191880" cy="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 flipV="1">
            <a:off x="3651120" y="4724280"/>
            <a:ext cx="273600" cy="252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191120" y="4724280"/>
            <a:ext cx="341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rot="20700000">
            <a:off x="3900600" y="4446720"/>
            <a:ext cx="1000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010040" y="4500720"/>
            <a:ext cx="533520" cy="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3638160" y="4495680"/>
            <a:ext cx="273600" cy="252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119840" y="387360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173480" y="4025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199040" y="42544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83200" y="447048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429000" y="39495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454560" y="4915080"/>
            <a:ext cx="20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3639960" y="5248800"/>
            <a:ext cx="273600" cy="2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rot="20700000">
            <a:off x="3876840" y="5206680"/>
            <a:ext cx="997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86280" y="5261040"/>
            <a:ext cx="53316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rot="20700000">
            <a:off x="3900600" y="500544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010040" y="5059440"/>
            <a:ext cx="19224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 flipV="1">
            <a:off x="3638160" y="5067360"/>
            <a:ext cx="273600" cy="25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191120" y="5054760"/>
            <a:ext cx="315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20700000">
            <a:off x="3925800" y="55008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035600" y="5554800"/>
            <a:ext cx="191880" cy="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 flipV="1">
            <a:off x="3651120" y="5562720"/>
            <a:ext cx="273600" cy="252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91120" y="5549760"/>
            <a:ext cx="341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rot="20700000">
            <a:off x="3914640" y="5694480"/>
            <a:ext cx="1000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24440" y="5748480"/>
            <a:ext cx="533160" cy="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 flipV="1">
            <a:off x="3652560" y="5743440"/>
            <a:ext cx="273600" cy="252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146840" y="501984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160880" y="4800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200480" y="54770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183200" y="528336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441600" y="5880240"/>
            <a:ext cx="20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186440" y="334008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162320" y="3581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3576240" y="1155600"/>
            <a:ext cx="273600" cy="25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rot="20700000">
            <a:off x="3813120" y="1114560"/>
            <a:ext cx="1000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922560" y="1155600"/>
            <a:ext cx="5335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rot="20700000">
            <a:off x="3849840" y="1334880"/>
            <a:ext cx="9972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59280" y="1389240"/>
            <a:ext cx="1918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 flipV="1">
            <a:off x="3587400" y="1397520"/>
            <a:ext cx="273600" cy="2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165560" y="1384200"/>
            <a:ext cx="265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rot="20700000">
            <a:off x="3875040" y="154764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84480" y="1601640"/>
            <a:ext cx="206640" cy="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 flipV="1">
            <a:off x="3600000" y="1609560"/>
            <a:ext cx="273600" cy="252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191120" y="1596960"/>
            <a:ext cx="2682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rot="20700000">
            <a:off x="3849840" y="1792080"/>
            <a:ext cx="9972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59280" y="1846440"/>
            <a:ext cx="533520" cy="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587400" y="1841400"/>
            <a:ext cx="273600" cy="252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3960" y="13334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902400" y="113040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970440" y="1587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16800" y="90180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3576240" y="2568600"/>
            <a:ext cx="273600" cy="25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rot="20700000">
            <a:off x="3813120" y="25272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922560" y="2581200"/>
            <a:ext cx="5335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rot="20700000">
            <a:off x="3849840" y="2747520"/>
            <a:ext cx="997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59280" y="2801880"/>
            <a:ext cx="1918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 flipV="1">
            <a:off x="3587400" y="2809800"/>
            <a:ext cx="273600" cy="25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165560" y="2809800"/>
            <a:ext cx="265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rot="20700000">
            <a:off x="3862440" y="209376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971880" y="2147760"/>
            <a:ext cx="206280" cy="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3587400" y="2155680"/>
            <a:ext cx="273600" cy="252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178160" y="2143080"/>
            <a:ext cx="26856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46680" y="2354400"/>
            <a:ext cx="533160" cy="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 flipV="1">
            <a:off x="3574800" y="2349360"/>
            <a:ext cx="273600" cy="252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959280" y="18921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919680" y="254304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916800" y="231444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20700000">
            <a:off x="3835440" y="228744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959280" y="21016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3652560" y="6289560"/>
            <a:ext cx="273600" cy="25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20700000">
            <a:off x="3889440" y="623556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98880" y="6289560"/>
            <a:ext cx="5335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rot="20700000">
            <a:off x="3900600" y="598644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010040" y="6040440"/>
            <a:ext cx="19224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3638160" y="6048360"/>
            <a:ext cx="273600" cy="25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191120" y="6048360"/>
            <a:ext cx="315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20700000">
            <a:off x="3925800" y="665964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035600" y="6713640"/>
            <a:ext cx="191880" cy="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 flipV="1">
            <a:off x="3651120" y="6721560"/>
            <a:ext cx="273600" cy="252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91120" y="6721560"/>
            <a:ext cx="341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rot="20700000">
            <a:off x="3900600" y="6418440"/>
            <a:ext cx="1000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010040" y="6472080"/>
            <a:ext cx="533520" cy="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 flipV="1">
            <a:off x="3638160" y="6467400"/>
            <a:ext cx="273600" cy="2520"/>
          </a:xfrm>
          <a:prstGeom prst="line">
            <a:avLst/>
          </a:prstGeom>
          <a:ln w="38160">
            <a:solidFill>
              <a:srgbClr val="ff07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59440" y="604836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60880" y="578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86080" y="62006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83200" y="6442200"/>
            <a:ext cx="30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905120" y="609480"/>
            <a:ext cx="0" cy="615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429000" y="609480"/>
            <a:ext cx="0" cy="615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724280" y="609480"/>
            <a:ext cx="0" cy="615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54760" y="1028880"/>
            <a:ext cx="203040" cy="914400"/>
          </a:xfrm>
          <a:prstGeom prst="flowChartTerminator">
            <a:avLst/>
          </a:prstGeom>
          <a:gradFill rotWithShape="0">
            <a:gsLst>
              <a:gs pos="0">
                <a:srgbClr val="629709"/>
              </a:gs>
              <a:gs pos="100000">
                <a:srgbClr val="90b5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5091120" y="1036800"/>
            <a:ext cx="154080" cy="779040"/>
            <a:chOff x="5091120" y="1036800"/>
            <a:chExt cx="154080" cy="779040"/>
          </a:xfrm>
        </p:grpSpPr>
        <p:sp>
          <p:nvSpPr>
            <p:cNvPr id="976" name=""/>
            <p:cNvSpPr/>
            <p:nvPr/>
          </p:nvSpPr>
          <p:spPr>
            <a:xfrm>
              <a:off x="5091120" y="1036800"/>
              <a:ext cx="154080" cy="153720"/>
            </a:xfrm>
            <a:custGeom>
              <a:avLst/>
              <a:gdLst>
                <a:gd name="textAreaLeft" fmla="*/ 34920 w 154080"/>
                <a:gd name="textAreaRight" fmla="*/ 119160 w 154080"/>
                <a:gd name="textAreaTop" fmla="*/ 34920 h 153720"/>
                <a:gd name="textAreaBottom" fmla="*/ 11880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91120" y="1243080"/>
              <a:ext cx="154080" cy="153720"/>
            </a:xfrm>
            <a:custGeom>
              <a:avLst/>
              <a:gdLst>
                <a:gd name="textAreaLeft" fmla="*/ 34920 w 154080"/>
                <a:gd name="textAreaRight" fmla="*/ 119160 w 154080"/>
                <a:gd name="textAreaTop" fmla="*/ 34920 h 153720"/>
                <a:gd name="textAreaBottom" fmla="*/ 11880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091120" y="1455840"/>
              <a:ext cx="154080" cy="153720"/>
            </a:xfrm>
            <a:custGeom>
              <a:avLst/>
              <a:gdLst>
                <a:gd name="textAreaLeft" fmla="*/ 34920 w 154080"/>
                <a:gd name="textAreaRight" fmla="*/ 119160 w 154080"/>
                <a:gd name="textAreaTop" fmla="*/ 34920 h 153720"/>
                <a:gd name="textAreaBottom" fmla="*/ 11880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71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91120" y="1662120"/>
              <a:ext cx="154080" cy="153720"/>
            </a:xfrm>
            <a:custGeom>
              <a:avLst/>
              <a:gdLst>
                <a:gd name="textAreaLeft" fmla="*/ 34920 w 154080"/>
                <a:gd name="textAreaRight" fmla="*/ 119160 w 154080"/>
                <a:gd name="textAreaTop" fmla="*/ 34920 h 153720"/>
                <a:gd name="textAreaBottom" fmla="*/ 11880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71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5067360" y="2019240"/>
            <a:ext cx="203040" cy="914400"/>
          </a:xfrm>
          <a:prstGeom prst="flowChartTerminator">
            <a:avLst/>
          </a:prstGeom>
          <a:gradFill rotWithShape="0">
            <a:gsLst>
              <a:gs pos="0">
                <a:srgbClr val="629709"/>
              </a:gs>
              <a:gs pos="100000">
                <a:srgbClr val="90b5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092560" y="2016000"/>
            <a:ext cx="154080" cy="15408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4080"/>
              <a:gd name="textAreaBottom" fmla="*/ 11916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92560" y="2222640"/>
            <a:ext cx="154080" cy="15372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3720"/>
              <a:gd name="textAreaBottom" fmla="*/ 118800 h 15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54760" y="3022560"/>
            <a:ext cx="203040" cy="914400"/>
          </a:xfrm>
          <a:prstGeom prst="flowChartTerminator">
            <a:avLst/>
          </a:prstGeom>
          <a:gradFill rotWithShape="0">
            <a:gsLst>
              <a:gs pos="0">
                <a:srgbClr val="629709"/>
              </a:gs>
              <a:gs pos="100000">
                <a:srgbClr val="90b5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079960" y="3022560"/>
            <a:ext cx="154080" cy="15408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4080"/>
              <a:gd name="textAreaBottom" fmla="*/ 11916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079960" y="3236760"/>
            <a:ext cx="154080" cy="15408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4080"/>
              <a:gd name="textAreaBottom" fmla="*/ 11916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092560" y="2451240"/>
            <a:ext cx="154080" cy="15372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3720"/>
              <a:gd name="textAreaBottom" fmla="*/ 118800 h 15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092560" y="2666880"/>
            <a:ext cx="154080" cy="15408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4080"/>
              <a:gd name="textAreaBottom" fmla="*/ 11916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079960" y="3454560"/>
            <a:ext cx="154080" cy="15372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3720"/>
              <a:gd name="textAreaBottom" fmla="*/ 118800 h 15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079960" y="3670200"/>
            <a:ext cx="154080" cy="15408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4080"/>
              <a:gd name="textAreaBottom" fmla="*/ 11916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054760" y="3975120"/>
            <a:ext cx="203040" cy="914400"/>
          </a:xfrm>
          <a:prstGeom prst="flowChartTerminator">
            <a:avLst/>
          </a:prstGeom>
          <a:gradFill rotWithShape="0">
            <a:gsLst>
              <a:gs pos="0">
                <a:srgbClr val="629709"/>
              </a:gs>
              <a:gs pos="100000">
                <a:srgbClr val="90b5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79960" y="3987720"/>
            <a:ext cx="154080" cy="15408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4080"/>
              <a:gd name="textAreaBottom" fmla="*/ 11916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078520" y="4202280"/>
            <a:ext cx="153720" cy="153720"/>
          </a:xfrm>
          <a:custGeom>
            <a:avLst/>
            <a:gdLst>
              <a:gd name="textAreaLeft" fmla="*/ 34920 w 153720"/>
              <a:gd name="textAreaRight" fmla="*/ 118800 w 153720"/>
              <a:gd name="textAreaTop" fmla="*/ 34920 h 153720"/>
              <a:gd name="textAreaBottom" fmla="*/ 118800 h 15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079960" y="4379760"/>
            <a:ext cx="154080" cy="15408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4080"/>
              <a:gd name="textAreaBottom" fmla="*/ 11916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079960" y="4584600"/>
            <a:ext cx="154080" cy="15408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4080"/>
              <a:gd name="textAreaBottom" fmla="*/ 11916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054760" y="5905440"/>
            <a:ext cx="203040" cy="914400"/>
          </a:xfrm>
          <a:prstGeom prst="flowChartTerminator">
            <a:avLst/>
          </a:prstGeom>
          <a:gradFill rotWithShape="0">
            <a:gsLst>
              <a:gs pos="0">
                <a:srgbClr val="629709"/>
              </a:gs>
              <a:gs pos="100000">
                <a:srgbClr val="90b5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091120" y="5915160"/>
            <a:ext cx="154080" cy="15372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3720"/>
              <a:gd name="textAreaBottom" fmla="*/ 118800 h 15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092560" y="6119640"/>
            <a:ext cx="154080" cy="15408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4080"/>
              <a:gd name="textAreaBottom" fmla="*/ 11916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078520" y="6348240"/>
            <a:ext cx="153720" cy="154080"/>
          </a:xfrm>
          <a:custGeom>
            <a:avLst/>
            <a:gdLst>
              <a:gd name="textAreaLeft" fmla="*/ 34920 w 153720"/>
              <a:gd name="textAreaRight" fmla="*/ 118800 w 153720"/>
              <a:gd name="textAreaTop" fmla="*/ 34920 h 154080"/>
              <a:gd name="textAreaBottom" fmla="*/ 11916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079960" y="6551640"/>
            <a:ext cx="154080" cy="15408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4080"/>
              <a:gd name="textAreaBottom" fmla="*/ 11916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041800" y="4940280"/>
            <a:ext cx="203400" cy="914400"/>
          </a:xfrm>
          <a:prstGeom prst="flowChartTerminator">
            <a:avLst/>
          </a:prstGeom>
          <a:gradFill rotWithShape="0">
            <a:gsLst>
              <a:gs pos="0">
                <a:srgbClr val="629709"/>
              </a:gs>
              <a:gs pos="100000">
                <a:srgbClr val="90b5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078520" y="4964040"/>
            <a:ext cx="153720" cy="154080"/>
          </a:xfrm>
          <a:custGeom>
            <a:avLst/>
            <a:gdLst>
              <a:gd name="textAreaLeft" fmla="*/ 34920 w 153720"/>
              <a:gd name="textAreaRight" fmla="*/ 118800 w 153720"/>
              <a:gd name="textAreaTop" fmla="*/ 34920 h 154080"/>
              <a:gd name="textAreaBottom" fmla="*/ 11916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079960" y="5168880"/>
            <a:ext cx="154080" cy="15408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4080"/>
              <a:gd name="textAreaBottom" fmla="*/ 11916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079960" y="5384880"/>
            <a:ext cx="154080" cy="15408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4080"/>
              <a:gd name="textAreaBottom" fmla="*/ 11916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079960" y="5587920"/>
            <a:ext cx="154080" cy="154080"/>
          </a:xfrm>
          <a:custGeom>
            <a:avLst/>
            <a:gdLst>
              <a:gd name="textAreaLeft" fmla="*/ 34920 w 154080"/>
              <a:gd name="textAreaRight" fmla="*/ 119160 w 154080"/>
              <a:gd name="textAreaTop" fmla="*/ 34920 h 154080"/>
              <a:gd name="textAreaBottom" fmla="*/ 11916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7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524560" y="609480"/>
            <a:ext cx="0" cy="615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rot="16200000">
            <a:off x="4911120" y="179424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e-riduz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19920" y="60948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rot="16200000">
            <a:off x="4899240" y="4689000"/>
            <a:ext cx="163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ost-riduz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rot="16200000">
            <a:off x="5151960" y="1699920"/>
            <a:ext cx="21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rientamento d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ivalenti in metafse 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rot="16200000">
            <a:off x="4911480" y="4524120"/>
            <a:ext cx="279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rientamento degli unival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 metafse  I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591240" y="990720"/>
            <a:ext cx="0" cy="580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33520" y="99072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42240" y="68580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plotene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etaf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206440" y="65880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afase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462840" y="66024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afas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695480" y="650880"/>
            <a:ext cx="9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etr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rdin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475600" y="59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964840" y="60948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at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invol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a1e"/>
                </a:solidFill>
                <a:latin typeface="Comic Sans MS"/>
              </a:rPr>
              <a:t>Situazioni che alterano la distribuzione dei chias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438280"/>
            <a:ext cx="8915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Regioni eterocromat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Un precedente evento porta alla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terferen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Costituzione genetica, esempio il maschio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Aberrazioni cromosom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E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5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9250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a1e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a1e"/>
                </a:solidFill>
                <a:latin typeface="Comic Sans MS"/>
              </a:rPr>
              <a:t>Possono esserci errori nella costruzione di una mappa genetica e quindi questa potrebbe non corrispondere alla reale situazion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5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1676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a1e"/>
                </a:solidFill>
                <a:latin typeface="Comic Sans MS"/>
              </a:rPr>
              <a:t>geni mendeliani e cromoso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34120" y="3376440"/>
            <a:ext cx="561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QUALE RELAZI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6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21b"/>
                </a:solidFill>
                <a:latin typeface="Comic Sans MS"/>
              </a:rPr>
              <a:t>Ciclo vitale della </a:t>
            </a:r>
            <a:r>
              <a:rPr b="1" i="1" lang="en-US" sz="2000" spc="-1" strike="noStrike">
                <a:solidFill>
                  <a:srgbClr val="ff021b"/>
                </a:solidFill>
                <a:latin typeface="Comic Sans MS"/>
              </a:rPr>
              <a:t>Drosophila melanogaster, </a:t>
            </a:r>
            <a:r>
              <a:rPr b="1" lang="en-US" sz="2000" spc="-1" strike="noStrike">
                <a:solidFill>
                  <a:srgbClr val="ff021b"/>
                </a:solidFill>
                <a:latin typeface="Comic Sans MS"/>
              </a:rPr>
              <a:t>organismo modello nell’indagine gene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0624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371600" y="3048120"/>
            <a:ext cx="990720" cy="82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930240" cy="1149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962520" y="2590920"/>
            <a:ext cx="1361880" cy="1682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6629400" y="1828800"/>
            <a:ext cx="990720" cy="1992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08200" y="180036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o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2880" y="182880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adio larv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st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981080" y="2514600"/>
            <a:ext cx="6098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82880" y="2572560"/>
            <a:ext cx="222120" cy="1317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18840" y="2568600"/>
            <a:ext cx="682200" cy="3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742600">
            <a:off x="457200" y="3276720"/>
            <a:ext cx="1371600" cy="304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742600">
            <a:off x="1752480" y="4190760"/>
            <a:ext cx="1371600" cy="30492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986000">
            <a:off x="3614400" y="4486320"/>
            <a:ext cx="1600200" cy="38088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 rot="19986600">
            <a:off x="4936680" y="2513520"/>
            <a:ext cx="1692360" cy="353880"/>
          </a:xfrm>
          <a:custGeom>
            <a:avLst/>
            <a:gdLst>
              <a:gd name="textAreaLeft" fmla="*/ 295920 w 1692360"/>
              <a:gd name="textAreaRight" fmla="*/ 1226880 w 1692360"/>
              <a:gd name="textAreaTop" fmla="*/ 47160 h 353880"/>
              <a:gd name="textAreaBottom" fmla="*/ 306720 h 35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3160" y="35053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gi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3520" y="43434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gi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39520" y="43434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gi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37600" y="1981080"/>
            <a:ext cx="15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3giorn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11040" y="198108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635600" y="2480040"/>
            <a:ext cx="1450440" cy="2495880"/>
            <a:chOff x="7635600" y="2480040"/>
            <a:chExt cx="1450440" cy="2495880"/>
          </a:xfrm>
        </p:grpSpPr>
        <p:sp>
          <p:nvSpPr>
            <p:cNvPr id="93" name=""/>
            <p:cNvSpPr/>
            <p:nvPr/>
          </p:nvSpPr>
          <p:spPr>
            <a:xfrm flipV="1" rot="3902400">
              <a:off x="7058520" y="3541680"/>
              <a:ext cx="2579760" cy="371880"/>
            </a:xfrm>
            <a:custGeom>
              <a:avLst/>
              <a:gdLst>
                <a:gd name="textAreaLeft" fmla="*/ 451440 w 2579760"/>
                <a:gd name="textAreaRight" fmla="*/ 1870560 w 2579760"/>
                <a:gd name="textAreaTop" fmla="*/ 49680 h 371880"/>
                <a:gd name="textAreaBottom" fmla="*/ 322200 h 37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47200" y="3276720"/>
              <a:ext cx="13388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/2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4 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iorn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251600" y="586728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u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-59760" y="15840"/>
            <a:ext cx="8898840" cy="6820200"/>
            <a:chOff x="-59760" y="15840"/>
            <a:chExt cx="8898840" cy="6820200"/>
          </a:xfrm>
        </p:grpSpPr>
        <p:pic>
          <p:nvPicPr>
            <p:cNvPr id="97" name="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6500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580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373356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597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5638680" y="4737240"/>
            <a:ext cx="30862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a1e"/>
                </a:solidFill>
                <a:latin typeface="Comic Sans MS"/>
              </a:rPr>
              <a:t>Relazione tra cromosomi mitotici e politeni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0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6934320" cy="3801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3880" y="60958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586728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4680" y="5618160"/>
            <a:ext cx="7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4600" y="6067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7240" y="5486400"/>
            <a:ext cx="7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46800" y="59356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a1e"/>
                </a:solidFill>
                <a:latin typeface="Comic Sans MS"/>
              </a:rPr>
              <a:t>Corrispondenza tra mappa citologica e genetica per l’estremità del cromosoma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1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5072040"/>
            <a:ext cx="9005760" cy="1100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35053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8580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066680" y="3504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00200" y="3504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133720" y="3504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33520" y="3504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00400" y="3504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733920" y="3504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267080" y="3504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666880" y="3504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800600" y="3504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867280" y="3504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3504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934320" y="3504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334120" y="3504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467480" y="3504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001000" y="3504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34520" y="3504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69800" y="35053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429000" y="3504960"/>
            <a:ext cx="15228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40080" y="5029200"/>
            <a:ext cx="763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505320" y="3504960"/>
            <a:ext cx="15228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635360" y="3505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826160" y="3505320"/>
            <a:ext cx="126720" cy="1752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915080" y="3504960"/>
            <a:ext cx="114120" cy="180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816520" y="3505320"/>
            <a:ext cx="83844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943600" y="3505320"/>
            <a:ext cx="83808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045120" y="3505320"/>
            <a:ext cx="83844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8547120" y="3505320"/>
            <a:ext cx="3816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292960" y="3733920"/>
            <a:ext cx="2923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077320" y="3504960"/>
            <a:ext cx="3045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924680" y="3504960"/>
            <a:ext cx="38124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772400" y="3504960"/>
            <a:ext cx="45720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391520" y="3504960"/>
            <a:ext cx="533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20120" y="3504960"/>
            <a:ext cx="45720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315200" y="3504960"/>
            <a:ext cx="53352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20560" y="35971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29840" y="35845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90600" y="35812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160" y="303516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88620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5264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63000" y="3048120"/>
            <a:ext cx="395640" cy="457200"/>
            <a:chOff x="4563000" y="3048120"/>
            <a:chExt cx="395640" cy="457200"/>
          </a:xfrm>
        </p:grpSpPr>
        <p:sp>
          <p:nvSpPr>
            <p:cNvPr id="168" name=""/>
            <p:cNvSpPr/>
            <p:nvPr/>
          </p:nvSpPr>
          <p:spPr>
            <a:xfrm flipV="1">
              <a:off x="4698720" y="3352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63000" y="3048120"/>
              <a:ext cx="3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791240" y="3048120"/>
            <a:ext cx="485280" cy="457200"/>
            <a:chOff x="4791240" y="3048120"/>
            <a:chExt cx="485280" cy="457200"/>
          </a:xfrm>
        </p:grpSpPr>
        <p:sp>
          <p:nvSpPr>
            <p:cNvPr id="171" name=""/>
            <p:cNvSpPr/>
            <p:nvPr/>
          </p:nvSpPr>
          <p:spPr>
            <a:xfrm flipV="1">
              <a:off x="4902120" y="3352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91240" y="3048120"/>
              <a:ext cx="48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MI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flipV="1">
            <a:off x="668340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07200" y="2895480"/>
            <a:ext cx="44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79752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48120" y="266688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51560" y="313704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794640" y="2971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008840" y="3048120"/>
            <a:ext cx="514440" cy="457200"/>
            <a:chOff x="7008840" y="3048120"/>
            <a:chExt cx="514440" cy="457200"/>
          </a:xfrm>
        </p:grpSpPr>
        <p:sp>
          <p:nvSpPr>
            <p:cNvPr id="180" name=""/>
            <p:cNvSpPr/>
            <p:nvPr/>
          </p:nvSpPr>
          <p:spPr>
            <a:xfrm flipV="1">
              <a:off x="7149960" y="3352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08840" y="304812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b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V="1">
            <a:off x="762012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69608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73424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84872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91208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12808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22960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53452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7314840" y="2819160"/>
            <a:ext cx="30492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7619760" y="3048120"/>
            <a:ext cx="7596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619760" y="2831760"/>
            <a:ext cx="114120" cy="50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848720" y="3048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924680" y="26665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98840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001000" y="3048120"/>
            <a:ext cx="7632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128080" y="25909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229600" y="3048120"/>
            <a:ext cx="7632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8547120" y="2895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59600" y="2502000"/>
            <a:ext cx="40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71720" y="280656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77120" y="255600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19760" y="28065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06800" y="24033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921800" y="232740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51120" y="2784600"/>
            <a:ext cx="4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4040" y="259092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a1e"/>
                </a:solidFill>
                <a:latin typeface="Comic Sans MS"/>
              </a:rPr>
              <a:t>Ciclo vitale della </a:t>
            </a:r>
            <a:r>
              <a:rPr b="1" i="1" lang="en-US" sz="4400" spc="-1" strike="noStrike">
                <a:solidFill>
                  <a:srgbClr val="ff0a1e"/>
                </a:solidFill>
                <a:latin typeface="Comic Sans MS"/>
              </a:rPr>
              <a:t>Neurosp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8600" y="1492200"/>
            <a:ext cx="3556080" cy="2133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05520" y="1568520"/>
            <a:ext cx="3429000" cy="2209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743200" y="255888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101680"/>
            <a:ext cx="7596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888840" y="3740040"/>
            <a:ext cx="257832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572000" y="3930480"/>
            <a:ext cx="2260440" cy="1244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819520" y="2787480"/>
            <a:ext cx="7596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2254320"/>
            <a:ext cx="7632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2635200"/>
            <a:ext cx="7596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78748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301608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194940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255888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2940120"/>
            <a:ext cx="7596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9240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2635200"/>
            <a:ext cx="7596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3168720"/>
            <a:ext cx="7596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98800" y="3397320"/>
            <a:ext cx="7632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354960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3549600"/>
            <a:ext cx="7632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2940120"/>
            <a:ext cx="76320" cy="7596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321000"/>
            <a:ext cx="7632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930480"/>
            <a:ext cx="7632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3778200"/>
            <a:ext cx="7632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2711520"/>
            <a:ext cx="76320" cy="7596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3549600"/>
            <a:ext cx="7632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1480" y="2330280"/>
            <a:ext cx="7632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2711520"/>
            <a:ext cx="75960" cy="7596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95680" y="2863800"/>
            <a:ext cx="7632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48320" y="3016080"/>
            <a:ext cx="7596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3321000"/>
            <a:ext cx="7596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2940120"/>
            <a:ext cx="76320" cy="7596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3092400"/>
            <a:ext cx="7596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244680"/>
            <a:ext cx="7632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3549600"/>
            <a:ext cx="7632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3397320"/>
            <a:ext cx="7596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625920"/>
            <a:ext cx="7632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354960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701880"/>
            <a:ext cx="7596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377820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4006800"/>
            <a:ext cx="7596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415908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4159080"/>
            <a:ext cx="7632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3625920"/>
            <a:ext cx="76320" cy="7596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3778200"/>
            <a:ext cx="7596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3473280"/>
            <a:ext cx="7632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3854520"/>
            <a:ext cx="75960" cy="7596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63760" y="4159080"/>
            <a:ext cx="7632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3079800" y="5448240"/>
            <a:ext cx="1536480" cy="11048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356000" y="537840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553068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5530680"/>
            <a:ext cx="7632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5759280"/>
            <a:ext cx="7632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4997520"/>
            <a:ext cx="75960" cy="7596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5683320"/>
            <a:ext cx="7596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560700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5683320"/>
            <a:ext cx="76320" cy="7596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9720" y="5454720"/>
            <a:ext cx="75960" cy="7596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5226120"/>
            <a:ext cx="76320" cy="7596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5378400"/>
            <a:ext cx="76320" cy="7632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5378400"/>
            <a:ext cx="7596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37840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5911920"/>
            <a:ext cx="550800" cy="554040"/>
          </a:xfrm>
          <a:custGeom>
            <a:avLst/>
            <a:gdLst/>
            <a:ahLst/>
            <a:rect l="l" t="t" r="r" b="b"/>
            <a:pathLst>
              <a:path w="347" h="349">
                <a:moveTo>
                  <a:pt x="312" y="40"/>
                </a:moveTo>
                <a:cubicBezTo>
                  <a:pt x="301" y="37"/>
                  <a:pt x="290" y="28"/>
                  <a:pt x="280" y="32"/>
                </a:cubicBezTo>
                <a:cubicBezTo>
                  <a:pt x="270" y="35"/>
                  <a:pt x="271" y="49"/>
                  <a:pt x="264" y="56"/>
                </a:cubicBezTo>
                <a:cubicBezTo>
                  <a:pt x="247" y="69"/>
                  <a:pt x="225" y="76"/>
                  <a:pt x="208" y="88"/>
                </a:cubicBezTo>
                <a:cubicBezTo>
                  <a:pt x="188" y="117"/>
                  <a:pt x="164" y="132"/>
                  <a:pt x="136" y="152"/>
                </a:cubicBezTo>
                <a:cubicBezTo>
                  <a:pt x="106" y="195"/>
                  <a:pt x="103" y="208"/>
                  <a:pt x="56" y="224"/>
                </a:cubicBezTo>
                <a:cubicBezTo>
                  <a:pt x="40" y="239"/>
                  <a:pt x="24" y="251"/>
                  <a:pt x="16" y="272"/>
                </a:cubicBezTo>
                <a:cubicBezTo>
                  <a:pt x="9" y="287"/>
                  <a:pt x="0" y="320"/>
                  <a:pt x="0" y="320"/>
                </a:cubicBezTo>
                <a:cubicBezTo>
                  <a:pt x="5" y="328"/>
                  <a:pt x="6" y="342"/>
                  <a:pt x="16" y="344"/>
                </a:cubicBezTo>
                <a:cubicBezTo>
                  <a:pt x="41" y="349"/>
                  <a:pt x="61" y="269"/>
                  <a:pt x="72" y="256"/>
                </a:cubicBezTo>
                <a:cubicBezTo>
                  <a:pt x="83" y="241"/>
                  <a:pt x="104" y="237"/>
                  <a:pt x="120" y="232"/>
                </a:cubicBezTo>
                <a:cubicBezTo>
                  <a:pt x="128" y="224"/>
                  <a:pt x="134" y="213"/>
                  <a:pt x="144" y="208"/>
                </a:cubicBezTo>
                <a:cubicBezTo>
                  <a:pt x="158" y="199"/>
                  <a:pt x="192" y="192"/>
                  <a:pt x="192" y="192"/>
                </a:cubicBezTo>
                <a:cubicBezTo>
                  <a:pt x="213" y="126"/>
                  <a:pt x="183" y="139"/>
                  <a:pt x="264" y="128"/>
                </a:cubicBezTo>
                <a:cubicBezTo>
                  <a:pt x="318" y="109"/>
                  <a:pt x="271" y="77"/>
                  <a:pt x="336" y="56"/>
                </a:cubicBezTo>
                <a:cubicBezTo>
                  <a:pt x="347" y="22"/>
                  <a:pt x="346" y="11"/>
                  <a:pt x="312" y="0"/>
                </a:cubicBezTo>
                <a:cubicBezTo>
                  <a:pt x="304" y="5"/>
                  <a:pt x="294" y="9"/>
                  <a:pt x="288" y="16"/>
                </a:cubicBezTo>
                <a:cubicBezTo>
                  <a:pt x="281" y="22"/>
                  <a:pt x="279" y="33"/>
                  <a:pt x="272" y="40"/>
                </a:cubicBezTo>
                <a:cubicBezTo>
                  <a:pt x="265" y="45"/>
                  <a:pt x="255" y="44"/>
                  <a:pt x="248" y="48"/>
                </a:cubicBezTo>
                <a:cubicBezTo>
                  <a:pt x="244" y="49"/>
                  <a:pt x="242" y="53"/>
                  <a:pt x="240" y="56"/>
                </a:cubicBezTo>
                <a:lnTo>
                  <a:pt x="184" y="104"/>
                </a:lnTo>
              </a:path>
            </a:pathLst>
          </a:custGeom>
          <a:solidFill>
            <a:srgbClr val="ff0a1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77120" y="6140520"/>
            <a:ext cx="75960" cy="7596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447920" y="5226120"/>
            <a:ext cx="566640" cy="431640"/>
            <a:chOff x="1447920" y="5226120"/>
            <a:chExt cx="566640" cy="431640"/>
          </a:xfrm>
        </p:grpSpPr>
        <p:sp>
          <p:nvSpPr>
            <p:cNvPr id="274" name=""/>
            <p:cNvSpPr/>
            <p:nvPr/>
          </p:nvSpPr>
          <p:spPr>
            <a:xfrm>
              <a:off x="1447920" y="5226120"/>
              <a:ext cx="566640" cy="431640"/>
            </a:xfrm>
            <a:custGeom>
              <a:avLst/>
              <a:gdLst/>
              <a:ahLst/>
              <a:rect l="l" t="t" r="r" b="b"/>
              <a:pathLst>
                <a:path w="357" h="272">
                  <a:moveTo>
                    <a:pt x="292" y="160"/>
                  </a:moveTo>
                  <a:cubicBezTo>
                    <a:pt x="276" y="149"/>
                    <a:pt x="254" y="144"/>
                    <a:pt x="244" y="128"/>
                  </a:cubicBezTo>
                  <a:cubicBezTo>
                    <a:pt x="206" y="72"/>
                    <a:pt x="228" y="90"/>
                    <a:pt x="188" y="64"/>
                  </a:cubicBezTo>
                  <a:cubicBezTo>
                    <a:pt x="175" y="25"/>
                    <a:pt x="143" y="11"/>
                    <a:pt x="108" y="0"/>
                  </a:cubicBezTo>
                  <a:cubicBezTo>
                    <a:pt x="100" y="2"/>
                    <a:pt x="87" y="0"/>
                    <a:pt x="84" y="8"/>
                  </a:cubicBezTo>
                  <a:cubicBezTo>
                    <a:pt x="72" y="30"/>
                    <a:pt x="116" y="58"/>
                    <a:pt x="132" y="64"/>
                  </a:cubicBezTo>
                  <a:cubicBezTo>
                    <a:pt x="154" y="98"/>
                    <a:pt x="182" y="110"/>
                    <a:pt x="196" y="152"/>
                  </a:cubicBezTo>
                  <a:cubicBezTo>
                    <a:pt x="180" y="157"/>
                    <a:pt x="164" y="173"/>
                    <a:pt x="148" y="168"/>
                  </a:cubicBezTo>
                  <a:cubicBezTo>
                    <a:pt x="132" y="162"/>
                    <a:pt x="114" y="161"/>
                    <a:pt x="100" y="152"/>
                  </a:cubicBezTo>
                  <a:cubicBezTo>
                    <a:pt x="92" y="146"/>
                    <a:pt x="84" y="139"/>
                    <a:pt x="76" y="136"/>
                  </a:cubicBezTo>
                  <a:cubicBezTo>
                    <a:pt x="60" y="129"/>
                    <a:pt x="28" y="120"/>
                    <a:pt x="28" y="120"/>
                  </a:cubicBezTo>
                  <a:cubicBezTo>
                    <a:pt x="13" y="141"/>
                    <a:pt x="0" y="187"/>
                    <a:pt x="44" y="192"/>
                  </a:cubicBezTo>
                  <a:cubicBezTo>
                    <a:pt x="113" y="199"/>
                    <a:pt x="182" y="197"/>
                    <a:pt x="252" y="200"/>
                  </a:cubicBezTo>
                  <a:cubicBezTo>
                    <a:pt x="267" y="205"/>
                    <a:pt x="288" y="209"/>
                    <a:pt x="300" y="224"/>
                  </a:cubicBezTo>
                  <a:cubicBezTo>
                    <a:pt x="305" y="230"/>
                    <a:pt x="302" y="241"/>
                    <a:pt x="308" y="248"/>
                  </a:cubicBezTo>
                  <a:cubicBezTo>
                    <a:pt x="319" y="262"/>
                    <a:pt x="340" y="266"/>
                    <a:pt x="356" y="272"/>
                  </a:cubicBezTo>
                  <a:cubicBezTo>
                    <a:pt x="353" y="256"/>
                    <a:pt x="357" y="237"/>
                    <a:pt x="348" y="224"/>
                  </a:cubicBezTo>
                  <a:cubicBezTo>
                    <a:pt x="336" y="208"/>
                    <a:pt x="300" y="192"/>
                    <a:pt x="300" y="192"/>
                  </a:cubicBezTo>
                  <a:cubicBezTo>
                    <a:pt x="281" y="164"/>
                    <a:pt x="277" y="174"/>
                    <a:pt x="292" y="160"/>
                  </a:cubicBezTo>
                  <a:close/>
                </a:path>
              </a:pathLst>
            </a:custGeom>
            <a:solidFill>
              <a:srgbClr val="07ff1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22680" y="5467320"/>
              <a:ext cx="75960" cy="763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638680" y="5257800"/>
            <a:ext cx="914400" cy="336600"/>
          </a:xfrm>
          <a:custGeom>
            <a:avLst/>
            <a:gdLst/>
            <a:ahLst/>
            <a:rect l="l" t="t" r="r" b="b"/>
            <a:pathLst>
              <a:path w="496" h="272">
                <a:moveTo>
                  <a:pt x="270" y="200"/>
                </a:moveTo>
                <a:cubicBezTo>
                  <a:pt x="254" y="205"/>
                  <a:pt x="238" y="210"/>
                  <a:pt x="222" y="216"/>
                </a:cubicBezTo>
                <a:cubicBezTo>
                  <a:pt x="214" y="218"/>
                  <a:pt x="198" y="224"/>
                  <a:pt x="198" y="224"/>
                </a:cubicBezTo>
                <a:cubicBezTo>
                  <a:pt x="190" y="222"/>
                  <a:pt x="151" y="213"/>
                  <a:pt x="142" y="208"/>
                </a:cubicBezTo>
                <a:cubicBezTo>
                  <a:pt x="125" y="198"/>
                  <a:pt x="94" y="176"/>
                  <a:pt x="94" y="176"/>
                </a:cubicBezTo>
                <a:cubicBezTo>
                  <a:pt x="68" y="180"/>
                  <a:pt x="0" y="189"/>
                  <a:pt x="54" y="232"/>
                </a:cubicBezTo>
                <a:cubicBezTo>
                  <a:pt x="73" y="247"/>
                  <a:pt x="136" y="256"/>
                  <a:pt x="158" y="264"/>
                </a:cubicBezTo>
                <a:cubicBezTo>
                  <a:pt x="166" y="266"/>
                  <a:pt x="182" y="272"/>
                  <a:pt x="182" y="272"/>
                </a:cubicBezTo>
                <a:cubicBezTo>
                  <a:pt x="219" y="269"/>
                  <a:pt x="256" y="268"/>
                  <a:pt x="294" y="264"/>
                </a:cubicBezTo>
                <a:cubicBezTo>
                  <a:pt x="302" y="263"/>
                  <a:pt x="312" y="261"/>
                  <a:pt x="318" y="256"/>
                </a:cubicBezTo>
                <a:cubicBezTo>
                  <a:pt x="349" y="224"/>
                  <a:pt x="343" y="188"/>
                  <a:pt x="382" y="176"/>
                </a:cubicBezTo>
                <a:cubicBezTo>
                  <a:pt x="395" y="136"/>
                  <a:pt x="417" y="108"/>
                  <a:pt x="446" y="80"/>
                </a:cubicBezTo>
                <a:cubicBezTo>
                  <a:pt x="459" y="40"/>
                  <a:pt x="496" y="19"/>
                  <a:pt x="438" y="0"/>
                </a:cubicBezTo>
                <a:cubicBezTo>
                  <a:pt x="430" y="2"/>
                  <a:pt x="418" y="0"/>
                  <a:pt x="414" y="8"/>
                </a:cubicBezTo>
                <a:cubicBezTo>
                  <a:pt x="403" y="26"/>
                  <a:pt x="394" y="111"/>
                  <a:pt x="382" y="120"/>
                </a:cubicBezTo>
                <a:cubicBezTo>
                  <a:pt x="350" y="140"/>
                  <a:pt x="367" y="132"/>
                  <a:pt x="334" y="144"/>
                </a:cubicBezTo>
                <a:cubicBezTo>
                  <a:pt x="326" y="107"/>
                  <a:pt x="322" y="79"/>
                  <a:pt x="302" y="48"/>
                </a:cubicBezTo>
                <a:cubicBezTo>
                  <a:pt x="286" y="50"/>
                  <a:pt x="268" y="48"/>
                  <a:pt x="254" y="56"/>
                </a:cubicBezTo>
                <a:cubicBezTo>
                  <a:pt x="242" y="61"/>
                  <a:pt x="226" y="93"/>
                  <a:pt x="246" y="104"/>
                </a:cubicBezTo>
                <a:cubicBezTo>
                  <a:pt x="260" y="112"/>
                  <a:pt x="278" y="109"/>
                  <a:pt x="294" y="112"/>
                </a:cubicBezTo>
                <a:cubicBezTo>
                  <a:pt x="317" y="146"/>
                  <a:pt x="333" y="184"/>
                  <a:pt x="286" y="208"/>
                </a:cubicBezTo>
                <a:cubicBezTo>
                  <a:pt x="278" y="211"/>
                  <a:pt x="269" y="219"/>
                  <a:pt x="262" y="216"/>
                </a:cubicBezTo>
                <a:cubicBezTo>
                  <a:pt x="256" y="213"/>
                  <a:pt x="267" y="205"/>
                  <a:pt x="270" y="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48520" y="5454720"/>
            <a:ext cx="75960" cy="75960"/>
          </a:xfrm>
          <a:prstGeom prst="ellipse">
            <a:avLst/>
          </a:prstGeom>
          <a:solidFill>
            <a:srgbClr val="ff0a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209680" y="5073480"/>
            <a:ext cx="517320" cy="834840"/>
            <a:chOff x="2209680" y="5073480"/>
            <a:chExt cx="517320" cy="834840"/>
          </a:xfrm>
        </p:grpSpPr>
        <p:sp>
          <p:nvSpPr>
            <p:cNvPr id="279" name=""/>
            <p:cNvSpPr/>
            <p:nvPr/>
          </p:nvSpPr>
          <p:spPr>
            <a:xfrm>
              <a:off x="2209680" y="5073480"/>
              <a:ext cx="517320" cy="834840"/>
            </a:xfrm>
            <a:custGeom>
              <a:avLst/>
              <a:gdLst/>
              <a:ahLst/>
              <a:rect l="l" t="t" r="r" b="b"/>
              <a:pathLst>
                <a:path w="326" h="526">
                  <a:moveTo>
                    <a:pt x="6" y="104"/>
                  </a:moveTo>
                  <a:cubicBezTo>
                    <a:pt x="54" y="164"/>
                    <a:pt x="106" y="257"/>
                    <a:pt x="142" y="328"/>
                  </a:cubicBezTo>
                  <a:cubicBezTo>
                    <a:pt x="157" y="358"/>
                    <a:pt x="154" y="404"/>
                    <a:pt x="174" y="432"/>
                  </a:cubicBezTo>
                  <a:cubicBezTo>
                    <a:pt x="241" y="526"/>
                    <a:pt x="177" y="407"/>
                    <a:pt x="222" y="496"/>
                  </a:cubicBezTo>
                  <a:cubicBezTo>
                    <a:pt x="254" y="430"/>
                    <a:pt x="211" y="397"/>
                    <a:pt x="166" y="352"/>
                  </a:cubicBezTo>
                  <a:cubicBezTo>
                    <a:pt x="160" y="335"/>
                    <a:pt x="144" y="296"/>
                    <a:pt x="166" y="304"/>
                  </a:cubicBezTo>
                  <a:cubicBezTo>
                    <a:pt x="177" y="307"/>
                    <a:pt x="173" y="327"/>
                    <a:pt x="182" y="336"/>
                  </a:cubicBezTo>
                  <a:cubicBezTo>
                    <a:pt x="201" y="355"/>
                    <a:pt x="296" y="363"/>
                    <a:pt x="326" y="368"/>
                  </a:cubicBezTo>
                  <a:cubicBezTo>
                    <a:pt x="315" y="362"/>
                    <a:pt x="302" y="360"/>
                    <a:pt x="294" y="352"/>
                  </a:cubicBezTo>
                  <a:cubicBezTo>
                    <a:pt x="280" y="338"/>
                    <a:pt x="280" y="310"/>
                    <a:pt x="262" y="304"/>
                  </a:cubicBezTo>
                  <a:cubicBezTo>
                    <a:pt x="228" y="292"/>
                    <a:pt x="245" y="300"/>
                    <a:pt x="214" y="280"/>
                  </a:cubicBezTo>
                  <a:cubicBezTo>
                    <a:pt x="192" y="282"/>
                    <a:pt x="169" y="296"/>
                    <a:pt x="150" y="288"/>
                  </a:cubicBezTo>
                  <a:cubicBezTo>
                    <a:pt x="110" y="271"/>
                    <a:pt x="113" y="196"/>
                    <a:pt x="94" y="168"/>
                  </a:cubicBezTo>
                  <a:cubicBezTo>
                    <a:pt x="88" y="160"/>
                    <a:pt x="82" y="152"/>
                    <a:pt x="78" y="144"/>
                  </a:cubicBezTo>
                  <a:cubicBezTo>
                    <a:pt x="74" y="136"/>
                    <a:pt x="74" y="127"/>
                    <a:pt x="70" y="120"/>
                  </a:cubicBezTo>
                  <a:cubicBezTo>
                    <a:pt x="60" y="103"/>
                    <a:pt x="38" y="72"/>
                    <a:pt x="38" y="72"/>
                  </a:cubicBezTo>
                  <a:cubicBezTo>
                    <a:pt x="78" y="45"/>
                    <a:pt x="125" y="42"/>
                    <a:pt x="166" y="16"/>
                  </a:cubicBezTo>
                  <a:cubicBezTo>
                    <a:pt x="148" y="104"/>
                    <a:pt x="156" y="26"/>
                    <a:pt x="134" y="8"/>
                  </a:cubicBezTo>
                  <a:cubicBezTo>
                    <a:pt x="125" y="1"/>
                    <a:pt x="112" y="2"/>
                    <a:pt x="102" y="0"/>
                  </a:cubicBezTo>
                  <a:cubicBezTo>
                    <a:pt x="44" y="9"/>
                    <a:pt x="45" y="1"/>
                    <a:pt x="22" y="48"/>
                  </a:cubicBezTo>
                  <a:cubicBezTo>
                    <a:pt x="0" y="91"/>
                    <a:pt x="6" y="50"/>
                    <a:pt x="6" y="104"/>
                  </a:cubicBezTo>
                  <a:close/>
                </a:path>
              </a:pathLst>
            </a:custGeom>
            <a:solidFill>
              <a:srgbClr val="07ff1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1960" y="5454360"/>
              <a:ext cx="76320" cy="763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H="1">
            <a:off x="1371600" y="3549600"/>
            <a:ext cx="5335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57400" y="36259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6095880" y="3765600"/>
            <a:ext cx="5335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81680" y="38419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8378600">
            <a:off x="5979960" y="4196880"/>
            <a:ext cx="3886200" cy="228600"/>
          </a:xfrm>
          <a:custGeom>
            <a:avLst/>
            <a:gdLst>
              <a:gd name="textAreaLeft" fmla="*/ 680040 w 3886200"/>
              <a:gd name="textAreaRight" fmla="*/ 2817720 w 3886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70f1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5187800">
            <a:off x="-1005840" y="4137480"/>
            <a:ext cx="3268800" cy="495360"/>
          </a:xfrm>
          <a:custGeom>
            <a:avLst/>
            <a:gdLst>
              <a:gd name="textAreaLeft" fmla="*/ 599040 w 3268800"/>
              <a:gd name="textAreaRight" fmla="*/ 2342880 w 3268800"/>
              <a:gd name="textAreaTop" fmla="*/ 66240 h 495360"/>
              <a:gd name="textAreaBottom" fmla="*/ 4291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19" hR="21600" stAng="10800000" swAng="5400000"/>
                <a:lnTo>
                  <a:pt x="11521" y="0"/>
                </a:lnTo>
                <a:arcTo wR="7919" hR="21600" stAng="-5400000" swAng="2762368"/>
                <a:lnTo>
                  <a:pt x="21147" y="14400"/>
                </a:lnTo>
                <a:lnTo>
                  <a:pt x="17639" y="21600"/>
                </a:lnTo>
                <a:lnTo>
                  <a:pt x="13225" y="14400"/>
                </a:lnTo>
                <a:lnTo>
                  <a:pt x="15385" y="14400"/>
                </a:lnTo>
                <a:arcTo wR="7919" hR="21600" stAng="-2637632" swAng="-2468733"/>
                <a:lnTo>
                  <a:pt x="9720" y="566"/>
                </a:lnTo>
                <a:arcTo wR="7919" hR="21600" stAng="-5693635" swAng="-5106365"/>
                <a:close/>
              </a:path>
              <a:path fill="darkenLess" w="21600" h="21600">
                <a:moveTo>
                  <a:pt x="0" y="21600"/>
                </a:moveTo>
                <a:arcTo wR="7919" hR="21600" stAng="10800000" swAng="5400000"/>
                <a:lnTo>
                  <a:pt x="7919" y="0"/>
                </a:lnTo>
                <a:arcTo wR="7919" hR="21600" stAng="-5400000" swAng="293635"/>
                <a:lnTo>
                  <a:pt x="9720" y="566"/>
                </a:lnTo>
                <a:arcTo wR="7919" hR="21600" stAng="-5693635" swAng="-5106365"/>
                <a:close/>
              </a:path>
            </a:pathLst>
          </a:custGeom>
          <a:solidFill>
            <a:srgbClr val="60e66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88" name="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a1e"/>
                </a:solidFill>
                <a:latin typeface="Comic Sans MS"/>
              </a:rPr>
              <a:t>meiosi e formazione delle ascosp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9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60240" y="1295280"/>
            <a:ext cx="3504960" cy="591840"/>
            <a:chOff x="660240" y="1295280"/>
            <a:chExt cx="3504960" cy="591840"/>
          </a:xfrm>
        </p:grpSpPr>
        <p:sp>
          <p:nvSpPr>
            <p:cNvPr id="301" name=""/>
            <p:cNvSpPr/>
            <p:nvPr/>
          </p:nvSpPr>
          <p:spPr>
            <a:xfrm flipV="1">
              <a:off x="660240" y="1294920"/>
              <a:ext cx="3504960" cy="591840"/>
            </a:xfrm>
            <a:prstGeom prst="flowChartTerminator">
              <a:avLst/>
            </a:prstGeom>
            <a:gradFill rotWithShape="0">
              <a:gsLst>
                <a:gs pos="0">
                  <a:srgbClr val="629709"/>
                </a:gs>
                <a:gs pos="50000">
                  <a:srgbClr val="a1f8a7"/>
                </a:gs>
                <a:gs pos="100000">
                  <a:srgbClr val="629709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1897200" y="1397880"/>
              <a:ext cx="833040" cy="474480"/>
              <a:chOff x="1897200" y="1397880"/>
              <a:chExt cx="833040" cy="47448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1897200" y="1397880"/>
                <a:ext cx="833040" cy="47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2373120" y="1696680"/>
                <a:ext cx="58320" cy="5796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2432520" y="1578240"/>
                <a:ext cx="59400" cy="5796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194560" y="1637280"/>
                <a:ext cx="58320" cy="5796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2313720" y="1518840"/>
                <a:ext cx="57960" cy="5796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2135160" y="1518840"/>
                <a:ext cx="57960" cy="5796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2194560" y="1753560"/>
                <a:ext cx="58320" cy="5796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2553120" y="1695600"/>
                <a:ext cx="57960" cy="5796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2553120" y="1578240"/>
                <a:ext cx="57960" cy="5796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736560" y="2057400"/>
            <a:ext cx="3504960" cy="591840"/>
            <a:chOff x="736560" y="2057400"/>
            <a:chExt cx="3504960" cy="591840"/>
          </a:xfrm>
        </p:grpSpPr>
        <p:sp>
          <p:nvSpPr>
            <p:cNvPr id="313" name=""/>
            <p:cNvSpPr/>
            <p:nvPr/>
          </p:nvSpPr>
          <p:spPr>
            <a:xfrm flipV="1">
              <a:off x="736560" y="2057040"/>
              <a:ext cx="3504960" cy="591840"/>
            </a:xfrm>
            <a:prstGeom prst="flowChartTerminator">
              <a:avLst/>
            </a:prstGeom>
            <a:gradFill rotWithShape="0">
              <a:gsLst>
                <a:gs pos="0">
                  <a:srgbClr val="629709"/>
                </a:gs>
                <a:gs pos="50000">
                  <a:srgbClr val="a1f8a7"/>
                </a:gs>
                <a:gs pos="100000">
                  <a:srgbClr val="629709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1535040" y="2127600"/>
              <a:ext cx="1653840" cy="442080"/>
              <a:chOff x="1535040" y="2127600"/>
              <a:chExt cx="1653840" cy="442080"/>
            </a:xfrm>
          </p:grpSpPr>
          <p:sp>
            <p:nvSpPr>
              <p:cNvPr id="315" name=""/>
              <p:cNvSpPr/>
              <p:nvPr/>
            </p:nvSpPr>
            <p:spPr>
              <a:xfrm flipV="1" rot="16567800">
                <a:off x="2846160" y="2178360"/>
                <a:ext cx="233280" cy="429480"/>
              </a:xfrm>
              <a:custGeom>
                <a:avLst/>
                <a:gdLst/>
                <a:ahLst/>
                <a:rect l="l" t="t" r="r" b="b"/>
                <a:pathLst>
                  <a:path w="190" h="347">
                    <a:moveTo>
                      <a:pt x="38" y="0"/>
                    </a:moveTo>
                    <a:cubicBezTo>
                      <a:pt x="63" y="51"/>
                      <a:pt x="76" y="108"/>
                      <a:pt x="102" y="160"/>
                    </a:cubicBezTo>
                    <a:cubicBezTo>
                      <a:pt x="120" y="347"/>
                      <a:pt x="97" y="162"/>
                      <a:pt x="126" y="48"/>
                    </a:cubicBezTo>
                    <a:cubicBezTo>
                      <a:pt x="128" y="37"/>
                      <a:pt x="131" y="26"/>
                      <a:pt x="134" y="16"/>
                    </a:cubicBezTo>
                    <a:cubicBezTo>
                      <a:pt x="132" y="34"/>
                      <a:pt x="115" y="194"/>
                      <a:pt x="118" y="200"/>
                    </a:cubicBezTo>
                    <a:cubicBezTo>
                      <a:pt x="125" y="217"/>
                      <a:pt x="134" y="162"/>
                      <a:pt x="150" y="152"/>
                    </a:cubicBezTo>
                    <a:cubicBezTo>
                      <a:pt x="158" y="146"/>
                      <a:pt x="174" y="145"/>
                      <a:pt x="174" y="136"/>
                    </a:cubicBezTo>
                    <a:cubicBezTo>
                      <a:pt x="174" y="127"/>
                      <a:pt x="158" y="141"/>
                      <a:pt x="150" y="144"/>
                    </a:cubicBezTo>
                    <a:cubicBezTo>
                      <a:pt x="134" y="189"/>
                      <a:pt x="125" y="234"/>
                      <a:pt x="110" y="280"/>
                    </a:cubicBezTo>
                    <a:cubicBezTo>
                      <a:pt x="102" y="256"/>
                      <a:pt x="108" y="228"/>
                      <a:pt x="94" y="208"/>
                    </a:cubicBezTo>
                    <a:cubicBezTo>
                      <a:pt x="82" y="192"/>
                      <a:pt x="46" y="176"/>
                      <a:pt x="46" y="176"/>
                    </a:cubicBezTo>
                    <a:cubicBezTo>
                      <a:pt x="43" y="168"/>
                      <a:pt x="29" y="153"/>
                      <a:pt x="38" y="152"/>
                    </a:cubicBezTo>
                    <a:cubicBezTo>
                      <a:pt x="59" y="147"/>
                      <a:pt x="92" y="172"/>
                      <a:pt x="110" y="184"/>
                    </a:cubicBezTo>
                    <a:cubicBezTo>
                      <a:pt x="112" y="192"/>
                      <a:pt x="126" y="209"/>
                      <a:pt x="118" y="208"/>
                    </a:cubicBezTo>
                    <a:cubicBezTo>
                      <a:pt x="99" y="204"/>
                      <a:pt x="70" y="176"/>
                      <a:pt x="70" y="176"/>
                    </a:cubicBezTo>
                    <a:cubicBezTo>
                      <a:pt x="54" y="152"/>
                      <a:pt x="56" y="149"/>
                      <a:pt x="30" y="136"/>
                    </a:cubicBezTo>
                    <a:cubicBezTo>
                      <a:pt x="22" y="132"/>
                      <a:pt x="0" y="122"/>
                      <a:pt x="6" y="128"/>
                    </a:cubicBezTo>
                    <a:cubicBezTo>
                      <a:pt x="23" y="145"/>
                      <a:pt x="64" y="153"/>
                      <a:pt x="86" y="168"/>
                    </a:cubicBezTo>
                    <a:cubicBezTo>
                      <a:pt x="91" y="176"/>
                      <a:pt x="97" y="183"/>
                      <a:pt x="102" y="192"/>
                    </a:cubicBezTo>
                    <a:cubicBezTo>
                      <a:pt x="107" y="202"/>
                      <a:pt x="106" y="224"/>
                      <a:pt x="118" y="224"/>
                    </a:cubicBezTo>
                    <a:cubicBezTo>
                      <a:pt x="128" y="224"/>
                      <a:pt x="122" y="202"/>
                      <a:pt x="126" y="192"/>
                    </a:cubicBezTo>
                    <a:cubicBezTo>
                      <a:pt x="130" y="175"/>
                      <a:pt x="126" y="149"/>
                      <a:pt x="142" y="144"/>
                    </a:cubicBezTo>
                    <a:cubicBezTo>
                      <a:pt x="158" y="138"/>
                      <a:pt x="190" y="133"/>
                      <a:pt x="190" y="112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 rot="4285200">
                <a:off x="1658880" y="2120760"/>
                <a:ext cx="233280" cy="429480"/>
              </a:xfrm>
              <a:custGeom>
                <a:avLst/>
                <a:gdLst/>
                <a:ahLst/>
                <a:rect l="l" t="t" r="r" b="b"/>
                <a:pathLst>
                  <a:path w="190" h="347">
                    <a:moveTo>
                      <a:pt x="38" y="0"/>
                    </a:moveTo>
                    <a:cubicBezTo>
                      <a:pt x="63" y="51"/>
                      <a:pt x="76" y="108"/>
                      <a:pt x="102" y="160"/>
                    </a:cubicBezTo>
                    <a:cubicBezTo>
                      <a:pt x="120" y="347"/>
                      <a:pt x="97" y="162"/>
                      <a:pt x="126" y="48"/>
                    </a:cubicBezTo>
                    <a:cubicBezTo>
                      <a:pt x="128" y="37"/>
                      <a:pt x="131" y="26"/>
                      <a:pt x="134" y="16"/>
                    </a:cubicBezTo>
                    <a:cubicBezTo>
                      <a:pt x="132" y="34"/>
                      <a:pt x="115" y="194"/>
                      <a:pt x="118" y="200"/>
                    </a:cubicBezTo>
                    <a:cubicBezTo>
                      <a:pt x="125" y="217"/>
                      <a:pt x="134" y="162"/>
                      <a:pt x="150" y="152"/>
                    </a:cubicBezTo>
                    <a:cubicBezTo>
                      <a:pt x="158" y="146"/>
                      <a:pt x="174" y="145"/>
                      <a:pt x="174" y="136"/>
                    </a:cubicBezTo>
                    <a:cubicBezTo>
                      <a:pt x="174" y="127"/>
                      <a:pt x="158" y="141"/>
                      <a:pt x="150" y="144"/>
                    </a:cubicBezTo>
                    <a:cubicBezTo>
                      <a:pt x="134" y="189"/>
                      <a:pt x="125" y="234"/>
                      <a:pt x="110" y="280"/>
                    </a:cubicBezTo>
                    <a:cubicBezTo>
                      <a:pt x="102" y="256"/>
                      <a:pt x="108" y="228"/>
                      <a:pt x="94" y="208"/>
                    </a:cubicBezTo>
                    <a:cubicBezTo>
                      <a:pt x="82" y="192"/>
                      <a:pt x="46" y="176"/>
                      <a:pt x="46" y="176"/>
                    </a:cubicBezTo>
                    <a:cubicBezTo>
                      <a:pt x="43" y="168"/>
                      <a:pt x="29" y="153"/>
                      <a:pt x="38" y="152"/>
                    </a:cubicBezTo>
                    <a:cubicBezTo>
                      <a:pt x="59" y="147"/>
                      <a:pt x="92" y="172"/>
                      <a:pt x="110" y="184"/>
                    </a:cubicBezTo>
                    <a:cubicBezTo>
                      <a:pt x="112" y="192"/>
                      <a:pt x="126" y="209"/>
                      <a:pt x="118" y="208"/>
                    </a:cubicBezTo>
                    <a:cubicBezTo>
                      <a:pt x="99" y="204"/>
                      <a:pt x="70" y="176"/>
                      <a:pt x="70" y="176"/>
                    </a:cubicBezTo>
                    <a:cubicBezTo>
                      <a:pt x="54" y="152"/>
                      <a:pt x="56" y="149"/>
                      <a:pt x="30" y="136"/>
                    </a:cubicBezTo>
                    <a:cubicBezTo>
                      <a:pt x="22" y="132"/>
                      <a:pt x="0" y="122"/>
                      <a:pt x="6" y="128"/>
                    </a:cubicBezTo>
                    <a:cubicBezTo>
                      <a:pt x="23" y="145"/>
                      <a:pt x="64" y="153"/>
                      <a:pt x="86" y="168"/>
                    </a:cubicBezTo>
                    <a:cubicBezTo>
                      <a:pt x="91" y="176"/>
                      <a:pt x="97" y="183"/>
                      <a:pt x="102" y="192"/>
                    </a:cubicBezTo>
                    <a:cubicBezTo>
                      <a:pt x="107" y="202"/>
                      <a:pt x="106" y="224"/>
                      <a:pt x="118" y="224"/>
                    </a:cubicBezTo>
                    <a:cubicBezTo>
                      <a:pt x="128" y="224"/>
                      <a:pt x="122" y="202"/>
                      <a:pt x="126" y="192"/>
                    </a:cubicBezTo>
                    <a:cubicBezTo>
                      <a:pt x="130" y="175"/>
                      <a:pt x="126" y="149"/>
                      <a:pt x="142" y="144"/>
                    </a:cubicBezTo>
                    <a:cubicBezTo>
                      <a:pt x="158" y="138"/>
                      <a:pt x="190" y="133"/>
                      <a:pt x="190" y="112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1863720" y="2127600"/>
                <a:ext cx="1095120" cy="382320"/>
              </a:xfrm>
              <a:custGeom>
                <a:avLst/>
                <a:gdLst/>
                <a:ahLst/>
                <a:rect l="l" t="t" r="r" b="b"/>
                <a:pathLst>
                  <a:path w="886" h="312">
                    <a:moveTo>
                      <a:pt x="14" y="128"/>
                    </a:moveTo>
                    <a:cubicBezTo>
                      <a:pt x="40" y="119"/>
                      <a:pt x="59" y="104"/>
                      <a:pt x="86" y="96"/>
                    </a:cubicBezTo>
                    <a:cubicBezTo>
                      <a:pt x="107" y="64"/>
                      <a:pt x="124" y="67"/>
                      <a:pt x="158" y="48"/>
                    </a:cubicBezTo>
                    <a:cubicBezTo>
                      <a:pt x="239" y="1"/>
                      <a:pt x="253" y="7"/>
                      <a:pt x="366" y="0"/>
                    </a:cubicBezTo>
                    <a:cubicBezTo>
                      <a:pt x="450" y="5"/>
                      <a:pt x="530" y="15"/>
                      <a:pt x="614" y="24"/>
                    </a:cubicBezTo>
                    <a:cubicBezTo>
                      <a:pt x="669" y="42"/>
                      <a:pt x="739" y="43"/>
                      <a:pt x="790" y="72"/>
                    </a:cubicBezTo>
                    <a:cubicBezTo>
                      <a:pt x="825" y="91"/>
                      <a:pt x="848" y="115"/>
                      <a:pt x="886" y="128"/>
                    </a:cubicBezTo>
                    <a:cubicBezTo>
                      <a:pt x="836" y="144"/>
                      <a:pt x="753" y="105"/>
                      <a:pt x="702" y="104"/>
                    </a:cubicBezTo>
                    <a:cubicBezTo>
                      <a:pt x="608" y="101"/>
                      <a:pt x="515" y="98"/>
                      <a:pt x="422" y="96"/>
                    </a:cubicBezTo>
                    <a:cubicBezTo>
                      <a:pt x="284" y="107"/>
                      <a:pt x="152" y="122"/>
                      <a:pt x="14" y="128"/>
                    </a:cubicBezTo>
                    <a:cubicBezTo>
                      <a:pt x="11" y="136"/>
                      <a:pt x="0" y="145"/>
                      <a:pt x="6" y="152"/>
                    </a:cubicBezTo>
                    <a:cubicBezTo>
                      <a:pt x="20" y="171"/>
                      <a:pt x="54" y="161"/>
                      <a:pt x="78" y="168"/>
                    </a:cubicBezTo>
                    <a:cubicBezTo>
                      <a:pt x="129" y="182"/>
                      <a:pt x="175" y="195"/>
                      <a:pt x="230" y="200"/>
                    </a:cubicBezTo>
                    <a:cubicBezTo>
                      <a:pt x="280" y="203"/>
                      <a:pt x="331" y="205"/>
                      <a:pt x="382" y="208"/>
                    </a:cubicBezTo>
                    <a:cubicBezTo>
                      <a:pt x="547" y="189"/>
                      <a:pt x="706" y="198"/>
                      <a:pt x="862" y="136"/>
                    </a:cubicBezTo>
                    <a:cubicBezTo>
                      <a:pt x="852" y="149"/>
                      <a:pt x="831" y="182"/>
                      <a:pt x="822" y="192"/>
                    </a:cubicBezTo>
                    <a:cubicBezTo>
                      <a:pt x="794" y="219"/>
                      <a:pt x="768" y="227"/>
                      <a:pt x="734" y="240"/>
                    </a:cubicBezTo>
                    <a:cubicBezTo>
                      <a:pt x="672" y="262"/>
                      <a:pt x="611" y="283"/>
                      <a:pt x="550" y="304"/>
                    </a:cubicBezTo>
                    <a:cubicBezTo>
                      <a:pt x="350" y="291"/>
                      <a:pt x="137" y="312"/>
                      <a:pt x="14" y="128"/>
                    </a:cubicBez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2451960" y="2394720"/>
                <a:ext cx="57600" cy="57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2570400" y="2157120"/>
                <a:ext cx="59760" cy="57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2273760" y="2336760"/>
                <a:ext cx="57600" cy="57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392200" y="2157120"/>
                <a:ext cx="57600" cy="57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2214000" y="2219040"/>
                <a:ext cx="57600" cy="57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273760" y="2512080"/>
                <a:ext cx="57600" cy="57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2630160" y="2394720"/>
                <a:ext cx="57600" cy="57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385360" y="2229840"/>
                <a:ext cx="101160" cy="1008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732960" y="2819160"/>
            <a:ext cx="3533760" cy="591480"/>
            <a:chOff x="732960" y="2819160"/>
            <a:chExt cx="3533760" cy="591480"/>
          </a:xfrm>
        </p:grpSpPr>
        <p:sp>
          <p:nvSpPr>
            <p:cNvPr id="327" name=""/>
            <p:cNvSpPr/>
            <p:nvPr/>
          </p:nvSpPr>
          <p:spPr>
            <a:xfrm flipV="1">
              <a:off x="762120" y="2818440"/>
              <a:ext cx="3504600" cy="591480"/>
            </a:xfrm>
            <a:prstGeom prst="flowChartTerminator">
              <a:avLst/>
            </a:prstGeom>
            <a:gradFill rotWithShape="0">
              <a:gsLst>
                <a:gs pos="0">
                  <a:srgbClr val="629709"/>
                </a:gs>
                <a:gs pos="50000">
                  <a:srgbClr val="a1f8a7"/>
                </a:gs>
                <a:gs pos="100000">
                  <a:srgbClr val="629709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2794680" y="2949480"/>
              <a:ext cx="1347840" cy="395640"/>
              <a:chOff x="2794680" y="2949480"/>
              <a:chExt cx="1347840" cy="39564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2794680" y="2949480"/>
                <a:ext cx="1098720" cy="382320"/>
                <a:chOff x="2794680" y="2949480"/>
                <a:chExt cx="1098720" cy="382320"/>
              </a:xfrm>
            </p:grpSpPr>
            <p:sp>
              <p:nvSpPr>
                <p:cNvPr id="330" name=""/>
                <p:cNvSpPr/>
                <p:nvPr/>
              </p:nvSpPr>
              <p:spPr>
                <a:xfrm flipV="1" rot="4285200">
                  <a:off x="2860200" y="2993400"/>
                  <a:ext cx="232560" cy="305640"/>
                </a:xfrm>
                <a:custGeom>
                  <a:avLst/>
                  <a:gdLst/>
                  <a:ahLst/>
                  <a:rect l="l" t="t" r="r" b="b"/>
                  <a:pathLst>
                    <a:path w="190" h="347">
                      <a:moveTo>
                        <a:pt x="38" y="0"/>
                      </a:moveTo>
                      <a:cubicBezTo>
                        <a:pt x="63" y="51"/>
                        <a:pt x="76" y="108"/>
                        <a:pt x="102" y="160"/>
                      </a:cubicBezTo>
                      <a:cubicBezTo>
                        <a:pt x="120" y="347"/>
                        <a:pt x="97" y="162"/>
                        <a:pt x="126" y="48"/>
                      </a:cubicBezTo>
                      <a:cubicBezTo>
                        <a:pt x="128" y="37"/>
                        <a:pt x="131" y="26"/>
                        <a:pt x="134" y="16"/>
                      </a:cubicBezTo>
                      <a:cubicBezTo>
                        <a:pt x="132" y="34"/>
                        <a:pt x="115" y="194"/>
                        <a:pt x="118" y="200"/>
                      </a:cubicBezTo>
                      <a:cubicBezTo>
                        <a:pt x="125" y="217"/>
                        <a:pt x="134" y="162"/>
                        <a:pt x="150" y="152"/>
                      </a:cubicBezTo>
                      <a:cubicBezTo>
                        <a:pt x="158" y="146"/>
                        <a:pt x="174" y="145"/>
                        <a:pt x="174" y="136"/>
                      </a:cubicBezTo>
                      <a:cubicBezTo>
                        <a:pt x="174" y="127"/>
                        <a:pt x="158" y="141"/>
                        <a:pt x="150" y="144"/>
                      </a:cubicBezTo>
                      <a:cubicBezTo>
                        <a:pt x="134" y="189"/>
                        <a:pt x="125" y="234"/>
                        <a:pt x="110" y="280"/>
                      </a:cubicBezTo>
                      <a:cubicBezTo>
                        <a:pt x="102" y="256"/>
                        <a:pt x="108" y="228"/>
                        <a:pt x="94" y="208"/>
                      </a:cubicBezTo>
                      <a:cubicBezTo>
                        <a:pt x="82" y="192"/>
                        <a:pt x="46" y="176"/>
                        <a:pt x="46" y="176"/>
                      </a:cubicBezTo>
                      <a:cubicBezTo>
                        <a:pt x="43" y="168"/>
                        <a:pt x="29" y="153"/>
                        <a:pt x="38" y="152"/>
                      </a:cubicBezTo>
                      <a:cubicBezTo>
                        <a:pt x="59" y="147"/>
                        <a:pt x="92" y="172"/>
                        <a:pt x="110" y="184"/>
                      </a:cubicBezTo>
                      <a:cubicBezTo>
                        <a:pt x="112" y="192"/>
                        <a:pt x="126" y="209"/>
                        <a:pt x="118" y="208"/>
                      </a:cubicBezTo>
                      <a:cubicBezTo>
                        <a:pt x="99" y="204"/>
                        <a:pt x="70" y="176"/>
                        <a:pt x="70" y="176"/>
                      </a:cubicBezTo>
                      <a:cubicBezTo>
                        <a:pt x="54" y="152"/>
                        <a:pt x="56" y="149"/>
                        <a:pt x="30" y="136"/>
                      </a:cubicBezTo>
                      <a:cubicBezTo>
                        <a:pt x="22" y="132"/>
                        <a:pt x="0" y="122"/>
                        <a:pt x="6" y="128"/>
                      </a:cubicBezTo>
                      <a:cubicBezTo>
                        <a:pt x="23" y="145"/>
                        <a:pt x="64" y="153"/>
                        <a:pt x="86" y="168"/>
                      </a:cubicBezTo>
                      <a:cubicBezTo>
                        <a:pt x="91" y="176"/>
                        <a:pt x="97" y="183"/>
                        <a:pt x="102" y="192"/>
                      </a:cubicBezTo>
                      <a:cubicBezTo>
                        <a:pt x="107" y="202"/>
                        <a:pt x="106" y="224"/>
                        <a:pt x="118" y="224"/>
                      </a:cubicBezTo>
                      <a:cubicBezTo>
                        <a:pt x="128" y="224"/>
                        <a:pt x="122" y="202"/>
                        <a:pt x="126" y="192"/>
                      </a:cubicBezTo>
                      <a:cubicBezTo>
                        <a:pt x="130" y="175"/>
                        <a:pt x="126" y="149"/>
                        <a:pt x="142" y="144"/>
                      </a:cubicBezTo>
                      <a:cubicBezTo>
                        <a:pt x="158" y="138"/>
                        <a:pt x="190" y="133"/>
                        <a:pt x="190" y="11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3120840" y="2949480"/>
                  <a:ext cx="772560" cy="382320"/>
                </a:xfrm>
                <a:custGeom>
                  <a:avLst/>
                  <a:gdLst/>
                  <a:ahLst/>
                  <a:rect l="l" t="t" r="r" b="b"/>
                  <a:pathLst>
                    <a:path w="886" h="312">
                      <a:moveTo>
                        <a:pt x="14" y="128"/>
                      </a:moveTo>
                      <a:cubicBezTo>
                        <a:pt x="40" y="119"/>
                        <a:pt x="59" y="104"/>
                        <a:pt x="86" y="96"/>
                      </a:cubicBezTo>
                      <a:cubicBezTo>
                        <a:pt x="107" y="64"/>
                        <a:pt x="124" y="67"/>
                        <a:pt x="158" y="48"/>
                      </a:cubicBezTo>
                      <a:cubicBezTo>
                        <a:pt x="239" y="1"/>
                        <a:pt x="253" y="7"/>
                        <a:pt x="366" y="0"/>
                      </a:cubicBezTo>
                      <a:cubicBezTo>
                        <a:pt x="450" y="5"/>
                        <a:pt x="530" y="15"/>
                        <a:pt x="614" y="24"/>
                      </a:cubicBezTo>
                      <a:cubicBezTo>
                        <a:pt x="669" y="42"/>
                        <a:pt x="739" y="43"/>
                        <a:pt x="790" y="72"/>
                      </a:cubicBezTo>
                      <a:cubicBezTo>
                        <a:pt x="825" y="91"/>
                        <a:pt x="848" y="115"/>
                        <a:pt x="886" y="128"/>
                      </a:cubicBezTo>
                      <a:cubicBezTo>
                        <a:pt x="836" y="144"/>
                        <a:pt x="753" y="105"/>
                        <a:pt x="702" y="104"/>
                      </a:cubicBezTo>
                      <a:cubicBezTo>
                        <a:pt x="608" y="101"/>
                        <a:pt x="515" y="98"/>
                        <a:pt x="422" y="96"/>
                      </a:cubicBezTo>
                      <a:cubicBezTo>
                        <a:pt x="284" y="107"/>
                        <a:pt x="152" y="122"/>
                        <a:pt x="14" y="128"/>
                      </a:cubicBezTo>
                      <a:cubicBezTo>
                        <a:pt x="11" y="136"/>
                        <a:pt x="0" y="145"/>
                        <a:pt x="6" y="152"/>
                      </a:cubicBezTo>
                      <a:cubicBezTo>
                        <a:pt x="20" y="171"/>
                        <a:pt x="54" y="161"/>
                        <a:pt x="78" y="168"/>
                      </a:cubicBezTo>
                      <a:cubicBezTo>
                        <a:pt x="129" y="182"/>
                        <a:pt x="175" y="195"/>
                        <a:pt x="230" y="200"/>
                      </a:cubicBezTo>
                      <a:cubicBezTo>
                        <a:pt x="280" y="203"/>
                        <a:pt x="331" y="205"/>
                        <a:pt x="382" y="208"/>
                      </a:cubicBezTo>
                      <a:cubicBezTo>
                        <a:pt x="547" y="189"/>
                        <a:pt x="706" y="198"/>
                        <a:pt x="862" y="136"/>
                      </a:cubicBezTo>
                      <a:cubicBezTo>
                        <a:pt x="852" y="149"/>
                        <a:pt x="831" y="182"/>
                        <a:pt x="822" y="192"/>
                      </a:cubicBezTo>
                      <a:cubicBezTo>
                        <a:pt x="794" y="219"/>
                        <a:pt x="768" y="227"/>
                        <a:pt x="734" y="240"/>
                      </a:cubicBezTo>
                      <a:cubicBezTo>
                        <a:pt x="672" y="262"/>
                        <a:pt x="611" y="283"/>
                        <a:pt x="550" y="304"/>
                      </a:cubicBezTo>
                      <a:cubicBezTo>
                        <a:pt x="350" y="291"/>
                        <a:pt x="137" y="312"/>
                        <a:pt x="14" y="128"/>
                      </a:cubicBezTo>
                      <a:close/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3715200" y="3186000"/>
                  <a:ext cx="57960" cy="57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3715200" y="3039120"/>
                  <a:ext cx="59040" cy="57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3596040" y="3097800"/>
                  <a:ext cx="58320" cy="57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3358440" y="3039120"/>
                  <a:ext cx="57960" cy="57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3417840" y="2980080"/>
                  <a:ext cx="58320" cy="57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3596040" y="3274200"/>
                  <a:ext cx="58320" cy="57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3299040" y="3274200"/>
                  <a:ext cx="57960" cy="57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3358440" y="3156480"/>
                  <a:ext cx="57960" cy="57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3041640" y="3145320"/>
                  <a:ext cx="99000" cy="21960"/>
                </a:xfrm>
                <a:custGeom>
                  <a:avLst/>
                  <a:gdLst/>
                  <a:ahLst/>
                  <a:rect l="l" t="t" r="r" b="b"/>
                  <a:pathLst>
                    <a:path w="80" h="18">
                      <a:moveTo>
                        <a:pt x="0" y="18"/>
                      </a:moveTo>
                      <a:cubicBezTo>
                        <a:pt x="16" y="15"/>
                        <a:pt x="32" y="13"/>
                        <a:pt x="48" y="10"/>
                      </a:cubicBezTo>
                      <a:cubicBezTo>
                        <a:pt x="56" y="8"/>
                        <a:pt x="80" y="0"/>
                        <a:pt x="72" y="2"/>
                      </a:cubicBezTo>
                      <a:cubicBezTo>
                        <a:pt x="47" y="6"/>
                        <a:pt x="24" y="12"/>
                        <a:pt x="0" y="18"/>
                      </a:cubicBezTo>
                      <a:close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 flipV="1" rot="16567800">
                <a:off x="3862800" y="3061440"/>
                <a:ext cx="232560" cy="303480"/>
              </a:xfrm>
              <a:custGeom>
                <a:avLst/>
                <a:gdLst/>
                <a:ahLst/>
                <a:rect l="l" t="t" r="r" b="b"/>
                <a:pathLst>
                  <a:path w="190" h="347">
                    <a:moveTo>
                      <a:pt x="38" y="0"/>
                    </a:moveTo>
                    <a:cubicBezTo>
                      <a:pt x="63" y="51"/>
                      <a:pt x="76" y="108"/>
                      <a:pt x="102" y="160"/>
                    </a:cubicBezTo>
                    <a:cubicBezTo>
                      <a:pt x="120" y="347"/>
                      <a:pt x="97" y="162"/>
                      <a:pt x="126" y="48"/>
                    </a:cubicBezTo>
                    <a:cubicBezTo>
                      <a:pt x="128" y="37"/>
                      <a:pt x="131" y="26"/>
                      <a:pt x="134" y="16"/>
                    </a:cubicBezTo>
                    <a:cubicBezTo>
                      <a:pt x="132" y="34"/>
                      <a:pt x="115" y="194"/>
                      <a:pt x="118" y="200"/>
                    </a:cubicBezTo>
                    <a:cubicBezTo>
                      <a:pt x="125" y="217"/>
                      <a:pt x="134" y="162"/>
                      <a:pt x="150" y="152"/>
                    </a:cubicBezTo>
                    <a:cubicBezTo>
                      <a:pt x="158" y="146"/>
                      <a:pt x="174" y="145"/>
                      <a:pt x="174" y="136"/>
                    </a:cubicBezTo>
                    <a:cubicBezTo>
                      <a:pt x="174" y="127"/>
                      <a:pt x="158" y="141"/>
                      <a:pt x="150" y="144"/>
                    </a:cubicBezTo>
                    <a:cubicBezTo>
                      <a:pt x="134" y="189"/>
                      <a:pt x="125" y="234"/>
                      <a:pt x="110" y="280"/>
                    </a:cubicBezTo>
                    <a:cubicBezTo>
                      <a:pt x="102" y="256"/>
                      <a:pt x="108" y="228"/>
                      <a:pt x="94" y="208"/>
                    </a:cubicBezTo>
                    <a:cubicBezTo>
                      <a:pt x="82" y="192"/>
                      <a:pt x="46" y="176"/>
                      <a:pt x="46" y="176"/>
                    </a:cubicBezTo>
                    <a:cubicBezTo>
                      <a:pt x="43" y="168"/>
                      <a:pt x="29" y="153"/>
                      <a:pt x="38" y="152"/>
                    </a:cubicBezTo>
                    <a:cubicBezTo>
                      <a:pt x="59" y="147"/>
                      <a:pt x="92" y="172"/>
                      <a:pt x="110" y="184"/>
                    </a:cubicBezTo>
                    <a:cubicBezTo>
                      <a:pt x="112" y="192"/>
                      <a:pt x="126" y="209"/>
                      <a:pt x="118" y="208"/>
                    </a:cubicBezTo>
                    <a:cubicBezTo>
                      <a:pt x="99" y="204"/>
                      <a:pt x="70" y="176"/>
                      <a:pt x="70" y="176"/>
                    </a:cubicBezTo>
                    <a:cubicBezTo>
                      <a:pt x="54" y="152"/>
                      <a:pt x="56" y="149"/>
                      <a:pt x="30" y="136"/>
                    </a:cubicBezTo>
                    <a:cubicBezTo>
                      <a:pt x="22" y="132"/>
                      <a:pt x="0" y="122"/>
                      <a:pt x="6" y="128"/>
                    </a:cubicBezTo>
                    <a:cubicBezTo>
                      <a:pt x="23" y="145"/>
                      <a:pt x="64" y="153"/>
                      <a:pt x="86" y="168"/>
                    </a:cubicBezTo>
                    <a:cubicBezTo>
                      <a:pt x="91" y="176"/>
                      <a:pt x="97" y="183"/>
                      <a:pt x="102" y="192"/>
                    </a:cubicBezTo>
                    <a:cubicBezTo>
                      <a:pt x="107" y="202"/>
                      <a:pt x="106" y="224"/>
                      <a:pt x="118" y="224"/>
                    </a:cubicBezTo>
                    <a:cubicBezTo>
                      <a:pt x="128" y="224"/>
                      <a:pt x="122" y="202"/>
                      <a:pt x="126" y="192"/>
                    </a:cubicBezTo>
                    <a:cubicBezTo>
                      <a:pt x="130" y="175"/>
                      <a:pt x="126" y="149"/>
                      <a:pt x="142" y="144"/>
                    </a:cubicBezTo>
                    <a:cubicBezTo>
                      <a:pt x="158" y="138"/>
                      <a:pt x="190" y="133"/>
                      <a:pt x="190" y="112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32960" y="2921760"/>
              <a:ext cx="1347840" cy="395280"/>
              <a:chOff x="732960" y="2921760"/>
              <a:chExt cx="1347840" cy="39528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732960" y="2921760"/>
                <a:ext cx="1098720" cy="381960"/>
                <a:chOff x="732960" y="2921760"/>
                <a:chExt cx="1098720" cy="381960"/>
              </a:xfrm>
            </p:grpSpPr>
            <p:sp>
              <p:nvSpPr>
                <p:cNvPr id="344" name=""/>
                <p:cNvSpPr/>
                <p:nvPr/>
              </p:nvSpPr>
              <p:spPr>
                <a:xfrm flipV="1" rot="4285200">
                  <a:off x="798480" y="2965320"/>
                  <a:ext cx="232560" cy="305640"/>
                </a:xfrm>
                <a:custGeom>
                  <a:avLst/>
                  <a:gdLst/>
                  <a:ahLst/>
                  <a:rect l="l" t="t" r="r" b="b"/>
                  <a:pathLst>
                    <a:path w="190" h="347">
                      <a:moveTo>
                        <a:pt x="38" y="0"/>
                      </a:moveTo>
                      <a:cubicBezTo>
                        <a:pt x="63" y="51"/>
                        <a:pt x="76" y="108"/>
                        <a:pt x="102" y="160"/>
                      </a:cubicBezTo>
                      <a:cubicBezTo>
                        <a:pt x="120" y="347"/>
                        <a:pt x="97" y="162"/>
                        <a:pt x="126" y="48"/>
                      </a:cubicBezTo>
                      <a:cubicBezTo>
                        <a:pt x="128" y="37"/>
                        <a:pt x="131" y="26"/>
                        <a:pt x="134" y="16"/>
                      </a:cubicBezTo>
                      <a:cubicBezTo>
                        <a:pt x="132" y="34"/>
                        <a:pt x="115" y="194"/>
                        <a:pt x="118" y="200"/>
                      </a:cubicBezTo>
                      <a:cubicBezTo>
                        <a:pt x="125" y="217"/>
                        <a:pt x="134" y="162"/>
                        <a:pt x="150" y="152"/>
                      </a:cubicBezTo>
                      <a:cubicBezTo>
                        <a:pt x="158" y="146"/>
                        <a:pt x="174" y="145"/>
                        <a:pt x="174" y="136"/>
                      </a:cubicBezTo>
                      <a:cubicBezTo>
                        <a:pt x="174" y="127"/>
                        <a:pt x="158" y="141"/>
                        <a:pt x="150" y="144"/>
                      </a:cubicBezTo>
                      <a:cubicBezTo>
                        <a:pt x="134" y="189"/>
                        <a:pt x="125" y="234"/>
                        <a:pt x="110" y="280"/>
                      </a:cubicBezTo>
                      <a:cubicBezTo>
                        <a:pt x="102" y="256"/>
                        <a:pt x="108" y="228"/>
                        <a:pt x="94" y="208"/>
                      </a:cubicBezTo>
                      <a:cubicBezTo>
                        <a:pt x="82" y="192"/>
                        <a:pt x="46" y="176"/>
                        <a:pt x="46" y="176"/>
                      </a:cubicBezTo>
                      <a:cubicBezTo>
                        <a:pt x="43" y="168"/>
                        <a:pt x="29" y="153"/>
                        <a:pt x="38" y="152"/>
                      </a:cubicBezTo>
                      <a:cubicBezTo>
                        <a:pt x="59" y="147"/>
                        <a:pt x="92" y="172"/>
                        <a:pt x="110" y="184"/>
                      </a:cubicBezTo>
                      <a:cubicBezTo>
                        <a:pt x="112" y="192"/>
                        <a:pt x="126" y="209"/>
                        <a:pt x="118" y="208"/>
                      </a:cubicBezTo>
                      <a:cubicBezTo>
                        <a:pt x="99" y="204"/>
                        <a:pt x="70" y="176"/>
                        <a:pt x="70" y="176"/>
                      </a:cubicBezTo>
                      <a:cubicBezTo>
                        <a:pt x="54" y="152"/>
                        <a:pt x="56" y="149"/>
                        <a:pt x="30" y="136"/>
                      </a:cubicBezTo>
                      <a:cubicBezTo>
                        <a:pt x="22" y="132"/>
                        <a:pt x="0" y="122"/>
                        <a:pt x="6" y="128"/>
                      </a:cubicBezTo>
                      <a:cubicBezTo>
                        <a:pt x="23" y="145"/>
                        <a:pt x="64" y="153"/>
                        <a:pt x="86" y="168"/>
                      </a:cubicBezTo>
                      <a:cubicBezTo>
                        <a:pt x="91" y="176"/>
                        <a:pt x="97" y="183"/>
                        <a:pt x="102" y="192"/>
                      </a:cubicBezTo>
                      <a:cubicBezTo>
                        <a:pt x="107" y="202"/>
                        <a:pt x="106" y="224"/>
                        <a:pt x="118" y="224"/>
                      </a:cubicBezTo>
                      <a:cubicBezTo>
                        <a:pt x="128" y="224"/>
                        <a:pt x="122" y="202"/>
                        <a:pt x="126" y="192"/>
                      </a:cubicBezTo>
                      <a:cubicBezTo>
                        <a:pt x="130" y="175"/>
                        <a:pt x="126" y="149"/>
                        <a:pt x="142" y="144"/>
                      </a:cubicBezTo>
                      <a:cubicBezTo>
                        <a:pt x="158" y="138"/>
                        <a:pt x="190" y="133"/>
                        <a:pt x="190" y="11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1059120" y="2921400"/>
                  <a:ext cx="772560" cy="381960"/>
                </a:xfrm>
                <a:custGeom>
                  <a:avLst/>
                  <a:gdLst/>
                  <a:ahLst/>
                  <a:rect l="l" t="t" r="r" b="b"/>
                  <a:pathLst>
                    <a:path w="886" h="312">
                      <a:moveTo>
                        <a:pt x="14" y="128"/>
                      </a:moveTo>
                      <a:cubicBezTo>
                        <a:pt x="40" y="119"/>
                        <a:pt x="59" y="104"/>
                        <a:pt x="86" y="96"/>
                      </a:cubicBezTo>
                      <a:cubicBezTo>
                        <a:pt x="107" y="64"/>
                        <a:pt x="124" y="67"/>
                        <a:pt x="158" y="48"/>
                      </a:cubicBezTo>
                      <a:cubicBezTo>
                        <a:pt x="239" y="1"/>
                        <a:pt x="253" y="7"/>
                        <a:pt x="366" y="0"/>
                      </a:cubicBezTo>
                      <a:cubicBezTo>
                        <a:pt x="450" y="5"/>
                        <a:pt x="530" y="15"/>
                        <a:pt x="614" y="24"/>
                      </a:cubicBezTo>
                      <a:cubicBezTo>
                        <a:pt x="669" y="42"/>
                        <a:pt x="739" y="43"/>
                        <a:pt x="790" y="72"/>
                      </a:cubicBezTo>
                      <a:cubicBezTo>
                        <a:pt x="825" y="91"/>
                        <a:pt x="848" y="115"/>
                        <a:pt x="886" y="128"/>
                      </a:cubicBezTo>
                      <a:cubicBezTo>
                        <a:pt x="836" y="144"/>
                        <a:pt x="753" y="105"/>
                        <a:pt x="702" y="104"/>
                      </a:cubicBezTo>
                      <a:cubicBezTo>
                        <a:pt x="608" y="101"/>
                        <a:pt x="515" y="98"/>
                        <a:pt x="422" y="96"/>
                      </a:cubicBezTo>
                      <a:cubicBezTo>
                        <a:pt x="284" y="107"/>
                        <a:pt x="152" y="122"/>
                        <a:pt x="14" y="128"/>
                      </a:cubicBezTo>
                      <a:cubicBezTo>
                        <a:pt x="11" y="136"/>
                        <a:pt x="0" y="145"/>
                        <a:pt x="6" y="152"/>
                      </a:cubicBezTo>
                      <a:cubicBezTo>
                        <a:pt x="20" y="171"/>
                        <a:pt x="54" y="161"/>
                        <a:pt x="78" y="168"/>
                      </a:cubicBezTo>
                      <a:cubicBezTo>
                        <a:pt x="129" y="182"/>
                        <a:pt x="175" y="195"/>
                        <a:pt x="230" y="200"/>
                      </a:cubicBezTo>
                      <a:cubicBezTo>
                        <a:pt x="280" y="203"/>
                        <a:pt x="331" y="205"/>
                        <a:pt x="382" y="208"/>
                      </a:cubicBezTo>
                      <a:cubicBezTo>
                        <a:pt x="547" y="189"/>
                        <a:pt x="706" y="198"/>
                        <a:pt x="862" y="136"/>
                      </a:cubicBezTo>
                      <a:cubicBezTo>
                        <a:pt x="852" y="149"/>
                        <a:pt x="831" y="182"/>
                        <a:pt x="822" y="192"/>
                      </a:cubicBezTo>
                      <a:cubicBezTo>
                        <a:pt x="794" y="219"/>
                        <a:pt x="768" y="227"/>
                        <a:pt x="734" y="240"/>
                      </a:cubicBezTo>
                      <a:cubicBezTo>
                        <a:pt x="672" y="262"/>
                        <a:pt x="611" y="283"/>
                        <a:pt x="550" y="304"/>
                      </a:cubicBezTo>
                      <a:cubicBezTo>
                        <a:pt x="350" y="291"/>
                        <a:pt x="137" y="312"/>
                        <a:pt x="14" y="128"/>
                      </a:cubicBezTo>
                      <a:close/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1653480" y="3157920"/>
                  <a:ext cx="57960" cy="57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1653480" y="3011040"/>
                  <a:ext cx="59040" cy="57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1534680" y="3070080"/>
                  <a:ext cx="58320" cy="57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297080" y="3011040"/>
                  <a:ext cx="57960" cy="57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1356120" y="2952360"/>
                  <a:ext cx="58320" cy="57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1534680" y="3246120"/>
                  <a:ext cx="58320" cy="57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V="1">
                  <a:off x="1237320" y="3246120"/>
                  <a:ext cx="57960" cy="57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V="1">
                  <a:off x="1297080" y="3128400"/>
                  <a:ext cx="57960" cy="57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V="1">
                  <a:off x="979920" y="3117600"/>
                  <a:ext cx="99000" cy="21960"/>
                </a:xfrm>
                <a:custGeom>
                  <a:avLst/>
                  <a:gdLst/>
                  <a:ahLst/>
                  <a:rect l="l" t="t" r="r" b="b"/>
                  <a:pathLst>
                    <a:path w="80" h="18">
                      <a:moveTo>
                        <a:pt x="0" y="18"/>
                      </a:moveTo>
                      <a:cubicBezTo>
                        <a:pt x="16" y="15"/>
                        <a:pt x="32" y="13"/>
                        <a:pt x="48" y="10"/>
                      </a:cubicBezTo>
                      <a:cubicBezTo>
                        <a:pt x="56" y="8"/>
                        <a:pt x="80" y="0"/>
                        <a:pt x="72" y="2"/>
                      </a:cubicBezTo>
                      <a:cubicBezTo>
                        <a:pt x="47" y="6"/>
                        <a:pt x="24" y="12"/>
                        <a:pt x="0" y="18"/>
                      </a:cubicBezTo>
                      <a:close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 flipV="1" rot="16567800">
                <a:off x="1801080" y="3033360"/>
                <a:ext cx="232560" cy="303480"/>
              </a:xfrm>
              <a:custGeom>
                <a:avLst/>
                <a:gdLst/>
                <a:ahLst/>
                <a:rect l="l" t="t" r="r" b="b"/>
                <a:pathLst>
                  <a:path w="190" h="347">
                    <a:moveTo>
                      <a:pt x="38" y="0"/>
                    </a:moveTo>
                    <a:cubicBezTo>
                      <a:pt x="63" y="51"/>
                      <a:pt x="76" y="108"/>
                      <a:pt x="102" y="160"/>
                    </a:cubicBezTo>
                    <a:cubicBezTo>
                      <a:pt x="120" y="347"/>
                      <a:pt x="97" y="162"/>
                      <a:pt x="126" y="48"/>
                    </a:cubicBezTo>
                    <a:cubicBezTo>
                      <a:pt x="128" y="37"/>
                      <a:pt x="131" y="26"/>
                      <a:pt x="134" y="16"/>
                    </a:cubicBezTo>
                    <a:cubicBezTo>
                      <a:pt x="132" y="34"/>
                      <a:pt x="115" y="194"/>
                      <a:pt x="118" y="200"/>
                    </a:cubicBezTo>
                    <a:cubicBezTo>
                      <a:pt x="125" y="217"/>
                      <a:pt x="134" y="162"/>
                      <a:pt x="150" y="152"/>
                    </a:cubicBezTo>
                    <a:cubicBezTo>
                      <a:pt x="158" y="146"/>
                      <a:pt x="174" y="145"/>
                      <a:pt x="174" y="136"/>
                    </a:cubicBezTo>
                    <a:cubicBezTo>
                      <a:pt x="174" y="127"/>
                      <a:pt x="158" y="141"/>
                      <a:pt x="150" y="144"/>
                    </a:cubicBezTo>
                    <a:cubicBezTo>
                      <a:pt x="134" y="189"/>
                      <a:pt x="125" y="234"/>
                      <a:pt x="110" y="280"/>
                    </a:cubicBezTo>
                    <a:cubicBezTo>
                      <a:pt x="102" y="256"/>
                      <a:pt x="108" y="228"/>
                      <a:pt x="94" y="208"/>
                    </a:cubicBezTo>
                    <a:cubicBezTo>
                      <a:pt x="82" y="192"/>
                      <a:pt x="46" y="176"/>
                      <a:pt x="46" y="176"/>
                    </a:cubicBezTo>
                    <a:cubicBezTo>
                      <a:pt x="43" y="168"/>
                      <a:pt x="29" y="153"/>
                      <a:pt x="38" y="152"/>
                    </a:cubicBezTo>
                    <a:cubicBezTo>
                      <a:pt x="59" y="147"/>
                      <a:pt x="92" y="172"/>
                      <a:pt x="110" y="184"/>
                    </a:cubicBezTo>
                    <a:cubicBezTo>
                      <a:pt x="112" y="192"/>
                      <a:pt x="126" y="209"/>
                      <a:pt x="118" y="208"/>
                    </a:cubicBezTo>
                    <a:cubicBezTo>
                      <a:pt x="99" y="204"/>
                      <a:pt x="70" y="176"/>
                      <a:pt x="70" y="176"/>
                    </a:cubicBezTo>
                    <a:cubicBezTo>
                      <a:pt x="54" y="152"/>
                      <a:pt x="56" y="149"/>
                      <a:pt x="30" y="136"/>
                    </a:cubicBezTo>
                    <a:cubicBezTo>
                      <a:pt x="22" y="132"/>
                      <a:pt x="0" y="122"/>
                      <a:pt x="6" y="128"/>
                    </a:cubicBezTo>
                    <a:cubicBezTo>
                      <a:pt x="23" y="145"/>
                      <a:pt x="64" y="153"/>
                      <a:pt x="86" y="168"/>
                    </a:cubicBezTo>
                    <a:cubicBezTo>
                      <a:pt x="91" y="176"/>
                      <a:pt x="97" y="183"/>
                      <a:pt x="102" y="192"/>
                    </a:cubicBezTo>
                    <a:cubicBezTo>
                      <a:pt x="107" y="202"/>
                      <a:pt x="106" y="224"/>
                      <a:pt x="118" y="224"/>
                    </a:cubicBezTo>
                    <a:cubicBezTo>
                      <a:pt x="128" y="224"/>
                      <a:pt x="122" y="202"/>
                      <a:pt x="126" y="192"/>
                    </a:cubicBezTo>
                    <a:cubicBezTo>
                      <a:pt x="130" y="175"/>
                      <a:pt x="126" y="149"/>
                      <a:pt x="142" y="144"/>
                    </a:cubicBezTo>
                    <a:cubicBezTo>
                      <a:pt x="158" y="138"/>
                      <a:pt x="190" y="133"/>
                      <a:pt x="190" y="112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736560" y="3598920"/>
            <a:ext cx="3504960" cy="591840"/>
            <a:chOff x="736560" y="3598920"/>
            <a:chExt cx="3504960" cy="591840"/>
          </a:xfrm>
        </p:grpSpPr>
        <p:sp>
          <p:nvSpPr>
            <p:cNvPr id="357" name=""/>
            <p:cNvSpPr/>
            <p:nvPr/>
          </p:nvSpPr>
          <p:spPr>
            <a:xfrm flipV="1">
              <a:off x="736560" y="3598920"/>
              <a:ext cx="3504960" cy="591840"/>
            </a:xfrm>
            <a:prstGeom prst="flowChartTerminator">
              <a:avLst/>
            </a:prstGeom>
            <a:gradFill rotWithShape="0">
              <a:gsLst>
                <a:gs pos="0">
                  <a:srgbClr val="629709"/>
                </a:gs>
                <a:gs pos="50000">
                  <a:srgbClr val="a1f8a7"/>
                </a:gs>
                <a:gs pos="100000">
                  <a:srgbClr val="629709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77600" y="3701520"/>
              <a:ext cx="749520" cy="333360"/>
              <a:chOff x="777600" y="3701520"/>
              <a:chExt cx="749520" cy="33336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777600" y="3701520"/>
                <a:ext cx="610560" cy="326880"/>
                <a:chOff x="777600" y="3701520"/>
                <a:chExt cx="610560" cy="326880"/>
              </a:xfrm>
            </p:grpSpPr>
            <p:sp>
              <p:nvSpPr>
                <p:cNvPr id="360" name=""/>
                <p:cNvSpPr/>
                <p:nvPr/>
              </p:nvSpPr>
              <p:spPr>
                <a:xfrm flipV="1" rot="4285200">
                  <a:off x="788760" y="3786840"/>
                  <a:ext cx="199080" cy="166680"/>
                </a:xfrm>
                <a:custGeom>
                  <a:avLst/>
                  <a:gdLst/>
                  <a:ahLst/>
                  <a:rect l="l" t="t" r="r" b="b"/>
                  <a:pathLst>
                    <a:path w="190" h="347">
                      <a:moveTo>
                        <a:pt x="38" y="0"/>
                      </a:moveTo>
                      <a:cubicBezTo>
                        <a:pt x="63" y="51"/>
                        <a:pt x="76" y="108"/>
                        <a:pt x="102" y="160"/>
                      </a:cubicBezTo>
                      <a:cubicBezTo>
                        <a:pt x="120" y="347"/>
                        <a:pt x="97" y="162"/>
                        <a:pt x="126" y="48"/>
                      </a:cubicBezTo>
                      <a:cubicBezTo>
                        <a:pt x="128" y="37"/>
                        <a:pt x="131" y="26"/>
                        <a:pt x="134" y="16"/>
                      </a:cubicBezTo>
                      <a:cubicBezTo>
                        <a:pt x="132" y="34"/>
                        <a:pt x="115" y="194"/>
                        <a:pt x="118" y="200"/>
                      </a:cubicBezTo>
                      <a:cubicBezTo>
                        <a:pt x="125" y="217"/>
                        <a:pt x="134" y="162"/>
                        <a:pt x="150" y="152"/>
                      </a:cubicBezTo>
                      <a:cubicBezTo>
                        <a:pt x="158" y="146"/>
                        <a:pt x="174" y="145"/>
                        <a:pt x="174" y="136"/>
                      </a:cubicBezTo>
                      <a:cubicBezTo>
                        <a:pt x="174" y="127"/>
                        <a:pt x="158" y="141"/>
                        <a:pt x="150" y="144"/>
                      </a:cubicBezTo>
                      <a:cubicBezTo>
                        <a:pt x="134" y="189"/>
                        <a:pt x="125" y="234"/>
                        <a:pt x="110" y="280"/>
                      </a:cubicBezTo>
                      <a:cubicBezTo>
                        <a:pt x="102" y="256"/>
                        <a:pt x="108" y="228"/>
                        <a:pt x="94" y="208"/>
                      </a:cubicBezTo>
                      <a:cubicBezTo>
                        <a:pt x="82" y="192"/>
                        <a:pt x="46" y="176"/>
                        <a:pt x="46" y="176"/>
                      </a:cubicBezTo>
                      <a:cubicBezTo>
                        <a:pt x="43" y="168"/>
                        <a:pt x="29" y="153"/>
                        <a:pt x="38" y="152"/>
                      </a:cubicBezTo>
                      <a:cubicBezTo>
                        <a:pt x="59" y="147"/>
                        <a:pt x="92" y="172"/>
                        <a:pt x="110" y="184"/>
                      </a:cubicBezTo>
                      <a:cubicBezTo>
                        <a:pt x="112" y="192"/>
                        <a:pt x="126" y="209"/>
                        <a:pt x="118" y="208"/>
                      </a:cubicBezTo>
                      <a:cubicBezTo>
                        <a:pt x="99" y="204"/>
                        <a:pt x="70" y="176"/>
                        <a:pt x="70" y="176"/>
                      </a:cubicBezTo>
                      <a:cubicBezTo>
                        <a:pt x="54" y="152"/>
                        <a:pt x="56" y="149"/>
                        <a:pt x="30" y="136"/>
                      </a:cubicBezTo>
                      <a:cubicBezTo>
                        <a:pt x="22" y="132"/>
                        <a:pt x="0" y="122"/>
                        <a:pt x="6" y="128"/>
                      </a:cubicBezTo>
                      <a:cubicBezTo>
                        <a:pt x="23" y="145"/>
                        <a:pt x="64" y="153"/>
                        <a:pt x="86" y="168"/>
                      </a:cubicBezTo>
                      <a:cubicBezTo>
                        <a:pt x="91" y="176"/>
                        <a:pt x="97" y="183"/>
                        <a:pt x="102" y="192"/>
                      </a:cubicBezTo>
                      <a:cubicBezTo>
                        <a:pt x="107" y="202"/>
                        <a:pt x="106" y="224"/>
                        <a:pt x="118" y="224"/>
                      </a:cubicBezTo>
                      <a:cubicBezTo>
                        <a:pt x="128" y="224"/>
                        <a:pt x="122" y="202"/>
                        <a:pt x="126" y="192"/>
                      </a:cubicBezTo>
                      <a:cubicBezTo>
                        <a:pt x="130" y="175"/>
                        <a:pt x="126" y="149"/>
                        <a:pt x="142" y="144"/>
                      </a:cubicBezTo>
                      <a:cubicBezTo>
                        <a:pt x="158" y="138"/>
                        <a:pt x="190" y="133"/>
                        <a:pt x="190" y="11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V="1">
                  <a:off x="966960" y="3701520"/>
                  <a:ext cx="421200" cy="326880"/>
                </a:xfrm>
                <a:custGeom>
                  <a:avLst/>
                  <a:gdLst/>
                  <a:ahLst/>
                  <a:rect l="l" t="t" r="r" b="b"/>
                  <a:pathLst>
                    <a:path w="886" h="312">
                      <a:moveTo>
                        <a:pt x="14" y="128"/>
                      </a:moveTo>
                      <a:cubicBezTo>
                        <a:pt x="40" y="119"/>
                        <a:pt x="59" y="104"/>
                        <a:pt x="86" y="96"/>
                      </a:cubicBezTo>
                      <a:cubicBezTo>
                        <a:pt x="107" y="64"/>
                        <a:pt x="124" y="67"/>
                        <a:pt x="158" y="48"/>
                      </a:cubicBezTo>
                      <a:cubicBezTo>
                        <a:pt x="239" y="1"/>
                        <a:pt x="253" y="7"/>
                        <a:pt x="366" y="0"/>
                      </a:cubicBezTo>
                      <a:cubicBezTo>
                        <a:pt x="450" y="5"/>
                        <a:pt x="530" y="15"/>
                        <a:pt x="614" y="24"/>
                      </a:cubicBezTo>
                      <a:cubicBezTo>
                        <a:pt x="669" y="42"/>
                        <a:pt x="739" y="43"/>
                        <a:pt x="790" y="72"/>
                      </a:cubicBezTo>
                      <a:cubicBezTo>
                        <a:pt x="825" y="91"/>
                        <a:pt x="848" y="115"/>
                        <a:pt x="886" y="128"/>
                      </a:cubicBezTo>
                      <a:cubicBezTo>
                        <a:pt x="836" y="144"/>
                        <a:pt x="753" y="105"/>
                        <a:pt x="702" y="104"/>
                      </a:cubicBezTo>
                      <a:cubicBezTo>
                        <a:pt x="608" y="101"/>
                        <a:pt x="515" y="98"/>
                        <a:pt x="422" y="96"/>
                      </a:cubicBezTo>
                      <a:cubicBezTo>
                        <a:pt x="284" y="107"/>
                        <a:pt x="152" y="122"/>
                        <a:pt x="14" y="128"/>
                      </a:cubicBezTo>
                      <a:cubicBezTo>
                        <a:pt x="11" y="136"/>
                        <a:pt x="0" y="145"/>
                        <a:pt x="6" y="152"/>
                      </a:cubicBezTo>
                      <a:cubicBezTo>
                        <a:pt x="20" y="171"/>
                        <a:pt x="54" y="161"/>
                        <a:pt x="78" y="168"/>
                      </a:cubicBezTo>
                      <a:cubicBezTo>
                        <a:pt x="129" y="182"/>
                        <a:pt x="175" y="195"/>
                        <a:pt x="230" y="200"/>
                      </a:cubicBezTo>
                      <a:cubicBezTo>
                        <a:pt x="280" y="203"/>
                        <a:pt x="331" y="205"/>
                        <a:pt x="382" y="208"/>
                      </a:cubicBezTo>
                      <a:cubicBezTo>
                        <a:pt x="547" y="189"/>
                        <a:pt x="706" y="198"/>
                        <a:pt x="862" y="136"/>
                      </a:cubicBezTo>
                      <a:cubicBezTo>
                        <a:pt x="852" y="149"/>
                        <a:pt x="831" y="182"/>
                        <a:pt x="822" y="192"/>
                      </a:cubicBezTo>
                      <a:cubicBezTo>
                        <a:pt x="794" y="219"/>
                        <a:pt x="768" y="227"/>
                        <a:pt x="734" y="240"/>
                      </a:cubicBezTo>
                      <a:cubicBezTo>
                        <a:pt x="672" y="262"/>
                        <a:pt x="611" y="283"/>
                        <a:pt x="550" y="304"/>
                      </a:cubicBezTo>
                      <a:cubicBezTo>
                        <a:pt x="350" y="291"/>
                        <a:pt x="137" y="312"/>
                        <a:pt x="14" y="128"/>
                      </a:cubicBezTo>
                      <a:close/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1290960" y="3904200"/>
                  <a:ext cx="31680" cy="4896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3249">
                      <a:moveTo>
                        <a:pt x="3600" y="0"/>
                      </a:moveTo>
                      <a:arcTo wR="3600" hR="3600" stAng="16200000" swAng="-5400000"/>
                      <a:lnTo>
                        <a:pt x="0" y="29649"/>
                      </a:lnTo>
                      <a:arcTo wR="3600" hR="3600" stAng="10800000" swAng="-5400000"/>
                      <a:lnTo>
                        <a:pt x="18000" y="33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1290960" y="3778200"/>
                  <a:ext cx="32040" cy="48960"/>
                </a:xfrm>
                <a:custGeom>
                  <a:avLst/>
                  <a:gdLst>
                    <a:gd name="textAreaLeft" fmla="*/ 1440 w 32040"/>
                    <a:gd name="textAreaRight" fmla="*/ 30600 w 3204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2880">
                      <a:moveTo>
                        <a:pt x="3600" y="0"/>
                      </a:moveTo>
                      <a:arcTo wR="3600" hR="3600" stAng="16200000" swAng="-5400000"/>
                      <a:lnTo>
                        <a:pt x="0" y="29280"/>
                      </a:lnTo>
                      <a:arcTo wR="3600" hR="3600" stAng="10800000" swAng="-5400000"/>
                      <a:lnTo>
                        <a:pt x="18000" y="3288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1226160" y="3827880"/>
                  <a:ext cx="31680" cy="4932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9320"/>
                    <a:gd name="textAreaBottom" fmla="*/ 47880 h 49320"/>
                  </a:gdLst>
                  <a:ahLst/>
                  <a:rect l="textAreaLeft" t="textAreaTop" r="textAreaRight" b="textAreaBottom"/>
                  <a:pathLst>
                    <a:path w="21600" h="33492">
                      <a:moveTo>
                        <a:pt x="3600" y="0"/>
                      </a:moveTo>
                      <a:arcTo wR="3600" hR="3600" stAng="16200000" swAng="-5400000"/>
                      <a:lnTo>
                        <a:pt x="0" y="29892"/>
                      </a:lnTo>
                      <a:arcTo wR="3600" hR="3600" stAng="10800000" swAng="-5400000"/>
                      <a:lnTo>
                        <a:pt x="18000" y="3349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1096560" y="3778200"/>
                  <a:ext cx="31680" cy="4896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3249">
                      <a:moveTo>
                        <a:pt x="3600" y="0"/>
                      </a:moveTo>
                      <a:arcTo wR="3600" hR="3600" stAng="16200000" swAng="-5400000"/>
                      <a:lnTo>
                        <a:pt x="0" y="29649"/>
                      </a:lnTo>
                      <a:arcTo wR="3600" hR="3600" stAng="10800000" swAng="-5400000"/>
                      <a:lnTo>
                        <a:pt x="18000" y="33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1128960" y="3727800"/>
                  <a:ext cx="31680" cy="4896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3249">
                      <a:moveTo>
                        <a:pt x="3600" y="0"/>
                      </a:moveTo>
                      <a:arcTo wR="3600" hR="3600" stAng="16200000" swAng="-5400000"/>
                      <a:lnTo>
                        <a:pt x="0" y="29649"/>
                      </a:lnTo>
                      <a:arcTo wR="3600" hR="3600" stAng="10800000" swAng="-5400000"/>
                      <a:lnTo>
                        <a:pt x="18000" y="33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V="1">
                  <a:off x="1226160" y="3978720"/>
                  <a:ext cx="31680" cy="4932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9320"/>
                    <a:gd name="textAreaBottom" fmla="*/ 47880 h 49320"/>
                  </a:gdLst>
                  <a:ahLst/>
                  <a:rect l="textAreaLeft" t="textAreaTop" r="textAreaRight" b="textAreaBottom"/>
                  <a:pathLst>
                    <a:path w="21600" h="33492">
                      <a:moveTo>
                        <a:pt x="3600" y="0"/>
                      </a:moveTo>
                      <a:arcTo wR="3600" hR="3600" stAng="16200000" swAng="-5400000"/>
                      <a:lnTo>
                        <a:pt x="0" y="29892"/>
                      </a:lnTo>
                      <a:arcTo wR="3600" hR="3600" stAng="10800000" swAng="-5400000"/>
                      <a:lnTo>
                        <a:pt x="18000" y="3349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1064160" y="3978720"/>
                  <a:ext cx="31680" cy="4932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9320"/>
                    <a:gd name="textAreaBottom" fmla="*/ 47880 h 49320"/>
                  </a:gdLst>
                  <a:ahLst/>
                  <a:rect l="textAreaLeft" t="textAreaTop" r="textAreaRight" b="textAreaBottom"/>
                  <a:pathLst>
                    <a:path w="21600" h="33492">
                      <a:moveTo>
                        <a:pt x="3600" y="0"/>
                      </a:moveTo>
                      <a:arcTo wR="3600" hR="3600" stAng="16200000" swAng="-5400000"/>
                      <a:lnTo>
                        <a:pt x="0" y="29892"/>
                      </a:lnTo>
                      <a:arcTo wR="3600" hR="3600" stAng="10800000" swAng="-5400000"/>
                      <a:lnTo>
                        <a:pt x="18000" y="3349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1096560" y="3879000"/>
                  <a:ext cx="31680" cy="4896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3249">
                      <a:moveTo>
                        <a:pt x="3600" y="0"/>
                      </a:moveTo>
                      <a:arcTo wR="3600" hR="3600" stAng="16200000" swAng="-5400000"/>
                      <a:lnTo>
                        <a:pt x="0" y="29649"/>
                      </a:lnTo>
                      <a:arcTo wR="3600" hR="3600" stAng="10800000" swAng="-5400000"/>
                      <a:lnTo>
                        <a:pt x="18000" y="33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923760" y="3869280"/>
                  <a:ext cx="54000" cy="18720"/>
                </a:xfrm>
                <a:custGeom>
                  <a:avLst/>
                  <a:gdLst/>
                  <a:ahLst/>
                  <a:rect l="l" t="t" r="r" b="b"/>
                  <a:pathLst>
                    <a:path w="80" h="18">
                      <a:moveTo>
                        <a:pt x="0" y="18"/>
                      </a:moveTo>
                      <a:cubicBezTo>
                        <a:pt x="16" y="15"/>
                        <a:pt x="32" y="13"/>
                        <a:pt x="48" y="10"/>
                      </a:cubicBezTo>
                      <a:cubicBezTo>
                        <a:pt x="56" y="8"/>
                        <a:pt x="80" y="0"/>
                        <a:pt x="72" y="2"/>
                      </a:cubicBezTo>
                      <a:cubicBezTo>
                        <a:pt x="47" y="6"/>
                        <a:pt x="24" y="12"/>
                        <a:pt x="0" y="18"/>
                      </a:cubicBezTo>
                      <a:close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 flipV="1" rot="16567800">
                <a:off x="1334520" y="3843720"/>
                <a:ext cx="199080" cy="165240"/>
              </a:xfrm>
              <a:custGeom>
                <a:avLst/>
                <a:gdLst/>
                <a:ahLst/>
                <a:rect l="l" t="t" r="r" b="b"/>
                <a:pathLst>
                  <a:path w="190" h="347">
                    <a:moveTo>
                      <a:pt x="38" y="0"/>
                    </a:moveTo>
                    <a:cubicBezTo>
                      <a:pt x="63" y="51"/>
                      <a:pt x="76" y="108"/>
                      <a:pt x="102" y="160"/>
                    </a:cubicBezTo>
                    <a:cubicBezTo>
                      <a:pt x="120" y="347"/>
                      <a:pt x="97" y="162"/>
                      <a:pt x="126" y="48"/>
                    </a:cubicBezTo>
                    <a:cubicBezTo>
                      <a:pt x="128" y="37"/>
                      <a:pt x="131" y="26"/>
                      <a:pt x="134" y="16"/>
                    </a:cubicBezTo>
                    <a:cubicBezTo>
                      <a:pt x="132" y="34"/>
                      <a:pt x="115" y="194"/>
                      <a:pt x="118" y="200"/>
                    </a:cubicBezTo>
                    <a:cubicBezTo>
                      <a:pt x="125" y="217"/>
                      <a:pt x="134" y="162"/>
                      <a:pt x="150" y="152"/>
                    </a:cubicBezTo>
                    <a:cubicBezTo>
                      <a:pt x="158" y="146"/>
                      <a:pt x="174" y="145"/>
                      <a:pt x="174" y="136"/>
                    </a:cubicBezTo>
                    <a:cubicBezTo>
                      <a:pt x="174" y="127"/>
                      <a:pt x="158" y="141"/>
                      <a:pt x="150" y="144"/>
                    </a:cubicBezTo>
                    <a:cubicBezTo>
                      <a:pt x="134" y="189"/>
                      <a:pt x="125" y="234"/>
                      <a:pt x="110" y="280"/>
                    </a:cubicBezTo>
                    <a:cubicBezTo>
                      <a:pt x="102" y="256"/>
                      <a:pt x="108" y="228"/>
                      <a:pt x="94" y="208"/>
                    </a:cubicBezTo>
                    <a:cubicBezTo>
                      <a:pt x="82" y="192"/>
                      <a:pt x="46" y="176"/>
                      <a:pt x="46" y="176"/>
                    </a:cubicBezTo>
                    <a:cubicBezTo>
                      <a:pt x="43" y="168"/>
                      <a:pt x="29" y="153"/>
                      <a:pt x="38" y="152"/>
                    </a:cubicBezTo>
                    <a:cubicBezTo>
                      <a:pt x="59" y="147"/>
                      <a:pt x="92" y="172"/>
                      <a:pt x="110" y="184"/>
                    </a:cubicBezTo>
                    <a:cubicBezTo>
                      <a:pt x="112" y="192"/>
                      <a:pt x="126" y="209"/>
                      <a:pt x="118" y="208"/>
                    </a:cubicBezTo>
                    <a:cubicBezTo>
                      <a:pt x="99" y="204"/>
                      <a:pt x="70" y="176"/>
                      <a:pt x="70" y="176"/>
                    </a:cubicBezTo>
                    <a:cubicBezTo>
                      <a:pt x="54" y="152"/>
                      <a:pt x="56" y="149"/>
                      <a:pt x="30" y="136"/>
                    </a:cubicBezTo>
                    <a:cubicBezTo>
                      <a:pt x="22" y="132"/>
                      <a:pt x="0" y="122"/>
                      <a:pt x="6" y="128"/>
                    </a:cubicBezTo>
                    <a:cubicBezTo>
                      <a:pt x="23" y="145"/>
                      <a:pt x="64" y="153"/>
                      <a:pt x="86" y="168"/>
                    </a:cubicBezTo>
                    <a:cubicBezTo>
                      <a:pt x="91" y="176"/>
                      <a:pt x="97" y="183"/>
                      <a:pt x="102" y="192"/>
                    </a:cubicBezTo>
                    <a:cubicBezTo>
                      <a:pt x="107" y="202"/>
                      <a:pt x="106" y="224"/>
                      <a:pt x="118" y="224"/>
                    </a:cubicBezTo>
                    <a:cubicBezTo>
                      <a:pt x="128" y="224"/>
                      <a:pt x="122" y="202"/>
                      <a:pt x="126" y="192"/>
                    </a:cubicBezTo>
                    <a:cubicBezTo>
                      <a:pt x="130" y="175"/>
                      <a:pt x="126" y="149"/>
                      <a:pt x="142" y="144"/>
                    </a:cubicBezTo>
                    <a:cubicBezTo>
                      <a:pt x="158" y="138"/>
                      <a:pt x="190" y="133"/>
                      <a:pt x="190" y="112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1499400" y="3701520"/>
              <a:ext cx="749520" cy="333360"/>
              <a:chOff x="1499400" y="3701520"/>
              <a:chExt cx="749520" cy="33336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1499400" y="3701520"/>
                <a:ext cx="610560" cy="326880"/>
                <a:chOff x="1499400" y="3701520"/>
                <a:chExt cx="610560" cy="326880"/>
              </a:xfrm>
            </p:grpSpPr>
            <p:sp>
              <p:nvSpPr>
                <p:cNvPr id="374" name=""/>
                <p:cNvSpPr/>
                <p:nvPr/>
              </p:nvSpPr>
              <p:spPr>
                <a:xfrm flipV="1" rot="4285200">
                  <a:off x="1510560" y="3786840"/>
                  <a:ext cx="199080" cy="166680"/>
                </a:xfrm>
                <a:custGeom>
                  <a:avLst/>
                  <a:gdLst/>
                  <a:ahLst/>
                  <a:rect l="l" t="t" r="r" b="b"/>
                  <a:pathLst>
                    <a:path w="190" h="347">
                      <a:moveTo>
                        <a:pt x="38" y="0"/>
                      </a:moveTo>
                      <a:cubicBezTo>
                        <a:pt x="63" y="51"/>
                        <a:pt x="76" y="108"/>
                        <a:pt x="102" y="160"/>
                      </a:cubicBezTo>
                      <a:cubicBezTo>
                        <a:pt x="120" y="347"/>
                        <a:pt x="97" y="162"/>
                        <a:pt x="126" y="48"/>
                      </a:cubicBezTo>
                      <a:cubicBezTo>
                        <a:pt x="128" y="37"/>
                        <a:pt x="131" y="26"/>
                        <a:pt x="134" y="16"/>
                      </a:cubicBezTo>
                      <a:cubicBezTo>
                        <a:pt x="132" y="34"/>
                        <a:pt x="115" y="194"/>
                        <a:pt x="118" y="200"/>
                      </a:cubicBezTo>
                      <a:cubicBezTo>
                        <a:pt x="125" y="217"/>
                        <a:pt x="134" y="162"/>
                        <a:pt x="150" y="152"/>
                      </a:cubicBezTo>
                      <a:cubicBezTo>
                        <a:pt x="158" y="146"/>
                        <a:pt x="174" y="145"/>
                        <a:pt x="174" y="136"/>
                      </a:cubicBezTo>
                      <a:cubicBezTo>
                        <a:pt x="174" y="127"/>
                        <a:pt x="158" y="141"/>
                        <a:pt x="150" y="144"/>
                      </a:cubicBezTo>
                      <a:cubicBezTo>
                        <a:pt x="134" y="189"/>
                        <a:pt x="125" y="234"/>
                        <a:pt x="110" y="280"/>
                      </a:cubicBezTo>
                      <a:cubicBezTo>
                        <a:pt x="102" y="256"/>
                        <a:pt x="108" y="228"/>
                        <a:pt x="94" y="208"/>
                      </a:cubicBezTo>
                      <a:cubicBezTo>
                        <a:pt x="82" y="192"/>
                        <a:pt x="46" y="176"/>
                        <a:pt x="46" y="176"/>
                      </a:cubicBezTo>
                      <a:cubicBezTo>
                        <a:pt x="43" y="168"/>
                        <a:pt x="29" y="153"/>
                        <a:pt x="38" y="152"/>
                      </a:cubicBezTo>
                      <a:cubicBezTo>
                        <a:pt x="59" y="147"/>
                        <a:pt x="92" y="172"/>
                        <a:pt x="110" y="184"/>
                      </a:cubicBezTo>
                      <a:cubicBezTo>
                        <a:pt x="112" y="192"/>
                        <a:pt x="126" y="209"/>
                        <a:pt x="118" y="208"/>
                      </a:cubicBezTo>
                      <a:cubicBezTo>
                        <a:pt x="99" y="204"/>
                        <a:pt x="70" y="176"/>
                        <a:pt x="70" y="176"/>
                      </a:cubicBezTo>
                      <a:cubicBezTo>
                        <a:pt x="54" y="152"/>
                        <a:pt x="56" y="149"/>
                        <a:pt x="30" y="136"/>
                      </a:cubicBezTo>
                      <a:cubicBezTo>
                        <a:pt x="22" y="132"/>
                        <a:pt x="0" y="122"/>
                        <a:pt x="6" y="128"/>
                      </a:cubicBezTo>
                      <a:cubicBezTo>
                        <a:pt x="23" y="145"/>
                        <a:pt x="64" y="153"/>
                        <a:pt x="86" y="168"/>
                      </a:cubicBezTo>
                      <a:cubicBezTo>
                        <a:pt x="91" y="176"/>
                        <a:pt x="97" y="183"/>
                        <a:pt x="102" y="192"/>
                      </a:cubicBezTo>
                      <a:cubicBezTo>
                        <a:pt x="107" y="202"/>
                        <a:pt x="106" y="224"/>
                        <a:pt x="118" y="224"/>
                      </a:cubicBezTo>
                      <a:cubicBezTo>
                        <a:pt x="128" y="224"/>
                        <a:pt x="122" y="202"/>
                        <a:pt x="126" y="192"/>
                      </a:cubicBezTo>
                      <a:cubicBezTo>
                        <a:pt x="130" y="175"/>
                        <a:pt x="126" y="149"/>
                        <a:pt x="142" y="144"/>
                      </a:cubicBezTo>
                      <a:cubicBezTo>
                        <a:pt x="158" y="138"/>
                        <a:pt x="190" y="133"/>
                        <a:pt x="190" y="11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1688760" y="3701520"/>
                  <a:ext cx="421200" cy="326880"/>
                </a:xfrm>
                <a:custGeom>
                  <a:avLst/>
                  <a:gdLst/>
                  <a:ahLst/>
                  <a:rect l="l" t="t" r="r" b="b"/>
                  <a:pathLst>
                    <a:path w="886" h="312">
                      <a:moveTo>
                        <a:pt x="14" y="128"/>
                      </a:moveTo>
                      <a:cubicBezTo>
                        <a:pt x="40" y="119"/>
                        <a:pt x="59" y="104"/>
                        <a:pt x="86" y="96"/>
                      </a:cubicBezTo>
                      <a:cubicBezTo>
                        <a:pt x="107" y="64"/>
                        <a:pt x="124" y="67"/>
                        <a:pt x="158" y="48"/>
                      </a:cubicBezTo>
                      <a:cubicBezTo>
                        <a:pt x="239" y="1"/>
                        <a:pt x="253" y="7"/>
                        <a:pt x="366" y="0"/>
                      </a:cubicBezTo>
                      <a:cubicBezTo>
                        <a:pt x="450" y="5"/>
                        <a:pt x="530" y="15"/>
                        <a:pt x="614" y="24"/>
                      </a:cubicBezTo>
                      <a:cubicBezTo>
                        <a:pt x="669" y="42"/>
                        <a:pt x="739" y="43"/>
                        <a:pt x="790" y="72"/>
                      </a:cubicBezTo>
                      <a:cubicBezTo>
                        <a:pt x="825" y="91"/>
                        <a:pt x="848" y="115"/>
                        <a:pt x="886" y="128"/>
                      </a:cubicBezTo>
                      <a:cubicBezTo>
                        <a:pt x="836" y="144"/>
                        <a:pt x="753" y="105"/>
                        <a:pt x="702" y="104"/>
                      </a:cubicBezTo>
                      <a:cubicBezTo>
                        <a:pt x="608" y="101"/>
                        <a:pt x="515" y="98"/>
                        <a:pt x="422" y="96"/>
                      </a:cubicBezTo>
                      <a:cubicBezTo>
                        <a:pt x="284" y="107"/>
                        <a:pt x="152" y="122"/>
                        <a:pt x="14" y="128"/>
                      </a:cubicBezTo>
                      <a:cubicBezTo>
                        <a:pt x="11" y="136"/>
                        <a:pt x="0" y="145"/>
                        <a:pt x="6" y="152"/>
                      </a:cubicBezTo>
                      <a:cubicBezTo>
                        <a:pt x="20" y="171"/>
                        <a:pt x="54" y="161"/>
                        <a:pt x="78" y="168"/>
                      </a:cubicBezTo>
                      <a:cubicBezTo>
                        <a:pt x="129" y="182"/>
                        <a:pt x="175" y="195"/>
                        <a:pt x="230" y="200"/>
                      </a:cubicBezTo>
                      <a:cubicBezTo>
                        <a:pt x="280" y="203"/>
                        <a:pt x="331" y="205"/>
                        <a:pt x="382" y="208"/>
                      </a:cubicBezTo>
                      <a:cubicBezTo>
                        <a:pt x="547" y="189"/>
                        <a:pt x="706" y="198"/>
                        <a:pt x="862" y="136"/>
                      </a:cubicBezTo>
                      <a:cubicBezTo>
                        <a:pt x="852" y="149"/>
                        <a:pt x="831" y="182"/>
                        <a:pt x="822" y="192"/>
                      </a:cubicBezTo>
                      <a:cubicBezTo>
                        <a:pt x="794" y="219"/>
                        <a:pt x="768" y="227"/>
                        <a:pt x="734" y="240"/>
                      </a:cubicBezTo>
                      <a:cubicBezTo>
                        <a:pt x="672" y="262"/>
                        <a:pt x="611" y="283"/>
                        <a:pt x="550" y="304"/>
                      </a:cubicBezTo>
                      <a:cubicBezTo>
                        <a:pt x="350" y="291"/>
                        <a:pt x="137" y="312"/>
                        <a:pt x="14" y="128"/>
                      </a:cubicBezTo>
                      <a:close/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2012760" y="3904200"/>
                  <a:ext cx="31680" cy="4896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3249">
                      <a:moveTo>
                        <a:pt x="3600" y="0"/>
                      </a:moveTo>
                      <a:arcTo wR="3600" hR="3600" stAng="16200000" swAng="-5400000"/>
                      <a:lnTo>
                        <a:pt x="0" y="29649"/>
                      </a:lnTo>
                      <a:arcTo wR="3600" hR="3600" stAng="10800000" swAng="-5400000"/>
                      <a:lnTo>
                        <a:pt x="18000" y="33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2012760" y="3778200"/>
                  <a:ext cx="32040" cy="48960"/>
                </a:xfrm>
                <a:custGeom>
                  <a:avLst/>
                  <a:gdLst>
                    <a:gd name="textAreaLeft" fmla="*/ 1440 w 32040"/>
                    <a:gd name="textAreaRight" fmla="*/ 30600 w 3204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2880">
                      <a:moveTo>
                        <a:pt x="3600" y="0"/>
                      </a:moveTo>
                      <a:arcTo wR="3600" hR="3600" stAng="16200000" swAng="-5400000"/>
                      <a:lnTo>
                        <a:pt x="0" y="29280"/>
                      </a:lnTo>
                      <a:arcTo wR="3600" hR="3600" stAng="10800000" swAng="-5400000"/>
                      <a:lnTo>
                        <a:pt x="18000" y="3288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1947960" y="3827880"/>
                  <a:ext cx="31680" cy="4932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9320"/>
                    <a:gd name="textAreaBottom" fmla="*/ 47880 h 49320"/>
                  </a:gdLst>
                  <a:ahLst/>
                  <a:rect l="textAreaLeft" t="textAreaTop" r="textAreaRight" b="textAreaBottom"/>
                  <a:pathLst>
                    <a:path w="21600" h="33492">
                      <a:moveTo>
                        <a:pt x="3600" y="0"/>
                      </a:moveTo>
                      <a:arcTo wR="3600" hR="3600" stAng="16200000" swAng="-5400000"/>
                      <a:lnTo>
                        <a:pt x="0" y="29892"/>
                      </a:lnTo>
                      <a:arcTo wR="3600" hR="3600" stAng="10800000" swAng="-5400000"/>
                      <a:lnTo>
                        <a:pt x="18000" y="3349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1818360" y="3778200"/>
                  <a:ext cx="31680" cy="4896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3249">
                      <a:moveTo>
                        <a:pt x="3600" y="0"/>
                      </a:moveTo>
                      <a:arcTo wR="3600" hR="3600" stAng="16200000" swAng="-5400000"/>
                      <a:lnTo>
                        <a:pt x="0" y="29649"/>
                      </a:lnTo>
                      <a:arcTo wR="3600" hR="3600" stAng="10800000" swAng="-5400000"/>
                      <a:lnTo>
                        <a:pt x="18000" y="33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1850760" y="3727800"/>
                  <a:ext cx="31680" cy="4896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3249">
                      <a:moveTo>
                        <a:pt x="3600" y="0"/>
                      </a:moveTo>
                      <a:arcTo wR="3600" hR="3600" stAng="16200000" swAng="-5400000"/>
                      <a:lnTo>
                        <a:pt x="0" y="29649"/>
                      </a:lnTo>
                      <a:arcTo wR="3600" hR="3600" stAng="10800000" swAng="-5400000"/>
                      <a:lnTo>
                        <a:pt x="18000" y="33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1947960" y="3978720"/>
                  <a:ext cx="31680" cy="4932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9320"/>
                    <a:gd name="textAreaBottom" fmla="*/ 47880 h 49320"/>
                  </a:gdLst>
                  <a:ahLst/>
                  <a:rect l="textAreaLeft" t="textAreaTop" r="textAreaRight" b="textAreaBottom"/>
                  <a:pathLst>
                    <a:path w="21600" h="33492">
                      <a:moveTo>
                        <a:pt x="3600" y="0"/>
                      </a:moveTo>
                      <a:arcTo wR="3600" hR="3600" stAng="16200000" swAng="-5400000"/>
                      <a:lnTo>
                        <a:pt x="0" y="29892"/>
                      </a:lnTo>
                      <a:arcTo wR="3600" hR="3600" stAng="10800000" swAng="-5400000"/>
                      <a:lnTo>
                        <a:pt x="18000" y="3349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1785960" y="3978720"/>
                  <a:ext cx="31680" cy="4932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9320"/>
                    <a:gd name="textAreaBottom" fmla="*/ 47880 h 49320"/>
                  </a:gdLst>
                  <a:ahLst/>
                  <a:rect l="textAreaLeft" t="textAreaTop" r="textAreaRight" b="textAreaBottom"/>
                  <a:pathLst>
                    <a:path w="21600" h="33492">
                      <a:moveTo>
                        <a:pt x="3600" y="0"/>
                      </a:moveTo>
                      <a:arcTo wR="3600" hR="3600" stAng="16200000" swAng="-5400000"/>
                      <a:lnTo>
                        <a:pt x="0" y="29892"/>
                      </a:lnTo>
                      <a:arcTo wR="3600" hR="3600" stAng="10800000" swAng="-5400000"/>
                      <a:lnTo>
                        <a:pt x="18000" y="3349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1818360" y="3879000"/>
                  <a:ext cx="31680" cy="4896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3249">
                      <a:moveTo>
                        <a:pt x="3600" y="0"/>
                      </a:moveTo>
                      <a:arcTo wR="3600" hR="3600" stAng="16200000" swAng="-5400000"/>
                      <a:lnTo>
                        <a:pt x="0" y="29649"/>
                      </a:lnTo>
                      <a:arcTo wR="3600" hR="3600" stAng="10800000" swAng="-5400000"/>
                      <a:lnTo>
                        <a:pt x="18000" y="33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1645560" y="3869280"/>
                  <a:ext cx="54000" cy="18720"/>
                </a:xfrm>
                <a:custGeom>
                  <a:avLst/>
                  <a:gdLst/>
                  <a:ahLst/>
                  <a:rect l="l" t="t" r="r" b="b"/>
                  <a:pathLst>
                    <a:path w="80" h="18">
                      <a:moveTo>
                        <a:pt x="0" y="18"/>
                      </a:moveTo>
                      <a:cubicBezTo>
                        <a:pt x="16" y="15"/>
                        <a:pt x="32" y="13"/>
                        <a:pt x="48" y="10"/>
                      </a:cubicBezTo>
                      <a:cubicBezTo>
                        <a:pt x="56" y="8"/>
                        <a:pt x="80" y="0"/>
                        <a:pt x="72" y="2"/>
                      </a:cubicBezTo>
                      <a:cubicBezTo>
                        <a:pt x="47" y="6"/>
                        <a:pt x="24" y="12"/>
                        <a:pt x="0" y="18"/>
                      </a:cubicBezTo>
                      <a:close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 flipV="1" rot="16567800">
                <a:off x="2056320" y="3843720"/>
                <a:ext cx="199080" cy="165240"/>
              </a:xfrm>
              <a:custGeom>
                <a:avLst/>
                <a:gdLst/>
                <a:ahLst/>
                <a:rect l="l" t="t" r="r" b="b"/>
                <a:pathLst>
                  <a:path w="190" h="347">
                    <a:moveTo>
                      <a:pt x="38" y="0"/>
                    </a:moveTo>
                    <a:cubicBezTo>
                      <a:pt x="63" y="51"/>
                      <a:pt x="76" y="108"/>
                      <a:pt x="102" y="160"/>
                    </a:cubicBezTo>
                    <a:cubicBezTo>
                      <a:pt x="120" y="347"/>
                      <a:pt x="97" y="162"/>
                      <a:pt x="126" y="48"/>
                    </a:cubicBezTo>
                    <a:cubicBezTo>
                      <a:pt x="128" y="37"/>
                      <a:pt x="131" y="26"/>
                      <a:pt x="134" y="16"/>
                    </a:cubicBezTo>
                    <a:cubicBezTo>
                      <a:pt x="132" y="34"/>
                      <a:pt x="115" y="194"/>
                      <a:pt x="118" y="200"/>
                    </a:cubicBezTo>
                    <a:cubicBezTo>
                      <a:pt x="125" y="217"/>
                      <a:pt x="134" y="162"/>
                      <a:pt x="150" y="152"/>
                    </a:cubicBezTo>
                    <a:cubicBezTo>
                      <a:pt x="158" y="146"/>
                      <a:pt x="174" y="145"/>
                      <a:pt x="174" y="136"/>
                    </a:cubicBezTo>
                    <a:cubicBezTo>
                      <a:pt x="174" y="127"/>
                      <a:pt x="158" y="141"/>
                      <a:pt x="150" y="144"/>
                    </a:cubicBezTo>
                    <a:cubicBezTo>
                      <a:pt x="134" y="189"/>
                      <a:pt x="125" y="234"/>
                      <a:pt x="110" y="280"/>
                    </a:cubicBezTo>
                    <a:cubicBezTo>
                      <a:pt x="102" y="256"/>
                      <a:pt x="108" y="228"/>
                      <a:pt x="94" y="208"/>
                    </a:cubicBezTo>
                    <a:cubicBezTo>
                      <a:pt x="82" y="192"/>
                      <a:pt x="46" y="176"/>
                      <a:pt x="46" y="176"/>
                    </a:cubicBezTo>
                    <a:cubicBezTo>
                      <a:pt x="43" y="168"/>
                      <a:pt x="29" y="153"/>
                      <a:pt x="38" y="152"/>
                    </a:cubicBezTo>
                    <a:cubicBezTo>
                      <a:pt x="59" y="147"/>
                      <a:pt x="92" y="172"/>
                      <a:pt x="110" y="184"/>
                    </a:cubicBezTo>
                    <a:cubicBezTo>
                      <a:pt x="112" y="192"/>
                      <a:pt x="126" y="209"/>
                      <a:pt x="118" y="208"/>
                    </a:cubicBezTo>
                    <a:cubicBezTo>
                      <a:pt x="99" y="204"/>
                      <a:pt x="70" y="176"/>
                      <a:pt x="70" y="176"/>
                    </a:cubicBezTo>
                    <a:cubicBezTo>
                      <a:pt x="54" y="152"/>
                      <a:pt x="56" y="149"/>
                      <a:pt x="30" y="136"/>
                    </a:cubicBezTo>
                    <a:cubicBezTo>
                      <a:pt x="22" y="132"/>
                      <a:pt x="0" y="122"/>
                      <a:pt x="6" y="128"/>
                    </a:cubicBezTo>
                    <a:cubicBezTo>
                      <a:pt x="23" y="145"/>
                      <a:pt x="64" y="153"/>
                      <a:pt x="86" y="168"/>
                    </a:cubicBezTo>
                    <a:cubicBezTo>
                      <a:pt x="91" y="176"/>
                      <a:pt x="97" y="183"/>
                      <a:pt x="102" y="192"/>
                    </a:cubicBezTo>
                    <a:cubicBezTo>
                      <a:pt x="107" y="202"/>
                      <a:pt x="106" y="224"/>
                      <a:pt x="118" y="224"/>
                    </a:cubicBezTo>
                    <a:cubicBezTo>
                      <a:pt x="128" y="224"/>
                      <a:pt x="122" y="202"/>
                      <a:pt x="126" y="192"/>
                    </a:cubicBezTo>
                    <a:cubicBezTo>
                      <a:pt x="130" y="175"/>
                      <a:pt x="126" y="149"/>
                      <a:pt x="142" y="144"/>
                    </a:cubicBezTo>
                    <a:cubicBezTo>
                      <a:pt x="158" y="138"/>
                      <a:pt x="190" y="133"/>
                      <a:pt x="190" y="112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436120" y="3701520"/>
              <a:ext cx="749520" cy="333360"/>
              <a:chOff x="2436120" y="3701520"/>
              <a:chExt cx="749520" cy="33336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2436120" y="3701520"/>
                <a:ext cx="610560" cy="326880"/>
                <a:chOff x="2436120" y="3701520"/>
                <a:chExt cx="610560" cy="326880"/>
              </a:xfrm>
            </p:grpSpPr>
            <p:sp>
              <p:nvSpPr>
                <p:cNvPr id="388" name=""/>
                <p:cNvSpPr/>
                <p:nvPr/>
              </p:nvSpPr>
              <p:spPr>
                <a:xfrm flipV="1" rot="4285200">
                  <a:off x="2447280" y="3786840"/>
                  <a:ext cx="199080" cy="166680"/>
                </a:xfrm>
                <a:custGeom>
                  <a:avLst/>
                  <a:gdLst/>
                  <a:ahLst/>
                  <a:rect l="l" t="t" r="r" b="b"/>
                  <a:pathLst>
                    <a:path w="190" h="347">
                      <a:moveTo>
                        <a:pt x="38" y="0"/>
                      </a:moveTo>
                      <a:cubicBezTo>
                        <a:pt x="63" y="51"/>
                        <a:pt x="76" y="108"/>
                        <a:pt x="102" y="160"/>
                      </a:cubicBezTo>
                      <a:cubicBezTo>
                        <a:pt x="120" y="347"/>
                        <a:pt x="97" y="162"/>
                        <a:pt x="126" y="48"/>
                      </a:cubicBezTo>
                      <a:cubicBezTo>
                        <a:pt x="128" y="37"/>
                        <a:pt x="131" y="26"/>
                        <a:pt x="134" y="16"/>
                      </a:cubicBezTo>
                      <a:cubicBezTo>
                        <a:pt x="132" y="34"/>
                        <a:pt x="115" y="194"/>
                        <a:pt x="118" y="200"/>
                      </a:cubicBezTo>
                      <a:cubicBezTo>
                        <a:pt x="125" y="217"/>
                        <a:pt x="134" y="162"/>
                        <a:pt x="150" y="152"/>
                      </a:cubicBezTo>
                      <a:cubicBezTo>
                        <a:pt x="158" y="146"/>
                        <a:pt x="174" y="145"/>
                        <a:pt x="174" y="136"/>
                      </a:cubicBezTo>
                      <a:cubicBezTo>
                        <a:pt x="174" y="127"/>
                        <a:pt x="158" y="141"/>
                        <a:pt x="150" y="144"/>
                      </a:cubicBezTo>
                      <a:cubicBezTo>
                        <a:pt x="134" y="189"/>
                        <a:pt x="125" y="234"/>
                        <a:pt x="110" y="280"/>
                      </a:cubicBezTo>
                      <a:cubicBezTo>
                        <a:pt x="102" y="256"/>
                        <a:pt x="108" y="228"/>
                        <a:pt x="94" y="208"/>
                      </a:cubicBezTo>
                      <a:cubicBezTo>
                        <a:pt x="82" y="192"/>
                        <a:pt x="46" y="176"/>
                        <a:pt x="46" y="176"/>
                      </a:cubicBezTo>
                      <a:cubicBezTo>
                        <a:pt x="43" y="168"/>
                        <a:pt x="29" y="153"/>
                        <a:pt x="38" y="152"/>
                      </a:cubicBezTo>
                      <a:cubicBezTo>
                        <a:pt x="59" y="147"/>
                        <a:pt x="92" y="172"/>
                        <a:pt x="110" y="184"/>
                      </a:cubicBezTo>
                      <a:cubicBezTo>
                        <a:pt x="112" y="192"/>
                        <a:pt x="126" y="209"/>
                        <a:pt x="118" y="208"/>
                      </a:cubicBezTo>
                      <a:cubicBezTo>
                        <a:pt x="99" y="204"/>
                        <a:pt x="70" y="176"/>
                        <a:pt x="70" y="176"/>
                      </a:cubicBezTo>
                      <a:cubicBezTo>
                        <a:pt x="54" y="152"/>
                        <a:pt x="56" y="149"/>
                        <a:pt x="30" y="136"/>
                      </a:cubicBezTo>
                      <a:cubicBezTo>
                        <a:pt x="22" y="132"/>
                        <a:pt x="0" y="122"/>
                        <a:pt x="6" y="128"/>
                      </a:cubicBezTo>
                      <a:cubicBezTo>
                        <a:pt x="23" y="145"/>
                        <a:pt x="64" y="153"/>
                        <a:pt x="86" y="168"/>
                      </a:cubicBezTo>
                      <a:cubicBezTo>
                        <a:pt x="91" y="176"/>
                        <a:pt x="97" y="183"/>
                        <a:pt x="102" y="192"/>
                      </a:cubicBezTo>
                      <a:cubicBezTo>
                        <a:pt x="107" y="202"/>
                        <a:pt x="106" y="224"/>
                        <a:pt x="118" y="224"/>
                      </a:cubicBezTo>
                      <a:cubicBezTo>
                        <a:pt x="128" y="224"/>
                        <a:pt x="122" y="202"/>
                        <a:pt x="126" y="192"/>
                      </a:cubicBezTo>
                      <a:cubicBezTo>
                        <a:pt x="130" y="175"/>
                        <a:pt x="126" y="149"/>
                        <a:pt x="142" y="144"/>
                      </a:cubicBezTo>
                      <a:cubicBezTo>
                        <a:pt x="158" y="138"/>
                        <a:pt x="190" y="133"/>
                        <a:pt x="190" y="11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2625480" y="3701520"/>
                  <a:ext cx="421200" cy="326880"/>
                </a:xfrm>
                <a:custGeom>
                  <a:avLst/>
                  <a:gdLst/>
                  <a:ahLst/>
                  <a:rect l="l" t="t" r="r" b="b"/>
                  <a:pathLst>
                    <a:path w="886" h="312">
                      <a:moveTo>
                        <a:pt x="14" y="128"/>
                      </a:moveTo>
                      <a:cubicBezTo>
                        <a:pt x="40" y="119"/>
                        <a:pt x="59" y="104"/>
                        <a:pt x="86" y="96"/>
                      </a:cubicBezTo>
                      <a:cubicBezTo>
                        <a:pt x="107" y="64"/>
                        <a:pt x="124" y="67"/>
                        <a:pt x="158" y="48"/>
                      </a:cubicBezTo>
                      <a:cubicBezTo>
                        <a:pt x="239" y="1"/>
                        <a:pt x="253" y="7"/>
                        <a:pt x="366" y="0"/>
                      </a:cubicBezTo>
                      <a:cubicBezTo>
                        <a:pt x="450" y="5"/>
                        <a:pt x="530" y="15"/>
                        <a:pt x="614" y="24"/>
                      </a:cubicBezTo>
                      <a:cubicBezTo>
                        <a:pt x="669" y="42"/>
                        <a:pt x="739" y="43"/>
                        <a:pt x="790" y="72"/>
                      </a:cubicBezTo>
                      <a:cubicBezTo>
                        <a:pt x="825" y="91"/>
                        <a:pt x="848" y="115"/>
                        <a:pt x="886" y="128"/>
                      </a:cubicBezTo>
                      <a:cubicBezTo>
                        <a:pt x="836" y="144"/>
                        <a:pt x="753" y="105"/>
                        <a:pt x="702" y="104"/>
                      </a:cubicBezTo>
                      <a:cubicBezTo>
                        <a:pt x="608" y="101"/>
                        <a:pt x="515" y="98"/>
                        <a:pt x="422" y="96"/>
                      </a:cubicBezTo>
                      <a:cubicBezTo>
                        <a:pt x="284" y="107"/>
                        <a:pt x="152" y="122"/>
                        <a:pt x="14" y="128"/>
                      </a:cubicBezTo>
                      <a:cubicBezTo>
                        <a:pt x="11" y="136"/>
                        <a:pt x="0" y="145"/>
                        <a:pt x="6" y="152"/>
                      </a:cubicBezTo>
                      <a:cubicBezTo>
                        <a:pt x="20" y="171"/>
                        <a:pt x="54" y="161"/>
                        <a:pt x="78" y="168"/>
                      </a:cubicBezTo>
                      <a:cubicBezTo>
                        <a:pt x="129" y="182"/>
                        <a:pt x="175" y="195"/>
                        <a:pt x="230" y="200"/>
                      </a:cubicBezTo>
                      <a:cubicBezTo>
                        <a:pt x="280" y="203"/>
                        <a:pt x="331" y="205"/>
                        <a:pt x="382" y="208"/>
                      </a:cubicBezTo>
                      <a:cubicBezTo>
                        <a:pt x="547" y="189"/>
                        <a:pt x="706" y="198"/>
                        <a:pt x="862" y="136"/>
                      </a:cubicBezTo>
                      <a:cubicBezTo>
                        <a:pt x="852" y="149"/>
                        <a:pt x="831" y="182"/>
                        <a:pt x="822" y="192"/>
                      </a:cubicBezTo>
                      <a:cubicBezTo>
                        <a:pt x="794" y="219"/>
                        <a:pt x="768" y="227"/>
                        <a:pt x="734" y="240"/>
                      </a:cubicBezTo>
                      <a:cubicBezTo>
                        <a:pt x="672" y="262"/>
                        <a:pt x="611" y="283"/>
                        <a:pt x="550" y="304"/>
                      </a:cubicBezTo>
                      <a:cubicBezTo>
                        <a:pt x="350" y="291"/>
                        <a:pt x="137" y="312"/>
                        <a:pt x="14" y="128"/>
                      </a:cubicBezTo>
                      <a:close/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V="1">
                  <a:off x="2949480" y="3904200"/>
                  <a:ext cx="31680" cy="4896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3249">
                      <a:moveTo>
                        <a:pt x="3600" y="0"/>
                      </a:moveTo>
                      <a:arcTo wR="3600" hR="3600" stAng="16200000" swAng="-5400000"/>
                      <a:lnTo>
                        <a:pt x="0" y="29649"/>
                      </a:lnTo>
                      <a:arcTo wR="3600" hR="3600" stAng="10800000" swAng="-5400000"/>
                      <a:lnTo>
                        <a:pt x="18000" y="33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2949480" y="3778200"/>
                  <a:ext cx="32040" cy="48960"/>
                </a:xfrm>
                <a:custGeom>
                  <a:avLst/>
                  <a:gdLst>
                    <a:gd name="textAreaLeft" fmla="*/ 1440 w 32040"/>
                    <a:gd name="textAreaRight" fmla="*/ 30600 w 3204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2880">
                      <a:moveTo>
                        <a:pt x="3600" y="0"/>
                      </a:moveTo>
                      <a:arcTo wR="3600" hR="3600" stAng="16200000" swAng="-5400000"/>
                      <a:lnTo>
                        <a:pt x="0" y="29280"/>
                      </a:lnTo>
                      <a:arcTo wR="3600" hR="3600" stAng="10800000" swAng="-5400000"/>
                      <a:lnTo>
                        <a:pt x="18000" y="3288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2884680" y="3827880"/>
                  <a:ext cx="31680" cy="4932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9320"/>
                    <a:gd name="textAreaBottom" fmla="*/ 47880 h 49320"/>
                  </a:gdLst>
                  <a:ahLst/>
                  <a:rect l="textAreaLeft" t="textAreaTop" r="textAreaRight" b="textAreaBottom"/>
                  <a:pathLst>
                    <a:path w="21600" h="33492">
                      <a:moveTo>
                        <a:pt x="3600" y="0"/>
                      </a:moveTo>
                      <a:arcTo wR="3600" hR="3600" stAng="16200000" swAng="-5400000"/>
                      <a:lnTo>
                        <a:pt x="0" y="29892"/>
                      </a:lnTo>
                      <a:arcTo wR="3600" hR="3600" stAng="10800000" swAng="-5400000"/>
                      <a:lnTo>
                        <a:pt x="18000" y="3349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2755080" y="3778200"/>
                  <a:ext cx="31680" cy="4896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3249">
                      <a:moveTo>
                        <a:pt x="3600" y="0"/>
                      </a:moveTo>
                      <a:arcTo wR="3600" hR="3600" stAng="16200000" swAng="-5400000"/>
                      <a:lnTo>
                        <a:pt x="0" y="29649"/>
                      </a:lnTo>
                      <a:arcTo wR="3600" hR="3600" stAng="10800000" swAng="-5400000"/>
                      <a:lnTo>
                        <a:pt x="18000" y="33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2787480" y="3727800"/>
                  <a:ext cx="31680" cy="4896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3249">
                      <a:moveTo>
                        <a:pt x="3600" y="0"/>
                      </a:moveTo>
                      <a:arcTo wR="3600" hR="3600" stAng="16200000" swAng="-5400000"/>
                      <a:lnTo>
                        <a:pt x="0" y="29649"/>
                      </a:lnTo>
                      <a:arcTo wR="3600" hR="3600" stAng="10800000" swAng="-5400000"/>
                      <a:lnTo>
                        <a:pt x="18000" y="33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2884680" y="3978720"/>
                  <a:ext cx="31680" cy="4932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9320"/>
                    <a:gd name="textAreaBottom" fmla="*/ 47880 h 49320"/>
                  </a:gdLst>
                  <a:ahLst/>
                  <a:rect l="textAreaLeft" t="textAreaTop" r="textAreaRight" b="textAreaBottom"/>
                  <a:pathLst>
                    <a:path w="21600" h="33492">
                      <a:moveTo>
                        <a:pt x="3600" y="0"/>
                      </a:moveTo>
                      <a:arcTo wR="3600" hR="3600" stAng="16200000" swAng="-5400000"/>
                      <a:lnTo>
                        <a:pt x="0" y="29892"/>
                      </a:lnTo>
                      <a:arcTo wR="3600" hR="3600" stAng="10800000" swAng="-5400000"/>
                      <a:lnTo>
                        <a:pt x="18000" y="3349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2722680" y="3978720"/>
                  <a:ext cx="31680" cy="4932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9320"/>
                    <a:gd name="textAreaBottom" fmla="*/ 47880 h 49320"/>
                  </a:gdLst>
                  <a:ahLst/>
                  <a:rect l="textAreaLeft" t="textAreaTop" r="textAreaRight" b="textAreaBottom"/>
                  <a:pathLst>
                    <a:path w="21600" h="33492">
                      <a:moveTo>
                        <a:pt x="3600" y="0"/>
                      </a:moveTo>
                      <a:arcTo wR="3600" hR="3600" stAng="16200000" swAng="-5400000"/>
                      <a:lnTo>
                        <a:pt x="0" y="29892"/>
                      </a:lnTo>
                      <a:arcTo wR="3600" hR="3600" stAng="10800000" swAng="-5400000"/>
                      <a:lnTo>
                        <a:pt x="18000" y="3349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2755080" y="3879000"/>
                  <a:ext cx="31680" cy="4896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3249">
                      <a:moveTo>
                        <a:pt x="3600" y="0"/>
                      </a:moveTo>
                      <a:arcTo wR="3600" hR="3600" stAng="16200000" swAng="-5400000"/>
                      <a:lnTo>
                        <a:pt x="0" y="29649"/>
                      </a:lnTo>
                      <a:arcTo wR="3600" hR="3600" stAng="10800000" swAng="-5400000"/>
                      <a:lnTo>
                        <a:pt x="18000" y="33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2582280" y="3869280"/>
                  <a:ext cx="54000" cy="18720"/>
                </a:xfrm>
                <a:custGeom>
                  <a:avLst/>
                  <a:gdLst/>
                  <a:ahLst/>
                  <a:rect l="l" t="t" r="r" b="b"/>
                  <a:pathLst>
                    <a:path w="80" h="18">
                      <a:moveTo>
                        <a:pt x="0" y="18"/>
                      </a:moveTo>
                      <a:cubicBezTo>
                        <a:pt x="16" y="15"/>
                        <a:pt x="32" y="13"/>
                        <a:pt x="48" y="10"/>
                      </a:cubicBezTo>
                      <a:cubicBezTo>
                        <a:pt x="56" y="8"/>
                        <a:pt x="80" y="0"/>
                        <a:pt x="72" y="2"/>
                      </a:cubicBezTo>
                      <a:cubicBezTo>
                        <a:pt x="47" y="6"/>
                        <a:pt x="24" y="12"/>
                        <a:pt x="0" y="18"/>
                      </a:cubicBezTo>
                      <a:close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 flipV="1" rot="16567800">
                <a:off x="2993040" y="3843720"/>
                <a:ext cx="199080" cy="165240"/>
              </a:xfrm>
              <a:custGeom>
                <a:avLst/>
                <a:gdLst/>
                <a:ahLst/>
                <a:rect l="l" t="t" r="r" b="b"/>
                <a:pathLst>
                  <a:path w="190" h="347">
                    <a:moveTo>
                      <a:pt x="38" y="0"/>
                    </a:moveTo>
                    <a:cubicBezTo>
                      <a:pt x="63" y="51"/>
                      <a:pt x="76" y="108"/>
                      <a:pt x="102" y="160"/>
                    </a:cubicBezTo>
                    <a:cubicBezTo>
                      <a:pt x="120" y="347"/>
                      <a:pt x="97" y="162"/>
                      <a:pt x="126" y="48"/>
                    </a:cubicBezTo>
                    <a:cubicBezTo>
                      <a:pt x="128" y="37"/>
                      <a:pt x="131" y="26"/>
                      <a:pt x="134" y="16"/>
                    </a:cubicBezTo>
                    <a:cubicBezTo>
                      <a:pt x="132" y="34"/>
                      <a:pt x="115" y="194"/>
                      <a:pt x="118" y="200"/>
                    </a:cubicBezTo>
                    <a:cubicBezTo>
                      <a:pt x="125" y="217"/>
                      <a:pt x="134" y="162"/>
                      <a:pt x="150" y="152"/>
                    </a:cubicBezTo>
                    <a:cubicBezTo>
                      <a:pt x="158" y="146"/>
                      <a:pt x="174" y="145"/>
                      <a:pt x="174" y="136"/>
                    </a:cubicBezTo>
                    <a:cubicBezTo>
                      <a:pt x="174" y="127"/>
                      <a:pt x="158" y="141"/>
                      <a:pt x="150" y="144"/>
                    </a:cubicBezTo>
                    <a:cubicBezTo>
                      <a:pt x="134" y="189"/>
                      <a:pt x="125" y="234"/>
                      <a:pt x="110" y="280"/>
                    </a:cubicBezTo>
                    <a:cubicBezTo>
                      <a:pt x="102" y="256"/>
                      <a:pt x="108" y="228"/>
                      <a:pt x="94" y="208"/>
                    </a:cubicBezTo>
                    <a:cubicBezTo>
                      <a:pt x="82" y="192"/>
                      <a:pt x="46" y="176"/>
                      <a:pt x="46" y="176"/>
                    </a:cubicBezTo>
                    <a:cubicBezTo>
                      <a:pt x="43" y="168"/>
                      <a:pt x="29" y="153"/>
                      <a:pt x="38" y="152"/>
                    </a:cubicBezTo>
                    <a:cubicBezTo>
                      <a:pt x="59" y="147"/>
                      <a:pt x="92" y="172"/>
                      <a:pt x="110" y="184"/>
                    </a:cubicBezTo>
                    <a:cubicBezTo>
                      <a:pt x="112" y="192"/>
                      <a:pt x="126" y="209"/>
                      <a:pt x="118" y="208"/>
                    </a:cubicBezTo>
                    <a:cubicBezTo>
                      <a:pt x="99" y="204"/>
                      <a:pt x="70" y="176"/>
                      <a:pt x="70" y="176"/>
                    </a:cubicBezTo>
                    <a:cubicBezTo>
                      <a:pt x="54" y="152"/>
                      <a:pt x="56" y="149"/>
                      <a:pt x="30" y="136"/>
                    </a:cubicBezTo>
                    <a:cubicBezTo>
                      <a:pt x="22" y="132"/>
                      <a:pt x="0" y="122"/>
                      <a:pt x="6" y="128"/>
                    </a:cubicBezTo>
                    <a:cubicBezTo>
                      <a:pt x="23" y="145"/>
                      <a:pt x="64" y="153"/>
                      <a:pt x="86" y="168"/>
                    </a:cubicBezTo>
                    <a:cubicBezTo>
                      <a:pt x="91" y="176"/>
                      <a:pt x="97" y="183"/>
                      <a:pt x="102" y="192"/>
                    </a:cubicBezTo>
                    <a:cubicBezTo>
                      <a:pt x="107" y="202"/>
                      <a:pt x="106" y="224"/>
                      <a:pt x="118" y="224"/>
                    </a:cubicBezTo>
                    <a:cubicBezTo>
                      <a:pt x="128" y="224"/>
                      <a:pt x="122" y="202"/>
                      <a:pt x="126" y="192"/>
                    </a:cubicBezTo>
                    <a:cubicBezTo>
                      <a:pt x="130" y="175"/>
                      <a:pt x="126" y="149"/>
                      <a:pt x="142" y="144"/>
                    </a:cubicBezTo>
                    <a:cubicBezTo>
                      <a:pt x="158" y="138"/>
                      <a:pt x="190" y="133"/>
                      <a:pt x="190" y="112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251880" y="3701520"/>
              <a:ext cx="749520" cy="333360"/>
              <a:chOff x="3251880" y="3701520"/>
              <a:chExt cx="749520" cy="33336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3251880" y="3701520"/>
                <a:ext cx="610560" cy="326880"/>
                <a:chOff x="3251880" y="3701520"/>
                <a:chExt cx="610560" cy="326880"/>
              </a:xfrm>
            </p:grpSpPr>
            <p:sp>
              <p:nvSpPr>
                <p:cNvPr id="402" name=""/>
                <p:cNvSpPr/>
                <p:nvPr/>
              </p:nvSpPr>
              <p:spPr>
                <a:xfrm flipV="1" rot="4285200">
                  <a:off x="3263040" y="3786840"/>
                  <a:ext cx="199080" cy="166680"/>
                </a:xfrm>
                <a:custGeom>
                  <a:avLst/>
                  <a:gdLst/>
                  <a:ahLst/>
                  <a:rect l="l" t="t" r="r" b="b"/>
                  <a:pathLst>
                    <a:path w="190" h="347">
                      <a:moveTo>
                        <a:pt x="38" y="0"/>
                      </a:moveTo>
                      <a:cubicBezTo>
                        <a:pt x="63" y="51"/>
                        <a:pt x="76" y="108"/>
                        <a:pt x="102" y="160"/>
                      </a:cubicBezTo>
                      <a:cubicBezTo>
                        <a:pt x="120" y="347"/>
                        <a:pt x="97" y="162"/>
                        <a:pt x="126" y="48"/>
                      </a:cubicBezTo>
                      <a:cubicBezTo>
                        <a:pt x="128" y="37"/>
                        <a:pt x="131" y="26"/>
                        <a:pt x="134" y="16"/>
                      </a:cubicBezTo>
                      <a:cubicBezTo>
                        <a:pt x="132" y="34"/>
                        <a:pt x="115" y="194"/>
                        <a:pt x="118" y="200"/>
                      </a:cubicBezTo>
                      <a:cubicBezTo>
                        <a:pt x="125" y="217"/>
                        <a:pt x="134" y="162"/>
                        <a:pt x="150" y="152"/>
                      </a:cubicBezTo>
                      <a:cubicBezTo>
                        <a:pt x="158" y="146"/>
                        <a:pt x="174" y="145"/>
                        <a:pt x="174" y="136"/>
                      </a:cubicBezTo>
                      <a:cubicBezTo>
                        <a:pt x="174" y="127"/>
                        <a:pt x="158" y="141"/>
                        <a:pt x="150" y="144"/>
                      </a:cubicBezTo>
                      <a:cubicBezTo>
                        <a:pt x="134" y="189"/>
                        <a:pt x="125" y="234"/>
                        <a:pt x="110" y="280"/>
                      </a:cubicBezTo>
                      <a:cubicBezTo>
                        <a:pt x="102" y="256"/>
                        <a:pt x="108" y="228"/>
                        <a:pt x="94" y="208"/>
                      </a:cubicBezTo>
                      <a:cubicBezTo>
                        <a:pt x="82" y="192"/>
                        <a:pt x="46" y="176"/>
                        <a:pt x="46" y="176"/>
                      </a:cubicBezTo>
                      <a:cubicBezTo>
                        <a:pt x="43" y="168"/>
                        <a:pt x="29" y="153"/>
                        <a:pt x="38" y="152"/>
                      </a:cubicBezTo>
                      <a:cubicBezTo>
                        <a:pt x="59" y="147"/>
                        <a:pt x="92" y="172"/>
                        <a:pt x="110" y="184"/>
                      </a:cubicBezTo>
                      <a:cubicBezTo>
                        <a:pt x="112" y="192"/>
                        <a:pt x="126" y="209"/>
                        <a:pt x="118" y="208"/>
                      </a:cubicBezTo>
                      <a:cubicBezTo>
                        <a:pt x="99" y="204"/>
                        <a:pt x="70" y="176"/>
                        <a:pt x="70" y="176"/>
                      </a:cubicBezTo>
                      <a:cubicBezTo>
                        <a:pt x="54" y="152"/>
                        <a:pt x="56" y="149"/>
                        <a:pt x="30" y="136"/>
                      </a:cubicBezTo>
                      <a:cubicBezTo>
                        <a:pt x="22" y="132"/>
                        <a:pt x="0" y="122"/>
                        <a:pt x="6" y="128"/>
                      </a:cubicBezTo>
                      <a:cubicBezTo>
                        <a:pt x="23" y="145"/>
                        <a:pt x="64" y="153"/>
                        <a:pt x="86" y="168"/>
                      </a:cubicBezTo>
                      <a:cubicBezTo>
                        <a:pt x="91" y="176"/>
                        <a:pt x="97" y="183"/>
                        <a:pt x="102" y="192"/>
                      </a:cubicBezTo>
                      <a:cubicBezTo>
                        <a:pt x="107" y="202"/>
                        <a:pt x="106" y="224"/>
                        <a:pt x="118" y="224"/>
                      </a:cubicBezTo>
                      <a:cubicBezTo>
                        <a:pt x="128" y="224"/>
                        <a:pt x="122" y="202"/>
                        <a:pt x="126" y="192"/>
                      </a:cubicBezTo>
                      <a:cubicBezTo>
                        <a:pt x="130" y="175"/>
                        <a:pt x="126" y="149"/>
                        <a:pt x="142" y="144"/>
                      </a:cubicBezTo>
                      <a:cubicBezTo>
                        <a:pt x="158" y="138"/>
                        <a:pt x="190" y="133"/>
                        <a:pt x="190" y="11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3441240" y="3701520"/>
                  <a:ext cx="421200" cy="326880"/>
                </a:xfrm>
                <a:custGeom>
                  <a:avLst/>
                  <a:gdLst/>
                  <a:ahLst/>
                  <a:rect l="l" t="t" r="r" b="b"/>
                  <a:pathLst>
                    <a:path w="886" h="312">
                      <a:moveTo>
                        <a:pt x="14" y="128"/>
                      </a:moveTo>
                      <a:cubicBezTo>
                        <a:pt x="40" y="119"/>
                        <a:pt x="59" y="104"/>
                        <a:pt x="86" y="96"/>
                      </a:cubicBezTo>
                      <a:cubicBezTo>
                        <a:pt x="107" y="64"/>
                        <a:pt x="124" y="67"/>
                        <a:pt x="158" y="48"/>
                      </a:cubicBezTo>
                      <a:cubicBezTo>
                        <a:pt x="239" y="1"/>
                        <a:pt x="253" y="7"/>
                        <a:pt x="366" y="0"/>
                      </a:cubicBezTo>
                      <a:cubicBezTo>
                        <a:pt x="450" y="5"/>
                        <a:pt x="530" y="15"/>
                        <a:pt x="614" y="24"/>
                      </a:cubicBezTo>
                      <a:cubicBezTo>
                        <a:pt x="669" y="42"/>
                        <a:pt x="739" y="43"/>
                        <a:pt x="790" y="72"/>
                      </a:cubicBezTo>
                      <a:cubicBezTo>
                        <a:pt x="825" y="91"/>
                        <a:pt x="848" y="115"/>
                        <a:pt x="886" y="128"/>
                      </a:cubicBezTo>
                      <a:cubicBezTo>
                        <a:pt x="836" y="144"/>
                        <a:pt x="753" y="105"/>
                        <a:pt x="702" y="104"/>
                      </a:cubicBezTo>
                      <a:cubicBezTo>
                        <a:pt x="608" y="101"/>
                        <a:pt x="515" y="98"/>
                        <a:pt x="422" y="96"/>
                      </a:cubicBezTo>
                      <a:cubicBezTo>
                        <a:pt x="284" y="107"/>
                        <a:pt x="152" y="122"/>
                        <a:pt x="14" y="128"/>
                      </a:cubicBezTo>
                      <a:cubicBezTo>
                        <a:pt x="11" y="136"/>
                        <a:pt x="0" y="145"/>
                        <a:pt x="6" y="152"/>
                      </a:cubicBezTo>
                      <a:cubicBezTo>
                        <a:pt x="20" y="171"/>
                        <a:pt x="54" y="161"/>
                        <a:pt x="78" y="168"/>
                      </a:cubicBezTo>
                      <a:cubicBezTo>
                        <a:pt x="129" y="182"/>
                        <a:pt x="175" y="195"/>
                        <a:pt x="230" y="200"/>
                      </a:cubicBezTo>
                      <a:cubicBezTo>
                        <a:pt x="280" y="203"/>
                        <a:pt x="331" y="205"/>
                        <a:pt x="382" y="208"/>
                      </a:cubicBezTo>
                      <a:cubicBezTo>
                        <a:pt x="547" y="189"/>
                        <a:pt x="706" y="198"/>
                        <a:pt x="862" y="136"/>
                      </a:cubicBezTo>
                      <a:cubicBezTo>
                        <a:pt x="852" y="149"/>
                        <a:pt x="831" y="182"/>
                        <a:pt x="822" y="192"/>
                      </a:cubicBezTo>
                      <a:cubicBezTo>
                        <a:pt x="794" y="219"/>
                        <a:pt x="768" y="227"/>
                        <a:pt x="734" y="240"/>
                      </a:cubicBezTo>
                      <a:cubicBezTo>
                        <a:pt x="672" y="262"/>
                        <a:pt x="611" y="283"/>
                        <a:pt x="550" y="304"/>
                      </a:cubicBezTo>
                      <a:cubicBezTo>
                        <a:pt x="350" y="291"/>
                        <a:pt x="137" y="312"/>
                        <a:pt x="14" y="128"/>
                      </a:cubicBezTo>
                      <a:close/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3765240" y="3904200"/>
                  <a:ext cx="31680" cy="4896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3249">
                      <a:moveTo>
                        <a:pt x="3600" y="0"/>
                      </a:moveTo>
                      <a:arcTo wR="3600" hR="3600" stAng="16200000" swAng="-5400000"/>
                      <a:lnTo>
                        <a:pt x="0" y="29649"/>
                      </a:lnTo>
                      <a:arcTo wR="3600" hR="3600" stAng="10800000" swAng="-5400000"/>
                      <a:lnTo>
                        <a:pt x="18000" y="33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3765240" y="3778200"/>
                  <a:ext cx="32040" cy="48960"/>
                </a:xfrm>
                <a:custGeom>
                  <a:avLst/>
                  <a:gdLst>
                    <a:gd name="textAreaLeft" fmla="*/ 1440 w 32040"/>
                    <a:gd name="textAreaRight" fmla="*/ 30600 w 3204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2880">
                      <a:moveTo>
                        <a:pt x="3600" y="0"/>
                      </a:moveTo>
                      <a:arcTo wR="3600" hR="3600" stAng="16200000" swAng="-5400000"/>
                      <a:lnTo>
                        <a:pt x="0" y="29280"/>
                      </a:lnTo>
                      <a:arcTo wR="3600" hR="3600" stAng="10800000" swAng="-5400000"/>
                      <a:lnTo>
                        <a:pt x="18000" y="3288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>
                  <a:off x="3700440" y="3827880"/>
                  <a:ext cx="31680" cy="4932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9320"/>
                    <a:gd name="textAreaBottom" fmla="*/ 47880 h 49320"/>
                  </a:gdLst>
                  <a:ahLst/>
                  <a:rect l="textAreaLeft" t="textAreaTop" r="textAreaRight" b="textAreaBottom"/>
                  <a:pathLst>
                    <a:path w="21600" h="33492">
                      <a:moveTo>
                        <a:pt x="3600" y="0"/>
                      </a:moveTo>
                      <a:arcTo wR="3600" hR="3600" stAng="16200000" swAng="-5400000"/>
                      <a:lnTo>
                        <a:pt x="0" y="29892"/>
                      </a:lnTo>
                      <a:arcTo wR="3600" hR="3600" stAng="10800000" swAng="-5400000"/>
                      <a:lnTo>
                        <a:pt x="18000" y="3349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3570840" y="3778200"/>
                  <a:ext cx="31680" cy="4896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3249">
                      <a:moveTo>
                        <a:pt x="3600" y="0"/>
                      </a:moveTo>
                      <a:arcTo wR="3600" hR="3600" stAng="16200000" swAng="-5400000"/>
                      <a:lnTo>
                        <a:pt x="0" y="29649"/>
                      </a:lnTo>
                      <a:arcTo wR="3600" hR="3600" stAng="10800000" swAng="-5400000"/>
                      <a:lnTo>
                        <a:pt x="18000" y="33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3603240" y="3727800"/>
                  <a:ext cx="31680" cy="4896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3249">
                      <a:moveTo>
                        <a:pt x="3600" y="0"/>
                      </a:moveTo>
                      <a:arcTo wR="3600" hR="3600" stAng="16200000" swAng="-5400000"/>
                      <a:lnTo>
                        <a:pt x="0" y="29649"/>
                      </a:lnTo>
                      <a:arcTo wR="3600" hR="3600" stAng="10800000" swAng="-5400000"/>
                      <a:lnTo>
                        <a:pt x="18000" y="33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3700440" y="3978720"/>
                  <a:ext cx="31680" cy="4932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9320"/>
                    <a:gd name="textAreaBottom" fmla="*/ 47880 h 49320"/>
                  </a:gdLst>
                  <a:ahLst/>
                  <a:rect l="textAreaLeft" t="textAreaTop" r="textAreaRight" b="textAreaBottom"/>
                  <a:pathLst>
                    <a:path w="21600" h="33492">
                      <a:moveTo>
                        <a:pt x="3600" y="0"/>
                      </a:moveTo>
                      <a:arcTo wR="3600" hR="3600" stAng="16200000" swAng="-5400000"/>
                      <a:lnTo>
                        <a:pt x="0" y="29892"/>
                      </a:lnTo>
                      <a:arcTo wR="3600" hR="3600" stAng="10800000" swAng="-5400000"/>
                      <a:lnTo>
                        <a:pt x="18000" y="3349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>
                  <a:off x="3538440" y="3978720"/>
                  <a:ext cx="31680" cy="4932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9320"/>
                    <a:gd name="textAreaBottom" fmla="*/ 47880 h 49320"/>
                  </a:gdLst>
                  <a:ahLst/>
                  <a:rect l="textAreaLeft" t="textAreaTop" r="textAreaRight" b="textAreaBottom"/>
                  <a:pathLst>
                    <a:path w="21600" h="33492">
                      <a:moveTo>
                        <a:pt x="3600" y="0"/>
                      </a:moveTo>
                      <a:arcTo wR="3600" hR="3600" stAng="16200000" swAng="-5400000"/>
                      <a:lnTo>
                        <a:pt x="0" y="29892"/>
                      </a:lnTo>
                      <a:arcTo wR="3600" hR="3600" stAng="10800000" swAng="-5400000"/>
                      <a:lnTo>
                        <a:pt x="18000" y="3349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3570840" y="3879000"/>
                  <a:ext cx="31680" cy="48960"/>
                </a:xfrm>
                <a:custGeom>
                  <a:avLst/>
                  <a:gdLst>
                    <a:gd name="textAreaLeft" fmla="*/ 1440 w 31680"/>
                    <a:gd name="textAreaRight" fmla="*/ 30240 w 31680"/>
                    <a:gd name="textAreaTop" fmla="*/ 1440 h 48960"/>
                    <a:gd name="textAreaBottom" fmla="*/ 47520 h 48960"/>
                  </a:gdLst>
                  <a:ahLst/>
                  <a:rect l="textAreaLeft" t="textAreaTop" r="textAreaRight" b="textAreaBottom"/>
                  <a:pathLst>
                    <a:path w="21600" h="33249">
                      <a:moveTo>
                        <a:pt x="3600" y="0"/>
                      </a:moveTo>
                      <a:arcTo wR="3600" hR="3600" stAng="16200000" swAng="-5400000"/>
                      <a:lnTo>
                        <a:pt x="0" y="29649"/>
                      </a:lnTo>
                      <a:arcTo wR="3600" hR="3600" stAng="10800000" swAng="-5400000"/>
                      <a:lnTo>
                        <a:pt x="18000" y="332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3398040" y="3869280"/>
                  <a:ext cx="54000" cy="18720"/>
                </a:xfrm>
                <a:custGeom>
                  <a:avLst/>
                  <a:gdLst/>
                  <a:ahLst/>
                  <a:rect l="l" t="t" r="r" b="b"/>
                  <a:pathLst>
                    <a:path w="80" h="18">
                      <a:moveTo>
                        <a:pt x="0" y="18"/>
                      </a:moveTo>
                      <a:cubicBezTo>
                        <a:pt x="16" y="15"/>
                        <a:pt x="32" y="13"/>
                        <a:pt x="48" y="10"/>
                      </a:cubicBezTo>
                      <a:cubicBezTo>
                        <a:pt x="56" y="8"/>
                        <a:pt x="80" y="0"/>
                        <a:pt x="72" y="2"/>
                      </a:cubicBezTo>
                      <a:cubicBezTo>
                        <a:pt x="47" y="6"/>
                        <a:pt x="24" y="12"/>
                        <a:pt x="0" y="18"/>
                      </a:cubicBezTo>
                      <a:close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 flipV="1" rot="16567800">
                <a:off x="3808800" y="3843720"/>
                <a:ext cx="199080" cy="165240"/>
              </a:xfrm>
              <a:custGeom>
                <a:avLst/>
                <a:gdLst/>
                <a:ahLst/>
                <a:rect l="l" t="t" r="r" b="b"/>
                <a:pathLst>
                  <a:path w="190" h="347">
                    <a:moveTo>
                      <a:pt x="38" y="0"/>
                    </a:moveTo>
                    <a:cubicBezTo>
                      <a:pt x="63" y="51"/>
                      <a:pt x="76" y="108"/>
                      <a:pt x="102" y="160"/>
                    </a:cubicBezTo>
                    <a:cubicBezTo>
                      <a:pt x="120" y="347"/>
                      <a:pt x="97" y="162"/>
                      <a:pt x="126" y="48"/>
                    </a:cubicBezTo>
                    <a:cubicBezTo>
                      <a:pt x="128" y="37"/>
                      <a:pt x="131" y="26"/>
                      <a:pt x="134" y="16"/>
                    </a:cubicBezTo>
                    <a:cubicBezTo>
                      <a:pt x="132" y="34"/>
                      <a:pt x="115" y="194"/>
                      <a:pt x="118" y="200"/>
                    </a:cubicBezTo>
                    <a:cubicBezTo>
                      <a:pt x="125" y="217"/>
                      <a:pt x="134" y="162"/>
                      <a:pt x="150" y="152"/>
                    </a:cubicBezTo>
                    <a:cubicBezTo>
                      <a:pt x="158" y="146"/>
                      <a:pt x="174" y="145"/>
                      <a:pt x="174" y="136"/>
                    </a:cubicBezTo>
                    <a:cubicBezTo>
                      <a:pt x="174" y="127"/>
                      <a:pt x="158" y="141"/>
                      <a:pt x="150" y="144"/>
                    </a:cubicBezTo>
                    <a:cubicBezTo>
                      <a:pt x="134" y="189"/>
                      <a:pt x="125" y="234"/>
                      <a:pt x="110" y="280"/>
                    </a:cubicBezTo>
                    <a:cubicBezTo>
                      <a:pt x="102" y="256"/>
                      <a:pt x="108" y="228"/>
                      <a:pt x="94" y="208"/>
                    </a:cubicBezTo>
                    <a:cubicBezTo>
                      <a:pt x="82" y="192"/>
                      <a:pt x="46" y="176"/>
                      <a:pt x="46" y="176"/>
                    </a:cubicBezTo>
                    <a:cubicBezTo>
                      <a:pt x="43" y="168"/>
                      <a:pt x="29" y="153"/>
                      <a:pt x="38" y="152"/>
                    </a:cubicBezTo>
                    <a:cubicBezTo>
                      <a:pt x="59" y="147"/>
                      <a:pt x="92" y="172"/>
                      <a:pt x="110" y="184"/>
                    </a:cubicBezTo>
                    <a:cubicBezTo>
                      <a:pt x="112" y="192"/>
                      <a:pt x="126" y="209"/>
                      <a:pt x="118" y="208"/>
                    </a:cubicBezTo>
                    <a:cubicBezTo>
                      <a:pt x="99" y="204"/>
                      <a:pt x="70" y="176"/>
                      <a:pt x="70" y="176"/>
                    </a:cubicBezTo>
                    <a:cubicBezTo>
                      <a:pt x="54" y="152"/>
                      <a:pt x="56" y="149"/>
                      <a:pt x="30" y="136"/>
                    </a:cubicBezTo>
                    <a:cubicBezTo>
                      <a:pt x="22" y="132"/>
                      <a:pt x="0" y="122"/>
                      <a:pt x="6" y="128"/>
                    </a:cubicBezTo>
                    <a:cubicBezTo>
                      <a:pt x="23" y="145"/>
                      <a:pt x="64" y="153"/>
                      <a:pt x="86" y="168"/>
                    </a:cubicBezTo>
                    <a:cubicBezTo>
                      <a:pt x="91" y="176"/>
                      <a:pt x="97" y="183"/>
                      <a:pt x="102" y="192"/>
                    </a:cubicBezTo>
                    <a:cubicBezTo>
                      <a:pt x="107" y="202"/>
                      <a:pt x="106" y="224"/>
                      <a:pt x="118" y="224"/>
                    </a:cubicBezTo>
                    <a:cubicBezTo>
                      <a:pt x="128" y="224"/>
                      <a:pt x="122" y="202"/>
                      <a:pt x="126" y="192"/>
                    </a:cubicBezTo>
                    <a:cubicBezTo>
                      <a:pt x="130" y="175"/>
                      <a:pt x="126" y="149"/>
                      <a:pt x="142" y="144"/>
                    </a:cubicBezTo>
                    <a:cubicBezTo>
                      <a:pt x="158" y="138"/>
                      <a:pt x="190" y="133"/>
                      <a:pt x="190" y="112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 flipV="1">
            <a:off x="736560" y="5122080"/>
            <a:ext cx="3505320" cy="592200"/>
          </a:xfrm>
          <a:prstGeom prst="flowChartTerminator">
            <a:avLst/>
          </a:prstGeom>
          <a:gradFill rotWithShape="0">
            <a:gsLst>
              <a:gs pos="0">
                <a:srgbClr val="629709"/>
              </a:gs>
              <a:gs pos="50000">
                <a:srgbClr val="a1f8a7"/>
              </a:gs>
              <a:gs pos="100000">
                <a:srgbClr val="629709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874800" y="5167440"/>
            <a:ext cx="3263760" cy="411120"/>
            <a:chOff x="874800" y="5167440"/>
            <a:chExt cx="3263760" cy="411120"/>
          </a:xfrm>
        </p:grpSpPr>
        <p:sp>
          <p:nvSpPr>
            <p:cNvPr id="416" name=""/>
            <p:cNvSpPr/>
            <p:nvPr/>
          </p:nvSpPr>
          <p:spPr>
            <a:xfrm>
              <a:off x="874800" y="5167440"/>
              <a:ext cx="411120" cy="411120"/>
            </a:xfrm>
            <a:prstGeom prst="irregularSeal1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03200" y="5167440"/>
              <a:ext cx="412920" cy="411120"/>
            </a:xfrm>
            <a:prstGeom prst="irregularSeal1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98480" y="5167440"/>
              <a:ext cx="412920" cy="411120"/>
            </a:xfrm>
            <a:prstGeom prst="irregularSeal1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11400" y="5167440"/>
              <a:ext cx="412560" cy="411120"/>
            </a:xfrm>
            <a:prstGeom prst="irregularSeal1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06680" y="5167440"/>
              <a:ext cx="412560" cy="411120"/>
            </a:xfrm>
            <a:prstGeom prst="irregularSeal1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19240" y="5167440"/>
              <a:ext cx="411480" cy="411120"/>
            </a:xfrm>
            <a:prstGeom prst="irregularSeal1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14880" y="5167440"/>
              <a:ext cx="411120" cy="411120"/>
            </a:xfrm>
            <a:prstGeom prst="irregularSeal1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26000" y="5167440"/>
              <a:ext cx="412560" cy="411120"/>
            </a:xfrm>
            <a:prstGeom prst="irregularSeal1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36560" y="4360680"/>
            <a:ext cx="3504960" cy="591480"/>
            <a:chOff x="736560" y="4360680"/>
            <a:chExt cx="3504960" cy="591480"/>
          </a:xfrm>
        </p:grpSpPr>
        <p:sp>
          <p:nvSpPr>
            <p:cNvPr id="425" name=""/>
            <p:cNvSpPr/>
            <p:nvPr/>
          </p:nvSpPr>
          <p:spPr>
            <a:xfrm flipV="1">
              <a:off x="736560" y="4360320"/>
              <a:ext cx="3504960" cy="591480"/>
            </a:xfrm>
            <a:prstGeom prst="flowChartTerminator">
              <a:avLst/>
            </a:prstGeom>
            <a:gradFill rotWithShape="0">
              <a:gsLst>
                <a:gs pos="0">
                  <a:srgbClr val="629709"/>
                </a:gs>
                <a:gs pos="50000">
                  <a:srgbClr val="a1f8a7"/>
                </a:gs>
                <a:gs pos="100000">
                  <a:srgbClr val="629709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36560" y="4463280"/>
              <a:ext cx="515160" cy="307080"/>
              <a:chOff x="736560" y="4463280"/>
              <a:chExt cx="515160" cy="307080"/>
            </a:xfrm>
          </p:grpSpPr>
          <p:sp>
            <p:nvSpPr>
              <p:cNvPr id="427" name=""/>
              <p:cNvSpPr/>
              <p:nvPr/>
            </p:nvSpPr>
            <p:spPr>
              <a:xfrm>
                <a:off x="942480" y="4463640"/>
                <a:ext cx="102960" cy="205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736560" y="4462920"/>
                <a:ext cx="515160" cy="3070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1148760" y="4565880"/>
              <a:ext cx="514800" cy="307080"/>
              <a:chOff x="1148760" y="4565880"/>
              <a:chExt cx="514800" cy="307080"/>
            </a:xfrm>
          </p:grpSpPr>
          <p:sp>
            <p:nvSpPr>
              <p:cNvPr id="430" name=""/>
              <p:cNvSpPr/>
              <p:nvPr/>
            </p:nvSpPr>
            <p:spPr>
              <a:xfrm>
                <a:off x="1354320" y="4566240"/>
                <a:ext cx="102960" cy="205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1148760" y="4565520"/>
                <a:ext cx="514800" cy="3070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1681560" y="4360680"/>
              <a:ext cx="514800" cy="307080"/>
              <a:chOff x="1681560" y="4360680"/>
              <a:chExt cx="514800" cy="307080"/>
            </a:xfrm>
          </p:grpSpPr>
          <p:sp>
            <p:nvSpPr>
              <p:cNvPr id="433" name=""/>
              <p:cNvSpPr/>
              <p:nvPr/>
            </p:nvSpPr>
            <p:spPr>
              <a:xfrm>
                <a:off x="1887120" y="4361040"/>
                <a:ext cx="102960" cy="205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1681560" y="4360320"/>
                <a:ext cx="514800" cy="3070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1991160" y="4565880"/>
              <a:ext cx="514800" cy="307080"/>
              <a:chOff x="1991160" y="4565880"/>
              <a:chExt cx="514800" cy="307080"/>
            </a:xfrm>
          </p:grpSpPr>
          <p:sp>
            <p:nvSpPr>
              <p:cNvPr id="436" name=""/>
              <p:cNvSpPr/>
              <p:nvPr/>
            </p:nvSpPr>
            <p:spPr>
              <a:xfrm>
                <a:off x="2196720" y="4566240"/>
                <a:ext cx="102960" cy="205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1991160" y="4565520"/>
                <a:ext cx="514800" cy="3070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489400" y="4360680"/>
              <a:ext cx="514800" cy="307080"/>
              <a:chOff x="2489400" y="4360680"/>
              <a:chExt cx="514800" cy="307080"/>
            </a:xfrm>
          </p:grpSpPr>
          <p:sp>
            <p:nvSpPr>
              <p:cNvPr id="439" name=""/>
              <p:cNvSpPr/>
              <p:nvPr/>
            </p:nvSpPr>
            <p:spPr>
              <a:xfrm>
                <a:off x="2694960" y="4361040"/>
                <a:ext cx="102960" cy="205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2489400" y="4360320"/>
                <a:ext cx="514800" cy="3070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2695320" y="4565880"/>
              <a:ext cx="514800" cy="307080"/>
              <a:chOff x="2695320" y="4565880"/>
              <a:chExt cx="514800" cy="307080"/>
            </a:xfrm>
          </p:grpSpPr>
          <p:sp>
            <p:nvSpPr>
              <p:cNvPr id="442" name=""/>
              <p:cNvSpPr/>
              <p:nvPr/>
            </p:nvSpPr>
            <p:spPr>
              <a:xfrm>
                <a:off x="2900880" y="4566240"/>
                <a:ext cx="102960" cy="205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2695320" y="4565520"/>
                <a:ext cx="514800" cy="3070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3210480" y="4360680"/>
              <a:ext cx="515160" cy="307080"/>
              <a:chOff x="3210480" y="4360680"/>
              <a:chExt cx="515160" cy="307080"/>
            </a:xfrm>
          </p:grpSpPr>
          <p:sp>
            <p:nvSpPr>
              <p:cNvPr id="445" name=""/>
              <p:cNvSpPr/>
              <p:nvPr/>
            </p:nvSpPr>
            <p:spPr>
              <a:xfrm>
                <a:off x="3416400" y="4361040"/>
                <a:ext cx="102960" cy="205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3210480" y="4360320"/>
                <a:ext cx="515160" cy="3070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3623040" y="4463280"/>
              <a:ext cx="514800" cy="307080"/>
              <a:chOff x="3623040" y="4463280"/>
              <a:chExt cx="514800" cy="307080"/>
            </a:xfrm>
          </p:grpSpPr>
          <p:sp>
            <p:nvSpPr>
              <p:cNvPr id="448" name=""/>
              <p:cNvSpPr/>
              <p:nvPr/>
            </p:nvSpPr>
            <p:spPr>
              <a:xfrm>
                <a:off x="3828600" y="4463640"/>
                <a:ext cx="102960" cy="205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3623040" y="4462920"/>
                <a:ext cx="514800" cy="3070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4459320" y="137808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Zigote diplo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35200" y="210348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afase prima divisione meio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33760" y="297180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afase seconda divisione meio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44920" y="362736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afase division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mito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95680" y="4267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izio formazione di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otto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spor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ploidi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 a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00640" y="4984920"/>
            <a:ext cx="41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co c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otto spore aploidi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m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080" y="6019920"/>
            <a:ext cx="33530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4600" y="5867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6324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90920" y="6324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6553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76520" y="65530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90920" y="6553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29000" y="6553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52680" y="6172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76520" y="6095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64263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31920" y="64389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21040" y="64389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9880" y="64389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50880" y="5797440"/>
            <a:ext cx="35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dotti prima divisione meio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4920" y="6076800"/>
            <a:ext cx="38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dotti seconda divisione meio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300200" y="635652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dotti division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mito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08:22:02Z</dcterms:created>
  <dc:creator>Palumbo</dc:creator>
  <dc:description/>
  <dc:language>en-US</dc:language>
  <cp:lastModifiedBy>M.Rocchi</cp:lastModifiedBy>
  <dcterms:modified xsi:type="dcterms:W3CDTF">2003-01-12T20:19:19Z</dcterms:modified>
  <cp:revision>99</cp:revision>
  <dc:subject/>
  <dc:title>c</dc:title>
</cp:coreProperties>
</file>