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9.pct" ContentType="image/x-pict"/>
  <Override PartName="/ppt/media/image5.pct" ContentType="image/x-pict"/>
  <Override PartName="/ppt/media/image6.pct" ContentType="image/x-pict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80E6-F445-40B5-B498-D7823090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65F-1939-4EEC-82B8-37B16E1B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AA1-2554-4619-8B37-CD18F329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DA3-1708-429C-8149-25FE49C9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9AF4-95A4-43C1-A6DC-A77C3D82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900-6EC3-4C98-91E6-09ED986D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7A2-053D-49D5-B239-62A273A1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450-B518-45DF-B66B-E535EFFD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007-3306-4A8B-9860-ADC734E2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A5C-DAA6-4F50-AD31-2C0861C1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9CC-E73A-42E5-9E57-AF65D2A0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F29-97FD-41BC-8185-BF2F6ACC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8606-9C64-483D-AC5B-D44095353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a1e"/>
                </a:solidFill>
                <a:latin typeface="Comic Sans MS"/>
              </a:rPr>
              <a:t>Teoria cromosomica dell’ereditarie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828800"/>
            <a:ext cx="883944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 fattori mendeliani, i geni, s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fisicamente localizzati sui cromosom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er ogni specie esaminata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l num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i cromosomi è inferiore al num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i ge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e consegue che vi devono ess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iù geni su ciascun cromosoma.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4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285640" y="5335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a1e"/>
                </a:solidFill>
                <a:latin typeface="Comic Sans MS"/>
              </a:rPr>
              <a:t>Differenze fra incrocio 1 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00480" y="236376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-72720" y="502920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1e"/>
                </a:solidFill>
                <a:latin typeface="Comic Sans MS"/>
              </a:rPr>
              <a:t>prog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39720" y="4267080"/>
            <a:ext cx="457200" cy="2057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21560" y="411480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 w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75040" y="4572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17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175120" y="525780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w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9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137320" y="579132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 w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10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734000" y="602136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283360" y="5943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1e"/>
                </a:solidFill>
                <a:latin typeface="Comic Sans MS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08640" y="472428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30/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=0,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= 1,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72720" y="213372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1e"/>
                </a:solidFill>
                <a:latin typeface="Comic Sans MS"/>
              </a:rPr>
              <a:t>prog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39720" y="1371600"/>
            <a:ext cx="457200" cy="2057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57200" y="12193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 w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49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65320" y="16747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500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235960" y="236232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w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15440" y="28954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 w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283360" y="3124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1e"/>
                </a:solidFill>
                <a:latin typeface="Comic Sans MS"/>
              </a:rPr>
              <a:t>1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215120" y="160020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14/1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=0,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= 1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72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1e"/>
                </a:solidFill>
                <a:latin typeface="Comic Sans MS"/>
              </a:rPr>
              <a:t>Incrocio #3: associazione e ricombinazione nel cromosoma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002800" y="57135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878960" y="5838840"/>
            <a:ext cx="106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,3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6,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73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1292400" y="1469880"/>
            <a:ext cx="65563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51920" y="9907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Posizione dei locus che occupano lo stesso cromos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2438280"/>
            <a:ext cx="87631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a1e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a1e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ff0b02"/>
                </a:solidFill>
                <a:latin typeface="Comic Sans MS"/>
              </a:rPr>
              <a:t>Osservazione: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 frequenza con cui compaiono le classi ricombinanti varia a seconda dei locus utilizzati nell’incroc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74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b02"/>
                </a:solidFill>
                <a:latin typeface="Comic Sans MS"/>
              </a:rPr>
              <a:t>La ricombinazione meiotica come meccanismo per la ricombinazione 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819520" y="2575080"/>
            <a:ext cx="33526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19520" y="3032280"/>
            <a:ext cx="3352680" cy="0"/>
          </a:xfrm>
          <a:prstGeom prst="line">
            <a:avLst/>
          </a:prstGeom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137040" y="198108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r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       s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30880" y="3032280"/>
            <a:ext cx="20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r               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28560" y="470844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2575080"/>
            <a:ext cx="10670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962160" y="2575080"/>
            <a:ext cx="10666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19520" y="2422440"/>
            <a:ext cx="33526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819520" y="3184560"/>
            <a:ext cx="3352680" cy="0"/>
          </a:xfrm>
          <a:prstGeom prst="line">
            <a:avLst/>
          </a:prstGeom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71800" y="2422440"/>
            <a:ext cx="7632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971800" y="3032280"/>
            <a:ext cx="7632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276720" y="4251240"/>
            <a:ext cx="27432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352680" y="478476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352680" y="5318280"/>
            <a:ext cx="1219320" cy="0"/>
          </a:xfrm>
          <a:prstGeom prst="line">
            <a:avLst/>
          </a:prstGeom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429000" y="5851440"/>
            <a:ext cx="2514600" cy="0"/>
          </a:xfrm>
          <a:prstGeom prst="line">
            <a:avLst/>
          </a:prstGeom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819520" y="4022640"/>
            <a:ext cx="380880" cy="1981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37040" y="380988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r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 s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352680" y="5410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r         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124080" y="4876920"/>
            <a:ext cx="30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r 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s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365640" y="434340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r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 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648320" y="4784760"/>
            <a:ext cx="1295280" cy="0"/>
          </a:xfrm>
          <a:prstGeom prst="line">
            <a:avLst/>
          </a:prstGeom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495680" y="5318280"/>
            <a:ext cx="14479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77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a1e"/>
                </a:solidFill>
                <a:latin typeface="Comic Sans MS"/>
              </a:rPr>
              <a:t>Incrocio #4 associazione e ricombinazione nel cromosoma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41000" y="1539720"/>
            <a:ext cx="44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r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s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/cur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s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x  cur st/cur 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670280" y="1981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70160" y="2209680"/>
            <a:ext cx="44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r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s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/ cur st  x  cur st/cur 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2280" y="2793960"/>
          <a:ext cx="8839440" cy="1542960"/>
        </p:xfrm>
        <a:graphic>
          <a:graphicData uri="http://schemas.openxmlformats.org/drawingml/2006/table">
            <a:tbl>
              <a:tblPr/>
              <a:tblGrid>
                <a:gridCol w="883944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</a:t>
                      </a: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lassi fenotipi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r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st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r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st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r st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cur st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0a1e"/>
                          </a:solidFill>
                          <a:latin typeface="Comic Sans MS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a1e"/>
                          </a:solidFill>
                          <a:latin typeface="Comic Sans MS"/>
                        </a:rPr>
                        <a:t>numero progeni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193        66        61       184     </a:t>
                      </a:r>
                      <a:r>
                        <a:rPr b="1" lang="en-US" sz="2000" spc="-1" strike="noStrike">
                          <a:solidFill>
                            <a:srgbClr val="ff0a1e"/>
                          </a:solidFill>
                          <a:latin typeface="Comic Sans MS"/>
                        </a:rPr>
                        <a:t>5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4" name=""/>
          <p:cNvSpPr/>
          <p:nvPr/>
        </p:nvSpPr>
        <p:spPr>
          <a:xfrm>
            <a:off x="552240" y="4646520"/>
            <a:ext cx="81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quenza ricombinanti: 66+61/504 = 0,25 x 100=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95280" y="5867280"/>
            <a:ext cx="4800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450440" y="541008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a1e"/>
                </a:solidFill>
                <a:latin typeface="Comic Sans MS"/>
              </a:rPr>
              <a:t>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952880" y="5425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a1e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836800" y="527364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1e"/>
                </a:solidFill>
                <a:latin typeface="Comic Sans MS"/>
              </a:rPr>
              <a:t>25 u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295280" y="6553080"/>
            <a:ext cx="541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340000" y="601812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a1e"/>
                </a:solidFill>
                <a:latin typeface="Comic Sans MS"/>
              </a:rPr>
              <a:t>w                               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06800" y="595944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1e"/>
                </a:solidFill>
                <a:latin typeface="Comic Sans MS"/>
              </a:rPr>
              <a:t>37 u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79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7162920" y="1692000"/>
            <a:ext cx="218520" cy="228960"/>
            <a:chOff x="7162920" y="1692000"/>
            <a:chExt cx="218520" cy="228960"/>
          </a:xfrm>
        </p:grpSpPr>
        <p:sp>
          <p:nvSpPr>
            <p:cNvPr id="799" name=""/>
            <p:cNvSpPr/>
            <p:nvPr/>
          </p:nvSpPr>
          <p:spPr>
            <a:xfrm>
              <a:off x="7162920" y="1806480"/>
              <a:ext cx="114120" cy="114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7267320" y="1692000"/>
              <a:ext cx="11412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1676520" y="1768320"/>
            <a:ext cx="190440" cy="285840"/>
            <a:chOff x="1676520" y="1768320"/>
            <a:chExt cx="190440" cy="285840"/>
          </a:xfrm>
        </p:grpSpPr>
        <p:sp>
          <p:nvSpPr>
            <p:cNvPr id="802" name=""/>
            <p:cNvSpPr/>
            <p:nvPr/>
          </p:nvSpPr>
          <p:spPr>
            <a:xfrm>
              <a:off x="1714320" y="1768320"/>
              <a:ext cx="114120" cy="114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771920" y="1882800"/>
              <a:ext cx="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6520" y="196812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676520" y="2305080"/>
            <a:ext cx="190440" cy="285840"/>
            <a:chOff x="1676520" y="2305080"/>
            <a:chExt cx="190440" cy="285840"/>
          </a:xfrm>
        </p:grpSpPr>
        <p:sp>
          <p:nvSpPr>
            <p:cNvPr id="806" name=""/>
            <p:cNvSpPr/>
            <p:nvPr/>
          </p:nvSpPr>
          <p:spPr>
            <a:xfrm>
              <a:off x="1714320" y="2305080"/>
              <a:ext cx="114120" cy="114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771920" y="2419560"/>
              <a:ext cx="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676520" y="25048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7162920" y="2361960"/>
            <a:ext cx="218520" cy="228960"/>
            <a:chOff x="7162920" y="2361960"/>
            <a:chExt cx="218520" cy="228960"/>
          </a:xfrm>
        </p:grpSpPr>
        <p:sp>
          <p:nvSpPr>
            <p:cNvPr id="810" name=""/>
            <p:cNvSpPr/>
            <p:nvPr/>
          </p:nvSpPr>
          <p:spPr>
            <a:xfrm>
              <a:off x="7162920" y="2476440"/>
              <a:ext cx="114120" cy="114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267320" y="2361960"/>
              <a:ext cx="11412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Mappaggio di 4 geni con incroci a due pu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1295280" y="2133720"/>
          <a:ext cx="6858000" cy="310356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croci              geni                  % di ricombin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1                  D - H                            2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2                  H - p                            2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3                  D - p                             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4                  H - ro                           2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5                  D - ro                           3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6                  p - ro                            3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4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350800" y="5789520"/>
            <a:ext cx="48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1e"/>
                </a:solidFill>
                <a:latin typeface="Comic Sans MS"/>
              </a:rPr>
              <a:t>D          p                H                     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9480" y="5408640"/>
            <a:ext cx="7925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28600" y="55022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u.m.       7            21,1               21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81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447920" y="6858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a1e"/>
                </a:solidFill>
                <a:latin typeface="Comic Sans MS"/>
              </a:rPr>
              <a:t>costruzione della mappa gene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0880" y="2514600"/>
            <a:ext cx="8534520" cy="0"/>
          </a:xfrm>
          <a:prstGeom prst="line">
            <a:avLst/>
          </a:prstGeom>
          <a:ln w="76320">
            <a:solidFill>
              <a:srgbClr val="fff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03080" y="1887480"/>
            <a:ext cx="48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          p                H                     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0880" y="161604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.m.    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7            21,1               21,9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71600" y="2895480"/>
            <a:ext cx="3886200" cy="0"/>
          </a:xfrm>
          <a:prstGeom prst="line">
            <a:avLst/>
          </a:prstGeom>
          <a:ln w="93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93160" y="29113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971800" y="3581280"/>
            <a:ext cx="5486400" cy="0"/>
          </a:xfrm>
          <a:prstGeom prst="line">
            <a:avLst/>
          </a:prstGeom>
          <a:ln w="93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950720" y="35798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447920" y="4343400"/>
            <a:ext cx="7010280" cy="0"/>
          </a:xfrm>
          <a:prstGeom prst="line">
            <a:avLst/>
          </a:prstGeom>
          <a:ln w="93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7560" y="4341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69960" y="510372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n l’aumentare della distanza fisica tra due geni diminuisce la loro distanza gene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83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2438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a1e"/>
                </a:solidFill>
                <a:latin typeface="Comic Sans MS"/>
              </a:rPr>
              <a:t>Perché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44920" y="1814400"/>
            <a:ext cx="3352680" cy="0"/>
          </a:xfrm>
          <a:prstGeom prst="line">
            <a:avLst/>
          </a:prstGeom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644920" y="2271600"/>
            <a:ext cx="33526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62440" y="122076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r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       s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39000" y="2363760"/>
            <a:ext cx="20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r               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201680" y="404028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483000" y="181440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3406680" y="181440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644920" y="1662120"/>
            <a:ext cx="3352680" cy="0"/>
          </a:xfrm>
          <a:prstGeom prst="line">
            <a:avLst/>
          </a:prstGeom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644920" y="2424240"/>
            <a:ext cx="33526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797200" y="1662120"/>
            <a:ext cx="7632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797200" y="2271600"/>
            <a:ext cx="7632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949480" y="3583080"/>
            <a:ext cx="2743200" cy="0"/>
          </a:xfrm>
          <a:prstGeom prst="line">
            <a:avLst/>
          </a:prstGeom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49480" y="4116240"/>
            <a:ext cx="2743200" cy="0"/>
          </a:xfrm>
          <a:prstGeom prst="line">
            <a:avLst/>
          </a:prstGeom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025800" y="4649760"/>
            <a:ext cx="27432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025800" y="5183280"/>
            <a:ext cx="27432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492280" y="3354480"/>
            <a:ext cx="381240" cy="1981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797200" y="314172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r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 s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025800" y="4726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r         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873520" y="419256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r 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 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025800" y="365904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r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 s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702320" y="1814400"/>
            <a:ext cx="5331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625640" y="181440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863880" y="4116240"/>
            <a:ext cx="8384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863880" y="4649760"/>
            <a:ext cx="914400" cy="0"/>
          </a:xfrm>
          <a:prstGeom prst="line">
            <a:avLst/>
          </a:prstGeom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25800" y="4040280"/>
            <a:ext cx="7632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25800" y="3506760"/>
            <a:ext cx="7632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02120" y="5106960"/>
            <a:ext cx="7596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102120" y="4573440"/>
            <a:ext cx="7596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28600" y="5943600"/>
            <a:ext cx="8686800" cy="9471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 doppi scambi non danno ricombinanti fenotip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87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181120" y="14479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a1e"/>
                </a:solidFill>
                <a:latin typeface="Comic Sans MS"/>
              </a:rPr>
              <a:t>Localizazzione cromosomica dei mutan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87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3952800" cy="588168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1285920" y="5486400"/>
            <a:ext cx="210960" cy="380880"/>
          </a:xfrm>
          <a:custGeom>
            <a:avLst/>
            <a:gdLst/>
            <a:ahLst/>
            <a:rect l="l" t="t" r="r" b="b"/>
            <a:pathLst>
              <a:path w="79" h="167">
                <a:moveTo>
                  <a:pt x="79" y="0"/>
                </a:moveTo>
                <a:cubicBezTo>
                  <a:pt x="50" y="28"/>
                  <a:pt x="23" y="47"/>
                  <a:pt x="0" y="80"/>
                </a:cubicBezTo>
                <a:cubicBezTo>
                  <a:pt x="7" y="100"/>
                  <a:pt x="20" y="143"/>
                  <a:pt x="39" y="151"/>
                </a:cubicBezTo>
                <a:cubicBezTo>
                  <a:pt x="52" y="156"/>
                  <a:pt x="79" y="167"/>
                  <a:pt x="79" y="16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rot="9900000">
            <a:off x="761400" y="5543280"/>
            <a:ext cx="150840" cy="398520"/>
          </a:xfrm>
          <a:custGeom>
            <a:avLst/>
            <a:gdLst/>
            <a:ahLst/>
            <a:rect l="l" t="t" r="r" b="b"/>
            <a:pathLst>
              <a:path w="79" h="167">
                <a:moveTo>
                  <a:pt x="79" y="0"/>
                </a:moveTo>
                <a:cubicBezTo>
                  <a:pt x="50" y="28"/>
                  <a:pt x="23" y="47"/>
                  <a:pt x="0" y="80"/>
                </a:cubicBezTo>
                <a:cubicBezTo>
                  <a:pt x="7" y="100"/>
                  <a:pt x="20" y="143"/>
                  <a:pt x="39" y="151"/>
                </a:cubicBezTo>
                <a:cubicBezTo>
                  <a:pt x="52" y="156"/>
                  <a:pt x="79" y="167"/>
                  <a:pt x="79" y="16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092240" y="5715000"/>
            <a:ext cx="41400" cy="44280"/>
          </a:xfrm>
          <a:custGeom>
            <a:avLst/>
            <a:gdLst/>
            <a:ahLst/>
            <a:rect l="l" t="t" r="r" b="b"/>
            <a:pathLst>
              <a:path w="26" h="28">
                <a:moveTo>
                  <a:pt x="0" y="0"/>
                </a:moveTo>
                <a:cubicBezTo>
                  <a:pt x="9" y="28"/>
                  <a:pt x="0" y="26"/>
                  <a:pt x="20" y="20"/>
                </a:cubicBezTo>
                <a:cubicBezTo>
                  <a:pt x="26" y="1"/>
                  <a:pt x="17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193760" y="5715000"/>
            <a:ext cx="41400" cy="44280"/>
          </a:xfrm>
          <a:custGeom>
            <a:avLst/>
            <a:gdLst/>
            <a:ahLst/>
            <a:rect l="l" t="t" r="r" b="b"/>
            <a:pathLst>
              <a:path w="26" h="28">
                <a:moveTo>
                  <a:pt x="0" y="0"/>
                </a:moveTo>
                <a:cubicBezTo>
                  <a:pt x="9" y="28"/>
                  <a:pt x="0" y="26"/>
                  <a:pt x="20" y="20"/>
                </a:cubicBezTo>
                <a:cubicBezTo>
                  <a:pt x="26" y="1"/>
                  <a:pt x="17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098720" y="5867280"/>
            <a:ext cx="104760" cy="362160"/>
          </a:xfrm>
          <a:custGeom>
            <a:avLst/>
            <a:gdLst/>
            <a:ahLst/>
            <a:rect l="l" t="t" r="r" b="b"/>
            <a:pathLst>
              <a:path w="11" h="112">
                <a:moveTo>
                  <a:pt x="0" y="0"/>
                </a:moveTo>
                <a:cubicBezTo>
                  <a:pt x="11" y="33"/>
                  <a:pt x="0" y="75"/>
                  <a:pt x="0" y="11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209600" y="5886360"/>
            <a:ext cx="117720" cy="362160"/>
          </a:xfrm>
          <a:custGeom>
            <a:avLst/>
            <a:gdLst/>
            <a:ahLst/>
            <a:rect l="l" t="t" r="r" b="b"/>
            <a:pathLst>
              <a:path w="11" h="112">
                <a:moveTo>
                  <a:pt x="0" y="0"/>
                </a:moveTo>
                <a:cubicBezTo>
                  <a:pt x="11" y="33"/>
                  <a:pt x="0" y="75"/>
                  <a:pt x="0" y="11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rot="9900000">
            <a:off x="872280" y="5486040"/>
            <a:ext cx="150840" cy="398520"/>
          </a:xfrm>
          <a:custGeom>
            <a:avLst/>
            <a:gdLst/>
            <a:ahLst/>
            <a:rect l="l" t="t" r="r" b="b"/>
            <a:pathLst>
              <a:path w="79" h="167">
                <a:moveTo>
                  <a:pt x="79" y="0"/>
                </a:moveTo>
                <a:cubicBezTo>
                  <a:pt x="50" y="28"/>
                  <a:pt x="23" y="47"/>
                  <a:pt x="0" y="80"/>
                </a:cubicBezTo>
                <a:cubicBezTo>
                  <a:pt x="7" y="100"/>
                  <a:pt x="20" y="143"/>
                  <a:pt x="39" y="151"/>
                </a:cubicBezTo>
                <a:cubicBezTo>
                  <a:pt x="52" y="156"/>
                  <a:pt x="79" y="167"/>
                  <a:pt x="79" y="16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438200" y="5486400"/>
            <a:ext cx="211320" cy="380880"/>
          </a:xfrm>
          <a:custGeom>
            <a:avLst/>
            <a:gdLst/>
            <a:ahLst/>
            <a:rect l="l" t="t" r="r" b="b"/>
            <a:pathLst>
              <a:path w="79" h="167">
                <a:moveTo>
                  <a:pt x="79" y="0"/>
                </a:moveTo>
                <a:cubicBezTo>
                  <a:pt x="50" y="28"/>
                  <a:pt x="23" y="47"/>
                  <a:pt x="0" y="80"/>
                </a:cubicBezTo>
                <a:cubicBezTo>
                  <a:pt x="7" y="100"/>
                  <a:pt x="20" y="143"/>
                  <a:pt x="39" y="151"/>
                </a:cubicBezTo>
                <a:cubicBezTo>
                  <a:pt x="52" y="156"/>
                  <a:pt x="79" y="167"/>
                  <a:pt x="79" y="16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608200" y="5486400"/>
            <a:ext cx="211320" cy="380880"/>
          </a:xfrm>
          <a:custGeom>
            <a:avLst/>
            <a:gdLst/>
            <a:ahLst/>
            <a:rect l="l" t="t" r="r" b="b"/>
            <a:pathLst>
              <a:path w="79" h="167">
                <a:moveTo>
                  <a:pt x="79" y="0"/>
                </a:moveTo>
                <a:cubicBezTo>
                  <a:pt x="50" y="28"/>
                  <a:pt x="23" y="47"/>
                  <a:pt x="0" y="80"/>
                </a:cubicBezTo>
                <a:cubicBezTo>
                  <a:pt x="7" y="100"/>
                  <a:pt x="20" y="143"/>
                  <a:pt x="39" y="151"/>
                </a:cubicBezTo>
                <a:cubicBezTo>
                  <a:pt x="52" y="156"/>
                  <a:pt x="79" y="167"/>
                  <a:pt x="79" y="16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rot="9900000">
            <a:off x="2083680" y="5543280"/>
            <a:ext cx="150840" cy="398520"/>
          </a:xfrm>
          <a:custGeom>
            <a:avLst/>
            <a:gdLst/>
            <a:ahLst/>
            <a:rect l="l" t="t" r="r" b="b"/>
            <a:pathLst>
              <a:path w="79" h="167">
                <a:moveTo>
                  <a:pt x="79" y="0"/>
                </a:moveTo>
                <a:cubicBezTo>
                  <a:pt x="50" y="28"/>
                  <a:pt x="23" y="47"/>
                  <a:pt x="0" y="80"/>
                </a:cubicBezTo>
                <a:cubicBezTo>
                  <a:pt x="7" y="100"/>
                  <a:pt x="20" y="143"/>
                  <a:pt x="39" y="151"/>
                </a:cubicBezTo>
                <a:cubicBezTo>
                  <a:pt x="52" y="156"/>
                  <a:pt x="79" y="167"/>
                  <a:pt x="79" y="16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414520" y="5715000"/>
            <a:ext cx="41400" cy="44280"/>
          </a:xfrm>
          <a:custGeom>
            <a:avLst/>
            <a:gdLst/>
            <a:ahLst/>
            <a:rect l="l" t="t" r="r" b="b"/>
            <a:pathLst>
              <a:path w="26" h="28">
                <a:moveTo>
                  <a:pt x="0" y="0"/>
                </a:moveTo>
                <a:cubicBezTo>
                  <a:pt x="9" y="28"/>
                  <a:pt x="0" y="26"/>
                  <a:pt x="20" y="20"/>
                </a:cubicBezTo>
                <a:cubicBezTo>
                  <a:pt x="26" y="1"/>
                  <a:pt x="17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516040" y="5715000"/>
            <a:ext cx="41400" cy="44280"/>
          </a:xfrm>
          <a:custGeom>
            <a:avLst/>
            <a:gdLst/>
            <a:ahLst/>
            <a:rect l="l" t="t" r="r" b="b"/>
            <a:pathLst>
              <a:path w="26" h="28">
                <a:moveTo>
                  <a:pt x="0" y="0"/>
                </a:moveTo>
                <a:cubicBezTo>
                  <a:pt x="9" y="28"/>
                  <a:pt x="0" y="26"/>
                  <a:pt x="20" y="20"/>
                </a:cubicBezTo>
                <a:cubicBezTo>
                  <a:pt x="26" y="1"/>
                  <a:pt x="17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21000" y="5867280"/>
            <a:ext cx="104760" cy="362160"/>
          </a:xfrm>
          <a:custGeom>
            <a:avLst/>
            <a:gdLst/>
            <a:ahLst/>
            <a:rect l="l" t="t" r="r" b="b"/>
            <a:pathLst>
              <a:path w="11" h="112">
                <a:moveTo>
                  <a:pt x="0" y="0"/>
                </a:moveTo>
                <a:cubicBezTo>
                  <a:pt x="11" y="33"/>
                  <a:pt x="0" y="75"/>
                  <a:pt x="0" y="11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575080" y="5867280"/>
            <a:ext cx="74520" cy="381240"/>
          </a:xfrm>
          <a:custGeom>
            <a:avLst/>
            <a:gdLst/>
            <a:ahLst/>
            <a:rect l="l" t="t" r="r" b="b"/>
            <a:pathLst>
              <a:path w="11" h="112">
                <a:moveTo>
                  <a:pt x="0" y="0"/>
                </a:moveTo>
                <a:cubicBezTo>
                  <a:pt x="11" y="33"/>
                  <a:pt x="0" y="75"/>
                  <a:pt x="0" y="11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rot="9900000">
            <a:off x="2194920" y="5486040"/>
            <a:ext cx="150840" cy="398520"/>
          </a:xfrm>
          <a:custGeom>
            <a:avLst/>
            <a:gdLst/>
            <a:ahLst/>
            <a:rect l="l" t="t" r="r" b="b"/>
            <a:pathLst>
              <a:path w="79" h="167">
                <a:moveTo>
                  <a:pt x="79" y="0"/>
                </a:moveTo>
                <a:cubicBezTo>
                  <a:pt x="50" y="28"/>
                  <a:pt x="23" y="47"/>
                  <a:pt x="0" y="80"/>
                </a:cubicBezTo>
                <a:cubicBezTo>
                  <a:pt x="7" y="100"/>
                  <a:pt x="20" y="143"/>
                  <a:pt x="39" y="151"/>
                </a:cubicBezTo>
                <a:cubicBezTo>
                  <a:pt x="52" y="156"/>
                  <a:pt x="79" y="167"/>
                  <a:pt x="79" y="16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760840" y="5486400"/>
            <a:ext cx="210960" cy="380880"/>
          </a:xfrm>
          <a:custGeom>
            <a:avLst/>
            <a:gdLst/>
            <a:ahLst/>
            <a:rect l="l" t="t" r="r" b="b"/>
            <a:pathLst>
              <a:path w="79" h="167">
                <a:moveTo>
                  <a:pt x="79" y="0"/>
                </a:moveTo>
                <a:cubicBezTo>
                  <a:pt x="50" y="28"/>
                  <a:pt x="23" y="47"/>
                  <a:pt x="0" y="80"/>
                </a:cubicBezTo>
                <a:cubicBezTo>
                  <a:pt x="7" y="100"/>
                  <a:pt x="20" y="143"/>
                  <a:pt x="39" y="151"/>
                </a:cubicBezTo>
                <a:cubicBezTo>
                  <a:pt x="52" y="156"/>
                  <a:pt x="79" y="167"/>
                  <a:pt x="79" y="16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590920" y="5867280"/>
            <a:ext cx="152280" cy="152640"/>
          </a:xfrm>
          <a:custGeom>
            <a:avLst/>
            <a:gdLst/>
            <a:ahLst/>
            <a:rect l="l" t="t" r="r" b="b"/>
            <a:pathLst>
              <a:path w="102" h="128">
                <a:moveTo>
                  <a:pt x="0" y="0"/>
                </a:moveTo>
                <a:cubicBezTo>
                  <a:pt x="32" y="10"/>
                  <a:pt x="44" y="26"/>
                  <a:pt x="56" y="60"/>
                </a:cubicBezTo>
                <a:cubicBezTo>
                  <a:pt x="47" y="84"/>
                  <a:pt x="81" y="109"/>
                  <a:pt x="96" y="128"/>
                </a:cubicBezTo>
                <a:cubicBezTo>
                  <a:pt x="102" y="100"/>
                  <a:pt x="92" y="109"/>
                  <a:pt x="72" y="96"/>
                </a:cubicBezTo>
                <a:cubicBezTo>
                  <a:pt x="63" y="70"/>
                  <a:pt x="64" y="80"/>
                  <a:pt x="64" y="68"/>
                </a:cubicBez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21240" y="623412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X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29840" y="62406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X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886200" y="3045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a1e"/>
                </a:solidFill>
                <a:latin typeface="Comic Sans MS"/>
              </a:rPr>
              <a:t>incrocio a 3 pu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768320" y="1998720"/>
            <a:ext cx="5943600" cy="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768320" y="2455920"/>
            <a:ext cx="59436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768320" y="1387440"/>
            <a:ext cx="61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752480" y="253044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2835360" y="19969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759040" y="199692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5959440" y="19969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883120" y="199692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1160" y="304632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utti i possibili game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1933560" y="4419720"/>
            <a:ext cx="2209680" cy="144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933560" y="3809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   B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33560" y="4724280"/>
            <a:ext cx="22096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7240" y="4724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    b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704960" y="38862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33360" y="411336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en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41600" y="1996920"/>
            <a:ext cx="39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33360" y="548496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v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752480" y="54100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2009880" y="5791320"/>
            <a:ext cx="2209680" cy="144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009880" y="6248520"/>
            <a:ext cx="22096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619360" y="5791320"/>
            <a:ext cx="16002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695680" y="6248520"/>
            <a:ext cx="1523880" cy="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97440" y="53499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   b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229840" y="61722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   B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905360" y="3960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v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353280" y="38862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6581880" y="4266720"/>
            <a:ext cx="2209680" cy="180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581880" y="4724280"/>
            <a:ext cx="22096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029440" y="4267080"/>
            <a:ext cx="7621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077320" y="4724280"/>
            <a:ext cx="761760" cy="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67160" y="37497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   B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27760" y="464832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    b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905360" y="55609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ver 1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353280" y="54864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6581880" y="5866920"/>
            <a:ext cx="2209680" cy="180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581880" y="6324480"/>
            <a:ext cx="22096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115040" y="5867280"/>
            <a:ext cx="7621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115040" y="6324480"/>
            <a:ext cx="762120" cy="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064640" y="54259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   b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9080" y="624852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    B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94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1e"/>
                </a:solidFill>
                <a:latin typeface="Comic Sans MS"/>
              </a:rPr>
              <a:t>Rapporto mendeliano nell’assortimento indip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666880" y="1152360"/>
            <a:ext cx="76320" cy="447480"/>
            <a:chOff x="2666880" y="1152360"/>
            <a:chExt cx="76320" cy="447480"/>
          </a:xfrm>
        </p:grpSpPr>
        <p:grpSp>
          <p:nvGrpSpPr>
            <p:cNvPr id="57" name=""/>
            <p:cNvGrpSpPr/>
            <p:nvPr/>
          </p:nvGrpSpPr>
          <p:grpSpPr>
            <a:xfrm>
              <a:off x="2666880" y="1152360"/>
              <a:ext cx="76320" cy="447480"/>
              <a:chOff x="2666880" y="1152360"/>
              <a:chExt cx="76320" cy="447480"/>
            </a:xfrm>
          </p:grpSpPr>
          <p:sp>
            <p:nvSpPr>
              <p:cNvPr id="58" name=""/>
              <p:cNvSpPr/>
              <p:nvPr/>
            </p:nvSpPr>
            <p:spPr>
              <a:xfrm>
                <a:off x="2666880" y="129528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666880" y="1152360"/>
                <a:ext cx="763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666880" y="1295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895480" y="1143000"/>
            <a:ext cx="76320" cy="447480"/>
            <a:chOff x="2895480" y="1143000"/>
            <a:chExt cx="76320" cy="447480"/>
          </a:xfrm>
        </p:grpSpPr>
        <p:grpSp>
          <p:nvGrpSpPr>
            <p:cNvPr id="62" name=""/>
            <p:cNvGrpSpPr/>
            <p:nvPr/>
          </p:nvGrpSpPr>
          <p:grpSpPr>
            <a:xfrm>
              <a:off x="2895480" y="1143000"/>
              <a:ext cx="76320" cy="447480"/>
              <a:chOff x="2895480" y="1143000"/>
              <a:chExt cx="76320" cy="447480"/>
            </a:xfrm>
          </p:grpSpPr>
          <p:sp>
            <p:nvSpPr>
              <p:cNvPr id="63" name=""/>
              <p:cNvSpPr/>
              <p:nvPr/>
            </p:nvSpPr>
            <p:spPr>
              <a:xfrm>
                <a:off x="2895480" y="128592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895480" y="1143000"/>
                <a:ext cx="763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895480" y="1287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124080" y="1066680"/>
            <a:ext cx="76320" cy="587160"/>
            <a:chOff x="3124080" y="1066680"/>
            <a:chExt cx="76320" cy="587160"/>
          </a:xfrm>
        </p:grpSpPr>
        <p:grpSp>
          <p:nvGrpSpPr>
            <p:cNvPr id="67" name=""/>
            <p:cNvGrpSpPr/>
            <p:nvPr/>
          </p:nvGrpSpPr>
          <p:grpSpPr>
            <a:xfrm>
              <a:off x="3124080" y="1066680"/>
              <a:ext cx="76320" cy="587160"/>
              <a:chOff x="3124080" y="1066680"/>
              <a:chExt cx="76320" cy="587160"/>
            </a:xfrm>
          </p:grpSpPr>
          <p:sp>
            <p:nvSpPr>
              <p:cNvPr id="68" name=""/>
              <p:cNvSpPr/>
              <p:nvPr/>
            </p:nvSpPr>
            <p:spPr>
              <a:xfrm>
                <a:off x="3124080" y="134928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24080" y="106668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3124080" y="1349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368520" y="1066680"/>
            <a:ext cx="75960" cy="587160"/>
            <a:chOff x="3368520" y="1066680"/>
            <a:chExt cx="75960" cy="587160"/>
          </a:xfrm>
        </p:grpSpPr>
        <p:grpSp>
          <p:nvGrpSpPr>
            <p:cNvPr id="72" name=""/>
            <p:cNvGrpSpPr/>
            <p:nvPr/>
          </p:nvGrpSpPr>
          <p:grpSpPr>
            <a:xfrm>
              <a:off x="3368520" y="1066680"/>
              <a:ext cx="75960" cy="587160"/>
              <a:chOff x="3368520" y="1066680"/>
              <a:chExt cx="75960" cy="587160"/>
            </a:xfrm>
          </p:grpSpPr>
          <p:sp>
            <p:nvSpPr>
              <p:cNvPr id="73" name=""/>
              <p:cNvSpPr/>
              <p:nvPr/>
            </p:nvSpPr>
            <p:spPr>
              <a:xfrm>
                <a:off x="3368520" y="134928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368520" y="106668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3368520" y="13492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590920" y="990720"/>
            <a:ext cx="1066680" cy="76176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71920" y="106668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5840" y="106668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34160" y="1447920"/>
            <a:ext cx="26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66000" y="1444680"/>
            <a:ext cx="26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029200" y="1152360"/>
            <a:ext cx="76320" cy="447480"/>
            <a:chOff x="5029200" y="1152360"/>
            <a:chExt cx="76320" cy="447480"/>
          </a:xfrm>
        </p:grpSpPr>
        <p:grpSp>
          <p:nvGrpSpPr>
            <p:cNvPr id="82" name=""/>
            <p:cNvGrpSpPr/>
            <p:nvPr/>
          </p:nvGrpSpPr>
          <p:grpSpPr>
            <a:xfrm>
              <a:off x="5029200" y="1152360"/>
              <a:ext cx="76320" cy="447480"/>
              <a:chOff x="5029200" y="1152360"/>
              <a:chExt cx="76320" cy="447480"/>
            </a:xfrm>
          </p:grpSpPr>
          <p:sp>
            <p:nvSpPr>
              <p:cNvPr id="83" name=""/>
              <p:cNvSpPr/>
              <p:nvPr/>
            </p:nvSpPr>
            <p:spPr>
              <a:xfrm>
                <a:off x="5029200" y="129528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29200" y="1152360"/>
                <a:ext cx="763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5029200" y="1295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257800" y="1143000"/>
            <a:ext cx="76320" cy="447480"/>
            <a:chOff x="5257800" y="1143000"/>
            <a:chExt cx="76320" cy="447480"/>
          </a:xfrm>
        </p:grpSpPr>
        <p:grpSp>
          <p:nvGrpSpPr>
            <p:cNvPr id="87" name=""/>
            <p:cNvGrpSpPr/>
            <p:nvPr/>
          </p:nvGrpSpPr>
          <p:grpSpPr>
            <a:xfrm>
              <a:off x="5257800" y="1143000"/>
              <a:ext cx="76320" cy="447480"/>
              <a:chOff x="5257800" y="1143000"/>
              <a:chExt cx="76320" cy="447480"/>
            </a:xfrm>
          </p:grpSpPr>
          <p:sp>
            <p:nvSpPr>
              <p:cNvPr id="88" name=""/>
              <p:cNvSpPr/>
              <p:nvPr/>
            </p:nvSpPr>
            <p:spPr>
              <a:xfrm>
                <a:off x="5257800" y="128592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257800" y="1143000"/>
                <a:ext cx="763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5257800" y="1287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486400" y="1066680"/>
            <a:ext cx="76320" cy="587160"/>
            <a:chOff x="5486400" y="1066680"/>
            <a:chExt cx="76320" cy="587160"/>
          </a:xfrm>
        </p:grpSpPr>
        <p:grpSp>
          <p:nvGrpSpPr>
            <p:cNvPr id="92" name=""/>
            <p:cNvGrpSpPr/>
            <p:nvPr/>
          </p:nvGrpSpPr>
          <p:grpSpPr>
            <a:xfrm>
              <a:off x="5486400" y="1066680"/>
              <a:ext cx="76320" cy="587160"/>
              <a:chOff x="5486400" y="1066680"/>
              <a:chExt cx="76320" cy="587160"/>
            </a:xfrm>
          </p:grpSpPr>
          <p:sp>
            <p:nvSpPr>
              <p:cNvPr id="93" name=""/>
              <p:cNvSpPr/>
              <p:nvPr/>
            </p:nvSpPr>
            <p:spPr>
              <a:xfrm>
                <a:off x="5486400" y="134928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486400" y="106668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486400" y="1349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730840" y="1066680"/>
            <a:ext cx="75960" cy="587160"/>
            <a:chOff x="5730840" y="1066680"/>
            <a:chExt cx="75960" cy="587160"/>
          </a:xfrm>
        </p:grpSpPr>
        <p:grpSp>
          <p:nvGrpSpPr>
            <p:cNvPr id="97" name=""/>
            <p:cNvGrpSpPr/>
            <p:nvPr/>
          </p:nvGrpSpPr>
          <p:grpSpPr>
            <a:xfrm>
              <a:off x="5730840" y="1066680"/>
              <a:ext cx="75960" cy="587160"/>
              <a:chOff x="5730840" y="1066680"/>
              <a:chExt cx="75960" cy="587160"/>
            </a:xfrm>
          </p:grpSpPr>
          <p:sp>
            <p:nvSpPr>
              <p:cNvPr id="98" name=""/>
              <p:cNvSpPr/>
              <p:nvPr/>
            </p:nvSpPr>
            <p:spPr>
              <a:xfrm>
                <a:off x="5730840" y="134928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730840" y="106668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730840" y="13492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952880" y="990720"/>
            <a:ext cx="1067040" cy="76176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7760" y="10666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1680" y="10666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96480" y="1447920"/>
            <a:ext cx="26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7960" y="1444680"/>
            <a:ext cx="26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09880" y="2295360"/>
            <a:ext cx="76320" cy="447480"/>
            <a:chOff x="3809880" y="2295360"/>
            <a:chExt cx="76320" cy="447480"/>
          </a:xfrm>
        </p:grpSpPr>
        <p:grpSp>
          <p:nvGrpSpPr>
            <p:cNvPr id="107" name=""/>
            <p:cNvGrpSpPr/>
            <p:nvPr/>
          </p:nvGrpSpPr>
          <p:grpSpPr>
            <a:xfrm>
              <a:off x="3809880" y="2295360"/>
              <a:ext cx="76320" cy="447480"/>
              <a:chOff x="3809880" y="2295360"/>
              <a:chExt cx="76320" cy="447480"/>
            </a:xfrm>
          </p:grpSpPr>
          <p:sp>
            <p:nvSpPr>
              <p:cNvPr id="108" name=""/>
              <p:cNvSpPr/>
              <p:nvPr/>
            </p:nvSpPr>
            <p:spPr>
              <a:xfrm>
                <a:off x="3809880" y="243828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09880" y="2295360"/>
                <a:ext cx="763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3809880" y="2438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038480" y="2286000"/>
            <a:ext cx="76320" cy="447480"/>
            <a:chOff x="4038480" y="2286000"/>
            <a:chExt cx="76320" cy="447480"/>
          </a:xfrm>
        </p:grpSpPr>
        <p:grpSp>
          <p:nvGrpSpPr>
            <p:cNvPr id="112" name=""/>
            <p:cNvGrpSpPr/>
            <p:nvPr/>
          </p:nvGrpSpPr>
          <p:grpSpPr>
            <a:xfrm>
              <a:off x="4038480" y="2286000"/>
              <a:ext cx="76320" cy="447480"/>
              <a:chOff x="4038480" y="2286000"/>
              <a:chExt cx="76320" cy="447480"/>
            </a:xfrm>
          </p:grpSpPr>
          <p:sp>
            <p:nvSpPr>
              <p:cNvPr id="113" name=""/>
              <p:cNvSpPr/>
              <p:nvPr/>
            </p:nvSpPr>
            <p:spPr>
              <a:xfrm>
                <a:off x="4038480" y="242892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38480" y="2286000"/>
                <a:ext cx="763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038480" y="243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267080" y="2209680"/>
            <a:ext cx="76320" cy="587160"/>
            <a:chOff x="4267080" y="2209680"/>
            <a:chExt cx="76320" cy="587160"/>
          </a:xfrm>
        </p:grpSpPr>
        <p:grpSp>
          <p:nvGrpSpPr>
            <p:cNvPr id="117" name=""/>
            <p:cNvGrpSpPr/>
            <p:nvPr/>
          </p:nvGrpSpPr>
          <p:grpSpPr>
            <a:xfrm>
              <a:off x="4267080" y="2209680"/>
              <a:ext cx="76320" cy="587160"/>
              <a:chOff x="4267080" y="2209680"/>
              <a:chExt cx="76320" cy="587160"/>
            </a:xfrm>
          </p:grpSpPr>
          <p:sp>
            <p:nvSpPr>
              <p:cNvPr id="118" name=""/>
              <p:cNvSpPr/>
              <p:nvPr/>
            </p:nvSpPr>
            <p:spPr>
              <a:xfrm>
                <a:off x="4267080" y="249228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267080" y="220968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267080" y="2492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511520" y="2209680"/>
            <a:ext cx="75960" cy="587160"/>
            <a:chOff x="4511520" y="2209680"/>
            <a:chExt cx="75960" cy="587160"/>
          </a:xfrm>
        </p:grpSpPr>
        <p:grpSp>
          <p:nvGrpSpPr>
            <p:cNvPr id="122" name=""/>
            <p:cNvGrpSpPr/>
            <p:nvPr/>
          </p:nvGrpSpPr>
          <p:grpSpPr>
            <a:xfrm>
              <a:off x="4511520" y="2209680"/>
              <a:ext cx="75960" cy="587160"/>
              <a:chOff x="4511520" y="2209680"/>
              <a:chExt cx="75960" cy="587160"/>
            </a:xfrm>
          </p:grpSpPr>
          <p:sp>
            <p:nvSpPr>
              <p:cNvPr id="123" name=""/>
              <p:cNvSpPr/>
              <p:nvPr/>
            </p:nvSpPr>
            <p:spPr>
              <a:xfrm>
                <a:off x="4511520" y="249228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11520" y="220968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511520" y="24922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733920" y="2133720"/>
            <a:ext cx="1066680" cy="76176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14920" y="220968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2360" y="22096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77160" y="2590920"/>
            <a:ext cx="26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09000" y="2587680"/>
            <a:ext cx="26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641600" y="3809880"/>
            <a:ext cx="75960" cy="447480"/>
            <a:chOff x="1641600" y="3809880"/>
            <a:chExt cx="75960" cy="447480"/>
          </a:xfrm>
        </p:grpSpPr>
        <p:grpSp>
          <p:nvGrpSpPr>
            <p:cNvPr id="132" name=""/>
            <p:cNvGrpSpPr/>
            <p:nvPr/>
          </p:nvGrpSpPr>
          <p:grpSpPr>
            <a:xfrm>
              <a:off x="1641600" y="3809880"/>
              <a:ext cx="75960" cy="447480"/>
              <a:chOff x="1641600" y="3809880"/>
              <a:chExt cx="75960" cy="447480"/>
            </a:xfrm>
          </p:grpSpPr>
          <p:sp>
            <p:nvSpPr>
              <p:cNvPr id="133" name=""/>
              <p:cNvSpPr/>
              <p:nvPr/>
            </p:nvSpPr>
            <p:spPr>
              <a:xfrm>
                <a:off x="1641600" y="395280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41600" y="3809880"/>
                <a:ext cx="7596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1641600" y="39528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846440" y="3733920"/>
            <a:ext cx="75960" cy="587160"/>
            <a:chOff x="1846440" y="3733920"/>
            <a:chExt cx="75960" cy="587160"/>
          </a:xfrm>
        </p:grpSpPr>
        <p:grpSp>
          <p:nvGrpSpPr>
            <p:cNvPr id="137" name=""/>
            <p:cNvGrpSpPr/>
            <p:nvPr/>
          </p:nvGrpSpPr>
          <p:grpSpPr>
            <a:xfrm>
              <a:off x="1846440" y="3733920"/>
              <a:ext cx="75960" cy="587160"/>
              <a:chOff x="1846440" y="3733920"/>
              <a:chExt cx="75960" cy="587160"/>
            </a:xfrm>
          </p:grpSpPr>
          <p:sp>
            <p:nvSpPr>
              <p:cNvPr id="138" name=""/>
              <p:cNvSpPr/>
              <p:nvPr/>
            </p:nvSpPr>
            <p:spPr>
              <a:xfrm>
                <a:off x="1846440" y="401652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846440" y="373392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846440" y="40165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371600" y="3657600"/>
            <a:ext cx="76212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6880" y="37339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6160" y="4114800"/>
            <a:ext cx="26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90920" y="3809880"/>
            <a:ext cx="75960" cy="447480"/>
            <a:chOff x="2590920" y="3809880"/>
            <a:chExt cx="75960" cy="447480"/>
          </a:xfrm>
        </p:grpSpPr>
        <p:grpSp>
          <p:nvGrpSpPr>
            <p:cNvPr id="145" name=""/>
            <p:cNvGrpSpPr/>
            <p:nvPr/>
          </p:nvGrpSpPr>
          <p:grpSpPr>
            <a:xfrm>
              <a:off x="2590920" y="3809880"/>
              <a:ext cx="75960" cy="447480"/>
              <a:chOff x="2590920" y="3809880"/>
              <a:chExt cx="75960" cy="447480"/>
            </a:xfrm>
          </p:grpSpPr>
          <p:sp>
            <p:nvSpPr>
              <p:cNvPr id="146" name=""/>
              <p:cNvSpPr/>
              <p:nvPr/>
            </p:nvSpPr>
            <p:spPr>
              <a:xfrm>
                <a:off x="2590920" y="395280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590920" y="3809880"/>
                <a:ext cx="7596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590920" y="39546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790720" y="3733920"/>
            <a:ext cx="75960" cy="587160"/>
            <a:chOff x="2790720" y="3733920"/>
            <a:chExt cx="75960" cy="587160"/>
          </a:xfrm>
        </p:grpSpPr>
        <p:grpSp>
          <p:nvGrpSpPr>
            <p:cNvPr id="150" name=""/>
            <p:cNvGrpSpPr/>
            <p:nvPr/>
          </p:nvGrpSpPr>
          <p:grpSpPr>
            <a:xfrm>
              <a:off x="2790720" y="3733920"/>
              <a:ext cx="75960" cy="587160"/>
              <a:chOff x="2790720" y="3733920"/>
              <a:chExt cx="75960" cy="587160"/>
            </a:xfrm>
          </p:grpSpPr>
          <p:sp>
            <p:nvSpPr>
              <p:cNvPr id="151" name=""/>
              <p:cNvSpPr/>
              <p:nvPr/>
            </p:nvSpPr>
            <p:spPr>
              <a:xfrm>
                <a:off x="2790720" y="401652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90720" y="373392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2790720" y="40165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375280" y="37339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6360" y="4111560"/>
            <a:ext cx="26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581280" y="3809880"/>
            <a:ext cx="76320" cy="447480"/>
            <a:chOff x="3581280" y="3809880"/>
            <a:chExt cx="76320" cy="447480"/>
          </a:xfrm>
        </p:grpSpPr>
        <p:grpSp>
          <p:nvGrpSpPr>
            <p:cNvPr id="157" name=""/>
            <p:cNvGrpSpPr/>
            <p:nvPr/>
          </p:nvGrpSpPr>
          <p:grpSpPr>
            <a:xfrm>
              <a:off x="3581280" y="3809880"/>
              <a:ext cx="76320" cy="447480"/>
              <a:chOff x="3581280" y="3809880"/>
              <a:chExt cx="76320" cy="447480"/>
            </a:xfrm>
          </p:grpSpPr>
          <p:sp>
            <p:nvSpPr>
              <p:cNvPr id="158" name=""/>
              <p:cNvSpPr/>
              <p:nvPr/>
            </p:nvSpPr>
            <p:spPr>
              <a:xfrm>
                <a:off x="3581280" y="395280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81280" y="3809880"/>
                <a:ext cx="763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3581280" y="39546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781440" y="3733920"/>
            <a:ext cx="75960" cy="587160"/>
            <a:chOff x="3781440" y="3733920"/>
            <a:chExt cx="75960" cy="587160"/>
          </a:xfrm>
        </p:grpSpPr>
        <p:grpSp>
          <p:nvGrpSpPr>
            <p:cNvPr id="162" name=""/>
            <p:cNvGrpSpPr/>
            <p:nvPr/>
          </p:nvGrpSpPr>
          <p:grpSpPr>
            <a:xfrm>
              <a:off x="3781440" y="3733920"/>
              <a:ext cx="75960" cy="587160"/>
              <a:chOff x="3781440" y="3733920"/>
              <a:chExt cx="75960" cy="58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3781440" y="401652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81440" y="373392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781440" y="40165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395880" y="373392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16720" y="4111560"/>
            <a:ext cx="26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0" y="3809880"/>
            <a:ext cx="76320" cy="447480"/>
            <a:chOff x="4572000" y="3809880"/>
            <a:chExt cx="76320" cy="447480"/>
          </a:xfrm>
        </p:grpSpPr>
        <p:grpSp>
          <p:nvGrpSpPr>
            <p:cNvPr id="169" name=""/>
            <p:cNvGrpSpPr/>
            <p:nvPr/>
          </p:nvGrpSpPr>
          <p:grpSpPr>
            <a:xfrm>
              <a:off x="4572000" y="3809880"/>
              <a:ext cx="76320" cy="447480"/>
              <a:chOff x="4572000" y="3809880"/>
              <a:chExt cx="76320" cy="447480"/>
            </a:xfrm>
          </p:grpSpPr>
          <p:sp>
            <p:nvSpPr>
              <p:cNvPr id="170" name=""/>
              <p:cNvSpPr/>
              <p:nvPr/>
            </p:nvSpPr>
            <p:spPr>
              <a:xfrm>
                <a:off x="4572000" y="395280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72000" y="3809880"/>
                <a:ext cx="763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572000" y="39546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72160" y="3733920"/>
            <a:ext cx="75960" cy="587160"/>
            <a:chOff x="4772160" y="3733920"/>
            <a:chExt cx="75960" cy="587160"/>
          </a:xfrm>
        </p:grpSpPr>
        <p:grpSp>
          <p:nvGrpSpPr>
            <p:cNvPr id="174" name=""/>
            <p:cNvGrpSpPr/>
            <p:nvPr/>
          </p:nvGrpSpPr>
          <p:grpSpPr>
            <a:xfrm>
              <a:off x="4772160" y="3733920"/>
              <a:ext cx="75960" cy="587160"/>
              <a:chOff x="4772160" y="3733920"/>
              <a:chExt cx="75960" cy="587160"/>
            </a:xfrm>
          </p:grpSpPr>
          <p:sp>
            <p:nvSpPr>
              <p:cNvPr id="175" name=""/>
              <p:cNvSpPr/>
              <p:nvPr/>
            </p:nvSpPr>
            <p:spPr>
              <a:xfrm>
                <a:off x="4772160" y="401652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772160" y="373392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772160" y="40165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68960" y="373392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20040" y="4111560"/>
            <a:ext cx="26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3657600"/>
            <a:ext cx="76212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3657600"/>
            <a:ext cx="76176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3657600"/>
            <a:ext cx="76212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553080" y="3809880"/>
            <a:ext cx="76320" cy="447480"/>
            <a:chOff x="6553080" y="3809880"/>
            <a:chExt cx="76320" cy="447480"/>
          </a:xfrm>
        </p:grpSpPr>
        <p:grpSp>
          <p:nvGrpSpPr>
            <p:cNvPr id="184" name=""/>
            <p:cNvGrpSpPr/>
            <p:nvPr/>
          </p:nvGrpSpPr>
          <p:grpSpPr>
            <a:xfrm>
              <a:off x="6553080" y="3809880"/>
              <a:ext cx="76320" cy="447480"/>
              <a:chOff x="6553080" y="3809880"/>
              <a:chExt cx="76320" cy="447480"/>
            </a:xfrm>
          </p:grpSpPr>
          <p:sp>
            <p:nvSpPr>
              <p:cNvPr id="185" name=""/>
              <p:cNvSpPr/>
              <p:nvPr/>
            </p:nvSpPr>
            <p:spPr>
              <a:xfrm>
                <a:off x="6553080" y="395280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53080" y="3809880"/>
                <a:ext cx="763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553080" y="39546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753240" y="3733920"/>
            <a:ext cx="75960" cy="587160"/>
            <a:chOff x="6753240" y="3733920"/>
            <a:chExt cx="75960" cy="587160"/>
          </a:xfrm>
        </p:grpSpPr>
        <p:grpSp>
          <p:nvGrpSpPr>
            <p:cNvPr id="189" name=""/>
            <p:cNvGrpSpPr/>
            <p:nvPr/>
          </p:nvGrpSpPr>
          <p:grpSpPr>
            <a:xfrm>
              <a:off x="6753240" y="3733920"/>
              <a:ext cx="75960" cy="587160"/>
              <a:chOff x="6753240" y="3733920"/>
              <a:chExt cx="75960" cy="587160"/>
            </a:xfrm>
          </p:grpSpPr>
          <p:sp>
            <p:nvSpPr>
              <p:cNvPr id="190" name=""/>
              <p:cNvSpPr/>
              <p:nvPr/>
            </p:nvSpPr>
            <p:spPr>
              <a:xfrm>
                <a:off x="6753240" y="401652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53240" y="373392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6753240" y="40165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350040" y="373392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01120" y="4111560"/>
            <a:ext cx="26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3657600"/>
            <a:ext cx="76212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436760" y="5343480"/>
            <a:ext cx="75960" cy="447480"/>
            <a:chOff x="1436760" y="5343480"/>
            <a:chExt cx="75960" cy="447480"/>
          </a:xfrm>
        </p:grpSpPr>
        <p:grpSp>
          <p:nvGrpSpPr>
            <p:cNvPr id="197" name=""/>
            <p:cNvGrpSpPr/>
            <p:nvPr/>
          </p:nvGrpSpPr>
          <p:grpSpPr>
            <a:xfrm>
              <a:off x="1436760" y="5343480"/>
              <a:ext cx="75960" cy="447480"/>
              <a:chOff x="1436760" y="5343480"/>
              <a:chExt cx="75960" cy="447480"/>
            </a:xfrm>
          </p:grpSpPr>
          <p:sp>
            <p:nvSpPr>
              <p:cNvPr id="198" name=""/>
              <p:cNvSpPr/>
              <p:nvPr/>
            </p:nvSpPr>
            <p:spPr>
              <a:xfrm>
                <a:off x="1436760" y="548640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36760" y="5343480"/>
                <a:ext cx="7596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436760" y="54864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665360" y="5334120"/>
            <a:ext cx="75960" cy="447480"/>
            <a:chOff x="1665360" y="5334120"/>
            <a:chExt cx="75960" cy="447480"/>
          </a:xfrm>
        </p:grpSpPr>
        <p:grpSp>
          <p:nvGrpSpPr>
            <p:cNvPr id="202" name=""/>
            <p:cNvGrpSpPr/>
            <p:nvPr/>
          </p:nvGrpSpPr>
          <p:grpSpPr>
            <a:xfrm>
              <a:off x="1665360" y="5334120"/>
              <a:ext cx="75960" cy="447480"/>
              <a:chOff x="1665360" y="5334120"/>
              <a:chExt cx="75960" cy="447480"/>
            </a:xfrm>
          </p:grpSpPr>
          <p:sp>
            <p:nvSpPr>
              <p:cNvPr id="203" name=""/>
              <p:cNvSpPr/>
              <p:nvPr/>
            </p:nvSpPr>
            <p:spPr>
              <a:xfrm>
                <a:off x="1665360" y="547704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65360" y="5334120"/>
                <a:ext cx="7596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665360" y="5478480"/>
              <a:ext cx="759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893960" y="5257800"/>
            <a:ext cx="75960" cy="587160"/>
            <a:chOff x="1893960" y="5257800"/>
            <a:chExt cx="75960" cy="587160"/>
          </a:xfrm>
        </p:grpSpPr>
        <p:grpSp>
          <p:nvGrpSpPr>
            <p:cNvPr id="207" name=""/>
            <p:cNvGrpSpPr/>
            <p:nvPr/>
          </p:nvGrpSpPr>
          <p:grpSpPr>
            <a:xfrm>
              <a:off x="1893960" y="5257800"/>
              <a:ext cx="75960" cy="587160"/>
              <a:chOff x="1893960" y="5257800"/>
              <a:chExt cx="75960" cy="587160"/>
            </a:xfrm>
          </p:grpSpPr>
          <p:sp>
            <p:nvSpPr>
              <p:cNvPr id="208" name=""/>
              <p:cNvSpPr/>
              <p:nvPr/>
            </p:nvSpPr>
            <p:spPr>
              <a:xfrm>
                <a:off x="1893960" y="554040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93960" y="525780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893960" y="55404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138400" y="5257800"/>
            <a:ext cx="75960" cy="587160"/>
            <a:chOff x="2138400" y="5257800"/>
            <a:chExt cx="75960" cy="587160"/>
          </a:xfrm>
        </p:grpSpPr>
        <p:grpSp>
          <p:nvGrpSpPr>
            <p:cNvPr id="212" name=""/>
            <p:cNvGrpSpPr/>
            <p:nvPr/>
          </p:nvGrpSpPr>
          <p:grpSpPr>
            <a:xfrm>
              <a:off x="2138400" y="5257800"/>
              <a:ext cx="75960" cy="587160"/>
              <a:chOff x="2138400" y="5257800"/>
              <a:chExt cx="75960" cy="587160"/>
            </a:xfrm>
          </p:grpSpPr>
          <p:sp>
            <p:nvSpPr>
              <p:cNvPr id="213" name=""/>
              <p:cNvSpPr/>
              <p:nvPr/>
            </p:nvSpPr>
            <p:spPr>
              <a:xfrm>
                <a:off x="2138400" y="554040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38400" y="525780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2138400" y="55404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360440" y="5181480"/>
            <a:ext cx="106668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1800" y="525780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59240" y="525780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4040" y="5638680"/>
            <a:ext cx="26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520" y="5635800"/>
            <a:ext cx="26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276720" y="5343480"/>
            <a:ext cx="75960" cy="447480"/>
            <a:chOff x="3276720" y="5343480"/>
            <a:chExt cx="75960" cy="447480"/>
          </a:xfrm>
        </p:grpSpPr>
        <p:grpSp>
          <p:nvGrpSpPr>
            <p:cNvPr id="222" name=""/>
            <p:cNvGrpSpPr/>
            <p:nvPr/>
          </p:nvGrpSpPr>
          <p:grpSpPr>
            <a:xfrm>
              <a:off x="3276720" y="5343480"/>
              <a:ext cx="75960" cy="447480"/>
              <a:chOff x="3276720" y="5343480"/>
              <a:chExt cx="75960" cy="447480"/>
            </a:xfrm>
          </p:grpSpPr>
          <p:sp>
            <p:nvSpPr>
              <p:cNvPr id="223" name=""/>
              <p:cNvSpPr/>
              <p:nvPr/>
            </p:nvSpPr>
            <p:spPr>
              <a:xfrm>
                <a:off x="3276720" y="548640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276720" y="5343480"/>
                <a:ext cx="7596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3276720" y="54864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505320" y="5334120"/>
            <a:ext cx="75960" cy="447480"/>
            <a:chOff x="3505320" y="5334120"/>
            <a:chExt cx="75960" cy="447480"/>
          </a:xfrm>
        </p:grpSpPr>
        <p:grpSp>
          <p:nvGrpSpPr>
            <p:cNvPr id="227" name=""/>
            <p:cNvGrpSpPr/>
            <p:nvPr/>
          </p:nvGrpSpPr>
          <p:grpSpPr>
            <a:xfrm>
              <a:off x="3505320" y="5334120"/>
              <a:ext cx="75960" cy="447480"/>
              <a:chOff x="3505320" y="5334120"/>
              <a:chExt cx="75960" cy="447480"/>
            </a:xfrm>
          </p:grpSpPr>
          <p:sp>
            <p:nvSpPr>
              <p:cNvPr id="228" name=""/>
              <p:cNvSpPr/>
              <p:nvPr/>
            </p:nvSpPr>
            <p:spPr>
              <a:xfrm>
                <a:off x="3505320" y="547704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05320" y="5334120"/>
                <a:ext cx="7596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3505320" y="5478480"/>
              <a:ext cx="759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733920" y="5257800"/>
            <a:ext cx="75960" cy="587160"/>
            <a:chOff x="3733920" y="5257800"/>
            <a:chExt cx="75960" cy="587160"/>
          </a:xfrm>
        </p:grpSpPr>
        <p:grpSp>
          <p:nvGrpSpPr>
            <p:cNvPr id="232" name=""/>
            <p:cNvGrpSpPr/>
            <p:nvPr/>
          </p:nvGrpSpPr>
          <p:grpSpPr>
            <a:xfrm>
              <a:off x="3733920" y="5257800"/>
              <a:ext cx="75960" cy="587160"/>
              <a:chOff x="3733920" y="5257800"/>
              <a:chExt cx="75960" cy="587160"/>
            </a:xfrm>
          </p:grpSpPr>
          <p:sp>
            <p:nvSpPr>
              <p:cNvPr id="233" name=""/>
              <p:cNvSpPr/>
              <p:nvPr/>
            </p:nvSpPr>
            <p:spPr>
              <a:xfrm>
                <a:off x="3733920" y="554040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33920" y="525780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733920" y="55404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78360" y="5257800"/>
            <a:ext cx="75960" cy="587160"/>
            <a:chOff x="3978360" y="5257800"/>
            <a:chExt cx="75960" cy="587160"/>
          </a:xfrm>
        </p:grpSpPr>
        <p:grpSp>
          <p:nvGrpSpPr>
            <p:cNvPr id="237" name=""/>
            <p:cNvGrpSpPr/>
            <p:nvPr/>
          </p:nvGrpSpPr>
          <p:grpSpPr>
            <a:xfrm>
              <a:off x="3978360" y="5257800"/>
              <a:ext cx="75960" cy="587160"/>
              <a:chOff x="3978360" y="5257800"/>
              <a:chExt cx="75960" cy="587160"/>
            </a:xfrm>
          </p:grpSpPr>
          <p:sp>
            <p:nvSpPr>
              <p:cNvPr id="238" name=""/>
              <p:cNvSpPr/>
              <p:nvPr/>
            </p:nvSpPr>
            <p:spPr>
              <a:xfrm>
                <a:off x="3978360" y="554040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6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978360" y="525780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6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3978360" y="55404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200400" y="5181480"/>
            <a:ext cx="106668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81760" y="525780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11800" y="525780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43640" y="5638680"/>
            <a:ext cx="26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01040" y="5635800"/>
            <a:ext cx="26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029200" y="5343480"/>
            <a:ext cx="76320" cy="447480"/>
            <a:chOff x="5029200" y="5343480"/>
            <a:chExt cx="76320" cy="447480"/>
          </a:xfrm>
        </p:grpSpPr>
        <p:grpSp>
          <p:nvGrpSpPr>
            <p:cNvPr id="247" name=""/>
            <p:cNvGrpSpPr/>
            <p:nvPr/>
          </p:nvGrpSpPr>
          <p:grpSpPr>
            <a:xfrm>
              <a:off x="5029200" y="5343480"/>
              <a:ext cx="76320" cy="447480"/>
              <a:chOff x="5029200" y="5343480"/>
              <a:chExt cx="76320" cy="447480"/>
            </a:xfrm>
          </p:grpSpPr>
          <p:sp>
            <p:nvSpPr>
              <p:cNvPr id="248" name=""/>
              <p:cNvSpPr/>
              <p:nvPr/>
            </p:nvSpPr>
            <p:spPr>
              <a:xfrm>
                <a:off x="5029200" y="548640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6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29200" y="5343480"/>
                <a:ext cx="763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029200" y="54864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257800" y="5334120"/>
            <a:ext cx="76320" cy="447480"/>
            <a:chOff x="5257800" y="5334120"/>
            <a:chExt cx="76320" cy="447480"/>
          </a:xfrm>
        </p:grpSpPr>
        <p:grpSp>
          <p:nvGrpSpPr>
            <p:cNvPr id="252" name=""/>
            <p:cNvGrpSpPr/>
            <p:nvPr/>
          </p:nvGrpSpPr>
          <p:grpSpPr>
            <a:xfrm>
              <a:off x="5257800" y="5334120"/>
              <a:ext cx="76320" cy="447480"/>
              <a:chOff x="5257800" y="5334120"/>
              <a:chExt cx="76320" cy="447480"/>
            </a:xfrm>
          </p:grpSpPr>
          <p:sp>
            <p:nvSpPr>
              <p:cNvPr id="253" name=""/>
              <p:cNvSpPr/>
              <p:nvPr/>
            </p:nvSpPr>
            <p:spPr>
              <a:xfrm>
                <a:off x="5257800" y="547704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6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257800" y="5334120"/>
                <a:ext cx="763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6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5257800" y="547848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486400" y="5257800"/>
            <a:ext cx="76320" cy="587160"/>
            <a:chOff x="5486400" y="5257800"/>
            <a:chExt cx="76320" cy="587160"/>
          </a:xfrm>
        </p:grpSpPr>
        <p:grpSp>
          <p:nvGrpSpPr>
            <p:cNvPr id="257" name=""/>
            <p:cNvGrpSpPr/>
            <p:nvPr/>
          </p:nvGrpSpPr>
          <p:grpSpPr>
            <a:xfrm>
              <a:off x="5486400" y="5257800"/>
              <a:ext cx="76320" cy="587160"/>
              <a:chOff x="5486400" y="5257800"/>
              <a:chExt cx="76320" cy="587160"/>
            </a:xfrm>
          </p:grpSpPr>
          <p:sp>
            <p:nvSpPr>
              <p:cNvPr id="258" name=""/>
              <p:cNvSpPr/>
              <p:nvPr/>
            </p:nvSpPr>
            <p:spPr>
              <a:xfrm>
                <a:off x="5486400" y="554040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6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86400" y="525780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6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486400" y="55404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730840" y="5257800"/>
            <a:ext cx="75960" cy="587160"/>
            <a:chOff x="5730840" y="5257800"/>
            <a:chExt cx="75960" cy="587160"/>
          </a:xfrm>
        </p:grpSpPr>
        <p:grpSp>
          <p:nvGrpSpPr>
            <p:cNvPr id="262" name=""/>
            <p:cNvGrpSpPr/>
            <p:nvPr/>
          </p:nvGrpSpPr>
          <p:grpSpPr>
            <a:xfrm>
              <a:off x="5730840" y="5257800"/>
              <a:ext cx="75960" cy="587160"/>
              <a:chOff x="5730840" y="5257800"/>
              <a:chExt cx="75960" cy="587160"/>
            </a:xfrm>
          </p:grpSpPr>
          <p:sp>
            <p:nvSpPr>
              <p:cNvPr id="263" name=""/>
              <p:cNvSpPr/>
              <p:nvPr/>
            </p:nvSpPr>
            <p:spPr>
              <a:xfrm>
                <a:off x="5730840" y="554040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6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30840" y="525780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6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730840" y="55404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952880" y="5181480"/>
            <a:ext cx="106704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27760" y="525780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1680" y="525780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96480" y="5638680"/>
            <a:ext cx="26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27960" y="5635800"/>
            <a:ext cx="26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858000" y="5343480"/>
            <a:ext cx="76320" cy="447480"/>
            <a:chOff x="6858000" y="5343480"/>
            <a:chExt cx="76320" cy="447480"/>
          </a:xfrm>
        </p:grpSpPr>
        <p:grpSp>
          <p:nvGrpSpPr>
            <p:cNvPr id="272" name=""/>
            <p:cNvGrpSpPr/>
            <p:nvPr/>
          </p:nvGrpSpPr>
          <p:grpSpPr>
            <a:xfrm>
              <a:off x="6858000" y="5343480"/>
              <a:ext cx="76320" cy="447480"/>
              <a:chOff x="6858000" y="5343480"/>
              <a:chExt cx="76320" cy="447480"/>
            </a:xfrm>
          </p:grpSpPr>
          <p:sp>
            <p:nvSpPr>
              <p:cNvPr id="273" name=""/>
              <p:cNvSpPr/>
              <p:nvPr/>
            </p:nvSpPr>
            <p:spPr>
              <a:xfrm>
                <a:off x="6858000" y="548640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7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858000" y="5343480"/>
                <a:ext cx="763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7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858000" y="54864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086600" y="5334120"/>
            <a:ext cx="76320" cy="447480"/>
            <a:chOff x="7086600" y="5334120"/>
            <a:chExt cx="76320" cy="447480"/>
          </a:xfrm>
        </p:grpSpPr>
        <p:grpSp>
          <p:nvGrpSpPr>
            <p:cNvPr id="277" name=""/>
            <p:cNvGrpSpPr/>
            <p:nvPr/>
          </p:nvGrpSpPr>
          <p:grpSpPr>
            <a:xfrm>
              <a:off x="7086600" y="5334120"/>
              <a:ext cx="76320" cy="447480"/>
              <a:chOff x="7086600" y="5334120"/>
              <a:chExt cx="76320" cy="447480"/>
            </a:xfrm>
          </p:grpSpPr>
          <p:sp>
            <p:nvSpPr>
              <p:cNvPr id="278" name=""/>
              <p:cNvSpPr/>
              <p:nvPr/>
            </p:nvSpPr>
            <p:spPr>
              <a:xfrm>
                <a:off x="7086600" y="547704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7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86600" y="5334120"/>
                <a:ext cx="763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7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7086600" y="547848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315200" y="5257800"/>
            <a:ext cx="76320" cy="587160"/>
            <a:chOff x="7315200" y="5257800"/>
            <a:chExt cx="76320" cy="587160"/>
          </a:xfrm>
        </p:grpSpPr>
        <p:grpSp>
          <p:nvGrpSpPr>
            <p:cNvPr id="282" name=""/>
            <p:cNvGrpSpPr/>
            <p:nvPr/>
          </p:nvGrpSpPr>
          <p:grpSpPr>
            <a:xfrm>
              <a:off x="7315200" y="5257800"/>
              <a:ext cx="76320" cy="587160"/>
              <a:chOff x="7315200" y="5257800"/>
              <a:chExt cx="76320" cy="587160"/>
            </a:xfrm>
          </p:grpSpPr>
          <p:sp>
            <p:nvSpPr>
              <p:cNvPr id="283" name=""/>
              <p:cNvSpPr/>
              <p:nvPr/>
            </p:nvSpPr>
            <p:spPr>
              <a:xfrm>
                <a:off x="7315200" y="554040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7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315200" y="5257800"/>
                <a:ext cx="763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7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7315200" y="55404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559640" y="5257800"/>
            <a:ext cx="75960" cy="587160"/>
            <a:chOff x="7559640" y="5257800"/>
            <a:chExt cx="75960" cy="587160"/>
          </a:xfrm>
        </p:grpSpPr>
        <p:grpSp>
          <p:nvGrpSpPr>
            <p:cNvPr id="287" name=""/>
            <p:cNvGrpSpPr/>
            <p:nvPr/>
          </p:nvGrpSpPr>
          <p:grpSpPr>
            <a:xfrm>
              <a:off x="7559640" y="5257800"/>
              <a:ext cx="75960" cy="587160"/>
              <a:chOff x="7559640" y="5257800"/>
              <a:chExt cx="75960" cy="587160"/>
            </a:xfrm>
          </p:grpSpPr>
          <p:sp>
            <p:nvSpPr>
              <p:cNvPr id="288" name=""/>
              <p:cNvSpPr/>
              <p:nvPr/>
            </p:nvSpPr>
            <p:spPr>
              <a:xfrm>
                <a:off x="7559640" y="554040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7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559640" y="5257800"/>
                <a:ext cx="7596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7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7559640" y="55404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781680" y="5181480"/>
            <a:ext cx="106704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6560" y="525780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80480" y="525780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25280" y="5638680"/>
            <a:ext cx="26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82320" y="5635800"/>
            <a:ext cx="26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09400" y="1065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18000" y="114300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15800" y="222084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7360" y="525780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2895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99560" y="28544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i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36280" y="3235320"/>
            <a:ext cx="331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tipi di gameti in rapporti ugu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7316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39880" y="3809880"/>
            <a:ext cx="12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amete 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05040" y="1676520"/>
            <a:ext cx="8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A B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19640" y="1676520"/>
            <a:ext cx="8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a 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6920" y="2286000"/>
            <a:ext cx="79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a B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36760" y="43783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9360" y="438156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56000" y="438156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aB_x001d__x001d__x001d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45640" y="438156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ab_x001d__x001d__x001d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5000" y="4495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76000" y="5888160"/>
            <a:ext cx="13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Aa Bb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72480" y="588024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Aa bb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32160" y="5880240"/>
            <a:ext cx="13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aa Bb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32160" y="5880240"/>
            <a:ext cx="13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aa Bb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17400" y="59356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aa 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a1e"/>
                </a:solidFill>
                <a:latin typeface="Comic Sans MS"/>
              </a:rPr>
              <a:t>Funzione di mappa: correlazione tra unità di mappa e % di ricomb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95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8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70070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895480" y="53352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a1e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a1e"/>
                </a:solidFill>
                <a:latin typeface="Comic Sans MS"/>
              </a:rPr>
              <a:t>Messagg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33520" y="1555920"/>
            <a:ext cx="8016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er costruire una corretta mappa genetica, cioè per definire la sequenza lineare dei geni e la loro distanza, è conveniente utilizzare geni non troppo distanti tra lo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96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638320" y="1523880"/>
            <a:ext cx="35053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1e"/>
                </a:solidFill>
                <a:latin typeface="Comic Sans MS"/>
              </a:rPr>
              <a:t>I primi 80 </a:t>
            </a:r>
            <a:br>
              <a:rPr sz="3600"/>
            </a:br>
            <a:r>
              <a:rPr b="0" lang="en-US" sz="3600" spc="-1" strike="noStrike">
                <a:solidFill>
                  <a:srgbClr val="ff0a1e"/>
                </a:solidFill>
                <a:latin typeface="Comic Sans MS"/>
              </a:rPr>
              <a:t>mutanti selezionati dal gruppo di Morgan (191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32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4229280" cy="6033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285920" y="5638680"/>
            <a:ext cx="210960" cy="381240"/>
          </a:xfrm>
          <a:custGeom>
            <a:avLst/>
            <a:gdLst/>
            <a:ahLst/>
            <a:rect l="l" t="t" r="r" b="b"/>
            <a:pathLst>
              <a:path w="79" h="167">
                <a:moveTo>
                  <a:pt x="79" y="0"/>
                </a:moveTo>
                <a:cubicBezTo>
                  <a:pt x="50" y="28"/>
                  <a:pt x="23" y="47"/>
                  <a:pt x="0" y="80"/>
                </a:cubicBezTo>
                <a:cubicBezTo>
                  <a:pt x="7" y="100"/>
                  <a:pt x="20" y="143"/>
                  <a:pt x="39" y="151"/>
                </a:cubicBezTo>
                <a:cubicBezTo>
                  <a:pt x="52" y="156"/>
                  <a:pt x="79" y="167"/>
                  <a:pt x="79" y="16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9900000">
            <a:off x="761400" y="5695560"/>
            <a:ext cx="150840" cy="398520"/>
          </a:xfrm>
          <a:custGeom>
            <a:avLst/>
            <a:gdLst/>
            <a:ahLst/>
            <a:rect l="l" t="t" r="r" b="b"/>
            <a:pathLst>
              <a:path w="79" h="167">
                <a:moveTo>
                  <a:pt x="79" y="0"/>
                </a:moveTo>
                <a:cubicBezTo>
                  <a:pt x="50" y="28"/>
                  <a:pt x="23" y="47"/>
                  <a:pt x="0" y="80"/>
                </a:cubicBezTo>
                <a:cubicBezTo>
                  <a:pt x="7" y="100"/>
                  <a:pt x="20" y="143"/>
                  <a:pt x="39" y="151"/>
                </a:cubicBezTo>
                <a:cubicBezTo>
                  <a:pt x="52" y="156"/>
                  <a:pt x="79" y="167"/>
                  <a:pt x="79" y="16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92240" y="5867280"/>
            <a:ext cx="41400" cy="44640"/>
          </a:xfrm>
          <a:custGeom>
            <a:avLst/>
            <a:gdLst/>
            <a:ahLst/>
            <a:rect l="l" t="t" r="r" b="b"/>
            <a:pathLst>
              <a:path w="26" h="28">
                <a:moveTo>
                  <a:pt x="0" y="0"/>
                </a:moveTo>
                <a:cubicBezTo>
                  <a:pt x="9" y="28"/>
                  <a:pt x="0" y="26"/>
                  <a:pt x="20" y="20"/>
                </a:cubicBezTo>
                <a:cubicBezTo>
                  <a:pt x="26" y="1"/>
                  <a:pt x="17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93760" y="5867280"/>
            <a:ext cx="41400" cy="44640"/>
          </a:xfrm>
          <a:custGeom>
            <a:avLst/>
            <a:gdLst/>
            <a:ahLst/>
            <a:rect l="l" t="t" r="r" b="b"/>
            <a:pathLst>
              <a:path w="26" h="28">
                <a:moveTo>
                  <a:pt x="0" y="0"/>
                </a:moveTo>
                <a:cubicBezTo>
                  <a:pt x="9" y="28"/>
                  <a:pt x="0" y="26"/>
                  <a:pt x="20" y="20"/>
                </a:cubicBezTo>
                <a:cubicBezTo>
                  <a:pt x="26" y="1"/>
                  <a:pt x="17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98720" y="6019920"/>
            <a:ext cx="104760" cy="361800"/>
          </a:xfrm>
          <a:custGeom>
            <a:avLst/>
            <a:gdLst/>
            <a:ahLst/>
            <a:rect l="l" t="t" r="r" b="b"/>
            <a:pathLst>
              <a:path w="11" h="112">
                <a:moveTo>
                  <a:pt x="0" y="0"/>
                </a:moveTo>
                <a:cubicBezTo>
                  <a:pt x="11" y="33"/>
                  <a:pt x="0" y="75"/>
                  <a:pt x="0" y="11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09600" y="6039000"/>
            <a:ext cx="117720" cy="361800"/>
          </a:xfrm>
          <a:custGeom>
            <a:avLst/>
            <a:gdLst/>
            <a:ahLst/>
            <a:rect l="l" t="t" r="r" b="b"/>
            <a:pathLst>
              <a:path w="11" h="112">
                <a:moveTo>
                  <a:pt x="0" y="0"/>
                </a:moveTo>
                <a:cubicBezTo>
                  <a:pt x="11" y="33"/>
                  <a:pt x="0" y="75"/>
                  <a:pt x="0" y="11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9900000">
            <a:off x="872280" y="5638320"/>
            <a:ext cx="150840" cy="398520"/>
          </a:xfrm>
          <a:custGeom>
            <a:avLst/>
            <a:gdLst/>
            <a:ahLst/>
            <a:rect l="l" t="t" r="r" b="b"/>
            <a:pathLst>
              <a:path w="79" h="167">
                <a:moveTo>
                  <a:pt x="79" y="0"/>
                </a:moveTo>
                <a:cubicBezTo>
                  <a:pt x="50" y="28"/>
                  <a:pt x="23" y="47"/>
                  <a:pt x="0" y="80"/>
                </a:cubicBezTo>
                <a:cubicBezTo>
                  <a:pt x="7" y="100"/>
                  <a:pt x="20" y="143"/>
                  <a:pt x="39" y="151"/>
                </a:cubicBezTo>
                <a:cubicBezTo>
                  <a:pt x="52" y="156"/>
                  <a:pt x="79" y="167"/>
                  <a:pt x="79" y="16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38200" y="5638680"/>
            <a:ext cx="211320" cy="381240"/>
          </a:xfrm>
          <a:custGeom>
            <a:avLst/>
            <a:gdLst/>
            <a:ahLst/>
            <a:rect l="l" t="t" r="r" b="b"/>
            <a:pathLst>
              <a:path w="79" h="167">
                <a:moveTo>
                  <a:pt x="79" y="0"/>
                </a:moveTo>
                <a:cubicBezTo>
                  <a:pt x="50" y="28"/>
                  <a:pt x="23" y="47"/>
                  <a:pt x="0" y="80"/>
                </a:cubicBezTo>
                <a:cubicBezTo>
                  <a:pt x="7" y="100"/>
                  <a:pt x="20" y="143"/>
                  <a:pt x="39" y="151"/>
                </a:cubicBezTo>
                <a:cubicBezTo>
                  <a:pt x="52" y="156"/>
                  <a:pt x="79" y="167"/>
                  <a:pt x="79" y="16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08200" y="5638680"/>
            <a:ext cx="211320" cy="381240"/>
          </a:xfrm>
          <a:custGeom>
            <a:avLst/>
            <a:gdLst/>
            <a:ahLst/>
            <a:rect l="l" t="t" r="r" b="b"/>
            <a:pathLst>
              <a:path w="79" h="167">
                <a:moveTo>
                  <a:pt x="79" y="0"/>
                </a:moveTo>
                <a:cubicBezTo>
                  <a:pt x="50" y="28"/>
                  <a:pt x="23" y="47"/>
                  <a:pt x="0" y="80"/>
                </a:cubicBezTo>
                <a:cubicBezTo>
                  <a:pt x="7" y="100"/>
                  <a:pt x="20" y="143"/>
                  <a:pt x="39" y="151"/>
                </a:cubicBezTo>
                <a:cubicBezTo>
                  <a:pt x="52" y="156"/>
                  <a:pt x="79" y="167"/>
                  <a:pt x="79" y="16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9900000">
            <a:off x="2083680" y="5695560"/>
            <a:ext cx="150840" cy="398520"/>
          </a:xfrm>
          <a:custGeom>
            <a:avLst/>
            <a:gdLst/>
            <a:ahLst/>
            <a:rect l="l" t="t" r="r" b="b"/>
            <a:pathLst>
              <a:path w="79" h="167">
                <a:moveTo>
                  <a:pt x="79" y="0"/>
                </a:moveTo>
                <a:cubicBezTo>
                  <a:pt x="50" y="28"/>
                  <a:pt x="23" y="47"/>
                  <a:pt x="0" y="80"/>
                </a:cubicBezTo>
                <a:cubicBezTo>
                  <a:pt x="7" y="100"/>
                  <a:pt x="20" y="143"/>
                  <a:pt x="39" y="151"/>
                </a:cubicBezTo>
                <a:cubicBezTo>
                  <a:pt x="52" y="156"/>
                  <a:pt x="79" y="167"/>
                  <a:pt x="79" y="16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14520" y="5867280"/>
            <a:ext cx="41400" cy="44640"/>
          </a:xfrm>
          <a:custGeom>
            <a:avLst/>
            <a:gdLst/>
            <a:ahLst/>
            <a:rect l="l" t="t" r="r" b="b"/>
            <a:pathLst>
              <a:path w="26" h="28">
                <a:moveTo>
                  <a:pt x="0" y="0"/>
                </a:moveTo>
                <a:cubicBezTo>
                  <a:pt x="9" y="28"/>
                  <a:pt x="0" y="26"/>
                  <a:pt x="20" y="20"/>
                </a:cubicBezTo>
                <a:cubicBezTo>
                  <a:pt x="26" y="1"/>
                  <a:pt x="17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6040" y="5867280"/>
            <a:ext cx="41400" cy="44640"/>
          </a:xfrm>
          <a:custGeom>
            <a:avLst/>
            <a:gdLst/>
            <a:ahLst/>
            <a:rect l="l" t="t" r="r" b="b"/>
            <a:pathLst>
              <a:path w="26" h="28">
                <a:moveTo>
                  <a:pt x="0" y="0"/>
                </a:moveTo>
                <a:cubicBezTo>
                  <a:pt x="9" y="28"/>
                  <a:pt x="0" y="26"/>
                  <a:pt x="20" y="20"/>
                </a:cubicBezTo>
                <a:cubicBezTo>
                  <a:pt x="26" y="1"/>
                  <a:pt x="17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21000" y="6019920"/>
            <a:ext cx="104760" cy="361800"/>
          </a:xfrm>
          <a:custGeom>
            <a:avLst/>
            <a:gdLst/>
            <a:ahLst/>
            <a:rect l="l" t="t" r="r" b="b"/>
            <a:pathLst>
              <a:path w="11" h="112">
                <a:moveTo>
                  <a:pt x="0" y="0"/>
                </a:moveTo>
                <a:cubicBezTo>
                  <a:pt x="11" y="33"/>
                  <a:pt x="0" y="75"/>
                  <a:pt x="0" y="11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75080" y="6019920"/>
            <a:ext cx="74520" cy="380880"/>
          </a:xfrm>
          <a:custGeom>
            <a:avLst/>
            <a:gdLst/>
            <a:ahLst/>
            <a:rect l="l" t="t" r="r" b="b"/>
            <a:pathLst>
              <a:path w="11" h="112">
                <a:moveTo>
                  <a:pt x="0" y="0"/>
                </a:moveTo>
                <a:cubicBezTo>
                  <a:pt x="11" y="33"/>
                  <a:pt x="0" y="75"/>
                  <a:pt x="0" y="11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9900000">
            <a:off x="2194920" y="5638320"/>
            <a:ext cx="150840" cy="398520"/>
          </a:xfrm>
          <a:custGeom>
            <a:avLst/>
            <a:gdLst/>
            <a:ahLst/>
            <a:rect l="l" t="t" r="r" b="b"/>
            <a:pathLst>
              <a:path w="79" h="167">
                <a:moveTo>
                  <a:pt x="79" y="0"/>
                </a:moveTo>
                <a:cubicBezTo>
                  <a:pt x="50" y="28"/>
                  <a:pt x="23" y="47"/>
                  <a:pt x="0" y="80"/>
                </a:cubicBezTo>
                <a:cubicBezTo>
                  <a:pt x="7" y="100"/>
                  <a:pt x="20" y="143"/>
                  <a:pt x="39" y="151"/>
                </a:cubicBezTo>
                <a:cubicBezTo>
                  <a:pt x="52" y="156"/>
                  <a:pt x="79" y="167"/>
                  <a:pt x="79" y="16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60840" y="5638680"/>
            <a:ext cx="210960" cy="381240"/>
          </a:xfrm>
          <a:custGeom>
            <a:avLst/>
            <a:gdLst/>
            <a:ahLst/>
            <a:rect l="l" t="t" r="r" b="b"/>
            <a:pathLst>
              <a:path w="79" h="167">
                <a:moveTo>
                  <a:pt x="79" y="0"/>
                </a:moveTo>
                <a:cubicBezTo>
                  <a:pt x="50" y="28"/>
                  <a:pt x="23" y="47"/>
                  <a:pt x="0" y="80"/>
                </a:cubicBezTo>
                <a:cubicBezTo>
                  <a:pt x="7" y="100"/>
                  <a:pt x="20" y="143"/>
                  <a:pt x="39" y="151"/>
                </a:cubicBezTo>
                <a:cubicBezTo>
                  <a:pt x="52" y="156"/>
                  <a:pt x="79" y="167"/>
                  <a:pt x="79" y="16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6019920"/>
            <a:ext cx="152280" cy="152280"/>
          </a:xfrm>
          <a:custGeom>
            <a:avLst/>
            <a:gdLst/>
            <a:ahLst/>
            <a:rect l="l" t="t" r="r" b="b"/>
            <a:pathLst>
              <a:path w="102" h="128">
                <a:moveTo>
                  <a:pt x="0" y="0"/>
                </a:moveTo>
                <a:cubicBezTo>
                  <a:pt x="32" y="10"/>
                  <a:pt x="44" y="26"/>
                  <a:pt x="56" y="60"/>
                </a:cubicBezTo>
                <a:cubicBezTo>
                  <a:pt x="47" y="84"/>
                  <a:pt x="81" y="109"/>
                  <a:pt x="96" y="128"/>
                </a:cubicBezTo>
                <a:cubicBezTo>
                  <a:pt x="102" y="100"/>
                  <a:pt x="92" y="109"/>
                  <a:pt x="72" y="96"/>
                </a:cubicBezTo>
                <a:cubicBezTo>
                  <a:pt x="63" y="70"/>
                  <a:pt x="64" y="80"/>
                  <a:pt x="64" y="68"/>
                </a:cubicBez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21240" y="638640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X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29840" y="63928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X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a1e"/>
                </a:solidFill>
                <a:latin typeface="Comic Sans MS"/>
              </a:rPr>
              <a:t>Che relazione intercorre tra questi geni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1828800"/>
            <a:ext cx="88390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iù geni su ciascun cromosoma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- Su quale cromosoma sono localizzat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- Quanti sono su uno stesso cromosoma, cioè sono associat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Quale regione del cromosoma occupano questi gen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34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a1e"/>
                </a:solidFill>
                <a:latin typeface="Comic Sans MS"/>
              </a:rPr>
              <a:t>Indagine gene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2057400"/>
            <a:ext cx="8229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ono sul cromosoma X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2. Sono sugli autosom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3. E su quale autosom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35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a1e"/>
                </a:solidFill>
                <a:latin typeface="Comic Sans MS"/>
              </a:rPr>
              <a:t>Rapporto genotipico nell’associazione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36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276720" y="1143000"/>
            <a:ext cx="113760" cy="1057680"/>
            <a:chOff x="3276720" y="1143000"/>
            <a:chExt cx="113760" cy="1057680"/>
          </a:xfrm>
        </p:grpSpPr>
        <p:grpSp>
          <p:nvGrpSpPr>
            <p:cNvPr id="369" name=""/>
            <p:cNvGrpSpPr/>
            <p:nvPr/>
          </p:nvGrpSpPr>
          <p:grpSpPr>
            <a:xfrm>
              <a:off x="3276720" y="1143000"/>
              <a:ext cx="113400" cy="1057680"/>
              <a:chOff x="3276720" y="1143000"/>
              <a:chExt cx="113400" cy="1057680"/>
            </a:xfrm>
          </p:grpSpPr>
          <p:sp>
            <p:nvSpPr>
              <p:cNvPr id="370" name=""/>
              <p:cNvSpPr/>
              <p:nvPr/>
            </p:nvSpPr>
            <p:spPr>
              <a:xfrm>
                <a:off x="3276720" y="1652040"/>
                <a:ext cx="113400" cy="5486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276720" y="1143000"/>
                <a:ext cx="113400" cy="5486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3276720" y="1652400"/>
              <a:ext cx="11376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657600" y="1143000"/>
            <a:ext cx="114120" cy="1057680"/>
            <a:chOff x="3657600" y="1143000"/>
            <a:chExt cx="114120" cy="1057680"/>
          </a:xfrm>
        </p:grpSpPr>
        <p:grpSp>
          <p:nvGrpSpPr>
            <p:cNvPr id="374" name=""/>
            <p:cNvGrpSpPr/>
            <p:nvPr/>
          </p:nvGrpSpPr>
          <p:grpSpPr>
            <a:xfrm>
              <a:off x="3657600" y="1143000"/>
              <a:ext cx="113760" cy="1057680"/>
              <a:chOff x="3657600" y="1143000"/>
              <a:chExt cx="113760" cy="1057680"/>
            </a:xfrm>
          </p:grpSpPr>
          <p:sp>
            <p:nvSpPr>
              <p:cNvPr id="375" name=""/>
              <p:cNvSpPr/>
              <p:nvPr/>
            </p:nvSpPr>
            <p:spPr>
              <a:xfrm>
                <a:off x="3657600" y="1652040"/>
                <a:ext cx="113760" cy="5486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657600" y="1143000"/>
                <a:ext cx="113760" cy="5486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3657600" y="1652400"/>
              <a:ext cx="11412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2998800" y="1066680"/>
            <a:ext cx="1241280" cy="121788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7720" y="108756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62720" y="108756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54120" y="1809720"/>
            <a:ext cx="3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73160" y="1809720"/>
            <a:ext cx="3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029200" y="1144440"/>
            <a:ext cx="114120" cy="1058400"/>
            <a:chOff x="5029200" y="1144440"/>
            <a:chExt cx="114120" cy="1058400"/>
          </a:xfrm>
        </p:grpSpPr>
        <p:grpSp>
          <p:nvGrpSpPr>
            <p:cNvPr id="384" name=""/>
            <p:cNvGrpSpPr/>
            <p:nvPr/>
          </p:nvGrpSpPr>
          <p:grpSpPr>
            <a:xfrm>
              <a:off x="5029200" y="1144440"/>
              <a:ext cx="113760" cy="1058400"/>
              <a:chOff x="5029200" y="1144440"/>
              <a:chExt cx="113760" cy="1058400"/>
            </a:xfrm>
          </p:grpSpPr>
          <p:sp>
            <p:nvSpPr>
              <p:cNvPr id="385" name=""/>
              <p:cNvSpPr/>
              <p:nvPr/>
            </p:nvSpPr>
            <p:spPr>
              <a:xfrm>
                <a:off x="5029200" y="1653840"/>
                <a:ext cx="113760" cy="54900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029200" y="1144440"/>
                <a:ext cx="113760" cy="54900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5029200" y="1653840"/>
              <a:ext cx="11412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372280" y="1144440"/>
            <a:ext cx="113760" cy="1058400"/>
            <a:chOff x="5372280" y="1144440"/>
            <a:chExt cx="113760" cy="1058400"/>
          </a:xfrm>
        </p:grpSpPr>
        <p:grpSp>
          <p:nvGrpSpPr>
            <p:cNvPr id="389" name=""/>
            <p:cNvGrpSpPr/>
            <p:nvPr/>
          </p:nvGrpSpPr>
          <p:grpSpPr>
            <a:xfrm>
              <a:off x="5372280" y="1144440"/>
              <a:ext cx="113400" cy="1058400"/>
              <a:chOff x="5372280" y="1144440"/>
              <a:chExt cx="113400" cy="1058400"/>
            </a:xfrm>
          </p:grpSpPr>
          <p:sp>
            <p:nvSpPr>
              <p:cNvPr id="390" name=""/>
              <p:cNvSpPr/>
              <p:nvPr/>
            </p:nvSpPr>
            <p:spPr>
              <a:xfrm>
                <a:off x="5372280" y="1653840"/>
                <a:ext cx="113400" cy="54900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372280" y="1144440"/>
                <a:ext cx="113400" cy="54900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5372280" y="1653840"/>
              <a:ext cx="11376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4702320" y="1068480"/>
            <a:ext cx="1241280" cy="12175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2280" y="10875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64080" y="108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27120" y="188604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77760" y="188604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11720" y="1301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503440" y="3994200"/>
            <a:ext cx="98280" cy="737280"/>
            <a:chOff x="2503440" y="3994200"/>
            <a:chExt cx="98280" cy="737280"/>
          </a:xfrm>
        </p:grpSpPr>
        <p:grpSp>
          <p:nvGrpSpPr>
            <p:cNvPr id="400" name=""/>
            <p:cNvGrpSpPr/>
            <p:nvPr/>
          </p:nvGrpSpPr>
          <p:grpSpPr>
            <a:xfrm>
              <a:off x="2503440" y="3994200"/>
              <a:ext cx="97920" cy="737280"/>
              <a:chOff x="2503440" y="3994200"/>
              <a:chExt cx="97920" cy="737280"/>
            </a:xfrm>
          </p:grpSpPr>
          <p:sp>
            <p:nvSpPr>
              <p:cNvPr id="401" name=""/>
              <p:cNvSpPr/>
              <p:nvPr/>
            </p:nvSpPr>
            <p:spPr>
              <a:xfrm>
                <a:off x="2503440" y="4349160"/>
                <a:ext cx="97920" cy="3823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03440" y="3994200"/>
                <a:ext cx="97920" cy="3823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2503440" y="4349160"/>
              <a:ext cx="9828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2209680" y="3917880"/>
            <a:ext cx="884520" cy="95904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08200" y="388620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08920" y="4456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638680" y="3994200"/>
            <a:ext cx="98280" cy="737280"/>
            <a:chOff x="5638680" y="3994200"/>
            <a:chExt cx="98280" cy="737280"/>
          </a:xfrm>
        </p:grpSpPr>
        <p:grpSp>
          <p:nvGrpSpPr>
            <p:cNvPr id="408" name=""/>
            <p:cNvGrpSpPr/>
            <p:nvPr/>
          </p:nvGrpSpPr>
          <p:grpSpPr>
            <a:xfrm>
              <a:off x="5638680" y="3994200"/>
              <a:ext cx="97920" cy="737280"/>
              <a:chOff x="5638680" y="3994200"/>
              <a:chExt cx="97920" cy="737280"/>
            </a:xfrm>
          </p:grpSpPr>
          <p:sp>
            <p:nvSpPr>
              <p:cNvPr id="409" name=""/>
              <p:cNvSpPr/>
              <p:nvPr/>
            </p:nvSpPr>
            <p:spPr>
              <a:xfrm>
                <a:off x="5638680" y="4349160"/>
                <a:ext cx="97920" cy="3823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638680" y="3994200"/>
                <a:ext cx="97920" cy="3823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5638680" y="4349160"/>
              <a:ext cx="9828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5364000" y="3917880"/>
            <a:ext cx="884520" cy="95904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48120" y="38894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61440" y="445932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294680" y="4054320"/>
            <a:ext cx="97920" cy="737640"/>
            <a:chOff x="7294680" y="4054320"/>
            <a:chExt cx="97920" cy="737640"/>
          </a:xfrm>
        </p:grpSpPr>
        <p:grpSp>
          <p:nvGrpSpPr>
            <p:cNvPr id="416" name=""/>
            <p:cNvGrpSpPr/>
            <p:nvPr/>
          </p:nvGrpSpPr>
          <p:grpSpPr>
            <a:xfrm>
              <a:off x="7294680" y="4054320"/>
              <a:ext cx="97560" cy="737640"/>
              <a:chOff x="7294680" y="4054320"/>
              <a:chExt cx="97560" cy="737640"/>
            </a:xfrm>
          </p:grpSpPr>
          <p:sp>
            <p:nvSpPr>
              <p:cNvPr id="417" name=""/>
              <p:cNvSpPr/>
              <p:nvPr/>
            </p:nvSpPr>
            <p:spPr>
              <a:xfrm>
                <a:off x="7294680" y="4409280"/>
                <a:ext cx="97560" cy="3826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294680" y="4054320"/>
                <a:ext cx="97560" cy="3826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7294680" y="4409640"/>
              <a:ext cx="9792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6934320" y="3954600"/>
            <a:ext cx="838080" cy="91440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46880" y="39625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60200" y="457200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344760" y="5334120"/>
            <a:ext cx="114120" cy="1057680"/>
            <a:chOff x="3344760" y="5334120"/>
            <a:chExt cx="114120" cy="1057680"/>
          </a:xfrm>
        </p:grpSpPr>
        <p:grpSp>
          <p:nvGrpSpPr>
            <p:cNvPr id="424" name=""/>
            <p:cNvGrpSpPr/>
            <p:nvPr/>
          </p:nvGrpSpPr>
          <p:grpSpPr>
            <a:xfrm>
              <a:off x="3344760" y="5334120"/>
              <a:ext cx="113760" cy="1057680"/>
              <a:chOff x="3344760" y="5334120"/>
              <a:chExt cx="113760" cy="1057680"/>
            </a:xfrm>
          </p:grpSpPr>
          <p:sp>
            <p:nvSpPr>
              <p:cNvPr id="425" name=""/>
              <p:cNvSpPr/>
              <p:nvPr/>
            </p:nvSpPr>
            <p:spPr>
              <a:xfrm>
                <a:off x="3344760" y="5843160"/>
                <a:ext cx="113760" cy="5486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344760" y="5334120"/>
                <a:ext cx="113760" cy="5486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3344760" y="5843520"/>
              <a:ext cx="11412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687840" y="5334120"/>
            <a:ext cx="113760" cy="1057680"/>
            <a:chOff x="3687840" y="5334120"/>
            <a:chExt cx="113760" cy="1057680"/>
          </a:xfrm>
        </p:grpSpPr>
        <p:grpSp>
          <p:nvGrpSpPr>
            <p:cNvPr id="429" name=""/>
            <p:cNvGrpSpPr/>
            <p:nvPr/>
          </p:nvGrpSpPr>
          <p:grpSpPr>
            <a:xfrm>
              <a:off x="3687840" y="5334120"/>
              <a:ext cx="113400" cy="1057680"/>
              <a:chOff x="3687840" y="5334120"/>
              <a:chExt cx="113400" cy="1057680"/>
            </a:xfrm>
          </p:grpSpPr>
          <p:sp>
            <p:nvSpPr>
              <p:cNvPr id="430" name=""/>
              <p:cNvSpPr/>
              <p:nvPr/>
            </p:nvSpPr>
            <p:spPr>
              <a:xfrm>
                <a:off x="3687840" y="5843160"/>
                <a:ext cx="113400" cy="5486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687840" y="5334120"/>
                <a:ext cx="113400" cy="5486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3687840" y="5843520"/>
              <a:ext cx="11376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057480" y="5199120"/>
            <a:ext cx="1103400" cy="12193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6120" y="520236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51200" y="5202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9280" y="6076800"/>
            <a:ext cx="3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49040" y="607680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478480" y="5316480"/>
            <a:ext cx="113760" cy="1057680"/>
            <a:chOff x="5478480" y="5316480"/>
            <a:chExt cx="113760" cy="1057680"/>
          </a:xfrm>
        </p:grpSpPr>
        <p:grpSp>
          <p:nvGrpSpPr>
            <p:cNvPr id="439" name=""/>
            <p:cNvGrpSpPr/>
            <p:nvPr/>
          </p:nvGrpSpPr>
          <p:grpSpPr>
            <a:xfrm>
              <a:off x="5478480" y="5316480"/>
              <a:ext cx="113400" cy="1057680"/>
              <a:chOff x="5478480" y="5316480"/>
              <a:chExt cx="113400" cy="1057680"/>
            </a:xfrm>
          </p:grpSpPr>
          <p:sp>
            <p:nvSpPr>
              <p:cNvPr id="440" name=""/>
              <p:cNvSpPr/>
              <p:nvPr/>
            </p:nvSpPr>
            <p:spPr>
              <a:xfrm>
                <a:off x="5478480" y="5825520"/>
                <a:ext cx="113400" cy="5486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78480" y="5316480"/>
                <a:ext cx="113400" cy="5486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5478480" y="5825880"/>
              <a:ext cx="11376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783400" y="5316480"/>
            <a:ext cx="113760" cy="1057680"/>
            <a:chOff x="5783400" y="5316480"/>
            <a:chExt cx="113760" cy="1057680"/>
          </a:xfrm>
        </p:grpSpPr>
        <p:grpSp>
          <p:nvGrpSpPr>
            <p:cNvPr id="444" name=""/>
            <p:cNvGrpSpPr/>
            <p:nvPr/>
          </p:nvGrpSpPr>
          <p:grpSpPr>
            <a:xfrm>
              <a:off x="5783400" y="5316480"/>
              <a:ext cx="113400" cy="1057680"/>
              <a:chOff x="5783400" y="5316480"/>
              <a:chExt cx="113400" cy="1057680"/>
            </a:xfrm>
          </p:grpSpPr>
          <p:sp>
            <p:nvSpPr>
              <p:cNvPr id="445" name=""/>
              <p:cNvSpPr/>
              <p:nvPr/>
            </p:nvSpPr>
            <p:spPr>
              <a:xfrm>
                <a:off x="5783400" y="5825520"/>
                <a:ext cx="113400" cy="5486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83400" y="5316480"/>
                <a:ext cx="113400" cy="5486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5783400" y="5825880"/>
              <a:ext cx="11376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76800" y="5181480"/>
            <a:ext cx="1103400" cy="121788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51560" y="51814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32360" y="51814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52640" y="60562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46040" y="60562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18000" y="114300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01480" y="289548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34960" y="5562720"/>
            <a:ext cx="4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092480" y="2570040"/>
            <a:ext cx="114120" cy="1058400"/>
            <a:chOff x="4092480" y="2570040"/>
            <a:chExt cx="114120" cy="1058400"/>
          </a:xfrm>
        </p:grpSpPr>
        <p:grpSp>
          <p:nvGrpSpPr>
            <p:cNvPr id="457" name=""/>
            <p:cNvGrpSpPr/>
            <p:nvPr/>
          </p:nvGrpSpPr>
          <p:grpSpPr>
            <a:xfrm>
              <a:off x="4092480" y="2570040"/>
              <a:ext cx="113760" cy="1058400"/>
              <a:chOff x="4092480" y="2570040"/>
              <a:chExt cx="113760" cy="1058400"/>
            </a:xfrm>
          </p:grpSpPr>
          <p:sp>
            <p:nvSpPr>
              <p:cNvPr id="458" name=""/>
              <p:cNvSpPr/>
              <p:nvPr/>
            </p:nvSpPr>
            <p:spPr>
              <a:xfrm>
                <a:off x="4092480" y="3079440"/>
                <a:ext cx="113760" cy="54900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092480" y="2570040"/>
                <a:ext cx="113760" cy="54900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4092480" y="3079440"/>
              <a:ext cx="11412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435560" y="2570040"/>
            <a:ext cx="113760" cy="1058400"/>
            <a:chOff x="4435560" y="2570040"/>
            <a:chExt cx="113760" cy="1058400"/>
          </a:xfrm>
        </p:grpSpPr>
        <p:grpSp>
          <p:nvGrpSpPr>
            <p:cNvPr id="462" name=""/>
            <p:cNvGrpSpPr/>
            <p:nvPr/>
          </p:nvGrpSpPr>
          <p:grpSpPr>
            <a:xfrm>
              <a:off x="4435560" y="2570040"/>
              <a:ext cx="113400" cy="1058400"/>
              <a:chOff x="4435560" y="2570040"/>
              <a:chExt cx="113400" cy="1058400"/>
            </a:xfrm>
          </p:grpSpPr>
          <p:sp>
            <p:nvSpPr>
              <p:cNvPr id="463" name=""/>
              <p:cNvSpPr/>
              <p:nvPr/>
            </p:nvSpPr>
            <p:spPr>
              <a:xfrm>
                <a:off x="4435560" y="3079440"/>
                <a:ext cx="113400" cy="54900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435560" y="2570040"/>
                <a:ext cx="113400" cy="54900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4435560" y="3079440"/>
              <a:ext cx="11376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787920" y="2494080"/>
            <a:ext cx="1241280" cy="123984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73840" y="243828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49680" y="2438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67000" y="3313080"/>
            <a:ext cx="3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47520" y="33130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11600" y="1558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A 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63560" y="1523880"/>
            <a:ext cx="7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a 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12360" y="289548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a 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37339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39960" y="37400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i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80320" y="4114800"/>
            <a:ext cx="183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 tipi di gameti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pporti ugu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52080" y="4648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76160" y="4648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809840" y="4073400"/>
            <a:ext cx="12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amete 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93920" y="635940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Aa 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3120" y="635652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Aa 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68840" y="4149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a1e"/>
                </a:solidFill>
                <a:latin typeface="Comic Sans MS"/>
              </a:rPr>
              <a:t>Rapporto genotipico nella associazione parz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48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295800" y="1143000"/>
            <a:ext cx="94680" cy="882000"/>
            <a:chOff x="3295800" y="1143000"/>
            <a:chExt cx="94680" cy="882000"/>
          </a:xfrm>
        </p:grpSpPr>
        <p:grpSp>
          <p:nvGrpSpPr>
            <p:cNvPr id="491" name=""/>
            <p:cNvGrpSpPr/>
            <p:nvPr/>
          </p:nvGrpSpPr>
          <p:grpSpPr>
            <a:xfrm>
              <a:off x="3295800" y="1143000"/>
              <a:ext cx="94320" cy="882000"/>
              <a:chOff x="3295800" y="1143000"/>
              <a:chExt cx="94320" cy="882000"/>
            </a:xfrm>
          </p:grpSpPr>
          <p:sp>
            <p:nvSpPr>
              <p:cNvPr id="492" name=""/>
              <p:cNvSpPr/>
              <p:nvPr/>
            </p:nvSpPr>
            <p:spPr>
              <a:xfrm>
                <a:off x="3295800" y="1567440"/>
                <a:ext cx="94320" cy="457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295800" y="1143000"/>
                <a:ext cx="94320" cy="457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3295800" y="1567440"/>
              <a:ext cx="946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676680" y="1143000"/>
            <a:ext cx="95040" cy="882000"/>
            <a:chOff x="3676680" y="1143000"/>
            <a:chExt cx="95040" cy="882000"/>
          </a:xfrm>
        </p:grpSpPr>
        <p:grpSp>
          <p:nvGrpSpPr>
            <p:cNvPr id="496" name=""/>
            <p:cNvGrpSpPr/>
            <p:nvPr/>
          </p:nvGrpSpPr>
          <p:grpSpPr>
            <a:xfrm>
              <a:off x="3676680" y="1143000"/>
              <a:ext cx="94680" cy="882000"/>
              <a:chOff x="3676680" y="1143000"/>
              <a:chExt cx="94680" cy="882000"/>
            </a:xfrm>
          </p:grpSpPr>
          <p:sp>
            <p:nvSpPr>
              <p:cNvPr id="497" name=""/>
              <p:cNvSpPr/>
              <p:nvPr/>
            </p:nvSpPr>
            <p:spPr>
              <a:xfrm>
                <a:off x="3676680" y="1567440"/>
                <a:ext cx="94680" cy="457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676680" y="1143000"/>
                <a:ext cx="94680" cy="457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676680" y="1567440"/>
              <a:ext cx="9504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048120" y="1066680"/>
            <a:ext cx="1039680" cy="101916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57720" y="108756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29240" y="108756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71400" y="1523880"/>
            <a:ext cx="3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39680" y="1523880"/>
            <a:ext cx="3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048280" y="1144440"/>
            <a:ext cx="95040" cy="882000"/>
            <a:chOff x="5048280" y="1144440"/>
            <a:chExt cx="95040" cy="882000"/>
          </a:xfrm>
        </p:grpSpPr>
        <p:grpSp>
          <p:nvGrpSpPr>
            <p:cNvPr id="506" name=""/>
            <p:cNvGrpSpPr/>
            <p:nvPr/>
          </p:nvGrpSpPr>
          <p:grpSpPr>
            <a:xfrm>
              <a:off x="5048280" y="1144440"/>
              <a:ext cx="94680" cy="882000"/>
              <a:chOff x="5048280" y="1144440"/>
              <a:chExt cx="94680" cy="882000"/>
            </a:xfrm>
          </p:grpSpPr>
          <p:sp>
            <p:nvSpPr>
              <p:cNvPr id="507" name=""/>
              <p:cNvSpPr/>
              <p:nvPr/>
            </p:nvSpPr>
            <p:spPr>
              <a:xfrm>
                <a:off x="5048280" y="1568880"/>
                <a:ext cx="94680" cy="457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048280" y="1144440"/>
                <a:ext cx="94680" cy="457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5048280" y="1568880"/>
              <a:ext cx="9504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391000" y="1144440"/>
            <a:ext cx="95040" cy="882000"/>
            <a:chOff x="5391000" y="1144440"/>
            <a:chExt cx="95040" cy="882000"/>
          </a:xfrm>
        </p:grpSpPr>
        <p:grpSp>
          <p:nvGrpSpPr>
            <p:cNvPr id="511" name=""/>
            <p:cNvGrpSpPr/>
            <p:nvPr/>
          </p:nvGrpSpPr>
          <p:grpSpPr>
            <a:xfrm>
              <a:off x="5391000" y="1144440"/>
              <a:ext cx="94680" cy="882000"/>
              <a:chOff x="5391000" y="1144440"/>
              <a:chExt cx="94680" cy="882000"/>
            </a:xfrm>
          </p:grpSpPr>
          <p:sp>
            <p:nvSpPr>
              <p:cNvPr id="512" name=""/>
              <p:cNvSpPr/>
              <p:nvPr/>
            </p:nvSpPr>
            <p:spPr>
              <a:xfrm>
                <a:off x="5391000" y="1568880"/>
                <a:ext cx="94680" cy="457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391000" y="1144440"/>
                <a:ext cx="94680" cy="457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5391000" y="1568880"/>
              <a:ext cx="9504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4800600" y="1068480"/>
            <a:ext cx="1039680" cy="101916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076720" y="10875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46800" y="108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3360" y="15238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61920" y="15238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11720" y="1301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18000" y="114300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47440" y="269568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32000" y="15238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A 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02720" y="269568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a 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59000" y="1523880"/>
            <a:ext cx="7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a 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175280" y="2209680"/>
            <a:ext cx="94680" cy="882000"/>
            <a:chOff x="4175280" y="2209680"/>
            <a:chExt cx="94680" cy="882000"/>
          </a:xfrm>
        </p:grpSpPr>
        <p:grpSp>
          <p:nvGrpSpPr>
            <p:cNvPr id="527" name=""/>
            <p:cNvGrpSpPr/>
            <p:nvPr/>
          </p:nvGrpSpPr>
          <p:grpSpPr>
            <a:xfrm>
              <a:off x="4175280" y="2209680"/>
              <a:ext cx="94320" cy="882000"/>
              <a:chOff x="4175280" y="2209680"/>
              <a:chExt cx="94320" cy="882000"/>
            </a:xfrm>
          </p:grpSpPr>
          <p:sp>
            <p:nvSpPr>
              <p:cNvPr id="528" name=""/>
              <p:cNvSpPr/>
              <p:nvPr/>
            </p:nvSpPr>
            <p:spPr>
              <a:xfrm>
                <a:off x="4175280" y="2634120"/>
                <a:ext cx="94320" cy="457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175280" y="2209680"/>
                <a:ext cx="94320" cy="457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4175280" y="2634120"/>
              <a:ext cx="946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556160" y="2209680"/>
            <a:ext cx="94680" cy="882000"/>
            <a:chOff x="4556160" y="2209680"/>
            <a:chExt cx="94680" cy="882000"/>
          </a:xfrm>
        </p:grpSpPr>
        <p:grpSp>
          <p:nvGrpSpPr>
            <p:cNvPr id="532" name=""/>
            <p:cNvGrpSpPr/>
            <p:nvPr/>
          </p:nvGrpSpPr>
          <p:grpSpPr>
            <a:xfrm>
              <a:off x="4556160" y="2209680"/>
              <a:ext cx="94320" cy="882000"/>
              <a:chOff x="4556160" y="2209680"/>
              <a:chExt cx="94320" cy="882000"/>
            </a:xfrm>
          </p:grpSpPr>
          <p:sp>
            <p:nvSpPr>
              <p:cNvPr id="533" name=""/>
              <p:cNvSpPr/>
              <p:nvPr/>
            </p:nvSpPr>
            <p:spPr>
              <a:xfrm>
                <a:off x="4556160" y="2634120"/>
                <a:ext cx="94320" cy="457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556160" y="2209680"/>
                <a:ext cx="94320" cy="457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4556160" y="2634120"/>
              <a:ext cx="946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927600" y="2133720"/>
            <a:ext cx="1039680" cy="101916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37200" y="215424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600440" y="21542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250880" y="2590920"/>
            <a:ext cx="3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619160" y="25909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2274840" y="4299120"/>
            <a:ext cx="98280" cy="737280"/>
            <a:chOff x="2274840" y="4299120"/>
            <a:chExt cx="98280" cy="737280"/>
          </a:xfrm>
        </p:grpSpPr>
        <p:grpSp>
          <p:nvGrpSpPr>
            <p:cNvPr id="542" name=""/>
            <p:cNvGrpSpPr/>
            <p:nvPr/>
          </p:nvGrpSpPr>
          <p:grpSpPr>
            <a:xfrm>
              <a:off x="2274840" y="4299120"/>
              <a:ext cx="97920" cy="737280"/>
              <a:chOff x="2274840" y="4299120"/>
              <a:chExt cx="97920" cy="737280"/>
            </a:xfrm>
          </p:grpSpPr>
          <p:sp>
            <p:nvSpPr>
              <p:cNvPr id="543" name=""/>
              <p:cNvSpPr/>
              <p:nvPr/>
            </p:nvSpPr>
            <p:spPr>
              <a:xfrm>
                <a:off x="2274840" y="4654080"/>
                <a:ext cx="97920" cy="3823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274840" y="4299120"/>
                <a:ext cx="97920" cy="3823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2274840" y="4654080"/>
              <a:ext cx="9828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1981080" y="4222800"/>
            <a:ext cx="884520" cy="95868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79600" y="41911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380320" y="46483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214800" y="4299120"/>
            <a:ext cx="97920" cy="737280"/>
            <a:chOff x="3214800" y="4299120"/>
            <a:chExt cx="97920" cy="737280"/>
          </a:xfrm>
        </p:grpSpPr>
        <p:grpSp>
          <p:nvGrpSpPr>
            <p:cNvPr id="550" name=""/>
            <p:cNvGrpSpPr/>
            <p:nvPr/>
          </p:nvGrpSpPr>
          <p:grpSpPr>
            <a:xfrm>
              <a:off x="3214800" y="4299120"/>
              <a:ext cx="97560" cy="737280"/>
              <a:chOff x="3214800" y="4299120"/>
              <a:chExt cx="97560" cy="737280"/>
            </a:xfrm>
          </p:grpSpPr>
          <p:sp>
            <p:nvSpPr>
              <p:cNvPr id="551" name=""/>
              <p:cNvSpPr/>
              <p:nvPr/>
            </p:nvSpPr>
            <p:spPr>
              <a:xfrm>
                <a:off x="3214800" y="4654080"/>
                <a:ext cx="97560" cy="3823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214800" y="4299120"/>
                <a:ext cx="97560" cy="3823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3214800" y="4654080"/>
              <a:ext cx="9792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921040" y="4222800"/>
            <a:ext cx="884160" cy="95868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13080" y="41911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19920" y="464832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565520" y="4299120"/>
            <a:ext cx="98280" cy="737280"/>
            <a:chOff x="4565520" y="4299120"/>
            <a:chExt cx="98280" cy="737280"/>
          </a:xfrm>
        </p:grpSpPr>
        <p:grpSp>
          <p:nvGrpSpPr>
            <p:cNvPr id="558" name=""/>
            <p:cNvGrpSpPr/>
            <p:nvPr/>
          </p:nvGrpSpPr>
          <p:grpSpPr>
            <a:xfrm>
              <a:off x="4565520" y="4299120"/>
              <a:ext cx="97920" cy="737280"/>
              <a:chOff x="4565520" y="4299120"/>
              <a:chExt cx="97920" cy="737280"/>
            </a:xfrm>
          </p:grpSpPr>
          <p:sp>
            <p:nvSpPr>
              <p:cNvPr id="559" name=""/>
              <p:cNvSpPr/>
              <p:nvPr/>
            </p:nvSpPr>
            <p:spPr>
              <a:xfrm>
                <a:off x="4565520" y="4654080"/>
                <a:ext cx="97920" cy="3823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565520" y="4299120"/>
                <a:ext cx="97920" cy="3823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4565520" y="4654080"/>
              <a:ext cx="9828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4272120" y="4222800"/>
            <a:ext cx="884160" cy="95868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70280" y="41911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71000" y="464832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505480" y="4299120"/>
            <a:ext cx="97920" cy="737280"/>
            <a:chOff x="5505480" y="4299120"/>
            <a:chExt cx="97920" cy="737280"/>
          </a:xfrm>
        </p:grpSpPr>
        <p:grpSp>
          <p:nvGrpSpPr>
            <p:cNvPr id="566" name=""/>
            <p:cNvGrpSpPr/>
            <p:nvPr/>
          </p:nvGrpSpPr>
          <p:grpSpPr>
            <a:xfrm>
              <a:off x="5505480" y="4299120"/>
              <a:ext cx="97560" cy="737280"/>
              <a:chOff x="5505480" y="4299120"/>
              <a:chExt cx="97560" cy="737280"/>
            </a:xfrm>
          </p:grpSpPr>
          <p:sp>
            <p:nvSpPr>
              <p:cNvPr id="567" name=""/>
              <p:cNvSpPr/>
              <p:nvPr/>
            </p:nvSpPr>
            <p:spPr>
              <a:xfrm>
                <a:off x="5505480" y="4654080"/>
                <a:ext cx="97560" cy="3823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505480" y="4299120"/>
                <a:ext cx="97560" cy="3823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5505480" y="4654080"/>
              <a:ext cx="9792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5211720" y="4222800"/>
            <a:ext cx="884160" cy="95868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03760" y="41911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610960" y="46483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7075440" y="4286160"/>
            <a:ext cx="98280" cy="737640"/>
            <a:chOff x="7075440" y="4286160"/>
            <a:chExt cx="98280" cy="737640"/>
          </a:xfrm>
        </p:grpSpPr>
        <p:grpSp>
          <p:nvGrpSpPr>
            <p:cNvPr id="574" name=""/>
            <p:cNvGrpSpPr/>
            <p:nvPr/>
          </p:nvGrpSpPr>
          <p:grpSpPr>
            <a:xfrm>
              <a:off x="7075440" y="4286160"/>
              <a:ext cx="97920" cy="737640"/>
              <a:chOff x="7075440" y="4286160"/>
              <a:chExt cx="97920" cy="737640"/>
            </a:xfrm>
          </p:grpSpPr>
          <p:sp>
            <p:nvSpPr>
              <p:cNvPr id="575" name=""/>
              <p:cNvSpPr/>
              <p:nvPr/>
            </p:nvSpPr>
            <p:spPr>
              <a:xfrm>
                <a:off x="7075440" y="4641120"/>
                <a:ext cx="97920" cy="3826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075440" y="4286160"/>
                <a:ext cx="97920" cy="3826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7075440" y="4641480"/>
              <a:ext cx="9828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6781680" y="4210200"/>
            <a:ext cx="884520" cy="95868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173720" y="41781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80920" y="463536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70480" y="1676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19720" y="313704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62200" y="30830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i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169000" y="3505320"/>
            <a:ext cx="373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tipi di gameti in rapporti non ugu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5400000">
            <a:off x="2856960" y="3543120"/>
            <a:ext cx="76320" cy="1219320"/>
          </a:xfrm>
          <a:custGeom>
            <a:avLst/>
            <a:gdLst>
              <a:gd name="textAreaLeft" fmla="*/ 22320 w 76320"/>
              <a:gd name="textAreaRight" fmla="*/ 76320 w 76320"/>
              <a:gd name="textAreaTop" fmla="*/ 50760 h 1219320"/>
              <a:gd name="textAreaBottom" fmla="*/ 1168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rot="5400000">
            <a:off x="5142960" y="3543120"/>
            <a:ext cx="76320" cy="1219320"/>
          </a:xfrm>
          <a:custGeom>
            <a:avLst/>
            <a:gdLst>
              <a:gd name="textAreaLeft" fmla="*/ 22320 w 76320"/>
              <a:gd name="textAreaRight" fmla="*/ 76320 w 76320"/>
              <a:gd name="textAreaTop" fmla="*/ 50760 h 1219320"/>
              <a:gd name="textAreaBottom" fmla="*/ 1168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163240" y="378468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0% parent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336200" y="378468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0% ricombin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779600" y="4302000"/>
            <a:ext cx="12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amete 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16200" y="4378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817640" y="5518080"/>
            <a:ext cx="98280" cy="737640"/>
            <a:chOff x="1817640" y="5518080"/>
            <a:chExt cx="98280" cy="737640"/>
          </a:xfrm>
        </p:grpSpPr>
        <p:grpSp>
          <p:nvGrpSpPr>
            <p:cNvPr id="592" name=""/>
            <p:cNvGrpSpPr/>
            <p:nvPr/>
          </p:nvGrpSpPr>
          <p:grpSpPr>
            <a:xfrm>
              <a:off x="1817640" y="5518080"/>
              <a:ext cx="97920" cy="737640"/>
              <a:chOff x="1817640" y="5518080"/>
              <a:chExt cx="97920" cy="737640"/>
            </a:xfrm>
          </p:grpSpPr>
          <p:sp>
            <p:nvSpPr>
              <p:cNvPr id="593" name=""/>
              <p:cNvSpPr/>
              <p:nvPr/>
            </p:nvSpPr>
            <p:spPr>
              <a:xfrm>
                <a:off x="1817640" y="5873040"/>
                <a:ext cx="97920" cy="3826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17640" y="5518080"/>
                <a:ext cx="97920" cy="3826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1817640" y="5873400"/>
              <a:ext cx="9828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1523880" y="5334120"/>
            <a:ext cx="984240" cy="106668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22400" y="541008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923120" y="58672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062160" y="5518080"/>
            <a:ext cx="98280" cy="737640"/>
            <a:chOff x="3062160" y="5518080"/>
            <a:chExt cx="98280" cy="737640"/>
          </a:xfrm>
        </p:grpSpPr>
        <p:grpSp>
          <p:nvGrpSpPr>
            <p:cNvPr id="600" name=""/>
            <p:cNvGrpSpPr/>
            <p:nvPr/>
          </p:nvGrpSpPr>
          <p:grpSpPr>
            <a:xfrm>
              <a:off x="3062160" y="5518080"/>
              <a:ext cx="97920" cy="737640"/>
              <a:chOff x="3062160" y="5518080"/>
              <a:chExt cx="97920" cy="737640"/>
            </a:xfrm>
          </p:grpSpPr>
          <p:sp>
            <p:nvSpPr>
              <p:cNvPr id="601" name=""/>
              <p:cNvSpPr/>
              <p:nvPr/>
            </p:nvSpPr>
            <p:spPr>
              <a:xfrm>
                <a:off x="3062160" y="5873040"/>
                <a:ext cx="97920" cy="3826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62160" y="5518080"/>
                <a:ext cx="97920" cy="3826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3062160" y="5873400"/>
              <a:ext cx="9828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901960" y="5334120"/>
            <a:ext cx="984240" cy="106668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60440" y="54100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167640" y="586728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495680" y="5518080"/>
            <a:ext cx="98280" cy="737640"/>
            <a:chOff x="4495680" y="5518080"/>
            <a:chExt cx="98280" cy="737640"/>
          </a:xfrm>
        </p:grpSpPr>
        <p:grpSp>
          <p:nvGrpSpPr>
            <p:cNvPr id="608" name=""/>
            <p:cNvGrpSpPr/>
            <p:nvPr/>
          </p:nvGrpSpPr>
          <p:grpSpPr>
            <a:xfrm>
              <a:off x="4495680" y="5518080"/>
              <a:ext cx="97920" cy="737640"/>
              <a:chOff x="4495680" y="5518080"/>
              <a:chExt cx="97920" cy="737640"/>
            </a:xfrm>
          </p:grpSpPr>
          <p:sp>
            <p:nvSpPr>
              <p:cNvPr id="609" name=""/>
              <p:cNvSpPr/>
              <p:nvPr/>
            </p:nvSpPr>
            <p:spPr>
              <a:xfrm>
                <a:off x="4495680" y="5873040"/>
                <a:ext cx="97920" cy="3826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495680" y="5518080"/>
                <a:ext cx="97920" cy="3826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4495680" y="5873400"/>
              <a:ext cx="9828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272120" y="5334120"/>
            <a:ext cx="984240" cy="106668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600440" y="541008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01160" y="586728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5734080" y="5518080"/>
            <a:ext cx="97920" cy="737640"/>
            <a:chOff x="5734080" y="5518080"/>
            <a:chExt cx="97920" cy="737640"/>
          </a:xfrm>
        </p:grpSpPr>
        <p:grpSp>
          <p:nvGrpSpPr>
            <p:cNvPr id="616" name=""/>
            <p:cNvGrpSpPr/>
            <p:nvPr/>
          </p:nvGrpSpPr>
          <p:grpSpPr>
            <a:xfrm>
              <a:off x="5734080" y="5518080"/>
              <a:ext cx="97560" cy="737640"/>
              <a:chOff x="5734080" y="5518080"/>
              <a:chExt cx="97560" cy="737640"/>
            </a:xfrm>
          </p:grpSpPr>
          <p:sp>
            <p:nvSpPr>
              <p:cNvPr id="617" name=""/>
              <p:cNvSpPr/>
              <p:nvPr/>
            </p:nvSpPr>
            <p:spPr>
              <a:xfrm>
                <a:off x="5734080" y="5873040"/>
                <a:ext cx="97560" cy="3826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734080" y="5518080"/>
                <a:ext cx="97560" cy="3826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5734080" y="5873400"/>
              <a:ext cx="9792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5568840" y="5334120"/>
            <a:ext cx="984240" cy="106668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832360" y="54100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39560" y="58672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133720" y="5410080"/>
            <a:ext cx="381960" cy="845280"/>
            <a:chOff x="2133720" y="5410080"/>
            <a:chExt cx="381960" cy="845280"/>
          </a:xfrm>
        </p:grpSpPr>
        <p:grpSp>
          <p:nvGrpSpPr>
            <p:cNvPr id="624" name=""/>
            <p:cNvGrpSpPr/>
            <p:nvPr/>
          </p:nvGrpSpPr>
          <p:grpSpPr>
            <a:xfrm>
              <a:off x="2133720" y="5518080"/>
              <a:ext cx="97920" cy="737280"/>
              <a:chOff x="2133720" y="5518080"/>
              <a:chExt cx="97920" cy="73728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2133720" y="5518080"/>
                <a:ext cx="97560" cy="737280"/>
                <a:chOff x="2133720" y="5518080"/>
                <a:chExt cx="97560" cy="7372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2133720" y="5873040"/>
                  <a:ext cx="9756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133720" y="5518080"/>
                  <a:ext cx="9756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2133720" y="5873040"/>
                <a:ext cx="9792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2231640" y="5410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38840" y="586728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3505320" y="5410080"/>
            <a:ext cx="381960" cy="845280"/>
            <a:chOff x="3505320" y="5410080"/>
            <a:chExt cx="381960" cy="845280"/>
          </a:xfrm>
        </p:grpSpPr>
        <p:grpSp>
          <p:nvGrpSpPr>
            <p:cNvPr id="632" name=""/>
            <p:cNvGrpSpPr/>
            <p:nvPr/>
          </p:nvGrpSpPr>
          <p:grpSpPr>
            <a:xfrm>
              <a:off x="3505320" y="5518080"/>
              <a:ext cx="97920" cy="737280"/>
              <a:chOff x="3505320" y="5518080"/>
              <a:chExt cx="97920" cy="73728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3505320" y="5518080"/>
                <a:ext cx="97560" cy="737280"/>
                <a:chOff x="3505320" y="5518080"/>
                <a:chExt cx="97560" cy="73728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3505320" y="5873040"/>
                  <a:ext cx="9756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505320" y="5518080"/>
                  <a:ext cx="9756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"/>
              <p:cNvSpPr/>
              <p:nvPr/>
            </p:nvSpPr>
            <p:spPr>
              <a:xfrm>
                <a:off x="3505320" y="5873040"/>
                <a:ext cx="9792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3603240" y="5410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610440" y="586728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4876920" y="5410080"/>
            <a:ext cx="381960" cy="845280"/>
            <a:chOff x="4876920" y="5410080"/>
            <a:chExt cx="381960" cy="845280"/>
          </a:xfrm>
        </p:grpSpPr>
        <p:grpSp>
          <p:nvGrpSpPr>
            <p:cNvPr id="640" name=""/>
            <p:cNvGrpSpPr/>
            <p:nvPr/>
          </p:nvGrpSpPr>
          <p:grpSpPr>
            <a:xfrm>
              <a:off x="4876920" y="5518080"/>
              <a:ext cx="97920" cy="737280"/>
              <a:chOff x="4876920" y="5518080"/>
              <a:chExt cx="97920" cy="737280"/>
            </a:xfrm>
          </p:grpSpPr>
          <p:grpSp>
            <p:nvGrpSpPr>
              <p:cNvPr id="641" name=""/>
              <p:cNvGrpSpPr/>
              <p:nvPr/>
            </p:nvGrpSpPr>
            <p:grpSpPr>
              <a:xfrm>
                <a:off x="4876920" y="5518080"/>
                <a:ext cx="97560" cy="737280"/>
                <a:chOff x="4876920" y="5518080"/>
                <a:chExt cx="97560" cy="7372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4876920" y="5873040"/>
                  <a:ext cx="9756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876920" y="5518080"/>
                  <a:ext cx="9756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4876920" y="5873040"/>
                <a:ext cx="9792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4974840" y="5410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82040" y="586728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172200" y="5410080"/>
            <a:ext cx="381960" cy="845280"/>
            <a:chOff x="6172200" y="5410080"/>
            <a:chExt cx="381960" cy="845280"/>
          </a:xfrm>
        </p:grpSpPr>
        <p:grpSp>
          <p:nvGrpSpPr>
            <p:cNvPr id="648" name=""/>
            <p:cNvGrpSpPr/>
            <p:nvPr/>
          </p:nvGrpSpPr>
          <p:grpSpPr>
            <a:xfrm>
              <a:off x="6172200" y="5518080"/>
              <a:ext cx="97920" cy="737280"/>
              <a:chOff x="6172200" y="5518080"/>
              <a:chExt cx="97920" cy="73728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6172200" y="5518080"/>
                <a:ext cx="97560" cy="737280"/>
                <a:chOff x="6172200" y="5518080"/>
                <a:chExt cx="97560" cy="7372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6172200" y="5873040"/>
                  <a:ext cx="9756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172200" y="5518080"/>
                  <a:ext cx="9756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2" name=""/>
              <p:cNvSpPr/>
              <p:nvPr/>
            </p:nvSpPr>
            <p:spPr>
              <a:xfrm>
                <a:off x="6172200" y="5873040"/>
                <a:ext cx="9792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6270120" y="5410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77320" y="586728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674720" y="635940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070800" y="636264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93160" y="636264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775120" y="636264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82280" y="563868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477120" y="4686480"/>
            <a:ext cx="0" cy="57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95280" y="5257800"/>
            <a:ext cx="5486400" cy="1447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4880" y="629748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06000" y="629928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277600" y="629748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a1e"/>
                </a:solidFill>
                <a:latin typeface="Comic Sans MS"/>
              </a:rPr>
              <a:t>Incrocio #1: accoppi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>
            <a:lum contrast="64000"/>
          </a:blip>
          <a:stretch/>
        </p:blipFill>
        <p:spPr>
          <a:xfrm>
            <a:off x="6165720" y="1665360"/>
            <a:ext cx="298440" cy="46044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2">
            <a:lum contrast="72000"/>
          </a:blip>
          <a:stretch/>
        </p:blipFill>
        <p:spPr>
          <a:xfrm>
            <a:off x="907920" y="1665360"/>
            <a:ext cx="358920" cy="488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1425600" y="1587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 w / Y    x    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/ 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w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489560" y="227340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060560" y="2502000"/>
            <a:ext cx="53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 w / 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x    y w / Y     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99320" y="4194000"/>
            <a:ext cx="22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a1e"/>
                </a:solidFill>
                <a:latin typeface="Comic Sans MS"/>
              </a:rPr>
              <a:t>proge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00280" y="3598920"/>
            <a:ext cx="457200" cy="2057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317400" y="344664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 w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49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125880" y="3902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500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96520" y="45896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w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275640" y="51228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 w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79920" y="623736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18480" y="57308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437240" y="394956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14/1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=0,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= 1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681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057400" y="6858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a1e"/>
                </a:solidFill>
                <a:latin typeface="Comic Sans MS"/>
              </a:rPr>
              <a:t>Incrocio #2: repuls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>
            <a:lum contrast="64000"/>
          </a:blip>
          <a:stretch/>
        </p:blipFill>
        <p:spPr>
          <a:xfrm>
            <a:off x="6218280" y="1903320"/>
            <a:ext cx="298440" cy="46044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2">
            <a:lum contrast="72000"/>
          </a:blip>
          <a:stretch/>
        </p:blipFill>
        <p:spPr>
          <a:xfrm>
            <a:off x="1128600" y="1830240"/>
            <a:ext cx="358920" cy="48924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1569960" y="175248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w / Y    x    y w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/ y w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160960" y="236376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61440" y="2514600"/>
            <a:ext cx="40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 / y w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x    y w / Y      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8280" y="4425840"/>
            <a:ext cx="24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a1e"/>
                </a:solidFill>
                <a:latin typeface="Comic Sans MS"/>
              </a:rPr>
              <a:t>progen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89360" y="3887640"/>
            <a:ext cx="457200" cy="2057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70840" y="373536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 w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4320" y="41925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17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524760" y="487836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w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9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86600" y="541188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 w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10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099040" y="602136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37360" y="6019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15120" y="434664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30/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=0,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= 1,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702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08:22:02Z</dcterms:created>
  <dc:creator>Palumbo</dc:creator>
  <dc:description/>
  <dc:language>en-US</dc:language>
  <cp:lastModifiedBy>Mariano Rocchi</cp:lastModifiedBy>
  <dcterms:modified xsi:type="dcterms:W3CDTF">2003-01-10T16:37:17Z</dcterms:modified>
  <cp:revision>90</cp:revision>
  <dc:subject/>
  <dc:title>c</dc:title>
</cp:coreProperties>
</file>