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media/image7.jpeg" ContentType="image/jpeg"/>
  <Override PartName="/ppt/media/image4.pct" ContentType="image/x-pict"/>
  <Override PartName="/ppt/media/image5.pct" ContentType="image/x-pict"/>
  <Override PartName="/ppt/media/image6.pct" ContentType="image/x-pict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144D-4CD9-4BF3-8498-A8DB3500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EB58-8B31-4F24-9CF6-C30725AE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C81F-5014-483F-9EC0-8263AE35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62E9-795B-4CEF-AE52-FE06FAC4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4690-1B4E-4311-853C-6DADD79C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610C-BC6F-4B54-88E2-70518D89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67B6-6620-4C88-8CBD-AB769293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743E-AB84-4430-885E-D408F72D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B06E-71FA-439C-A8C5-918D82ED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566-81FC-418F-8C3F-DA13B32F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5EB3-7BB0-4C0B-8269-6164003D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4A6-E64D-45C4-B3F0-F00CEB80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1DB9-1646-43AC-BF76-EEE9B913C93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9250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LBERI GENEALOGICI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          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ORO INTERPRETAZI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4892760" cy="3100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050560" y="4668840"/>
            <a:ext cx="463032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iti maschi abor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09680" y="83772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minante x lin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316400" cy="3629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75560" y="4973760"/>
            <a:ext cx="316584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anguineit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42840" y="838080"/>
            <a:ext cx="3962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cessiva X -li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SERCIZ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05320" y="68544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ERCIZI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762120" y="2189160"/>
            <a:ext cx="35856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962520" y="2209680"/>
            <a:ext cx="380880" cy="37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23623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7031880" y="220968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590920" y="23623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51560" y="355752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97840" y="354492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533600" y="3505320"/>
            <a:ext cx="38088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185200" y="3505320"/>
            <a:ext cx="38124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2819520"/>
            <a:ext cx="350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2819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2819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73480" y="2819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31960" y="2819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98720" y="2819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4280" y="2819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891480" y="3505320"/>
            <a:ext cx="38088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543800" y="3505320"/>
            <a:ext cx="38088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866920" y="236232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73880" y="281952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2819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819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2819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38920" y="2819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3880" y="4724280"/>
            <a:ext cx="38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ipo di ereditarieta’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87200" y="5502240"/>
            <a:ext cx="55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. Indica genotipo di ogni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940840" y="3529080"/>
            <a:ext cx="358920" cy="3394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634560" y="3527280"/>
            <a:ext cx="358920" cy="339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400720" y="3524400"/>
            <a:ext cx="358560" cy="3394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194520" y="3522600"/>
            <a:ext cx="358560" cy="339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0920" y="761760"/>
            <a:ext cx="3962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ERCIZI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123360" y="141120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409360" y="1371600"/>
            <a:ext cx="38124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1577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1600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205740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580560" y="2819520"/>
            <a:ext cx="358920" cy="33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471040" y="2808360"/>
            <a:ext cx="358920" cy="3394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855320" y="2797200"/>
            <a:ext cx="38124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987160" y="2808360"/>
            <a:ext cx="38124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76760" y="21016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55720" y="20685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72200" y="20797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40360" y="20685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162920" y="2819520"/>
            <a:ext cx="358560" cy="33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3679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81680" y="2994120"/>
            <a:ext cx="0" cy="12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971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36910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36910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606360" y="427824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911920" y="4254480"/>
            <a:ext cx="38088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8381160" y="4267080"/>
            <a:ext cx="381240" cy="37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72400" y="4441680"/>
            <a:ext cx="598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77320" y="446256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251720" y="2805120"/>
            <a:ext cx="38124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29718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46240" y="2982960"/>
            <a:ext cx="0" cy="12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53960" y="3679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51120" y="4265640"/>
            <a:ext cx="38088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06560" y="36910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611440" y="4254480"/>
            <a:ext cx="38088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1165320" y="4267080"/>
            <a:ext cx="35856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49280" y="36910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668760" y="4267080"/>
            <a:ext cx="35856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08720" y="4245120"/>
            <a:ext cx="38124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25800" y="4421160"/>
            <a:ext cx="598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30720" y="445284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3800" y="4421160"/>
            <a:ext cx="59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8720" y="4441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1920" y="4960800"/>
            <a:ext cx="32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89240" y="4973760"/>
            <a:ext cx="32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24680" y="4973760"/>
            <a:ext cx="32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7600" y="568800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ipo di erediterie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90120" y="6188040"/>
            <a:ext cx="70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. Probabilita’ di figlio affetto nelle tre cop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391520" y="4267080"/>
            <a:ext cx="358560" cy="339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971440" y="68580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ERCIZIO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247200" y="1531800"/>
            <a:ext cx="381240" cy="37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4686480" y="1554120"/>
            <a:ext cx="358560" cy="339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62280" y="170964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191120" y="1730520"/>
            <a:ext cx="2880" cy="40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52480" y="2124000"/>
            <a:ext cx="4648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62200" y="2133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2133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588320" y="2514600"/>
            <a:ext cx="358920" cy="339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57200" y="2492280"/>
            <a:ext cx="380880" cy="37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2666880"/>
            <a:ext cx="71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3192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30481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3048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5640" y="3048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057320" y="3429000"/>
            <a:ext cx="358560" cy="339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491480" y="342900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73840" y="342900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246480" y="3429000"/>
            <a:ext cx="38088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940920" y="3429000"/>
            <a:ext cx="38124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815000" y="3429000"/>
            <a:ext cx="35856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83720" y="2384280"/>
            <a:ext cx="381240" cy="37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540320" y="2395440"/>
            <a:ext cx="35856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7640" y="25686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43400" y="3048120"/>
            <a:ext cx="154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89600" y="3048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43400" y="3048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82800" y="3581280"/>
            <a:ext cx="131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82800" y="3657600"/>
            <a:ext cx="131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36920" y="3603600"/>
            <a:ext cx="0" cy="66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362320" y="4267080"/>
            <a:ext cx="380880" cy="37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6210360" y="2351160"/>
            <a:ext cx="38088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7265160" y="2362320"/>
            <a:ext cx="358920" cy="33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29400" y="2514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012000" y="3463920"/>
            <a:ext cx="38088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7543800" y="3505320"/>
            <a:ext cx="38880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6780960" y="346392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08560" y="3083040"/>
            <a:ext cx="154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54760" y="308304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08560" y="308304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81480" y="3657600"/>
            <a:ext cx="80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78600" y="3581280"/>
            <a:ext cx="801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10240" y="3613320"/>
            <a:ext cx="0" cy="66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5420520" y="427824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8598600" y="353844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962840" y="36910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29600" y="3711600"/>
            <a:ext cx="0" cy="66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39880" y="4376880"/>
            <a:ext cx="358920" cy="33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7520" y="5257800"/>
            <a:ext cx="232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r= capelli ro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= capelli sc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560680" y="5313240"/>
            <a:ext cx="358560" cy="339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68680" y="4822920"/>
            <a:ext cx="458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B: a meno che non ci siano prove del contrario, si sottintenda che gli individui che vengono dal di fuori non siano portatori dell’allele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5680" y="1366920"/>
            <a:ext cx="6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8120" y="1816200"/>
            <a:ext cx="22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                             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840" y="2438280"/>
            <a:ext cx="5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I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760" y="337176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II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7432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                 2                        3                    4                          5                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7520" y="38098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      2         3                           4            5             6                  7          8           9         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6520" y="44956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                                                 2                                         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2680" y="4200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57600" y="2133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34320" y="2514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14800" y="3048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80720" y="533160"/>
            <a:ext cx="3886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ERCIZIO 3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324240" y="1531800"/>
            <a:ext cx="380880" cy="37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761720" y="1554120"/>
            <a:ext cx="358920" cy="339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738600" y="16765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68880" y="2590920"/>
            <a:ext cx="1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2124000"/>
            <a:ext cx="4648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38160" y="2133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1665360" y="2514600"/>
            <a:ext cx="358560" cy="339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08760" y="2492280"/>
            <a:ext cx="381240" cy="37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90720" y="2666880"/>
            <a:ext cx="64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6360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2120" y="30481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52480" y="3048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3048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088280" y="3429000"/>
            <a:ext cx="358920" cy="339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568520" y="3429000"/>
            <a:ext cx="35856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31080" y="342900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322800" y="3429000"/>
            <a:ext cx="38088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4083840" y="3429000"/>
            <a:ext cx="38124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890240" y="342900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541680" y="2384280"/>
            <a:ext cx="380880" cy="37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597560" y="2395440"/>
            <a:ext cx="35856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4880" y="2568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19360" y="3048120"/>
            <a:ext cx="154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65560" y="3048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19360" y="3048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59120" y="3581280"/>
            <a:ext cx="131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59120" y="3657600"/>
            <a:ext cx="131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12880" y="3603600"/>
            <a:ext cx="0" cy="66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437560" y="4267080"/>
            <a:ext cx="381240" cy="37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6286680" y="2351160"/>
            <a:ext cx="38088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341480" y="2362320"/>
            <a:ext cx="358920" cy="33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05720" y="2514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033680" y="2514600"/>
            <a:ext cx="1800" cy="94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6087240" y="3463920"/>
            <a:ext cx="38124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620120" y="3505320"/>
            <a:ext cx="38880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857280" y="346392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284880" y="3083040"/>
            <a:ext cx="154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31080" y="308304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284880" y="308304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57800" y="3657600"/>
            <a:ext cx="80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254560" y="3581280"/>
            <a:ext cx="801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86560" y="3613320"/>
            <a:ext cx="0" cy="66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497560" y="4278240"/>
            <a:ext cx="35856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8674920" y="353844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039160" y="3691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05920" y="3711600"/>
            <a:ext cx="0" cy="66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8116200" y="4376880"/>
            <a:ext cx="358920" cy="33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2000" y="1366920"/>
            <a:ext cx="6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95480" y="177336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                         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01520" y="2438280"/>
            <a:ext cx="5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I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6320" y="3429000"/>
            <a:ext cx="6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II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266688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              2                         3             4                      5              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0880" y="3809880"/>
            <a:ext cx="86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     2      3                       4         5          6               7         8          9       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76520" y="46944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                                          2                                    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5248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4872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523880" y="3276720"/>
            <a:ext cx="6705360" cy="2638800"/>
            <a:chOff x="1523880" y="3276720"/>
            <a:chExt cx="6705360" cy="2638800"/>
          </a:xfrm>
        </p:grpSpPr>
        <p:sp>
          <p:nvSpPr>
            <p:cNvPr id="372" name=""/>
            <p:cNvSpPr/>
            <p:nvPr/>
          </p:nvSpPr>
          <p:spPr>
            <a:xfrm>
              <a:off x="1523880" y="3276720"/>
              <a:ext cx="609480" cy="83808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838080"/>
                <a:gd name="textAreaBottom" fmla="*/ 808560 h 838080"/>
              </a:gdLst>
              <a:ahLst/>
              <a:rect l="textAreaLeft" t="textAreaTop" r="textAreaRight" b="textAreaBottom"/>
              <a:pathLst>
                <a:path w="21600" h="29697">
                  <a:moveTo>
                    <a:pt x="3600" y="0"/>
                  </a:moveTo>
                  <a:arcTo wR="3600" hR="3600" stAng="16200000" swAng="-5400000"/>
                  <a:lnTo>
                    <a:pt x="0" y="26097"/>
                  </a:lnTo>
                  <a:arcTo wR="3600" hR="3600" stAng="10800000" swAng="-5400000"/>
                  <a:lnTo>
                    <a:pt x="18000" y="296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19760" y="3276720"/>
              <a:ext cx="609480" cy="83808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838080"/>
                <a:gd name="textAreaBottom" fmla="*/ 808560 h 838080"/>
              </a:gdLst>
              <a:ahLst/>
              <a:rect l="textAreaLeft" t="textAreaTop" r="textAreaRight" b="textAreaBottom"/>
              <a:pathLst>
                <a:path w="21600" h="29697">
                  <a:moveTo>
                    <a:pt x="3600" y="0"/>
                  </a:moveTo>
                  <a:arcTo wR="3600" hR="3600" stAng="16200000" swAng="-5400000"/>
                  <a:lnTo>
                    <a:pt x="0" y="26097"/>
                  </a:lnTo>
                  <a:arcTo wR="3600" hR="3600" stAng="10800000" swAng="-5400000"/>
                  <a:lnTo>
                    <a:pt x="18000" y="296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28440" y="5334120"/>
              <a:ext cx="609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96120" y="5334120"/>
              <a:ext cx="35748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152280" y="4200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3920" y="2133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91120" y="1676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2133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200040" y="761760"/>
            <a:ext cx="3429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ERCIZIO 3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3324240" y="1531800"/>
            <a:ext cx="380880" cy="37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761720" y="1554120"/>
            <a:ext cx="358920" cy="339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38600" y="16765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70320" y="2590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28800" y="2124000"/>
            <a:ext cx="4648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38160" y="2133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77120" y="2133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1665360" y="2514600"/>
            <a:ext cx="358560" cy="339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57200" y="2492280"/>
            <a:ext cx="380880" cy="37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38080" y="26668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4128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048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52480" y="3048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31800" y="3048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065960" y="3429000"/>
            <a:ext cx="358920" cy="339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568520" y="3429000"/>
            <a:ext cx="35856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554760" y="342900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3322800" y="3429000"/>
            <a:ext cx="38088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083840" y="3429000"/>
            <a:ext cx="38124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4890240" y="342900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3541680" y="2384280"/>
            <a:ext cx="380880" cy="37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4597560" y="2395440"/>
            <a:ext cx="35856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44880" y="2568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19360" y="3048120"/>
            <a:ext cx="154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65560" y="3048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19360" y="3048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59120" y="3581280"/>
            <a:ext cx="131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59120" y="3657600"/>
            <a:ext cx="131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612880" y="36576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2437560" y="4267080"/>
            <a:ext cx="381240" cy="37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6286680" y="2351160"/>
            <a:ext cx="38088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7341480" y="2362320"/>
            <a:ext cx="358920" cy="33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05720" y="2514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7033680" y="2514600"/>
            <a:ext cx="1800" cy="94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6087240" y="3463920"/>
            <a:ext cx="38124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7620120" y="3505320"/>
            <a:ext cx="38880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6857280" y="346392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84880" y="3083040"/>
            <a:ext cx="154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831080" y="3083040"/>
            <a:ext cx="0" cy="42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84880" y="308304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257800" y="3657600"/>
            <a:ext cx="80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54560" y="3581280"/>
            <a:ext cx="841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686560" y="3657600"/>
            <a:ext cx="0" cy="619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5497560" y="4278240"/>
            <a:ext cx="35856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8674920" y="353844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039160" y="3691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05920" y="3711600"/>
            <a:ext cx="0" cy="55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8116200" y="426708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13939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657600" y="1752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                 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320" y="2460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I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320" y="3451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II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26668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               2                       3              4                      5                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52280" y="38098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    2      3                       4          5         6               7          8         9          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00400" y="3376440"/>
            <a:ext cx="539640" cy="81468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814680"/>
              <a:gd name="textAreaBottom" fmla="*/ 788400 h 814680"/>
            </a:gdLst>
            <a:ahLst/>
            <a:rect l="textAreaLeft" t="textAreaTop" r="textAreaRight" b="textAreaBottom"/>
            <a:pathLst>
              <a:path w="21600" h="32602">
                <a:moveTo>
                  <a:pt x="3600" y="0"/>
                </a:moveTo>
                <a:arcTo wR="3600" hR="3600" stAng="16200000" swAng="-5400000"/>
                <a:lnTo>
                  <a:pt x="0" y="29002"/>
                </a:lnTo>
                <a:arcTo wR="3600" hR="3600" stAng="10800000" swAng="-5400000"/>
                <a:lnTo>
                  <a:pt x="18000" y="32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559720" y="3376440"/>
            <a:ext cx="540000" cy="814680"/>
          </a:xfrm>
          <a:custGeom>
            <a:avLst/>
            <a:gdLst>
              <a:gd name="textAreaLeft" fmla="*/ 26280 w 540000"/>
              <a:gd name="textAreaRight" fmla="*/ 513720 w 540000"/>
              <a:gd name="textAreaTop" fmla="*/ 26280 h 814680"/>
              <a:gd name="textAreaBottom" fmla="*/ 788400 h 814680"/>
            </a:gdLst>
            <a:ahLst/>
            <a:rect l="textAreaLeft" t="textAreaTop" r="textAreaRight" b="textAreaBottom"/>
            <a:pathLst>
              <a:path w="21600" h="32580">
                <a:moveTo>
                  <a:pt x="3600" y="0"/>
                </a:moveTo>
                <a:arcTo wR="3600" hR="3600" stAng="16200000" swAng="-5400000"/>
                <a:lnTo>
                  <a:pt x="0" y="28980"/>
                </a:lnTo>
                <a:arcTo wR="3600" hR="3600" stAng="10800000" swAng="-5400000"/>
                <a:lnTo>
                  <a:pt x="18000" y="325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70400" y="4191120"/>
            <a:ext cx="0" cy="10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470400" y="5273640"/>
            <a:ext cx="540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874000" y="4191120"/>
            <a:ext cx="0" cy="10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912640" y="5275440"/>
            <a:ext cx="3574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57400" y="46944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                                              2                                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4227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V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733920" y="2133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267080" y="1676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118080" y="6437160"/>
            <a:ext cx="7840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3505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ERCIZIO 3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3324240" y="1531800"/>
            <a:ext cx="380880" cy="37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4761720" y="1554120"/>
            <a:ext cx="358920" cy="339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738600" y="170964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24240" y="2590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828800" y="2124000"/>
            <a:ext cx="4648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38160" y="2133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477120" y="2133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1665360" y="2514600"/>
            <a:ext cx="358560" cy="339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457200" y="2492280"/>
            <a:ext cx="380880" cy="37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38080" y="2666880"/>
            <a:ext cx="79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4300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3520" y="3048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52480" y="3048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3520" y="3048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967680" y="3429000"/>
            <a:ext cx="358920" cy="339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1568520" y="3429000"/>
            <a:ext cx="35856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456480" y="342900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3322800" y="3429000"/>
            <a:ext cx="38088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4037760" y="3429000"/>
            <a:ext cx="38124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890240" y="342900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3541680" y="2384280"/>
            <a:ext cx="380880" cy="37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597560" y="2395440"/>
            <a:ext cx="35856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44880" y="2568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19360" y="3048120"/>
            <a:ext cx="154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065560" y="3048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19360" y="3048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959120" y="3581280"/>
            <a:ext cx="131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59120" y="3657600"/>
            <a:ext cx="131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12880" y="3603600"/>
            <a:ext cx="0" cy="66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437560" y="4267080"/>
            <a:ext cx="381240" cy="37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6286680" y="2351160"/>
            <a:ext cx="38088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7341480" y="2362320"/>
            <a:ext cx="358920" cy="33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05720" y="2514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7033680" y="2514600"/>
            <a:ext cx="1800" cy="94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6087240" y="3463920"/>
            <a:ext cx="38124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7620120" y="3505320"/>
            <a:ext cx="38880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6857280" y="346392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84880" y="3083040"/>
            <a:ext cx="154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31080" y="308304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284880" y="308304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257800" y="3657600"/>
            <a:ext cx="80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254560" y="3581280"/>
            <a:ext cx="801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686560" y="3613320"/>
            <a:ext cx="0" cy="66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5497560" y="4278240"/>
            <a:ext cx="35856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8674920" y="353844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039160" y="3691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305920" y="3733920"/>
            <a:ext cx="0" cy="51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8116200" y="424656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4080" y="141768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>
                <a:solidFill>
                  <a:srgbClr val="fffc11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124080" y="1752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                           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-360" y="2484360"/>
            <a:ext cx="6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en-US" sz="2000" spc="-1" strike="noStrike">
                <a:solidFill>
                  <a:srgbClr val="fffc11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-360" y="347508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en-US" sz="2000" spc="-1" strike="noStrike">
                <a:solidFill>
                  <a:srgbClr val="fffc11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62120" y="26668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               2                      3             4                       5              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5680" y="38098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     2       3                        4          5         6               7          8         9         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57400" y="45799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                                        2                                    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362320" y="4114800"/>
            <a:ext cx="3657600" cy="1818000"/>
            <a:chOff x="2362320" y="4114800"/>
            <a:chExt cx="3657600" cy="1818000"/>
          </a:xfrm>
        </p:grpSpPr>
        <p:sp>
          <p:nvSpPr>
            <p:cNvPr id="512" name=""/>
            <p:cNvSpPr/>
            <p:nvPr/>
          </p:nvSpPr>
          <p:spPr>
            <a:xfrm>
              <a:off x="2590920" y="49528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2362320" y="4114800"/>
              <a:ext cx="3657600" cy="1818000"/>
              <a:chOff x="2362320" y="4114800"/>
              <a:chExt cx="3657600" cy="1818000"/>
            </a:xfrm>
          </p:grpSpPr>
          <p:sp>
            <p:nvSpPr>
              <p:cNvPr id="514" name=""/>
              <p:cNvSpPr/>
              <p:nvPr/>
            </p:nvSpPr>
            <p:spPr>
              <a:xfrm>
                <a:off x="5715000" y="495288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362320" y="4114800"/>
                <a:ext cx="609480" cy="838080"/>
              </a:xfrm>
              <a:custGeom>
                <a:avLst/>
                <a:gdLst>
                  <a:gd name="textAreaLeft" fmla="*/ 29520 w 609480"/>
                  <a:gd name="textAreaRight" fmla="*/ 579960 w 609480"/>
                  <a:gd name="textAreaTop" fmla="*/ 29520 h 838080"/>
                  <a:gd name="textAreaBottom" fmla="*/ 808560 h 838080"/>
                </a:gdLst>
                <a:ahLst/>
                <a:rect l="textAreaLeft" t="textAreaTop" r="textAreaRight" b="textAreaBottom"/>
                <a:pathLst>
                  <a:path w="21600" h="29697">
                    <a:moveTo>
                      <a:pt x="3600" y="0"/>
                    </a:moveTo>
                    <a:arcTo wR="3600" hR="3600" stAng="16200000" swAng="-5400000"/>
                    <a:lnTo>
                      <a:pt x="0" y="26097"/>
                    </a:lnTo>
                    <a:arcTo wR="3600" hR="3600" stAng="10800000" swAng="-5400000"/>
                    <a:lnTo>
                      <a:pt x="18000" y="2969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410080" y="4114800"/>
                <a:ext cx="609840" cy="838080"/>
              </a:xfrm>
              <a:custGeom>
                <a:avLst/>
                <a:gdLst>
                  <a:gd name="textAreaLeft" fmla="*/ 29520 w 609840"/>
                  <a:gd name="textAreaRight" fmla="*/ 580320 w 609840"/>
                  <a:gd name="textAreaTop" fmla="*/ 29520 h 838080"/>
                  <a:gd name="textAreaBottom" fmla="*/ 808560 h 838080"/>
                </a:gdLst>
                <a:ahLst/>
                <a:rect l="textAreaLeft" t="textAreaTop" r="textAreaRight" b="textAreaBottom"/>
                <a:pathLst>
                  <a:path w="21600" h="29679">
                    <a:moveTo>
                      <a:pt x="3600" y="0"/>
                    </a:moveTo>
                    <a:arcTo wR="3600" hR="3600" stAng="16200000" swAng="-5400000"/>
                    <a:lnTo>
                      <a:pt x="0" y="26079"/>
                    </a:lnTo>
                    <a:arcTo wR="3600" hR="3600" stAng="10800000" swAng="-5400000"/>
                    <a:lnTo>
                      <a:pt x="18000" y="2967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590920" y="5334120"/>
                <a:ext cx="312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04320" y="5351400"/>
                <a:ext cx="357480" cy="58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b07"/>
                    </a:solidFill>
                    <a:latin typeface="Comic Sans MS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9" name=""/>
          <p:cNvSpPr/>
          <p:nvPr/>
        </p:nvSpPr>
        <p:spPr>
          <a:xfrm>
            <a:off x="720" y="42512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33920" y="2133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91120" y="17524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76320" y="2870280"/>
            <a:ext cx="8986320" cy="3791520"/>
            <a:chOff x="76320" y="2870280"/>
            <a:chExt cx="8986320" cy="3791520"/>
          </a:xfrm>
        </p:grpSpPr>
        <p:sp>
          <p:nvSpPr>
            <p:cNvPr id="523" name=""/>
            <p:cNvSpPr/>
            <p:nvPr/>
          </p:nvSpPr>
          <p:spPr>
            <a:xfrm>
              <a:off x="76320" y="49528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(III3, Rr)=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71360" y="5305320"/>
              <a:ext cx="357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(IV1, Rr)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r>
                <a:rPr b="0" lang="en-US" sz="1400" spc="-1" strike="noStrike">
                  <a:solidFill>
                    <a:srgbClr val="fffc11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/2*1/2 + 1/2*2/3 = </a:t>
              </a:r>
              <a:r>
                <a:rPr b="0" lang="en-US" sz="1600" spc="-1" strike="noStrike">
                  <a:solidFill>
                    <a:srgbClr val="ff0b07"/>
                  </a:solidFill>
                  <a:latin typeface="Comic Sans MS"/>
                </a:rPr>
                <a:t>7/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30520" y="3090960"/>
              <a:ext cx="68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Rr 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93440" y="2870280"/>
              <a:ext cx="91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6dc0d"/>
                  </a:solidFill>
                  <a:latin typeface="Comic Sans MS"/>
                </a:rPr>
                <a:t>RR (1/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710ff"/>
                  </a:solidFill>
                  <a:latin typeface="Comic Sans MS"/>
                </a:rPr>
                <a:t>Rr (1/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35440" y="4186080"/>
              <a:ext cx="1636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Rr</a:t>
              </a:r>
              <a:r>
                <a:rPr b="0" lang="en-US" sz="1600" spc="-1" strike="noStrike">
                  <a:solidFill>
                    <a:srgbClr val="fffc11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1*</a:t>
              </a:r>
              <a:r>
                <a:rPr b="0" lang="en-US" sz="1600" spc="-1" strike="noStrike">
                  <a:solidFill>
                    <a:srgbClr val="06dc0d"/>
                  </a:solidFill>
                  <a:latin typeface="Comic Sans MS"/>
                </a:rPr>
                <a:t>1/2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*</a:t>
              </a:r>
              <a:r>
                <a:rPr b="0" lang="en-US" sz="1600" spc="-1" strike="noStrike">
                  <a:solidFill>
                    <a:srgbClr val="ff0b07"/>
                  </a:solidFill>
                  <a:latin typeface="Comic Sans MS"/>
                </a:rPr>
                <a:t>1/2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c11"/>
                  </a:solidFill>
                  <a:latin typeface="Comic Sans MS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*</a:t>
              </a:r>
              <a:r>
                <a:rPr b="0" lang="en-US" sz="1600" spc="-1" strike="noStrike">
                  <a:solidFill>
                    <a:srgbClr val="0710ff"/>
                  </a:solidFill>
                  <a:latin typeface="Comic Sans MS"/>
                </a:rPr>
                <a:t>1/2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*</a:t>
              </a:r>
              <a:r>
                <a:rPr b="0" lang="en-US" sz="1600" spc="-1" strike="noStrike">
                  <a:solidFill>
                    <a:srgbClr val="ff0b07"/>
                  </a:solidFill>
                  <a:latin typeface="Comic Sans MS"/>
                </a:rPr>
                <a:t>2/3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91120" y="31240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6dc0d"/>
                  </a:solidFill>
                  <a:latin typeface="Comic Sans MS"/>
                </a:rPr>
                <a:t>RR (1/2)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600" spc="-1" strike="noStrike">
                  <a:solidFill>
                    <a:srgbClr val="0710ff"/>
                  </a:solidFill>
                  <a:latin typeface="Comic Sans MS"/>
                </a:rPr>
                <a:t>Rr (1/2</a:t>
              </a:r>
              <a:r>
                <a:rPr b="0" lang="en-US" sz="1600" spc="-1" strike="noStrike">
                  <a:solidFill>
                    <a:srgbClr val="0af7ff"/>
                  </a:solidFill>
                  <a:latin typeface="Comic Sans MS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43600" y="312408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6dc0d"/>
                  </a:solidFill>
                  <a:latin typeface="Comic Sans MS"/>
                </a:rPr>
                <a:t>RR (1/2)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/ </a:t>
              </a:r>
              <a:r>
                <a:rPr b="0" lang="en-US" sz="1600" spc="-1" strike="noStrike">
                  <a:solidFill>
                    <a:srgbClr val="0710ff"/>
                  </a:solidFill>
                  <a:latin typeface="Comic Sans MS"/>
                </a:rPr>
                <a:t>Rr (1/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14880" y="4186080"/>
              <a:ext cx="1986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Rr (</a:t>
              </a:r>
              <a:r>
                <a:rPr b="0" lang="en-US" sz="1600" spc="-1" strike="noStrike">
                  <a:solidFill>
                    <a:srgbClr val="06dc0d"/>
                  </a:solidFill>
                  <a:latin typeface="Comic Sans MS"/>
                </a:rPr>
                <a:t>1/2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*</a:t>
              </a:r>
              <a:r>
                <a:rPr b="0" lang="en-US" sz="1600" spc="-1" strike="noStrike">
                  <a:solidFill>
                    <a:srgbClr val="0710ff"/>
                  </a:solidFill>
                  <a:latin typeface="Comic Sans MS"/>
                </a:rPr>
                <a:t>1/2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*</a:t>
              </a:r>
              <a:r>
                <a:rPr b="0" lang="en-US" sz="1600" spc="-1" strike="noStrike">
                  <a:solidFill>
                    <a:srgbClr val="ff0b07"/>
                  </a:solidFill>
                  <a:latin typeface="Comic Sans MS"/>
                </a:rPr>
                <a:t>1/2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c11"/>
                  </a:solidFill>
                  <a:latin typeface="Comic Sans MS"/>
                </a:rPr>
                <a:t>     </a:t>
              </a:r>
              <a:r>
                <a:rPr b="0" lang="en-US" sz="1600" spc="-1" strike="noStrike">
                  <a:solidFill>
                    <a:srgbClr val="0710ff"/>
                  </a:solidFill>
                  <a:latin typeface="Comic Sans MS"/>
                </a:rPr>
                <a:t>1/2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*</a:t>
              </a:r>
              <a:r>
                <a:rPr b="0" lang="en-US" sz="1600" spc="-1" strike="noStrike">
                  <a:solidFill>
                    <a:srgbClr val="06dc0d"/>
                  </a:solidFill>
                  <a:latin typeface="Comic Sans MS"/>
                </a:rPr>
                <a:t>1/2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*</a:t>
              </a:r>
              <a:r>
                <a:rPr b="0" lang="en-US" sz="1600" spc="-1" strike="noStrike">
                  <a:solidFill>
                    <a:srgbClr val="ff0b07"/>
                  </a:solidFill>
                  <a:latin typeface="Comic Sans MS"/>
                </a:rPr>
                <a:t>1/2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c11"/>
                  </a:solidFill>
                  <a:latin typeface="Comic Sans MS"/>
                </a:rPr>
                <a:t>     </a:t>
              </a:r>
              <a:r>
                <a:rPr b="0" lang="en-US" sz="1600" spc="-1" strike="noStrike">
                  <a:solidFill>
                    <a:srgbClr val="0710ff"/>
                  </a:solidFill>
                  <a:latin typeface="Comic Sans MS"/>
                </a:rPr>
                <a:t>1/2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*</a:t>
              </a:r>
              <a:r>
                <a:rPr b="0" lang="en-US" sz="1600" spc="-1" strike="noStrike">
                  <a:solidFill>
                    <a:srgbClr val="0710ff"/>
                  </a:solidFill>
                  <a:latin typeface="Comic Sans MS"/>
                </a:rPr>
                <a:t>1/2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*</a:t>
              </a:r>
              <a:r>
                <a:rPr b="0" lang="en-US" sz="1600" spc="-1" strike="noStrike">
                  <a:solidFill>
                    <a:srgbClr val="ff0b07"/>
                  </a:solidFill>
                  <a:latin typeface="Comic Sans MS"/>
                </a:rPr>
                <a:t>2/3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3400" y="5791320"/>
              <a:ext cx="329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(III6) = P(III7) =</a:t>
              </a:r>
              <a:r>
                <a:rPr b="0" lang="en-US" sz="1600" spc="-1" strike="noStrike">
                  <a:solidFill>
                    <a:srgbClr val="fffc11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6dc0d"/>
                  </a:solidFill>
                  <a:latin typeface="Comic Sans MS"/>
                </a:rPr>
                <a:t>RR (1/2),</a:t>
              </a:r>
              <a:r>
                <a:rPr b="0" lang="en-US" sz="1600" spc="-1" strike="noStrike">
                  <a:solidFill>
                    <a:srgbClr val="fffc11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710ff"/>
                  </a:solidFill>
                  <a:latin typeface="Comic Sans MS"/>
                </a:rPr>
                <a:t>Rr (1/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09680" y="6324480"/>
              <a:ext cx="609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(IV2, Rr) =</a:t>
              </a:r>
              <a:r>
                <a:rPr b="0" lang="en-US" sz="1600" spc="-1" strike="noStrike">
                  <a:solidFill>
                    <a:srgbClr val="fffc11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/2*1/2*1/2 + 1/2*1/2*1/2+ 1/2*1/2*2/3)</a:t>
              </a:r>
              <a:r>
                <a:rPr b="0" lang="en-US" sz="1600" spc="-1" strike="noStrike">
                  <a:solidFill>
                    <a:srgbClr val="fffc11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= 5/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83480" y="5653080"/>
              <a:ext cx="407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b07"/>
                  </a:solidFill>
                  <a:latin typeface="Comic Sans MS"/>
                </a:rPr>
                <a:t>P complessiva = 7/12*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5/12</a:t>
              </a:r>
              <a:r>
                <a:rPr b="0" lang="en-US" sz="1600" spc="-1" strike="noStrike">
                  <a:solidFill>
                    <a:srgbClr val="ff0b07"/>
                  </a:solidFill>
                  <a:latin typeface="Comic Sans MS"/>
                </a:rPr>
                <a:t>*</a:t>
              </a:r>
              <a:r>
                <a:rPr b="0" lang="en-US" sz="1600" spc="-1" strike="noStrike">
                  <a:solidFill>
                    <a:srgbClr val="07ffff"/>
                  </a:solidFill>
                  <a:latin typeface="Comic Sans MS"/>
                </a:rPr>
                <a:t>1/4</a:t>
              </a:r>
              <a:r>
                <a:rPr b="0" lang="en-US" sz="1600" spc="-1" strike="noStrike">
                  <a:solidFill>
                    <a:srgbClr val="ff0b07"/>
                  </a:solidFill>
                  <a:latin typeface="Comic Sans MS"/>
                </a:rPr>
                <a:t> = </a:t>
              </a:r>
              <a:r>
                <a:rPr b="0" lang="en-US" sz="1800" spc="-1" strike="noStrike">
                  <a:solidFill>
                    <a:srgbClr val="ff0b07"/>
                  </a:solidFill>
                  <a:latin typeface="Comic Sans MS"/>
                </a:rPr>
                <a:t>35/57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8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819160" y="761760"/>
            <a:ext cx="3429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ERCIZIO  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362320" y="4191120"/>
            <a:ext cx="6247800" cy="2286720"/>
            <a:chOff x="2362320" y="4191120"/>
            <a:chExt cx="6247800" cy="2286720"/>
          </a:xfrm>
        </p:grpSpPr>
        <p:sp>
          <p:nvSpPr>
            <p:cNvPr id="541" name=""/>
            <p:cNvSpPr/>
            <p:nvPr/>
          </p:nvSpPr>
          <p:spPr>
            <a:xfrm>
              <a:off x="2362320" y="4191120"/>
              <a:ext cx="567720" cy="739080"/>
            </a:xfrm>
            <a:custGeom>
              <a:avLst/>
              <a:gdLst>
                <a:gd name="textAreaLeft" fmla="*/ 27720 w 567720"/>
                <a:gd name="textAreaRight" fmla="*/ 540000 w 567720"/>
                <a:gd name="textAreaTop" fmla="*/ 27720 h 739080"/>
                <a:gd name="textAreaBottom" fmla="*/ 711360 h 739080"/>
              </a:gdLst>
              <a:ahLst/>
              <a:rect l="textAreaLeft" t="textAreaTop" r="textAreaRight" b="textAreaBottom"/>
              <a:pathLst>
                <a:path w="21600" h="28116">
                  <a:moveTo>
                    <a:pt x="3600" y="0"/>
                  </a:moveTo>
                  <a:arcTo wR="3600" hR="3600" stAng="16200000" swAng="-5400000"/>
                  <a:lnTo>
                    <a:pt x="0" y="24516"/>
                  </a:lnTo>
                  <a:arcTo wR="3600" hR="3600" stAng="10800000" swAng="-5400000"/>
                  <a:lnTo>
                    <a:pt x="18000" y="281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042400" y="4191120"/>
              <a:ext cx="567720" cy="739080"/>
            </a:xfrm>
            <a:custGeom>
              <a:avLst/>
              <a:gdLst>
                <a:gd name="textAreaLeft" fmla="*/ 27720 w 567720"/>
                <a:gd name="textAreaRight" fmla="*/ 540000 w 567720"/>
                <a:gd name="textAreaTop" fmla="*/ 27720 h 739080"/>
                <a:gd name="textAreaBottom" fmla="*/ 711360 h 739080"/>
              </a:gdLst>
              <a:ahLst/>
              <a:rect l="textAreaLeft" t="textAreaTop" r="textAreaRight" b="textAreaBottom"/>
              <a:pathLst>
                <a:path w="21600" h="28116">
                  <a:moveTo>
                    <a:pt x="3600" y="0"/>
                  </a:moveTo>
                  <a:arcTo wR="3600" hR="3600" stAng="16200000" swAng="-5400000"/>
                  <a:lnTo>
                    <a:pt x="0" y="24516"/>
                  </a:lnTo>
                  <a:arcTo wR="3600" hR="3600" stAng="10800000" swAng="-5400000"/>
                  <a:lnTo>
                    <a:pt x="18000" y="281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646000" y="4930200"/>
              <a:ext cx="0" cy="10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646000" y="6005520"/>
              <a:ext cx="568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326440" y="4930200"/>
              <a:ext cx="0" cy="10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211720" y="5896440"/>
              <a:ext cx="35748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51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3324240" y="1531800"/>
            <a:ext cx="380880" cy="37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4761720" y="1554120"/>
            <a:ext cx="358920" cy="339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738600" y="16765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68880" y="2590920"/>
            <a:ext cx="1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828800" y="2124000"/>
            <a:ext cx="4648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38160" y="2133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1665360" y="2514600"/>
            <a:ext cx="358560" cy="339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608760" y="2492280"/>
            <a:ext cx="381240" cy="37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90720" y="2666880"/>
            <a:ext cx="64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18728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3048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752480" y="3048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5800" y="3048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1011960" y="3429000"/>
            <a:ext cx="358920" cy="339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1568520" y="3429000"/>
            <a:ext cx="35856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554760" y="342900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322800" y="3429000"/>
            <a:ext cx="38088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4083840" y="3429000"/>
            <a:ext cx="38124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4890240" y="342900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541680" y="2384280"/>
            <a:ext cx="380880" cy="37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597560" y="2395440"/>
            <a:ext cx="35856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44880" y="2568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519360" y="3048120"/>
            <a:ext cx="154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065560" y="3048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519360" y="3048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59120" y="3581280"/>
            <a:ext cx="131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59120" y="3657600"/>
            <a:ext cx="131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12880" y="3603600"/>
            <a:ext cx="0" cy="66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2437560" y="4267080"/>
            <a:ext cx="381240" cy="37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6286680" y="2351160"/>
            <a:ext cx="38088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7341480" y="2362320"/>
            <a:ext cx="358920" cy="33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705720" y="2514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7033680" y="2514600"/>
            <a:ext cx="1800" cy="94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6087240" y="3463920"/>
            <a:ext cx="38124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620120" y="3505320"/>
            <a:ext cx="388800" cy="372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6857280" y="346392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284880" y="3083040"/>
            <a:ext cx="154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831080" y="308304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84880" y="308304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257800" y="3657600"/>
            <a:ext cx="80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54560" y="3581280"/>
            <a:ext cx="801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686560" y="3613320"/>
            <a:ext cx="0" cy="66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497560" y="4278240"/>
            <a:ext cx="35856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8674920" y="3538440"/>
            <a:ext cx="358920" cy="3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039160" y="3691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318520" y="3733920"/>
            <a:ext cx="0" cy="53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8128800" y="4272120"/>
            <a:ext cx="358920" cy="33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2000" y="1366920"/>
            <a:ext cx="6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24080" y="1752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                  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320" y="2438280"/>
            <a:ext cx="53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I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36800" y="3424320"/>
            <a:ext cx="80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II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" y="266688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             2                        3               4                      5              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4920" y="38098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    2      3                       4         5          6               7          8           9         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560" y="4200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733920" y="2133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191120" y="1676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7120" y="2133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438280" y="45720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                                          2                                    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320" y="1295280"/>
            <a:ext cx="891540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no concetti che si riferiscono alla modalita’ di tras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2362320"/>
            <a:ext cx="891540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no dovuti all’interazione del prodotto dei singoli locus con l’ambiente e il background genetico del singolo individ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4038480"/>
            <a:ext cx="883944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 applicano percio’ alla popolazione n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l’individ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1520" y="5181480"/>
            <a:ext cx="889020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 genetica umana e’ forse l’ultima discipl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e viene applicata ad una popolazione natu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472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minanza e recessivit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05000" y="1219320"/>
            <a:ext cx="5786280" cy="2665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3800" y="3581280"/>
            <a:ext cx="81478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a persona affetta ha almeno un genitore aff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3040" y="4038480"/>
            <a:ext cx="47354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no colpiti entrambi  i se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5640" y="4572000"/>
            <a:ext cx="52246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’ trasmessa da entrambi i se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9800" y="5029200"/>
            <a:ext cx="783612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figlio di un affetto ha il 50% di probabilita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 essere aff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65720" y="5867280"/>
            <a:ext cx="61344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umendo che il genitore affetto sia eterozig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che di solito e’ vero per le forme r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838080"/>
            <a:ext cx="5333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utosomica domina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621240" cy="3281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3360" y="1676520"/>
            <a:ext cx="47109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li individui affetti di soli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no figli di non aff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880" y="2666880"/>
            <a:ext cx="50011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genitori degli affetti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lito sono portatori non aff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960" y="3581280"/>
            <a:ext cx="455724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umentata incidenza d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anguine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880" y="4495680"/>
            <a:ext cx="46562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no colpiti entrambi i se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8440" y="5181480"/>
            <a:ext cx="74862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iascun figlio successivo all’affetto ha il 25%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abilita’ di essere aff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685800"/>
            <a:ext cx="5639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utosomica reces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49680" y="1058760"/>
            <a:ext cx="4505400" cy="3062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6120" y="1832040"/>
            <a:ext cx="47415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ffetti quasi esclus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s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160" y="2666880"/>
            <a:ext cx="40010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genitori di solito s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ni,la madre anche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rtatrice puo’ ess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intom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0320" y="3971880"/>
            <a:ext cx="452052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 stato di portatrice d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dre e’ certo se ha frate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 parenti maschi aff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8440" y="5102280"/>
            <a:ext cx="5814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femmine possono essere affet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4400" y="5559480"/>
            <a:ext cx="71438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 marL="423720" indent="-423720">
              <a:lnSpc>
                <a:spcPct val="7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 il padre e’ affetto e la madre eterozig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7640" y="6016680"/>
            <a:ext cx="816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 marL="423720" indent="-423720">
              <a:lnSpc>
                <a:spcPct val="7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 l’inattivazione del cromosoma X non e’ cas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680" y="6854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essiva x-lin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637000" y="914400"/>
            <a:ext cx="6430680" cy="3419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2438280"/>
            <a:ext cx="203976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ffe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trambi i sess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iu’ spes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fem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80" y="4519440"/>
            <a:ext cx="72777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figli di una donna affetta hanno il 5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 essere affetti,  indipendentemente dal s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1080" y="5586480"/>
            <a:ext cx="843588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 maschio affetto avra’ tutte le figlie affette e tu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figli s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7920" y="68544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minante X-lin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5813640" cy="2817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5800" y="4495680"/>
            <a:ext cx="37692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pisce solo i mas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181480"/>
            <a:ext cx="66294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maschi affetti hanno il padre aff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000" y="5791320"/>
            <a:ext cx="8001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utti i figli maschi di un uomo affetto sono aff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52680" y="68544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 - lin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13240" y="5029200"/>
            <a:ext cx="712188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vata frequenza dell’allele recess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65360" y="1752480"/>
            <a:ext cx="5116320" cy="3121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603600" y="2600280"/>
            <a:ext cx="21178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OO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AO</a:t>
            </a:r>
            <a:r>
              <a:rPr b="1" lang="en-US" sz="13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87760" y="3376440"/>
            <a:ext cx="826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AO     A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42480" y="3376440"/>
            <a:ext cx="744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OO  A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64160" y="3363840"/>
            <a:ext cx="4032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A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06120" y="3376440"/>
            <a:ext cx="744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OO  A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12760" y="4116240"/>
            <a:ext cx="31280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AO    AA     AO   OO           AO    OO   O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1160" y="685800"/>
            <a:ext cx="889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plicazioni dei principali modelli di ereditariet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361120" cy="3541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14240" y="8377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uova mu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08:11:33Z</dcterms:created>
  <dc:creator>Palumbo</dc:creator>
  <dc:description/>
  <dc:language>en-US</dc:language>
  <cp:lastModifiedBy>M.Rocchi</cp:lastModifiedBy>
  <dcterms:modified xsi:type="dcterms:W3CDTF">2003-02-02T06:17:30Z</dcterms:modified>
  <cp:revision>121</cp:revision>
  <dc:subject/>
  <dc:title>PowerPoint Presentation</dc:title>
</cp:coreProperties>
</file>