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pct" ContentType="image/x-pict"/>
  <Override PartName="/ppt/media/image7.png" ContentType="image/png"/>
  <Override PartName="/ppt/media/image8.pct" ContentType="image/x-pict"/>
  <Override PartName="/ppt/media/image10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834-9831-4CC1-BB3C-1FFDF4E3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09-C1E1-416F-A640-C950B9D1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22D-C484-4989-93E6-3902E41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664-FEB8-4C86-AA70-55C53EF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B16-09DD-49C3-A64D-5E43F5C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939-80DF-40F8-AF0B-E3AA972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4A7-D144-4DEB-B51E-7D02A08E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3C6-69DC-46A4-A1D9-E602955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EE5-98D5-4239-8396-D9239BDD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2E8-B778-4321-87FB-58AA6AF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306-7DF7-4CAF-A9C5-6F529EA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D86-0375-4C60-8F31-EEE9B9C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7F0-4D5A-4E22-80D2-8DA8D46476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image" Target="../media/image10.pct"/><Relationship Id="rId7" Type="http://schemas.openxmlformats.org/officeDocument/2006/relationships/image" Target="../media/image10.pct"/><Relationship Id="rId8" Type="http://schemas.openxmlformats.org/officeDocument/2006/relationships/image" Target="../media/image10.pct"/><Relationship Id="rId9" Type="http://schemas.openxmlformats.org/officeDocument/2006/relationships/image" Target="../media/image10.pct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</a:t>
            </a:r>
            <a:r>
              <a:rPr b="1" i="1" lang="it-IT" sz="2400" spc="-1" strike="noStrike">
                <a:solidFill>
                  <a:srgbClr val="ff021b"/>
                </a:solidFill>
                <a:latin typeface="Comic Sans MS"/>
              </a:rPr>
              <a:t>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9436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810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9200" y="134928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umero di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Sets di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apporto                feno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omosomi  X          autosom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X/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sess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280" y="2109960"/>
            <a:ext cx="7407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femmine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femmine norm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6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 intersesso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aschio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3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maschio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triplo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61722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* Intersessi , metafemmine e metamaschi sono ster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4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nei mammif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71600" y="1712880"/>
            <a:ext cx="7143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9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Genesi del gatto calicò</a:t>
            </a:r>
            <a:br>
              <a:rPr sz="2800"/>
            </a:br>
            <a:r>
              <a:rPr b="1" lang="it-IT" sz="2800" spc="-1" strike="noStrike">
                <a:solidFill>
                  <a:srgbClr val="0710ff"/>
                </a:solidFill>
                <a:latin typeface="Comic Sans MS"/>
              </a:rPr>
              <a:t>(mantello a guscio di tartaru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91346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302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5050"/>
                </a:solidFill>
                <a:latin typeface="Comic Sans MS"/>
              </a:rPr>
              <a:t>X-linked glucosio-6-fosfatdeidrogen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6000480" cy="469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2040" y="3809880"/>
            <a:ext cx="18057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G6P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31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P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962520"/>
            <a:ext cx="208296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3600" spc="-1" strike="noStrike">
                <a:solidFill>
                  <a:srgbClr val="ff0602"/>
                </a:solidFill>
                <a:latin typeface="Times New Roman"/>
              </a:rPr>
              <a:t>HPRT +/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886120" y="1981080"/>
            <a:ext cx="6257880" cy="487692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32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602"/>
                </a:solidFill>
                <a:latin typeface="Comic Sans MS"/>
              </a:rPr>
              <a:t>E’ l’inattivazione casu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7680" y="137016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gatti calic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e mule il cromosoma X presente nei leucociti è per metà delle dimensioni e caratteristiche di quello dell’asina, per l’altra metà simile a quello del cava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3640" y="42656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lle femmine dei marsupiali l’inattivazione è sempre a carico del cromosoma X pa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32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257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602"/>
                </a:solidFill>
                <a:latin typeface="Comic Sans MS"/>
              </a:rPr>
              <a:t>Ruolo del cromosoma </a:t>
            </a:r>
            <a:r>
              <a:rPr b="0" i="1" lang="it-IT" sz="3200" spc="-1" strike="noStrike">
                <a:solidFill>
                  <a:srgbClr val="ff0602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2440" y="146376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costituzione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descrizione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numero d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cromosomica            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          dell’individuo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710ff"/>
                </a:solidFill>
                <a:latin typeface="Times New Roman"/>
              </a:rPr>
              <a:t>           corpi di B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98560" y="2413080"/>
            <a:ext cx="78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6, X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rmal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6, X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rmal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5, 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sindrome di Turne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7, XX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iplo 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8, XXX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etra 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7, XX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drome di Klinefelte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8, XXX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drome di Klinefelte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8, XXY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drome di Klinefelte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7, XY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Y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26040" y="3886200"/>
            <a:ext cx="325440" cy="411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246560" y="2484360"/>
            <a:ext cx="325440" cy="4111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202280" y="3532320"/>
            <a:ext cx="325440" cy="411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453360" y="3164040"/>
            <a:ext cx="325440" cy="411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6780240" y="425124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4178160" y="284004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6756480" y="461808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8"/>
          <a:stretch/>
        </p:blipFill>
        <p:spPr>
          <a:xfrm>
            <a:off x="6772320" y="494820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9"/>
          <a:stretch/>
        </p:blipFill>
        <p:spPr>
          <a:xfrm>
            <a:off x="5361120" y="5300640"/>
            <a:ext cx="425160" cy="42552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347" name="" descr="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D. melanogaster  rapporto X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518120" y="3429000"/>
            <a:ext cx="844200" cy="761760"/>
            <a:chOff x="1518120" y="3429000"/>
            <a:chExt cx="844200" cy="761760"/>
          </a:xfrm>
        </p:grpSpPr>
        <p:sp>
          <p:nvSpPr>
            <p:cNvPr id="62" name=""/>
            <p:cNvSpPr/>
            <p:nvPr/>
          </p:nvSpPr>
          <p:spPr>
            <a:xfrm>
              <a:off x="1523880" y="342900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996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4480" y="368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4320" y="3657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8840" y="3660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900000">
              <a:off x="1676160" y="36572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900000">
              <a:off x="1750680" y="3659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9900000">
              <a:off x="1550160" y="3634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9900000">
              <a:off x="162540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1560" y="34606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30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90800" y="3467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2320" y="347328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436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177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585520" y="3429000"/>
            <a:ext cx="843480" cy="761760"/>
            <a:chOff x="2585520" y="3429000"/>
            <a:chExt cx="843480" cy="761760"/>
          </a:xfrm>
        </p:grpSpPr>
        <p:sp>
          <p:nvSpPr>
            <p:cNvPr id="79" name=""/>
            <p:cNvSpPr/>
            <p:nvPr/>
          </p:nvSpPr>
          <p:spPr>
            <a:xfrm>
              <a:off x="259092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7664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51160" y="3682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1360" y="3657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25880" y="3660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900000">
              <a:off x="2742480" y="365724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900000">
              <a:off x="2817000" y="36597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900000">
              <a:off x="2617560" y="363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900000">
              <a:off x="269208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38600" y="34606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4012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574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59360" y="34732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2104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8440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114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43400" y="2336760"/>
            <a:ext cx="838080" cy="761760"/>
            <a:chOff x="4343400" y="2336760"/>
            <a:chExt cx="838080" cy="761760"/>
          </a:xfrm>
        </p:grpSpPr>
        <p:sp>
          <p:nvSpPr>
            <p:cNvPr id="97" name=""/>
            <p:cNvSpPr/>
            <p:nvPr/>
          </p:nvSpPr>
          <p:spPr>
            <a:xfrm>
              <a:off x="4343400" y="233676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29120" y="258732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3840" y="25653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8360" y="25682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900000">
              <a:off x="4494960" y="25650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900000">
              <a:off x="4570200" y="256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9900000">
              <a:off x="4444200" y="2545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1080" y="2368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9260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996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7352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37240" y="289548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38000" y="1295280"/>
            <a:ext cx="843480" cy="761760"/>
            <a:chOff x="4338000" y="1295280"/>
            <a:chExt cx="843480" cy="761760"/>
          </a:xfrm>
        </p:grpSpPr>
        <p:sp>
          <p:nvSpPr>
            <p:cNvPr id="111" name=""/>
            <p:cNvSpPr/>
            <p:nvPr/>
          </p:nvSpPr>
          <p:spPr>
            <a:xfrm>
              <a:off x="4343400" y="129528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9120" y="1545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03640" y="1549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1523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1526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900000">
              <a:off x="4494960" y="1523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9900000">
              <a:off x="4569480" y="152604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900000">
              <a:off x="4370040" y="15012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900000">
              <a:off x="4444560" y="15044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13269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260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996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11840" y="133956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7352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3688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18540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396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43400" y="3429000"/>
            <a:ext cx="838080" cy="761760"/>
            <a:chOff x="4343400" y="3429000"/>
            <a:chExt cx="838080" cy="761760"/>
          </a:xfrm>
        </p:grpSpPr>
        <p:sp>
          <p:nvSpPr>
            <p:cNvPr id="129" name=""/>
            <p:cNvSpPr/>
            <p:nvPr/>
          </p:nvSpPr>
          <p:spPr>
            <a:xfrm>
              <a:off x="434340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36925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75120" y="369576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900000">
              <a:off x="4524120" y="3678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900000">
              <a:off x="4598640" y="36820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260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996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37240" y="40003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40003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43400" y="4495680"/>
            <a:ext cx="838080" cy="762120"/>
            <a:chOff x="4343400" y="4495680"/>
            <a:chExt cx="838080" cy="762120"/>
          </a:xfrm>
        </p:grpSpPr>
        <p:sp>
          <p:nvSpPr>
            <p:cNvPr id="139" name=""/>
            <p:cNvSpPr/>
            <p:nvPr/>
          </p:nvSpPr>
          <p:spPr>
            <a:xfrm>
              <a:off x="43434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9900000">
              <a:off x="4598640" y="4736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457200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4495680"/>
            <a:ext cx="838080" cy="762120"/>
            <a:chOff x="2590920" y="4495680"/>
            <a:chExt cx="838080" cy="762120"/>
          </a:xfrm>
        </p:grpSpPr>
        <p:sp>
          <p:nvSpPr>
            <p:cNvPr id="145" name=""/>
            <p:cNvSpPr/>
            <p:nvPr/>
          </p:nvSpPr>
          <p:spPr>
            <a:xfrm>
              <a:off x="259092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7664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51000" y="47242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588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900000">
              <a:off x="2742840" y="4723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900000">
              <a:off x="2817000" y="4726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9900000">
              <a:off x="2692080" y="4704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8600" y="452772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40120" y="453384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5748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8440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812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3880" y="4521240"/>
            <a:ext cx="838440" cy="761760"/>
            <a:chOff x="1523880" y="4521240"/>
            <a:chExt cx="838440" cy="761760"/>
          </a:xfrm>
        </p:grpSpPr>
        <p:sp>
          <p:nvSpPr>
            <p:cNvPr id="158" name=""/>
            <p:cNvSpPr/>
            <p:nvPr/>
          </p:nvSpPr>
          <p:spPr>
            <a:xfrm>
              <a:off x="1523880" y="452124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116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080" y="4727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900000">
              <a:off x="1703160" y="47631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900000">
              <a:off x="1596240" y="4744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464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200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9280" y="50544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" y="4495680"/>
            <a:ext cx="838080" cy="762120"/>
            <a:chOff x="457200" y="4495680"/>
            <a:chExt cx="838080" cy="762120"/>
          </a:xfrm>
        </p:grpSpPr>
        <p:sp>
          <p:nvSpPr>
            <p:cNvPr id="167" name=""/>
            <p:cNvSpPr/>
            <p:nvPr/>
          </p:nvSpPr>
          <p:spPr>
            <a:xfrm>
              <a:off x="4572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292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7640" y="47242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900000">
              <a:off x="608760" y="47235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900000">
              <a:off x="684000" y="4726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9900000">
              <a:off x="558000" y="4704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880" y="45277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40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2376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454880" y="4495680"/>
            <a:ext cx="838080" cy="781200"/>
            <a:chOff x="7454880" y="4495680"/>
            <a:chExt cx="838080" cy="781200"/>
          </a:xfrm>
        </p:grpSpPr>
        <p:sp>
          <p:nvSpPr>
            <p:cNvPr id="179" name=""/>
            <p:cNvSpPr/>
            <p:nvPr/>
          </p:nvSpPr>
          <p:spPr>
            <a:xfrm>
              <a:off x="745488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15120" y="474984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5280" y="476568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900000">
              <a:off x="7530120" y="474660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9900000">
              <a:off x="7605000" y="47494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5304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7040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3396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7680" y="5099040"/>
              <a:ext cx="1692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104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03840" y="4495680"/>
            <a:ext cx="838080" cy="762120"/>
            <a:chOff x="6603840" y="4495680"/>
            <a:chExt cx="838080" cy="762120"/>
          </a:xfrm>
        </p:grpSpPr>
        <p:sp>
          <p:nvSpPr>
            <p:cNvPr id="190" name=""/>
            <p:cNvSpPr/>
            <p:nvPr/>
          </p:nvSpPr>
          <p:spPr>
            <a:xfrm>
              <a:off x="660384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8880" y="471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13600" y="46926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8120" y="46958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900000">
              <a:off x="6805080" y="46918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9900000">
              <a:off x="6879240" y="469548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9900000">
              <a:off x="6754320" y="467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0840" y="44956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2360" y="4502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9720" y="4502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8328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46640" y="5022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1036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08760" y="50292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28600" y="579132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4984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99040" y="6054840"/>
            <a:ext cx="51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                0.50                            1                             1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39000" y="361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m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8160" y="53341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femm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41880" y="533412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880" y="53341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     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48560" y="5334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2000" y="5371920"/>
            <a:ext cx="218520" cy="228960"/>
            <a:chOff x="162000" y="5371920"/>
            <a:chExt cx="218520" cy="228960"/>
          </a:xfrm>
        </p:grpSpPr>
        <p:sp>
          <p:nvSpPr>
            <p:cNvPr id="217" name=""/>
            <p:cNvSpPr/>
            <p:nvPr/>
          </p:nvSpPr>
          <p:spPr>
            <a:xfrm>
              <a:off x="162000" y="5486400"/>
              <a:ext cx="11412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66400" y="537192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591240" y="5372280"/>
            <a:ext cx="190440" cy="285120"/>
            <a:chOff x="6591240" y="5372280"/>
            <a:chExt cx="190440" cy="285120"/>
          </a:xfrm>
        </p:grpSpPr>
        <p:sp>
          <p:nvSpPr>
            <p:cNvPr id="220" name=""/>
            <p:cNvSpPr/>
            <p:nvPr/>
          </p:nvSpPr>
          <p:spPr>
            <a:xfrm>
              <a:off x="6629040" y="5372280"/>
              <a:ext cx="114120" cy="1141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6640" y="54864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91240" y="55720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in </a:t>
            </a:r>
            <a:r>
              <a:rPr b="1" i="1" lang="it-IT" sz="2800" spc="-1" strike="noStrike">
                <a:solidFill>
                  <a:srgbClr val="ff0602"/>
                </a:solidFill>
                <a:latin typeface="Comic Sans MS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131920"/>
            <a:ext cx="8778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la femmina sono attivi entrambi i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 maschio la compensazione del dosaggio avviene aumentando l’espressione genica dell’unico cromosoma X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umento della trascrizione di mRNA porta a raggiungere il livello di espressione tipico di due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21b"/>
                </a:solidFill>
                <a:latin typeface="Comic Sans MS"/>
              </a:rPr>
              <a:t>Ginandromorf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808280"/>
            <a:ext cx="739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dividui  mosaico che presentano strutture maschili e femminili, cioè presentano  simultaneamente un fenotipo maschile e femminile; alcune cellule hanno costituzione cromosomica femminile ed altre maschili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Origine dei ginandromorfi in </a:t>
            </a:r>
            <a:r>
              <a:rPr b="1" i="1" lang="it-IT" sz="2800" spc="-1" strike="noStrike">
                <a:solidFill>
                  <a:srgbClr val="ff1482"/>
                </a:solidFill>
                <a:latin typeface="Comic Sans MS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1523880"/>
            <a:ext cx="358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la prima divisione mitotica è avvenuta la perdita di uno dei due cromosomi X; il quadro del ginandromorfismo del moscerino è già fissato nell’embrione, come conseguenza del piano di divisione dei nuclei nell’embrione st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4695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602"/>
                </a:solidFill>
                <a:latin typeface="Comic Sans MS"/>
              </a:rPr>
              <a:t>Ginandromorfi in Drosoph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5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295280" y="1644480"/>
            <a:ext cx="5702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602"/>
                </a:solidFill>
                <a:latin typeface="Comic Sans MS"/>
              </a:rPr>
              <a:t>Conseguenze del ginandro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362320"/>
            <a:ext cx="794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i="1" lang="it-IT" sz="36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 il fenotipo intermedio è netto, perché il carattere  è cellulare autono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mammif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5640" y="1523880"/>
            <a:ext cx="935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i mammiferi il sesso eterogametico e’ il ma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l’uomo 46XY e’ un individuo di sesso maschile, 46X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’ di sesso femmin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200" y="3657600"/>
            <a:ext cx="91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terminazione del sesso e’ come in 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5400" y="5105520"/>
            <a:ext cx="88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ensazione di dose e’ come in 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31640" y="4287960"/>
            <a:ext cx="64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e e’ il ruolo del cromosoma 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e e’ il ruolo del cromosoma 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0018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X0 : femmine con problemi di fertilita’ e leggere mal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880" y="1916280"/>
            <a:ext cx="48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7XXY: maschi con problemi di ferti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0600" y="14446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7XXX: femmine nor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343240"/>
            <a:ext cx="28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7XYY: maschi nor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6160" y="2743200"/>
            <a:ext cx="65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8XXXX e 49XXXXX: femmine con gravi mal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0760" y="3200400"/>
            <a:ext cx="60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8XXXY, 48XXYY: maschi con gravi mal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320" y="3857760"/>
            <a:ext cx="82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cromosoma Y e’ necessario perche’ si sviluppi il s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chile. 2Y e 1X non alterano il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5400" y="4892760"/>
            <a:ext cx="84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ncanza del cromosoma X non crea grossi proble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8400" y="5457960"/>
            <a:ext cx="76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esenza di 2X e 1Y alterano il fenotipo anch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ev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560" y="11160"/>
            <a:ext cx="8898840" cy="6820200"/>
            <a:chOff x="16560" y="11160"/>
            <a:chExt cx="8898840" cy="6820200"/>
          </a:xfrm>
        </p:grpSpPr>
        <p:pic>
          <p:nvPicPr>
            <p:cNvPr id="2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116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41320" y="1285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120" y="54468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809880" y="8748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560" y="65851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8:11:33Z</dcterms:created>
  <dc:creator>Palumbo</dc:creator>
  <dc:description/>
  <dc:language>en-US</dc:language>
  <cp:lastModifiedBy>M.Rocchi</cp:lastModifiedBy>
  <dcterms:modified xsi:type="dcterms:W3CDTF">2003-01-08T21:38:28Z</dcterms:modified>
  <cp:revision>58</cp:revision>
  <dc:subject/>
  <dc:title>PowerPoint Presentation</dc:title>
</cp:coreProperties>
</file>