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8.jpeg" ContentType="image/jpeg"/>
  <Override PartName="/ppt/media/image1.pct" ContentType="image/x-pict"/>
  <Override PartName="/ppt/media/image12.jpeg" ContentType="image/jpeg"/>
  <Override PartName="/ppt/media/image13.jpeg" ContentType="image/jpeg"/>
  <Override PartName="/ppt/media/image40.jpeg" ContentType="image/jpeg"/>
  <Override PartName="/ppt/media/image41.pct" ContentType="image/x-pict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9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4.jpeg" ContentType="image/jpeg"/>
  <Override PartName="/ppt/media/image42.pct" ContentType="image/x-pict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7AF-D3BC-466C-9F45-A6D5B58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7D3-8561-41E6-ACB6-8FAD93D8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498-01C8-450A-9DB6-4AE33D1B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7CF-93FA-4D0C-A635-4EBFBBE3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B3A-E04D-4D6B-9C76-8E5E5217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79B-B064-4A84-8091-BB0D137E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160-231C-4B0F-B466-FB43AFF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190-196C-4CB7-A834-48662981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CF3-FF29-4E79-B689-D9E00665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762-F4A2-460F-B602-76F36C2B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7E7-3072-4EBA-9076-C611505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1C8E-5F8E-475B-98D1-E7B72BF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9A58-C992-4511-9E62-795B9EB97B2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12.jpe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13.jpe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14.jpe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5.jpeg"/><Relationship Id="rId27" Type="http://schemas.openxmlformats.org/officeDocument/2006/relationships/image" Target="../media/image16.jpeg"/><Relationship Id="rId28" Type="http://schemas.openxmlformats.org/officeDocument/2006/relationships/image" Target="../media/image17.jpeg"/><Relationship Id="rId29" Type="http://schemas.openxmlformats.org/officeDocument/2006/relationships/image" Target="../media/image18.jpeg"/><Relationship Id="rId30" Type="http://schemas.openxmlformats.org/officeDocument/2006/relationships/image" Target="../media/image19.jpe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20.png"/><Relationship Id="rId3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image" Target="../media/image43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4.jpe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5.jpeg"/><Relationship Id="rId17" Type="http://schemas.openxmlformats.org/officeDocument/2006/relationships/image" Target="../media/image47.png"/><Relationship Id="rId18" Type="http://schemas.openxmlformats.org/officeDocument/2006/relationships/image" Target="../media/image48.png"/><Relationship Id="rId19" Type="http://schemas.openxmlformats.org/officeDocument/2006/relationships/image" Target="../media/image47.png"/><Relationship Id="rId20" Type="http://schemas.openxmlformats.org/officeDocument/2006/relationships/image" Target="../media/image47.png"/><Relationship Id="rId21" Type="http://schemas.openxmlformats.org/officeDocument/2006/relationships/image" Target="../media/image47.png"/><Relationship Id="rId22" Type="http://schemas.openxmlformats.org/officeDocument/2006/relationships/image" Target="../media/image48.png"/><Relationship Id="rId23" Type="http://schemas.openxmlformats.org/officeDocument/2006/relationships/image" Target="../media/image49.jpeg"/><Relationship Id="rId24" Type="http://schemas.openxmlformats.org/officeDocument/2006/relationships/image" Target="../media/image48.png"/><Relationship Id="rId25" Type="http://schemas.openxmlformats.org/officeDocument/2006/relationships/image" Target="../media/image48.png"/><Relationship Id="rId2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image" Target="../media/image35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image" Target="../media/image36.jpeg"/><Relationship Id="rId14" Type="http://schemas.openxmlformats.org/officeDocument/2006/relationships/image" Target="../media/image37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6.jpeg"/><Relationship Id="rId24" Type="http://schemas.openxmlformats.org/officeDocument/2006/relationships/image" Target="../media/image37.jpeg"/><Relationship Id="rId2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40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39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40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39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9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c0c"/>
                </a:solidFill>
                <a:latin typeface="Comic Sans MS"/>
              </a:rPr>
              <a:t>mei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8032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18032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8032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180324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352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13160" y="3468600"/>
            <a:ext cx="359280" cy="28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429000"/>
            <a:ext cx="295200" cy="2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3840" y="4331160"/>
            <a:ext cx="2973240" cy="401400"/>
            <a:chOff x="1293840" y="4331160"/>
            <a:chExt cx="2973240" cy="401400"/>
          </a:xfrm>
        </p:grpSpPr>
        <p:sp>
          <p:nvSpPr>
            <p:cNvPr id="52" name=""/>
            <p:cNvSpPr/>
            <p:nvPr/>
          </p:nvSpPr>
          <p:spPr>
            <a:xfrm>
              <a:off x="1676520" y="4343400"/>
              <a:ext cx="2590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293840" y="4331160"/>
              <a:ext cx="401040" cy="401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44792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24480" y="4192920"/>
            <a:ext cx="2362320" cy="228960"/>
            <a:chOff x="6324480" y="4192920"/>
            <a:chExt cx="2362320" cy="228960"/>
          </a:xfrm>
        </p:grpSpPr>
        <p:sp>
          <p:nvSpPr>
            <p:cNvPr id="56" name=""/>
            <p:cNvSpPr/>
            <p:nvPr/>
          </p:nvSpPr>
          <p:spPr>
            <a:xfrm>
              <a:off x="6324480" y="4413960"/>
              <a:ext cx="2362320" cy="79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93920" y="4192920"/>
              <a:ext cx="66240" cy="188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629400" y="5181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134080" y="5445360"/>
            <a:ext cx="6573240" cy="405360"/>
            <a:chOff x="2134080" y="5445360"/>
            <a:chExt cx="6573240" cy="405360"/>
          </a:xfrm>
        </p:grpSpPr>
        <p:sp>
          <p:nvSpPr>
            <p:cNvPr id="60" name=""/>
            <p:cNvSpPr/>
            <p:nvPr/>
          </p:nvSpPr>
          <p:spPr>
            <a:xfrm flipH="1">
              <a:off x="2134080" y="5445360"/>
              <a:ext cx="249840" cy="38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64040" y="5534640"/>
              <a:ext cx="33624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399080" y="5509440"/>
              <a:ext cx="16848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40920" y="5559120"/>
              <a:ext cx="266400" cy="2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2280" y="895320"/>
            <a:ext cx="1143000" cy="1441440"/>
            <a:chOff x="152280" y="895320"/>
            <a:chExt cx="1143000" cy="1441440"/>
          </a:xfrm>
        </p:grpSpPr>
        <p:grpSp>
          <p:nvGrpSpPr>
            <p:cNvPr id="65" name=""/>
            <p:cNvGrpSpPr/>
            <p:nvPr/>
          </p:nvGrpSpPr>
          <p:grpSpPr>
            <a:xfrm>
              <a:off x="152280" y="1498320"/>
              <a:ext cx="1143000" cy="838440"/>
              <a:chOff x="152280" y="1498320"/>
              <a:chExt cx="1143000" cy="83844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380520" y="1574640"/>
                <a:ext cx="67140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330120" y="1523880"/>
                <a:ext cx="762120" cy="7621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2280" y="1498320"/>
                <a:ext cx="1143000" cy="8384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35080" y="89532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76520" y="895320"/>
            <a:ext cx="1371600" cy="1498320"/>
            <a:chOff x="1676520" y="895320"/>
            <a:chExt cx="1371600" cy="1498320"/>
          </a:xfrm>
        </p:grpSpPr>
        <p:grpSp>
          <p:nvGrpSpPr>
            <p:cNvPr id="71" name=""/>
            <p:cNvGrpSpPr/>
            <p:nvPr/>
          </p:nvGrpSpPr>
          <p:grpSpPr>
            <a:xfrm>
              <a:off x="1676520" y="1330200"/>
              <a:ext cx="1371600" cy="1063440"/>
              <a:chOff x="1676520" y="1330200"/>
              <a:chExt cx="1371600" cy="106344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1828800" y="134604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1854360" y="1371600"/>
                <a:ext cx="914400" cy="9144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6520" y="1330200"/>
                <a:ext cx="1371600" cy="10065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747800" y="8953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ept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05320" y="895320"/>
            <a:ext cx="1422360" cy="1441080"/>
            <a:chOff x="3505320" y="895320"/>
            <a:chExt cx="1422360" cy="1441080"/>
          </a:xfrm>
        </p:grpSpPr>
        <p:grpSp>
          <p:nvGrpSpPr>
            <p:cNvPr id="77" name=""/>
            <p:cNvGrpSpPr/>
            <p:nvPr/>
          </p:nvGrpSpPr>
          <p:grpSpPr>
            <a:xfrm>
              <a:off x="3505320" y="1269720"/>
              <a:ext cx="1422360" cy="1066680"/>
              <a:chOff x="3505320" y="1269720"/>
              <a:chExt cx="1422360" cy="1066680"/>
            </a:xfrm>
          </p:grpSpPr>
          <p:pic>
            <p:nvPicPr>
              <p:cNvPr id="78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708360" y="126972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683160" y="1371240"/>
                <a:ext cx="949320" cy="9144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505320" y="1331640"/>
                <a:ext cx="1422360" cy="10047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574800" y="8953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zig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4120" y="895320"/>
            <a:ext cx="1676160" cy="1568160"/>
            <a:chOff x="5334120" y="895320"/>
            <a:chExt cx="1676160" cy="1568160"/>
          </a:xfrm>
        </p:grpSpPr>
        <p:grpSp>
          <p:nvGrpSpPr>
            <p:cNvPr id="83" name=""/>
            <p:cNvGrpSpPr/>
            <p:nvPr/>
          </p:nvGrpSpPr>
          <p:grpSpPr>
            <a:xfrm>
              <a:off x="5334120" y="1234800"/>
              <a:ext cx="1676160" cy="1228680"/>
              <a:chOff x="5334120" y="1234800"/>
              <a:chExt cx="1676160" cy="1228680"/>
            </a:xfrm>
          </p:grpSpPr>
          <p:pic>
            <p:nvPicPr>
              <p:cNvPr id="8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5562360" y="134604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5562720" y="1269720"/>
                <a:ext cx="1193760" cy="1193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4120" y="1234800"/>
                <a:ext cx="1676160" cy="12286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704560" y="89532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chi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429680" y="895320"/>
            <a:ext cx="1676160" cy="1593720"/>
            <a:chOff x="7429680" y="895320"/>
            <a:chExt cx="1676160" cy="1593720"/>
          </a:xfrm>
        </p:grpSpPr>
        <p:grpSp>
          <p:nvGrpSpPr>
            <p:cNvPr id="89" name=""/>
            <p:cNvGrpSpPr/>
            <p:nvPr/>
          </p:nvGrpSpPr>
          <p:grpSpPr>
            <a:xfrm>
              <a:off x="7429680" y="1260360"/>
              <a:ext cx="1676160" cy="1228680"/>
              <a:chOff x="7429680" y="1260360"/>
              <a:chExt cx="1676160" cy="1228680"/>
            </a:xfrm>
          </p:grpSpPr>
          <p:pic>
            <p:nvPicPr>
              <p:cNvPr id="9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7658280" y="1422360"/>
                <a:ext cx="100008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607520" y="1320480"/>
                <a:ext cx="1117440" cy="1117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29680" y="1260360"/>
                <a:ext cx="1676160" cy="12286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7758000" y="89532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pl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83480" y="2362320"/>
            <a:ext cx="1683360" cy="1791360"/>
            <a:chOff x="2283480" y="2362320"/>
            <a:chExt cx="1683360" cy="1791360"/>
          </a:xfrm>
        </p:grpSpPr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 flipH="1" rot="16272000">
              <a:off x="2507400" y="3098520"/>
              <a:ext cx="135720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flipH="1" flipV="1">
              <a:off x="2505600" y="3454920"/>
              <a:ext cx="525240" cy="392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510640" y="3082680"/>
              <a:ext cx="460440" cy="368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36120" y="3480840"/>
              <a:ext cx="465120" cy="371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1960" y="3092400"/>
              <a:ext cx="449280" cy="39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71400">
              <a:off x="2354040" y="33267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71400">
              <a:off x="3647880" y="340452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12600">
              <a:off x="2401200" y="2587680"/>
              <a:ext cx="1447560" cy="167796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677960"/>
                <a:gd name="textAreaBottom" fmla="*/ 1607400 h 1677960"/>
              </a:gdLst>
              <a:ahLst/>
              <a:rect l="textAreaLeft" t="textAreaTop" r="textAreaRight" b="textAreaBottom"/>
              <a:pathLst>
                <a:path w="21600" h="25037">
                  <a:moveTo>
                    <a:pt x="3600" y="0"/>
                  </a:moveTo>
                  <a:arcTo wR="3600" hR="3600" stAng="16200000" swAng="-5400000"/>
                  <a:lnTo>
                    <a:pt x="0" y="21437"/>
                  </a:lnTo>
                  <a:arcTo wR="3600" hR="3600" stAng="10800000" swAng="-5400000"/>
                  <a:lnTo>
                    <a:pt x="18000" y="250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16840" y="2362320"/>
              <a:ext cx="118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36160" y="2444760"/>
            <a:ext cx="2215440" cy="1752120"/>
            <a:chOff x="5636160" y="2444760"/>
            <a:chExt cx="2215440" cy="1752120"/>
          </a:xfrm>
        </p:grpSpPr>
        <p:grpSp>
          <p:nvGrpSpPr>
            <p:cNvPr id="105" name=""/>
            <p:cNvGrpSpPr/>
            <p:nvPr/>
          </p:nvGrpSpPr>
          <p:grpSpPr>
            <a:xfrm>
              <a:off x="5718240" y="2743200"/>
              <a:ext cx="2057400" cy="1298520"/>
              <a:chOff x="5718240" y="2743200"/>
              <a:chExt cx="2057400" cy="1298520"/>
            </a:xfrm>
          </p:grpSpPr>
          <p:pic>
            <p:nvPicPr>
              <p:cNvPr id="106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6112440" y="2805840"/>
                <a:ext cx="12985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flipH="1" flipV="1">
                <a:off x="5870520" y="3431880"/>
                <a:ext cx="53352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870520" y="305064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7242120" y="3431880"/>
                <a:ext cx="4572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2120" y="305100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5718240" y="3304800"/>
                <a:ext cx="228600" cy="228600"/>
              </a:xfrm>
              <a:custGeom>
                <a:avLst/>
                <a:gdLst>
                  <a:gd name="textAreaLeft" fmla="*/ 52200 w 228600"/>
                  <a:gd name="textAreaRight" fmla="*/ 176400 w 228600"/>
                  <a:gd name="textAreaTop" fmla="*/ 52200 h 228600"/>
                  <a:gd name="textAreaBottom" fmla="*/ 1764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6200000">
                <a:off x="7547040" y="3355560"/>
                <a:ext cx="228600" cy="228600"/>
              </a:xfrm>
              <a:custGeom>
                <a:avLst/>
                <a:gdLst>
                  <a:gd name="textAreaLeft" fmla="*/ 52200 w 228600"/>
                  <a:gd name="textAreaRight" fmla="*/ 176400 w 228600"/>
                  <a:gd name="textAreaTop" fmla="*/ 52200 h 228600"/>
                  <a:gd name="textAreaBottom" fmla="*/ 1764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rot="16212600">
              <a:off x="6019560" y="2363400"/>
              <a:ext cx="1447920" cy="221004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210040"/>
                <a:gd name="textAreaBottom" fmla="*/ 2139480 h 2210040"/>
              </a:gdLst>
              <a:ahLst/>
              <a:rect l="textAreaLeft" t="textAreaTop" r="textAreaRight" b="textAreaBottom"/>
              <a:pathLst>
                <a:path w="21600" h="32966">
                  <a:moveTo>
                    <a:pt x="3600" y="0"/>
                  </a:moveTo>
                  <a:arcTo wR="3600" hR="3600" stAng="16200000" swAng="-5400000"/>
                  <a:lnTo>
                    <a:pt x="0" y="29366"/>
                  </a:lnTo>
                  <a:arcTo wR="3600" hR="3600" stAng="10800000" swAng="-5400000"/>
                  <a:lnTo>
                    <a:pt x="18000" y="32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4240" y="244476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58720" y="3517920"/>
            <a:ext cx="1113480" cy="1288080"/>
            <a:chOff x="4158720" y="3517920"/>
            <a:chExt cx="1113480" cy="1288080"/>
          </a:xfrm>
        </p:grpSpPr>
        <p:pic>
          <p:nvPicPr>
            <p:cNvPr id="116" name="" descr=""/>
            <p:cNvPicPr/>
            <p:nvPr/>
          </p:nvPicPr>
          <p:blipFill>
            <a:blip r:embed="rId12"/>
            <a:stretch/>
          </p:blipFill>
          <p:spPr>
            <a:xfrm>
              <a:off x="4343400" y="3886200"/>
              <a:ext cx="800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21551400">
              <a:off x="4381560" y="3809520"/>
              <a:ext cx="762120" cy="99072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990720"/>
                <a:gd name="textAreaBottom" fmla="*/ 953640 h 990720"/>
              </a:gdLst>
              <a:ahLst/>
              <a:rect l="textAreaLeft" t="textAreaTop" r="textAreaRight" b="textAreaBottom"/>
              <a:pathLst>
                <a:path w="21600" h="28076">
                  <a:moveTo>
                    <a:pt x="3600" y="0"/>
                  </a:moveTo>
                  <a:arcTo wR="3600" hR="3600" stAng="16200000" swAng="-5400000"/>
                  <a:lnTo>
                    <a:pt x="0" y="24476"/>
                  </a:lnTo>
                  <a:arcTo wR="3600" hR="3600" stAng="10800000" swAng="-5400000"/>
                  <a:lnTo>
                    <a:pt x="18000" y="280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58720" y="3517920"/>
              <a:ext cx="111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elofase 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899480" y="2857680"/>
            <a:ext cx="1143000" cy="1338840"/>
            <a:chOff x="7899480" y="2857680"/>
            <a:chExt cx="1143000" cy="1338840"/>
          </a:xfrm>
        </p:grpSpPr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8153280" y="3276720"/>
              <a:ext cx="800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1551400">
              <a:off x="8191440" y="3200040"/>
              <a:ext cx="762120" cy="99072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990720"/>
                <a:gd name="textAreaBottom" fmla="*/ 953640 h 990720"/>
              </a:gdLst>
              <a:ahLst/>
              <a:rect l="textAreaLeft" t="textAreaTop" r="textAreaRight" b="textAreaBottom"/>
              <a:pathLst>
                <a:path w="21600" h="28076">
                  <a:moveTo>
                    <a:pt x="3600" y="0"/>
                  </a:moveTo>
                  <a:arcTo wR="3600" hR="3600" stAng="16200000" swAng="-5400000"/>
                  <a:lnTo>
                    <a:pt x="0" y="24476"/>
                  </a:lnTo>
                  <a:arcTo wR="3600" hR="3600" stAng="10800000" swAng="-5400000"/>
                  <a:lnTo>
                    <a:pt x="18000" y="280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99480" y="28576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elofase 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9440" y="4229280"/>
            <a:ext cx="1258200" cy="1923120"/>
            <a:chOff x="199440" y="4229280"/>
            <a:chExt cx="1258200" cy="1923120"/>
          </a:xfrm>
        </p:grpSpPr>
        <p:pic>
          <p:nvPicPr>
            <p:cNvPr id="124" name="" descr=""/>
            <p:cNvPicPr/>
            <p:nvPr/>
          </p:nvPicPr>
          <p:blipFill>
            <a:blip r:embed="rId14"/>
            <a:stretch/>
          </p:blipFill>
          <p:spPr>
            <a:xfrm rot="5357400">
              <a:off x="143640" y="5112360"/>
              <a:ext cx="16556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flipH="1">
              <a:off x="690840" y="4885200"/>
              <a:ext cx="209880" cy="294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00840" y="5479920"/>
              <a:ext cx="246240" cy="294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310600">
              <a:off x="533160" y="51753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79560" y="4888080"/>
              <a:ext cx="320400" cy="36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010880" y="5566320"/>
              <a:ext cx="199800" cy="249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310600">
              <a:off x="1217160" y="526248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440" y="422928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03560" y="4490280"/>
            <a:ext cx="2023920" cy="1152360"/>
            <a:chOff x="2203560" y="4490280"/>
            <a:chExt cx="2023920" cy="1152360"/>
          </a:xfrm>
        </p:grpSpPr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 rot="5367000">
              <a:off x="2185200" y="4655160"/>
              <a:ext cx="11444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 flipH="1">
              <a:off x="2275920" y="4737600"/>
              <a:ext cx="205920" cy="297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276640" y="5183280"/>
              <a:ext cx="250560" cy="29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260800">
              <a:off x="2207880" y="4984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16520" y="4760280"/>
              <a:ext cx="237960" cy="222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19040" y="5289480"/>
              <a:ext cx="150840" cy="777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260800">
              <a:off x="3122280" y="4984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06440" y="450216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556600" y="4413600"/>
            <a:ext cx="1844640" cy="1666080"/>
            <a:chOff x="5556600" y="4413600"/>
            <a:chExt cx="1844640" cy="1666080"/>
          </a:xfrm>
        </p:grpSpPr>
        <p:pic>
          <p:nvPicPr>
            <p:cNvPr id="142" name="" descr=""/>
            <p:cNvPicPr/>
            <p:nvPr/>
          </p:nvPicPr>
          <p:blipFill>
            <a:blip r:embed="rId20"/>
            <a:stretch/>
          </p:blipFill>
          <p:spPr>
            <a:xfrm rot="5324400">
              <a:off x="5171760" y="5037120"/>
              <a:ext cx="16574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082560" y="4880520"/>
              <a:ext cx="247320" cy="29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112440" y="5401800"/>
              <a:ext cx="201240" cy="332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277600">
              <a:off x="6246360" y="517860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718600" y="4881240"/>
              <a:ext cx="207360" cy="295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630040" y="5479560"/>
              <a:ext cx="248760" cy="293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277600">
              <a:off x="5560560" y="5173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43040" y="449568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381080" y="4419720"/>
            <a:ext cx="1723320" cy="1372680"/>
            <a:chOff x="7381080" y="4419720"/>
            <a:chExt cx="1723320" cy="1372680"/>
          </a:xfrm>
        </p:grpSpPr>
        <p:pic>
          <p:nvPicPr>
            <p:cNvPr id="151" name="" descr=""/>
            <p:cNvPicPr/>
            <p:nvPr/>
          </p:nvPicPr>
          <p:blipFill>
            <a:blip r:embed="rId23"/>
            <a:stretch/>
          </p:blipFill>
          <p:spPr>
            <a:xfrm rot="5424600">
              <a:off x="7376400" y="4806360"/>
              <a:ext cx="11430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 flipH="1" flipV="1">
              <a:off x="7451280" y="5330880"/>
              <a:ext cx="236520" cy="299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293800">
              <a:off x="7384680" y="510012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93680" y="4887360"/>
              <a:ext cx="322560" cy="366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293680" y="5334480"/>
              <a:ext cx="149760" cy="23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293800">
              <a:off x="8373600" y="510804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499160" y="4758120"/>
              <a:ext cx="232200" cy="302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83360" y="441972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752480" y="5791320"/>
            <a:ext cx="7200720" cy="1023840"/>
            <a:chOff x="1752480" y="5791320"/>
            <a:chExt cx="7200720" cy="1023840"/>
          </a:xfrm>
        </p:grpSpPr>
        <p:grpSp>
          <p:nvGrpSpPr>
            <p:cNvPr id="160" name=""/>
            <p:cNvGrpSpPr/>
            <p:nvPr/>
          </p:nvGrpSpPr>
          <p:grpSpPr>
            <a:xfrm>
              <a:off x="1752480" y="5867280"/>
              <a:ext cx="762120" cy="698400"/>
              <a:chOff x="1752480" y="5867280"/>
              <a:chExt cx="762120" cy="698400"/>
            </a:xfrm>
          </p:grpSpPr>
          <p:pic>
            <p:nvPicPr>
              <p:cNvPr id="161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82880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1752480" y="58798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124080" y="5867280"/>
              <a:ext cx="762120" cy="685800"/>
              <a:chOff x="3124080" y="5867280"/>
              <a:chExt cx="762120" cy="685800"/>
            </a:xfrm>
          </p:grpSpPr>
          <p:pic>
            <p:nvPicPr>
              <p:cNvPr id="16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20040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3124080" y="58672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858000" y="5867280"/>
              <a:ext cx="762120" cy="685800"/>
              <a:chOff x="6858000" y="5867280"/>
              <a:chExt cx="762120" cy="685800"/>
            </a:xfrm>
          </p:grpSpPr>
          <p:pic>
            <p:nvPicPr>
              <p:cNvPr id="16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93432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6858000" y="58672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153280" y="5791320"/>
              <a:ext cx="799920" cy="787320"/>
              <a:chOff x="8153280" y="5791320"/>
              <a:chExt cx="799920" cy="78732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9"/>
              <a:stretch/>
            </p:blipFill>
            <p:spPr>
              <a:xfrm flipH="1">
                <a:off x="8229240" y="5791320"/>
                <a:ext cx="72396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8153280" y="586764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3960" y="644688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me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73160" y="644688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me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16212600">
            <a:off x="381960" y="2735280"/>
            <a:ext cx="1447560" cy="1297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600" y="236232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acin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0"/>
          <a:stretch/>
        </p:blipFill>
        <p:spPr>
          <a:xfrm flipH="1" rot="16213200">
            <a:off x="568440" y="2778480"/>
            <a:ext cx="1047600" cy="1116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4960" y="27367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5680" y="380376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80" name="" descr=""/>
            <p:cNvPicPr/>
            <p:nvPr/>
          </p:nvPicPr>
          <p:blipFill>
            <a:blip r:embed="rId3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c0c"/>
                </a:solidFill>
                <a:latin typeface="Comic Sans MS"/>
              </a:rPr>
              <a:t>Non disgiunzione primaria in femmine di D.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8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2819520" y="1143000"/>
            <a:ext cx="1220760" cy="116856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6086520" y="1397160"/>
            <a:ext cx="847800" cy="96516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3048120" y="1905120"/>
            <a:ext cx="147600" cy="222120"/>
            <a:chOff x="3048120" y="1905120"/>
            <a:chExt cx="147600" cy="222120"/>
          </a:xfrm>
        </p:grpSpPr>
        <p:sp>
          <p:nvSpPr>
            <p:cNvPr id="850" name=""/>
            <p:cNvSpPr/>
            <p:nvPr/>
          </p:nvSpPr>
          <p:spPr>
            <a:xfrm>
              <a:off x="3077640" y="19051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21920" y="19940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48120" y="20606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781680" y="2074680"/>
            <a:ext cx="152280" cy="164880"/>
            <a:chOff x="6781680" y="2074680"/>
            <a:chExt cx="152280" cy="164880"/>
          </a:xfrm>
        </p:grpSpPr>
        <p:sp>
          <p:nvSpPr>
            <p:cNvPr id="854" name=""/>
            <p:cNvSpPr/>
            <p:nvPr/>
          </p:nvSpPr>
          <p:spPr>
            <a:xfrm>
              <a:off x="6781680" y="216360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6857640" y="20746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622320" y="1511280"/>
            <a:ext cx="360360" cy="761760"/>
            <a:chOff x="3622320" y="1511280"/>
            <a:chExt cx="360360" cy="761760"/>
          </a:xfrm>
        </p:grpSpPr>
        <p:sp>
          <p:nvSpPr>
            <p:cNvPr id="857" name=""/>
            <p:cNvSpPr/>
            <p:nvPr/>
          </p:nvSpPr>
          <p:spPr>
            <a:xfrm rot="10800000">
              <a:off x="3906720" y="16635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22320" y="15112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414760" y="1523880"/>
            <a:ext cx="439560" cy="762120"/>
            <a:chOff x="5414760" y="1523880"/>
            <a:chExt cx="439560" cy="762120"/>
          </a:xfrm>
        </p:grpSpPr>
        <p:sp>
          <p:nvSpPr>
            <p:cNvPr id="860" name=""/>
            <p:cNvSpPr/>
            <p:nvPr/>
          </p:nvSpPr>
          <p:spPr>
            <a:xfrm rot="10800000">
              <a:off x="5778360" y="16761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760" y="15238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930640" y="1600200"/>
            <a:ext cx="164880" cy="685440"/>
            <a:chOff x="5930640" y="1600200"/>
            <a:chExt cx="164880" cy="685440"/>
          </a:xfrm>
        </p:grpSpPr>
        <p:sp>
          <p:nvSpPr>
            <p:cNvPr id="863" name=""/>
            <p:cNvSpPr/>
            <p:nvPr/>
          </p:nvSpPr>
          <p:spPr>
            <a:xfrm>
              <a:off x="5943240" y="1600200"/>
              <a:ext cx="15228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0800000">
              <a:off x="5930640" y="16761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046040" y="1523880"/>
            <a:ext cx="360720" cy="762120"/>
            <a:chOff x="4046040" y="1523880"/>
            <a:chExt cx="360720" cy="762120"/>
          </a:xfrm>
        </p:grpSpPr>
        <p:sp>
          <p:nvSpPr>
            <p:cNvPr id="866" name=""/>
            <p:cNvSpPr/>
            <p:nvPr/>
          </p:nvSpPr>
          <p:spPr>
            <a:xfrm rot="10800000">
              <a:off x="4046040" y="16761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53960" y="1523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2991960" y="2514600"/>
            <a:ext cx="352800" cy="533520"/>
            <a:chOff x="2991960" y="2514600"/>
            <a:chExt cx="352800" cy="533520"/>
          </a:xfrm>
        </p:grpSpPr>
        <p:sp>
          <p:nvSpPr>
            <p:cNvPr id="869" name=""/>
            <p:cNvSpPr/>
            <p:nvPr/>
          </p:nvSpPr>
          <p:spPr>
            <a:xfrm rot="10800000">
              <a:off x="3288960" y="262116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91960" y="25146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4579560" y="2514600"/>
            <a:ext cx="352800" cy="533520"/>
            <a:chOff x="4579560" y="2514600"/>
            <a:chExt cx="352800" cy="533520"/>
          </a:xfrm>
        </p:grpSpPr>
        <p:sp>
          <p:nvSpPr>
            <p:cNvPr id="872" name=""/>
            <p:cNvSpPr/>
            <p:nvPr/>
          </p:nvSpPr>
          <p:spPr>
            <a:xfrm rot="10800000">
              <a:off x="4876560" y="262116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9560" y="25146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118120" y="2514600"/>
            <a:ext cx="360360" cy="533160"/>
            <a:chOff x="5118120" y="2514600"/>
            <a:chExt cx="360360" cy="533160"/>
          </a:xfrm>
        </p:grpSpPr>
        <p:sp>
          <p:nvSpPr>
            <p:cNvPr id="875" name=""/>
            <p:cNvSpPr/>
            <p:nvPr/>
          </p:nvSpPr>
          <p:spPr>
            <a:xfrm rot="10800000">
              <a:off x="5118120" y="262080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25680" y="25146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2995200" y="3124080"/>
            <a:ext cx="352800" cy="533520"/>
            <a:chOff x="2995200" y="3124080"/>
            <a:chExt cx="352800" cy="533520"/>
          </a:xfrm>
        </p:grpSpPr>
        <p:sp>
          <p:nvSpPr>
            <p:cNvPr id="878" name=""/>
            <p:cNvSpPr/>
            <p:nvPr/>
          </p:nvSpPr>
          <p:spPr>
            <a:xfrm rot="10800000">
              <a:off x="3292200" y="32306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95200" y="31240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0" name="" descr=""/>
          <p:cNvPicPr/>
          <p:nvPr/>
        </p:nvPicPr>
        <p:blipFill>
          <a:blip r:embed="rId4"/>
          <a:stretch/>
        </p:blipFill>
        <p:spPr>
          <a:xfrm>
            <a:off x="2819520" y="5594400"/>
            <a:ext cx="1003320" cy="95868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5"/>
          <a:stretch/>
        </p:blipFill>
        <p:spPr>
          <a:xfrm>
            <a:off x="2895480" y="3708360"/>
            <a:ext cx="1025640" cy="1168560"/>
          </a:xfrm>
          <a:prstGeom prst="rect">
            <a:avLst/>
          </a:prstGeom>
          <a:ln w="0">
            <a:noFill/>
          </a:ln>
        </p:spPr>
      </p:pic>
      <p:grpSp>
        <p:nvGrpSpPr>
          <p:cNvPr id="882" name=""/>
          <p:cNvGrpSpPr/>
          <p:nvPr/>
        </p:nvGrpSpPr>
        <p:grpSpPr>
          <a:xfrm>
            <a:off x="3657600" y="4470480"/>
            <a:ext cx="147600" cy="222120"/>
            <a:chOff x="3657600" y="4470480"/>
            <a:chExt cx="147600" cy="222120"/>
          </a:xfrm>
        </p:grpSpPr>
        <p:sp>
          <p:nvSpPr>
            <p:cNvPr id="883" name=""/>
            <p:cNvSpPr/>
            <p:nvPr/>
          </p:nvSpPr>
          <p:spPr>
            <a:xfrm>
              <a:off x="3687120" y="447048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31400" y="455940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57600" y="462600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657600" y="6051240"/>
            <a:ext cx="152280" cy="164880"/>
            <a:chOff x="3657600" y="6051240"/>
            <a:chExt cx="152280" cy="164880"/>
          </a:xfrm>
        </p:grpSpPr>
        <p:sp>
          <p:nvSpPr>
            <p:cNvPr id="887" name=""/>
            <p:cNvSpPr/>
            <p:nvPr/>
          </p:nvSpPr>
          <p:spPr>
            <a:xfrm>
              <a:off x="3657600" y="614016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3733560" y="605124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244520" y="3505320"/>
            <a:ext cx="1346040" cy="774720"/>
            <a:chOff x="1244520" y="3505320"/>
            <a:chExt cx="1346040" cy="774720"/>
          </a:xfrm>
        </p:grpSpPr>
        <p:sp>
          <p:nvSpPr>
            <p:cNvPr id="890" name=""/>
            <p:cNvSpPr/>
            <p:nvPr/>
          </p:nvSpPr>
          <p:spPr>
            <a:xfrm rot="10800000">
              <a:off x="2385720" y="3962520"/>
              <a:ext cx="44640" cy="30456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1244520" y="3505320"/>
              <a:ext cx="1346040" cy="774720"/>
              <a:chOff x="1244520" y="3505320"/>
              <a:chExt cx="1346040" cy="774720"/>
            </a:xfrm>
          </p:grpSpPr>
          <p:sp>
            <p:nvSpPr>
              <p:cNvPr id="892" name=""/>
              <p:cNvSpPr/>
              <p:nvPr/>
            </p:nvSpPr>
            <p:spPr>
              <a:xfrm>
                <a:off x="2095560" y="394200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W</a:t>
                </a:r>
                <a:r>
                  <a:rPr b="1" lang="en-US" sz="10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133360" y="3899160"/>
                <a:ext cx="45720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44520" y="3505320"/>
                <a:ext cx="761760" cy="533520"/>
              </a:xfrm>
              <a:custGeom>
                <a:avLst/>
                <a:gdLst/>
                <a:ahLst/>
                <a:rect l="l" t="t" r="r" b="b"/>
                <a:pathLst>
                  <a:path w="480" h="320">
                    <a:moveTo>
                      <a:pt x="480" y="320"/>
                    </a:moveTo>
                    <a:cubicBezTo>
                      <a:pt x="456" y="285"/>
                      <a:pt x="441" y="294"/>
                      <a:pt x="408" y="272"/>
                    </a:cubicBezTo>
                    <a:cubicBezTo>
                      <a:pt x="351" y="286"/>
                      <a:pt x="296" y="273"/>
                      <a:pt x="240" y="264"/>
                    </a:cubicBezTo>
                    <a:cubicBezTo>
                      <a:pt x="235" y="245"/>
                      <a:pt x="224" y="227"/>
                      <a:pt x="224" y="208"/>
                    </a:cubicBezTo>
                    <a:cubicBezTo>
                      <a:pt x="224" y="162"/>
                      <a:pt x="254" y="109"/>
                      <a:pt x="264" y="64"/>
                    </a:cubicBezTo>
                    <a:cubicBezTo>
                      <a:pt x="241" y="29"/>
                      <a:pt x="222" y="23"/>
                      <a:pt x="184" y="8"/>
                    </a:cubicBezTo>
                    <a:cubicBezTo>
                      <a:pt x="160" y="13"/>
                      <a:pt x="135" y="17"/>
                      <a:pt x="112" y="24"/>
                    </a:cubicBezTo>
                    <a:cubicBezTo>
                      <a:pt x="95" y="28"/>
                      <a:pt x="64" y="40"/>
                      <a:pt x="64" y="40"/>
                    </a:cubicBezTo>
                    <a:cubicBezTo>
                      <a:pt x="37" y="31"/>
                      <a:pt x="20" y="2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06280" y="4038840"/>
                <a:ext cx="152640" cy="759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1244520" y="5219640"/>
            <a:ext cx="1346040" cy="799920"/>
            <a:chOff x="1244520" y="5219640"/>
            <a:chExt cx="1346040" cy="799920"/>
          </a:xfrm>
        </p:grpSpPr>
        <p:grpSp>
          <p:nvGrpSpPr>
            <p:cNvPr id="897" name=""/>
            <p:cNvGrpSpPr/>
            <p:nvPr/>
          </p:nvGrpSpPr>
          <p:grpSpPr>
            <a:xfrm>
              <a:off x="2330280" y="5649840"/>
              <a:ext cx="96480" cy="342720"/>
              <a:chOff x="2330280" y="5649840"/>
              <a:chExt cx="96480" cy="342720"/>
            </a:xfrm>
          </p:grpSpPr>
          <p:sp>
            <p:nvSpPr>
              <p:cNvPr id="898" name=""/>
              <p:cNvSpPr/>
              <p:nvPr/>
            </p:nvSpPr>
            <p:spPr>
              <a:xfrm>
                <a:off x="2337480" y="5649840"/>
                <a:ext cx="89280" cy="190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0800000">
                <a:off x="2330280" y="5688000"/>
                <a:ext cx="44640" cy="30456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2133360" y="5638680"/>
              <a:ext cx="45720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44520" y="5219640"/>
              <a:ext cx="761760" cy="533520"/>
            </a:xfrm>
            <a:custGeom>
              <a:avLst/>
              <a:gdLst/>
              <a:ahLst/>
              <a:rect l="l" t="t" r="r" b="b"/>
              <a:pathLst>
                <a:path w="480" h="320">
                  <a:moveTo>
                    <a:pt x="480" y="320"/>
                  </a:moveTo>
                  <a:cubicBezTo>
                    <a:pt x="456" y="285"/>
                    <a:pt x="441" y="294"/>
                    <a:pt x="408" y="272"/>
                  </a:cubicBezTo>
                  <a:cubicBezTo>
                    <a:pt x="351" y="286"/>
                    <a:pt x="296" y="273"/>
                    <a:pt x="240" y="264"/>
                  </a:cubicBezTo>
                  <a:cubicBezTo>
                    <a:pt x="235" y="245"/>
                    <a:pt x="224" y="227"/>
                    <a:pt x="224" y="208"/>
                  </a:cubicBezTo>
                  <a:cubicBezTo>
                    <a:pt x="224" y="162"/>
                    <a:pt x="254" y="109"/>
                    <a:pt x="264" y="64"/>
                  </a:cubicBezTo>
                  <a:cubicBezTo>
                    <a:pt x="241" y="29"/>
                    <a:pt x="222" y="23"/>
                    <a:pt x="184" y="8"/>
                  </a:cubicBezTo>
                  <a:cubicBezTo>
                    <a:pt x="160" y="13"/>
                    <a:pt x="135" y="17"/>
                    <a:pt x="112" y="24"/>
                  </a:cubicBezTo>
                  <a:cubicBezTo>
                    <a:pt x="95" y="28"/>
                    <a:pt x="64" y="40"/>
                    <a:pt x="64" y="40"/>
                  </a:cubicBezTo>
                  <a:cubicBezTo>
                    <a:pt x="37" y="31"/>
                    <a:pt x="20" y="2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06280" y="5753160"/>
              <a:ext cx="15264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403440" y="3137040"/>
            <a:ext cx="427320" cy="533160"/>
            <a:chOff x="3403440" y="3137040"/>
            <a:chExt cx="427320" cy="533160"/>
          </a:xfrm>
        </p:grpSpPr>
        <p:sp>
          <p:nvSpPr>
            <p:cNvPr id="904" name=""/>
            <p:cNvSpPr/>
            <p:nvPr/>
          </p:nvSpPr>
          <p:spPr>
            <a:xfrm rot="10800000">
              <a:off x="3403440" y="324324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11000" y="313704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2979360" y="5029200"/>
            <a:ext cx="352800" cy="533520"/>
            <a:chOff x="2979360" y="5029200"/>
            <a:chExt cx="352800" cy="533520"/>
          </a:xfrm>
        </p:grpSpPr>
        <p:sp>
          <p:nvSpPr>
            <p:cNvPr id="907" name=""/>
            <p:cNvSpPr/>
            <p:nvPr/>
          </p:nvSpPr>
          <p:spPr>
            <a:xfrm rot="10800000">
              <a:off x="3276360" y="513576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9360" y="50292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378240" y="5105520"/>
            <a:ext cx="109440" cy="456840"/>
            <a:chOff x="3378240" y="5105520"/>
            <a:chExt cx="109440" cy="456840"/>
          </a:xfrm>
        </p:grpSpPr>
        <p:sp>
          <p:nvSpPr>
            <p:cNvPr id="910" name=""/>
            <p:cNvSpPr/>
            <p:nvPr/>
          </p:nvSpPr>
          <p:spPr>
            <a:xfrm>
              <a:off x="3386520" y="510552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0800000">
              <a:off x="3378240" y="515628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43200" y="3124080"/>
            <a:ext cx="1447920" cy="3505320"/>
            <a:chOff x="2743200" y="3124080"/>
            <a:chExt cx="1447920" cy="3505320"/>
          </a:xfrm>
        </p:grpSpPr>
        <p:sp>
          <p:nvSpPr>
            <p:cNvPr id="913" name=""/>
            <p:cNvSpPr/>
            <p:nvPr/>
          </p:nvSpPr>
          <p:spPr>
            <a:xfrm>
              <a:off x="2743200" y="3124080"/>
              <a:ext cx="1447920" cy="3505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743200" y="49528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343400" y="3124080"/>
            <a:ext cx="1447920" cy="3505320"/>
            <a:chOff x="4343400" y="3124080"/>
            <a:chExt cx="1447920" cy="3505320"/>
          </a:xfrm>
        </p:grpSpPr>
        <p:sp>
          <p:nvSpPr>
            <p:cNvPr id="916" name=""/>
            <p:cNvSpPr/>
            <p:nvPr/>
          </p:nvSpPr>
          <p:spPr>
            <a:xfrm>
              <a:off x="4343400" y="3124080"/>
              <a:ext cx="1447920" cy="3505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49528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791320" y="3124080"/>
            <a:ext cx="1447560" cy="3505320"/>
            <a:chOff x="5791320" y="3124080"/>
            <a:chExt cx="1447560" cy="3505320"/>
          </a:xfrm>
        </p:grpSpPr>
        <p:sp>
          <p:nvSpPr>
            <p:cNvPr id="919" name=""/>
            <p:cNvSpPr/>
            <p:nvPr/>
          </p:nvSpPr>
          <p:spPr>
            <a:xfrm>
              <a:off x="5791320" y="3124080"/>
              <a:ext cx="1447560" cy="3505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91320" y="495288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4419720" y="5508720"/>
            <a:ext cx="1157040" cy="110808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6019920" y="3962520"/>
            <a:ext cx="803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923" name=""/>
          <p:cNvGrpSpPr/>
          <p:nvPr/>
        </p:nvGrpSpPr>
        <p:grpSpPr>
          <a:xfrm>
            <a:off x="6705720" y="4495680"/>
            <a:ext cx="152280" cy="165240"/>
            <a:chOff x="6705720" y="4495680"/>
            <a:chExt cx="152280" cy="165240"/>
          </a:xfrm>
        </p:grpSpPr>
        <p:sp>
          <p:nvSpPr>
            <p:cNvPr id="924" name=""/>
            <p:cNvSpPr/>
            <p:nvPr/>
          </p:nvSpPr>
          <p:spPr>
            <a:xfrm>
              <a:off x="6705720" y="45846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6781680" y="44956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5334120" y="6248520"/>
            <a:ext cx="147600" cy="222120"/>
            <a:chOff x="5334120" y="6248520"/>
            <a:chExt cx="147600" cy="222120"/>
          </a:xfrm>
        </p:grpSpPr>
        <p:sp>
          <p:nvSpPr>
            <p:cNvPr id="927" name=""/>
            <p:cNvSpPr/>
            <p:nvPr/>
          </p:nvSpPr>
          <p:spPr>
            <a:xfrm>
              <a:off x="5363640" y="62485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407920" y="6337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34120" y="6404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4350960" y="3429000"/>
            <a:ext cx="352800" cy="533520"/>
            <a:chOff x="4350960" y="3429000"/>
            <a:chExt cx="352800" cy="533520"/>
          </a:xfrm>
        </p:grpSpPr>
        <p:sp>
          <p:nvSpPr>
            <p:cNvPr id="931" name=""/>
            <p:cNvSpPr/>
            <p:nvPr/>
          </p:nvSpPr>
          <p:spPr>
            <a:xfrm rot="10800000">
              <a:off x="4647960" y="353556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350960" y="34290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927680" y="3429000"/>
            <a:ext cx="360360" cy="533160"/>
            <a:chOff x="4927680" y="3429000"/>
            <a:chExt cx="360360" cy="533160"/>
          </a:xfrm>
        </p:grpSpPr>
        <p:sp>
          <p:nvSpPr>
            <p:cNvPr id="934" name=""/>
            <p:cNvSpPr/>
            <p:nvPr/>
          </p:nvSpPr>
          <p:spPr>
            <a:xfrm rot="10800000">
              <a:off x="4927680" y="353520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935240" y="34290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5270400" y="3429000"/>
            <a:ext cx="427320" cy="533160"/>
            <a:chOff x="5270400" y="3429000"/>
            <a:chExt cx="427320" cy="533160"/>
          </a:xfrm>
        </p:grpSpPr>
        <p:sp>
          <p:nvSpPr>
            <p:cNvPr id="937" name=""/>
            <p:cNvSpPr/>
            <p:nvPr/>
          </p:nvSpPr>
          <p:spPr>
            <a:xfrm rot="10800000">
              <a:off x="5270400" y="353520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277960" y="34290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337080" y="3200400"/>
            <a:ext cx="427320" cy="533160"/>
            <a:chOff x="6337080" y="3200400"/>
            <a:chExt cx="427320" cy="533160"/>
          </a:xfrm>
        </p:grpSpPr>
        <p:sp>
          <p:nvSpPr>
            <p:cNvPr id="940" name=""/>
            <p:cNvSpPr/>
            <p:nvPr/>
          </p:nvSpPr>
          <p:spPr>
            <a:xfrm rot="10800000">
              <a:off x="6337080" y="330660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44640" y="32004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4592160" y="4952880"/>
            <a:ext cx="352800" cy="533520"/>
            <a:chOff x="4592160" y="4952880"/>
            <a:chExt cx="352800" cy="533520"/>
          </a:xfrm>
        </p:grpSpPr>
        <p:sp>
          <p:nvSpPr>
            <p:cNvPr id="943" name=""/>
            <p:cNvSpPr/>
            <p:nvPr/>
          </p:nvSpPr>
          <p:spPr>
            <a:xfrm rot="10800000">
              <a:off x="4889160" y="50594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92160" y="4952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5003640" y="4952880"/>
            <a:ext cx="360360" cy="533160"/>
            <a:chOff x="5003640" y="4952880"/>
            <a:chExt cx="360360" cy="533160"/>
          </a:xfrm>
        </p:grpSpPr>
        <p:sp>
          <p:nvSpPr>
            <p:cNvPr id="946" name=""/>
            <p:cNvSpPr/>
            <p:nvPr/>
          </p:nvSpPr>
          <p:spPr>
            <a:xfrm rot="10800000">
              <a:off x="5003640" y="505908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11200" y="4952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334120" y="5029200"/>
            <a:ext cx="109440" cy="456840"/>
            <a:chOff x="5334120" y="5029200"/>
            <a:chExt cx="109440" cy="456840"/>
          </a:xfrm>
        </p:grpSpPr>
        <p:sp>
          <p:nvSpPr>
            <p:cNvPr id="949" name=""/>
            <p:cNvSpPr/>
            <p:nvPr/>
          </p:nvSpPr>
          <p:spPr>
            <a:xfrm>
              <a:off x="5342400" y="50292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10800000">
              <a:off x="5334120" y="50799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6291360" y="5029200"/>
            <a:ext cx="109440" cy="456840"/>
            <a:chOff x="6291360" y="5029200"/>
            <a:chExt cx="109440" cy="456840"/>
          </a:xfrm>
        </p:grpSpPr>
        <p:sp>
          <p:nvSpPr>
            <p:cNvPr id="952" name=""/>
            <p:cNvSpPr/>
            <p:nvPr/>
          </p:nvSpPr>
          <p:spPr>
            <a:xfrm>
              <a:off x="6299640" y="50292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6291360" y="50799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572000" y="2438280"/>
            <a:ext cx="9144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95480" y="2514600"/>
            <a:ext cx="8384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75480" y="31654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permatoz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499760" y="24382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ova rego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1218960" y="2666880"/>
            <a:ext cx="152388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461920" y="255600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ova eccez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426560" y="422604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oi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890320" y="5715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oi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360800" y="19051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1400" y="42670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869000" y="16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98400" y="6094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Non disgiunzione secondaria in femmine eccezionali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6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2819520" y="1066680"/>
            <a:ext cx="1220760" cy="1168560"/>
          </a:xfrm>
          <a:prstGeom prst="rect">
            <a:avLst/>
          </a:prstGeom>
          <a:ln w="0">
            <a:noFill/>
          </a:ln>
        </p:spPr>
      </p:pic>
      <p:pic>
        <p:nvPicPr>
          <p:cNvPr id="973" name="" descr=""/>
          <p:cNvPicPr/>
          <p:nvPr/>
        </p:nvPicPr>
        <p:blipFill>
          <a:blip r:embed="rId3"/>
          <a:stretch/>
        </p:blipFill>
        <p:spPr>
          <a:xfrm>
            <a:off x="7153200" y="1320840"/>
            <a:ext cx="847800" cy="965160"/>
          </a:xfrm>
          <a:prstGeom prst="rect">
            <a:avLst/>
          </a:prstGeom>
          <a:ln w="0">
            <a:noFill/>
          </a:ln>
        </p:spPr>
      </p:pic>
      <p:grpSp>
        <p:nvGrpSpPr>
          <p:cNvPr id="974" name=""/>
          <p:cNvGrpSpPr/>
          <p:nvPr/>
        </p:nvGrpSpPr>
        <p:grpSpPr>
          <a:xfrm>
            <a:off x="3048120" y="1828800"/>
            <a:ext cx="147600" cy="222120"/>
            <a:chOff x="3048120" y="1828800"/>
            <a:chExt cx="147600" cy="222120"/>
          </a:xfrm>
        </p:grpSpPr>
        <p:sp>
          <p:nvSpPr>
            <p:cNvPr id="975" name=""/>
            <p:cNvSpPr/>
            <p:nvPr/>
          </p:nvSpPr>
          <p:spPr>
            <a:xfrm>
              <a:off x="3077640" y="18288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21920" y="19177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048120" y="19843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7848720" y="1998360"/>
            <a:ext cx="152280" cy="164880"/>
            <a:chOff x="7848720" y="1998360"/>
            <a:chExt cx="152280" cy="164880"/>
          </a:xfrm>
        </p:grpSpPr>
        <p:sp>
          <p:nvSpPr>
            <p:cNvPr id="979" name=""/>
            <p:cNvSpPr/>
            <p:nvPr/>
          </p:nvSpPr>
          <p:spPr>
            <a:xfrm>
              <a:off x="7848720" y="20872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7924680" y="19983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622320" y="1434960"/>
            <a:ext cx="360360" cy="761760"/>
            <a:chOff x="3622320" y="1434960"/>
            <a:chExt cx="360360" cy="761760"/>
          </a:xfrm>
        </p:grpSpPr>
        <p:sp>
          <p:nvSpPr>
            <p:cNvPr id="982" name=""/>
            <p:cNvSpPr/>
            <p:nvPr/>
          </p:nvSpPr>
          <p:spPr>
            <a:xfrm rot="10800000">
              <a:off x="3906720" y="158724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2320" y="143496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6481440" y="1447920"/>
            <a:ext cx="439560" cy="761040"/>
            <a:chOff x="6481440" y="1447920"/>
            <a:chExt cx="439560" cy="761040"/>
          </a:xfrm>
        </p:grpSpPr>
        <p:sp>
          <p:nvSpPr>
            <p:cNvPr id="985" name=""/>
            <p:cNvSpPr/>
            <p:nvPr/>
          </p:nvSpPr>
          <p:spPr>
            <a:xfrm rot="10800000">
              <a:off x="6845040" y="15994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481440" y="14479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6997680" y="1523880"/>
            <a:ext cx="165240" cy="685440"/>
            <a:chOff x="6997680" y="1523880"/>
            <a:chExt cx="165240" cy="685440"/>
          </a:xfrm>
        </p:grpSpPr>
        <p:sp>
          <p:nvSpPr>
            <p:cNvPr id="988" name=""/>
            <p:cNvSpPr/>
            <p:nvPr/>
          </p:nvSpPr>
          <p:spPr>
            <a:xfrm>
              <a:off x="7010280" y="152388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0800000">
              <a:off x="6997680" y="159984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4046040" y="1447920"/>
            <a:ext cx="360720" cy="761040"/>
            <a:chOff x="4046040" y="1447920"/>
            <a:chExt cx="360720" cy="761040"/>
          </a:xfrm>
        </p:grpSpPr>
        <p:sp>
          <p:nvSpPr>
            <p:cNvPr id="991" name=""/>
            <p:cNvSpPr/>
            <p:nvPr/>
          </p:nvSpPr>
          <p:spPr>
            <a:xfrm rot="10800000">
              <a:off x="4046040" y="15994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3960" y="14479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230200" y="2666880"/>
            <a:ext cx="352800" cy="533520"/>
            <a:chOff x="2230200" y="2666880"/>
            <a:chExt cx="352800" cy="533520"/>
          </a:xfrm>
        </p:grpSpPr>
        <p:sp>
          <p:nvSpPr>
            <p:cNvPr id="994" name=""/>
            <p:cNvSpPr/>
            <p:nvPr/>
          </p:nvSpPr>
          <p:spPr>
            <a:xfrm rot="10800000">
              <a:off x="2527200" y="27734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230200" y="2666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5874840" y="2679840"/>
            <a:ext cx="352800" cy="532440"/>
            <a:chOff x="5874840" y="2679840"/>
            <a:chExt cx="352800" cy="532440"/>
          </a:xfrm>
        </p:grpSpPr>
        <p:sp>
          <p:nvSpPr>
            <p:cNvPr id="997" name=""/>
            <p:cNvSpPr/>
            <p:nvPr/>
          </p:nvSpPr>
          <p:spPr>
            <a:xfrm rot="10800000">
              <a:off x="6171840" y="2785680"/>
              <a:ext cx="52560" cy="42660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874840" y="26798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413400" y="2679840"/>
            <a:ext cx="360360" cy="533160"/>
            <a:chOff x="6413400" y="2679840"/>
            <a:chExt cx="360360" cy="533160"/>
          </a:xfrm>
        </p:grpSpPr>
        <p:sp>
          <p:nvSpPr>
            <p:cNvPr id="1000" name=""/>
            <p:cNvSpPr/>
            <p:nvPr/>
          </p:nvSpPr>
          <p:spPr>
            <a:xfrm rot="10800000">
              <a:off x="6413400" y="27860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420960" y="26798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157120" y="3276720"/>
            <a:ext cx="352800" cy="532440"/>
            <a:chOff x="2157120" y="3276720"/>
            <a:chExt cx="352800" cy="532440"/>
          </a:xfrm>
        </p:grpSpPr>
        <p:sp>
          <p:nvSpPr>
            <p:cNvPr id="1003" name=""/>
            <p:cNvSpPr/>
            <p:nvPr/>
          </p:nvSpPr>
          <p:spPr>
            <a:xfrm rot="10800000">
              <a:off x="2454120" y="3382560"/>
              <a:ext cx="52560" cy="42660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157120" y="32767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1981080" y="5746680"/>
            <a:ext cx="1003320" cy="9590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2057400" y="3860640"/>
            <a:ext cx="102564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007" name=""/>
          <p:cNvGrpSpPr/>
          <p:nvPr/>
        </p:nvGrpSpPr>
        <p:grpSpPr>
          <a:xfrm>
            <a:off x="2819520" y="4622760"/>
            <a:ext cx="147600" cy="222120"/>
            <a:chOff x="2819520" y="4622760"/>
            <a:chExt cx="147600" cy="222120"/>
          </a:xfrm>
        </p:grpSpPr>
        <p:sp>
          <p:nvSpPr>
            <p:cNvPr id="1008" name=""/>
            <p:cNvSpPr/>
            <p:nvPr/>
          </p:nvSpPr>
          <p:spPr>
            <a:xfrm>
              <a:off x="2849040" y="462276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3320" y="471168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19520" y="477828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819520" y="6203880"/>
            <a:ext cx="152280" cy="165240"/>
            <a:chOff x="2819520" y="6203880"/>
            <a:chExt cx="152280" cy="165240"/>
          </a:xfrm>
        </p:grpSpPr>
        <p:sp>
          <p:nvSpPr>
            <p:cNvPr id="1012" name=""/>
            <p:cNvSpPr/>
            <p:nvPr/>
          </p:nvSpPr>
          <p:spPr>
            <a:xfrm>
              <a:off x="2819520" y="62928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2895480" y="6203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762120" y="3886200"/>
            <a:ext cx="812520" cy="546120"/>
            <a:chOff x="762120" y="3886200"/>
            <a:chExt cx="812520" cy="546120"/>
          </a:xfrm>
        </p:grpSpPr>
        <p:sp>
          <p:nvSpPr>
            <p:cNvPr id="1015" name=""/>
            <p:cNvSpPr/>
            <p:nvPr/>
          </p:nvSpPr>
          <p:spPr>
            <a:xfrm rot="10800000">
              <a:off x="1426680" y="4176360"/>
              <a:ext cx="32040" cy="2458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762120" y="3886200"/>
              <a:ext cx="812520" cy="546120"/>
              <a:chOff x="762120" y="3886200"/>
              <a:chExt cx="812520" cy="546120"/>
            </a:xfrm>
          </p:grpSpPr>
          <p:sp>
            <p:nvSpPr>
              <p:cNvPr id="1017" name=""/>
              <p:cNvSpPr/>
              <p:nvPr/>
            </p:nvSpPr>
            <p:spPr>
              <a:xfrm>
                <a:off x="1224360" y="41608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W</a:t>
                </a:r>
                <a:r>
                  <a:rPr b="1" lang="en-US" sz="1000" spc="-1" strike="noStrike" baseline="30000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246320" y="4125960"/>
                <a:ext cx="328320" cy="306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62120" y="3886200"/>
                <a:ext cx="393480" cy="352440"/>
              </a:xfrm>
              <a:custGeom>
                <a:avLst/>
                <a:gdLst/>
                <a:ahLst/>
                <a:rect l="l" t="t" r="r" b="b"/>
                <a:pathLst>
                  <a:path w="480" h="320">
                    <a:moveTo>
                      <a:pt x="480" y="320"/>
                    </a:moveTo>
                    <a:cubicBezTo>
                      <a:pt x="456" y="285"/>
                      <a:pt x="441" y="294"/>
                      <a:pt x="408" y="272"/>
                    </a:cubicBezTo>
                    <a:cubicBezTo>
                      <a:pt x="351" y="286"/>
                      <a:pt x="296" y="273"/>
                      <a:pt x="240" y="264"/>
                    </a:cubicBezTo>
                    <a:cubicBezTo>
                      <a:pt x="235" y="245"/>
                      <a:pt x="224" y="227"/>
                      <a:pt x="224" y="208"/>
                    </a:cubicBezTo>
                    <a:cubicBezTo>
                      <a:pt x="224" y="162"/>
                      <a:pt x="254" y="109"/>
                      <a:pt x="264" y="64"/>
                    </a:cubicBezTo>
                    <a:cubicBezTo>
                      <a:pt x="241" y="29"/>
                      <a:pt x="222" y="23"/>
                      <a:pt x="184" y="8"/>
                    </a:cubicBezTo>
                    <a:cubicBezTo>
                      <a:pt x="160" y="13"/>
                      <a:pt x="135" y="17"/>
                      <a:pt x="112" y="24"/>
                    </a:cubicBezTo>
                    <a:cubicBezTo>
                      <a:pt x="95" y="28"/>
                      <a:pt x="64" y="40"/>
                      <a:pt x="64" y="40"/>
                    </a:cubicBezTo>
                    <a:cubicBezTo>
                      <a:pt x="37" y="31"/>
                      <a:pt x="20" y="20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155600" y="4238640"/>
                <a:ext cx="109800" cy="6048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711360" y="5562720"/>
            <a:ext cx="812520" cy="609480"/>
            <a:chOff x="711360" y="5562720"/>
            <a:chExt cx="812520" cy="609480"/>
          </a:xfrm>
        </p:grpSpPr>
        <p:grpSp>
          <p:nvGrpSpPr>
            <p:cNvPr id="1022" name=""/>
            <p:cNvGrpSpPr/>
            <p:nvPr/>
          </p:nvGrpSpPr>
          <p:grpSpPr>
            <a:xfrm>
              <a:off x="1336320" y="5875200"/>
              <a:ext cx="69840" cy="274320"/>
              <a:chOff x="1336320" y="5875200"/>
              <a:chExt cx="69840" cy="2743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341720" y="5875200"/>
                <a:ext cx="64440" cy="152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0800000">
                <a:off x="1336320" y="5905440"/>
                <a:ext cx="32040" cy="2440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1197000" y="5865840"/>
              <a:ext cx="32688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1360" y="5562720"/>
              <a:ext cx="393480" cy="395280"/>
            </a:xfrm>
            <a:custGeom>
              <a:avLst/>
              <a:gdLst/>
              <a:ahLst/>
              <a:rect l="l" t="t" r="r" b="b"/>
              <a:pathLst>
                <a:path w="480" h="320">
                  <a:moveTo>
                    <a:pt x="480" y="320"/>
                  </a:moveTo>
                  <a:cubicBezTo>
                    <a:pt x="456" y="285"/>
                    <a:pt x="441" y="294"/>
                    <a:pt x="408" y="272"/>
                  </a:cubicBezTo>
                  <a:cubicBezTo>
                    <a:pt x="351" y="286"/>
                    <a:pt x="296" y="273"/>
                    <a:pt x="240" y="264"/>
                  </a:cubicBezTo>
                  <a:cubicBezTo>
                    <a:pt x="235" y="245"/>
                    <a:pt x="224" y="227"/>
                    <a:pt x="224" y="208"/>
                  </a:cubicBezTo>
                  <a:cubicBezTo>
                    <a:pt x="224" y="162"/>
                    <a:pt x="254" y="109"/>
                    <a:pt x="264" y="64"/>
                  </a:cubicBezTo>
                  <a:cubicBezTo>
                    <a:pt x="241" y="29"/>
                    <a:pt x="222" y="23"/>
                    <a:pt x="184" y="8"/>
                  </a:cubicBezTo>
                  <a:cubicBezTo>
                    <a:pt x="160" y="13"/>
                    <a:pt x="135" y="17"/>
                    <a:pt x="112" y="24"/>
                  </a:cubicBezTo>
                  <a:cubicBezTo>
                    <a:pt x="95" y="28"/>
                    <a:pt x="64" y="40"/>
                    <a:pt x="64" y="40"/>
                  </a:cubicBezTo>
                  <a:cubicBezTo>
                    <a:pt x="37" y="31"/>
                    <a:pt x="20" y="2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04840" y="5958000"/>
              <a:ext cx="109800" cy="61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2676240" y="3289320"/>
            <a:ext cx="427680" cy="533160"/>
            <a:chOff x="2676240" y="3289320"/>
            <a:chExt cx="427680" cy="533160"/>
          </a:xfrm>
        </p:grpSpPr>
        <p:sp>
          <p:nvSpPr>
            <p:cNvPr id="1029" name=""/>
            <p:cNvSpPr/>
            <p:nvPr/>
          </p:nvSpPr>
          <p:spPr>
            <a:xfrm rot="10800000">
              <a:off x="2676240" y="3395520"/>
              <a:ext cx="5220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84160" y="32893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141280" y="5181480"/>
            <a:ext cx="352800" cy="533520"/>
            <a:chOff x="2141280" y="5181480"/>
            <a:chExt cx="352800" cy="533520"/>
          </a:xfrm>
        </p:grpSpPr>
        <p:sp>
          <p:nvSpPr>
            <p:cNvPr id="1032" name=""/>
            <p:cNvSpPr/>
            <p:nvPr/>
          </p:nvSpPr>
          <p:spPr>
            <a:xfrm rot="10800000">
              <a:off x="2438280" y="52880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141280" y="51814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2633760" y="5257800"/>
            <a:ext cx="109440" cy="456840"/>
            <a:chOff x="2633760" y="5257800"/>
            <a:chExt cx="109440" cy="456840"/>
          </a:xfrm>
        </p:grpSpPr>
        <p:sp>
          <p:nvSpPr>
            <p:cNvPr id="1035" name=""/>
            <p:cNvSpPr/>
            <p:nvPr/>
          </p:nvSpPr>
          <p:spPr>
            <a:xfrm>
              <a:off x="2642040" y="52578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0800000">
              <a:off x="2633760" y="53085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1752480" y="3276720"/>
            <a:ext cx="1447920" cy="3504960"/>
            <a:chOff x="1752480" y="3276720"/>
            <a:chExt cx="1447920" cy="3504960"/>
          </a:xfrm>
        </p:grpSpPr>
        <p:sp>
          <p:nvSpPr>
            <p:cNvPr id="1038" name=""/>
            <p:cNvSpPr/>
            <p:nvPr/>
          </p:nvSpPr>
          <p:spPr>
            <a:xfrm>
              <a:off x="1752480" y="3276720"/>
              <a:ext cx="1447920" cy="35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752480" y="510516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5638680" y="3276720"/>
            <a:ext cx="1447920" cy="3504960"/>
            <a:chOff x="5638680" y="3276720"/>
            <a:chExt cx="1447920" cy="3504960"/>
          </a:xfrm>
        </p:grpSpPr>
        <p:sp>
          <p:nvSpPr>
            <p:cNvPr id="1041" name=""/>
            <p:cNvSpPr/>
            <p:nvPr/>
          </p:nvSpPr>
          <p:spPr>
            <a:xfrm>
              <a:off x="5638680" y="3276720"/>
              <a:ext cx="1447920" cy="35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38680" y="510516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7086600" y="3276720"/>
            <a:ext cx="1447920" cy="3504960"/>
            <a:chOff x="7086600" y="3276720"/>
            <a:chExt cx="1447920" cy="3504960"/>
          </a:xfrm>
        </p:grpSpPr>
        <p:sp>
          <p:nvSpPr>
            <p:cNvPr id="1044" name=""/>
            <p:cNvSpPr/>
            <p:nvPr/>
          </p:nvSpPr>
          <p:spPr>
            <a:xfrm>
              <a:off x="7086600" y="3276720"/>
              <a:ext cx="1447920" cy="35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86600" y="510516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6" name="" descr=""/>
          <p:cNvPicPr/>
          <p:nvPr/>
        </p:nvPicPr>
        <p:blipFill>
          <a:blip r:embed="rId6"/>
          <a:stretch/>
        </p:blipFill>
        <p:spPr>
          <a:xfrm>
            <a:off x="5715000" y="5661000"/>
            <a:ext cx="1157400" cy="1108080"/>
          </a:xfrm>
          <a:prstGeom prst="rect">
            <a:avLst/>
          </a:prstGeom>
          <a:ln w="0">
            <a:noFill/>
          </a:ln>
        </p:spPr>
      </p:pic>
      <p:pic>
        <p:nvPicPr>
          <p:cNvPr id="1047" name="" descr=""/>
          <p:cNvPicPr/>
          <p:nvPr/>
        </p:nvPicPr>
        <p:blipFill>
          <a:blip r:embed="rId7"/>
          <a:stretch/>
        </p:blipFill>
        <p:spPr>
          <a:xfrm>
            <a:off x="7315200" y="4114800"/>
            <a:ext cx="803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8001000" y="4647960"/>
            <a:ext cx="152280" cy="164880"/>
            <a:chOff x="8001000" y="4647960"/>
            <a:chExt cx="152280" cy="164880"/>
          </a:xfrm>
        </p:grpSpPr>
        <p:sp>
          <p:nvSpPr>
            <p:cNvPr id="1049" name=""/>
            <p:cNvSpPr/>
            <p:nvPr/>
          </p:nvSpPr>
          <p:spPr>
            <a:xfrm>
              <a:off x="8001000" y="47368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8076960" y="46479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6629400" y="6400800"/>
            <a:ext cx="147600" cy="222120"/>
            <a:chOff x="6629400" y="6400800"/>
            <a:chExt cx="147600" cy="222120"/>
          </a:xfrm>
        </p:grpSpPr>
        <p:sp>
          <p:nvSpPr>
            <p:cNvPr id="1052" name=""/>
            <p:cNvSpPr/>
            <p:nvPr/>
          </p:nvSpPr>
          <p:spPr>
            <a:xfrm>
              <a:off x="6658920" y="64008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703200" y="64897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629400" y="65563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5722560" y="3581280"/>
            <a:ext cx="352800" cy="533520"/>
            <a:chOff x="5722560" y="3581280"/>
            <a:chExt cx="352800" cy="533520"/>
          </a:xfrm>
        </p:grpSpPr>
        <p:sp>
          <p:nvSpPr>
            <p:cNvPr id="1056" name=""/>
            <p:cNvSpPr/>
            <p:nvPr/>
          </p:nvSpPr>
          <p:spPr>
            <a:xfrm rot="10800000">
              <a:off x="6019560" y="36878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22560" y="35812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172200" y="3581280"/>
            <a:ext cx="360360" cy="533160"/>
            <a:chOff x="6172200" y="3581280"/>
            <a:chExt cx="360360" cy="533160"/>
          </a:xfrm>
        </p:grpSpPr>
        <p:sp>
          <p:nvSpPr>
            <p:cNvPr id="1059" name=""/>
            <p:cNvSpPr/>
            <p:nvPr/>
          </p:nvSpPr>
          <p:spPr>
            <a:xfrm rot="10800000">
              <a:off x="6172200" y="368748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79760" y="35812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6565680" y="3581280"/>
            <a:ext cx="427320" cy="533160"/>
            <a:chOff x="6565680" y="3581280"/>
            <a:chExt cx="427320" cy="533160"/>
          </a:xfrm>
        </p:grpSpPr>
        <p:sp>
          <p:nvSpPr>
            <p:cNvPr id="1062" name=""/>
            <p:cNvSpPr/>
            <p:nvPr/>
          </p:nvSpPr>
          <p:spPr>
            <a:xfrm rot="10800000">
              <a:off x="6565680" y="368748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73240" y="35812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7785000" y="3352680"/>
            <a:ext cx="427320" cy="533160"/>
            <a:chOff x="7785000" y="3352680"/>
            <a:chExt cx="427320" cy="533160"/>
          </a:xfrm>
        </p:grpSpPr>
        <p:sp>
          <p:nvSpPr>
            <p:cNvPr id="1065" name=""/>
            <p:cNvSpPr/>
            <p:nvPr/>
          </p:nvSpPr>
          <p:spPr>
            <a:xfrm rot="10800000">
              <a:off x="7785000" y="345888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792560" y="33526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887800" y="5105520"/>
            <a:ext cx="352800" cy="532440"/>
            <a:chOff x="5887800" y="5105520"/>
            <a:chExt cx="352800" cy="532440"/>
          </a:xfrm>
        </p:grpSpPr>
        <p:sp>
          <p:nvSpPr>
            <p:cNvPr id="1068" name=""/>
            <p:cNvSpPr/>
            <p:nvPr/>
          </p:nvSpPr>
          <p:spPr>
            <a:xfrm rot="10800000">
              <a:off x="6184800" y="5211360"/>
              <a:ext cx="52560" cy="42660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87800" y="51055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6299280" y="5105520"/>
            <a:ext cx="360360" cy="533160"/>
            <a:chOff x="6299280" y="5105520"/>
            <a:chExt cx="360360" cy="533160"/>
          </a:xfrm>
        </p:grpSpPr>
        <p:sp>
          <p:nvSpPr>
            <p:cNvPr id="1071" name=""/>
            <p:cNvSpPr/>
            <p:nvPr/>
          </p:nvSpPr>
          <p:spPr>
            <a:xfrm rot="10800000">
              <a:off x="6299280" y="521172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06840" y="51055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629400" y="5181480"/>
            <a:ext cx="109440" cy="456840"/>
            <a:chOff x="6629400" y="5181480"/>
            <a:chExt cx="109440" cy="456840"/>
          </a:xfrm>
        </p:grpSpPr>
        <p:sp>
          <p:nvSpPr>
            <p:cNvPr id="1074" name=""/>
            <p:cNvSpPr/>
            <p:nvPr/>
          </p:nvSpPr>
          <p:spPr>
            <a:xfrm>
              <a:off x="6637680" y="518148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0800000">
              <a:off x="6629400" y="523224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7586640" y="5181480"/>
            <a:ext cx="109440" cy="456840"/>
            <a:chOff x="7586640" y="5181480"/>
            <a:chExt cx="109440" cy="456840"/>
          </a:xfrm>
        </p:grpSpPr>
        <p:sp>
          <p:nvSpPr>
            <p:cNvPr id="1077" name=""/>
            <p:cNvSpPr/>
            <p:nvPr/>
          </p:nvSpPr>
          <p:spPr>
            <a:xfrm>
              <a:off x="7594920" y="518148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7586640" y="523224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5867280" y="2603520"/>
            <a:ext cx="9144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2666880"/>
            <a:ext cx="8380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788080" y="437832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251840" y="586728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t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4343400" y="1523880"/>
            <a:ext cx="165240" cy="685440"/>
            <a:chOff x="4343400" y="1523880"/>
            <a:chExt cx="165240" cy="685440"/>
          </a:xfrm>
        </p:grpSpPr>
        <p:sp>
          <p:nvSpPr>
            <p:cNvPr id="1084" name=""/>
            <p:cNvSpPr/>
            <p:nvPr/>
          </p:nvSpPr>
          <p:spPr>
            <a:xfrm>
              <a:off x="4356000" y="152388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0800000">
              <a:off x="4343400" y="159984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200400" y="3276720"/>
            <a:ext cx="1447920" cy="3504960"/>
            <a:chOff x="3200400" y="3276720"/>
            <a:chExt cx="1447920" cy="3504960"/>
          </a:xfrm>
        </p:grpSpPr>
        <p:sp>
          <p:nvSpPr>
            <p:cNvPr id="1087" name=""/>
            <p:cNvSpPr/>
            <p:nvPr/>
          </p:nvSpPr>
          <p:spPr>
            <a:xfrm>
              <a:off x="3200400" y="3276720"/>
              <a:ext cx="1447920" cy="3504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400" y="510516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512880" y="2666880"/>
            <a:ext cx="352800" cy="533520"/>
            <a:chOff x="3512880" y="2666880"/>
            <a:chExt cx="352800" cy="533520"/>
          </a:xfrm>
        </p:grpSpPr>
        <p:sp>
          <p:nvSpPr>
            <p:cNvPr id="1090" name=""/>
            <p:cNvSpPr/>
            <p:nvPr/>
          </p:nvSpPr>
          <p:spPr>
            <a:xfrm rot="10800000">
              <a:off x="3809880" y="27734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512880" y="2666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505320" y="2603520"/>
            <a:ext cx="91440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3962520" y="2743200"/>
            <a:ext cx="109440" cy="456840"/>
            <a:chOff x="3962520" y="2743200"/>
            <a:chExt cx="109440" cy="456840"/>
          </a:xfrm>
        </p:grpSpPr>
        <p:sp>
          <p:nvSpPr>
            <p:cNvPr id="1094" name=""/>
            <p:cNvSpPr/>
            <p:nvPr/>
          </p:nvSpPr>
          <p:spPr>
            <a:xfrm>
              <a:off x="3970800" y="27432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0800000">
              <a:off x="3962520" y="27939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6" name="" descr=""/>
          <p:cNvPicPr/>
          <p:nvPr/>
        </p:nvPicPr>
        <p:blipFill>
          <a:blip r:embed="rId8"/>
          <a:stretch/>
        </p:blipFill>
        <p:spPr>
          <a:xfrm>
            <a:off x="3394080" y="3886200"/>
            <a:ext cx="102564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097" name=""/>
          <p:cNvGrpSpPr/>
          <p:nvPr/>
        </p:nvGrpSpPr>
        <p:grpSpPr>
          <a:xfrm>
            <a:off x="4156200" y="4648320"/>
            <a:ext cx="147600" cy="222120"/>
            <a:chOff x="4156200" y="4648320"/>
            <a:chExt cx="147600" cy="222120"/>
          </a:xfrm>
        </p:grpSpPr>
        <p:sp>
          <p:nvSpPr>
            <p:cNvPr id="1098" name=""/>
            <p:cNvSpPr/>
            <p:nvPr/>
          </p:nvSpPr>
          <p:spPr>
            <a:xfrm>
              <a:off x="4185720" y="46483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0000" y="47372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156200" y="48038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3338280" y="3276720"/>
            <a:ext cx="352800" cy="532440"/>
            <a:chOff x="3338280" y="3276720"/>
            <a:chExt cx="352800" cy="532440"/>
          </a:xfrm>
        </p:grpSpPr>
        <p:sp>
          <p:nvSpPr>
            <p:cNvPr id="1102" name=""/>
            <p:cNvSpPr/>
            <p:nvPr/>
          </p:nvSpPr>
          <p:spPr>
            <a:xfrm rot="10800000">
              <a:off x="3635280" y="3382560"/>
              <a:ext cx="52560" cy="42660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38280" y="32767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4035240" y="3251160"/>
            <a:ext cx="427320" cy="533160"/>
            <a:chOff x="4035240" y="3251160"/>
            <a:chExt cx="427320" cy="533160"/>
          </a:xfrm>
        </p:grpSpPr>
        <p:sp>
          <p:nvSpPr>
            <p:cNvPr id="1105" name=""/>
            <p:cNvSpPr/>
            <p:nvPr/>
          </p:nvSpPr>
          <p:spPr>
            <a:xfrm rot="10800000">
              <a:off x="4035240" y="3357360"/>
              <a:ext cx="51840" cy="426960"/>
            </a:xfrm>
            <a:prstGeom prst="can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42800" y="325116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3776760" y="3352680"/>
            <a:ext cx="109440" cy="456840"/>
            <a:chOff x="3776760" y="3352680"/>
            <a:chExt cx="109440" cy="456840"/>
          </a:xfrm>
        </p:grpSpPr>
        <p:sp>
          <p:nvSpPr>
            <p:cNvPr id="1108" name=""/>
            <p:cNvSpPr/>
            <p:nvPr/>
          </p:nvSpPr>
          <p:spPr>
            <a:xfrm>
              <a:off x="3785040" y="335268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0800000">
              <a:off x="3776760" y="340344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0" name="" descr=""/>
          <p:cNvPicPr/>
          <p:nvPr/>
        </p:nvPicPr>
        <p:blipFill>
          <a:blip r:embed="rId9"/>
          <a:stretch/>
        </p:blipFill>
        <p:spPr>
          <a:xfrm>
            <a:off x="3340080" y="5746680"/>
            <a:ext cx="1003320" cy="959040"/>
          </a:xfrm>
          <a:prstGeom prst="rect">
            <a:avLst/>
          </a:prstGeom>
          <a:ln w="0">
            <a:noFill/>
          </a:ln>
        </p:spPr>
      </p:pic>
      <p:grpSp>
        <p:nvGrpSpPr>
          <p:cNvPr id="1111" name=""/>
          <p:cNvGrpSpPr/>
          <p:nvPr/>
        </p:nvGrpSpPr>
        <p:grpSpPr>
          <a:xfrm>
            <a:off x="4178160" y="6203880"/>
            <a:ext cx="152280" cy="165240"/>
            <a:chOff x="4178160" y="6203880"/>
            <a:chExt cx="152280" cy="165240"/>
          </a:xfrm>
        </p:grpSpPr>
        <p:sp>
          <p:nvSpPr>
            <p:cNvPr id="1112" name=""/>
            <p:cNvSpPr/>
            <p:nvPr/>
          </p:nvSpPr>
          <p:spPr>
            <a:xfrm>
              <a:off x="4178160" y="62928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4254120" y="6203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3499920" y="5181480"/>
            <a:ext cx="352800" cy="533520"/>
            <a:chOff x="3499920" y="5181480"/>
            <a:chExt cx="352800" cy="533520"/>
          </a:xfrm>
        </p:grpSpPr>
        <p:sp>
          <p:nvSpPr>
            <p:cNvPr id="1115" name=""/>
            <p:cNvSpPr/>
            <p:nvPr/>
          </p:nvSpPr>
          <p:spPr>
            <a:xfrm rot="10800000">
              <a:off x="3796920" y="5288040"/>
              <a:ext cx="52560" cy="42696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99920" y="51814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3898440" y="5257800"/>
            <a:ext cx="110160" cy="456840"/>
            <a:chOff x="3898440" y="5257800"/>
            <a:chExt cx="110160" cy="456840"/>
          </a:xfrm>
        </p:grpSpPr>
        <p:sp>
          <p:nvSpPr>
            <p:cNvPr id="1118" name=""/>
            <p:cNvSpPr/>
            <p:nvPr/>
          </p:nvSpPr>
          <p:spPr>
            <a:xfrm>
              <a:off x="3907080" y="5257800"/>
              <a:ext cx="10152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0800000">
              <a:off x="3898440" y="5308560"/>
              <a:ext cx="5076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4102200" y="5257800"/>
            <a:ext cx="109440" cy="456840"/>
            <a:chOff x="4102200" y="5257800"/>
            <a:chExt cx="109440" cy="456840"/>
          </a:xfrm>
        </p:grpSpPr>
        <p:sp>
          <p:nvSpPr>
            <p:cNvPr id="1121" name=""/>
            <p:cNvSpPr/>
            <p:nvPr/>
          </p:nvSpPr>
          <p:spPr>
            <a:xfrm>
              <a:off x="4110480" y="52578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rot="10800000">
              <a:off x="4102200" y="53085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7162920" y="2679840"/>
            <a:ext cx="83808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7586640" y="2755800"/>
            <a:ext cx="109440" cy="456840"/>
            <a:chOff x="7586640" y="2755800"/>
            <a:chExt cx="109440" cy="456840"/>
          </a:xfrm>
        </p:grpSpPr>
        <p:sp>
          <p:nvSpPr>
            <p:cNvPr id="1125" name=""/>
            <p:cNvSpPr/>
            <p:nvPr/>
          </p:nvSpPr>
          <p:spPr>
            <a:xfrm>
              <a:off x="7594920" y="275580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0800000">
              <a:off x="7586640" y="280656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467120" y="3429000"/>
            <a:ext cx="110160" cy="456840"/>
            <a:chOff x="7467120" y="3429000"/>
            <a:chExt cx="110160" cy="456840"/>
          </a:xfrm>
        </p:grpSpPr>
        <p:sp>
          <p:nvSpPr>
            <p:cNvPr id="1128" name=""/>
            <p:cNvSpPr/>
            <p:nvPr/>
          </p:nvSpPr>
          <p:spPr>
            <a:xfrm>
              <a:off x="7475760" y="3429000"/>
              <a:ext cx="10152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0800000">
              <a:off x="7467120" y="3479760"/>
              <a:ext cx="5076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891560" y="5181480"/>
            <a:ext cx="109440" cy="456840"/>
            <a:chOff x="7891560" y="5181480"/>
            <a:chExt cx="109440" cy="456840"/>
          </a:xfrm>
        </p:grpSpPr>
        <p:sp>
          <p:nvSpPr>
            <p:cNvPr id="1131" name=""/>
            <p:cNvSpPr/>
            <p:nvPr/>
          </p:nvSpPr>
          <p:spPr>
            <a:xfrm>
              <a:off x="7899840" y="5181480"/>
              <a:ext cx="101160" cy="253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0800000">
              <a:off x="7891560" y="5232240"/>
              <a:ext cx="50400" cy="4060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517320" y="2209680"/>
            <a:ext cx="26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gregazione regolare dell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429000" y="22096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666520" y="2438280"/>
            <a:ext cx="7621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429000" y="2438280"/>
            <a:ext cx="30492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244760" y="2174760"/>
            <a:ext cx="22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n disgiunzione delle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556080" y="2171880"/>
            <a:ext cx="482400" cy="26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038480" y="2438280"/>
            <a:ext cx="17528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038480" y="2438280"/>
            <a:ext cx="32004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rot="10800000">
            <a:off x="5415120" y="4176360"/>
            <a:ext cx="31680" cy="245880"/>
          </a:xfrm>
          <a:prstGeom prst="can">
            <a:avLst>
              <a:gd name="adj" fmla="val 25000"/>
            </a:avLst>
          </a:prstGeom>
          <a:solidFill>
            <a:srgbClr val="ff0c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48360" y="416088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1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234040" y="4125960"/>
            <a:ext cx="328680" cy="30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00600" y="3975120"/>
            <a:ext cx="393840" cy="276120"/>
          </a:xfrm>
          <a:custGeom>
            <a:avLst/>
            <a:gdLst/>
            <a:ahLst/>
            <a:rect l="l" t="t" r="r" b="b"/>
            <a:pathLst>
              <a:path w="480" h="320">
                <a:moveTo>
                  <a:pt x="480" y="320"/>
                </a:moveTo>
                <a:cubicBezTo>
                  <a:pt x="456" y="285"/>
                  <a:pt x="441" y="294"/>
                  <a:pt x="408" y="272"/>
                </a:cubicBezTo>
                <a:cubicBezTo>
                  <a:pt x="351" y="286"/>
                  <a:pt x="296" y="273"/>
                  <a:pt x="240" y="264"/>
                </a:cubicBezTo>
                <a:cubicBezTo>
                  <a:pt x="235" y="245"/>
                  <a:pt x="224" y="227"/>
                  <a:pt x="224" y="208"/>
                </a:cubicBezTo>
                <a:cubicBezTo>
                  <a:pt x="224" y="162"/>
                  <a:pt x="254" y="109"/>
                  <a:pt x="264" y="64"/>
                </a:cubicBezTo>
                <a:cubicBezTo>
                  <a:pt x="241" y="29"/>
                  <a:pt x="222" y="23"/>
                  <a:pt x="184" y="8"/>
                </a:cubicBezTo>
                <a:cubicBezTo>
                  <a:pt x="160" y="13"/>
                  <a:pt x="135" y="17"/>
                  <a:pt x="112" y="24"/>
                </a:cubicBezTo>
                <a:cubicBezTo>
                  <a:pt x="95" y="28"/>
                  <a:pt x="64" y="40"/>
                  <a:pt x="64" y="40"/>
                </a:cubicBezTo>
                <a:cubicBezTo>
                  <a:pt x="37" y="31"/>
                  <a:pt x="20" y="2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43680" y="4238640"/>
            <a:ext cx="109440" cy="604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4724280" y="5638680"/>
            <a:ext cx="838440" cy="533520"/>
            <a:chOff x="4724280" y="5638680"/>
            <a:chExt cx="838440" cy="533520"/>
          </a:xfrm>
        </p:grpSpPr>
        <p:sp>
          <p:nvSpPr>
            <p:cNvPr id="1147" name=""/>
            <p:cNvSpPr/>
            <p:nvPr/>
          </p:nvSpPr>
          <p:spPr>
            <a:xfrm>
              <a:off x="5380200" y="5875200"/>
              <a:ext cx="64800" cy="152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0800000">
              <a:off x="5374800" y="5905080"/>
              <a:ext cx="32040" cy="24444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35480" y="5865840"/>
              <a:ext cx="3272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24280" y="5638680"/>
              <a:ext cx="419400" cy="319320"/>
            </a:xfrm>
            <a:custGeom>
              <a:avLst/>
              <a:gdLst/>
              <a:ahLst/>
              <a:rect l="l" t="t" r="r" b="b"/>
              <a:pathLst>
                <a:path w="480" h="320">
                  <a:moveTo>
                    <a:pt x="480" y="320"/>
                  </a:moveTo>
                  <a:cubicBezTo>
                    <a:pt x="456" y="285"/>
                    <a:pt x="441" y="294"/>
                    <a:pt x="408" y="272"/>
                  </a:cubicBezTo>
                  <a:cubicBezTo>
                    <a:pt x="351" y="286"/>
                    <a:pt x="296" y="273"/>
                    <a:pt x="240" y="264"/>
                  </a:cubicBezTo>
                  <a:cubicBezTo>
                    <a:pt x="235" y="245"/>
                    <a:pt x="224" y="227"/>
                    <a:pt x="224" y="208"/>
                  </a:cubicBezTo>
                  <a:cubicBezTo>
                    <a:pt x="224" y="162"/>
                    <a:pt x="254" y="109"/>
                    <a:pt x="264" y="64"/>
                  </a:cubicBezTo>
                  <a:cubicBezTo>
                    <a:pt x="241" y="29"/>
                    <a:pt x="222" y="23"/>
                    <a:pt x="184" y="8"/>
                  </a:cubicBezTo>
                  <a:cubicBezTo>
                    <a:pt x="160" y="13"/>
                    <a:pt x="135" y="17"/>
                    <a:pt x="112" y="24"/>
                  </a:cubicBezTo>
                  <a:cubicBezTo>
                    <a:pt x="95" y="28"/>
                    <a:pt x="64" y="40"/>
                    <a:pt x="64" y="40"/>
                  </a:cubicBezTo>
                  <a:cubicBezTo>
                    <a:pt x="37" y="31"/>
                    <a:pt x="20" y="2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143680" y="5958000"/>
              <a:ext cx="109440" cy="6192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 flipV="1">
            <a:off x="533520" y="2514240"/>
            <a:ext cx="12189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48320" y="32004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permatoz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69120" y="2590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1400" y="42670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01600" y="144792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78480" y="16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c0c"/>
                </a:solidFill>
                <a:latin typeface="Comic Sans MS"/>
              </a:rPr>
              <a:t>In quale fase della meiosi avviene la non disgiun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98280" y="1339920"/>
            <a:ext cx="4448160" cy="533376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4462560" y="1295280"/>
            <a:ext cx="4505400" cy="5454720"/>
          </a:xfrm>
          <a:prstGeom prst="rect">
            <a:avLst/>
          </a:prstGeom>
          <a:ln w="0">
            <a:noFill/>
          </a:ln>
        </p:spPr>
      </p:pic>
      <p:grpSp>
        <p:nvGrpSpPr>
          <p:cNvPr id="1161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162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482"/>
                </a:solidFill>
                <a:latin typeface="Comic Sans MS"/>
              </a:rPr>
              <a:t>Non disgiunzione come conseguenza di cromosomi </a:t>
            </a:r>
            <a:br>
              <a:rPr sz="2400"/>
            </a:br>
            <a:r>
              <a:rPr b="0" lang="it-IT" sz="2400" spc="-1" strike="noStrike">
                <a:solidFill>
                  <a:srgbClr val="ff1482"/>
                </a:solidFill>
                <a:latin typeface="Comic Sans MS"/>
              </a:rPr>
              <a:t>X-attac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16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3352680" y="1981080"/>
            <a:ext cx="147600" cy="222120"/>
            <a:chOff x="3352680" y="1981080"/>
            <a:chExt cx="147600" cy="222120"/>
          </a:xfrm>
        </p:grpSpPr>
        <p:sp>
          <p:nvSpPr>
            <p:cNvPr id="1175" name=""/>
            <p:cNvSpPr/>
            <p:nvPr/>
          </p:nvSpPr>
          <p:spPr>
            <a:xfrm>
              <a:off x="3382200" y="198108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426480" y="207000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352680" y="213660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6172200" y="2074680"/>
            <a:ext cx="152280" cy="164880"/>
            <a:chOff x="6172200" y="2074680"/>
            <a:chExt cx="152280" cy="164880"/>
          </a:xfrm>
        </p:grpSpPr>
        <p:sp>
          <p:nvSpPr>
            <p:cNvPr id="1179" name=""/>
            <p:cNvSpPr/>
            <p:nvPr/>
          </p:nvSpPr>
          <p:spPr>
            <a:xfrm>
              <a:off x="6172200" y="216360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6248160" y="207468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491440" y="1676160"/>
            <a:ext cx="394200" cy="609480"/>
            <a:chOff x="5491440" y="1676160"/>
            <a:chExt cx="394200" cy="609480"/>
          </a:xfrm>
        </p:grpSpPr>
        <p:sp>
          <p:nvSpPr>
            <p:cNvPr id="1182" name=""/>
            <p:cNvSpPr/>
            <p:nvPr/>
          </p:nvSpPr>
          <p:spPr>
            <a:xfrm rot="10800000">
              <a:off x="5778360" y="16761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91440" y="17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Y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5930640" y="1600200"/>
            <a:ext cx="164880" cy="685440"/>
            <a:chOff x="5930640" y="1600200"/>
            <a:chExt cx="164880" cy="685440"/>
          </a:xfrm>
        </p:grpSpPr>
        <p:sp>
          <p:nvSpPr>
            <p:cNvPr id="1185" name=""/>
            <p:cNvSpPr/>
            <p:nvPr/>
          </p:nvSpPr>
          <p:spPr>
            <a:xfrm>
              <a:off x="5943240" y="1600200"/>
              <a:ext cx="15228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0800000">
              <a:off x="5930640" y="16761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400800" y="3276720"/>
            <a:ext cx="914400" cy="469800"/>
            <a:chOff x="6400800" y="3276720"/>
            <a:chExt cx="914400" cy="469800"/>
          </a:xfrm>
        </p:grpSpPr>
        <p:sp>
          <p:nvSpPr>
            <p:cNvPr id="1188" name=""/>
            <p:cNvSpPr/>
            <p:nvPr/>
          </p:nvSpPr>
          <p:spPr>
            <a:xfrm rot="10800000">
              <a:off x="7099200" y="3428640"/>
              <a:ext cx="44280" cy="30492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19840" y="3379680"/>
              <a:ext cx="36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Y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858000" y="3365640"/>
              <a:ext cx="45720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00800" y="3276720"/>
              <a:ext cx="330480" cy="228600"/>
            </a:xfrm>
            <a:custGeom>
              <a:avLst/>
              <a:gdLst/>
              <a:ahLst/>
              <a:rect l="l" t="t" r="r" b="b"/>
              <a:pathLst>
                <a:path w="480" h="320">
                  <a:moveTo>
                    <a:pt x="480" y="320"/>
                  </a:moveTo>
                  <a:cubicBezTo>
                    <a:pt x="456" y="285"/>
                    <a:pt x="441" y="294"/>
                    <a:pt x="408" y="272"/>
                  </a:cubicBezTo>
                  <a:cubicBezTo>
                    <a:pt x="351" y="286"/>
                    <a:pt x="296" y="273"/>
                    <a:pt x="240" y="264"/>
                  </a:cubicBezTo>
                  <a:cubicBezTo>
                    <a:pt x="235" y="245"/>
                    <a:pt x="224" y="227"/>
                    <a:pt x="224" y="208"/>
                  </a:cubicBezTo>
                  <a:cubicBezTo>
                    <a:pt x="224" y="162"/>
                    <a:pt x="254" y="109"/>
                    <a:pt x="264" y="64"/>
                  </a:cubicBezTo>
                  <a:cubicBezTo>
                    <a:pt x="241" y="29"/>
                    <a:pt x="222" y="23"/>
                    <a:pt x="184" y="8"/>
                  </a:cubicBezTo>
                  <a:cubicBezTo>
                    <a:pt x="160" y="13"/>
                    <a:pt x="135" y="17"/>
                    <a:pt x="112" y="24"/>
                  </a:cubicBezTo>
                  <a:cubicBezTo>
                    <a:pt x="95" y="28"/>
                    <a:pt x="64" y="40"/>
                    <a:pt x="64" y="40"/>
                  </a:cubicBezTo>
                  <a:cubicBezTo>
                    <a:pt x="37" y="31"/>
                    <a:pt x="20" y="2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731280" y="3505320"/>
              <a:ext cx="15228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3580920" y="1638360"/>
            <a:ext cx="756360" cy="647280"/>
            <a:chOff x="3580920" y="1638360"/>
            <a:chExt cx="756360" cy="647280"/>
          </a:xfrm>
        </p:grpSpPr>
        <p:grpSp>
          <p:nvGrpSpPr>
            <p:cNvPr id="1194" name=""/>
            <p:cNvGrpSpPr/>
            <p:nvPr/>
          </p:nvGrpSpPr>
          <p:grpSpPr>
            <a:xfrm>
              <a:off x="3580920" y="1650960"/>
              <a:ext cx="756360" cy="634680"/>
              <a:chOff x="3580920" y="1650960"/>
              <a:chExt cx="756360" cy="634680"/>
            </a:xfrm>
          </p:grpSpPr>
          <p:sp>
            <p:nvSpPr>
              <p:cNvPr id="1195" name=""/>
              <p:cNvSpPr/>
              <p:nvPr/>
            </p:nvSpPr>
            <p:spPr>
              <a:xfrm>
                <a:off x="4054320" y="165096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0800000">
                <a:off x="3800160" y="1663560"/>
                <a:ext cx="76320" cy="60984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580920" y="16668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0800000">
                <a:off x="4049280" y="167616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3812760" y="1638360"/>
              <a:ext cx="304920" cy="152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c1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4330440" y="1600200"/>
            <a:ext cx="164880" cy="685440"/>
            <a:chOff x="4330440" y="1600200"/>
            <a:chExt cx="164880" cy="685440"/>
          </a:xfrm>
        </p:grpSpPr>
        <p:sp>
          <p:nvSpPr>
            <p:cNvPr id="1201" name=""/>
            <p:cNvSpPr/>
            <p:nvPr/>
          </p:nvSpPr>
          <p:spPr>
            <a:xfrm>
              <a:off x="4343040" y="1600200"/>
              <a:ext cx="15228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10800000">
              <a:off x="4330440" y="16761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3210840" y="125424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^X corpo gia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372640" y="125748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l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871520" y="1674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1600200" y="3276720"/>
            <a:ext cx="762120" cy="533160"/>
            <a:chOff x="1600200" y="3276720"/>
            <a:chExt cx="762120" cy="533160"/>
          </a:xfrm>
        </p:grpSpPr>
        <p:grpSp>
          <p:nvGrpSpPr>
            <p:cNvPr id="1207" name=""/>
            <p:cNvGrpSpPr/>
            <p:nvPr/>
          </p:nvGrpSpPr>
          <p:grpSpPr>
            <a:xfrm>
              <a:off x="1676520" y="3327120"/>
              <a:ext cx="654480" cy="439200"/>
              <a:chOff x="1676520" y="3327120"/>
              <a:chExt cx="654480" cy="439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2048040" y="333684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10800000">
                <a:off x="1882800" y="3327120"/>
                <a:ext cx="54000" cy="42516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676520" y="33480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0800000">
                <a:off x="2057400" y="3339720"/>
                <a:ext cx="52560" cy="42660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892160" y="3327480"/>
                <a:ext cx="212760" cy="106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1600200" y="3276720"/>
              <a:ext cx="7621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5105520" y="3276720"/>
            <a:ext cx="888840" cy="457200"/>
            <a:chOff x="5105520" y="3276720"/>
            <a:chExt cx="888840" cy="457200"/>
          </a:xfrm>
        </p:grpSpPr>
        <p:sp>
          <p:nvSpPr>
            <p:cNvPr id="1215" name=""/>
            <p:cNvSpPr/>
            <p:nvPr/>
          </p:nvSpPr>
          <p:spPr>
            <a:xfrm>
              <a:off x="5105520" y="3276720"/>
              <a:ext cx="330120" cy="228600"/>
            </a:xfrm>
            <a:custGeom>
              <a:avLst/>
              <a:gdLst/>
              <a:ahLst/>
              <a:rect l="l" t="t" r="r" b="b"/>
              <a:pathLst>
                <a:path w="480" h="320">
                  <a:moveTo>
                    <a:pt x="480" y="320"/>
                  </a:moveTo>
                  <a:cubicBezTo>
                    <a:pt x="456" y="285"/>
                    <a:pt x="441" y="294"/>
                    <a:pt x="408" y="272"/>
                  </a:cubicBezTo>
                  <a:cubicBezTo>
                    <a:pt x="351" y="286"/>
                    <a:pt x="296" y="273"/>
                    <a:pt x="240" y="264"/>
                  </a:cubicBezTo>
                  <a:cubicBezTo>
                    <a:pt x="235" y="245"/>
                    <a:pt x="224" y="227"/>
                    <a:pt x="224" y="208"/>
                  </a:cubicBezTo>
                  <a:cubicBezTo>
                    <a:pt x="224" y="162"/>
                    <a:pt x="254" y="109"/>
                    <a:pt x="264" y="64"/>
                  </a:cubicBezTo>
                  <a:cubicBezTo>
                    <a:pt x="241" y="29"/>
                    <a:pt x="222" y="23"/>
                    <a:pt x="184" y="8"/>
                  </a:cubicBezTo>
                  <a:cubicBezTo>
                    <a:pt x="160" y="13"/>
                    <a:pt x="135" y="17"/>
                    <a:pt x="112" y="24"/>
                  </a:cubicBezTo>
                  <a:cubicBezTo>
                    <a:pt x="95" y="28"/>
                    <a:pt x="64" y="40"/>
                    <a:pt x="64" y="40"/>
                  </a:cubicBezTo>
                  <a:cubicBezTo>
                    <a:pt x="37" y="31"/>
                    <a:pt x="20" y="2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35640" y="3505320"/>
              <a:ext cx="152280" cy="7596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5734080" y="3363840"/>
              <a:ext cx="96480" cy="342720"/>
              <a:chOff x="5734080" y="3363840"/>
              <a:chExt cx="96480" cy="342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5741280" y="3363840"/>
                <a:ext cx="89280" cy="1904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0800000">
                <a:off x="5734080" y="3401640"/>
                <a:ext cx="44640" cy="30492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5537160" y="3352680"/>
              <a:ext cx="45720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1828800" y="2895480"/>
            <a:ext cx="355680" cy="297000"/>
            <a:chOff x="1828800" y="2895480"/>
            <a:chExt cx="355680" cy="297000"/>
          </a:xfrm>
        </p:grpSpPr>
        <p:grpSp>
          <p:nvGrpSpPr>
            <p:cNvPr id="1222" name=""/>
            <p:cNvGrpSpPr/>
            <p:nvPr/>
          </p:nvGrpSpPr>
          <p:grpSpPr>
            <a:xfrm>
              <a:off x="1986840" y="2915280"/>
              <a:ext cx="74880" cy="266400"/>
              <a:chOff x="1986840" y="2915280"/>
              <a:chExt cx="74880" cy="266400"/>
            </a:xfrm>
          </p:grpSpPr>
          <p:sp>
            <p:nvSpPr>
              <p:cNvPr id="1223" name=""/>
              <p:cNvSpPr/>
              <p:nvPr/>
            </p:nvSpPr>
            <p:spPr>
              <a:xfrm>
                <a:off x="1992240" y="2915280"/>
                <a:ext cx="69480" cy="1483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10800000">
                <a:off x="1986840" y="2944440"/>
                <a:ext cx="34560" cy="23724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1828800" y="2895480"/>
              <a:ext cx="355680" cy="297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2590920" y="3301920"/>
            <a:ext cx="609480" cy="507960"/>
            <a:chOff x="2590920" y="3301920"/>
            <a:chExt cx="609480" cy="507960"/>
          </a:xfrm>
        </p:grpSpPr>
        <p:grpSp>
          <p:nvGrpSpPr>
            <p:cNvPr id="1227" name=""/>
            <p:cNvGrpSpPr/>
            <p:nvPr/>
          </p:nvGrpSpPr>
          <p:grpSpPr>
            <a:xfrm>
              <a:off x="2892600" y="3381480"/>
              <a:ext cx="107280" cy="380520"/>
              <a:chOff x="2892600" y="3381480"/>
              <a:chExt cx="107280" cy="380520"/>
            </a:xfrm>
          </p:grpSpPr>
          <p:sp>
            <p:nvSpPr>
              <p:cNvPr id="1228" name=""/>
              <p:cNvSpPr/>
              <p:nvPr/>
            </p:nvSpPr>
            <p:spPr>
              <a:xfrm>
                <a:off x="2900520" y="3381480"/>
                <a:ext cx="99360" cy="2113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10800000">
                <a:off x="2892600" y="3423600"/>
                <a:ext cx="49680" cy="3384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2590920" y="3301920"/>
              <a:ext cx="609480" cy="507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90920" y="2895480"/>
            <a:ext cx="579240" cy="355320"/>
            <a:chOff x="2590920" y="2895480"/>
            <a:chExt cx="579240" cy="355320"/>
          </a:xfrm>
        </p:grpSpPr>
        <p:grpSp>
          <p:nvGrpSpPr>
            <p:cNvPr id="1232" name=""/>
            <p:cNvGrpSpPr/>
            <p:nvPr/>
          </p:nvGrpSpPr>
          <p:grpSpPr>
            <a:xfrm>
              <a:off x="2641320" y="2929320"/>
              <a:ext cx="528840" cy="320760"/>
              <a:chOff x="2641320" y="2929320"/>
              <a:chExt cx="528840" cy="320760"/>
            </a:xfrm>
          </p:grpSpPr>
          <p:sp>
            <p:nvSpPr>
              <p:cNvPr id="1233" name=""/>
              <p:cNvSpPr/>
              <p:nvPr/>
            </p:nvSpPr>
            <p:spPr>
              <a:xfrm>
                <a:off x="2887200" y="293652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800000">
                <a:off x="2778480" y="2929320"/>
                <a:ext cx="35640" cy="28368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641320" y="29430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0800000">
                <a:off x="2894760" y="2937960"/>
                <a:ext cx="34920" cy="284400"/>
              </a:xfrm>
              <a:prstGeom prst="can">
                <a:avLst>
                  <a:gd name="adj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784960" y="2929320"/>
                <a:ext cx="141480" cy="709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8" name=""/>
            <p:cNvSpPr/>
            <p:nvPr/>
          </p:nvSpPr>
          <p:spPr>
            <a:xfrm>
              <a:off x="2590920" y="2895480"/>
              <a:ext cx="50724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365760" y="32004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1600" y="2397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99560" y="2400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571360" y="2593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742800" y="25970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98108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143000" y="4800600"/>
            <a:ext cx="1447920" cy="838080"/>
            <a:chOff x="1143000" y="4800600"/>
            <a:chExt cx="1447920" cy="838080"/>
          </a:xfrm>
        </p:grpSpPr>
        <p:grpSp>
          <p:nvGrpSpPr>
            <p:cNvPr id="1246" name=""/>
            <p:cNvGrpSpPr/>
            <p:nvPr/>
          </p:nvGrpSpPr>
          <p:grpSpPr>
            <a:xfrm>
              <a:off x="1371240" y="4915080"/>
              <a:ext cx="756360" cy="647280"/>
              <a:chOff x="1371240" y="4915080"/>
              <a:chExt cx="756360" cy="64728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371240" y="4927680"/>
                <a:ext cx="756360" cy="634680"/>
                <a:chOff x="1371240" y="4927680"/>
                <a:chExt cx="756360" cy="63468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844640" y="49276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rot="10800000">
                  <a:off x="1590480" y="4940280"/>
                  <a:ext cx="76320" cy="609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c1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71240" y="49435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rot="10800000">
                  <a:off x="1839600" y="4952880"/>
                  <a:ext cx="76320" cy="609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c1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1603080" y="4915080"/>
                <a:ext cx="304920" cy="152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2120760" y="4863960"/>
              <a:ext cx="165240" cy="685440"/>
              <a:chOff x="2120760" y="4863960"/>
              <a:chExt cx="165240" cy="685440"/>
            </a:xfrm>
          </p:grpSpPr>
          <p:sp>
            <p:nvSpPr>
              <p:cNvPr id="1254" name=""/>
              <p:cNvSpPr/>
              <p:nvPr/>
            </p:nvSpPr>
            <p:spPr>
              <a:xfrm>
                <a:off x="2133360" y="4863960"/>
                <a:ext cx="152640" cy="380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10800000">
                <a:off x="2120760" y="493992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1143000" y="4800600"/>
              <a:ext cx="1447920" cy="838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2743200" y="4800600"/>
            <a:ext cx="1447920" cy="838080"/>
            <a:chOff x="2743200" y="4800600"/>
            <a:chExt cx="1447920" cy="838080"/>
          </a:xfrm>
        </p:grpSpPr>
        <p:grpSp>
          <p:nvGrpSpPr>
            <p:cNvPr id="1258" name=""/>
            <p:cNvGrpSpPr/>
            <p:nvPr/>
          </p:nvGrpSpPr>
          <p:grpSpPr>
            <a:xfrm>
              <a:off x="2901600" y="4915080"/>
              <a:ext cx="756360" cy="647280"/>
              <a:chOff x="2901600" y="4915080"/>
              <a:chExt cx="756360" cy="64728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2901600" y="4927680"/>
                <a:ext cx="756360" cy="634680"/>
                <a:chOff x="2901600" y="4927680"/>
                <a:chExt cx="756360" cy="6346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3375000" y="492768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rot="10800000">
                  <a:off x="3120840" y="4940280"/>
                  <a:ext cx="76320" cy="60984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c1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901600" y="494352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rot="10800000">
                  <a:off x="3369960" y="4952880"/>
                  <a:ext cx="76320" cy="609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c1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4" name=""/>
              <p:cNvSpPr/>
              <p:nvPr/>
            </p:nvSpPr>
            <p:spPr>
              <a:xfrm>
                <a:off x="3133440" y="4915080"/>
                <a:ext cx="304920" cy="152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c1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3562920" y="4914720"/>
              <a:ext cx="394200" cy="609480"/>
              <a:chOff x="3562920" y="4914720"/>
              <a:chExt cx="394200" cy="609480"/>
            </a:xfrm>
          </p:grpSpPr>
          <p:sp>
            <p:nvSpPr>
              <p:cNvPr id="1266" name=""/>
              <p:cNvSpPr/>
              <p:nvPr/>
            </p:nvSpPr>
            <p:spPr>
              <a:xfrm rot="10800000">
                <a:off x="3849840" y="491472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ff0c0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562920" y="4956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43200" y="4800600"/>
              <a:ext cx="1447920" cy="8380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2209680" y="3733920"/>
            <a:ext cx="914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5105520" y="4800600"/>
            <a:ext cx="1218960" cy="812880"/>
            <a:chOff x="5105520" y="4800600"/>
            <a:chExt cx="1218960" cy="812880"/>
          </a:xfrm>
        </p:grpSpPr>
        <p:grpSp>
          <p:nvGrpSpPr>
            <p:cNvPr id="1271" name=""/>
            <p:cNvGrpSpPr/>
            <p:nvPr/>
          </p:nvGrpSpPr>
          <p:grpSpPr>
            <a:xfrm>
              <a:off x="5262840" y="4914720"/>
              <a:ext cx="394200" cy="609480"/>
              <a:chOff x="5262840" y="4914720"/>
              <a:chExt cx="394200" cy="609480"/>
            </a:xfrm>
          </p:grpSpPr>
          <p:sp>
            <p:nvSpPr>
              <p:cNvPr id="1272" name=""/>
              <p:cNvSpPr/>
              <p:nvPr/>
            </p:nvSpPr>
            <p:spPr>
              <a:xfrm rot="10800000">
                <a:off x="5549760" y="491472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ff0c0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62840" y="49561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Y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5715000" y="4838760"/>
              <a:ext cx="165240" cy="685440"/>
              <a:chOff x="5715000" y="4838760"/>
              <a:chExt cx="165240" cy="685440"/>
            </a:xfrm>
          </p:grpSpPr>
          <p:sp>
            <p:nvSpPr>
              <p:cNvPr id="1275" name=""/>
              <p:cNvSpPr/>
              <p:nvPr/>
            </p:nvSpPr>
            <p:spPr>
              <a:xfrm>
                <a:off x="5727600" y="4838760"/>
                <a:ext cx="152640" cy="380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0800000">
                <a:off x="5715000" y="491472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7" name=""/>
            <p:cNvSpPr/>
            <p:nvPr/>
          </p:nvSpPr>
          <p:spPr>
            <a:xfrm>
              <a:off x="5105520" y="4800600"/>
              <a:ext cx="1218960" cy="812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6477120" y="4800600"/>
            <a:ext cx="1218960" cy="812880"/>
            <a:chOff x="6477120" y="4800600"/>
            <a:chExt cx="1218960" cy="812880"/>
          </a:xfrm>
        </p:grpSpPr>
        <p:grpSp>
          <p:nvGrpSpPr>
            <p:cNvPr id="1279" name=""/>
            <p:cNvGrpSpPr/>
            <p:nvPr/>
          </p:nvGrpSpPr>
          <p:grpSpPr>
            <a:xfrm>
              <a:off x="6858000" y="4838760"/>
              <a:ext cx="165240" cy="685440"/>
              <a:chOff x="6858000" y="4838760"/>
              <a:chExt cx="16524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6870600" y="4838760"/>
                <a:ext cx="152640" cy="380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0800000">
                <a:off x="6858000" y="4914720"/>
                <a:ext cx="76320" cy="609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7073640" y="4838760"/>
              <a:ext cx="164880" cy="685440"/>
              <a:chOff x="7073640" y="4838760"/>
              <a:chExt cx="164880" cy="685440"/>
            </a:xfrm>
          </p:grpSpPr>
          <p:sp>
            <p:nvSpPr>
              <p:cNvPr id="1283" name=""/>
              <p:cNvSpPr/>
              <p:nvPr/>
            </p:nvSpPr>
            <p:spPr>
              <a:xfrm>
                <a:off x="7086240" y="4838760"/>
                <a:ext cx="152280" cy="3808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0800000">
                <a:off x="7073640" y="4914720"/>
                <a:ext cx="75960" cy="60948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6477120" y="4800600"/>
              <a:ext cx="1218960" cy="812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3200400" y="3733920"/>
            <a:ext cx="24382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200400" y="3581280"/>
            <a:ext cx="32767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2361960" y="3657600"/>
            <a:ext cx="327636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3962160" y="3657600"/>
            <a:ext cx="289548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791320" y="37339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867280" y="3733920"/>
            <a:ext cx="1219320" cy="99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593000" y="55976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09040" y="5613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42760" y="5600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958800" y="5616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332000" y="5943600"/>
            <a:ext cx="115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ipl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uoio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2362320" y="5257800"/>
            <a:ext cx="147600" cy="222120"/>
            <a:chOff x="2362320" y="5257800"/>
            <a:chExt cx="147600" cy="222120"/>
          </a:xfrm>
        </p:grpSpPr>
        <p:sp>
          <p:nvSpPr>
            <p:cNvPr id="1298" name=""/>
            <p:cNvSpPr/>
            <p:nvPr/>
          </p:nvSpPr>
          <p:spPr>
            <a:xfrm>
              <a:off x="2391840" y="52578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36120" y="53467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362320" y="54133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962520" y="5257800"/>
            <a:ext cx="147600" cy="222120"/>
            <a:chOff x="3962520" y="5257800"/>
            <a:chExt cx="147600" cy="222120"/>
          </a:xfrm>
        </p:grpSpPr>
        <p:sp>
          <p:nvSpPr>
            <p:cNvPr id="1302" name=""/>
            <p:cNvSpPr/>
            <p:nvPr/>
          </p:nvSpPr>
          <p:spPr>
            <a:xfrm>
              <a:off x="3992040" y="52578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36320" y="53467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962520" y="54133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3000960" y="594360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^X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a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232960" y="5943600"/>
            <a:ext cx="10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ld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0960" y="5943600"/>
            <a:ext cx="103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oi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943600" y="5181480"/>
            <a:ext cx="152280" cy="165240"/>
            <a:chOff x="5943600" y="5181480"/>
            <a:chExt cx="152280" cy="165240"/>
          </a:xfrm>
        </p:grpSpPr>
        <p:sp>
          <p:nvSpPr>
            <p:cNvPr id="1309" name=""/>
            <p:cNvSpPr/>
            <p:nvPr/>
          </p:nvSpPr>
          <p:spPr>
            <a:xfrm>
              <a:off x="5943600" y="52704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019560" y="51814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7315200" y="5207040"/>
            <a:ext cx="152280" cy="165240"/>
            <a:chOff x="7315200" y="5207040"/>
            <a:chExt cx="152280" cy="165240"/>
          </a:xfrm>
        </p:grpSpPr>
        <p:sp>
          <p:nvSpPr>
            <p:cNvPr id="1312" name=""/>
            <p:cNvSpPr/>
            <p:nvPr/>
          </p:nvSpPr>
          <p:spPr>
            <a:xfrm>
              <a:off x="7315200" y="529596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7391160" y="520704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95040" y="4987800"/>
            <a:ext cx="104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9840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c0c"/>
                </a:solidFill>
                <a:latin typeface="Comic Sans MS"/>
              </a:rPr>
              <a:t>Eredità dei caratteri X-linked in organismi in cui le femmine rappresentano il sesso eterogam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3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4724280" y="2286000"/>
            <a:ext cx="228600" cy="228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800600" y="3809880"/>
            <a:ext cx="228600" cy="228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24280" y="5029200"/>
            <a:ext cx="228600" cy="2286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505320" y="2666880"/>
            <a:ext cx="152280" cy="152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72200" y="2666880"/>
            <a:ext cx="152280" cy="152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2"/>
          <a:stretch/>
        </p:blipFill>
        <p:spPr>
          <a:xfrm>
            <a:off x="1076400" y="5410080"/>
            <a:ext cx="1133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8" name="" descr=""/>
          <p:cNvPicPr/>
          <p:nvPr/>
        </p:nvPicPr>
        <p:blipFill>
          <a:blip r:embed="rId3"/>
          <a:stretch/>
        </p:blipFill>
        <p:spPr>
          <a:xfrm>
            <a:off x="7577280" y="5357880"/>
            <a:ext cx="12618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29" name=""/>
          <p:cNvGrpSpPr/>
          <p:nvPr/>
        </p:nvGrpSpPr>
        <p:grpSpPr>
          <a:xfrm>
            <a:off x="1981080" y="1676520"/>
            <a:ext cx="1262160" cy="1436400"/>
            <a:chOff x="1981080" y="1676520"/>
            <a:chExt cx="1262160" cy="1436400"/>
          </a:xfrm>
        </p:grpSpPr>
        <p:pic>
          <p:nvPicPr>
            <p:cNvPr id="1330" name="" descr=""/>
            <p:cNvPicPr/>
            <p:nvPr/>
          </p:nvPicPr>
          <p:blipFill>
            <a:blip r:embed="rId4"/>
            <a:stretch/>
          </p:blipFill>
          <p:spPr>
            <a:xfrm>
              <a:off x="1981080" y="1676520"/>
              <a:ext cx="1262160" cy="143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1" name=""/>
            <p:cNvGrpSpPr/>
            <p:nvPr/>
          </p:nvGrpSpPr>
          <p:grpSpPr>
            <a:xfrm>
              <a:off x="2938320" y="2590920"/>
              <a:ext cx="147600" cy="222120"/>
              <a:chOff x="2938320" y="2590920"/>
              <a:chExt cx="147600" cy="222120"/>
            </a:xfrm>
          </p:grpSpPr>
          <p:sp>
            <p:nvSpPr>
              <p:cNvPr id="1332" name=""/>
              <p:cNvSpPr/>
              <p:nvPr/>
            </p:nvSpPr>
            <p:spPr>
              <a:xfrm>
                <a:off x="2967840" y="2590920"/>
                <a:ext cx="88560" cy="88920"/>
              </a:xfrm>
              <a:prstGeom prst="ellipse">
                <a:avLst/>
              </a:prstGeom>
              <a:solidFill>
                <a:srgbClr val="fffff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012120" y="2679840"/>
                <a:ext cx="0" cy="13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938320" y="2746440"/>
                <a:ext cx="14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5" name=""/>
          <p:cNvGrpSpPr/>
          <p:nvPr/>
        </p:nvGrpSpPr>
        <p:grpSpPr>
          <a:xfrm>
            <a:off x="6087960" y="1676520"/>
            <a:ext cx="1379520" cy="1617480"/>
            <a:chOff x="6087960" y="1676520"/>
            <a:chExt cx="1379520" cy="1617480"/>
          </a:xfrm>
        </p:grpSpPr>
        <p:pic>
          <p:nvPicPr>
            <p:cNvPr id="1336" name="" descr=""/>
            <p:cNvPicPr/>
            <p:nvPr/>
          </p:nvPicPr>
          <p:blipFill>
            <a:blip r:embed="rId5"/>
            <a:stretch/>
          </p:blipFill>
          <p:spPr>
            <a:xfrm>
              <a:off x="6087960" y="1676520"/>
              <a:ext cx="1379520" cy="161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7" name=""/>
            <p:cNvGrpSpPr/>
            <p:nvPr/>
          </p:nvGrpSpPr>
          <p:grpSpPr>
            <a:xfrm>
              <a:off x="6159600" y="2666520"/>
              <a:ext cx="152280" cy="164520"/>
              <a:chOff x="6159600" y="2666520"/>
              <a:chExt cx="152280" cy="164520"/>
            </a:xfrm>
          </p:grpSpPr>
          <p:sp>
            <p:nvSpPr>
              <p:cNvPr id="1338" name=""/>
              <p:cNvSpPr/>
              <p:nvPr/>
            </p:nvSpPr>
            <p:spPr>
              <a:xfrm>
                <a:off x="6159600" y="2755080"/>
                <a:ext cx="75960" cy="75960"/>
              </a:xfrm>
              <a:prstGeom prst="ellipse">
                <a:avLst/>
              </a:prstGeom>
              <a:solidFill>
                <a:srgbClr val="fffff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6235560" y="2666520"/>
                <a:ext cx="763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0" name=""/>
          <p:cNvSpPr/>
          <p:nvPr/>
        </p:nvSpPr>
        <p:spPr>
          <a:xfrm>
            <a:off x="3429000" y="2209680"/>
            <a:ext cx="122400" cy="30492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3657600" y="2044800"/>
            <a:ext cx="375120" cy="469800"/>
            <a:chOff x="3657600" y="2044800"/>
            <a:chExt cx="375120" cy="469800"/>
          </a:xfrm>
        </p:grpSpPr>
        <p:sp>
          <p:nvSpPr>
            <p:cNvPr id="1342" name=""/>
            <p:cNvSpPr/>
            <p:nvPr/>
          </p:nvSpPr>
          <p:spPr>
            <a:xfrm>
              <a:off x="3657600" y="213372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731760" y="204480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189400" y="2057400"/>
            <a:ext cx="367560" cy="469800"/>
            <a:chOff x="5189400" y="2057400"/>
            <a:chExt cx="367560" cy="469800"/>
          </a:xfrm>
        </p:grpSpPr>
        <p:sp>
          <p:nvSpPr>
            <p:cNvPr id="1345" name=""/>
            <p:cNvSpPr/>
            <p:nvPr/>
          </p:nvSpPr>
          <p:spPr>
            <a:xfrm>
              <a:off x="5189400" y="2146320"/>
              <a:ext cx="152640" cy="380880"/>
            </a:xfrm>
            <a:prstGeom prst="can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63560" y="20574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502240" y="2057400"/>
            <a:ext cx="367560" cy="469800"/>
            <a:chOff x="5502240" y="2057400"/>
            <a:chExt cx="367560" cy="469800"/>
          </a:xfrm>
        </p:grpSpPr>
        <p:sp>
          <p:nvSpPr>
            <p:cNvPr id="1348" name=""/>
            <p:cNvSpPr/>
            <p:nvPr/>
          </p:nvSpPr>
          <p:spPr>
            <a:xfrm>
              <a:off x="5502240" y="214632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76400" y="205740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0" name="" descr=""/>
          <p:cNvPicPr/>
          <p:nvPr/>
        </p:nvPicPr>
        <p:blipFill>
          <a:blip r:embed="rId10"/>
          <a:stretch/>
        </p:blipFill>
        <p:spPr>
          <a:xfrm>
            <a:off x="1914480" y="3276720"/>
            <a:ext cx="1133640" cy="1371600"/>
          </a:xfrm>
          <a:prstGeom prst="rect">
            <a:avLst/>
          </a:prstGeom>
          <a:ln w="0">
            <a:noFill/>
          </a:ln>
        </p:spPr>
      </p:pic>
      <p:sp>
        <p:nvSpPr>
          <p:cNvPr id="1351" name=""/>
          <p:cNvSpPr/>
          <p:nvPr/>
        </p:nvSpPr>
        <p:spPr>
          <a:xfrm>
            <a:off x="3378240" y="3873600"/>
            <a:ext cx="122040" cy="304560"/>
          </a:xfrm>
          <a:prstGeom prst="can">
            <a:avLst>
              <a:gd name="adj" fmla="val 25000"/>
            </a:avLst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3657600" y="3720960"/>
            <a:ext cx="367200" cy="469800"/>
            <a:chOff x="3657600" y="3720960"/>
            <a:chExt cx="367200" cy="469800"/>
          </a:xfrm>
        </p:grpSpPr>
        <p:sp>
          <p:nvSpPr>
            <p:cNvPr id="1353" name=""/>
            <p:cNvSpPr/>
            <p:nvPr/>
          </p:nvSpPr>
          <p:spPr>
            <a:xfrm>
              <a:off x="3657600" y="380988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31400" y="372096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5" name="" descr=""/>
          <p:cNvPicPr/>
          <p:nvPr/>
        </p:nvPicPr>
        <p:blipFill>
          <a:blip r:embed="rId13"/>
          <a:stretch/>
        </p:blipFill>
        <p:spPr>
          <a:xfrm>
            <a:off x="6053040" y="3137040"/>
            <a:ext cx="126216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356" name=""/>
          <p:cNvGrpSpPr/>
          <p:nvPr/>
        </p:nvGrpSpPr>
        <p:grpSpPr>
          <a:xfrm>
            <a:off x="5180040" y="3797280"/>
            <a:ext cx="375120" cy="469800"/>
            <a:chOff x="5180040" y="3797280"/>
            <a:chExt cx="375120" cy="469800"/>
          </a:xfrm>
        </p:grpSpPr>
        <p:sp>
          <p:nvSpPr>
            <p:cNvPr id="1357" name=""/>
            <p:cNvSpPr/>
            <p:nvPr/>
          </p:nvSpPr>
          <p:spPr>
            <a:xfrm>
              <a:off x="5180040" y="388620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54200" y="379728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502240" y="3797280"/>
            <a:ext cx="367200" cy="469800"/>
            <a:chOff x="5502240" y="3797280"/>
            <a:chExt cx="367200" cy="469800"/>
          </a:xfrm>
        </p:grpSpPr>
        <p:sp>
          <p:nvSpPr>
            <p:cNvPr id="1360" name=""/>
            <p:cNvSpPr/>
            <p:nvPr/>
          </p:nvSpPr>
          <p:spPr>
            <a:xfrm>
              <a:off x="5502240" y="388620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76040" y="37972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" descr=""/>
          <p:cNvPicPr/>
          <p:nvPr/>
        </p:nvPicPr>
        <p:blipFill>
          <a:blip r:embed="rId16"/>
          <a:stretch/>
        </p:blipFill>
        <p:spPr>
          <a:xfrm>
            <a:off x="3081240" y="5345280"/>
            <a:ext cx="1262160" cy="143640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1387440" y="5092560"/>
            <a:ext cx="122400" cy="304920"/>
          </a:xfrm>
          <a:prstGeom prst="can">
            <a:avLst>
              <a:gd name="adj" fmla="val 25000"/>
            </a:avLst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1616040" y="4940280"/>
            <a:ext cx="367200" cy="469800"/>
            <a:chOff x="1616040" y="4940280"/>
            <a:chExt cx="367200" cy="469800"/>
          </a:xfrm>
        </p:grpSpPr>
        <p:sp>
          <p:nvSpPr>
            <p:cNvPr id="1365" name=""/>
            <p:cNvSpPr/>
            <p:nvPr/>
          </p:nvSpPr>
          <p:spPr>
            <a:xfrm>
              <a:off x="1616040" y="502920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689840" y="49402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3284640" y="5054760"/>
            <a:ext cx="122040" cy="304560"/>
          </a:xfrm>
          <a:prstGeom prst="can">
            <a:avLst>
              <a:gd name="adj" fmla="val 25000"/>
            </a:avLst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3513240" y="4889520"/>
            <a:ext cx="375120" cy="469800"/>
            <a:chOff x="3513240" y="4889520"/>
            <a:chExt cx="375120" cy="469800"/>
          </a:xfrm>
        </p:grpSpPr>
        <p:sp>
          <p:nvSpPr>
            <p:cNvPr id="1369" name=""/>
            <p:cNvSpPr/>
            <p:nvPr/>
          </p:nvSpPr>
          <p:spPr>
            <a:xfrm>
              <a:off x="3513240" y="497844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587400" y="48895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8075520" y="4876920"/>
            <a:ext cx="375120" cy="469800"/>
            <a:chOff x="8075520" y="4876920"/>
            <a:chExt cx="375120" cy="469800"/>
          </a:xfrm>
        </p:grpSpPr>
        <p:sp>
          <p:nvSpPr>
            <p:cNvPr id="1372" name=""/>
            <p:cNvSpPr/>
            <p:nvPr/>
          </p:nvSpPr>
          <p:spPr>
            <a:xfrm>
              <a:off x="8075520" y="496584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49680" y="4876920"/>
              <a:ext cx="30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8397720" y="4876920"/>
            <a:ext cx="367560" cy="469800"/>
            <a:chOff x="8397720" y="4876920"/>
            <a:chExt cx="367560" cy="469800"/>
          </a:xfrm>
        </p:grpSpPr>
        <p:sp>
          <p:nvSpPr>
            <p:cNvPr id="1375" name=""/>
            <p:cNvSpPr/>
            <p:nvPr/>
          </p:nvSpPr>
          <p:spPr>
            <a:xfrm>
              <a:off x="8397720" y="4965840"/>
              <a:ext cx="152640" cy="380880"/>
            </a:xfrm>
            <a:prstGeom prst="can">
              <a:avLst>
                <a:gd name="adj" fmla="val 25000"/>
              </a:avLst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471880" y="487692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" descr=""/>
          <p:cNvPicPr/>
          <p:nvPr/>
        </p:nvPicPr>
        <p:blipFill>
          <a:blip r:embed="rId23"/>
          <a:stretch/>
        </p:blipFill>
        <p:spPr>
          <a:xfrm>
            <a:off x="5446800" y="5359320"/>
            <a:ext cx="13348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378" name=""/>
          <p:cNvGrpSpPr/>
          <p:nvPr/>
        </p:nvGrpSpPr>
        <p:grpSpPr>
          <a:xfrm>
            <a:off x="6027840" y="4940280"/>
            <a:ext cx="367200" cy="469800"/>
            <a:chOff x="6027840" y="4940280"/>
            <a:chExt cx="367200" cy="469800"/>
          </a:xfrm>
        </p:grpSpPr>
        <p:sp>
          <p:nvSpPr>
            <p:cNvPr id="1379" name=""/>
            <p:cNvSpPr/>
            <p:nvPr/>
          </p:nvSpPr>
          <p:spPr>
            <a:xfrm>
              <a:off x="6027840" y="502920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01640" y="49402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1" name=""/>
          <p:cNvGrpSpPr/>
          <p:nvPr/>
        </p:nvGrpSpPr>
        <p:grpSpPr>
          <a:xfrm>
            <a:off x="6340320" y="4940280"/>
            <a:ext cx="367560" cy="469800"/>
            <a:chOff x="6340320" y="4940280"/>
            <a:chExt cx="367560" cy="469800"/>
          </a:xfrm>
        </p:grpSpPr>
        <p:sp>
          <p:nvSpPr>
            <p:cNvPr id="1382" name=""/>
            <p:cNvSpPr/>
            <p:nvPr/>
          </p:nvSpPr>
          <p:spPr>
            <a:xfrm>
              <a:off x="6340320" y="5029200"/>
              <a:ext cx="152280" cy="380880"/>
            </a:xfrm>
            <a:prstGeom prst="can">
              <a:avLst>
                <a:gd name="adj" fmla="val 25000"/>
              </a:avLst>
            </a:prstGeom>
            <a:blipFill rotWithShape="0">
              <a:blip r:embed="rId2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14480" y="4940280"/>
              <a:ext cx="29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5105520" y="198108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276720" y="198108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70600" y="365760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76720" y="365760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219320" y="4800600"/>
            <a:ext cx="761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124080" y="480060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943600" y="480060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924680" y="480060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487760" y="2139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351320" y="378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270800" y="21398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25680" y="3657600"/>
            <a:ext cx="3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33920" y="2590920"/>
            <a:ext cx="121896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3809880" y="2514600"/>
            <a:ext cx="1371600" cy="1066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562720" y="25909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29000" y="25909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1523880" y="4267080"/>
            <a:ext cx="18288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352680" y="4267080"/>
            <a:ext cx="763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733920" y="4191120"/>
            <a:ext cx="2209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809880" y="4191120"/>
            <a:ext cx="46483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3809880" y="4191120"/>
            <a:ext cx="137160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334120" y="4191120"/>
            <a:ext cx="266688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c0c"/>
                </a:solidFill>
                <a:latin typeface="Comic Sans MS"/>
              </a:rPr>
              <a:t>Basi cromosomiche della I legge di Mende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9480" y="1690560"/>
            <a:ext cx="1295280" cy="1295280"/>
            <a:chOff x="609480" y="1690560"/>
            <a:chExt cx="1295280" cy="12952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609480" y="1771560"/>
              <a:ext cx="1264680" cy="11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09480" y="1690560"/>
              <a:ext cx="1295280" cy="129528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00200" y="1690560"/>
            <a:ext cx="1309320" cy="1295280"/>
            <a:chOff x="2500200" y="1690560"/>
            <a:chExt cx="1309320" cy="129528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2500200" y="1704240"/>
              <a:ext cx="1264680" cy="11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14240" y="1690560"/>
              <a:ext cx="1295280" cy="129528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46160" y="3241800"/>
            <a:ext cx="1036440" cy="1051920"/>
            <a:chOff x="1046160" y="3241800"/>
            <a:chExt cx="1036440" cy="105192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1132560" y="3322440"/>
              <a:ext cx="876600" cy="8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046160" y="3241800"/>
              <a:ext cx="1036440" cy="10519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65480" y="3228840"/>
            <a:ext cx="1036080" cy="1052280"/>
            <a:chOff x="2265480" y="3228840"/>
            <a:chExt cx="1036080" cy="1052280"/>
          </a:xfrm>
        </p:grpSpPr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2351520" y="3228840"/>
              <a:ext cx="8762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65480" y="3228840"/>
              <a:ext cx="1036080" cy="105228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219320" y="4433760"/>
            <a:ext cx="1726560" cy="1052280"/>
            <a:chOff x="1219320" y="4433760"/>
            <a:chExt cx="1726560" cy="1052280"/>
          </a:xfrm>
        </p:grpSpPr>
        <p:pic>
          <p:nvPicPr>
            <p:cNvPr id="199" name="" descr=""/>
            <p:cNvPicPr/>
            <p:nvPr/>
          </p:nvPicPr>
          <p:blipFill>
            <a:blip r:embed="rId5"/>
            <a:stretch/>
          </p:blipFill>
          <p:spPr>
            <a:xfrm>
              <a:off x="1219320" y="4433760"/>
              <a:ext cx="1701360" cy="98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391760" y="4433760"/>
              <a:ext cx="1554120" cy="105228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261120" y="1538280"/>
            <a:ext cx="1295280" cy="1295280"/>
            <a:chOff x="6261120" y="1538280"/>
            <a:chExt cx="1295280" cy="1295280"/>
          </a:xfrm>
        </p:grpSpPr>
        <p:pic>
          <p:nvPicPr>
            <p:cNvPr id="202" name="" descr=""/>
            <p:cNvPicPr/>
            <p:nvPr/>
          </p:nvPicPr>
          <p:blipFill>
            <a:blip r:embed="rId6"/>
            <a:stretch/>
          </p:blipFill>
          <p:spPr>
            <a:xfrm>
              <a:off x="6375240" y="1644480"/>
              <a:ext cx="105516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261120" y="1538280"/>
              <a:ext cx="1295280" cy="129528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740560" y="2986200"/>
            <a:ext cx="1066680" cy="990360"/>
            <a:chOff x="5740560" y="2986200"/>
            <a:chExt cx="1066680" cy="990360"/>
          </a:xfrm>
        </p:grpSpPr>
        <p:pic>
          <p:nvPicPr>
            <p:cNvPr id="205" name="" descr=""/>
            <p:cNvPicPr/>
            <p:nvPr/>
          </p:nvPicPr>
          <p:blipFill>
            <a:blip r:embed="rId7"/>
            <a:stretch/>
          </p:blipFill>
          <p:spPr>
            <a:xfrm>
              <a:off x="5816520" y="3062160"/>
              <a:ext cx="95364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740560" y="2986200"/>
              <a:ext cx="1066680" cy="99036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934320" y="3011400"/>
            <a:ext cx="1066680" cy="990360"/>
            <a:chOff x="6934320" y="3011400"/>
            <a:chExt cx="1066680" cy="990360"/>
          </a:xfrm>
        </p:grpSpPr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7010280" y="3087360"/>
              <a:ext cx="9536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934320" y="3011400"/>
              <a:ext cx="1066680" cy="99036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924680" y="4052880"/>
            <a:ext cx="954360" cy="914400"/>
            <a:chOff x="7924680" y="4052880"/>
            <a:chExt cx="954360" cy="914400"/>
          </a:xfrm>
        </p:grpSpPr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7924680" y="4129200"/>
              <a:ext cx="9543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8001000" y="4052880"/>
              <a:ext cx="838080" cy="9144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970680" y="4052880"/>
            <a:ext cx="954000" cy="914400"/>
            <a:chOff x="6970680" y="4052880"/>
            <a:chExt cx="954000" cy="914400"/>
          </a:xfrm>
        </p:grpSpPr>
        <p:pic>
          <p:nvPicPr>
            <p:cNvPr id="214" name="" descr=""/>
            <p:cNvPicPr/>
            <p:nvPr/>
          </p:nvPicPr>
          <p:blipFill>
            <a:blip r:embed="rId10"/>
            <a:stretch/>
          </p:blipFill>
          <p:spPr>
            <a:xfrm>
              <a:off x="6970680" y="4129200"/>
              <a:ext cx="9540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010280" y="4052880"/>
              <a:ext cx="838440" cy="9144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945040" y="4052880"/>
            <a:ext cx="954000" cy="914400"/>
            <a:chOff x="5945040" y="4052880"/>
            <a:chExt cx="954000" cy="914400"/>
          </a:xfrm>
        </p:grpSpPr>
        <p:pic>
          <p:nvPicPr>
            <p:cNvPr id="217" name="" descr=""/>
            <p:cNvPicPr/>
            <p:nvPr/>
          </p:nvPicPr>
          <p:blipFill>
            <a:blip r:embed="rId11"/>
            <a:stretch/>
          </p:blipFill>
          <p:spPr>
            <a:xfrm>
              <a:off x="5945040" y="4129200"/>
              <a:ext cx="9540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021360" y="4052880"/>
              <a:ext cx="838080" cy="9144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952880" y="4052880"/>
            <a:ext cx="954360" cy="914400"/>
            <a:chOff x="4952880" y="4052880"/>
            <a:chExt cx="954360" cy="914400"/>
          </a:xfrm>
        </p:grpSpPr>
        <p:pic>
          <p:nvPicPr>
            <p:cNvPr id="220" name="" descr=""/>
            <p:cNvPicPr/>
            <p:nvPr/>
          </p:nvPicPr>
          <p:blipFill>
            <a:blip r:embed="rId12"/>
            <a:stretch/>
          </p:blipFill>
          <p:spPr>
            <a:xfrm>
              <a:off x="4952880" y="4128840"/>
              <a:ext cx="9543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029200" y="4052880"/>
              <a:ext cx="838080" cy="9144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8120" y="13096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i lisci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34240" y="13096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i rugosi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" y="199404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9760" y="473868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1520" y="351936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4040" y="1995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84200" y="2986200"/>
            <a:ext cx="244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6960" y="3002040"/>
            <a:ext cx="275400" cy="34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41292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71880" y="41292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971800" y="2300040"/>
            <a:ext cx="320040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600200">
            <a:off x="3736440" y="3248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2480" y="187812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afas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95880" y="291636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afas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554200"/>
            <a:ext cx="1731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171840" y="2590920"/>
            <a:ext cx="190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2760" y="4167360"/>
            <a:ext cx="135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:1/2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2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46520" y="6019920"/>
            <a:ext cx="4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76920" y="5486400"/>
            <a:ext cx="2209680" cy="1295280"/>
          </a:xfrm>
          <a:prstGeom prst="parallelogram">
            <a:avLst>
              <a:gd name="adj" fmla="val 4264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15000" y="5486400"/>
            <a:ext cx="5335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328400">
            <a:off x="4495680" y="5486040"/>
            <a:ext cx="381240" cy="914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51160" y="5638680"/>
            <a:ext cx="13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ellule u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13000" y="544500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51640" y="624852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320" y="518796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8120" y="518796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07920" y="5638680"/>
            <a:ext cx="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51400" y="5638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61040" y="624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04520" y="6248520"/>
            <a:ext cx="3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72400" y="5715000"/>
            <a:ext cx="1066680" cy="609480"/>
          </a:xfrm>
          <a:prstGeom prst="wedgeRoundRectCallout">
            <a:avLst>
              <a:gd name="adj1" fmla="val -147319"/>
              <a:gd name="adj2" fmla="val -148699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l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791320" y="5105160"/>
            <a:ext cx="914400" cy="152640"/>
            <a:chOff x="5791320" y="5105160"/>
            <a:chExt cx="914400" cy="152640"/>
          </a:xfrm>
        </p:grpSpPr>
        <p:sp>
          <p:nvSpPr>
            <p:cNvPr id="255" name=""/>
            <p:cNvSpPr/>
            <p:nvPr/>
          </p:nvSpPr>
          <p:spPr>
            <a:xfrm flipV="1">
              <a:off x="5791320" y="51051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05720" y="51055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001000" y="3683160"/>
            <a:ext cx="24912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62360" y="3657600"/>
            <a:ext cx="1904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30920" y="37591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38606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263" name="" descr=""/>
            <p:cNvPicPr/>
            <p:nvPr/>
          </p:nvPicPr>
          <p:blipFill>
            <a:blip r:embed="rId13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c0c"/>
                </a:solidFill>
                <a:latin typeface="Comic Sans MS"/>
              </a:rPr>
              <a:t>Legge dell’assortimento indipendente dei caratteri come conseguenza della segregazione indipendente dei cromosomi non omologhi alla mei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2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962520" y="1752480"/>
            <a:ext cx="1294920" cy="1009800"/>
            <a:chOff x="3962520" y="1752480"/>
            <a:chExt cx="1294920" cy="100980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3962520" y="1752480"/>
              <a:ext cx="125244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038480" y="1752480"/>
              <a:ext cx="1218960" cy="9907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248520" y="2387520"/>
            <a:ext cx="1387440" cy="1287720"/>
            <a:chOff x="6248520" y="2387520"/>
            <a:chExt cx="1387440" cy="128772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6248520" y="2438280"/>
              <a:ext cx="138744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274080" y="2387520"/>
              <a:ext cx="1295280" cy="12193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36640" y="2387520"/>
            <a:ext cx="1387440" cy="1287720"/>
            <a:chOff x="1736640" y="2387520"/>
            <a:chExt cx="1387440" cy="128772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1736640" y="2438280"/>
              <a:ext cx="138744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774800" y="2387520"/>
              <a:ext cx="1295640" cy="12193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32280" y="3733920"/>
            <a:ext cx="1463040" cy="1236600"/>
            <a:chOff x="3032280" y="3733920"/>
            <a:chExt cx="1463040" cy="123660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3108240" y="3733920"/>
              <a:ext cx="1387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3032280" y="3733920"/>
              <a:ext cx="914040" cy="11430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22240" y="3720960"/>
            <a:ext cx="1463400" cy="1249560"/>
            <a:chOff x="822240" y="3720960"/>
            <a:chExt cx="1463400" cy="1249560"/>
          </a:xfrm>
        </p:grpSpPr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898200" y="3733920"/>
              <a:ext cx="13874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22240" y="3720960"/>
              <a:ext cx="914400" cy="11430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604280" y="3733920"/>
            <a:ext cx="1463040" cy="1236600"/>
            <a:chOff x="7604280" y="3733920"/>
            <a:chExt cx="1463040" cy="1236600"/>
          </a:xfrm>
        </p:grpSpPr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>
              <a:off x="7680240" y="3733920"/>
              <a:ext cx="1387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604280" y="3733920"/>
              <a:ext cx="914040" cy="11430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3720960"/>
            <a:ext cx="1463400" cy="1249560"/>
            <a:chOff x="5445000" y="3720960"/>
            <a:chExt cx="1463400" cy="1249560"/>
          </a:xfrm>
        </p:grpSpPr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>
              <a:off x="5520960" y="3733920"/>
              <a:ext cx="13874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445000" y="3720960"/>
              <a:ext cx="914400" cy="114300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28600" y="1676520"/>
            <a:ext cx="380880" cy="15228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5920" y="1638360"/>
            <a:ext cx="380880" cy="22860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6880" y="155880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lore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giallo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g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277320" y="156204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perficie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scio-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go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75320" y="278136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160" y="14479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1760" y="160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440" y="1828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1676160"/>
            <a:ext cx="228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083560" y="2035440"/>
            <a:ext cx="472320" cy="12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1752480"/>
            <a:ext cx="380880" cy="76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57000" y="191124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243828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23720" y="25146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86680" y="367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4360" y="2286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9984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0680" y="4419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00520" y="312408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87200" y="23623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0240" y="22478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65520" y="36576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62480" y="32068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09720" y="441972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96560" y="322596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893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01880" y="3816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2040" y="440676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5960" y="36831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62640" y="441972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4520" y="281952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afase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23800" y="403848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afase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91960" y="5029200"/>
            <a:ext cx="952560" cy="1048680"/>
            <a:chOff x="291960" y="5029200"/>
            <a:chExt cx="952560" cy="1048680"/>
          </a:xfrm>
        </p:grpSpPr>
        <p:grpSp>
          <p:nvGrpSpPr>
            <p:cNvPr id="330" name=""/>
            <p:cNvGrpSpPr/>
            <p:nvPr/>
          </p:nvGrpSpPr>
          <p:grpSpPr>
            <a:xfrm>
              <a:off x="291960" y="5041800"/>
              <a:ext cx="952560" cy="914400"/>
              <a:chOff x="291960" y="5041800"/>
              <a:chExt cx="952560" cy="914400"/>
            </a:xfrm>
          </p:grpSpPr>
          <p:pic>
            <p:nvPicPr>
              <p:cNvPr id="3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91960" y="53593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6880" y="51055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330120" y="50418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671040" y="5029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6080" y="574056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333440" y="5029200"/>
            <a:ext cx="952560" cy="1048680"/>
            <a:chOff x="1333440" y="5029200"/>
            <a:chExt cx="952560" cy="1048680"/>
          </a:xfrm>
        </p:grpSpPr>
        <p:grpSp>
          <p:nvGrpSpPr>
            <p:cNvPr id="337" name=""/>
            <p:cNvGrpSpPr/>
            <p:nvPr/>
          </p:nvGrpSpPr>
          <p:grpSpPr>
            <a:xfrm>
              <a:off x="1333440" y="5041800"/>
              <a:ext cx="952560" cy="914400"/>
              <a:chOff x="1333440" y="5041800"/>
              <a:chExt cx="952560" cy="914400"/>
            </a:xfrm>
          </p:grpSpPr>
          <p:pic>
            <p:nvPicPr>
              <p:cNvPr id="33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33440" y="53593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38360" y="51055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>
                <a:off x="1371600" y="50418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712520" y="5029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17560" y="574056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552760" y="5029200"/>
            <a:ext cx="952560" cy="1048680"/>
            <a:chOff x="2552760" y="5029200"/>
            <a:chExt cx="952560" cy="1048680"/>
          </a:xfrm>
        </p:grpSpPr>
        <p:grpSp>
          <p:nvGrpSpPr>
            <p:cNvPr id="344" name=""/>
            <p:cNvGrpSpPr/>
            <p:nvPr/>
          </p:nvGrpSpPr>
          <p:grpSpPr>
            <a:xfrm>
              <a:off x="2552760" y="5041800"/>
              <a:ext cx="952560" cy="914400"/>
              <a:chOff x="2552760" y="5041800"/>
              <a:chExt cx="952560" cy="914400"/>
            </a:xfrm>
          </p:grpSpPr>
          <p:pic>
            <p:nvPicPr>
              <p:cNvPr id="34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52760" y="53593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57680" y="51055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2590920" y="50418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925360" y="5029200"/>
              <a:ext cx="308880" cy="1048680"/>
              <a:chOff x="2925360" y="5029200"/>
              <a:chExt cx="308880" cy="10486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25360" y="50292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1920" y="5740560"/>
                <a:ext cx="2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3543480" y="5029200"/>
            <a:ext cx="951840" cy="1048680"/>
            <a:chOff x="3543480" y="5029200"/>
            <a:chExt cx="951840" cy="1048680"/>
          </a:xfrm>
        </p:grpSpPr>
        <p:grpSp>
          <p:nvGrpSpPr>
            <p:cNvPr id="352" name=""/>
            <p:cNvGrpSpPr/>
            <p:nvPr/>
          </p:nvGrpSpPr>
          <p:grpSpPr>
            <a:xfrm>
              <a:off x="3543480" y="5041800"/>
              <a:ext cx="951840" cy="914400"/>
              <a:chOff x="3543480" y="5041800"/>
              <a:chExt cx="951840" cy="914400"/>
            </a:xfrm>
          </p:grpSpPr>
          <p:pic>
            <p:nvPicPr>
              <p:cNvPr id="35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43480" y="5359320"/>
                <a:ext cx="94752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48040" y="5105520"/>
                <a:ext cx="6091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3581280" y="5041800"/>
                <a:ext cx="91404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915720" y="5029200"/>
              <a:ext cx="308880" cy="1048680"/>
              <a:chOff x="3915720" y="5029200"/>
              <a:chExt cx="308880" cy="1048680"/>
            </a:xfrm>
          </p:grpSpPr>
          <p:sp>
            <p:nvSpPr>
              <p:cNvPr id="357" name=""/>
              <p:cNvSpPr/>
              <p:nvPr/>
            </p:nvSpPr>
            <p:spPr>
              <a:xfrm>
                <a:off x="3915720" y="50292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31920" y="5740560"/>
                <a:ext cx="2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4927680" y="4952880"/>
            <a:ext cx="952560" cy="1029600"/>
            <a:chOff x="4927680" y="4952880"/>
            <a:chExt cx="952560" cy="1029600"/>
          </a:xfrm>
        </p:grpSpPr>
        <p:grpSp>
          <p:nvGrpSpPr>
            <p:cNvPr id="360" name=""/>
            <p:cNvGrpSpPr/>
            <p:nvPr/>
          </p:nvGrpSpPr>
          <p:grpSpPr>
            <a:xfrm>
              <a:off x="4927680" y="5041800"/>
              <a:ext cx="952560" cy="914400"/>
              <a:chOff x="4927680" y="5041800"/>
              <a:chExt cx="952560" cy="914400"/>
            </a:xfrm>
          </p:grpSpPr>
          <p:pic>
            <p:nvPicPr>
              <p:cNvPr id="3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927680" y="53593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232600" y="51055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4965840" y="50418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5300280" y="495288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4040" y="564516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905440" y="4952880"/>
            <a:ext cx="952560" cy="1029600"/>
            <a:chOff x="5905440" y="4952880"/>
            <a:chExt cx="952560" cy="1029600"/>
          </a:xfrm>
        </p:grpSpPr>
        <p:grpSp>
          <p:nvGrpSpPr>
            <p:cNvPr id="367" name=""/>
            <p:cNvGrpSpPr/>
            <p:nvPr/>
          </p:nvGrpSpPr>
          <p:grpSpPr>
            <a:xfrm>
              <a:off x="5905440" y="5041800"/>
              <a:ext cx="952560" cy="914400"/>
              <a:chOff x="5905440" y="5041800"/>
              <a:chExt cx="952560" cy="914400"/>
            </a:xfrm>
          </p:grpSpPr>
          <p:pic>
            <p:nvPicPr>
              <p:cNvPr id="3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905440" y="53593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10360" y="51055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943600" y="50418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6278040" y="495288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01800" y="5645160"/>
              <a:ext cx="31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124760" y="5029200"/>
            <a:ext cx="952560" cy="946800"/>
            <a:chOff x="7124760" y="5029200"/>
            <a:chExt cx="952560" cy="946800"/>
          </a:xfrm>
        </p:grpSpPr>
        <p:grpSp>
          <p:nvGrpSpPr>
            <p:cNvPr id="374" name=""/>
            <p:cNvGrpSpPr/>
            <p:nvPr/>
          </p:nvGrpSpPr>
          <p:grpSpPr>
            <a:xfrm>
              <a:off x="7124760" y="5029200"/>
              <a:ext cx="952560" cy="914400"/>
              <a:chOff x="7124760" y="5029200"/>
              <a:chExt cx="952560" cy="914400"/>
            </a:xfrm>
          </p:grpSpPr>
          <p:pic>
            <p:nvPicPr>
              <p:cNvPr id="37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124760" y="5346720"/>
                <a:ext cx="94788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29680" y="5092920"/>
                <a:ext cx="60948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7162920" y="5029200"/>
                <a:ext cx="91440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7465320" y="5029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94840" y="5638680"/>
              <a:ext cx="27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115480" y="5029200"/>
            <a:ext cx="951840" cy="946800"/>
            <a:chOff x="8115480" y="5029200"/>
            <a:chExt cx="951840" cy="946800"/>
          </a:xfrm>
        </p:grpSpPr>
        <p:grpSp>
          <p:nvGrpSpPr>
            <p:cNvPr id="381" name=""/>
            <p:cNvGrpSpPr/>
            <p:nvPr/>
          </p:nvGrpSpPr>
          <p:grpSpPr>
            <a:xfrm>
              <a:off x="8115480" y="5029200"/>
              <a:ext cx="951840" cy="914400"/>
              <a:chOff x="8115480" y="5029200"/>
              <a:chExt cx="951840" cy="914400"/>
            </a:xfrm>
          </p:grpSpPr>
          <p:pic>
            <p:nvPicPr>
              <p:cNvPr id="382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115480" y="5346720"/>
                <a:ext cx="94752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8420040" y="5092920"/>
                <a:ext cx="6091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8153280" y="5029200"/>
                <a:ext cx="914040" cy="914400"/>
              </a:xfrm>
              <a:prstGeom prst="octagon">
                <a:avLst>
                  <a:gd name="adj" fmla="val 2928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8455680" y="5029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85200" y="5638680"/>
              <a:ext cx="27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946440" y="601992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/4 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55400" y="601992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/4 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88640" y="60199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/4 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6019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/4 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25040" y="64468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6199400">
            <a:off x="4539240" y="2545200"/>
            <a:ext cx="371520" cy="7774200"/>
          </a:xfrm>
          <a:custGeom>
            <a:avLst/>
            <a:gdLst>
              <a:gd name="textAreaLeft" fmla="*/ 237240 w 371520"/>
              <a:gd name="textAreaRight" fmla="*/ 371880 w 371520"/>
              <a:gd name="textAreaTop" fmla="*/ 258840 h 7774200"/>
              <a:gd name="textAreaBottom" fmla="*/ 7515360 h 777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1"/>
                  <a:pt x="10800" y="2301"/>
                </a:cubicBezTo>
                <a:lnTo>
                  <a:pt x="10800" y="8499"/>
                </a:lnTo>
                <a:cubicBezTo>
                  <a:pt x="10800" y="9650"/>
                  <a:pt x="5400" y="10800"/>
                  <a:pt x="0" y="10800"/>
                </a:cubicBezTo>
                <a:cubicBezTo>
                  <a:pt x="5400" y="10800"/>
                  <a:pt x="10800" y="11951"/>
                  <a:pt x="10800" y="13101"/>
                </a:cubicBezTo>
                <a:lnTo>
                  <a:pt x="10800" y="19299"/>
                </a:lnTo>
                <a:cubicBezTo>
                  <a:pt x="10800" y="2045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c0c"/>
                </a:solidFill>
                <a:latin typeface="Comic Sans MS"/>
              </a:rPr>
              <a:t>Incrocio di un maschio </a:t>
            </a:r>
            <a:r>
              <a:rPr b="0" i="1" lang="it-IT" sz="2000" spc="-1" strike="noStrike">
                <a:solidFill>
                  <a:srgbClr val="ff0c0c"/>
                </a:solidFill>
                <a:latin typeface="Comic Sans MS"/>
              </a:rPr>
              <a:t>white</a:t>
            </a:r>
            <a:r>
              <a:rPr b="0" lang="it-IT" sz="2000" spc="-1" strike="noStrike">
                <a:solidFill>
                  <a:srgbClr val="ff0c0c"/>
                </a:solidFill>
                <a:latin typeface="Comic Sans MS"/>
              </a:rPr>
              <a:t> con una femmina selvatica in </a:t>
            </a:r>
            <a:r>
              <a:rPr b="0" i="1" lang="it-IT" sz="2000" spc="-1" strike="noStrike">
                <a:solidFill>
                  <a:srgbClr val="ff0c0c"/>
                </a:solidFill>
                <a:latin typeface="Comic Sans MS"/>
              </a:rPr>
              <a:t>Drosophila melanog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39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1603440" cy="18223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1676520" cy="1603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334120" y="3124080"/>
            <a:ext cx="1639800" cy="1738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209680" y="2971800"/>
            <a:ext cx="1603440" cy="18223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1409760" y="4997520"/>
            <a:ext cx="1603440" cy="18223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3276720" y="4984920"/>
            <a:ext cx="1603080" cy="18223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8"/>
          <a:stretch/>
        </p:blipFill>
        <p:spPr>
          <a:xfrm>
            <a:off x="5562720" y="5029200"/>
            <a:ext cx="1639800" cy="1738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7238880" y="5181480"/>
            <a:ext cx="16765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5791320" y="2057040"/>
            <a:ext cx="291600" cy="305280"/>
            <a:chOff x="5791320" y="2057040"/>
            <a:chExt cx="291600" cy="305280"/>
          </a:xfrm>
        </p:grpSpPr>
        <p:sp>
          <p:nvSpPr>
            <p:cNvPr id="409" name=""/>
            <p:cNvSpPr/>
            <p:nvPr/>
          </p:nvSpPr>
          <p:spPr>
            <a:xfrm>
              <a:off x="5791320" y="2209680"/>
              <a:ext cx="152280" cy="15264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93064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553080" y="3962520"/>
            <a:ext cx="292320" cy="304200"/>
            <a:chOff x="6553080" y="3962520"/>
            <a:chExt cx="292320" cy="304200"/>
          </a:xfrm>
        </p:grpSpPr>
        <p:sp>
          <p:nvSpPr>
            <p:cNvPr id="412" name=""/>
            <p:cNvSpPr/>
            <p:nvPr/>
          </p:nvSpPr>
          <p:spPr>
            <a:xfrm>
              <a:off x="6553080" y="4114440"/>
              <a:ext cx="152640" cy="1522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692760" y="3962520"/>
              <a:ext cx="1526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781680" y="5791320"/>
            <a:ext cx="292320" cy="304200"/>
            <a:chOff x="6781680" y="5791320"/>
            <a:chExt cx="292320" cy="304200"/>
          </a:xfrm>
        </p:grpSpPr>
        <p:sp>
          <p:nvSpPr>
            <p:cNvPr id="415" name=""/>
            <p:cNvSpPr/>
            <p:nvPr/>
          </p:nvSpPr>
          <p:spPr>
            <a:xfrm>
              <a:off x="6781680" y="5943240"/>
              <a:ext cx="152640" cy="1522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921360" y="5791320"/>
              <a:ext cx="1526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8534520" y="5866920"/>
            <a:ext cx="291600" cy="305280"/>
            <a:chOff x="8534520" y="5866920"/>
            <a:chExt cx="291600" cy="305280"/>
          </a:xfrm>
        </p:grpSpPr>
        <p:sp>
          <p:nvSpPr>
            <p:cNvPr id="418" name=""/>
            <p:cNvSpPr/>
            <p:nvPr/>
          </p:nvSpPr>
          <p:spPr>
            <a:xfrm>
              <a:off x="8534520" y="6019560"/>
              <a:ext cx="152280" cy="15264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673840" y="5866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692440" y="1981080"/>
            <a:ext cx="253800" cy="381240"/>
            <a:chOff x="2692440" y="1981080"/>
            <a:chExt cx="253800" cy="381240"/>
          </a:xfrm>
        </p:grpSpPr>
        <p:sp>
          <p:nvSpPr>
            <p:cNvPr id="421" name=""/>
            <p:cNvSpPr/>
            <p:nvPr/>
          </p:nvSpPr>
          <p:spPr>
            <a:xfrm>
              <a:off x="2743200" y="1981080"/>
              <a:ext cx="152280" cy="15264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21337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440" y="224784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352680" y="3962520"/>
            <a:ext cx="253800" cy="380520"/>
            <a:chOff x="3352680" y="3962520"/>
            <a:chExt cx="253800" cy="380520"/>
          </a:xfrm>
        </p:grpSpPr>
        <p:sp>
          <p:nvSpPr>
            <p:cNvPr id="425" name=""/>
            <p:cNvSpPr/>
            <p:nvPr/>
          </p:nvSpPr>
          <p:spPr>
            <a:xfrm>
              <a:off x="3403440" y="3962520"/>
              <a:ext cx="152280" cy="1522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9760" y="41148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52680" y="422892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77960" y="5867280"/>
            <a:ext cx="253800" cy="381240"/>
            <a:chOff x="2577960" y="5867280"/>
            <a:chExt cx="253800" cy="381240"/>
          </a:xfrm>
        </p:grpSpPr>
        <p:sp>
          <p:nvSpPr>
            <p:cNvPr id="429" name=""/>
            <p:cNvSpPr/>
            <p:nvPr/>
          </p:nvSpPr>
          <p:spPr>
            <a:xfrm>
              <a:off x="2628720" y="5867280"/>
              <a:ext cx="152280" cy="15264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05040" y="60199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77960" y="613404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419720" y="5943600"/>
            <a:ext cx="253800" cy="380520"/>
            <a:chOff x="4419720" y="5943600"/>
            <a:chExt cx="253800" cy="380520"/>
          </a:xfrm>
        </p:grpSpPr>
        <p:sp>
          <p:nvSpPr>
            <p:cNvPr id="433" name=""/>
            <p:cNvSpPr/>
            <p:nvPr/>
          </p:nvSpPr>
          <p:spPr>
            <a:xfrm>
              <a:off x="4470480" y="5943600"/>
              <a:ext cx="152280" cy="1522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46800" y="609588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9720" y="6210000"/>
              <a:ext cx="25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284480" y="19051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39480" y="365760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2280" y="548640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56000" y="1905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08640" y="358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2743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44956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602"/>
                </a:solidFill>
                <a:latin typeface="Comic Sans MS"/>
              </a:rPr>
              <a:t>Incrocio di una femmina </a:t>
            </a:r>
            <a:r>
              <a:rPr b="0" i="1" lang="it-IT" sz="2400" spc="-1" strike="noStrike">
                <a:solidFill>
                  <a:srgbClr val="ff0602"/>
                </a:solidFill>
                <a:latin typeface="Comic Sans MS"/>
              </a:rPr>
              <a:t>white</a:t>
            </a:r>
            <a:r>
              <a:rPr b="0" lang="it-IT" sz="2400" spc="-1" strike="noStrike">
                <a:solidFill>
                  <a:srgbClr val="ff0602"/>
                </a:solidFill>
                <a:latin typeface="Comic Sans MS"/>
              </a:rPr>
              <a:t> con un maschio selvatico</a:t>
            </a:r>
            <a:br>
              <a:rPr sz="2400"/>
            </a:br>
            <a:r>
              <a:rPr b="0" lang="it-IT" sz="2400" spc="-1" strike="noStrike">
                <a:solidFill>
                  <a:srgbClr val="ff0602"/>
                </a:solidFill>
                <a:latin typeface="Comic Sans MS"/>
              </a:rPr>
              <a:t>in </a:t>
            </a:r>
            <a:r>
              <a:rPr b="0" i="1" lang="it-IT" sz="2400" spc="-1" strike="noStrike">
                <a:solidFill>
                  <a:srgbClr val="ff0602"/>
                </a:solidFill>
                <a:latin typeface="Comic Sans MS"/>
              </a:rPr>
              <a:t>Drosophila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040" y="5562720"/>
            <a:ext cx="79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edita’ crociata: il fenotipo di un sesso vie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editato dal sesso opp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4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3352680" y="3809880"/>
            <a:ext cx="836640" cy="9525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4876920" y="3886200"/>
            <a:ext cx="874440" cy="8366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124080" y="1600200"/>
            <a:ext cx="990720" cy="947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5343480" y="1676520"/>
            <a:ext cx="736560" cy="83808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5952960" y="2057040"/>
            <a:ext cx="219240" cy="228960"/>
            <a:chOff x="5952960" y="2057040"/>
            <a:chExt cx="219240" cy="228960"/>
          </a:xfrm>
        </p:grpSpPr>
        <p:sp>
          <p:nvSpPr>
            <p:cNvPr id="456" name=""/>
            <p:cNvSpPr/>
            <p:nvPr/>
          </p:nvSpPr>
          <p:spPr>
            <a:xfrm>
              <a:off x="5952960" y="2171520"/>
              <a:ext cx="11448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057720" y="2057040"/>
              <a:ext cx="11448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886200" y="2057400"/>
            <a:ext cx="190440" cy="285840"/>
            <a:chOff x="3886200" y="2057400"/>
            <a:chExt cx="190440" cy="285840"/>
          </a:xfrm>
        </p:grpSpPr>
        <p:sp>
          <p:nvSpPr>
            <p:cNvPr id="459" name=""/>
            <p:cNvSpPr/>
            <p:nvPr/>
          </p:nvSpPr>
          <p:spPr>
            <a:xfrm>
              <a:off x="3924000" y="2057400"/>
              <a:ext cx="11412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81600" y="217188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86200" y="22572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4114800" y="2590920"/>
            <a:ext cx="836640" cy="9525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7"/>
          <a:stretch/>
        </p:blipFill>
        <p:spPr>
          <a:xfrm>
            <a:off x="5562720" y="2666880"/>
            <a:ext cx="874440" cy="8366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8"/>
          <a:stretch/>
        </p:blipFill>
        <p:spPr>
          <a:xfrm>
            <a:off x="2133720" y="3809880"/>
            <a:ext cx="990360" cy="94788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2209680" y="4343400"/>
            <a:ext cx="190800" cy="285840"/>
            <a:chOff x="2209680" y="4343400"/>
            <a:chExt cx="190800" cy="285840"/>
          </a:xfrm>
        </p:grpSpPr>
        <p:sp>
          <p:nvSpPr>
            <p:cNvPr id="466" name=""/>
            <p:cNvSpPr/>
            <p:nvPr/>
          </p:nvSpPr>
          <p:spPr>
            <a:xfrm>
              <a:off x="2247840" y="4343400"/>
              <a:ext cx="11448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5080" y="445788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09680" y="454320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276720" y="4362480"/>
            <a:ext cx="190440" cy="285840"/>
            <a:chOff x="3276720" y="4362480"/>
            <a:chExt cx="190440" cy="285840"/>
          </a:xfrm>
        </p:grpSpPr>
        <p:sp>
          <p:nvSpPr>
            <p:cNvPr id="470" name=""/>
            <p:cNvSpPr/>
            <p:nvPr/>
          </p:nvSpPr>
          <p:spPr>
            <a:xfrm>
              <a:off x="3314520" y="4362480"/>
              <a:ext cx="11412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72120" y="447696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76720" y="456228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9"/>
          <a:stretch/>
        </p:blipFill>
        <p:spPr>
          <a:xfrm>
            <a:off x="6019920" y="3886200"/>
            <a:ext cx="736560" cy="83808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4800600" y="4343040"/>
            <a:ext cx="219240" cy="228960"/>
            <a:chOff x="4800600" y="4343040"/>
            <a:chExt cx="219240" cy="228960"/>
          </a:xfrm>
        </p:grpSpPr>
        <p:sp>
          <p:nvSpPr>
            <p:cNvPr id="475" name=""/>
            <p:cNvSpPr/>
            <p:nvPr/>
          </p:nvSpPr>
          <p:spPr>
            <a:xfrm>
              <a:off x="4800600" y="4457520"/>
              <a:ext cx="11448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905360" y="4343040"/>
              <a:ext cx="11448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943600" y="4343040"/>
            <a:ext cx="219240" cy="228960"/>
            <a:chOff x="5943600" y="4343040"/>
            <a:chExt cx="219240" cy="228960"/>
          </a:xfrm>
        </p:grpSpPr>
        <p:sp>
          <p:nvSpPr>
            <p:cNvPr id="478" name=""/>
            <p:cNvSpPr/>
            <p:nvPr/>
          </p:nvSpPr>
          <p:spPr>
            <a:xfrm>
              <a:off x="5943600" y="4457520"/>
              <a:ext cx="11448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048360" y="4343040"/>
              <a:ext cx="11448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248520" y="3047760"/>
            <a:ext cx="218520" cy="228960"/>
            <a:chOff x="6248520" y="3047760"/>
            <a:chExt cx="218520" cy="228960"/>
          </a:xfrm>
        </p:grpSpPr>
        <p:sp>
          <p:nvSpPr>
            <p:cNvPr id="481" name=""/>
            <p:cNvSpPr/>
            <p:nvPr/>
          </p:nvSpPr>
          <p:spPr>
            <a:xfrm>
              <a:off x="6248520" y="3162240"/>
              <a:ext cx="11412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352920" y="304776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3124080"/>
            <a:ext cx="190800" cy="285840"/>
            <a:chOff x="4038480" y="3124080"/>
            <a:chExt cx="190800" cy="285840"/>
          </a:xfrm>
        </p:grpSpPr>
        <p:sp>
          <p:nvSpPr>
            <p:cNvPr id="484" name=""/>
            <p:cNvSpPr/>
            <p:nvPr/>
          </p:nvSpPr>
          <p:spPr>
            <a:xfrm>
              <a:off x="4076640" y="3124080"/>
              <a:ext cx="114480" cy="11448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33880" y="323856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38480" y="3323880"/>
              <a:ext cx="19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351520" y="19051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382480" y="28954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19320" y="40384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06480" y="16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1596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846160" y="47721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1520" y="477504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c0c"/>
                </a:solidFill>
                <a:latin typeface="Comic Sans MS"/>
              </a:rPr>
              <a:t>Eredità legata al sesso in </a:t>
            </a:r>
            <a:r>
              <a:rPr b="1" i="1" lang="it-IT" sz="2400" spc="-1" strike="noStrike">
                <a:solidFill>
                  <a:srgbClr val="ff0c0c"/>
                </a:solidFill>
                <a:latin typeface="Comic Sans MS"/>
              </a:rPr>
              <a:t>Drosophila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49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2484360" y="11588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5867280" y="1219320"/>
            <a:ext cx="976320" cy="933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5472000" y="3105000"/>
            <a:ext cx="954360" cy="10112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5"/>
          <a:stretch/>
        </p:blipFill>
        <p:spPr>
          <a:xfrm>
            <a:off x="2332080" y="298764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6"/>
          <a:stretch/>
        </p:blipFill>
        <p:spPr>
          <a:xfrm>
            <a:off x="1295280" y="4876920"/>
            <a:ext cx="933480" cy="106020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7"/>
          <a:stretch/>
        </p:blipFill>
        <p:spPr>
          <a:xfrm>
            <a:off x="3398760" y="4902120"/>
            <a:ext cx="933480" cy="10605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6056280" y="5010120"/>
            <a:ext cx="954000" cy="10112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9"/>
          <a:stretch/>
        </p:blipFill>
        <p:spPr>
          <a:xfrm>
            <a:off x="7238880" y="5029200"/>
            <a:ext cx="976320" cy="93348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3048120" y="3505320"/>
            <a:ext cx="147600" cy="222120"/>
            <a:chOff x="3048120" y="3505320"/>
            <a:chExt cx="147600" cy="222120"/>
          </a:xfrm>
        </p:grpSpPr>
        <p:sp>
          <p:nvSpPr>
            <p:cNvPr id="512" name=""/>
            <p:cNvSpPr/>
            <p:nvPr/>
          </p:nvSpPr>
          <p:spPr>
            <a:xfrm>
              <a:off x="3077640" y="35053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1920" y="35942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48120" y="36608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76520" y="5943600"/>
            <a:ext cx="147600" cy="222120"/>
            <a:chOff x="1676520" y="5943600"/>
            <a:chExt cx="147600" cy="222120"/>
          </a:xfrm>
        </p:grpSpPr>
        <p:sp>
          <p:nvSpPr>
            <p:cNvPr id="516" name=""/>
            <p:cNvSpPr/>
            <p:nvPr/>
          </p:nvSpPr>
          <p:spPr>
            <a:xfrm>
              <a:off x="1706040" y="59436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50320" y="60325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6520" y="60991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772080" y="5943600"/>
            <a:ext cx="147600" cy="222120"/>
            <a:chOff x="3772080" y="5943600"/>
            <a:chExt cx="147600" cy="222120"/>
          </a:xfrm>
        </p:grpSpPr>
        <p:sp>
          <p:nvSpPr>
            <p:cNvPr id="520" name=""/>
            <p:cNvSpPr/>
            <p:nvPr/>
          </p:nvSpPr>
          <p:spPr>
            <a:xfrm>
              <a:off x="3801600" y="59436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45880" y="60325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72080" y="60991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362320" y="1676520"/>
            <a:ext cx="147600" cy="222120"/>
            <a:chOff x="2362320" y="1676520"/>
            <a:chExt cx="147600" cy="222120"/>
          </a:xfrm>
        </p:grpSpPr>
        <p:sp>
          <p:nvSpPr>
            <p:cNvPr id="524" name=""/>
            <p:cNvSpPr/>
            <p:nvPr/>
          </p:nvSpPr>
          <p:spPr>
            <a:xfrm>
              <a:off x="2391840" y="16765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36120" y="1765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62320" y="1832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477120" y="3352680"/>
            <a:ext cx="152280" cy="165240"/>
            <a:chOff x="6477120" y="3352680"/>
            <a:chExt cx="152280" cy="165240"/>
          </a:xfrm>
        </p:grpSpPr>
        <p:sp>
          <p:nvSpPr>
            <p:cNvPr id="528" name=""/>
            <p:cNvSpPr/>
            <p:nvPr/>
          </p:nvSpPr>
          <p:spPr>
            <a:xfrm>
              <a:off x="6477120" y="34416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553080" y="33526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781680" y="1676160"/>
            <a:ext cx="152280" cy="164880"/>
            <a:chOff x="6781680" y="1676160"/>
            <a:chExt cx="152280" cy="164880"/>
          </a:xfrm>
        </p:grpSpPr>
        <p:sp>
          <p:nvSpPr>
            <p:cNvPr id="531" name=""/>
            <p:cNvSpPr/>
            <p:nvPr/>
          </p:nvSpPr>
          <p:spPr>
            <a:xfrm>
              <a:off x="6781680" y="17650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6857640" y="16761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477120" y="5943600"/>
            <a:ext cx="152280" cy="165240"/>
            <a:chOff x="6477120" y="5943600"/>
            <a:chExt cx="152280" cy="165240"/>
          </a:xfrm>
        </p:grpSpPr>
        <p:sp>
          <p:nvSpPr>
            <p:cNvPr id="534" name=""/>
            <p:cNvSpPr/>
            <p:nvPr/>
          </p:nvSpPr>
          <p:spPr>
            <a:xfrm>
              <a:off x="6477120" y="603252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553080" y="594360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696080" y="5943600"/>
            <a:ext cx="152280" cy="165240"/>
            <a:chOff x="7696080" y="5943600"/>
            <a:chExt cx="152280" cy="165240"/>
          </a:xfrm>
        </p:grpSpPr>
        <p:sp>
          <p:nvSpPr>
            <p:cNvPr id="537" name=""/>
            <p:cNvSpPr/>
            <p:nvPr/>
          </p:nvSpPr>
          <p:spPr>
            <a:xfrm>
              <a:off x="7696080" y="603252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772040" y="594360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5486400" y="1447920"/>
            <a:ext cx="76320" cy="609480"/>
          </a:xfrm>
          <a:prstGeom prst="can">
            <a:avLst>
              <a:gd name="adj" fmla="val 25000"/>
            </a:avLst>
          </a:prstGeom>
          <a:solidFill>
            <a:srgbClr val="ff0c0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486400" y="1371600"/>
            <a:ext cx="165240" cy="685440"/>
            <a:chOff x="5486400" y="1371600"/>
            <a:chExt cx="165240" cy="685440"/>
          </a:xfrm>
        </p:grpSpPr>
        <p:sp>
          <p:nvSpPr>
            <p:cNvPr id="541" name=""/>
            <p:cNvSpPr/>
            <p:nvPr/>
          </p:nvSpPr>
          <p:spPr>
            <a:xfrm>
              <a:off x="5499000" y="137160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0800000">
              <a:off x="5486400" y="14475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293640" y="1282680"/>
            <a:ext cx="419760" cy="774360"/>
            <a:chOff x="3293640" y="1282680"/>
            <a:chExt cx="419760" cy="774360"/>
          </a:xfrm>
        </p:grpSpPr>
        <p:sp>
          <p:nvSpPr>
            <p:cNvPr id="544" name=""/>
            <p:cNvSpPr/>
            <p:nvPr/>
          </p:nvSpPr>
          <p:spPr>
            <a:xfrm rot="10800000">
              <a:off x="3597120" y="14475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93640" y="12826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886200" y="1295280"/>
            <a:ext cx="439920" cy="761760"/>
            <a:chOff x="3886200" y="1295280"/>
            <a:chExt cx="439920" cy="761760"/>
          </a:xfrm>
        </p:grpSpPr>
        <p:sp>
          <p:nvSpPr>
            <p:cNvPr id="547" name=""/>
            <p:cNvSpPr/>
            <p:nvPr/>
          </p:nvSpPr>
          <p:spPr>
            <a:xfrm rot="10800000">
              <a:off x="3886200" y="14475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06360" y="12952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049360" y="1295280"/>
            <a:ext cx="360360" cy="761760"/>
            <a:chOff x="5049360" y="1295280"/>
            <a:chExt cx="360360" cy="761760"/>
          </a:xfrm>
        </p:grpSpPr>
        <p:sp>
          <p:nvSpPr>
            <p:cNvPr id="550" name=""/>
            <p:cNvSpPr/>
            <p:nvPr/>
          </p:nvSpPr>
          <p:spPr>
            <a:xfrm rot="10800000">
              <a:off x="5333760" y="14475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49360" y="12952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293640" y="3200400"/>
            <a:ext cx="419760" cy="774360"/>
            <a:chOff x="3293640" y="3200400"/>
            <a:chExt cx="419760" cy="774360"/>
          </a:xfrm>
        </p:grpSpPr>
        <p:sp>
          <p:nvSpPr>
            <p:cNvPr id="553" name=""/>
            <p:cNvSpPr/>
            <p:nvPr/>
          </p:nvSpPr>
          <p:spPr>
            <a:xfrm rot="10800000">
              <a:off x="3597120" y="33652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93640" y="32004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970160" y="3200400"/>
            <a:ext cx="439560" cy="762120"/>
            <a:chOff x="4970160" y="3200400"/>
            <a:chExt cx="439560" cy="762120"/>
          </a:xfrm>
        </p:grpSpPr>
        <p:sp>
          <p:nvSpPr>
            <p:cNvPr id="556" name=""/>
            <p:cNvSpPr/>
            <p:nvPr/>
          </p:nvSpPr>
          <p:spPr>
            <a:xfrm rot="10800000">
              <a:off x="5333760" y="335268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70160" y="32004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486400" y="3276720"/>
            <a:ext cx="165240" cy="685440"/>
            <a:chOff x="5486400" y="3276720"/>
            <a:chExt cx="165240" cy="685440"/>
          </a:xfrm>
        </p:grpSpPr>
        <p:sp>
          <p:nvSpPr>
            <p:cNvPr id="559" name=""/>
            <p:cNvSpPr/>
            <p:nvPr/>
          </p:nvSpPr>
          <p:spPr>
            <a:xfrm>
              <a:off x="5499000" y="327672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0800000">
              <a:off x="5486400" y="335268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796920" y="3200400"/>
            <a:ext cx="385920" cy="761760"/>
            <a:chOff x="3796920" y="3200400"/>
            <a:chExt cx="385920" cy="761760"/>
          </a:xfrm>
        </p:grpSpPr>
        <p:sp>
          <p:nvSpPr>
            <p:cNvPr id="562" name=""/>
            <p:cNvSpPr/>
            <p:nvPr/>
          </p:nvSpPr>
          <p:spPr>
            <a:xfrm rot="10800000">
              <a:off x="3796920" y="33526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30040" y="32004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066400" y="5032440"/>
            <a:ext cx="419760" cy="774360"/>
            <a:chOff x="2066400" y="5032440"/>
            <a:chExt cx="419760" cy="774360"/>
          </a:xfrm>
        </p:grpSpPr>
        <p:sp>
          <p:nvSpPr>
            <p:cNvPr id="565" name=""/>
            <p:cNvSpPr/>
            <p:nvPr/>
          </p:nvSpPr>
          <p:spPr>
            <a:xfrm rot="10800000">
              <a:off x="2369880" y="519732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6400" y="503244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506680" y="5045040"/>
            <a:ext cx="439920" cy="761760"/>
            <a:chOff x="2506680" y="5045040"/>
            <a:chExt cx="439920" cy="761760"/>
          </a:xfrm>
        </p:grpSpPr>
        <p:sp>
          <p:nvSpPr>
            <p:cNvPr id="568" name=""/>
            <p:cNvSpPr/>
            <p:nvPr/>
          </p:nvSpPr>
          <p:spPr>
            <a:xfrm rot="10800000">
              <a:off x="2506680" y="519732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26840" y="504504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046040" y="4952880"/>
            <a:ext cx="360360" cy="761760"/>
            <a:chOff x="4046040" y="4952880"/>
            <a:chExt cx="360360" cy="761760"/>
          </a:xfrm>
        </p:grpSpPr>
        <p:sp>
          <p:nvSpPr>
            <p:cNvPr id="571" name=""/>
            <p:cNvSpPr/>
            <p:nvPr/>
          </p:nvSpPr>
          <p:spPr>
            <a:xfrm rot="10800000">
              <a:off x="4330440" y="51051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46040" y="4952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470480" y="4952880"/>
            <a:ext cx="439920" cy="761760"/>
            <a:chOff x="4470480" y="4952880"/>
            <a:chExt cx="439920" cy="761760"/>
          </a:xfrm>
        </p:grpSpPr>
        <p:sp>
          <p:nvSpPr>
            <p:cNvPr id="574" name=""/>
            <p:cNvSpPr/>
            <p:nvPr/>
          </p:nvSpPr>
          <p:spPr>
            <a:xfrm rot="10800000">
              <a:off x="4470480" y="51051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0640" y="49528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006960" y="5029200"/>
            <a:ext cx="165240" cy="685440"/>
            <a:chOff x="6006960" y="5029200"/>
            <a:chExt cx="165240" cy="685440"/>
          </a:xfrm>
        </p:grpSpPr>
        <p:sp>
          <p:nvSpPr>
            <p:cNvPr id="577" name=""/>
            <p:cNvSpPr/>
            <p:nvPr/>
          </p:nvSpPr>
          <p:spPr>
            <a:xfrm>
              <a:off x="6019560" y="502920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0800000">
              <a:off x="6006960" y="51051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8521560" y="5079960"/>
            <a:ext cx="165240" cy="685440"/>
            <a:chOff x="8521560" y="5079960"/>
            <a:chExt cx="165240" cy="685440"/>
          </a:xfrm>
        </p:grpSpPr>
        <p:sp>
          <p:nvSpPr>
            <p:cNvPr id="580" name=""/>
            <p:cNvSpPr/>
            <p:nvPr/>
          </p:nvSpPr>
          <p:spPr>
            <a:xfrm>
              <a:off x="8534160" y="507996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0800000">
              <a:off x="8521560" y="515592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503680" y="4952880"/>
            <a:ext cx="439560" cy="762120"/>
            <a:chOff x="5503680" y="4952880"/>
            <a:chExt cx="439560" cy="762120"/>
          </a:xfrm>
        </p:grpSpPr>
        <p:sp>
          <p:nvSpPr>
            <p:cNvPr id="583" name=""/>
            <p:cNvSpPr/>
            <p:nvPr/>
          </p:nvSpPr>
          <p:spPr>
            <a:xfrm rot="10800000">
              <a:off x="5867280" y="51051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503680" y="49528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8097480" y="4991040"/>
            <a:ext cx="360360" cy="761760"/>
            <a:chOff x="8097480" y="4991040"/>
            <a:chExt cx="360360" cy="761760"/>
          </a:xfrm>
        </p:grpSpPr>
        <p:sp>
          <p:nvSpPr>
            <p:cNvPr id="586" name=""/>
            <p:cNvSpPr/>
            <p:nvPr/>
          </p:nvSpPr>
          <p:spPr>
            <a:xfrm rot="10800000">
              <a:off x="8381880" y="514332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97480" y="499104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4414320" y="1446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17560" y="336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37120" y="152388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468080" y="321156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511668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31280" y="1978560"/>
            <a:ext cx="1157760" cy="114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3962520" y="1981080"/>
            <a:ext cx="1295280" cy="1219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19440" y="20700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437920" y="396252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666520" y="3962520"/>
            <a:ext cx="266724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9880" y="3962520"/>
            <a:ext cx="5335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572000" y="396252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3962520"/>
            <a:ext cx="2209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3962520"/>
            <a:ext cx="44197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86400" y="3962520"/>
            <a:ext cx="609480" cy="9903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62720" y="3962520"/>
            <a:ext cx="297180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c0c"/>
                </a:solidFill>
                <a:latin typeface="Comic Sans MS"/>
              </a:rPr>
              <a:t>Eredità legata al sesso in </a:t>
            </a:r>
            <a:r>
              <a:rPr b="0" i="1" lang="it-IT" sz="2400" spc="-1" strike="noStrike">
                <a:solidFill>
                  <a:srgbClr val="ff0c0c"/>
                </a:solidFill>
                <a:latin typeface="Comic Sans MS"/>
              </a:rPr>
              <a:t>Drosophila melanog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60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108240" y="4929120"/>
            <a:ext cx="1158840" cy="13194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5181480" y="5005440"/>
            <a:ext cx="1211400" cy="1158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4"/>
          <a:stretch/>
        </p:blipFill>
        <p:spPr>
          <a:xfrm>
            <a:off x="2133720" y="1371600"/>
            <a:ext cx="137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5"/>
          <a:stretch/>
        </p:blipFill>
        <p:spPr>
          <a:xfrm>
            <a:off x="5838840" y="1523880"/>
            <a:ext cx="10191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6"/>
          <a:stretch/>
        </p:blipFill>
        <p:spPr>
          <a:xfrm>
            <a:off x="2666880" y="3100320"/>
            <a:ext cx="1158840" cy="131940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7"/>
          <a:stretch/>
        </p:blipFill>
        <p:spPr>
          <a:xfrm>
            <a:off x="5761080" y="3184560"/>
            <a:ext cx="1211400" cy="115884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8"/>
          <a:stretch/>
        </p:blipFill>
        <p:spPr>
          <a:xfrm>
            <a:off x="990720" y="4929120"/>
            <a:ext cx="1371600" cy="1312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9"/>
          <a:stretch/>
        </p:blipFill>
        <p:spPr>
          <a:xfrm>
            <a:off x="6858000" y="5029200"/>
            <a:ext cx="1019160" cy="11606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360800" y="19051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91760" y="344016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" y="5268960"/>
            <a:ext cx="4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353840" y="1768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8244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17560" y="62485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56040" y="62485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3157200" y="1587600"/>
            <a:ext cx="360360" cy="761400"/>
            <a:chOff x="3157200" y="1587600"/>
            <a:chExt cx="360360" cy="761400"/>
          </a:xfrm>
        </p:grpSpPr>
        <p:sp>
          <p:nvSpPr>
            <p:cNvPr id="628" name=""/>
            <p:cNvSpPr/>
            <p:nvPr/>
          </p:nvSpPr>
          <p:spPr>
            <a:xfrm rot="10800000">
              <a:off x="3441600" y="173988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57200" y="15876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86160" y="1612800"/>
            <a:ext cx="439560" cy="762120"/>
            <a:chOff x="5186160" y="1612800"/>
            <a:chExt cx="439560" cy="762120"/>
          </a:xfrm>
        </p:grpSpPr>
        <p:sp>
          <p:nvSpPr>
            <p:cNvPr id="631" name=""/>
            <p:cNvSpPr/>
            <p:nvPr/>
          </p:nvSpPr>
          <p:spPr>
            <a:xfrm rot="10800000">
              <a:off x="5549760" y="176508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86160" y="16128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702040" y="1689120"/>
            <a:ext cx="164880" cy="685440"/>
            <a:chOff x="5702040" y="1689120"/>
            <a:chExt cx="164880" cy="685440"/>
          </a:xfrm>
        </p:grpSpPr>
        <p:sp>
          <p:nvSpPr>
            <p:cNvPr id="634" name=""/>
            <p:cNvSpPr/>
            <p:nvPr/>
          </p:nvSpPr>
          <p:spPr>
            <a:xfrm>
              <a:off x="5714640" y="1689120"/>
              <a:ext cx="15228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0800000">
              <a:off x="5702040" y="17650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568320" y="1587600"/>
            <a:ext cx="360720" cy="761040"/>
            <a:chOff x="3568320" y="1587600"/>
            <a:chExt cx="360720" cy="761040"/>
          </a:xfrm>
        </p:grpSpPr>
        <p:sp>
          <p:nvSpPr>
            <p:cNvPr id="637" name=""/>
            <p:cNvSpPr/>
            <p:nvPr/>
          </p:nvSpPr>
          <p:spPr>
            <a:xfrm rot="10800000">
              <a:off x="3568320" y="17391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6240" y="158760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362320" y="2216160"/>
            <a:ext cx="147600" cy="222120"/>
            <a:chOff x="2362320" y="2216160"/>
            <a:chExt cx="147600" cy="222120"/>
          </a:xfrm>
        </p:grpSpPr>
        <p:sp>
          <p:nvSpPr>
            <p:cNvPr id="640" name=""/>
            <p:cNvSpPr/>
            <p:nvPr/>
          </p:nvSpPr>
          <p:spPr>
            <a:xfrm>
              <a:off x="2391840" y="221616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36120" y="230508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62320" y="237168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629400" y="2197080"/>
            <a:ext cx="152280" cy="165240"/>
            <a:chOff x="6629400" y="2197080"/>
            <a:chExt cx="152280" cy="165240"/>
          </a:xfrm>
        </p:grpSpPr>
        <p:sp>
          <p:nvSpPr>
            <p:cNvPr id="644" name=""/>
            <p:cNvSpPr/>
            <p:nvPr/>
          </p:nvSpPr>
          <p:spPr>
            <a:xfrm>
              <a:off x="6629400" y="22860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705360" y="21970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71720" y="3505320"/>
            <a:ext cx="440280" cy="761400"/>
            <a:chOff x="3771720" y="3505320"/>
            <a:chExt cx="440280" cy="761400"/>
          </a:xfrm>
        </p:grpSpPr>
        <p:sp>
          <p:nvSpPr>
            <p:cNvPr id="647" name=""/>
            <p:cNvSpPr/>
            <p:nvPr/>
          </p:nvSpPr>
          <p:spPr>
            <a:xfrm rot="10800000">
              <a:off x="3771720" y="365760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92240" y="35053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15000" y="3505320"/>
            <a:ext cx="165240" cy="685440"/>
            <a:chOff x="5715000" y="3505320"/>
            <a:chExt cx="165240" cy="685440"/>
          </a:xfrm>
        </p:grpSpPr>
        <p:sp>
          <p:nvSpPr>
            <p:cNvPr id="650" name=""/>
            <p:cNvSpPr/>
            <p:nvPr/>
          </p:nvSpPr>
          <p:spPr>
            <a:xfrm>
              <a:off x="5727600" y="350532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0800000">
              <a:off x="5715000" y="358128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303520" y="3454560"/>
            <a:ext cx="360360" cy="761400"/>
            <a:chOff x="5303520" y="3454560"/>
            <a:chExt cx="360360" cy="761400"/>
          </a:xfrm>
        </p:grpSpPr>
        <p:sp>
          <p:nvSpPr>
            <p:cNvPr id="653" name=""/>
            <p:cNvSpPr/>
            <p:nvPr/>
          </p:nvSpPr>
          <p:spPr>
            <a:xfrm rot="10800000">
              <a:off x="5587920" y="360684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03520" y="345456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705720" y="3797280"/>
            <a:ext cx="152280" cy="165240"/>
            <a:chOff x="6705720" y="3797280"/>
            <a:chExt cx="152280" cy="165240"/>
          </a:xfrm>
        </p:grpSpPr>
        <p:sp>
          <p:nvSpPr>
            <p:cNvPr id="656" name=""/>
            <p:cNvSpPr/>
            <p:nvPr/>
          </p:nvSpPr>
          <p:spPr>
            <a:xfrm>
              <a:off x="6705720" y="38862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781680" y="37972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666880" y="3892680"/>
            <a:ext cx="147600" cy="222120"/>
            <a:chOff x="2666880" y="3892680"/>
            <a:chExt cx="147600" cy="222120"/>
          </a:xfrm>
        </p:grpSpPr>
        <p:sp>
          <p:nvSpPr>
            <p:cNvPr id="659" name=""/>
            <p:cNvSpPr/>
            <p:nvPr/>
          </p:nvSpPr>
          <p:spPr>
            <a:xfrm>
              <a:off x="2696400" y="389268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40680" y="398160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404820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2323800" y="5410080"/>
            <a:ext cx="360720" cy="762120"/>
            <a:chOff x="2323800" y="5410080"/>
            <a:chExt cx="360720" cy="762120"/>
          </a:xfrm>
        </p:grpSpPr>
        <p:sp>
          <p:nvSpPr>
            <p:cNvPr id="663" name=""/>
            <p:cNvSpPr/>
            <p:nvPr/>
          </p:nvSpPr>
          <p:spPr>
            <a:xfrm rot="10800000">
              <a:off x="2323800" y="55623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31720" y="54100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912680" y="5410080"/>
            <a:ext cx="360360" cy="761760"/>
            <a:chOff x="1912680" y="5410080"/>
            <a:chExt cx="360360" cy="761760"/>
          </a:xfrm>
        </p:grpSpPr>
        <p:sp>
          <p:nvSpPr>
            <p:cNvPr id="666" name=""/>
            <p:cNvSpPr/>
            <p:nvPr/>
          </p:nvSpPr>
          <p:spPr>
            <a:xfrm rot="10800000">
              <a:off x="2197080" y="55623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912680" y="54100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3827160" y="5334120"/>
            <a:ext cx="439560" cy="761040"/>
            <a:chOff x="3827160" y="5334120"/>
            <a:chExt cx="439560" cy="761040"/>
          </a:xfrm>
        </p:grpSpPr>
        <p:sp>
          <p:nvSpPr>
            <p:cNvPr id="669" name=""/>
            <p:cNvSpPr/>
            <p:nvPr/>
          </p:nvSpPr>
          <p:spPr>
            <a:xfrm rot="10800000">
              <a:off x="4190760" y="54856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27160" y="53341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317480" y="5334120"/>
            <a:ext cx="360720" cy="761040"/>
            <a:chOff x="4317480" y="5334120"/>
            <a:chExt cx="360720" cy="761040"/>
          </a:xfrm>
        </p:grpSpPr>
        <p:sp>
          <p:nvSpPr>
            <p:cNvPr id="672" name=""/>
            <p:cNvSpPr/>
            <p:nvPr/>
          </p:nvSpPr>
          <p:spPr>
            <a:xfrm rot="10800000">
              <a:off x="4317480" y="54856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25400" y="53341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375240" y="5473800"/>
            <a:ext cx="165240" cy="685440"/>
            <a:chOff x="6375240" y="5473800"/>
            <a:chExt cx="165240" cy="685440"/>
          </a:xfrm>
        </p:grpSpPr>
        <p:sp>
          <p:nvSpPr>
            <p:cNvPr id="675" name=""/>
            <p:cNvSpPr/>
            <p:nvPr/>
          </p:nvSpPr>
          <p:spPr>
            <a:xfrm>
              <a:off x="6387840" y="547380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800000">
              <a:off x="6375240" y="55497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975440" y="5486400"/>
            <a:ext cx="165240" cy="685440"/>
            <a:chOff x="7975440" y="5486400"/>
            <a:chExt cx="165240" cy="685440"/>
          </a:xfrm>
        </p:grpSpPr>
        <p:sp>
          <p:nvSpPr>
            <p:cNvPr id="678" name=""/>
            <p:cNvSpPr/>
            <p:nvPr/>
          </p:nvSpPr>
          <p:spPr>
            <a:xfrm>
              <a:off x="7988040" y="548640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0800000">
              <a:off x="7975440" y="556236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5951160" y="5384880"/>
            <a:ext cx="360360" cy="761400"/>
            <a:chOff x="5951160" y="5384880"/>
            <a:chExt cx="360360" cy="761400"/>
          </a:xfrm>
        </p:grpSpPr>
        <p:sp>
          <p:nvSpPr>
            <p:cNvPr id="681" name=""/>
            <p:cNvSpPr/>
            <p:nvPr/>
          </p:nvSpPr>
          <p:spPr>
            <a:xfrm rot="10800000">
              <a:off x="6235560" y="553716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1160" y="53848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7484760" y="5410080"/>
            <a:ext cx="439560" cy="762120"/>
            <a:chOff x="7484760" y="5410080"/>
            <a:chExt cx="439560" cy="762120"/>
          </a:xfrm>
        </p:grpSpPr>
        <p:sp>
          <p:nvSpPr>
            <p:cNvPr id="684" name=""/>
            <p:cNvSpPr/>
            <p:nvPr/>
          </p:nvSpPr>
          <p:spPr>
            <a:xfrm rot="10800000">
              <a:off x="7848360" y="55623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84760" y="541008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600200" y="6248520"/>
            <a:ext cx="147600" cy="222120"/>
            <a:chOff x="1600200" y="6248520"/>
            <a:chExt cx="147600" cy="222120"/>
          </a:xfrm>
        </p:grpSpPr>
        <p:sp>
          <p:nvSpPr>
            <p:cNvPr id="687" name=""/>
            <p:cNvSpPr/>
            <p:nvPr/>
          </p:nvSpPr>
          <p:spPr>
            <a:xfrm>
              <a:off x="1629720" y="62485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74000" y="6337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00200" y="6404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581280" y="6248520"/>
            <a:ext cx="147600" cy="222120"/>
            <a:chOff x="3581280" y="6248520"/>
            <a:chExt cx="147600" cy="222120"/>
          </a:xfrm>
        </p:grpSpPr>
        <p:sp>
          <p:nvSpPr>
            <p:cNvPr id="691" name=""/>
            <p:cNvSpPr/>
            <p:nvPr/>
          </p:nvSpPr>
          <p:spPr>
            <a:xfrm>
              <a:off x="3610800" y="62485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655080" y="6337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1280" y="6404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715000" y="6172200"/>
            <a:ext cx="152280" cy="165240"/>
            <a:chOff x="5715000" y="6172200"/>
            <a:chExt cx="152280" cy="165240"/>
          </a:xfrm>
        </p:grpSpPr>
        <p:sp>
          <p:nvSpPr>
            <p:cNvPr id="695" name=""/>
            <p:cNvSpPr/>
            <p:nvPr/>
          </p:nvSpPr>
          <p:spPr>
            <a:xfrm>
              <a:off x="5715000" y="626112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790960" y="617220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7238880" y="6172200"/>
            <a:ext cx="152280" cy="165240"/>
            <a:chOff x="7238880" y="6172200"/>
            <a:chExt cx="152280" cy="165240"/>
          </a:xfrm>
        </p:grpSpPr>
        <p:sp>
          <p:nvSpPr>
            <p:cNvPr id="698" name=""/>
            <p:cNvSpPr/>
            <p:nvPr/>
          </p:nvSpPr>
          <p:spPr>
            <a:xfrm>
              <a:off x="7238880" y="626112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7314840" y="617220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657600" y="236232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360240" y="3505320"/>
            <a:ext cx="360360" cy="761400"/>
            <a:chOff x="3360240" y="3505320"/>
            <a:chExt cx="360360" cy="761400"/>
          </a:xfrm>
        </p:grpSpPr>
        <p:sp>
          <p:nvSpPr>
            <p:cNvPr id="702" name=""/>
            <p:cNvSpPr/>
            <p:nvPr/>
          </p:nvSpPr>
          <p:spPr>
            <a:xfrm rot="10800000">
              <a:off x="3644640" y="365760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60240" y="35053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3505320" y="2362320"/>
            <a:ext cx="228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3885840" y="2133720"/>
            <a:ext cx="1600200" cy="1447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24382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209680" y="4191120"/>
            <a:ext cx="144792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4191120"/>
            <a:ext cx="38124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590560" y="3962520"/>
            <a:ext cx="2971800" cy="14475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419360" y="4267080"/>
            <a:ext cx="1143000" cy="1143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33920" y="4267080"/>
            <a:ext cx="25146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85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4038480"/>
            <a:ext cx="396252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8487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91320" y="419112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477120" y="4876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1320" y="4114800"/>
            <a:ext cx="22860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077320" y="4800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c0c"/>
                </a:solidFill>
                <a:latin typeface="Comic Sans MS"/>
              </a:rPr>
              <a:t>Eccezioni occasionali alla regola della eredità croc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72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1725480" cy="16509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3"/>
          <a:stretch/>
        </p:blipFill>
        <p:spPr>
          <a:xfrm>
            <a:off x="5727600" y="1523880"/>
            <a:ext cx="1219320" cy="138744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1360800" y="1905120"/>
            <a:ext cx="3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941200" y="1968480"/>
            <a:ext cx="360360" cy="761760"/>
            <a:chOff x="2941200" y="1968480"/>
            <a:chExt cx="360360" cy="761760"/>
          </a:xfrm>
        </p:grpSpPr>
        <p:sp>
          <p:nvSpPr>
            <p:cNvPr id="730" name=""/>
            <p:cNvSpPr/>
            <p:nvPr/>
          </p:nvSpPr>
          <p:spPr>
            <a:xfrm rot="10800000">
              <a:off x="3225600" y="212076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41200" y="19684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262480" y="1905120"/>
            <a:ext cx="439560" cy="761040"/>
            <a:chOff x="5262480" y="1905120"/>
            <a:chExt cx="439560" cy="761040"/>
          </a:xfrm>
        </p:grpSpPr>
        <p:sp>
          <p:nvSpPr>
            <p:cNvPr id="733" name=""/>
            <p:cNvSpPr/>
            <p:nvPr/>
          </p:nvSpPr>
          <p:spPr>
            <a:xfrm rot="10800000">
              <a:off x="5626080" y="20566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62480" y="19051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778360" y="1981080"/>
            <a:ext cx="165240" cy="685440"/>
            <a:chOff x="5778360" y="1981080"/>
            <a:chExt cx="165240" cy="685440"/>
          </a:xfrm>
        </p:grpSpPr>
        <p:sp>
          <p:nvSpPr>
            <p:cNvPr id="736" name=""/>
            <p:cNvSpPr/>
            <p:nvPr/>
          </p:nvSpPr>
          <p:spPr>
            <a:xfrm>
              <a:off x="5790960" y="198108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0800000">
              <a:off x="5778360" y="205704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365280" y="1981080"/>
            <a:ext cx="360720" cy="762120"/>
            <a:chOff x="3365280" y="1981080"/>
            <a:chExt cx="360720" cy="762120"/>
          </a:xfrm>
        </p:grpSpPr>
        <p:sp>
          <p:nvSpPr>
            <p:cNvPr id="739" name=""/>
            <p:cNvSpPr/>
            <p:nvPr/>
          </p:nvSpPr>
          <p:spPr>
            <a:xfrm rot="10800000">
              <a:off x="3365280" y="213336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373200" y="198108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133720" y="2286000"/>
            <a:ext cx="147600" cy="222120"/>
            <a:chOff x="2133720" y="2286000"/>
            <a:chExt cx="147600" cy="222120"/>
          </a:xfrm>
        </p:grpSpPr>
        <p:sp>
          <p:nvSpPr>
            <p:cNvPr id="742" name=""/>
            <p:cNvSpPr/>
            <p:nvPr/>
          </p:nvSpPr>
          <p:spPr>
            <a:xfrm>
              <a:off x="2163240" y="228600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7520" y="237492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33720" y="244152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2819520" y="3886200"/>
            <a:ext cx="1447560" cy="138420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6705720" y="2209680"/>
            <a:ext cx="152280" cy="165240"/>
            <a:chOff x="6705720" y="2209680"/>
            <a:chExt cx="152280" cy="165240"/>
          </a:xfrm>
        </p:grpSpPr>
        <p:sp>
          <p:nvSpPr>
            <p:cNvPr id="747" name=""/>
            <p:cNvSpPr/>
            <p:nvPr/>
          </p:nvSpPr>
          <p:spPr>
            <a:xfrm>
              <a:off x="6705720" y="22986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781680" y="22096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4353840" y="2073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5"/>
          <a:stretch/>
        </p:blipFill>
        <p:spPr>
          <a:xfrm>
            <a:off x="6858000" y="3733920"/>
            <a:ext cx="1725480" cy="165096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6"/>
          <a:stretch/>
        </p:blipFill>
        <p:spPr>
          <a:xfrm>
            <a:off x="1143000" y="3809880"/>
            <a:ext cx="1359000" cy="15480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7"/>
          <a:stretch/>
        </p:blipFill>
        <p:spPr>
          <a:xfrm>
            <a:off x="5562720" y="3962520"/>
            <a:ext cx="1158840" cy="1319040"/>
          </a:xfrm>
          <a:prstGeom prst="rect">
            <a:avLst/>
          </a:prstGeom>
          <a:ln w="0">
            <a:noFill/>
          </a:ln>
        </p:spPr>
      </p:pic>
      <p:grpSp>
        <p:nvGrpSpPr>
          <p:cNvPr id="753" name=""/>
          <p:cNvGrpSpPr/>
          <p:nvPr/>
        </p:nvGrpSpPr>
        <p:grpSpPr>
          <a:xfrm>
            <a:off x="1752480" y="5334120"/>
            <a:ext cx="147600" cy="222120"/>
            <a:chOff x="1752480" y="5334120"/>
            <a:chExt cx="147600" cy="222120"/>
          </a:xfrm>
        </p:grpSpPr>
        <p:sp>
          <p:nvSpPr>
            <p:cNvPr id="754" name=""/>
            <p:cNvSpPr/>
            <p:nvPr/>
          </p:nvSpPr>
          <p:spPr>
            <a:xfrm>
              <a:off x="1782000" y="53341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6280" y="54230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752480" y="54896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696080" y="5340240"/>
            <a:ext cx="147600" cy="222120"/>
            <a:chOff x="7696080" y="5340240"/>
            <a:chExt cx="147600" cy="222120"/>
          </a:xfrm>
        </p:grpSpPr>
        <p:sp>
          <p:nvSpPr>
            <p:cNvPr id="758" name=""/>
            <p:cNvSpPr/>
            <p:nvPr/>
          </p:nvSpPr>
          <p:spPr>
            <a:xfrm>
              <a:off x="7725600" y="534024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69880" y="542916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96080" y="549576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505320" y="5333760"/>
            <a:ext cx="152280" cy="164880"/>
            <a:chOff x="3505320" y="5333760"/>
            <a:chExt cx="152280" cy="164880"/>
          </a:xfrm>
        </p:grpSpPr>
        <p:sp>
          <p:nvSpPr>
            <p:cNvPr id="762" name=""/>
            <p:cNvSpPr/>
            <p:nvPr/>
          </p:nvSpPr>
          <p:spPr>
            <a:xfrm>
              <a:off x="3505320" y="54226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3581280" y="53337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095880" y="5257800"/>
            <a:ext cx="152280" cy="165240"/>
            <a:chOff x="6095880" y="5257800"/>
            <a:chExt cx="152280" cy="165240"/>
          </a:xfrm>
        </p:grpSpPr>
        <p:sp>
          <p:nvSpPr>
            <p:cNvPr id="765" name=""/>
            <p:cNvSpPr/>
            <p:nvPr/>
          </p:nvSpPr>
          <p:spPr>
            <a:xfrm>
              <a:off x="6095880" y="534672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171840" y="525780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754080" y="4368960"/>
            <a:ext cx="360360" cy="761400"/>
            <a:chOff x="3754080" y="4368960"/>
            <a:chExt cx="360360" cy="761400"/>
          </a:xfrm>
        </p:grpSpPr>
        <p:sp>
          <p:nvSpPr>
            <p:cNvPr id="768" name=""/>
            <p:cNvSpPr/>
            <p:nvPr/>
          </p:nvSpPr>
          <p:spPr>
            <a:xfrm rot="10800000">
              <a:off x="4038480" y="452124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54080" y="436896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963440" y="4419720"/>
            <a:ext cx="360360" cy="761400"/>
            <a:chOff x="1963440" y="4419720"/>
            <a:chExt cx="360360" cy="761400"/>
          </a:xfrm>
        </p:grpSpPr>
        <p:sp>
          <p:nvSpPr>
            <p:cNvPr id="771" name=""/>
            <p:cNvSpPr/>
            <p:nvPr/>
          </p:nvSpPr>
          <p:spPr>
            <a:xfrm rot="10800000">
              <a:off x="2247840" y="457200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63440" y="4419720"/>
              <a:ext cx="35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374560" y="4419720"/>
            <a:ext cx="440280" cy="761400"/>
            <a:chOff x="2374560" y="4419720"/>
            <a:chExt cx="440280" cy="761400"/>
          </a:xfrm>
        </p:grpSpPr>
        <p:sp>
          <p:nvSpPr>
            <p:cNvPr id="774" name=""/>
            <p:cNvSpPr/>
            <p:nvPr/>
          </p:nvSpPr>
          <p:spPr>
            <a:xfrm rot="10800000">
              <a:off x="2374560" y="4572000"/>
              <a:ext cx="75960" cy="60912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5080" y="441972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165560" y="4470480"/>
            <a:ext cx="165240" cy="685440"/>
            <a:chOff x="4165560" y="4470480"/>
            <a:chExt cx="165240" cy="685440"/>
          </a:xfrm>
        </p:grpSpPr>
        <p:sp>
          <p:nvSpPr>
            <p:cNvPr id="777" name=""/>
            <p:cNvSpPr/>
            <p:nvPr/>
          </p:nvSpPr>
          <p:spPr>
            <a:xfrm>
              <a:off x="4178160" y="4470480"/>
              <a:ext cx="15264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0800000">
              <a:off x="4165560" y="4546440"/>
              <a:ext cx="7632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 flipH="1">
            <a:off x="2286000" y="2666880"/>
            <a:ext cx="9907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429000" y="2743200"/>
            <a:ext cx="68580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590560" y="2438280"/>
            <a:ext cx="2971800" cy="198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4267080" y="2666880"/>
            <a:ext cx="1524240" cy="1752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6200000">
            <a:off x="2646360" y="4516560"/>
            <a:ext cx="193680" cy="2133360"/>
          </a:xfrm>
          <a:custGeom>
            <a:avLst/>
            <a:gdLst>
              <a:gd name="textAreaLeft" fmla="*/ 56880 w 193680"/>
              <a:gd name="textAreaRight" fmla="*/ 194040 w 193680"/>
              <a:gd name="textAreaTop" fmla="*/ 88560 h 2133360"/>
              <a:gd name="textAreaBottom" fmla="*/ 20448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6200000">
            <a:off x="6913440" y="4516200"/>
            <a:ext cx="193680" cy="2133720"/>
          </a:xfrm>
          <a:custGeom>
            <a:avLst/>
            <a:gdLst>
              <a:gd name="textAreaLeft" fmla="*/ 56880 w 193680"/>
              <a:gd name="textAreaRight" fmla="*/ 194040 w 193680"/>
              <a:gd name="textAreaTop" fmla="*/ 8892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72640" y="561672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enie regol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01480" y="56134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enie ecce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556320" y="595476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.0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943600" y="32749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07080" y="32767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1400" y="426708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51920" y="67284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c0c"/>
                </a:solidFill>
                <a:latin typeface="Comic Sans MS"/>
              </a:rPr>
              <a:t>Determiniamo il genotipo delle femmine ecce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7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2133720" y="1747800"/>
            <a:ext cx="1676160" cy="16048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5838840" y="1900080"/>
            <a:ext cx="1246320" cy="1419480"/>
          </a:xfrm>
          <a:prstGeom prst="rect">
            <a:avLst/>
          </a:prstGeom>
          <a:ln w="0">
            <a:noFill/>
          </a:ln>
        </p:spPr>
      </p:pic>
      <p:grpSp>
        <p:nvGrpSpPr>
          <p:cNvPr id="800" name=""/>
          <p:cNvGrpSpPr/>
          <p:nvPr/>
        </p:nvGrpSpPr>
        <p:grpSpPr>
          <a:xfrm>
            <a:off x="5186160" y="1989000"/>
            <a:ext cx="439560" cy="762120"/>
            <a:chOff x="5186160" y="1989000"/>
            <a:chExt cx="439560" cy="762120"/>
          </a:xfrm>
        </p:grpSpPr>
        <p:sp>
          <p:nvSpPr>
            <p:cNvPr id="801" name=""/>
            <p:cNvSpPr/>
            <p:nvPr/>
          </p:nvSpPr>
          <p:spPr>
            <a:xfrm rot="10800000">
              <a:off x="5549760" y="2141280"/>
              <a:ext cx="75960" cy="609840"/>
            </a:xfrm>
            <a:prstGeom prst="can">
              <a:avLst>
                <a:gd name="adj" fmla="val 25000"/>
              </a:avLst>
            </a:prstGeom>
            <a:solidFill>
              <a:srgbClr val="ff0c0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86160" y="1989000"/>
              <a:ext cx="4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702040" y="2065320"/>
            <a:ext cx="164880" cy="685440"/>
            <a:chOff x="5702040" y="2065320"/>
            <a:chExt cx="164880" cy="685440"/>
          </a:xfrm>
        </p:grpSpPr>
        <p:sp>
          <p:nvSpPr>
            <p:cNvPr id="804" name=""/>
            <p:cNvSpPr/>
            <p:nvPr/>
          </p:nvSpPr>
          <p:spPr>
            <a:xfrm>
              <a:off x="5714640" y="2065320"/>
              <a:ext cx="152280" cy="380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0800000">
              <a:off x="5702040" y="2141280"/>
              <a:ext cx="75960" cy="609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290680" y="2738520"/>
            <a:ext cx="147600" cy="222120"/>
            <a:chOff x="2290680" y="2738520"/>
            <a:chExt cx="147600" cy="222120"/>
          </a:xfrm>
        </p:grpSpPr>
        <p:sp>
          <p:nvSpPr>
            <p:cNvPr id="807" name=""/>
            <p:cNvSpPr/>
            <p:nvPr/>
          </p:nvSpPr>
          <p:spPr>
            <a:xfrm>
              <a:off x="2320200" y="27385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64480" y="28274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90680" y="28940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6781680" y="2738160"/>
            <a:ext cx="152280" cy="164880"/>
            <a:chOff x="6781680" y="2738160"/>
            <a:chExt cx="152280" cy="164880"/>
          </a:xfrm>
        </p:grpSpPr>
        <p:sp>
          <p:nvSpPr>
            <p:cNvPr id="811" name=""/>
            <p:cNvSpPr/>
            <p:nvPr/>
          </p:nvSpPr>
          <p:spPr>
            <a:xfrm>
              <a:off x="6781680" y="28270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7640" y="27381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895480" y="12175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2819520" y="3886200"/>
            <a:ext cx="1447560" cy="138420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5"/>
          <a:stretch/>
        </p:blipFill>
        <p:spPr>
          <a:xfrm>
            <a:off x="1143000" y="3809880"/>
            <a:ext cx="1359000" cy="154800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"/>
          <a:stretch/>
        </p:blipFill>
        <p:spPr>
          <a:xfrm>
            <a:off x="6858000" y="3733920"/>
            <a:ext cx="1725480" cy="165096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7"/>
          <a:stretch/>
        </p:blipFill>
        <p:spPr>
          <a:xfrm>
            <a:off x="5334120" y="4014720"/>
            <a:ext cx="1158840" cy="131940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1752480" y="5334120"/>
            <a:ext cx="147600" cy="222120"/>
            <a:chOff x="1752480" y="5334120"/>
            <a:chExt cx="147600" cy="222120"/>
          </a:xfrm>
        </p:grpSpPr>
        <p:sp>
          <p:nvSpPr>
            <p:cNvPr id="819" name=""/>
            <p:cNvSpPr/>
            <p:nvPr/>
          </p:nvSpPr>
          <p:spPr>
            <a:xfrm>
              <a:off x="1782000" y="533412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826280" y="542304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52480" y="548964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505320" y="5333760"/>
            <a:ext cx="152280" cy="164880"/>
            <a:chOff x="3505320" y="5333760"/>
            <a:chExt cx="152280" cy="164880"/>
          </a:xfrm>
        </p:grpSpPr>
        <p:sp>
          <p:nvSpPr>
            <p:cNvPr id="823" name=""/>
            <p:cNvSpPr/>
            <p:nvPr/>
          </p:nvSpPr>
          <p:spPr>
            <a:xfrm>
              <a:off x="3505320" y="5422680"/>
              <a:ext cx="75960" cy="7596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3581280" y="5333760"/>
              <a:ext cx="76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 rot="16200000">
            <a:off x="2646360" y="4516560"/>
            <a:ext cx="193680" cy="2133360"/>
          </a:xfrm>
          <a:custGeom>
            <a:avLst/>
            <a:gdLst>
              <a:gd name="textAreaLeft" fmla="*/ 56880 w 193680"/>
              <a:gd name="textAreaRight" fmla="*/ 194040 w 193680"/>
              <a:gd name="textAreaTop" fmla="*/ 88560 h 2133360"/>
              <a:gd name="textAreaBottom" fmla="*/ 20448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00960" y="57150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363720" y="57150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7620120" y="5340240"/>
            <a:ext cx="147600" cy="222120"/>
            <a:chOff x="7620120" y="5340240"/>
            <a:chExt cx="147600" cy="222120"/>
          </a:xfrm>
        </p:grpSpPr>
        <p:sp>
          <p:nvSpPr>
            <p:cNvPr id="829" name=""/>
            <p:cNvSpPr/>
            <p:nvPr/>
          </p:nvSpPr>
          <p:spPr>
            <a:xfrm>
              <a:off x="7649640" y="5340240"/>
              <a:ext cx="88560" cy="889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693920" y="5429160"/>
              <a:ext cx="0" cy="13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20120" y="5495760"/>
              <a:ext cx="14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867280" y="5410080"/>
            <a:ext cx="152280" cy="165240"/>
            <a:chOff x="5867280" y="5410080"/>
            <a:chExt cx="152280" cy="165240"/>
          </a:xfrm>
        </p:grpSpPr>
        <p:sp>
          <p:nvSpPr>
            <p:cNvPr id="833" name=""/>
            <p:cNvSpPr/>
            <p:nvPr/>
          </p:nvSpPr>
          <p:spPr>
            <a:xfrm>
              <a:off x="5867280" y="5499000"/>
              <a:ext cx="75960" cy="76320"/>
            </a:xfrm>
            <a:prstGeom prst="ellipse">
              <a:avLst/>
            </a:prstGeom>
            <a:solidFill>
              <a:srgbClr val="fffff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5943240" y="54100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 rot="16200000">
            <a:off x="6761160" y="4516560"/>
            <a:ext cx="193680" cy="2133360"/>
          </a:xfrm>
          <a:custGeom>
            <a:avLst/>
            <a:gdLst>
              <a:gd name="textAreaLeft" fmla="*/ 56880 w 193680"/>
              <a:gd name="textAreaRight" fmla="*/ 194040 w 193680"/>
              <a:gd name="textAreaTop" fmla="*/ 88560 h 2133360"/>
              <a:gd name="textAreaBottom" fmla="*/ 20448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5384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95680" y="3352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68080" y="213372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05960" y="4419720"/>
            <a:ext cx="4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08:11:33Z</dcterms:created>
  <dc:creator>Palumbo</dc:creator>
  <dc:description/>
  <dc:language>en-US</dc:language>
  <cp:lastModifiedBy>M.Rocchi</cp:lastModifiedBy>
  <dcterms:modified xsi:type="dcterms:W3CDTF">2003-01-07T07:26:43Z</dcterms:modified>
  <cp:revision>142</cp:revision>
  <dc:subject/>
  <dc:title>PowerPoint Presentation</dc:title>
</cp:coreProperties>
</file>