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5.pct" ContentType="image/x-pict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535-497D-4BEF-84A2-7F495819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B9E-749D-477E-866D-4B9FC25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29C-6FAA-4597-BD3C-331E7995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286-525A-4995-9163-33AA0C23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ACF-2952-4B06-A474-ABF80506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6C9-434A-4D26-81AE-C78AC374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C6A-C4A4-4A0D-B070-C94CF74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A76-2029-4BA8-872B-C5C975D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C79-8302-4C22-97FC-EAEDCA4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F47-BDA2-48D3-A7D7-9C56418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6BF-E6B4-40E3-8C0A-BEB1DB2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5B9-91D5-4C11-8EAF-70A8800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1426-61E1-47C6-AB18-5D3B1580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82"/>
                </a:solidFill>
                <a:latin typeface="Comic Sans MS"/>
              </a:rPr>
              <a:t>Dominanza 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23560" y="1979640"/>
            <a:ext cx="59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sello        seme liscio    x    seme rug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5909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4120" y="335268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otipo eterozigoti tutti seme lis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Colore dell’occhio: geni diversi o serie allel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455920"/>
            <a:ext cx="1295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684520"/>
            <a:ext cx="1295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2532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2760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44664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67524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72200" y="3522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3751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4240" y="2157480"/>
            <a:ext cx="33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08720" y="5192640"/>
            <a:ext cx="311400" cy="3114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5275440"/>
            <a:ext cx="228600" cy="228600"/>
          </a:xfrm>
          <a:prstGeom prst="flowChartExtra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2270160"/>
            <a:ext cx="1647720" cy="2886120"/>
          </a:xfrm>
          <a:custGeom>
            <a:avLst/>
            <a:gdLst/>
            <a:ahLst/>
            <a:rect l="l" t="t" r="r" b="b"/>
            <a:pathLst>
              <a:path w="1038" h="1818">
                <a:moveTo>
                  <a:pt x="374" y="10"/>
                </a:moveTo>
                <a:cubicBezTo>
                  <a:pt x="530" y="13"/>
                  <a:pt x="687" y="0"/>
                  <a:pt x="842" y="20"/>
                </a:cubicBezTo>
                <a:cubicBezTo>
                  <a:pt x="862" y="22"/>
                  <a:pt x="861" y="55"/>
                  <a:pt x="873" y="72"/>
                </a:cubicBezTo>
                <a:cubicBezTo>
                  <a:pt x="925" y="146"/>
                  <a:pt x="987" y="191"/>
                  <a:pt x="1019" y="280"/>
                </a:cubicBezTo>
                <a:cubicBezTo>
                  <a:pt x="1038" y="463"/>
                  <a:pt x="1032" y="691"/>
                  <a:pt x="925" y="851"/>
                </a:cubicBezTo>
                <a:cubicBezTo>
                  <a:pt x="916" y="863"/>
                  <a:pt x="902" y="870"/>
                  <a:pt x="894" y="882"/>
                </a:cubicBezTo>
                <a:cubicBezTo>
                  <a:pt x="861" y="926"/>
                  <a:pt x="839" y="977"/>
                  <a:pt x="800" y="1017"/>
                </a:cubicBezTo>
                <a:cubicBezTo>
                  <a:pt x="780" y="1036"/>
                  <a:pt x="761" y="1055"/>
                  <a:pt x="738" y="1069"/>
                </a:cubicBezTo>
                <a:cubicBezTo>
                  <a:pt x="718" y="1079"/>
                  <a:pt x="676" y="1090"/>
                  <a:pt x="676" y="1090"/>
                </a:cubicBezTo>
                <a:cubicBezTo>
                  <a:pt x="598" y="1142"/>
                  <a:pt x="697" y="1081"/>
                  <a:pt x="603" y="1121"/>
                </a:cubicBezTo>
                <a:cubicBezTo>
                  <a:pt x="546" y="1144"/>
                  <a:pt x="495" y="1185"/>
                  <a:pt x="437" y="1204"/>
                </a:cubicBezTo>
                <a:cubicBezTo>
                  <a:pt x="388" y="1236"/>
                  <a:pt x="350" y="1276"/>
                  <a:pt x="312" y="1319"/>
                </a:cubicBezTo>
                <a:cubicBezTo>
                  <a:pt x="292" y="1340"/>
                  <a:pt x="266" y="1356"/>
                  <a:pt x="250" y="1381"/>
                </a:cubicBezTo>
                <a:cubicBezTo>
                  <a:pt x="221" y="1422"/>
                  <a:pt x="188" y="1467"/>
                  <a:pt x="146" y="1495"/>
                </a:cubicBezTo>
                <a:cubicBezTo>
                  <a:pt x="82" y="1590"/>
                  <a:pt x="0" y="1699"/>
                  <a:pt x="0" y="18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4560" y="3951360"/>
            <a:ext cx="57816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9200" y="5457960"/>
            <a:ext cx="23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5808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5808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177012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3200" y="6111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nor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259092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leziono due mutanti indipendenti che presentano uno stesso fenotipo, colore </a:t>
            </a: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ros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’occhio, denomi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rosa#1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rosa#2</a:t>
            </a: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1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76212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Geni diversi o serie allelica? </a:t>
            </a:r>
            <a:br>
              <a:rPr sz="2800"/>
            </a:b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Test di comple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455920"/>
            <a:ext cx="1295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684520"/>
            <a:ext cx="129564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32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7608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4664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67524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522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51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15748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93720" y="5192640"/>
            <a:ext cx="311400" cy="3114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9560" y="3951360"/>
            <a:ext cx="57816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4920" y="5640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808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177012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7800" y="61117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</a:t>
            </a:r>
            <a:r>
              <a:rPr b="0" lang="en-US" sz="2400" spc="-1" strike="noStrike">
                <a:solidFill>
                  <a:srgbClr val="ff021b"/>
                </a:solidFill>
                <a:latin typeface="Comic Sans MS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438280"/>
            <a:ext cx="1295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666880"/>
            <a:ext cx="1295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2514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42900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3657600"/>
            <a:ext cx="129564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3505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213984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5257800"/>
            <a:ext cx="228600" cy="228600"/>
          </a:xfrm>
          <a:prstGeom prst="flowChartExtra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83200" y="2252520"/>
            <a:ext cx="1647720" cy="2886120"/>
          </a:xfrm>
          <a:custGeom>
            <a:avLst/>
            <a:gdLst/>
            <a:ahLst/>
            <a:rect l="l" t="t" r="r" b="b"/>
            <a:pathLst>
              <a:path w="1038" h="1818">
                <a:moveTo>
                  <a:pt x="374" y="10"/>
                </a:moveTo>
                <a:cubicBezTo>
                  <a:pt x="530" y="13"/>
                  <a:pt x="687" y="0"/>
                  <a:pt x="842" y="20"/>
                </a:cubicBezTo>
                <a:cubicBezTo>
                  <a:pt x="862" y="22"/>
                  <a:pt x="861" y="55"/>
                  <a:pt x="873" y="72"/>
                </a:cubicBezTo>
                <a:cubicBezTo>
                  <a:pt x="925" y="146"/>
                  <a:pt x="987" y="191"/>
                  <a:pt x="1019" y="280"/>
                </a:cubicBezTo>
                <a:cubicBezTo>
                  <a:pt x="1038" y="463"/>
                  <a:pt x="1032" y="691"/>
                  <a:pt x="925" y="851"/>
                </a:cubicBezTo>
                <a:cubicBezTo>
                  <a:pt x="916" y="863"/>
                  <a:pt x="902" y="870"/>
                  <a:pt x="894" y="882"/>
                </a:cubicBezTo>
                <a:cubicBezTo>
                  <a:pt x="861" y="926"/>
                  <a:pt x="839" y="977"/>
                  <a:pt x="800" y="1017"/>
                </a:cubicBezTo>
                <a:cubicBezTo>
                  <a:pt x="780" y="1036"/>
                  <a:pt x="761" y="1055"/>
                  <a:pt x="738" y="1069"/>
                </a:cubicBezTo>
                <a:cubicBezTo>
                  <a:pt x="718" y="1079"/>
                  <a:pt x="676" y="1090"/>
                  <a:pt x="676" y="1090"/>
                </a:cubicBezTo>
                <a:cubicBezTo>
                  <a:pt x="598" y="1142"/>
                  <a:pt x="697" y="1081"/>
                  <a:pt x="603" y="1121"/>
                </a:cubicBezTo>
                <a:cubicBezTo>
                  <a:pt x="546" y="1144"/>
                  <a:pt x="495" y="1185"/>
                  <a:pt x="437" y="1204"/>
                </a:cubicBezTo>
                <a:cubicBezTo>
                  <a:pt x="388" y="1236"/>
                  <a:pt x="350" y="1276"/>
                  <a:pt x="312" y="1319"/>
                </a:cubicBezTo>
                <a:cubicBezTo>
                  <a:pt x="292" y="1340"/>
                  <a:pt x="266" y="1356"/>
                  <a:pt x="250" y="1381"/>
                </a:cubicBezTo>
                <a:cubicBezTo>
                  <a:pt x="221" y="1422"/>
                  <a:pt x="188" y="1467"/>
                  <a:pt x="146" y="1495"/>
                </a:cubicBezTo>
                <a:cubicBezTo>
                  <a:pt x="82" y="1590"/>
                  <a:pt x="0" y="1699"/>
                  <a:pt x="0" y="18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77320" y="56228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579132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175248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18200" y="60944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</a:t>
            </a:r>
            <a:r>
              <a:rPr b="0" lang="en-US" sz="2400" spc="-1" strike="noStrike">
                <a:solidFill>
                  <a:srgbClr val="ff021b"/>
                </a:solidFill>
                <a:latin typeface="Comic Sans MS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4382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26668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2743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34290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0" y="36576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13984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257800"/>
            <a:ext cx="228600" cy="228600"/>
          </a:xfrm>
          <a:prstGeom prst="flowChartExtra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4720" y="562284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175248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60944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normale &gt;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3886200"/>
            <a:ext cx="57780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5181480"/>
            <a:ext cx="311040" cy="3114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0440" y="281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56600" y="2919240"/>
            <a:ext cx="900000" cy="2227320"/>
          </a:xfrm>
          <a:custGeom>
            <a:avLst/>
            <a:gdLst/>
            <a:ahLst/>
            <a:rect l="l" t="t" r="r" b="b"/>
            <a:pathLst>
              <a:path w="567" h="1403">
                <a:moveTo>
                  <a:pt x="395" y="0"/>
                </a:moveTo>
                <a:cubicBezTo>
                  <a:pt x="433" y="13"/>
                  <a:pt x="462" y="29"/>
                  <a:pt x="488" y="63"/>
                </a:cubicBezTo>
                <a:cubicBezTo>
                  <a:pt x="503" y="82"/>
                  <a:pt x="516" y="104"/>
                  <a:pt x="530" y="125"/>
                </a:cubicBezTo>
                <a:cubicBezTo>
                  <a:pt x="537" y="135"/>
                  <a:pt x="551" y="156"/>
                  <a:pt x="551" y="156"/>
                </a:cubicBezTo>
                <a:cubicBezTo>
                  <a:pt x="567" y="275"/>
                  <a:pt x="546" y="390"/>
                  <a:pt x="530" y="509"/>
                </a:cubicBezTo>
                <a:cubicBezTo>
                  <a:pt x="506" y="682"/>
                  <a:pt x="495" y="865"/>
                  <a:pt x="384" y="1008"/>
                </a:cubicBezTo>
                <a:cubicBezTo>
                  <a:pt x="359" y="1083"/>
                  <a:pt x="395" y="995"/>
                  <a:pt x="343" y="1060"/>
                </a:cubicBezTo>
                <a:cubicBezTo>
                  <a:pt x="285" y="1131"/>
                  <a:pt x="389" y="1051"/>
                  <a:pt x="301" y="1112"/>
                </a:cubicBezTo>
                <a:cubicBezTo>
                  <a:pt x="248" y="1193"/>
                  <a:pt x="317" y="1095"/>
                  <a:pt x="249" y="1164"/>
                </a:cubicBezTo>
                <a:cubicBezTo>
                  <a:pt x="179" y="1233"/>
                  <a:pt x="283" y="1158"/>
                  <a:pt x="197" y="1216"/>
                </a:cubicBezTo>
                <a:cubicBezTo>
                  <a:pt x="169" y="1258"/>
                  <a:pt x="130" y="1287"/>
                  <a:pt x="93" y="1320"/>
                </a:cubicBezTo>
                <a:cubicBezTo>
                  <a:pt x="71" y="1339"/>
                  <a:pt x="55" y="1365"/>
                  <a:pt x="31" y="1382"/>
                </a:cubicBezTo>
                <a:cubicBezTo>
                  <a:pt x="20" y="1389"/>
                  <a:pt x="0" y="1403"/>
                  <a:pt x="0" y="1403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Geni diversi o serie allelica? </a:t>
            </a:r>
            <a:br>
              <a:rPr sz="2800"/>
            </a:b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Test di comple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336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3360" y="2455920"/>
            <a:ext cx="1295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2684520"/>
            <a:ext cx="1295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0720" y="25322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3360" y="344664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3360" y="367524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0720" y="3522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720" y="3751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3360" y="215748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87600" y="5192640"/>
            <a:ext cx="311040" cy="3114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3440" y="3951360"/>
            <a:ext cx="57780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8440" y="5640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3360" y="5808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840" y="177012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1320" y="61117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</a:t>
            </a:r>
            <a:r>
              <a:rPr b="0" lang="en-US" sz="2400" spc="-1" strike="noStrike">
                <a:solidFill>
                  <a:srgbClr val="ff021b"/>
                </a:solidFill>
                <a:latin typeface="Comic Sans MS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27440" y="24382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27440" y="26668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7516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5160" y="2743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727440" y="34290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27440" y="36576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7516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516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27440" y="213984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30720" y="5622840"/>
            <a:ext cx="6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2744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93920" y="175248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35760" y="60944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</a:t>
            </a:r>
            <a:r>
              <a:rPr b="0" lang="en-US" sz="2400" spc="-1" strike="noStrike">
                <a:solidFill>
                  <a:srgbClr val="ff021b"/>
                </a:solidFill>
                <a:latin typeface="Comic Sans MS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99240" y="24382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99240" y="2666880"/>
            <a:ext cx="1295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4696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46960" y="2743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99240" y="34290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99240" y="3657600"/>
            <a:ext cx="1295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4696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4696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99240" y="213984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ff021b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4680" y="562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99240" y="57913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5720" y="1752480"/>
            <a:ext cx="2743200" cy="2743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3440" y="6094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re </a:t>
            </a:r>
            <a:r>
              <a:rPr b="0" lang="en-US" sz="2400" spc="-1" strike="noStrike">
                <a:solidFill>
                  <a:srgbClr val="ff021b"/>
                </a:solidFill>
                <a:latin typeface="Comic Sans MS"/>
              </a:rPr>
              <a:t>norm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gt;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13640" y="3886200"/>
            <a:ext cx="57780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89960" y="5181480"/>
            <a:ext cx="311040" cy="3114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0120" y="5203800"/>
            <a:ext cx="311400" cy="3110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56320" y="3962520"/>
            <a:ext cx="577800" cy="1171440"/>
          </a:xfrm>
          <a:custGeom>
            <a:avLst/>
            <a:gdLst/>
            <a:ahLst/>
            <a:rect l="l" t="t" r="r" b="b"/>
            <a:pathLst>
              <a:path w="364" h="738">
                <a:moveTo>
                  <a:pt x="0" y="0"/>
                </a:moveTo>
                <a:cubicBezTo>
                  <a:pt x="58" y="19"/>
                  <a:pt x="107" y="50"/>
                  <a:pt x="167" y="62"/>
                </a:cubicBezTo>
                <a:cubicBezTo>
                  <a:pt x="208" y="79"/>
                  <a:pt x="248" y="100"/>
                  <a:pt x="291" y="114"/>
                </a:cubicBezTo>
                <a:cubicBezTo>
                  <a:pt x="363" y="162"/>
                  <a:pt x="346" y="131"/>
                  <a:pt x="364" y="187"/>
                </a:cubicBezTo>
                <a:cubicBezTo>
                  <a:pt x="349" y="290"/>
                  <a:pt x="338" y="300"/>
                  <a:pt x="291" y="384"/>
                </a:cubicBezTo>
                <a:cubicBezTo>
                  <a:pt x="263" y="432"/>
                  <a:pt x="233" y="479"/>
                  <a:pt x="208" y="530"/>
                </a:cubicBezTo>
                <a:cubicBezTo>
                  <a:pt x="198" y="549"/>
                  <a:pt x="187" y="592"/>
                  <a:pt x="187" y="592"/>
                </a:cubicBezTo>
                <a:cubicBezTo>
                  <a:pt x="175" y="709"/>
                  <a:pt x="177" y="661"/>
                  <a:pt x="177" y="738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41880" y="499428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2438280"/>
            <a:ext cx="1116000" cy="2603520"/>
          </a:xfrm>
          <a:custGeom>
            <a:avLst/>
            <a:gdLst/>
            <a:ahLst/>
            <a:rect l="l" t="t" r="r" b="b"/>
            <a:pathLst>
              <a:path w="703" h="1640">
                <a:moveTo>
                  <a:pt x="364" y="0"/>
                </a:moveTo>
                <a:cubicBezTo>
                  <a:pt x="445" y="6"/>
                  <a:pt x="470" y="2"/>
                  <a:pt x="534" y="40"/>
                </a:cubicBezTo>
                <a:cubicBezTo>
                  <a:pt x="558" y="77"/>
                  <a:pt x="575" y="121"/>
                  <a:pt x="606" y="154"/>
                </a:cubicBezTo>
                <a:cubicBezTo>
                  <a:pt x="620" y="192"/>
                  <a:pt x="634" y="228"/>
                  <a:pt x="647" y="267"/>
                </a:cubicBezTo>
                <a:cubicBezTo>
                  <a:pt x="656" y="346"/>
                  <a:pt x="679" y="422"/>
                  <a:pt x="695" y="501"/>
                </a:cubicBezTo>
                <a:cubicBezTo>
                  <a:pt x="697" y="528"/>
                  <a:pt x="703" y="554"/>
                  <a:pt x="703" y="582"/>
                </a:cubicBezTo>
                <a:cubicBezTo>
                  <a:pt x="703" y="630"/>
                  <a:pt x="665" y="695"/>
                  <a:pt x="639" y="735"/>
                </a:cubicBezTo>
                <a:cubicBezTo>
                  <a:pt x="625" y="777"/>
                  <a:pt x="609" y="789"/>
                  <a:pt x="582" y="824"/>
                </a:cubicBezTo>
                <a:cubicBezTo>
                  <a:pt x="537" y="880"/>
                  <a:pt x="499" y="936"/>
                  <a:pt x="437" y="978"/>
                </a:cubicBezTo>
                <a:cubicBezTo>
                  <a:pt x="392" y="1044"/>
                  <a:pt x="452" y="961"/>
                  <a:pt x="396" y="1018"/>
                </a:cubicBezTo>
                <a:cubicBezTo>
                  <a:pt x="383" y="1030"/>
                  <a:pt x="376" y="1046"/>
                  <a:pt x="364" y="1059"/>
                </a:cubicBezTo>
                <a:cubicBezTo>
                  <a:pt x="346" y="1076"/>
                  <a:pt x="324" y="1089"/>
                  <a:pt x="307" y="1107"/>
                </a:cubicBezTo>
                <a:cubicBezTo>
                  <a:pt x="292" y="1150"/>
                  <a:pt x="251" y="1180"/>
                  <a:pt x="227" y="1220"/>
                </a:cubicBezTo>
                <a:cubicBezTo>
                  <a:pt x="220" y="1230"/>
                  <a:pt x="217" y="1243"/>
                  <a:pt x="210" y="1253"/>
                </a:cubicBezTo>
                <a:cubicBezTo>
                  <a:pt x="198" y="1267"/>
                  <a:pt x="181" y="1278"/>
                  <a:pt x="170" y="1293"/>
                </a:cubicBezTo>
                <a:cubicBezTo>
                  <a:pt x="162" y="1302"/>
                  <a:pt x="159" y="1314"/>
                  <a:pt x="154" y="1325"/>
                </a:cubicBezTo>
                <a:cubicBezTo>
                  <a:pt x="149" y="1333"/>
                  <a:pt x="144" y="1342"/>
                  <a:pt x="138" y="1350"/>
                </a:cubicBezTo>
                <a:cubicBezTo>
                  <a:pt x="109" y="1386"/>
                  <a:pt x="89" y="1416"/>
                  <a:pt x="65" y="1455"/>
                </a:cubicBezTo>
                <a:cubicBezTo>
                  <a:pt x="58" y="1489"/>
                  <a:pt x="52" y="1538"/>
                  <a:pt x="33" y="1568"/>
                </a:cubicBezTo>
                <a:cubicBezTo>
                  <a:pt x="18" y="1589"/>
                  <a:pt x="0" y="1612"/>
                  <a:pt x="0" y="1640"/>
                </a:cubicBezTo>
              </a:path>
            </a:pathLst>
          </a:custGeom>
          <a:noFill/>
          <a:ln w="4752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7640" y="4967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95480" y="2411280"/>
            <a:ext cx="1116000" cy="2603520"/>
          </a:xfrm>
          <a:custGeom>
            <a:avLst/>
            <a:gdLst/>
            <a:ahLst/>
            <a:rect l="l" t="t" r="r" b="b"/>
            <a:pathLst>
              <a:path w="703" h="1640">
                <a:moveTo>
                  <a:pt x="364" y="0"/>
                </a:moveTo>
                <a:cubicBezTo>
                  <a:pt x="445" y="6"/>
                  <a:pt x="470" y="2"/>
                  <a:pt x="534" y="40"/>
                </a:cubicBezTo>
                <a:cubicBezTo>
                  <a:pt x="558" y="77"/>
                  <a:pt x="575" y="121"/>
                  <a:pt x="606" y="154"/>
                </a:cubicBezTo>
                <a:cubicBezTo>
                  <a:pt x="620" y="192"/>
                  <a:pt x="634" y="228"/>
                  <a:pt x="647" y="267"/>
                </a:cubicBezTo>
                <a:cubicBezTo>
                  <a:pt x="656" y="346"/>
                  <a:pt x="679" y="422"/>
                  <a:pt x="695" y="501"/>
                </a:cubicBezTo>
                <a:cubicBezTo>
                  <a:pt x="697" y="528"/>
                  <a:pt x="703" y="554"/>
                  <a:pt x="703" y="582"/>
                </a:cubicBezTo>
                <a:cubicBezTo>
                  <a:pt x="703" y="630"/>
                  <a:pt x="665" y="695"/>
                  <a:pt x="639" y="735"/>
                </a:cubicBezTo>
                <a:cubicBezTo>
                  <a:pt x="625" y="777"/>
                  <a:pt x="609" y="789"/>
                  <a:pt x="582" y="824"/>
                </a:cubicBezTo>
                <a:cubicBezTo>
                  <a:pt x="537" y="880"/>
                  <a:pt x="499" y="936"/>
                  <a:pt x="437" y="978"/>
                </a:cubicBezTo>
                <a:cubicBezTo>
                  <a:pt x="392" y="1044"/>
                  <a:pt x="452" y="961"/>
                  <a:pt x="396" y="1018"/>
                </a:cubicBezTo>
                <a:cubicBezTo>
                  <a:pt x="383" y="1030"/>
                  <a:pt x="376" y="1046"/>
                  <a:pt x="364" y="1059"/>
                </a:cubicBezTo>
                <a:cubicBezTo>
                  <a:pt x="346" y="1076"/>
                  <a:pt x="324" y="1089"/>
                  <a:pt x="307" y="1107"/>
                </a:cubicBezTo>
                <a:cubicBezTo>
                  <a:pt x="292" y="1150"/>
                  <a:pt x="251" y="1180"/>
                  <a:pt x="227" y="1220"/>
                </a:cubicBezTo>
                <a:cubicBezTo>
                  <a:pt x="220" y="1230"/>
                  <a:pt x="217" y="1243"/>
                  <a:pt x="210" y="1253"/>
                </a:cubicBezTo>
                <a:cubicBezTo>
                  <a:pt x="198" y="1267"/>
                  <a:pt x="181" y="1278"/>
                  <a:pt x="170" y="1293"/>
                </a:cubicBezTo>
                <a:cubicBezTo>
                  <a:pt x="162" y="1302"/>
                  <a:pt x="159" y="1314"/>
                  <a:pt x="154" y="1325"/>
                </a:cubicBezTo>
                <a:cubicBezTo>
                  <a:pt x="149" y="1333"/>
                  <a:pt x="144" y="1342"/>
                  <a:pt x="138" y="1350"/>
                </a:cubicBezTo>
                <a:cubicBezTo>
                  <a:pt x="109" y="1386"/>
                  <a:pt x="89" y="1416"/>
                  <a:pt x="65" y="1455"/>
                </a:cubicBezTo>
                <a:cubicBezTo>
                  <a:pt x="58" y="1489"/>
                  <a:pt x="52" y="1538"/>
                  <a:pt x="33" y="1568"/>
                </a:cubicBezTo>
                <a:cubicBezTo>
                  <a:pt x="18" y="1589"/>
                  <a:pt x="0" y="1612"/>
                  <a:pt x="0" y="1640"/>
                </a:cubicBez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56480" y="5070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8040" y="5095800"/>
            <a:ext cx="228600" cy="228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42200" y="2817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230480" y="1371600"/>
            <a:ext cx="65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notipi: gruppo A - gruppo B -  gruppo AB- grupp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095560"/>
            <a:ext cx="92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us diversi come colore e forma dei semi di pise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720" y="4251240"/>
            <a:ext cx="89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eli dello stesso locus come il colore dell’occhio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2560" y="2898720"/>
            <a:ext cx="6373080" cy="1234440"/>
            <a:chOff x="232560" y="2898720"/>
            <a:chExt cx="6373080" cy="1234440"/>
          </a:xfrm>
        </p:grpSpPr>
        <p:sp>
          <p:nvSpPr>
            <p:cNvPr id="340" name=""/>
            <p:cNvSpPr/>
            <p:nvPr/>
          </p:nvSpPr>
          <p:spPr>
            <a:xfrm>
              <a:off x="232560" y="2911320"/>
              <a:ext cx="24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: A- b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43520" y="2898720"/>
              <a:ext cx="23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B: aa B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6280" y="367344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B: A- B-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73400" y="3597120"/>
              <a:ext cx="25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0: aa b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64760" y="5372280"/>
            <a:ext cx="7106760" cy="1183320"/>
            <a:chOff x="464760" y="5372280"/>
            <a:chExt cx="7106760" cy="1183320"/>
          </a:xfrm>
        </p:grpSpPr>
        <p:sp>
          <p:nvSpPr>
            <p:cNvPr id="345" name=""/>
            <p:cNvSpPr/>
            <p:nvPr/>
          </p:nvSpPr>
          <p:spPr>
            <a:xfrm>
              <a:off x="565200" y="5410080"/>
              <a:ext cx="311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A opp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46000" y="5372280"/>
              <a:ext cx="31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B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B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B opp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B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4760" y="6095880"/>
              <a:ext cx="24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B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B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96760" y="6095880"/>
              <a:ext cx="220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0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38360" y="685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1b"/>
                </a:solidFill>
                <a:latin typeface="Comic Sans MS"/>
              </a:rPr>
              <a:t>Gruppi sanguigni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1b"/>
                </a:solidFill>
                <a:latin typeface="Comic Sans MS"/>
              </a:rPr>
              <a:t>Gruppi sanguigni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30480" y="925560"/>
            <a:ext cx="65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notipi: gruppo A - gruppo B -  gruppo AB- grupp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09720" y="1382760"/>
            <a:ext cx="66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us diversi come colore e forma dei semi di pisell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17000" y="1766880"/>
            <a:ext cx="6699240" cy="537480"/>
            <a:chOff x="1017000" y="1766880"/>
            <a:chExt cx="6699240" cy="537480"/>
          </a:xfrm>
        </p:grpSpPr>
        <p:sp>
          <p:nvSpPr>
            <p:cNvPr id="360" name=""/>
            <p:cNvSpPr/>
            <p:nvPr/>
          </p:nvSpPr>
          <p:spPr>
            <a:xfrm>
              <a:off x="1017000" y="1844640"/>
              <a:ext cx="26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B: A-/B-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1320" y="1844640"/>
              <a:ext cx="264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0: aa/ b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59880" y="1766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3" name=""/>
          <p:cNvGraphicFramePr/>
          <p:nvPr/>
        </p:nvGraphicFramePr>
        <p:xfrm>
          <a:off x="2133720" y="3106800"/>
          <a:ext cx="4952880" cy="3522600"/>
        </p:xfrm>
        <a:graphic>
          <a:graphicData uri="http://schemas.openxmlformats.org/drawingml/2006/table">
            <a:tbl>
              <a:tblPr/>
              <a:tblGrid>
                <a:gridCol w="1981080"/>
                <a:gridCol w="2971800"/>
              </a:tblGrid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, aaB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, 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, aaBb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AB, grupp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bb, Aa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0, grupp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705400" y="2536920"/>
            <a:ext cx="91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53360" y="253692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8520" y="49752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98520" y="3357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0560" y="25369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78560" y="223200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B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00880" y="2232000"/>
            <a:ext cx="7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7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33720" y="7617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21b"/>
                </a:solidFill>
                <a:latin typeface="Comic Sans MS"/>
              </a:rPr>
              <a:t>Gruppi sanguigni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7960" y="1355760"/>
            <a:ext cx="89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eli dello stesso locus come il colore dell’occhio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sophi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590920" y="3936960"/>
          <a:ext cx="3962160" cy="261612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21b"/>
                          </a:solidFill>
                          <a:latin typeface="Comic Sans MS"/>
                        </a:rPr>
                        <a:t>grupp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0" name=""/>
          <p:cNvGrpSpPr/>
          <p:nvPr/>
        </p:nvGrpSpPr>
        <p:grpSpPr>
          <a:xfrm>
            <a:off x="1302840" y="2622600"/>
            <a:ext cx="6234840" cy="519840"/>
            <a:chOff x="1302840" y="2622600"/>
            <a:chExt cx="6234840" cy="519840"/>
          </a:xfrm>
        </p:grpSpPr>
        <p:sp>
          <p:nvSpPr>
            <p:cNvPr id="381" name=""/>
            <p:cNvSpPr/>
            <p:nvPr/>
          </p:nvSpPr>
          <p:spPr>
            <a:xfrm>
              <a:off x="1302840" y="2682720"/>
              <a:ext cx="24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AB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B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4840" y="2682720"/>
              <a:ext cx="220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uppo 0: 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0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2320" y="2622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175560" y="3403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98120" y="3403440"/>
            <a:ext cx="3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84760" y="37846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40480" y="501984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e allelica e malattie genetiche nell’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2120" y="5410080"/>
            <a:ext cx="84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brosi cistic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i sono piu’ di 500 mutazioni che alter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funzione del g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55520" y="3962520"/>
            <a:ext cx="92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lassemia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 sono almeno 24 mutazioni principali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ano la funzione del gene. Nelle diverse popolazioni um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cune sono piu’ frequ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113184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due mutazioni della serie sono presenti in un individuo questo presenta la malattia. Per essere affetti non e’ necessario che la mutazione sia la stessa: di fatto non sia hanno geni norm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-46080" y="2244600"/>
            <a:ext cx="905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rofia muscolare di Becker-Duchenn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i manifesta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 maschi)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mutazioni, in alcuni casi si ha la sindrom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cker relativamente lieve, in altri sindrome di Duchenne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a a morte entro i 18 ann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0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f2f"/>
                </a:solidFill>
                <a:latin typeface="Comic Sans MS"/>
              </a:rPr>
              <a:t>Classificazione dei mut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14479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mor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perdita completa della funzione che por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a completa assenza del prodotto o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pomor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perdita parziale della funzione e qui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ridotta quantità de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omor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acquisisce una nuova funzione e pres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a nuova sostanza o una struttura n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sente nel selv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1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216240" y="1974960"/>
            <a:ext cx="2819520" cy="14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29160" y="2970360"/>
            <a:ext cx="193356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82"/>
                </a:solidFill>
                <a:latin typeface="Times New Roman"/>
              </a:rPr>
              <a:t>porp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8800" y="5410080"/>
            <a:ext cx="5562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82"/>
                </a:solidFill>
                <a:latin typeface="Times New Roman"/>
              </a:rPr>
              <a:t>9 porpo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3200" spc="-1" strike="noStrike">
                <a:solidFill>
                  <a:srgbClr val="ff051e"/>
                </a:solidFill>
                <a:latin typeface="Times New Roman"/>
              </a:rPr>
              <a:t>3 ross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 bianc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2133720"/>
            <a:ext cx="144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4572000"/>
            <a:ext cx="144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52578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51e"/>
                </a:solidFill>
                <a:latin typeface="Times New Roman"/>
              </a:rPr>
              <a:t>Rapporto fenotipico 9 : 3 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7880" y="1371600"/>
            <a:ext cx="191340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itor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f2f"/>
                </a:solidFill>
                <a:latin typeface="Times New Roman"/>
              </a:rPr>
              <a:t>ro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1120" y="1341360"/>
            <a:ext cx="191340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itor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an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2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47760" y="4559400"/>
            <a:ext cx="855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a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ot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anc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51e"/>
                </a:solidFill>
                <a:latin typeface="Times New Roman"/>
              </a:rPr>
              <a:t>ross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1482"/>
                </a:solidFill>
                <a:latin typeface="Times New Roman"/>
              </a:rPr>
              <a:t>po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4162320"/>
            <a:ext cx="5273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zi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z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6002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questo esempio la via biochimica è definita da una sola catena ma il prodotto intermedio dell’enzima A dà il colo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51e"/>
                </a:solidFill>
                <a:latin typeface="Times New Roman"/>
              </a:rPr>
              <a:t>ro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51e"/>
                </a:solidFill>
                <a:latin typeface="Comic Sans MS"/>
              </a:rPr>
              <a:t>Via biochi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5181480"/>
            <a:ext cx="1524240" cy="0"/>
          </a:xfrm>
          <a:prstGeom prst="line">
            <a:avLst/>
          </a:prstGeom>
          <a:ln w="38160">
            <a:solidFill>
              <a:srgbClr val="172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5105520"/>
            <a:ext cx="1447920" cy="0"/>
          </a:xfrm>
          <a:prstGeom prst="line">
            <a:avLst/>
          </a:prstGeom>
          <a:ln w="38160">
            <a:solidFill>
              <a:srgbClr val="172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1b"/>
                </a:solidFill>
                <a:latin typeface="Comic Sans MS"/>
              </a:rPr>
              <a:t>Dominanza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9960" y="1751040"/>
            <a:ext cx="78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2. Colore del fiore in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Mirabilis j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sso  x   bian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1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sa   x  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2     1: bianco : 2 rosa : 1 ro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200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52720" y="1294920"/>
            <a:ext cx="22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a1e"/>
                </a:solidFill>
                <a:latin typeface="Comic Sans MS"/>
              </a:rPr>
              <a:t>Geni let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3429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pporto di sopravviv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gialli:1 ago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4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828440" y="990720"/>
            <a:ext cx="1739880" cy="1652400"/>
            <a:chOff x="1828440" y="990720"/>
            <a:chExt cx="1739880" cy="1652400"/>
          </a:xfrm>
        </p:grpSpPr>
        <p:pic>
          <p:nvPicPr>
            <p:cNvPr id="450" name="" descr=""/>
            <p:cNvPicPr/>
            <p:nvPr/>
          </p:nvPicPr>
          <p:blipFill>
            <a:blip r:embed="rId2"/>
            <a:stretch/>
          </p:blipFill>
          <p:spPr>
            <a:xfrm flipH="1">
              <a:off x="1828440" y="990720"/>
              <a:ext cx="1739880" cy="16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2514600" y="1981080"/>
              <a:ext cx="609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267080" y="990720"/>
            <a:ext cx="1765440" cy="1676160"/>
            <a:chOff x="4267080" y="990720"/>
            <a:chExt cx="1765440" cy="1676160"/>
          </a:xfrm>
        </p:grpSpPr>
        <p:pic>
          <p:nvPicPr>
            <p:cNvPr id="453" name="" descr=""/>
            <p:cNvPicPr/>
            <p:nvPr/>
          </p:nvPicPr>
          <p:blipFill>
            <a:blip r:embed="rId3"/>
            <a:stretch/>
          </p:blipFill>
          <p:spPr>
            <a:xfrm>
              <a:off x="4267080" y="990720"/>
              <a:ext cx="17654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724280" y="1981080"/>
              <a:ext cx="609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809880" y="1752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971800" y="2895480"/>
            <a:ext cx="1765440" cy="1676160"/>
            <a:chOff x="2971800" y="2895480"/>
            <a:chExt cx="1765440" cy="1676160"/>
          </a:xfrm>
        </p:grpSpPr>
        <p:pic>
          <p:nvPicPr>
            <p:cNvPr id="457" name="" descr=""/>
            <p:cNvPicPr/>
            <p:nvPr/>
          </p:nvPicPr>
          <p:blipFill>
            <a:blip r:embed="rId4"/>
            <a:stretch/>
          </p:blipFill>
          <p:spPr>
            <a:xfrm>
              <a:off x="2971800" y="2895480"/>
              <a:ext cx="17654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429000" y="3885840"/>
              <a:ext cx="609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990720" y="4419720"/>
            <a:ext cx="1765080" cy="1676160"/>
            <a:chOff x="990720" y="4419720"/>
            <a:chExt cx="1765080" cy="1676160"/>
          </a:xfrm>
        </p:grpSpPr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990720" y="4419720"/>
              <a:ext cx="176508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1447560" y="5410080"/>
              <a:ext cx="609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971800" y="4457880"/>
            <a:ext cx="1701720" cy="1638000"/>
            <a:chOff x="2971800" y="4457880"/>
            <a:chExt cx="1701720" cy="1638000"/>
          </a:xfrm>
        </p:grpSpPr>
        <p:pic>
          <p:nvPicPr>
            <p:cNvPr id="463" name="" descr=""/>
            <p:cNvPicPr/>
            <p:nvPr/>
          </p:nvPicPr>
          <p:blipFill>
            <a:blip r:embed="rId6"/>
            <a:stretch/>
          </p:blipFill>
          <p:spPr>
            <a:xfrm>
              <a:off x="2971800" y="4457880"/>
              <a:ext cx="170172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352680" y="5600520"/>
              <a:ext cx="76212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828800" y="3124080"/>
            <a:ext cx="307800" cy="736560"/>
          </a:xfrm>
          <a:custGeom>
            <a:avLst/>
            <a:gdLst/>
            <a:ahLst/>
            <a:rect l="l" t="t" r="r" b="b"/>
            <a:pathLst>
              <a:path w="185" h="376">
                <a:moveTo>
                  <a:pt x="122" y="0"/>
                </a:moveTo>
                <a:cubicBezTo>
                  <a:pt x="140" y="27"/>
                  <a:pt x="159" y="52"/>
                  <a:pt x="178" y="80"/>
                </a:cubicBezTo>
                <a:cubicBezTo>
                  <a:pt x="173" y="135"/>
                  <a:pt x="185" y="210"/>
                  <a:pt x="122" y="232"/>
                </a:cubicBezTo>
                <a:cubicBezTo>
                  <a:pt x="103" y="286"/>
                  <a:pt x="117" y="341"/>
                  <a:pt x="66" y="376"/>
                </a:cubicBezTo>
                <a:cubicBezTo>
                  <a:pt x="0" y="354"/>
                  <a:pt x="52" y="305"/>
                  <a:pt x="66" y="264"/>
                </a:cubicBezTo>
                <a:cubicBezTo>
                  <a:pt x="50" y="216"/>
                  <a:pt x="31" y="193"/>
                  <a:pt x="82" y="160"/>
                </a:cubicBezTo>
                <a:cubicBezTo>
                  <a:pt x="100" y="105"/>
                  <a:pt x="87" y="65"/>
                  <a:pt x="138" y="32"/>
                </a:cubicBezTo>
                <a:cubicBezTo>
                  <a:pt x="163" y="57"/>
                  <a:pt x="162" y="44"/>
                  <a:pt x="162" y="64"/>
                </a:cubicBez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2590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267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375920" y="1447920"/>
            <a:ext cx="50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’ difficile identificarli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600" y="4038480"/>
            <a:ext cx="88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si possono seguire direttamente le fasi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odelli animali possono aiu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3840" y="220968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si possono fare incroci mi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6000" y="2911320"/>
            <a:ext cx="86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 progenie della singola coppia non e’ suffici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erosa da mettere in evidenza variazioni dall’att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i letali nell’u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7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1676520"/>
            <a:ext cx="92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letali alcuni geni dominanti quando presenti in omozig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nismo acondroplas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819520"/>
            <a:ext cx="92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letali in omozigosi alcuni geni recessivi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ass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-12600" y="3781440"/>
            <a:ext cx="923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e sono letali tutti quei geni la cui espressione alterata compromette un corretto sviluppo in utero e portano alla nascita di individui gravemente malform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360" y="5486400"/>
            <a:ext cx="92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l punto di vista genetico sono letali tutti quei geni che impediscono all’individuo di riprodurs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i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ali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nell’uo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21b"/>
                </a:solidFill>
                <a:latin typeface="Comic Sans MS"/>
              </a:rPr>
              <a:t>Ciclo vitale della </a:t>
            </a:r>
            <a:r>
              <a:rPr b="1" i="1" lang="en-US" sz="2000" spc="-1" strike="noStrike">
                <a:solidFill>
                  <a:srgbClr val="ff021b"/>
                </a:solidFill>
                <a:latin typeface="Comic Sans MS"/>
              </a:rPr>
              <a:t>Drosophila melanogaster, </a:t>
            </a:r>
            <a:r>
              <a:rPr b="1" lang="en-US" sz="2000" spc="-1" strike="noStrike">
                <a:solidFill>
                  <a:srgbClr val="ff021b"/>
                </a:solidFill>
                <a:latin typeface="Comic Sans MS"/>
              </a:rPr>
              <a:t>organismo modello nell’indagine gen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60660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990720" cy="822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362320" y="3809880"/>
            <a:ext cx="930240" cy="114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657600" y="2590920"/>
            <a:ext cx="1362240" cy="168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24480" y="1828800"/>
            <a:ext cx="990720" cy="1992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3640" y="180036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o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8320" y="18288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adio larv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76160" y="25146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78320" y="2572560"/>
            <a:ext cx="222120" cy="1317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14640" y="2568600"/>
            <a:ext cx="682560" cy="3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742600">
            <a:off x="152280" y="327636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742600">
            <a:off x="1447560" y="4190760"/>
            <a:ext cx="1371600" cy="30492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9986000">
            <a:off x="3309480" y="4486320"/>
            <a:ext cx="1600200" cy="3808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 rot="19986600">
            <a:off x="4632120" y="2513520"/>
            <a:ext cx="1692000" cy="353880"/>
          </a:xfrm>
          <a:custGeom>
            <a:avLst/>
            <a:gdLst>
              <a:gd name="textAreaLeft" fmla="*/ 295920 w 1692000"/>
              <a:gd name="textAreaRight" fmla="*/ 1226880 w 1692000"/>
              <a:gd name="textAreaTop" fmla="*/ 47160 h 353880"/>
              <a:gd name="textAreaBottom" fmla="*/ 306720 h 35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41760" y="35053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48960" y="43434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34960" y="43434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gi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2680" y="1981080"/>
            <a:ext cx="15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3giorni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6120" y="19810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331040" y="2480040"/>
            <a:ext cx="1450440" cy="2495880"/>
            <a:chOff x="7331040" y="2480040"/>
            <a:chExt cx="1450440" cy="2495880"/>
          </a:xfrm>
        </p:grpSpPr>
        <p:sp>
          <p:nvSpPr>
            <p:cNvPr id="86" name=""/>
            <p:cNvSpPr/>
            <p:nvPr/>
          </p:nvSpPr>
          <p:spPr>
            <a:xfrm flipV="1" rot="3902400">
              <a:off x="6753960" y="3541680"/>
              <a:ext cx="2579760" cy="371880"/>
            </a:xfrm>
            <a:custGeom>
              <a:avLst/>
              <a:gdLst>
                <a:gd name="textAreaLeft" fmla="*/ 451440 w 2579760"/>
                <a:gd name="textAreaRight" fmla="*/ 1870560 w 2579760"/>
                <a:gd name="textAreaTop" fmla="*/ 49680 h 371880"/>
                <a:gd name="textAreaBottom" fmla="*/ 322200 h 3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42640" y="3276720"/>
              <a:ext cx="13388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/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 1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iorn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46680" y="58672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90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5334120" y="4737240"/>
            <a:ext cx="30859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33"/>
                </a:solidFill>
                <a:latin typeface="Comic Sans MS"/>
              </a:rPr>
              <a:t>Alcune caratteristiche fenotipiche di </a:t>
            </a:r>
            <a:r>
              <a:rPr b="1" i="1" lang="en-US" sz="2400" spc="-1" strike="noStrike">
                <a:solidFill>
                  <a:srgbClr val="ff0a33"/>
                </a:solidFill>
                <a:latin typeface="Comic Sans MS"/>
              </a:rPr>
              <a:t>D. melanogaster</a:t>
            </a:r>
            <a:r>
              <a:rPr b="1" i="1" lang="en-US" sz="4400" spc="-1" strike="noStrike">
                <a:solidFill>
                  <a:srgbClr val="ff0a33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5257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5000" y="1066680"/>
            <a:ext cx="312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azione del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05740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gmenti dell’occhio dell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4027320" cy="6248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18720" y="12193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21932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90120" y="31240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20040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66560" y="28195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5600" y="2819520"/>
            <a:ext cx="3812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99400" y="2513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752120" y="2816280"/>
            <a:ext cx="3812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920" y="236232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1760" y="236232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9600" y="37339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6160"/>
            <a:ext cx="3808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9400" y="35035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752120" y="3806640"/>
            <a:ext cx="3812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320" y="3352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44920" y="3352680"/>
            <a:ext cx="104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80760" y="22860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1337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3800" y="4191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enzima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114800"/>
            <a:ext cx="14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9960" y="518148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43680" y="4343400"/>
            <a:ext cx="10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composto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31720" y="5943600"/>
            <a:ext cx="147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Drosopte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21b"/>
                </a:solidFill>
                <a:latin typeface="Comic Sans MS"/>
              </a:rPr>
              <a:t>(pigmento ros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343400"/>
            <a:ext cx="914400" cy="18288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33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40600" y="3581280"/>
            <a:ext cx="2406600" cy="2705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3048120"/>
            <a:ext cx="3124080" cy="358128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02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00800" y="167652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Fenotipi dell’occhio </a:t>
            </a:r>
            <a:br>
              <a:rPr sz="2400"/>
            </a:b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della </a:t>
            </a:r>
            <a:r>
              <a:rPr b="1" i="1" lang="en-US" sz="2400" spc="-1" strike="noStrike">
                <a:solidFill>
                  <a:srgbClr val="ff021b"/>
                </a:solidFill>
                <a:latin typeface="Comic Sans MS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93680" y="685800"/>
            <a:ext cx="5334120" cy="1792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90720" y="2689200"/>
            <a:ext cx="5333760" cy="1792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093680" y="236232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million                      garnet                    selva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22280" y="441972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wn                        purple                    se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22280" y="64832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te eosin           white apricot            wh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7720" y="27432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22480" y="27432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75320" y="27432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93680" y="4900680"/>
            <a:ext cx="5105520" cy="171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75320" y="48006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22480" y="48006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3680" y="4800600"/>
            <a:ext cx="1600200" cy="198108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81080"/>
              <a:gd name="textAreaBottom" fmla="*/ 1902960 h 1981080"/>
            </a:gdLst>
            <a:ahLst/>
            <a:rect l="textAreaLeft" t="textAreaTop" r="textAreaRight" b="textAreaBottom"/>
            <a:pathLst>
              <a:path w="21600" h="26740">
                <a:moveTo>
                  <a:pt x="3600" y="0"/>
                </a:moveTo>
                <a:arcTo wR="3600" hR="3600" stAng="16200000" swAng="-5400000"/>
                <a:lnTo>
                  <a:pt x="0" y="23140"/>
                </a:lnTo>
                <a:arcTo wR="3600" hR="3600" stAng="10800000" swAng="-5400000"/>
                <a:lnTo>
                  <a:pt x="18000" y="26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54" name="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990720" y="762120"/>
            <a:ext cx="5257800" cy="1682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724280" y="685800"/>
            <a:ext cx="1524240" cy="19810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2">
                <a:moveTo>
                  <a:pt x="3600" y="0"/>
                </a:moveTo>
                <a:arcTo wR="3600" hR="3600" stAng="16200000" swAng="-5400000"/>
                <a:lnTo>
                  <a:pt x="0" y="24472"/>
                </a:lnTo>
                <a:arcTo wR="3600" hR="3600" stAng="10800000" swAng="-5400000"/>
                <a:lnTo>
                  <a:pt x="18000" y="280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685800"/>
            <a:ext cx="1524240" cy="1981080"/>
          </a:xfrm>
          <a:custGeom>
            <a:avLst/>
            <a:gdLst>
              <a:gd name="textAreaLeft" fmla="*/ 74160 w 1524240"/>
              <a:gd name="textAreaRight" fmla="*/ 1450080 w 152424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2">
                <a:moveTo>
                  <a:pt x="3600" y="0"/>
                </a:moveTo>
                <a:arcTo wR="3600" hR="3600" stAng="16200000" swAng="-5400000"/>
                <a:lnTo>
                  <a:pt x="0" y="24472"/>
                </a:lnTo>
                <a:arcTo wR="3600" hR="3600" stAng="10800000" swAng="-5400000"/>
                <a:lnTo>
                  <a:pt x="18000" y="280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685800"/>
            <a:ext cx="1523880" cy="198108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981080"/>
              <a:gd name="textAreaBottom" fmla="*/ 1906920 h 1981080"/>
            </a:gdLst>
            <a:ahLst/>
            <a:rect l="textAreaLeft" t="textAreaTop" r="textAreaRight" b="textAreaBottom"/>
            <a:pathLst>
              <a:path w="21600" h="28079">
                <a:moveTo>
                  <a:pt x="3600" y="0"/>
                </a:moveTo>
                <a:arcTo wR="3600" hR="3600" stAng="16200000" swAng="-5400000"/>
                <a:lnTo>
                  <a:pt x="0" y="24479"/>
                </a:lnTo>
                <a:arcTo wR="3600" hR="3600" stAng="10800000" swAng="-5400000"/>
                <a:lnTo>
                  <a:pt x="18000" y="280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45684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eli multip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77440" cy="3324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80480" y="5351400"/>
            <a:ext cx="51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/W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hio nor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64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56040" y="5838840"/>
            <a:ext cx="385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/W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hio eosin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/W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hio eo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609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554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7680" y="48769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/W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hio nor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7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48160" y="251460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Serie allelica</a:t>
            </a:r>
            <a:br>
              <a:rPr sz="2800"/>
            </a:b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del gene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990720"/>
          <a:ext cx="5790960" cy="5333760"/>
        </p:xfrm>
        <a:graphic>
          <a:graphicData uri="http://schemas.openxmlformats.org/drawingml/2006/table">
            <a:tbl>
              <a:tblPr/>
              <a:tblGrid>
                <a:gridCol w="1599840"/>
                <a:gridCol w="2514600"/>
                <a:gridCol w="1676520"/>
              </a:tblGrid>
              <a:tr h="44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enotipi e fenotipo mut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pig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/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ic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bl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o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4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3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ricot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7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at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t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4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ol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/w</a:t>
                      </a:r>
                      <a:r>
                        <a:rPr b="1" i="1" lang="en-US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o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8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1905120"/>
            <a:ext cx="792468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Comic Sans MS"/>
              </a:rPr>
              <a:t>Il fenotipo e’ il risultato di una   catena di interazioni: il risultato finale puo’ risultare simile anche quando i locus sono diversi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Sorts" charset="2"/>
              <a:buChar char="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Comic Sans MS"/>
              </a:rPr>
              <a:t>E’ importante identificare con precisione i criteri di definizio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0710"/>
              </a:buClr>
              <a:buFont typeface="Wingdings" charset="2"/>
              <a:buChar char="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710"/>
                </a:solidFill>
                <a:latin typeface="Comic Sans MS"/>
              </a:rPr>
              <a:t>ETEROGENEITA’ GEN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8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8:09:07Z</dcterms:created>
  <dc:creator>Palumbo</dc:creator>
  <dc:description/>
  <dc:language>en-US</dc:language>
  <cp:lastModifiedBy>M.Rocchi</cp:lastModifiedBy>
  <dcterms:modified xsi:type="dcterms:W3CDTF">2003-01-09T07:06:14Z</dcterms:modified>
  <cp:revision>90</cp:revision>
  <dc:subject/>
  <dc:title>PowerPoint Presentation</dc:title>
</cp:coreProperties>
</file>