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ct" ContentType="image/x-pict"/>
  <Override PartName="/ppt/media/image27.pct" ContentType="image/x-pict"/>
  <Override PartName="/ppt/media/image26.pct" ContentType="image/x-pict"/>
  <Override PartName="/ppt/media/image25.pct" ContentType="image/x-pict"/>
  <Override PartName="/ppt/media/image20.jpeg" ContentType="image/jpeg"/>
  <Override PartName="/ppt/media/image16.pct" ContentType="image/x-pict"/>
  <Override PartName="/ppt/media/image21.pct" ContentType="image/x-pict"/>
  <Override PartName="/ppt/media/image19.pct" ContentType="image/x-pict"/>
  <Override PartName="/ppt/media/image18.pct" ContentType="image/x-pict"/>
  <Override PartName="/ppt/media/image5.jpeg" ContentType="image/jpeg"/>
  <Override PartName="/ppt/media/image23.pct" ContentType="image/x-pict"/>
  <Override PartName="/ppt/media/image7.pct" ContentType="image/x-pict"/>
  <Override PartName="/ppt/media/image32.pct" ContentType="image/x-pict"/>
  <Override PartName="/ppt/media/image12.pct" ContentType="image/x-pict"/>
  <Override PartName="/ppt/media/image10.pct" ContentType="image/x-pict"/>
  <Override PartName="/ppt/media/image22.pct" ContentType="image/x-pict"/>
  <Override PartName="/ppt/media/image9.png" ContentType="image/png"/>
  <Override PartName="/ppt/media/image11.pct" ContentType="image/x-pict"/>
  <Override PartName="/ppt/media/image13.jpeg" ContentType="image/jpeg"/>
  <Override PartName="/ppt/media/image30.pct" ContentType="image/x-pict"/>
  <Override PartName="/ppt/media/image28.pct" ContentType="image/x-pict"/>
  <Override PartName="/ppt/media/image34.jpeg" ContentType="image/jpeg"/>
  <Override PartName="/ppt/media/image35.jpeg" ContentType="image/jpeg"/>
  <Override PartName="/ppt/media/image8.jpeg" ContentType="image/jpeg"/>
  <Override PartName="/ppt/media/image38.pct" ContentType="image/x-pict"/>
  <Override PartName="/ppt/media/image4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31.pct" ContentType="image/x-pict"/>
  <Override PartName="/ppt/media/image1.pct" ContentType="image/x-pict"/>
  <Override PartName="/ppt/media/image24.pct" ContentType="image/x-pict"/>
  <Override PartName="/ppt/media/image33.jpeg" ContentType="image/jpeg"/>
  <Override PartName="/ppt/media/image14.pct" ContentType="image/x-pict"/>
  <Override PartName="/ppt/media/image6.jpeg" ContentType="image/jpeg"/>
  <Override PartName="/ppt/media/image15.pct" ContentType="image/x-pict"/>
  <Override PartName="/ppt/media/image17.pct" ContentType="image/x-pi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265-1CD9-460E-87AA-E959670D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C32-566D-496F-A66E-A8CEF008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F2F-6FBB-4071-8D3A-D47ACAA7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8C6-B668-4F4D-889B-0BB0F2B1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91F-F5F9-4E6A-9207-62F3D838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C666-1708-49A0-8B8A-F63D3D23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753-ECD4-47A4-B921-D93F795D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EA55-0A62-40F6-BA2C-A75C343E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F59-484D-4A97-850C-8BAB53BA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2D98-6515-44C1-9BF1-AF8A0CD3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550E-F9B0-4628-9073-DF2ACFCD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2A16-6CEC-4F28-BE31-46B15000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3DCB-9584-4AB0-9DFE-57EFBFB2B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7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28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29.pct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pct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7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28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29.pct"/><Relationship Id="rId9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pct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34.jpeg"/><Relationship Id="rId8" Type="http://schemas.openxmlformats.org/officeDocument/2006/relationships/image" Target="../media/image34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image" Target="../media/image35.jpeg"/><Relationship Id="rId12" Type="http://schemas.openxmlformats.org/officeDocument/2006/relationships/image" Target="../media/image35.jpeg"/><Relationship Id="rId13" Type="http://schemas.openxmlformats.org/officeDocument/2006/relationships/image" Target="../media/image36.jpeg"/><Relationship Id="rId14" Type="http://schemas.openxmlformats.org/officeDocument/2006/relationships/image" Target="../media/image36.jpe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image" Target="../media/image34.jpeg"/><Relationship Id="rId18" Type="http://schemas.openxmlformats.org/officeDocument/2006/relationships/image" Target="../media/image35.jpe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pct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5.jpeg"/><Relationship Id="rId14" Type="http://schemas.openxmlformats.org/officeDocument/2006/relationships/image" Target="../media/image3.jpeg"/><Relationship Id="rId15" Type="http://schemas.openxmlformats.org/officeDocument/2006/relationships/image" Target="../media/image4.jpeg"/><Relationship Id="rId16" Type="http://schemas.openxmlformats.org/officeDocument/2006/relationships/image" Target="../media/image1.pct"/><Relationship Id="rId17" Type="http://schemas.openxmlformats.org/officeDocument/2006/relationships/image" Target="../media/image2.jpeg"/><Relationship Id="rId18" Type="http://schemas.openxmlformats.org/officeDocument/2006/relationships/image" Target="../media/image3.jpeg"/><Relationship Id="rId19" Type="http://schemas.openxmlformats.org/officeDocument/2006/relationships/image" Target="../media/image4.jpeg"/><Relationship Id="rId20" Type="http://schemas.openxmlformats.org/officeDocument/2006/relationships/image" Target="../media/image7.pct"/><Relationship Id="rId21" Type="http://schemas.openxmlformats.org/officeDocument/2006/relationships/image" Target="../media/image2.jpeg"/><Relationship Id="rId22" Type="http://schemas.openxmlformats.org/officeDocument/2006/relationships/image" Target="../media/image8.jpeg"/><Relationship Id="rId23" Type="http://schemas.openxmlformats.org/officeDocument/2006/relationships/image" Target="../media/image4.jpeg"/><Relationship Id="rId24" Type="http://schemas.openxmlformats.org/officeDocument/2006/relationships/image" Target="../media/image9.png"/><Relationship Id="rId2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image" Target="../media/image12.pct"/><Relationship Id="rId5" Type="http://schemas.openxmlformats.org/officeDocument/2006/relationships/image" Target="../media/image5.jpeg"/><Relationship Id="rId6" Type="http://schemas.openxmlformats.org/officeDocument/2006/relationships/image" Target="../media/image13.jpeg"/><Relationship Id="rId7" Type="http://schemas.openxmlformats.org/officeDocument/2006/relationships/image" Target="../media/image4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ct"/><Relationship Id="rId3" Type="http://schemas.openxmlformats.org/officeDocument/2006/relationships/image" Target="../media/image11.pct"/><Relationship Id="rId4" Type="http://schemas.openxmlformats.org/officeDocument/2006/relationships/image" Target="../media/image15.pct"/><Relationship Id="rId5" Type="http://schemas.openxmlformats.org/officeDocument/2006/relationships/image" Target="../media/image12.pct"/><Relationship Id="rId6" Type="http://schemas.openxmlformats.org/officeDocument/2006/relationships/image" Target="../media/image16.pct"/><Relationship Id="rId7" Type="http://schemas.openxmlformats.org/officeDocument/2006/relationships/image" Target="../media/image5.jpeg"/><Relationship Id="rId8" Type="http://schemas.openxmlformats.org/officeDocument/2006/relationships/image" Target="../media/image13.jpeg"/><Relationship Id="rId9" Type="http://schemas.openxmlformats.org/officeDocument/2006/relationships/image" Target="../media/image4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ct"/><Relationship Id="rId3" Type="http://schemas.openxmlformats.org/officeDocument/2006/relationships/image" Target="../media/image18.pct"/><Relationship Id="rId4" Type="http://schemas.openxmlformats.org/officeDocument/2006/relationships/image" Target="../media/image19.pct"/><Relationship Id="rId5" Type="http://schemas.openxmlformats.org/officeDocument/2006/relationships/image" Target="../media/image5.jpeg"/><Relationship Id="rId6" Type="http://schemas.openxmlformats.org/officeDocument/2006/relationships/image" Target="../media/image20.jpeg"/><Relationship Id="rId7" Type="http://schemas.openxmlformats.org/officeDocument/2006/relationships/image" Target="../media/image4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pct"/><Relationship Id="rId3" Type="http://schemas.openxmlformats.org/officeDocument/2006/relationships/image" Target="../media/image22.pct"/><Relationship Id="rId4" Type="http://schemas.openxmlformats.org/officeDocument/2006/relationships/image" Target="../media/image23.pct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pct"/><Relationship Id="rId3" Type="http://schemas.openxmlformats.org/officeDocument/2006/relationships/image" Target="../media/image25.pct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image" Target="../media/image4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7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28.pct"/><Relationship Id="rId7" Type="http://schemas.openxmlformats.org/officeDocument/2006/relationships/package" Target="../embeddings/oleObject4.docx"/><Relationship Id="rId8" Type="http://schemas.openxmlformats.org/officeDocument/2006/relationships/image" Target="../media/image29.pct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pct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5520" y="380880"/>
            <a:ext cx="50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noibrido - Caratte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35160" y="1447920"/>
            <a:ext cx="14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c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5160" y="2438280"/>
            <a:ext cx="14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35880" y="3413160"/>
            <a:ext cx="23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st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762120" y="990720"/>
          <a:ext cx="7848360" cy="313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784836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762120" y="5181480"/>
          <a:ext cx="8607240" cy="77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181480"/>
                    <a:ext cx="860724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752400" y="4494240"/>
          <a:ext cx="8001000" cy="1143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2400" y="4494240"/>
                    <a:ext cx="8001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62120" y="2590920"/>
          <a:ext cx="7953120" cy="2241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590920"/>
                    <a:ext cx="7953120" cy="22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8153280" y="7620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467480" y="3276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3581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4648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4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222" name="" descr=""/>
            <p:cNvPicPr/>
            <p:nvPr/>
          </p:nvPicPr>
          <p:blipFill>
            <a:blip r:embed="rId9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0" y="76176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482"/>
                </a:solidFill>
                <a:latin typeface="Comic Sans MS"/>
              </a:rPr>
              <a:t>Grupp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14508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mprende individui omozigoti per un carattere mentre il secondo carattere è eterozigote in quanto segrega nella generazione succes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2666880"/>
          <a:ext cx="9597960" cy="35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959796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1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32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762120" y="-304920"/>
          <a:ext cx="7848360" cy="314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-304920"/>
                    <a:ext cx="7848360" cy="31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746280" y="3924360"/>
          <a:ext cx="8607240" cy="772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280" y="3924360"/>
                    <a:ext cx="86072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752400" y="3198960"/>
          <a:ext cx="8001000" cy="1143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2400" y="3198960"/>
                    <a:ext cx="8001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762120" y="1295280"/>
          <a:ext cx="7953120" cy="2241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1295280"/>
                    <a:ext cx="795312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73152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18288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l terzo gruppo segrega per entrambi i caratteri nella  generazione successiva e quindi è eterozigote per entram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0" y="3176640"/>
          <a:ext cx="9597960" cy="248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76640"/>
                    <a:ext cx="959796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2880" y="914040"/>
            <a:ext cx="2895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482"/>
                </a:solidFill>
                <a:latin typeface="Comic Sans MS"/>
              </a:rPr>
              <a:t>Gruppo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51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28600" y="1320840"/>
            <a:ext cx="87026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Mendel scoprì che i genotipi e le loro frequenze possono essere determinati mediante la seguente  espressione matematic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1482"/>
                </a:solidFill>
                <a:latin typeface="Times New Roman"/>
              </a:rPr>
              <a:t>(A + 2Aa + a) (B + 2Bb + b)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1482"/>
                </a:solidFill>
                <a:latin typeface="Times New Roman"/>
              </a:rPr>
              <a:t>AB + 2ABb + Ab + 2AaB + 4AaBb + 2Aab + aB + 2aBb +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38        65        35        60          138          67       28       68     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3680" y="4724280"/>
            <a:ext cx="895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726ff"/>
                </a:solidFill>
                <a:latin typeface="Comic Sans MS"/>
              </a:rPr>
              <a:t>Questa osservazione ci dice che tutti i caratteri possono combinarsi liberamente fra di loro, cioè sono distribuiti in modo indipendente nelle cellule germinali producendo 9 differenti genotipi nella progen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81120" y="838080"/>
            <a:ext cx="34290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f33"/>
                </a:solidFill>
                <a:latin typeface="Comic Sans MS"/>
              </a:rPr>
              <a:t>Interpre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6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f33"/>
                </a:solidFill>
                <a:latin typeface="Comic Sans MS"/>
              </a:rPr>
              <a:t>2</a:t>
            </a:r>
            <a:r>
              <a:rPr b="0" lang="it-IT" sz="3600" spc="-1" strike="noStrike" baseline="30000">
                <a:solidFill>
                  <a:srgbClr val="ff0f33"/>
                </a:solidFill>
                <a:latin typeface="Comic Sans MS"/>
              </a:rPr>
              <a:t>a </a:t>
            </a:r>
            <a:r>
              <a:rPr b="0" lang="it-IT" sz="3600" spc="-1" strike="noStrike">
                <a:solidFill>
                  <a:srgbClr val="ff0f33"/>
                </a:solidFill>
                <a:latin typeface="Comic Sans MS"/>
              </a:rPr>
              <a:t>legge di Men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33520" y="1523880"/>
            <a:ext cx="7695720" cy="5029200"/>
            <a:chOff x="533520" y="1523880"/>
            <a:chExt cx="7695720" cy="5029200"/>
          </a:xfrm>
        </p:grpSpPr>
        <p:sp>
          <p:nvSpPr>
            <p:cNvPr id="267" name=""/>
            <p:cNvSpPr/>
            <p:nvPr/>
          </p:nvSpPr>
          <p:spPr>
            <a:xfrm>
              <a:off x="533520" y="1523880"/>
              <a:ext cx="7695720" cy="502920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78000" y="2514600"/>
              <a:ext cx="620640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Durante la formazione dei gamet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la segregazione di una coppia di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lleli di un locus e’ indipenden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dalla segregazione degli allel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di un’altro locu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70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746280" y="1295280"/>
            <a:ext cx="778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r Yy    x    Rr Y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Y      Ry       rY      ry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Y      Ry       rY      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/4      1/4      1/4     1/4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1/4      1/4      1/4     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990360" y="1600200"/>
            <a:ext cx="251460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143000" y="1600200"/>
            <a:ext cx="28195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990360" y="1600200"/>
            <a:ext cx="2514600" cy="914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1219320" y="1600200"/>
            <a:ext cx="2743200" cy="9144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981080" y="1676520"/>
            <a:ext cx="1524240" cy="838080"/>
          </a:xfrm>
          <a:prstGeom prst="line">
            <a:avLst/>
          </a:prstGeom>
          <a:ln w="9360">
            <a:solidFill>
              <a:srgbClr val="ff14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057040" y="1600200"/>
            <a:ext cx="2057400" cy="914400"/>
          </a:xfrm>
          <a:prstGeom prst="line">
            <a:avLst/>
          </a:prstGeom>
          <a:ln w="9360">
            <a:solidFill>
              <a:srgbClr val="ff14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743200" y="1676520"/>
            <a:ext cx="990720" cy="838080"/>
          </a:xfrm>
          <a:prstGeom prst="line">
            <a:avLst/>
          </a:prstGeom>
          <a:ln w="9360">
            <a:solidFill>
              <a:srgbClr val="172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048120" y="1676520"/>
            <a:ext cx="914400" cy="838080"/>
          </a:xfrm>
          <a:prstGeom prst="line">
            <a:avLst/>
          </a:prstGeom>
          <a:ln w="9360">
            <a:solidFill>
              <a:srgbClr val="172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1676520"/>
            <a:ext cx="38088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4120" y="1676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86400" y="1676520"/>
            <a:ext cx="7632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81480" y="1676520"/>
            <a:ext cx="381240" cy="8380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562720" y="1676520"/>
            <a:ext cx="152280" cy="8380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81480" y="1676520"/>
            <a:ext cx="1143000" cy="838080"/>
          </a:xfrm>
          <a:prstGeom prst="line">
            <a:avLst/>
          </a:prstGeom>
          <a:ln w="9360">
            <a:solidFill>
              <a:srgbClr val="ff14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91320" y="1676520"/>
            <a:ext cx="761760" cy="838080"/>
          </a:xfrm>
          <a:prstGeom prst="line">
            <a:avLst/>
          </a:prstGeom>
          <a:ln w="9360">
            <a:solidFill>
              <a:srgbClr val="ff14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4120" y="1676520"/>
            <a:ext cx="25905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160020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19320" y="3962520"/>
            <a:ext cx="4495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/2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/2 R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/2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/2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/2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/2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00400" y="41911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49528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56386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00400" y="64008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82000" y="3946680"/>
            <a:ext cx="1086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726ff"/>
                </a:solidFill>
                <a:latin typeface="Times New Roman"/>
              </a:rPr>
              <a:t>1/4 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726ff"/>
                </a:solidFill>
                <a:latin typeface="Times New Roman"/>
              </a:rPr>
              <a:t>1/4 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726ff"/>
                </a:solidFill>
                <a:latin typeface="Times New Roman"/>
              </a:rPr>
              <a:t>1/4 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726ff"/>
                </a:solidFill>
                <a:latin typeface="Times New Roman"/>
              </a:rPr>
              <a:t>1/4 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12760" y="-2500560"/>
            <a:ext cx="183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57400" y="41148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7400" y="5562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361960" y="609480"/>
            <a:ext cx="6476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1482"/>
                </a:solidFill>
                <a:latin typeface="Comic Sans MS"/>
              </a:rPr>
              <a:t>Gameti prodotti nell’incrocio diibr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581280" y="167652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3733920" y="167652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4120" y="1600200"/>
            <a:ext cx="1904760" cy="990720"/>
          </a:xfrm>
          <a:prstGeom prst="line">
            <a:avLst/>
          </a:prstGeom>
          <a:ln w="9360">
            <a:solidFill>
              <a:srgbClr val="172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38680" y="1600200"/>
            <a:ext cx="1752840" cy="914400"/>
          </a:xfrm>
          <a:prstGeom prst="line">
            <a:avLst/>
          </a:prstGeom>
          <a:ln w="9360">
            <a:solidFill>
              <a:srgbClr val="172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30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f33"/>
                </a:solidFill>
                <a:latin typeface="Comic Sans MS"/>
              </a:rPr>
              <a:t>Combinazione casuale dei gameti a formare nella progenie il rapporto fenotipico 9:3:3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523880" y="1346040"/>
          <a:ext cx="6096240" cy="43498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rY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1600200" y="14479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97080" y="160020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6520" y="173988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50960" y="203184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320920" y="1508760"/>
            <a:ext cx="228600" cy="147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7960" y="149544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ame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609840" cy="5508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4551480" y="2514600"/>
            <a:ext cx="609480" cy="5508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5737320" y="2514600"/>
            <a:ext cx="609480" cy="5508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6956280" y="2514600"/>
            <a:ext cx="609840" cy="5508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3352680" y="3352680"/>
            <a:ext cx="609840" cy="5511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>
            <a:off x="3352680" y="4267080"/>
            <a:ext cx="609840" cy="5511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7"/>
          <a:stretch/>
        </p:blipFill>
        <p:spPr>
          <a:xfrm>
            <a:off x="3352680" y="5087880"/>
            <a:ext cx="609840" cy="5508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8"/>
          <a:stretch/>
        </p:blipFill>
        <p:spPr>
          <a:xfrm>
            <a:off x="6956280" y="3352680"/>
            <a:ext cx="609840" cy="5511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9"/>
          <a:stretch/>
        </p:blipFill>
        <p:spPr>
          <a:xfrm>
            <a:off x="4572000" y="5105520"/>
            <a:ext cx="609480" cy="5508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10"/>
          <a:stretch/>
        </p:blipFill>
        <p:spPr>
          <a:xfrm>
            <a:off x="4518000" y="3363840"/>
            <a:ext cx="596880" cy="5382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11"/>
          <a:stretch/>
        </p:blipFill>
        <p:spPr>
          <a:xfrm>
            <a:off x="5791320" y="3352680"/>
            <a:ext cx="596880" cy="5382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12"/>
          <a:stretch/>
        </p:blipFill>
        <p:spPr>
          <a:xfrm>
            <a:off x="4549680" y="4262400"/>
            <a:ext cx="596880" cy="538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13"/>
          <a:stretch/>
        </p:blipFill>
        <p:spPr>
          <a:xfrm>
            <a:off x="5737320" y="5087880"/>
            <a:ext cx="609480" cy="5508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14"/>
          <a:stretch/>
        </p:blipFill>
        <p:spPr>
          <a:xfrm>
            <a:off x="6967440" y="5105520"/>
            <a:ext cx="609840" cy="5508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5"/>
          <a:stretch/>
        </p:blipFill>
        <p:spPr>
          <a:xfrm>
            <a:off x="6967440" y="4267080"/>
            <a:ext cx="609840" cy="5511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16"/>
          <a:stretch/>
        </p:blipFill>
        <p:spPr>
          <a:xfrm>
            <a:off x="5791320" y="4206960"/>
            <a:ext cx="609480" cy="54936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1600200" y="5791320"/>
            <a:ext cx="5638680" cy="642600"/>
            <a:chOff x="1600200" y="5791320"/>
            <a:chExt cx="5638680" cy="642600"/>
          </a:xfrm>
        </p:grpSpPr>
        <p:sp>
          <p:nvSpPr>
            <p:cNvPr id="339" name=""/>
            <p:cNvSpPr/>
            <p:nvPr/>
          </p:nvSpPr>
          <p:spPr>
            <a:xfrm>
              <a:off x="6246000" y="586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1600200" y="5791320"/>
              <a:ext cx="5638680" cy="642600"/>
              <a:chOff x="1600200" y="5791320"/>
              <a:chExt cx="5638680" cy="642600"/>
            </a:xfrm>
          </p:grpSpPr>
          <p:sp>
            <p:nvSpPr>
              <p:cNvPr id="341" name=""/>
              <p:cNvSpPr/>
              <p:nvPr/>
            </p:nvSpPr>
            <p:spPr>
              <a:xfrm>
                <a:off x="1600200" y="5791320"/>
                <a:ext cx="828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0710"/>
                  </a:buClr>
                  <a:buFont typeface="Wingdings" charset="2"/>
                  <a:buChar char="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710"/>
                    </a:solidFill>
                    <a:latin typeface="Comic Sans MS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838600" y="5865840"/>
                <a:ext cx="91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9      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4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971800" y="5867280"/>
                <a:ext cx="609480" cy="55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4149720" y="5867280"/>
                <a:ext cx="91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3      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4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332240" y="5889600"/>
                <a:ext cx="596880" cy="53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>
                <a:off x="5369040" y="5867280"/>
                <a:ext cx="91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3      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4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5562360" y="5846760"/>
                <a:ext cx="609840" cy="5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6629400" y="5829480"/>
                <a:ext cx="609480" cy="549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49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350" name="" descr=""/>
            <p:cNvPicPr/>
            <p:nvPr/>
          </p:nvPicPr>
          <p:blipFill>
            <a:blip r:embed="rId2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334120" y="1676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00400" y="838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00400" y="1413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0400" y="1981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00400" y="2514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81280" y="685800"/>
            <a:ext cx="860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1/4 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1/4 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1/4 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1/4 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685800"/>
            <a:ext cx="4496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1/2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1/2 R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1/2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1/2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1/2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1/2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3040" y="1224000"/>
            <a:ext cx="436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81080" y="19051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867280" y="24382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1482"/>
                </a:solidFill>
                <a:latin typeface="Comic Sans MS"/>
              </a:rPr>
              <a:t>gameti prodotti nell’incrocio triib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81080" y="784080"/>
            <a:ext cx="76320" cy="663840"/>
          </a:xfrm>
          <a:custGeom>
            <a:avLst/>
            <a:gdLst>
              <a:gd name="textAreaLeft" fmla="*/ 48960 w 76320"/>
              <a:gd name="textAreaRight" fmla="*/ 76320 w 76320"/>
              <a:gd name="textAreaTop" fmla="*/ 17280 h 663840"/>
              <a:gd name="textAreaBottom" fmla="*/ 646560 h 66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25440" y="2617920"/>
            <a:ext cx="365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762120" y="2584440"/>
          <a:ext cx="6835680" cy="41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84440"/>
                    <a:ext cx="683568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304920" y="2743200"/>
            <a:ext cx="8610480" cy="0"/>
          </a:xfrm>
          <a:prstGeom prst="line">
            <a:avLst/>
          </a:prstGeom>
          <a:ln w="57240">
            <a:solidFill>
              <a:srgbClr val="172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371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7144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726ff"/>
                </a:solidFill>
                <a:latin typeface="Comic Sans MS"/>
              </a:rPr>
              <a:t>semi rotondi  x  semi grinzo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455400" y="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666880" y="3207240"/>
            <a:ext cx="1677600" cy="836280"/>
            <a:chOff x="2666880" y="3207240"/>
            <a:chExt cx="1677600" cy="836280"/>
          </a:xfrm>
        </p:grpSpPr>
        <p:sp>
          <p:nvSpPr>
            <p:cNvPr id="48" name=""/>
            <p:cNvSpPr/>
            <p:nvPr/>
          </p:nvSpPr>
          <p:spPr>
            <a:xfrm rot="12922800">
              <a:off x="3730680" y="3276360"/>
              <a:ext cx="457200" cy="68580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150840 h 685800"/>
                <a:gd name="textAreaBottom" fmla="*/ 5349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2666880" y="3657600"/>
              <a:ext cx="1295640" cy="3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"/>
          <p:cNvGrpSpPr/>
          <p:nvPr/>
        </p:nvGrpSpPr>
        <p:grpSpPr>
          <a:xfrm>
            <a:off x="533520" y="3962520"/>
            <a:ext cx="2322360" cy="2182680"/>
            <a:chOff x="533520" y="3962520"/>
            <a:chExt cx="2322360" cy="218268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533520" y="3962520"/>
              <a:ext cx="117936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820800" y="5829480"/>
              <a:ext cx="39060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812880" y="5587920"/>
              <a:ext cx="457200" cy="30492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5"/>
            <a:stretch/>
          </p:blipFill>
          <p:spPr>
            <a:xfrm>
              <a:off x="1676520" y="3962520"/>
              <a:ext cx="117936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2055960" y="5829480"/>
              <a:ext cx="3902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952640" y="5587920"/>
              <a:ext cx="552600" cy="36828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222880" y="4114800"/>
            <a:ext cx="1222200" cy="2220840"/>
            <a:chOff x="5222880" y="4114800"/>
            <a:chExt cx="1222200" cy="2220840"/>
          </a:xfrm>
        </p:grpSpPr>
        <p:pic>
          <p:nvPicPr>
            <p:cNvPr id="58" name="" descr=""/>
            <p:cNvPicPr/>
            <p:nvPr/>
          </p:nvPicPr>
          <p:blipFill>
            <a:blip r:embed="rId8"/>
            <a:stretch/>
          </p:blipFill>
          <p:spPr>
            <a:xfrm>
              <a:off x="5222880" y="4114800"/>
              <a:ext cx="1222200" cy="17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9"/>
            <a:stretch/>
          </p:blipFill>
          <p:spPr>
            <a:xfrm>
              <a:off x="5519880" y="6019920"/>
              <a:ext cx="3902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454720" y="5727600"/>
              <a:ext cx="552240" cy="36828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06000" y="624852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a12"/>
                </a:solidFill>
                <a:latin typeface="Comic Sans MS"/>
              </a:rPr>
              <a:t>AUTOIMPOLLIN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62520" y="4862520"/>
            <a:ext cx="3581280" cy="1362240"/>
            <a:chOff x="3962520" y="4862520"/>
            <a:chExt cx="3581280" cy="1362240"/>
          </a:xfrm>
        </p:grpSpPr>
        <p:sp>
          <p:nvSpPr>
            <p:cNvPr id="63" name=""/>
            <p:cNvSpPr/>
            <p:nvPr/>
          </p:nvSpPr>
          <p:spPr>
            <a:xfrm rot="12922800">
              <a:off x="4876920" y="5333760"/>
              <a:ext cx="457200" cy="68580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150840 h 685800"/>
                <a:gd name="textAreaBottom" fmla="*/ 5349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7784400">
              <a:off x="6133680" y="4914360"/>
              <a:ext cx="457200" cy="68580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150840 h 685800"/>
                <a:gd name="textAreaBottom" fmla="*/ 5349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1"/>
            <a:stretch/>
          </p:blipFill>
          <p:spPr>
            <a:xfrm>
              <a:off x="3962520" y="5715000"/>
              <a:ext cx="114300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2"/>
            <a:stretch/>
          </p:blipFill>
          <p:spPr>
            <a:xfrm>
              <a:off x="6400800" y="5334120"/>
              <a:ext cx="11430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263840" y="541008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a12"/>
                  </a:solidFill>
                  <a:latin typeface="Comic Sans MS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94280" y="50292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a12"/>
                  </a:solidFill>
                  <a:latin typeface="Comic Sans MS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905200" y="1828800"/>
            <a:ext cx="2276280" cy="2246400"/>
            <a:chOff x="2905200" y="1828800"/>
            <a:chExt cx="2276280" cy="2246400"/>
          </a:xfrm>
        </p:grpSpPr>
        <p:pic>
          <p:nvPicPr>
            <p:cNvPr id="70" name="" descr=""/>
            <p:cNvPicPr/>
            <p:nvPr/>
          </p:nvPicPr>
          <p:blipFill>
            <a:blip r:embed="rId13"/>
            <a:stretch/>
          </p:blipFill>
          <p:spPr>
            <a:xfrm>
              <a:off x="3959280" y="1828800"/>
              <a:ext cx="1222200" cy="17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14"/>
            <a:stretch/>
          </p:blipFill>
          <p:spPr>
            <a:xfrm>
              <a:off x="4238640" y="3759120"/>
              <a:ext cx="39060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187880" y="3467160"/>
              <a:ext cx="552240" cy="368280"/>
            </a:xfrm>
            <a:prstGeom prst="cube">
              <a:avLst>
                <a:gd name="adj" fmla="val 25000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05200" y="327672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a12"/>
                  </a:solidFill>
                  <a:latin typeface="Comic Sans MS"/>
                </a:rPr>
                <a:t>F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584240" y="1066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a12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980280" y="795240"/>
            <a:ext cx="1915200" cy="2797200"/>
            <a:chOff x="980280" y="795240"/>
            <a:chExt cx="1915200" cy="2797200"/>
          </a:xfrm>
        </p:grpSpPr>
        <p:pic>
          <p:nvPicPr>
            <p:cNvPr id="76" name="" descr=""/>
            <p:cNvPicPr/>
            <p:nvPr/>
          </p:nvPicPr>
          <p:blipFill>
            <a:blip r:embed="rId16"/>
            <a:stretch/>
          </p:blipFill>
          <p:spPr>
            <a:xfrm>
              <a:off x="1219320" y="795240"/>
              <a:ext cx="167616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17"/>
            <a:stretch/>
          </p:blipFill>
          <p:spPr>
            <a:xfrm>
              <a:off x="1371600" y="1295280"/>
              <a:ext cx="117936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8"/>
            <a:stretch/>
          </p:blipFill>
          <p:spPr>
            <a:xfrm>
              <a:off x="1676520" y="3276720"/>
              <a:ext cx="3902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600200" y="2971800"/>
              <a:ext cx="552600" cy="368280"/>
            </a:xfrm>
            <a:prstGeom prst="cube">
              <a:avLst>
                <a:gd name="adj" fmla="val 25000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80280" y="9144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a12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087240" y="914400"/>
            <a:ext cx="2067480" cy="2805120"/>
            <a:chOff x="6087240" y="914400"/>
            <a:chExt cx="2067480" cy="2805120"/>
          </a:xfrm>
        </p:grpSpPr>
        <p:pic>
          <p:nvPicPr>
            <p:cNvPr id="82" name="" descr=""/>
            <p:cNvPicPr/>
            <p:nvPr/>
          </p:nvPicPr>
          <p:blipFill>
            <a:blip r:embed="rId20"/>
            <a:stretch/>
          </p:blipFill>
          <p:spPr>
            <a:xfrm>
              <a:off x="6478560" y="914400"/>
              <a:ext cx="167616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1"/>
            <a:stretch/>
          </p:blipFill>
          <p:spPr>
            <a:xfrm>
              <a:off x="6464160" y="1409760"/>
              <a:ext cx="117936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2"/>
            <a:stretch/>
          </p:blipFill>
          <p:spPr>
            <a:xfrm>
              <a:off x="6829200" y="3403440"/>
              <a:ext cx="39060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764040" y="3086280"/>
              <a:ext cx="552600" cy="368280"/>
            </a:xfrm>
            <a:prstGeom prst="cube">
              <a:avLst>
                <a:gd name="adj" fmla="val 25000"/>
              </a:avLst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87240" y="990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a12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124080" y="47242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89" name="" descr=""/>
            <p:cNvPicPr/>
            <p:nvPr/>
          </p:nvPicPr>
          <p:blipFill>
            <a:blip r:embed="rId24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695160" y="1031760"/>
          <a:ext cx="806796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031760"/>
                    <a:ext cx="806796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0760" y="533160"/>
            <a:ext cx="4724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1482"/>
                </a:solidFill>
                <a:latin typeface="Comic Sans MS"/>
              </a:rPr>
              <a:t>Risultati di un incrocio diib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114800" y="1905120"/>
            <a:ext cx="1752480" cy="500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62120" y="51055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318440" y="2819520"/>
            <a:ext cx="1139760" cy="1314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37080" y="390060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a12"/>
                </a:solidFill>
                <a:latin typeface="Comic Sans MS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7620120" y="4267080"/>
            <a:ext cx="380880" cy="304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43800" y="4068720"/>
            <a:ext cx="514440" cy="274680"/>
          </a:xfrm>
          <a:prstGeom prst="cube">
            <a:avLst>
              <a:gd name="adj" fmla="val 250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104" name="" descr=""/>
            <p:cNvPicPr/>
            <p:nvPr/>
          </p:nvPicPr>
          <p:blipFill>
            <a:blip r:embed="rId8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66680" y="822240"/>
            <a:ext cx="656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1482"/>
                </a:solidFill>
                <a:latin typeface="Comic Sans MS"/>
              </a:rPr>
              <a:t>Analisi dei dati sperimentali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47920" y="3184560"/>
          <a:ext cx="7848360" cy="313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184560"/>
                    <a:ext cx="784836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59800" y="2286000"/>
            <a:ext cx="552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1482"/>
                </a:solidFill>
                <a:latin typeface="Times New Roman"/>
              </a:rPr>
              <a:t>classe 1: </a:t>
            </a:r>
            <a:r>
              <a:rPr b="1" lang="it-IT" sz="2800" spc="-1" strike="noStrike">
                <a:solidFill>
                  <a:srgbClr val="1726ff"/>
                </a:solidFill>
                <a:latin typeface="Comic Sans MS"/>
              </a:rPr>
              <a:t>liscio e giallo (3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80880" y="4822920"/>
            <a:ext cx="1143000" cy="326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80880" y="5181480"/>
            <a:ext cx="1295640" cy="395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380880" y="5867280"/>
            <a:ext cx="1219320" cy="438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304920" y="5638680"/>
            <a:ext cx="1290600" cy="309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6477120" y="1066680"/>
            <a:ext cx="1139760" cy="1314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6781680" y="2590920"/>
            <a:ext cx="381240" cy="304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705720" y="2362320"/>
            <a:ext cx="514080" cy="274680"/>
          </a:xfrm>
          <a:prstGeom prst="cube">
            <a:avLst>
              <a:gd name="adj" fmla="val 25000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752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impollinazione della 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123" name="" descr=""/>
            <p:cNvPicPr/>
            <p:nvPr/>
          </p:nvPicPr>
          <p:blipFill>
            <a:blip r:embed="rId10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66680" y="822240"/>
            <a:ext cx="656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5867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1482"/>
                </a:solidFill>
                <a:latin typeface="Comic Sans MS"/>
              </a:rPr>
              <a:t>Analisi dei dati sperimenta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4382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66680" y="2590920"/>
          <a:ext cx="8686800" cy="317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90920"/>
                    <a:ext cx="868680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289440" y="2133720"/>
            <a:ext cx="598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1482"/>
                </a:solidFill>
                <a:latin typeface="Times New Roman"/>
              </a:rPr>
              <a:t>classe 2: </a:t>
            </a:r>
            <a:r>
              <a:rPr b="1" lang="it-IT" sz="2900" spc="-1" strike="noStrike">
                <a:solidFill>
                  <a:srgbClr val="1726ff"/>
                </a:solidFill>
                <a:latin typeface="Comic Sans MS"/>
              </a:rPr>
              <a:t>rugoso e giallo (101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0240" y="5315040"/>
            <a:ext cx="1341360" cy="399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0" y="4952880"/>
            <a:ext cx="1401840" cy="360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477120" y="1066680"/>
            <a:ext cx="1139760" cy="1314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6705720" y="2514600"/>
            <a:ext cx="533160" cy="482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730920" y="2362320"/>
            <a:ext cx="514440" cy="274680"/>
          </a:xfrm>
          <a:prstGeom prst="cube">
            <a:avLst>
              <a:gd name="adj" fmla="val 250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40" name="" descr=""/>
            <p:cNvPicPr/>
            <p:nvPr/>
          </p:nvPicPr>
          <p:blipFill>
            <a:blip r:embed="rId8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822240"/>
            <a:ext cx="656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1482"/>
                </a:solidFill>
                <a:latin typeface="Comic Sans MS"/>
              </a:rPr>
              <a:t>Analisi dei dati sperimenta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8288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66680" y="3429000"/>
          <a:ext cx="8226720" cy="27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29000"/>
                    <a:ext cx="82267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84040" y="2133720"/>
            <a:ext cx="554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1482"/>
                </a:solidFill>
                <a:latin typeface="Times New Roman"/>
              </a:rPr>
              <a:t>classe 3: </a:t>
            </a:r>
            <a:r>
              <a:rPr b="1" lang="it-IT" sz="2800" spc="-1" strike="noStrike">
                <a:solidFill>
                  <a:srgbClr val="1726ff"/>
                </a:solidFill>
                <a:latin typeface="Comic Sans MS"/>
              </a:rPr>
              <a:t>liscio e verde (10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0" y="5334120"/>
            <a:ext cx="1371600" cy="384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5729400"/>
            <a:ext cx="1353960" cy="48096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6629400" y="1676520"/>
            <a:ext cx="1222200" cy="2220840"/>
            <a:chOff x="6629400" y="1676520"/>
            <a:chExt cx="1222200" cy="2220840"/>
          </a:xfrm>
        </p:grpSpPr>
        <p:pic>
          <p:nvPicPr>
            <p:cNvPr id="154" name="" descr=""/>
            <p:cNvPicPr/>
            <p:nvPr/>
          </p:nvPicPr>
          <p:blipFill>
            <a:blip r:embed="rId5"/>
            <a:stretch/>
          </p:blipFill>
          <p:spPr>
            <a:xfrm>
              <a:off x="6629400" y="1676520"/>
              <a:ext cx="1222200" cy="17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6"/>
            <a:stretch/>
          </p:blipFill>
          <p:spPr>
            <a:xfrm>
              <a:off x="6926400" y="3581640"/>
              <a:ext cx="3902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6861240" y="3289320"/>
              <a:ext cx="552240" cy="36828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158" name="" descr=""/>
            <p:cNvPicPr/>
            <p:nvPr/>
          </p:nvPicPr>
          <p:blipFill>
            <a:blip r:embed="rId8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66680" y="822240"/>
            <a:ext cx="656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1482"/>
                </a:solidFill>
                <a:latin typeface="Comic Sans MS"/>
              </a:rPr>
              <a:t>Analisi dei dati sperimenta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18288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19320" y="3886200"/>
          <a:ext cx="8607240" cy="231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86200"/>
                    <a:ext cx="860724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89880" y="2133720"/>
            <a:ext cx="567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1482"/>
                </a:solidFill>
                <a:latin typeface="Times New Roman"/>
              </a:rPr>
              <a:t>classe 4: </a:t>
            </a:r>
            <a:r>
              <a:rPr b="1" lang="it-IT" sz="2800" spc="-1" strike="noStrike">
                <a:solidFill>
                  <a:srgbClr val="1726ff"/>
                </a:solidFill>
                <a:latin typeface="Comic Sans MS"/>
              </a:rPr>
              <a:t>verde e rugoso (3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6320" y="5791320"/>
            <a:ext cx="1447560" cy="401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6464160" y="1409760"/>
            <a:ext cx="1179720" cy="1752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6829560" y="3403440"/>
            <a:ext cx="390240" cy="316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764400" y="3086280"/>
            <a:ext cx="552240" cy="368280"/>
          </a:xfrm>
          <a:prstGeom prst="cube">
            <a:avLst>
              <a:gd name="adj" fmla="val 25000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74" name="" descr=""/>
            <p:cNvPicPr/>
            <p:nvPr/>
          </p:nvPicPr>
          <p:blipFill>
            <a:blip r:embed="rId7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762120" y="712800"/>
          <a:ext cx="7848360" cy="313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12800"/>
                    <a:ext cx="784836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46280" y="4941720"/>
          <a:ext cx="8607240" cy="77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280" y="4941720"/>
                    <a:ext cx="860724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752400" y="4216320"/>
          <a:ext cx="8001000" cy="1143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2400" y="4216320"/>
                    <a:ext cx="8001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762120" y="2313000"/>
          <a:ext cx="7953120" cy="2241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313000"/>
                    <a:ext cx="7953120" cy="22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7391520" y="2617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91520" y="398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67480" y="482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67480" y="5589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6560" y="12600"/>
            <a:ext cx="8898840" cy="6820200"/>
            <a:chOff x="16560" y="12600"/>
            <a:chExt cx="8898840" cy="6820200"/>
          </a:xfrm>
        </p:grpSpPr>
        <p:pic>
          <p:nvPicPr>
            <p:cNvPr id="192" name="" descr=""/>
            <p:cNvPicPr/>
            <p:nvPr/>
          </p:nvPicPr>
          <p:blipFill>
            <a:blip r:embed="rId9">
              <a:grayscl/>
            </a:blip>
            <a:stretch/>
          </p:blipFill>
          <p:spPr>
            <a:xfrm>
              <a:off x="76320" y="1260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841320" y="1299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2120" y="5461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3809880" y="889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560" y="65865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280" y="117792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serisce tutti quelli che mostrano i caratteri costanti, che non variano nelle generazioni successive. Questo vuol dire che questo gruppo deve essere omozigote per ogni caratt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040" y="326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04920" y="2666880"/>
          <a:ext cx="959796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95979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257800" y="533520"/>
            <a:ext cx="1828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482"/>
                </a:solidFill>
                <a:latin typeface="Comic Sans MS"/>
              </a:rPr>
              <a:t>Grupp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03" name="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8:54:06Z</dcterms:created>
  <dc:creator>Palumbo</dc:creator>
  <dc:description/>
  <dc:language>en-US</dc:language>
  <cp:lastModifiedBy>M.Rocchi</cp:lastModifiedBy>
  <dcterms:modified xsi:type="dcterms:W3CDTF">2003-01-02T07:00:41Z</dcterms:modified>
  <cp:revision>58</cp:revision>
  <dc:subject/>
  <dc:title>Procedimento sperimentale di Mendel</dc:title>
</cp:coreProperties>
</file>