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7.pct" ContentType="image/x-pict"/>
  <Override PartName="/ppt/media/image26.jpeg" ContentType="image/jpeg"/>
  <Override PartName="/ppt/media/image25.jpeg" ContentType="image/jpeg"/>
  <Override PartName="/ppt/media/image7.pct" ContentType="image/x-pict"/>
  <Override PartName="/ppt/media/image10.jpeg" ContentType="image/jpeg"/>
  <Override PartName="/ppt/media/image29.jpeg" ContentType="image/jpeg"/>
  <Override PartName="/ppt/media/image27.jpeg" ContentType="image/jpeg"/>
  <Override PartName="/ppt/media/image8.pct" ContentType="image/x-pict"/>
  <Override PartName="/ppt/media/image12.jpeg" ContentType="image/jpeg"/>
  <Override PartName="/ppt/media/image13.png" ContentType="image/png"/>
  <Override PartName="/ppt/media/image3.pct" ContentType="image/x-pict"/>
  <Override PartName="/ppt/media/image11.jpeg" ContentType="image/jpeg"/>
  <Override PartName="/ppt/media/image9.jpeg" ContentType="image/jpeg"/>
  <Override PartName="/ppt/media/image5.pct" ContentType="image/x-pict"/>
  <Override PartName="/ppt/media/image23.jpeg" ContentType="image/jpeg"/>
  <Override PartName="/ppt/media/image30.jpeg" ContentType="image/jpeg"/>
  <Override PartName="/ppt/media/image31.jpeg" ContentType="image/jpeg"/>
  <Override PartName="/ppt/media/image4.pct" ContentType="image/x-pict"/>
  <Override PartName="/ppt/media/image2.pct" ContentType="image/x-pict"/>
  <Override PartName="/ppt/media/image1.png" ContentType="image/png"/>
  <Override PartName="/ppt/media/image32.jpeg" ContentType="image/jpeg"/>
  <Override PartName="/ppt/media/image14.pct" ContentType="image/x-pict"/>
  <Override PartName="/ppt/media/image16.jpeg" ContentType="image/jpeg"/>
  <Override PartName="/ppt/media/image18.jpeg" ContentType="image/jpeg"/>
  <Override PartName="/ppt/media/image33.jpeg" ContentType="image/jpeg"/>
  <Override PartName="/ppt/media/image24.pct" ContentType="image/x-pict"/>
  <Override PartName="/ppt/media/image15.jpeg" ContentType="image/jpeg"/>
  <Override PartName="/ppt/media/image19.pct" ContentType="image/x-pict"/>
  <Override PartName="/ppt/media/image20.jpeg" ContentType="image/jpeg"/>
  <Override PartName="/ppt/media/image21.jpeg" ContentType="image/jpeg"/>
  <Override PartName="/ppt/media/image6.pct" ContentType="image/x-pict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ED1-E2D2-4EDD-8ED4-EA5A151F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E8F-7B97-4261-B81C-6C9066C5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8E5-7975-4A9C-BD7C-97CB135B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9B6-AED2-4325-9820-1612ACDA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98A8-09A7-4804-9BA8-F3C79AD8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36A-BD99-4D81-B6C6-C461EF76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C1E-A003-4094-8986-29FDB3A9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FB4C-2BCB-4317-BF57-4171014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102-1B5C-42B9-8A3D-BAFAE3D6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35D-9799-4582-8475-A4C6502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AA5-E12C-4937-A162-F4C17C91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480-268B-4918-AC5A-265DF2E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8357-182A-4926-B120-4170D173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2.jpeg"/><Relationship Id="rId5" Type="http://schemas.openxmlformats.org/officeDocument/2006/relationships/image" Target="../media/image31.jpeg"/><Relationship Id="rId6" Type="http://schemas.openxmlformats.org/officeDocument/2006/relationships/image" Target="../media/image33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1.jpe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image" Target="../media/image6.pct"/><Relationship Id="rId6" Type="http://schemas.openxmlformats.org/officeDocument/2006/relationships/image" Target="../media/image7.pct"/><Relationship Id="rId7" Type="http://schemas.openxmlformats.org/officeDocument/2006/relationships/image" Target="../media/image8.pct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ct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pct"/><Relationship Id="rId14" Type="http://schemas.openxmlformats.org/officeDocument/2006/relationships/image" Target="../media/image17.pct"/><Relationship Id="rId15" Type="http://schemas.openxmlformats.org/officeDocument/2006/relationships/image" Target="../media/image17.pct"/><Relationship Id="rId16" Type="http://schemas.openxmlformats.org/officeDocument/2006/relationships/image" Target="../media/image17.pct"/><Relationship Id="rId17" Type="http://schemas.openxmlformats.org/officeDocument/2006/relationships/image" Target="../media/image17.pct"/><Relationship Id="rId18" Type="http://schemas.openxmlformats.org/officeDocument/2006/relationships/image" Target="../media/image17.pct"/><Relationship Id="rId19" Type="http://schemas.openxmlformats.org/officeDocument/2006/relationships/image" Target="../media/image17.pct"/><Relationship Id="rId20" Type="http://schemas.openxmlformats.org/officeDocument/2006/relationships/image" Target="../media/image18.jpeg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8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8.jpeg"/><Relationship Id="rId8" Type="http://schemas.openxmlformats.org/officeDocument/2006/relationships/image" Target="../media/image22.jpeg"/><Relationship Id="rId9" Type="http://schemas.openxmlformats.org/officeDocument/2006/relationships/image" Target="../media/image21.jpeg"/><Relationship Id="rId10" Type="http://schemas.openxmlformats.org/officeDocument/2006/relationships/image" Target="../media/image18.jpeg"/><Relationship Id="rId11" Type="http://schemas.openxmlformats.org/officeDocument/2006/relationships/image" Target="../media/image23.jpeg"/><Relationship Id="rId12" Type="http://schemas.openxmlformats.org/officeDocument/2006/relationships/image" Target="../media/image23.jpeg"/><Relationship Id="rId13" Type="http://schemas.openxmlformats.org/officeDocument/2006/relationships/image" Target="../media/image22.jpeg"/><Relationship Id="rId14" Type="http://schemas.openxmlformats.org/officeDocument/2006/relationships/image" Target="../media/image21.jpeg"/><Relationship Id="rId15" Type="http://schemas.openxmlformats.org/officeDocument/2006/relationships/image" Target="../media/image18.jpeg"/><Relationship Id="rId16" Type="http://schemas.openxmlformats.org/officeDocument/2006/relationships/image" Target="../media/image19.pct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18.jpeg"/><Relationship Id="rId20" Type="http://schemas.openxmlformats.org/officeDocument/2006/relationships/image" Target="../media/image24.pct"/><Relationship Id="rId21" Type="http://schemas.openxmlformats.org/officeDocument/2006/relationships/image" Target="../media/image20.jpeg"/><Relationship Id="rId22" Type="http://schemas.openxmlformats.org/officeDocument/2006/relationships/image" Target="../media/image25.jpeg"/><Relationship Id="rId23" Type="http://schemas.openxmlformats.org/officeDocument/2006/relationships/image" Target="../media/image18.jpeg"/><Relationship Id="rId24" Type="http://schemas.openxmlformats.org/officeDocument/2006/relationships/image" Target="../media/image1.png"/><Relationship Id="rId2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7.jpe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a12"/>
                </a:solidFill>
                <a:latin typeface="Comic Sans MS"/>
              </a:rPr>
              <a:t>Procedimento sperimentale di M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7680" y="339552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360" y="1689120"/>
            <a:ext cx="839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205de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le piante di pisello (</a:t>
            </a:r>
            <a:r>
              <a:rPr b="1" i="1" lang="it-IT" sz="2000" spc="-1" strike="noStrike">
                <a:solidFill>
                  <a:srgbClr val="0205de"/>
                </a:solidFill>
                <a:latin typeface="Comic Sans MS"/>
              </a:rPr>
              <a:t>Pisum sativum) </a:t>
            </a: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sono facilmente reperibil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    </a:t>
            </a: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coltivabili e si riproducono velocemente e più volte nell'an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7680" y="278136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2. focalizzò la sua attenzione su sette caratteri alternativi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facilmente distinguibi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7680" y="3848040"/>
            <a:ext cx="816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3. selezionò linee pure, cioè piante che per autofecond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davano sempre piante con lo stesso carattere dei geni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8387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4. effettuò un'analisi numerica dei risultati ottenuti dei su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205de"/>
                </a:solidFill>
                <a:latin typeface="Comic Sans MS"/>
              </a:rPr>
              <a:t>incro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1482"/>
                </a:solidFill>
                <a:latin typeface="Comic Sans MS"/>
              </a:rPr>
              <a:t>Modello proposto da Men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2111400" y="3178800"/>
            <a:ext cx="1964520" cy="128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323532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648320" y="237816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504960" y="230184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0960" y="1066680"/>
            <a:ext cx="53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                 AA       x      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49480" y="167652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m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05320" y="16765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11560" y="16765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91120" y="27781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4000" y="335268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l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5920" y="440532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200400" y="4191120"/>
          <a:ext cx="2819520" cy="248904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2666880" y="44956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35812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72160" y="36082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5715000"/>
            <a:ext cx="4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920" y="272268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1 autofecond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Interpretazione di Mendel dei risultati di un incrocio monoib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98000" y="15238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236840" y="2331360"/>
            <a:ext cx="212760" cy="2438640"/>
          </a:xfrm>
          <a:custGeom>
            <a:avLst/>
            <a:gdLst>
              <a:gd name="textAreaLeft" fmla="*/ 62640 w 212760"/>
              <a:gd name="textAreaRight" fmla="*/ 213120 w 212760"/>
              <a:gd name="textAreaTop" fmla="*/ 101520 h 2438640"/>
              <a:gd name="textAreaBottom" fmla="*/ 233712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5680" y="373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752480" y="39625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962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733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 rot="5400000">
            <a:off x="3886200" y="2971800"/>
            <a:ext cx="304560" cy="2743200"/>
          </a:xfrm>
          <a:custGeom>
            <a:avLst/>
            <a:gdLst>
              <a:gd name="textAreaLeft" fmla="*/ 89640 w 304560"/>
              <a:gd name="textAreaRight" fmla="*/ 304920 w 30456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5248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3619440" y="4533480"/>
            <a:ext cx="152280" cy="1752480"/>
          </a:xfrm>
          <a:custGeom>
            <a:avLst/>
            <a:gdLst>
              <a:gd name="textAreaLeft" fmla="*/ 44640 w 152280"/>
              <a:gd name="textAreaRight" fmla="*/ 152640 w 152280"/>
              <a:gd name="textAreaTop" fmla="*/ 72720 h 1752480"/>
              <a:gd name="textAreaBottom" fmla="*/ 16797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88200" y="5471640"/>
            <a:ext cx="367200" cy="48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7560" y="5481720"/>
            <a:ext cx="321840" cy="51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74240" y="146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02200" y="3301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89960" y="33019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1600" y="3892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01400" y="38768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89960" y="41972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gregazione 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47280" y="54100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12360" y="5486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75120" y="419112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99160" y="58672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52520" y="41911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28480" y="58672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07880" y="58672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3560" y="58672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2200" y="5867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gregazione 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98000" y="2759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080" y="4495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15238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1523880"/>
            <a:ext cx="914400" cy="60984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43200" y="2590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590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76920" y="2590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259092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7672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9112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464832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6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5640" y="7617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1</a:t>
            </a:r>
            <a:r>
              <a:rPr b="1" lang="it-IT" sz="4000" spc="-1" strike="noStrike" baseline="30000">
                <a:solidFill>
                  <a:srgbClr val="ff1482"/>
                </a:solidFill>
                <a:latin typeface="Comic Sans MS"/>
              </a:rPr>
              <a:t>a </a:t>
            </a: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legge di Men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33520" y="1523880"/>
            <a:ext cx="7086600" cy="5029200"/>
            <a:chOff x="533520" y="1523880"/>
            <a:chExt cx="7086600" cy="5029200"/>
          </a:xfrm>
        </p:grpSpPr>
        <p:sp>
          <p:nvSpPr>
            <p:cNvPr id="376" name=""/>
            <p:cNvSpPr/>
            <p:nvPr/>
          </p:nvSpPr>
          <p:spPr>
            <a:xfrm>
              <a:off x="533520" y="1523880"/>
              <a:ext cx="7086600" cy="5029200"/>
            </a:xfrm>
            <a:prstGeom prst="verticalScroll">
              <a:avLst>
                <a:gd name="adj" fmla="val 125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2514600"/>
              <a:ext cx="57150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I due membri di una coppia di alleli segregano (si separano) durante la formazione dei gameti,in modo che meta’ di questi porti un membro della coppia e l’altra meta’ porti l’altr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7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1482"/>
                </a:solidFill>
                <a:latin typeface="Comic Sans MS"/>
              </a:rPr>
              <a:t>Rapporti fenotipici nella progenie F1: reincr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1189080" cy="12193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897520" y="1600200"/>
            <a:ext cx="1189080" cy="1219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414320" y="1996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58720" y="23623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  gi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70840" y="2362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a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27432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623600" y="33717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/2A ed 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41911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41148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5562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48769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4114800"/>
            <a:ext cx="0" cy="160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19720" y="41148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27680" y="3295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utti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3733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181120" y="38862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98320" y="2589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09160" y="3559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4280" y="456408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51920" y="53341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/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52200" y="43228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/2aa =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84960" y="526896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/2AA = gi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892080" cy="9144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6324480" y="5029200"/>
            <a:ext cx="892440" cy="9144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641880" y="586728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pporto atteso nella progenie e’ di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5203800" y="5715000"/>
            <a:ext cx="892080" cy="914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951880" y="59086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6324480" y="5740560"/>
            <a:ext cx="892440" cy="9144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76840" y="5676840"/>
            <a:ext cx="4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16" name="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82"/>
                </a:solidFill>
                <a:latin typeface="Comic Sans MS"/>
              </a:rPr>
              <a:t>Dominanza 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9400" y="236232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isello      seme liscio    x    seme rug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3048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38080" y="3809880"/>
            <a:ext cx="677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notip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tutti seme lis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terozigo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2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82"/>
                </a:solidFill>
                <a:latin typeface="Comic Sans MS"/>
              </a:rPr>
              <a:t>Dominanza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7680" y="2208240"/>
            <a:ext cx="7940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ore del piumaggio nei polli andalu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              nero   x    bi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1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blu    x      b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2     1 nero  :   2 blu  :  1 bi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7692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29200" y="42670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4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21b"/>
                </a:solidFill>
                <a:latin typeface="Comic Sans MS"/>
              </a:rPr>
              <a:t>Dominanza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751040"/>
            <a:ext cx="829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2. Colore del fiore in </a:t>
            </a: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Mirabilis jalapa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bocca di le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sso  x   bian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1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sa   x   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2     1: bianco : 2 rosa : 1 ro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2004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819520" y="4572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21b"/>
                </a:solidFill>
                <a:latin typeface="Comic Sans MS"/>
              </a:rPr>
              <a:t>Genetica dei polli ricci  (frizz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1308240" cy="15242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1523880" y="762120"/>
            <a:ext cx="1308240" cy="1523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1307880" cy="15238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55920" y="97488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71760" y="20638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0320" y="21337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estr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3960" y="342900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mod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96360" y="1525680"/>
            <a:ext cx="30466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47" y="238"/>
                </a:moveTo>
                <a:arcTo wR="10800" hR="10800" stAng="-6122347" swAng="6122347"/>
                <a:lnTo>
                  <a:pt x="10800" y="10800"/>
                </a:lnTo>
                <a:close/>
              </a:path>
              <a:path fill="none" w="21600" h="21600">
                <a:moveTo>
                  <a:pt x="8547" y="238"/>
                </a:moveTo>
                <a:arcTo wR="10800" hR="10800" stAng="-6122347" swAng="612234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4343400" y="1676520"/>
            <a:ext cx="33523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228600" y="2133720"/>
            <a:ext cx="1308240" cy="1523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6480" y="34354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7364520" y="2057400"/>
            <a:ext cx="1307880" cy="15238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7221240" y="335268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estr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76880" y="266688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2771640"/>
            <a:ext cx="3200040" cy="374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17" y="12"/>
                </a:moveTo>
                <a:arcTo wR="10800" hR="10800" stAng="-5235485" swAng="5286256"/>
                <a:lnTo>
                  <a:pt x="10800" y="10800"/>
                </a:lnTo>
                <a:close/>
              </a:path>
              <a:path fill="none" w="21600" h="21600">
                <a:moveTo>
                  <a:pt x="11317" y="12"/>
                </a:moveTo>
                <a:arcTo wR="10800" hR="10800" stAng="-5235485" swAng="5286256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476400" y="2962800"/>
            <a:ext cx="2133000" cy="260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6" y="76"/>
                </a:moveTo>
                <a:arcTo wR="10800" hR="10800" stAng="-4992768" swAng="4992768"/>
                <a:lnTo>
                  <a:pt x="10800" y="10800"/>
                </a:lnTo>
                <a:close/>
              </a:path>
              <a:path fill="none" w="21600" h="21600">
                <a:moveTo>
                  <a:pt x="12076" y="76"/>
                </a:moveTo>
                <a:arcTo wR="10800" hR="10800" stAng="-4992768" swAng="499276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86120" y="262404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312480" y="2849760"/>
            <a:ext cx="2453760" cy="346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68" y="286"/>
                </a:moveTo>
                <a:arcTo wR="10800" hR="10800" stAng="-4607286" swAng="4658057"/>
                <a:lnTo>
                  <a:pt x="10800" y="10800"/>
                </a:lnTo>
                <a:close/>
              </a:path>
              <a:path fill="none" w="21600" h="21600">
                <a:moveTo>
                  <a:pt x="13268" y="286"/>
                </a:moveTo>
                <a:arcTo wR="10800" hR="10800" stAng="-4607286" swAng="465805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133000" y="2884320"/>
            <a:ext cx="3657240" cy="279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6" y="76"/>
                </a:moveTo>
                <a:arcTo wR="10800" hR="10800" stAng="-4992768" swAng="5191078"/>
                <a:lnTo>
                  <a:pt x="10800" y="10800"/>
                </a:lnTo>
                <a:close/>
              </a:path>
              <a:path fill="none" w="21600" h="21600">
                <a:moveTo>
                  <a:pt x="12076" y="76"/>
                </a:moveTo>
                <a:arcTo wR="10800" hR="10800" stAng="-4992768" swAng="5191078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6"/>
          <a:stretch/>
        </p:blipFill>
        <p:spPr>
          <a:xfrm>
            <a:off x="2577960" y="4114800"/>
            <a:ext cx="1308240" cy="15238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2357280" y="541008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mod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596880" y="4114800"/>
            <a:ext cx="1308240" cy="15238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44760" y="541656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8"/>
          <a:stretch/>
        </p:blipFill>
        <p:spPr>
          <a:xfrm>
            <a:off x="5135400" y="4114800"/>
            <a:ext cx="1308240" cy="15238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825800" y="541008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mod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9"/>
          <a:stretch/>
        </p:blipFill>
        <p:spPr>
          <a:xfrm>
            <a:off x="7010280" y="4121280"/>
            <a:ext cx="130824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867000" y="541656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ccio estr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16200000">
            <a:off x="1978560" y="4799520"/>
            <a:ext cx="457200" cy="2592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96"/>
                </a:lnTo>
                <a:cubicBezTo>
                  <a:pt x="10800" y="9496"/>
                  <a:pt x="5400" y="10396"/>
                  <a:pt x="0" y="10396"/>
                </a:cubicBezTo>
                <a:cubicBezTo>
                  <a:pt x="5400" y="10396"/>
                  <a:pt x="10800" y="11296"/>
                  <a:pt x="10800" y="121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19960" y="56736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1%                    4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55520" y="5676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1%                    4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6200000">
            <a:off x="6325200" y="4799520"/>
            <a:ext cx="457200" cy="25923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96"/>
                </a:lnTo>
                <a:cubicBezTo>
                  <a:pt x="10800" y="9496"/>
                  <a:pt x="5400" y="10396"/>
                  <a:pt x="0" y="10396"/>
                </a:cubicBezTo>
                <a:cubicBezTo>
                  <a:pt x="5400" y="10396"/>
                  <a:pt x="10800" y="11296"/>
                  <a:pt x="10800" y="1219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81720" y="62485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e osservazioni 17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32960" y="6248520"/>
            <a:ext cx="25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e osservazioni 1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86" name="" descr=""/>
            <p:cNvPicPr/>
            <p:nvPr/>
          </p:nvPicPr>
          <p:blipFill>
            <a:blip r:embed="rId10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320" y="837720"/>
            <a:ext cx="89913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424"/>
                </a:solidFill>
                <a:latin typeface="Comic Sans MS"/>
              </a:rPr>
              <a:t>Trasmissione dei geni ed espressione fenotip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1698480"/>
            <a:ext cx="815328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Come agiscono i geni per dare quel determinato fenotip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Negli eterozigoti un allele impedisce l’espressione dell’allele alternativ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ssiamo trovare un meccanismo che spieghi la dominanza e la recessivit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5257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Colore del grasso nei conig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3800" y="106524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re bianco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re gi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42960" y="197964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Y   x   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2666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89320" y="3276720"/>
            <a:ext cx="39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y  x  Y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3886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988000" y="4570560"/>
            <a:ext cx="20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Y     Yy     y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09680" y="53323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21b"/>
                </a:solidFill>
                <a:latin typeface="Comic Sans MS"/>
              </a:rPr>
              <a:t>1/4        2/4     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ianco    bianco    gi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189160" y="19033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59560" y="32767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159560" y="4495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1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I sette caratteri studiati da M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38080" y="1219320"/>
            <a:ext cx="3248640" cy="1143000"/>
            <a:chOff x="838080" y="1219320"/>
            <a:chExt cx="3248640" cy="114300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38320" y="1275120"/>
              <a:ext cx="238356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48880" y="1829160"/>
              <a:ext cx="323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seme maturo liscio o rugo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1219320"/>
              <a:ext cx="3078000" cy="114300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396680" y="1295280"/>
            <a:ext cx="4065480" cy="1143000"/>
            <a:chOff x="4396680" y="1295280"/>
            <a:chExt cx="4065480" cy="114300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648320" y="1447920"/>
              <a:ext cx="24242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396680" y="1905120"/>
              <a:ext cx="406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parti interne del seme giallo o ver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96040" y="1295280"/>
              <a:ext cx="3886200" cy="114300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2840" y="2430360"/>
            <a:ext cx="3376440" cy="1892520"/>
            <a:chOff x="672840" y="2430360"/>
            <a:chExt cx="3376440" cy="189252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1213200" y="2430360"/>
              <a:ext cx="2078280" cy="14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72840" y="3932640"/>
              <a:ext cx="337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Baccello acerbo verde o gial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2561040"/>
              <a:ext cx="3276000" cy="176184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876920" y="2514600"/>
            <a:ext cx="3276360" cy="1778040"/>
            <a:chOff x="4876920" y="2514600"/>
            <a:chExt cx="3276360" cy="1778040"/>
          </a:xfrm>
        </p:grpSpPr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5131080" y="2844000"/>
              <a:ext cx="2724120" cy="94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876920" y="2514600"/>
              <a:ext cx="3276360" cy="177804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25520" y="3831840"/>
              <a:ext cx="293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Petali bianchi o   porpur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337000" y="4343400"/>
            <a:ext cx="3654720" cy="2286000"/>
            <a:chOff x="5337000" y="4343400"/>
            <a:chExt cx="3654720" cy="2286000"/>
          </a:xfrm>
        </p:grpSpPr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6534360" y="4343400"/>
              <a:ext cx="198756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410440" y="4471920"/>
              <a:ext cx="3581280" cy="215748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7000" y="4875120"/>
              <a:ext cx="138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Steli lung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o cor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819520" y="4419720"/>
            <a:ext cx="2286000" cy="2071080"/>
            <a:chOff x="2819520" y="4419720"/>
            <a:chExt cx="2286000" cy="2071080"/>
          </a:xfrm>
        </p:grpSpPr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105360" y="4419720"/>
              <a:ext cx="1857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819520" y="4529160"/>
              <a:ext cx="2286000" cy="196164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3440" y="571500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Fiori assiali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termin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28600" y="4343400"/>
            <a:ext cx="2361960" cy="2133720"/>
            <a:chOff x="228600" y="4343400"/>
            <a:chExt cx="2361960" cy="2133720"/>
          </a:xfrm>
        </p:grpSpPr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228600" y="4414320"/>
              <a:ext cx="180900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00240" y="4343400"/>
              <a:ext cx="2290320" cy="2133720"/>
            </a:xfrm>
            <a:prstGeom prst="rect">
              <a:avLst/>
            </a:prstGeom>
            <a:noFill/>
            <a:ln w="1260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5960" y="5623560"/>
              <a:ext cx="207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Baccello sempl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a12"/>
                  </a:solidFill>
                  <a:latin typeface="Comic Sans MS"/>
                </a:rPr>
                <a:t>o concamera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85" name="" descr="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ome agiscono i geni per dare quel determinato fenoti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3520" y="1600200"/>
            <a:ext cx="794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do un coniglio mangia piante verdi, nei processi digestivi si ha la scomposizione di certi coloranti gialli </a:t>
            </a:r>
            <a:r>
              <a:rPr b="1" lang="en-US" sz="2800" spc="-1" strike="noStrike">
                <a:solidFill>
                  <a:srgbClr val="ff021b"/>
                </a:solidFill>
                <a:latin typeface="Comic Sans MS"/>
              </a:rPr>
              <a:t>xantofill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 opera di un enzima presente nel fegato. Dalla degradazione derivano composti incolori e quindi il fenotipo bianco del gras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 questo enzima manca, la xantofilla rimane inalterata, si accumula nel grasso che avrà la colorazione gi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1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160" y="13716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erché negli eterozigoti un allele impedisce l’espressione della sua alternativa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164880" y="1295280"/>
            <a:ext cx="79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5de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2240" y="2895480"/>
            <a:ext cx="9208080" cy="2364840"/>
            <a:chOff x="12240" y="2895480"/>
            <a:chExt cx="9208080" cy="2364840"/>
          </a:xfrm>
        </p:grpSpPr>
        <p:sp>
          <p:nvSpPr>
            <p:cNvPr id="533" name=""/>
            <p:cNvSpPr/>
            <p:nvPr/>
          </p:nvSpPr>
          <p:spPr>
            <a:xfrm>
              <a:off x="609480" y="2971800"/>
              <a:ext cx="86108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Nell’eterozigote viene prodotta una quantità di enzima sufficiente a determinare la scomposizione di tutta la xantofilla ingerita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240" y="2895480"/>
              <a:ext cx="79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21b"/>
                </a:solidFill>
                <a:latin typeface="Comic Sans MS"/>
              </a:rPr>
              <a:t>Quindi gli eterozigoti contengono metà enzima rispetto agli omozigo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3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6080" y="2538360"/>
            <a:ext cx="8345160" cy="3711600"/>
            <a:chOff x="586080" y="2538360"/>
            <a:chExt cx="8345160" cy="3711600"/>
          </a:xfrm>
        </p:grpSpPr>
        <p:sp>
          <p:nvSpPr>
            <p:cNvPr id="543" name=""/>
            <p:cNvSpPr/>
            <p:nvPr/>
          </p:nvSpPr>
          <p:spPr>
            <a:xfrm>
              <a:off x="1219320" y="2743200"/>
              <a:ext cx="77119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onsegue che, se cambiamo il nostro approccio all’aspetto del fenotipo in osservazione, quantità di enzima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omic Sans MS"/>
                </a:rPr>
                <a:t>versus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colore del grasso, l’allele </a:t>
              </a: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Y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on è dominante sull’allele</a:t>
              </a: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 y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erché</a:t>
              </a: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l’eterozigote </a:t>
              </a: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Y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è distinguibile dall’omozigote </a:t>
              </a:r>
              <a:r>
                <a:rPr b="1" lang="en-US" sz="2800" spc="-1" strike="noStrike">
                  <a:solidFill>
                    <a:srgbClr val="333399"/>
                  </a:solidFill>
                  <a:latin typeface="Comic Sans MS"/>
                </a:rPr>
                <a:t>YY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per la quantità di enzi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6080" y="2538360"/>
              <a:ext cx="529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710"/>
                </a:solidFill>
                <a:latin typeface="Comic Sans MS"/>
              </a:rPr>
              <a:t>Eserc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6320" y="68904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rosophila il colore dell’occhio porpora e’ recessivo. Nei seguenti incroci  le classi parentali presentano il fenotipo indicato, ma non si conosce il loro genotip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re il genotipo piu’ probabile analizzando la progenie. Indicare anche il genotipo della prog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3040" y="3124080"/>
            <a:ext cx="7299720" cy="534600"/>
            <a:chOff x="383040" y="3124080"/>
            <a:chExt cx="7299720" cy="534600"/>
          </a:xfrm>
        </p:grpSpPr>
        <p:sp>
          <p:nvSpPr>
            <p:cNvPr id="554" name=""/>
            <p:cNvSpPr/>
            <p:nvPr/>
          </p:nvSpPr>
          <p:spPr>
            <a:xfrm>
              <a:off x="383040" y="3124080"/>
              <a:ext cx="29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31480" y="313812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219320" y="1965240"/>
            <a:ext cx="6689520" cy="779400"/>
            <a:chOff x="1219320" y="1965240"/>
            <a:chExt cx="6689520" cy="779400"/>
          </a:xfrm>
        </p:grpSpPr>
        <p:sp>
          <p:nvSpPr>
            <p:cNvPr id="557" name=""/>
            <p:cNvSpPr/>
            <p:nvPr/>
          </p:nvSpPr>
          <p:spPr>
            <a:xfrm>
              <a:off x="4638960" y="2376360"/>
              <a:ext cx="32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rmale                           Porp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38680" y="196524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19320" y="20415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83760" y="3733920"/>
            <a:ext cx="7235280" cy="534600"/>
            <a:chOff x="383760" y="3733920"/>
            <a:chExt cx="7235280" cy="534600"/>
          </a:xfrm>
        </p:grpSpPr>
        <p:sp>
          <p:nvSpPr>
            <p:cNvPr id="561" name=""/>
            <p:cNvSpPr/>
            <p:nvPr/>
          </p:nvSpPr>
          <p:spPr>
            <a:xfrm>
              <a:off x="383760" y="3733920"/>
              <a:ext cx="30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rm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31480" y="3747960"/>
              <a:ext cx="28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82680" y="4357800"/>
            <a:ext cx="7267320" cy="520560"/>
            <a:chOff x="382680" y="4357800"/>
            <a:chExt cx="7267320" cy="520560"/>
          </a:xfrm>
        </p:grpSpPr>
        <p:sp>
          <p:nvSpPr>
            <p:cNvPr id="564" name=""/>
            <p:cNvSpPr/>
            <p:nvPr/>
          </p:nvSpPr>
          <p:spPr>
            <a:xfrm>
              <a:off x="382680" y="4357800"/>
              <a:ext cx="28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rpora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26080" y="440388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  2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307080" y="4952880"/>
            <a:ext cx="7266600" cy="520560"/>
            <a:chOff x="307080" y="4952880"/>
            <a:chExt cx="7266600" cy="520560"/>
          </a:xfrm>
        </p:grpSpPr>
        <p:sp>
          <p:nvSpPr>
            <p:cNvPr id="567" name=""/>
            <p:cNvSpPr/>
            <p:nvPr/>
          </p:nvSpPr>
          <p:spPr>
            <a:xfrm>
              <a:off x="307080" y="4952880"/>
              <a:ext cx="29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26080" y="4952880"/>
              <a:ext cx="284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7          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07800" y="5486400"/>
            <a:ext cx="7265880" cy="520560"/>
            <a:chOff x="307800" y="5486400"/>
            <a:chExt cx="7265880" cy="520560"/>
          </a:xfrm>
        </p:grpSpPr>
        <p:sp>
          <p:nvSpPr>
            <p:cNvPr id="570" name=""/>
            <p:cNvSpPr/>
            <p:nvPr/>
          </p:nvSpPr>
          <p:spPr>
            <a:xfrm>
              <a:off x="307800" y="5486400"/>
              <a:ext cx="30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rm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726080" y="5486400"/>
              <a:ext cx="284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8          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7365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Drosophila il colore dell’occhio porpora e’ recessivo. Nei seguenti incroci  le clas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ali presentano il fenotipo indicato, ma non si conosce il loro genotipo. Indicare il genotipo piu’ probabile analizzando la progenie. Indicare anche il genotipo della prog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19320" y="1584360"/>
            <a:ext cx="6689520" cy="779400"/>
            <a:chOff x="1219320" y="1584360"/>
            <a:chExt cx="6689520" cy="779400"/>
          </a:xfrm>
        </p:grpSpPr>
        <p:sp>
          <p:nvSpPr>
            <p:cNvPr id="580" name=""/>
            <p:cNvSpPr/>
            <p:nvPr/>
          </p:nvSpPr>
          <p:spPr>
            <a:xfrm>
              <a:off x="4638960" y="1995480"/>
              <a:ext cx="32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rmale                           Porp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158436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660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82680" y="3962520"/>
            <a:ext cx="7267320" cy="520560"/>
            <a:chOff x="382680" y="3962520"/>
            <a:chExt cx="7267320" cy="520560"/>
          </a:xfrm>
        </p:grpSpPr>
        <p:sp>
          <p:nvSpPr>
            <p:cNvPr id="584" name=""/>
            <p:cNvSpPr/>
            <p:nvPr/>
          </p:nvSpPr>
          <p:spPr>
            <a:xfrm>
              <a:off x="382680" y="3962520"/>
              <a:ext cx="28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orpora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726080" y="400860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                   2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07080" y="4952880"/>
            <a:ext cx="7266600" cy="520560"/>
            <a:chOff x="307080" y="4952880"/>
            <a:chExt cx="7266600" cy="520560"/>
          </a:xfrm>
        </p:grpSpPr>
        <p:sp>
          <p:nvSpPr>
            <p:cNvPr id="587" name=""/>
            <p:cNvSpPr/>
            <p:nvPr/>
          </p:nvSpPr>
          <p:spPr>
            <a:xfrm>
              <a:off x="307080" y="4952880"/>
              <a:ext cx="29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26080" y="4952880"/>
              <a:ext cx="284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7          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83040" y="3276720"/>
            <a:ext cx="7299720" cy="534600"/>
            <a:chOff x="383040" y="3276720"/>
            <a:chExt cx="7299720" cy="534600"/>
          </a:xfrm>
        </p:grpSpPr>
        <p:sp>
          <p:nvSpPr>
            <p:cNvPr id="590" name=""/>
            <p:cNvSpPr/>
            <p:nvPr/>
          </p:nvSpPr>
          <p:spPr>
            <a:xfrm>
              <a:off x="383040" y="3276720"/>
              <a:ext cx="29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31480" y="329076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383760" y="2514600"/>
            <a:ext cx="7235280" cy="534960"/>
            <a:chOff x="383760" y="2514600"/>
            <a:chExt cx="7235280" cy="534960"/>
          </a:xfrm>
        </p:grpSpPr>
        <p:sp>
          <p:nvSpPr>
            <p:cNvPr id="593" name=""/>
            <p:cNvSpPr/>
            <p:nvPr/>
          </p:nvSpPr>
          <p:spPr>
            <a:xfrm>
              <a:off x="383760" y="2514600"/>
              <a:ext cx="30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rm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31480" y="2529000"/>
              <a:ext cx="28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282240" y="5784840"/>
            <a:ext cx="7265880" cy="520560"/>
            <a:chOff x="282240" y="5784840"/>
            <a:chExt cx="7265880" cy="520560"/>
          </a:xfrm>
        </p:grpSpPr>
        <p:sp>
          <p:nvSpPr>
            <p:cNvPr id="596" name=""/>
            <p:cNvSpPr/>
            <p:nvPr/>
          </p:nvSpPr>
          <p:spPr>
            <a:xfrm>
              <a:off x="282240" y="5784840"/>
              <a:ext cx="30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rm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00520" y="5784840"/>
              <a:ext cx="284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8                        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33880" y="4495680"/>
            <a:ext cx="24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a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8732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720" y="5410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06600" y="5334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2644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8680" y="5410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35680" y="6400800"/>
            <a:ext cx="4645800" cy="459720"/>
            <a:chOff x="535680" y="6400800"/>
            <a:chExt cx="4645800" cy="459720"/>
          </a:xfrm>
        </p:grpSpPr>
        <p:sp>
          <p:nvSpPr>
            <p:cNvPr id="605" name=""/>
            <p:cNvSpPr/>
            <p:nvPr/>
          </p:nvSpPr>
          <p:spPr>
            <a:xfrm>
              <a:off x="4776840" y="64008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000" y="64008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5680" y="6400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840240" y="6400800"/>
            <a:ext cx="5484240" cy="459720"/>
            <a:chOff x="840240" y="6400800"/>
            <a:chExt cx="5484240" cy="459720"/>
          </a:xfrm>
        </p:grpSpPr>
        <p:sp>
          <p:nvSpPr>
            <p:cNvPr id="609" name=""/>
            <p:cNvSpPr/>
            <p:nvPr/>
          </p:nvSpPr>
          <p:spPr>
            <a:xfrm>
              <a:off x="5081760" y="6400800"/>
              <a:ext cx="12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  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43120" y="640080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40240" y="64008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8680" y="6400800"/>
            <a:ext cx="5483520" cy="459720"/>
            <a:chOff x="688680" y="6400800"/>
            <a:chExt cx="5483520" cy="459720"/>
          </a:xfrm>
        </p:grpSpPr>
        <p:sp>
          <p:nvSpPr>
            <p:cNvPr id="613" name=""/>
            <p:cNvSpPr/>
            <p:nvPr/>
          </p:nvSpPr>
          <p:spPr>
            <a:xfrm>
              <a:off x="4929480" y="6400800"/>
              <a:ext cx="12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90840" y="6400800"/>
              <a:ext cx="9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8680" y="64008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85800" y="50796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Drosophila il colore dell’occhio porpora e’ recessivo. Nei seguenti incroci  le clas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ali presentano il fenotipo indicato, ma non si conosce il loro genotipo. Indicare il genotipo piu’ probabile analizzando la progenie. Indicare anche il genotipo della prog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07080" y="3124080"/>
            <a:ext cx="7299000" cy="534600"/>
            <a:chOff x="307080" y="3124080"/>
            <a:chExt cx="7299000" cy="534600"/>
          </a:xfrm>
        </p:grpSpPr>
        <p:sp>
          <p:nvSpPr>
            <p:cNvPr id="624" name=""/>
            <p:cNvSpPr/>
            <p:nvPr/>
          </p:nvSpPr>
          <p:spPr>
            <a:xfrm>
              <a:off x="307080" y="3124080"/>
              <a:ext cx="29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Porpor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54800" y="3138120"/>
              <a:ext cx="295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219320" y="1584360"/>
            <a:ext cx="6689520" cy="779400"/>
            <a:chOff x="1219320" y="1584360"/>
            <a:chExt cx="6689520" cy="779400"/>
          </a:xfrm>
        </p:grpSpPr>
        <p:sp>
          <p:nvSpPr>
            <p:cNvPr id="627" name=""/>
            <p:cNvSpPr/>
            <p:nvPr/>
          </p:nvSpPr>
          <p:spPr>
            <a:xfrm>
              <a:off x="4638960" y="1995480"/>
              <a:ext cx="32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rmale                           Porp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38680" y="158436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19320" y="1660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364120" y="5867280"/>
            <a:ext cx="5371200" cy="520560"/>
            <a:chOff x="2364120" y="5867280"/>
            <a:chExt cx="5371200" cy="520560"/>
          </a:xfrm>
        </p:grpSpPr>
        <p:sp>
          <p:nvSpPr>
            <p:cNvPr id="631" name=""/>
            <p:cNvSpPr/>
            <p:nvPr/>
          </p:nvSpPr>
          <p:spPr>
            <a:xfrm>
              <a:off x="2364120" y="586728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40680" y="586728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955040" y="59436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27160" y="594360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40600" y="5867280"/>
            <a:ext cx="5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990720" y="4114800"/>
          <a:ext cx="1676160" cy="162576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"/>
          <p:cNvSpPr/>
          <p:nvPr/>
        </p:nvSpPr>
        <p:spPr>
          <a:xfrm>
            <a:off x="1296360" y="35812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760" y="4929120"/>
            <a:ext cx="29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       a     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62480" y="2209680"/>
            <a:ext cx="6612120" cy="825480"/>
            <a:chOff x="762480" y="2209680"/>
            <a:chExt cx="6612120" cy="825480"/>
          </a:xfrm>
        </p:grpSpPr>
        <p:grpSp>
          <p:nvGrpSpPr>
            <p:cNvPr id="641" name=""/>
            <p:cNvGrpSpPr/>
            <p:nvPr/>
          </p:nvGrpSpPr>
          <p:grpSpPr>
            <a:xfrm>
              <a:off x="762480" y="2209680"/>
              <a:ext cx="6612120" cy="414360"/>
              <a:chOff x="762480" y="2209680"/>
              <a:chExt cx="6612120" cy="414360"/>
            </a:xfrm>
          </p:grpSpPr>
          <p:sp>
            <p:nvSpPr>
              <p:cNvPr id="642" name=""/>
              <p:cNvSpPr/>
              <p:nvPr/>
            </p:nvSpPr>
            <p:spPr>
              <a:xfrm>
                <a:off x="762480" y="2255760"/>
                <a:ext cx="1986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ormale X Porpo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73200" y="2209680"/>
                <a:ext cx="220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07                          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2744280" y="26668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63800" y="2590560"/>
              <a:ext cx="28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83280" y="259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45160" y="26668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4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685800" y="660240"/>
            <a:ext cx="8458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Drosophila il colore dell’occhio porpora e’ recessivo. Nei seguenti incroci  le class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entali presentano il fenotipo indicato, ma non si conosce il loro genotipo. Indicare il genotipo piu’ probabile analizzando la progenie.Indicare anche il genotipo della proge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07800" y="3124080"/>
            <a:ext cx="7221960" cy="534600"/>
            <a:chOff x="307800" y="3124080"/>
            <a:chExt cx="7221960" cy="534600"/>
          </a:xfrm>
        </p:grpSpPr>
        <p:sp>
          <p:nvSpPr>
            <p:cNvPr id="656" name=""/>
            <p:cNvSpPr/>
            <p:nvPr/>
          </p:nvSpPr>
          <p:spPr>
            <a:xfrm>
              <a:off x="307800" y="3124080"/>
              <a:ext cx="302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ormale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rm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654800" y="3138120"/>
              <a:ext cx="287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143000" y="1508040"/>
            <a:ext cx="6689520" cy="779400"/>
            <a:chOff x="1143000" y="1508040"/>
            <a:chExt cx="6689520" cy="779400"/>
          </a:xfrm>
        </p:grpSpPr>
        <p:sp>
          <p:nvSpPr>
            <p:cNvPr id="659" name=""/>
            <p:cNvSpPr/>
            <p:nvPr/>
          </p:nvSpPr>
          <p:spPr>
            <a:xfrm>
              <a:off x="4562640" y="1919160"/>
              <a:ext cx="32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rmale                           Porpo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62360" y="150804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en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43000" y="1584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ent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7240680" y="5867280"/>
            <a:ext cx="4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4880" y="57913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40600" y="5867280"/>
            <a:ext cx="2117520" cy="520560"/>
            <a:chOff x="840600" y="5867280"/>
            <a:chExt cx="2117520" cy="520560"/>
          </a:xfrm>
        </p:grpSpPr>
        <p:sp>
          <p:nvSpPr>
            <p:cNvPr id="665" name=""/>
            <p:cNvSpPr/>
            <p:nvPr/>
          </p:nvSpPr>
          <p:spPr>
            <a:xfrm>
              <a:off x="2364480" y="5867280"/>
              <a:ext cx="5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600" y="5867280"/>
              <a:ext cx="59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266760" y="3581280"/>
            <a:ext cx="2959200" cy="2159280"/>
            <a:chOff x="266760" y="3581280"/>
            <a:chExt cx="2959200" cy="2159280"/>
          </a:xfrm>
        </p:grpSpPr>
        <p:sp>
          <p:nvSpPr>
            <p:cNvPr id="668" name=""/>
            <p:cNvSpPr/>
            <p:nvPr/>
          </p:nvSpPr>
          <p:spPr>
            <a:xfrm>
              <a:off x="1828800" y="4927680"/>
              <a:ext cx="8380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0720" y="4927680"/>
              <a:ext cx="8380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28800" y="4114800"/>
              <a:ext cx="8380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90720" y="4114800"/>
              <a:ext cx="8380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A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90720" y="4114800"/>
              <a:ext cx="1676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90720" y="49276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90720" y="5740560"/>
              <a:ext cx="1676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90720" y="4114800"/>
              <a:ext cx="0" cy="1625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28800" y="41148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66880" y="4114800"/>
              <a:ext cx="0" cy="1625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297080" y="35812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      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720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6760" y="4929120"/>
              <a:ext cx="295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a     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11120" y="4114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685800" y="2104920"/>
            <a:ext cx="6864480" cy="677880"/>
            <a:chOff x="685800" y="2104920"/>
            <a:chExt cx="6864480" cy="677880"/>
          </a:xfrm>
        </p:grpSpPr>
        <p:grpSp>
          <p:nvGrpSpPr>
            <p:cNvPr id="683" name=""/>
            <p:cNvGrpSpPr/>
            <p:nvPr/>
          </p:nvGrpSpPr>
          <p:grpSpPr>
            <a:xfrm>
              <a:off x="685800" y="2104920"/>
              <a:ext cx="6864480" cy="397080"/>
              <a:chOff x="685800" y="2104920"/>
              <a:chExt cx="6864480" cy="397080"/>
            </a:xfrm>
          </p:grpSpPr>
          <p:sp>
            <p:nvSpPr>
              <p:cNvPr id="684" name=""/>
              <p:cNvSpPr/>
              <p:nvPr/>
            </p:nvSpPr>
            <p:spPr>
              <a:xfrm>
                <a:off x="685800" y="2104920"/>
                <a:ext cx="206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Normale X Norma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11680" y="2133720"/>
                <a:ext cx="283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78                                      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803520" y="2414520"/>
              <a:ext cx="45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A             AA                                             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1052280" y="26431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 x 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14800" y="5775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9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04920" y="11430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l pollo W rappresenta l'allele per il piumaggio nero, w quello per bianco. Quale genotipo avrà un pollo di colore blu andaluso? Quale sarà il fenotipo ed il genotipo e quale sarà il rapporto della F2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590920" y="2413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u  andaluso   Ww (WW x ww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791440" y="3174840"/>
            <a:ext cx="32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       x           W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53040" y="32353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72080" y="5283360"/>
            <a:ext cx="8380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33640" y="5283360"/>
            <a:ext cx="838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33640" y="44704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933640" y="4470480"/>
            <a:ext cx="0" cy="1625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933640" y="528336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33640" y="609588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72080" y="4470480"/>
            <a:ext cx="0" cy="162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610160" y="4470480"/>
            <a:ext cx="0" cy="1625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286000" y="3936960"/>
            <a:ext cx="2099880" cy="1983600"/>
            <a:chOff x="2286000" y="3936960"/>
            <a:chExt cx="2099880" cy="1983600"/>
          </a:xfrm>
        </p:grpSpPr>
        <p:sp>
          <p:nvSpPr>
            <p:cNvPr id="708" name=""/>
            <p:cNvSpPr/>
            <p:nvPr/>
          </p:nvSpPr>
          <p:spPr>
            <a:xfrm>
              <a:off x="3240360" y="39369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      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86000" y="454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64480" y="5460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2972880" y="46990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38600" y="4699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3600" y="54608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6640" y="546084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10200" y="49118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7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52280" y="685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mais:  endosperma amidaceo, S, è dominante su ceroso, 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tilizzando il quadrato di Punnett indica l’atteso in F1 ed F2 quando amidaceo è incrociato con ceroso e l’ibrido F1 è autofecond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era i quadrati della F2 e descrivi i fenotipi ed i genotip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termina l’atteso della progenie F3 derivante dall’autofecondazione della F2 contenuta in ciascun quad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790640" y="4927680"/>
            <a:ext cx="838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52560" y="4927680"/>
            <a:ext cx="8380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90640" y="4114800"/>
            <a:ext cx="838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52560" y="4114800"/>
            <a:ext cx="167652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52560" y="49276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52560" y="575316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52560" y="4114800"/>
            <a:ext cx="0" cy="1625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790640" y="4114800"/>
            <a:ext cx="0" cy="162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29080" y="4114800"/>
            <a:ext cx="0" cy="1625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28600" y="3581280"/>
            <a:ext cx="2159640" cy="2806200"/>
            <a:chOff x="228600" y="3581280"/>
            <a:chExt cx="2159640" cy="2806200"/>
          </a:xfrm>
        </p:grpSpPr>
        <p:sp>
          <p:nvSpPr>
            <p:cNvPr id="733" name=""/>
            <p:cNvSpPr/>
            <p:nvPr/>
          </p:nvSpPr>
          <p:spPr>
            <a:xfrm>
              <a:off x="1259640" y="358128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      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9040" y="42670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8600" y="49291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57920" y="592776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68840" y="4343400"/>
            <a:ext cx="1383120" cy="1297800"/>
            <a:chOff x="1068840" y="4343400"/>
            <a:chExt cx="1383120" cy="1297800"/>
          </a:xfrm>
        </p:grpSpPr>
        <p:sp>
          <p:nvSpPr>
            <p:cNvPr id="738" name=""/>
            <p:cNvSpPr/>
            <p:nvPr/>
          </p:nvSpPr>
          <p:spPr>
            <a:xfrm>
              <a:off x="1145160" y="43434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83240" y="43434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983240" y="518148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68840" y="51055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2745720" y="3124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  x  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495680" y="4927680"/>
            <a:ext cx="838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5680" y="4114800"/>
            <a:ext cx="1676520" cy="14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95680" y="49276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4114800"/>
            <a:ext cx="0" cy="1625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334120" y="4114800"/>
            <a:ext cx="0" cy="162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172200" y="4114800"/>
            <a:ext cx="0" cy="1625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483080" y="5740560"/>
            <a:ext cx="16765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688640" y="4343400"/>
            <a:ext cx="1306800" cy="1221840"/>
            <a:chOff x="4688640" y="4343400"/>
            <a:chExt cx="1306800" cy="1221840"/>
          </a:xfrm>
        </p:grpSpPr>
        <p:sp>
          <p:nvSpPr>
            <p:cNvPr id="751" name=""/>
            <p:cNvSpPr/>
            <p:nvPr/>
          </p:nvSpPr>
          <p:spPr>
            <a:xfrm>
              <a:off x="4688640" y="43434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26720" y="43434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6360" y="51055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26440" y="51055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733920" y="3581280"/>
            <a:ext cx="2108880" cy="2822040"/>
            <a:chOff x="3733920" y="3581280"/>
            <a:chExt cx="2108880" cy="2822040"/>
          </a:xfrm>
        </p:grpSpPr>
        <p:sp>
          <p:nvSpPr>
            <p:cNvPr id="756" name=""/>
            <p:cNvSpPr/>
            <p:nvPr/>
          </p:nvSpPr>
          <p:spPr>
            <a:xfrm>
              <a:off x="4764600" y="3581280"/>
              <a:ext cx="107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       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24360" y="4267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33920" y="49291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69160" y="59436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893880" y="61722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amida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eterozigo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61600" y="6232680"/>
            <a:ext cx="562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% amidaceo 25% cer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omozigoti SS - 50% eterozigoti-25% omozigoti 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4572000"/>
            <a:ext cx="762120" cy="304920"/>
          </a:xfrm>
          <a:custGeom>
            <a:avLst/>
            <a:gdLst>
              <a:gd name="textAreaLeft" fmla="*/ 118800 w 762120"/>
              <a:gd name="textAreaRight" fmla="*/ 667080 w 7621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604"/>
              </a:gs>
              <a:gs pos="100000">
                <a:srgbClr val="ff0e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76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Linea p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2120" y="990720"/>
            <a:ext cx="6858000" cy="2068560"/>
            <a:chOff x="762120" y="990720"/>
            <a:chExt cx="6858000" cy="206856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62120" y="990720"/>
              <a:ext cx="243828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5486400" y="990720"/>
              <a:ext cx="2133720" cy="206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838080" y="4789440"/>
            <a:ext cx="6934320" cy="2068560"/>
            <a:chOff x="838080" y="4789440"/>
            <a:chExt cx="6934320" cy="206856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838080" y="4886280"/>
              <a:ext cx="2438640" cy="19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638680" y="4789440"/>
              <a:ext cx="2133720" cy="206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1905120" y="3505320"/>
            <a:ext cx="5060880" cy="1218960"/>
            <a:chOff x="1905120" y="3505320"/>
            <a:chExt cx="5060880" cy="1218960"/>
          </a:xfrm>
        </p:grpSpPr>
        <p:sp>
          <p:nvSpPr>
            <p:cNvPr id="100" name=""/>
            <p:cNvSpPr/>
            <p:nvPr/>
          </p:nvSpPr>
          <p:spPr>
            <a:xfrm rot="5400000">
              <a:off x="1486080" y="3924360"/>
              <a:ext cx="1218960" cy="380880"/>
            </a:xfrm>
            <a:custGeom>
              <a:avLst/>
              <a:gdLst>
                <a:gd name="textAreaLeft" fmla="*/ 190440 w 1218960"/>
                <a:gd name="textAreaRight" fmla="*/ 1047960 w 1218960"/>
                <a:gd name="textAreaTop" fmla="*/ 81000 h 380880"/>
                <a:gd name="textAreaBottom" fmla="*/ 2998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603"/>
                  </a:moveTo>
                  <a:lnTo>
                    <a:pt x="16312" y="4603"/>
                  </a:lnTo>
                  <a:lnTo>
                    <a:pt x="16312" y="0"/>
                  </a:lnTo>
                  <a:lnTo>
                    <a:pt x="21600" y="10800"/>
                  </a:lnTo>
                  <a:lnTo>
                    <a:pt x="16312" y="21600"/>
                  </a:lnTo>
                  <a:lnTo>
                    <a:pt x="16312" y="16997"/>
                  </a:lnTo>
                  <a:lnTo>
                    <a:pt x="3375" y="16997"/>
                  </a:lnTo>
                  <a:close/>
                </a:path>
                <a:path w="21600" h="21600">
                  <a:moveTo>
                    <a:pt x="0" y="4603"/>
                  </a:moveTo>
                  <a:lnTo>
                    <a:pt x="675" y="4603"/>
                  </a:lnTo>
                  <a:lnTo>
                    <a:pt x="675" y="16997"/>
                  </a:lnTo>
                  <a:lnTo>
                    <a:pt x="0" y="16997"/>
                  </a:lnTo>
                  <a:close/>
                </a:path>
                <a:path w="21600" h="21600">
                  <a:moveTo>
                    <a:pt x="1350" y="4603"/>
                  </a:moveTo>
                  <a:lnTo>
                    <a:pt x="2700" y="4603"/>
                  </a:lnTo>
                  <a:lnTo>
                    <a:pt x="2700" y="16997"/>
                  </a:lnTo>
                  <a:lnTo>
                    <a:pt x="1350" y="16997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6166080" y="3924360"/>
              <a:ext cx="1218960" cy="380880"/>
            </a:xfrm>
            <a:custGeom>
              <a:avLst/>
              <a:gdLst>
                <a:gd name="textAreaLeft" fmla="*/ 190440 w 1218960"/>
                <a:gd name="textAreaRight" fmla="*/ 1047960 w 1218960"/>
                <a:gd name="textAreaTop" fmla="*/ 81000 h 380880"/>
                <a:gd name="textAreaBottom" fmla="*/ 29988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603"/>
                  </a:moveTo>
                  <a:lnTo>
                    <a:pt x="16312" y="4603"/>
                  </a:lnTo>
                  <a:lnTo>
                    <a:pt x="16312" y="0"/>
                  </a:lnTo>
                  <a:lnTo>
                    <a:pt x="21600" y="10800"/>
                  </a:lnTo>
                  <a:lnTo>
                    <a:pt x="16312" y="21600"/>
                  </a:lnTo>
                  <a:lnTo>
                    <a:pt x="16312" y="16997"/>
                  </a:lnTo>
                  <a:lnTo>
                    <a:pt x="3375" y="16997"/>
                  </a:lnTo>
                  <a:close/>
                </a:path>
                <a:path w="21600" h="21600">
                  <a:moveTo>
                    <a:pt x="0" y="4603"/>
                  </a:moveTo>
                  <a:lnTo>
                    <a:pt x="675" y="4603"/>
                  </a:lnTo>
                  <a:lnTo>
                    <a:pt x="675" y="16997"/>
                  </a:lnTo>
                  <a:lnTo>
                    <a:pt x="0" y="16997"/>
                  </a:lnTo>
                  <a:close/>
                </a:path>
                <a:path w="21600" h="21600">
                  <a:moveTo>
                    <a:pt x="1350" y="4603"/>
                  </a:moveTo>
                  <a:lnTo>
                    <a:pt x="2700" y="4603"/>
                  </a:lnTo>
                  <a:lnTo>
                    <a:pt x="2700" y="16997"/>
                  </a:lnTo>
                  <a:lnTo>
                    <a:pt x="1350" y="16997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15480" y="3048120"/>
            <a:ext cx="7465320" cy="368280"/>
            <a:chOff x="915480" y="3048120"/>
            <a:chExt cx="7465320" cy="368280"/>
          </a:xfrm>
        </p:grpSpPr>
        <p:sp>
          <p:nvSpPr>
            <p:cNvPr id="103" name=""/>
            <p:cNvSpPr/>
            <p:nvPr/>
          </p:nvSpPr>
          <p:spPr>
            <a:xfrm>
              <a:off x="915480" y="3048120"/>
              <a:ext cx="286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AUTOIMPOLLIN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19520" y="3048120"/>
              <a:ext cx="286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AUTOIMPOLLIN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06" name="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380880" y="1447920"/>
            <a:ext cx="2400480" cy="2158920"/>
            <a:chOff x="380880" y="1447920"/>
            <a:chExt cx="2400480" cy="2158920"/>
          </a:xfrm>
        </p:grpSpPr>
        <p:sp>
          <p:nvSpPr>
            <p:cNvPr id="770" name=""/>
            <p:cNvSpPr/>
            <p:nvPr/>
          </p:nvSpPr>
          <p:spPr>
            <a:xfrm>
              <a:off x="1066680" y="3594240"/>
              <a:ext cx="1676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380880" y="1447920"/>
              <a:ext cx="2400480" cy="2158920"/>
              <a:chOff x="380880" y="1447920"/>
              <a:chExt cx="2400480" cy="2158920"/>
            </a:xfrm>
          </p:grpSpPr>
          <p:sp>
            <p:nvSpPr>
              <p:cNvPr id="772" name=""/>
              <p:cNvSpPr/>
              <p:nvPr/>
            </p:nvSpPr>
            <p:spPr>
              <a:xfrm>
                <a:off x="1943280" y="279396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04840" y="279396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943280" y="198108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04840" y="198108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028880" y="1981080"/>
                <a:ext cx="1676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104840" y="279396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66680" y="19810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905120" y="1981080"/>
                <a:ext cx="0" cy="162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743200" y="19810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411920" y="144792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       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71680" y="213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80880" y="27957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4" name=""/>
          <p:cNvSpPr/>
          <p:nvPr/>
        </p:nvSpPr>
        <p:spPr>
          <a:xfrm>
            <a:off x="1219320" y="609480"/>
            <a:ext cx="792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mera i quadrati della F2 e descrivi i fenotipi ed i genoti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termina l’atteso della progenie F3 derivante dall’autofecondazione della F2 contenuta in ciascun quadr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02360" y="3733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144440" y="2286000"/>
            <a:ext cx="1209600" cy="1206360"/>
            <a:chOff x="1144440" y="2286000"/>
            <a:chExt cx="1209600" cy="1206360"/>
          </a:xfrm>
        </p:grpSpPr>
        <p:sp>
          <p:nvSpPr>
            <p:cNvPr id="787" name=""/>
            <p:cNvSpPr/>
            <p:nvPr/>
          </p:nvSpPr>
          <p:spPr>
            <a:xfrm>
              <a:off x="1296720" y="2316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58840" y="2286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144440" y="3124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982520" y="3124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200400" y="1447920"/>
            <a:ext cx="2400480" cy="2158920"/>
            <a:chOff x="3200400" y="1447920"/>
            <a:chExt cx="2400480" cy="2158920"/>
          </a:xfrm>
        </p:grpSpPr>
        <p:sp>
          <p:nvSpPr>
            <p:cNvPr id="792" name=""/>
            <p:cNvSpPr/>
            <p:nvPr/>
          </p:nvSpPr>
          <p:spPr>
            <a:xfrm>
              <a:off x="3886200" y="3594240"/>
              <a:ext cx="1676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3200400" y="1447920"/>
              <a:ext cx="2400480" cy="2158920"/>
              <a:chOff x="3200400" y="1447920"/>
              <a:chExt cx="2400480" cy="2158920"/>
            </a:xfrm>
          </p:grpSpPr>
          <p:sp>
            <p:nvSpPr>
              <p:cNvPr id="794" name=""/>
              <p:cNvSpPr/>
              <p:nvPr/>
            </p:nvSpPr>
            <p:spPr>
              <a:xfrm>
                <a:off x="4762800" y="279396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924360" y="279396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762800" y="198108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924360" y="198108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48400" y="1981080"/>
                <a:ext cx="1676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924360" y="279396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86200" y="19810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24640" y="1981080"/>
                <a:ext cx="0" cy="162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562720" y="19810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231440" y="144792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       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391200" y="2133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200400" y="27957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4421520" y="3733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 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2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4191120"/>
            <a:ext cx="2400480" cy="2158920"/>
            <a:chOff x="685800" y="4191120"/>
            <a:chExt cx="2400480" cy="2158920"/>
          </a:xfrm>
        </p:grpSpPr>
        <p:sp>
          <p:nvSpPr>
            <p:cNvPr id="808" name=""/>
            <p:cNvSpPr/>
            <p:nvPr/>
          </p:nvSpPr>
          <p:spPr>
            <a:xfrm>
              <a:off x="1371600" y="6337440"/>
              <a:ext cx="1676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685800" y="4191120"/>
              <a:ext cx="2400480" cy="2158920"/>
              <a:chOff x="685800" y="4191120"/>
              <a:chExt cx="2400480" cy="2158920"/>
            </a:xfrm>
          </p:grpSpPr>
          <p:sp>
            <p:nvSpPr>
              <p:cNvPr id="810" name=""/>
              <p:cNvSpPr/>
              <p:nvPr/>
            </p:nvSpPr>
            <p:spPr>
              <a:xfrm>
                <a:off x="2248200" y="553716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09760" y="553716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248200" y="472428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09760" y="4724280"/>
                <a:ext cx="83844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1000"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S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333800" y="4724280"/>
                <a:ext cx="167616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409760" y="5537160"/>
                <a:ext cx="1676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371600" y="47242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210040" y="4724280"/>
                <a:ext cx="0" cy="162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048120" y="47242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716840" y="4191120"/>
                <a:ext cx="112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       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76600" y="4876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85800" y="55389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2" name=""/>
          <p:cNvSpPr/>
          <p:nvPr/>
        </p:nvSpPr>
        <p:spPr>
          <a:xfrm>
            <a:off x="1602000" y="6400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 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276720" y="4191120"/>
            <a:ext cx="2399760" cy="2158920"/>
            <a:chOff x="3276720" y="4191120"/>
            <a:chExt cx="2399760" cy="2158920"/>
          </a:xfrm>
        </p:grpSpPr>
        <p:sp>
          <p:nvSpPr>
            <p:cNvPr id="824" name=""/>
            <p:cNvSpPr/>
            <p:nvPr/>
          </p:nvSpPr>
          <p:spPr>
            <a:xfrm>
              <a:off x="3962160" y="6337440"/>
              <a:ext cx="1676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3276720" y="4191120"/>
              <a:ext cx="2399760" cy="2158920"/>
              <a:chOff x="3276720" y="4191120"/>
              <a:chExt cx="2399760" cy="2158920"/>
            </a:xfrm>
          </p:grpSpPr>
          <p:sp>
            <p:nvSpPr>
              <p:cNvPr id="826" name=""/>
              <p:cNvSpPr/>
              <p:nvPr/>
            </p:nvSpPr>
            <p:spPr>
              <a:xfrm>
                <a:off x="4838760" y="5537160"/>
                <a:ext cx="8377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000320" y="553716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38760" y="4724280"/>
                <a:ext cx="8377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000320" y="4724280"/>
                <a:ext cx="8380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s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924360" y="4724280"/>
                <a:ext cx="167580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00320" y="5537160"/>
                <a:ext cx="1676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962160" y="47242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800600" y="4724280"/>
                <a:ext cx="0" cy="162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638680" y="4724280"/>
                <a:ext cx="0" cy="16257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306680" y="4191120"/>
                <a:ext cx="95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       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67160" y="48769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276720" y="55389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4448520" y="64008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 </a:t>
            </a:r>
            <a:r>
              <a:rPr b="0" lang="en-US" sz="2400" spc="-1" strike="noStrike">
                <a:solidFill>
                  <a:srgbClr val="ff0a12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5718600" y="3581280"/>
            <a:ext cx="3242520" cy="2029320"/>
            <a:chOff x="5718600" y="3581280"/>
            <a:chExt cx="3242520" cy="2029320"/>
          </a:xfrm>
        </p:grpSpPr>
        <p:sp>
          <p:nvSpPr>
            <p:cNvPr id="840" name=""/>
            <p:cNvSpPr/>
            <p:nvPr/>
          </p:nvSpPr>
          <p:spPr>
            <a:xfrm>
              <a:off x="7239960" y="3581280"/>
              <a:ext cx="55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0e0a"/>
                </a:buClr>
                <a:buFont typeface="Wingdings" charset="2"/>
                <a:buChar char="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e0a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18600" y="4419360"/>
              <a:ext cx="324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/3 LA PROBABILITA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E UN AMIDACE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A ETEROZIG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6090120" y="2590920"/>
            <a:ext cx="23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4 SS -1/2Ss - 1/4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1920" y="20574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amidaceo : 1cero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1560" y="6248520"/>
            <a:ext cx="181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amida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i 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38040" y="6083280"/>
            <a:ext cx="15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cer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tti 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8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Modalità degli incroci fatti da Men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52280"/>
            <a:ext cx="8610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5760" y="1349280"/>
            <a:ext cx="6385320" cy="2079360"/>
            <a:chOff x="275760" y="1349280"/>
            <a:chExt cx="6385320" cy="2079360"/>
          </a:xfrm>
        </p:grpSpPr>
        <p:grpSp>
          <p:nvGrpSpPr>
            <p:cNvPr id="115" name=""/>
            <p:cNvGrpSpPr/>
            <p:nvPr/>
          </p:nvGrpSpPr>
          <p:grpSpPr>
            <a:xfrm>
              <a:off x="1295280" y="1349280"/>
              <a:ext cx="5365800" cy="2079360"/>
              <a:chOff x="1295280" y="1349280"/>
              <a:chExt cx="5365800" cy="20793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501560"/>
                <a:ext cx="2089080" cy="19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95280" y="1349280"/>
                <a:ext cx="2087640" cy="1927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275760" y="210960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a12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7699800">
            <a:off x="6046920" y="1754640"/>
            <a:ext cx="12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a1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a12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914400"/>
            <a:ext cx="3886200" cy="914400"/>
          </a:xfrm>
          <a:custGeom>
            <a:avLst/>
            <a:gdLst>
              <a:gd name="textAreaLeft" fmla="*/ 720360 w 3886200"/>
              <a:gd name="textAreaRight" fmla="*/ 2663640 w 388620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800" y="0"/>
                </a:lnTo>
                <a:arcTo wR="8010" hR="21600" stAng="-5400000" swAng="2781990"/>
                <a:lnTo>
                  <a:pt x="21142" y="14400"/>
                </a:lnTo>
                <a:lnTo>
                  <a:pt x="17415" y="21600"/>
                </a:lnTo>
                <a:lnTo>
                  <a:pt x="12772" y="14400"/>
                </a:lnTo>
                <a:lnTo>
                  <a:pt x="15562" y="14400"/>
                </a:lnTo>
                <a:arcTo wR="8010" hR="21600" stAng="-2618010" swAng="-2556846"/>
                <a:lnTo>
                  <a:pt x="9405" y="330"/>
                </a:lnTo>
                <a:arcTo wR="8010" hR="21600" stAng="-5625144" swAng="-5174856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25144"/>
                <a:lnTo>
                  <a:pt x="9405" y="330"/>
                </a:lnTo>
                <a:arcTo wR="8010" hR="21600" stAng="-5625144" swAng="-5174856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97800" y="2057400"/>
            <a:ext cx="8746200" cy="2514600"/>
            <a:chOff x="397800" y="2057400"/>
            <a:chExt cx="8746200" cy="2514600"/>
          </a:xfrm>
        </p:grpSpPr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143840" y="2057400"/>
              <a:ext cx="20001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97800" y="3825720"/>
              <a:ext cx="52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a12"/>
                  </a:solidFill>
                  <a:latin typeface="Comic Sans MS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50960" y="4724280"/>
            <a:ext cx="7807320" cy="1142640"/>
            <a:chOff x="750960" y="4724280"/>
            <a:chExt cx="7807320" cy="1142640"/>
          </a:xfrm>
        </p:grpSpPr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50960" y="4797360"/>
              <a:ext cx="1177920" cy="9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6"/>
            <a:stretch/>
          </p:blipFill>
          <p:spPr>
            <a:xfrm>
              <a:off x="5246640" y="4768200"/>
              <a:ext cx="117792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7380360" y="4782600"/>
              <a:ext cx="117792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8"/>
            <a:stretch/>
          </p:blipFill>
          <p:spPr>
            <a:xfrm>
              <a:off x="2960640" y="4797360"/>
              <a:ext cx="117792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9"/>
            <a:stretch/>
          </p:blipFill>
          <p:spPr>
            <a:xfrm>
              <a:off x="4179960" y="4724280"/>
              <a:ext cx="11779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0"/>
            <a:stretch/>
          </p:blipFill>
          <p:spPr>
            <a:xfrm>
              <a:off x="6313320" y="4768200"/>
              <a:ext cx="1177920" cy="105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1"/>
            <a:stretch/>
          </p:blipFill>
          <p:spPr>
            <a:xfrm>
              <a:off x="1905120" y="4797360"/>
              <a:ext cx="1177920" cy="105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"/>
          <p:cNvGrpSpPr/>
          <p:nvPr/>
        </p:nvGrpSpPr>
        <p:grpSpPr>
          <a:xfrm>
            <a:off x="2067480" y="901080"/>
            <a:ext cx="1406880" cy="1616400"/>
            <a:chOff x="2067480" y="901080"/>
            <a:chExt cx="1406880" cy="1616400"/>
          </a:xfrm>
        </p:grpSpPr>
        <p:sp>
          <p:nvSpPr>
            <p:cNvPr id="133" name=""/>
            <p:cNvSpPr/>
            <p:nvPr/>
          </p:nvSpPr>
          <p:spPr>
            <a:xfrm rot="7467600">
              <a:off x="2262240" y="1308600"/>
              <a:ext cx="1017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0a12"/>
                </a:buClr>
                <a:buFont typeface="Monotype Sorts" charset="2"/>
                <a:buChar char="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a12"/>
                  </a:solidFill>
                  <a:latin typeface="Comic Sans MS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960200">
              <a:off x="2933280" y="914400"/>
              <a:ext cx="228600" cy="6094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609480"/>
                <a:gd name="textAreaBottom" fmla="*/ 598320 h 609480"/>
              </a:gdLst>
              <a:ahLst/>
              <a:rect l="textAreaLeft" t="textAreaTop" r="textAreaRight" b="textAreaBottom"/>
              <a:pathLst>
                <a:path w="21600" h="57532">
                  <a:moveTo>
                    <a:pt x="3600" y="0"/>
                  </a:moveTo>
                  <a:arcTo wR="3600" hR="3600" stAng="16200000" swAng="-5400000"/>
                  <a:lnTo>
                    <a:pt x="0" y="53932"/>
                  </a:lnTo>
                  <a:arcTo wR="3600" hR="3600" stAng="10800000" swAng="-5400000"/>
                  <a:lnTo>
                    <a:pt x="18000" y="575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a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276720" y="2743200"/>
            <a:ext cx="4114440" cy="1503360"/>
            <a:chOff x="3276720" y="2743200"/>
            <a:chExt cx="4114440" cy="1503360"/>
          </a:xfrm>
        </p:grpSpPr>
        <p:pic>
          <p:nvPicPr>
            <p:cNvPr id="136" name="" descr=""/>
            <p:cNvPicPr/>
            <p:nvPr/>
          </p:nvPicPr>
          <p:blipFill>
            <a:blip r:embed="rId12"/>
            <a:stretch/>
          </p:blipFill>
          <p:spPr>
            <a:xfrm>
              <a:off x="3276720" y="3429000"/>
              <a:ext cx="2579400" cy="81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5638320" y="2743200"/>
              <a:ext cx="1752840" cy="1295280"/>
              <a:chOff x="5638320" y="2743200"/>
              <a:chExt cx="1752840" cy="129528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714640" y="2743200"/>
                <a:ext cx="1676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638320" y="2743200"/>
                <a:ext cx="175284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04920" y="3657600"/>
            <a:ext cx="7924680" cy="2514600"/>
            <a:chOff x="304920" y="3657600"/>
            <a:chExt cx="7924680" cy="2514600"/>
          </a:xfrm>
        </p:grpSpPr>
        <p:pic>
          <p:nvPicPr>
            <p:cNvPr id="141" name="" descr=""/>
            <p:cNvPicPr/>
            <p:nvPr/>
          </p:nvPicPr>
          <p:blipFill>
            <a:blip r:embed="rId13"/>
            <a:stretch/>
          </p:blipFill>
          <p:spPr>
            <a:xfrm>
              <a:off x="113040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4"/>
            <a:stretch/>
          </p:blipFill>
          <p:spPr>
            <a:xfrm>
              <a:off x="222264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5"/>
            <a:stretch/>
          </p:blipFill>
          <p:spPr>
            <a:xfrm>
              <a:off x="331488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6"/>
            <a:stretch/>
          </p:blipFill>
          <p:spPr>
            <a:xfrm>
              <a:off x="457200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7"/>
            <a:stretch/>
          </p:blipFill>
          <p:spPr>
            <a:xfrm>
              <a:off x="561348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18"/>
            <a:stretch/>
          </p:blipFill>
          <p:spPr>
            <a:xfrm>
              <a:off x="665496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19"/>
            <a:stretch/>
          </p:blipFill>
          <p:spPr>
            <a:xfrm>
              <a:off x="7721640" y="5791320"/>
              <a:ext cx="29196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04920" y="5715000"/>
              <a:ext cx="7924680" cy="228600"/>
            </a:xfrm>
            <a:prstGeom prst="cube">
              <a:avLst>
                <a:gd name="adj" fmla="val 25000"/>
              </a:avLst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752120" y="3657600"/>
              <a:ext cx="20574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895120" y="3733920"/>
              <a:ext cx="1219320" cy="70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828600" y="3809880"/>
              <a:ext cx="6001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86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9200" y="3809880"/>
              <a:ext cx="5335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23040" y="3733920"/>
              <a:ext cx="97776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38680" y="3657600"/>
              <a:ext cx="20574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665800" y="641196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a12"/>
                </a:solidFill>
                <a:latin typeface="Comic Sans MS"/>
              </a:rPr>
              <a:t>TUTTI PURPU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58" name="" descr=""/>
            <p:cNvPicPr/>
            <p:nvPr/>
          </p:nvPicPr>
          <p:blipFill>
            <a:blip r:embed="rId2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26ff"/>
                </a:solidFill>
                <a:latin typeface="Comic Sans MS"/>
              </a:rPr>
              <a:t>semi rotondi  x  semi grinz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66880" y="3207240"/>
            <a:ext cx="1677600" cy="836280"/>
            <a:chOff x="2666880" y="3207240"/>
            <a:chExt cx="1677600" cy="836280"/>
          </a:xfrm>
        </p:grpSpPr>
        <p:sp>
          <p:nvSpPr>
            <p:cNvPr id="166" name=""/>
            <p:cNvSpPr/>
            <p:nvPr/>
          </p:nvSpPr>
          <p:spPr>
            <a:xfrm rot="12922800">
              <a:off x="3730680" y="32763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2666880" y="3657600"/>
              <a:ext cx="1295640" cy="38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533520" y="3962520"/>
            <a:ext cx="2322360" cy="2182680"/>
            <a:chOff x="533520" y="3962520"/>
            <a:chExt cx="2322360" cy="218268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533520" y="396252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820800" y="5829480"/>
              <a:ext cx="3906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12880" y="5587920"/>
              <a:ext cx="457200" cy="3049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1676520" y="396252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"/>
            <a:stretch/>
          </p:blipFill>
          <p:spPr>
            <a:xfrm>
              <a:off x="2055960" y="582948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952640" y="558792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22880" y="4114800"/>
            <a:ext cx="1222200" cy="2220840"/>
            <a:chOff x="5222880" y="4114800"/>
            <a:chExt cx="1222200" cy="2220840"/>
          </a:xfrm>
        </p:grpSpPr>
        <p:pic>
          <p:nvPicPr>
            <p:cNvPr id="176" name="" descr=""/>
            <p:cNvPicPr/>
            <p:nvPr/>
          </p:nvPicPr>
          <p:blipFill>
            <a:blip r:embed="rId8"/>
            <a:stretch/>
          </p:blipFill>
          <p:spPr>
            <a:xfrm>
              <a:off x="5222880" y="4114800"/>
              <a:ext cx="122220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9"/>
            <a:stretch/>
          </p:blipFill>
          <p:spPr>
            <a:xfrm>
              <a:off x="5519880" y="601992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5454720" y="5727600"/>
              <a:ext cx="5522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6000" y="624852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a12"/>
                </a:solidFill>
                <a:latin typeface="Comic Sans MS"/>
              </a:rPr>
              <a:t>AUTOIMPOLLIN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962520" y="4862520"/>
            <a:ext cx="3581280" cy="1362240"/>
            <a:chOff x="3962520" y="4862520"/>
            <a:chExt cx="3581280" cy="1362240"/>
          </a:xfrm>
        </p:grpSpPr>
        <p:sp>
          <p:nvSpPr>
            <p:cNvPr id="181" name=""/>
            <p:cNvSpPr/>
            <p:nvPr/>
          </p:nvSpPr>
          <p:spPr>
            <a:xfrm rot="12922800">
              <a:off x="4876920" y="53337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7784400">
              <a:off x="6133680" y="4914360"/>
              <a:ext cx="457200" cy="6858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50840 h 685800"/>
                <a:gd name="textAreaBottom" fmla="*/ 5349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1"/>
            <a:stretch/>
          </p:blipFill>
          <p:spPr>
            <a:xfrm>
              <a:off x="3962520" y="5715000"/>
              <a:ext cx="1143000" cy="5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2"/>
            <a:stretch/>
          </p:blipFill>
          <p:spPr>
            <a:xfrm>
              <a:off x="6400800" y="5334120"/>
              <a:ext cx="11430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63840" y="5410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94280" y="50292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905200" y="1828800"/>
            <a:ext cx="2276280" cy="2246400"/>
            <a:chOff x="2905200" y="1828800"/>
            <a:chExt cx="2276280" cy="2246400"/>
          </a:xfrm>
        </p:grpSpPr>
        <p:pic>
          <p:nvPicPr>
            <p:cNvPr id="188" name="" descr=""/>
            <p:cNvPicPr/>
            <p:nvPr/>
          </p:nvPicPr>
          <p:blipFill>
            <a:blip r:embed="rId13"/>
            <a:stretch/>
          </p:blipFill>
          <p:spPr>
            <a:xfrm>
              <a:off x="3959280" y="1828800"/>
              <a:ext cx="1222200" cy="176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4"/>
            <a:stretch/>
          </p:blipFill>
          <p:spPr>
            <a:xfrm>
              <a:off x="4238640" y="3759120"/>
              <a:ext cx="3906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187880" y="3467160"/>
              <a:ext cx="55224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327672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F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584240" y="1066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a12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53480" y="795240"/>
            <a:ext cx="1915200" cy="2797200"/>
            <a:chOff x="753480" y="795240"/>
            <a:chExt cx="1915200" cy="2797200"/>
          </a:xfrm>
        </p:grpSpPr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992520" y="795240"/>
              <a:ext cx="167616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1144800" y="1295280"/>
              <a:ext cx="117936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tretch/>
          </p:blipFill>
          <p:spPr>
            <a:xfrm>
              <a:off x="1449720" y="3276720"/>
              <a:ext cx="39024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373400" y="297180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3480" y="9144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314400" y="914400"/>
            <a:ext cx="2067480" cy="2805120"/>
            <a:chOff x="6314400" y="914400"/>
            <a:chExt cx="2067480" cy="2805120"/>
          </a:xfrm>
        </p:grpSpPr>
        <p:pic>
          <p:nvPicPr>
            <p:cNvPr id="200" name="" descr=""/>
            <p:cNvPicPr/>
            <p:nvPr/>
          </p:nvPicPr>
          <p:blipFill>
            <a:blip r:embed="rId20"/>
            <a:stretch/>
          </p:blipFill>
          <p:spPr>
            <a:xfrm>
              <a:off x="6705720" y="914400"/>
              <a:ext cx="167616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1"/>
            <a:stretch/>
          </p:blipFill>
          <p:spPr>
            <a:xfrm>
              <a:off x="6691320" y="1409760"/>
              <a:ext cx="117936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2"/>
            <a:stretch/>
          </p:blipFill>
          <p:spPr>
            <a:xfrm>
              <a:off x="7056360" y="3403440"/>
              <a:ext cx="3906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991200" y="3086280"/>
              <a:ext cx="552600" cy="368280"/>
            </a:xfrm>
            <a:prstGeom prst="cube">
              <a:avLst>
                <a:gd name="adj" fmla="val 25000"/>
              </a:avLst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14400" y="990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a12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3124080" y="47242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07" name="" descr=""/>
            <p:cNvPicPr/>
            <p:nvPr/>
          </p:nvPicPr>
          <p:blipFill>
            <a:blip r:embed="rId24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710"/>
                </a:solidFill>
                <a:latin typeface="Comic Sans MS"/>
              </a:rPr>
              <a:t>Distribuzione dei caratteri in un incrocio tra F1 (Mendel, 18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143000"/>
            <a:ext cx="86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sperimento 1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esperimen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f2f"/>
                </a:solidFill>
                <a:latin typeface="Comic Sans MS"/>
              </a:rPr>
              <a:t>forma del seme</a:t>
            </a:r>
            <a:r>
              <a:rPr b="1" lang="it-IT" sz="2000" spc="-1" strike="noStrike">
                <a:solidFill>
                  <a:srgbClr val="ff0f2f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5ff15"/>
                </a:solidFill>
                <a:latin typeface="Comic Sans MS"/>
              </a:rPr>
              <a:t>colore del s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iant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it-IT" sz="2000" spc="-1" strike="noStrike">
                <a:solidFill>
                  <a:srgbClr val="ff0f2f"/>
                </a:solidFill>
                <a:latin typeface="Comic Sans MS"/>
              </a:rPr>
              <a:t>liscio           rugos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it-IT" sz="2000" spc="-1" strike="noStrike">
                <a:solidFill>
                  <a:srgbClr val="05ff15"/>
                </a:solidFill>
                <a:latin typeface="Comic Sans MS"/>
              </a:rPr>
              <a:t>giallo </a:t>
            </a:r>
            <a:r>
              <a:rPr b="1" lang="it-IT" sz="2000" spc="-1" strike="noStrike">
                <a:solidFill>
                  <a:srgbClr val="05ff15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5ff15"/>
                </a:solidFill>
                <a:latin typeface="Comic Sans MS"/>
              </a:rPr>
              <a:t>     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7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8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7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9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70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6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6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88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2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8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6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7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4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totale        336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 107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 356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 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it-IT" sz="2000" spc="-1" strike="noStrike">
                <a:solidFill>
                  <a:srgbClr val="ff0f2f"/>
                </a:solidFill>
                <a:latin typeface="Comic Sans MS"/>
              </a:rPr>
              <a:t>3,14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5ff15"/>
                </a:solidFill>
                <a:latin typeface="Comic Sans MS"/>
              </a:rPr>
              <a:t>2,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5f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5791320"/>
            <a:ext cx="655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1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Generazione F2 di un incrocio monoib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680" y="3854520"/>
            <a:ext cx="8016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1965240"/>
            <a:ext cx="86104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attere               Fenotipi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# individu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rapporto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 1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 2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F 2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fenotipi 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2422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2955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889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032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forma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Liscio</a:t>
            </a:r>
            <a:r>
              <a:rPr b="0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Lisci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5474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2,96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del seme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rugos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18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6920" y="3848040"/>
            <a:ext cx="794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726ff"/>
                </a:solidFill>
                <a:latin typeface="Times New Roman"/>
              </a:rPr>
              <a:t>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colore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Giall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Giall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6022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3,0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del seme 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 verde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6920" y="4724280"/>
            <a:ext cx="801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Baccell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Rigonfio          Rigonfio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  882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2,95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concamerato            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680" y="5546880"/>
            <a:ext cx="82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Fior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Assia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Assia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651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3,14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termina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 2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Generazione F2 di un incrocio monoib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1965240"/>
            <a:ext cx="86104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rattere               Fenotipi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# individu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rapporto 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1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2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F2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fenotipi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2422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29559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18892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3960" y="3382920"/>
            <a:ext cx="81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Baccel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pien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pien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882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2,95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irregolar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2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3960" y="4449600"/>
            <a:ext cx="81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Baccel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verd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verd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428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2,81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gialli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1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3960" y="5668920"/>
            <a:ext cx="81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Stel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lung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lung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787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2,84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    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corto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	</a:t>
            </a:r>
            <a:r>
              <a:rPr b="1" lang="it-IT" sz="2000" spc="-1" strike="noStrike">
                <a:solidFill>
                  <a:srgbClr val="1726ff"/>
                </a:solidFill>
                <a:latin typeface="Times New Roman"/>
              </a:rPr>
              <a:t>       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495000"/>
            <a:ext cx="7696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Riassunto incrocio monoibr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1314360" cy="1212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98000" y="15238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2"/>
                </a:solidFill>
                <a:latin typeface="Comic Sans MS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 rot="21577800">
            <a:off x="5333760" y="1219320"/>
            <a:ext cx="1295280" cy="1197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029200" y="2673360"/>
            <a:ext cx="725400" cy="743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4224240" y="2673360"/>
            <a:ext cx="725760" cy="743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3343320" y="2679840"/>
            <a:ext cx="725400" cy="7426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5834160" y="2685960"/>
            <a:ext cx="725400" cy="7430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7"/>
          <a:stretch/>
        </p:blipFill>
        <p:spPr>
          <a:xfrm>
            <a:off x="4038480" y="4508640"/>
            <a:ext cx="725760" cy="7426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8"/>
          <a:stretch/>
        </p:blipFill>
        <p:spPr>
          <a:xfrm>
            <a:off x="3346560" y="4508640"/>
            <a:ext cx="725400" cy="742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9"/>
          <a:stretch/>
        </p:blipFill>
        <p:spPr>
          <a:xfrm>
            <a:off x="2627280" y="4514760"/>
            <a:ext cx="725400" cy="7430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1371600" y="4495680"/>
            <a:ext cx="725400" cy="7430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4800600" y="4508640"/>
            <a:ext cx="725400" cy="7426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2"/>
          <a:stretch/>
        </p:blipFill>
        <p:spPr>
          <a:xfrm>
            <a:off x="5943600" y="4508640"/>
            <a:ext cx="725400" cy="7426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16200000">
            <a:off x="4610160" y="2704680"/>
            <a:ext cx="152280" cy="1752840"/>
          </a:xfrm>
          <a:custGeom>
            <a:avLst/>
            <a:gdLst>
              <a:gd name="textAreaLeft" fmla="*/ 44640 w 152280"/>
              <a:gd name="textAreaRight" fmla="*/ 152640 w 152280"/>
              <a:gd name="textAreaTop" fmla="*/ 72720 h 1752840"/>
              <a:gd name="textAreaBottom" fmla="*/ 1680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37339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752480" y="39625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752480" y="3962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733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 rot="5400000">
            <a:off x="4076640" y="3008880"/>
            <a:ext cx="152280" cy="2514600"/>
          </a:xfrm>
          <a:custGeom>
            <a:avLst/>
            <a:gdLst>
              <a:gd name="textAreaLeft" fmla="*/ 44640 w 152280"/>
              <a:gd name="textAreaRight" fmla="*/ 152640 w 152280"/>
              <a:gd name="textAreaTop" fmla="*/ 104760 h 2514600"/>
              <a:gd name="textAreaBottom" fmla="*/ 24098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6576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32448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5257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3619440" y="4533480"/>
            <a:ext cx="152280" cy="1752480"/>
          </a:xfrm>
          <a:custGeom>
            <a:avLst/>
            <a:gdLst>
              <a:gd name="textAreaLeft" fmla="*/ 44640 w 152280"/>
              <a:gd name="textAreaRight" fmla="*/ 152640 w 152280"/>
              <a:gd name="textAreaTop" fmla="*/ 72720 h 1752480"/>
              <a:gd name="textAreaBottom" fmla="*/ 167976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788200" y="5471640"/>
            <a:ext cx="367200" cy="48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77560" y="5481720"/>
            <a:ext cx="321840" cy="517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10680" y="1467000"/>
            <a:ext cx="38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a12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02200" y="330192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91600" y="330192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1600" y="3892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01400" y="38768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89960" y="419724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gregazione 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47280" y="54100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12360" y="54864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75120" y="419112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99160" y="58672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52520" y="41911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28480" y="58672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39480" y="586728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a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13560" y="58672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12200" y="5867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gregazione 3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98000" y="275904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2"/>
                </a:solidFill>
                <a:latin typeface="Comic Sans MS"/>
              </a:rPr>
              <a:t>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080" y="44956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a12"/>
                </a:solidFill>
                <a:latin typeface="Comic Sans MS"/>
              </a:rPr>
              <a:t>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01" name="" descr=""/>
            <p:cNvPicPr/>
            <p:nvPr/>
          </p:nvPicPr>
          <p:blipFill>
            <a:blip r:embed="rId1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06:56:47Z</dcterms:created>
  <dc:creator>Palumbo</dc:creator>
  <dc:description/>
  <dc:language>en-US</dc:language>
  <cp:lastModifiedBy>M.Rocchi</cp:lastModifiedBy>
  <dcterms:modified xsi:type="dcterms:W3CDTF">2003-01-02T06:44:32Z</dcterms:modified>
  <cp:revision>116</cp:revision>
  <dc:subject/>
  <dc:title>Procedimento sperimentale di Mendel</dc:title>
</cp:coreProperties>
</file>