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2.jpeg" ContentType="image/jpeg"/>
  <Override PartName="/ppt/media/image6.pct" ContentType="image/x-pict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35.pct" ContentType="image/x-pict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B9D-1367-4F64-9E0D-8F8A4EB1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080-47ED-4A9C-A9F1-794D2959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2D2-87F1-4C61-96F5-07A62C5C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01E-95CD-46A5-965D-FF59C73E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A7DD-A86E-4C41-8336-EDC29E8B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0F3-D9D3-434A-839B-F4D90F87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138-8A0F-4224-A19F-4B45295E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CC6-DB27-4EBD-A12C-4023584F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A42-6C7B-4A26-A77B-C1E7894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64D-7153-4063-937E-5D7F9C1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127-C50B-48BB-BC4D-C30D128D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2F5-0EFC-438D-ACED-14201E1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8D8-789C-456F-ADDA-BFCBC889A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jpe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jpe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jpe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2.jpe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2.jpe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1.png"/><Relationship Id="rId35" Type="http://schemas.openxmlformats.org/officeDocument/2006/relationships/image" Target="../media/image2.jpeg"/><Relationship Id="rId36" Type="http://schemas.openxmlformats.org/officeDocument/2006/relationships/image" Target="../media/image3.jpe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2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6.jpe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17.jpe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18.jpe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19.jpeg"/><Relationship Id="rId27" Type="http://schemas.openxmlformats.org/officeDocument/2006/relationships/image" Target="../media/image20.jpeg"/><Relationship Id="rId28" Type="http://schemas.openxmlformats.org/officeDocument/2006/relationships/image" Target="../media/image21.jpeg"/><Relationship Id="rId29" Type="http://schemas.openxmlformats.org/officeDocument/2006/relationships/image" Target="../media/image22.jpeg"/><Relationship Id="rId30" Type="http://schemas.openxmlformats.org/officeDocument/2006/relationships/image" Target="../media/image23.jpe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1.png"/><Relationship Id="rId3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5.png"/><Relationship Id="rId38" Type="http://schemas.openxmlformats.org/officeDocument/2006/relationships/image" Target="../media/image25.png"/><Relationship Id="rId39" Type="http://schemas.openxmlformats.org/officeDocument/2006/relationships/image" Target="../media/image25.png"/><Relationship Id="rId40" Type="http://schemas.openxmlformats.org/officeDocument/2006/relationships/image" Target="../media/image26.png"/><Relationship Id="rId41" Type="http://schemas.openxmlformats.org/officeDocument/2006/relationships/image" Target="../media/image25.png"/><Relationship Id="rId42" Type="http://schemas.openxmlformats.org/officeDocument/2006/relationships/image" Target="../media/image25.png"/><Relationship Id="rId43" Type="http://schemas.openxmlformats.org/officeDocument/2006/relationships/image" Target="../media/image25.png"/><Relationship Id="rId44" Type="http://schemas.openxmlformats.org/officeDocument/2006/relationships/image" Target="../media/image25.png"/><Relationship Id="rId45" Type="http://schemas.openxmlformats.org/officeDocument/2006/relationships/image" Target="../media/image25.png"/><Relationship Id="rId46" Type="http://schemas.openxmlformats.org/officeDocument/2006/relationships/image" Target="../media/image25.png"/><Relationship Id="rId47" Type="http://schemas.openxmlformats.org/officeDocument/2006/relationships/image" Target="../media/image26.png"/><Relationship Id="rId48" Type="http://schemas.openxmlformats.org/officeDocument/2006/relationships/image" Target="../media/image25.png"/><Relationship Id="rId49" Type="http://schemas.openxmlformats.org/officeDocument/2006/relationships/image" Target="../media/image25.png"/><Relationship Id="rId50" Type="http://schemas.openxmlformats.org/officeDocument/2006/relationships/image" Target="../media/image26.png"/><Relationship Id="rId51" Type="http://schemas.openxmlformats.org/officeDocument/2006/relationships/image" Target="../media/image26.png"/><Relationship Id="rId52" Type="http://schemas.openxmlformats.org/officeDocument/2006/relationships/image" Target="../media/image25.png"/><Relationship Id="rId53" Type="http://schemas.openxmlformats.org/officeDocument/2006/relationships/image" Target="../media/image25.png"/><Relationship Id="rId54" Type="http://schemas.openxmlformats.org/officeDocument/2006/relationships/image" Target="../media/image26.png"/><Relationship Id="rId55" Type="http://schemas.openxmlformats.org/officeDocument/2006/relationships/image" Target="../media/image26.png"/><Relationship Id="rId5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li eventi biologici fondamentali sono, in genere, considerati come “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natural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209680"/>
            <a:ext cx="9067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E’ “naturale” che il figlio di un uomo sia un uomo, un cane derivi da  un cane, una pianta da un’altra pi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6320" y="4191120"/>
            <a:ext cx="9067680" cy="1800360"/>
            <a:chOff x="76320" y="4191120"/>
            <a:chExt cx="9067680" cy="1800360"/>
          </a:xfrm>
        </p:grpSpPr>
        <p:sp>
          <p:nvSpPr>
            <p:cNvPr id="44" name=""/>
            <p:cNvSpPr/>
            <p:nvPr/>
          </p:nvSpPr>
          <p:spPr>
            <a:xfrm>
              <a:off x="685800" y="4191120"/>
              <a:ext cx="8458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Comic Sans MS"/>
                </a:rPr>
                <a:t>Ma uno scienziato non può considerare nulla come ovvio: ci sono leggi che regolano questi eventi e queste leggi possono essere individua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320" y="46483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000000"/>
                </a:buClr>
                <a:buFont typeface="Wingdings" charset="2"/>
                <a:buChar char="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4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0000"/>
                </a:solidFill>
                <a:latin typeface="Comic Sans MS"/>
              </a:rPr>
              <a:t>Il ciclo cellul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7680" y="2727360"/>
            <a:ext cx="80168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82880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cellule si riproducono solo quando ricevono degli stimoli dall’ambiente circostante; la progressione attraverso le 4 fasi de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ciclo cellulare</a:t>
            </a:r>
            <a:r>
              <a:rPr b="0" lang="it-IT" sz="2800" spc="-1" strike="noStrike">
                <a:solidFill>
                  <a:srgbClr val="ff0f2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602"/>
                </a:solidFill>
                <a:latin typeface="Comic Sans MS"/>
              </a:rPr>
              <a:t>G1, S, G2,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’ molto finemente regolata dall’equilibrio tra una serie complessa di segnali stimolatori o inibitor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76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3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6080" y="2151000"/>
            <a:ext cx="30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4cf07"/>
                </a:solidFill>
                <a:latin typeface="Arial"/>
              </a:rPr>
              <a:t>- </a:t>
            </a:r>
            <a:r>
              <a:rPr b="1" lang="it-IT" sz="1800" spc="-1" strike="noStrike">
                <a:solidFill>
                  <a:srgbClr val="04cf07"/>
                </a:solidFill>
                <a:latin typeface="Comic Sans MS"/>
              </a:rPr>
              <a:t>Controllo assemblagg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4cf07"/>
                </a:solidFill>
                <a:latin typeface="Comic Sans MS"/>
              </a:rPr>
              <a:t>     </a:t>
            </a:r>
            <a:r>
              <a:rPr b="1" lang="it-IT" sz="1800" spc="-1" strike="noStrike">
                <a:solidFill>
                  <a:srgbClr val="04cf07"/>
                </a:solidFill>
                <a:latin typeface="Comic Sans MS"/>
              </a:rPr>
              <a:t>del f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4cf07"/>
                </a:solidFill>
                <a:latin typeface="Comic Sans MS"/>
              </a:rPr>
              <a:t>- Controllo Anaf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41760" y="2075040"/>
            <a:ext cx="278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602"/>
                </a:solidFill>
                <a:latin typeface="Comic Sans MS"/>
              </a:rPr>
              <a:t>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602"/>
                </a:solidFill>
                <a:latin typeface="Comic Sans MS"/>
              </a:rPr>
              <a:t>p5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602"/>
                </a:solidFill>
                <a:latin typeface="Comic Sans MS"/>
              </a:rPr>
              <a:t>inibitori ciclina-chin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724040"/>
            <a:ext cx="21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602"/>
                </a:solidFill>
                <a:latin typeface="Arial"/>
              </a:rPr>
              <a:t>Controllo in G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4160" y="3886200"/>
            <a:ext cx="21970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ntrollo in G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4440" y="1724040"/>
            <a:ext cx="263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4cf07"/>
                </a:solidFill>
                <a:latin typeface="Arial"/>
              </a:rPr>
              <a:t>Controllo in Mito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602"/>
                </a:solidFill>
                <a:latin typeface="Comic Sans MS"/>
              </a:rPr>
              <a:t>MECCANISMI DI CONTROLLO DEL CICLO CELLU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286000"/>
            <a:ext cx="2895480" cy="2971800"/>
          </a:xfrm>
          <a:prstGeom prst="donut">
            <a:avLst>
              <a:gd name="adj" fmla="val 14912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2133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648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08360" y="372096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40560" y="38228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172200" y="3733560"/>
            <a:ext cx="15228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505320"/>
            <a:ext cx="38088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602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800600" y="2057040"/>
            <a:ext cx="10666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6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2122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cf07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962520"/>
            <a:ext cx="70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560" y="4273560"/>
            <a:ext cx="46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l DNA dannegg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on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plica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no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ve andare inco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a mito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rollo che le origini di replic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ngano acces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 una sola v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45520" y="30481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93040" y="44956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3480" y="4343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26720" y="2590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6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14840" y="6858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c0c"/>
                </a:solidFill>
                <a:latin typeface="Comic Sans MS"/>
              </a:rPr>
              <a:t>mit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86200" y="4724280"/>
            <a:ext cx="914400" cy="914400"/>
            <a:chOff x="3886200" y="4724280"/>
            <a:chExt cx="914400" cy="914400"/>
          </a:xfrm>
        </p:grpSpPr>
        <p:sp>
          <p:nvSpPr>
            <p:cNvPr id="171" name=""/>
            <p:cNvSpPr/>
            <p:nvPr/>
          </p:nvSpPr>
          <p:spPr>
            <a:xfrm>
              <a:off x="3886200" y="4724280"/>
              <a:ext cx="914400" cy="914400"/>
            </a:xfrm>
            <a:prstGeom prst="donut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06520" y="4919040"/>
              <a:ext cx="507600" cy="5076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94160" y="5486040"/>
              <a:ext cx="50760" cy="101520"/>
            </a:xfrm>
            <a:custGeom>
              <a:avLst/>
              <a:gdLst>
                <a:gd name="textAreaLeft" fmla="*/ 7200 w 50760"/>
                <a:gd name="textAreaRight" fmla="*/ 43560 w 50760"/>
                <a:gd name="textAreaTop" fmla="*/ 14760 h 101520"/>
                <a:gd name="textAreaBottom" fmla="*/ 8676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1" y="11741"/>
                  </a:lnTo>
                  <a:lnTo>
                    <a:pt x="198" y="12861"/>
                  </a:lnTo>
                  <a:lnTo>
                    <a:pt x="418" y="13777"/>
                  </a:lnTo>
                  <a:lnTo>
                    <a:pt x="786" y="14846"/>
                  </a:lnTo>
                  <a:lnTo>
                    <a:pt x="1264" y="15870"/>
                  </a:lnTo>
                  <a:lnTo>
                    <a:pt x="1742" y="16682"/>
                  </a:lnTo>
                  <a:lnTo>
                    <a:pt x="2407" y="17597"/>
                  </a:lnTo>
                  <a:lnTo>
                    <a:pt x="3163" y="18437"/>
                  </a:lnTo>
                  <a:lnTo>
                    <a:pt x="3858" y="19073"/>
                  </a:lnTo>
                  <a:lnTo>
                    <a:pt x="4761" y="19754"/>
                  </a:lnTo>
                  <a:lnTo>
                    <a:pt x="5564" y="20246"/>
                  </a:lnTo>
                  <a:lnTo>
                    <a:pt x="6580" y="20741"/>
                  </a:lnTo>
                  <a:lnTo>
                    <a:pt x="7642" y="21128"/>
                  </a:lnTo>
                  <a:lnTo>
                    <a:pt x="8555" y="21364"/>
                  </a:lnTo>
                  <a:lnTo>
                    <a:pt x="9671" y="21541"/>
                  </a:lnTo>
                  <a:lnTo>
                    <a:pt x="10800" y="21600"/>
                  </a:lnTo>
                  <a:lnTo>
                    <a:pt x="11741" y="21559"/>
                  </a:lnTo>
                  <a:lnTo>
                    <a:pt x="12861" y="21402"/>
                  </a:lnTo>
                  <a:lnTo>
                    <a:pt x="13777" y="21182"/>
                  </a:lnTo>
                  <a:lnTo>
                    <a:pt x="14846" y="20814"/>
                  </a:lnTo>
                  <a:lnTo>
                    <a:pt x="15870" y="20336"/>
                  </a:lnTo>
                  <a:lnTo>
                    <a:pt x="16682" y="19858"/>
                  </a:lnTo>
                  <a:lnTo>
                    <a:pt x="17597" y="19193"/>
                  </a:lnTo>
                  <a:lnTo>
                    <a:pt x="18437" y="18437"/>
                  </a:lnTo>
                  <a:lnTo>
                    <a:pt x="19073" y="17742"/>
                  </a:lnTo>
                  <a:lnTo>
                    <a:pt x="19754" y="16839"/>
                  </a:lnTo>
                  <a:lnTo>
                    <a:pt x="20246" y="16036"/>
                  </a:lnTo>
                  <a:lnTo>
                    <a:pt x="20741" y="15020"/>
                  </a:lnTo>
                  <a:lnTo>
                    <a:pt x="21128" y="13958"/>
                  </a:lnTo>
                  <a:lnTo>
                    <a:pt x="21364" y="13045"/>
                  </a:lnTo>
                  <a:lnTo>
                    <a:pt x="21541" y="11929"/>
                  </a:lnTo>
                  <a:lnTo>
                    <a:pt x="21600" y="10800"/>
                  </a:lnTo>
                  <a:lnTo>
                    <a:pt x="21559" y="9859"/>
                  </a:lnTo>
                  <a:lnTo>
                    <a:pt x="21402" y="8739"/>
                  </a:lnTo>
                  <a:lnTo>
                    <a:pt x="21182" y="7823"/>
                  </a:lnTo>
                  <a:lnTo>
                    <a:pt x="20814" y="6754"/>
                  </a:lnTo>
                  <a:lnTo>
                    <a:pt x="20336" y="5730"/>
                  </a:lnTo>
                  <a:lnTo>
                    <a:pt x="19858" y="4918"/>
                  </a:lnTo>
                  <a:lnTo>
                    <a:pt x="19193" y="4003"/>
                  </a:lnTo>
                  <a:lnTo>
                    <a:pt x="18437" y="3163"/>
                  </a:lnTo>
                  <a:lnTo>
                    <a:pt x="17742" y="2527"/>
                  </a:lnTo>
                  <a:lnTo>
                    <a:pt x="16839" y="1846"/>
                  </a:lnTo>
                  <a:lnTo>
                    <a:pt x="16036" y="1354"/>
                  </a:lnTo>
                  <a:lnTo>
                    <a:pt x="15020" y="859"/>
                  </a:lnTo>
                  <a:lnTo>
                    <a:pt x="13958" y="472"/>
                  </a:lnTo>
                  <a:lnTo>
                    <a:pt x="13045" y="236"/>
                  </a:lnTo>
                  <a:lnTo>
                    <a:pt x="11929" y="59"/>
                  </a:lnTo>
                  <a:lnTo>
                    <a:pt x="10800" y="0"/>
                  </a:lnTo>
                  <a:lnTo>
                    <a:pt x="9859" y="41"/>
                  </a:lnTo>
                  <a:lnTo>
                    <a:pt x="8739" y="198"/>
                  </a:lnTo>
                  <a:lnTo>
                    <a:pt x="7823" y="418"/>
                  </a:lnTo>
                  <a:lnTo>
                    <a:pt x="6754" y="786"/>
                  </a:lnTo>
                  <a:lnTo>
                    <a:pt x="5730" y="1264"/>
                  </a:lnTo>
                  <a:lnTo>
                    <a:pt x="4918" y="1742"/>
                  </a:lnTo>
                  <a:lnTo>
                    <a:pt x="4003" y="2407"/>
                  </a:lnTo>
                  <a:lnTo>
                    <a:pt x="3163" y="3163"/>
                  </a:lnTo>
                  <a:lnTo>
                    <a:pt x="2527" y="3858"/>
                  </a:lnTo>
                  <a:lnTo>
                    <a:pt x="1846" y="4761"/>
                  </a:lnTo>
                  <a:lnTo>
                    <a:pt x="1354" y="5564"/>
                  </a:lnTo>
                  <a:lnTo>
                    <a:pt x="859" y="6580"/>
                  </a:lnTo>
                  <a:lnTo>
                    <a:pt x="472" y="7642"/>
                  </a:lnTo>
                  <a:lnTo>
                    <a:pt x="236" y="8555"/>
                  </a:lnTo>
                  <a:lnTo>
                    <a:pt x="59" y="9671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50799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1880" y="5486040"/>
              <a:ext cx="50760" cy="101520"/>
            </a:xfrm>
            <a:custGeom>
              <a:avLst/>
              <a:gdLst>
                <a:gd name="textAreaLeft" fmla="*/ 7200 w 50760"/>
                <a:gd name="textAreaRight" fmla="*/ 43560 w 50760"/>
                <a:gd name="textAreaTop" fmla="*/ 14760 h 101520"/>
                <a:gd name="textAreaBottom" fmla="*/ 8676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1" y="11741"/>
                  </a:lnTo>
                  <a:lnTo>
                    <a:pt x="198" y="12861"/>
                  </a:lnTo>
                  <a:lnTo>
                    <a:pt x="418" y="13777"/>
                  </a:lnTo>
                  <a:lnTo>
                    <a:pt x="786" y="14846"/>
                  </a:lnTo>
                  <a:lnTo>
                    <a:pt x="1264" y="15870"/>
                  </a:lnTo>
                  <a:lnTo>
                    <a:pt x="1742" y="16682"/>
                  </a:lnTo>
                  <a:lnTo>
                    <a:pt x="2407" y="17597"/>
                  </a:lnTo>
                  <a:lnTo>
                    <a:pt x="3163" y="18437"/>
                  </a:lnTo>
                  <a:lnTo>
                    <a:pt x="3858" y="19073"/>
                  </a:lnTo>
                  <a:lnTo>
                    <a:pt x="4761" y="19754"/>
                  </a:lnTo>
                  <a:lnTo>
                    <a:pt x="5564" y="20246"/>
                  </a:lnTo>
                  <a:lnTo>
                    <a:pt x="6580" y="20741"/>
                  </a:lnTo>
                  <a:lnTo>
                    <a:pt x="7642" y="21128"/>
                  </a:lnTo>
                  <a:lnTo>
                    <a:pt x="8555" y="21364"/>
                  </a:lnTo>
                  <a:lnTo>
                    <a:pt x="9671" y="21541"/>
                  </a:lnTo>
                  <a:lnTo>
                    <a:pt x="10800" y="21600"/>
                  </a:lnTo>
                  <a:lnTo>
                    <a:pt x="11741" y="21559"/>
                  </a:lnTo>
                  <a:lnTo>
                    <a:pt x="12861" y="21402"/>
                  </a:lnTo>
                  <a:lnTo>
                    <a:pt x="13777" y="21182"/>
                  </a:lnTo>
                  <a:lnTo>
                    <a:pt x="14846" y="20814"/>
                  </a:lnTo>
                  <a:lnTo>
                    <a:pt x="15870" y="20336"/>
                  </a:lnTo>
                  <a:lnTo>
                    <a:pt x="16682" y="19858"/>
                  </a:lnTo>
                  <a:lnTo>
                    <a:pt x="17597" y="19193"/>
                  </a:lnTo>
                  <a:lnTo>
                    <a:pt x="18437" y="18437"/>
                  </a:lnTo>
                  <a:lnTo>
                    <a:pt x="19073" y="17742"/>
                  </a:lnTo>
                  <a:lnTo>
                    <a:pt x="19754" y="16839"/>
                  </a:lnTo>
                  <a:lnTo>
                    <a:pt x="20246" y="16036"/>
                  </a:lnTo>
                  <a:lnTo>
                    <a:pt x="20741" y="15020"/>
                  </a:lnTo>
                  <a:lnTo>
                    <a:pt x="21128" y="13958"/>
                  </a:lnTo>
                  <a:lnTo>
                    <a:pt x="21364" y="13045"/>
                  </a:lnTo>
                  <a:lnTo>
                    <a:pt x="21541" y="11929"/>
                  </a:lnTo>
                  <a:lnTo>
                    <a:pt x="21600" y="10800"/>
                  </a:lnTo>
                  <a:lnTo>
                    <a:pt x="21559" y="9859"/>
                  </a:lnTo>
                  <a:lnTo>
                    <a:pt x="21402" y="8739"/>
                  </a:lnTo>
                  <a:lnTo>
                    <a:pt x="21182" y="7823"/>
                  </a:lnTo>
                  <a:lnTo>
                    <a:pt x="20814" y="6754"/>
                  </a:lnTo>
                  <a:lnTo>
                    <a:pt x="20336" y="5730"/>
                  </a:lnTo>
                  <a:lnTo>
                    <a:pt x="19858" y="4918"/>
                  </a:lnTo>
                  <a:lnTo>
                    <a:pt x="19193" y="4003"/>
                  </a:lnTo>
                  <a:lnTo>
                    <a:pt x="18437" y="3163"/>
                  </a:lnTo>
                  <a:lnTo>
                    <a:pt x="17742" y="2527"/>
                  </a:lnTo>
                  <a:lnTo>
                    <a:pt x="16839" y="1846"/>
                  </a:lnTo>
                  <a:lnTo>
                    <a:pt x="16036" y="1354"/>
                  </a:lnTo>
                  <a:lnTo>
                    <a:pt x="15020" y="859"/>
                  </a:lnTo>
                  <a:lnTo>
                    <a:pt x="13958" y="472"/>
                  </a:lnTo>
                  <a:lnTo>
                    <a:pt x="13045" y="236"/>
                  </a:lnTo>
                  <a:lnTo>
                    <a:pt x="11929" y="59"/>
                  </a:lnTo>
                  <a:lnTo>
                    <a:pt x="10800" y="0"/>
                  </a:lnTo>
                  <a:lnTo>
                    <a:pt x="9859" y="41"/>
                  </a:lnTo>
                  <a:lnTo>
                    <a:pt x="8739" y="198"/>
                  </a:lnTo>
                  <a:lnTo>
                    <a:pt x="7823" y="418"/>
                  </a:lnTo>
                  <a:lnTo>
                    <a:pt x="6754" y="786"/>
                  </a:lnTo>
                  <a:lnTo>
                    <a:pt x="5730" y="1264"/>
                  </a:lnTo>
                  <a:lnTo>
                    <a:pt x="4918" y="1742"/>
                  </a:lnTo>
                  <a:lnTo>
                    <a:pt x="4003" y="2407"/>
                  </a:lnTo>
                  <a:lnTo>
                    <a:pt x="3163" y="3163"/>
                  </a:lnTo>
                  <a:lnTo>
                    <a:pt x="2527" y="3858"/>
                  </a:lnTo>
                  <a:lnTo>
                    <a:pt x="1846" y="4761"/>
                  </a:lnTo>
                  <a:lnTo>
                    <a:pt x="1354" y="5564"/>
                  </a:lnTo>
                  <a:lnTo>
                    <a:pt x="859" y="6580"/>
                  </a:lnTo>
                  <a:lnTo>
                    <a:pt x="472" y="7642"/>
                  </a:lnTo>
                  <a:lnTo>
                    <a:pt x="236" y="8555"/>
                  </a:lnTo>
                  <a:lnTo>
                    <a:pt x="59" y="9671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133720" y="4267080"/>
            <a:ext cx="1143000" cy="1143000"/>
            <a:chOff x="2133720" y="4267080"/>
            <a:chExt cx="1143000" cy="1143000"/>
          </a:xfrm>
        </p:grpSpPr>
        <p:grpSp>
          <p:nvGrpSpPr>
            <p:cNvPr id="177" name=""/>
            <p:cNvGrpSpPr/>
            <p:nvPr/>
          </p:nvGrpSpPr>
          <p:grpSpPr>
            <a:xfrm>
              <a:off x="2133720" y="4267080"/>
              <a:ext cx="1143000" cy="1143000"/>
              <a:chOff x="2133720" y="4267080"/>
              <a:chExt cx="1143000" cy="1143000"/>
            </a:xfrm>
          </p:grpSpPr>
          <p:sp>
            <p:nvSpPr>
              <p:cNvPr id="178" name=""/>
              <p:cNvSpPr/>
              <p:nvPr/>
            </p:nvSpPr>
            <p:spPr>
              <a:xfrm>
                <a:off x="2362320" y="4495680"/>
                <a:ext cx="685800" cy="627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efef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133720" y="4267080"/>
                <a:ext cx="1143000" cy="1143000"/>
                <a:chOff x="2133720" y="4267080"/>
                <a:chExt cx="1143000" cy="1143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133720" y="4267080"/>
                  <a:ext cx="1143000" cy="114300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362320" y="5105520"/>
                  <a:ext cx="152640" cy="228600"/>
                </a:xfrm>
                <a:custGeom>
                  <a:avLst/>
                  <a:gdLst>
                    <a:gd name="textAreaLeft" fmla="*/ 22320 w 152640"/>
                    <a:gd name="textAreaRight" fmla="*/ 130320 w 152640"/>
                    <a:gd name="textAreaTop" fmla="*/ 33480 h 228600"/>
                    <a:gd name="textAreaBottom" fmla="*/ 1951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41" y="11741"/>
                      </a:lnTo>
                      <a:lnTo>
                        <a:pt x="198" y="12861"/>
                      </a:lnTo>
                      <a:lnTo>
                        <a:pt x="418" y="13777"/>
                      </a:lnTo>
                      <a:lnTo>
                        <a:pt x="786" y="14846"/>
                      </a:lnTo>
                      <a:lnTo>
                        <a:pt x="1264" y="15870"/>
                      </a:lnTo>
                      <a:lnTo>
                        <a:pt x="1742" y="16682"/>
                      </a:lnTo>
                      <a:lnTo>
                        <a:pt x="2407" y="17597"/>
                      </a:lnTo>
                      <a:lnTo>
                        <a:pt x="3163" y="18437"/>
                      </a:lnTo>
                      <a:lnTo>
                        <a:pt x="3858" y="19073"/>
                      </a:lnTo>
                      <a:lnTo>
                        <a:pt x="4761" y="19754"/>
                      </a:lnTo>
                      <a:lnTo>
                        <a:pt x="5564" y="20246"/>
                      </a:lnTo>
                      <a:lnTo>
                        <a:pt x="6580" y="20741"/>
                      </a:lnTo>
                      <a:lnTo>
                        <a:pt x="7642" y="21128"/>
                      </a:lnTo>
                      <a:lnTo>
                        <a:pt x="8555" y="21364"/>
                      </a:lnTo>
                      <a:lnTo>
                        <a:pt x="9671" y="21541"/>
                      </a:lnTo>
                      <a:lnTo>
                        <a:pt x="10800" y="21600"/>
                      </a:lnTo>
                      <a:lnTo>
                        <a:pt x="11741" y="21559"/>
                      </a:lnTo>
                      <a:lnTo>
                        <a:pt x="12861" y="21402"/>
                      </a:lnTo>
                      <a:lnTo>
                        <a:pt x="13777" y="21182"/>
                      </a:lnTo>
                      <a:lnTo>
                        <a:pt x="14846" y="20814"/>
                      </a:lnTo>
                      <a:lnTo>
                        <a:pt x="15870" y="20336"/>
                      </a:lnTo>
                      <a:lnTo>
                        <a:pt x="16682" y="19858"/>
                      </a:lnTo>
                      <a:lnTo>
                        <a:pt x="17597" y="19193"/>
                      </a:lnTo>
                      <a:lnTo>
                        <a:pt x="18437" y="18437"/>
                      </a:lnTo>
                      <a:lnTo>
                        <a:pt x="19073" y="17742"/>
                      </a:lnTo>
                      <a:lnTo>
                        <a:pt x="19754" y="16839"/>
                      </a:lnTo>
                      <a:lnTo>
                        <a:pt x="20246" y="16036"/>
                      </a:lnTo>
                      <a:lnTo>
                        <a:pt x="20741" y="15020"/>
                      </a:lnTo>
                      <a:lnTo>
                        <a:pt x="21128" y="13958"/>
                      </a:lnTo>
                      <a:lnTo>
                        <a:pt x="21364" y="13045"/>
                      </a:lnTo>
                      <a:lnTo>
                        <a:pt x="21541" y="11929"/>
                      </a:lnTo>
                      <a:lnTo>
                        <a:pt x="21600" y="10800"/>
                      </a:lnTo>
                      <a:lnTo>
                        <a:pt x="21559" y="9859"/>
                      </a:lnTo>
                      <a:lnTo>
                        <a:pt x="21402" y="8739"/>
                      </a:lnTo>
                      <a:lnTo>
                        <a:pt x="21182" y="7823"/>
                      </a:lnTo>
                      <a:lnTo>
                        <a:pt x="20814" y="6754"/>
                      </a:lnTo>
                      <a:lnTo>
                        <a:pt x="20336" y="5730"/>
                      </a:lnTo>
                      <a:lnTo>
                        <a:pt x="19858" y="4918"/>
                      </a:lnTo>
                      <a:lnTo>
                        <a:pt x="19193" y="4003"/>
                      </a:lnTo>
                      <a:lnTo>
                        <a:pt x="18437" y="3163"/>
                      </a:lnTo>
                      <a:lnTo>
                        <a:pt x="17742" y="2527"/>
                      </a:lnTo>
                      <a:lnTo>
                        <a:pt x="16839" y="1846"/>
                      </a:lnTo>
                      <a:lnTo>
                        <a:pt x="16036" y="1354"/>
                      </a:lnTo>
                      <a:lnTo>
                        <a:pt x="15020" y="859"/>
                      </a:lnTo>
                      <a:lnTo>
                        <a:pt x="13958" y="472"/>
                      </a:lnTo>
                      <a:lnTo>
                        <a:pt x="13045" y="236"/>
                      </a:lnTo>
                      <a:lnTo>
                        <a:pt x="11929" y="59"/>
                      </a:lnTo>
                      <a:lnTo>
                        <a:pt x="10800" y="0"/>
                      </a:lnTo>
                      <a:lnTo>
                        <a:pt x="9859" y="41"/>
                      </a:lnTo>
                      <a:lnTo>
                        <a:pt x="8739" y="198"/>
                      </a:lnTo>
                      <a:lnTo>
                        <a:pt x="7823" y="418"/>
                      </a:lnTo>
                      <a:lnTo>
                        <a:pt x="6754" y="786"/>
                      </a:lnTo>
                      <a:lnTo>
                        <a:pt x="5730" y="1264"/>
                      </a:lnTo>
                      <a:lnTo>
                        <a:pt x="4918" y="1742"/>
                      </a:lnTo>
                      <a:lnTo>
                        <a:pt x="4003" y="2407"/>
                      </a:lnTo>
                      <a:lnTo>
                        <a:pt x="3163" y="3163"/>
                      </a:lnTo>
                      <a:lnTo>
                        <a:pt x="2527" y="3858"/>
                      </a:lnTo>
                      <a:lnTo>
                        <a:pt x="1846" y="4761"/>
                      </a:lnTo>
                      <a:lnTo>
                        <a:pt x="1354" y="5564"/>
                      </a:lnTo>
                      <a:lnTo>
                        <a:pt x="859" y="6580"/>
                      </a:lnTo>
                      <a:lnTo>
                        <a:pt x="472" y="7642"/>
                      </a:lnTo>
                      <a:lnTo>
                        <a:pt x="236" y="8555"/>
                      </a:lnTo>
                      <a:lnTo>
                        <a:pt x="59" y="9671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" name=""/>
                <p:cNvGrpSpPr/>
                <p:nvPr/>
              </p:nvGrpSpPr>
              <p:grpSpPr>
                <a:xfrm>
                  <a:off x="2343960" y="4495680"/>
                  <a:ext cx="658800" cy="541800"/>
                  <a:chOff x="2343960" y="4495680"/>
                  <a:chExt cx="658800" cy="54180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2343960" y="4495680"/>
                    <a:ext cx="564480" cy="482040"/>
                    <a:chOff x="2343960" y="4495680"/>
                    <a:chExt cx="564480" cy="48204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514600" y="4495680"/>
                      <a:ext cx="291960" cy="44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56">
                          <a:moveTo>
                            <a:pt x="104" y="0"/>
                          </a:moveTo>
                          <a:cubicBezTo>
                            <a:pt x="124" y="30"/>
                            <a:pt x="148" y="68"/>
                            <a:pt x="184" y="80"/>
                          </a:cubicBezTo>
                          <a:cubicBezTo>
                            <a:pt x="189" y="88"/>
                            <a:pt x="198" y="94"/>
                            <a:pt x="200" y="104"/>
                          </a:cubicBezTo>
                          <a:cubicBezTo>
                            <a:pt x="200" y="105"/>
                            <a:pt x="176" y="190"/>
                            <a:pt x="176" y="192"/>
                          </a:cubicBezTo>
                          <a:cubicBezTo>
                            <a:pt x="170" y="198"/>
                            <a:pt x="160" y="197"/>
                            <a:pt x="152" y="200"/>
                          </a:cubicBezTo>
                          <a:cubicBezTo>
                            <a:pt x="114" y="237"/>
                            <a:pt x="53" y="256"/>
                            <a:pt x="0" y="256"/>
                          </a:cubicBezTo>
                        </a:path>
                      </a:pathLst>
                    </a:custGeom>
                    <a:noFill/>
                    <a:ln w="34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2743200" y="4647600"/>
                      <a:ext cx="165240" cy="3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56">
                          <a:moveTo>
                            <a:pt x="104" y="0"/>
                          </a:moveTo>
                          <a:cubicBezTo>
                            <a:pt x="124" y="30"/>
                            <a:pt x="148" y="68"/>
                            <a:pt x="184" y="80"/>
                          </a:cubicBezTo>
                          <a:cubicBezTo>
                            <a:pt x="189" y="88"/>
                            <a:pt x="198" y="94"/>
                            <a:pt x="200" y="104"/>
                          </a:cubicBezTo>
                          <a:cubicBezTo>
                            <a:pt x="200" y="105"/>
                            <a:pt x="176" y="190"/>
                            <a:pt x="176" y="192"/>
                          </a:cubicBezTo>
                          <a:cubicBezTo>
                            <a:pt x="170" y="198"/>
                            <a:pt x="160" y="197"/>
                            <a:pt x="152" y="200"/>
                          </a:cubicBezTo>
                          <a:cubicBezTo>
                            <a:pt x="114" y="237"/>
                            <a:pt x="53" y="256"/>
                            <a:pt x="0" y="256"/>
                          </a:cubicBezTo>
                        </a:path>
                      </a:pathLst>
                    </a:custGeom>
                    <a:noFill/>
                    <a:ln w="34920">
                      <a:solidFill>
                        <a:srgbClr val="ff060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rot="17284800">
                      <a:off x="2441880" y="4644000"/>
                      <a:ext cx="171000" cy="33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56">
                          <a:moveTo>
                            <a:pt x="104" y="0"/>
                          </a:moveTo>
                          <a:cubicBezTo>
                            <a:pt x="124" y="30"/>
                            <a:pt x="148" y="68"/>
                            <a:pt x="184" y="80"/>
                          </a:cubicBezTo>
                          <a:cubicBezTo>
                            <a:pt x="189" y="88"/>
                            <a:pt x="198" y="94"/>
                            <a:pt x="200" y="104"/>
                          </a:cubicBezTo>
                          <a:cubicBezTo>
                            <a:pt x="200" y="105"/>
                            <a:pt x="176" y="190"/>
                            <a:pt x="176" y="192"/>
                          </a:cubicBezTo>
                          <a:cubicBezTo>
                            <a:pt x="170" y="198"/>
                            <a:pt x="160" y="197"/>
                            <a:pt x="152" y="200"/>
                          </a:cubicBezTo>
                          <a:cubicBezTo>
                            <a:pt x="114" y="237"/>
                            <a:pt x="53" y="256"/>
                            <a:pt x="0" y="256"/>
                          </a:cubicBezTo>
                        </a:path>
                      </a:pathLst>
                    </a:custGeom>
                    <a:noFill/>
                    <a:ln w="34920">
                      <a:solidFill>
                        <a:srgbClr val="ff060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" name=""/>
                  <p:cNvSpPr/>
                  <p:nvPr/>
                </p:nvSpPr>
                <p:spPr>
                  <a:xfrm rot="14200800">
                    <a:off x="2590560" y="4570920"/>
                    <a:ext cx="291960" cy="44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56">
                        <a:moveTo>
                          <a:pt x="104" y="0"/>
                        </a:moveTo>
                        <a:cubicBezTo>
                          <a:pt x="124" y="30"/>
                          <a:pt x="148" y="68"/>
                          <a:pt x="184" y="80"/>
                        </a:cubicBezTo>
                        <a:cubicBezTo>
                          <a:pt x="189" y="88"/>
                          <a:pt x="198" y="94"/>
                          <a:pt x="200" y="104"/>
                        </a:cubicBezTo>
                        <a:cubicBezTo>
                          <a:pt x="200" y="105"/>
                          <a:pt x="176" y="190"/>
                          <a:pt x="176" y="192"/>
                        </a:cubicBezTo>
                        <a:cubicBezTo>
                          <a:pt x="170" y="198"/>
                          <a:pt x="160" y="197"/>
                          <a:pt x="152" y="200"/>
                        </a:cubicBezTo>
                        <a:cubicBezTo>
                          <a:pt x="114" y="237"/>
                          <a:pt x="53" y="256"/>
                          <a:pt x="0" y="256"/>
                        </a:cubicBezTo>
                      </a:path>
                    </a:pathLst>
                  </a:custGeom>
                  <a:noFill/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2895840" y="5105520"/>
                  <a:ext cx="152280" cy="228600"/>
                </a:xfrm>
                <a:custGeom>
                  <a:avLst/>
                  <a:gdLst>
                    <a:gd name="textAreaLeft" fmla="*/ 22320 w 152280"/>
                    <a:gd name="textAreaRight" fmla="*/ 129960 w 152280"/>
                    <a:gd name="textAreaTop" fmla="*/ 33480 h 228600"/>
                    <a:gd name="textAreaBottom" fmla="*/ 195120 h 2286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41" y="11741"/>
                      </a:lnTo>
                      <a:lnTo>
                        <a:pt x="198" y="12861"/>
                      </a:lnTo>
                      <a:lnTo>
                        <a:pt x="418" y="13777"/>
                      </a:lnTo>
                      <a:lnTo>
                        <a:pt x="786" y="14846"/>
                      </a:lnTo>
                      <a:lnTo>
                        <a:pt x="1264" y="15870"/>
                      </a:lnTo>
                      <a:lnTo>
                        <a:pt x="1742" y="16682"/>
                      </a:lnTo>
                      <a:lnTo>
                        <a:pt x="2407" y="17597"/>
                      </a:lnTo>
                      <a:lnTo>
                        <a:pt x="3163" y="18437"/>
                      </a:lnTo>
                      <a:lnTo>
                        <a:pt x="3858" y="19073"/>
                      </a:lnTo>
                      <a:lnTo>
                        <a:pt x="4761" y="19754"/>
                      </a:lnTo>
                      <a:lnTo>
                        <a:pt x="5564" y="20246"/>
                      </a:lnTo>
                      <a:lnTo>
                        <a:pt x="6580" y="20741"/>
                      </a:lnTo>
                      <a:lnTo>
                        <a:pt x="7642" y="21128"/>
                      </a:lnTo>
                      <a:lnTo>
                        <a:pt x="8555" y="21364"/>
                      </a:lnTo>
                      <a:lnTo>
                        <a:pt x="9671" y="21541"/>
                      </a:lnTo>
                      <a:lnTo>
                        <a:pt x="10800" y="21600"/>
                      </a:lnTo>
                      <a:lnTo>
                        <a:pt x="11741" y="21559"/>
                      </a:lnTo>
                      <a:lnTo>
                        <a:pt x="12861" y="21402"/>
                      </a:lnTo>
                      <a:lnTo>
                        <a:pt x="13777" y="21182"/>
                      </a:lnTo>
                      <a:lnTo>
                        <a:pt x="14846" y="20814"/>
                      </a:lnTo>
                      <a:lnTo>
                        <a:pt x="15870" y="20336"/>
                      </a:lnTo>
                      <a:lnTo>
                        <a:pt x="16682" y="19858"/>
                      </a:lnTo>
                      <a:lnTo>
                        <a:pt x="17597" y="19193"/>
                      </a:lnTo>
                      <a:lnTo>
                        <a:pt x="18437" y="18437"/>
                      </a:lnTo>
                      <a:lnTo>
                        <a:pt x="19073" y="17742"/>
                      </a:lnTo>
                      <a:lnTo>
                        <a:pt x="19754" y="16839"/>
                      </a:lnTo>
                      <a:lnTo>
                        <a:pt x="20246" y="16036"/>
                      </a:lnTo>
                      <a:lnTo>
                        <a:pt x="20741" y="15020"/>
                      </a:lnTo>
                      <a:lnTo>
                        <a:pt x="21128" y="13958"/>
                      </a:lnTo>
                      <a:lnTo>
                        <a:pt x="21364" y="13045"/>
                      </a:lnTo>
                      <a:lnTo>
                        <a:pt x="21541" y="11929"/>
                      </a:lnTo>
                      <a:lnTo>
                        <a:pt x="21600" y="10800"/>
                      </a:lnTo>
                      <a:lnTo>
                        <a:pt x="21559" y="9859"/>
                      </a:lnTo>
                      <a:lnTo>
                        <a:pt x="21402" y="8739"/>
                      </a:lnTo>
                      <a:lnTo>
                        <a:pt x="21182" y="7823"/>
                      </a:lnTo>
                      <a:lnTo>
                        <a:pt x="20814" y="6754"/>
                      </a:lnTo>
                      <a:lnTo>
                        <a:pt x="20336" y="5730"/>
                      </a:lnTo>
                      <a:lnTo>
                        <a:pt x="19858" y="4918"/>
                      </a:lnTo>
                      <a:lnTo>
                        <a:pt x="19193" y="4003"/>
                      </a:lnTo>
                      <a:lnTo>
                        <a:pt x="18437" y="3163"/>
                      </a:lnTo>
                      <a:lnTo>
                        <a:pt x="17742" y="2527"/>
                      </a:lnTo>
                      <a:lnTo>
                        <a:pt x="16839" y="1846"/>
                      </a:lnTo>
                      <a:lnTo>
                        <a:pt x="16036" y="1354"/>
                      </a:lnTo>
                      <a:lnTo>
                        <a:pt x="15020" y="859"/>
                      </a:lnTo>
                      <a:lnTo>
                        <a:pt x="13958" y="472"/>
                      </a:lnTo>
                      <a:lnTo>
                        <a:pt x="13045" y="236"/>
                      </a:lnTo>
                      <a:lnTo>
                        <a:pt x="11929" y="59"/>
                      </a:lnTo>
                      <a:lnTo>
                        <a:pt x="10800" y="0"/>
                      </a:lnTo>
                      <a:lnTo>
                        <a:pt x="9859" y="41"/>
                      </a:lnTo>
                      <a:lnTo>
                        <a:pt x="8739" y="198"/>
                      </a:lnTo>
                      <a:lnTo>
                        <a:pt x="7823" y="418"/>
                      </a:lnTo>
                      <a:lnTo>
                        <a:pt x="6754" y="786"/>
                      </a:lnTo>
                      <a:lnTo>
                        <a:pt x="5730" y="1264"/>
                      </a:lnTo>
                      <a:lnTo>
                        <a:pt x="4918" y="1742"/>
                      </a:lnTo>
                      <a:lnTo>
                        <a:pt x="4003" y="2407"/>
                      </a:lnTo>
                      <a:lnTo>
                        <a:pt x="3163" y="3163"/>
                      </a:lnTo>
                      <a:lnTo>
                        <a:pt x="2527" y="3858"/>
                      </a:lnTo>
                      <a:lnTo>
                        <a:pt x="1846" y="4761"/>
                      </a:lnTo>
                      <a:lnTo>
                        <a:pt x="1354" y="5564"/>
                      </a:lnTo>
                      <a:lnTo>
                        <a:pt x="859" y="6580"/>
                      </a:lnTo>
                      <a:lnTo>
                        <a:pt x="472" y="7642"/>
                      </a:lnTo>
                      <a:lnTo>
                        <a:pt x="236" y="8555"/>
                      </a:lnTo>
                      <a:lnTo>
                        <a:pt x="59" y="9671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2590920" y="4952880"/>
              <a:ext cx="1018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3520" y="3352680"/>
            <a:ext cx="1295280" cy="1295640"/>
          </a:xfrm>
          <a:prstGeom prst="donut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191120"/>
            <a:ext cx="173160" cy="260280"/>
          </a:xfrm>
          <a:custGeom>
            <a:avLst/>
            <a:gdLst>
              <a:gd name="textAreaLeft" fmla="*/ 25200 w 173160"/>
              <a:gd name="textAreaRight" fmla="*/ 147960 w 17316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1" y="11741"/>
                </a:lnTo>
                <a:lnTo>
                  <a:pt x="198" y="12861"/>
                </a:lnTo>
                <a:lnTo>
                  <a:pt x="418" y="13777"/>
                </a:lnTo>
                <a:lnTo>
                  <a:pt x="786" y="14846"/>
                </a:lnTo>
                <a:lnTo>
                  <a:pt x="1264" y="15870"/>
                </a:lnTo>
                <a:lnTo>
                  <a:pt x="1742" y="16682"/>
                </a:lnTo>
                <a:lnTo>
                  <a:pt x="2407" y="17597"/>
                </a:lnTo>
                <a:lnTo>
                  <a:pt x="3163" y="18437"/>
                </a:lnTo>
                <a:lnTo>
                  <a:pt x="3858" y="19073"/>
                </a:lnTo>
                <a:lnTo>
                  <a:pt x="4761" y="19754"/>
                </a:lnTo>
                <a:lnTo>
                  <a:pt x="5564" y="20246"/>
                </a:lnTo>
                <a:lnTo>
                  <a:pt x="6580" y="20741"/>
                </a:lnTo>
                <a:lnTo>
                  <a:pt x="7642" y="21128"/>
                </a:lnTo>
                <a:lnTo>
                  <a:pt x="8555" y="21364"/>
                </a:lnTo>
                <a:lnTo>
                  <a:pt x="9671" y="21541"/>
                </a:lnTo>
                <a:lnTo>
                  <a:pt x="10800" y="21600"/>
                </a:lnTo>
                <a:lnTo>
                  <a:pt x="11741" y="21559"/>
                </a:lnTo>
                <a:lnTo>
                  <a:pt x="12861" y="21402"/>
                </a:lnTo>
                <a:lnTo>
                  <a:pt x="13777" y="21182"/>
                </a:lnTo>
                <a:lnTo>
                  <a:pt x="14846" y="20814"/>
                </a:lnTo>
                <a:lnTo>
                  <a:pt x="15870" y="20336"/>
                </a:lnTo>
                <a:lnTo>
                  <a:pt x="16682" y="19858"/>
                </a:lnTo>
                <a:lnTo>
                  <a:pt x="17597" y="19193"/>
                </a:lnTo>
                <a:lnTo>
                  <a:pt x="18437" y="18437"/>
                </a:lnTo>
                <a:lnTo>
                  <a:pt x="19073" y="17742"/>
                </a:lnTo>
                <a:lnTo>
                  <a:pt x="19754" y="16839"/>
                </a:lnTo>
                <a:lnTo>
                  <a:pt x="20246" y="16036"/>
                </a:lnTo>
                <a:lnTo>
                  <a:pt x="20741" y="15020"/>
                </a:lnTo>
                <a:lnTo>
                  <a:pt x="21128" y="13958"/>
                </a:lnTo>
                <a:lnTo>
                  <a:pt x="21364" y="13045"/>
                </a:lnTo>
                <a:lnTo>
                  <a:pt x="21541" y="11929"/>
                </a:lnTo>
                <a:lnTo>
                  <a:pt x="21600" y="10800"/>
                </a:lnTo>
                <a:lnTo>
                  <a:pt x="21559" y="9859"/>
                </a:lnTo>
                <a:lnTo>
                  <a:pt x="21402" y="8739"/>
                </a:lnTo>
                <a:lnTo>
                  <a:pt x="21182" y="7823"/>
                </a:lnTo>
                <a:lnTo>
                  <a:pt x="20814" y="6754"/>
                </a:lnTo>
                <a:lnTo>
                  <a:pt x="20336" y="5730"/>
                </a:lnTo>
                <a:lnTo>
                  <a:pt x="19858" y="4918"/>
                </a:lnTo>
                <a:lnTo>
                  <a:pt x="19193" y="4003"/>
                </a:lnTo>
                <a:lnTo>
                  <a:pt x="18437" y="3163"/>
                </a:lnTo>
                <a:lnTo>
                  <a:pt x="17742" y="2527"/>
                </a:lnTo>
                <a:lnTo>
                  <a:pt x="16839" y="1846"/>
                </a:lnTo>
                <a:lnTo>
                  <a:pt x="16036" y="1354"/>
                </a:lnTo>
                <a:lnTo>
                  <a:pt x="15020" y="859"/>
                </a:lnTo>
                <a:lnTo>
                  <a:pt x="13958" y="472"/>
                </a:lnTo>
                <a:lnTo>
                  <a:pt x="13045" y="236"/>
                </a:lnTo>
                <a:lnTo>
                  <a:pt x="11929" y="59"/>
                </a:lnTo>
                <a:lnTo>
                  <a:pt x="10800" y="0"/>
                </a:lnTo>
                <a:lnTo>
                  <a:pt x="9859" y="41"/>
                </a:lnTo>
                <a:lnTo>
                  <a:pt x="8739" y="198"/>
                </a:lnTo>
                <a:lnTo>
                  <a:pt x="7823" y="418"/>
                </a:lnTo>
                <a:lnTo>
                  <a:pt x="6754" y="786"/>
                </a:lnTo>
                <a:lnTo>
                  <a:pt x="5730" y="1264"/>
                </a:lnTo>
                <a:lnTo>
                  <a:pt x="4918" y="1742"/>
                </a:lnTo>
                <a:lnTo>
                  <a:pt x="4003" y="2407"/>
                </a:lnTo>
                <a:lnTo>
                  <a:pt x="3163" y="3163"/>
                </a:lnTo>
                <a:lnTo>
                  <a:pt x="2527" y="3858"/>
                </a:lnTo>
                <a:lnTo>
                  <a:pt x="1846" y="4761"/>
                </a:lnTo>
                <a:lnTo>
                  <a:pt x="1354" y="5564"/>
                </a:lnTo>
                <a:lnTo>
                  <a:pt x="859" y="6580"/>
                </a:lnTo>
                <a:lnTo>
                  <a:pt x="472" y="7642"/>
                </a:lnTo>
                <a:lnTo>
                  <a:pt x="236" y="8555"/>
                </a:lnTo>
                <a:lnTo>
                  <a:pt x="59" y="9671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79680" y="4114800"/>
            <a:ext cx="172800" cy="260280"/>
          </a:xfrm>
          <a:custGeom>
            <a:avLst/>
            <a:gdLst>
              <a:gd name="textAreaLeft" fmla="*/ 25200 w 172800"/>
              <a:gd name="textAreaRight" fmla="*/ 147600 w 172800"/>
              <a:gd name="textAreaTop" fmla="*/ 38160 h 260280"/>
              <a:gd name="textAreaBottom" fmla="*/ 22212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1" y="11741"/>
                </a:lnTo>
                <a:lnTo>
                  <a:pt x="198" y="12861"/>
                </a:lnTo>
                <a:lnTo>
                  <a:pt x="418" y="13777"/>
                </a:lnTo>
                <a:lnTo>
                  <a:pt x="786" y="14846"/>
                </a:lnTo>
                <a:lnTo>
                  <a:pt x="1264" y="15870"/>
                </a:lnTo>
                <a:lnTo>
                  <a:pt x="1742" y="16682"/>
                </a:lnTo>
                <a:lnTo>
                  <a:pt x="2407" y="17597"/>
                </a:lnTo>
                <a:lnTo>
                  <a:pt x="3163" y="18437"/>
                </a:lnTo>
                <a:lnTo>
                  <a:pt x="3858" y="19073"/>
                </a:lnTo>
                <a:lnTo>
                  <a:pt x="4761" y="19754"/>
                </a:lnTo>
                <a:lnTo>
                  <a:pt x="5564" y="20246"/>
                </a:lnTo>
                <a:lnTo>
                  <a:pt x="6580" y="20741"/>
                </a:lnTo>
                <a:lnTo>
                  <a:pt x="7642" y="21128"/>
                </a:lnTo>
                <a:lnTo>
                  <a:pt x="8555" y="21364"/>
                </a:lnTo>
                <a:lnTo>
                  <a:pt x="9671" y="21541"/>
                </a:lnTo>
                <a:lnTo>
                  <a:pt x="10800" y="21600"/>
                </a:lnTo>
                <a:lnTo>
                  <a:pt x="11741" y="21559"/>
                </a:lnTo>
                <a:lnTo>
                  <a:pt x="12861" y="21402"/>
                </a:lnTo>
                <a:lnTo>
                  <a:pt x="13777" y="21182"/>
                </a:lnTo>
                <a:lnTo>
                  <a:pt x="14846" y="20814"/>
                </a:lnTo>
                <a:lnTo>
                  <a:pt x="15870" y="20336"/>
                </a:lnTo>
                <a:lnTo>
                  <a:pt x="16682" y="19858"/>
                </a:lnTo>
                <a:lnTo>
                  <a:pt x="17597" y="19193"/>
                </a:lnTo>
                <a:lnTo>
                  <a:pt x="18437" y="18437"/>
                </a:lnTo>
                <a:lnTo>
                  <a:pt x="19073" y="17742"/>
                </a:lnTo>
                <a:lnTo>
                  <a:pt x="19754" y="16839"/>
                </a:lnTo>
                <a:lnTo>
                  <a:pt x="20246" y="16036"/>
                </a:lnTo>
                <a:lnTo>
                  <a:pt x="20741" y="15020"/>
                </a:lnTo>
                <a:lnTo>
                  <a:pt x="21128" y="13958"/>
                </a:lnTo>
                <a:lnTo>
                  <a:pt x="21364" y="13045"/>
                </a:lnTo>
                <a:lnTo>
                  <a:pt x="21541" y="11929"/>
                </a:lnTo>
                <a:lnTo>
                  <a:pt x="21600" y="10800"/>
                </a:lnTo>
                <a:lnTo>
                  <a:pt x="21559" y="9859"/>
                </a:lnTo>
                <a:lnTo>
                  <a:pt x="21402" y="8739"/>
                </a:lnTo>
                <a:lnTo>
                  <a:pt x="21182" y="7823"/>
                </a:lnTo>
                <a:lnTo>
                  <a:pt x="20814" y="6754"/>
                </a:lnTo>
                <a:lnTo>
                  <a:pt x="20336" y="5730"/>
                </a:lnTo>
                <a:lnTo>
                  <a:pt x="19858" y="4918"/>
                </a:lnTo>
                <a:lnTo>
                  <a:pt x="19193" y="4003"/>
                </a:lnTo>
                <a:lnTo>
                  <a:pt x="18437" y="3163"/>
                </a:lnTo>
                <a:lnTo>
                  <a:pt x="17742" y="2527"/>
                </a:lnTo>
                <a:lnTo>
                  <a:pt x="16839" y="1846"/>
                </a:lnTo>
                <a:lnTo>
                  <a:pt x="16036" y="1354"/>
                </a:lnTo>
                <a:lnTo>
                  <a:pt x="15020" y="859"/>
                </a:lnTo>
                <a:lnTo>
                  <a:pt x="13958" y="472"/>
                </a:lnTo>
                <a:lnTo>
                  <a:pt x="13045" y="236"/>
                </a:lnTo>
                <a:lnTo>
                  <a:pt x="11929" y="59"/>
                </a:lnTo>
                <a:lnTo>
                  <a:pt x="10800" y="0"/>
                </a:lnTo>
                <a:lnTo>
                  <a:pt x="9859" y="41"/>
                </a:lnTo>
                <a:lnTo>
                  <a:pt x="8739" y="198"/>
                </a:lnTo>
                <a:lnTo>
                  <a:pt x="7823" y="418"/>
                </a:lnTo>
                <a:lnTo>
                  <a:pt x="6754" y="786"/>
                </a:lnTo>
                <a:lnTo>
                  <a:pt x="5730" y="1264"/>
                </a:lnTo>
                <a:lnTo>
                  <a:pt x="4918" y="1742"/>
                </a:lnTo>
                <a:lnTo>
                  <a:pt x="4003" y="2407"/>
                </a:lnTo>
                <a:lnTo>
                  <a:pt x="3163" y="3163"/>
                </a:lnTo>
                <a:lnTo>
                  <a:pt x="2527" y="3858"/>
                </a:lnTo>
                <a:lnTo>
                  <a:pt x="1846" y="4761"/>
                </a:lnTo>
                <a:lnTo>
                  <a:pt x="1354" y="5564"/>
                </a:lnTo>
                <a:lnTo>
                  <a:pt x="859" y="6580"/>
                </a:lnTo>
                <a:lnTo>
                  <a:pt x="472" y="7642"/>
                </a:lnTo>
                <a:lnTo>
                  <a:pt x="236" y="8555"/>
                </a:lnTo>
                <a:lnTo>
                  <a:pt x="59" y="9671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2240" y="3581280"/>
            <a:ext cx="777960" cy="71136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143000" y="3962520"/>
            <a:ext cx="75960" cy="304560"/>
            <a:chOff x="1143000" y="3962520"/>
            <a:chExt cx="75960" cy="304560"/>
          </a:xfrm>
        </p:grpSpPr>
        <p:sp>
          <p:nvSpPr>
            <p:cNvPr id="195" name=""/>
            <p:cNvSpPr/>
            <p:nvPr/>
          </p:nvSpPr>
          <p:spPr>
            <a:xfrm>
              <a:off x="1143000" y="3962520"/>
              <a:ext cx="75960" cy="304560"/>
            </a:xfrm>
            <a:prstGeom prst="flowChartTerminator">
              <a:avLst/>
            </a:prstGeom>
            <a:solidFill>
              <a:srgbClr val="ff06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4038480"/>
              <a:ext cx="75960" cy="75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95280" y="3657600"/>
            <a:ext cx="76320" cy="304920"/>
            <a:chOff x="1295280" y="3657600"/>
            <a:chExt cx="76320" cy="304920"/>
          </a:xfrm>
        </p:grpSpPr>
        <p:sp>
          <p:nvSpPr>
            <p:cNvPr id="198" name=""/>
            <p:cNvSpPr/>
            <p:nvPr/>
          </p:nvSpPr>
          <p:spPr>
            <a:xfrm>
              <a:off x="1295280" y="3657600"/>
              <a:ext cx="76320" cy="304920"/>
            </a:xfrm>
            <a:prstGeom prst="flowChartTerminator">
              <a:avLst/>
            </a:prstGeom>
            <a:solidFill>
              <a:srgbClr val="ff06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95280" y="37339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90720" y="3657600"/>
            <a:ext cx="75960" cy="533520"/>
            <a:chOff x="990720" y="3657600"/>
            <a:chExt cx="75960" cy="533520"/>
          </a:xfrm>
        </p:grpSpPr>
        <p:sp>
          <p:nvSpPr>
            <p:cNvPr id="201" name=""/>
            <p:cNvSpPr/>
            <p:nvPr/>
          </p:nvSpPr>
          <p:spPr>
            <a:xfrm>
              <a:off x="990720" y="3657600"/>
              <a:ext cx="75960" cy="5335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90720" y="38862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61480" y="3669120"/>
            <a:ext cx="487080" cy="358200"/>
            <a:chOff x="861480" y="3669120"/>
            <a:chExt cx="487080" cy="358200"/>
          </a:xfrm>
        </p:grpSpPr>
        <p:sp>
          <p:nvSpPr>
            <p:cNvPr id="204" name=""/>
            <p:cNvSpPr/>
            <p:nvPr/>
          </p:nvSpPr>
          <p:spPr>
            <a:xfrm rot="18209400">
              <a:off x="1066680" y="3581280"/>
              <a:ext cx="76320" cy="533520"/>
            </a:xfrm>
            <a:prstGeom prst="flowChartTermina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209400">
              <a:off x="1066320" y="38098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 flipV="1">
            <a:off x="685080" y="4069080"/>
            <a:ext cx="914040" cy="42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" y="11573"/>
                </a:moveTo>
                <a:arcTo wR="10800" hR="10800" stAng="10553709" swAng="11046291"/>
                <a:lnTo>
                  <a:pt x="10800" y="10800"/>
                </a:lnTo>
                <a:close/>
              </a:path>
              <a:path fill="none" w="21600" h="21600">
                <a:moveTo>
                  <a:pt x="28" y="11573"/>
                </a:moveTo>
                <a:arcTo wR="10800" hR="10800" stAng="10553709" swAng="110462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85080" y="4145400"/>
            <a:ext cx="914040" cy="42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" y="11573"/>
                </a:moveTo>
                <a:arcTo wR="10800" hR="10800" stAng="10553709" swAng="11046291"/>
                <a:lnTo>
                  <a:pt x="10800" y="10800"/>
                </a:lnTo>
                <a:close/>
              </a:path>
              <a:path fill="none" w="21600" h="21600">
                <a:moveTo>
                  <a:pt x="28" y="11573"/>
                </a:moveTo>
                <a:arcTo wR="10800" hR="10800" stAng="10553709" swAng="110462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761400" y="3993120"/>
            <a:ext cx="914040" cy="42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" y="11573"/>
                </a:moveTo>
                <a:arcTo wR="10800" hR="10800" stAng="10553709" swAng="11046291"/>
                <a:lnTo>
                  <a:pt x="10800" y="10800"/>
                </a:lnTo>
                <a:close/>
              </a:path>
              <a:path fill="none" w="21600" h="21600">
                <a:moveTo>
                  <a:pt x="28" y="11573"/>
                </a:moveTo>
                <a:arcTo wR="10800" hR="10800" stAng="10553709" swAng="1104629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28600" y="1676520"/>
            <a:ext cx="1600200" cy="1295280"/>
            <a:chOff x="228600" y="1676520"/>
            <a:chExt cx="1600200" cy="1295280"/>
          </a:xfrm>
        </p:grpSpPr>
        <p:sp>
          <p:nvSpPr>
            <p:cNvPr id="210" name=""/>
            <p:cNvSpPr/>
            <p:nvPr/>
          </p:nvSpPr>
          <p:spPr>
            <a:xfrm>
              <a:off x="228600" y="1676520"/>
              <a:ext cx="1600200" cy="129528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80880" y="1904760"/>
              <a:ext cx="1336680" cy="763920"/>
              <a:chOff x="380880" y="1904760"/>
              <a:chExt cx="1336680" cy="763920"/>
            </a:xfrm>
          </p:grpSpPr>
          <p:sp>
            <p:nvSpPr>
              <p:cNvPr id="212" name=""/>
              <p:cNvSpPr/>
              <p:nvPr/>
            </p:nvSpPr>
            <p:spPr>
              <a:xfrm flipH="1" flipV="1">
                <a:off x="469800" y="2250000"/>
                <a:ext cx="1087200" cy="110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1066680" y="2133000"/>
                <a:ext cx="76320" cy="533160"/>
                <a:chOff x="1066680" y="2133000"/>
                <a:chExt cx="76320" cy="5331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066680" y="2133000"/>
                  <a:ext cx="76320" cy="533160"/>
                </a:xfrm>
                <a:prstGeom prst="flowChartTermina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066680" y="236124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80880" y="1904760"/>
                <a:ext cx="1336680" cy="763920"/>
                <a:chOff x="380880" y="1904760"/>
                <a:chExt cx="1336680" cy="7639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456480" y="2057040"/>
                  <a:ext cx="1086840" cy="58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544400" y="2209320"/>
                  <a:ext cx="173160" cy="259920"/>
                </a:xfrm>
                <a:custGeom>
                  <a:avLst/>
                  <a:gdLst>
                    <a:gd name="textAreaLeft" fmla="*/ 25200 w 173160"/>
                    <a:gd name="textAreaRight" fmla="*/ 147960 w 173160"/>
                    <a:gd name="textAreaTop" fmla="*/ 37800 h 259920"/>
                    <a:gd name="textAreaBottom" fmla="*/ 22212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41" y="11741"/>
                      </a:lnTo>
                      <a:lnTo>
                        <a:pt x="198" y="12861"/>
                      </a:lnTo>
                      <a:lnTo>
                        <a:pt x="418" y="13777"/>
                      </a:lnTo>
                      <a:lnTo>
                        <a:pt x="786" y="14846"/>
                      </a:lnTo>
                      <a:lnTo>
                        <a:pt x="1264" y="15870"/>
                      </a:lnTo>
                      <a:lnTo>
                        <a:pt x="1742" y="16682"/>
                      </a:lnTo>
                      <a:lnTo>
                        <a:pt x="2407" y="17597"/>
                      </a:lnTo>
                      <a:lnTo>
                        <a:pt x="3163" y="18437"/>
                      </a:lnTo>
                      <a:lnTo>
                        <a:pt x="3858" y="19073"/>
                      </a:lnTo>
                      <a:lnTo>
                        <a:pt x="4761" y="19754"/>
                      </a:lnTo>
                      <a:lnTo>
                        <a:pt x="5564" y="20246"/>
                      </a:lnTo>
                      <a:lnTo>
                        <a:pt x="6580" y="20741"/>
                      </a:lnTo>
                      <a:lnTo>
                        <a:pt x="7642" y="21128"/>
                      </a:lnTo>
                      <a:lnTo>
                        <a:pt x="8555" y="21364"/>
                      </a:lnTo>
                      <a:lnTo>
                        <a:pt x="9671" y="21541"/>
                      </a:lnTo>
                      <a:lnTo>
                        <a:pt x="10800" y="21600"/>
                      </a:lnTo>
                      <a:lnTo>
                        <a:pt x="11741" y="21559"/>
                      </a:lnTo>
                      <a:lnTo>
                        <a:pt x="12861" y="21402"/>
                      </a:lnTo>
                      <a:lnTo>
                        <a:pt x="13777" y="21182"/>
                      </a:lnTo>
                      <a:lnTo>
                        <a:pt x="14846" y="20814"/>
                      </a:lnTo>
                      <a:lnTo>
                        <a:pt x="15870" y="20336"/>
                      </a:lnTo>
                      <a:lnTo>
                        <a:pt x="16682" y="19858"/>
                      </a:lnTo>
                      <a:lnTo>
                        <a:pt x="17597" y="19193"/>
                      </a:lnTo>
                      <a:lnTo>
                        <a:pt x="18437" y="18437"/>
                      </a:lnTo>
                      <a:lnTo>
                        <a:pt x="19073" y="17742"/>
                      </a:lnTo>
                      <a:lnTo>
                        <a:pt x="19754" y="16839"/>
                      </a:lnTo>
                      <a:lnTo>
                        <a:pt x="20246" y="16036"/>
                      </a:lnTo>
                      <a:lnTo>
                        <a:pt x="20741" y="15020"/>
                      </a:lnTo>
                      <a:lnTo>
                        <a:pt x="21128" y="13958"/>
                      </a:lnTo>
                      <a:lnTo>
                        <a:pt x="21364" y="13045"/>
                      </a:lnTo>
                      <a:lnTo>
                        <a:pt x="21541" y="11929"/>
                      </a:lnTo>
                      <a:lnTo>
                        <a:pt x="21600" y="10800"/>
                      </a:lnTo>
                      <a:lnTo>
                        <a:pt x="21559" y="9859"/>
                      </a:lnTo>
                      <a:lnTo>
                        <a:pt x="21402" y="8739"/>
                      </a:lnTo>
                      <a:lnTo>
                        <a:pt x="21182" y="7823"/>
                      </a:lnTo>
                      <a:lnTo>
                        <a:pt x="20814" y="6754"/>
                      </a:lnTo>
                      <a:lnTo>
                        <a:pt x="20336" y="5730"/>
                      </a:lnTo>
                      <a:lnTo>
                        <a:pt x="19858" y="4918"/>
                      </a:lnTo>
                      <a:lnTo>
                        <a:pt x="19193" y="4003"/>
                      </a:lnTo>
                      <a:lnTo>
                        <a:pt x="18437" y="3163"/>
                      </a:lnTo>
                      <a:lnTo>
                        <a:pt x="17742" y="2527"/>
                      </a:lnTo>
                      <a:lnTo>
                        <a:pt x="16839" y="1846"/>
                      </a:lnTo>
                      <a:lnTo>
                        <a:pt x="16036" y="1354"/>
                      </a:lnTo>
                      <a:lnTo>
                        <a:pt x="15020" y="859"/>
                      </a:lnTo>
                      <a:lnTo>
                        <a:pt x="13958" y="472"/>
                      </a:lnTo>
                      <a:lnTo>
                        <a:pt x="13045" y="236"/>
                      </a:lnTo>
                      <a:lnTo>
                        <a:pt x="11929" y="59"/>
                      </a:lnTo>
                      <a:lnTo>
                        <a:pt x="10800" y="0"/>
                      </a:lnTo>
                      <a:lnTo>
                        <a:pt x="9859" y="41"/>
                      </a:lnTo>
                      <a:lnTo>
                        <a:pt x="8739" y="198"/>
                      </a:lnTo>
                      <a:lnTo>
                        <a:pt x="7823" y="418"/>
                      </a:lnTo>
                      <a:lnTo>
                        <a:pt x="6754" y="786"/>
                      </a:lnTo>
                      <a:lnTo>
                        <a:pt x="5730" y="1264"/>
                      </a:lnTo>
                      <a:lnTo>
                        <a:pt x="4918" y="1742"/>
                      </a:lnTo>
                      <a:lnTo>
                        <a:pt x="4003" y="2407"/>
                      </a:lnTo>
                      <a:lnTo>
                        <a:pt x="3163" y="3163"/>
                      </a:lnTo>
                      <a:lnTo>
                        <a:pt x="2527" y="3858"/>
                      </a:lnTo>
                      <a:lnTo>
                        <a:pt x="1846" y="4761"/>
                      </a:lnTo>
                      <a:lnTo>
                        <a:pt x="1354" y="5564"/>
                      </a:lnTo>
                      <a:lnTo>
                        <a:pt x="859" y="6580"/>
                      </a:lnTo>
                      <a:lnTo>
                        <a:pt x="472" y="7642"/>
                      </a:lnTo>
                      <a:lnTo>
                        <a:pt x="236" y="8555"/>
                      </a:lnTo>
                      <a:lnTo>
                        <a:pt x="59" y="9671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>
                  <a:off x="477720" y="2224080"/>
                  <a:ext cx="1087200" cy="425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0880" y="2209320"/>
                  <a:ext cx="173160" cy="259920"/>
                </a:xfrm>
                <a:custGeom>
                  <a:avLst/>
                  <a:gdLst>
                    <a:gd name="textAreaLeft" fmla="*/ 25200 w 173160"/>
                    <a:gd name="textAreaRight" fmla="*/ 147960 w 173160"/>
                    <a:gd name="textAreaTop" fmla="*/ 37800 h 259920"/>
                    <a:gd name="textAreaBottom" fmla="*/ 222120 h 259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41" y="11741"/>
                      </a:lnTo>
                      <a:lnTo>
                        <a:pt x="198" y="12861"/>
                      </a:lnTo>
                      <a:lnTo>
                        <a:pt x="418" y="13777"/>
                      </a:lnTo>
                      <a:lnTo>
                        <a:pt x="786" y="14846"/>
                      </a:lnTo>
                      <a:lnTo>
                        <a:pt x="1264" y="15870"/>
                      </a:lnTo>
                      <a:lnTo>
                        <a:pt x="1742" y="16682"/>
                      </a:lnTo>
                      <a:lnTo>
                        <a:pt x="2407" y="17597"/>
                      </a:lnTo>
                      <a:lnTo>
                        <a:pt x="3163" y="18437"/>
                      </a:lnTo>
                      <a:lnTo>
                        <a:pt x="3858" y="19073"/>
                      </a:lnTo>
                      <a:lnTo>
                        <a:pt x="4761" y="19754"/>
                      </a:lnTo>
                      <a:lnTo>
                        <a:pt x="5564" y="20246"/>
                      </a:lnTo>
                      <a:lnTo>
                        <a:pt x="6580" y="20741"/>
                      </a:lnTo>
                      <a:lnTo>
                        <a:pt x="7642" y="21128"/>
                      </a:lnTo>
                      <a:lnTo>
                        <a:pt x="8555" y="21364"/>
                      </a:lnTo>
                      <a:lnTo>
                        <a:pt x="9671" y="21541"/>
                      </a:lnTo>
                      <a:lnTo>
                        <a:pt x="10800" y="21600"/>
                      </a:lnTo>
                      <a:lnTo>
                        <a:pt x="11741" y="21559"/>
                      </a:lnTo>
                      <a:lnTo>
                        <a:pt x="12861" y="21402"/>
                      </a:lnTo>
                      <a:lnTo>
                        <a:pt x="13777" y="21182"/>
                      </a:lnTo>
                      <a:lnTo>
                        <a:pt x="14846" y="20814"/>
                      </a:lnTo>
                      <a:lnTo>
                        <a:pt x="15870" y="20336"/>
                      </a:lnTo>
                      <a:lnTo>
                        <a:pt x="16682" y="19858"/>
                      </a:lnTo>
                      <a:lnTo>
                        <a:pt x="17597" y="19193"/>
                      </a:lnTo>
                      <a:lnTo>
                        <a:pt x="18437" y="18437"/>
                      </a:lnTo>
                      <a:lnTo>
                        <a:pt x="19073" y="17742"/>
                      </a:lnTo>
                      <a:lnTo>
                        <a:pt x="19754" y="16839"/>
                      </a:lnTo>
                      <a:lnTo>
                        <a:pt x="20246" y="16036"/>
                      </a:lnTo>
                      <a:lnTo>
                        <a:pt x="20741" y="15020"/>
                      </a:lnTo>
                      <a:lnTo>
                        <a:pt x="21128" y="13958"/>
                      </a:lnTo>
                      <a:lnTo>
                        <a:pt x="21364" y="13045"/>
                      </a:lnTo>
                      <a:lnTo>
                        <a:pt x="21541" y="11929"/>
                      </a:lnTo>
                      <a:lnTo>
                        <a:pt x="21600" y="10800"/>
                      </a:lnTo>
                      <a:lnTo>
                        <a:pt x="21559" y="9859"/>
                      </a:lnTo>
                      <a:lnTo>
                        <a:pt x="21402" y="8739"/>
                      </a:lnTo>
                      <a:lnTo>
                        <a:pt x="21182" y="7823"/>
                      </a:lnTo>
                      <a:lnTo>
                        <a:pt x="20814" y="6754"/>
                      </a:lnTo>
                      <a:lnTo>
                        <a:pt x="20336" y="5730"/>
                      </a:lnTo>
                      <a:lnTo>
                        <a:pt x="19858" y="4918"/>
                      </a:lnTo>
                      <a:lnTo>
                        <a:pt x="19193" y="4003"/>
                      </a:lnTo>
                      <a:lnTo>
                        <a:pt x="18437" y="3163"/>
                      </a:lnTo>
                      <a:lnTo>
                        <a:pt x="17742" y="2527"/>
                      </a:lnTo>
                      <a:lnTo>
                        <a:pt x="16839" y="1846"/>
                      </a:lnTo>
                      <a:lnTo>
                        <a:pt x="16036" y="1354"/>
                      </a:lnTo>
                      <a:lnTo>
                        <a:pt x="15020" y="859"/>
                      </a:lnTo>
                      <a:lnTo>
                        <a:pt x="13958" y="472"/>
                      </a:lnTo>
                      <a:lnTo>
                        <a:pt x="13045" y="236"/>
                      </a:lnTo>
                      <a:lnTo>
                        <a:pt x="11929" y="59"/>
                      </a:lnTo>
                      <a:lnTo>
                        <a:pt x="10800" y="0"/>
                      </a:lnTo>
                      <a:lnTo>
                        <a:pt x="9859" y="41"/>
                      </a:lnTo>
                      <a:lnTo>
                        <a:pt x="8739" y="198"/>
                      </a:lnTo>
                      <a:lnTo>
                        <a:pt x="7823" y="418"/>
                      </a:lnTo>
                      <a:lnTo>
                        <a:pt x="6754" y="786"/>
                      </a:lnTo>
                      <a:lnTo>
                        <a:pt x="5730" y="1264"/>
                      </a:lnTo>
                      <a:lnTo>
                        <a:pt x="4918" y="1742"/>
                      </a:lnTo>
                      <a:lnTo>
                        <a:pt x="4003" y="2407"/>
                      </a:lnTo>
                      <a:lnTo>
                        <a:pt x="3163" y="3163"/>
                      </a:lnTo>
                      <a:lnTo>
                        <a:pt x="2527" y="3858"/>
                      </a:lnTo>
                      <a:lnTo>
                        <a:pt x="1846" y="4761"/>
                      </a:lnTo>
                      <a:lnTo>
                        <a:pt x="1354" y="5564"/>
                      </a:lnTo>
                      <a:lnTo>
                        <a:pt x="859" y="6580"/>
                      </a:lnTo>
                      <a:lnTo>
                        <a:pt x="472" y="7642"/>
                      </a:lnTo>
                      <a:lnTo>
                        <a:pt x="236" y="8555"/>
                      </a:lnTo>
                      <a:lnTo>
                        <a:pt x="59" y="9671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477720" y="1904760"/>
                  <a:ext cx="1087200" cy="584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 flipV="1">
                  <a:off x="477720" y="2148840"/>
                  <a:ext cx="1087200" cy="42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456480" y="1980720"/>
                  <a:ext cx="1086840" cy="58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 flipV="1">
                  <a:off x="477720" y="2071800"/>
                  <a:ext cx="1087200" cy="425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 flipV="1">
                  <a:off x="477720" y="2097000"/>
                  <a:ext cx="1087200" cy="111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1163520" y="2057040"/>
                  <a:ext cx="75960" cy="304200"/>
                  <a:chOff x="1163520" y="2057040"/>
                  <a:chExt cx="75960" cy="3042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163520" y="2057040"/>
                    <a:ext cx="75960" cy="304200"/>
                  </a:xfrm>
                  <a:prstGeom prst="flowChartTerminator">
                    <a:avLst/>
                  </a:prstGeom>
                  <a:solidFill>
                    <a:srgbClr val="ff060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163520" y="2133000"/>
                    <a:ext cx="75960" cy="75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14400" y="1904760"/>
                  <a:ext cx="75960" cy="304560"/>
                  <a:chOff x="914400" y="1904760"/>
                  <a:chExt cx="75960" cy="3045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914400" y="1904760"/>
                    <a:ext cx="75960" cy="304560"/>
                  </a:xfrm>
                  <a:prstGeom prst="flowChartTerminator">
                    <a:avLst/>
                  </a:prstGeom>
                  <a:solidFill>
                    <a:srgbClr val="ff060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914400" y="1980720"/>
                    <a:ext cx="75960" cy="75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97400" y="2130120"/>
                  <a:ext cx="157680" cy="538560"/>
                  <a:chOff x="797400" y="2130120"/>
                  <a:chExt cx="157680" cy="538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21066600">
                    <a:off x="838080" y="2132640"/>
                    <a:ext cx="76320" cy="533160"/>
                  </a:xfrm>
                  <a:prstGeom prst="flowChartTermina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21066600">
                    <a:off x="838080" y="2361240"/>
                    <a:ext cx="76320" cy="75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35" name=""/>
          <p:cNvGrpSpPr/>
          <p:nvPr/>
        </p:nvGrpSpPr>
        <p:grpSpPr>
          <a:xfrm>
            <a:off x="2057400" y="762120"/>
            <a:ext cx="1773360" cy="1295280"/>
            <a:chOff x="2057400" y="762120"/>
            <a:chExt cx="1773360" cy="1295280"/>
          </a:xfrm>
        </p:grpSpPr>
        <p:grpSp>
          <p:nvGrpSpPr>
            <p:cNvPr id="236" name=""/>
            <p:cNvGrpSpPr/>
            <p:nvPr/>
          </p:nvGrpSpPr>
          <p:grpSpPr>
            <a:xfrm>
              <a:off x="2057400" y="762120"/>
              <a:ext cx="1773360" cy="1295280"/>
              <a:chOff x="2057400" y="762120"/>
              <a:chExt cx="1773360" cy="1295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057400" y="762120"/>
                <a:ext cx="1752480" cy="1295280"/>
              </a:xfrm>
              <a:prstGeom prst="ellips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819520" y="838440"/>
                <a:ext cx="75960" cy="304560"/>
                <a:chOff x="2819520" y="838440"/>
                <a:chExt cx="75960" cy="3045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819520" y="838440"/>
                  <a:ext cx="75960" cy="304560"/>
                </a:xfrm>
                <a:prstGeom prst="flowChartTerminator">
                  <a:avLst/>
                </a:prstGeom>
                <a:solidFill>
                  <a:srgbClr val="ff06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19520" y="914400"/>
                  <a:ext cx="75960" cy="75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895480" y="1143000"/>
                <a:ext cx="76320" cy="304920"/>
                <a:chOff x="2895480" y="1143000"/>
                <a:chExt cx="76320" cy="3049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895480" y="1143000"/>
                  <a:ext cx="76320" cy="304920"/>
                </a:xfrm>
                <a:prstGeom prst="flowChartTerminator">
                  <a:avLst/>
                </a:prstGeom>
                <a:solidFill>
                  <a:srgbClr val="ff060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895480" y="121932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743200" y="1295640"/>
                <a:ext cx="76320" cy="533160"/>
                <a:chOff x="2743200" y="1295640"/>
                <a:chExt cx="76320" cy="5331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743200" y="1295640"/>
                  <a:ext cx="76320" cy="533160"/>
                </a:xfrm>
                <a:prstGeom prst="flowChartTermina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43200" y="1523880"/>
                  <a:ext cx="7632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2954880" y="1369800"/>
                <a:ext cx="110160" cy="537120"/>
                <a:chOff x="2954880" y="1369800"/>
                <a:chExt cx="110160" cy="537120"/>
              </a:xfrm>
            </p:grpSpPr>
            <p:sp>
              <p:nvSpPr>
                <p:cNvPr id="248" name=""/>
                <p:cNvSpPr/>
                <p:nvPr/>
              </p:nvSpPr>
              <p:spPr>
                <a:xfrm rot="218400">
                  <a:off x="2971440" y="1371600"/>
                  <a:ext cx="76320" cy="533520"/>
                </a:xfrm>
                <a:prstGeom prst="flowChartTerminator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18400">
                  <a:off x="2971800" y="1599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657600" y="1295640"/>
                <a:ext cx="173160" cy="260280"/>
              </a:xfrm>
              <a:custGeom>
                <a:avLst/>
                <a:gdLst>
                  <a:gd name="textAreaLeft" fmla="*/ 25200 w 173160"/>
                  <a:gd name="textAreaRight" fmla="*/ 147960 w 173160"/>
                  <a:gd name="textAreaTop" fmla="*/ 38160 h 260280"/>
                  <a:gd name="textAreaBottom" fmla="*/ 2221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1" y="11741"/>
                    </a:lnTo>
                    <a:lnTo>
                      <a:pt x="198" y="12861"/>
                    </a:lnTo>
                    <a:lnTo>
                      <a:pt x="418" y="13777"/>
                    </a:lnTo>
                    <a:lnTo>
                      <a:pt x="786" y="14846"/>
                    </a:lnTo>
                    <a:lnTo>
                      <a:pt x="1264" y="15870"/>
                    </a:lnTo>
                    <a:lnTo>
                      <a:pt x="1742" y="16682"/>
                    </a:lnTo>
                    <a:lnTo>
                      <a:pt x="2407" y="17597"/>
                    </a:lnTo>
                    <a:lnTo>
                      <a:pt x="3163" y="18437"/>
                    </a:lnTo>
                    <a:lnTo>
                      <a:pt x="3858" y="19073"/>
                    </a:lnTo>
                    <a:lnTo>
                      <a:pt x="4761" y="19754"/>
                    </a:lnTo>
                    <a:lnTo>
                      <a:pt x="5564" y="20246"/>
                    </a:lnTo>
                    <a:lnTo>
                      <a:pt x="6580" y="20741"/>
                    </a:lnTo>
                    <a:lnTo>
                      <a:pt x="7642" y="21128"/>
                    </a:lnTo>
                    <a:lnTo>
                      <a:pt x="8555" y="21364"/>
                    </a:lnTo>
                    <a:lnTo>
                      <a:pt x="9671" y="21541"/>
                    </a:lnTo>
                    <a:lnTo>
                      <a:pt x="10800" y="21600"/>
                    </a:lnTo>
                    <a:lnTo>
                      <a:pt x="11741" y="21559"/>
                    </a:lnTo>
                    <a:lnTo>
                      <a:pt x="12861" y="21402"/>
                    </a:lnTo>
                    <a:lnTo>
                      <a:pt x="13777" y="21182"/>
                    </a:lnTo>
                    <a:lnTo>
                      <a:pt x="14846" y="20814"/>
                    </a:lnTo>
                    <a:lnTo>
                      <a:pt x="15870" y="20336"/>
                    </a:lnTo>
                    <a:lnTo>
                      <a:pt x="16682" y="19858"/>
                    </a:lnTo>
                    <a:lnTo>
                      <a:pt x="17597" y="19193"/>
                    </a:lnTo>
                    <a:lnTo>
                      <a:pt x="18437" y="18437"/>
                    </a:lnTo>
                    <a:lnTo>
                      <a:pt x="19073" y="17742"/>
                    </a:lnTo>
                    <a:lnTo>
                      <a:pt x="19754" y="16839"/>
                    </a:lnTo>
                    <a:lnTo>
                      <a:pt x="20246" y="16036"/>
                    </a:lnTo>
                    <a:lnTo>
                      <a:pt x="20741" y="15020"/>
                    </a:lnTo>
                    <a:lnTo>
                      <a:pt x="21128" y="13958"/>
                    </a:lnTo>
                    <a:lnTo>
                      <a:pt x="21364" y="13045"/>
                    </a:lnTo>
                    <a:lnTo>
                      <a:pt x="21541" y="11929"/>
                    </a:lnTo>
                    <a:lnTo>
                      <a:pt x="21600" y="10800"/>
                    </a:lnTo>
                    <a:lnTo>
                      <a:pt x="21559" y="9859"/>
                    </a:lnTo>
                    <a:lnTo>
                      <a:pt x="21402" y="8739"/>
                    </a:lnTo>
                    <a:lnTo>
                      <a:pt x="21182" y="7823"/>
                    </a:lnTo>
                    <a:lnTo>
                      <a:pt x="20814" y="6754"/>
                    </a:lnTo>
                    <a:lnTo>
                      <a:pt x="20336" y="5730"/>
                    </a:lnTo>
                    <a:lnTo>
                      <a:pt x="19858" y="4918"/>
                    </a:lnTo>
                    <a:lnTo>
                      <a:pt x="19193" y="4003"/>
                    </a:lnTo>
                    <a:lnTo>
                      <a:pt x="18437" y="3163"/>
                    </a:lnTo>
                    <a:lnTo>
                      <a:pt x="17742" y="2527"/>
                    </a:lnTo>
                    <a:lnTo>
                      <a:pt x="16839" y="1846"/>
                    </a:lnTo>
                    <a:lnTo>
                      <a:pt x="16036" y="1354"/>
                    </a:lnTo>
                    <a:lnTo>
                      <a:pt x="15020" y="859"/>
                    </a:lnTo>
                    <a:lnTo>
                      <a:pt x="13958" y="472"/>
                    </a:lnTo>
                    <a:lnTo>
                      <a:pt x="13045" y="236"/>
                    </a:lnTo>
                    <a:lnTo>
                      <a:pt x="11929" y="59"/>
                    </a:lnTo>
                    <a:lnTo>
                      <a:pt x="10800" y="0"/>
                    </a:lnTo>
                    <a:lnTo>
                      <a:pt x="9859" y="41"/>
                    </a:lnTo>
                    <a:lnTo>
                      <a:pt x="8739" y="198"/>
                    </a:lnTo>
                    <a:lnTo>
                      <a:pt x="7823" y="418"/>
                    </a:lnTo>
                    <a:lnTo>
                      <a:pt x="6754" y="786"/>
                    </a:lnTo>
                    <a:lnTo>
                      <a:pt x="5730" y="1264"/>
                    </a:lnTo>
                    <a:lnTo>
                      <a:pt x="4918" y="1742"/>
                    </a:lnTo>
                    <a:lnTo>
                      <a:pt x="4003" y="2407"/>
                    </a:lnTo>
                    <a:lnTo>
                      <a:pt x="3163" y="3163"/>
                    </a:lnTo>
                    <a:lnTo>
                      <a:pt x="2527" y="3858"/>
                    </a:lnTo>
                    <a:lnTo>
                      <a:pt x="1846" y="4761"/>
                    </a:lnTo>
                    <a:lnTo>
                      <a:pt x="1354" y="5564"/>
                    </a:lnTo>
                    <a:lnTo>
                      <a:pt x="859" y="6580"/>
                    </a:lnTo>
                    <a:lnTo>
                      <a:pt x="472" y="7642"/>
                    </a:lnTo>
                    <a:lnTo>
                      <a:pt x="236" y="8555"/>
                    </a:lnTo>
                    <a:lnTo>
                      <a:pt x="59" y="9671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2133720" y="1375920"/>
                <a:ext cx="1599840" cy="22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057400" y="1295640"/>
                <a:ext cx="173160" cy="260280"/>
              </a:xfrm>
              <a:custGeom>
                <a:avLst/>
                <a:gdLst>
                  <a:gd name="textAreaLeft" fmla="*/ 25200 w 173160"/>
                  <a:gd name="textAreaRight" fmla="*/ 147960 w 173160"/>
                  <a:gd name="textAreaTop" fmla="*/ 38160 h 260280"/>
                  <a:gd name="textAreaBottom" fmla="*/ 222120 h 260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1" y="11741"/>
                    </a:lnTo>
                    <a:lnTo>
                      <a:pt x="198" y="12861"/>
                    </a:lnTo>
                    <a:lnTo>
                      <a:pt x="418" y="13777"/>
                    </a:lnTo>
                    <a:lnTo>
                      <a:pt x="786" y="14846"/>
                    </a:lnTo>
                    <a:lnTo>
                      <a:pt x="1264" y="15870"/>
                    </a:lnTo>
                    <a:lnTo>
                      <a:pt x="1742" y="16682"/>
                    </a:lnTo>
                    <a:lnTo>
                      <a:pt x="2407" y="17597"/>
                    </a:lnTo>
                    <a:lnTo>
                      <a:pt x="3163" y="18437"/>
                    </a:lnTo>
                    <a:lnTo>
                      <a:pt x="3858" y="19073"/>
                    </a:lnTo>
                    <a:lnTo>
                      <a:pt x="4761" y="19754"/>
                    </a:lnTo>
                    <a:lnTo>
                      <a:pt x="5564" y="20246"/>
                    </a:lnTo>
                    <a:lnTo>
                      <a:pt x="6580" y="20741"/>
                    </a:lnTo>
                    <a:lnTo>
                      <a:pt x="7642" y="21128"/>
                    </a:lnTo>
                    <a:lnTo>
                      <a:pt x="8555" y="21364"/>
                    </a:lnTo>
                    <a:lnTo>
                      <a:pt x="9671" y="21541"/>
                    </a:lnTo>
                    <a:lnTo>
                      <a:pt x="10800" y="21600"/>
                    </a:lnTo>
                    <a:lnTo>
                      <a:pt x="11741" y="21559"/>
                    </a:lnTo>
                    <a:lnTo>
                      <a:pt x="12861" y="21402"/>
                    </a:lnTo>
                    <a:lnTo>
                      <a:pt x="13777" y="21182"/>
                    </a:lnTo>
                    <a:lnTo>
                      <a:pt x="14846" y="20814"/>
                    </a:lnTo>
                    <a:lnTo>
                      <a:pt x="15870" y="20336"/>
                    </a:lnTo>
                    <a:lnTo>
                      <a:pt x="16682" y="19858"/>
                    </a:lnTo>
                    <a:lnTo>
                      <a:pt x="17597" y="19193"/>
                    </a:lnTo>
                    <a:lnTo>
                      <a:pt x="18437" y="18437"/>
                    </a:lnTo>
                    <a:lnTo>
                      <a:pt x="19073" y="17742"/>
                    </a:lnTo>
                    <a:lnTo>
                      <a:pt x="19754" y="16839"/>
                    </a:lnTo>
                    <a:lnTo>
                      <a:pt x="20246" y="16036"/>
                    </a:lnTo>
                    <a:lnTo>
                      <a:pt x="20741" y="15020"/>
                    </a:lnTo>
                    <a:lnTo>
                      <a:pt x="21128" y="13958"/>
                    </a:lnTo>
                    <a:lnTo>
                      <a:pt x="21364" y="13045"/>
                    </a:lnTo>
                    <a:lnTo>
                      <a:pt x="21541" y="11929"/>
                    </a:lnTo>
                    <a:lnTo>
                      <a:pt x="21600" y="10800"/>
                    </a:lnTo>
                    <a:lnTo>
                      <a:pt x="21559" y="9859"/>
                    </a:lnTo>
                    <a:lnTo>
                      <a:pt x="21402" y="8739"/>
                    </a:lnTo>
                    <a:lnTo>
                      <a:pt x="21182" y="7823"/>
                    </a:lnTo>
                    <a:lnTo>
                      <a:pt x="20814" y="6754"/>
                    </a:lnTo>
                    <a:lnTo>
                      <a:pt x="20336" y="5730"/>
                    </a:lnTo>
                    <a:lnTo>
                      <a:pt x="19858" y="4918"/>
                    </a:lnTo>
                    <a:lnTo>
                      <a:pt x="19193" y="4003"/>
                    </a:lnTo>
                    <a:lnTo>
                      <a:pt x="18437" y="3163"/>
                    </a:lnTo>
                    <a:lnTo>
                      <a:pt x="17742" y="2527"/>
                    </a:lnTo>
                    <a:lnTo>
                      <a:pt x="16839" y="1846"/>
                    </a:lnTo>
                    <a:lnTo>
                      <a:pt x="16036" y="1354"/>
                    </a:lnTo>
                    <a:lnTo>
                      <a:pt x="15020" y="859"/>
                    </a:lnTo>
                    <a:lnTo>
                      <a:pt x="13958" y="472"/>
                    </a:lnTo>
                    <a:lnTo>
                      <a:pt x="13045" y="236"/>
                    </a:lnTo>
                    <a:lnTo>
                      <a:pt x="11929" y="59"/>
                    </a:lnTo>
                    <a:lnTo>
                      <a:pt x="10800" y="0"/>
                    </a:lnTo>
                    <a:lnTo>
                      <a:pt x="9859" y="41"/>
                    </a:lnTo>
                    <a:lnTo>
                      <a:pt x="8739" y="198"/>
                    </a:lnTo>
                    <a:lnTo>
                      <a:pt x="7823" y="418"/>
                    </a:lnTo>
                    <a:lnTo>
                      <a:pt x="6754" y="786"/>
                    </a:lnTo>
                    <a:lnTo>
                      <a:pt x="5730" y="1264"/>
                    </a:lnTo>
                    <a:lnTo>
                      <a:pt x="4918" y="1742"/>
                    </a:lnTo>
                    <a:lnTo>
                      <a:pt x="4003" y="2407"/>
                    </a:lnTo>
                    <a:lnTo>
                      <a:pt x="3163" y="3163"/>
                    </a:lnTo>
                    <a:lnTo>
                      <a:pt x="2527" y="3858"/>
                    </a:lnTo>
                    <a:lnTo>
                      <a:pt x="1846" y="4761"/>
                    </a:lnTo>
                    <a:lnTo>
                      <a:pt x="1354" y="5564"/>
                    </a:lnTo>
                    <a:lnTo>
                      <a:pt x="859" y="6580"/>
                    </a:lnTo>
                    <a:lnTo>
                      <a:pt x="472" y="7642"/>
                    </a:lnTo>
                    <a:lnTo>
                      <a:pt x="236" y="8555"/>
                    </a:lnTo>
                    <a:lnTo>
                      <a:pt x="59" y="9671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208960" y="990720"/>
                <a:ext cx="1523880" cy="67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2208960" y="1154160"/>
                <a:ext cx="1523880" cy="67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2208960" y="1067040"/>
                <a:ext cx="1447560" cy="67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2209680" y="1295640"/>
                <a:ext cx="1599840" cy="11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133360" y="1347120"/>
              <a:ext cx="1599840" cy="313200"/>
              <a:chOff x="2133360" y="1347120"/>
              <a:chExt cx="1599840" cy="313200"/>
            </a:xfrm>
          </p:grpSpPr>
          <p:sp>
            <p:nvSpPr>
              <p:cNvPr id="258" name=""/>
              <p:cNvSpPr/>
              <p:nvPr/>
            </p:nvSpPr>
            <p:spPr>
              <a:xfrm flipH="1" flipV="1">
                <a:off x="2133000" y="1347120"/>
                <a:ext cx="1544040" cy="31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>
                <a:off x="2208960" y="1411200"/>
                <a:ext cx="1523880" cy="11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8" y="11573"/>
                    </a:moveTo>
                    <a:arcTo wR="10800" hR="10800" stAng="10553709" swAng="122990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8" y="11573"/>
                    </a:moveTo>
                    <a:arcTo wR="10800" hR="10800" stAng="10553709" swAng="12299015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4648320" y="914400"/>
            <a:ext cx="1640880" cy="1295280"/>
            <a:chOff x="4648320" y="914400"/>
            <a:chExt cx="1640880" cy="1295280"/>
          </a:xfrm>
        </p:grpSpPr>
        <p:grpSp>
          <p:nvGrpSpPr>
            <p:cNvPr id="261" name=""/>
            <p:cNvGrpSpPr/>
            <p:nvPr/>
          </p:nvGrpSpPr>
          <p:grpSpPr>
            <a:xfrm>
              <a:off x="4648320" y="914400"/>
              <a:ext cx="1640880" cy="1295280"/>
              <a:chOff x="4648320" y="914400"/>
              <a:chExt cx="1640880" cy="12952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4668840" y="914400"/>
                <a:ext cx="1599840" cy="1295280"/>
                <a:chOff x="4668840" y="914400"/>
                <a:chExt cx="1599840" cy="12952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668840" y="914400"/>
                  <a:ext cx="1599840" cy="129528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4744440" y="1218960"/>
                  <a:ext cx="1447200" cy="430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>
                  <a:off x="4744440" y="1295280"/>
                  <a:ext cx="1447200" cy="42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4744440" y="1371600"/>
                  <a:ext cx="1447200" cy="42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H="1">
                  <a:off x="4744440" y="1485720"/>
                  <a:ext cx="1447200" cy="317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4744440" y="1644120"/>
                  <a:ext cx="1447200" cy="119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19617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1961752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4744440" y="1542960"/>
                  <a:ext cx="1447200" cy="361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19617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1961752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 flipV="1">
                  <a:off x="4744440" y="1453320"/>
                  <a:ext cx="1459440" cy="60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19617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1961752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6116400" y="1511280"/>
                <a:ext cx="172800" cy="191880"/>
              </a:xfrm>
              <a:custGeom>
                <a:avLst/>
                <a:gdLst>
                  <a:gd name="textAreaLeft" fmla="*/ 25200 w 172800"/>
                  <a:gd name="textAreaRight" fmla="*/ 147600 w 172800"/>
                  <a:gd name="textAreaTop" fmla="*/ 28080 h 191880"/>
                  <a:gd name="textAreaBottom" fmla="*/ 163800 h 191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1" y="11741"/>
                    </a:lnTo>
                    <a:lnTo>
                      <a:pt x="198" y="12861"/>
                    </a:lnTo>
                    <a:lnTo>
                      <a:pt x="418" y="13777"/>
                    </a:lnTo>
                    <a:lnTo>
                      <a:pt x="786" y="14846"/>
                    </a:lnTo>
                    <a:lnTo>
                      <a:pt x="1264" y="15870"/>
                    </a:lnTo>
                    <a:lnTo>
                      <a:pt x="1742" y="16682"/>
                    </a:lnTo>
                    <a:lnTo>
                      <a:pt x="2407" y="17597"/>
                    </a:lnTo>
                    <a:lnTo>
                      <a:pt x="3163" y="18437"/>
                    </a:lnTo>
                    <a:lnTo>
                      <a:pt x="3858" y="19073"/>
                    </a:lnTo>
                    <a:lnTo>
                      <a:pt x="4761" y="19754"/>
                    </a:lnTo>
                    <a:lnTo>
                      <a:pt x="5564" y="20246"/>
                    </a:lnTo>
                    <a:lnTo>
                      <a:pt x="6580" y="20741"/>
                    </a:lnTo>
                    <a:lnTo>
                      <a:pt x="7642" y="21128"/>
                    </a:lnTo>
                    <a:lnTo>
                      <a:pt x="8555" y="21364"/>
                    </a:lnTo>
                    <a:lnTo>
                      <a:pt x="9671" y="21541"/>
                    </a:lnTo>
                    <a:lnTo>
                      <a:pt x="10800" y="21600"/>
                    </a:lnTo>
                    <a:lnTo>
                      <a:pt x="11741" y="21559"/>
                    </a:lnTo>
                    <a:lnTo>
                      <a:pt x="12861" y="21402"/>
                    </a:lnTo>
                    <a:lnTo>
                      <a:pt x="13777" y="21182"/>
                    </a:lnTo>
                    <a:lnTo>
                      <a:pt x="14846" y="20814"/>
                    </a:lnTo>
                    <a:lnTo>
                      <a:pt x="15870" y="20336"/>
                    </a:lnTo>
                    <a:lnTo>
                      <a:pt x="16682" y="19858"/>
                    </a:lnTo>
                    <a:lnTo>
                      <a:pt x="17597" y="19193"/>
                    </a:lnTo>
                    <a:lnTo>
                      <a:pt x="18437" y="18437"/>
                    </a:lnTo>
                    <a:lnTo>
                      <a:pt x="19073" y="17742"/>
                    </a:lnTo>
                    <a:lnTo>
                      <a:pt x="19754" y="16839"/>
                    </a:lnTo>
                    <a:lnTo>
                      <a:pt x="20246" y="16036"/>
                    </a:lnTo>
                    <a:lnTo>
                      <a:pt x="20741" y="15020"/>
                    </a:lnTo>
                    <a:lnTo>
                      <a:pt x="21128" y="13958"/>
                    </a:lnTo>
                    <a:lnTo>
                      <a:pt x="21364" y="13045"/>
                    </a:lnTo>
                    <a:lnTo>
                      <a:pt x="21541" y="11929"/>
                    </a:lnTo>
                    <a:lnTo>
                      <a:pt x="21600" y="10800"/>
                    </a:lnTo>
                    <a:lnTo>
                      <a:pt x="21559" y="9859"/>
                    </a:lnTo>
                    <a:lnTo>
                      <a:pt x="21402" y="8739"/>
                    </a:lnTo>
                    <a:lnTo>
                      <a:pt x="21182" y="7823"/>
                    </a:lnTo>
                    <a:lnTo>
                      <a:pt x="20814" y="6754"/>
                    </a:lnTo>
                    <a:lnTo>
                      <a:pt x="20336" y="5730"/>
                    </a:lnTo>
                    <a:lnTo>
                      <a:pt x="19858" y="4918"/>
                    </a:lnTo>
                    <a:lnTo>
                      <a:pt x="19193" y="4003"/>
                    </a:lnTo>
                    <a:lnTo>
                      <a:pt x="18437" y="3163"/>
                    </a:lnTo>
                    <a:lnTo>
                      <a:pt x="17742" y="2527"/>
                    </a:lnTo>
                    <a:lnTo>
                      <a:pt x="16839" y="1846"/>
                    </a:lnTo>
                    <a:lnTo>
                      <a:pt x="16036" y="1354"/>
                    </a:lnTo>
                    <a:lnTo>
                      <a:pt x="15020" y="859"/>
                    </a:lnTo>
                    <a:lnTo>
                      <a:pt x="13958" y="472"/>
                    </a:lnTo>
                    <a:lnTo>
                      <a:pt x="13045" y="236"/>
                    </a:lnTo>
                    <a:lnTo>
                      <a:pt x="11929" y="59"/>
                    </a:lnTo>
                    <a:lnTo>
                      <a:pt x="10800" y="0"/>
                    </a:lnTo>
                    <a:lnTo>
                      <a:pt x="9859" y="41"/>
                    </a:lnTo>
                    <a:lnTo>
                      <a:pt x="8739" y="198"/>
                    </a:lnTo>
                    <a:lnTo>
                      <a:pt x="7823" y="418"/>
                    </a:lnTo>
                    <a:lnTo>
                      <a:pt x="6754" y="786"/>
                    </a:lnTo>
                    <a:lnTo>
                      <a:pt x="5730" y="1264"/>
                    </a:lnTo>
                    <a:lnTo>
                      <a:pt x="4918" y="1742"/>
                    </a:lnTo>
                    <a:lnTo>
                      <a:pt x="4003" y="2407"/>
                    </a:lnTo>
                    <a:lnTo>
                      <a:pt x="3163" y="3163"/>
                    </a:lnTo>
                    <a:lnTo>
                      <a:pt x="2527" y="3858"/>
                    </a:lnTo>
                    <a:lnTo>
                      <a:pt x="1846" y="4761"/>
                    </a:lnTo>
                    <a:lnTo>
                      <a:pt x="1354" y="5564"/>
                    </a:lnTo>
                    <a:lnTo>
                      <a:pt x="859" y="6580"/>
                    </a:lnTo>
                    <a:lnTo>
                      <a:pt x="472" y="7642"/>
                    </a:lnTo>
                    <a:lnTo>
                      <a:pt x="236" y="8555"/>
                    </a:lnTo>
                    <a:lnTo>
                      <a:pt x="59" y="9671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48320" y="1485720"/>
                <a:ext cx="172800" cy="192240"/>
              </a:xfrm>
              <a:custGeom>
                <a:avLst/>
                <a:gdLst>
                  <a:gd name="textAreaLeft" fmla="*/ 25200 w 172800"/>
                  <a:gd name="textAreaRight" fmla="*/ 147600 w 172800"/>
                  <a:gd name="textAreaTop" fmla="*/ 28080 h 192240"/>
                  <a:gd name="textAreaBottom" fmla="*/ 164160 h 19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41" y="11741"/>
                    </a:lnTo>
                    <a:lnTo>
                      <a:pt x="198" y="12861"/>
                    </a:lnTo>
                    <a:lnTo>
                      <a:pt x="418" y="13777"/>
                    </a:lnTo>
                    <a:lnTo>
                      <a:pt x="786" y="14846"/>
                    </a:lnTo>
                    <a:lnTo>
                      <a:pt x="1264" y="15870"/>
                    </a:lnTo>
                    <a:lnTo>
                      <a:pt x="1742" y="16682"/>
                    </a:lnTo>
                    <a:lnTo>
                      <a:pt x="2407" y="17597"/>
                    </a:lnTo>
                    <a:lnTo>
                      <a:pt x="3163" y="18437"/>
                    </a:lnTo>
                    <a:lnTo>
                      <a:pt x="3858" y="19073"/>
                    </a:lnTo>
                    <a:lnTo>
                      <a:pt x="4761" y="19754"/>
                    </a:lnTo>
                    <a:lnTo>
                      <a:pt x="5564" y="20246"/>
                    </a:lnTo>
                    <a:lnTo>
                      <a:pt x="6580" y="20741"/>
                    </a:lnTo>
                    <a:lnTo>
                      <a:pt x="7642" y="21128"/>
                    </a:lnTo>
                    <a:lnTo>
                      <a:pt x="8555" y="21364"/>
                    </a:lnTo>
                    <a:lnTo>
                      <a:pt x="9671" y="21541"/>
                    </a:lnTo>
                    <a:lnTo>
                      <a:pt x="10800" y="21600"/>
                    </a:lnTo>
                    <a:lnTo>
                      <a:pt x="11741" y="21559"/>
                    </a:lnTo>
                    <a:lnTo>
                      <a:pt x="12861" y="21402"/>
                    </a:lnTo>
                    <a:lnTo>
                      <a:pt x="13777" y="21182"/>
                    </a:lnTo>
                    <a:lnTo>
                      <a:pt x="14846" y="20814"/>
                    </a:lnTo>
                    <a:lnTo>
                      <a:pt x="15870" y="20336"/>
                    </a:lnTo>
                    <a:lnTo>
                      <a:pt x="16682" y="19858"/>
                    </a:lnTo>
                    <a:lnTo>
                      <a:pt x="17597" y="19193"/>
                    </a:lnTo>
                    <a:lnTo>
                      <a:pt x="18437" y="18437"/>
                    </a:lnTo>
                    <a:lnTo>
                      <a:pt x="19073" y="17742"/>
                    </a:lnTo>
                    <a:lnTo>
                      <a:pt x="19754" y="16839"/>
                    </a:lnTo>
                    <a:lnTo>
                      <a:pt x="20246" y="16036"/>
                    </a:lnTo>
                    <a:lnTo>
                      <a:pt x="20741" y="15020"/>
                    </a:lnTo>
                    <a:lnTo>
                      <a:pt x="21128" y="13958"/>
                    </a:lnTo>
                    <a:lnTo>
                      <a:pt x="21364" y="13045"/>
                    </a:lnTo>
                    <a:lnTo>
                      <a:pt x="21541" y="11929"/>
                    </a:lnTo>
                    <a:lnTo>
                      <a:pt x="21600" y="10800"/>
                    </a:lnTo>
                    <a:lnTo>
                      <a:pt x="21559" y="9859"/>
                    </a:lnTo>
                    <a:lnTo>
                      <a:pt x="21402" y="8739"/>
                    </a:lnTo>
                    <a:lnTo>
                      <a:pt x="21182" y="7823"/>
                    </a:lnTo>
                    <a:lnTo>
                      <a:pt x="20814" y="6754"/>
                    </a:lnTo>
                    <a:lnTo>
                      <a:pt x="20336" y="5730"/>
                    </a:lnTo>
                    <a:lnTo>
                      <a:pt x="19858" y="4918"/>
                    </a:lnTo>
                    <a:lnTo>
                      <a:pt x="19193" y="4003"/>
                    </a:lnTo>
                    <a:lnTo>
                      <a:pt x="18437" y="3163"/>
                    </a:lnTo>
                    <a:lnTo>
                      <a:pt x="17742" y="2527"/>
                    </a:lnTo>
                    <a:lnTo>
                      <a:pt x="16839" y="1846"/>
                    </a:lnTo>
                    <a:lnTo>
                      <a:pt x="16036" y="1354"/>
                    </a:lnTo>
                    <a:lnTo>
                      <a:pt x="15020" y="859"/>
                    </a:lnTo>
                    <a:lnTo>
                      <a:pt x="13958" y="472"/>
                    </a:lnTo>
                    <a:lnTo>
                      <a:pt x="13045" y="236"/>
                    </a:lnTo>
                    <a:lnTo>
                      <a:pt x="11929" y="59"/>
                    </a:lnTo>
                    <a:lnTo>
                      <a:pt x="10800" y="0"/>
                    </a:lnTo>
                    <a:lnTo>
                      <a:pt x="9859" y="41"/>
                    </a:lnTo>
                    <a:lnTo>
                      <a:pt x="8739" y="198"/>
                    </a:lnTo>
                    <a:lnTo>
                      <a:pt x="7823" y="418"/>
                    </a:lnTo>
                    <a:lnTo>
                      <a:pt x="6754" y="786"/>
                    </a:lnTo>
                    <a:lnTo>
                      <a:pt x="5730" y="1264"/>
                    </a:lnTo>
                    <a:lnTo>
                      <a:pt x="4918" y="1742"/>
                    </a:lnTo>
                    <a:lnTo>
                      <a:pt x="4003" y="2407"/>
                    </a:lnTo>
                    <a:lnTo>
                      <a:pt x="3163" y="3163"/>
                    </a:lnTo>
                    <a:lnTo>
                      <a:pt x="2527" y="3858"/>
                    </a:lnTo>
                    <a:lnTo>
                      <a:pt x="1846" y="4761"/>
                    </a:lnTo>
                    <a:lnTo>
                      <a:pt x="1354" y="5564"/>
                    </a:lnTo>
                    <a:lnTo>
                      <a:pt x="859" y="6580"/>
                    </a:lnTo>
                    <a:lnTo>
                      <a:pt x="472" y="7642"/>
                    </a:lnTo>
                    <a:lnTo>
                      <a:pt x="236" y="8555"/>
                    </a:lnTo>
                    <a:lnTo>
                      <a:pt x="59" y="9671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483520" y="1136880"/>
              <a:ext cx="309960" cy="163440"/>
              <a:chOff x="5483520" y="1136880"/>
              <a:chExt cx="309960" cy="163440"/>
            </a:xfrm>
          </p:grpSpPr>
          <p:sp>
            <p:nvSpPr>
              <p:cNvPr id="274" name=""/>
              <p:cNvSpPr/>
              <p:nvPr/>
            </p:nvSpPr>
            <p:spPr>
              <a:xfrm rot="10673400">
                <a:off x="5486040" y="1142280"/>
                <a:ext cx="304560" cy="152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6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0673400">
                <a:off x="5715000" y="117648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636160" y="1441800"/>
              <a:ext cx="309960" cy="163800"/>
              <a:chOff x="5636160" y="1441800"/>
              <a:chExt cx="309960" cy="163800"/>
            </a:xfrm>
          </p:grpSpPr>
          <p:sp>
            <p:nvSpPr>
              <p:cNvPr id="277" name=""/>
              <p:cNvSpPr/>
              <p:nvPr/>
            </p:nvSpPr>
            <p:spPr>
              <a:xfrm rot="10673400">
                <a:off x="5638680" y="1447200"/>
                <a:ext cx="304560" cy="152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6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0673400">
                <a:off x="5867280" y="148104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327640" y="1649880"/>
              <a:ext cx="545760" cy="205560"/>
              <a:chOff x="5327640" y="1649880"/>
              <a:chExt cx="545760" cy="205560"/>
            </a:xfrm>
          </p:grpSpPr>
          <p:sp>
            <p:nvSpPr>
              <p:cNvPr id="280" name=""/>
              <p:cNvSpPr/>
              <p:nvPr/>
            </p:nvSpPr>
            <p:spPr>
              <a:xfrm rot="10452000">
                <a:off x="5333760" y="1676160"/>
                <a:ext cx="533160" cy="152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0452000">
                <a:off x="5789520" y="16912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5327640" y="1878480"/>
              <a:ext cx="545760" cy="205560"/>
              <a:chOff x="5327640" y="1878480"/>
              <a:chExt cx="545760" cy="205560"/>
            </a:xfrm>
          </p:grpSpPr>
          <p:sp>
            <p:nvSpPr>
              <p:cNvPr id="283" name=""/>
              <p:cNvSpPr/>
              <p:nvPr/>
            </p:nvSpPr>
            <p:spPr>
              <a:xfrm rot="10452000">
                <a:off x="5333760" y="1904760"/>
                <a:ext cx="533160" cy="152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0452000">
                <a:off x="5789520" y="191988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927680" y="1663560"/>
              <a:ext cx="533160" cy="152280"/>
              <a:chOff x="4927680" y="1663560"/>
              <a:chExt cx="533160" cy="152280"/>
            </a:xfrm>
          </p:grpSpPr>
          <p:sp>
            <p:nvSpPr>
              <p:cNvPr id="286" name=""/>
              <p:cNvSpPr/>
              <p:nvPr/>
            </p:nvSpPr>
            <p:spPr>
              <a:xfrm>
                <a:off x="4927680" y="1663560"/>
                <a:ext cx="533160" cy="152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27680" y="170172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851360" y="1828800"/>
              <a:ext cx="533160" cy="152280"/>
              <a:chOff x="4851360" y="1828800"/>
              <a:chExt cx="533160" cy="152280"/>
            </a:xfrm>
          </p:grpSpPr>
          <p:sp>
            <p:nvSpPr>
              <p:cNvPr id="289" name=""/>
              <p:cNvSpPr/>
              <p:nvPr/>
            </p:nvSpPr>
            <p:spPr>
              <a:xfrm>
                <a:off x="4851360" y="1828800"/>
                <a:ext cx="533160" cy="152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851360" y="18669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029200" y="1143000"/>
              <a:ext cx="330120" cy="152280"/>
              <a:chOff x="5029200" y="1143000"/>
              <a:chExt cx="330120" cy="152280"/>
            </a:xfrm>
          </p:grpSpPr>
          <p:sp>
            <p:nvSpPr>
              <p:cNvPr id="292" name=""/>
              <p:cNvSpPr/>
              <p:nvPr/>
            </p:nvSpPr>
            <p:spPr>
              <a:xfrm>
                <a:off x="5054400" y="1143000"/>
                <a:ext cx="304920" cy="152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6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29200" y="118116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181480" y="1396800"/>
              <a:ext cx="304920" cy="152640"/>
              <a:chOff x="5181480" y="1396800"/>
              <a:chExt cx="304920" cy="15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5181480" y="1396800"/>
                <a:ext cx="304920" cy="152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60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81480" y="14349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075000" y="2133720"/>
            <a:ext cx="2535480" cy="1295280"/>
            <a:chOff x="6075000" y="2133720"/>
            <a:chExt cx="2535480" cy="1295280"/>
          </a:xfrm>
        </p:grpSpPr>
        <p:grpSp>
          <p:nvGrpSpPr>
            <p:cNvPr id="298" name=""/>
            <p:cNvGrpSpPr/>
            <p:nvPr/>
          </p:nvGrpSpPr>
          <p:grpSpPr>
            <a:xfrm>
              <a:off x="6075000" y="2133720"/>
              <a:ext cx="2535480" cy="1295280"/>
              <a:chOff x="6075000" y="2133720"/>
              <a:chExt cx="2535480" cy="1295280"/>
            </a:xfrm>
          </p:grpSpPr>
          <p:grpSp>
            <p:nvGrpSpPr>
              <p:cNvPr id="299" name=""/>
              <p:cNvGrpSpPr/>
              <p:nvPr/>
            </p:nvGrpSpPr>
            <p:grpSpPr>
              <a:xfrm>
                <a:off x="6075000" y="2133720"/>
                <a:ext cx="2535480" cy="1295280"/>
                <a:chOff x="6075000" y="2133720"/>
                <a:chExt cx="2535480" cy="129528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6075360" y="2133720"/>
                  <a:ext cx="2514600" cy="1295280"/>
                  <a:chOff x="6075360" y="2133720"/>
                  <a:chExt cx="2514600" cy="1295280"/>
                </a:xfrm>
              </p:grpSpPr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6075360" y="2133720"/>
                    <a:ext cx="1641600" cy="1295280"/>
                    <a:chOff x="6075360" y="2133720"/>
                    <a:chExt cx="1641600" cy="1295280"/>
                  </a:xfrm>
                </p:grpSpPr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6096240" y="2133720"/>
                      <a:ext cx="1600200" cy="1295280"/>
                      <a:chOff x="6096240" y="2133720"/>
                      <a:chExt cx="1600200" cy="129528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6096240" y="2133720"/>
                        <a:ext cx="1600200" cy="1295280"/>
                      </a:xfrm>
                      <a:prstGeom prst="ellipse">
                        <a:avLst/>
                      </a:prstGeom>
                      <a:blipFill rotWithShape="0">
                        <a:blip r:embed="rId20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 flipH="1">
                        <a:off x="6171480" y="2438280"/>
                        <a:ext cx="1447560" cy="430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229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2299015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flipH="1">
                        <a:off x="6171480" y="2514600"/>
                        <a:ext cx="1447560" cy="42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229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2299015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 flipH="1">
                        <a:off x="6171480" y="2590920"/>
                        <a:ext cx="1447560" cy="42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229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2299015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 flipH="1">
                        <a:off x="6171480" y="2705040"/>
                        <a:ext cx="1447560" cy="31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2299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2299015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 flipH="1" flipV="1">
                        <a:off x="6171480" y="2863440"/>
                        <a:ext cx="1447560" cy="11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196175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1961752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 flipH="1" flipV="1">
                        <a:off x="6171480" y="2762280"/>
                        <a:ext cx="1447560" cy="36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196175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1961752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 flipH="1" flipV="1">
                        <a:off x="6172200" y="2672640"/>
                        <a:ext cx="1460160" cy="603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" y="11573"/>
                            </a:moveTo>
                            <a:arcTo wR="10800" hR="10800" stAng="10553709" swAng="1196175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" y="11573"/>
                            </a:moveTo>
                            <a:arcTo wR="10800" hR="10800" stAng="10553709" swAng="11961752"/>
                          </a:path>
                        </a:pathLst>
                      </a:cu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7543800" y="2730600"/>
                      <a:ext cx="173160" cy="191880"/>
                    </a:xfrm>
                    <a:custGeom>
                      <a:avLst/>
                      <a:gdLst>
                        <a:gd name="textAreaLeft" fmla="*/ 25200 w 173160"/>
                        <a:gd name="textAreaRight" fmla="*/ 147960 w 173160"/>
                        <a:gd name="textAreaTop" fmla="*/ 28080 h 191880"/>
                        <a:gd name="textAreaBottom" fmla="*/ 163800 h 19188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41" y="11741"/>
                          </a:lnTo>
                          <a:lnTo>
                            <a:pt x="198" y="12861"/>
                          </a:lnTo>
                          <a:lnTo>
                            <a:pt x="418" y="13777"/>
                          </a:lnTo>
                          <a:lnTo>
                            <a:pt x="786" y="14846"/>
                          </a:lnTo>
                          <a:lnTo>
                            <a:pt x="1264" y="15870"/>
                          </a:lnTo>
                          <a:lnTo>
                            <a:pt x="1742" y="16682"/>
                          </a:lnTo>
                          <a:lnTo>
                            <a:pt x="2407" y="17597"/>
                          </a:lnTo>
                          <a:lnTo>
                            <a:pt x="3163" y="18437"/>
                          </a:lnTo>
                          <a:lnTo>
                            <a:pt x="3858" y="19073"/>
                          </a:lnTo>
                          <a:lnTo>
                            <a:pt x="4761" y="19754"/>
                          </a:lnTo>
                          <a:lnTo>
                            <a:pt x="5564" y="20246"/>
                          </a:lnTo>
                          <a:lnTo>
                            <a:pt x="6580" y="20741"/>
                          </a:lnTo>
                          <a:lnTo>
                            <a:pt x="7642" y="21128"/>
                          </a:lnTo>
                          <a:lnTo>
                            <a:pt x="8555" y="21364"/>
                          </a:lnTo>
                          <a:lnTo>
                            <a:pt x="9671" y="21541"/>
                          </a:lnTo>
                          <a:lnTo>
                            <a:pt x="10800" y="21600"/>
                          </a:lnTo>
                          <a:lnTo>
                            <a:pt x="11741" y="21559"/>
                          </a:lnTo>
                          <a:lnTo>
                            <a:pt x="12861" y="21402"/>
                          </a:lnTo>
                          <a:lnTo>
                            <a:pt x="13777" y="21182"/>
                          </a:lnTo>
                          <a:lnTo>
                            <a:pt x="14846" y="20814"/>
                          </a:lnTo>
                          <a:lnTo>
                            <a:pt x="15870" y="20336"/>
                          </a:lnTo>
                          <a:lnTo>
                            <a:pt x="16682" y="19858"/>
                          </a:lnTo>
                          <a:lnTo>
                            <a:pt x="17597" y="19193"/>
                          </a:lnTo>
                          <a:lnTo>
                            <a:pt x="18437" y="18437"/>
                          </a:lnTo>
                          <a:lnTo>
                            <a:pt x="19073" y="17742"/>
                          </a:lnTo>
                          <a:lnTo>
                            <a:pt x="19754" y="16839"/>
                          </a:lnTo>
                          <a:lnTo>
                            <a:pt x="20246" y="16036"/>
                          </a:lnTo>
                          <a:lnTo>
                            <a:pt x="20741" y="15020"/>
                          </a:lnTo>
                          <a:lnTo>
                            <a:pt x="21128" y="13958"/>
                          </a:lnTo>
                          <a:lnTo>
                            <a:pt x="21364" y="13045"/>
                          </a:lnTo>
                          <a:lnTo>
                            <a:pt x="21541" y="11929"/>
                          </a:lnTo>
                          <a:lnTo>
                            <a:pt x="21600" y="10800"/>
                          </a:lnTo>
                          <a:lnTo>
                            <a:pt x="21559" y="9859"/>
                          </a:lnTo>
                          <a:lnTo>
                            <a:pt x="21402" y="8739"/>
                          </a:lnTo>
                          <a:lnTo>
                            <a:pt x="21182" y="7823"/>
                          </a:lnTo>
                          <a:lnTo>
                            <a:pt x="20814" y="6754"/>
                          </a:lnTo>
                          <a:lnTo>
                            <a:pt x="20336" y="5730"/>
                          </a:lnTo>
                          <a:lnTo>
                            <a:pt x="19858" y="4918"/>
                          </a:lnTo>
                          <a:lnTo>
                            <a:pt x="19193" y="4003"/>
                          </a:lnTo>
                          <a:lnTo>
                            <a:pt x="18437" y="3163"/>
                          </a:lnTo>
                          <a:lnTo>
                            <a:pt x="17742" y="2527"/>
                          </a:lnTo>
                          <a:lnTo>
                            <a:pt x="16839" y="1846"/>
                          </a:lnTo>
                          <a:lnTo>
                            <a:pt x="16036" y="1354"/>
                          </a:lnTo>
                          <a:lnTo>
                            <a:pt x="15020" y="859"/>
                          </a:lnTo>
                          <a:lnTo>
                            <a:pt x="13958" y="472"/>
                          </a:lnTo>
                          <a:lnTo>
                            <a:pt x="13045" y="236"/>
                          </a:lnTo>
                          <a:lnTo>
                            <a:pt x="11929" y="59"/>
                          </a:lnTo>
                          <a:lnTo>
                            <a:pt x="10800" y="0"/>
                          </a:lnTo>
                          <a:lnTo>
                            <a:pt x="9859" y="41"/>
                          </a:lnTo>
                          <a:lnTo>
                            <a:pt x="8739" y="198"/>
                          </a:lnTo>
                          <a:lnTo>
                            <a:pt x="7823" y="418"/>
                          </a:lnTo>
                          <a:lnTo>
                            <a:pt x="6754" y="786"/>
                          </a:lnTo>
                          <a:lnTo>
                            <a:pt x="5730" y="1264"/>
                          </a:lnTo>
                          <a:lnTo>
                            <a:pt x="4918" y="1742"/>
                          </a:lnTo>
                          <a:lnTo>
                            <a:pt x="4003" y="2407"/>
                          </a:lnTo>
                          <a:lnTo>
                            <a:pt x="3163" y="3163"/>
                          </a:lnTo>
                          <a:lnTo>
                            <a:pt x="2527" y="3858"/>
                          </a:lnTo>
                          <a:lnTo>
                            <a:pt x="1846" y="4761"/>
                          </a:lnTo>
                          <a:lnTo>
                            <a:pt x="1354" y="5564"/>
                          </a:lnTo>
                          <a:lnTo>
                            <a:pt x="859" y="6580"/>
                          </a:lnTo>
                          <a:lnTo>
                            <a:pt x="472" y="7642"/>
                          </a:lnTo>
                          <a:lnTo>
                            <a:pt x="236" y="8555"/>
                          </a:lnTo>
                          <a:lnTo>
                            <a:pt x="59" y="9671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6075360" y="2705040"/>
                      <a:ext cx="173160" cy="192240"/>
                    </a:xfrm>
                    <a:custGeom>
                      <a:avLst/>
                      <a:gdLst>
                        <a:gd name="textAreaLeft" fmla="*/ 25200 w 173160"/>
                        <a:gd name="textAreaRight" fmla="*/ 147960 w 173160"/>
                        <a:gd name="textAreaTop" fmla="*/ 28080 h 192240"/>
                        <a:gd name="textAreaBottom" fmla="*/ 164160 h 19224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41" y="11741"/>
                          </a:lnTo>
                          <a:lnTo>
                            <a:pt x="198" y="12861"/>
                          </a:lnTo>
                          <a:lnTo>
                            <a:pt x="418" y="13777"/>
                          </a:lnTo>
                          <a:lnTo>
                            <a:pt x="786" y="14846"/>
                          </a:lnTo>
                          <a:lnTo>
                            <a:pt x="1264" y="15870"/>
                          </a:lnTo>
                          <a:lnTo>
                            <a:pt x="1742" y="16682"/>
                          </a:lnTo>
                          <a:lnTo>
                            <a:pt x="2407" y="17597"/>
                          </a:lnTo>
                          <a:lnTo>
                            <a:pt x="3163" y="18437"/>
                          </a:lnTo>
                          <a:lnTo>
                            <a:pt x="3858" y="19073"/>
                          </a:lnTo>
                          <a:lnTo>
                            <a:pt x="4761" y="19754"/>
                          </a:lnTo>
                          <a:lnTo>
                            <a:pt x="5564" y="20246"/>
                          </a:lnTo>
                          <a:lnTo>
                            <a:pt x="6580" y="20741"/>
                          </a:lnTo>
                          <a:lnTo>
                            <a:pt x="7642" y="21128"/>
                          </a:lnTo>
                          <a:lnTo>
                            <a:pt x="8555" y="21364"/>
                          </a:lnTo>
                          <a:lnTo>
                            <a:pt x="9671" y="21541"/>
                          </a:lnTo>
                          <a:lnTo>
                            <a:pt x="10800" y="21600"/>
                          </a:lnTo>
                          <a:lnTo>
                            <a:pt x="11741" y="21559"/>
                          </a:lnTo>
                          <a:lnTo>
                            <a:pt x="12861" y="21402"/>
                          </a:lnTo>
                          <a:lnTo>
                            <a:pt x="13777" y="21182"/>
                          </a:lnTo>
                          <a:lnTo>
                            <a:pt x="14846" y="20814"/>
                          </a:lnTo>
                          <a:lnTo>
                            <a:pt x="15870" y="20336"/>
                          </a:lnTo>
                          <a:lnTo>
                            <a:pt x="16682" y="19858"/>
                          </a:lnTo>
                          <a:lnTo>
                            <a:pt x="17597" y="19193"/>
                          </a:lnTo>
                          <a:lnTo>
                            <a:pt x="18437" y="18437"/>
                          </a:lnTo>
                          <a:lnTo>
                            <a:pt x="19073" y="17742"/>
                          </a:lnTo>
                          <a:lnTo>
                            <a:pt x="19754" y="16839"/>
                          </a:lnTo>
                          <a:lnTo>
                            <a:pt x="20246" y="16036"/>
                          </a:lnTo>
                          <a:lnTo>
                            <a:pt x="20741" y="15020"/>
                          </a:lnTo>
                          <a:lnTo>
                            <a:pt x="21128" y="13958"/>
                          </a:lnTo>
                          <a:lnTo>
                            <a:pt x="21364" y="13045"/>
                          </a:lnTo>
                          <a:lnTo>
                            <a:pt x="21541" y="11929"/>
                          </a:lnTo>
                          <a:lnTo>
                            <a:pt x="21600" y="10800"/>
                          </a:lnTo>
                          <a:lnTo>
                            <a:pt x="21559" y="9859"/>
                          </a:lnTo>
                          <a:lnTo>
                            <a:pt x="21402" y="8739"/>
                          </a:lnTo>
                          <a:lnTo>
                            <a:pt x="21182" y="7823"/>
                          </a:lnTo>
                          <a:lnTo>
                            <a:pt x="20814" y="6754"/>
                          </a:lnTo>
                          <a:lnTo>
                            <a:pt x="20336" y="5730"/>
                          </a:lnTo>
                          <a:lnTo>
                            <a:pt x="19858" y="4918"/>
                          </a:lnTo>
                          <a:lnTo>
                            <a:pt x="19193" y="4003"/>
                          </a:lnTo>
                          <a:lnTo>
                            <a:pt x="18437" y="3163"/>
                          </a:lnTo>
                          <a:lnTo>
                            <a:pt x="17742" y="2527"/>
                          </a:lnTo>
                          <a:lnTo>
                            <a:pt x="16839" y="1846"/>
                          </a:lnTo>
                          <a:lnTo>
                            <a:pt x="16036" y="1354"/>
                          </a:lnTo>
                          <a:lnTo>
                            <a:pt x="15020" y="859"/>
                          </a:lnTo>
                          <a:lnTo>
                            <a:pt x="13958" y="472"/>
                          </a:lnTo>
                          <a:lnTo>
                            <a:pt x="13045" y="236"/>
                          </a:lnTo>
                          <a:lnTo>
                            <a:pt x="11929" y="59"/>
                          </a:lnTo>
                          <a:lnTo>
                            <a:pt x="10800" y="0"/>
                          </a:lnTo>
                          <a:lnTo>
                            <a:pt x="9859" y="41"/>
                          </a:lnTo>
                          <a:lnTo>
                            <a:pt x="8739" y="198"/>
                          </a:lnTo>
                          <a:lnTo>
                            <a:pt x="7823" y="418"/>
                          </a:lnTo>
                          <a:lnTo>
                            <a:pt x="6754" y="786"/>
                          </a:lnTo>
                          <a:lnTo>
                            <a:pt x="5730" y="1264"/>
                          </a:lnTo>
                          <a:lnTo>
                            <a:pt x="4918" y="1742"/>
                          </a:lnTo>
                          <a:lnTo>
                            <a:pt x="4003" y="2407"/>
                          </a:lnTo>
                          <a:lnTo>
                            <a:pt x="3163" y="3163"/>
                          </a:lnTo>
                          <a:lnTo>
                            <a:pt x="2527" y="3858"/>
                          </a:lnTo>
                          <a:lnTo>
                            <a:pt x="1846" y="4761"/>
                          </a:lnTo>
                          <a:lnTo>
                            <a:pt x="1354" y="5564"/>
                          </a:lnTo>
                          <a:lnTo>
                            <a:pt x="859" y="6580"/>
                          </a:lnTo>
                          <a:lnTo>
                            <a:pt x="472" y="7642"/>
                          </a:lnTo>
                          <a:lnTo>
                            <a:pt x="236" y="8555"/>
                          </a:lnTo>
                          <a:lnTo>
                            <a:pt x="59" y="9671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6989760" y="2133720"/>
                    <a:ext cx="1600200" cy="1295280"/>
                    <a:chOff x="6989760" y="2133720"/>
                    <a:chExt cx="1600200" cy="1295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6989760" y="2133720"/>
                      <a:ext cx="1600200" cy="1295280"/>
                    </a:xfrm>
                    <a:prstGeom prst="ellipse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>
                      <a:off x="7065000" y="2438280"/>
                      <a:ext cx="1447560" cy="43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229901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2299015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>
                      <a:off x="7065000" y="2514600"/>
                      <a:ext cx="1447560" cy="42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229901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2299015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7065000" y="2590920"/>
                      <a:ext cx="1447560" cy="42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229901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2299015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>
                      <a:off x="7065000" y="2705040"/>
                      <a:ext cx="1447560" cy="31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2299015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2299015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flipV="1">
                      <a:off x="7065000" y="2863440"/>
                      <a:ext cx="144756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19617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1961752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flipV="1">
                      <a:off x="7065000" y="2762280"/>
                      <a:ext cx="1447560" cy="36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19617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1961752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 flipV="1">
                      <a:off x="7065720" y="2672640"/>
                      <a:ext cx="146016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" y="11573"/>
                          </a:moveTo>
                          <a:arcTo wR="10800" hR="10800" stAng="10553709" swAng="119617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" y="11573"/>
                          </a:moveTo>
                          <a:arcTo wR="10800" hR="10800" stAng="10553709" swAng="11961752"/>
                        </a:path>
                      </a:pathLst>
                    </a:cu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2" name=""/>
                  <p:cNvSpPr/>
                  <p:nvPr/>
                </p:nvSpPr>
                <p:spPr>
                  <a:xfrm>
                    <a:off x="6075360" y="2286000"/>
                    <a:ext cx="2514600" cy="1067040"/>
                  </a:xfrm>
                  <a:prstGeom prst="ellipse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 flipH="1" flipV="1">
                  <a:off x="6074640" y="2595240"/>
                  <a:ext cx="2361960" cy="223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8" y="11573"/>
                      </a:moveTo>
                      <a:arcTo wR="10800" hR="10800" stAng="10553709" swAng="1229901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8" y="11573"/>
                      </a:moveTo>
                      <a:arcTo wR="10800" hR="10800" stAng="10553709" swAng="12299015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6227640" y="2592000"/>
                  <a:ext cx="988560" cy="46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40" y="1482"/>
                      </a:moveTo>
                      <a:arcTo wR="10800" hR="10800" stAng="-7222235" swAng="84749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40" y="1482"/>
                      </a:moveTo>
                      <a:arcTo wR="10800" hR="10800" stAng="-7222235" swAng="8474960"/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7601760" y="2362320"/>
                  <a:ext cx="988200" cy="837360"/>
                  <a:chOff x="7601760" y="2362320"/>
                  <a:chExt cx="988200" cy="8373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7601760" y="2362320"/>
                    <a:ext cx="9176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340" y="1482"/>
                        </a:moveTo>
                        <a:arcTo wR="10800" hR="10800" stAng="-7222235" swAng="847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340" y="1482"/>
                        </a:moveTo>
                        <a:arcTo wR="10800" hR="10800" stAng="-7222235" swAng="847496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7601760" y="2514600"/>
                    <a:ext cx="9176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340" y="1482"/>
                        </a:moveTo>
                        <a:arcTo wR="10800" hR="10800" stAng="-7222235" swAng="847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340" y="1482"/>
                        </a:moveTo>
                        <a:arcTo wR="10800" hR="10800" stAng="-7222235" swAng="847496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V="1">
                    <a:off x="7650720" y="2638080"/>
                    <a:ext cx="939240" cy="56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340" y="1482"/>
                        </a:moveTo>
                        <a:arcTo wR="10800" hR="10800" stAng="-7222235" swAng="847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340" y="1482"/>
                        </a:moveTo>
                        <a:arcTo wR="10800" hR="10800" stAng="-7222235" swAng="847496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V="1">
                    <a:off x="7601760" y="2592000"/>
                    <a:ext cx="917640" cy="46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340" y="1482"/>
                        </a:moveTo>
                        <a:arcTo wR="10800" hR="10800" stAng="-7222235" swAng="847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340" y="1482"/>
                        </a:moveTo>
                        <a:arcTo wR="10800" hR="10800" stAng="-7222235" swAng="847496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6608880" y="2946600"/>
                  <a:ext cx="533160" cy="152280"/>
                  <a:chOff x="6608880" y="2946600"/>
                  <a:chExt cx="533160" cy="15228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6608880" y="2946600"/>
                    <a:ext cx="5331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1938"/>
                          <a:pt x="10800" y="5080"/>
                          <a:pt x="10800" y="10800"/>
                        </a:cubicBezTo>
                        <a:cubicBezTo>
                          <a:pt x="10800" y="16520"/>
                          <a:pt x="16200" y="19662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608880" y="2984760"/>
                    <a:ext cx="75960" cy="76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075360" y="2280240"/>
                  <a:ext cx="2535120" cy="1022760"/>
                  <a:chOff x="6075360" y="2280240"/>
                  <a:chExt cx="2535120" cy="102276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8437680" y="2667240"/>
                    <a:ext cx="172800" cy="191880"/>
                  </a:xfrm>
                  <a:custGeom>
                    <a:avLst/>
                    <a:gdLst>
                      <a:gd name="textAreaLeft" fmla="*/ 25200 w 172800"/>
                      <a:gd name="textAreaRight" fmla="*/ 147600 w 172800"/>
                      <a:gd name="textAreaTop" fmla="*/ 28080 h 191880"/>
                      <a:gd name="textAreaBottom" fmla="*/ 163800 h 191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41" y="11741"/>
                        </a:lnTo>
                        <a:lnTo>
                          <a:pt x="198" y="12861"/>
                        </a:lnTo>
                        <a:lnTo>
                          <a:pt x="418" y="13777"/>
                        </a:lnTo>
                        <a:lnTo>
                          <a:pt x="786" y="14846"/>
                        </a:lnTo>
                        <a:lnTo>
                          <a:pt x="1264" y="15870"/>
                        </a:lnTo>
                        <a:lnTo>
                          <a:pt x="1742" y="16682"/>
                        </a:lnTo>
                        <a:lnTo>
                          <a:pt x="2407" y="17597"/>
                        </a:lnTo>
                        <a:lnTo>
                          <a:pt x="3163" y="18437"/>
                        </a:lnTo>
                        <a:lnTo>
                          <a:pt x="3858" y="19073"/>
                        </a:lnTo>
                        <a:lnTo>
                          <a:pt x="4761" y="19754"/>
                        </a:lnTo>
                        <a:lnTo>
                          <a:pt x="5564" y="20246"/>
                        </a:lnTo>
                        <a:lnTo>
                          <a:pt x="6580" y="20741"/>
                        </a:lnTo>
                        <a:lnTo>
                          <a:pt x="7642" y="21128"/>
                        </a:lnTo>
                        <a:lnTo>
                          <a:pt x="8555" y="21364"/>
                        </a:lnTo>
                        <a:lnTo>
                          <a:pt x="9671" y="21541"/>
                        </a:lnTo>
                        <a:lnTo>
                          <a:pt x="10800" y="21600"/>
                        </a:lnTo>
                        <a:lnTo>
                          <a:pt x="11741" y="21559"/>
                        </a:lnTo>
                        <a:lnTo>
                          <a:pt x="12861" y="21402"/>
                        </a:lnTo>
                        <a:lnTo>
                          <a:pt x="13777" y="21182"/>
                        </a:lnTo>
                        <a:lnTo>
                          <a:pt x="14846" y="20814"/>
                        </a:lnTo>
                        <a:lnTo>
                          <a:pt x="15870" y="20336"/>
                        </a:lnTo>
                        <a:lnTo>
                          <a:pt x="16682" y="19858"/>
                        </a:lnTo>
                        <a:lnTo>
                          <a:pt x="17597" y="19193"/>
                        </a:lnTo>
                        <a:lnTo>
                          <a:pt x="18437" y="18437"/>
                        </a:lnTo>
                        <a:lnTo>
                          <a:pt x="19073" y="17742"/>
                        </a:lnTo>
                        <a:lnTo>
                          <a:pt x="19754" y="16839"/>
                        </a:lnTo>
                        <a:lnTo>
                          <a:pt x="20246" y="16036"/>
                        </a:lnTo>
                        <a:lnTo>
                          <a:pt x="20741" y="15020"/>
                        </a:lnTo>
                        <a:lnTo>
                          <a:pt x="21128" y="13958"/>
                        </a:lnTo>
                        <a:lnTo>
                          <a:pt x="21364" y="13045"/>
                        </a:lnTo>
                        <a:lnTo>
                          <a:pt x="21541" y="11929"/>
                        </a:lnTo>
                        <a:lnTo>
                          <a:pt x="21600" y="10800"/>
                        </a:lnTo>
                        <a:lnTo>
                          <a:pt x="21559" y="9859"/>
                        </a:lnTo>
                        <a:lnTo>
                          <a:pt x="21402" y="8739"/>
                        </a:lnTo>
                        <a:lnTo>
                          <a:pt x="21182" y="7823"/>
                        </a:lnTo>
                        <a:lnTo>
                          <a:pt x="20814" y="6754"/>
                        </a:lnTo>
                        <a:lnTo>
                          <a:pt x="20336" y="5730"/>
                        </a:lnTo>
                        <a:lnTo>
                          <a:pt x="19858" y="4918"/>
                        </a:lnTo>
                        <a:lnTo>
                          <a:pt x="19193" y="4003"/>
                        </a:lnTo>
                        <a:lnTo>
                          <a:pt x="18437" y="3163"/>
                        </a:lnTo>
                        <a:lnTo>
                          <a:pt x="17742" y="2527"/>
                        </a:lnTo>
                        <a:lnTo>
                          <a:pt x="16839" y="1846"/>
                        </a:lnTo>
                        <a:lnTo>
                          <a:pt x="16036" y="1354"/>
                        </a:lnTo>
                        <a:lnTo>
                          <a:pt x="15020" y="859"/>
                        </a:lnTo>
                        <a:lnTo>
                          <a:pt x="13958" y="472"/>
                        </a:lnTo>
                        <a:lnTo>
                          <a:pt x="13045" y="236"/>
                        </a:lnTo>
                        <a:lnTo>
                          <a:pt x="11929" y="59"/>
                        </a:lnTo>
                        <a:lnTo>
                          <a:pt x="10800" y="0"/>
                        </a:lnTo>
                        <a:lnTo>
                          <a:pt x="9859" y="41"/>
                        </a:lnTo>
                        <a:lnTo>
                          <a:pt x="8739" y="198"/>
                        </a:lnTo>
                        <a:lnTo>
                          <a:pt x="7823" y="418"/>
                        </a:lnTo>
                        <a:lnTo>
                          <a:pt x="6754" y="786"/>
                        </a:lnTo>
                        <a:lnTo>
                          <a:pt x="5730" y="1264"/>
                        </a:lnTo>
                        <a:lnTo>
                          <a:pt x="4918" y="1742"/>
                        </a:lnTo>
                        <a:lnTo>
                          <a:pt x="4003" y="2407"/>
                        </a:lnTo>
                        <a:lnTo>
                          <a:pt x="3163" y="3163"/>
                        </a:lnTo>
                        <a:lnTo>
                          <a:pt x="2527" y="3858"/>
                        </a:lnTo>
                        <a:lnTo>
                          <a:pt x="1846" y="4761"/>
                        </a:lnTo>
                        <a:lnTo>
                          <a:pt x="1354" y="5564"/>
                        </a:lnTo>
                        <a:lnTo>
                          <a:pt x="859" y="6580"/>
                        </a:lnTo>
                        <a:lnTo>
                          <a:pt x="472" y="7642"/>
                        </a:lnTo>
                        <a:lnTo>
                          <a:pt x="236" y="8555"/>
                        </a:lnTo>
                        <a:lnTo>
                          <a:pt x="59" y="9671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blipFill rotWithShape="0">
                    <a:blip r:embed="rId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075360" y="2667240"/>
                    <a:ext cx="173160" cy="191880"/>
                  </a:xfrm>
                  <a:custGeom>
                    <a:avLst/>
                    <a:gdLst>
                      <a:gd name="textAreaLeft" fmla="*/ 25200 w 173160"/>
                      <a:gd name="textAreaRight" fmla="*/ 147960 w 173160"/>
                      <a:gd name="textAreaTop" fmla="*/ 28080 h 191880"/>
                      <a:gd name="textAreaBottom" fmla="*/ 163800 h 191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41" y="11741"/>
                        </a:lnTo>
                        <a:lnTo>
                          <a:pt x="198" y="12861"/>
                        </a:lnTo>
                        <a:lnTo>
                          <a:pt x="418" y="13777"/>
                        </a:lnTo>
                        <a:lnTo>
                          <a:pt x="786" y="14846"/>
                        </a:lnTo>
                        <a:lnTo>
                          <a:pt x="1264" y="15870"/>
                        </a:lnTo>
                        <a:lnTo>
                          <a:pt x="1742" y="16682"/>
                        </a:lnTo>
                        <a:lnTo>
                          <a:pt x="2407" y="17597"/>
                        </a:lnTo>
                        <a:lnTo>
                          <a:pt x="3163" y="18437"/>
                        </a:lnTo>
                        <a:lnTo>
                          <a:pt x="3858" y="19073"/>
                        </a:lnTo>
                        <a:lnTo>
                          <a:pt x="4761" y="19754"/>
                        </a:lnTo>
                        <a:lnTo>
                          <a:pt x="5564" y="20246"/>
                        </a:lnTo>
                        <a:lnTo>
                          <a:pt x="6580" y="20741"/>
                        </a:lnTo>
                        <a:lnTo>
                          <a:pt x="7642" y="21128"/>
                        </a:lnTo>
                        <a:lnTo>
                          <a:pt x="8555" y="21364"/>
                        </a:lnTo>
                        <a:lnTo>
                          <a:pt x="9671" y="21541"/>
                        </a:lnTo>
                        <a:lnTo>
                          <a:pt x="10800" y="21600"/>
                        </a:lnTo>
                        <a:lnTo>
                          <a:pt x="11741" y="21559"/>
                        </a:lnTo>
                        <a:lnTo>
                          <a:pt x="12861" y="21402"/>
                        </a:lnTo>
                        <a:lnTo>
                          <a:pt x="13777" y="21182"/>
                        </a:lnTo>
                        <a:lnTo>
                          <a:pt x="14846" y="20814"/>
                        </a:lnTo>
                        <a:lnTo>
                          <a:pt x="15870" y="20336"/>
                        </a:lnTo>
                        <a:lnTo>
                          <a:pt x="16682" y="19858"/>
                        </a:lnTo>
                        <a:lnTo>
                          <a:pt x="17597" y="19193"/>
                        </a:lnTo>
                        <a:lnTo>
                          <a:pt x="18437" y="18437"/>
                        </a:lnTo>
                        <a:lnTo>
                          <a:pt x="19073" y="17742"/>
                        </a:lnTo>
                        <a:lnTo>
                          <a:pt x="19754" y="16839"/>
                        </a:lnTo>
                        <a:lnTo>
                          <a:pt x="20246" y="16036"/>
                        </a:lnTo>
                        <a:lnTo>
                          <a:pt x="20741" y="15020"/>
                        </a:lnTo>
                        <a:lnTo>
                          <a:pt x="21128" y="13958"/>
                        </a:lnTo>
                        <a:lnTo>
                          <a:pt x="21364" y="13045"/>
                        </a:lnTo>
                        <a:lnTo>
                          <a:pt x="21541" y="11929"/>
                        </a:lnTo>
                        <a:lnTo>
                          <a:pt x="21600" y="10800"/>
                        </a:lnTo>
                        <a:lnTo>
                          <a:pt x="21559" y="9859"/>
                        </a:lnTo>
                        <a:lnTo>
                          <a:pt x="21402" y="8739"/>
                        </a:lnTo>
                        <a:lnTo>
                          <a:pt x="21182" y="7823"/>
                        </a:lnTo>
                        <a:lnTo>
                          <a:pt x="20814" y="6754"/>
                        </a:lnTo>
                        <a:lnTo>
                          <a:pt x="20336" y="5730"/>
                        </a:lnTo>
                        <a:lnTo>
                          <a:pt x="19858" y="4918"/>
                        </a:lnTo>
                        <a:lnTo>
                          <a:pt x="19193" y="4003"/>
                        </a:lnTo>
                        <a:lnTo>
                          <a:pt x="18437" y="3163"/>
                        </a:lnTo>
                        <a:lnTo>
                          <a:pt x="17742" y="2527"/>
                        </a:lnTo>
                        <a:lnTo>
                          <a:pt x="16839" y="1846"/>
                        </a:lnTo>
                        <a:lnTo>
                          <a:pt x="16036" y="1354"/>
                        </a:lnTo>
                        <a:lnTo>
                          <a:pt x="15020" y="859"/>
                        </a:lnTo>
                        <a:lnTo>
                          <a:pt x="13958" y="472"/>
                        </a:lnTo>
                        <a:lnTo>
                          <a:pt x="13045" y="236"/>
                        </a:lnTo>
                        <a:lnTo>
                          <a:pt x="11929" y="59"/>
                        </a:lnTo>
                        <a:lnTo>
                          <a:pt x="10800" y="0"/>
                        </a:lnTo>
                        <a:lnTo>
                          <a:pt x="9859" y="41"/>
                        </a:lnTo>
                        <a:lnTo>
                          <a:pt x="8739" y="198"/>
                        </a:lnTo>
                        <a:lnTo>
                          <a:pt x="7823" y="418"/>
                        </a:lnTo>
                        <a:lnTo>
                          <a:pt x="6754" y="786"/>
                        </a:lnTo>
                        <a:lnTo>
                          <a:pt x="5730" y="1264"/>
                        </a:lnTo>
                        <a:lnTo>
                          <a:pt x="4918" y="1742"/>
                        </a:lnTo>
                        <a:lnTo>
                          <a:pt x="4003" y="2407"/>
                        </a:lnTo>
                        <a:lnTo>
                          <a:pt x="3163" y="3163"/>
                        </a:lnTo>
                        <a:lnTo>
                          <a:pt x="2527" y="3858"/>
                        </a:lnTo>
                        <a:lnTo>
                          <a:pt x="1846" y="4761"/>
                        </a:lnTo>
                        <a:lnTo>
                          <a:pt x="1354" y="5564"/>
                        </a:lnTo>
                        <a:lnTo>
                          <a:pt x="859" y="6580"/>
                        </a:lnTo>
                        <a:lnTo>
                          <a:pt x="472" y="7642"/>
                        </a:lnTo>
                        <a:lnTo>
                          <a:pt x="236" y="8555"/>
                        </a:lnTo>
                        <a:lnTo>
                          <a:pt x="59" y="9671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blipFill rotWithShape="0">
                    <a:blip r:embed="rId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flipV="1">
                    <a:off x="6151680" y="2776680"/>
                    <a:ext cx="2285280" cy="13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" y="11573"/>
                        </a:moveTo>
                        <a:arcTo wR="10800" hR="10800" stAng="10553709" swAng="1229901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" y="11573"/>
                        </a:moveTo>
                        <a:arcTo wR="10800" hR="10800" stAng="10553709" swAng="12299015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>
                    <a:off x="6227640" y="2362320"/>
                    <a:ext cx="98856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340" y="1482"/>
                        </a:moveTo>
                        <a:arcTo wR="10800" hR="10800" stAng="-7222235" swAng="847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340" y="1482"/>
                        </a:moveTo>
                        <a:arcTo wR="10800" hR="10800" stAng="-7222235" swAng="847496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>
                    <a:off x="6227640" y="2514600"/>
                    <a:ext cx="98856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340" y="1482"/>
                        </a:moveTo>
                        <a:arcTo wR="10800" hR="10800" stAng="-7222235" swAng="84749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340" y="1482"/>
                        </a:moveTo>
                        <a:arcTo wR="10800" hR="10800" stAng="-7222235" swAng="847496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7825320" y="2280240"/>
                    <a:ext cx="309960" cy="163800"/>
                    <a:chOff x="7825320" y="2280240"/>
                    <a:chExt cx="309960" cy="16380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rot="10673400">
                      <a:off x="7827840" y="2285640"/>
                      <a:ext cx="3045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602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rot="10673400">
                      <a:off x="8056440" y="231948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7977960" y="2458080"/>
                    <a:ext cx="309960" cy="163800"/>
                    <a:chOff x="7977960" y="2458080"/>
                    <a:chExt cx="309960" cy="16380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rot="10673400">
                      <a:off x="7980480" y="2463480"/>
                      <a:ext cx="3045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602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rot="10673400">
                      <a:off x="8209080" y="249732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7745400" y="2945520"/>
                    <a:ext cx="545760" cy="205560"/>
                    <a:chOff x="7745400" y="2945520"/>
                    <a:chExt cx="545760" cy="20556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rot="10452000">
                      <a:off x="7751520" y="2971800"/>
                      <a:ext cx="533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rot="10452000">
                      <a:off x="8207280" y="298692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7898400" y="3097440"/>
                    <a:ext cx="545760" cy="205560"/>
                    <a:chOff x="7898400" y="3097440"/>
                    <a:chExt cx="545760" cy="2055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10452000">
                      <a:off x="7904520" y="3123720"/>
                      <a:ext cx="533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10452000">
                      <a:off x="8360280" y="313884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6608880" y="2286000"/>
                    <a:ext cx="304560" cy="152280"/>
                    <a:chOff x="6608880" y="2286000"/>
                    <a:chExt cx="304560" cy="15228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08880" y="2286000"/>
                      <a:ext cx="3045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602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608880" y="233676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6684840" y="2438640"/>
                    <a:ext cx="304920" cy="152280"/>
                    <a:chOff x="6684840" y="2438640"/>
                    <a:chExt cx="304920" cy="15228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6684840" y="2438640"/>
                      <a:ext cx="30492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0602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6684840" y="2489400"/>
                      <a:ext cx="7632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6608880" y="3137040"/>
                    <a:ext cx="533160" cy="152280"/>
                    <a:chOff x="6608880" y="3137040"/>
                    <a:chExt cx="533160" cy="15228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6608880" y="3137040"/>
                      <a:ext cx="53316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200" y="1938"/>
                            <a:pt x="10800" y="5080"/>
                            <a:pt x="10800" y="10800"/>
                          </a:cubicBezTo>
                          <a:cubicBezTo>
                            <a:pt x="10800" y="16520"/>
                            <a:pt x="16200" y="19662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6608880" y="3175200"/>
                      <a:ext cx="75960" cy="76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60" name=""/>
              <p:cNvSpPr/>
              <p:nvPr/>
            </p:nvSpPr>
            <p:spPr>
              <a:xfrm flipH="1" flipV="1">
                <a:off x="6150600" y="2638080"/>
                <a:ext cx="1011240" cy="56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340" y="1482"/>
                    </a:moveTo>
                    <a:arcTo wR="10800" hR="10800" stAng="-7222235" swAng="84749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340" y="1482"/>
                    </a:moveTo>
                    <a:arcTo wR="10800" hR="10800" stAng="-7222235" swAng="8474960"/>
                  </a:path>
                </a:pathLst>
              </a:custGeom>
              <a:noFill/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 flipH="1">
              <a:off x="6151680" y="2362320"/>
              <a:ext cx="2285280" cy="42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" y="11573"/>
                  </a:moveTo>
                  <a:arcTo wR="10800" hR="10800" stAng="10553709" swAng="122990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" y="11573"/>
                  </a:moveTo>
                  <a:arcTo wR="10800" hR="10800" stAng="10553709" swAng="12299015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151680" y="2590920"/>
              <a:ext cx="2361600" cy="42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" y="11573"/>
                  </a:moveTo>
                  <a:arcTo wR="10800" hR="10800" stAng="10553709" swAng="12299015"/>
                  <a:lnTo>
                    <a:pt x="10800" y="10800"/>
                  </a:lnTo>
                  <a:close/>
                </a:path>
                <a:path fill="none" w="21600" h="21600">
                  <a:moveTo>
                    <a:pt x="28" y="11573"/>
                  </a:moveTo>
                  <a:arcTo wR="10800" hR="10800" stAng="10553709" swAng="12299015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257800" y="3581280"/>
            <a:ext cx="2874960" cy="1295280"/>
            <a:chOff x="5257800" y="3581280"/>
            <a:chExt cx="2874960" cy="1295280"/>
          </a:xfrm>
        </p:grpSpPr>
        <p:grpSp>
          <p:nvGrpSpPr>
            <p:cNvPr id="364" name=""/>
            <p:cNvGrpSpPr/>
            <p:nvPr/>
          </p:nvGrpSpPr>
          <p:grpSpPr>
            <a:xfrm>
              <a:off x="5257800" y="3581280"/>
              <a:ext cx="2874960" cy="1295280"/>
              <a:chOff x="5257800" y="3581280"/>
              <a:chExt cx="2874960" cy="129528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5257800" y="3581280"/>
                <a:ext cx="2874960" cy="1295280"/>
                <a:chOff x="5257800" y="3581280"/>
                <a:chExt cx="2874960" cy="12952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57800" y="3581280"/>
                  <a:ext cx="1600200" cy="129528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532560" y="3581280"/>
                  <a:ext cx="1600200" cy="1295280"/>
                </a:xfrm>
                <a:prstGeom prst="ellips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22720" y="3885840"/>
                  <a:ext cx="1447920" cy="685800"/>
                </a:xfrm>
                <a:prstGeom prst="ellips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" name=""/>
                <p:cNvGrpSpPr/>
                <p:nvPr/>
              </p:nvGrpSpPr>
              <p:grpSpPr>
                <a:xfrm>
                  <a:off x="5599800" y="3885840"/>
                  <a:ext cx="704160" cy="627120"/>
                  <a:chOff x="5599800" y="3885840"/>
                  <a:chExt cx="70416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5618160" y="3885840"/>
                    <a:ext cx="685800" cy="62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99800" y="3885840"/>
                    <a:ext cx="658800" cy="541800"/>
                    <a:chOff x="5599800" y="3885840"/>
                    <a:chExt cx="658800" cy="54180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5599800" y="3885840"/>
                      <a:ext cx="564480" cy="482040"/>
                      <a:chOff x="5599800" y="3885840"/>
                      <a:chExt cx="564480" cy="482040"/>
                    </a:xfrm>
                  </p:grpSpPr>
                  <p:sp>
                    <p:nvSpPr>
                      <p:cNvPr id="373" name=""/>
                      <p:cNvSpPr/>
                      <p:nvPr/>
                    </p:nvSpPr>
                    <p:spPr>
                      <a:xfrm>
                        <a:off x="5770440" y="3885840"/>
                        <a:ext cx="291960" cy="44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256">
                            <a:moveTo>
                              <a:pt x="104" y="0"/>
                            </a:moveTo>
                            <a:cubicBezTo>
                              <a:pt x="124" y="30"/>
                              <a:pt x="148" y="68"/>
                              <a:pt x="184" y="80"/>
                            </a:cubicBezTo>
                            <a:cubicBezTo>
                              <a:pt x="189" y="88"/>
                              <a:pt x="198" y="94"/>
                              <a:pt x="200" y="104"/>
                            </a:cubicBezTo>
                            <a:cubicBezTo>
                              <a:pt x="200" y="105"/>
                              <a:pt x="176" y="190"/>
                              <a:pt x="176" y="192"/>
                            </a:cubicBezTo>
                            <a:cubicBezTo>
                              <a:pt x="170" y="198"/>
                              <a:pt x="160" y="197"/>
                              <a:pt x="152" y="200"/>
                            </a:cubicBezTo>
                            <a:cubicBezTo>
                              <a:pt x="114" y="237"/>
                              <a:pt x="53" y="256"/>
                              <a:pt x="0" y="256"/>
                            </a:cubicBezTo>
                          </a:path>
                        </a:pathLst>
                      </a:custGeom>
                      <a:noFill/>
                      <a:ln w="34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>
                        <a:off x="5999040" y="4037760"/>
                        <a:ext cx="165240" cy="33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256">
                            <a:moveTo>
                              <a:pt x="104" y="0"/>
                            </a:moveTo>
                            <a:cubicBezTo>
                              <a:pt x="124" y="30"/>
                              <a:pt x="148" y="68"/>
                              <a:pt x="184" y="80"/>
                            </a:cubicBezTo>
                            <a:cubicBezTo>
                              <a:pt x="189" y="88"/>
                              <a:pt x="198" y="94"/>
                              <a:pt x="200" y="104"/>
                            </a:cubicBezTo>
                            <a:cubicBezTo>
                              <a:pt x="200" y="105"/>
                              <a:pt x="176" y="190"/>
                              <a:pt x="176" y="192"/>
                            </a:cubicBezTo>
                            <a:cubicBezTo>
                              <a:pt x="170" y="198"/>
                              <a:pt x="160" y="197"/>
                              <a:pt x="152" y="200"/>
                            </a:cubicBezTo>
                            <a:cubicBezTo>
                              <a:pt x="114" y="237"/>
                              <a:pt x="53" y="256"/>
                              <a:pt x="0" y="256"/>
                            </a:cubicBezTo>
                          </a:path>
                        </a:pathLst>
                      </a:custGeom>
                      <a:noFill/>
                      <a:ln w="34920">
                        <a:solidFill>
                          <a:srgbClr val="ff060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"/>
                      <p:cNvSpPr/>
                      <p:nvPr/>
                    </p:nvSpPr>
                    <p:spPr>
                      <a:xfrm rot="17284800">
                        <a:off x="5697720" y="4034160"/>
                        <a:ext cx="171000" cy="33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256">
                            <a:moveTo>
                              <a:pt x="104" y="0"/>
                            </a:moveTo>
                            <a:cubicBezTo>
                              <a:pt x="124" y="30"/>
                              <a:pt x="148" y="68"/>
                              <a:pt x="184" y="80"/>
                            </a:cubicBezTo>
                            <a:cubicBezTo>
                              <a:pt x="189" y="88"/>
                              <a:pt x="198" y="94"/>
                              <a:pt x="200" y="104"/>
                            </a:cubicBezTo>
                            <a:cubicBezTo>
                              <a:pt x="200" y="105"/>
                              <a:pt x="176" y="190"/>
                              <a:pt x="176" y="192"/>
                            </a:cubicBezTo>
                            <a:cubicBezTo>
                              <a:pt x="170" y="198"/>
                              <a:pt x="160" y="197"/>
                              <a:pt x="152" y="200"/>
                            </a:cubicBezTo>
                            <a:cubicBezTo>
                              <a:pt x="114" y="237"/>
                              <a:pt x="53" y="256"/>
                              <a:pt x="0" y="256"/>
                            </a:cubicBezTo>
                          </a:path>
                        </a:pathLst>
                      </a:custGeom>
                      <a:noFill/>
                      <a:ln w="34920">
                        <a:solidFill>
                          <a:srgbClr val="ff060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76" name=""/>
                    <p:cNvSpPr/>
                    <p:nvPr/>
                  </p:nvSpPr>
                  <p:spPr>
                    <a:xfrm rot="14200800">
                      <a:off x="5846400" y="3961080"/>
                      <a:ext cx="291960" cy="44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56">
                          <a:moveTo>
                            <a:pt x="104" y="0"/>
                          </a:moveTo>
                          <a:cubicBezTo>
                            <a:pt x="124" y="30"/>
                            <a:pt x="148" y="68"/>
                            <a:pt x="184" y="80"/>
                          </a:cubicBezTo>
                          <a:cubicBezTo>
                            <a:pt x="189" y="88"/>
                            <a:pt x="198" y="94"/>
                            <a:pt x="200" y="104"/>
                          </a:cubicBezTo>
                          <a:cubicBezTo>
                            <a:pt x="200" y="105"/>
                            <a:pt x="176" y="190"/>
                            <a:pt x="176" y="192"/>
                          </a:cubicBezTo>
                          <a:cubicBezTo>
                            <a:pt x="170" y="198"/>
                            <a:pt x="160" y="197"/>
                            <a:pt x="152" y="200"/>
                          </a:cubicBezTo>
                          <a:cubicBezTo>
                            <a:pt x="114" y="237"/>
                            <a:pt x="53" y="256"/>
                            <a:pt x="0" y="256"/>
                          </a:cubicBezTo>
                        </a:path>
                      </a:pathLst>
                    </a:custGeom>
                    <a:noFill/>
                    <a:ln w="34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7" name=""/>
                <p:cNvGrpSpPr/>
                <p:nvPr/>
              </p:nvGrpSpPr>
              <p:grpSpPr>
                <a:xfrm>
                  <a:off x="7123680" y="3885840"/>
                  <a:ext cx="704160" cy="627120"/>
                  <a:chOff x="7123680" y="3885840"/>
                  <a:chExt cx="704160" cy="6271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7142040" y="3885840"/>
                    <a:ext cx="685800" cy="62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7123680" y="3885840"/>
                    <a:ext cx="658800" cy="541800"/>
                    <a:chOff x="7123680" y="3885840"/>
                    <a:chExt cx="658800" cy="541800"/>
                  </a:xfrm>
                </p:grpSpPr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7123680" y="3885840"/>
                      <a:ext cx="564480" cy="482040"/>
                      <a:chOff x="7123680" y="3885840"/>
                      <a:chExt cx="564480" cy="48204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7294320" y="3885840"/>
                        <a:ext cx="291960" cy="44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256">
                            <a:moveTo>
                              <a:pt x="104" y="0"/>
                            </a:moveTo>
                            <a:cubicBezTo>
                              <a:pt x="124" y="30"/>
                              <a:pt x="148" y="68"/>
                              <a:pt x="184" y="80"/>
                            </a:cubicBezTo>
                            <a:cubicBezTo>
                              <a:pt x="189" y="88"/>
                              <a:pt x="198" y="94"/>
                              <a:pt x="200" y="104"/>
                            </a:cubicBezTo>
                            <a:cubicBezTo>
                              <a:pt x="200" y="105"/>
                              <a:pt x="176" y="190"/>
                              <a:pt x="176" y="192"/>
                            </a:cubicBezTo>
                            <a:cubicBezTo>
                              <a:pt x="170" y="198"/>
                              <a:pt x="160" y="197"/>
                              <a:pt x="152" y="200"/>
                            </a:cubicBezTo>
                            <a:cubicBezTo>
                              <a:pt x="114" y="237"/>
                              <a:pt x="53" y="256"/>
                              <a:pt x="0" y="256"/>
                            </a:cubicBezTo>
                          </a:path>
                        </a:pathLst>
                      </a:custGeom>
                      <a:noFill/>
                      <a:ln w="34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7522920" y="4037760"/>
                        <a:ext cx="165240" cy="33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256">
                            <a:moveTo>
                              <a:pt x="104" y="0"/>
                            </a:moveTo>
                            <a:cubicBezTo>
                              <a:pt x="124" y="30"/>
                              <a:pt x="148" y="68"/>
                              <a:pt x="184" y="80"/>
                            </a:cubicBezTo>
                            <a:cubicBezTo>
                              <a:pt x="189" y="88"/>
                              <a:pt x="198" y="94"/>
                              <a:pt x="200" y="104"/>
                            </a:cubicBezTo>
                            <a:cubicBezTo>
                              <a:pt x="200" y="105"/>
                              <a:pt x="176" y="190"/>
                              <a:pt x="176" y="192"/>
                            </a:cubicBezTo>
                            <a:cubicBezTo>
                              <a:pt x="170" y="198"/>
                              <a:pt x="160" y="197"/>
                              <a:pt x="152" y="200"/>
                            </a:cubicBezTo>
                            <a:cubicBezTo>
                              <a:pt x="114" y="237"/>
                              <a:pt x="53" y="256"/>
                              <a:pt x="0" y="256"/>
                            </a:cubicBezTo>
                          </a:path>
                        </a:pathLst>
                      </a:custGeom>
                      <a:noFill/>
                      <a:ln w="34920">
                        <a:solidFill>
                          <a:srgbClr val="ff060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 rot="17284800">
                        <a:off x="7221600" y="4034160"/>
                        <a:ext cx="171000" cy="33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256">
                            <a:moveTo>
                              <a:pt x="104" y="0"/>
                            </a:moveTo>
                            <a:cubicBezTo>
                              <a:pt x="124" y="30"/>
                              <a:pt x="148" y="68"/>
                              <a:pt x="184" y="80"/>
                            </a:cubicBezTo>
                            <a:cubicBezTo>
                              <a:pt x="189" y="88"/>
                              <a:pt x="198" y="94"/>
                              <a:pt x="200" y="104"/>
                            </a:cubicBezTo>
                            <a:cubicBezTo>
                              <a:pt x="200" y="105"/>
                              <a:pt x="176" y="190"/>
                              <a:pt x="176" y="192"/>
                            </a:cubicBezTo>
                            <a:cubicBezTo>
                              <a:pt x="170" y="198"/>
                              <a:pt x="160" y="197"/>
                              <a:pt x="152" y="200"/>
                            </a:cubicBezTo>
                            <a:cubicBezTo>
                              <a:pt x="114" y="237"/>
                              <a:pt x="53" y="256"/>
                              <a:pt x="0" y="256"/>
                            </a:cubicBezTo>
                          </a:path>
                        </a:pathLst>
                      </a:custGeom>
                      <a:noFill/>
                      <a:ln w="34920">
                        <a:solidFill>
                          <a:srgbClr val="ff0602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4" name=""/>
                    <p:cNvSpPr/>
                    <p:nvPr/>
                  </p:nvSpPr>
                  <p:spPr>
                    <a:xfrm rot="14200800">
                      <a:off x="7370280" y="3961080"/>
                      <a:ext cx="291960" cy="44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256">
                          <a:moveTo>
                            <a:pt x="104" y="0"/>
                          </a:moveTo>
                          <a:cubicBezTo>
                            <a:pt x="124" y="30"/>
                            <a:pt x="148" y="68"/>
                            <a:pt x="184" y="80"/>
                          </a:cubicBezTo>
                          <a:cubicBezTo>
                            <a:pt x="189" y="88"/>
                            <a:pt x="198" y="94"/>
                            <a:pt x="200" y="104"/>
                          </a:cubicBezTo>
                          <a:cubicBezTo>
                            <a:pt x="200" y="105"/>
                            <a:pt x="176" y="190"/>
                            <a:pt x="176" y="192"/>
                          </a:cubicBezTo>
                          <a:cubicBezTo>
                            <a:pt x="170" y="198"/>
                            <a:pt x="160" y="197"/>
                            <a:pt x="152" y="200"/>
                          </a:cubicBezTo>
                          <a:cubicBezTo>
                            <a:pt x="114" y="237"/>
                            <a:pt x="53" y="256"/>
                            <a:pt x="0" y="256"/>
                          </a:cubicBezTo>
                        </a:path>
                      </a:pathLst>
                    </a:custGeom>
                    <a:noFill/>
                    <a:ln w="34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85" name=""/>
                <p:cNvSpPr/>
                <p:nvPr/>
              </p:nvSpPr>
              <p:spPr>
                <a:xfrm rot="16044000">
                  <a:off x="5402880" y="4178160"/>
                  <a:ext cx="74520" cy="152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6044000">
                  <a:off x="7943040" y="4151160"/>
                  <a:ext cx="74520" cy="152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044000">
                  <a:off x="7943040" y="3998880"/>
                  <a:ext cx="74520" cy="15228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6303240" y="4076640"/>
                  <a:ext cx="8377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1022"/>
                      </a:moveTo>
                      <a:arcTo wR="10800" hR="10800" stAng="10729364" swAng="10855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1022"/>
                      </a:moveTo>
                      <a:arcTo wR="10800" hR="10800" stAng="10729364" swAng="10855612"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6303240" y="4184280"/>
                  <a:ext cx="83772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1022"/>
                      </a:moveTo>
                      <a:arcTo wR="10800" hR="10800" stAng="10729364" swAng="10855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1022"/>
                      </a:moveTo>
                      <a:arcTo wR="10800" hR="10800" stAng="10729364" swAng="10855612"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6303240" y="4327200"/>
                  <a:ext cx="83772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1022"/>
                      </a:moveTo>
                      <a:arcTo wR="10800" hR="10800" stAng="10729364" swAng="10855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1022"/>
                      </a:moveTo>
                      <a:arcTo wR="10800" hR="10800" stAng="10729364" swAng="10855612"/>
                    </a:path>
                  </a:pathLst>
                </a:custGeom>
                <a:noFill/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 rot="16044000">
                <a:off x="5397120" y="4304880"/>
                <a:ext cx="76320" cy="15264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flipH="1">
              <a:off x="6324120" y="3971880"/>
              <a:ext cx="83772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1022"/>
                  </a:moveTo>
                  <a:arcTo wR="10800" hR="10800" stAng="10729364" swAng="10855612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1022"/>
                  </a:moveTo>
                  <a:arcTo wR="10800" hR="10800" stAng="10729364" swAng="10855612"/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394" name="" descr=""/>
            <p:cNvPicPr/>
            <p:nvPr/>
          </p:nvPicPr>
          <p:blipFill>
            <a:blip r:embed="rId34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638680" y="5181480"/>
            <a:ext cx="914400" cy="914400"/>
            <a:chOff x="5638680" y="5181480"/>
            <a:chExt cx="914400" cy="914400"/>
          </a:xfrm>
        </p:grpSpPr>
        <p:sp>
          <p:nvSpPr>
            <p:cNvPr id="400" name=""/>
            <p:cNvSpPr/>
            <p:nvPr/>
          </p:nvSpPr>
          <p:spPr>
            <a:xfrm>
              <a:off x="5638680" y="5181480"/>
              <a:ext cx="914400" cy="914400"/>
            </a:xfrm>
            <a:prstGeom prst="donut">
              <a:avLst>
                <a:gd name="adj" fmla="val 25000"/>
              </a:avLst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59000" y="5376240"/>
              <a:ext cx="507600" cy="50760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46640" y="5943240"/>
              <a:ext cx="50760" cy="101520"/>
            </a:xfrm>
            <a:custGeom>
              <a:avLst/>
              <a:gdLst>
                <a:gd name="textAreaLeft" fmla="*/ 7200 w 50760"/>
                <a:gd name="textAreaRight" fmla="*/ 43560 w 50760"/>
                <a:gd name="textAreaTop" fmla="*/ 14760 h 101520"/>
                <a:gd name="textAreaBottom" fmla="*/ 8676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1" y="11741"/>
                  </a:lnTo>
                  <a:lnTo>
                    <a:pt x="198" y="12861"/>
                  </a:lnTo>
                  <a:lnTo>
                    <a:pt x="418" y="13777"/>
                  </a:lnTo>
                  <a:lnTo>
                    <a:pt x="786" y="14846"/>
                  </a:lnTo>
                  <a:lnTo>
                    <a:pt x="1264" y="15870"/>
                  </a:lnTo>
                  <a:lnTo>
                    <a:pt x="1742" y="16682"/>
                  </a:lnTo>
                  <a:lnTo>
                    <a:pt x="2407" y="17597"/>
                  </a:lnTo>
                  <a:lnTo>
                    <a:pt x="3163" y="18437"/>
                  </a:lnTo>
                  <a:lnTo>
                    <a:pt x="3858" y="19073"/>
                  </a:lnTo>
                  <a:lnTo>
                    <a:pt x="4761" y="19754"/>
                  </a:lnTo>
                  <a:lnTo>
                    <a:pt x="5564" y="20246"/>
                  </a:lnTo>
                  <a:lnTo>
                    <a:pt x="6580" y="20741"/>
                  </a:lnTo>
                  <a:lnTo>
                    <a:pt x="7642" y="21128"/>
                  </a:lnTo>
                  <a:lnTo>
                    <a:pt x="8555" y="21364"/>
                  </a:lnTo>
                  <a:lnTo>
                    <a:pt x="9671" y="21541"/>
                  </a:lnTo>
                  <a:lnTo>
                    <a:pt x="10800" y="21600"/>
                  </a:lnTo>
                  <a:lnTo>
                    <a:pt x="11741" y="21559"/>
                  </a:lnTo>
                  <a:lnTo>
                    <a:pt x="12861" y="21402"/>
                  </a:lnTo>
                  <a:lnTo>
                    <a:pt x="13777" y="21182"/>
                  </a:lnTo>
                  <a:lnTo>
                    <a:pt x="14846" y="20814"/>
                  </a:lnTo>
                  <a:lnTo>
                    <a:pt x="15870" y="20336"/>
                  </a:lnTo>
                  <a:lnTo>
                    <a:pt x="16682" y="19858"/>
                  </a:lnTo>
                  <a:lnTo>
                    <a:pt x="17597" y="19193"/>
                  </a:lnTo>
                  <a:lnTo>
                    <a:pt x="18437" y="18437"/>
                  </a:lnTo>
                  <a:lnTo>
                    <a:pt x="19073" y="17742"/>
                  </a:lnTo>
                  <a:lnTo>
                    <a:pt x="19754" y="16839"/>
                  </a:lnTo>
                  <a:lnTo>
                    <a:pt x="20246" y="16036"/>
                  </a:lnTo>
                  <a:lnTo>
                    <a:pt x="20741" y="15020"/>
                  </a:lnTo>
                  <a:lnTo>
                    <a:pt x="21128" y="13958"/>
                  </a:lnTo>
                  <a:lnTo>
                    <a:pt x="21364" y="13045"/>
                  </a:lnTo>
                  <a:lnTo>
                    <a:pt x="21541" y="11929"/>
                  </a:lnTo>
                  <a:lnTo>
                    <a:pt x="21600" y="10800"/>
                  </a:lnTo>
                  <a:lnTo>
                    <a:pt x="21559" y="9859"/>
                  </a:lnTo>
                  <a:lnTo>
                    <a:pt x="21402" y="8739"/>
                  </a:lnTo>
                  <a:lnTo>
                    <a:pt x="21182" y="7823"/>
                  </a:lnTo>
                  <a:lnTo>
                    <a:pt x="20814" y="6754"/>
                  </a:lnTo>
                  <a:lnTo>
                    <a:pt x="20336" y="5730"/>
                  </a:lnTo>
                  <a:lnTo>
                    <a:pt x="19858" y="4918"/>
                  </a:lnTo>
                  <a:lnTo>
                    <a:pt x="19193" y="4003"/>
                  </a:lnTo>
                  <a:lnTo>
                    <a:pt x="18437" y="3163"/>
                  </a:lnTo>
                  <a:lnTo>
                    <a:pt x="17742" y="2527"/>
                  </a:lnTo>
                  <a:lnTo>
                    <a:pt x="16839" y="1846"/>
                  </a:lnTo>
                  <a:lnTo>
                    <a:pt x="16036" y="1354"/>
                  </a:lnTo>
                  <a:lnTo>
                    <a:pt x="15020" y="859"/>
                  </a:lnTo>
                  <a:lnTo>
                    <a:pt x="13958" y="472"/>
                  </a:lnTo>
                  <a:lnTo>
                    <a:pt x="13045" y="236"/>
                  </a:lnTo>
                  <a:lnTo>
                    <a:pt x="11929" y="59"/>
                  </a:lnTo>
                  <a:lnTo>
                    <a:pt x="10800" y="0"/>
                  </a:lnTo>
                  <a:lnTo>
                    <a:pt x="9859" y="41"/>
                  </a:lnTo>
                  <a:lnTo>
                    <a:pt x="8739" y="198"/>
                  </a:lnTo>
                  <a:lnTo>
                    <a:pt x="7823" y="418"/>
                  </a:lnTo>
                  <a:lnTo>
                    <a:pt x="6754" y="786"/>
                  </a:lnTo>
                  <a:lnTo>
                    <a:pt x="5730" y="1264"/>
                  </a:lnTo>
                  <a:lnTo>
                    <a:pt x="4918" y="1742"/>
                  </a:lnTo>
                  <a:lnTo>
                    <a:pt x="4003" y="2407"/>
                  </a:lnTo>
                  <a:lnTo>
                    <a:pt x="3163" y="3163"/>
                  </a:lnTo>
                  <a:lnTo>
                    <a:pt x="2527" y="3858"/>
                  </a:lnTo>
                  <a:lnTo>
                    <a:pt x="1846" y="4761"/>
                  </a:lnTo>
                  <a:lnTo>
                    <a:pt x="1354" y="5564"/>
                  </a:lnTo>
                  <a:lnTo>
                    <a:pt x="859" y="6580"/>
                  </a:lnTo>
                  <a:lnTo>
                    <a:pt x="472" y="7642"/>
                  </a:lnTo>
                  <a:lnTo>
                    <a:pt x="236" y="8555"/>
                  </a:lnTo>
                  <a:lnTo>
                    <a:pt x="59" y="9671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48160" y="55371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4360" y="5943240"/>
              <a:ext cx="50760" cy="101520"/>
            </a:xfrm>
            <a:custGeom>
              <a:avLst/>
              <a:gdLst>
                <a:gd name="textAreaLeft" fmla="*/ 7200 w 50760"/>
                <a:gd name="textAreaRight" fmla="*/ 43560 w 50760"/>
                <a:gd name="textAreaTop" fmla="*/ 14760 h 101520"/>
                <a:gd name="textAreaBottom" fmla="*/ 8676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1" y="11741"/>
                  </a:lnTo>
                  <a:lnTo>
                    <a:pt x="198" y="12861"/>
                  </a:lnTo>
                  <a:lnTo>
                    <a:pt x="418" y="13777"/>
                  </a:lnTo>
                  <a:lnTo>
                    <a:pt x="786" y="14846"/>
                  </a:lnTo>
                  <a:lnTo>
                    <a:pt x="1264" y="15870"/>
                  </a:lnTo>
                  <a:lnTo>
                    <a:pt x="1742" y="16682"/>
                  </a:lnTo>
                  <a:lnTo>
                    <a:pt x="2407" y="17597"/>
                  </a:lnTo>
                  <a:lnTo>
                    <a:pt x="3163" y="18437"/>
                  </a:lnTo>
                  <a:lnTo>
                    <a:pt x="3858" y="19073"/>
                  </a:lnTo>
                  <a:lnTo>
                    <a:pt x="4761" y="19754"/>
                  </a:lnTo>
                  <a:lnTo>
                    <a:pt x="5564" y="20246"/>
                  </a:lnTo>
                  <a:lnTo>
                    <a:pt x="6580" y="20741"/>
                  </a:lnTo>
                  <a:lnTo>
                    <a:pt x="7642" y="21128"/>
                  </a:lnTo>
                  <a:lnTo>
                    <a:pt x="8555" y="21364"/>
                  </a:lnTo>
                  <a:lnTo>
                    <a:pt x="9671" y="21541"/>
                  </a:lnTo>
                  <a:lnTo>
                    <a:pt x="10800" y="21600"/>
                  </a:lnTo>
                  <a:lnTo>
                    <a:pt x="11741" y="21559"/>
                  </a:lnTo>
                  <a:lnTo>
                    <a:pt x="12861" y="21402"/>
                  </a:lnTo>
                  <a:lnTo>
                    <a:pt x="13777" y="21182"/>
                  </a:lnTo>
                  <a:lnTo>
                    <a:pt x="14846" y="20814"/>
                  </a:lnTo>
                  <a:lnTo>
                    <a:pt x="15870" y="20336"/>
                  </a:lnTo>
                  <a:lnTo>
                    <a:pt x="16682" y="19858"/>
                  </a:lnTo>
                  <a:lnTo>
                    <a:pt x="17597" y="19193"/>
                  </a:lnTo>
                  <a:lnTo>
                    <a:pt x="18437" y="18437"/>
                  </a:lnTo>
                  <a:lnTo>
                    <a:pt x="19073" y="17742"/>
                  </a:lnTo>
                  <a:lnTo>
                    <a:pt x="19754" y="16839"/>
                  </a:lnTo>
                  <a:lnTo>
                    <a:pt x="20246" y="16036"/>
                  </a:lnTo>
                  <a:lnTo>
                    <a:pt x="20741" y="15020"/>
                  </a:lnTo>
                  <a:lnTo>
                    <a:pt x="21128" y="13958"/>
                  </a:lnTo>
                  <a:lnTo>
                    <a:pt x="21364" y="13045"/>
                  </a:lnTo>
                  <a:lnTo>
                    <a:pt x="21541" y="11929"/>
                  </a:lnTo>
                  <a:lnTo>
                    <a:pt x="21600" y="10800"/>
                  </a:lnTo>
                  <a:lnTo>
                    <a:pt x="21559" y="9859"/>
                  </a:lnTo>
                  <a:lnTo>
                    <a:pt x="21402" y="8739"/>
                  </a:lnTo>
                  <a:lnTo>
                    <a:pt x="21182" y="7823"/>
                  </a:lnTo>
                  <a:lnTo>
                    <a:pt x="20814" y="6754"/>
                  </a:lnTo>
                  <a:lnTo>
                    <a:pt x="20336" y="5730"/>
                  </a:lnTo>
                  <a:lnTo>
                    <a:pt x="19858" y="4918"/>
                  </a:lnTo>
                  <a:lnTo>
                    <a:pt x="19193" y="4003"/>
                  </a:lnTo>
                  <a:lnTo>
                    <a:pt x="18437" y="3163"/>
                  </a:lnTo>
                  <a:lnTo>
                    <a:pt x="17742" y="2527"/>
                  </a:lnTo>
                  <a:lnTo>
                    <a:pt x="16839" y="1846"/>
                  </a:lnTo>
                  <a:lnTo>
                    <a:pt x="16036" y="1354"/>
                  </a:lnTo>
                  <a:lnTo>
                    <a:pt x="15020" y="859"/>
                  </a:lnTo>
                  <a:lnTo>
                    <a:pt x="13958" y="472"/>
                  </a:lnTo>
                  <a:lnTo>
                    <a:pt x="13045" y="236"/>
                  </a:lnTo>
                  <a:lnTo>
                    <a:pt x="11929" y="59"/>
                  </a:lnTo>
                  <a:lnTo>
                    <a:pt x="10800" y="0"/>
                  </a:lnTo>
                  <a:lnTo>
                    <a:pt x="9859" y="41"/>
                  </a:lnTo>
                  <a:lnTo>
                    <a:pt x="8739" y="198"/>
                  </a:lnTo>
                  <a:lnTo>
                    <a:pt x="7823" y="418"/>
                  </a:lnTo>
                  <a:lnTo>
                    <a:pt x="6754" y="786"/>
                  </a:lnTo>
                  <a:lnTo>
                    <a:pt x="5730" y="1264"/>
                  </a:lnTo>
                  <a:lnTo>
                    <a:pt x="4918" y="1742"/>
                  </a:lnTo>
                  <a:lnTo>
                    <a:pt x="4003" y="2407"/>
                  </a:lnTo>
                  <a:lnTo>
                    <a:pt x="3163" y="3163"/>
                  </a:lnTo>
                  <a:lnTo>
                    <a:pt x="2527" y="3858"/>
                  </a:lnTo>
                  <a:lnTo>
                    <a:pt x="1846" y="4761"/>
                  </a:lnTo>
                  <a:lnTo>
                    <a:pt x="1354" y="5564"/>
                  </a:lnTo>
                  <a:lnTo>
                    <a:pt x="859" y="6580"/>
                  </a:lnTo>
                  <a:lnTo>
                    <a:pt x="472" y="7642"/>
                  </a:lnTo>
                  <a:lnTo>
                    <a:pt x="236" y="8555"/>
                  </a:lnTo>
                  <a:lnTo>
                    <a:pt x="59" y="9671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3905280" y="44197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12720" y="396864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fase ini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20640" y="3282840"/>
            <a:ext cx="147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da pro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2640" y="251460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meta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10760" y="19810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ta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88960" y="2063880"/>
            <a:ext cx="164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fase ini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259704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arda anafas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61000" y="34354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lof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9060800">
            <a:off x="1090440" y="1162080"/>
            <a:ext cx="990720" cy="30492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21595800">
            <a:off x="3731760" y="914400"/>
            <a:ext cx="990720" cy="30492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5456000">
            <a:off x="-53640" y="3187440"/>
            <a:ext cx="869760" cy="304920"/>
          </a:xfrm>
          <a:custGeom>
            <a:avLst/>
            <a:gdLst>
              <a:gd name="textAreaLeft" fmla="*/ 0 w 869760"/>
              <a:gd name="textAreaRight" fmla="*/ 870120 w 869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1837400">
            <a:off x="1282320" y="4873320"/>
            <a:ext cx="870120" cy="322200"/>
          </a:xfrm>
          <a:custGeom>
            <a:avLst/>
            <a:gdLst>
              <a:gd name="textAreaLeft" fmla="*/ 0 w 870120"/>
              <a:gd name="textAreaRight" fmla="*/ 870480 w 8701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1837400">
            <a:off x="3110040" y="5408280"/>
            <a:ext cx="869760" cy="318960"/>
          </a:xfrm>
          <a:custGeom>
            <a:avLst/>
            <a:gdLst>
              <a:gd name="textAreaLeft" fmla="*/ 0 w 869760"/>
              <a:gd name="textAreaRight" fmla="*/ 870120 w 8697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271600">
            <a:off x="6300720" y="1541520"/>
            <a:ext cx="990720" cy="280800"/>
          </a:xfrm>
          <a:custGeom>
            <a:avLst/>
            <a:gdLst>
              <a:gd name="textAreaLeft" fmla="*/ 0 w 990720"/>
              <a:gd name="textAreaRight" fmla="*/ 991080 w 9907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6134400">
            <a:off x="7942680" y="3543840"/>
            <a:ext cx="990720" cy="264960"/>
          </a:xfrm>
          <a:custGeom>
            <a:avLst/>
            <a:gdLst>
              <a:gd name="textAreaLeft" fmla="*/ 0 w 990720"/>
              <a:gd name="textAreaRight" fmla="*/ 991080 w 9907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8100000">
            <a:off x="6400080" y="5028840"/>
            <a:ext cx="762120" cy="11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27720 h 111240"/>
              <a:gd name="textAreaBottom" fmla="*/ 83520 h 11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724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8100000">
            <a:off x="4647960" y="4536720"/>
            <a:ext cx="761760" cy="111240"/>
          </a:xfrm>
          <a:custGeom>
            <a:avLst/>
            <a:gdLst>
              <a:gd name="textAreaLeft" fmla="*/ 118800 w 761760"/>
              <a:gd name="textAreaRight" fmla="*/ 666720 w 761760"/>
              <a:gd name="textAreaTop" fmla="*/ 27720 h 111240"/>
              <a:gd name="textAreaBottom" fmla="*/ 83520 h 11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724"/>
              </a:gs>
              <a:gs pos="100000">
                <a:srgbClr val="fffb0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16200" y="5160960"/>
            <a:ext cx="645120" cy="11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5410080"/>
            <a:ext cx="533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43400" y="5562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71000" y="60069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entri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06440" y="49528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ucleo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87120" y="566100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mbr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ucle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51e"/>
                </a:solidFill>
                <a:latin typeface="Comic Sans MS"/>
              </a:rPr>
              <a:t>Durata degli stadi della mitosi (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52280" y="1219320"/>
          <a:ext cx="8839440" cy="4784760"/>
        </p:xfrm>
        <a:graphic>
          <a:graphicData uri="http://schemas.openxmlformats.org/drawingml/2006/table">
            <a:tbl>
              <a:tblPr/>
              <a:tblGrid>
                <a:gridCol w="3505320"/>
                <a:gridCol w="1295280"/>
                <a:gridCol w="1447920"/>
                <a:gridCol w="1295280"/>
                <a:gridCol w="129564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51e"/>
                          </a:solidFill>
                          <a:latin typeface="Comic Sans MS"/>
                        </a:rPr>
                        <a:t>organis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ta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a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lo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po (milz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o (culture cellule mesenchimal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valletta neurobla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mbrioni riccio di m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polla (apici radical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sello (apici radical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30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43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52680" y="533520"/>
            <a:ext cx="18288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c0c"/>
                </a:solidFill>
                <a:latin typeface="Comic Sans MS"/>
              </a:rPr>
              <a:t>mei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180324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18032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18032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180324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320" y="3352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5248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3352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213160" y="3468600"/>
            <a:ext cx="359280" cy="282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48720" y="3429000"/>
            <a:ext cx="295200" cy="20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293840" y="4331160"/>
            <a:ext cx="2973240" cy="401400"/>
            <a:chOff x="1293840" y="4331160"/>
            <a:chExt cx="2973240" cy="401400"/>
          </a:xfrm>
        </p:grpSpPr>
        <p:sp>
          <p:nvSpPr>
            <p:cNvPr id="447" name=""/>
            <p:cNvSpPr/>
            <p:nvPr/>
          </p:nvSpPr>
          <p:spPr>
            <a:xfrm>
              <a:off x="1676520" y="4343400"/>
              <a:ext cx="259056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293840" y="4331160"/>
              <a:ext cx="401040" cy="401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447920" y="510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324480" y="4192920"/>
            <a:ext cx="2362320" cy="228960"/>
            <a:chOff x="6324480" y="4192920"/>
            <a:chExt cx="2362320" cy="228960"/>
          </a:xfrm>
        </p:grpSpPr>
        <p:sp>
          <p:nvSpPr>
            <p:cNvPr id="451" name=""/>
            <p:cNvSpPr/>
            <p:nvPr/>
          </p:nvSpPr>
          <p:spPr>
            <a:xfrm>
              <a:off x="6324480" y="4413960"/>
              <a:ext cx="2362320" cy="79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593920" y="4192920"/>
              <a:ext cx="66240" cy="188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6629400" y="5181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34080" y="5445360"/>
            <a:ext cx="6573240" cy="405360"/>
            <a:chOff x="2134080" y="5445360"/>
            <a:chExt cx="6573240" cy="405360"/>
          </a:xfrm>
        </p:grpSpPr>
        <p:sp>
          <p:nvSpPr>
            <p:cNvPr id="455" name=""/>
            <p:cNvSpPr/>
            <p:nvPr/>
          </p:nvSpPr>
          <p:spPr>
            <a:xfrm flipH="1">
              <a:off x="2134080" y="5445360"/>
              <a:ext cx="249840" cy="38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64040" y="5534640"/>
              <a:ext cx="336240" cy="309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7399080" y="5509440"/>
              <a:ext cx="168480" cy="34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40920" y="5559120"/>
              <a:ext cx="266400" cy="24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152280" y="895320"/>
            <a:ext cx="1143000" cy="1441440"/>
            <a:chOff x="152280" y="895320"/>
            <a:chExt cx="1143000" cy="1441440"/>
          </a:xfrm>
        </p:grpSpPr>
        <p:grpSp>
          <p:nvGrpSpPr>
            <p:cNvPr id="460" name=""/>
            <p:cNvGrpSpPr/>
            <p:nvPr/>
          </p:nvGrpSpPr>
          <p:grpSpPr>
            <a:xfrm>
              <a:off x="152280" y="1498320"/>
              <a:ext cx="1143000" cy="838440"/>
              <a:chOff x="152280" y="1498320"/>
              <a:chExt cx="1143000" cy="838440"/>
            </a:xfrm>
          </p:grpSpPr>
          <p:pic>
            <p:nvPicPr>
              <p:cNvPr id="461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380520" y="1574640"/>
                <a:ext cx="671400" cy="6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330120" y="1523880"/>
                <a:ext cx="762120" cy="7621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2280" y="1498320"/>
                <a:ext cx="1143000" cy="83844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35080" y="89532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676520" y="895320"/>
            <a:ext cx="1371600" cy="1498320"/>
            <a:chOff x="1676520" y="895320"/>
            <a:chExt cx="1371600" cy="1498320"/>
          </a:xfrm>
        </p:grpSpPr>
        <p:grpSp>
          <p:nvGrpSpPr>
            <p:cNvPr id="466" name=""/>
            <p:cNvGrpSpPr/>
            <p:nvPr/>
          </p:nvGrpSpPr>
          <p:grpSpPr>
            <a:xfrm>
              <a:off x="1676520" y="1330200"/>
              <a:ext cx="1371600" cy="1063440"/>
              <a:chOff x="1676520" y="1330200"/>
              <a:chExt cx="1371600" cy="1063440"/>
            </a:xfrm>
          </p:grpSpPr>
          <p:pic>
            <p:nvPicPr>
              <p:cNvPr id="467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1828800" y="1346040"/>
                <a:ext cx="100332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1854360" y="1371600"/>
                <a:ext cx="914400" cy="9144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676520" y="1330200"/>
                <a:ext cx="1371600" cy="10065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747800" y="8953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epto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505320" y="895320"/>
            <a:ext cx="1422360" cy="1441080"/>
            <a:chOff x="3505320" y="895320"/>
            <a:chExt cx="1422360" cy="144108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1269720"/>
              <a:ext cx="1422360" cy="1066680"/>
              <a:chOff x="3505320" y="1269720"/>
              <a:chExt cx="1422360" cy="1066680"/>
            </a:xfrm>
          </p:grpSpPr>
          <p:pic>
            <p:nvPicPr>
              <p:cNvPr id="473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708360" y="1269720"/>
                <a:ext cx="100332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3683160" y="1371240"/>
                <a:ext cx="949320" cy="9144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505320" y="1331640"/>
                <a:ext cx="1422360" cy="100476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3574800" y="8953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zigo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334120" y="895320"/>
            <a:ext cx="1676160" cy="1568160"/>
            <a:chOff x="5334120" y="895320"/>
            <a:chExt cx="1676160" cy="1568160"/>
          </a:xfrm>
        </p:grpSpPr>
        <p:grpSp>
          <p:nvGrpSpPr>
            <p:cNvPr id="478" name=""/>
            <p:cNvGrpSpPr/>
            <p:nvPr/>
          </p:nvGrpSpPr>
          <p:grpSpPr>
            <a:xfrm>
              <a:off x="5334120" y="1234800"/>
              <a:ext cx="1676160" cy="1228680"/>
              <a:chOff x="5334120" y="1234800"/>
              <a:chExt cx="1676160" cy="1228680"/>
            </a:xfrm>
          </p:grpSpPr>
          <p:pic>
            <p:nvPicPr>
              <p:cNvPr id="479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5562360" y="1346040"/>
                <a:ext cx="1003320" cy="10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5562720" y="1269720"/>
                <a:ext cx="1193760" cy="11937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34120" y="1234800"/>
                <a:ext cx="1676160" cy="12286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704560" y="89532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achi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429680" y="895320"/>
            <a:ext cx="1676160" cy="1593720"/>
            <a:chOff x="7429680" y="895320"/>
            <a:chExt cx="1676160" cy="1593720"/>
          </a:xfrm>
        </p:grpSpPr>
        <p:grpSp>
          <p:nvGrpSpPr>
            <p:cNvPr id="484" name=""/>
            <p:cNvGrpSpPr/>
            <p:nvPr/>
          </p:nvGrpSpPr>
          <p:grpSpPr>
            <a:xfrm>
              <a:off x="7429680" y="1260360"/>
              <a:ext cx="1676160" cy="1228680"/>
              <a:chOff x="7429680" y="1260360"/>
              <a:chExt cx="1676160" cy="1228680"/>
            </a:xfrm>
          </p:grpSpPr>
          <p:pic>
            <p:nvPicPr>
              <p:cNvPr id="48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7658280" y="1422360"/>
                <a:ext cx="1000080" cy="84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7607520" y="1320480"/>
                <a:ext cx="1117440" cy="11178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429680" y="1260360"/>
                <a:ext cx="1676160" cy="122868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7758000" y="89532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plot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283480" y="2362320"/>
            <a:ext cx="1683360" cy="1791360"/>
            <a:chOff x="2283480" y="2362320"/>
            <a:chExt cx="1683360" cy="1791360"/>
          </a:xfrm>
        </p:grpSpPr>
        <p:pic>
          <p:nvPicPr>
            <p:cNvPr id="490" name="" descr=""/>
            <p:cNvPicPr/>
            <p:nvPr/>
          </p:nvPicPr>
          <p:blipFill>
            <a:blip r:embed="rId6"/>
            <a:stretch/>
          </p:blipFill>
          <p:spPr>
            <a:xfrm flipH="1" rot="16272000">
              <a:off x="2507400" y="3098520"/>
              <a:ext cx="135720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 flipH="1" flipV="1">
              <a:off x="2505600" y="3454920"/>
              <a:ext cx="525240" cy="3920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510640" y="3082680"/>
              <a:ext cx="460440" cy="368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336120" y="3480840"/>
              <a:ext cx="465120" cy="371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51960" y="3092400"/>
              <a:ext cx="449280" cy="3906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6271400">
              <a:off x="2354040" y="33267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6271400">
              <a:off x="3647880" y="340452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6212600">
              <a:off x="2401200" y="2587680"/>
              <a:ext cx="1447560" cy="1677960"/>
            </a:xfrm>
            <a:custGeom>
              <a:avLst/>
              <a:gdLst>
                <a:gd name="textAreaLeft" fmla="*/ 70560 w 1447560"/>
                <a:gd name="textAreaRight" fmla="*/ 1377000 w 1447560"/>
                <a:gd name="textAreaTop" fmla="*/ 70560 h 1677960"/>
                <a:gd name="textAreaBottom" fmla="*/ 1607400 h 1677960"/>
              </a:gdLst>
              <a:ahLst/>
              <a:rect l="textAreaLeft" t="textAreaTop" r="textAreaRight" b="textAreaBottom"/>
              <a:pathLst>
                <a:path w="21600" h="25037">
                  <a:moveTo>
                    <a:pt x="3600" y="0"/>
                  </a:moveTo>
                  <a:arcTo wR="3600" hR="3600" stAng="16200000" swAng="-5400000"/>
                  <a:lnTo>
                    <a:pt x="0" y="21437"/>
                  </a:lnTo>
                  <a:arcTo wR="3600" hR="3600" stAng="10800000" swAng="-5400000"/>
                  <a:lnTo>
                    <a:pt x="18000" y="250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16840" y="2362320"/>
              <a:ext cx="118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taf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636160" y="2444760"/>
            <a:ext cx="2215440" cy="1752120"/>
            <a:chOff x="5636160" y="2444760"/>
            <a:chExt cx="2215440" cy="1752120"/>
          </a:xfrm>
        </p:grpSpPr>
        <p:grpSp>
          <p:nvGrpSpPr>
            <p:cNvPr id="500" name=""/>
            <p:cNvGrpSpPr/>
            <p:nvPr/>
          </p:nvGrpSpPr>
          <p:grpSpPr>
            <a:xfrm>
              <a:off x="5718240" y="2743200"/>
              <a:ext cx="2057400" cy="1298520"/>
              <a:chOff x="5718240" y="2743200"/>
              <a:chExt cx="2057400" cy="1298520"/>
            </a:xfrm>
          </p:grpSpPr>
          <p:pic>
            <p:nvPicPr>
              <p:cNvPr id="501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6112440" y="2805840"/>
                <a:ext cx="1298520" cy="11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flipH="1" flipV="1">
                <a:off x="5870520" y="3431880"/>
                <a:ext cx="53352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870520" y="305064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242120" y="3431880"/>
                <a:ext cx="45720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42120" y="3051000"/>
                <a:ext cx="45720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6200000">
                <a:off x="5718240" y="3304800"/>
                <a:ext cx="228600" cy="228600"/>
              </a:xfrm>
              <a:custGeom>
                <a:avLst/>
                <a:gdLst>
                  <a:gd name="textAreaLeft" fmla="*/ 52200 w 228600"/>
                  <a:gd name="textAreaRight" fmla="*/ 176400 w 228600"/>
                  <a:gd name="textAreaTop" fmla="*/ 52200 h 228600"/>
                  <a:gd name="textAreaBottom" fmla="*/ 1764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7547040" y="3355560"/>
                <a:ext cx="228600" cy="228600"/>
              </a:xfrm>
              <a:custGeom>
                <a:avLst/>
                <a:gdLst>
                  <a:gd name="textAreaLeft" fmla="*/ 52200 w 228600"/>
                  <a:gd name="textAreaRight" fmla="*/ 176400 w 228600"/>
                  <a:gd name="textAreaTop" fmla="*/ 52200 h 228600"/>
                  <a:gd name="textAreaBottom" fmla="*/ 17640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rot="16212600">
              <a:off x="6019560" y="2363400"/>
              <a:ext cx="1447920" cy="2210040"/>
            </a:xfrm>
            <a:custGeom>
              <a:avLst/>
              <a:gdLst>
                <a:gd name="textAreaLeft" fmla="*/ 70560 w 1447920"/>
                <a:gd name="textAreaRight" fmla="*/ 1377360 w 1447920"/>
                <a:gd name="textAreaTop" fmla="*/ 70560 h 2210040"/>
                <a:gd name="textAreaBottom" fmla="*/ 2139480 h 2210040"/>
              </a:gdLst>
              <a:ahLst/>
              <a:rect l="textAreaLeft" t="textAreaTop" r="textAreaRight" b="textAreaBottom"/>
              <a:pathLst>
                <a:path w="21600" h="32966">
                  <a:moveTo>
                    <a:pt x="3600" y="0"/>
                  </a:moveTo>
                  <a:arcTo wR="3600" hR="3600" stAng="16200000" swAng="-5400000"/>
                  <a:lnTo>
                    <a:pt x="0" y="29366"/>
                  </a:lnTo>
                  <a:arcTo wR="3600" hR="3600" stAng="10800000" swAng="-5400000"/>
                  <a:lnTo>
                    <a:pt x="18000" y="32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14240" y="2444760"/>
              <a:ext cx="10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naf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158720" y="3517920"/>
            <a:ext cx="1113480" cy="1288080"/>
            <a:chOff x="4158720" y="3517920"/>
            <a:chExt cx="1113480" cy="1288080"/>
          </a:xfrm>
        </p:grpSpPr>
        <p:pic>
          <p:nvPicPr>
            <p:cNvPr id="511" name="" descr=""/>
            <p:cNvPicPr/>
            <p:nvPr/>
          </p:nvPicPr>
          <p:blipFill>
            <a:blip r:embed="rId12"/>
            <a:stretch/>
          </p:blipFill>
          <p:spPr>
            <a:xfrm>
              <a:off x="4343400" y="3886200"/>
              <a:ext cx="800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 rot="21551400">
              <a:off x="4381560" y="3809520"/>
              <a:ext cx="762120" cy="99072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990720"/>
                <a:gd name="textAreaBottom" fmla="*/ 953640 h 990720"/>
              </a:gdLst>
              <a:ahLst/>
              <a:rect l="textAreaLeft" t="textAreaTop" r="textAreaRight" b="textAreaBottom"/>
              <a:pathLst>
                <a:path w="21600" h="28076">
                  <a:moveTo>
                    <a:pt x="3600" y="0"/>
                  </a:moveTo>
                  <a:arcTo wR="3600" hR="3600" stAng="16200000" swAng="-5400000"/>
                  <a:lnTo>
                    <a:pt x="0" y="24476"/>
                  </a:lnTo>
                  <a:arcTo wR="3600" hR="3600" stAng="10800000" swAng="-5400000"/>
                  <a:lnTo>
                    <a:pt x="18000" y="280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58720" y="3517920"/>
              <a:ext cx="111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elofase 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899480" y="2857680"/>
            <a:ext cx="1143000" cy="1338840"/>
            <a:chOff x="7899480" y="2857680"/>
            <a:chExt cx="1143000" cy="1338840"/>
          </a:xfrm>
        </p:grpSpPr>
        <p:pic>
          <p:nvPicPr>
            <p:cNvPr id="515" name="" descr=""/>
            <p:cNvPicPr/>
            <p:nvPr/>
          </p:nvPicPr>
          <p:blipFill>
            <a:blip r:embed="rId13"/>
            <a:stretch/>
          </p:blipFill>
          <p:spPr>
            <a:xfrm>
              <a:off x="8153280" y="3276720"/>
              <a:ext cx="8002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 rot="21551400">
              <a:off x="8191440" y="3200040"/>
              <a:ext cx="762120" cy="990720"/>
            </a:xfrm>
            <a:custGeom>
              <a:avLst/>
              <a:gdLst>
                <a:gd name="textAreaLeft" fmla="*/ 37080 w 762120"/>
                <a:gd name="textAreaRight" fmla="*/ 725040 w 762120"/>
                <a:gd name="textAreaTop" fmla="*/ 37080 h 990720"/>
                <a:gd name="textAreaBottom" fmla="*/ 953640 h 990720"/>
              </a:gdLst>
              <a:ahLst/>
              <a:rect l="textAreaLeft" t="textAreaTop" r="textAreaRight" b="textAreaBottom"/>
              <a:pathLst>
                <a:path w="21600" h="28076">
                  <a:moveTo>
                    <a:pt x="3600" y="0"/>
                  </a:moveTo>
                  <a:arcTo wR="3600" hR="3600" stAng="16200000" swAng="-5400000"/>
                  <a:lnTo>
                    <a:pt x="0" y="24476"/>
                  </a:lnTo>
                  <a:arcTo wR="3600" hR="3600" stAng="10800000" swAng="-5400000"/>
                  <a:lnTo>
                    <a:pt x="18000" y="280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99480" y="285768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elofase 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99440" y="4229280"/>
            <a:ext cx="1258200" cy="1923120"/>
            <a:chOff x="199440" y="4229280"/>
            <a:chExt cx="1258200" cy="1923120"/>
          </a:xfrm>
        </p:grpSpPr>
        <p:pic>
          <p:nvPicPr>
            <p:cNvPr id="519" name="" descr=""/>
            <p:cNvPicPr/>
            <p:nvPr/>
          </p:nvPicPr>
          <p:blipFill>
            <a:blip r:embed="rId14"/>
            <a:stretch/>
          </p:blipFill>
          <p:spPr>
            <a:xfrm rot="5357400">
              <a:off x="143640" y="5112360"/>
              <a:ext cx="16556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 flipH="1">
              <a:off x="690840" y="4885200"/>
              <a:ext cx="209880" cy="294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600840" y="5479920"/>
              <a:ext cx="246240" cy="294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5310600">
              <a:off x="533160" y="51753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79560" y="4888080"/>
              <a:ext cx="320400" cy="368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1010880" y="5566320"/>
              <a:ext cx="199800" cy="249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5310600">
              <a:off x="1217160" y="526248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9440" y="422928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t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203560" y="4490280"/>
            <a:ext cx="2023920" cy="1152360"/>
            <a:chOff x="2203560" y="4490280"/>
            <a:chExt cx="2023920" cy="1152360"/>
          </a:xfrm>
        </p:grpSpPr>
        <p:pic>
          <p:nvPicPr>
            <p:cNvPr id="528" name="" descr=""/>
            <p:cNvPicPr/>
            <p:nvPr/>
          </p:nvPicPr>
          <p:blipFill>
            <a:blip r:embed="rId17"/>
            <a:stretch/>
          </p:blipFill>
          <p:spPr>
            <a:xfrm rot="5367000">
              <a:off x="2185200" y="4655160"/>
              <a:ext cx="11444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 flipH="1">
              <a:off x="2275920" y="4737600"/>
              <a:ext cx="205920" cy="297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2276640" y="5183280"/>
              <a:ext cx="250560" cy="29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5260800">
              <a:off x="2207880" y="49845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16520" y="4760280"/>
              <a:ext cx="237960" cy="222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119040" y="5289480"/>
              <a:ext cx="150840" cy="777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260800">
              <a:off x="3122280" y="49845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06440" y="450216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n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556600" y="4413600"/>
            <a:ext cx="1844640" cy="1666080"/>
            <a:chOff x="5556600" y="4413600"/>
            <a:chExt cx="1844640" cy="1666080"/>
          </a:xfrm>
        </p:grpSpPr>
        <p:pic>
          <p:nvPicPr>
            <p:cNvPr id="537" name="" descr=""/>
            <p:cNvPicPr/>
            <p:nvPr/>
          </p:nvPicPr>
          <p:blipFill>
            <a:blip r:embed="rId20"/>
            <a:stretch/>
          </p:blipFill>
          <p:spPr>
            <a:xfrm rot="5324400">
              <a:off x="5171760" y="5037120"/>
              <a:ext cx="16574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6082560" y="4880520"/>
              <a:ext cx="247320" cy="291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112440" y="5401800"/>
              <a:ext cx="201240" cy="3326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5277600">
              <a:off x="6246360" y="517860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718600" y="4881240"/>
              <a:ext cx="207360" cy="295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5630040" y="5479560"/>
              <a:ext cx="248760" cy="2930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5277600">
              <a:off x="5560560" y="517356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43040" y="449568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t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381080" y="4419720"/>
            <a:ext cx="1723320" cy="1372680"/>
            <a:chOff x="7381080" y="4419720"/>
            <a:chExt cx="1723320" cy="1372680"/>
          </a:xfrm>
        </p:grpSpPr>
        <p:pic>
          <p:nvPicPr>
            <p:cNvPr id="546" name="" descr=""/>
            <p:cNvPicPr/>
            <p:nvPr/>
          </p:nvPicPr>
          <p:blipFill>
            <a:blip r:embed="rId23"/>
            <a:stretch/>
          </p:blipFill>
          <p:spPr>
            <a:xfrm rot="5424600">
              <a:off x="7376400" y="4806360"/>
              <a:ext cx="11430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 flipH="1" flipV="1">
              <a:off x="7451280" y="5330880"/>
              <a:ext cx="236520" cy="2991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293800">
              <a:off x="7384680" y="510012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293680" y="4887360"/>
              <a:ext cx="322560" cy="3661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8293680" y="5334480"/>
              <a:ext cx="149760" cy="238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5293800">
              <a:off x="8373600" y="510804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499160" y="4758120"/>
              <a:ext cx="232200" cy="302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83360" y="4419720"/>
              <a:ext cx="11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nafase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752480" y="5791320"/>
            <a:ext cx="7200720" cy="1023840"/>
            <a:chOff x="1752480" y="5791320"/>
            <a:chExt cx="7200720" cy="1023840"/>
          </a:xfrm>
        </p:grpSpPr>
        <p:grpSp>
          <p:nvGrpSpPr>
            <p:cNvPr id="555" name=""/>
            <p:cNvGrpSpPr/>
            <p:nvPr/>
          </p:nvGrpSpPr>
          <p:grpSpPr>
            <a:xfrm>
              <a:off x="1752480" y="5867280"/>
              <a:ext cx="762120" cy="698400"/>
              <a:chOff x="1752480" y="5867280"/>
              <a:chExt cx="762120" cy="698400"/>
            </a:xfrm>
          </p:grpSpPr>
          <p:pic>
            <p:nvPicPr>
              <p:cNvPr id="556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1828800" y="5867280"/>
                <a:ext cx="6253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"/>
              <p:cNvSpPr/>
              <p:nvPr/>
            </p:nvSpPr>
            <p:spPr>
              <a:xfrm>
                <a:off x="1752480" y="587988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124080" y="5867280"/>
              <a:ext cx="762120" cy="685800"/>
              <a:chOff x="3124080" y="5867280"/>
              <a:chExt cx="762120" cy="685800"/>
            </a:xfrm>
          </p:grpSpPr>
          <p:pic>
            <p:nvPicPr>
              <p:cNvPr id="559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200400" y="5867280"/>
                <a:ext cx="6253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3124080" y="586728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858000" y="5867280"/>
              <a:ext cx="762120" cy="685800"/>
              <a:chOff x="6858000" y="5867280"/>
              <a:chExt cx="762120" cy="685800"/>
            </a:xfrm>
          </p:grpSpPr>
          <p:pic>
            <p:nvPicPr>
              <p:cNvPr id="562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6934320" y="5867280"/>
                <a:ext cx="62532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>
                <a:off x="6858000" y="586728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8153280" y="5791320"/>
              <a:ext cx="799920" cy="787320"/>
              <a:chOff x="8153280" y="5791320"/>
              <a:chExt cx="799920" cy="787320"/>
            </a:xfrm>
          </p:grpSpPr>
          <p:pic>
            <p:nvPicPr>
              <p:cNvPr id="565" name="" descr=""/>
              <p:cNvPicPr/>
              <p:nvPr/>
            </p:nvPicPr>
            <p:blipFill>
              <a:blip r:embed="rId29"/>
              <a:stretch/>
            </p:blipFill>
            <p:spPr>
              <a:xfrm flipH="1">
                <a:off x="8229240" y="5791320"/>
                <a:ext cx="72396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8153280" y="5867640"/>
                <a:ext cx="762120" cy="685800"/>
              </a:xfrm>
              <a:prstGeom prst="roundRect">
                <a:avLst>
                  <a:gd name="adj" fmla="val 16667"/>
                </a:avLst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343960" y="644688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me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73160" y="644688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ame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 rot="16212600">
            <a:off x="381960" y="2735280"/>
            <a:ext cx="1447560" cy="1297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6600" y="236232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acin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0"/>
          <a:stretch/>
        </p:blipFill>
        <p:spPr>
          <a:xfrm flipH="1" rot="16213200">
            <a:off x="568440" y="2778480"/>
            <a:ext cx="1047600" cy="1116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534960" y="273672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525680" y="3803760"/>
            <a:ext cx="228600" cy="228600"/>
          </a:xfrm>
          <a:custGeom>
            <a:avLst/>
            <a:gdLst>
              <a:gd name="textAreaLeft" fmla="*/ 52200 w 228600"/>
              <a:gd name="textAreaRight" fmla="*/ 176400 w 228600"/>
              <a:gd name="textAreaTop" fmla="*/ 52200 h 228600"/>
              <a:gd name="textAreaBottom" fmla="*/ 1764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75" name="" descr=""/>
            <p:cNvPicPr/>
            <p:nvPr/>
          </p:nvPicPr>
          <p:blipFill>
            <a:blip r:embed="rId33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47560" y="685440"/>
            <a:ext cx="7391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c"/>
                </a:solidFill>
                <a:latin typeface="Comic Sans MS"/>
              </a:rPr>
              <a:t>Punti di controllo della mei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2280" y="1647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izio della replicazione: l’arresto avviene alla f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a replicazione, prima della sinapsi e ricombin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2280" y="30481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pachitene: impedisce alla cellula di iniziare la divisione, se sinapsi e ricombinazione non sono comple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280" y="4267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. all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tafase I: se i cromosomi non sono tutti 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posti sul fuso meiotico o un cromosoma non 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ineato o non è in tensione, un segnale blocca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ssaggio da metafase ad anaf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58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381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51e"/>
                </a:solidFill>
                <a:latin typeface="Comic Sans MS"/>
              </a:rPr>
              <a:t>Quadro riassuntivo delle differenze tra mitosi e mei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59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676520" y="160020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3200" y="1295280"/>
            <a:ext cx="380880" cy="381240"/>
          </a:xfrm>
          <a:prstGeom prst="octagon">
            <a:avLst>
              <a:gd name="adj" fmla="val 2928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43200" y="1981080"/>
            <a:ext cx="380880" cy="381240"/>
          </a:xfrm>
          <a:prstGeom prst="octagon">
            <a:avLst>
              <a:gd name="adj" fmla="val 2928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167652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05720" y="137160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705720" y="213372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96080" y="137160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696080" y="2120760"/>
            <a:ext cx="381240" cy="381240"/>
          </a:xfrm>
          <a:prstGeom prst="octagon">
            <a:avLst>
              <a:gd name="adj" fmla="val 29287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1880" y="137160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81880" y="2120760"/>
            <a:ext cx="381240" cy="381240"/>
          </a:xfrm>
          <a:prstGeom prst="octagon">
            <a:avLst>
              <a:gd name="adj" fmla="val 29287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350532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43200" y="320040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388620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3581280"/>
            <a:ext cx="381240" cy="381240"/>
          </a:xfrm>
          <a:prstGeom prst="octagon">
            <a:avLst>
              <a:gd name="adj" fmla="val 29287"/>
            </a:avLst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705720" y="3276720"/>
            <a:ext cx="380880" cy="380880"/>
          </a:xfrm>
          <a:prstGeom prst="octagon">
            <a:avLst>
              <a:gd name="adj" fmla="val 29287"/>
            </a:avLst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05720" y="4038480"/>
            <a:ext cx="380880" cy="381240"/>
          </a:xfrm>
          <a:prstGeom prst="octagon">
            <a:avLst>
              <a:gd name="adj" fmla="val 29287"/>
            </a:avLst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96080" y="327672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96080" y="402588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381880" y="327672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381880" y="4025880"/>
            <a:ext cx="381240" cy="380880"/>
          </a:xfrm>
          <a:prstGeom prst="octagon">
            <a:avLst>
              <a:gd name="adj" fmla="val 29287"/>
            </a:avLst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452960" y="4890960"/>
            <a:ext cx="2728080" cy="1662120"/>
            <a:chOff x="1452960" y="4890960"/>
            <a:chExt cx="2728080" cy="1662120"/>
          </a:xfrm>
        </p:grpSpPr>
        <p:sp>
          <p:nvSpPr>
            <p:cNvPr id="618" name=""/>
            <p:cNvSpPr/>
            <p:nvPr/>
          </p:nvSpPr>
          <p:spPr>
            <a:xfrm>
              <a:off x="1666800" y="49528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66800" y="6553080"/>
              <a:ext cx="251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66800" y="59436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200320" y="5029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00320" y="5029200"/>
              <a:ext cx="121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3419280" y="5029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19280" y="59436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52960" y="48909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455840" y="5364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55840" y="57801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55840" y="60958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0320" y="6262560"/>
              <a:ext cx="178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1   S       G2      M   G1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024960" y="4902120"/>
            <a:ext cx="3018600" cy="1650960"/>
            <a:chOff x="6024960" y="4902120"/>
            <a:chExt cx="3018600" cy="1650960"/>
          </a:xfrm>
        </p:grpSpPr>
        <p:sp>
          <p:nvSpPr>
            <p:cNvPr id="631" name=""/>
            <p:cNvSpPr/>
            <p:nvPr/>
          </p:nvSpPr>
          <p:spPr>
            <a:xfrm>
              <a:off x="6224400" y="49528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24400" y="6553080"/>
              <a:ext cx="2819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24400" y="59436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757920" y="5029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57920" y="5029200"/>
              <a:ext cx="83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96000" y="50292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000" y="59436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76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76880" y="6248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4960" y="4902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27840" y="53751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27840" y="5791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27840" y="61070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82600" y="6275520"/>
              <a:ext cx="151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          M1     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04480" y="8380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t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05440" y="870120"/>
            <a:ext cx="9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33720" y="175248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33720" y="36576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18288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24480" y="373392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162920" y="182880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162920" y="373392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602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1560" y="15112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cellule fig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81600" y="1511280"/>
            <a:ext cx="106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 prodott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eiot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736000" y="320040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52400" y="327672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           n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-11160" y="3200400"/>
            <a:ext cx="181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umero de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omosomi 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ellula mantenu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796280" y="3200400"/>
            <a:ext cx="1250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umero de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omoso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mezz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267080" y="990720"/>
            <a:ext cx="0" cy="571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400" y="4803840"/>
            <a:ext cx="164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ntes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 prima d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76440" y="4803840"/>
            <a:ext cx="186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ntesi del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ima del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isioni meiot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403440" y="5943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7556400" y="5943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8001000" y="62481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34400" y="3530520"/>
            <a:ext cx="44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36000" y="392760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60080" y="358128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52400" y="407988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           n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23960" y="533520"/>
            <a:ext cx="8305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51e"/>
                </a:solidFill>
                <a:latin typeface="Comic Sans MS"/>
              </a:rPr>
              <a:t>Quadro riassuntivo delle differenze tra mitosi e mei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67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809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1143000"/>
            <a:ext cx="0" cy="541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32040" y="1804680"/>
            <a:ext cx="8517240" cy="1065600"/>
            <a:chOff x="32040" y="1804680"/>
            <a:chExt cx="8517240" cy="1065600"/>
          </a:xfrm>
        </p:grpSpPr>
        <p:grpSp>
          <p:nvGrpSpPr>
            <p:cNvPr id="683" name=""/>
            <p:cNvGrpSpPr/>
            <p:nvPr/>
          </p:nvGrpSpPr>
          <p:grpSpPr>
            <a:xfrm>
              <a:off x="5105160" y="1881360"/>
              <a:ext cx="3444120" cy="838080"/>
              <a:chOff x="5105160" y="1881360"/>
              <a:chExt cx="3444120" cy="83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5105160" y="2058840"/>
                <a:ext cx="1139400" cy="379800"/>
                <a:chOff x="5105160" y="2058840"/>
                <a:chExt cx="1139400" cy="379800"/>
              </a:xfrm>
            </p:grpSpPr>
            <p:sp>
              <p:nvSpPr>
                <p:cNvPr id="685" name=""/>
                <p:cNvSpPr/>
                <p:nvPr/>
              </p:nvSpPr>
              <p:spPr>
                <a:xfrm rot="5410200">
                  <a:off x="5377680" y="1870200"/>
                  <a:ext cx="9828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5410200">
                  <a:off x="5375880" y="2002320"/>
                  <a:ext cx="9936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5410200">
                  <a:off x="5870880" y="1877040"/>
                  <a:ext cx="9576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rot="5410200">
                  <a:off x="5874120" y="2003040"/>
                  <a:ext cx="9936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rot="5410200">
                  <a:off x="5450400" y="2213280"/>
                  <a:ext cx="37944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107680" y="2339640"/>
                <a:ext cx="1140480" cy="379800"/>
                <a:chOff x="5107680" y="2339640"/>
                <a:chExt cx="1140480" cy="379800"/>
              </a:xfrm>
            </p:grpSpPr>
            <p:sp>
              <p:nvSpPr>
                <p:cNvPr id="691" name=""/>
                <p:cNvSpPr/>
                <p:nvPr/>
              </p:nvSpPr>
              <p:spPr>
                <a:xfrm rot="5410200">
                  <a:off x="5380200" y="2151000"/>
                  <a:ext cx="9828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rot="5410200">
                  <a:off x="5378760" y="2282760"/>
                  <a:ext cx="9936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5410200">
                  <a:off x="5874120" y="2157840"/>
                  <a:ext cx="9612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rot="5410200">
                  <a:off x="5877360" y="2283840"/>
                  <a:ext cx="99360" cy="6415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rot="5410200">
                  <a:off x="5453640" y="2494080"/>
                  <a:ext cx="37944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6483240" y="1881360"/>
                <a:ext cx="2066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Gli omologhi si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ppaiano in profase 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32040" y="1804680"/>
              <a:ext cx="3088800" cy="1065600"/>
              <a:chOff x="32040" y="1804680"/>
              <a:chExt cx="3088800" cy="106560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1980360" y="1804680"/>
                <a:ext cx="1140480" cy="379800"/>
                <a:chOff x="1980360" y="1804680"/>
                <a:chExt cx="1140480" cy="379800"/>
              </a:xfrm>
            </p:grpSpPr>
            <p:sp>
              <p:nvSpPr>
                <p:cNvPr id="699" name=""/>
                <p:cNvSpPr/>
                <p:nvPr/>
              </p:nvSpPr>
              <p:spPr>
                <a:xfrm rot="5410200">
                  <a:off x="2252880" y="1616040"/>
                  <a:ext cx="9828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rot="5410200">
                  <a:off x="2251440" y="1747800"/>
                  <a:ext cx="9936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rot="5410200">
                  <a:off x="2746800" y="1622520"/>
                  <a:ext cx="9612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rot="5410200">
                  <a:off x="2750040" y="1748880"/>
                  <a:ext cx="99360" cy="6415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rot="5410200">
                  <a:off x="2326320" y="1959120"/>
                  <a:ext cx="37944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1980360" y="2490480"/>
                <a:ext cx="1140480" cy="379800"/>
                <a:chOff x="1980360" y="2490480"/>
                <a:chExt cx="1140480" cy="379800"/>
              </a:xfrm>
            </p:grpSpPr>
            <p:sp>
              <p:nvSpPr>
                <p:cNvPr id="705" name=""/>
                <p:cNvSpPr/>
                <p:nvPr/>
              </p:nvSpPr>
              <p:spPr>
                <a:xfrm rot="5410200">
                  <a:off x="2252880" y="2301840"/>
                  <a:ext cx="9828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rot="5410200">
                  <a:off x="2251440" y="2433600"/>
                  <a:ext cx="9936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rot="5410200">
                  <a:off x="2746800" y="2308320"/>
                  <a:ext cx="9612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rot="5410200">
                  <a:off x="2750040" y="2435040"/>
                  <a:ext cx="99360" cy="6415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rot="5410200">
                  <a:off x="2326320" y="2644920"/>
                  <a:ext cx="37944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32040" y="1868760"/>
                <a:ext cx="193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Gli omologhi non si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appaian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950040" y="2895480"/>
            <a:ext cx="7670880" cy="838440"/>
            <a:chOff x="950040" y="2895480"/>
            <a:chExt cx="7670880" cy="838440"/>
          </a:xfrm>
        </p:grpSpPr>
        <p:grpSp>
          <p:nvGrpSpPr>
            <p:cNvPr id="712" name=""/>
            <p:cNvGrpSpPr/>
            <p:nvPr/>
          </p:nvGrpSpPr>
          <p:grpSpPr>
            <a:xfrm>
              <a:off x="5106600" y="2895480"/>
              <a:ext cx="3514320" cy="838440"/>
              <a:chOff x="5106600" y="2895480"/>
              <a:chExt cx="3514320" cy="83844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106600" y="2971440"/>
                <a:ext cx="1139760" cy="381240"/>
                <a:chOff x="5106600" y="2971440"/>
                <a:chExt cx="1139760" cy="381240"/>
              </a:xfrm>
            </p:grpSpPr>
            <p:sp>
              <p:nvSpPr>
                <p:cNvPr id="714" name=""/>
                <p:cNvSpPr/>
                <p:nvPr/>
              </p:nvSpPr>
              <p:spPr>
                <a:xfrm rot="5410200">
                  <a:off x="5378400" y="2783880"/>
                  <a:ext cx="9972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rot="5410200">
                  <a:off x="5377320" y="2916360"/>
                  <a:ext cx="9972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rot="5410200">
                  <a:off x="5870520" y="2791080"/>
                  <a:ext cx="9756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rot="5410200">
                  <a:off x="5876280" y="2918160"/>
                  <a:ext cx="9864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rot="5410200">
                  <a:off x="5451120" y="3126600"/>
                  <a:ext cx="38088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108040" y="3190680"/>
                  <a:ext cx="356040" cy="9972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107680" y="3352320"/>
                <a:ext cx="1140120" cy="381600"/>
                <a:chOff x="5107680" y="3352320"/>
                <a:chExt cx="1140120" cy="381600"/>
              </a:xfrm>
            </p:grpSpPr>
            <p:sp>
              <p:nvSpPr>
                <p:cNvPr id="721" name=""/>
                <p:cNvSpPr/>
                <p:nvPr/>
              </p:nvSpPr>
              <p:spPr>
                <a:xfrm rot="5410200">
                  <a:off x="5379480" y="316476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rot="5410200">
                  <a:off x="5378400" y="329724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rot="5410200">
                  <a:off x="5873400" y="3171240"/>
                  <a:ext cx="9756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rot="5410200">
                  <a:off x="5877000" y="329868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5410200">
                  <a:off x="5452920" y="3507480"/>
                  <a:ext cx="38124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5109480" y="3444480"/>
                  <a:ext cx="356400" cy="9972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6273000" y="2895480"/>
                <a:ext cx="23479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i verifica almeno u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crossing over per copp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i omologh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950040" y="3165480"/>
              <a:ext cx="21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l crossing over  e’ ra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7160" y="3857400"/>
            <a:ext cx="9091080" cy="1895400"/>
            <a:chOff x="47160" y="3857400"/>
            <a:chExt cx="9091080" cy="1895400"/>
          </a:xfrm>
        </p:grpSpPr>
        <p:grpSp>
          <p:nvGrpSpPr>
            <p:cNvPr id="730" name=""/>
            <p:cNvGrpSpPr/>
            <p:nvPr/>
          </p:nvGrpSpPr>
          <p:grpSpPr>
            <a:xfrm>
              <a:off x="5028840" y="3857400"/>
              <a:ext cx="4109400" cy="1895400"/>
              <a:chOff x="5028840" y="3857400"/>
              <a:chExt cx="4109400" cy="189540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5028840" y="5076360"/>
                <a:ext cx="1139760" cy="380880"/>
                <a:chOff x="5028840" y="5076360"/>
                <a:chExt cx="1139760" cy="380880"/>
              </a:xfrm>
            </p:grpSpPr>
            <p:sp>
              <p:nvSpPr>
                <p:cNvPr id="732" name=""/>
                <p:cNvSpPr/>
                <p:nvPr/>
              </p:nvSpPr>
              <p:spPr>
                <a:xfrm rot="5410200">
                  <a:off x="5300640" y="4888440"/>
                  <a:ext cx="9936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5410200">
                  <a:off x="5299560" y="5020920"/>
                  <a:ext cx="9936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5410200">
                  <a:off x="5793840" y="4894920"/>
                  <a:ext cx="9720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5410200">
                  <a:off x="5798160" y="5022360"/>
                  <a:ext cx="9936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5410200">
                  <a:off x="5373720" y="5231160"/>
                  <a:ext cx="38052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030280" y="5168160"/>
                  <a:ext cx="356040" cy="99360"/>
                </a:xfrm>
                <a:prstGeom prst="ellipse">
                  <a:avLst/>
                </a:prstGeom>
                <a:blipFill rotWithShape="0">
                  <a:blip r:embed="rId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476760" y="5533560"/>
                <a:ext cx="1139760" cy="219240"/>
                <a:chOff x="6476760" y="5533560"/>
                <a:chExt cx="1139760" cy="219240"/>
              </a:xfrm>
            </p:grpSpPr>
            <p:sp>
              <p:nvSpPr>
                <p:cNvPr id="739" name=""/>
                <p:cNvSpPr/>
                <p:nvPr/>
              </p:nvSpPr>
              <p:spPr>
                <a:xfrm rot="5410200">
                  <a:off x="6747120" y="5316840"/>
                  <a:ext cx="10008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rot="5410200">
                  <a:off x="7245720" y="5317920"/>
                  <a:ext cx="10008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rot="5410200">
                  <a:off x="6901200" y="5607720"/>
                  <a:ext cx="21888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473160" y="5000040"/>
                <a:ext cx="1127160" cy="219240"/>
                <a:chOff x="6473160" y="5000040"/>
                <a:chExt cx="1127160" cy="219240"/>
              </a:xfrm>
            </p:grpSpPr>
            <p:sp>
              <p:nvSpPr>
                <p:cNvPr id="743" name=""/>
                <p:cNvSpPr/>
                <p:nvPr/>
              </p:nvSpPr>
              <p:spPr>
                <a:xfrm rot="5410200">
                  <a:off x="6743880" y="4795920"/>
                  <a:ext cx="10008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 rot="5410200">
                  <a:off x="7237080" y="4802040"/>
                  <a:ext cx="97920" cy="6282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5410200">
                  <a:off x="6894720" y="5077800"/>
                  <a:ext cx="21888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473880" y="5075640"/>
                  <a:ext cx="356400" cy="100080"/>
                </a:xfrm>
                <a:prstGeom prst="ellips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6400440" y="4457160"/>
                <a:ext cx="1139760" cy="217440"/>
                <a:chOff x="6400440" y="4457160"/>
                <a:chExt cx="1139760" cy="217440"/>
              </a:xfrm>
            </p:grpSpPr>
            <p:sp>
              <p:nvSpPr>
                <p:cNvPr id="748" name=""/>
                <p:cNvSpPr/>
                <p:nvPr/>
              </p:nvSpPr>
              <p:spPr>
                <a:xfrm rot="5410200">
                  <a:off x="6671160" y="4239000"/>
                  <a:ext cx="9972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5410200">
                  <a:off x="7170120" y="4240800"/>
                  <a:ext cx="9864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5410200">
                  <a:off x="6825960" y="4531320"/>
                  <a:ext cx="217080" cy="68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401880" y="4512960"/>
                  <a:ext cx="356040" cy="99720"/>
                </a:xfrm>
                <a:prstGeom prst="ellipse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"/>
              <p:cNvGrpSpPr/>
              <p:nvPr/>
            </p:nvGrpSpPr>
            <p:grpSpPr>
              <a:xfrm>
                <a:off x="6401520" y="3857400"/>
                <a:ext cx="1125720" cy="219240"/>
                <a:chOff x="6401520" y="3857400"/>
                <a:chExt cx="1125720" cy="219240"/>
              </a:xfrm>
            </p:grpSpPr>
            <p:sp>
              <p:nvSpPr>
                <p:cNvPr id="753" name=""/>
                <p:cNvSpPr/>
                <p:nvPr/>
              </p:nvSpPr>
              <p:spPr>
                <a:xfrm rot="5410200">
                  <a:off x="6672240" y="3653280"/>
                  <a:ext cx="10008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5410200">
                  <a:off x="7163640" y="3660840"/>
                  <a:ext cx="98280" cy="6282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5410200">
                  <a:off x="6822720" y="3935520"/>
                  <a:ext cx="218880" cy="63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028840" y="4076280"/>
                <a:ext cx="1139760" cy="380880"/>
                <a:chOff x="5028840" y="4076280"/>
                <a:chExt cx="1139760" cy="380880"/>
              </a:xfrm>
            </p:grpSpPr>
            <p:sp>
              <p:nvSpPr>
                <p:cNvPr id="757" name=""/>
                <p:cNvSpPr/>
                <p:nvPr/>
              </p:nvSpPr>
              <p:spPr>
                <a:xfrm rot="5410200">
                  <a:off x="5300640" y="3888360"/>
                  <a:ext cx="9936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5410200">
                  <a:off x="5299560" y="4020840"/>
                  <a:ext cx="9936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5410200">
                  <a:off x="5792760" y="3895920"/>
                  <a:ext cx="97560" cy="62784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5410200">
                  <a:off x="5798520" y="4022640"/>
                  <a:ext cx="9864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5410200">
                  <a:off x="5373720" y="4231080"/>
                  <a:ext cx="38052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030280" y="4295160"/>
                  <a:ext cx="356040" cy="99360"/>
                </a:xfrm>
                <a:prstGeom prst="ellipse">
                  <a:avLst/>
                </a:prstGeom>
                <a:blipFill rotWithShape="0">
                  <a:blip r:embed="rId4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3" name=""/>
              <p:cNvSpPr/>
              <p:nvPr/>
            </p:nvSpPr>
            <p:spPr>
              <a:xfrm>
                <a:off x="7654320" y="4317840"/>
                <a:ext cx="14839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 centromeri s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dividono sol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n anafase I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47160" y="4085640"/>
              <a:ext cx="3271320" cy="1218960"/>
              <a:chOff x="47160" y="4085640"/>
              <a:chExt cx="3271320" cy="121896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304200" y="4085640"/>
                <a:ext cx="1140120" cy="217440"/>
                <a:chOff x="304200" y="4085640"/>
                <a:chExt cx="1140120" cy="217440"/>
              </a:xfrm>
            </p:grpSpPr>
            <p:sp>
              <p:nvSpPr>
                <p:cNvPr id="766" name=""/>
                <p:cNvSpPr/>
                <p:nvPr/>
              </p:nvSpPr>
              <p:spPr>
                <a:xfrm rot="5410200">
                  <a:off x="574920" y="386712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5410200">
                  <a:off x="1073880" y="3868560"/>
                  <a:ext cx="9972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rot="5410200">
                  <a:off x="730080" y="4158720"/>
                  <a:ext cx="21708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1980720" y="5087160"/>
                <a:ext cx="1139760" cy="216000"/>
                <a:chOff x="1980720" y="5087160"/>
                <a:chExt cx="1139760" cy="216000"/>
              </a:xfrm>
            </p:grpSpPr>
            <p:sp>
              <p:nvSpPr>
                <p:cNvPr id="770" name=""/>
                <p:cNvSpPr/>
                <p:nvPr/>
              </p:nvSpPr>
              <p:spPr>
                <a:xfrm rot="5410200">
                  <a:off x="2251800" y="4867560"/>
                  <a:ext cx="99720" cy="6415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rot="5410200">
                  <a:off x="2749680" y="486900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rot="5410200">
                  <a:off x="2406600" y="5160240"/>
                  <a:ext cx="215640" cy="69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304200" y="5087160"/>
                <a:ext cx="1140120" cy="217440"/>
                <a:chOff x="304200" y="5087160"/>
                <a:chExt cx="1140120" cy="217440"/>
              </a:xfrm>
            </p:grpSpPr>
            <p:sp>
              <p:nvSpPr>
                <p:cNvPr id="774" name=""/>
                <p:cNvSpPr/>
                <p:nvPr/>
              </p:nvSpPr>
              <p:spPr>
                <a:xfrm rot="5410200">
                  <a:off x="574920" y="486864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rot="5410200">
                  <a:off x="1073880" y="4870080"/>
                  <a:ext cx="99720" cy="64080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5410200">
                  <a:off x="730080" y="5160240"/>
                  <a:ext cx="217080" cy="70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1980720" y="4085640"/>
                <a:ext cx="1139760" cy="216000"/>
                <a:chOff x="1980720" y="4085640"/>
                <a:chExt cx="1139760" cy="216000"/>
              </a:xfrm>
            </p:grpSpPr>
            <p:sp>
              <p:nvSpPr>
                <p:cNvPr id="778" name=""/>
                <p:cNvSpPr/>
                <p:nvPr/>
              </p:nvSpPr>
              <p:spPr>
                <a:xfrm rot="5410200">
                  <a:off x="2251800" y="3866040"/>
                  <a:ext cx="99720" cy="64152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5410200">
                  <a:off x="2749680" y="3867480"/>
                  <a:ext cx="99720" cy="641160"/>
                </a:xfrm>
                <a:prstGeom prst="can">
                  <a:avLst>
                    <a:gd name="adj" fmla="val 25000"/>
                  </a:avLst>
                </a:prstGeom>
                <a:blipFill rotWithShape="0">
                  <a:blip r:embed="rId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5410200">
                  <a:off x="2406600" y="4158720"/>
                  <a:ext cx="215640" cy="698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"/>
              <p:cNvSpPr/>
              <p:nvPr/>
            </p:nvSpPr>
            <p:spPr>
              <a:xfrm>
                <a:off x="47160" y="4453920"/>
                <a:ext cx="3271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I centromeri si dividono in anaf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2" name=""/>
          <p:cNvGrpSpPr/>
          <p:nvPr/>
        </p:nvGrpSpPr>
        <p:grpSpPr>
          <a:xfrm>
            <a:off x="72720" y="5877000"/>
            <a:ext cx="8818560" cy="532800"/>
            <a:chOff x="72720" y="5877000"/>
            <a:chExt cx="8818560" cy="532800"/>
          </a:xfrm>
        </p:grpSpPr>
        <p:sp>
          <p:nvSpPr>
            <p:cNvPr id="783" name=""/>
            <p:cNvSpPr/>
            <p:nvPr/>
          </p:nvSpPr>
          <p:spPr>
            <a:xfrm>
              <a:off x="72720" y="5877000"/>
              <a:ext cx="40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rocesso conservativo: le cellule figlie so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dentiche alle parenta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89840" y="5889600"/>
              <a:ext cx="450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l processo promuove la variabilita’tra i prodott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della divisione cellul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00880" y="108900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t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379040" y="1082520"/>
            <a:ext cx="13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i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6588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c0c"/>
                </a:solidFill>
                <a:latin typeface="Comic Sans MS"/>
              </a:rPr>
              <a:t>Genotipo</a:t>
            </a:r>
            <a:r>
              <a:rPr b="1" lang="it-IT" sz="3600" spc="-1" strike="noStrike">
                <a:solidFill>
                  <a:srgbClr val="ff0c0c"/>
                </a:solidFill>
                <a:latin typeface="Comic Sans MS"/>
              </a:rPr>
              <a:t> e fenoti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1066680"/>
            <a:ext cx="89917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l 1909 Johansen introdusse la distinzione fenotipo-genotipo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1" lang="it-IT" sz="2000" spc="-1" strike="noStrike">
                <a:solidFill>
                  <a:srgbClr val="ff0f33"/>
                </a:solidFill>
                <a:latin typeface="Comic Sans MS"/>
              </a:rPr>
              <a:t>genotip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i un organismo è la costituzione genetica che ha ereditato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</a:t>
            </a:r>
            <a:r>
              <a:rPr b="1" lang="it-IT" sz="2000" spc="-1" strike="noStrike">
                <a:solidFill>
                  <a:srgbClr val="ff1482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0f33"/>
                </a:solidFill>
                <a:latin typeface="Comic Sans MS"/>
              </a:rPr>
              <a:t>fenotip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di un organismo è quello che appare, la sua morfologia, fisiologia, comport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relazioni tra genotipo e fenotipo non sono fisse perché il fenotipo è il risultato di complesse interazioni sia tra i geni che tra questi e l’ambiente es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e consegue che un organismo durante la sua vita mantiene costante il genotipo, mentre il fenotipo può cambiare.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79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1333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Definire queste leggi è stato uno degli obiettivi della moderna biologia.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5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552720" y="13712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24"/>
                </a:solidFill>
                <a:latin typeface="Comic Sans MS"/>
              </a:rPr>
              <a:t>Variazioni delle dimensioni di </a:t>
            </a:r>
            <a:r>
              <a:rPr b="0" i="1" lang="en-US" sz="2400" spc="-1" strike="noStrike">
                <a:solidFill>
                  <a:srgbClr val="ff0724"/>
                </a:solidFill>
                <a:latin typeface="Comic Sans MS"/>
              </a:rPr>
              <a:t>Achillea borealis </a:t>
            </a:r>
            <a:r>
              <a:rPr b="0" lang="en-US" sz="2400" spc="-1" strike="noStrike">
                <a:solidFill>
                  <a:srgbClr val="ff0724"/>
                </a:solidFill>
                <a:latin typeface="Comic Sans MS"/>
              </a:rPr>
              <a:t>raccolte</a:t>
            </a:r>
            <a:r>
              <a:rPr b="0" i="1" lang="en-US" sz="2400" spc="-1" strike="noStrike">
                <a:solidFill>
                  <a:srgbClr val="ff0724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724"/>
                </a:solidFill>
                <a:latin typeface="Comic Sans MS"/>
              </a:rPr>
              <a:t>in varie località geogra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352680" y="762120"/>
            <a:ext cx="1981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54400" y="711360"/>
            <a:ext cx="461520" cy="2361960"/>
            <a:chOff x="554400" y="711360"/>
            <a:chExt cx="461520" cy="2361960"/>
          </a:xfrm>
        </p:grpSpPr>
        <p:sp>
          <p:nvSpPr>
            <p:cNvPr id="798" name=""/>
            <p:cNvSpPr/>
            <p:nvPr/>
          </p:nvSpPr>
          <p:spPr>
            <a:xfrm>
              <a:off x="851040" y="711360"/>
              <a:ext cx="0" cy="236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4400" y="9219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54400" y="138420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4400" y="181584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4400" y="22348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54400" y="26542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51040" y="2844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51040" y="26161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851040" y="2387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51040" y="2158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1040" y="1955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51040" y="1726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51040" y="1536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63640" y="1320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51040" y="10918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63640" y="8762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834480" y="547560"/>
            <a:ext cx="40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87320" y="3200400"/>
            <a:ext cx="3049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87320" y="4572000"/>
            <a:ext cx="152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41800" y="3200400"/>
            <a:ext cx="691200" cy="1828800"/>
            <a:chOff x="541800" y="3200400"/>
            <a:chExt cx="691200" cy="1828800"/>
          </a:xfrm>
        </p:grpSpPr>
        <p:sp>
          <p:nvSpPr>
            <p:cNvPr id="818" name=""/>
            <p:cNvSpPr/>
            <p:nvPr/>
          </p:nvSpPr>
          <p:spPr>
            <a:xfrm>
              <a:off x="838440" y="327672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1800" y="33400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1800" y="377208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1800" y="419112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1800" y="4610160"/>
              <a:ext cx="35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8440" y="48006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38440" y="4572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38440" y="43434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38440" y="41148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38440" y="39117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8440" y="36831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38440" y="3492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25120" y="3200400"/>
              <a:ext cx="40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87320" y="5105520"/>
            <a:ext cx="4572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04920" y="5181480"/>
            <a:ext cx="798840" cy="1486080"/>
            <a:chOff x="304920" y="5181480"/>
            <a:chExt cx="798840" cy="1486080"/>
          </a:xfrm>
        </p:grpSpPr>
        <p:sp>
          <p:nvSpPr>
            <p:cNvPr id="833" name=""/>
            <p:cNvSpPr/>
            <p:nvPr/>
          </p:nvSpPr>
          <p:spPr>
            <a:xfrm>
              <a:off x="838080" y="5371920"/>
              <a:ext cx="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04920" y="5371920"/>
              <a:ext cx="60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0440" y="58291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7840" y="624852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38080" y="643896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838080" y="598176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38080" y="5549760"/>
              <a:ext cx="151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73640" y="5181480"/>
              <a:ext cx="33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6461280" y="6232680"/>
            <a:ext cx="152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19320" y="685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182600" y="609480"/>
            <a:ext cx="417600" cy="1600200"/>
            <a:chOff x="1182600" y="609480"/>
            <a:chExt cx="417600" cy="1600200"/>
          </a:xfrm>
        </p:grpSpPr>
        <p:sp>
          <p:nvSpPr>
            <p:cNvPr id="844" name=""/>
            <p:cNvSpPr/>
            <p:nvPr/>
          </p:nvSpPr>
          <p:spPr>
            <a:xfrm>
              <a:off x="1219320" y="685800"/>
              <a:ext cx="380880" cy="1371600"/>
            </a:xfrm>
            <a:custGeom>
              <a:avLst/>
              <a:gdLst/>
              <a:ahLst/>
              <a:rect l="l" t="t" r="r" b="b"/>
              <a:pathLst>
                <a:path w="156" h="816">
                  <a:moveTo>
                    <a:pt x="12" y="0"/>
                  </a:moveTo>
                  <a:cubicBezTo>
                    <a:pt x="15" y="33"/>
                    <a:pt x="17" y="50"/>
                    <a:pt x="28" y="80"/>
                  </a:cubicBezTo>
                  <a:cubicBezTo>
                    <a:pt x="15" y="132"/>
                    <a:pt x="33" y="182"/>
                    <a:pt x="17" y="234"/>
                  </a:cubicBezTo>
                  <a:cubicBezTo>
                    <a:pt x="7" y="408"/>
                    <a:pt x="7" y="272"/>
                    <a:pt x="17" y="352"/>
                  </a:cubicBezTo>
                  <a:cubicBezTo>
                    <a:pt x="19" y="371"/>
                    <a:pt x="19" y="390"/>
                    <a:pt x="22" y="410"/>
                  </a:cubicBezTo>
                  <a:cubicBezTo>
                    <a:pt x="23" y="420"/>
                    <a:pt x="30" y="452"/>
                    <a:pt x="28" y="442"/>
                  </a:cubicBezTo>
                  <a:cubicBezTo>
                    <a:pt x="26" y="435"/>
                    <a:pt x="22" y="421"/>
                    <a:pt x="22" y="421"/>
                  </a:cubicBezTo>
                  <a:cubicBezTo>
                    <a:pt x="9" y="459"/>
                    <a:pt x="22" y="411"/>
                    <a:pt x="22" y="458"/>
                  </a:cubicBezTo>
                  <a:cubicBezTo>
                    <a:pt x="22" y="503"/>
                    <a:pt x="11" y="559"/>
                    <a:pt x="1" y="602"/>
                  </a:cubicBezTo>
                  <a:cubicBezTo>
                    <a:pt x="2" y="623"/>
                    <a:pt x="6" y="644"/>
                    <a:pt x="6" y="666"/>
                  </a:cubicBezTo>
                  <a:cubicBezTo>
                    <a:pt x="6" y="676"/>
                    <a:pt x="1" y="687"/>
                    <a:pt x="1" y="698"/>
                  </a:cubicBezTo>
                  <a:cubicBezTo>
                    <a:pt x="1" y="737"/>
                    <a:pt x="14" y="777"/>
                    <a:pt x="22" y="816"/>
                  </a:cubicBezTo>
                  <a:cubicBezTo>
                    <a:pt x="43" y="807"/>
                    <a:pt x="42" y="799"/>
                    <a:pt x="49" y="778"/>
                  </a:cubicBezTo>
                  <a:cubicBezTo>
                    <a:pt x="42" y="702"/>
                    <a:pt x="32" y="651"/>
                    <a:pt x="102" y="608"/>
                  </a:cubicBezTo>
                  <a:cubicBezTo>
                    <a:pt x="105" y="602"/>
                    <a:pt x="108" y="596"/>
                    <a:pt x="113" y="592"/>
                  </a:cubicBezTo>
                  <a:cubicBezTo>
                    <a:pt x="117" y="587"/>
                    <a:pt x="126" y="586"/>
                    <a:pt x="129" y="581"/>
                  </a:cubicBezTo>
                  <a:cubicBezTo>
                    <a:pt x="129" y="579"/>
                    <a:pt x="118" y="550"/>
                    <a:pt x="118" y="549"/>
                  </a:cubicBezTo>
                  <a:cubicBezTo>
                    <a:pt x="122" y="488"/>
                    <a:pt x="131" y="440"/>
                    <a:pt x="145" y="384"/>
                  </a:cubicBezTo>
                  <a:cubicBezTo>
                    <a:pt x="139" y="366"/>
                    <a:pt x="129" y="353"/>
                    <a:pt x="124" y="336"/>
                  </a:cubicBezTo>
                  <a:cubicBezTo>
                    <a:pt x="128" y="308"/>
                    <a:pt x="129" y="294"/>
                    <a:pt x="145" y="272"/>
                  </a:cubicBezTo>
                  <a:cubicBezTo>
                    <a:pt x="156" y="234"/>
                    <a:pt x="135" y="214"/>
                    <a:pt x="102" y="202"/>
                  </a:cubicBezTo>
                  <a:cubicBezTo>
                    <a:pt x="79" y="179"/>
                    <a:pt x="65" y="148"/>
                    <a:pt x="60" y="117"/>
                  </a:cubicBezTo>
                  <a:cubicBezTo>
                    <a:pt x="57" y="105"/>
                    <a:pt x="54" y="58"/>
                    <a:pt x="44" y="48"/>
                  </a:cubicBezTo>
                  <a:cubicBezTo>
                    <a:pt x="2" y="6"/>
                    <a:pt x="0" y="40"/>
                    <a:pt x="12" y="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271520" y="68580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82600" y="609480"/>
              <a:ext cx="7632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1865160" y="1311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grpSp>
          <p:nvGrpSpPr>
            <p:cNvPr id="849" name=""/>
            <p:cNvGrpSpPr/>
            <p:nvPr/>
          </p:nvGrpSpPr>
          <p:grpSpPr>
            <a:xfrm>
              <a:off x="16560" y="0"/>
              <a:ext cx="8898840" cy="6820200"/>
              <a:chOff x="16560" y="0"/>
              <a:chExt cx="8898840" cy="6820200"/>
            </a:xfrm>
          </p:grpSpPr>
          <p:pic>
            <p:nvPicPr>
              <p:cNvPr id="850" name="" descr="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>
                <a:off x="76320" y="0"/>
                <a:ext cx="720720" cy="80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1" name=""/>
              <p:cNvSpPr/>
              <p:nvPr/>
            </p:nvSpPr>
            <p:spPr>
              <a:xfrm>
                <a:off x="841320" y="117360"/>
                <a:ext cx="2246040" cy="38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560" rIns="7956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5240"/>
                    <a:tab algn="l" pos="1590840"/>
                    <a:tab algn="l" pos="2386080"/>
                    <a:tab algn="l" pos="3181320"/>
                    <a:tab algn="l" pos="3976560"/>
                    <a:tab algn="l" pos="4772160"/>
                    <a:tab algn="l" pos="5567400"/>
                    <a:tab algn="l" pos="6362640"/>
                    <a:tab algn="l" pos="7157880"/>
                    <a:tab algn="l" pos="7953480"/>
                    <a:tab algn="l" pos="8748720"/>
                    <a:tab algn="l" pos="9543960"/>
                    <a:tab algn="l" pos="1033956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Universita’ di Ba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2120" y="533520"/>
                <a:ext cx="81532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 txBox="1"/>
              <p:nvPr/>
            </p:nvSpPr>
            <p:spPr>
              <a:xfrm>
                <a:off x="3809880" y="76320"/>
                <a:ext cx="4876920" cy="393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Comic Sans MS"/>
                  </a:rPr>
                  <a:t>Sc.Biosanitarie   Genetica I</a:t>
                </a:r>
                <a:endPara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560" y="65739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y GP&amp;N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54360" y="1338120"/>
              <a:ext cx="363240" cy="1219320"/>
              <a:chOff x="1854360" y="1338120"/>
              <a:chExt cx="363240" cy="1219320"/>
            </a:xfrm>
          </p:grpSpPr>
          <p:sp>
            <p:nvSpPr>
              <p:cNvPr id="856" name=""/>
              <p:cNvSpPr/>
              <p:nvPr/>
            </p:nvSpPr>
            <p:spPr>
              <a:xfrm>
                <a:off x="1854360" y="1338120"/>
                <a:ext cx="347400" cy="1219320"/>
              </a:xfrm>
              <a:custGeom>
                <a:avLst/>
                <a:gdLst/>
                <a:ahLst/>
                <a:rect l="l" t="t" r="r" b="b"/>
                <a:pathLst>
                  <a:path w="219" h="768">
                    <a:moveTo>
                      <a:pt x="11" y="0"/>
                    </a:moveTo>
                    <a:cubicBezTo>
                      <a:pt x="34" y="15"/>
                      <a:pt x="52" y="32"/>
                      <a:pt x="75" y="48"/>
                    </a:cubicBezTo>
                    <a:cubicBezTo>
                      <a:pt x="83" y="61"/>
                      <a:pt x="100" y="79"/>
                      <a:pt x="75" y="96"/>
                    </a:cubicBezTo>
                    <a:cubicBezTo>
                      <a:pt x="64" y="103"/>
                      <a:pt x="43" y="117"/>
                      <a:pt x="43" y="117"/>
                    </a:cubicBezTo>
                    <a:cubicBezTo>
                      <a:pt x="33" y="141"/>
                      <a:pt x="13" y="144"/>
                      <a:pt x="43" y="154"/>
                    </a:cubicBezTo>
                    <a:cubicBezTo>
                      <a:pt x="53" y="161"/>
                      <a:pt x="65" y="166"/>
                      <a:pt x="75" y="176"/>
                    </a:cubicBezTo>
                    <a:cubicBezTo>
                      <a:pt x="85" y="186"/>
                      <a:pt x="107" y="208"/>
                      <a:pt x="107" y="208"/>
                    </a:cubicBezTo>
                    <a:cubicBezTo>
                      <a:pt x="117" y="241"/>
                      <a:pt x="118" y="252"/>
                      <a:pt x="155" y="261"/>
                    </a:cubicBezTo>
                    <a:cubicBezTo>
                      <a:pt x="141" y="330"/>
                      <a:pt x="155" y="274"/>
                      <a:pt x="144" y="256"/>
                    </a:cubicBezTo>
                    <a:cubicBezTo>
                      <a:pt x="140" y="251"/>
                      <a:pt x="133" y="259"/>
                      <a:pt x="128" y="261"/>
                    </a:cubicBezTo>
                    <a:cubicBezTo>
                      <a:pt x="123" y="286"/>
                      <a:pt x="126" y="301"/>
                      <a:pt x="101" y="309"/>
                    </a:cubicBezTo>
                    <a:cubicBezTo>
                      <a:pt x="91" y="338"/>
                      <a:pt x="97" y="340"/>
                      <a:pt x="128" y="346"/>
                    </a:cubicBezTo>
                    <a:cubicBezTo>
                      <a:pt x="144" y="354"/>
                      <a:pt x="165" y="351"/>
                      <a:pt x="181" y="362"/>
                    </a:cubicBezTo>
                    <a:cubicBezTo>
                      <a:pt x="196" y="372"/>
                      <a:pt x="203" y="394"/>
                      <a:pt x="219" y="405"/>
                    </a:cubicBezTo>
                    <a:cubicBezTo>
                      <a:pt x="203" y="415"/>
                      <a:pt x="182" y="429"/>
                      <a:pt x="171" y="442"/>
                    </a:cubicBezTo>
                    <a:cubicBezTo>
                      <a:pt x="150" y="464"/>
                      <a:pt x="147" y="500"/>
                      <a:pt x="123" y="522"/>
                    </a:cubicBezTo>
                    <a:cubicBezTo>
                      <a:pt x="111" y="531"/>
                      <a:pt x="97" y="535"/>
                      <a:pt x="85" y="544"/>
                    </a:cubicBezTo>
                    <a:cubicBezTo>
                      <a:pt x="49" y="600"/>
                      <a:pt x="62" y="676"/>
                      <a:pt x="21" y="730"/>
                    </a:cubicBezTo>
                    <a:cubicBezTo>
                      <a:pt x="9" y="765"/>
                      <a:pt x="20" y="756"/>
                      <a:pt x="0" y="768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5320" y="16765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860480" y="1295280"/>
              <a:ext cx="0" cy="129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506680" y="1219320"/>
            <a:ext cx="355680" cy="1447560"/>
            <a:chOff x="2506680" y="1219320"/>
            <a:chExt cx="355680" cy="1447560"/>
          </a:xfrm>
        </p:grpSpPr>
        <p:sp>
          <p:nvSpPr>
            <p:cNvPr id="860" name=""/>
            <p:cNvSpPr/>
            <p:nvPr/>
          </p:nvSpPr>
          <p:spPr>
            <a:xfrm>
              <a:off x="2506680" y="1244520"/>
              <a:ext cx="355680" cy="1405080"/>
            </a:xfrm>
            <a:custGeom>
              <a:avLst/>
              <a:gdLst/>
              <a:ahLst/>
              <a:rect l="l" t="t" r="r" b="b"/>
              <a:pathLst>
                <a:path w="224" h="885">
                  <a:moveTo>
                    <a:pt x="16" y="0"/>
                  </a:moveTo>
                  <a:cubicBezTo>
                    <a:pt x="39" y="48"/>
                    <a:pt x="27" y="29"/>
                    <a:pt x="48" y="59"/>
                  </a:cubicBezTo>
                  <a:cubicBezTo>
                    <a:pt x="41" y="93"/>
                    <a:pt x="26" y="117"/>
                    <a:pt x="58" y="139"/>
                  </a:cubicBezTo>
                  <a:cubicBezTo>
                    <a:pt x="61" y="144"/>
                    <a:pt x="63" y="151"/>
                    <a:pt x="69" y="155"/>
                  </a:cubicBezTo>
                  <a:cubicBezTo>
                    <a:pt x="73" y="158"/>
                    <a:pt x="81" y="156"/>
                    <a:pt x="85" y="160"/>
                  </a:cubicBezTo>
                  <a:cubicBezTo>
                    <a:pt x="88" y="163"/>
                    <a:pt x="86" y="171"/>
                    <a:pt x="90" y="176"/>
                  </a:cubicBezTo>
                  <a:cubicBezTo>
                    <a:pt x="97" y="187"/>
                    <a:pt x="109" y="196"/>
                    <a:pt x="117" y="208"/>
                  </a:cubicBezTo>
                  <a:cubicBezTo>
                    <a:pt x="115" y="222"/>
                    <a:pt x="112" y="236"/>
                    <a:pt x="112" y="251"/>
                  </a:cubicBezTo>
                  <a:cubicBezTo>
                    <a:pt x="112" y="279"/>
                    <a:pt x="110" y="308"/>
                    <a:pt x="117" y="336"/>
                  </a:cubicBezTo>
                  <a:cubicBezTo>
                    <a:pt x="119" y="348"/>
                    <a:pt x="194" y="363"/>
                    <a:pt x="208" y="368"/>
                  </a:cubicBezTo>
                  <a:cubicBezTo>
                    <a:pt x="211" y="389"/>
                    <a:pt x="216" y="406"/>
                    <a:pt x="224" y="427"/>
                  </a:cubicBezTo>
                  <a:cubicBezTo>
                    <a:pt x="213" y="454"/>
                    <a:pt x="198" y="504"/>
                    <a:pt x="165" y="512"/>
                  </a:cubicBezTo>
                  <a:cubicBezTo>
                    <a:pt x="138" y="518"/>
                    <a:pt x="150" y="514"/>
                    <a:pt x="128" y="523"/>
                  </a:cubicBezTo>
                  <a:cubicBezTo>
                    <a:pt x="114" y="542"/>
                    <a:pt x="98" y="545"/>
                    <a:pt x="85" y="565"/>
                  </a:cubicBezTo>
                  <a:cubicBezTo>
                    <a:pt x="87" y="612"/>
                    <a:pt x="102" y="667"/>
                    <a:pt x="74" y="709"/>
                  </a:cubicBezTo>
                  <a:cubicBezTo>
                    <a:pt x="63" y="744"/>
                    <a:pt x="58" y="768"/>
                    <a:pt x="32" y="795"/>
                  </a:cubicBezTo>
                  <a:cubicBezTo>
                    <a:pt x="23" y="824"/>
                    <a:pt x="13" y="857"/>
                    <a:pt x="0" y="885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522520" y="121932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106800" y="1752480"/>
            <a:ext cx="365040" cy="1219320"/>
            <a:chOff x="3106800" y="1752480"/>
            <a:chExt cx="365040" cy="1219320"/>
          </a:xfrm>
        </p:grpSpPr>
        <p:sp>
          <p:nvSpPr>
            <p:cNvPr id="863" name=""/>
            <p:cNvSpPr/>
            <p:nvPr/>
          </p:nvSpPr>
          <p:spPr>
            <a:xfrm>
              <a:off x="3106800" y="1778040"/>
              <a:ext cx="365040" cy="1100160"/>
            </a:xfrm>
            <a:custGeom>
              <a:avLst/>
              <a:gdLst/>
              <a:ahLst/>
              <a:rect l="l" t="t" r="r" b="b"/>
              <a:pathLst>
                <a:path w="230" h="693">
                  <a:moveTo>
                    <a:pt x="11" y="0"/>
                  </a:moveTo>
                  <a:cubicBezTo>
                    <a:pt x="16" y="33"/>
                    <a:pt x="17" y="42"/>
                    <a:pt x="38" y="69"/>
                  </a:cubicBezTo>
                  <a:cubicBezTo>
                    <a:pt x="49" y="130"/>
                    <a:pt x="49" y="112"/>
                    <a:pt x="96" y="139"/>
                  </a:cubicBezTo>
                  <a:cubicBezTo>
                    <a:pt x="107" y="145"/>
                    <a:pt x="115" y="156"/>
                    <a:pt x="128" y="160"/>
                  </a:cubicBezTo>
                  <a:cubicBezTo>
                    <a:pt x="151" y="167"/>
                    <a:pt x="198" y="181"/>
                    <a:pt x="198" y="181"/>
                  </a:cubicBezTo>
                  <a:cubicBezTo>
                    <a:pt x="196" y="186"/>
                    <a:pt x="192" y="191"/>
                    <a:pt x="192" y="197"/>
                  </a:cubicBezTo>
                  <a:cubicBezTo>
                    <a:pt x="192" y="202"/>
                    <a:pt x="198" y="207"/>
                    <a:pt x="198" y="213"/>
                  </a:cubicBezTo>
                  <a:cubicBezTo>
                    <a:pt x="193" y="239"/>
                    <a:pt x="149" y="249"/>
                    <a:pt x="128" y="256"/>
                  </a:cubicBezTo>
                  <a:cubicBezTo>
                    <a:pt x="151" y="279"/>
                    <a:pt x="176" y="272"/>
                    <a:pt x="203" y="293"/>
                  </a:cubicBezTo>
                  <a:cubicBezTo>
                    <a:pt x="209" y="312"/>
                    <a:pt x="220" y="328"/>
                    <a:pt x="230" y="347"/>
                  </a:cubicBezTo>
                  <a:cubicBezTo>
                    <a:pt x="215" y="355"/>
                    <a:pt x="209" y="356"/>
                    <a:pt x="203" y="373"/>
                  </a:cubicBezTo>
                  <a:cubicBezTo>
                    <a:pt x="200" y="379"/>
                    <a:pt x="204" y="390"/>
                    <a:pt x="198" y="395"/>
                  </a:cubicBezTo>
                  <a:cubicBezTo>
                    <a:pt x="189" y="401"/>
                    <a:pt x="176" y="398"/>
                    <a:pt x="166" y="400"/>
                  </a:cubicBezTo>
                  <a:cubicBezTo>
                    <a:pt x="157" y="421"/>
                    <a:pt x="166" y="435"/>
                    <a:pt x="171" y="459"/>
                  </a:cubicBezTo>
                  <a:cubicBezTo>
                    <a:pt x="164" y="480"/>
                    <a:pt x="166" y="489"/>
                    <a:pt x="144" y="496"/>
                  </a:cubicBezTo>
                  <a:cubicBezTo>
                    <a:pt x="133" y="503"/>
                    <a:pt x="118" y="506"/>
                    <a:pt x="112" y="517"/>
                  </a:cubicBezTo>
                  <a:cubicBezTo>
                    <a:pt x="108" y="522"/>
                    <a:pt x="106" y="528"/>
                    <a:pt x="102" y="533"/>
                  </a:cubicBezTo>
                  <a:cubicBezTo>
                    <a:pt x="92" y="541"/>
                    <a:pt x="70" y="555"/>
                    <a:pt x="70" y="555"/>
                  </a:cubicBezTo>
                  <a:cubicBezTo>
                    <a:pt x="62" y="565"/>
                    <a:pt x="51" y="574"/>
                    <a:pt x="48" y="587"/>
                  </a:cubicBezTo>
                  <a:cubicBezTo>
                    <a:pt x="38" y="616"/>
                    <a:pt x="37" y="628"/>
                    <a:pt x="11" y="645"/>
                  </a:cubicBezTo>
                  <a:cubicBezTo>
                    <a:pt x="9" y="655"/>
                    <a:pt x="8" y="666"/>
                    <a:pt x="6" y="677"/>
                  </a:cubicBezTo>
                  <a:cubicBezTo>
                    <a:pt x="4" y="682"/>
                    <a:pt x="0" y="693"/>
                    <a:pt x="0" y="693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16160" y="175248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733920" y="1981080"/>
            <a:ext cx="388800" cy="990720"/>
            <a:chOff x="3733920" y="1981080"/>
            <a:chExt cx="388800" cy="990720"/>
          </a:xfrm>
        </p:grpSpPr>
        <p:sp>
          <p:nvSpPr>
            <p:cNvPr id="866" name=""/>
            <p:cNvSpPr/>
            <p:nvPr/>
          </p:nvSpPr>
          <p:spPr>
            <a:xfrm>
              <a:off x="3751200" y="2014560"/>
              <a:ext cx="371520" cy="914400"/>
            </a:xfrm>
            <a:custGeom>
              <a:avLst/>
              <a:gdLst/>
              <a:ahLst/>
              <a:rect l="l" t="t" r="r" b="b"/>
              <a:pathLst>
                <a:path w="234" h="576">
                  <a:moveTo>
                    <a:pt x="5" y="0"/>
                  </a:moveTo>
                  <a:cubicBezTo>
                    <a:pt x="13" y="43"/>
                    <a:pt x="5" y="11"/>
                    <a:pt x="16" y="43"/>
                  </a:cubicBezTo>
                  <a:cubicBezTo>
                    <a:pt x="19" y="53"/>
                    <a:pt x="26" y="75"/>
                    <a:pt x="26" y="75"/>
                  </a:cubicBezTo>
                  <a:cubicBezTo>
                    <a:pt x="8" y="102"/>
                    <a:pt x="18" y="84"/>
                    <a:pt x="5" y="128"/>
                  </a:cubicBezTo>
                  <a:cubicBezTo>
                    <a:pt x="3" y="133"/>
                    <a:pt x="0" y="144"/>
                    <a:pt x="0" y="144"/>
                  </a:cubicBezTo>
                  <a:cubicBezTo>
                    <a:pt x="11" y="162"/>
                    <a:pt x="13" y="174"/>
                    <a:pt x="32" y="187"/>
                  </a:cubicBezTo>
                  <a:cubicBezTo>
                    <a:pt x="64" y="239"/>
                    <a:pt x="16" y="167"/>
                    <a:pt x="58" y="214"/>
                  </a:cubicBezTo>
                  <a:cubicBezTo>
                    <a:pt x="88" y="248"/>
                    <a:pt x="100" y="283"/>
                    <a:pt x="149" y="299"/>
                  </a:cubicBezTo>
                  <a:cubicBezTo>
                    <a:pt x="167" y="311"/>
                    <a:pt x="172" y="324"/>
                    <a:pt x="186" y="342"/>
                  </a:cubicBezTo>
                  <a:cubicBezTo>
                    <a:pt x="199" y="358"/>
                    <a:pt x="218" y="368"/>
                    <a:pt x="234" y="384"/>
                  </a:cubicBezTo>
                  <a:cubicBezTo>
                    <a:pt x="221" y="403"/>
                    <a:pt x="213" y="404"/>
                    <a:pt x="192" y="411"/>
                  </a:cubicBezTo>
                  <a:cubicBezTo>
                    <a:pt x="160" y="431"/>
                    <a:pt x="141" y="436"/>
                    <a:pt x="106" y="448"/>
                  </a:cubicBezTo>
                  <a:cubicBezTo>
                    <a:pt x="83" y="483"/>
                    <a:pt x="111" y="444"/>
                    <a:pt x="74" y="475"/>
                  </a:cubicBezTo>
                  <a:cubicBezTo>
                    <a:pt x="62" y="484"/>
                    <a:pt x="54" y="498"/>
                    <a:pt x="42" y="507"/>
                  </a:cubicBezTo>
                  <a:cubicBezTo>
                    <a:pt x="36" y="510"/>
                    <a:pt x="31" y="514"/>
                    <a:pt x="26" y="518"/>
                  </a:cubicBezTo>
                  <a:cubicBezTo>
                    <a:pt x="16" y="547"/>
                    <a:pt x="0" y="538"/>
                    <a:pt x="0" y="576"/>
                  </a:cubicBez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33920" y="198108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495680" y="2438280"/>
            <a:ext cx="114480" cy="533520"/>
            <a:chOff x="4495680" y="2438280"/>
            <a:chExt cx="114480" cy="533520"/>
          </a:xfrm>
        </p:grpSpPr>
        <p:sp>
          <p:nvSpPr>
            <p:cNvPr id="869" name=""/>
            <p:cNvSpPr/>
            <p:nvPr/>
          </p:nvSpPr>
          <p:spPr>
            <a:xfrm>
              <a:off x="4495680" y="2438280"/>
              <a:ext cx="114480" cy="514440"/>
            </a:xfrm>
            <a:custGeom>
              <a:avLst/>
              <a:gdLst/>
              <a:ahLst/>
              <a:rect l="l" t="t" r="r" b="b"/>
              <a:pathLst>
                <a:path w="72" h="324">
                  <a:moveTo>
                    <a:pt x="8" y="0"/>
                  </a:moveTo>
                  <a:cubicBezTo>
                    <a:pt x="19" y="34"/>
                    <a:pt x="49" y="75"/>
                    <a:pt x="72" y="104"/>
                  </a:cubicBezTo>
                  <a:cubicBezTo>
                    <a:pt x="63" y="139"/>
                    <a:pt x="55" y="173"/>
                    <a:pt x="44" y="208"/>
                  </a:cubicBezTo>
                  <a:cubicBezTo>
                    <a:pt x="37" y="227"/>
                    <a:pt x="37" y="240"/>
                    <a:pt x="20" y="252"/>
                  </a:cubicBezTo>
                  <a:cubicBezTo>
                    <a:pt x="15" y="265"/>
                    <a:pt x="6" y="284"/>
                    <a:pt x="4" y="300"/>
                  </a:cubicBezTo>
                  <a:cubicBezTo>
                    <a:pt x="2" y="308"/>
                    <a:pt x="0" y="324"/>
                    <a:pt x="0" y="324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495680" y="24382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060880" y="2184480"/>
            <a:ext cx="146160" cy="749160"/>
            <a:chOff x="5060880" y="2184480"/>
            <a:chExt cx="146160" cy="749160"/>
          </a:xfrm>
        </p:grpSpPr>
        <p:sp>
          <p:nvSpPr>
            <p:cNvPr id="872" name=""/>
            <p:cNvSpPr/>
            <p:nvPr/>
          </p:nvSpPr>
          <p:spPr>
            <a:xfrm>
              <a:off x="5060880" y="2184480"/>
              <a:ext cx="146160" cy="749160"/>
            </a:xfrm>
            <a:custGeom>
              <a:avLst/>
              <a:gdLst/>
              <a:ahLst/>
              <a:rect l="l" t="t" r="r" b="b"/>
              <a:pathLst>
                <a:path w="92" h="472">
                  <a:moveTo>
                    <a:pt x="12" y="0"/>
                  </a:moveTo>
                  <a:cubicBezTo>
                    <a:pt x="24" y="12"/>
                    <a:pt x="33" y="26"/>
                    <a:pt x="48" y="36"/>
                  </a:cubicBezTo>
                  <a:cubicBezTo>
                    <a:pt x="57" y="50"/>
                    <a:pt x="57" y="58"/>
                    <a:pt x="72" y="68"/>
                  </a:cubicBezTo>
                  <a:cubicBezTo>
                    <a:pt x="81" y="90"/>
                    <a:pt x="82" y="138"/>
                    <a:pt x="68" y="160"/>
                  </a:cubicBezTo>
                  <a:cubicBezTo>
                    <a:pt x="61" y="169"/>
                    <a:pt x="49" y="173"/>
                    <a:pt x="40" y="180"/>
                  </a:cubicBezTo>
                  <a:cubicBezTo>
                    <a:pt x="38" y="184"/>
                    <a:pt x="38" y="188"/>
                    <a:pt x="36" y="192"/>
                  </a:cubicBezTo>
                  <a:cubicBezTo>
                    <a:pt x="32" y="195"/>
                    <a:pt x="24" y="195"/>
                    <a:pt x="24" y="200"/>
                  </a:cubicBezTo>
                  <a:cubicBezTo>
                    <a:pt x="23" y="203"/>
                    <a:pt x="41" y="232"/>
                    <a:pt x="44" y="236"/>
                  </a:cubicBezTo>
                  <a:cubicBezTo>
                    <a:pt x="75" y="278"/>
                    <a:pt x="75" y="287"/>
                    <a:pt x="92" y="336"/>
                  </a:cubicBezTo>
                  <a:cubicBezTo>
                    <a:pt x="84" y="357"/>
                    <a:pt x="73" y="368"/>
                    <a:pt x="52" y="376"/>
                  </a:cubicBezTo>
                  <a:cubicBezTo>
                    <a:pt x="34" y="427"/>
                    <a:pt x="45" y="392"/>
                    <a:pt x="16" y="436"/>
                  </a:cubicBezTo>
                  <a:cubicBezTo>
                    <a:pt x="8" y="446"/>
                    <a:pt x="0" y="472"/>
                    <a:pt x="0" y="472"/>
                  </a:cubicBez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67360" y="220968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613480" y="1981080"/>
            <a:ext cx="222120" cy="1067040"/>
            <a:chOff x="5613480" y="1981080"/>
            <a:chExt cx="222120" cy="1067040"/>
          </a:xfrm>
        </p:grpSpPr>
        <p:sp>
          <p:nvSpPr>
            <p:cNvPr id="875" name=""/>
            <p:cNvSpPr/>
            <p:nvPr/>
          </p:nvSpPr>
          <p:spPr>
            <a:xfrm>
              <a:off x="5638680" y="1981080"/>
              <a:ext cx="196920" cy="1022400"/>
            </a:xfrm>
            <a:custGeom>
              <a:avLst/>
              <a:gdLst/>
              <a:ahLst/>
              <a:rect l="l" t="t" r="r" b="b"/>
              <a:pathLst>
                <a:path w="116" h="640">
                  <a:moveTo>
                    <a:pt x="48" y="0"/>
                  </a:moveTo>
                  <a:cubicBezTo>
                    <a:pt x="64" y="48"/>
                    <a:pt x="93" y="88"/>
                    <a:pt x="104" y="140"/>
                  </a:cubicBezTo>
                  <a:cubicBezTo>
                    <a:pt x="101" y="183"/>
                    <a:pt x="90" y="226"/>
                    <a:pt x="116" y="264"/>
                  </a:cubicBezTo>
                  <a:cubicBezTo>
                    <a:pt x="109" y="283"/>
                    <a:pt x="113" y="308"/>
                    <a:pt x="92" y="316"/>
                  </a:cubicBezTo>
                  <a:cubicBezTo>
                    <a:pt x="82" y="343"/>
                    <a:pt x="95" y="370"/>
                    <a:pt x="88" y="400"/>
                  </a:cubicBezTo>
                  <a:cubicBezTo>
                    <a:pt x="86" y="406"/>
                    <a:pt x="32" y="489"/>
                    <a:pt x="60" y="448"/>
                  </a:cubicBezTo>
                  <a:cubicBezTo>
                    <a:pt x="63" y="475"/>
                    <a:pt x="64" y="497"/>
                    <a:pt x="80" y="520"/>
                  </a:cubicBezTo>
                  <a:cubicBezTo>
                    <a:pt x="53" y="537"/>
                    <a:pt x="69" y="570"/>
                    <a:pt x="44" y="588"/>
                  </a:cubicBezTo>
                  <a:cubicBezTo>
                    <a:pt x="41" y="591"/>
                    <a:pt x="12" y="640"/>
                    <a:pt x="8" y="640"/>
                  </a:cubicBezTo>
                  <a:cubicBezTo>
                    <a:pt x="0" y="640"/>
                    <a:pt x="16" y="626"/>
                    <a:pt x="20" y="620"/>
                  </a:cubicBez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95920" y="198108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613480" y="1981080"/>
              <a:ext cx="7596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6121440" y="1219320"/>
            <a:ext cx="457200" cy="1447560"/>
            <a:chOff x="6121440" y="1219320"/>
            <a:chExt cx="457200" cy="1447560"/>
          </a:xfrm>
        </p:grpSpPr>
        <p:sp>
          <p:nvSpPr>
            <p:cNvPr id="879" name=""/>
            <p:cNvSpPr/>
            <p:nvPr/>
          </p:nvSpPr>
          <p:spPr>
            <a:xfrm>
              <a:off x="6184800" y="1231920"/>
              <a:ext cx="393840" cy="1371600"/>
            </a:xfrm>
            <a:custGeom>
              <a:avLst/>
              <a:gdLst/>
              <a:ahLst/>
              <a:rect l="l" t="t" r="r" b="b"/>
              <a:pathLst>
                <a:path w="248" h="864">
                  <a:moveTo>
                    <a:pt x="28" y="0"/>
                  </a:moveTo>
                  <a:cubicBezTo>
                    <a:pt x="33" y="8"/>
                    <a:pt x="38" y="16"/>
                    <a:pt x="44" y="24"/>
                  </a:cubicBezTo>
                  <a:cubicBezTo>
                    <a:pt x="46" y="28"/>
                    <a:pt x="52" y="36"/>
                    <a:pt x="52" y="36"/>
                  </a:cubicBezTo>
                  <a:cubicBezTo>
                    <a:pt x="47" y="61"/>
                    <a:pt x="36" y="79"/>
                    <a:pt x="28" y="104"/>
                  </a:cubicBezTo>
                  <a:cubicBezTo>
                    <a:pt x="34" y="142"/>
                    <a:pt x="61" y="171"/>
                    <a:pt x="76" y="208"/>
                  </a:cubicBezTo>
                  <a:cubicBezTo>
                    <a:pt x="87" y="235"/>
                    <a:pt x="81" y="221"/>
                    <a:pt x="92" y="252"/>
                  </a:cubicBezTo>
                  <a:cubicBezTo>
                    <a:pt x="93" y="256"/>
                    <a:pt x="96" y="264"/>
                    <a:pt x="96" y="264"/>
                  </a:cubicBezTo>
                  <a:cubicBezTo>
                    <a:pt x="89" y="283"/>
                    <a:pt x="83" y="298"/>
                    <a:pt x="72" y="316"/>
                  </a:cubicBezTo>
                  <a:cubicBezTo>
                    <a:pt x="76" y="334"/>
                    <a:pt x="77" y="341"/>
                    <a:pt x="96" y="348"/>
                  </a:cubicBezTo>
                  <a:cubicBezTo>
                    <a:pt x="106" y="363"/>
                    <a:pt x="121" y="372"/>
                    <a:pt x="132" y="388"/>
                  </a:cubicBezTo>
                  <a:cubicBezTo>
                    <a:pt x="127" y="405"/>
                    <a:pt x="117" y="415"/>
                    <a:pt x="112" y="432"/>
                  </a:cubicBezTo>
                  <a:cubicBezTo>
                    <a:pt x="113" y="441"/>
                    <a:pt x="111" y="451"/>
                    <a:pt x="116" y="460"/>
                  </a:cubicBezTo>
                  <a:cubicBezTo>
                    <a:pt x="117" y="463"/>
                    <a:pt x="124" y="462"/>
                    <a:pt x="128" y="464"/>
                  </a:cubicBezTo>
                  <a:cubicBezTo>
                    <a:pt x="145" y="472"/>
                    <a:pt x="161" y="479"/>
                    <a:pt x="180" y="484"/>
                  </a:cubicBezTo>
                  <a:cubicBezTo>
                    <a:pt x="201" y="498"/>
                    <a:pt x="224" y="512"/>
                    <a:pt x="248" y="524"/>
                  </a:cubicBezTo>
                  <a:cubicBezTo>
                    <a:pt x="239" y="549"/>
                    <a:pt x="240" y="551"/>
                    <a:pt x="216" y="560"/>
                  </a:cubicBezTo>
                  <a:cubicBezTo>
                    <a:pt x="197" y="574"/>
                    <a:pt x="186" y="580"/>
                    <a:pt x="164" y="588"/>
                  </a:cubicBezTo>
                  <a:cubicBezTo>
                    <a:pt x="156" y="590"/>
                    <a:pt x="140" y="596"/>
                    <a:pt x="140" y="596"/>
                  </a:cubicBezTo>
                  <a:cubicBezTo>
                    <a:pt x="137" y="600"/>
                    <a:pt x="131" y="603"/>
                    <a:pt x="132" y="608"/>
                  </a:cubicBezTo>
                  <a:cubicBezTo>
                    <a:pt x="132" y="612"/>
                    <a:pt x="141" y="612"/>
                    <a:pt x="144" y="616"/>
                  </a:cubicBezTo>
                  <a:cubicBezTo>
                    <a:pt x="155" y="633"/>
                    <a:pt x="144" y="638"/>
                    <a:pt x="172" y="648"/>
                  </a:cubicBezTo>
                  <a:cubicBezTo>
                    <a:pt x="165" y="667"/>
                    <a:pt x="152" y="664"/>
                    <a:pt x="132" y="668"/>
                  </a:cubicBezTo>
                  <a:cubicBezTo>
                    <a:pt x="124" y="673"/>
                    <a:pt x="111" y="674"/>
                    <a:pt x="108" y="684"/>
                  </a:cubicBezTo>
                  <a:cubicBezTo>
                    <a:pt x="95" y="721"/>
                    <a:pt x="100" y="729"/>
                    <a:pt x="60" y="740"/>
                  </a:cubicBezTo>
                  <a:cubicBezTo>
                    <a:pt x="50" y="768"/>
                    <a:pt x="53" y="799"/>
                    <a:pt x="44" y="828"/>
                  </a:cubicBezTo>
                  <a:cubicBezTo>
                    <a:pt x="41" y="836"/>
                    <a:pt x="34" y="843"/>
                    <a:pt x="32" y="852"/>
                  </a:cubicBezTo>
                  <a:cubicBezTo>
                    <a:pt x="23" y="827"/>
                    <a:pt x="12" y="851"/>
                    <a:pt x="0" y="864"/>
                  </a:cubicBez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10360" y="12193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121440" y="1905120"/>
              <a:ext cx="7632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990720" y="3352680"/>
            <a:ext cx="5638680" cy="1981440"/>
            <a:chOff x="990720" y="3352680"/>
            <a:chExt cx="5638680" cy="1981440"/>
          </a:xfrm>
        </p:grpSpPr>
        <p:sp>
          <p:nvSpPr>
            <p:cNvPr id="883" name=""/>
            <p:cNvSpPr/>
            <p:nvPr/>
          </p:nvSpPr>
          <p:spPr>
            <a:xfrm>
              <a:off x="990720" y="5029200"/>
              <a:ext cx="56386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11"/>
            <a:stretch/>
          </p:blipFill>
          <p:spPr>
            <a:xfrm>
              <a:off x="990720" y="3352680"/>
              <a:ext cx="5410080" cy="188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5" name=""/>
          <p:cNvGrpSpPr/>
          <p:nvPr/>
        </p:nvGrpSpPr>
        <p:grpSpPr>
          <a:xfrm>
            <a:off x="1081080" y="5486400"/>
            <a:ext cx="5418000" cy="1066680"/>
            <a:chOff x="1081080" y="5486400"/>
            <a:chExt cx="5418000" cy="1066680"/>
          </a:xfrm>
        </p:grpSpPr>
        <p:grpSp>
          <p:nvGrpSpPr>
            <p:cNvPr id="886" name=""/>
            <p:cNvGrpSpPr/>
            <p:nvPr/>
          </p:nvGrpSpPr>
          <p:grpSpPr>
            <a:xfrm>
              <a:off x="1081080" y="5486400"/>
              <a:ext cx="5418000" cy="1066680"/>
              <a:chOff x="1081080" y="5486400"/>
              <a:chExt cx="5418000" cy="1066680"/>
            </a:xfrm>
          </p:grpSpPr>
          <p:sp>
            <p:nvSpPr>
              <p:cNvPr id="887" name=""/>
              <p:cNvSpPr/>
              <p:nvPr/>
            </p:nvSpPr>
            <p:spPr>
              <a:xfrm>
                <a:off x="1081080" y="5486400"/>
                <a:ext cx="5418000" cy="1066680"/>
              </a:xfrm>
              <a:custGeom>
                <a:avLst/>
                <a:gdLst/>
                <a:ahLst/>
                <a:rect l="l" t="t" r="r" b="b"/>
                <a:pathLst>
                  <a:path w="3413" h="664">
                    <a:moveTo>
                      <a:pt x="92" y="588"/>
                    </a:moveTo>
                    <a:cubicBezTo>
                      <a:pt x="124" y="586"/>
                      <a:pt x="156" y="586"/>
                      <a:pt x="188" y="583"/>
                    </a:cubicBezTo>
                    <a:cubicBezTo>
                      <a:pt x="214" y="580"/>
                      <a:pt x="261" y="554"/>
                      <a:pt x="290" y="545"/>
                    </a:cubicBezTo>
                    <a:cubicBezTo>
                      <a:pt x="334" y="529"/>
                      <a:pt x="382" y="521"/>
                      <a:pt x="428" y="513"/>
                    </a:cubicBezTo>
                    <a:cubicBezTo>
                      <a:pt x="450" y="498"/>
                      <a:pt x="472" y="494"/>
                      <a:pt x="498" y="487"/>
                    </a:cubicBezTo>
                    <a:cubicBezTo>
                      <a:pt x="534" y="461"/>
                      <a:pt x="517" y="468"/>
                      <a:pt x="546" y="460"/>
                    </a:cubicBezTo>
                    <a:cubicBezTo>
                      <a:pt x="570" y="443"/>
                      <a:pt x="583" y="443"/>
                      <a:pt x="615" y="439"/>
                    </a:cubicBezTo>
                    <a:cubicBezTo>
                      <a:pt x="637" y="430"/>
                      <a:pt x="654" y="440"/>
                      <a:pt x="679" y="444"/>
                    </a:cubicBezTo>
                    <a:cubicBezTo>
                      <a:pt x="696" y="418"/>
                      <a:pt x="713" y="413"/>
                      <a:pt x="743" y="407"/>
                    </a:cubicBezTo>
                    <a:cubicBezTo>
                      <a:pt x="757" y="399"/>
                      <a:pt x="770" y="389"/>
                      <a:pt x="786" y="385"/>
                    </a:cubicBezTo>
                    <a:cubicBezTo>
                      <a:pt x="796" y="381"/>
                      <a:pt x="818" y="375"/>
                      <a:pt x="818" y="375"/>
                    </a:cubicBezTo>
                    <a:cubicBezTo>
                      <a:pt x="822" y="360"/>
                      <a:pt x="831" y="337"/>
                      <a:pt x="844" y="327"/>
                    </a:cubicBezTo>
                    <a:cubicBezTo>
                      <a:pt x="856" y="316"/>
                      <a:pt x="892" y="311"/>
                      <a:pt x="892" y="311"/>
                    </a:cubicBezTo>
                    <a:cubicBezTo>
                      <a:pt x="904" y="329"/>
                      <a:pt x="904" y="340"/>
                      <a:pt x="924" y="353"/>
                    </a:cubicBezTo>
                    <a:cubicBezTo>
                      <a:pt x="929" y="368"/>
                      <a:pt x="940" y="401"/>
                      <a:pt x="940" y="401"/>
                    </a:cubicBezTo>
                    <a:cubicBezTo>
                      <a:pt x="962" y="393"/>
                      <a:pt x="983" y="380"/>
                      <a:pt x="1004" y="369"/>
                    </a:cubicBezTo>
                    <a:cubicBezTo>
                      <a:pt x="1009" y="365"/>
                      <a:pt x="1020" y="365"/>
                      <a:pt x="1020" y="359"/>
                    </a:cubicBezTo>
                    <a:cubicBezTo>
                      <a:pt x="1020" y="353"/>
                      <a:pt x="1009" y="362"/>
                      <a:pt x="1004" y="364"/>
                    </a:cubicBezTo>
                    <a:cubicBezTo>
                      <a:pt x="998" y="367"/>
                      <a:pt x="993" y="372"/>
                      <a:pt x="988" y="375"/>
                    </a:cubicBezTo>
                    <a:cubicBezTo>
                      <a:pt x="983" y="377"/>
                      <a:pt x="969" y="384"/>
                      <a:pt x="972" y="380"/>
                    </a:cubicBezTo>
                    <a:cubicBezTo>
                      <a:pt x="982" y="361"/>
                      <a:pt x="1023" y="353"/>
                      <a:pt x="1042" y="348"/>
                    </a:cubicBezTo>
                    <a:cubicBezTo>
                      <a:pt x="1121" y="355"/>
                      <a:pt x="1196" y="342"/>
                      <a:pt x="1276" y="337"/>
                    </a:cubicBezTo>
                    <a:cubicBezTo>
                      <a:pt x="1291" y="314"/>
                      <a:pt x="1289" y="306"/>
                      <a:pt x="1314" y="289"/>
                    </a:cubicBezTo>
                    <a:cubicBezTo>
                      <a:pt x="1315" y="294"/>
                      <a:pt x="1315" y="300"/>
                      <a:pt x="1319" y="305"/>
                    </a:cubicBezTo>
                    <a:cubicBezTo>
                      <a:pt x="1328" y="314"/>
                      <a:pt x="1351" y="327"/>
                      <a:pt x="1351" y="327"/>
                    </a:cubicBezTo>
                    <a:cubicBezTo>
                      <a:pt x="1365" y="374"/>
                      <a:pt x="1373" y="311"/>
                      <a:pt x="1383" y="305"/>
                    </a:cubicBezTo>
                    <a:cubicBezTo>
                      <a:pt x="1422" y="277"/>
                      <a:pt x="1478" y="291"/>
                      <a:pt x="1527" y="289"/>
                    </a:cubicBezTo>
                    <a:cubicBezTo>
                      <a:pt x="1589" y="249"/>
                      <a:pt x="1599" y="298"/>
                      <a:pt x="1644" y="311"/>
                    </a:cubicBezTo>
                    <a:cubicBezTo>
                      <a:pt x="1656" y="314"/>
                      <a:pt x="1669" y="314"/>
                      <a:pt x="1682" y="316"/>
                    </a:cubicBezTo>
                    <a:cubicBezTo>
                      <a:pt x="1692" y="319"/>
                      <a:pt x="1703" y="331"/>
                      <a:pt x="1714" y="327"/>
                    </a:cubicBezTo>
                    <a:cubicBezTo>
                      <a:pt x="1719" y="324"/>
                      <a:pt x="1715" y="315"/>
                      <a:pt x="1719" y="311"/>
                    </a:cubicBezTo>
                    <a:cubicBezTo>
                      <a:pt x="1722" y="305"/>
                      <a:pt x="1729" y="302"/>
                      <a:pt x="1735" y="300"/>
                    </a:cubicBezTo>
                    <a:cubicBezTo>
                      <a:pt x="1770" y="285"/>
                      <a:pt x="1777" y="284"/>
                      <a:pt x="1810" y="279"/>
                    </a:cubicBezTo>
                    <a:cubicBezTo>
                      <a:pt x="1858" y="260"/>
                      <a:pt x="1839" y="271"/>
                      <a:pt x="1868" y="252"/>
                    </a:cubicBezTo>
                    <a:cubicBezTo>
                      <a:pt x="1885" y="226"/>
                      <a:pt x="1877" y="198"/>
                      <a:pt x="1911" y="188"/>
                    </a:cubicBezTo>
                    <a:cubicBezTo>
                      <a:pt x="1949" y="149"/>
                      <a:pt x="1999" y="120"/>
                      <a:pt x="2039" y="81"/>
                    </a:cubicBezTo>
                    <a:cubicBezTo>
                      <a:pt x="2044" y="23"/>
                      <a:pt x="2040" y="0"/>
                      <a:pt x="2092" y="33"/>
                    </a:cubicBezTo>
                    <a:cubicBezTo>
                      <a:pt x="2109" y="57"/>
                      <a:pt x="2093" y="73"/>
                      <a:pt x="2114" y="103"/>
                    </a:cubicBezTo>
                    <a:cubicBezTo>
                      <a:pt x="2122" y="128"/>
                      <a:pt x="2150" y="184"/>
                      <a:pt x="2172" y="199"/>
                    </a:cubicBezTo>
                    <a:cubicBezTo>
                      <a:pt x="2194" y="166"/>
                      <a:pt x="2190" y="163"/>
                      <a:pt x="2220" y="193"/>
                    </a:cubicBezTo>
                    <a:cubicBezTo>
                      <a:pt x="2236" y="235"/>
                      <a:pt x="2220" y="182"/>
                      <a:pt x="2220" y="225"/>
                    </a:cubicBezTo>
                    <a:cubicBezTo>
                      <a:pt x="2220" y="259"/>
                      <a:pt x="2229" y="297"/>
                      <a:pt x="2236" y="332"/>
                    </a:cubicBezTo>
                    <a:cubicBezTo>
                      <a:pt x="2243" y="432"/>
                      <a:pt x="2226" y="422"/>
                      <a:pt x="2316" y="412"/>
                    </a:cubicBezTo>
                    <a:cubicBezTo>
                      <a:pt x="2350" y="422"/>
                      <a:pt x="2313" y="407"/>
                      <a:pt x="2354" y="444"/>
                    </a:cubicBezTo>
                    <a:cubicBezTo>
                      <a:pt x="2363" y="452"/>
                      <a:pt x="2386" y="465"/>
                      <a:pt x="2386" y="465"/>
                    </a:cubicBezTo>
                    <a:cubicBezTo>
                      <a:pt x="2416" y="463"/>
                      <a:pt x="2446" y="464"/>
                      <a:pt x="2476" y="460"/>
                    </a:cubicBezTo>
                    <a:cubicBezTo>
                      <a:pt x="2482" y="459"/>
                      <a:pt x="2485" y="447"/>
                      <a:pt x="2492" y="449"/>
                    </a:cubicBezTo>
                    <a:cubicBezTo>
                      <a:pt x="2498" y="450"/>
                      <a:pt x="2499" y="459"/>
                      <a:pt x="2503" y="465"/>
                    </a:cubicBezTo>
                    <a:cubicBezTo>
                      <a:pt x="2477" y="478"/>
                      <a:pt x="2423" y="497"/>
                      <a:pt x="2423" y="497"/>
                    </a:cubicBezTo>
                    <a:cubicBezTo>
                      <a:pt x="2457" y="503"/>
                      <a:pt x="2480" y="497"/>
                      <a:pt x="2514" y="487"/>
                    </a:cubicBezTo>
                    <a:cubicBezTo>
                      <a:pt x="2524" y="454"/>
                      <a:pt x="2578" y="464"/>
                      <a:pt x="2610" y="455"/>
                    </a:cubicBezTo>
                    <a:cubicBezTo>
                      <a:pt x="2673" y="411"/>
                      <a:pt x="2684" y="431"/>
                      <a:pt x="2796" y="428"/>
                    </a:cubicBezTo>
                    <a:cubicBezTo>
                      <a:pt x="2864" y="436"/>
                      <a:pt x="2928" y="439"/>
                      <a:pt x="2994" y="460"/>
                    </a:cubicBezTo>
                    <a:cubicBezTo>
                      <a:pt x="3123" y="455"/>
                      <a:pt x="3212" y="450"/>
                      <a:pt x="3346" y="455"/>
                    </a:cubicBezTo>
                    <a:cubicBezTo>
                      <a:pt x="3366" y="461"/>
                      <a:pt x="3385" y="469"/>
                      <a:pt x="3404" y="481"/>
                    </a:cubicBezTo>
                    <a:cubicBezTo>
                      <a:pt x="3376" y="524"/>
                      <a:pt x="3392" y="579"/>
                      <a:pt x="3410" y="625"/>
                    </a:cubicBezTo>
                    <a:cubicBezTo>
                      <a:pt x="3397" y="657"/>
                      <a:pt x="3413" y="631"/>
                      <a:pt x="3388" y="631"/>
                    </a:cubicBezTo>
                    <a:cubicBezTo>
                      <a:pt x="3338" y="629"/>
                      <a:pt x="3288" y="634"/>
                      <a:pt x="3239" y="636"/>
                    </a:cubicBezTo>
                    <a:cubicBezTo>
                      <a:pt x="3208" y="642"/>
                      <a:pt x="3178" y="651"/>
                      <a:pt x="3148" y="657"/>
                    </a:cubicBezTo>
                    <a:cubicBezTo>
                      <a:pt x="3126" y="664"/>
                      <a:pt x="3117" y="657"/>
                      <a:pt x="3095" y="652"/>
                    </a:cubicBezTo>
                    <a:cubicBezTo>
                      <a:pt x="3077" y="640"/>
                      <a:pt x="3061" y="637"/>
                      <a:pt x="3042" y="631"/>
                    </a:cubicBezTo>
                    <a:cubicBezTo>
                      <a:pt x="3005" y="636"/>
                      <a:pt x="2970" y="645"/>
                      <a:pt x="2935" y="652"/>
                    </a:cubicBezTo>
                    <a:cubicBezTo>
                      <a:pt x="2855" y="633"/>
                      <a:pt x="2903" y="639"/>
                      <a:pt x="2791" y="647"/>
                    </a:cubicBezTo>
                    <a:cubicBezTo>
                      <a:pt x="2753" y="631"/>
                      <a:pt x="2719" y="621"/>
                      <a:pt x="2679" y="615"/>
                    </a:cubicBezTo>
                    <a:cubicBezTo>
                      <a:pt x="2655" y="611"/>
                      <a:pt x="2610" y="604"/>
                      <a:pt x="2610" y="604"/>
                    </a:cubicBezTo>
                    <a:cubicBezTo>
                      <a:pt x="2583" y="605"/>
                      <a:pt x="2556" y="607"/>
                      <a:pt x="2530" y="609"/>
                    </a:cubicBezTo>
                    <a:cubicBezTo>
                      <a:pt x="2485" y="612"/>
                      <a:pt x="2396" y="620"/>
                      <a:pt x="2396" y="620"/>
                    </a:cubicBezTo>
                    <a:cubicBezTo>
                      <a:pt x="2312" y="636"/>
                      <a:pt x="2224" y="614"/>
                      <a:pt x="2140" y="609"/>
                    </a:cubicBezTo>
                    <a:cubicBezTo>
                      <a:pt x="2019" y="601"/>
                      <a:pt x="1979" y="602"/>
                      <a:pt x="1836" y="599"/>
                    </a:cubicBezTo>
                    <a:cubicBezTo>
                      <a:pt x="1740" y="585"/>
                      <a:pt x="1576" y="602"/>
                      <a:pt x="1511" y="604"/>
                    </a:cubicBezTo>
                    <a:cubicBezTo>
                      <a:pt x="1337" y="631"/>
                      <a:pt x="1144" y="599"/>
                      <a:pt x="967" y="593"/>
                    </a:cubicBezTo>
                    <a:cubicBezTo>
                      <a:pt x="842" y="610"/>
                      <a:pt x="712" y="606"/>
                      <a:pt x="588" y="609"/>
                    </a:cubicBezTo>
                    <a:cubicBezTo>
                      <a:pt x="492" y="636"/>
                      <a:pt x="276" y="623"/>
                      <a:pt x="220" y="625"/>
                    </a:cubicBezTo>
                    <a:cubicBezTo>
                      <a:pt x="0" y="618"/>
                      <a:pt x="16" y="640"/>
                      <a:pt x="92" y="588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219320" y="6400800"/>
                <a:ext cx="5257800" cy="15228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 flipV="1" rot="5311200">
                <a:off x="1085040" y="6417360"/>
                <a:ext cx="152280" cy="114480"/>
              </a:xfrm>
              <a:prstGeom prst="rtTriangl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814120" y="6275520"/>
              <a:ext cx="346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Sierra Nevada                  Great Basin Plate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1295280" y="4902120"/>
            <a:ext cx="5105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139760" y="4843440"/>
            <a:ext cx="520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Mather     Aspen  Yosemite  Tenaya Toulomne  Big Horn Timberline Conway  Leevin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Valley    Creek     Lake   Meadows    Lake                Sum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44792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8108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59092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2596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657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49568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02920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572000" y="533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495680" y="5334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648320" y="58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562720" y="5257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72428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7242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6095880" y="5181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762120" y="533520"/>
            <a:ext cx="7696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762120" y="5335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381240"/>
          </a:xfrm>
          <a:prstGeom prst="rect">
            <a:avLst/>
          </a:prstGeom>
          <a:solidFill>
            <a:srgbClr val="e3f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scita di Achillea lanulosa in funzione del biot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2157480" y="1066680"/>
            <a:ext cx="6605640" cy="97956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2146320" y="1965240"/>
            <a:ext cx="6605640" cy="162900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4"/>
          <a:stretch/>
        </p:blipFill>
        <p:spPr>
          <a:xfrm>
            <a:off x="2093760" y="3565440"/>
            <a:ext cx="6605640" cy="1881360"/>
          </a:xfrm>
          <a:prstGeom prst="rect">
            <a:avLst/>
          </a:prstGeom>
          <a:ln w="0">
            <a:noFill/>
          </a:ln>
        </p:spPr>
      </p:pic>
      <p:grpSp>
        <p:nvGrpSpPr>
          <p:cNvPr id="919" name=""/>
          <p:cNvGrpSpPr/>
          <p:nvPr/>
        </p:nvGrpSpPr>
        <p:grpSpPr>
          <a:xfrm>
            <a:off x="1917720" y="1127160"/>
            <a:ext cx="152280" cy="762120"/>
            <a:chOff x="1917720" y="1127160"/>
            <a:chExt cx="152280" cy="762120"/>
          </a:xfrm>
        </p:grpSpPr>
        <p:sp>
          <p:nvSpPr>
            <p:cNvPr id="920" name=""/>
            <p:cNvSpPr/>
            <p:nvPr/>
          </p:nvSpPr>
          <p:spPr>
            <a:xfrm>
              <a:off x="1917720" y="11271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17720" y="12798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17720" y="11271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17720" y="15591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17720" y="1406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17720" y="18511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917720" y="16988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917720" y="2041560"/>
            <a:ext cx="152280" cy="1447920"/>
            <a:chOff x="1917720" y="2041560"/>
            <a:chExt cx="152280" cy="1447920"/>
          </a:xfrm>
        </p:grpSpPr>
        <p:sp>
          <p:nvSpPr>
            <p:cNvPr id="928" name=""/>
            <p:cNvSpPr/>
            <p:nvPr/>
          </p:nvSpPr>
          <p:spPr>
            <a:xfrm>
              <a:off x="1917720" y="204156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917720" y="21942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917720" y="20415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917720" y="24735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17720" y="2320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17720" y="2765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17720" y="26132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17720" y="3070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17720" y="29181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17720" y="33498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17720" y="31975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17720" y="34894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1909800" y="3718080"/>
            <a:ext cx="159840" cy="1523520"/>
            <a:chOff x="1909800" y="3718080"/>
            <a:chExt cx="159840" cy="1523520"/>
          </a:xfrm>
        </p:grpSpPr>
        <p:sp>
          <p:nvSpPr>
            <p:cNvPr id="941" name=""/>
            <p:cNvSpPr/>
            <p:nvPr/>
          </p:nvSpPr>
          <p:spPr>
            <a:xfrm>
              <a:off x="1909800" y="3718080"/>
              <a:ext cx="0" cy="152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909800" y="387864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909800" y="371808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909800" y="417240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909800" y="401184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09800" y="447984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909800" y="431964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909800" y="480060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09800" y="464040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909800" y="509472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909800" y="493452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909800" y="5241600"/>
              <a:ext cx="15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012760" y="9777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16000" y="18921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0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002320" y="2603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787400" y="346716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0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014920" y="42418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2080" y="1206360"/>
            <a:ext cx="171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mbien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imberlin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305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2880" y="246060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mbien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ther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140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2960" y="3984480"/>
            <a:ext cx="13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mbiente d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nford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3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16211400">
            <a:off x="3161520" y="4299120"/>
            <a:ext cx="222120" cy="2138400"/>
          </a:xfrm>
          <a:custGeom>
            <a:avLst/>
            <a:gdLst>
              <a:gd name="textAreaLeft" fmla="*/ 65160 w 222120"/>
              <a:gd name="textAreaRight" fmla="*/ 222480 w 222120"/>
              <a:gd name="textAreaTop" fmla="*/ 88920 h 2138400"/>
              <a:gd name="textAreaBottom" fmla="*/ 2049480 h 213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rot="16211400">
            <a:off x="5448960" y="4299120"/>
            <a:ext cx="222120" cy="2138400"/>
          </a:xfrm>
          <a:custGeom>
            <a:avLst/>
            <a:gdLst>
              <a:gd name="textAreaLeft" fmla="*/ 65160 w 222120"/>
              <a:gd name="textAreaRight" fmla="*/ 222480 w 222120"/>
              <a:gd name="textAreaTop" fmla="*/ 88920 h 2138400"/>
              <a:gd name="textAreaBottom" fmla="*/ 2049480 h 213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rot="16211400">
            <a:off x="7547040" y="4414320"/>
            <a:ext cx="222120" cy="1904760"/>
          </a:xfrm>
          <a:custGeom>
            <a:avLst/>
            <a:gdLst>
              <a:gd name="textAreaLeft" fmla="*/ 65160 w 222120"/>
              <a:gd name="textAreaRight" fmla="*/ 222480 w 222120"/>
              <a:gd name="textAreaTop" fmla="*/ 79200 h 1904760"/>
              <a:gd name="textAreaBottom" fmla="*/ 18255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85360" y="5451480"/>
            <a:ext cx="181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enaya lake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0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666680" y="5448240"/>
            <a:ext cx="186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spen valley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95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937920" y="546084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ther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400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36920" y="5718240"/>
            <a:ext cx="741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 piante dei tre biotopi sono state riprodotte vegetativamente e fatte cresc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 tre biotopi diversi. Le piante rappresentate una sopra l’altra derivano per ta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lla stessa pianta e quindi sono geneticamente identich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394160" y="1143000"/>
            <a:ext cx="0" cy="4267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654960" y="1143000"/>
            <a:ext cx="0" cy="426708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7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602"/>
                </a:solidFill>
                <a:latin typeface="Comic Sans MS"/>
              </a:rPr>
              <a:t>Grafico della crescita di </a:t>
            </a:r>
            <a:r>
              <a:rPr b="0" i="1" lang="en-US" sz="2800" spc="-1" strike="noStrike">
                <a:solidFill>
                  <a:srgbClr val="ff0602"/>
                </a:solidFill>
                <a:latin typeface="Comic Sans MS"/>
              </a:rPr>
              <a:t>Achillea lanul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091880" y="6051600"/>
            <a:ext cx="786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presentazione grafica della crescita delle 7 piante precedenti nei 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otopi div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8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5518080" cy="460548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3123720" y="556884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titu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5040" y="2825640"/>
            <a:ext cx="152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tezza 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iant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232240" y="1219320"/>
            <a:ext cx="3911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51e"/>
                </a:solidFill>
                <a:latin typeface="Comic Sans MS"/>
              </a:rPr>
              <a:t>Dimensionidell'occhio in funzione della temperatura, relative al tipo selvatico e ai mutanti </a:t>
            </a:r>
            <a:r>
              <a:rPr b="0" i="1" lang="it-IT" sz="2800" spc="-1" strike="noStrike">
                <a:solidFill>
                  <a:srgbClr val="ff051e"/>
                </a:solidFill>
                <a:latin typeface="Comic Sans MS"/>
              </a:rPr>
              <a:t>Infrabar </a:t>
            </a:r>
            <a:r>
              <a:rPr b="0" lang="it-IT" sz="2800" spc="-1" strike="noStrike">
                <a:solidFill>
                  <a:srgbClr val="ff051e"/>
                </a:solidFill>
                <a:latin typeface="Comic Sans MS"/>
              </a:rPr>
              <a:t>ed </a:t>
            </a:r>
            <a:r>
              <a:rPr b="0" i="1" lang="it-IT" sz="2800" spc="-1" strike="noStrike">
                <a:solidFill>
                  <a:srgbClr val="ff051e"/>
                </a:solidFill>
                <a:latin typeface="Comic Sans MS"/>
              </a:rPr>
              <a:t>Ultrabar </a:t>
            </a:r>
            <a:r>
              <a:rPr b="0" lang="it-IT" sz="2800" spc="-1" strike="noStrike">
                <a:solidFill>
                  <a:srgbClr val="ff051e"/>
                </a:solidFill>
                <a:latin typeface="Comic Sans MS"/>
              </a:rPr>
              <a:t>di</a:t>
            </a:r>
            <a:r>
              <a:rPr b="0" i="1" lang="it-IT" sz="2800" spc="-1" strike="noStrike">
                <a:solidFill>
                  <a:srgbClr val="ff051e"/>
                </a:solidFill>
                <a:latin typeface="Comic Sans MS"/>
              </a:rPr>
              <a:t> D. melanog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325760" y="3314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1146240" y="914400"/>
            <a:ext cx="4187880" cy="5638680"/>
          </a:xfrm>
          <a:prstGeom prst="rect">
            <a:avLst/>
          </a:prstGeom>
          <a:ln w="0">
            <a:noFill/>
          </a:ln>
        </p:spPr>
      </p:pic>
      <p:grpSp>
        <p:nvGrpSpPr>
          <p:cNvPr id="984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62320" y="6400800"/>
            <a:ext cx="1143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858320" y="62895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emperatura C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2040" y="181620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umero 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mmati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5268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" descr=""/>
          <p:cNvPicPr/>
          <p:nvPr/>
        </p:nvPicPr>
        <p:blipFill>
          <a:blip r:embed="rId1"/>
          <a:stretch/>
        </p:blipFill>
        <p:spPr>
          <a:xfrm>
            <a:off x="133200" y="1663560"/>
            <a:ext cx="8782200" cy="496584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>
            <a:off x="152280" y="65736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51e"/>
                </a:solidFill>
                <a:latin typeface="Comic Sans MS"/>
              </a:rPr>
              <a:t>Interazione tra geni ed ambiente nello sviluppo di un orga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9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54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6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602"/>
                </a:solidFill>
                <a:latin typeface="Comic Sans MS"/>
              </a:rPr>
              <a:t>I geni determinano le norme di reazione; la realizzazione di queste dipende dall’interazione con l’ambiente in cui i geni svolgono le loro funzion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00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504960" y="609480"/>
            <a:ext cx="2514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51e"/>
                </a:solidFill>
                <a:latin typeface="Comic Sans MS"/>
              </a:rPr>
              <a:t>Fenoc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65040" y="102888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mitazioni, condizionate dall’ambiente e non ereditarie, di fenotipi che possono essere determinati dal genoti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8600" y="1981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65040" y="188928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agente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 età del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mu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trattamento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fenocop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44680" y="2743200"/>
            <a:ext cx="8599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5°C / 4 h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blastoderm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bithor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5°C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1-2 hr AE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bithorax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0°C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1-3 hr AE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tetrap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0°C / 35 mi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pup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peli ed 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tere / 10 mi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1-4 hr AE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BX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-azatimidi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b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minobarbitol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pup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ommat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rreg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67200" y="601992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rganismo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rosophila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0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51e"/>
                </a:solidFill>
                <a:latin typeface="Comic Sans MS"/>
              </a:rPr>
              <a:t>Agenti che correggono il fenotipo mu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0880" y="15238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376920" y="1655640"/>
            <a:ext cx="83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Agente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metod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ff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17680" y="2395440"/>
            <a:ext cx="832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-azauridi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mp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-azacitidi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lack  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etamid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ar     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itosina, uraci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ar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tilure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orked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-alanin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iezione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lack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luorouraci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appa larv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tp       &gt;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638800" y="571500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rganismo: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rosophila melanog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02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accumulo di conoscenze che ha portato a formulare le leggi fondamentali della genetica è dovuto all’aver prima definito un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scientifico</a:t>
            </a: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di approccio al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040" y="3946680"/>
            <a:ext cx="839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886200"/>
            <a:ext cx="855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f02"/>
                </a:solidFill>
                <a:latin typeface="Comic Sans MS"/>
              </a:rPr>
              <a:t>Noi siamo abituati all’idea che la scienza avanzi di successo in successo, cioè che il progresso della scienza sia un fenomeno lineare ed inevitabile come conseguenza del “metodo scientifico”; è invece la applicazione rigorosa di questo metodo che ne rende il cammino tortu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6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f02"/>
                </a:solidFill>
                <a:latin typeface="Comic Sans MS"/>
              </a:rPr>
              <a:t>Le regole che governano il metodo scientifico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765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o scienziato osserva un fenomeno naturale e decide di spiegar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In un primo tentativo utilizza le conoscenze disponibili per avanzare una ipotesi che lo spieg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all’ipotesi trae alcune deduzio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aggia sperimentalmente le deduzioni. Maggiore è il numero di deduzioni formulate e che si dimostrano vere alla sperimentazione, più probabile è che l’ipotesi sia v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o scienziato deve convincere che l’ipotesi avanzata per spiegare quel fenomeno era adegu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Lo scienziato in questo lavoro di sperimentazione incontra altri fenomeni sconosciuti ed adopererà lo stesso procedimento per spiegare i nuovi fenomeni che diventeranno così intellegibili ed organizzati  in un corpo sempre più grande e complesso di conoscenze scientifi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7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8991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Questo metodo di lavoro spiega chiaramente perchè il progresso delle conoscenze scientifiche non è lin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455400" y="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900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6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602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ff0602"/>
                </a:solidFill>
                <a:latin typeface="Comic Sans MS"/>
              </a:rPr>
              <a:t>Quello che ieri era dato come consolidato, già acquisito può essere rimesso in discussione o essere considerato come una conclusione errata con il procedere delle conoscenz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602"/>
                </a:solidFill>
                <a:latin typeface="Comic Sans MS"/>
              </a:rPr>
              <a:t>Che cosa è la Gene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89548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pi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iarire le regole  ed i meccanismi dell’eredità biolog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602"/>
                </a:solidFill>
                <a:latin typeface="Comic Sans MS"/>
              </a:rPr>
              <a:t>Che cosa è la Gene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905120"/>
            <a:ext cx="867744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lla prima parte del secolo scorso sono state definiti gli elementi fondamentali della ereditarietà, le sue basi cellulari, i meccanismi di  distribuzione del  materiale genetico durante la divisione cellul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602"/>
                </a:solidFill>
                <a:latin typeface="Comic Sans MS"/>
              </a:rPr>
              <a:t>Genetica clas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9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602"/>
                </a:solidFill>
                <a:latin typeface="Comic Sans MS"/>
              </a:rPr>
              <a:t>Che cosa è la Gene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523880"/>
            <a:ext cx="7848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981080"/>
            <a:ext cx="8991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 basi biochimiche del materiale ereditario, la sua struttura molecolare e le modalità di azione all’interno della cellula e nell’organismo intero sono state  definite dal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602"/>
                </a:solidFill>
                <a:latin typeface="Comic Sans MS"/>
              </a:rPr>
              <a:t>Genetica molecol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3915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602"/>
                </a:solidFill>
                <a:latin typeface="Comic Sans MS"/>
              </a:rPr>
              <a:t>Che cosa è la Gene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523880"/>
            <a:ext cx="7848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523880"/>
            <a:ext cx="883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ggi, uno degli obiettivi prioritari è la comprensione dei meccanismi mediante i quali le informazioni contenute nel materiale genetico portano, partendo da  una singola cellula, originare un organismo altamente differenziato da un  punto di vista morfologico, fisiolog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560" y="0"/>
            <a:ext cx="8898840" cy="6820200"/>
            <a:chOff x="16560" y="0"/>
            <a:chExt cx="8898840" cy="6820200"/>
          </a:xfrm>
        </p:grpSpPr>
        <p:pic>
          <p:nvPicPr>
            <p:cNvPr id="11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3809880" y="7632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60" y="657396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6:31:56Z</dcterms:created>
  <dc:creator>Palumbo</dc:creator>
  <dc:description/>
  <dc:language>en-US</dc:language>
  <cp:lastModifiedBy>Mariano Rocchi</cp:lastModifiedBy>
  <dcterms:modified xsi:type="dcterms:W3CDTF">2005-01-04T15:58:42Z</dcterms:modified>
  <cp:revision>109</cp:revision>
  <dc:subject/>
  <dc:title>Programma di Genetica (I)</dc:title>
</cp:coreProperties>
</file>