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2.pct" ContentType="image/x-pict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8EC-2468-44BA-9CD7-99AFB8AB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51-DF63-413E-8400-C536CEC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53C-D623-41CF-BEBF-E950106B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4C7-E6E1-441E-BC21-5CFF9E5D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A19-A57A-4848-B000-E8A680C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721-ED54-42DF-8507-060B1F87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2B8-8508-40E1-93A4-D9F5373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F93-0CFD-4B3D-AD22-695D41BC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1D6-F034-45F6-887B-13DDD49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4F5-47EF-47D7-A69D-8BA3141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4DE-CC98-4A9F-9C9B-9647736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C79-3B15-4E98-9295-229B20A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E39-6ADB-4530-9CAD-0F7951F8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9440" y="5850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mmunogenetica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0" y="612468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zione 24 (cap.5 Kuby: immunolog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9520" y="1515960"/>
            <a:ext cx="5302080" cy="458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EA0-A252-4EDD-BFD9-2CED0C15ED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e si originano 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299160" y="4613400"/>
            <a:ext cx="93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1976, essendo migliorate le tecniche Tonegawa e Hozumi riuscir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mostrare sperimentalmente l’ipotesi di Dreyer e Benne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680" y="1654200"/>
            <a:ext cx="917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biezione era che all’epoca non si poteva concepire qualcosa di diver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a teoria un gene- una proteina e quindi l’idea che due sequenze geniche diverse codificassero indipendentemente lo stesso prodotto era inaccet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254400"/>
            <a:ext cx="917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utte le prove erano indirette: il DNA della porzione costante ibridava solo con uno o due sequenze indicando che nel genomico solo poche copie dei geni della catena costante di ogni 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D6-BCCC-4F58-9196-D4218A168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3120" y="64080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Tonegawa e Hozum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1400" y="1219320"/>
            <a:ext cx="7684920" cy="54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943-AB32-4390-A36C-368CA2426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calizzazione dei geni del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2397240" y="1758960"/>
            <a:ext cx="65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cus della Catena legger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romosoma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cus della Catena legger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romosoma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cus Catena pesante         cromosoma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280" y="3052800"/>
            <a:ext cx="899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DNA a configurazione germinale queste famiglie sono composte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merose sequenze codificanti: segmenti genici separati da sequenze non codificanti. Durante la maturazione del linfocita B vengono riassemblati per per formare quello che sara’ il “gene” della specifica immunoglobu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000" y="4807080"/>
            <a:ext cx="8994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ene legger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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ngono i segmenti V,J e C, i segmenti riarrangiati VJ codificano la regione variabile delle catene legg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ene pesanti contengono i segmenti V, D, J, e C. I segmenti che codificano la regione variabile della catena pesante sono originati dal riarrangiamento VDJ. Ogni segmento V contiene al 5’ un esone per la sequenza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A0F-01BE-42B4-BA46-B47DCBC65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ocalizzazione dei geni del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054160"/>
            <a:ext cx="9639360" cy="40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296-18C0-4B96-A559-97DDA1A05C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726920"/>
            <a:ext cx="422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tena K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73520" y="579600"/>
            <a:ext cx="4670640" cy="59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21A-A790-44C3-811E-D58AFA8DB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320" y="1588320"/>
            <a:ext cx="3492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tena pesant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05240" y="577800"/>
            <a:ext cx="5600880" cy="628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2A9-7F67-43F6-8260-29E78E89E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9520" y="1675080"/>
            <a:ext cx="1968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tena pesant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92240" y="944640"/>
            <a:ext cx="7913880" cy="569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152-AAD7-43BD-B585-6EFAA562A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8440" y="4484880"/>
            <a:ext cx="853596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8B7-F3C0-4413-8CFD-F57AB56A7F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risposta non specif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4440" y="1400040"/>
            <a:ext cx="8001000" cy="48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710-18E2-4FFC-BF33-BAF1E172E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immunita’ adattativ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5440" y="1119240"/>
            <a:ext cx="7442280" cy="53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8CF-FCEB-4BA4-889F-F43565ED6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superfamiglia del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00160" y="1528920"/>
            <a:ext cx="9759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struttura delle catene pesanti e leggere con il  dominio immunoglobu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ggerisce un origine comune, da un gene ancestore che codificava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ipeptide di circa110aa. Per effetto di duplicazioni si sarebbero po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iginati i diversi geni. Altre proteine di membrana possiedono una strut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mile e vengono assegnate alla cosidetta superfamiglia delle immunoglobu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membri della superfamiglia non condividono ne’ funzioni ne’omologia di seq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9360" y="4473720"/>
            <a:ext cx="99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a superfamiglia appartengono anche molecole che non interagiscon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ntigene quindi la domanda e’ a che serve il dominio immunoglobulin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babilmente all’interazione fra molecole di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349-C17B-400E-940D-900480ABF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74960"/>
            <a:ext cx="900576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2360" y="5850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uttura del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751800" y="1208160"/>
            <a:ext cx="27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Domini immunoglobulin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(circa 110 A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93200" y="1879200"/>
            <a:ext cx="360720" cy="393840"/>
            <a:chOff x="6793200" y="1879200"/>
            <a:chExt cx="360720" cy="393840"/>
          </a:xfrm>
        </p:grpSpPr>
        <p:sp>
          <p:nvSpPr>
            <p:cNvPr id="58" name=""/>
            <p:cNvSpPr/>
            <p:nvPr/>
          </p:nvSpPr>
          <p:spPr>
            <a:xfrm flipH="1">
              <a:off x="6793200" y="1879200"/>
              <a:ext cx="349920" cy="23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032960" y="1911600"/>
              <a:ext cx="120960" cy="36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3A8-2156-4C34-A504-BE8118BDA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0960" y="5976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superfamiglia del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2000" y="1139760"/>
            <a:ext cx="525780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65F-78D4-4B1D-AA80-37B249626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e si originano 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1700280"/>
            <a:ext cx="82422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lo della linea germinal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il genoma delle cellule staminali, uovo e spermatozoo, contiene un vasto repertorio di geni Ig. Pertanto non esiste nessun meccanismo genetico particolare responsabile della diversita’ anticorpale (il 15% del genoma sarebbe preposto a codificare I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lo della variabilita’ somatic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il genoma comprende un numero di geni per le Ig relativamente piccolo. Pertanto le numerosissime specificita’ anticorpali che si originano sono dovute a meccanismi di mutazione o ricombinazione che avvengono nelle cellule somati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905-DF77-4228-B368-673452CD6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e si originano 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12760" y="1546200"/>
            <a:ext cx="969156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realta’ la regione costante per definizione e’ conservata quindi ci si tr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fronte ad un paradosso: esistono tanti geni diversi per giustific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esistenza dell’enorme quantita’ di variazioni nella regione variabile e come si giustifica l’identita’ della zona costante? quale e’ il meccanismo che spiega qu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4200" y="3844800"/>
            <a:ext cx="9691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oltre si vide che la seguenza di una singola regione variabile puo’ essere associata alla sequenza della regione costante di diverse catene pesanti, cioe’ appartenere a diverse classi: IgM o IgG con la stessa regione vari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475-F145-4918-9234-FAF9F921D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1720" y="60984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e si originano le immunoglobuli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217520"/>
            <a:ext cx="91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lo di Dreyer e Bennet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1965): ciascuna catena pesante o leggera di una Ig e’ codificata da due geni distinti, uno per la regione V (variabile) e l’altro per la regione C (costante). I due geni si riuniscono a livello di DNA per dare origine ad un messaggio unico che e’ poi trascritto e tradotto in una singola catena pesante o leggera. Inoltre, nella linea germinale ci sono centinaia  o migliaia di geni per le regioni V, ma solo copie singole dei geni codificanti per le regioni 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6600" y="3789360"/>
            <a:ext cx="878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a teoria in un certo senso fondeva le due precedenti e spiegava come potessero esistere immunoglobuline con la stessa regione V legata a diverse C, e sul piano funzionale permetteva di spiegare come si potesse mantenere la stessa funzione effettrice legata alla classe e avere la specific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EBA-F297-4769-B3F8-F0912E206D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6-04-26T06:37:11Z</cp:lastPrinted>
  <dcterms:modified xsi:type="dcterms:W3CDTF">2008-06-13T13:34:48Z</dcterms:modified>
  <cp:revision>255</cp:revision>
  <dc:subject/>
  <dc:title>Procedimento sperimentale di Mendel</dc:title>
</cp:coreProperties>
</file>