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3.pct" ContentType="image/x-pict"/>
  <Override PartName="/ppt/media/image6.png" ContentType="image/png"/>
  <Override PartName="/ppt/media/image4.pct" ContentType="image/x-pict"/>
  <Override PartName="/ppt/media/image7.png" ContentType="image/png"/>
  <Override PartName="/ppt/media/image5.pct" ContentType="image/x-pict"/>
  <Override PartName="/ppt/media/image8.png" ContentType="image/png"/>
  <Override PartName="/ppt/media/image10.pct" ContentType="image/x-pict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907588" cy="6858000"/>
  <p:notesSz cx="9874250" cy="7408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9170-9C07-4A4D-BFA6-F4E115FD0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11280"/>
            <a:ext cx="8420040" cy="1141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fe2c02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0" y="1974960"/>
            <a:ext cx="8420040" cy="1963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0" y="4124880"/>
            <a:ext cx="8420040" cy="1963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6EC5-B6B4-4260-A354-D2B88DF3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2680" y="611280"/>
            <a:ext cx="8420040" cy="1141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fe2c02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0" y="1974960"/>
            <a:ext cx="4108680" cy="1963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77800" y="1974960"/>
            <a:ext cx="4108680" cy="1963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0" y="4124880"/>
            <a:ext cx="4108680" cy="1963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7800" y="4124880"/>
            <a:ext cx="4108680" cy="1963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9C69-F69C-4CF2-87AF-E94EDC80D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611280"/>
            <a:ext cx="8420040" cy="1141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fe2c02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0" y="1974960"/>
            <a:ext cx="2711160" cy="1963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0440" y="1974960"/>
            <a:ext cx="2711160" cy="1963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57320" y="1974960"/>
            <a:ext cx="2711160" cy="1963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0" y="4124880"/>
            <a:ext cx="2711160" cy="1963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0440" y="4124880"/>
            <a:ext cx="2711160" cy="1963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57320" y="4124880"/>
            <a:ext cx="2711160" cy="1963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DE4F-8523-48D6-91C2-A88FE78D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11280"/>
            <a:ext cx="8420040" cy="1141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fe2c02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0" y="1974960"/>
            <a:ext cx="842004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B48D-9FB9-4475-8BA1-4A14C26B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611280"/>
            <a:ext cx="8420040" cy="1141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fe2c02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0" y="1974960"/>
            <a:ext cx="8420040" cy="41162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20C8-C46B-4D22-8511-33779D5A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11280"/>
            <a:ext cx="8420040" cy="1141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fe2c02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0" y="1974960"/>
            <a:ext cx="4108680" cy="41162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77800" y="1974960"/>
            <a:ext cx="4108680" cy="41162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2A7F-DD13-42A2-94CB-765DD2D8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11280"/>
            <a:ext cx="8420040" cy="1141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fe2c02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0955-833D-4568-83FB-4BEF7065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2680" y="611280"/>
            <a:ext cx="8420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AC93-4C77-4C90-909B-A0BB2E21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611280"/>
            <a:ext cx="8420040" cy="1141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fe2c02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0" y="1974960"/>
            <a:ext cx="4108680" cy="1963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77800" y="1974960"/>
            <a:ext cx="4108680" cy="41162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0" y="4124880"/>
            <a:ext cx="4108680" cy="1963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346D-ABD1-466A-A388-47E538D0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611280"/>
            <a:ext cx="8420040" cy="1141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fe2c02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0" y="1974960"/>
            <a:ext cx="4108680" cy="41162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7800" y="1974960"/>
            <a:ext cx="4108680" cy="1963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77800" y="4124880"/>
            <a:ext cx="4108680" cy="1963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3A49-D8B3-4D02-A874-C60B9569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611280"/>
            <a:ext cx="8420040" cy="1141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fe2c02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0" y="1974960"/>
            <a:ext cx="4108680" cy="1963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77800" y="1974960"/>
            <a:ext cx="4108680" cy="1963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0" y="4124880"/>
            <a:ext cx="8420040" cy="1963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8286-8228-4122-9846-BD7AA443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11280"/>
            <a:ext cx="8420040" cy="1141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fe2c02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0" y="1974960"/>
            <a:ext cx="8420040" cy="41162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696960" indent="-268200"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073160" indent="-214200"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3" marL="1503360" indent="-216000"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4" marL="1930320" indent="-214200">
              <a:spcBef>
                <a:spcPts val="751"/>
              </a:spcBef>
              <a:buClr>
                <a:srgbClr val="000000"/>
              </a:buClr>
              <a:buFont typeface="Comic Sans MS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5" marL="1930320" indent="-214200">
              <a:spcBef>
                <a:spcPts val="751"/>
              </a:spcBef>
              <a:buClr>
                <a:srgbClr val="000000"/>
              </a:buClr>
              <a:buFont typeface="Comic Sans MS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6" marL="1930320" indent="-214200">
              <a:spcBef>
                <a:spcPts val="751"/>
              </a:spcBef>
              <a:buClr>
                <a:srgbClr val="000000"/>
              </a:buClr>
              <a:buFont typeface="Comic Sans MS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051440" y="6246360"/>
            <a:ext cx="2063520" cy="4590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5960" y="6491160"/>
            <a:ext cx="3135240" cy="45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1" i="1" lang="nl-N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i="1" lang="nl-NL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95800" y="649116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1" lang="nl-N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F123C561-B50E-40C9-A4FE-DC8667FF436D}" type="slidenum">
              <a:rPr b="1" lang="nl-NL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6920" y="493560"/>
            <a:ext cx="89139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1486080" y="127080"/>
            <a:ext cx="778824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GeneticaII 2007-2008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4280" cy="117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7.png"/><Relationship Id="rId22" Type="http://schemas.openxmlformats.org/officeDocument/2006/relationships/image" Target="../media/image6.png"/><Relationship Id="rId23" Type="http://schemas.openxmlformats.org/officeDocument/2006/relationships/image" Target="../media/image8.png"/><Relationship Id="rId24" Type="http://schemas.openxmlformats.org/officeDocument/2006/relationships/image" Target="../media/image7.png"/><Relationship Id="rId25" Type="http://schemas.openxmlformats.org/officeDocument/2006/relationships/image" Target="../media/image6.png"/><Relationship Id="rId26" Type="http://schemas.openxmlformats.org/officeDocument/2006/relationships/image" Target="../media/image7.png"/><Relationship Id="rId27" Type="http://schemas.openxmlformats.org/officeDocument/2006/relationships/image" Target="../media/image5.pct"/><Relationship Id="rId2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hyperlink" Target="http://www.biologia.uniba.it/DIGEMI/Didattica.html" TargetMode="Externa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39800" y="423720"/>
            <a:ext cx="3514680" cy="704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Imprinting II</a:t>
            </a:r>
            <a:endParaRPr b="1" lang="en-US" sz="3200" spc="-1" strike="noStrike">
              <a:solidFill>
                <a:srgbClr val="fe2c02"/>
              </a:solidFill>
              <a:latin typeface="Comic Sans MS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592440" y="1198440"/>
            <a:ext cx="2459160" cy="3998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043520" y="5394600"/>
            <a:ext cx="142992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Lezione 2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6160" y="5805360"/>
            <a:ext cx="9053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l materiale didattico per questa lezione e’ a disposizione presso il Dipartimento di Genetica e Microbiologia e in rete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http://www.biologia.uniba.it/DIGEMI/Didattica.htm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307B-760D-484C-A69C-3A43B6EF03F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8420040" cy="4478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Ipotesi di organizzazione della regione </a:t>
            </a:r>
            <a:endParaRPr b="1" lang="en-US" sz="2800" spc="-1" strike="noStrike">
              <a:solidFill>
                <a:srgbClr val="fe2c02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>
            <a:off x="3668760" y="1338120"/>
            <a:ext cx="190440" cy="104760"/>
          </a:xfrm>
          <a:prstGeom prst="octagon">
            <a:avLst>
              <a:gd name="adj" fmla="val 2928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59200" y="1390680"/>
            <a:ext cx="21020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17840" y="1284120"/>
            <a:ext cx="230400" cy="212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15000" y="1266840"/>
            <a:ext cx="268200" cy="247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49960" y="1266840"/>
            <a:ext cx="268200" cy="2476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68760" y="1690560"/>
            <a:ext cx="190440" cy="104760"/>
          </a:xfrm>
          <a:prstGeom prst="octagon">
            <a:avLst>
              <a:gd name="adj" fmla="val 2928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59200" y="1743120"/>
            <a:ext cx="21020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17840" y="1636560"/>
            <a:ext cx="230400" cy="212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15000" y="1619280"/>
            <a:ext cx="268200" cy="2476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49960" y="1619280"/>
            <a:ext cx="268200" cy="2476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32560" y="1135080"/>
            <a:ext cx="7887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80440" y="1508040"/>
            <a:ext cx="692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9920" y="1633680"/>
            <a:ext cx="17427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gel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38480" y="1660680"/>
            <a:ext cx="1974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ader-Wil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45080" y="2349000"/>
            <a:ext cx="9484200" cy="924480"/>
            <a:chOff x="145080" y="2349000"/>
            <a:chExt cx="9484200" cy="924480"/>
          </a:xfrm>
        </p:grpSpPr>
        <p:sp>
          <p:nvSpPr>
            <p:cNvPr id="258" name=""/>
            <p:cNvSpPr/>
            <p:nvPr/>
          </p:nvSpPr>
          <p:spPr>
            <a:xfrm>
              <a:off x="878400" y="2550600"/>
              <a:ext cx="190800" cy="105480"/>
            </a:xfrm>
            <a:prstGeom prst="octagon">
              <a:avLst>
                <a:gd name="adj" fmla="val 2928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069200" y="2603520"/>
              <a:ext cx="458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78400" y="2903040"/>
              <a:ext cx="190800" cy="105840"/>
            </a:xfrm>
            <a:prstGeom prst="octagon">
              <a:avLst>
                <a:gd name="adj" fmla="val 29287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69200" y="2955960"/>
              <a:ext cx="2101680" cy="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527840" y="2850120"/>
              <a:ext cx="228960" cy="211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24640" y="2832840"/>
              <a:ext cx="267480" cy="246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36720" bIns="36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59960" y="2832840"/>
              <a:ext cx="267480" cy="24660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45080" y="2349000"/>
              <a:ext cx="78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M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1160" y="2719080"/>
              <a:ext cx="692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87000" y="2557800"/>
              <a:ext cx="190800" cy="105480"/>
            </a:xfrm>
            <a:prstGeom prst="octagon">
              <a:avLst>
                <a:gd name="adj" fmla="val 29287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78160" y="2610720"/>
              <a:ext cx="2101680" cy="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336440" y="2504880"/>
              <a:ext cx="228960" cy="211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833600" y="2487240"/>
              <a:ext cx="267480" cy="246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36720" bIns="36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368560" y="2487240"/>
              <a:ext cx="267120" cy="24660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953320" y="2355120"/>
              <a:ext cx="78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M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999760" y="2726280"/>
              <a:ext cx="692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60840" y="2507400"/>
              <a:ext cx="18799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DELEZI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674440" y="2603520"/>
              <a:ext cx="458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687000" y="2938320"/>
              <a:ext cx="190800" cy="105840"/>
            </a:xfrm>
            <a:prstGeom prst="octagon">
              <a:avLst>
                <a:gd name="adj" fmla="val 29287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78160" y="2991240"/>
              <a:ext cx="458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483040" y="2991240"/>
              <a:ext cx="458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2280" y="3273480"/>
              <a:ext cx="94770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152280" y="3423960"/>
            <a:ext cx="9477000" cy="1047960"/>
            <a:chOff x="152280" y="3423960"/>
            <a:chExt cx="9477000" cy="1047960"/>
          </a:xfrm>
        </p:grpSpPr>
        <p:sp>
          <p:nvSpPr>
            <p:cNvPr id="281" name=""/>
            <p:cNvSpPr/>
            <p:nvPr/>
          </p:nvSpPr>
          <p:spPr>
            <a:xfrm>
              <a:off x="3555000" y="3646080"/>
              <a:ext cx="21448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DISOM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UNIPARENTA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91000" y="3630960"/>
              <a:ext cx="191160" cy="105840"/>
            </a:xfrm>
            <a:prstGeom prst="octagon">
              <a:avLst>
                <a:gd name="adj" fmla="val 29287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082160" y="3683880"/>
              <a:ext cx="210132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540800" y="3578400"/>
              <a:ext cx="228960" cy="211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037240" y="3560760"/>
              <a:ext cx="267480" cy="246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36720" bIns="36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572560" y="3560760"/>
              <a:ext cx="267480" cy="246600"/>
            </a:xfrm>
            <a:prstGeom prst="ellips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4120" y="3448800"/>
              <a:ext cx="692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00720" y="4054320"/>
              <a:ext cx="190800" cy="105840"/>
            </a:xfrm>
            <a:prstGeom prst="octagon">
              <a:avLst>
                <a:gd name="adj" fmla="val 29287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091520" y="4107240"/>
              <a:ext cx="210168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550160" y="4001760"/>
              <a:ext cx="228960" cy="211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46960" y="3984120"/>
              <a:ext cx="267480" cy="246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36720" bIns="36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82280" y="3984120"/>
              <a:ext cx="267120" cy="246600"/>
            </a:xfrm>
            <a:prstGeom prst="ellipse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2040" y="3867840"/>
              <a:ext cx="692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87000" y="3626640"/>
              <a:ext cx="190800" cy="105840"/>
            </a:xfrm>
            <a:prstGeom prst="octagon">
              <a:avLst>
                <a:gd name="adj" fmla="val 29287"/>
              </a:avLst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878160" y="3679560"/>
              <a:ext cx="2101680" cy="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36440" y="3573720"/>
              <a:ext cx="228960" cy="211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833600" y="3556440"/>
              <a:ext cx="267480" cy="246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36720" bIns="36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368560" y="3556440"/>
              <a:ext cx="267120" cy="246240"/>
            </a:xfrm>
            <a:prstGeom prst="ellipse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951880" y="3423960"/>
              <a:ext cx="78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M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687000" y="4064400"/>
              <a:ext cx="190800" cy="105840"/>
            </a:xfrm>
            <a:prstGeom prst="octagon">
              <a:avLst>
                <a:gd name="adj" fmla="val 29287"/>
              </a:avLst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78160" y="4117680"/>
              <a:ext cx="2101680" cy="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336440" y="4011840"/>
              <a:ext cx="228960" cy="211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33600" y="3994200"/>
              <a:ext cx="267480" cy="246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36720" bIns="36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368560" y="3994200"/>
              <a:ext cx="267120" cy="246240"/>
            </a:xfrm>
            <a:prstGeom prst="ellipse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951880" y="3862800"/>
              <a:ext cx="78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M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52280" y="4471920"/>
              <a:ext cx="94770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143280" y="4624560"/>
            <a:ext cx="9486000" cy="1019160"/>
            <a:chOff x="143280" y="4624560"/>
            <a:chExt cx="9486000" cy="1019160"/>
          </a:xfrm>
        </p:grpSpPr>
        <p:sp>
          <p:nvSpPr>
            <p:cNvPr id="308" name=""/>
            <p:cNvSpPr/>
            <p:nvPr/>
          </p:nvSpPr>
          <p:spPr>
            <a:xfrm>
              <a:off x="878400" y="4826160"/>
              <a:ext cx="190800" cy="105480"/>
            </a:xfrm>
            <a:prstGeom prst="octagon">
              <a:avLst>
                <a:gd name="adj" fmla="val 29287"/>
              </a:avLst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69200" y="4878720"/>
              <a:ext cx="916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78400" y="5178960"/>
              <a:ext cx="190800" cy="105480"/>
            </a:xfrm>
            <a:prstGeom prst="octagon">
              <a:avLst>
                <a:gd name="adj" fmla="val 29287"/>
              </a:avLst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069200" y="5231880"/>
              <a:ext cx="2101680" cy="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27840" y="5126040"/>
              <a:ext cx="228960" cy="211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024640" y="5108400"/>
              <a:ext cx="267480" cy="246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37080" bIns="37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59960" y="5108400"/>
              <a:ext cx="267480" cy="246960"/>
            </a:xfrm>
            <a:prstGeom prst="ellipse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3280" y="4624560"/>
              <a:ext cx="78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M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92960" y="4995720"/>
              <a:ext cx="692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74440" y="4878720"/>
              <a:ext cx="458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527840" y="4777560"/>
              <a:ext cx="228960" cy="21168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06680" y="4696200"/>
              <a:ext cx="26571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DELEZI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SUBMICROSCOP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52280" y="5643720"/>
              <a:ext cx="94770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240840" y="5726160"/>
            <a:ext cx="5459760" cy="829800"/>
            <a:chOff x="240840" y="5726160"/>
            <a:chExt cx="5459760" cy="829800"/>
          </a:xfrm>
        </p:grpSpPr>
        <p:sp>
          <p:nvSpPr>
            <p:cNvPr id="322" name=""/>
            <p:cNvSpPr/>
            <p:nvPr/>
          </p:nvSpPr>
          <p:spPr>
            <a:xfrm>
              <a:off x="977040" y="5927760"/>
              <a:ext cx="190800" cy="105840"/>
            </a:xfrm>
            <a:prstGeom prst="octagon">
              <a:avLst>
                <a:gd name="adj" fmla="val 29287"/>
              </a:avLst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168200" y="5980680"/>
              <a:ext cx="210204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26840" y="5874840"/>
              <a:ext cx="229320" cy="211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123640" y="5857200"/>
              <a:ext cx="267120" cy="247320"/>
            </a:xfrm>
            <a:prstGeom prst="triangle">
              <a:avLst>
                <a:gd name="adj" fmla="val 50000"/>
              </a:avLst>
            </a:prstGeom>
            <a:blipFill rotWithShape="0">
              <a:blip r:embed="rId23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37080" bIns="37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658600" y="5857200"/>
              <a:ext cx="267480" cy="247320"/>
            </a:xfrm>
            <a:prstGeom prst="ellipse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977040" y="6281280"/>
              <a:ext cx="190800" cy="105480"/>
            </a:xfrm>
            <a:prstGeom prst="octagon">
              <a:avLst>
                <a:gd name="adj" fmla="val 29287"/>
              </a:avLst>
            </a:prstGeom>
            <a:blipFill rotWithShape="0">
              <a:blip r:embed="rId2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68200" y="6333840"/>
              <a:ext cx="210204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626840" y="6228000"/>
              <a:ext cx="229320" cy="211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23640" y="6210360"/>
              <a:ext cx="267120" cy="247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37080" bIns="37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658600" y="6210360"/>
              <a:ext cx="267480" cy="247320"/>
            </a:xfrm>
            <a:prstGeom prst="ellipse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40840" y="5726160"/>
              <a:ext cx="78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M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91240" y="6098400"/>
              <a:ext cx="692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654720" y="6005880"/>
              <a:ext cx="2045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MUTAZI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5" name="" descr=""/>
          <p:cNvPicPr/>
          <p:nvPr/>
        </p:nvPicPr>
        <p:blipFill>
          <a:blip r:embed="rId27"/>
          <a:stretch/>
        </p:blipFill>
        <p:spPr>
          <a:xfrm flipH="1">
            <a:off x="8229600" y="685800"/>
            <a:ext cx="1432080" cy="152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E348-5DFE-4133-9AAA-D4B11CAF20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52280" y="1307520"/>
            <a:ext cx="9631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996 La caratterizzazione molecolare delle mutazioni nella regione PWS/AS permette di chiarire l’organizzazione del centro di imprinting (IC) e di proporre un model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16160" y="2971800"/>
            <a:ext cx="2657520" cy="3538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SRNP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87560" y="2971800"/>
            <a:ext cx="303120" cy="353880"/>
          </a:xfrm>
          <a:prstGeom prst="can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681200" y="2971800"/>
            <a:ext cx="304920" cy="353880"/>
          </a:xfrm>
          <a:prstGeom prst="can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376280" y="2971800"/>
            <a:ext cx="303120" cy="353880"/>
          </a:xfrm>
          <a:prstGeom prst="can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567560" y="2971800"/>
            <a:ext cx="303120" cy="353880"/>
          </a:xfrm>
          <a:prstGeom prst="can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261200" y="2971800"/>
            <a:ext cx="304920" cy="353880"/>
          </a:xfrm>
          <a:prstGeom prst="can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" y="3043080"/>
            <a:ext cx="1139760" cy="211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872480" y="3043080"/>
            <a:ext cx="1214280" cy="211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38680" y="2971800"/>
            <a:ext cx="1366920" cy="353880"/>
          </a:xfrm>
          <a:prstGeom prst="cube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61240" y="2971800"/>
            <a:ext cx="1366560" cy="353880"/>
          </a:xfrm>
          <a:prstGeom prst="cube">
            <a:avLst>
              <a:gd name="adj" fmla="val 25000"/>
            </a:avLst>
          </a:prstGeom>
          <a:solidFill>
            <a:srgbClr val="11fd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261200" y="2971800"/>
            <a:ext cx="304920" cy="353880"/>
          </a:xfrm>
          <a:prstGeom prst="can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560" y="3492000"/>
            <a:ext cx="94298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NRPN: Small Nuclear ribonuclearProtein N: e’ espresso solo 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omosoma paterno, composto da 10 eso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8640" y="4615200"/>
            <a:ext cx="932508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icapitoliamo: l’imprinting implica l’acquisizione di segnali specifici della linea germinale, inducendo attivita’ differenziale degli alleli parentali. Errori nella linea germinale impedirebbero l’acquisizione dell’epigenotipo corret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42680" y="610920"/>
            <a:ext cx="8420040" cy="531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Caratterizzazione molecolare</a:t>
            </a:r>
            <a:endParaRPr b="1" lang="en-US" sz="2800" spc="-1" strike="noStrike">
              <a:solidFill>
                <a:srgbClr val="fe2c02"/>
              </a:solidFill>
              <a:latin typeface="Comic Sans MS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 flipH="1">
            <a:off x="8586720" y="685800"/>
            <a:ext cx="10749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A398-541E-4224-90E2-C953BB7D3B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292480" y="1693800"/>
            <a:ext cx="230040" cy="1396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522520" y="1763640"/>
            <a:ext cx="1452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21040" y="1693800"/>
            <a:ext cx="230400" cy="1396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51440" y="1763640"/>
            <a:ext cx="38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56000" y="1693800"/>
            <a:ext cx="230400" cy="1396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86400" y="1763640"/>
            <a:ext cx="993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25920" y="1693800"/>
            <a:ext cx="230400" cy="1396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656320" y="1763640"/>
            <a:ext cx="382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961240" y="1693800"/>
            <a:ext cx="230040" cy="1396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91280" y="17636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649920" y="17636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78520" y="1693800"/>
            <a:ext cx="230400" cy="1396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108920" y="17636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337520" y="1693800"/>
            <a:ext cx="230040" cy="1396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567560" y="17636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796160" y="1693800"/>
            <a:ext cx="228600" cy="1396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024760" y="1763640"/>
            <a:ext cx="23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255160" y="1693800"/>
            <a:ext cx="228600" cy="1396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483760" y="1763640"/>
            <a:ext cx="230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713800" y="1693800"/>
            <a:ext cx="228600" cy="1396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942400" y="1763640"/>
            <a:ext cx="230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292480" y="1974960"/>
            <a:ext cx="230040" cy="14112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22520" y="2046240"/>
            <a:ext cx="12985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821040" y="1974960"/>
            <a:ext cx="230400" cy="14112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051440" y="2046240"/>
            <a:ext cx="38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356000" y="1974960"/>
            <a:ext cx="230400" cy="14112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86400" y="2046240"/>
            <a:ext cx="993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425920" y="1974960"/>
            <a:ext cx="230400" cy="14112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56320" y="2046240"/>
            <a:ext cx="382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961240" y="1974960"/>
            <a:ext cx="230040" cy="14112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191280" y="20462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649920" y="20462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878520" y="1974960"/>
            <a:ext cx="230400" cy="14112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108920" y="20462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337520" y="1974960"/>
            <a:ext cx="230040" cy="14112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67560" y="20462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796160" y="1974960"/>
            <a:ext cx="228600" cy="14112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024760" y="2046240"/>
            <a:ext cx="23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255160" y="1974960"/>
            <a:ext cx="228600" cy="14112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483760" y="2046240"/>
            <a:ext cx="230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713800" y="1974960"/>
            <a:ext cx="228600" cy="14112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942400" y="2046240"/>
            <a:ext cx="230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827440" y="1974960"/>
            <a:ext cx="230040" cy="14112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92480" y="3738600"/>
            <a:ext cx="230040" cy="14112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22520" y="3809880"/>
            <a:ext cx="12985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21040" y="3738600"/>
            <a:ext cx="230400" cy="14112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051440" y="3809880"/>
            <a:ext cx="38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356000" y="3738600"/>
            <a:ext cx="230400" cy="14112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86400" y="3809880"/>
            <a:ext cx="993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25920" y="3738600"/>
            <a:ext cx="230400" cy="14112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56320" y="3809880"/>
            <a:ext cx="382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961240" y="3738600"/>
            <a:ext cx="230040" cy="14112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191280" y="3809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649920" y="3809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78520" y="3738600"/>
            <a:ext cx="230400" cy="14112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108920" y="3809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337520" y="3738600"/>
            <a:ext cx="230040" cy="14112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567560" y="3809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796160" y="3738600"/>
            <a:ext cx="228600" cy="14112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024760" y="3809880"/>
            <a:ext cx="23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255160" y="3738600"/>
            <a:ext cx="228600" cy="14112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483760" y="3809880"/>
            <a:ext cx="230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713800" y="3738600"/>
            <a:ext cx="228600" cy="14112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942400" y="3809880"/>
            <a:ext cx="230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827440" y="3738600"/>
            <a:ext cx="230040" cy="14112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362400" y="2398680"/>
            <a:ext cx="230040" cy="1414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592440" y="2470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821040" y="2398680"/>
            <a:ext cx="230400" cy="1414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051440" y="2468520"/>
            <a:ext cx="38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356000" y="2398680"/>
            <a:ext cx="230400" cy="1414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86400" y="2468520"/>
            <a:ext cx="993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425920" y="2398680"/>
            <a:ext cx="230400" cy="1414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656320" y="2468520"/>
            <a:ext cx="382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61240" y="2398680"/>
            <a:ext cx="230040" cy="1414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191280" y="24685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649920" y="24685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78520" y="2398680"/>
            <a:ext cx="230400" cy="1414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108920" y="24685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37520" y="2398680"/>
            <a:ext cx="230040" cy="1414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567560" y="24685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796160" y="2398680"/>
            <a:ext cx="228600" cy="1414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024760" y="2468520"/>
            <a:ext cx="23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255160" y="2398680"/>
            <a:ext cx="228600" cy="1414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483760" y="2468520"/>
            <a:ext cx="230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713800" y="2398680"/>
            <a:ext cx="228600" cy="1414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942400" y="2468520"/>
            <a:ext cx="230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68720" y="2822400"/>
            <a:ext cx="228600" cy="1414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197320" y="2894040"/>
            <a:ext cx="382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425920" y="2822400"/>
            <a:ext cx="230400" cy="1414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656320" y="2892600"/>
            <a:ext cx="382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961240" y="2822400"/>
            <a:ext cx="230040" cy="1414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191280" y="28926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649920" y="28926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78520" y="2822400"/>
            <a:ext cx="230400" cy="1414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108920" y="28926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37520" y="2822400"/>
            <a:ext cx="230040" cy="1414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567560" y="28926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796160" y="2822400"/>
            <a:ext cx="228600" cy="1414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024760" y="2892600"/>
            <a:ext cx="23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255160" y="2822400"/>
            <a:ext cx="228600" cy="1414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483760" y="2892600"/>
            <a:ext cx="230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713800" y="2822400"/>
            <a:ext cx="228600" cy="1414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942400" y="2892600"/>
            <a:ext cx="230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968720" y="3738600"/>
            <a:ext cx="228600" cy="14112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62400" y="3738600"/>
            <a:ext cx="230040" cy="14112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911240" y="38098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9172440" y="1693800"/>
            <a:ext cx="152640" cy="1396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9299520" y="1693800"/>
            <a:ext cx="152280" cy="1396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9172440" y="1974960"/>
            <a:ext cx="152640" cy="14112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9299520" y="1974960"/>
            <a:ext cx="152280" cy="14112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9172440" y="2374920"/>
            <a:ext cx="152640" cy="14112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9299520" y="2374920"/>
            <a:ext cx="152280" cy="14112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9185400" y="2798640"/>
            <a:ext cx="152280" cy="1414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312120" y="2798640"/>
            <a:ext cx="152640" cy="1414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72440" y="3738600"/>
            <a:ext cx="152640" cy="14112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9299520" y="3738600"/>
            <a:ext cx="152280" cy="14112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419880" y="1693800"/>
            <a:ext cx="230040" cy="1396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624720" y="1693800"/>
            <a:ext cx="101520" cy="1396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394320" y="1974960"/>
            <a:ext cx="230400" cy="14112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599160" y="1974960"/>
            <a:ext cx="101520" cy="14112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388200" y="2398680"/>
            <a:ext cx="230040" cy="1414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593040" y="2398680"/>
            <a:ext cx="101520" cy="1414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362640" y="2822400"/>
            <a:ext cx="230400" cy="1414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567480" y="2822400"/>
            <a:ext cx="101520" cy="1414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356520" y="3733920"/>
            <a:ext cx="230040" cy="14112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561000" y="3733920"/>
            <a:ext cx="101880" cy="14112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760480" y="1415880"/>
            <a:ext cx="5994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BD1B   BD1B*  BD1A  BD2   BD3      E1   E2      E3    E4    E5    E6    E7    E8    E9    E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79960" y="995400"/>
            <a:ext cx="543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5400000">
            <a:off x="3442680" y="267120"/>
            <a:ext cx="71280" cy="2216160"/>
          </a:xfrm>
          <a:custGeom>
            <a:avLst/>
            <a:gdLst>
              <a:gd name="textAreaLeft" fmla="*/ 20880 w 71280"/>
              <a:gd name="textAreaRight" fmla="*/ 71640 w 71280"/>
              <a:gd name="textAreaTop" fmla="*/ 92160 h 2216160"/>
              <a:gd name="textAreaBottom" fmla="*/ 2124000 h 221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770160" y="995400"/>
            <a:ext cx="106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NR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rot="5400000">
            <a:off x="7263000" y="-726120"/>
            <a:ext cx="71280" cy="4203720"/>
          </a:xfrm>
          <a:custGeom>
            <a:avLst/>
            <a:gdLst>
              <a:gd name="textAreaLeft" fmla="*/ 20880 w 71280"/>
              <a:gd name="textAreaRight" fmla="*/ 71640 w 71280"/>
              <a:gd name="textAreaTop" fmla="*/ 174960 h 4203720"/>
              <a:gd name="textAreaBottom" fmla="*/ 4028760 h 420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063880" y="3527280"/>
            <a:ext cx="0" cy="282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63880" y="3809880"/>
            <a:ext cx="0" cy="282600"/>
          </a:xfrm>
          <a:prstGeom prst="line">
            <a:avLst/>
          </a:prstGeom>
          <a:ln w="28440">
            <a:solidFill>
              <a:srgbClr val="11fd29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33800" y="3527280"/>
            <a:ext cx="0" cy="282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33800" y="3809880"/>
            <a:ext cx="0" cy="282600"/>
          </a:xfrm>
          <a:prstGeom prst="line">
            <a:avLst/>
          </a:prstGeom>
          <a:ln w="28440">
            <a:solidFill>
              <a:srgbClr val="11fd29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73480" y="3527280"/>
            <a:ext cx="0" cy="282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273480" y="3809880"/>
            <a:ext cx="0" cy="282600"/>
          </a:xfrm>
          <a:prstGeom prst="line">
            <a:avLst/>
          </a:prstGeom>
          <a:ln w="28440">
            <a:solidFill>
              <a:srgbClr val="11fd29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706920" y="3527280"/>
            <a:ext cx="0" cy="282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706920" y="3809880"/>
            <a:ext cx="0" cy="282600"/>
          </a:xfrm>
          <a:prstGeom prst="line">
            <a:avLst/>
          </a:prstGeom>
          <a:ln w="28440">
            <a:solidFill>
              <a:srgbClr val="11fd29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140360" y="3527280"/>
            <a:ext cx="0" cy="282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140360" y="3809880"/>
            <a:ext cx="0" cy="282600"/>
          </a:xfrm>
          <a:prstGeom prst="line">
            <a:avLst/>
          </a:prstGeom>
          <a:ln w="28440">
            <a:solidFill>
              <a:srgbClr val="11fd29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280040" y="3527280"/>
            <a:ext cx="0" cy="282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280040" y="3809880"/>
            <a:ext cx="0" cy="282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878360" y="3527280"/>
            <a:ext cx="0" cy="282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878360" y="3809880"/>
            <a:ext cx="0" cy="282600"/>
          </a:xfrm>
          <a:prstGeom prst="line">
            <a:avLst/>
          </a:prstGeom>
          <a:ln w="28440">
            <a:solidFill>
              <a:srgbClr val="11fd29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19840" y="3527280"/>
            <a:ext cx="0" cy="282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019840" y="3809880"/>
            <a:ext cx="0" cy="282600"/>
          </a:xfrm>
          <a:prstGeom prst="line">
            <a:avLst/>
          </a:prstGeom>
          <a:ln w="28440">
            <a:solidFill>
              <a:srgbClr val="11fd29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49960" y="3527280"/>
            <a:ext cx="0" cy="282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349960" y="3809880"/>
            <a:ext cx="0" cy="282600"/>
          </a:xfrm>
          <a:prstGeom prst="line">
            <a:avLst/>
          </a:prstGeom>
          <a:ln w="28440">
            <a:solidFill>
              <a:srgbClr val="11fd29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8153280" y="3527280"/>
            <a:ext cx="0" cy="282600"/>
          </a:xfrm>
          <a:prstGeom prst="line">
            <a:avLst/>
          </a:prstGeom>
          <a:ln w="28440">
            <a:solidFill>
              <a:srgbClr val="11fd2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153280" y="3809880"/>
            <a:ext cx="0" cy="282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66320" y="3084840"/>
            <a:ext cx="4863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ivello metilazione : Metilati </a:t>
            </a:r>
            <a:r>
              <a:rPr b="1" lang="en-US" sz="1800" spc="-1" strike="noStrike">
                <a:solidFill>
                  <a:srgbClr val="11fd29"/>
                </a:solidFill>
                <a:latin typeface="Comic Sans MS"/>
              </a:rPr>
              <a:t>Non metil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431360" y="3498480"/>
            <a:ext cx="6102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2c02"/>
                </a:solidFill>
                <a:latin typeface="Comic Sans MS"/>
              </a:rPr>
              <a:t>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P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656160" y="3738600"/>
            <a:ext cx="101520" cy="14112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510080" y="4514760"/>
            <a:ext cx="50436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4051080" y="4656240"/>
            <a:ext cx="11458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4510080" y="4797360"/>
            <a:ext cx="114624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057120" y="4900680"/>
            <a:ext cx="1528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3440160" y="5008680"/>
            <a:ext cx="1146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3440160" y="5091120"/>
            <a:ext cx="1146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3975120" y="5162400"/>
            <a:ext cx="611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3975120" y="5232240"/>
            <a:ext cx="611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4279680" y="5315040"/>
            <a:ext cx="230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27400" y="5302080"/>
            <a:ext cx="0" cy="3542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421720" y="1768320"/>
            <a:ext cx="406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B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446200" y="1974960"/>
            <a:ext cx="0" cy="14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433600" y="3738600"/>
            <a:ext cx="0" cy="14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416040" y="3814920"/>
            <a:ext cx="459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L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808600" y="1905120"/>
            <a:ext cx="993960" cy="28260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816720" y="4276800"/>
            <a:ext cx="72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WS-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318120" y="4487760"/>
            <a:ext cx="76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WS-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789360" y="4629240"/>
            <a:ext cx="75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WS-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52280" y="1452600"/>
            <a:ext cx="1731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ruttura dei trascritt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03320" y="3440160"/>
            <a:ext cx="1731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ruttura geno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-12960" y="4245480"/>
            <a:ext cx="17182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le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5677920"/>
            <a:ext cx="9658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tazioni a livello dell’esone1 impedirebbero se ereditate attraverso il padre il passaggio da mat&gt;p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6192000"/>
            <a:ext cx="97059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tazioni a livello di BD se ereditate attraverso madre impedirebbero il passaggio da pat&gt;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362320" y="609120"/>
            <a:ext cx="4286160" cy="1508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400" spc="-1" strike="noStrike">
                <a:solidFill>
                  <a:srgbClr val="fe2c02"/>
                </a:solidFill>
                <a:latin typeface="Comic Sans MS"/>
              </a:rPr>
              <a:t>Stuttura della regione</a:t>
            </a:r>
            <a:endParaRPr b="1" lang="en-US" sz="2400" spc="-1" strike="noStrike">
              <a:solidFill>
                <a:srgbClr val="fe2c02"/>
              </a:solidFill>
              <a:latin typeface="Comic Sans MS"/>
            </a:endParaRPr>
          </a:p>
        </p:txBody>
      </p:sp>
      <p:sp>
        <p:nvSpPr>
          <p:cNvPr id="530" name=""/>
          <p:cNvSpPr/>
          <p:nvPr/>
        </p:nvSpPr>
        <p:spPr>
          <a:xfrm>
            <a:off x="2232000" y="4732200"/>
            <a:ext cx="81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S-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814480" y="4957920"/>
            <a:ext cx="595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S-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581000" y="4840200"/>
            <a:ext cx="5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S-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604040" y="4992840"/>
            <a:ext cx="579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S-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450600" y="5099040"/>
            <a:ext cx="522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S-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42120" y="5157720"/>
            <a:ext cx="59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S-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42080" y="5405400"/>
            <a:ext cx="67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S-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8006-A9AC-4C98-A9CE-5DE3186881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19240" y="1155240"/>
            <a:ext cx="9401040" cy="8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Nel 1992 viene riportata un’altra famiglia AS in cui viene documentata l’assenza di delezioni anche nella regione minima e che porta ad escludere la presenza di mutazioni puntiformi recessive nell’eziologia di 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971800" y="533520"/>
            <a:ext cx="3828960" cy="622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Angelman familiare</a:t>
            </a:r>
            <a:endParaRPr b="1" lang="en-US" sz="2800" spc="-1" strike="noStrike">
              <a:solidFill>
                <a:srgbClr val="fe2c02"/>
              </a:solidFill>
              <a:latin typeface="Comic Sans MS"/>
            </a:endParaRPr>
          </a:p>
        </p:txBody>
      </p:sp>
      <p:sp>
        <p:nvSpPr>
          <p:cNvPr id="539" name=""/>
          <p:cNvSpPr/>
          <p:nvPr/>
        </p:nvSpPr>
        <p:spPr>
          <a:xfrm>
            <a:off x="1757520" y="2165400"/>
            <a:ext cx="230040" cy="210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76280" y="2165400"/>
            <a:ext cx="228600" cy="210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522520" y="2751120"/>
            <a:ext cx="228600" cy="212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149560" y="2751120"/>
            <a:ext cx="230040" cy="212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57560" y="2751120"/>
            <a:ext cx="228600" cy="212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668760" y="2751120"/>
            <a:ext cx="228600" cy="212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724360" y="2751120"/>
            <a:ext cx="228600" cy="212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114960" y="2751120"/>
            <a:ext cx="228600" cy="212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796160" y="2751120"/>
            <a:ext cx="228600" cy="212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346880" y="2751120"/>
            <a:ext cx="230400" cy="212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993160" y="2751120"/>
            <a:ext cx="230040" cy="212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760840" y="3174840"/>
            <a:ext cx="230040" cy="2113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76560" y="3174840"/>
            <a:ext cx="228600" cy="211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356000" y="3174840"/>
            <a:ext cx="230400" cy="21132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662360" y="3174840"/>
            <a:ext cx="228600" cy="211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342040" y="3174840"/>
            <a:ext cx="230040" cy="2113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556320" y="3174840"/>
            <a:ext cx="228600" cy="211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870600" y="3174840"/>
            <a:ext cx="230400" cy="2113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8559720" y="3174840"/>
            <a:ext cx="230400" cy="211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178840" y="3174840"/>
            <a:ext cx="228600" cy="21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14640" y="3324600"/>
            <a:ext cx="100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15S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379880" y="3692520"/>
            <a:ext cx="307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608480" y="3693960"/>
            <a:ext cx="307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067480" y="3690720"/>
            <a:ext cx="307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373840" y="3693960"/>
            <a:ext cx="307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678400" y="3693960"/>
            <a:ext cx="307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994480" y="3693960"/>
            <a:ext cx="307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586680" y="3693960"/>
            <a:ext cx="307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969000" y="3695400"/>
            <a:ext cx="307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327200" y="3693960"/>
            <a:ext cx="303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590000" y="3693960"/>
            <a:ext cx="307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270400" y="3693960"/>
            <a:ext cx="303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718600" y="3690720"/>
            <a:ext cx="307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42600" y="3689280"/>
            <a:ext cx="307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472800" y="3693960"/>
            <a:ext cx="307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779160" y="3693960"/>
            <a:ext cx="307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257960" y="3693960"/>
            <a:ext cx="303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714080" y="3693960"/>
            <a:ext cx="307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096760" y="3693960"/>
            <a:ext cx="307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477640" y="3693960"/>
            <a:ext cx="307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946000" y="3693960"/>
            <a:ext cx="307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604880" y="225756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681200" y="2257560"/>
            <a:ext cx="0" cy="28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681200" y="2540160"/>
            <a:ext cx="7413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624040" y="2540160"/>
            <a:ext cx="0" cy="210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165560" y="2540160"/>
            <a:ext cx="0" cy="210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821200" y="2540160"/>
            <a:ext cx="0" cy="210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897680" y="2540160"/>
            <a:ext cx="0" cy="210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9094680" y="2540160"/>
            <a:ext cx="0" cy="210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370240" y="283356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897360" y="2833560"/>
            <a:ext cx="154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961240" y="2822400"/>
            <a:ext cx="15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349960" y="2822400"/>
            <a:ext cx="344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438880" y="2822400"/>
            <a:ext cx="0" cy="352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5273280" y="2751120"/>
            <a:ext cx="152280" cy="14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567560" y="28224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446200" y="2822400"/>
            <a:ext cx="0" cy="211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446200" y="3033720"/>
            <a:ext cx="76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975120" y="2822400"/>
            <a:ext cx="0" cy="211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75120" y="3033720"/>
            <a:ext cx="839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13440" y="2822400"/>
            <a:ext cx="0" cy="211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013440" y="3033720"/>
            <a:ext cx="94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94640" y="2822400"/>
            <a:ext cx="0" cy="211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94640" y="3033720"/>
            <a:ext cx="94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879640" y="3033720"/>
            <a:ext cx="0" cy="14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209760" y="3033720"/>
            <a:ext cx="0" cy="14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471920" y="3033720"/>
            <a:ext cx="0" cy="14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776840" y="3033720"/>
            <a:ext cx="0" cy="14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649920" y="3033720"/>
            <a:ext cx="0" cy="14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954840" y="3033720"/>
            <a:ext cx="0" cy="14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280360" y="3033720"/>
            <a:ext cx="0" cy="14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8637480" y="3033720"/>
            <a:ext cx="0" cy="14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60000" y="4530960"/>
            <a:ext cx="1828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ABRB3(CA)-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395360" y="4898880"/>
            <a:ext cx="303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623960" y="4900320"/>
            <a:ext cx="303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089440" y="4897440"/>
            <a:ext cx="307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388960" y="4900320"/>
            <a:ext cx="303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700720" y="4900320"/>
            <a:ext cx="307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011040" y="4900320"/>
            <a:ext cx="298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601800" y="4900320"/>
            <a:ext cx="303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984480" y="4902120"/>
            <a:ext cx="303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349520" y="4900320"/>
            <a:ext cx="303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605120" y="4900320"/>
            <a:ext cx="303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294520" y="4900320"/>
            <a:ext cx="316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733720" y="4897440"/>
            <a:ext cx="303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57720" y="4895640"/>
            <a:ext cx="303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487920" y="4900320"/>
            <a:ext cx="303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794280" y="4900320"/>
            <a:ext cx="303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279920" y="4900320"/>
            <a:ext cx="303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729200" y="4900320"/>
            <a:ext cx="303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111880" y="4900320"/>
            <a:ext cx="303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492760" y="4900320"/>
            <a:ext cx="303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8961120" y="4900320"/>
            <a:ext cx="303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68640" y="5801040"/>
            <a:ext cx="1832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ABRA5(CA)-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397160" y="6168960"/>
            <a:ext cx="316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625760" y="6170400"/>
            <a:ext cx="298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089440" y="6167160"/>
            <a:ext cx="307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390760" y="6170400"/>
            <a:ext cx="316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695680" y="6170400"/>
            <a:ext cx="316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016800" y="6170400"/>
            <a:ext cx="307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603600" y="6170400"/>
            <a:ext cx="316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986280" y="6172200"/>
            <a:ext cx="316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351320" y="6170400"/>
            <a:ext cx="316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606920" y="6170400"/>
            <a:ext cx="316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294520" y="6170400"/>
            <a:ext cx="316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35520" y="6167160"/>
            <a:ext cx="316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057720" y="6165720"/>
            <a:ext cx="303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487920" y="6170400"/>
            <a:ext cx="303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796080" y="6170400"/>
            <a:ext cx="316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282080" y="6170400"/>
            <a:ext cx="316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728480" y="6170400"/>
            <a:ext cx="3132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113320" y="6170400"/>
            <a:ext cx="298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494920" y="6170400"/>
            <a:ext cx="316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8962920" y="6170400"/>
            <a:ext cx="316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9BD2-6E0B-44F7-BDD9-A26A5B1712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584280" y="1741320"/>
            <a:ext cx="8940600" cy="452772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420040" cy="1141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Perche’ PWS/AS salta le generazioni</a:t>
            </a:r>
            <a:endParaRPr b="1" lang="en-US" sz="3200" spc="-1" strike="noStrike">
              <a:solidFill>
                <a:srgbClr val="fe2c02"/>
              </a:solidFill>
              <a:latin typeface="Comic Sans MS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2"/>
          <a:stretch/>
        </p:blipFill>
        <p:spPr>
          <a:xfrm flipH="1">
            <a:off x="8534160" y="1143000"/>
            <a:ext cx="1145880" cy="121932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13916160" y="-23526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7D72-7348-4785-86D5-DBBDCCD3C5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76320" y="3244680"/>
            <a:ext cx="4662360" cy="2540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ffusione epigenotipo ma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inea germinale femmin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50920" y="1263240"/>
            <a:ext cx="93787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tazioni a livello dell’esone1 impedirebbero se ereditate attraverso il padre il passaggio da mat&gt;p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06360" y="1846800"/>
            <a:ext cx="94010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tazioni a livello di BD se ereditate attraverso madre impedirebbero il passaggioda pat&gt;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41320" y="4162320"/>
            <a:ext cx="1604880" cy="21132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mprinta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446200" y="4162320"/>
            <a:ext cx="1605240" cy="21132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to di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41320" y="3822840"/>
            <a:ext cx="543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393280" y="3817800"/>
            <a:ext cx="1899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NRPN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son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528920" y="3668760"/>
            <a:ext cx="0" cy="493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528920" y="3668760"/>
            <a:ext cx="1680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09760" y="3668760"/>
            <a:ext cx="0" cy="210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798920" y="3573720"/>
            <a:ext cx="48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84680" y="4029480"/>
            <a:ext cx="566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28600" y="5221440"/>
            <a:ext cx="4357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209760" y="4373640"/>
            <a:ext cx="0" cy="84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772440" y="451944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R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3286080" y="4656240"/>
            <a:ext cx="534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121360" y="3244680"/>
            <a:ext cx="4662360" cy="2540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ffusione epigenotipo pa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inea germinale mas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884920" y="4162320"/>
            <a:ext cx="1604880" cy="21132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mprinta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489800" y="4162320"/>
            <a:ext cx="1604880" cy="21132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to di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884920" y="3822840"/>
            <a:ext cx="543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436880" y="3817800"/>
            <a:ext cx="1899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NRPN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son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190840" y="4029480"/>
            <a:ext cx="645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273640" y="5221440"/>
            <a:ext cx="4356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8255160" y="4373640"/>
            <a:ext cx="0" cy="84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895120" y="685800"/>
            <a:ext cx="4591080" cy="4478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Ipotesi di funzionamento</a:t>
            </a:r>
            <a:endParaRPr b="1" lang="en-US" sz="2800" spc="-1" strike="noStrike">
              <a:solidFill>
                <a:srgbClr val="fe2c02"/>
              </a:solidFill>
              <a:latin typeface="Comic Sans MS"/>
            </a:endParaRPr>
          </a:p>
        </p:txBody>
      </p:sp>
      <p:sp>
        <p:nvSpPr>
          <p:cNvPr id="682" name=""/>
          <p:cNvSpPr/>
          <p:nvPr/>
        </p:nvSpPr>
        <p:spPr>
          <a:xfrm>
            <a:off x="129240" y="2374560"/>
            <a:ext cx="965052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75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sta studiando il secondo attore: la domanda non e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e un epigenotipo controlli i geni, ma come si instau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52280" y="6001920"/>
            <a:ext cx="944892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75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n corretta non spiega alcune osservazioni nel to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1"/>
          <a:stretch/>
        </p:blipFill>
        <p:spPr>
          <a:xfrm flipH="1">
            <a:off x="8759880" y="380880"/>
            <a:ext cx="1146240" cy="121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0B12-56D3-4FF7-8051-EDCA39A2F0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228600" y="2268720"/>
            <a:ext cx="96775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one 1 potrebbe cancellare il preesist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52280" y="3128760"/>
            <a:ext cx="95551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D necessario nella linea  XX   per acquisire l’epigenotipo m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06360" y="1422720"/>
            <a:ext cx="8407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l topo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rnp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’ biallelico nelle linee germin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98360" y="4597560"/>
            <a:ext cx="97077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D inattivo  nella linea  XY per acquisire l’epigenotipo p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742680" y="610920"/>
            <a:ext cx="8420040" cy="531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Nel topo...</a:t>
            </a:r>
            <a:endParaRPr b="1" lang="en-US" sz="3200" spc="-1" strike="noStrike">
              <a:solidFill>
                <a:srgbClr val="fe2c02"/>
              </a:solidFill>
              <a:latin typeface="Comic Sans MS"/>
            </a:endParaRPr>
          </a:p>
        </p:txBody>
      </p:sp>
      <p:sp>
        <p:nvSpPr>
          <p:cNvPr id="690" name=""/>
          <p:cNvSpPr/>
          <p:nvPr/>
        </p:nvSpPr>
        <p:spPr>
          <a:xfrm>
            <a:off x="1631520" y="5656680"/>
            <a:ext cx="36136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lo corret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 flipH="1">
            <a:off x="8229600" y="685800"/>
            <a:ext cx="1432080" cy="152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BD57-5BCC-4949-8AB0-9CFBE043A7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5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0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5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2178000" y="4011480"/>
            <a:ext cx="76320" cy="1200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712960" y="4011480"/>
            <a:ext cx="76320" cy="1200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338120" y="4011480"/>
            <a:ext cx="76320" cy="1200240"/>
          </a:xfrm>
          <a:prstGeom prst="rect">
            <a:avLst/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03160" y="4011480"/>
            <a:ext cx="76320" cy="12002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28240" y="1218960"/>
            <a:ext cx="3537000" cy="4474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Modello</a:t>
            </a:r>
            <a:endParaRPr b="1" lang="en-US" sz="3200" spc="-1" strike="noStrike">
              <a:solidFill>
                <a:srgbClr val="fe2c02"/>
              </a:solidFill>
              <a:latin typeface="Comic Sans MS"/>
            </a:endParaRPr>
          </a:p>
        </p:txBody>
      </p:sp>
      <p:sp>
        <p:nvSpPr>
          <p:cNvPr id="697" name=""/>
          <p:cNvSpPr/>
          <p:nvPr/>
        </p:nvSpPr>
        <p:spPr>
          <a:xfrm>
            <a:off x="3821040" y="1547640"/>
            <a:ext cx="765360" cy="3542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732640" y="1547640"/>
            <a:ext cx="763560" cy="3542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905200" y="1760400"/>
            <a:ext cx="915840" cy="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586400" y="1760400"/>
            <a:ext cx="1146240" cy="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496200" y="1760400"/>
            <a:ext cx="917280" cy="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86400" y="914400"/>
            <a:ext cx="1298520" cy="563400"/>
          </a:xfrm>
          <a:prstGeom prst="cube">
            <a:avLst>
              <a:gd name="adj" fmla="val 25000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4127040" y="1195560"/>
            <a:ext cx="382680" cy="352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808600" y="1195560"/>
            <a:ext cx="382680" cy="352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288240" y="1907280"/>
            <a:ext cx="1735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D-imprinta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360400" y="1907280"/>
            <a:ext cx="1591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sone1 SNRP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98240" y="2114640"/>
            <a:ext cx="3615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e passaggi sono necessar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13360" y="2397240"/>
            <a:ext cx="7957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olizione : l’esone1 e’ richiesto in entrambe le linee germin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67720" y="2760840"/>
            <a:ext cx="8106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ipristino: BD attivo e’ richiesto in cis per l’epigenotipo ma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59440" y="3102120"/>
            <a:ext cx="7585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ipristino: BD inattivo e’ richiesto per l’epigenotipo pa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11280" y="4224240"/>
            <a:ext cx="458640" cy="1396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11280" y="4576680"/>
            <a:ext cx="458640" cy="14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146240" y="4224240"/>
            <a:ext cx="458640" cy="139680"/>
          </a:xfrm>
          <a:prstGeom prst="rect">
            <a:avLst/>
          </a:pr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146240" y="4576680"/>
            <a:ext cx="458640" cy="14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2c0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987560" y="4224240"/>
            <a:ext cx="458640" cy="1396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987560" y="4576680"/>
            <a:ext cx="458640" cy="14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522520" y="4224240"/>
            <a:ext cx="458640" cy="1396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522520" y="4576680"/>
            <a:ext cx="458640" cy="14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554280" y="4011480"/>
            <a:ext cx="76320" cy="1200240"/>
          </a:xfrm>
          <a:prstGeom prst="rect">
            <a:avLst/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362400" y="4224240"/>
            <a:ext cx="458640" cy="139680"/>
          </a:xfrm>
          <a:prstGeom prst="rect">
            <a:avLst/>
          </a:pr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362400" y="4576680"/>
            <a:ext cx="458640" cy="14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2c0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114800" y="4011480"/>
            <a:ext cx="76320" cy="1200240"/>
          </a:xfrm>
          <a:prstGeom prst="rect">
            <a:avLst/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924360" y="4224240"/>
            <a:ext cx="457200" cy="139680"/>
          </a:xfrm>
          <a:prstGeom prst="rect">
            <a:avLst/>
          </a:pr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924360" y="4576680"/>
            <a:ext cx="457200" cy="14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2c0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751120" y="4224240"/>
            <a:ext cx="30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057480" y="4224240"/>
            <a:ext cx="0" cy="211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911240" y="422424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911240" y="4224240"/>
            <a:ext cx="0" cy="211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324240" y="3870360"/>
            <a:ext cx="534960" cy="1411200"/>
          </a:xfrm>
          <a:custGeom>
            <a:avLst/>
            <a:gdLst>
              <a:gd name="textAreaLeft" fmla="*/ 25920 w 534960"/>
              <a:gd name="textAreaRight" fmla="*/ 509040 w 534960"/>
              <a:gd name="textAreaTop" fmla="*/ 25920 h 1411200"/>
              <a:gd name="textAreaBottom" fmla="*/ 1385280 h 1411200"/>
            </a:gdLst>
            <a:ahLst/>
            <a:rect l="textAreaLeft" t="textAreaTop" r="textAreaRight" b="textAreaBottom"/>
            <a:pathLst>
              <a:path w="21600" h="56956">
                <a:moveTo>
                  <a:pt x="3600" y="0"/>
                </a:moveTo>
                <a:arcTo wR="3600" hR="3600" stAng="16200000" swAng="-5400000"/>
                <a:lnTo>
                  <a:pt x="0" y="53356"/>
                </a:lnTo>
                <a:arcTo wR="3600" hR="3600" stAng="10800000" swAng="-5400000"/>
                <a:lnTo>
                  <a:pt x="18000" y="569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897360" y="3870360"/>
            <a:ext cx="536400" cy="1411200"/>
          </a:xfrm>
          <a:custGeom>
            <a:avLst/>
            <a:gdLst>
              <a:gd name="textAreaLeft" fmla="*/ 25920 w 536400"/>
              <a:gd name="textAreaRight" fmla="*/ 510480 w 536400"/>
              <a:gd name="textAreaTop" fmla="*/ 25920 h 1411200"/>
              <a:gd name="textAreaBottom" fmla="*/ 1385280 h 1411200"/>
            </a:gdLst>
            <a:ahLst/>
            <a:rect l="textAreaLeft" t="textAreaTop" r="textAreaRight" b="textAreaBottom"/>
            <a:pathLst>
              <a:path w="21600" h="56803">
                <a:moveTo>
                  <a:pt x="3600" y="0"/>
                </a:moveTo>
                <a:arcTo wR="3600" hR="3600" stAng="16200000" swAng="-5400000"/>
                <a:lnTo>
                  <a:pt x="0" y="53203"/>
                </a:lnTo>
                <a:arcTo wR="3600" hR="3600" stAng="10800000" swAng="-5400000"/>
                <a:lnTo>
                  <a:pt x="18000" y="568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993000" y="4011480"/>
            <a:ext cx="77760" cy="1200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527960" y="4011480"/>
            <a:ext cx="77760" cy="1200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153120" y="4011480"/>
            <a:ext cx="76320" cy="1200240"/>
          </a:xfrm>
          <a:prstGeom prst="rect">
            <a:avLst/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618160" y="4011480"/>
            <a:ext cx="76320" cy="12002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425920" y="4224240"/>
            <a:ext cx="459000" cy="1396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425920" y="4576680"/>
            <a:ext cx="459000" cy="14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961240" y="4224240"/>
            <a:ext cx="458640" cy="139680"/>
          </a:xfrm>
          <a:prstGeom prst="rect">
            <a:avLst/>
          </a:pr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961240" y="4576680"/>
            <a:ext cx="458640" cy="14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2c0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802560" y="4224240"/>
            <a:ext cx="458640" cy="1396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802560" y="4576680"/>
            <a:ext cx="458640" cy="14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337520" y="4224240"/>
            <a:ext cx="458640" cy="1396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337520" y="4576680"/>
            <a:ext cx="458640" cy="14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8369280" y="4011480"/>
            <a:ext cx="76320" cy="12002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8178840" y="4224240"/>
            <a:ext cx="458640" cy="1396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178840" y="4576680"/>
            <a:ext cx="458640" cy="14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8980560" y="4011480"/>
            <a:ext cx="75960" cy="12002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790120" y="4224240"/>
            <a:ext cx="458640" cy="1396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790120" y="4576680"/>
            <a:ext cx="458640" cy="14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8153280" y="3870360"/>
            <a:ext cx="534960" cy="1411200"/>
          </a:xfrm>
          <a:custGeom>
            <a:avLst/>
            <a:gdLst>
              <a:gd name="textAreaLeft" fmla="*/ 25920 w 534960"/>
              <a:gd name="textAreaRight" fmla="*/ 509040 w 534960"/>
              <a:gd name="textAreaTop" fmla="*/ 25920 h 1411200"/>
              <a:gd name="textAreaBottom" fmla="*/ 1385280 h 1411200"/>
            </a:gdLst>
            <a:ahLst/>
            <a:rect l="textAreaLeft" t="textAreaTop" r="textAreaRight" b="textAreaBottom"/>
            <a:pathLst>
              <a:path w="21600" h="56956">
                <a:moveTo>
                  <a:pt x="3600" y="0"/>
                </a:moveTo>
                <a:arcTo wR="3600" hR="3600" stAng="16200000" swAng="-5400000"/>
                <a:lnTo>
                  <a:pt x="0" y="53356"/>
                </a:lnTo>
                <a:arcTo wR="3600" hR="3600" stAng="10800000" swAng="-5400000"/>
                <a:lnTo>
                  <a:pt x="18000" y="569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751960" y="3870360"/>
            <a:ext cx="534960" cy="1411200"/>
          </a:xfrm>
          <a:custGeom>
            <a:avLst/>
            <a:gdLst>
              <a:gd name="textAreaLeft" fmla="*/ 25920 w 534960"/>
              <a:gd name="textAreaRight" fmla="*/ 509040 w 534960"/>
              <a:gd name="textAreaTop" fmla="*/ 25920 h 1411200"/>
              <a:gd name="textAreaBottom" fmla="*/ 1385280 h 1411200"/>
            </a:gdLst>
            <a:ahLst/>
            <a:rect l="textAreaLeft" t="textAreaTop" r="textAreaRight" b="textAreaBottom"/>
            <a:pathLst>
              <a:path w="21600" h="56956">
                <a:moveTo>
                  <a:pt x="3600" y="0"/>
                </a:moveTo>
                <a:arcTo wR="3600" hR="3600" stAng="16200000" swAng="-5400000"/>
                <a:lnTo>
                  <a:pt x="0" y="53356"/>
                </a:lnTo>
                <a:arcTo wR="3600" hR="3600" stAng="10800000" swAng="-5400000"/>
                <a:lnTo>
                  <a:pt x="18000" y="569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136520" y="5289840"/>
            <a:ext cx="130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boli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376280" y="5634000"/>
            <a:ext cx="687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535480" y="5289840"/>
            <a:ext cx="121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iprist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763720" y="563400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875200" y="5289840"/>
            <a:ext cx="130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boli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114960" y="5634000"/>
            <a:ext cx="687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274160" y="5289840"/>
            <a:ext cx="121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iprist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502400" y="563400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06360" y="3659040"/>
            <a:ext cx="4356000" cy="2540160"/>
          </a:xfrm>
          <a:prstGeom prst="rect">
            <a:avLst/>
          </a:prstGeom>
          <a:noFill/>
          <a:ln w="38160">
            <a:solidFill>
              <a:srgbClr val="fe2c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nea germinale XX norm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273640" y="3659040"/>
            <a:ext cx="4356000" cy="254016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nea germinale XY norm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1"/>
          <a:stretch/>
        </p:blipFill>
        <p:spPr>
          <a:xfrm flipH="1">
            <a:off x="8229600" y="685800"/>
            <a:ext cx="1432080" cy="152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B7B0-FECD-44A3-80DF-6405FE9A5D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-360" y="1066320"/>
            <a:ext cx="4419720" cy="376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Famiglia Prader-Willi</a:t>
            </a:r>
            <a:endParaRPr b="1" lang="en-US" sz="2800" spc="-1" strike="noStrike">
              <a:solidFill>
                <a:srgbClr val="fe2c02"/>
              </a:solidFill>
              <a:latin typeface="Comic Sans MS"/>
            </a:endParaRPr>
          </a:p>
        </p:txBody>
      </p:sp>
      <p:sp>
        <p:nvSpPr>
          <p:cNvPr id="763" name=""/>
          <p:cNvSpPr/>
          <p:nvPr/>
        </p:nvSpPr>
        <p:spPr>
          <a:xfrm>
            <a:off x="2101680" y="2863800"/>
            <a:ext cx="76320" cy="1200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184400" y="2822400"/>
            <a:ext cx="75960" cy="1198800"/>
          </a:xfrm>
          <a:prstGeom prst="rect">
            <a:avLst/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49440" y="2822400"/>
            <a:ext cx="75960" cy="11988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821040" y="1616040"/>
            <a:ext cx="671760" cy="1206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04040" y="1616040"/>
            <a:ext cx="669600" cy="1206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017880" y="1681200"/>
            <a:ext cx="803160" cy="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510080" y="1681200"/>
            <a:ext cx="1006560" cy="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191280" y="1681200"/>
            <a:ext cx="803160" cy="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586400" y="1128600"/>
            <a:ext cx="1139760" cy="192240"/>
          </a:xfrm>
          <a:prstGeom prst="cube">
            <a:avLst>
              <a:gd name="adj" fmla="val 25000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4127040" y="1411200"/>
            <a:ext cx="336600" cy="120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808600" y="1411200"/>
            <a:ext cx="336600" cy="120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288240" y="1693080"/>
            <a:ext cx="1735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D-imprinta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360400" y="1693080"/>
            <a:ext cx="1591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sone1 SNRP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80440" y="1698480"/>
            <a:ext cx="258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re passaggi sono necessar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92320" y="1979640"/>
            <a:ext cx="5622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bolizione : l’esone1 e’ richiesto in entrambe le linee germin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31560" y="2138400"/>
            <a:ext cx="572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ipristino: BD attivo e’ richiesto in cis per l’epigenotipo mate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25800" y="2278080"/>
            <a:ext cx="536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ipristino: BD inattivo e’ richiesto per l’epigenotipo pate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58640" y="3033720"/>
            <a:ext cx="459000" cy="1411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58640" y="3386160"/>
            <a:ext cx="459000" cy="14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993600" y="3033720"/>
            <a:ext cx="459000" cy="141120"/>
          </a:xfrm>
          <a:prstGeom prst="rect">
            <a:avLst/>
          </a:pr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911240" y="3076560"/>
            <a:ext cx="459000" cy="1414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911240" y="3429000"/>
            <a:ext cx="459000" cy="14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478320" y="2863800"/>
            <a:ext cx="75960" cy="1200240"/>
          </a:xfrm>
          <a:prstGeom prst="rect">
            <a:avLst/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286080" y="3076560"/>
            <a:ext cx="459000" cy="141480"/>
          </a:xfrm>
          <a:prstGeom prst="rect">
            <a:avLst/>
          </a:pr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286080" y="3429000"/>
            <a:ext cx="459000" cy="14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2c0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038480" y="2863800"/>
            <a:ext cx="76320" cy="1200240"/>
          </a:xfrm>
          <a:prstGeom prst="rect">
            <a:avLst/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846600" y="3076560"/>
            <a:ext cx="458640" cy="141480"/>
          </a:xfrm>
          <a:prstGeom prst="rect">
            <a:avLst/>
          </a:pr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835280" y="307656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835280" y="3076560"/>
            <a:ext cx="0" cy="211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247920" y="2724120"/>
            <a:ext cx="534960" cy="1409760"/>
          </a:xfrm>
          <a:custGeom>
            <a:avLst/>
            <a:gdLst>
              <a:gd name="textAreaLeft" fmla="*/ 25920 w 534960"/>
              <a:gd name="textAreaRight" fmla="*/ 509040 w 534960"/>
              <a:gd name="textAreaTop" fmla="*/ 25920 h 1409760"/>
              <a:gd name="textAreaBottom" fmla="*/ 1383840 h 1409760"/>
            </a:gdLst>
            <a:ahLst/>
            <a:rect l="textAreaLeft" t="textAreaTop" r="textAreaRight" b="textAreaBottom"/>
            <a:pathLst>
              <a:path w="21600" h="56898">
                <a:moveTo>
                  <a:pt x="3600" y="0"/>
                </a:moveTo>
                <a:arcTo wR="3600" hR="3600" stAng="16200000" swAng="-5400000"/>
                <a:lnTo>
                  <a:pt x="0" y="53298"/>
                </a:lnTo>
                <a:arcTo wR="3600" hR="3600" stAng="10800000" swAng="-5400000"/>
                <a:lnTo>
                  <a:pt x="18000" y="568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821040" y="2724120"/>
            <a:ext cx="534960" cy="1409760"/>
          </a:xfrm>
          <a:custGeom>
            <a:avLst/>
            <a:gdLst>
              <a:gd name="textAreaLeft" fmla="*/ 25920 w 534960"/>
              <a:gd name="textAreaRight" fmla="*/ 509040 w 534960"/>
              <a:gd name="textAreaTop" fmla="*/ 25920 h 1409760"/>
              <a:gd name="textAreaBottom" fmla="*/ 1383840 h 1409760"/>
            </a:gdLst>
            <a:ahLst/>
            <a:rect l="textAreaLeft" t="textAreaTop" r="textAreaRight" b="textAreaBottom"/>
            <a:pathLst>
              <a:path w="21600" h="56898">
                <a:moveTo>
                  <a:pt x="3600" y="0"/>
                </a:moveTo>
                <a:arcTo wR="3600" hR="3600" stAng="16200000" swAng="-5400000"/>
                <a:lnTo>
                  <a:pt x="0" y="53298"/>
                </a:lnTo>
                <a:arcTo wR="3600" hR="3600" stAng="10800000" swAng="-5400000"/>
                <a:lnTo>
                  <a:pt x="18000" y="568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060200" y="4142160"/>
            <a:ext cx="130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boli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376280" y="4514760"/>
            <a:ext cx="687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446560" y="4170600"/>
            <a:ext cx="121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iprist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687760" y="4487760"/>
            <a:ext cx="68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67400" y="3676680"/>
            <a:ext cx="52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712960" y="2892600"/>
            <a:ext cx="76320" cy="1199880"/>
          </a:xfrm>
          <a:prstGeom prst="rect">
            <a:avLst/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522520" y="3103560"/>
            <a:ext cx="458640" cy="141120"/>
          </a:xfrm>
          <a:prstGeom prst="rect">
            <a:avLst/>
          </a:pr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031760" y="4867200"/>
            <a:ext cx="76320" cy="1200240"/>
          </a:xfrm>
          <a:prstGeom prst="rect">
            <a:avLst/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96800" y="4867200"/>
            <a:ext cx="76320" cy="12002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06360" y="5079960"/>
            <a:ext cx="457200" cy="1414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06360" y="5432400"/>
            <a:ext cx="457200" cy="14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841320" y="5079960"/>
            <a:ext cx="457200" cy="141480"/>
          </a:xfrm>
          <a:prstGeom prst="rect">
            <a:avLst/>
          </a:pr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41840" y="6145200"/>
            <a:ext cx="511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127400" y="4162320"/>
            <a:ext cx="0" cy="49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1222200" y="4656240"/>
            <a:ext cx="2905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222200" y="4656240"/>
            <a:ext cx="0" cy="352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063880" y="4867200"/>
            <a:ext cx="75960" cy="1200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873080" y="5079960"/>
            <a:ext cx="457200" cy="1414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873080" y="5432400"/>
            <a:ext cx="457200" cy="14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637000" y="4867200"/>
            <a:ext cx="75960" cy="1200240"/>
          </a:xfrm>
          <a:prstGeom prst="rect">
            <a:avLst/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446200" y="5079960"/>
            <a:ext cx="459000" cy="141480"/>
          </a:xfrm>
          <a:prstGeom prst="rect">
            <a:avLst/>
          </a:pr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478320" y="4867200"/>
            <a:ext cx="75960" cy="12002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286080" y="5079960"/>
            <a:ext cx="459000" cy="1414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286080" y="5432400"/>
            <a:ext cx="459000" cy="14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051440" y="4867200"/>
            <a:ext cx="75960" cy="1200240"/>
          </a:xfrm>
          <a:prstGeom prst="rect">
            <a:avLst/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859200" y="5079960"/>
            <a:ext cx="458640" cy="141480"/>
          </a:xfrm>
          <a:prstGeom prst="rect">
            <a:avLst/>
          </a:pr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235320" y="4727520"/>
            <a:ext cx="534960" cy="1409760"/>
          </a:xfrm>
          <a:custGeom>
            <a:avLst/>
            <a:gdLst>
              <a:gd name="textAreaLeft" fmla="*/ 25920 w 534960"/>
              <a:gd name="textAreaRight" fmla="*/ 509040 w 534960"/>
              <a:gd name="textAreaTop" fmla="*/ 25920 h 1409760"/>
              <a:gd name="textAreaBottom" fmla="*/ 1383840 h 1409760"/>
            </a:gdLst>
            <a:ahLst/>
            <a:rect l="textAreaLeft" t="textAreaTop" r="textAreaRight" b="textAreaBottom"/>
            <a:pathLst>
              <a:path w="21600" h="56898">
                <a:moveTo>
                  <a:pt x="3600" y="0"/>
                </a:moveTo>
                <a:arcTo wR="3600" hR="3600" stAng="16200000" swAng="-5400000"/>
                <a:lnTo>
                  <a:pt x="0" y="53298"/>
                </a:lnTo>
                <a:arcTo wR="3600" hR="3600" stAng="10800000" swAng="-5400000"/>
                <a:lnTo>
                  <a:pt x="18000" y="568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833640" y="4727520"/>
            <a:ext cx="535320" cy="1409760"/>
          </a:xfrm>
          <a:custGeom>
            <a:avLst/>
            <a:gdLst>
              <a:gd name="textAreaLeft" fmla="*/ 25920 w 535320"/>
              <a:gd name="textAreaRight" fmla="*/ 509400 w 535320"/>
              <a:gd name="textAreaTop" fmla="*/ 25920 h 1409760"/>
              <a:gd name="textAreaBottom" fmla="*/ 1383840 h 1409760"/>
            </a:gdLst>
            <a:ahLst/>
            <a:rect l="textAreaLeft" t="textAreaTop" r="textAreaRight" b="textAreaBottom"/>
            <a:pathLst>
              <a:path w="21600" h="56860">
                <a:moveTo>
                  <a:pt x="3600" y="0"/>
                </a:moveTo>
                <a:arcTo wR="3600" hR="3600" stAng="16200000" swAng="-5400000"/>
                <a:lnTo>
                  <a:pt x="0" y="53260"/>
                </a:lnTo>
                <a:arcTo wR="3600" hR="3600" stAng="10800000" swAng="-5400000"/>
                <a:lnTo>
                  <a:pt x="18000" y="568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440080" y="6286680"/>
            <a:ext cx="2158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ncato riprist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751120" y="627840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464080" y="3951360"/>
            <a:ext cx="77760" cy="1198440"/>
          </a:xfrm>
          <a:prstGeom prst="rect">
            <a:avLst/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273640" y="4162320"/>
            <a:ext cx="459000" cy="141480"/>
          </a:xfrm>
          <a:prstGeom prst="rect">
            <a:avLst/>
          </a:pr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273640" y="4514760"/>
            <a:ext cx="459000" cy="14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2c0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026040" y="3951360"/>
            <a:ext cx="76320" cy="1198440"/>
          </a:xfrm>
          <a:prstGeom prst="rect">
            <a:avLst/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834160" y="4162320"/>
            <a:ext cx="458640" cy="141480"/>
          </a:xfrm>
          <a:prstGeom prst="rect">
            <a:avLst/>
          </a:pr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788160" y="2851560"/>
            <a:ext cx="31179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 mutazioni dell’ esone1  non cancellano l’imprinting sia in XX che in X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954840" y="4407120"/>
            <a:ext cx="2798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XX e’ irrilevante dal momento che comunque hanno epigenotipo 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954840" y="6013800"/>
            <a:ext cx="2706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XY saran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capaci di convert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456880" y="5304240"/>
            <a:ext cx="9241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045040" y="3668760"/>
            <a:ext cx="1528920" cy="2187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356000" y="500868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 flipH="1">
            <a:off x="8229600" y="685800"/>
            <a:ext cx="1432080" cy="152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B17B-BE28-4020-8EF7-42AA5017B7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228240" y="1066320"/>
            <a:ext cx="3600360" cy="376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Famiglia Angelman</a:t>
            </a:r>
            <a:endParaRPr b="1" lang="en-US" sz="2800" spc="-1" strike="noStrike">
              <a:solidFill>
                <a:srgbClr val="fe2c02"/>
              </a:solidFill>
              <a:latin typeface="Comic Sans MS"/>
            </a:endParaRPr>
          </a:p>
        </p:txBody>
      </p:sp>
      <p:sp>
        <p:nvSpPr>
          <p:cNvPr id="837" name=""/>
          <p:cNvSpPr/>
          <p:nvPr/>
        </p:nvSpPr>
        <p:spPr>
          <a:xfrm>
            <a:off x="2139840" y="2863800"/>
            <a:ext cx="76320" cy="1200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184400" y="2822400"/>
            <a:ext cx="75960" cy="1198800"/>
          </a:xfrm>
          <a:prstGeom prst="rect">
            <a:avLst/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49440" y="2822400"/>
            <a:ext cx="75960" cy="11988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821040" y="1616040"/>
            <a:ext cx="671760" cy="1206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504040" y="1616040"/>
            <a:ext cx="669600" cy="1206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017880" y="1681200"/>
            <a:ext cx="803160" cy="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510080" y="1681200"/>
            <a:ext cx="1006560" cy="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191280" y="1681200"/>
            <a:ext cx="803160" cy="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586400" y="1128600"/>
            <a:ext cx="1139760" cy="192240"/>
          </a:xfrm>
          <a:prstGeom prst="cube">
            <a:avLst>
              <a:gd name="adj" fmla="val 25000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H="1">
            <a:off x="4127040" y="1411200"/>
            <a:ext cx="336600" cy="120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808600" y="1411200"/>
            <a:ext cx="336600" cy="120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288240" y="1693080"/>
            <a:ext cx="1735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D-imprinta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360400" y="1693080"/>
            <a:ext cx="1591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sone1 SNRP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80440" y="1698480"/>
            <a:ext cx="258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re passaggi sono necessar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92320" y="1979640"/>
            <a:ext cx="5622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bolizione : l’esone1 e’ richiesto in entrambe le linee germin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31560" y="2138400"/>
            <a:ext cx="572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ipristino: BD attivo e’ richiesto in cis per l’epigenotipo mate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25800" y="2278080"/>
            <a:ext cx="536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ipristino: BD inattivo e’ richiesto per l’epigenotipo pate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58640" y="3033720"/>
            <a:ext cx="459000" cy="1411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58640" y="3386160"/>
            <a:ext cx="459000" cy="14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993600" y="3386160"/>
            <a:ext cx="459000" cy="14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2c0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949400" y="3429000"/>
            <a:ext cx="459000" cy="14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478320" y="2863800"/>
            <a:ext cx="75960" cy="12002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286080" y="3076560"/>
            <a:ext cx="459000" cy="1414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286080" y="3429000"/>
            <a:ext cx="459000" cy="14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038480" y="2863800"/>
            <a:ext cx="76320" cy="12002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247920" y="2724120"/>
            <a:ext cx="534960" cy="1409760"/>
          </a:xfrm>
          <a:custGeom>
            <a:avLst/>
            <a:gdLst>
              <a:gd name="textAreaLeft" fmla="*/ 25920 w 534960"/>
              <a:gd name="textAreaRight" fmla="*/ 509040 w 534960"/>
              <a:gd name="textAreaTop" fmla="*/ 25920 h 1409760"/>
              <a:gd name="textAreaBottom" fmla="*/ 1383840 h 1409760"/>
            </a:gdLst>
            <a:ahLst/>
            <a:rect l="textAreaLeft" t="textAreaTop" r="textAreaRight" b="textAreaBottom"/>
            <a:pathLst>
              <a:path w="21600" h="56898">
                <a:moveTo>
                  <a:pt x="3600" y="0"/>
                </a:moveTo>
                <a:arcTo wR="3600" hR="3600" stAng="16200000" swAng="-5400000"/>
                <a:lnTo>
                  <a:pt x="0" y="53298"/>
                </a:lnTo>
                <a:arcTo wR="3600" hR="3600" stAng="10800000" swAng="-5400000"/>
                <a:lnTo>
                  <a:pt x="18000" y="568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821040" y="2724120"/>
            <a:ext cx="534960" cy="1409760"/>
          </a:xfrm>
          <a:custGeom>
            <a:avLst/>
            <a:gdLst>
              <a:gd name="textAreaLeft" fmla="*/ 25920 w 534960"/>
              <a:gd name="textAreaRight" fmla="*/ 509040 w 534960"/>
              <a:gd name="textAreaTop" fmla="*/ 25920 h 1409760"/>
              <a:gd name="textAreaBottom" fmla="*/ 1383840 h 1409760"/>
            </a:gdLst>
            <a:ahLst/>
            <a:rect l="textAreaLeft" t="textAreaTop" r="textAreaRight" b="textAreaBottom"/>
            <a:pathLst>
              <a:path w="21600" h="56898">
                <a:moveTo>
                  <a:pt x="3600" y="0"/>
                </a:moveTo>
                <a:arcTo wR="3600" hR="3600" stAng="16200000" swAng="-5400000"/>
                <a:lnTo>
                  <a:pt x="0" y="53298"/>
                </a:lnTo>
                <a:arcTo wR="3600" hR="3600" stAng="10800000" swAng="-5400000"/>
                <a:lnTo>
                  <a:pt x="18000" y="568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060200" y="4142160"/>
            <a:ext cx="130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boli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376280" y="4514760"/>
            <a:ext cx="687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446560" y="4170600"/>
            <a:ext cx="121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iprist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687760" y="4487760"/>
            <a:ext cx="68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60920" y="3676680"/>
            <a:ext cx="511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031760" y="4867200"/>
            <a:ext cx="76320" cy="1200240"/>
          </a:xfrm>
          <a:prstGeom prst="rect">
            <a:avLst/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96800" y="4867200"/>
            <a:ext cx="76320" cy="12002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06360" y="5432400"/>
            <a:ext cx="457200" cy="14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841320" y="5079960"/>
            <a:ext cx="457200" cy="141480"/>
          </a:xfrm>
          <a:prstGeom prst="rect">
            <a:avLst/>
          </a:pr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48320" y="6145200"/>
            <a:ext cx="52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127400" y="4162320"/>
            <a:ext cx="0" cy="49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382680" y="4656240"/>
            <a:ext cx="374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82680" y="4656240"/>
            <a:ext cx="0" cy="352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063880" y="4867200"/>
            <a:ext cx="75960" cy="1200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873080" y="5432400"/>
            <a:ext cx="457200" cy="14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478320" y="4867200"/>
            <a:ext cx="75960" cy="12002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286080" y="5432400"/>
            <a:ext cx="459000" cy="14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051440" y="4867200"/>
            <a:ext cx="75960" cy="1200240"/>
          </a:xfrm>
          <a:prstGeom prst="rect">
            <a:avLst/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859200" y="5079960"/>
            <a:ext cx="458640" cy="141480"/>
          </a:xfrm>
          <a:prstGeom prst="rect">
            <a:avLst/>
          </a:pr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235320" y="4727520"/>
            <a:ext cx="534960" cy="1409760"/>
          </a:xfrm>
          <a:custGeom>
            <a:avLst/>
            <a:gdLst>
              <a:gd name="textAreaLeft" fmla="*/ 25920 w 534960"/>
              <a:gd name="textAreaRight" fmla="*/ 509040 w 534960"/>
              <a:gd name="textAreaTop" fmla="*/ 25920 h 1409760"/>
              <a:gd name="textAreaBottom" fmla="*/ 1383840 h 1409760"/>
            </a:gdLst>
            <a:ahLst/>
            <a:rect l="textAreaLeft" t="textAreaTop" r="textAreaRight" b="textAreaBottom"/>
            <a:pathLst>
              <a:path w="21600" h="56898">
                <a:moveTo>
                  <a:pt x="3600" y="0"/>
                </a:moveTo>
                <a:arcTo wR="3600" hR="3600" stAng="16200000" swAng="-5400000"/>
                <a:lnTo>
                  <a:pt x="0" y="53298"/>
                </a:lnTo>
                <a:arcTo wR="3600" hR="3600" stAng="10800000" swAng="-5400000"/>
                <a:lnTo>
                  <a:pt x="18000" y="568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833640" y="4727520"/>
            <a:ext cx="535320" cy="1409760"/>
          </a:xfrm>
          <a:custGeom>
            <a:avLst/>
            <a:gdLst>
              <a:gd name="textAreaLeft" fmla="*/ 25920 w 535320"/>
              <a:gd name="textAreaRight" fmla="*/ 509400 w 535320"/>
              <a:gd name="textAreaTop" fmla="*/ 25920 h 1409760"/>
              <a:gd name="textAreaBottom" fmla="*/ 1383840 h 1409760"/>
            </a:gdLst>
            <a:ahLst/>
            <a:rect l="textAreaLeft" t="textAreaTop" r="textAreaRight" b="textAreaBottom"/>
            <a:pathLst>
              <a:path w="21600" h="56860">
                <a:moveTo>
                  <a:pt x="3600" y="0"/>
                </a:moveTo>
                <a:arcTo wR="3600" hR="3600" stAng="16200000" swAng="-5400000"/>
                <a:lnTo>
                  <a:pt x="0" y="53260"/>
                </a:lnTo>
                <a:arcTo wR="3600" hR="3600" stAng="10800000" swAng="-5400000"/>
                <a:lnTo>
                  <a:pt x="18000" y="568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440080" y="6286680"/>
            <a:ext cx="2158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ncato riprist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751120" y="627840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726240" y="2851560"/>
            <a:ext cx="31179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’ esone1 cancella l’imprinting sia in XX che in X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954840" y="3983760"/>
            <a:ext cx="2798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D mutato non ripristina, ma in XY e’ irrilevante perche’ l’epigenotipo e’ corret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954840" y="5313960"/>
            <a:ext cx="2706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XX saran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capaci di instaurare l’epigenotipo ma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468400" y="5304240"/>
            <a:ext cx="6058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045040" y="3668760"/>
            <a:ext cx="1528920" cy="2187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745080" y="4797360"/>
            <a:ext cx="1299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725560" y="2892600"/>
            <a:ext cx="76320" cy="1199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36800" y="3103560"/>
            <a:ext cx="458640" cy="141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522520" y="3457440"/>
            <a:ext cx="458640" cy="13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859200" y="3433680"/>
            <a:ext cx="458640" cy="14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841320" y="5432400"/>
            <a:ext cx="457200" cy="14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2c0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712960" y="4867200"/>
            <a:ext cx="76320" cy="1200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522520" y="5079960"/>
            <a:ext cx="458640" cy="1414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522520" y="5432400"/>
            <a:ext cx="458640" cy="14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446200" y="507996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446200" y="5079960"/>
            <a:ext cx="0" cy="211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871800" y="5432400"/>
            <a:ext cx="459000" cy="14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2c0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039000" y="3951360"/>
            <a:ext cx="75960" cy="11984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846760" y="4514760"/>
            <a:ext cx="458640" cy="14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388120" y="3973680"/>
            <a:ext cx="75960" cy="11998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197320" y="4186080"/>
            <a:ext cx="459000" cy="1414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197320" y="4538520"/>
            <a:ext cx="459000" cy="14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1"/>
          <a:stretch/>
        </p:blipFill>
        <p:spPr>
          <a:xfrm flipH="1">
            <a:off x="8229600" y="685800"/>
            <a:ext cx="1432080" cy="152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7287-E822-4221-B1D4-6976D0779A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2680" y="1307520"/>
            <a:ext cx="9324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’imprinting e’ una forma di regolazione genica,che si esprime attraverso meccanismi epigenetici che si attuano nel corso dello sviluppo e della vita dell’organism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22200" y="2420280"/>
            <a:ext cx="840744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e e quando i genomi parentali vengono       “marcati” per consentire ai meccanismi di regolazione di selezionare i diversi alleli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5680" y="4456440"/>
            <a:ext cx="85287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sogna ricordare che gli attori di questa azi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no 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80680" y="5443920"/>
            <a:ext cx="59821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l locus su cui l’imprinting agis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89400" y="6009120"/>
            <a:ext cx="57351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l locus che ha questa capacit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611280"/>
            <a:ext cx="8420040" cy="7286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Come e quando?</a:t>
            </a:r>
            <a:endParaRPr b="1" lang="en-US" sz="3200" spc="-1" strike="noStrike">
              <a:solidFill>
                <a:srgbClr val="fe2c02"/>
              </a:solidFill>
              <a:latin typeface="Comic Sans MS"/>
            </a:endParaRPr>
          </a:p>
        </p:txBody>
      </p:sp>
      <p:sp>
        <p:nvSpPr>
          <p:cNvPr id="54" name=""/>
          <p:cNvSpPr/>
          <p:nvPr/>
        </p:nvSpPr>
        <p:spPr>
          <a:xfrm>
            <a:off x="8713800" y="6208560"/>
            <a:ext cx="915840" cy="422280"/>
          </a:xfrm>
          <a:custGeom>
            <a:avLst/>
            <a:gdLst>
              <a:gd name="textAreaLeft" fmla="*/ 142920 w 915840"/>
              <a:gd name="textAreaRight" fmla="*/ 801360 w 915840"/>
              <a:gd name="textAreaTop" fmla="*/ 105480 h 422280"/>
              <a:gd name="textAreaBottom" fmla="*/ 316800 h 42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793800" cy="171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43C3-A718-4A61-BCDC-9CF59152F2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" descr=""/>
          <p:cNvPicPr/>
          <p:nvPr/>
        </p:nvPicPr>
        <p:blipFill>
          <a:blip r:embed="rId1"/>
          <a:stretch/>
        </p:blipFill>
        <p:spPr>
          <a:xfrm>
            <a:off x="2806560" y="609480"/>
            <a:ext cx="4292640" cy="4191120"/>
          </a:xfrm>
          <a:prstGeom prst="rect">
            <a:avLst/>
          </a:prstGeom>
          <a:ln w="0">
            <a:noFill/>
          </a:ln>
        </p:spPr>
      </p:pic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58440" y="4644720"/>
            <a:ext cx="7342200" cy="1957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l materiale didattico e’ presente in rete:</a:t>
            </a:r>
            <a:br>
              <a:rPr sz="2000"/>
            </a:br>
            <a:r>
              <a:rPr b="1" lang="en-US" sz="20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ttp://www.biologia.uniba.it/DIGEMI/Didattica.html</a:t>
            </a:r>
            <a:br>
              <a:rPr sz="20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sono dispense, ma un ausilio allo studio su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ibro</a:t>
            </a:r>
            <a:endParaRPr b="1" lang="en-US" sz="2400" spc="-1" strike="noStrike">
              <a:solidFill>
                <a:srgbClr val="fe2c02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7DED-ACDA-4294-81A3-12E1F15F0A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33720" y="1705320"/>
            <a:ext cx="80258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n e’ un cambiamento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permanen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l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3600" y="2481480"/>
            <a:ext cx="91490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 essere abolito prima di trasmettere il gen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6880" y="3345120"/>
            <a:ext cx="867672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 essere ripristinato coerentemente al ses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ll’individuo che trasme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6480" y="4629960"/>
            <a:ext cx="892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 questa nuova “etichettatura” agiscono 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ccanismi di regolazione genica secondo i patter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sti per cellule, tessuti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611280"/>
            <a:ext cx="8420040" cy="1141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Come e quando?</a:t>
            </a:r>
            <a:endParaRPr b="1" lang="en-US" sz="3200" spc="-1" strike="noStrike">
              <a:solidFill>
                <a:srgbClr val="fe2c02"/>
              </a:solidFill>
              <a:latin typeface="Comic Sans MS"/>
            </a:endParaRPr>
          </a:p>
        </p:txBody>
      </p:sp>
      <p:sp>
        <p:nvSpPr>
          <p:cNvPr id="61" name=""/>
          <p:cNvSpPr/>
          <p:nvPr/>
        </p:nvSpPr>
        <p:spPr>
          <a:xfrm>
            <a:off x="8713800" y="6208560"/>
            <a:ext cx="915840" cy="422280"/>
          </a:xfrm>
          <a:custGeom>
            <a:avLst/>
            <a:gdLst>
              <a:gd name="textAreaLeft" fmla="*/ 142920 w 915840"/>
              <a:gd name="textAreaRight" fmla="*/ 801360 w 915840"/>
              <a:gd name="textAreaTop" fmla="*/ 105480 h 422280"/>
              <a:gd name="textAreaBottom" fmla="*/ 316800 h 42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 flipH="1">
            <a:off x="8762760" y="685800"/>
            <a:ext cx="793800" cy="170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8F3A-3222-4B69-B8C4-C94126D461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70400" y="3697560"/>
            <a:ext cx="754092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WS:  ritardo mentale, ipotonia, obesita’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pogenitalismo maschile. 1:1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2680" y="2460960"/>
            <a:ext cx="917100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dromi neurologiche distinte. Mappano in 15q11-13 e sono sottoposte ad imprinting differenzi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7240" y="4912560"/>
            <a:ext cx="8866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: ritardo mentale, alterazioni del linguaggio, ritardo di crescita, iperattivita’, ilarita’ inappropriata. 1:1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09320" y="837720"/>
            <a:ext cx="5294520" cy="870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Prader-Willi/Angelman</a:t>
            </a:r>
            <a:endParaRPr b="1" lang="en-US" sz="3200" spc="-1" strike="noStrike">
              <a:solidFill>
                <a:srgbClr val="fe2c02"/>
              </a:solidFill>
              <a:latin typeface="Comic Sans MS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 flipH="1">
            <a:off x="7467480" y="990720"/>
            <a:ext cx="2414880" cy="1236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-112680" y="1675440"/>
            <a:ext cx="920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n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ei modelli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non ci interessa la malattia in quanto t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0DDB-8622-472D-97F4-486AAFB7E1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18280" y="1176840"/>
            <a:ext cx="72136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ste sindromi hanno eziologia variab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744920"/>
            <a:ext cx="8866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LEZIONI (anche citogeneticamente evidenti): circa il 75% in entrambe.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810160"/>
            <a:ext cx="92487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OMIA UNIPARENTALE: circa il 20% PW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no del 3% in  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0640" y="3802320"/>
            <a:ext cx="87616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TAZIONI PUNTIFORMI: non riscontate in P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rca il 15% in AS (UBE3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4902840"/>
            <a:ext cx="9401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RORI DI  IMPRINTING: circa  2% in PWS, 15% AS. Entrambi i cromosomi hanno lo stesso pattern d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tilazione pur derivando da entrambi i genitor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8560" y="635040"/>
            <a:ext cx="5065560" cy="7286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Eziologia PWS/AS</a:t>
            </a:r>
            <a:endParaRPr b="1" lang="en-US" sz="3200" spc="-1" strike="noStrike">
              <a:solidFill>
                <a:srgbClr val="fe2c02"/>
              </a:solidFill>
              <a:latin typeface="Comic Sans MS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 flipH="1">
            <a:off x="8229600" y="685800"/>
            <a:ext cx="1432080" cy="152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836C-5FAB-4166-A9B6-2859DD3043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60200" y="1569960"/>
            <a:ext cx="9593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EZIONI (anche citogeneticamente evidenti): circa il 75% in entramb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1994040"/>
            <a:ext cx="9371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OMIA UNIPARENTALE: circa il 20% PWS, meno del 3% in  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2560" y="2778480"/>
            <a:ext cx="92127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WS : delezioni sul cromosoma paterno e disom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e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7440" y="3980160"/>
            <a:ext cx="88228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 : delezioni sul cromosoma materno e disom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te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3960" y="5374080"/>
            <a:ext cx="94478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delezione piu’ frequente in entrambi coinvolge 4M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685800"/>
            <a:ext cx="5124600" cy="658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Eziologia citogenetica</a:t>
            </a:r>
            <a:endParaRPr b="1" lang="en-US" sz="3200" spc="-1" strike="noStrike">
              <a:solidFill>
                <a:srgbClr val="fe2c02"/>
              </a:solidFill>
              <a:latin typeface="Comic Sans MS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 flipH="1">
            <a:off x="8474040" y="533520"/>
            <a:ext cx="1432080" cy="152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EA53-07A9-47E4-9036-A2FD75BFB8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2440" y="1967400"/>
            <a:ext cx="92768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delezione piu’ frequente in entrambe coinvolge 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sse 4M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16160" y="3597120"/>
            <a:ext cx="5197320" cy="35424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7560" y="3597120"/>
            <a:ext cx="304920" cy="354240"/>
          </a:xfrm>
          <a:prstGeom prst="can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81200" y="3597120"/>
            <a:ext cx="306360" cy="354240"/>
          </a:xfrm>
          <a:prstGeom prst="can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6280" y="3597120"/>
            <a:ext cx="304920" cy="354240"/>
          </a:xfrm>
          <a:prstGeom prst="can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43880" y="3597120"/>
            <a:ext cx="304560" cy="354240"/>
          </a:xfrm>
          <a:prstGeom prst="can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37520" y="3597120"/>
            <a:ext cx="306360" cy="354240"/>
          </a:xfrm>
          <a:prstGeom prst="can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3668760"/>
            <a:ext cx="1147680" cy="2109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948440" y="3668760"/>
            <a:ext cx="1146240" cy="2109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8920" y="2892600"/>
            <a:ext cx="382320" cy="1058760"/>
          </a:xfrm>
          <a:prstGeom prst="lightningBol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413480" y="2892600"/>
            <a:ext cx="382680" cy="1058760"/>
          </a:xfrm>
          <a:prstGeom prst="lightningBol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6360" y="3872160"/>
            <a:ext cx="839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5c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102520" y="3888000"/>
            <a:ext cx="839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5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76280" y="3883320"/>
            <a:ext cx="1451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R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08920" y="3888000"/>
            <a:ext cx="10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R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4967640"/>
            <a:ext cx="9172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rissime famiglie presentano ricorrenza di AS senza delezione visib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2680" y="611280"/>
            <a:ext cx="8420040" cy="1141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Delezione: dove?</a:t>
            </a:r>
            <a:endParaRPr b="1" lang="en-US" sz="3200" spc="-1" strike="noStrike">
              <a:solidFill>
                <a:srgbClr val="fe2c02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 flipH="1">
            <a:off x="8229600" y="685800"/>
            <a:ext cx="1432080" cy="152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2EE6-6A33-40C3-824F-C9775769C9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27160" y="966960"/>
            <a:ext cx="954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7160" y="6678720"/>
            <a:ext cx="954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3120" y="1722960"/>
            <a:ext cx="914580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rissime famiglie presentano ricorrenza di AS se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lezione visib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4960" y="3007440"/>
            <a:ext cx="8685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a di queste ha permesso di chiarire che i due locus PWS/AS sono diversi e di definire la regione minima di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972880" y="4514760"/>
            <a:ext cx="3816720" cy="1987920"/>
            <a:chOff x="2972880" y="4514760"/>
            <a:chExt cx="3816720" cy="1987920"/>
          </a:xfrm>
        </p:grpSpPr>
        <p:sp>
          <p:nvSpPr>
            <p:cNvPr id="106" name=""/>
            <p:cNvSpPr/>
            <p:nvPr/>
          </p:nvSpPr>
          <p:spPr>
            <a:xfrm>
              <a:off x="5360760" y="5784840"/>
              <a:ext cx="0" cy="282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290480" y="5784840"/>
              <a:ext cx="0" cy="282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20200" y="5784840"/>
              <a:ext cx="0" cy="282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2700000">
              <a:off x="4101120" y="6051960"/>
              <a:ext cx="352440" cy="381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2700000">
              <a:off x="5171040" y="6051960"/>
              <a:ext cx="352440" cy="381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2700000">
              <a:off x="3056040" y="6051960"/>
              <a:ext cx="352440" cy="381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99320" y="5149800"/>
              <a:ext cx="381960" cy="352800"/>
            </a:xfrm>
            <a:prstGeom prst="ellipse">
              <a:avLst/>
            </a:prstGeom>
            <a:solidFill>
              <a:srgbClr val="efff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99320" y="4514760"/>
              <a:ext cx="381960" cy="352800"/>
            </a:xfrm>
            <a:prstGeom prst="rect">
              <a:avLst/>
            </a:prstGeom>
            <a:solidFill>
              <a:srgbClr val="efff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90480" y="4867560"/>
              <a:ext cx="0" cy="281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03080" y="5502600"/>
              <a:ext cx="0" cy="281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20200" y="5784840"/>
              <a:ext cx="2140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74240" y="4523760"/>
              <a:ext cx="9381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ele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19800" y="5158800"/>
              <a:ext cx="9381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ele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940000" y="6005520"/>
              <a:ext cx="849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elet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2994840" y="6003720"/>
              <a:ext cx="2583360" cy="406800"/>
              <a:chOff x="2994840" y="6003720"/>
              <a:chExt cx="2583360" cy="406800"/>
            </a:xfrm>
          </p:grpSpPr>
          <p:sp>
            <p:nvSpPr>
              <p:cNvPr id="121" name=""/>
              <p:cNvSpPr/>
              <p:nvPr/>
            </p:nvSpPr>
            <p:spPr>
              <a:xfrm>
                <a:off x="2994840" y="6013800"/>
                <a:ext cx="48672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020480" y="6003720"/>
                <a:ext cx="48672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091480" y="6003720"/>
                <a:ext cx="48672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42680" y="611280"/>
            <a:ext cx="8420040" cy="1141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Angelman non deleti </a:t>
            </a:r>
            <a:endParaRPr b="1" lang="en-US" sz="3200" spc="-1" strike="noStrike">
              <a:solidFill>
                <a:srgbClr val="fe2c02"/>
              </a:solidFill>
              <a:latin typeface="Comic Sans MS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 flipH="1">
            <a:off x="8229240" y="685800"/>
            <a:ext cx="1289160" cy="13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F43D-F1D7-4823-8681-F51A02B046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8600" y="1155240"/>
            <a:ext cx="9401040" cy="8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Nel 1992 viene riportata un’altra famiglia AS in cui viene documentata l’assenza di delezioni anche nella regione minima e che porta ad escludere la presenza di mutazioni puntiformi recessive nell’eziologia di 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2680" y="565200"/>
            <a:ext cx="8420040" cy="622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Angelman familiare</a:t>
            </a:r>
            <a:endParaRPr b="1" lang="en-US" sz="2800" spc="-1" strike="noStrike">
              <a:solidFill>
                <a:srgbClr val="fe2c02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1757520" y="2165400"/>
            <a:ext cx="230040" cy="210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6280" y="2165400"/>
            <a:ext cx="228600" cy="210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22520" y="2751120"/>
            <a:ext cx="228600" cy="212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49560" y="2751120"/>
            <a:ext cx="230040" cy="212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57560" y="2751120"/>
            <a:ext cx="228600" cy="212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68760" y="2751120"/>
            <a:ext cx="228600" cy="212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24360" y="2751120"/>
            <a:ext cx="228600" cy="212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14960" y="2751120"/>
            <a:ext cx="228600" cy="212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796160" y="2751120"/>
            <a:ext cx="228600" cy="212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46880" y="2751120"/>
            <a:ext cx="230400" cy="212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993160" y="2751120"/>
            <a:ext cx="230040" cy="212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60840" y="3174840"/>
            <a:ext cx="230040" cy="2113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76560" y="3174840"/>
            <a:ext cx="228600" cy="211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56000" y="3174840"/>
            <a:ext cx="230400" cy="21132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62360" y="3174840"/>
            <a:ext cx="228600" cy="211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42040" y="3174840"/>
            <a:ext cx="230040" cy="2113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56320" y="3174840"/>
            <a:ext cx="228600" cy="211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70600" y="3174840"/>
            <a:ext cx="230400" cy="2113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559720" y="3174840"/>
            <a:ext cx="230400" cy="211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178840" y="3174840"/>
            <a:ext cx="228600" cy="21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4640" y="3324600"/>
            <a:ext cx="100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15S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9880" y="3692520"/>
            <a:ext cx="307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8480" y="3693960"/>
            <a:ext cx="307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67480" y="3690720"/>
            <a:ext cx="307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73840" y="3693960"/>
            <a:ext cx="307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78400" y="3693960"/>
            <a:ext cx="307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94480" y="3693960"/>
            <a:ext cx="307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86680" y="3693960"/>
            <a:ext cx="307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9000" y="3695400"/>
            <a:ext cx="307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27200" y="3693960"/>
            <a:ext cx="303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90000" y="3693960"/>
            <a:ext cx="307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70400" y="3693960"/>
            <a:ext cx="303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8600" y="3690720"/>
            <a:ext cx="307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42600" y="3689280"/>
            <a:ext cx="307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72800" y="3693960"/>
            <a:ext cx="307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79160" y="3693960"/>
            <a:ext cx="307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257960" y="3693960"/>
            <a:ext cx="303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14080" y="3693960"/>
            <a:ext cx="307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96760" y="3693960"/>
            <a:ext cx="307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477640" y="3693960"/>
            <a:ext cx="307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946000" y="3693960"/>
            <a:ext cx="307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4880" y="225756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81200" y="2257560"/>
            <a:ext cx="0" cy="28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81200" y="2540160"/>
            <a:ext cx="7413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624040" y="2540160"/>
            <a:ext cx="0" cy="210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65560" y="2540160"/>
            <a:ext cx="0" cy="210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21200" y="2540160"/>
            <a:ext cx="0" cy="210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897680" y="2540160"/>
            <a:ext cx="0" cy="210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094680" y="2540160"/>
            <a:ext cx="0" cy="210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70240" y="283356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97360" y="2833560"/>
            <a:ext cx="154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61240" y="2822400"/>
            <a:ext cx="15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49960" y="2822400"/>
            <a:ext cx="344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38880" y="2822400"/>
            <a:ext cx="0" cy="352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5273280" y="2751120"/>
            <a:ext cx="152280" cy="14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567560" y="28224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46200" y="2822400"/>
            <a:ext cx="0" cy="211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46200" y="3033720"/>
            <a:ext cx="76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75120" y="2822400"/>
            <a:ext cx="0" cy="211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75120" y="3033720"/>
            <a:ext cx="839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13440" y="2822400"/>
            <a:ext cx="0" cy="211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3440" y="3033720"/>
            <a:ext cx="94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94640" y="2822400"/>
            <a:ext cx="0" cy="211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94640" y="3033720"/>
            <a:ext cx="94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79640" y="3033720"/>
            <a:ext cx="0" cy="14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9760" y="3033720"/>
            <a:ext cx="0" cy="14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71920" y="3033720"/>
            <a:ext cx="0" cy="14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76840" y="3033720"/>
            <a:ext cx="0" cy="14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49920" y="3033720"/>
            <a:ext cx="0" cy="14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54840" y="3033720"/>
            <a:ext cx="0" cy="14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280360" y="3033720"/>
            <a:ext cx="0" cy="14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637480" y="3033720"/>
            <a:ext cx="0" cy="14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0000" y="4530960"/>
            <a:ext cx="1828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ABRB3(CA)-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95360" y="4898880"/>
            <a:ext cx="303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23960" y="4900320"/>
            <a:ext cx="303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89440" y="4897440"/>
            <a:ext cx="307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88960" y="4900320"/>
            <a:ext cx="303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00720" y="4900320"/>
            <a:ext cx="307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11040" y="4900320"/>
            <a:ext cx="298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01800" y="4900320"/>
            <a:ext cx="303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84480" y="4902120"/>
            <a:ext cx="303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49520" y="4900320"/>
            <a:ext cx="303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605120" y="4900320"/>
            <a:ext cx="303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94520" y="4900320"/>
            <a:ext cx="316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33720" y="4897440"/>
            <a:ext cx="303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57720" y="4895640"/>
            <a:ext cx="303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87920" y="4900320"/>
            <a:ext cx="303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94280" y="4900320"/>
            <a:ext cx="303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79920" y="4900320"/>
            <a:ext cx="303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729200" y="4900320"/>
            <a:ext cx="303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111880" y="4900320"/>
            <a:ext cx="303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492760" y="4900320"/>
            <a:ext cx="303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961120" y="4900320"/>
            <a:ext cx="303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8640" y="5801040"/>
            <a:ext cx="1832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ABRA5(CA)-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97160" y="6168960"/>
            <a:ext cx="316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25760" y="6170400"/>
            <a:ext cx="298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089440" y="6167160"/>
            <a:ext cx="307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90760" y="6170400"/>
            <a:ext cx="316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95680" y="6170400"/>
            <a:ext cx="316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16800" y="6170400"/>
            <a:ext cx="307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03600" y="6170400"/>
            <a:ext cx="316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86280" y="6172200"/>
            <a:ext cx="316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51320" y="6170400"/>
            <a:ext cx="316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06920" y="6170400"/>
            <a:ext cx="316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94520" y="6170400"/>
            <a:ext cx="316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35520" y="6167160"/>
            <a:ext cx="316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57720" y="6165720"/>
            <a:ext cx="303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87920" y="6170400"/>
            <a:ext cx="303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796080" y="6170400"/>
            <a:ext cx="316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82080" y="6170400"/>
            <a:ext cx="316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728480" y="6170400"/>
            <a:ext cx="3132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113320" y="6170400"/>
            <a:ext cx="298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494920" y="6170400"/>
            <a:ext cx="316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962920" y="6170400"/>
            <a:ext cx="316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E01C-0010-4FB5-AC23-DF8B85121A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2:00:26Z</dcterms:created>
  <dc:creator>CMG</dc:creator>
  <dc:description/>
  <dc:language>en-US</dc:language>
  <cp:lastModifiedBy>Mariano Rocchi</cp:lastModifiedBy>
  <cp:lastPrinted>2006-05-04T06:37:31Z</cp:lastPrinted>
  <dcterms:modified xsi:type="dcterms:W3CDTF">2008-06-03T10:04:17Z</dcterms:modified>
  <cp:revision>795</cp:revision>
  <dc:subject/>
  <dc:title>Geen diatitel</dc:title>
</cp:coreProperties>
</file>