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7.png" ContentType="image/png"/>
  <Override PartName="/ppt/media/image18.pct" ContentType="image/x-pict"/>
  <Override PartName="/ppt/media/image17.jpeg" ContentType="image/jpeg"/>
  <Override PartName="/ppt/media/image14.png" ContentType="image/png"/>
  <Override PartName="/ppt/media/image16.jpeg" ContentType="image/jpeg"/>
  <Override PartName="/ppt/media/image1.pct" ContentType="image/x-pict"/>
  <Override PartName="/ppt/media/image13.jpeg" ContentType="image/jpeg"/>
  <Override PartName="/ppt/media/image12.jpeg" ContentType="image/jpeg"/>
  <Override PartName="/ppt/media/image2.png" ContentType="image/png"/>
  <Override PartName="/ppt/media/image4.jpeg" ContentType="image/jpeg"/>
  <Override PartName="/ppt/media/image5.pct" ContentType="image/x-pict"/>
  <Override PartName="/ppt/media/image3.pct" ContentType="image/x-pict"/>
  <Override PartName="/ppt/media/image9.jpeg" ContentType="image/jpeg"/>
  <Override PartName="/ppt/media/image11.jpeg" ContentType="image/jpeg"/>
  <Override PartName="/ppt/media/image6.pct" ContentType="image/x-pict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Click to move the slide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59B8-0B10-4266-BC70-DBC8198066F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8B3F-BEF5-4197-8C87-689F258B5C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00F2-3FA5-4F44-9F6F-1FC0F3144B7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0653-5765-4582-93BD-CE12AE5356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6A7C-63DF-4871-9E5B-83751835171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7C85-3290-47A6-B38D-8839B48CBEB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CC0C-DFC0-4A22-AED7-9E96B3156F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088F-05B7-42B2-A855-D24FF31DC24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A9D0-9691-44C0-981D-4787B3C7657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3FF2-1330-44CC-8848-7B3419F701E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747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3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307440" y="6400800"/>
            <a:ext cx="59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CA7C-8B59-461D-BCB9-842D78E3580E}" type="slidenum">
              <a:rPr b="1" lang="it-IT" sz="16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6920" y="493560"/>
            <a:ext cx="89139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1486080" y="127080"/>
            <a:ext cx="778824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GeneticaII 2007-2008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hyperlink" Target="http://www.biologia.uniba.it/DIGEMI/Didattica.html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5.pct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94120" y="586584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zione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36880" y="1447920"/>
            <a:ext cx="5954760" cy="4249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306"/>
                </a:solidFill>
                <a:latin typeface="Comic Sans MS"/>
              </a:rPr>
              <a:t>Genetica del cancro</a:t>
            </a:r>
            <a:endParaRPr b="1" lang="en-US" sz="3600" spc="-1" strike="noStrike">
              <a:solidFill>
                <a:srgbClr val="ff030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67160" y="609480"/>
            <a:ext cx="4209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Il tumore come network</a:t>
            </a:r>
            <a:endParaRPr b="1" lang="en-US" sz="24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441440" y="26290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164448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rcinoma del co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0800" y="6019920"/>
            <a:ext cx="91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empio di progressione a tappe da tumore benigno a tumore malig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11560" y="42670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33400" y="4495680"/>
            <a:ext cx="1320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perplasia Le cellule conservano morfolo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22760" y="4572000"/>
            <a:ext cx="1486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ncro in situ Le cellule perdono il contatto con il tessu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55600" y="2666880"/>
            <a:ext cx="7156440" cy="1947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0120" y="2133720"/>
            <a:ext cx="222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 cellule mutate iniziano a duplicarsi in modo incontroll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38400" y="3048120"/>
            <a:ext cx="2476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311560" y="3885840"/>
            <a:ext cx="164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19480" y="2438280"/>
            <a:ext cx="1733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splasia. Le cellule perdono morfolo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97280" y="3200400"/>
            <a:ext cx="2476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695920" y="38095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07480" y="1905120"/>
            <a:ext cx="1650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ncro invasivo Le cellule divengo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vasive e metastatizz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38960" y="3962520"/>
            <a:ext cx="3219480" cy="307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cesso di vascolarizz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 flipH="1">
            <a:off x="7289640" y="457200"/>
            <a:ext cx="241488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759280" y="1949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063520" y="685800"/>
            <a:ext cx="5365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119"/>
                </a:solidFill>
                <a:latin typeface="Comic Sans MS"/>
              </a:rPr>
              <a:t>Cellule normali e cancerose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272160" y="137160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119"/>
                </a:solidFill>
                <a:latin typeface="Comic Sans MS"/>
              </a:rPr>
              <a:t>CELLULE NOR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59320" y="1379520"/>
            <a:ext cx="33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119"/>
                </a:solidFill>
                <a:latin typeface="Comic Sans MS"/>
              </a:rPr>
              <a:t>CELLULE CANCER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86440" y="1879560"/>
            <a:ext cx="4273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DITA INIBI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 CONTA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6320" y="1924200"/>
            <a:ext cx="221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IBI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 CONTA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1440" y="3036960"/>
            <a:ext cx="451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CAPACI DI CRESCERE IN SOSPEN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ECCEZIONE I LINFOCI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84080" y="3209760"/>
            <a:ext cx="42861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ESCONO IN SOSPEN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8280" y="4699080"/>
            <a:ext cx="45957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DIPENDENTI DA FATTORI DI CRESC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7840" y="4686480"/>
            <a:ext cx="4375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PENDENTI DAI FATTORI DI CRESC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760" y="5786280"/>
            <a:ext cx="18507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RT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21160" y="5775480"/>
            <a:ext cx="2189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MMORT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 flipH="1">
            <a:off x="7276680" y="673200"/>
            <a:ext cx="24145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7160" y="6858000"/>
            <a:ext cx="95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59280" y="2128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9960" y="533520"/>
            <a:ext cx="528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Cromosomi e tumor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444600" y="1233360"/>
            <a:ext cx="908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e anomalie cromosomiche fanno parte della descrizione classica del fenotipo citologico delle cellule tumo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2973240"/>
            <a:ext cx="89978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izialmente…….troppo varie per localizzazione e per natura (aneuploidie, inversioni, traslocazioni, inversioni) per poter essere class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.con il miglioramento delle tecniche citogenetiche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7560" y="5438880"/>
            <a:ext cx="8079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NIDIVIDUAZIONE DI RIARRANGIAMENTI NON CASU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 flipH="1">
            <a:off x="8241840" y="571680"/>
            <a:ext cx="140652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759280" y="1949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6920" y="2006640"/>
            <a:ext cx="943776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Lo studio dei riarrangiamenti non casuali è stato riportato essenzialmente nel campo delle emopatie maligne, poiché le cellule ematiche si prestano molto meglio delle cellule dei tumori solidi all’esplorazione citogene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41360" y="1079640"/>
            <a:ext cx="412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Cromosomi e tumor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825480" y="533520"/>
            <a:ext cx="88329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 flipH="1">
            <a:off x="6933960" y="685800"/>
            <a:ext cx="24145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759280" y="1949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225960"/>
            <a:ext cx="528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a CML è stata la prima malattia neoplastica dell’uomo in cui una specifica anomalia del cariotipo, il cromosoma Philadelphia (Ph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è stata associata alla generazione della leucem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346720" y="1371600"/>
            <a:ext cx="4394160" cy="5029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flipV="1">
            <a:off x="8896320" y="3048120"/>
            <a:ext cx="743040" cy="457200"/>
          </a:xfrm>
          <a:prstGeom prst="line">
            <a:avLst/>
          </a:prstGeom>
          <a:ln w="38160">
            <a:solidFill>
              <a:srgbClr val="ffff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796920" y="558360"/>
            <a:ext cx="610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CML, Leucemia Mieloide Cronica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006640" y="595440"/>
            <a:ext cx="144468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759280" y="1949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0120" y="1962000"/>
            <a:ext cx="42595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mic Sans MS"/>
              </a:rPr>
              <a:t>cromosoma non norm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hr Philadelphia (196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0120" y="1143000"/>
            <a:ext cx="496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mic Sans MS"/>
              </a:rPr>
              <a:t>Nel 95% dei casi di CM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46320" y="1552680"/>
            <a:ext cx="247680" cy="482400"/>
          </a:xfrm>
          <a:prstGeom prst="downArrow">
            <a:avLst>
              <a:gd name="adj1" fmla="val 50000"/>
              <a:gd name="adj2" fmla="val 48692"/>
            </a:avLst>
          </a:prstGeom>
          <a:gradFill rotWithShape="0">
            <a:gsLst>
              <a:gs pos="0">
                <a:srgbClr val="ff1119"/>
              </a:gs>
              <a:gs pos="50000">
                <a:srgbClr val="ffff02"/>
              </a:gs>
              <a:gs pos="100000">
                <a:srgbClr val="ff111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8280" y="301140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dagini FISH E MOLECOL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5240" y="4965840"/>
            <a:ext cx="974088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I FORMANO DUE GENI DI FUSIO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BL-BCR su DER9 (nessuna proteina prodott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BCR-ABL su P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(proteina di fusione coinvolta nella proliferazone cellul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035680" y="762120"/>
            <a:ext cx="4869720" cy="4059000"/>
            <a:chOff x="5035680" y="762120"/>
            <a:chExt cx="4869720" cy="4059000"/>
          </a:xfrm>
        </p:grpSpPr>
        <p:grpSp>
          <p:nvGrpSpPr>
            <p:cNvPr id="222" name=""/>
            <p:cNvGrpSpPr/>
            <p:nvPr/>
          </p:nvGrpSpPr>
          <p:grpSpPr>
            <a:xfrm>
              <a:off x="5035680" y="762120"/>
              <a:ext cx="4869720" cy="4059000"/>
              <a:chOff x="5035680" y="762120"/>
              <a:chExt cx="4869720" cy="4059000"/>
            </a:xfrm>
          </p:grpSpPr>
          <p:pic>
            <p:nvPicPr>
              <p:cNvPr id="2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35680" y="762120"/>
                <a:ext cx="4869720" cy="40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7016760" y="2382480"/>
                <a:ext cx="412560" cy="304560"/>
              </a:xfrm>
              <a:prstGeom prst="rightArrow">
                <a:avLst>
                  <a:gd name="adj1" fmla="val 50000"/>
                  <a:gd name="adj2" fmla="val 33865"/>
                </a:avLst>
              </a:prstGeom>
              <a:gradFill rotWithShape="0">
                <a:gsLst>
                  <a:gs pos="0">
                    <a:srgbClr val="ff1119"/>
                  </a:gs>
                  <a:gs pos="100000">
                    <a:srgbClr val="75070b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350680" y="952200"/>
                <a:ext cx="525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B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103080" y="1434960"/>
                <a:ext cx="53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C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527960" y="95544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BL/BC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75480" y="141264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CR/AB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063520" y="609120"/>
            <a:ext cx="742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CML, Leucemia Mieloide Cronica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165240" y="3657600"/>
            <a:ext cx="504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Traslocazione reciproca braccio lungo chr.9 e il braccio lungo chr.22: t(9;22)(q34;q1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60240" y="1676520"/>
            <a:ext cx="8815680" cy="43956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63880" y="762120"/>
            <a:ext cx="6851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CML, Leucemia Mieloide Cronica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 flipH="1">
            <a:off x="8242200" y="571680"/>
            <a:ext cx="117792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30120" y="12193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pproccio citogenetic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e citogenetico molecolare (FISH): cromosoma Philadelphia nella leucemia mieloide cro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65240" y="2757600"/>
            <a:ext cx="6191280" cy="3871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521400" y="2890800"/>
            <a:ext cx="3322800" cy="3011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11200" y="456840"/>
            <a:ext cx="4870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Diagnosi del tumore 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 flipH="1">
            <a:off x="8013240" y="1003320"/>
            <a:ext cx="140652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457880" y="9144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pproccio moleco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5240" y="1447920"/>
            <a:ext cx="57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T-PCR (geni di fusione o traslocazioni con punto di rottura noto): t(14;18)gene: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870440" y="3087720"/>
            <a:ext cx="5035680" cy="28652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33400" y="380520"/>
            <a:ext cx="462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Diagnosi del tumore I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247680" y="2743200"/>
            <a:ext cx="1733400" cy="30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t.pesante 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92480" y="2743200"/>
            <a:ext cx="1512720" cy="30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ene b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3040" y="3124080"/>
            <a:ext cx="743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49600" y="3124080"/>
            <a:ext cx="7430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6720" y="244476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rom.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27920" y="246384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rom.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3560" y="304812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80920" y="303516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2295360" y="3305160"/>
            <a:ext cx="609840" cy="247680"/>
          </a:xfrm>
          <a:custGeom>
            <a:avLst/>
            <a:gdLst>
              <a:gd name="textAreaLeft" fmla="*/ 95040 w 609840"/>
              <a:gd name="textAreaRight" fmla="*/ 533880 w 609840"/>
              <a:gd name="textAreaTop" fmla="*/ 61920 h 247680"/>
              <a:gd name="textAreaBottom" fmla="*/ 185760 h 247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52040" y="3657600"/>
            <a:ext cx="18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essun prodot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07920" y="4460760"/>
            <a:ext cx="1733760" cy="30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t.pesante 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20840" y="4842000"/>
            <a:ext cx="743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04800" y="412128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raslocazione 14;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61360" y="476568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58880" y="4460760"/>
            <a:ext cx="1513080" cy="30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ene b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4842000"/>
            <a:ext cx="7430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60360" y="475308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5400000">
            <a:off x="2228760" y="5209920"/>
            <a:ext cx="609480" cy="247680"/>
          </a:xfrm>
          <a:custGeom>
            <a:avLst/>
            <a:gdLst>
              <a:gd name="textAreaLeft" fmla="*/ 95040 w 609480"/>
              <a:gd name="textAreaRight" fmla="*/ 533520 w 609480"/>
              <a:gd name="textAreaTop" fmla="*/ 61920 h 247680"/>
              <a:gd name="textAreaBottom" fmla="*/ 185760 h 247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73120" y="5562720"/>
            <a:ext cx="20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dotto di RT-P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el gene ibr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4880" y="6324480"/>
            <a:ext cx="905040" cy="30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30360" y="6324480"/>
            <a:ext cx="789120" cy="30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 flipH="1">
            <a:off x="8241840" y="571680"/>
            <a:ext cx="140652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759280" y="1949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42360" y="1047600"/>
            <a:ext cx="44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1119"/>
                </a:solidFill>
                <a:latin typeface="Comic Sans MS"/>
              </a:rPr>
              <a:t>TRASLOCAZIONE t(14;18)(q32;q2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476440" y="1523880"/>
            <a:ext cx="5035680" cy="50943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20440" y="533520"/>
            <a:ext cx="5365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Linfomi Non Hodgkin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 flipH="1">
            <a:off x="8241840" y="571680"/>
            <a:ext cx="140652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95360" y="1765440"/>
            <a:ext cx="858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geni alterati nel cancro sono definiti </a:t>
            </a:r>
            <a:r>
              <a:rPr b="1" lang="en-US" sz="2400" spc="-1" strike="noStrike">
                <a:solidFill>
                  <a:srgbClr val="ff0f23"/>
                </a:solidFill>
                <a:latin typeface="Comic Sans MS"/>
              </a:rPr>
              <a:t>oncogen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questo nome deriva dalla scoperta di geni virali responsabili della trasformazione  in tumore delle cellule infett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641680" y="3549600"/>
            <a:ext cx="1939320" cy="1371600"/>
            <a:chOff x="2641680" y="3549600"/>
            <a:chExt cx="1939320" cy="1371600"/>
          </a:xfrm>
        </p:grpSpPr>
        <p:sp>
          <p:nvSpPr>
            <p:cNvPr id="56" name=""/>
            <p:cNvSpPr/>
            <p:nvPr/>
          </p:nvSpPr>
          <p:spPr>
            <a:xfrm>
              <a:off x="3879360" y="3549600"/>
              <a:ext cx="330120" cy="914400"/>
            </a:xfrm>
            <a:prstGeom prst="downArrow">
              <a:avLst>
                <a:gd name="adj1" fmla="val 50000"/>
                <a:gd name="adj2" fmla="val 69248"/>
              </a:avLst>
            </a:prstGeom>
            <a:solidFill>
              <a:srgbClr val="ff0f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41680" y="4387680"/>
              <a:ext cx="1939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roto-oncoge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65240" y="3549600"/>
            <a:ext cx="2310840" cy="1313280"/>
            <a:chOff x="165240" y="3549600"/>
            <a:chExt cx="2310840" cy="1313280"/>
          </a:xfrm>
        </p:grpSpPr>
        <p:sp>
          <p:nvSpPr>
            <p:cNvPr id="59" name=""/>
            <p:cNvSpPr/>
            <p:nvPr/>
          </p:nvSpPr>
          <p:spPr>
            <a:xfrm>
              <a:off x="907920" y="3549600"/>
              <a:ext cx="330120" cy="838080"/>
            </a:xfrm>
            <a:prstGeom prst="downArrow">
              <a:avLst>
                <a:gd name="adj1" fmla="val 50000"/>
                <a:gd name="adj2" fmla="val 63468"/>
              </a:avLst>
            </a:prstGeom>
            <a:solidFill>
              <a:srgbClr val="ff0f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240" y="4464000"/>
              <a:ext cx="231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oncosoppresso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I geni nei tumor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788000" y="3549600"/>
            <a:ext cx="2269800" cy="1555560"/>
            <a:chOff x="4788000" y="3549600"/>
            <a:chExt cx="2269800" cy="1555560"/>
          </a:xfrm>
        </p:grpSpPr>
        <p:sp>
          <p:nvSpPr>
            <p:cNvPr id="63" name=""/>
            <p:cNvSpPr/>
            <p:nvPr/>
          </p:nvSpPr>
          <p:spPr>
            <a:xfrm>
              <a:off x="6026040" y="3549600"/>
              <a:ext cx="329760" cy="914400"/>
            </a:xfrm>
            <a:prstGeom prst="downArrow">
              <a:avLst>
                <a:gd name="adj1" fmla="val 50000"/>
                <a:gd name="adj2" fmla="val 69323"/>
              </a:avLst>
            </a:prstGeom>
            <a:solidFill>
              <a:srgbClr val="ff0f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88000" y="4419360"/>
              <a:ext cx="2269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areta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addetti alla manutenzion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346880" y="3549600"/>
            <a:ext cx="2269800" cy="1555560"/>
            <a:chOff x="7346880" y="3549600"/>
            <a:chExt cx="2269800" cy="1555560"/>
          </a:xfrm>
        </p:grpSpPr>
        <p:sp>
          <p:nvSpPr>
            <p:cNvPr id="66" name=""/>
            <p:cNvSpPr/>
            <p:nvPr/>
          </p:nvSpPr>
          <p:spPr>
            <a:xfrm>
              <a:off x="8584920" y="3549600"/>
              <a:ext cx="330120" cy="914400"/>
            </a:xfrm>
            <a:prstGeom prst="downArrow">
              <a:avLst>
                <a:gd name="adj1" fmla="val 50000"/>
                <a:gd name="adj2" fmla="val 69248"/>
              </a:avLst>
            </a:prstGeom>
            <a:solidFill>
              <a:srgbClr val="ff0f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46880" y="4419360"/>
              <a:ext cx="2269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landscap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architetti del paesaggi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flipH="1">
            <a:off x="6933960" y="685800"/>
            <a:ext cx="24145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 flipH="1">
            <a:off x="8242200" y="571680"/>
            <a:ext cx="1317600" cy="1401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95360" y="2438280"/>
            <a:ext cx="26589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1119"/>
                </a:solidFill>
                <a:latin typeface="Comic Sans MS"/>
              </a:rPr>
              <a:t>La traslocazione t(15;17)(q22;q21) è associata clinicamente alla leucemia acuta promielocitica (AP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3308400" y="1465200"/>
            <a:ext cx="6122880" cy="50752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5240" y="60912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Leucemia Acuta Promielocitica (APL) </a:t>
            </a:r>
            <a:r>
              <a:rPr b="1" lang="it-IT" sz="2400" spc="-1" strike="noStrike">
                <a:solidFill>
                  <a:srgbClr val="ff1119"/>
                </a:solidFill>
                <a:latin typeface="Comic Sans MS"/>
              </a:rPr>
              <a:t>(geni coinvolti PML-RAR</a:t>
            </a:r>
            <a:r>
              <a:rPr b="1" lang="it-IT" sz="2400" spc="-1" strike="noStrike">
                <a:solidFill>
                  <a:srgbClr val="ff1119"/>
                </a:solidFill>
                <a:latin typeface="Symbol"/>
                <a:ea typeface="Symbol"/>
              </a:rPr>
              <a:t></a:t>
            </a:r>
            <a:r>
              <a:rPr b="1" lang="it-IT" sz="2400" spc="-1" strike="noStrike">
                <a:solidFill>
                  <a:srgbClr val="ff1119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485280" y="5575320"/>
            <a:ext cx="145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ff0b"/>
                </a:solidFill>
                <a:latin typeface="Comic Sans MS"/>
              </a:rPr>
              <a:t>In verde chr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119"/>
                </a:solidFill>
                <a:latin typeface="Comic Sans MS"/>
              </a:rPr>
              <a:t>In rosso chr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806560" y="609480"/>
            <a:ext cx="4292640" cy="41911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440" y="4640760"/>
            <a:ext cx="734220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materiale didattico e’ presente in rete:</a:t>
            </a:r>
            <a:br>
              <a:rPr sz="2000"/>
            </a:br>
            <a:r>
              <a:rPr b="1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biologia.uniba.it/DIGEMI/Didattica.html</a:t>
            </a:r>
            <a:br>
              <a:rPr sz="20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ono dispense, ma un ausilio allo studio su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bro</a:t>
            </a:r>
            <a:endParaRPr b="1" lang="en-US" sz="2400" spc="-1" strike="noStrike">
              <a:solidFill>
                <a:srgbClr val="ff030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7840" y="1473120"/>
            <a:ext cx="843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ià negli anni ‘80 ben venti diversi retrovirus erano risultati portatori di un oncogene: sono indicati con abbreviazioni di tre lettere, solitamente derivanti dal tumore provocato (es.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erbB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per eritroblastosi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2920" y="3276720"/>
            <a:ext cx="924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5080" y="3098880"/>
            <a:ext cx="94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li oncogeni virali sono omologhi a normali geni eucariotici (es. il gene viral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v-src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è omologo al gene cellular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c-sr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) cioe’ nella cellula sono presenti geni che hanno la funzione di stimolare la riproduzione cellul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5240" y="4356000"/>
            <a:ext cx="9740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esti geni cellulari sono definiti PROTO-ONCOG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2920" y="4648320"/>
            <a:ext cx="941040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do s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vraesprimon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diventano oncogeni e trasformano la cellula: quindi il fenotipo tumore in questo caso si puo’ definire dominante... Perc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I proto-oncogen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 flipH="1">
            <a:off x="7276680" y="660240"/>
            <a:ext cx="241452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12920" y="3276720"/>
            <a:ext cx="924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560" y="622080"/>
            <a:ext cx="8420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I proto-oncogen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222120" y="1295280"/>
            <a:ext cx="8801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che’ la cellula e’ eterozigote : ha un allel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ild-typ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e uno mutato e per questo non e’ piu’ in grado di svolgere correttamente il controllo sul proprio ciclo cellu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81120" y="3276720"/>
            <a:ext cx="8325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mutazioni dei proto-oncogeni danno un vantaggio selettivo alla cellula perche’ permettono di crescere indiscriminat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2920" y="4495680"/>
            <a:ext cx="93279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proto-oncogeni sono geni che codificano per molecole che regolano il differenziamento e la proliferazione cellulare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fattori di crescita, recettori, proteine associate alla membrana cellulare per la trasmissione dei segnali, proteine che controllano la trascrizione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 flipH="1">
            <a:off x="7238880" y="507960"/>
            <a:ext cx="241488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30120" y="1143000"/>
            <a:ext cx="7584480" cy="5153040"/>
            <a:chOff x="330120" y="1143000"/>
            <a:chExt cx="7584480" cy="515304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1072800" y="1143000"/>
              <a:ext cx="6841800" cy="515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733400" y="1447560"/>
              <a:ext cx="66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7440" y="1218960"/>
              <a:ext cx="132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s.: c-s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50600" y="2743200"/>
              <a:ext cx="74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0120" y="2514600"/>
              <a:ext cx="165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s.: c-erb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Schema delle classi di proto-oncogen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3700440"/>
            <a:ext cx="3962520" cy="17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 proto-oncogeni diventano oncogeni quando vengano attivati in maniera difforme dal loro schema fisiolog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 flipH="1">
            <a:off x="8115120" y="1257480"/>
            <a:ext cx="140652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47680" y="1371600"/>
            <a:ext cx="40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plificazione ge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7800" y="2057400"/>
            <a:ext cx="875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eguenza di errori casuali nella replicazione del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457880" y="1523880"/>
            <a:ext cx="495000" cy="457200"/>
          </a:xfrm>
          <a:custGeom>
            <a:avLst/>
            <a:gdLst>
              <a:gd name="textAreaLeft" fmla="*/ 164880 w 495000"/>
              <a:gd name="textAreaRight" fmla="*/ 424080 w 495000"/>
              <a:gd name="textAreaTop" fmla="*/ 2635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2920" y="2590920"/>
            <a:ext cx="92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sempio: cromosomi double minutes e homogeneously staining regions (HS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52520" y="3124080"/>
            <a:ext cx="3878280" cy="373392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4881600" y="3124080"/>
            <a:ext cx="2529720" cy="727200"/>
            <a:chOff x="4881600" y="3124080"/>
            <a:chExt cx="2529720" cy="727200"/>
          </a:xfrm>
        </p:grpSpPr>
        <p:sp>
          <p:nvSpPr>
            <p:cNvPr id="97" name=""/>
            <p:cNvSpPr/>
            <p:nvPr/>
          </p:nvSpPr>
          <p:spPr>
            <a:xfrm flipH="1">
              <a:off x="4881600" y="3317760"/>
              <a:ext cx="824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963680" y="3317760"/>
              <a:ext cx="742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458320" y="3394080"/>
              <a:ext cx="247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8760" y="3124080"/>
              <a:ext cx="16725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ouble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Modalita’ di attivazione 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 flipH="1">
            <a:off x="8076960" y="533520"/>
            <a:ext cx="140652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33400" y="1295280"/>
            <a:ext cx="47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tazione punt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2920" y="2362320"/>
            <a:ext cx="8915400" cy="30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empio: nel carcinoma della vescica, il gen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a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senta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a mutazione nella sostituzione di una singola base che, a sua volta, provoca la sostituzione di un amminoacido. Tali cambiamenti avvengono in punti caratteristici del gene che conducono a trasformazione cellu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Modalita’ di attivazione I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 flipH="1">
            <a:off x="8076960" y="533520"/>
            <a:ext cx="140652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47680" y="1219320"/>
            <a:ext cx="7880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iarrangiamento cromosomic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foma di Burkitt t(8;14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d__x001d__x001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Modalita’ di attivazione II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5240" y="1981080"/>
            <a:ext cx="5461920" cy="2273400"/>
            <a:chOff x="165240" y="1981080"/>
            <a:chExt cx="5461920" cy="2273400"/>
          </a:xfrm>
        </p:grpSpPr>
        <p:grpSp>
          <p:nvGrpSpPr>
            <p:cNvPr id="110" name=""/>
            <p:cNvGrpSpPr/>
            <p:nvPr/>
          </p:nvGrpSpPr>
          <p:grpSpPr>
            <a:xfrm>
              <a:off x="1320840" y="1981080"/>
              <a:ext cx="412200" cy="2273400"/>
              <a:chOff x="1320840" y="1981080"/>
              <a:chExt cx="412200" cy="2273400"/>
            </a:xfrm>
          </p:grpSpPr>
          <p:sp>
            <p:nvSpPr>
              <p:cNvPr id="111" name=""/>
              <p:cNvSpPr/>
              <p:nvPr/>
            </p:nvSpPr>
            <p:spPr>
              <a:xfrm>
                <a:off x="1320840" y="2857680"/>
                <a:ext cx="412200" cy="1396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11560" y="2768760"/>
                <a:ext cx="252720" cy="17748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20840" y="1981080"/>
                <a:ext cx="412200" cy="801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320840" y="3848040"/>
                <a:ext cx="412200" cy="114480"/>
              </a:xfrm>
              <a:prstGeom prst="rect">
                <a:avLst/>
              </a:prstGeom>
              <a:solidFill>
                <a:srgbClr val="ed18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5240" y="3440160"/>
              <a:ext cx="1072800" cy="398880"/>
              <a:chOff x="165240" y="3440160"/>
              <a:chExt cx="1072800" cy="398880"/>
            </a:xfrm>
          </p:grpSpPr>
          <p:sp>
            <p:nvSpPr>
              <p:cNvPr id="116" name=""/>
              <p:cNvSpPr/>
              <p:nvPr/>
            </p:nvSpPr>
            <p:spPr>
              <a:xfrm>
                <a:off x="206280" y="3440160"/>
                <a:ext cx="88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-my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5240" y="3821040"/>
                <a:ext cx="1072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147480" y="2857680"/>
              <a:ext cx="412200" cy="1371600"/>
              <a:chOff x="3147480" y="2857680"/>
              <a:chExt cx="412200" cy="1371600"/>
            </a:xfrm>
          </p:grpSpPr>
          <p:sp>
            <p:nvSpPr>
              <p:cNvPr id="119" name=""/>
              <p:cNvSpPr/>
              <p:nvPr/>
            </p:nvSpPr>
            <p:spPr>
              <a:xfrm>
                <a:off x="3147480" y="3111480"/>
                <a:ext cx="412200" cy="1117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38200" y="3022560"/>
                <a:ext cx="252360" cy="17784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147480" y="2857680"/>
                <a:ext cx="412200" cy="2044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47480" y="3949560"/>
                <a:ext cx="412200" cy="88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3724920" y="3352680"/>
              <a:ext cx="1902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ene catena pesante I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42480" y="4038480"/>
              <a:ext cx="746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816200" y="1981080"/>
              <a:ext cx="412200" cy="2273400"/>
              <a:chOff x="1816200" y="1981080"/>
              <a:chExt cx="412200" cy="2273400"/>
            </a:xfrm>
          </p:grpSpPr>
          <p:sp>
            <p:nvSpPr>
              <p:cNvPr id="126" name=""/>
              <p:cNvSpPr/>
              <p:nvPr/>
            </p:nvSpPr>
            <p:spPr>
              <a:xfrm>
                <a:off x="1816200" y="2857680"/>
                <a:ext cx="412200" cy="1396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06920" y="2768760"/>
                <a:ext cx="252720" cy="17748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816200" y="1981080"/>
                <a:ext cx="412200" cy="801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816200" y="3848040"/>
                <a:ext cx="412200" cy="114480"/>
              </a:xfrm>
              <a:prstGeom prst="rect">
                <a:avLst/>
              </a:prstGeom>
              <a:solidFill>
                <a:srgbClr val="ed18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641680" y="2857680"/>
              <a:ext cx="412560" cy="1371600"/>
              <a:chOff x="2641680" y="2857680"/>
              <a:chExt cx="412560" cy="1371600"/>
            </a:xfrm>
          </p:grpSpPr>
          <p:sp>
            <p:nvSpPr>
              <p:cNvPr id="131" name=""/>
              <p:cNvSpPr/>
              <p:nvPr/>
            </p:nvSpPr>
            <p:spPr>
              <a:xfrm>
                <a:off x="2641680" y="3111480"/>
                <a:ext cx="412560" cy="1117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732400" y="3022560"/>
                <a:ext cx="252720" cy="17784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641680" y="2857680"/>
                <a:ext cx="412560" cy="2044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41680" y="3949560"/>
                <a:ext cx="412560" cy="88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6191280" y="1981080"/>
            <a:ext cx="2640960" cy="2286000"/>
            <a:chOff x="6191280" y="1981080"/>
            <a:chExt cx="2640960" cy="2286000"/>
          </a:xfrm>
        </p:grpSpPr>
        <p:grpSp>
          <p:nvGrpSpPr>
            <p:cNvPr id="136" name=""/>
            <p:cNvGrpSpPr/>
            <p:nvPr/>
          </p:nvGrpSpPr>
          <p:grpSpPr>
            <a:xfrm>
              <a:off x="6769080" y="1981080"/>
              <a:ext cx="412200" cy="2286000"/>
              <a:chOff x="6769080" y="1981080"/>
              <a:chExt cx="412200" cy="2286000"/>
            </a:xfrm>
          </p:grpSpPr>
          <p:sp>
            <p:nvSpPr>
              <p:cNvPr id="137" name=""/>
              <p:cNvSpPr/>
              <p:nvPr/>
            </p:nvSpPr>
            <p:spPr>
              <a:xfrm>
                <a:off x="6769080" y="2857680"/>
                <a:ext cx="412200" cy="1396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59800" y="2768760"/>
                <a:ext cx="252720" cy="17748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69080" y="1981080"/>
                <a:ext cx="412200" cy="801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769080" y="3809880"/>
                <a:ext cx="412200" cy="114480"/>
              </a:xfrm>
              <a:prstGeom prst="rect">
                <a:avLst/>
              </a:prstGeom>
              <a:solidFill>
                <a:srgbClr val="ed18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769080" y="3898800"/>
                <a:ext cx="412200" cy="368280"/>
              </a:xfrm>
              <a:prstGeom prst="can">
                <a:avLst>
                  <a:gd name="adj" fmla="val 28449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769080" y="3911760"/>
                <a:ext cx="412200" cy="88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842240" y="2857680"/>
              <a:ext cx="412560" cy="1371600"/>
              <a:chOff x="7842240" y="2857680"/>
              <a:chExt cx="412560" cy="1371600"/>
            </a:xfrm>
          </p:grpSpPr>
          <p:sp>
            <p:nvSpPr>
              <p:cNvPr id="144" name=""/>
              <p:cNvSpPr/>
              <p:nvPr/>
            </p:nvSpPr>
            <p:spPr>
              <a:xfrm>
                <a:off x="7842240" y="3111480"/>
                <a:ext cx="412560" cy="1117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842240" y="3873600"/>
                <a:ext cx="412560" cy="88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933320" y="3022560"/>
                <a:ext cx="252720" cy="17784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42240" y="2857680"/>
                <a:ext cx="412560" cy="2044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842240" y="3873600"/>
                <a:ext cx="412560" cy="355680"/>
              </a:xfrm>
              <a:prstGeom prst="can">
                <a:avLst>
                  <a:gd name="adj" fmla="val 9819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6191280" y="1981080"/>
              <a:ext cx="412200" cy="2273400"/>
              <a:chOff x="6191280" y="1981080"/>
              <a:chExt cx="412200" cy="2273400"/>
            </a:xfrm>
          </p:grpSpPr>
          <p:sp>
            <p:nvSpPr>
              <p:cNvPr id="150" name=""/>
              <p:cNvSpPr/>
              <p:nvPr/>
            </p:nvSpPr>
            <p:spPr>
              <a:xfrm>
                <a:off x="6191280" y="2857680"/>
                <a:ext cx="412200" cy="1396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282000" y="2768760"/>
                <a:ext cx="252720" cy="17748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191280" y="1981080"/>
                <a:ext cx="412200" cy="801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191280" y="3848040"/>
                <a:ext cx="412200" cy="114480"/>
              </a:xfrm>
              <a:prstGeom prst="rect">
                <a:avLst/>
              </a:prstGeom>
              <a:solidFill>
                <a:srgbClr val="ed18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8420040" y="2857680"/>
              <a:ext cx="412200" cy="1371600"/>
              <a:chOff x="8420040" y="2857680"/>
              <a:chExt cx="412200" cy="1371600"/>
            </a:xfrm>
          </p:grpSpPr>
          <p:sp>
            <p:nvSpPr>
              <p:cNvPr id="155" name=""/>
              <p:cNvSpPr/>
              <p:nvPr/>
            </p:nvSpPr>
            <p:spPr>
              <a:xfrm>
                <a:off x="8420040" y="3111480"/>
                <a:ext cx="412200" cy="1117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510760" y="3022560"/>
                <a:ext cx="252360" cy="17784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420040" y="2857680"/>
                <a:ext cx="412200" cy="2044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420040" y="3949560"/>
                <a:ext cx="412200" cy="88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41400" y="4343400"/>
            <a:ext cx="974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-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my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si viene a trovare sotto il controllo del promotore del 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e e’ un promotore forte e nella serie bianca funziona ad un rit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evato: il proto-oncogene perde la propria regolazione e assume quella del Ig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a cellula perde il controll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32560" y="5867280"/>
            <a:ext cx="71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QUESTO AVVIENE SOLO SE LA TRASLOCAZIONE SI VERIF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NEI LINFOCIT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79720" y="2590920"/>
            <a:ext cx="2063880" cy="380880"/>
          </a:xfrm>
          <a:custGeom>
            <a:avLst/>
            <a:gdLst>
              <a:gd name="textAreaLeft" fmla="*/ 322200 w 2063880"/>
              <a:gd name="textAreaRight" fmla="*/ 1806120 w 206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rasloc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 flipH="1">
            <a:off x="8076960" y="533520"/>
            <a:ext cx="140652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30120" y="1371600"/>
            <a:ext cx="932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eni coinvolti nel riparo dei mismatch del DNA (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SH2, MLH1, PMS1, PMS2 e GTBP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 la cui alterazione provoca la cosiddetta “instabilita’ dei microsatelliti” tipica della HNPCC, Hereditary Non Polyposis Colon Cancer e generalmente del riparo di danni al DNA (geni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“caretaker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98440" y="3035160"/>
            <a:ext cx="9112320" cy="30085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88520" y="825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Caretakers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 flipH="1">
            <a:off x="7721640" y="444600"/>
            <a:ext cx="194472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07:16:03Z</dcterms:created>
  <dc:creator>Rocchi</dc:creator>
  <dc:description/>
  <dc:language>en-US</dc:language>
  <cp:lastModifiedBy>Mariano Rocchi</cp:lastModifiedBy>
  <cp:lastPrinted>2006-05-04T06:16:53Z</cp:lastPrinted>
  <dcterms:modified xsi:type="dcterms:W3CDTF">2008-05-23T06:41:01Z</dcterms:modified>
  <cp:revision>191</cp:revision>
  <dc:subject/>
  <dc:title>PowerPoint Presentation</dc:title>
</cp:coreProperties>
</file>