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pct" ContentType="image/x-pict"/>
  <Override PartName="/ppt/media/image22.pct" ContentType="image/x-pict"/>
  <Override PartName="/ppt/media/image19.jpeg" ContentType="image/jpeg"/>
  <Override PartName="/ppt/media/image42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29.pct" ContentType="image/x-pict"/>
  <Override PartName="/ppt/media/image15.pct" ContentType="image/x-pict"/>
  <Override PartName="/ppt/media/image21.pct" ContentType="image/x-pict"/>
  <Override PartName="/ppt/media/image11.jpeg" ContentType="image/jpeg"/>
  <Override PartName="/ppt/media/image14.jpeg" ContentType="image/jpeg"/>
  <Override PartName="/ppt/media/image41.jpeg" ContentType="image/jpeg"/>
  <Override PartName="/ppt/media/image24.pct" ContentType="image/x-pict"/>
  <Override PartName="/ppt/media/image33.jpeg" ContentType="image/jpeg"/>
  <Override PartName="/ppt/media/image18.jpeg" ContentType="image/jpeg"/>
  <Override PartName="/ppt/media/image1.pct" ContentType="image/x-pict"/>
  <Override PartName="/ppt/media/image12.jpeg" ContentType="image/jpeg"/>
  <Override PartName="/ppt/media/image31.pct" ContentType="image/x-pict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.pct" ContentType="image/x-pict"/>
  <Override PartName="/ppt/media/image26.pct" ContentType="image/x-pict"/>
  <Override PartName="/ppt/media/image37.jpeg" ContentType="image/jpeg"/>
  <Override PartName="/ppt/media/image50.jpeg" ContentType="image/jpeg"/>
  <Override PartName="/ppt/media/image44.jpeg" ContentType="image/jpeg"/>
  <Override PartName="/ppt/media/image25.pct" ContentType="image/x-pict"/>
  <Override PartName="/ppt/media/image7.jpeg" ContentType="image/jpeg"/>
  <Override PartName="/ppt/media/image38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3.pct" ContentType="image/x-pict"/>
  <Override PartName="/ppt/media/image49.jpeg" ContentType="image/jpeg"/>
  <Override PartName="/ppt/media/image45.jpeg" ContentType="image/jpeg"/>
  <Override PartName="/ppt/media/image36.jpeg" ContentType="image/jpeg"/>
  <Override PartName="/ppt/media/image54.pct" ContentType="image/x-pict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6.pct" ContentType="image/x-pict"/>
  <Override PartName="/ppt/media/image30.pct" ContentType="image/x-pict"/>
  <Override PartName="/ppt/media/image34.jpeg" ContentType="image/jpeg"/>
  <Override PartName="/ppt/media/image4.pct" ContentType="image/x-pict"/>
  <Override PartName="/ppt/media/image27.pct" ContentType="image/x-pict"/>
  <Override PartName="/ppt/media/image52.jpeg" ContentType="image/jpeg"/>
  <Override PartName="/ppt/media/image35.jpeg" ContentType="image/jpeg"/>
  <Override PartName="/ppt/media/image10.png" ContentType="image/png"/>
  <Override PartName="/ppt/media/image2.pct" ContentType="image/x-pict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5C2B-CA4A-43FB-8C22-5E945DC56E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6C4-B5D3-41BE-BB8A-3E2FF4657D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327-DEF7-4DBE-9763-E787569BF6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DE4-65CE-425C-A508-36BB8079DE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281E-EE63-47BF-9938-D8A4653D81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A5D-1715-4026-B725-DDB297B85F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9CD-5EAD-4E24-8380-9D8AC80E82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7226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976-71D0-40E1-AF65-7BB30690C8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7226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B16-C1E6-4C7E-8B62-91331B5F56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334C-FEBC-4BEA-B7A7-0D8A3F61BE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B41-0727-4ABD-B45D-CDF07E10AC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83F-5111-4DB2-AFD9-A0A9AA45B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D096-4F1E-4A90-9BB6-AE5FC69505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040-D5B5-4D6B-A411-79F06E5F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D9B-74C0-46B7-93F4-12994CCB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754-DBCB-4614-A38C-5E526FE4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F24-93F1-4DE7-96D6-4567763A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95-D4B2-4576-AFAD-63793B9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6F9-2C14-47B2-8B43-3CEA3FB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9F7-5673-4288-BE6F-8D468A9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5BF-A62B-4D10-84D2-3FE5BE5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0FF-50D7-4ACE-97D5-E26EC0B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9AC-750D-4251-9203-5FB731E4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1BB-B658-4C1B-B960-3F8EA6F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B46-7316-446F-A541-B2EDBBB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80280" y="6400440"/>
            <a:ext cx="476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7AA-D182-4B51-A00E-2553BB60A97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24.pct"/><Relationship Id="rId6" Type="http://schemas.openxmlformats.org/officeDocument/2006/relationships/image" Target="../media/image25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image" Target="../media/image28.pct"/><Relationship Id="rId10" Type="http://schemas.openxmlformats.org/officeDocument/2006/relationships/image" Target="../media/image29.pct"/><Relationship Id="rId11" Type="http://schemas.openxmlformats.org/officeDocument/2006/relationships/image" Target="../media/image30.pct"/><Relationship Id="rId12" Type="http://schemas.openxmlformats.org/officeDocument/2006/relationships/image" Target="../media/image31.pct"/><Relationship Id="rId13" Type="http://schemas.openxmlformats.org/officeDocument/2006/relationships/image" Target="../media/image4.pct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34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8680" y="609840"/>
            <a:ext cx="8420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togene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5524560"/>
            <a:ext cx="9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a citogenetica e` lo studio dei fenomeni genetici attraverso l’analisi citologica dei cromosomi al microscopio.                                       Ferguson-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99160" y="62467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ezion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289160"/>
            <a:ext cx="6553080" cy="42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4B7-2EA4-43E0-949A-7CB044DA2B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19120" y="508320"/>
            <a:ext cx="4730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8/17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51040" y="1258920"/>
            <a:ext cx="6707160" cy="5408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6CB-BAB2-45E5-82A2-087F8E741F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040" y="914400"/>
            <a:ext cx="5464080" cy="5943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60840" y="2271960"/>
            <a:ext cx="4445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reciproca 3/4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9DD-4DEA-4F70-875D-4A3193216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5784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54120" y="1212840"/>
            <a:ext cx="8533800" cy="5645160"/>
            <a:chOff x="654120" y="1212840"/>
            <a:chExt cx="8533800" cy="56451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54120" y="1212840"/>
              <a:ext cx="853380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543280" y="2094840"/>
              <a:ext cx="300600" cy="66600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03200" y="3748320"/>
              <a:ext cx="298800" cy="81432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3040" y="520920"/>
            <a:ext cx="6286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reciproca 2/9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039240" y="334800"/>
            <a:ext cx="866880" cy="10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BE8-AF4C-4D2F-8628-C8B3262B1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044" t="2402" r="0" b="7639"/>
          <a:stretch/>
        </p:blipFill>
        <p:spPr>
          <a:xfrm>
            <a:off x="1832040" y="1163520"/>
            <a:ext cx="5737320" cy="4977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5784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19800" y="2222640"/>
            <a:ext cx="2415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lievo di villi cor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440" y="6121440"/>
            <a:ext cx="982368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6,XY,der(1)t(1;15)(1pter,15q23)mat.ish der(1)t(1p;15q)(p36.33;q24.2)mat(pcp1p36;pcp15q)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371600"/>
            <a:ext cx="228600" cy="30492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0840" y="571680"/>
            <a:ext cx="424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1/15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709120" y="525600"/>
            <a:ext cx="1009440" cy="126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49B-DB68-433F-B4D3-901823137C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29640" y="812880"/>
            <a:ext cx="1791000" cy="2469600"/>
            <a:chOff x="629640" y="812880"/>
            <a:chExt cx="1791000" cy="2469600"/>
          </a:xfrm>
        </p:grpSpPr>
        <p:grpSp>
          <p:nvGrpSpPr>
            <p:cNvPr id="143" name=""/>
            <p:cNvGrpSpPr/>
            <p:nvPr/>
          </p:nvGrpSpPr>
          <p:grpSpPr>
            <a:xfrm>
              <a:off x="2066040" y="2058840"/>
              <a:ext cx="354600" cy="1170000"/>
              <a:chOff x="2066040" y="2058840"/>
              <a:chExt cx="354600" cy="1170000"/>
            </a:xfrm>
          </p:grpSpPr>
          <p:sp>
            <p:nvSpPr>
              <p:cNvPr id="144" name=""/>
              <p:cNvSpPr/>
              <p:nvPr/>
            </p:nvSpPr>
            <p:spPr>
              <a:xfrm>
                <a:off x="2218320" y="2376360"/>
                <a:ext cx="9108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18320" y="2454120"/>
                <a:ext cx="9108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66040" y="205884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29640" y="1633320"/>
              <a:ext cx="354600" cy="1617840"/>
              <a:chOff x="629640" y="1633320"/>
              <a:chExt cx="354600" cy="1617840"/>
            </a:xfrm>
          </p:grpSpPr>
          <p:sp>
            <p:nvSpPr>
              <p:cNvPr id="148" name=""/>
              <p:cNvSpPr/>
              <p:nvPr/>
            </p:nvSpPr>
            <p:spPr>
              <a:xfrm>
                <a:off x="752760" y="1971720"/>
                <a:ext cx="9108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2760" y="2046240"/>
                <a:ext cx="9108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9640" y="1633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113120" y="812880"/>
              <a:ext cx="798120" cy="2469600"/>
              <a:chOff x="1113120" y="812880"/>
              <a:chExt cx="798120" cy="24696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514880" y="1150560"/>
                <a:ext cx="95760" cy="2131920"/>
                <a:chOff x="1514880" y="1150560"/>
                <a:chExt cx="95760" cy="2131920"/>
              </a:xfrm>
            </p:grpSpPr>
            <p:sp>
              <p:nvSpPr>
                <p:cNvPr id="153" name=""/>
                <p:cNvSpPr/>
                <p:nvPr/>
              </p:nvSpPr>
              <p:spPr>
                <a:xfrm rot="10800000">
                  <a:off x="1519920" y="1150560"/>
                  <a:ext cx="9072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10800000">
                  <a:off x="1519920" y="1841040"/>
                  <a:ext cx="9072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14880" y="2003040"/>
                  <a:ext cx="9072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14880" y="2077920"/>
                  <a:ext cx="9072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1113120" y="812880"/>
                <a:ext cx="79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769920" y="274320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reg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1280" y="6083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6920" y="61340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35080" y="61340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47680" y="4267080"/>
            <a:ext cx="1072800" cy="1904760"/>
            <a:chOff x="247680" y="4267080"/>
            <a:chExt cx="1072800" cy="1904760"/>
          </a:xfrm>
        </p:grpSpPr>
        <p:grpSp>
          <p:nvGrpSpPr>
            <p:cNvPr id="163" name=""/>
            <p:cNvGrpSpPr/>
            <p:nvPr/>
          </p:nvGrpSpPr>
          <p:grpSpPr>
            <a:xfrm>
              <a:off x="762120" y="4787640"/>
              <a:ext cx="354600" cy="1170000"/>
              <a:chOff x="762120" y="4787640"/>
              <a:chExt cx="354600" cy="1170000"/>
            </a:xfrm>
          </p:grpSpPr>
          <p:sp>
            <p:nvSpPr>
              <p:cNvPr id="164" name=""/>
              <p:cNvSpPr/>
              <p:nvPr/>
            </p:nvSpPr>
            <p:spPr>
              <a:xfrm>
                <a:off x="914400" y="5105160"/>
                <a:ext cx="9108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14400" y="5182920"/>
                <a:ext cx="9108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120" y="478764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49560" y="4343040"/>
              <a:ext cx="354600" cy="1617840"/>
              <a:chOff x="349560" y="4343040"/>
              <a:chExt cx="354600" cy="1617840"/>
            </a:xfrm>
          </p:grpSpPr>
          <p:sp>
            <p:nvSpPr>
              <p:cNvPr id="168" name=""/>
              <p:cNvSpPr/>
              <p:nvPr/>
            </p:nvSpPr>
            <p:spPr>
              <a:xfrm>
                <a:off x="472680" y="4681440"/>
                <a:ext cx="9108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2680" y="4755960"/>
                <a:ext cx="9108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9560" y="434304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47680" y="4267080"/>
              <a:ext cx="1072800" cy="190476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86080" y="3581280"/>
            <a:ext cx="990000" cy="2590920"/>
            <a:chOff x="1486080" y="3581280"/>
            <a:chExt cx="990000" cy="2590920"/>
          </a:xfrm>
        </p:grpSpPr>
        <p:grpSp>
          <p:nvGrpSpPr>
            <p:cNvPr id="173" name=""/>
            <p:cNvGrpSpPr/>
            <p:nvPr/>
          </p:nvGrpSpPr>
          <p:grpSpPr>
            <a:xfrm>
              <a:off x="1536120" y="3581280"/>
              <a:ext cx="798120" cy="2469600"/>
              <a:chOff x="1536120" y="3581280"/>
              <a:chExt cx="798120" cy="2469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937880" y="3918960"/>
                <a:ext cx="95760" cy="2131920"/>
                <a:chOff x="1937880" y="3918960"/>
                <a:chExt cx="95760" cy="213192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1942920" y="3918960"/>
                  <a:ext cx="9072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0800000">
                  <a:off x="1942920" y="4609440"/>
                  <a:ext cx="9072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37880" y="4771440"/>
                  <a:ext cx="9072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37880" y="4846320"/>
                  <a:ext cx="9072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1536120" y="3581280"/>
                <a:ext cx="79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486080" y="3581280"/>
              <a:ext cx="990000" cy="259092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035680" y="3479760"/>
            <a:ext cx="1567800" cy="2698560"/>
            <a:chOff x="5035680" y="3479760"/>
            <a:chExt cx="1567800" cy="2698560"/>
          </a:xfrm>
        </p:grpSpPr>
        <p:grpSp>
          <p:nvGrpSpPr>
            <p:cNvPr id="182" name=""/>
            <p:cNvGrpSpPr/>
            <p:nvPr/>
          </p:nvGrpSpPr>
          <p:grpSpPr>
            <a:xfrm>
              <a:off x="5168160" y="3479760"/>
              <a:ext cx="798120" cy="2469600"/>
              <a:chOff x="5168160" y="3479760"/>
              <a:chExt cx="798120" cy="2469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569920" y="3817440"/>
                <a:ext cx="95760" cy="2131920"/>
                <a:chOff x="5569920" y="3817440"/>
                <a:chExt cx="95760" cy="2131920"/>
              </a:xfrm>
            </p:grpSpPr>
            <p:sp>
              <p:nvSpPr>
                <p:cNvPr id="184" name=""/>
                <p:cNvSpPr/>
                <p:nvPr/>
              </p:nvSpPr>
              <p:spPr>
                <a:xfrm rot="10800000">
                  <a:off x="5574960" y="3817440"/>
                  <a:ext cx="9072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0800000">
                  <a:off x="5574960" y="4507920"/>
                  <a:ext cx="9072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569920" y="4669920"/>
                  <a:ext cx="9072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69920" y="4744800"/>
                  <a:ext cx="9072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168160" y="3479760"/>
                <a:ext cx="79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950800" y="4349520"/>
              <a:ext cx="354600" cy="1170000"/>
              <a:chOff x="5950800" y="4349520"/>
              <a:chExt cx="354600" cy="1170000"/>
            </a:xfrm>
          </p:grpSpPr>
          <p:sp>
            <p:nvSpPr>
              <p:cNvPr id="190" name=""/>
              <p:cNvSpPr/>
              <p:nvPr/>
            </p:nvSpPr>
            <p:spPr>
              <a:xfrm>
                <a:off x="6103080" y="4667040"/>
                <a:ext cx="9108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03080" y="4744800"/>
                <a:ext cx="9108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50800" y="43495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035680" y="3511440"/>
              <a:ext cx="1567800" cy="2666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512120" y="4826160"/>
            <a:ext cx="659880" cy="1371600"/>
            <a:chOff x="7512120" y="4826160"/>
            <a:chExt cx="659880" cy="1371600"/>
          </a:xfrm>
        </p:grpSpPr>
        <p:grpSp>
          <p:nvGrpSpPr>
            <p:cNvPr id="195" name=""/>
            <p:cNvGrpSpPr/>
            <p:nvPr/>
          </p:nvGrpSpPr>
          <p:grpSpPr>
            <a:xfrm>
              <a:off x="7601760" y="4902480"/>
              <a:ext cx="354600" cy="1170000"/>
              <a:chOff x="7601760" y="4902480"/>
              <a:chExt cx="354600" cy="1170000"/>
            </a:xfrm>
          </p:grpSpPr>
          <p:sp>
            <p:nvSpPr>
              <p:cNvPr id="196" name=""/>
              <p:cNvSpPr/>
              <p:nvPr/>
            </p:nvSpPr>
            <p:spPr>
              <a:xfrm>
                <a:off x="7754040" y="5220000"/>
                <a:ext cx="9108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54040" y="5297760"/>
                <a:ext cx="9108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01760" y="49024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512120" y="4826160"/>
              <a:ext cx="659880" cy="137160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502480" y="3530520"/>
            <a:ext cx="1155240" cy="2666880"/>
            <a:chOff x="8502480" y="3530520"/>
            <a:chExt cx="1155240" cy="2666880"/>
          </a:xfrm>
        </p:grpSpPr>
        <p:grpSp>
          <p:nvGrpSpPr>
            <p:cNvPr id="201" name=""/>
            <p:cNvGrpSpPr/>
            <p:nvPr/>
          </p:nvGrpSpPr>
          <p:grpSpPr>
            <a:xfrm>
              <a:off x="8816040" y="3644640"/>
              <a:ext cx="798120" cy="2469600"/>
              <a:chOff x="8816040" y="3644640"/>
              <a:chExt cx="798120" cy="2469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9216720" y="3982320"/>
                <a:ext cx="95760" cy="2131920"/>
                <a:chOff x="9216720" y="3982320"/>
                <a:chExt cx="95760" cy="2131920"/>
              </a:xfrm>
            </p:grpSpPr>
            <p:sp>
              <p:nvSpPr>
                <p:cNvPr id="203" name=""/>
                <p:cNvSpPr/>
                <p:nvPr/>
              </p:nvSpPr>
              <p:spPr>
                <a:xfrm rot="10800000">
                  <a:off x="9221760" y="3982320"/>
                  <a:ext cx="9072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0800000">
                  <a:off x="9221760" y="4672800"/>
                  <a:ext cx="9072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216720" y="4834800"/>
                  <a:ext cx="9072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9216720" y="4909680"/>
                  <a:ext cx="9072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8816040" y="3644640"/>
                <a:ext cx="79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8674560" y="4368600"/>
              <a:ext cx="354600" cy="1617840"/>
              <a:chOff x="8674560" y="4368600"/>
              <a:chExt cx="354600" cy="1617840"/>
            </a:xfrm>
          </p:grpSpPr>
          <p:sp>
            <p:nvSpPr>
              <p:cNvPr id="209" name=""/>
              <p:cNvSpPr/>
              <p:nvPr/>
            </p:nvSpPr>
            <p:spPr>
              <a:xfrm>
                <a:off x="8797680" y="4707000"/>
                <a:ext cx="9108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797680" y="4781520"/>
                <a:ext cx="9108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674560" y="436860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8502480" y="3530520"/>
              <a:ext cx="1155240" cy="2666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62520" y="4483080"/>
            <a:ext cx="907560" cy="1676160"/>
            <a:chOff x="3962520" y="4483080"/>
            <a:chExt cx="907560" cy="1676160"/>
          </a:xfrm>
        </p:grpSpPr>
        <p:grpSp>
          <p:nvGrpSpPr>
            <p:cNvPr id="214" name=""/>
            <p:cNvGrpSpPr/>
            <p:nvPr/>
          </p:nvGrpSpPr>
          <p:grpSpPr>
            <a:xfrm>
              <a:off x="4299480" y="4483080"/>
              <a:ext cx="354600" cy="1617120"/>
              <a:chOff x="4299480" y="4483080"/>
              <a:chExt cx="354600" cy="1617120"/>
            </a:xfrm>
          </p:grpSpPr>
          <p:sp>
            <p:nvSpPr>
              <p:cNvPr id="215" name=""/>
              <p:cNvSpPr/>
              <p:nvPr/>
            </p:nvSpPr>
            <p:spPr>
              <a:xfrm>
                <a:off x="4422600" y="4821120"/>
                <a:ext cx="91080" cy="127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22600" y="4895640"/>
                <a:ext cx="9108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99480" y="44830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62520" y="4559040"/>
              <a:ext cx="907560" cy="160020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5360" y="609480"/>
            <a:ext cx="7302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b"/>
                </a:solidFill>
                <a:latin typeface="Comic Sans MS"/>
              </a:rPr>
              <a:t>Traslocazioni robertsonia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2230560" y="1208160"/>
            <a:ext cx="69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vvengono fra cromosomi acrocentrici o telocentr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’uom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ra due dei 10 acrocentrici( 13,14,15,21,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953560" y="525600"/>
            <a:ext cx="765000" cy="95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3EC-9F8B-4C7A-B3CD-5E6F4BC99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7160" y="134784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29200" y="1332000"/>
            <a:ext cx="4815000" cy="53989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5118120" y="1295280"/>
            <a:ext cx="4209840" cy="5295960"/>
            <a:chOff x="5118120" y="1295280"/>
            <a:chExt cx="4209840" cy="5295960"/>
          </a:xfrm>
        </p:grpSpPr>
        <p:sp>
          <p:nvSpPr>
            <p:cNvPr id="225" name=""/>
            <p:cNvSpPr/>
            <p:nvPr/>
          </p:nvSpPr>
          <p:spPr>
            <a:xfrm>
              <a:off x="5118120" y="1295280"/>
              <a:ext cx="3604680" cy="2774880"/>
            </a:xfrm>
            <a:custGeom>
              <a:avLst/>
              <a:gdLst/>
              <a:ahLst/>
              <a:rect l="l" t="t" r="r" b="b"/>
              <a:pathLst>
                <a:path w="2096" h="1748">
                  <a:moveTo>
                    <a:pt x="0" y="1600"/>
                  </a:moveTo>
                  <a:cubicBezTo>
                    <a:pt x="222" y="1748"/>
                    <a:pt x="347" y="1713"/>
                    <a:pt x="648" y="1720"/>
                  </a:cubicBezTo>
                  <a:cubicBezTo>
                    <a:pt x="752" y="1717"/>
                    <a:pt x="856" y="1716"/>
                    <a:pt x="960" y="1712"/>
                  </a:cubicBezTo>
                  <a:cubicBezTo>
                    <a:pt x="1021" y="1709"/>
                    <a:pt x="1062" y="1654"/>
                    <a:pt x="1120" y="1640"/>
                  </a:cubicBezTo>
                  <a:cubicBezTo>
                    <a:pt x="1240" y="1609"/>
                    <a:pt x="1058" y="1657"/>
                    <a:pt x="1184" y="1616"/>
                  </a:cubicBezTo>
                  <a:cubicBezTo>
                    <a:pt x="1223" y="1602"/>
                    <a:pt x="1246" y="1612"/>
                    <a:pt x="1288" y="1592"/>
                  </a:cubicBezTo>
                  <a:cubicBezTo>
                    <a:pt x="1353" y="1559"/>
                    <a:pt x="1377" y="1543"/>
                    <a:pt x="1440" y="1528"/>
                  </a:cubicBezTo>
                  <a:cubicBezTo>
                    <a:pt x="1529" y="1456"/>
                    <a:pt x="1675" y="1411"/>
                    <a:pt x="1744" y="1320"/>
                  </a:cubicBezTo>
                  <a:cubicBezTo>
                    <a:pt x="1768" y="1286"/>
                    <a:pt x="1784" y="1238"/>
                    <a:pt x="1800" y="1200"/>
                  </a:cubicBezTo>
                  <a:cubicBezTo>
                    <a:pt x="1806" y="1184"/>
                    <a:pt x="1804" y="1163"/>
                    <a:pt x="1816" y="1152"/>
                  </a:cubicBezTo>
                  <a:cubicBezTo>
                    <a:pt x="1833" y="1134"/>
                    <a:pt x="1851" y="1118"/>
                    <a:pt x="1864" y="1096"/>
                  </a:cubicBezTo>
                  <a:cubicBezTo>
                    <a:pt x="1903" y="1023"/>
                    <a:pt x="1865" y="1055"/>
                    <a:pt x="1912" y="1024"/>
                  </a:cubicBezTo>
                  <a:cubicBezTo>
                    <a:pt x="1929" y="997"/>
                    <a:pt x="1976" y="952"/>
                    <a:pt x="1976" y="952"/>
                  </a:cubicBezTo>
                  <a:cubicBezTo>
                    <a:pt x="2009" y="850"/>
                    <a:pt x="2062" y="762"/>
                    <a:pt x="2080" y="656"/>
                  </a:cubicBezTo>
                  <a:cubicBezTo>
                    <a:pt x="2065" y="435"/>
                    <a:pt x="2096" y="219"/>
                    <a:pt x="209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14000" y="3975120"/>
              <a:ext cx="481320" cy="2616120"/>
            </a:xfrm>
            <a:custGeom>
              <a:avLst/>
              <a:gdLst/>
              <a:ahLst/>
              <a:rect l="l" t="t" r="r" b="b"/>
              <a:pathLst>
                <a:path w="280" h="1648">
                  <a:moveTo>
                    <a:pt x="168" y="0"/>
                  </a:moveTo>
                  <a:cubicBezTo>
                    <a:pt x="170" y="26"/>
                    <a:pt x="171" y="53"/>
                    <a:pt x="176" y="80"/>
                  </a:cubicBezTo>
                  <a:cubicBezTo>
                    <a:pt x="182" y="124"/>
                    <a:pt x="216" y="162"/>
                    <a:pt x="224" y="208"/>
                  </a:cubicBezTo>
                  <a:cubicBezTo>
                    <a:pt x="226" y="224"/>
                    <a:pt x="228" y="240"/>
                    <a:pt x="232" y="256"/>
                  </a:cubicBezTo>
                  <a:cubicBezTo>
                    <a:pt x="236" y="277"/>
                    <a:pt x="248" y="320"/>
                    <a:pt x="248" y="320"/>
                  </a:cubicBezTo>
                  <a:cubicBezTo>
                    <a:pt x="226" y="384"/>
                    <a:pt x="258" y="309"/>
                    <a:pt x="216" y="352"/>
                  </a:cubicBezTo>
                  <a:cubicBezTo>
                    <a:pt x="210" y="357"/>
                    <a:pt x="212" y="368"/>
                    <a:pt x="208" y="376"/>
                  </a:cubicBezTo>
                  <a:lnTo>
                    <a:pt x="176" y="424"/>
                  </a:lnTo>
                  <a:cubicBezTo>
                    <a:pt x="176" y="424"/>
                    <a:pt x="176" y="424"/>
                    <a:pt x="176" y="424"/>
                  </a:cubicBezTo>
                  <a:cubicBezTo>
                    <a:pt x="145" y="444"/>
                    <a:pt x="115" y="447"/>
                    <a:pt x="80" y="456"/>
                  </a:cubicBezTo>
                  <a:cubicBezTo>
                    <a:pt x="48" y="477"/>
                    <a:pt x="12" y="537"/>
                    <a:pt x="0" y="576"/>
                  </a:cubicBezTo>
                  <a:cubicBezTo>
                    <a:pt x="8" y="584"/>
                    <a:pt x="14" y="594"/>
                    <a:pt x="24" y="600"/>
                  </a:cubicBezTo>
                  <a:cubicBezTo>
                    <a:pt x="38" y="608"/>
                    <a:pt x="72" y="616"/>
                    <a:pt x="72" y="616"/>
                  </a:cubicBezTo>
                  <a:cubicBezTo>
                    <a:pt x="84" y="607"/>
                    <a:pt x="103" y="592"/>
                    <a:pt x="120" y="592"/>
                  </a:cubicBezTo>
                  <a:cubicBezTo>
                    <a:pt x="128" y="592"/>
                    <a:pt x="135" y="598"/>
                    <a:pt x="144" y="600"/>
                  </a:cubicBezTo>
                  <a:cubicBezTo>
                    <a:pt x="193" y="611"/>
                    <a:pt x="237" y="611"/>
                    <a:pt x="280" y="640"/>
                  </a:cubicBezTo>
                  <a:cubicBezTo>
                    <a:pt x="277" y="661"/>
                    <a:pt x="277" y="683"/>
                    <a:pt x="272" y="704"/>
                  </a:cubicBezTo>
                  <a:cubicBezTo>
                    <a:pt x="264" y="732"/>
                    <a:pt x="251" y="736"/>
                    <a:pt x="240" y="760"/>
                  </a:cubicBezTo>
                  <a:cubicBezTo>
                    <a:pt x="213" y="812"/>
                    <a:pt x="178" y="871"/>
                    <a:pt x="160" y="928"/>
                  </a:cubicBezTo>
                  <a:cubicBezTo>
                    <a:pt x="141" y="984"/>
                    <a:pt x="118" y="1038"/>
                    <a:pt x="104" y="1096"/>
                  </a:cubicBezTo>
                  <a:cubicBezTo>
                    <a:pt x="86" y="1266"/>
                    <a:pt x="100" y="1204"/>
                    <a:pt x="80" y="1288"/>
                  </a:cubicBezTo>
                  <a:cubicBezTo>
                    <a:pt x="77" y="1314"/>
                    <a:pt x="64" y="1443"/>
                    <a:pt x="64" y="1464"/>
                  </a:cubicBezTo>
                  <a:cubicBezTo>
                    <a:pt x="64" y="1525"/>
                    <a:pt x="72" y="1648"/>
                    <a:pt x="72" y="16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60480" y="3284280"/>
              <a:ext cx="1167480" cy="2367000"/>
            </a:xfrm>
            <a:custGeom>
              <a:avLst/>
              <a:gdLst/>
              <a:ahLst/>
              <a:rect l="l" t="t" r="r" b="b"/>
              <a:pathLst>
                <a:path w="679" h="1491">
                  <a:moveTo>
                    <a:pt x="7" y="19"/>
                  </a:moveTo>
                  <a:cubicBezTo>
                    <a:pt x="55" y="91"/>
                    <a:pt x="0" y="0"/>
                    <a:pt x="39" y="195"/>
                  </a:cubicBezTo>
                  <a:cubicBezTo>
                    <a:pt x="48" y="243"/>
                    <a:pt x="71" y="284"/>
                    <a:pt x="87" y="331"/>
                  </a:cubicBezTo>
                  <a:cubicBezTo>
                    <a:pt x="91" y="400"/>
                    <a:pt x="90" y="471"/>
                    <a:pt x="111" y="539"/>
                  </a:cubicBezTo>
                  <a:cubicBezTo>
                    <a:pt x="118" y="563"/>
                    <a:pt x="127" y="587"/>
                    <a:pt x="135" y="611"/>
                  </a:cubicBezTo>
                  <a:cubicBezTo>
                    <a:pt x="137" y="619"/>
                    <a:pt x="143" y="635"/>
                    <a:pt x="143" y="635"/>
                  </a:cubicBezTo>
                  <a:cubicBezTo>
                    <a:pt x="150" y="708"/>
                    <a:pt x="168" y="777"/>
                    <a:pt x="175" y="851"/>
                  </a:cubicBezTo>
                  <a:cubicBezTo>
                    <a:pt x="182" y="928"/>
                    <a:pt x="166" y="1012"/>
                    <a:pt x="199" y="1083"/>
                  </a:cubicBezTo>
                  <a:cubicBezTo>
                    <a:pt x="214" y="1116"/>
                    <a:pt x="299" y="1168"/>
                    <a:pt x="335" y="1195"/>
                  </a:cubicBezTo>
                  <a:cubicBezTo>
                    <a:pt x="363" y="1242"/>
                    <a:pt x="400" y="1268"/>
                    <a:pt x="439" y="1307"/>
                  </a:cubicBezTo>
                  <a:cubicBezTo>
                    <a:pt x="464" y="1332"/>
                    <a:pt x="483" y="1371"/>
                    <a:pt x="511" y="1395"/>
                  </a:cubicBezTo>
                  <a:cubicBezTo>
                    <a:pt x="520" y="1402"/>
                    <a:pt x="533" y="1404"/>
                    <a:pt x="543" y="1411"/>
                  </a:cubicBezTo>
                  <a:cubicBezTo>
                    <a:pt x="585" y="1441"/>
                    <a:pt x="622" y="1491"/>
                    <a:pt x="679" y="149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494400" y="1960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53280" y="478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8760" y="5694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800" y="4398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831160" y="6114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292640" y="5943600"/>
            <a:ext cx="446040" cy="593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632040" y="6095880"/>
            <a:ext cx="36684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178080" y="6202440"/>
            <a:ext cx="219240" cy="274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569960" y="5259240"/>
            <a:ext cx="347760" cy="530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042920" y="5257800"/>
            <a:ext cx="395280" cy="493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412920" y="5181480"/>
            <a:ext cx="406080" cy="52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722160" y="6019920"/>
            <a:ext cx="1011240" cy="512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2889360" y="5257800"/>
            <a:ext cx="1833480" cy="466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122400" y="3962520"/>
            <a:ext cx="4913280" cy="749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0" y="2514600"/>
            <a:ext cx="5200560" cy="1060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81320"/>
            <a:ext cx="8254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b"/>
                </a:solidFill>
                <a:latin typeface="Comic Sans MS"/>
              </a:rPr>
              <a:t>Traslocazione robertsoniana 13/21 bilancia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0" y="1752480"/>
            <a:ext cx="5200560" cy="420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"/>
          <a:stretch/>
        </p:blipFill>
        <p:spPr>
          <a:xfrm>
            <a:off x="9010800" y="361800"/>
            <a:ext cx="895320" cy="11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FB3-4F9D-4DDF-B390-C797DBD55C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38160" y="1625760"/>
            <a:ext cx="9781920" cy="4520520"/>
            <a:chOff x="38160" y="1625760"/>
            <a:chExt cx="9781920" cy="452052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38160" y="1625760"/>
              <a:ext cx="4758480" cy="45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4655880" y="1625760"/>
              <a:ext cx="5164200" cy="452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52360" y="315360"/>
            <a:ext cx="4559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Ring del cromosoma 1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867880" y="42372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F08-0DB3-4474-BE59-594B248DD1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2998800" cy="2228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7680" y="1143000"/>
            <a:ext cx="3056040" cy="2895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 rot="5400000">
            <a:off x="3277440" y="1408680"/>
            <a:ext cx="2882880" cy="2503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7000" y="4108320"/>
            <a:ext cx="2862360" cy="2406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6086520" y="1994040"/>
            <a:ext cx="3819600" cy="4267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06560" y="303120"/>
            <a:ext cx="569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119"/>
                </a:solidFill>
                <a:latin typeface="Comic Sans MS"/>
              </a:rPr>
              <a:t>Esempi di metafasi tumoral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8710560" y="525600"/>
            <a:ext cx="100800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77B-78AB-47C2-A703-F633980DD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5320" y="2286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03200" y="274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1800" y="1739880"/>
            <a:ext cx="335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o: traslocazione di un gene, poco attivo o inattivo, in prossimita’ della zona regolatrice di un altro gene attivamente trascritto in un tipo 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761000" y="1295280"/>
            <a:ext cx="2506680" cy="5181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06400" y="4280040"/>
            <a:ext cx="3073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 2, 22: catene leggere delle immunoglob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 14: catene pesanti delle immunoglob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 8: oncogene MY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67000" y="689400"/>
            <a:ext cx="320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20b"/>
                </a:solidFill>
                <a:latin typeface="Comic Sans MS"/>
              </a:rPr>
              <a:t>Linfomi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759880" y="525600"/>
            <a:ext cx="958680" cy="120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34E-3898-4A24-A8A1-EAB89EB3D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0120" y="1962000"/>
            <a:ext cx="425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0120" y="1143000"/>
            <a:ext cx="496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1730520"/>
            <a:ext cx="247680" cy="304560"/>
          </a:xfrm>
          <a:prstGeom prst="downArrow">
            <a:avLst>
              <a:gd name="adj1" fmla="val 50000"/>
              <a:gd name="adj2" fmla="val 30741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5480" y="3276720"/>
            <a:ext cx="32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240" y="4800600"/>
            <a:ext cx="9740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035680" y="762120"/>
            <a:ext cx="4869720" cy="4059000"/>
            <a:chOff x="5035680" y="762120"/>
            <a:chExt cx="4869720" cy="4059000"/>
          </a:xfrm>
        </p:grpSpPr>
        <p:grpSp>
          <p:nvGrpSpPr>
            <p:cNvPr id="273" name=""/>
            <p:cNvGrpSpPr/>
            <p:nvPr/>
          </p:nvGrpSpPr>
          <p:grpSpPr>
            <a:xfrm>
              <a:off x="5035680" y="762120"/>
              <a:ext cx="4869720" cy="4059000"/>
              <a:chOff x="5035680" y="762120"/>
              <a:chExt cx="4869720" cy="40590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5680" y="762120"/>
                <a:ext cx="486972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7016760" y="2382480"/>
                <a:ext cx="412560" cy="304560"/>
              </a:xfrm>
              <a:prstGeom prst="rightArrow">
                <a:avLst>
                  <a:gd name="adj1" fmla="val 50000"/>
                  <a:gd name="adj2" fmla="val 338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50680" y="95220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03080" y="1434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7527960" y="9554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75480" y="14126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63880" y="609120"/>
            <a:ext cx="7245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165240" y="3657600"/>
            <a:ext cx="50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42E-CB9B-4118-9BCE-FE52E5298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5400" y="67392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anomalie cromosom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3840" y="838080"/>
            <a:ext cx="8762400" cy="6019560"/>
            <a:chOff x="393840" y="838080"/>
            <a:chExt cx="8762400" cy="6019560"/>
          </a:xfrm>
        </p:grpSpPr>
        <p:graphicFrame>
          <p:nvGraphicFramePr>
            <p:cNvPr id="57" name=""/>
            <p:cNvGraphicFramePr/>
            <p:nvPr/>
          </p:nvGraphicFramePr>
          <p:xfrm>
            <a:off x="398520" y="1371600"/>
            <a:ext cx="8441280" cy="521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371600"/>
                      <a:ext cx="8441280" cy="52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393840" y="838080"/>
              <a:ext cx="8762400" cy="60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13760" y="525600"/>
            <a:ext cx="1504800" cy="18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453-8648-49C9-AFA6-00297D51B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rcRect l="3267" t="2857" r="1920" b="1429"/>
          <a:stretch/>
        </p:blipFill>
        <p:spPr>
          <a:xfrm>
            <a:off x="152280" y="137160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flipV="1">
            <a:off x="3867120" y="3048120"/>
            <a:ext cx="74304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2680" y="660600"/>
            <a:ext cx="676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5257800" cy="4111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709120" y="525600"/>
            <a:ext cx="1009440" cy="126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DD3-65A9-42B9-8D9A-C3165A173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876920" y="2733840"/>
            <a:ext cx="4843440" cy="3819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57440" y="603720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1a1a1"/>
                </a:solidFill>
                <a:latin typeface="Arial"/>
              </a:rPr>
              <a:t>(P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0" t="5032" r="0" b="4400"/>
          <a:stretch/>
        </p:blipFill>
        <p:spPr>
          <a:xfrm>
            <a:off x="743040" y="1066680"/>
            <a:ext cx="4100400" cy="5486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01320" y="353880"/>
            <a:ext cx="6527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720280" y="525600"/>
            <a:ext cx="998280" cy="125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519-3B31-4678-80DE-F0BA9D5349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11210" r="0" b="4537"/>
          <a:stretch/>
        </p:blipFill>
        <p:spPr>
          <a:xfrm>
            <a:off x="5105520" y="517680"/>
            <a:ext cx="4059000" cy="24447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9480" y="2757600"/>
            <a:ext cx="4102200" cy="3770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4068720" cy="3757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44160" y="863280"/>
            <a:ext cx="3581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 Leucemia </a:t>
            </a:r>
            <a:br>
              <a:rPr sz="3200"/>
            </a:b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FEB-2EC8-4DFA-B582-4FED9DA22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7160" y="667872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73680" y="1752480"/>
            <a:ext cx="40608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00280" y="1765440"/>
            <a:ext cx="4059000" cy="4533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2360" y="673920"/>
            <a:ext cx="69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701200" y="487440"/>
            <a:ext cx="1017360" cy="12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0DC-7518-4F56-AF7C-E7B958AC69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7160" y="667872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952880" y="2374920"/>
            <a:ext cx="4953240" cy="3819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47680" y="2387520"/>
            <a:ext cx="5114880" cy="38005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7280" y="965520"/>
            <a:ext cx="6972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64520" y="525600"/>
            <a:ext cx="1454040" cy="182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2A1-9D49-4192-8D3D-48380BF691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04800" y="1701720"/>
            <a:ext cx="5472000" cy="4942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05120" y="1219320"/>
            <a:ext cx="53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AML  INVERSIONE inv(16)(p13;q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94920" y="698400"/>
            <a:ext cx="635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108840" y="3209760"/>
            <a:ext cx="37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Utilizzando sonde NON opportune puo’ NON vedersi l’inver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C83-43E5-40D2-AA49-CD20E7BA90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178000" y="1346040"/>
            <a:ext cx="4907160" cy="46483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846360" y="604512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AML  INVERSIONE inv(16)(p13;q22) (CBFB-MYH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8840" y="736560"/>
            <a:ext cx="775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852-D729-4DE3-8DEE-655353A520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7160" y="667872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925640" y="1515960"/>
            <a:ext cx="5019840" cy="4940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70240" y="958680"/>
            <a:ext cx="6191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774720"/>
            <a:ext cx="708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074-1B95-403C-B795-EB831E4F7F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440" y="4484880"/>
            <a:ext cx="853596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189-8C94-46FF-A79D-270BDDAE9C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7000" y="673920"/>
            <a:ext cx="300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onosomia X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19722"/>
          <a:stretch/>
        </p:blipFill>
        <p:spPr>
          <a:xfrm>
            <a:off x="2844720" y="1835280"/>
            <a:ext cx="6019920" cy="483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8320" y="198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5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2749680"/>
            <a:ext cx="283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riscont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 nati v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ene anche chiam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drome di Tu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o femminile, amenor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ia, bassa statura, “streak gonad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543880" y="439560"/>
            <a:ext cx="1200240" cy="15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627-CDB1-466D-AD53-BF884E00E9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46280" y="673920"/>
            <a:ext cx="3810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ppia triso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00400" y="1333440"/>
            <a:ext cx="6045120" cy="552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7440" y="2146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558240" y="2485800"/>
            <a:ext cx="401400" cy="9586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986200" y="5067360"/>
            <a:ext cx="761760" cy="6094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5840" y="2035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520" y="15368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XYY +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60" y="2228760"/>
            <a:ext cx="21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za di d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osomi Y e di tre cromosomi 1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22680" y="3517920"/>
            <a:ext cx="232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resenza di 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osomi 15 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ompatibile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sviluppo. Rep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contrato in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rto sponta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 primo 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B79-EB2C-4101-98C6-E1B971D92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96960" y="623160"/>
            <a:ext cx="2374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iso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1231920"/>
            <a:ext cx="5562360" cy="556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188200" y="525600"/>
            <a:ext cx="153036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922-AEAD-4376-AD78-F4CB73A14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84440" y="597600"/>
            <a:ext cx="397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isomia parzial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98560" y="2190600"/>
            <a:ext cx="8439120" cy="3193920"/>
            <a:chOff x="898560" y="2190600"/>
            <a:chExt cx="8439120" cy="3193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98560" y="2190600"/>
              <a:ext cx="843912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50480" y="29224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63F-EDC1-4E82-885C-E03E03199D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307880"/>
            <a:ext cx="9118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24"/>
                </a:solidFill>
                <a:latin typeface="Comic Sans MS"/>
              </a:rPr>
              <a:t>Duplicazione braccio corto del cromosoma Y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2387520"/>
            <a:ext cx="6173280" cy="3568320"/>
            <a:chOff x="0" y="2387520"/>
            <a:chExt cx="6173280" cy="35683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2387520"/>
              <a:ext cx="6173280" cy="35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8280" y="2574000"/>
              <a:ext cx="1469520" cy="158688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705720" y="3517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2040" y="3517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12160" y="4051440"/>
            <a:ext cx="1089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7760" y="3975120"/>
            <a:ext cx="151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p dupl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13400" y="4940280"/>
            <a:ext cx="165240" cy="152280"/>
          </a:xfrm>
          <a:prstGeom prst="ellipse">
            <a:avLst/>
          </a:prstGeom>
          <a:solidFill>
            <a:srgbClr val="ff0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62800" y="4851360"/>
            <a:ext cx="147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foide crom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13400" y="5321160"/>
            <a:ext cx="1652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49840" y="5235480"/>
            <a:ext cx="5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360" y="5468760"/>
            <a:ext cx="235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6X -Y + mar(dupY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56160" y="6095880"/>
            <a:ext cx="455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o di sesso maschile azospe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55" t="0" r="4473" b="0"/>
          <a:stretch/>
        </p:blipFill>
        <p:spPr>
          <a:xfrm>
            <a:off x="6286680" y="2374920"/>
            <a:ext cx="3384360" cy="117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739360" y="525600"/>
            <a:ext cx="1118880" cy="14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E4C-9CB5-4CE2-951E-2ED094093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5720" y="483480"/>
            <a:ext cx="6451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ersione pericentrica:11(inv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9440" y="2835360"/>
            <a:ext cx="3743280" cy="318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1560" y="2822400"/>
            <a:ext cx="224172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69720" y="1371600"/>
            <a:ext cx="3549960" cy="12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6120" y="1295280"/>
            <a:ext cx="275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quido amnio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5600" y="6095880"/>
            <a:ext cx="43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gue periferico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2520" y="6138720"/>
            <a:ext cx="297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XX,inv(11)(p13q12.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415280" y="1714680"/>
            <a:ext cx="2490840" cy="447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750160" y="2857680"/>
            <a:ext cx="165240" cy="914400"/>
          </a:xfrm>
          <a:custGeom>
            <a:avLst/>
            <a:gdLst>
              <a:gd name="textAreaLeft" fmla="*/ 21960 w 165240"/>
              <a:gd name="textAreaRight" fmla="*/ 143280 w 1652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20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080640" y="2781360"/>
            <a:ext cx="164880" cy="914400"/>
          </a:xfrm>
          <a:custGeom>
            <a:avLst/>
            <a:gdLst>
              <a:gd name="textAreaLeft" fmla="*/ 21960 w 164880"/>
              <a:gd name="textAreaRight" fmla="*/ 142920 w 164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20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64080" y="2933640"/>
            <a:ext cx="825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64080" y="3695760"/>
            <a:ext cx="825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39160" y="6093000"/>
            <a:ext cx="695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v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52000" y="1866960"/>
            <a:ext cx="247320" cy="152388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54960" y="1866960"/>
            <a:ext cx="289080" cy="104148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69360" y="3073320"/>
            <a:ext cx="247680" cy="73656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8960" y="1809720"/>
            <a:ext cx="337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XX,inv(11)(p13q12.1)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94B-0D12-4981-A45A-EDFF00E3C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5440" y="698400"/>
            <a:ext cx="379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X-2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7920" y="1384200"/>
            <a:ext cx="6464520" cy="5291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19960" y="3544920"/>
            <a:ext cx="23529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QM-b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416800" y="525600"/>
            <a:ext cx="1301760" cy="16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959-4D15-4B6E-AEC6-DC483DF62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6-04-26T06:37:11Z</cp:lastPrinted>
  <dcterms:modified xsi:type="dcterms:W3CDTF">2008-03-19T14:33:24Z</dcterms:modified>
  <cp:revision>254</cp:revision>
  <dc:subject/>
  <dc:title>Procedimento sperimentale di Mendel</dc:title>
</cp:coreProperties>
</file>