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pct" ContentType="image/x-pict"/>
  <Override PartName="/ppt/media/image12.pct" ContentType="image/x-pict"/>
  <Override PartName="/ppt/media/image11.pct" ContentType="image/x-pict"/>
  <Override PartName="/ppt/media/image9.pct" ContentType="image/x-pict"/>
  <Override PartName="/ppt/media/image15.pct" ContentType="image/x-pict"/>
  <Override PartName="/ppt/media/image1.pct" ContentType="image/x-pict"/>
  <Override PartName="/ppt/media/image2.pct" ContentType="image/x-pict"/>
  <Override PartName="/ppt/media/image5.png" ContentType="image/png"/>
  <Override PartName="/ppt/media/image16.pct" ContentType="image/x-pict"/>
  <Override PartName="/ppt/media/image14.pct" ContentType="image/x-pict"/>
  <Override PartName="/ppt/media/image3.png" ContentType="image/png"/>
  <Override PartName="/ppt/media/image4.pct" ContentType="image/x-pict"/>
  <Override PartName="/ppt/media/image7.png" ContentType="image/png"/>
  <Override PartName="/ppt/media/image17.pct" ContentType="image/x-pict"/>
  <Override PartName="/ppt/media/image6.png" ContentType="image/png"/>
  <Override PartName="/ppt/media/image8.png" ContentType="image/png"/>
  <Override PartName="/ppt/media/image10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5ABF-97B4-4008-9BE9-49D578D675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9428-A52D-4386-AC9E-B20EDA3C11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DE18-42CC-4E69-B28C-594D5A7562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B592-B55F-416D-BC85-F7744460E6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A494-7C8A-498F-90DF-9B903F7048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206D-46FB-48F7-9E44-FC8F0F08D6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9FFD-5D63-42C7-A1A1-11592FFBB2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267B-8F66-4A57-B262-ABCA6E93CC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1AF4-9211-494F-9A6A-9AF540DEFE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0E3C-94AC-432A-A420-0BB5E42B7C8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2719440" y="534960"/>
            <a:ext cx="3705120" cy="256716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11E3-6CB8-406C-8BAB-D9EB0DBAAA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D6C-9345-409B-AD1D-BFB7D669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12CB-AEE0-4552-96EC-AE522442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3C6-4DDC-4007-BFE2-04195176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45C-962E-4E63-99A6-E8CDFD4F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C21-834D-41FB-ABA3-5005F087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E21-CB86-4E27-90D4-1BE68134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5C7-C91D-4965-A692-68CBE0BB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621-9C72-461E-BB4D-ACBCBF79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F1E-73FE-4E1F-9F37-19B8AA41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8038-35B8-4B59-BB73-0C6205D0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A2C-2BA7-4A26-842F-915CF6D6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554-9848-4ED3-B8D8-1C51177F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446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95920" y="6324480"/>
            <a:ext cx="552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250E-2F80-42DF-8D88-49D228E4FBB4}" type="slidenum">
              <a:rPr b="1" lang="en-US" sz="16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6920" y="493560"/>
            <a:ext cx="8913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1486080" y="127080"/>
            <a:ext cx="77882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GeneticaII 2007-200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hyperlink" Target="http://www.biologia.uniba.it/DIGEMI/Didattica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4.pct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53880" y="685440"/>
            <a:ext cx="487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202"/>
                </a:solidFill>
                <a:latin typeface="Comic Sans MS"/>
              </a:rPr>
              <a:t>THALASSEMIA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3716640" y="5791320"/>
            <a:ext cx="29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zione 11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pitolo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33400" y="1447920"/>
            <a:ext cx="5778720" cy="387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863-12E9-43C2-AEB8-C03CC5951A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ossibile progenie dei portator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360000" y="152388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oti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11560" y="1376280"/>
            <a:ext cx="1320120" cy="914040"/>
            <a:chOff x="2311560" y="1376280"/>
            <a:chExt cx="1320120" cy="914040"/>
          </a:xfrm>
        </p:grpSpPr>
        <p:sp>
          <p:nvSpPr>
            <p:cNvPr id="373" name=""/>
            <p:cNvSpPr/>
            <p:nvPr/>
          </p:nvSpPr>
          <p:spPr>
            <a:xfrm flipV="1">
              <a:off x="2356200" y="1794960"/>
              <a:ext cx="1113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50240" y="172404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47040" y="1724040"/>
              <a:ext cx="2664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62400" y="13762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963880" y="13762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56200" y="2163600"/>
              <a:ext cx="111348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50240" y="2101680"/>
              <a:ext cx="268200" cy="1051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41880" y="17542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11560" y="1447920"/>
              <a:ext cx="132012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100400" y="1397160"/>
            <a:ext cx="1320480" cy="888840"/>
            <a:chOff x="4100400" y="1397160"/>
            <a:chExt cx="1320480" cy="888840"/>
          </a:xfrm>
        </p:grpSpPr>
        <p:sp>
          <p:nvSpPr>
            <p:cNvPr id="383" name=""/>
            <p:cNvSpPr/>
            <p:nvPr/>
          </p:nvSpPr>
          <p:spPr>
            <a:xfrm flipV="1">
              <a:off x="4127400" y="1816200"/>
              <a:ext cx="1114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22160" y="1744560"/>
              <a:ext cx="2682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18960" y="1744560"/>
              <a:ext cx="26676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35040" y="139716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35440" y="139716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27400" y="2184480"/>
              <a:ext cx="11145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0040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026040" y="1371600"/>
            <a:ext cx="1320480" cy="914400"/>
            <a:chOff x="6026040" y="1371600"/>
            <a:chExt cx="1320480" cy="914400"/>
          </a:xfrm>
        </p:grpSpPr>
        <p:sp>
          <p:nvSpPr>
            <p:cNvPr id="391" name=""/>
            <p:cNvSpPr/>
            <p:nvPr/>
          </p:nvSpPr>
          <p:spPr>
            <a:xfrm flipV="1">
              <a:off x="6122160" y="179028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16560" y="171936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29080" y="137160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22160" y="215892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16560" y="2097000"/>
              <a:ext cx="268200" cy="104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07840" y="174960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2604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8007480" y="1371600"/>
            <a:ext cx="1320480" cy="914400"/>
            <a:chOff x="8007480" y="1371600"/>
            <a:chExt cx="1320480" cy="914400"/>
          </a:xfrm>
        </p:grpSpPr>
        <p:sp>
          <p:nvSpPr>
            <p:cNvPr id="399" name=""/>
            <p:cNvSpPr/>
            <p:nvPr/>
          </p:nvSpPr>
          <p:spPr>
            <a:xfrm flipV="1">
              <a:off x="8020800" y="179028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215200" y="171936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148960" y="137160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20800" y="215892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0748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289512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6032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33528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24280" y="2209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 Hb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403280" y="2895480"/>
            <a:ext cx="1650240" cy="1327320"/>
            <a:chOff x="1403280" y="2895480"/>
            <a:chExt cx="1650240" cy="1327320"/>
          </a:xfrm>
        </p:grpSpPr>
        <p:grpSp>
          <p:nvGrpSpPr>
            <p:cNvPr id="409" name=""/>
            <p:cNvGrpSpPr/>
            <p:nvPr/>
          </p:nvGrpSpPr>
          <p:grpSpPr>
            <a:xfrm>
              <a:off x="1403280" y="2895480"/>
              <a:ext cx="1650240" cy="1327320"/>
              <a:chOff x="1403280" y="2895480"/>
              <a:chExt cx="1650240" cy="132732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1485720" y="2895480"/>
                <a:ext cx="1300680" cy="870120"/>
                <a:chOff x="1485720" y="2895480"/>
                <a:chExt cx="1300680" cy="870120"/>
              </a:xfrm>
            </p:grpSpPr>
            <p:sp>
              <p:nvSpPr>
                <p:cNvPr id="411" name=""/>
                <p:cNvSpPr/>
                <p:nvPr/>
              </p:nvSpPr>
              <p:spPr>
                <a:xfrm flipV="1">
                  <a:off x="1485720" y="3274920"/>
                  <a:ext cx="13006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710360" y="3186000"/>
                  <a:ext cx="314280" cy="13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293200" y="3186000"/>
                  <a:ext cx="309240" cy="13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69920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28384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>
                  <a:off x="1485720" y="3720600"/>
                  <a:ext cx="13006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710360" y="3630600"/>
                  <a:ext cx="31428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293200" y="3630600"/>
                  <a:ext cx="30924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666440" y="33526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251080" y="33526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403280" y="2927520"/>
                <a:ext cx="1650240" cy="1295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1575000" y="374004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orm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219480" y="2895480"/>
            <a:ext cx="1573560" cy="1299240"/>
            <a:chOff x="3219480" y="2895480"/>
            <a:chExt cx="1573560" cy="1299240"/>
          </a:xfrm>
        </p:grpSpPr>
        <p:grpSp>
          <p:nvGrpSpPr>
            <p:cNvPr id="424" name=""/>
            <p:cNvGrpSpPr/>
            <p:nvPr/>
          </p:nvGrpSpPr>
          <p:grpSpPr>
            <a:xfrm>
              <a:off x="3362040" y="2895480"/>
              <a:ext cx="1320480" cy="878040"/>
              <a:chOff x="3362040" y="2895480"/>
              <a:chExt cx="1320480" cy="878040"/>
            </a:xfrm>
          </p:grpSpPr>
          <p:sp>
            <p:nvSpPr>
              <p:cNvPr id="425" name=""/>
              <p:cNvSpPr/>
              <p:nvPr/>
            </p:nvSpPr>
            <p:spPr>
              <a:xfrm flipV="1">
                <a:off x="3362040" y="327924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587400" y="31888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170240" y="3188880"/>
                <a:ext cx="30924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575880" y="28954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160880" y="28954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81120" y="370332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606120" y="36241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545280" y="33415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3219480" y="2946240"/>
              <a:ext cx="1573560" cy="1248480"/>
              <a:chOff x="3219480" y="2946240"/>
              <a:chExt cx="1573560" cy="1248480"/>
            </a:xfrm>
          </p:grpSpPr>
          <p:sp>
            <p:nvSpPr>
              <p:cNvPr id="434" name=""/>
              <p:cNvSpPr/>
              <p:nvPr/>
            </p:nvSpPr>
            <p:spPr>
              <a:xfrm>
                <a:off x="3219480" y="2946240"/>
                <a:ext cx="1567800" cy="1244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248280" y="3648240"/>
                <a:ext cx="1544760" cy="54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ratt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alassem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5151240" y="2895480"/>
            <a:ext cx="1639080" cy="1295640"/>
            <a:chOff x="5151240" y="2895480"/>
            <a:chExt cx="1639080" cy="1295640"/>
          </a:xfrm>
        </p:grpSpPr>
        <p:sp>
          <p:nvSpPr>
            <p:cNvPr id="437" name=""/>
            <p:cNvSpPr/>
            <p:nvPr/>
          </p:nvSpPr>
          <p:spPr>
            <a:xfrm>
              <a:off x="5200560" y="2946240"/>
              <a:ext cx="1568160" cy="1244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5151240" y="2895480"/>
              <a:ext cx="1639080" cy="1130400"/>
              <a:chOff x="5151240" y="2895480"/>
              <a:chExt cx="1639080" cy="113040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5301720" y="2895480"/>
                <a:ext cx="1301040" cy="811080"/>
                <a:chOff x="5301720" y="2895480"/>
                <a:chExt cx="1301040" cy="811080"/>
              </a:xfrm>
            </p:grpSpPr>
            <p:sp>
              <p:nvSpPr>
                <p:cNvPr id="440" name=""/>
                <p:cNvSpPr/>
                <p:nvPr/>
              </p:nvSpPr>
              <p:spPr>
                <a:xfrm flipV="1">
                  <a:off x="5301720" y="3279240"/>
                  <a:ext cx="13010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528520" y="3188880"/>
                  <a:ext cx="31248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6109200" y="3188880"/>
                  <a:ext cx="31140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51520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09804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301720" y="3698640"/>
                  <a:ext cx="130104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5151240" y="3657600"/>
                <a:ext cx="163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nemia lie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7099200" y="2870280"/>
            <a:ext cx="1568160" cy="1320840"/>
            <a:chOff x="7099200" y="2870280"/>
            <a:chExt cx="1568160" cy="1320840"/>
          </a:xfrm>
        </p:grpSpPr>
        <p:grpSp>
          <p:nvGrpSpPr>
            <p:cNvPr id="448" name=""/>
            <p:cNvGrpSpPr/>
            <p:nvPr/>
          </p:nvGrpSpPr>
          <p:grpSpPr>
            <a:xfrm>
              <a:off x="7153920" y="2870280"/>
              <a:ext cx="1349640" cy="811080"/>
              <a:chOff x="7153920" y="2870280"/>
              <a:chExt cx="1349640" cy="811080"/>
            </a:xfrm>
          </p:grpSpPr>
          <p:sp>
            <p:nvSpPr>
              <p:cNvPr id="449" name=""/>
              <p:cNvSpPr/>
              <p:nvPr/>
            </p:nvSpPr>
            <p:spPr>
              <a:xfrm>
                <a:off x="7201800" y="3243240"/>
                <a:ext cx="130176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430760" y="3163680"/>
                <a:ext cx="312840" cy="133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400880" y="287028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153920" y="3673440"/>
                <a:ext cx="13014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7099200" y="2946240"/>
              <a:ext cx="1568160" cy="124488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26800" y="37036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833920" y="4952880"/>
            <a:ext cx="1706040" cy="1295640"/>
            <a:chOff x="2833920" y="4952880"/>
            <a:chExt cx="1706040" cy="1295640"/>
          </a:xfrm>
        </p:grpSpPr>
        <p:sp>
          <p:nvSpPr>
            <p:cNvPr id="456" name=""/>
            <p:cNvSpPr/>
            <p:nvPr/>
          </p:nvSpPr>
          <p:spPr>
            <a:xfrm>
              <a:off x="2971080" y="5003640"/>
              <a:ext cx="1568880" cy="1244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33920" y="579132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nemia lie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053880" y="4952880"/>
              <a:ext cx="1320480" cy="878040"/>
              <a:chOff x="3053880" y="4952880"/>
              <a:chExt cx="1320480" cy="878040"/>
            </a:xfrm>
          </p:grpSpPr>
          <p:sp>
            <p:nvSpPr>
              <p:cNvPr id="459" name=""/>
              <p:cNvSpPr/>
              <p:nvPr/>
            </p:nvSpPr>
            <p:spPr>
              <a:xfrm flipV="1">
                <a:off x="3053880" y="533664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279240" y="52462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26772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072960" y="576072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297960" y="56815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237120" y="53989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6273720" y="4952880"/>
            <a:ext cx="1573920" cy="1298880"/>
            <a:chOff x="6273720" y="4952880"/>
            <a:chExt cx="1573920" cy="1298880"/>
          </a:xfrm>
        </p:grpSpPr>
        <p:grpSp>
          <p:nvGrpSpPr>
            <p:cNvPr id="466" name=""/>
            <p:cNvGrpSpPr/>
            <p:nvPr/>
          </p:nvGrpSpPr>
          <p:grpSpPr>
            <a:xfrm>
              <a:off x="6416280" y="4952880"/>
              <a:ext cx="1320480" cy="878040"/>
              <a:chOff x="6416280" y="4952880"/>
              <a:chExt cx="1320480" cy="878040"/>
            </a:xfrm>
          </p:grpSpPr>
          <p:sp>
            <p:nvSpPr>
              <p:cNvPr id="467" name=""/>
              <p:cNvSpPr/>
              <p:nvPr/>
            </p:nvSpPr>
            <p:spPr>
              <a:xfrm flipV="1">
                <a:off x="6416280" y="533664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641640" y="52462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24480" y="5246280"/>
                <a:ext cx="30924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3012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21512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35360" y="576072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660360" y="56815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599520" y="53989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6273720" y="5003640"/>
              <a:ext cx="1568160" cy="1244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2880" y="5705280"/>
              <a:ext cx="154476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t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lassem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8089920" y="4927680"/>
            <a:ext cx="1568160" cy="1320840"/>
            <a:chOff x="8089920" y="4927680"/>
            <a:chExt cx="1568160" cy="1320840"/>
          </a:xfrm>
        </p:grpSpPr>
        <p:grpSp>
          <p:nvGrpSpPr>
            <p:cNvPr id="478" name=""/>
            <p:cNvGrpSpPr/>
            <p:nvPr/>
          </p:nvGrpSpPr>
          <p:grpSpPr>
            <a:xfrm>
              <a:off x="8144640" y="4927680"/>
              <a:ext cx="1349640" cy="811080"/>
              <a:chOff x="8144640" y="4927680"/>
              <a:chExt cx="1349640" cy="811080"/>
            </a:xfrm>
          </p:grpSpPr>
          <p:sp>
            <p:nvSpPr>
              <p:cNvPr id="479" name=""/>
              <p:cNvSpPr/>
              <p:nvPr/>
            </p:nvSpPr>
            <p:spPr>
              <a:xfrm>
                <a:off x="8192520" y="5300640"/>
                <a:ext cx="130176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421480" y="5221080"/>
                <a:ext cx="312840" cy="133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391600" y="492768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144640" y="5730840"/>
                <a:ext cx="13014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8089920" y="5003640"/>
              <a:ext cx="1568160" cy="124488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7520" y="57610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82440" y="2666880"/>
            <a:ext cx="9080280" cy="1905120"/>
            <a:chOff x="82440" y="2666880"/>
            <a:chExt cx="9080280" cy="1905120"/>
          </a:xfrm>
        </p:grpSpPr>
        <p:sp>
          <p:nvSpPr>
            <p:cNvPr id="486" name=""/>
            <p:cNvSpPr/>
            <p:nvPr/>
          </p:nvSpPr>
          <p:spPr>
            <a:xfrm>
              <a:off x="303480" y="32004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 x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2440" y="2666880"/>
              <a:ext cx="9080280" cy="1905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82440" y="4800600"/>
            <a:ext cx="4870080" cy="1676520"/>
            <a:chOff x="82440" y="4800600"/>
            <a:chExt cx="4870080" cy="1676520"/>
          </a:xfrm>
        </p:grpSpPr>
        <p:sp>
          <p:nvSpPr>
            <p:cNvPr id="489" name=""/>
            <p:cNvSpPr/>
            <p:nvPr/>
          </p:nvSpPr>
          <p:spPr>
            <a:xfrm>
              <a:off x="215280" y="533412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 x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2440" y="4800600"/>
              <a:ext cx="48700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283360" y="4800600"/>
            <a:ext cx="4554000" cy="1676520"/>
            <a:chOff x="5283360" y="4800600"/>
            <a:chExt cx="4554000" cy="1676520"/>
          </a:xfrm>
        </p:grpSpPr>
        <p:sp>
          <p:nvSpPr>
            <p:cNvPr id="492" name=""/>
            <p:cNvSpPr/>
            <p:nvPr/>
          </p:nvSpPr>
          <p:spPr>
            <a:xfrm>
              <a:off x="5334120" y="541008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 x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83360" y="4800600"/>
              <a:ext cx="455400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1073160" y="4876920"/>
            <a:ext cx="1573920" cy="1298880"/>
            <a:chOff x="1073160" y="4876920"/>
            <a:chExt cx="1573920" cy="1298880"/>
          </a:xfrm>
        </p:grpSpPr>
        <p:grpSp>
          <p:nvGrpSpPr>
            <p:cNvPr id="495" name=""/>
            <p:cNvGrpSpPr/>
            <p:nvPr/>
          </p:nvGrpSpPr>
          <p:grpSpPr>
            <a:xfrm>
              <a:off x="1215720" y="4876920"/>
              <a:ext cx="1320480" cy="878040"/>
              <a:chOff x="1215720" y="4876920"/>
              <a:chExt cx="1320480" cy="878040"/>
            </a:xfrm>
          </p:grpSpPr>
          <p:sp>
            <p:nvSpPr>
              <p:cNvPr id="496" name=""/>
              <p:cNvSpPr/>
              <p:nvPr/>
            </p:nvSpPr>
            <p:spPr>
              <a:xfrm flipV="1">
                <a:off x="1215720" y="526068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441080" y="517032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023920" y="5170320"/>
                <a:ext cx="30924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429560" y="487692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14560" y="487692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234800" y="568476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459800" y="560556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98960" y="532296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1073160" y="4927680"/>
              <a:ext cx="1568160" cy="1244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2320" y="5629320"/>
              <a:ext cx="154476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t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lassem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AA5-D61C-4DCD-A9DD-B8836B665E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150840" y="1295280"/>
            <a:ext cx="9097560" cy="747720"/>
            <a:chOff x="150840" y="1295280"/>
            <a:chExt cx="9097560" cy="747720"/>
          </a:xfrm>
        </p:grpSpPr>
        <p:sp>
          <p:nvSpPr>
            <p:cNvPr id="507" name=""/>
            <p:cNvSpPr/>
            <p:nvPr/>
          </p:nvSpPr>
          <p:spPr>
            <a:xfrm>
              <a:off x="973440" y="151092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69880" y="1901520"/>
              <a:ext cx="687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33400" y="1760400"/>
              <a:ext cx="534960" cy="21096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21360" y="1760400"/>
              <a:ext cx="534960" cy="21096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81120" y="1760400"/>
              <a:ext cx="381600" cy="2109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8524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5480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3344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93200" y="1298160"/>
              <a:ext cx="31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28720" y="1407960"/>
              <a:ext cx="5634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20560" y="1384200"/>
              <a:ext cx="5630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63280" y="135072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58760" y="1350720"/>
              <a:ext cx="3513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33440" y="20430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8524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30400" y="2043000"/>
              <a:ext cx="38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7040" y="1407960"/>
              <a:ext cx="4928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0840" y="1295280"/>
              <a:ext cx="19699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Raggruppamen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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lobine 11p1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0900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9696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-54000" y="2158920"/>
            <a:ext cx="922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riginata principalmente da mutazioni il cui effetto attraverso meccan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versi e’ quello di avere un deficit di caten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. I siti di mutazione so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ratteristici di una popol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2599920" y="3474720"/>
            <a:ext cx="5520960" cy="1903680"/>
            <a:chOff x="2599920" y="3474720"/>
            <a:chExt cx="5520960" cy="1903680"/>
          </a:xfrm>
        </p:grpSpPr>
        <p:grpSp>
          <p:nvGrpSpPr>
            <p:cNvPr id="529" name=""/>
            <p:cNvGrpSpPr/>
            <p:nvPr/>
          </p:nvGrpSpPr>
          <p:grpSpPr>
            <a:xfrm>
              <a:off x="2741400" y="4191120"/>
              <a:ext cx="5379480" cy="307080"/>
              <a:chOff x="2741400" y="4191120"/>
              <a:chExt cx="5379480" cy="307080"/>
            </a:xfrm>
          </p:grpSpPr>
          <p:sp>
            <p:nvSpPr>
              <p:cNvPr id="530" name=""/>
              <p:cNvSpPr/>
              <p:nvPr/>
            </p:nvSpPr>
            <p:spPr>
              <a:xfrm>
                <a:off x="2741400" y="4368960"/>
                <a:ext cx="53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222720" y="4229280"/>
                <a:ext cx="79920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916080" y="4229280"/>
                <a:ext cx="101448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3399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57600" y="4229280"/>
                <a:ext cx="79920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250600" y="4229280"/>
                <a:ext cx="112104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3399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265440" y="4229280"/>
                <a:ext cx="112104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747880" y="4191120"/>
                <a:ext cx="32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5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800120" y="4191120"/>
                <a:ext cx="32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90680" y="42181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eson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30240" y="42181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eson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342840" y="42181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esone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810240" y="4218120"/>
                <a:ext cx="83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intron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327640" y="4218120"/>
                <a:ext cx="83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intron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2599920" y="3579840"/>
              <a:ext cx="627480" cy="784800"/>
              <a:chOff x="2599920" y="3579840"/>
              <a:chExt cx="627480" cy="784800"/>
            </a:xfrm>
          </p:grpSpPr>
          <p:sp>
            <p:nvSpPr>
              <p:cNvPr id="544" name=""/>
              <p:cNvSpPr/>
              <p:nvPr/>
            </p:nvSpPr>
            <p:spPr>
              <a:xfrm rot="418800">
                <a:off x="2641680" y="361008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ff0202"/>
                  </a:gs>
                  <a:gs pos="50000">
                    <a:srgbClr val="ffdd00"/>
                  </a:gs>
                  <a:gs pos="100000">
                    <a:srgbClr val="ff020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754000" y="36417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3543840" y="3475080"/>
              <a:ext cx="2826720" cy="784800"/>
              <a:chOff x="3543840" y="3475080"/>
              <a:chExt cx="2826720" cy="784800"/>
            </a:xfrm>
          </p:grpSpPr>
          <p:sp>
            <p:nvSpPr>
              <p:cNvPr id="547" name=""/>
              <p:cNvSpPr/>
              <p:nvPr/>
            </p:nvSpPr>
            <p:spPr>
              <a:xfrm rot="418800">
                <a:off x="4119480" y="35053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418800">
                <a:off x="4930200" y="3505320"/>
                <a:ext cx="54396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418800">
                <a:off x="5784840" y="35053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418800">
                <a:off x="3585600" y="35053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246200" y="3543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714120" y="3554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042880" y="3543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901840" y="3543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351600" y="4475520"/>
              <a:ext cx="3799080" cy="902880"/>
              <a:chOff x="3351600" y="4475520"/>
              <a:chExt cx="3799080" cy="902880"/>
            </a:xfrm>
          </p:grpSpPr>
          <p:sp>
            <p:nvSpPr>
              <p:cNvPr id="556" name=""/>
              <p:cNvSpPr/>
              <p:nvPr/>
            </p:nvSpPr>
            <p:spPr>
              <a:xfrm rot="11700000">
                <a:off x="3435840" y="45331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1700000">
                <a:off x="4760640" y="45331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1700000">
                <a:off x="6522480" y="45331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630600" y="5004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956840" y="5010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714360" y="49910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693120" y="3474720"/>
              <a:ext cx="628920" cy="784800"/>
              <a:chOff x="6693120" y="3474720"/>
              <a:chExt cx="628920" cy="784800"/>
            </a:xfrm>
          </p:grpSpPr>
          <p:sp>
            <p:nvSpPr>
              <p:cNvPr id="563" name=""/>
              <p:cNvSpPr/>
              <p:nvPr/>
            </p:nvSpPr>
            <p:spPr>
              <a:xfrm rot="418800">
                <a:off x="6734880" y="3504960"/>
                <a:ext cx="54504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ff02de"/>
                  </a:gs>
                  <a:gs pos="50000">
                    <a:srgbClr val="009999"/>
                  </a:gs>
                  <a:gs pos="100000">
                    <a:srgbClr val="ff02d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857280" y="3543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5" name=""/>
          <p:cNvSpPr/>
          <p:nvPr/>
        </p:nvSpPr>
        <p:spPr>
          <a:xfrm>
            <a:off x="266760" y="5334120"/>
            <a:ext cx="897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 mutazioni nel promotore portano diminuzione del livello promo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2 mutazioni puntiformi all’interno degli esoni causano sostituzioni aa o fine tra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3 mutazioni introni, alterazione spli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4 mutazione in siti di poliadenil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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Thalassem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7AC-C93C-4B18-997D-123CDA3767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2440" y="1219320"/>
            <a:ext cx="9410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thalassemia: tutte le forme in cui manca la cate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’mRNA puo’ mancare completamente, degradato o ina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2440" y="1981080"/>
            <a:ext cx="982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thalassemia: tutte le forme la cate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e’ sottorappres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’mRNA puo’ non venire processato in maniera corretta o essere poco rappresent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8080" y="3124080"/>
            <a:ext cx="9080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 questa categoria appartengono l’emoglobine Lepore: per effetto di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rossingover fra i gen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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he hanno una parziale omologia di sequenza) 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ttiene un gen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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he viene trascritto in minor quantita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il promotore d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e’ piu’ debo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53880" y="5281560"/>
            <a:ext cx="268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71280" y="5283360"/>
            <a:ext cx="52488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21720" y="5283360"/>
            <a:ext cx="457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150920" y="5675040"/>
            <a:ext cx="3967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46240" y="5581800"/>
            <a:ext cx="341280" cy="139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82920" y="5581800"/>
            <a:ext cx="342720" cy="139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54160" y="5581800"/>
            <a:ext cx="341640" cy="1396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467160" y="5562720"/>
            <a:ext cx="342720" cy="1396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16080" y="5581800"/>
            <a:ext cx="339840" cy="1396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939040" y="5315040"/>
            <a:ext cx="349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95240" y="5315040"/>
            <a:ext cx="2948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00280" y="56610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49600" y="5715000"/>
            <a:ext cx="209520" cy="19836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28920" y="6016680"/>
            <a:ext cx="400176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59160" y="5931000"/>
            <a:ext cx="342720" cy="137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900520" y="5931000"/>
            <a:ext cx="339480" cy="137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7160" y="5931000"/>
            <a:ext cx="341280" cy="137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44960" y="5943600"/>
            <a:ext cx="341280" cy="1382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628640" y="5931000"/>
            <a:ext cx="343080" cy="137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50600" y="5979960"/>
            <a:ext cx="268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68000" y="5981760"/>
            <a:ext cx="52488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434400" y="6040440"/>
            <a:ext cx="349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61800" y="6040440"/>
            <a:ext cx="2948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18440" y="5981760"/>
            <a:ext cx="457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5681520" y="5765760"/>
            <a:ext cx="4141440" cy="1015920"/>
            <a:chOff x="5681520" y="5765760"/>
            <a:chExt cx="4141440" cy="1015920"/>
          </a:xfrm>
        </p:grpSpPr>
        <p:sp>
          <p:nvSpPr>
            <p:cNvPr id="595" name=""/>
            <p:cNvSpPr/>
            <p:nvPr/>
          </p:nvSpPr>
          <p:spPr>
            <a:xfrm>
              <a:off x="5738040" y="6321600"/>
              <a:ext cx="4002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68640" y="6235560"/>
              <a:ext cx="342000" cy="1382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08920" y="623556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11120" y="6235560"/>
              <a:ext cx="34092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837760" y="6235560"/>
              <a:ext cx="34236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59720" y="6284880"/>
              <a:ext cx="268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77480" y="6286680"/>
              <a:ext cx="52488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79440" y="6345360"/>
              <a:ext cx="474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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27920" y="6286680"/>
              <a:ext cx="457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84680" y="5791320"/>
              <a:ext cx="161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thalassem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681520" y="5765760"/>
              <a:ext cx="4141440" cy="10159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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Thalassem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681520" y="4724280"/>
            <a:ext cx="4141440" cy="1016280"/>
            <a:chOff x="5681520" y="4724280"/>
            <a:chExt cx="4141440" cy="1016280"/>
          </a:xfrm>
        </p:grpSpPr>
        <p:sp>
          <p:nvSpPr>
            <p:cNvPr id="608" name=""/>
            <p:cNvSpPr/>
            <p:nvPr/>
          </p:nvSpPr>
          <p:spPr>
            <a:xfrm>
              <a:off x="7839000" y="4827600"/>
              <a:ext cx="122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Anti-Lep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81520" y="4724280"/>
              <a:ext cx="4141440" cy="1016280"/>
            </a:xfrm>
            <a:prstGeom prst="rect">
              <a:avLst/>
            </a:prstGeom>
            <a:solidFill>
              <a:srgbClr val="ff0202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90080" y="5126040"/>
              <a:ext cx="522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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58000" y="5122800"/>
              <a:ext cx="268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575760" y="5124600"/>
              <a:ext cx="52488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26200" y="5124600"/>
              <a:ext cx="457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5855040" y="5516280"/>
              <a:ext cx="3967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5144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188120" y="5423040"/>
              <a:ext cx="342000" cy="1396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75908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832240" y="5423040"/>
              <a:ext cx="34236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2056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744320" y="5156280"/>
              <a:ext cx="349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835480" y="5156280"/>
              <a:ext cx="29484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350920" y="542124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E95-0A51-403C-A34C-B12B9A8333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 mutazioni della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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alassemia nelle diverse popolazion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60800" y="1932120"/>
            <a:ext cx="8303400" cy="1618560"/>
            <a:chOff x="460800" y="1932120"/>
            <a:chExt cx="8303400" cy="1618560"/>
          </a:xfrm>
        </p:grpSpPr>
        <p:sp>
          <p:nvSpPr>
            <p:cNvPr id="625" name=""/>
            <p:cNvSpPr/>
            <p:nvPr/>
          </p:nvSpPr>
          <p:spPr>
            <a:xfrm>
              <a:off x="460800" y="1932120"/>
              <a:ext cx="8303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ardegna:  codone 39 da glutamina a stop       proteina tronca      95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6   perdita di una base       frameshift           2.1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76   perdita di una base          =                 0.7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10  G     A                  splicing alterato    0.5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2 745  C     G                      ==               0.4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429000" y="297180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29000" y="320040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47840" y="4713120"/>
            <a:ext cx="8267040" cy="1618560"/>
            <a:chOff x="447840" y="4713120"/>
            <a:chExt cx="8267040" cy="1618560"/>
          </a:xfrm>
        </p:grpSpPr>
        <p:sp>
          <p:nvSpPr>
            <p:cNvPr id="629" name=""/>
            <p:cNvSpPr/>
            <p:nvPr/>
          </p:nvSpPr>
          <p:spPr>
            <a:xfrm>
              <a:off x="447840" y="4713120"/>
              <a:ext cx="82670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recia:    codone 39  da glutamina a stop     proteina tronca       17.4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    G       A              splicing alterato      13.6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6    T       C              splicing alterato       7.4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10  G      A                    ==               43.7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2 745  C      G                     ==               7.1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55920" y="576756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70320" y="605952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384720" y="510552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97320" y="539748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42200" y="3733920"/>
            <a:ext cx="901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l delta del PO la mutazione piu’ frequente provoca un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per un segnale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plicing ambig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073-6F49-4027-A9CF-863F67CBA5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 mutazioni della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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alassemia nelle diverse popolazion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714960" y="3571920"/>
            <a:ext cx="7628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kistan    codone 8/9  + una base                frameshift        28.9 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rone1 5    G       C                                     26.4 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ezione di 619bp                                          23.3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rone1 1    G       T                                       8.2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 41/42  -TCTT                    frameshift        7.9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52680" y="403848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76720" y="4572000"/>
            <a:ext cx="412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021320" y="1754280"/>
            <a:ext cx="7131600" cy="1618560"/>
            <a:chOff x="1021320" y="1754280"/>
            <a:chExt cx="7131600" cy="1618560"/>
          </a:xfrm>
        </p:grpSpPr>
        <p:sp>
          <p:nvSpPr>
            <p:cNvPr id="640" name=""/>
            <p:cNvSpPr/>
            <p:nvPr/>
          </p:nvSpPr>
          <p:spPr>
            <a:xfrm>
              <a:off x="1021320" y="1754280"/>
              <a:ext cx="71316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ina  :  codone 41/42  -TCTT                    frameshift        38.6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2 654   C      T                                       15.7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71/76   + una base               frameshift        12.4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28G           A      G                                       11.6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17      A      T                                       10.5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24080" y="274320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06880" y="303516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220968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1271520" y="5413320"/>
            <a:ext cx="66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fro americani:  -29         A       G                                 60.3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88          C      T                                  21.4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 24    T     A                                    7.9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6     - una base                                 0.8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09880" y="586728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78200" y="617220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09880" y="563868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F31-4C41-4139-8733-9A0FCB1A9E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erche’ queste differenze?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1816200" y="1371600"/>
            <a:ext cx="511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HARDY- WEINBE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1240" y="1752480"/>
            <a:ext cx="9201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una popolazion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infinitamente grand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n cui gli incroci avveng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asualment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n cui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on vi siano mutazion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e’ migrazion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e’ selezion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ze alleliche in locus con 2 alleli non cambiano nel tempo, e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ze genotipiche si stabilizzano secondo le proporzioni: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2pq + 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ffff02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5240" y="3581280"/>
            <a:ext cx="9740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 sempre tenuto presente che H-W e’ un modello  matematico che ci fornisce “un’ipotesi zero” cioe’ un punto di partenza per saggiare gli effetti che possono modificare le frequenze alleliche: ci permette di individuare le forze che  fanno evolvere una popolazione natur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7680" y="4952880"/>
            <a:ext cx="9493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2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do esaminando una popolazione trovo che le frequenze genotipiche si discostano significativamente dall’atteso vuol dire che una delle condizioni e’ venuta 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8915400" y="533520"/>
            <a:ext cx="747720" cy="18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F3A-2678-428B-A749-BA49526CB6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4889520" y="1905120"/>
            <a:ext cx="5016600" cy="31496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3733920" cy="43563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istribuzione della thalassem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1C0-8F88-43E2-9E7F-33C71C4907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mand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65880" y="1295280"/>
            <a:ext cx="84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che’ gli alleli “thalassemici” hanno questa frequenza? N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ovrebbero spar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-95400" y="2286000"/>
            <a:ext cx="953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 : gli omozigoti e gli eterozigoti composti sono grave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romessi e non si riproducono quindi ad ogni generazione una quo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 alleli si dovrebbe perdere e la frequenza dell’allele”malato” dovreb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minuire drastic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040" y="3809880"/>
            <a:ext cx="876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identemente c’e’ stato qualcosa nel corso dell’evoluzione che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cuni ambienti a favorito gli eterozig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5840" y="4800600"/>
            <a:ext cx="89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 perche’ le mutazioni hanno frequenze diverse nelle popolazion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4480" y="5562720"/>
            <a:ext cx="59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ffetto del fondatore o del collo di bottigl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8915400" y="533520"/>
            <a:ext cx="747720" cy="18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E13-71D2-4AA5-A9AD-ACC9DA3E2B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714840" y="2409840"/>
            <a:ext cx="12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375080" y="332424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375080" y="24098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1520" y="3327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817280" y="3497400"/>
            <a:ext cx="38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209440" y="4314960"/>
            <a:ext cx="10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82760" y="4495680"/>
            <a:ext cx="8514720" cy="1179000"/>
            <a:chOff x="482760" y="4495680"/>
            <a:chExt cx="8514720" cy="1179000"/>
          </a:xfrm>
        </p:grpSpPr>
        <p:sp>
          <p:nvSpPr>
            <p:cNvPr id="671" name=""/>
            <p:cNvSpPr/>
            <p:nvPr/>
          </p:nvSpPr>
          <p:spPr>
            <a:xfrm>
              <a:off x="482760" y="4495680"/>
              <a:ext cx="58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4000" y="5032080"/>
              <a:ext cx="6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815480" y="469872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384000" y="4698720"/>
              <a:ext cx="41292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200200" y="469872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22792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9804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6872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584560" y="5140080"/>
              <a:ext cx="41292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477720" y="5867280"/>
            <a:ext cx="934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st per la mutazion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9  basato sul dot-blot. Ibridazione con oligonucleotide normale (N) e mutante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9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4910040" y="1622520"/>
            <a:ext cx="785880" cy="15494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3103560" y="1647720"/>
            <a:ext cx="858960" cy="148284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6603840" y="3629160"/>
            <a:ext cx="498600" cy="99036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7920" y="3805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test mutazioni globin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4"/>
          <a:stretch/>
        </p:blipFill>
        <p:spPr>
          <a:xfrm flipH="1">
            <a:off x="7543440" y="762120"/>
            <a:ext cx="222084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E09-F648-4849-8B03-9D9FD09EEA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2806560" y="609480"/>
            <a:ext cx="4292640" cy="419112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58440" y="4545000"/>
            <a:ext cx="85359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materiale didattico e’ presente in rete: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biologia.uniba.it/DIGEMI/Didattica.html</a:t>
            </a:r>
            <a:br>
              <a:rPr sz="2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ono dispense, ma un ausilio allo studio su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F60-9362-4AC4-BDAB-813ADE09D2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cora eredita’ autosomica recessiv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291240" y="1295280"/>
            <a:ext cx="950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che’ le thalassemie? Perche’ sono un modello perfetto sia dal punto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ista della genetica formale che mole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133720"/>
            <a:ext cx="9247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emoglobina e’ stata una delle prime proteine ad essere studiata, i ge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rrispondenti sono stati tra i primi ad essere clonati, e gli studi han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messo di ricavere informazioni sulla genetica di popolazione e sull’evol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81080" y="3352680"/>
            <a:ext cx="5105520" cy="34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CE6-BD41-4886-8FD6-EA5DA36142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320" y="989280"/>
            <a:ext cx="9658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intesi globine nella vita fetale ed adult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5025960" y="171612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073160" y="1447920"/>
            <a:ext cx="8039520" cy="3290760"/>
            <a:chOff x="1073160" y="1447920"/>
            <a:chExt cx="8039520" cy="3290760"/>
          </a:xfrm>
        </p:grpSpPr>
        <p:sp>
          <p:nvSpPr>
            <p:cNvPr id="61" name=""/>
            <p:cNvSpPr/>
            <p:nvPr/>
          </p:nvSpPr>
          <p:spPr>
            <a:xfrm>
              <a:off x="1073160" y="1746360"/>
              <a:ext cx="7925040" cy="2992320"/>
            </a:xfrm>
            <a:custGeom>
              <a:avLst/>
              <a:gdLst/>
              <a:ahLst/>
              <a:rect l="l" t="t" r="r" b="b"/>
              <a:pathLst>
                <a:path w="4608" h="1885">
                  <a:moveTo>
                    <a:pt x="0" y="1885"/>
                  </a:moveTo>
                  <a:cubicBezTo>
                    <a:pt x="10" y="1809"/>
                    <a:pt x="21" y="1734"/>
                    <a:pt x="40" y="1661"/>
                  </a:cubicBezTo>
                  <a:cubicBezTo>
                    <a:pt x="37" y="1610"/>
                    <a:pt x="32" y="1559"/>
                    <a:pt x="32" y="1509"/>
                  </a:cubicBezTo>
                  <a:cubicBezTo>
                    <a:pt x="32" y="1343"/>
                    <a:pt x="52" y="1437"/>
                    <a:pt x="32" y="1357"/>
                  </a:cubicBezTo>
                  <a:cubicBezTo>
                    <a:pt x="39" y="1302"/>
                    <a:pt x="41" y="1210"/>
                    <a:pt x="72" y="1165"/>
                  </a:cubicBezTo>
                  <a:cubicBezTo>
                    <a:pt x="130" y="1077"/>
                    <a:pt x="179" y="1009"/>
                    <a:pt x="216" y="901"/>
                  </a:cubicBezTo>
                  <a:cubicBezTo>
                    <a:pt x="263" y="759"/>
                    <a:pt x="349" y="659"/>
                    <a:pt x="448" y="549"/>
                  </a:cubicBezTo>
                  <a:cubicBezTo>
                    <a:pt x="483" y="509"/>
                    <a:pt x="512" y="464"/>
                    <a:pt x="552" y="429"/>
                  </a:cubicBezTo>
                  <a:cubicBezTo>
                    <a:pt x="671" y="321"/>
                    <a:pt x="955" y="224"/>
                    <a:pt x="1048" y="181"/>
                  </a:cubicBezTo>
                  <a:cubicBezTo>
                    <a:pt x="1093" y="159"/>
                    <a:pt x="1177" y="110"/>
                    <a:pt x="1240" y="101"/>
                  </a:cubicBezTo>
                  <a:cubicBezTo>
                    <a:pt x="1596" y="44"/>
                    <a:pt x="1970" y="59"/>
                    <a:pt x="2328" y="53"/>
                  </a:cubicBezTo>
                  <a:cubicBezTo>
                    <a:pt x="2717" y="61"/>
                    <a:pt x="3106" y="45"/>
                    <a:pt x="3496" y="61"/>
                  </a:cubicBezTo>
                  <a:cubicBezTo>
                    <a:pt x="3641" y="31"/>
                    <a:pt x="3758" y="29"/>
                    <a:pt x="3920" y="21"/>
                  </a:cubicBezTo>
                  <a:cubicBezTo>
                    <a:pt x="3944" y="16"/>
                    <a:pt x="3967" y="0"/>
                    <a:pt x="3992" y="5"/>
                  </a:cubicBezTo>
                  <a:cubicBezTo>
                    <a:pt x="4016" y="9"/>
                    <a:pt x="4038" y="26"/>
                    <a:pt x="4064" y="29"/>
                  </a:cubicBezTo>
                  <a:cubicBezTo>
                    <a:pt x="4170" y="37"/>
                    <a:pt x="4277" y="44"/>
                    <a:pt x="4384" y="53"/>
                  </a:cubicBezTo>
                  <a:cubicBezTo>
                    <a:pt x="4444" y="73"/>
                    <a:pt x="4393" y="58"/>
                    <a:pt x="4520" y="69"/>
                  </a:cubicBezTo>
                  <a:cubicBezTo>
                    <a:pt x="4605" y="76"/>
                    <a:pt x="4580" y="96"/>
                    <a:pt x="4608" y="6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3800" y="1447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880920" y="2414520"/>
            <a:ext cx="8605800" cy="2489400"/>
            <a:chOff x="880920" y="2414520"/>
            <a:chExt cx="8605800" cy="2489400"/>
          </a:xfrm>
        </p:grpSpPr>
        <p:sp>
          <p:nvSpPr>
            <p:cNvPr id="64" name=""/>
            <p:cNvSpPr/>
            <p:nvPr/>
          </p:nvSpPr>
          <p:spPr>
            <a:xfrm>
              <a:off x="880920" y="2414520"/>
              <a:ext cx="8378280" cy="2408400"/>
            </a:xfrm>
            <a:custGeom>
              <a:avLst/>
              <a:gdLst/>
              <a:ahLst/>
              <a:rect l="l" t="t" r="r" b="b"/>
              <a:pathLst>
                <a:path w="4872" h="1517">
                  <a:moveTo>
                    <a:pt x="0" y="952"/>
                  </a:moveTo>
                  <a:cubicBezTo>
                    <a:pt x="37" y="944"/>
                    <a:pt x="74" y="937"/>
                    <a:pt x="112" y="928"/>
                  </a:cubicBezTo>
                  <a:cubicBezTo>
                    <a:pt x="128" y="923"/>
                    <a:pt x="160" y="912"/>
                    <a:pt x="160" y="912"/>
                  </a:cubicBezTo>
                  <a:cubicBezTo>
                    <a:pt x="200" y="881"/>
                    <a:pt x="257" y="842"/>
                    <a:pt x="304" y="824"/>
                  </a:cubicBezTo>
                  <a:cubicBezTo>
                    <a:pt x="349" y="778"/>
                    <a:pt x="408" y="755"/>
                    <a:pt x="456" y="712"/>
                  </a:cubicBezTo>
                  <a:cubicBezTo>
                    <a:pt x="567" y="612"/>
                    <a:pt x="401" y="749"/>
                    <a:pt x="560" y="600"/>
                  </a:cubicBezTo>
                  <a:cubicBezTo>
                    <a:pt x="582" y="579"/>
                    <a:pt x="610" y="565"/>
                    <a:pt x="632" y="544"/>
                  </a:cubicBezTo>
                  <a:cubicBezTo>
                    <a:pt x="670" y="505"/>
                    <a:pt x="703" y="460"/>
                    <a:pt x="744" y="424"/>
                  </a:cubicBezTo>
                  <a:cubicBezTo>
                    <a:pt x="763" y="406"/>
                    <a:pt x="803" y="376"/>
                    <a:pt x="824" y="352"/>
                  </a:cubicBezTo>
                  <a:cubicBezTo>
                    <a:pt x="863" y="305"/>
                    <a:pt x="897" y="248"/>
                    <a:pt x="944" y="208"/>
                  </a:cubicBezTo>
                  <a:cubicBezTo>
                    <a:pt x="964" y="189"/>
                    <a:pt x="993" y="183"/>
                    <a:pt x="1016" y="168"/>
                  </a:cubicBezTo>
                  <a:cubicBezTo>
                    <a:pt x="1083" y="121"/>
                    <a:pt x="1147" y="69"/>
                    <a:pt x="1216" y="24"/>
                  </a:cubicBezTo>
                  <a:cubicBezTo>
                    <a:pt x="1360" y="38"/>
                    <a:pt x="1503" y="25"/>
                    <a:pt x="1648" y="16"/>
                  </a:cubicBezTo>
                  <a:cubicBezTo>
                    <a:pt x="1708" y="0"/>
                    <a:pt x="1771" y="20"/>
                    <a:pt x="1832" y="32"/>
                  </a:cubicBezTo>
                  <a:cubicBezTo>
                    <a:pt x="1911" y="71"/>
                    <a:pt x="1990" y="111"/>
                    <a:pt x="2064" y="160"/>
                  </a:cubicBezTo>
                  <a:cubicBezTo>
                    <a:pt x="2105" y="283"/>
                    <a:pt x="2057" y="155"/>
                    <a:pt x="2096" y="232"/>
                  </a:cubicBezTo>
                  <a:cubicBezTo>
                    <a:pt x="2113" y="267"/>
                    <a:pt x="2110" y="301"/>
                    <a:pt x="2136" y="336"/>
                  </a:cubicBezTo>
                  <a:cubicBezTo>
                    <a:pt x="2147" y="351"/>
                    <a:pt x="2163" y="361"/>
                    <a:pt x="2176" y="376"/>
                  </a:cubicBezTo>
                  <a:cubicBezTo>
                    <a:pt x="2205" y="410"/>
                    <a:pt x="2174" y="394"/>
                    <a:pt x="2216" y="408"/>
                  </a:cubicBezTo>
                  <a:cubicBezTo>
                    <a:pt x="2234" y="424"/>
                    <a:pt x="2252" y="440"/>
                    <a:pt x="2272" y="456"/>
                  </a:cubicBezTo>
                  <a:cubicBezTo>
                    <a:pt x="2290" y="470"/>
                    <a:pt x="2310" y="481"/>
                    <a:pt x="2328" y="496"/>
                  </a:cubicBezTo>
                  <a:cubicBezTo>
                    <a:pt x="2356" y="518"/>
                    <a:pt x="2370" y="545"/>
                    <a:pt x="2400" y="568"/>
                  </a:cubicBezTo>
                  <a:cubicBezTo>
                    <a:pt x="2426" y="648"/>
                    <a:pt x="2502" y="718"/>
                    <a:pt x="2560" y="776"/>
                  </a:cubicBezTo>
                  <a:cubicBezTo>
                    <a:pt x="2642" y="858"/>
                    <a:pt x="2528" y="719"/>
                    <a:pt x="2640" y="840"/>
                  </a:cubicBezTo>
                  <a:cubicBezTo>
                    <a:pt x="2697" y="902"/>
                    <a:pt x="2720" y="986"/>
                    <a:pt x="2776" y="1048"/>
                  </a:cubicBezTo>
                  <a:cubicBezTo>
                    <a:pt x="2808" y="1083"/>
                    <a:pt x="2847" y="1087"/>
                    <a:pt x="2872" y="1136"/>
                  </a:cubicBezTo>
                  <a:cubicBezTo>
                    <a:pt x="2877" y="1146"/>
                    <a:pt x="2879" y="1159"/>
                    <a:pt x="2888" y="1168"/>
                  </a:cubicBezTo>
                  <a:cubicBezTo>
                    <a:pt x="2924" y="1204"/>
                    <a:pt x="3003" y="1255"/>
                    <a:pt x="3056" y="1264"/>
                  </a:cubicBezTo>
                  <a:cubicBezTo>
                    <a:pt x="3093" y="1269"/>
                    <a:pt x="3168" y="1280"/>
                    <a:pt x="3168" y="1280"/>
                  </a:cubicBezTo>
                  <a:cubicBezTo>
                    <a:pt x="3230" y="1300"/>
                    <a:pt x="3265" y="1356"/>
                    <a:pt x="3328" y="1384"/>
                  </a:cubicBezTo>
                  <a:cubicBezTo>
                    <a:pt x="3451" y="1438"/>
                    <a:pt x="3588" y="1442"/>
                    <a:pt x="3720" y="1448"/>
                  </a:cubicBezTo>
                  <a:cubicBezTo>
                    <a:pt x="4046" y="1517"/>
                    <a:pt x="4323" y="1501"/>
                    <a:pt x="4664" y="1496"/>
                  </a:cubicBezTo>
                  <a:cubicBezTo>
                    <a:pt x="4823" y="1477"/>
                    <a:pt x="4754" y="1480"/>
                    <a:pt x="4872" y="148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76400" y="4535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866880" y="3303720"/>
            <a:ext cx="852120" cy="1473120"/>
            <a:chOff x="866880" y="3303720"/>
            <a:chExt cx="852120" cy="1473120"/>
          </a:xfrm>
        </p:grpSpPr>
        <p:sp>
          <p:nvSpPr>
            <p:cNvPr id="67" name=""/>
            <p:cNvSpPr/>
            <p:nvPr/>
          </p:nvSpPr>
          <p:spPr>
            <a:xfrm>
              <a:off x="866880" y="3303720"/>
              <a:ext cx="852120" cy="1473120"/>
            </a:xfrm>
            <a:custGeom>
              <a:avLst/>
              <a:gdLst/>
              <a:ahLst/>
              <a:rect l="l" t="t" r="r" b="b"/>
              <a:pathLst>
                <a:path w="496" h="928">
                  <a:moveTo>
                    <a:pt x="0" y="0"/>
                  </a:moveTo>
                  <a:cubicBezTo>
                    <a:pt x="29" y="72"/>
                    <a:pt x="27" y="148"/>
                    <a:pt x="72" y="216"/>
                  </a:cubicBezTo>
                  <a:cubicBezTo>
                    <a:pt x="88" y="282"/>
                    <a:pt x="68" y="216"/>
                    <a:pt x="96" y="272"/>
                  </a:cubicBezTo>
                  <a:cubicBezTo>
                    <a:pt x="115" y="310"/>
                    <a:pt x="110" y="335"/>
                    <a:pt x="136" y="376"/>
                  </a:cubicBezTo>
                  <a:cubicBezTo>
                    <a:pt x="146" y="392"/>
                    <a:pt x="168" y="424"/>
                    <a:pt x="168" y="424"/>
                  </a:cubicBezTo>
                  <a:cubicBezTo>
                    <a:pt x="183" y="518"/>
                    <a:pt x="205" y="611"/>
                    <a:pt x="232" y="704"/>
                  </a:cubicBezTo>
                  <a:cubicBezTo>
                    <a:pt x="243" y="745"/>
                    <a:pt x="245" y="772"/>
                    <a:pt x="272" y="808"/>
                  </a:cubicBezTo>
                  <a:cubicBezTo>
                    <a:pt x="307" y="914"/>
                    <a:pt x="396" y="928"/>
                    <a:pt x="496" y="928"/>
                  </a:cubicBezTo>
                </a:path>
              </a:pathLst>
            </a:custGeom>
            <a:noFill/>
            <a:ln w="19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28480" y="43974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073160" y="1944720"/>
            <a:ext cx="8061840" cy="2941560"/>
            <a:chOff x="1073160" y="1944720"/>
            <a:chExt cx="8061840" cy="2941560"/>
          </a:xfrm>
        </p:grpSpPr>
        <p:sp>
          <p:nvSpPr>
            <p:cNvPr id="70" name=""/>
            <p:cNvSpPr/>
            <p:nvPr/>
          </p:nvSpPr>
          <p:spPr>
            <a:xfrm>
              <a:off x="1073160" y="1970280"/>
              <a:ext cx="7993440" cy="2916000"/>
            </a:xfrm>
            <a:custGeom>
              <a:avLst/>
              <a:gdLst/>
              <a:ahLst/>
              <a:rect l="l" t="t" r="r" b="b"/>
              <a:pathLst>
                <a:path w="4648" h="1837">
                  <a:moveTo>
                    <a:pt x="0" y="1816"/>
                  </a:moveTo>
                  <a:cubicBezTo>
                    <a:pt x="65" y="1837"/>
                    <a:pt x="117" y="1783"/>
                    <a:pt x="176" y="1768"/>
                  </a:cubicBezTo>
                  <a:cubicBezTo>
                    <a:pt x="207" y="1759"/>
                    <a:pt x="272" y="1744"/>
                    <a:pt x="272" y="1744"/>
                  </a:cubicBezTo>
                  <a:cubicBezTo>
                    <a:pt x="320" y="1716"/>
                    <a:pt x="360" y="1663"/>
                    <a:pt x="416" y="1656"/>
                  </a:cubicBezTo>
                  <a:cubicBezTo>
                    <a:pt x="570" y="1633"/>
                    <a:pt x="724" y="1620"/>
                    <a:pt x="880" y="1608"/>
                  </a:cubicBezTo>
                  <a:cubicBezTo>
                    <a:pt x="944" y="1586"/>
                    <a:pt x="864" y="1608"/>
                    <a:pt x="928" y="1608"/>
                  </a:cubicBezTo>
                  <a:cubicBezTo>
                    <a:pt x="1098" y="1608"/>
                    <a:pt x="1269" y="1595"/>
                    <a:pt x="1440" y="1592"/>
                  </a:cubicBezTo>
                  <a:cubicBezTo>
                    <a:pt x="1547" y="1584"/>
                    <a:pt x="1705" y="1591"/>
                    <a:pt x="1816" y="1552"/>
                  </a:cubicBezTo>
                  <a:cubicBezTo>
                    <a:pt x="1909" y="1518"/>
                    <a:pt x="1982" y="1451"/>
                    <a:pt x="2080" y="1432"/>
                  </a:cubicBezTo>
                  <a:cubicBezTo>
                    <a:pt x="2208" y="1354"/>
                    <a:pt x="2334" y="1279"/>
                    <a:pt x="2480" y="1240"/>
                  </a:cubicBezTo>
                  <a:cubicBezTo>
                    <a:pt x="2570" y="1188"/>
                    <a:pt x="2528" y="1205"/>
                    <a:pt x="2584" y="1120"/>
                  </a:cubicBezTo>
                  <a:cubicBezTo>
                    <a:pt x="2627" y="1053"/>
                    <a:pt x="2614" y="1089"/>
                    <a:pt x="2664" y="1040"/>
                  </a:cubicBezTo>
                  <a:cubicBezTo>
                    <a:pt x="2717" y="986"/>
                    <a:pt x="2768" y="906"/>
                    <a:pt x="2832" y="864"/>
                  </a:cubicBezTo>
                  <a:cubicBezTo>
                    <a:pt x="2923" y="727"/>
                    <a:pt x="3074" y="676"/>
                    <a:pt x="3208" y="600"/>
                  </a:cubicBezTo>
                  <a:cubicBezTo>
                    <a:pt x="3263" y="568"/>
                    <a:pt x="3302" y="490"/>
                    <a:pt x="3344" y="464"/>
                  </a:cubicBezTo>
                  <a:cubicBezTo>
                    <a:pt x="3433" y="407"/>
                    <a:pt x="3623" y="360"/>
                    <a:pt x="3696" y="328"/>
                  </a:cubicBezTo>
                  <a:cubicBezTo>
                    <a:pt x="3737" y="309"/>
                    <a:pt x="3854" y="223"/>
                    <a:pt x="3920" y="208"/>
                  </a:cubicBezTo>
                  <a:cubicBezTo>
                    <a:pt x="3977" y="194"/>
                    <a:pt x="4085" y="176"/>
                    <a:pt x="4152" y="168"/>
                  </a:cubicBezTo>
                  <a:cubicBezTo>
                    <a:pt x="4186" y="133"/>
                    <a:pt x="4208" y="75"/>
                    <a:pt x="4256" y="64"/>
                  </a:cubicBezTo>
                  <a:cubicBezTo>
                    <a:pt x="4335" y="44"/>
                    <a:pt x="4409" y="28"/>
                    <a:pt x="4488" y="0"/>
                  </a:cubicBezTo>
                  <a:cubicBezTo>
                    <a:pt x="4599" y="10"/>
                    <a:pt x="4546" y="8"/>
                    <a:pt x="4648" y="8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29360" y="194472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525920" y="4157640"/>
            <a:ext cx="4851360" cy="746280"/>
            <a:chOff x="4525920" y="4157640"/>
            <a:chExt cx="4851360" cy="746280"/>
          </a:xfrm>
        </p:grpSpPr>
        <p:sp>
          <p:nvSpPr>
            <p:cNvPr id="73" name=""/>
            <p:cNvSpPr/>
            <p:nvPr/>
          </p:nvSpPr>
          <p:spPr>
            <a:xfrm>
              <a:off x="4525920" y="4471920"/>
              <a:ext cx="4653000" cy="432000"/>
            </a:xfrm>
            <a:custGeom>
              <a:avLst/>
              <a:gdLst/>
              <a:ahLst/>
              <a:rect l="l" t="t" r="r" b="b"/>
              <a:pathLst>
                <a:path w="2704" h="272">
                  <a:moveTo>
                    <a:pt x="0" y="272"/>
                  </a:moveTo>
                  <a:cubicBezTo>
                    <a:pt x="155" y="233"/>
                    <a:pt x="320" y="233"/>
                    <a:pt x="480" y="224"/>
                  </a:cubicBezTo>
                  <a:cubicBezTo>
                    <a:pt x="619" y="189"/>
                    <a:pt x="797" y="206"/>
                    <a:pt x="944" y="200"/>
                  </a:cubicBezTo>
                  <a:cubicBezTo>
                    <a:pt x="1175" y="212"/>
                    <a:pt x="1399" y="213"/>
                    <a:pt x="1632" y="208"/>
                  </a:cubicBezTo>
                  <a:cubicBezTo>
                    <a:pt x="1769" y="199"/>
                    <a:pt x="1884" y="190"/>
                    <a:pt x="2016" y="176"/>
                  </a:cubicBezTo>
                  <a:cubicBezTo>
                    <a:pt x="2123" y="149"/>
                    <a:pt x="2235" y="142"/>
                    <a:pt x="2344" y="120"/>
                  </a:cubicBezTo>
                  <a:cubicBezTo>
                    <a:pt x="2427" y="102"/>
                    <a:pt x="2508" y="75"/>
                    <a:pt x="2592" y="64"/>
                  </a:cubicBezTo>
                  <a:cubicBezTo>
                    <a:pt x="2613" y="55"/>
                    <a:pt x="2637" y="52"/>
                    <a:pt x="2656" y="40"/>
                  </a:cubicBezTo>
                  <a:cubicBezTo>
                    <a:pt x="2665" y="33"/>
                    <a:pt x="2671" y="23"/>
                    <a:pt x="2680" y="16"/>
                  </a:cubicBezTo>
                  <a:cubicBezTo>
                    <a:pt x="2687" y="9"/>
                    <a:pt x="2704" y="0"/>
                    <a:pt x="2704" y="0"/>
                  </a:cubicBezTo>
                </a:path>
              </a:pathLst>
            </a:custGeom>
            <a:noFill/>
            <a:ln w="190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083880" y="415764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83960" y="1716120"/>
            <a:ext cx="9391320" cy="4300200"/>
            <a:chOff x="183960" y="1716120"/>
            <a:chExt cx="9391320" cy="4300200"/>
          </a:xfrm>
        </p:grpSpPr>
        <p:sp>
          <p:nvSpPr>
            <p:cNvPr id="76" name=""/>
            <p:cNvSpPr/>
            <p:nvPr/>
          </p:nvSpPr>
          <p:spPr>
            <a:xfrm>
              <a:off x="743040" y="1716120"/>
              <a:ext cx="0" cy="335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8160" y="4916160"/>
              <a:ext cx="891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3040" y="5678280"/>
              <a:ext cx="883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68200" y="5648040"/>
              <a:ext cx="21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ettimane di vi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91800" y="4992480"/>
              <a:ext cx="826920" cy="307080"/>
            </a:xfrm>
            <a:prstGeom prst="rect">
              <a:avLst/>
            </a:prstGeom>
            <a:gradFill rotWithShape="0">
              <a:gsLst>
                <a:gs pos="0">
                  <a:srgbClr val="70f1ff"/>
                </a:gs>
                <a:gs pos="100000">
                  <a:srgbClr val="ffb5e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as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79600" y="4995360"/>
              <a:ext cx="72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        12       18      24      30       36                        6        12       18       24       30       36       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9400" y="5297040"/>
              <a:ext cx="98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renat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13960" y="5297040"/>
              <a:ext cx="106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ostnat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183960" y="2364840"/>
              <a:ext cx="454680" cy="11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quantit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71320" y="600228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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 embr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0000" y="637056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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 fe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90680" y="5999040"/>
            <a:ext cx="22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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0120" y="6303960"/>
            <a:ext cx="23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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79B-9F3A-4F08-A0AB-20C5F9E54E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2c02"/>
                </a:solidFill>
                <a:latin typeface="Comic Sans MS"/>
                <a:ea typeface="ＭＳ Ｐゴシック"/>
              </a:rPr>
              <a:t>Cluster delle globine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412920" y="1523880"/>
            <a:ext cx="924552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rivano da duplicazione genica, per effetto del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nversione genica rendono un locus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ot-spot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di mut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28520" y="3505320"/>
            <a:ext cx="9119880" cy="742680"/>
            <a:chOff x="128520" y="3505320"/>
            <a:chExt cx="9119880" cy="742680"/>
          </a:xfrm>
        </p:grpSpPr>
        <p:sp>
          <p:nvSpPr>
            <p:cNvPr id="92" name=""/>
            <p:cNvSpPr/>
            <p:nvPr/>
          </p:nvSpPr>
          <p:spPr>
            <a:xfrm>
              <a:off x="2369880" y="4106880"/>
              <a:ext cx="687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86400" y="39654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21360" y="39654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09320" y="39654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01480" y="3965400"/>
              <a:ext cx="53640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95440" y="3965400"/>
              <a:ext cx="53496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36760" y="3965400"/>
              <a:ext cx="381600" cy="21276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33440" y="3965400"/>
              <a:ext cx="53460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98960" y="350532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2880" y="3578400"/>
              <a:ext cx="6346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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2960" y="3589200"/>
              <a:ext cx="6573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57400" y="3589200"/>
              <a:ext cx="6573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05800" y="35560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05520" y="35560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41080" y="3627360"/>
              <a:ext cx="3420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33440" y="42480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01480" y="4248000"/>
              <a:ext cx="38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73200" y="4248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36760" y="4248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520" y="3619440"/>
              <a:ext cx="19699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Raggruppamen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lobine 16p1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370240" y="5649840"/>
            <a:ext cx="687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3376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2136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81840" y="5508720"/>
            <a:ext cx="380880" cy="21096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8488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5516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3380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93920" y="5046840"/>
            <a:ext cx="3132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28360" y="5156280"/>
            <a:ext cx="563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0920" y="5132520"/>
            <a:ext cx="563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3280" y="5099040"/>
            <a:ext cx="4291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58760" y="5099040"/>
            <a:ext cx="3513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3800" y="5791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84880" y="5791320"/>
            <a:ext cx="38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31120" y="5791320"/>
            <a:ext cx="38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7400" y="5156280"/>
            <a:ext cx="492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0840" y="5043600"/>
            <a:ext cx="19699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aggruppam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lobine 11p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0080" y="5791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97320" y="57913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flipH="1">
            <a:off x="7162560" y="609480"/>
            <a:ext cx="2414520" cy="12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DB3-55F4-446E-81F0-9A957E13B6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1981080"/>
            <a:ext cx="9248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erivano da duplicazione genica e accumulo progressivo di mutazi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6360" y="4303800"/>
            <a:ext cx="841320" cy="2109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92480" y="3809880"/>
            <a:ext cx="84132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92480" y="4867200"/>
            <a:ext cx="841320" cy="2127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33760" y="3809880"/>
            <a:ext cx="84168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4867200"/>
            <a:ext cx="841680" cy="21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54840" y="4586400"/>
            <a:ext cx="841320" cy="210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54840" y="3809880"/>
            <a:ext cx="84132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54840" y="5361120"/>
            <a:ext cx="841320" cy="21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9280" y="3879720"/>
            <a:ext cx="335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46200" y="3597120"/>
            <a:ext cx="687600" cy="141480"/>
          </a:xfrm>
          <a:custGeom>
            <a:avLst/>
            <a:gdLst>
              <a:gd name="textAreaLeft" fmla="*/ 120240 w 687600"/>
              <a:gd name="textAreaRight" fmla="*/ 498600 w 68760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10080" y="3597120"/>
            <a:ext cx="687240" cy="14148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32600" y="3597120"/>
            <a:ext cx="687240" cy="14148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32600" y="4373640"/>
            <a:ext cx="687240" cy="14112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120"/>
              <a:gd name="textAreaBottom" fmla="*/ 122400 h 141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65480" y="3244680"/>
            <a:ext cx="1164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s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selettiv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22200" y="4373640"/>
            <a:ext cx="68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11240" y="4020840"/>
            <a:ext cx="45900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11240" y="4373640"/>
            <a:ext cx="381240" cy="42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58920" y="4021200"/>
            <a:ext cx="1452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en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11560" y="3879720"/>
            <a:ext cx="106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11560" y="5008680"/>
            <a:ext cx="106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78560" y="3879720"/>
            <a:ext cx="1071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593680" y="4630680"/>
            <a:ext cx="1188720" cy="29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4040" y="5087520"/>
            <a:ext cx="1188000" cy="29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6960" y="4168800"/>
            <a:ext cx="1741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iversific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00480" y="3668760"/>
            <a:ext cx="335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86400" y="3809880"/>
            <a:ext cx="0" cy="211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07120" y="3809880"/>
            <a:ext cx="0" cy="211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24920" y="3668760"/>
            <a:ext cx="1406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origin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24920" y="4408560"/>
            <a:ext cx="1406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rrel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05520" y="4444920"/>
            <a:ext cx="473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24520" y="5222880"/>
            <a:ext cx="500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55160" y="5149800"/>
            <a:ext cx="1404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Nessu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9640" y="3457440"/>
            <a:ext cx="681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len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1320" y="4514760"/>
            <a:ext cx="825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rapi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34960" y="4425840"/>
            <a:ext cx="316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2720" y="4848120"/>
            <a:ext cx="316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202"/>
                </a:solidFill>
                <a:latin typeface="Comic Sans MS"/>
              </a:rPr>
              <a:t>Evoluzione delle globine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 flipH="1">
            <a:off x="6933960" y="685800"/>
            <a:ext cx="2414520" cy="123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FF8-14F7-4B2F-917F-015DBA5781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30800" y="6060960"/>
            <a:ext cx="13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90960" y="4594320"/>
            <a:ext cx="22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7520" y="1244520"/>
            <a:ext cx="775980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e LCR si trovano a monte dei raggruppamenti e la loro funzione sarebbe quella di organizzare il raggruppamento in un dominio di cromatina attiva, agendo come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nhanc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800" y="2514600"/>
            <a:ext cx="914616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 cromatina attiva si presenta sensibile alla Dnasi I e grazie a que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atteristica sono state identificate le LCR per i due aggruppameni globini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’ stato anche possibile riconoscere che questa ipersensibilita’ e’ modulata ne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versi stadi di svilup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686800" y="6324480"/>
            <a:ext cx="609480" cy="282600"/>
          </a:xfrm>
          <a:custGeom>
            <a:avLst/>
            <a:gdLst>
              <a:gd name="textAreaLeft" fmla="*/ 95040 w 609480"/>
              <a:gd name="textAreaRight" fmla="*/ 533520 w 60948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5112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8920" y="4313160"/>
            <a:ext cx="382320" cy="5637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7544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948440" y="4452840"/>
            <a:ext cx="53532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8488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790120" y="4452840"/>
            <a:ext cx="534960" cy="35424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3900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7680" y="4594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1240" y="4594320"/>
            <a:ext cx="83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86080" y="4594320"/>
            <a:ext cx="106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19840" y="4594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83760" y="459432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10440" y="4384800"/>
            <a:ext cx="1143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59160" y="4067280"/>
            <a:ext cx="128232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S-40        </a:t>
            </a: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2680" y="3780000"/>
            <a:ext cx="483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92360" y="3774960"/>
            <a:ext cx="5036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43320" y="3795840"/>
            <a:ext cx="5036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61200" y="4383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02520" y="4383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42400" y="438300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93880" y="3809880"/>
            <a:ext cx="402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35200" y="4041720"/>
            <a:ext cx="402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865720" y="4078440"/>
            <a:ext cx="294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62400" y="5902200"/>
            <a:ext cx="53640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35280" y="5761080"/>
            <a:ext cx="38088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95840" y="5919840"/>
            <a:ext cx="5349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713800" y="5900760"/>
            <a:ext cx="5349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89800" y="5900760"/>
            <a:ext cx="5367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59400" y="5919840"/>
            <a:ext cx="534960" cy="352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78200" y="5919840"/>
            <a:ext cx="53532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9920" y="6043680"/>
            <a:ext cx="76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16160" y="604368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14640" y="6060960"/>
            <a:ext cx="76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26560" y="6041880"/>
            <a:ext cx="6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70240" y="5761080"/>
            <a:ext cx="38088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00320" y="5761080"/>
            <a:ext cx="38232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13520" y="606096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248760" y="604188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74680" y="5400720"/>
            <a:ext cx="15872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S-4  HS-3 HS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40160" y="5549760"/>
            <a:ext cx="6094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40160" y="5830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8680" y="590076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56320" y="585000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97640" y="5850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67560" y="5829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790120" y="5829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30680" y="5487840"/>
            <a:ext cx="43524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77480" y="5495760"/>
            <a:ext cx="41688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18800" y="5567400"/>
            <a:ext cx="461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66840" y="5548320"/>
            <a:ext cx="28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712720" y="5535720"/>
            <a:ext cx="302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8280" y="5800680"/>
            <a:ext cx="1148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524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ontrollo dei cluster globinici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391520" y="685800"/>
            <a:ext cx="2333520" cy="170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8AF-1CF9-40EE-A239-E2E3F1D141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137160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ruppo di malattie ereditarie determinate dall’alterato rapporto fra le catene alfa e beta, per cui si hanno molecole di emoglobina aberra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360" y="2438280"/>
            <a:ext cx="941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lassemia alfa : catene alfa ridotte o ass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lassemia beta: catene beta ridotte o ass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3200400"/>
            <a:ext cx="932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ono autosomiche recessive, se considero il fenotipo anemia, sono dominanti se considero il fenotipo del globulo rosso, o fenotipo quantita’ delle catene globini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0120" y="4419720"/>
            <a:ext cx="93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on sono uniformemente distribuite nel mondo, hanno prevalenza massima in alcune a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2920" y="5322960"/>
            <a:ext cx="932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 ogni popolazione si trovano un numero molto limitato di mutazioni, ma una mutazione rara o assente in una popolazione puo’ risultare frequente in un’al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81280" y="685080"/>
            <a:ext cx="4724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Le thalassemi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 flipH="1">
            <a:off x="7543440" y="762120"/>
            <a:ext cx="222084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560-0856-45D3-A301-3A28EBFD76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4440" y="1219320"/>
            <a:ext cx="914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riginata principalmente da delezioni dei geni alfa: su ogni cromosoma 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ono presenti 2 copie espresse del gene alfa : la delezione puo’ riguard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 o due copie, in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i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 in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95120" y="2505240"/>
            <a:ext cx="9119520" cy="1065960"/>
            <a:chOff x="195120" y="2505240"/>
            <a:chExt cx="9119520" cy="1065960"/>
          </a:xfrm>
        </p:grpSpPr>
        <p:sp>
          <p:nvSpPr>
            <p:cNvPr id="240" name=""/>
            <p:cNvSpPr/>
            <p:nvPr/>
          </p:nvSpPr>
          <p:spPr>
            <a:xfrm>
              <a:off x="3265200" y="250524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195120" y="2555640"/>
              <a:ext cx="9119520" cy="1015560"/>
              <a:chOff x="195120" y="2555640"/>
              <a:chExt cx="9119520" cy="1015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436120" y="3106440"/>
                <a:ext cx="687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52640" y="2964960"/>
                <a:ext cx="381600" cy="212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87240" y="2964960"/>
                <a:ext cx="381600" cy="212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75200" y="2964960"/>
                <a:ext cx="381600" cy="212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867720" y="2964960"/>
                <a:ext cx="536040" cy="2124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61320" y="2964960"/>
                <a:ext cx="534960" cy="2124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702640" y="2964960"/>
                <a:ext cx="381600" cy="212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99680" y="2964960"/>
                <a:ext cx="534600" cy="2124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79120" y="2577600"/>
                <a:ext cx="63468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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029200" y="2588760"/>
                <a:ext cx="6573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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24000" y="2588760"/>
                <a:ext cx="6573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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71680" y="255564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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71400" y="255564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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706960" y="2626920"/>
                <a:ext cx="34200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5120" y="2619000"/>
                <a:ext cx="196992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Raggruppamento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</a:t>
                </a:r>
                <a:r>
                  <a:rPr b="0" lang="en-US" sz="17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globine 16p13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2436120" y="3288960"/>
                <a:ext cx="6878160" cy="282240"/>
                <a:chOff x="2436120" y="3288960"/>
                <a:chExt cx="6878160" cy="2822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436120" y="3429720"/>
                  <a:ext cx="6878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652640" y="3288960"/>
                  <a:ext cx="38160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87240" y="3288960"/>
                  <a:ext cx="38160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874840" y="3288960"/>
                  <a:ext cx="38160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867360" y="3288960"/>
                  <a:ext cx="53604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860960" y="3288960"/>
                  <a:ext cx="53496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702280" y="3288960"/>
                  <a:ext cx="381600" cy="212400"/>
                </a:xfrm>
                <a:prstGeom prst="cube">
                  <a:avLst>
                    <a:gd name="adj" fmla="val 25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199320" y="3288960"/>
                  <a:ext cx="53460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199320" y="357120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867360" y="3571200"/>
                  <a:ext cx="383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938720" y="357120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702280" y="357120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0" name=""/>
          <p:cNvSpPr/>
          <p:nvPr/>
        </p:nvSpPr>
        <p:spPr>
          <a:xfrm>
            <a:off x="937080" y="4451400"/>
            <a:ext cx="70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ene definito allele  l’insieme dei due geni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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092240" y="3876840"/>
            <a:ext cx="2476440" cy="505800"/>
            <a:chOff x="1092240" y="3876840"/>
            <a:chExt cx="2476440" cy="505800"/>
          </a:xfrm>
        </p:grpSpPr>
        <p:sp>
          <p:nvSpPr>
            <p:cNvPr id="272" name=""/>
            <p:cNvSpPr/>
            <p:nvPr/>
          </p:nvSpPr>
          <p:spPr>
            <a:xfrm flipV="1">
              <a:off x="1778040" y="3980880"/>
              <a:ext cx="1790640" cy="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74160" y="387684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62480" y="387684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44600" y="387684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92240" y="4326480"/>
              <a:ext cx="1771200" cy="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69280" y="422568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57600" y="4225680"/>
              <a:ext cx="37044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39720" y="422568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49400" y="4045320"/>
              <a:ext cx="171360" cy="168480"/>
            </a:xfrm>
            <a:prstGeom prst="flowChartCollat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715000" y="3952800"/>
            <a:ext cx="2361960" cy="433440"/>
            <a:chOff x="5715000" y="3952800"/>
            <a:chExt cx="2361960" cy="433440"/>
          </a:xfrm>
        </p:grpSpPr>
        <p:sp>
          <p:nvSpPr>
            <p:cNvPr id="282" name=""/>
            <p:cNvSpPr/>
            <p:nvPr/>
          </p:nvSpPr>
          <p:spPr>
            <a:xfrm>
              <a:off x="5886360" y="4048920"/>
              <a:ext cx="21906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82800" y="395280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71120" y="395280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53240" y="395280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86320" y="4325400"/>
              <a:ext cx="17906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71120" y="422928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53240" y="422928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15000" y="395496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311720" y="4181400"/>
            <a:ext cx="907920" cy="152640"/>
          </a:xfrm>
          <a:custGeom>
            <a:avLst/>
            <a:gdLst>
              <a:gd name="textAreaLeft" fmla="*/ 141840 w 907920"/>
              <a:gd name="textAreaRight" fmla="*/ 794520 w 90792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8360" y="5029200"/>
            <a:ext cx="84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l sud est asiatico sono presenti entrambi i tipi di delezion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entre in Africa e’ praticamente assente l’allele 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9800" y="5783400"/>
            <a:ext cx="79434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 genotipi possibili sono 6 e i fenotipi sono diversi a sec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lle combin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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Thalassem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18F-EE5D-4676-8BE6-5F4C1440A4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2680" y="593280"/>
            <a:ext cx="842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enotipi e fenotipi nella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thalassem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5400" y="161460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set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o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1440" y="2817720"/>
            <a:ext cx="10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. Ge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4600" y="38703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9520" y="49672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e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287720" y="1050840"/>
            <a:ext cx="1436040" cy="4419720"/>
            <a:chOff x="1287720" y="1050840"/>
            <a:chExt cx="1436040" cy="4419720"/>
          </a:xfrm>
        </p:grpSpPr>
        <p:sp>
          <p:nvSpPr>
            <p:cNvPr id="300" name=""/>
            <p:cNvSpPr/>
            <p:nvPr/>
          </p:nvSpPr>
          <p:spPr>
            <a:xfrm>
              <a:off x="1403640" y="1050840"/>
              <a:ext cx="132012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287720" y="1334880"/>
              <a:ext cx="1392840" cy="4001040"/>
              <a:chOff x="1287720" y="1334880"/>
              <a:chExt cx="1392840" cy="400104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1289880" y="1334880"/>
                <a:ext cx="1390680" cy="2854080"/>
                <a:chOff x="1289880" y="1334880"/>
                <a:chExt cx="1390680" cy="2854080"/>
              </a:xfrm>
            </p:grpSpPr>
            <p:sp>
              <p:nvSpPr>
                <p:cNvPr id="303" name=""/>
                <p:cNvSpPr/>
                <p:nvPr/>
              </p:nvSpPr>
              <p:spPr>
                <a:xfrm flipV="1">
                  <a:off x="1517400" y="1754280"/>
                  <a:ext cx="11145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711440" y="1682640"/>
                  <a:ext cx="267840" cy="106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207520" y="1682640"/>
                  <a:ext cx="266040" cy="106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26120" y="1334880"/>
                  <a:ext cx="378720" cy="48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125800" y="1334880"/>
                  <a:ext cx="378720" cy="48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517400" y="2122560"/>
                  <a:ext cx="111456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711440" y="2060640"/>
                  <a:ext cx="267840" cy="104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207520" y="2060640"/>
                  <a:ext cx="266040" cy="104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604520" y="1712880"/>
                  <a:ext cx="474840" cy="5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26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107800" y="1712880"/>
                  <a:ext cx="474840" cy="5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26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749600" y="26733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289880" y="3546360"/>
                  <a:ext cx="1390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omozigo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wild-typ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1287720" y="4937040"/>
                <a:ext cx="124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essu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2700000" y="1050840"/>
            <a:ext cx="1371600" cy="4419720"/>
            <a:chOff x="2700000" y="1050840"/>
            <a:chExt cx="1371600" cy="4419720"/>
          </a:xfrm>
        </p:grpSpPr>
        <p:sp>
          <p:nvSpPr>
            <p:cNvPr id="317" name=""/>
            <p:cNvSpPr/>
            <p:nvPr/>
          </p:nvSpPr>
          <p:spPr>
            <a:xfrm>
              <a:off x="2751480" y="1050840"/>
              <a:ext cx="132012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768760" y="1754280"/>
              <a:ext cx="1113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62800" y="1682640"/>
              <a:ext cx="2682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59600" y="1682640"/>
              <a:ext cx="2664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75680" y="13348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76440" y="13348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68760" y="2122560"/>
              <a:ext cx="1113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62800" y="2060640"/>
              <a:ext cx="268200" cy="104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54440" y="17128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01680" y="2673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00000" y="3489120"/>
              <a:ext cx="13496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 alle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55160" y="494820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ie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441040" y="1050840"/>
            <a:ext cx="1390680" cy="4419720"/>
            <a:chOff x="5441040" y="1050840"/>
            <a:chExt cx="1390680" cy="4419720"/>
          </a:xfrm>
        </p:grpSpPr>
        <p:sp>
          <p:nvSpPr>
            <p:cNvPr id="330" name=""/>
            <p:cNvSpPr/>
            <p:nvPr/>
          </p:nvSpPr>
          <p:spPr>
            <a:xfrm>
              <a:off x="5448240" y="1050840"/>
              <a:ext cx="132048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441040" y="1330200"/>
              <a:ext cx="1390680" cy="4012200"/>
              <a:chOff x="5441040" y="1330200"/>
              <a:chExt cx="1390680" cy="401220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5448240" y="1748880"/>
                <a:ext cx="1113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42280" y="1677960"/>
                <a:ext cx="267840" cy="106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54800" y="133020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48240" y="2117520"/>
                <a:ext cx="111348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42280" y="2055600"/>
                <a:ext cx="267840" cy="1047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33560" y="170820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680800" y="2668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41040" y="3565440"/>
                <a:ext cx="139068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omozigo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nessun alle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wild-type!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33560" y="4943520"/>
                <a:ext cx="78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lie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6769080" y="1050840"/>
            <a:ext cx="1525320" cy="4419720"/>
            <a:chOff x="6769080" y="1050840"/>
            <a:chExt cx="1525320" cy="4419720"/>
          </a:xfrm>
        </p:grpSpPr>
        <p:sp>
          <p:nvSpPr>
            <p:cNvPr id="342" name=""/>
            <p:cNvSpPr/>
            <p:nvPr/>
          </p:nvSpPr>
          <p:spPr>
            <a:xfrm>
              <a:off x="6796080" y="1050840"/>
              <a:ext cx="144324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50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769080" y="1749600"/>
              <a:ext cx="1113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63120" y="1677960"/>
              <a:ext cx="26784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75640" y="133020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69080" y="2117880"/>
              <a:ext cx="111312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01640" y="2668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95360" y="3565440"/>
              <a:ext cx="14990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essun alle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-type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86160" y="4632480"/>
              <a:ext cx="90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r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095360" y="1050840"/>
            <a:ext cx="1349640" cy="4419720"/>
            <a:chOff x="4095360" y="1050840"/>
            <a:chExt cx="1349640" cy="4419720"/>
          </a:xfrm>
        </p:grpSpPr>
        <p:grpSp>
          <p:nvGrpSpPr>
            <p:cNvPr id="351" name=""/>
            <p:cNvGrpSpPr/>
            <p:nvPr/>
          </p:nvGrpSpPr>
          <p:grpSpPr>
            <a:xfrm>
              <a:off x="4100400" y="1050840"/>
              <a:ext cx="1320120" cy="4419720"/>
              <a:chOff x="4100400" y="1050840"/>
              <a:chExt cx="1320120" cy="4419720"/>
            </a:xfrm>
          </p:grpSpPr>
          <p:sp>
            <p:nvSpPr>
              <p:cNvPr id="352" name=""/>
              <p:cNvSpPr/>
              <p:nvPr/>
            </p:nvSpPr>
            <p:spPr>
              <a:xfrm>
                <a:off x="4100400" y="1050840"/>
                <a:ext cx="1320120" cy="4419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b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4127400" y="1774800"/>
                <a:ext cx="1114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22160" y="1703160"/>
                <a:ext cx="268200" cy="106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18960" y="1703160"/>
                <a:ext cx="266400" cy="106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234680" y="135576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35080" y="135576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27400" y="2143080"/>
                <a:ext cx="11142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359600" y="2693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214520" y="4968720"/>
                <a:ext cx="78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lie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4095360" y="3489120"/>
              <a:ext cx="13496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 alle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8280720" y="1050840"/>
            <a:ext cx="1445400" cy="4419720"/>
            <a:chOff x="8280720" y="1050840"/>
            <a:chExt cx="1445400" cy="4419720"/>
          </a:xfrm>
        </p:grpSpPr>
        <p:sp>
          <p:nvSpPr>
            <p:cNvPr id="363" name=""/>
            <p:cNvSpPr/>
            <p:nvPr/>
          </p:nvSpPr>
          <p:spPr>
            <a:xfrm>
              <a:off x="8282160" y="1050840"/>
              <a:ext cx="144396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2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378280" y="174888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78280" y="211752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519040" y="2668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80720" y="3840120"/>
              <a:ext cx="13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mozig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2240" y="494352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et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3280" y="5411880"/>
            <a:ext cx="90183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cune forme d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alassemia sono dovute all’instabilita’ dell’mRNA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l’emoglobina:mutazione nel sito di poliadenilazione, perdita del codone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op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94D-5D2D-4967-9B3E-A3F09FACB8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54:06Z</dcterms:created>
  <dc:creator>Palumbo</dc:creator>
  <dc:description/>
  <dc:language>en-US</dc:language>
  <cp:lastModifiedBy>Mariano Rocchi</cp:lastModifiedBy>
  <cp:lastPrinted>2006-04-29T12:46:33Z</cp:lastPrinted>
  <dcterms:modified xsi:type="dcterms:W3CDTF">2008-05-15T05:58:11Z</dcterms:modified>
  <cp:revision>218</cp:revision>
  <dc:subject/>
  <dc:title>Procedimento sperimentale di Mendel</dc:title>
</cp:coreProperties>
</file>