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ct" ContentType="image/x-pict"/>
  <Override PartName="/ppt/media/image9.pct" ContentType="image/x-pict"/>
  <Override PartName="/ppt/media/image11.png" ContentType="image/png"/>
  <Override PartName="/ppt/media/image14.png" ContentType="image/png"/>
  <Override PartName="/ppt/media/image1.pct" ContentType="image/x-pict"/>
  <Override PartName="/ppt/media/image8.jpeg" ContentType="image/jpeg"/>
  <Override PartName="/ppt/media/image16.pct" ContentType="image/x-pict"/>
  <Override PartName="/ppt/media/image2.pct" ContentType="image/x-pict"/>
  <Override PartName="/ppt/media/image3.jpeg" ContentType="image/jpeg"/>
  <Override PartName="/ppt/media/image15.png" ContentType="image/png"/>
  <Override PartName="/ppt/media/image5.jpeg" ContentType="image/jpeg"/>
  <Override PartName="/ppt/media/image12.pct" ContentType="image/x-pict"/>
  <Override PartName="/ppt/media/image4.pct" ContentType="image/x-pict"/>
  <Override PartName="/ppt/media/image10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4529-D9AA-4B48-818B-BFAA048F3EA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BCF2-248D-4464-9359-47E4B83474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2717640" y="534960"/>
            <a:ext cx="3708720" cy="256716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1CCD-23AA-4C9A-9343-67960783C85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2717640" y="534960"/>
            <a:ext cx="3708720" cy="256716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8801-6A11-43DD-9BE0-F50C6A0C3E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2717640" y="534960"/>
            <a:ext cx="3708720" cy="256716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DABC-305D-4F6E-A3EF-B402DABACA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2717640" y="534960"/>
            <a:ext cx="3708720" cy="256716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FE26-D429-4867-A229-81A1ADEC6E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2717640" y="534960"/>
            <a:ext cx="3708720" cy="256716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ED76-B795-42D3-874E-0BC26603853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2717640" y="534960"/>
            <a:ext cx="3708720" cy="256716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728-5876-4829-819C-522F76C8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AFF-4511-47AC-9B1B-F8E94A0D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BC2-EC57-482F-8537-6174083B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F8B-D0BA-4119-B776-E0DED39D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21B-2E89-4BCC-B1B5-57DA3251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2029-1FAE-408E-9673-49A1E76C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0E26-9E7C-4B9D-AE09-9FBC106F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6F4-DB2F-433F-9DDF-CE7CAECB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29C-F010-4350-8BDD-26CB3259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67A2-C1E0-4997-B262-F0DDF069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BEE3-459B-4566-AAE4-AD60E4B1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1E0-E699-4ED2-9612-2BAEA3E1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446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13480" y="640080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E69E-AF83-4913-AE12-2BBDFCDF054A}" type="slidenum">
              <a:rPr b="1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6920" y="493560"/>
            <a:ext cx="89139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1486080" y="127080"/>
            <a:ext cx="778824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c.Biosanitarie GeneticaII 2007-2008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hyperlink" Target="http://www.biologia.uniba.it/DIGEMI/Didattica.html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image" Target="../media/image5.jpeg"/><Relationship Id="rId18" Type="http://schemas.openxmlformats.org/officeDocument/2006/relationships/image" Target="../media/image6.jpeg"/><Relationship Id="rId19" Type="http://schemas.openxmlformats.org/officeDocument/2006/relationships/image" Target="../media/image7.jpeg"/><Relationship Id="rId20" Type="http://schemas.openxmlformats.org/officeDocument/2006/relationships/image" Target="../media/image8.jpeg"/><Relationship Id="rId21" Type="http://schemas.openxmlformats.org/officeDocument/2006/relationships/image" Target="../media/image9.pct"/><Relationship Id="rId2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11.png"/><Relationship Id="rId45" Type="http://schemas.openxmlformats.org/officeDocument/2006/relationships/image" Target="../media/image10.png"/><Relationship Id="rId46" Type="http://schemas.openxmlformats.org/officeDocument/2006/relationships/image" Target="../media/image10.png"/><Relationship Id="rId47" Type="http://schemas.openxmlformats.org/officeDocument/2006/relationships/image" Target="../media/image10.png"/><Relationship Id="rId48" Type="http://schemas.openxmlformats.org/officeDocument/2006/relationships/image" Target="../media/image10.png"/><Relationship Id="rId49" Type="http://schemas.openxmlformats.org/officeDocument/2006/relationships/image" Target="../media/image11.png"/><Relationship Id="rId50" Type="http://schemas.openxmlformats.org/officeDocument/2006/relationships/image" Target="../media/image11.png"/><Relationship Id="rId51" Type="http://schemas.openxmlformats.org/officeDocument/2006/relationships/image" Target="../media/image11.png"/><Relationship Id="rId52" Type="http://schemas.openxmlformats.org/officeDocument/2006/relationships/image" Target="../media/image11.png"/><Relationship Id="rId53" Type="http://schemas.openxmlformats.org/officeDocument/2006/relationships/image" Target="../media/image10.png"/><Relationship Id="rId54" Type="http://schemas.openxmlformats.org/officeDocument/2006/relationships/image" Target="../media/image10.png"/><Relationship Id="rId55" Type="http://schemas.openxmlformats.org/officeDocument/2006/relationships/image" Target="../media/image10.png"/><Relationship Id="rId56" Type="http://schemas.openxmlformats.org/officeDocument/2006/relationships/image" Target="../media/image10.png"/><Relationship Id="rId57" Type="http://schemas.openxmlformats.org/officeDocument/2006/relationships/image" Target="../media/image11.png"/><Relationship Id="rId58" Type="http://schemas.openxmlformats.org/officeDocument/2006/relationships/image" Target="../media/image11.png"/><Relationship Id="rId59" Type="http://schemas.openxmlformats.org/officeDocument/2006/relationships/image" Target="../media/image11.png"/><Relationship Id="rId60" Type="http://schemas.openxmlformats.org/officeDocument/2006/relationships/image" Target="../media/image11.png"/><Relationship Id="rId61" Type="http://schemas.openxmlformats.org/officeDocument/2006/relationships/image" Target="../media/image10.png"/><Relationship Id="rId62" Type="http://schemas.openxmlformats.org/officeDocument/2006/relationships/image" Target="../media/image10.png"/><Relationship Id="rId63" Type="http://schemas.openxmlformats.org/officeDocument/2006/relationships/image" Target="../media/image10.png"/><Relationship Id="rId64" Type="http://schemas.openxmlformats.org/officeDocument/2006/relationships/image" Target="../media/image10.png"/><Relationship Id="rId65" Type="http://schemas.openxmlformats.org/officeDocument/2006/relationships/image" Target="../media/image11.png"/><Relationship Id="rId66" Type="http://schemas.openxmlformats.org/officeDocument/2006/relationships/image" Target="../media/image11.png"/><Relationship Id="rId67" Type="http://schemas.openxmlformats.org/officeDocument/2006/relationships/image" Target="../media/image11.png"/><Relationship Id="rId68" Type="http://schemas.openxmlformats.org/officeDocument/2006/relationships/image" Target="../media/image11.png"/><Relationship Id="rId69" Type="http://schemas.openxmlformats.org/officeDocument/2006/relationships/image" Target="../media/image10.png"/><Relationship Id="rId70" Type="http://schemas.openxmlformats.org/officeDocument/2006/relationships/image" Target="../media/image10.png"/><Relationship Id="rId71" Type="http://schemas.openxmlformats.org/officeDocument/2006/relationships/image" Target="../media/image10.png"/><Relationship Id="rId72" Type="http://schemas.openxmlformats.org/officeDocument/2006/relationships/image" Target="../media/image10.png"/><Relationship Id="rId73" Type="http://schemas.openxmlformats.org/officeDocument/2006/relationships/image" Target="../media/image11.png"/><Relationship Id="rId74" Type="http://schemas.openxmlformats.org/officeDocument/2006/relationships/image" Target="../media/image11.png"/><Relationship Id="rId75" Type="http://schemas.openxmlformats.org/officeDocument/2006/relationships/image" Target="../media/image11.png"/><Relationship Id="rId76" Type="http://schemas.openxmlformats.org/officeDocument/2006/relationships/image" Target="../media/image11.png"/><Relationship Id="rId7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Linkage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2514960" y="558324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zione 5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(riprendere il testo di Genetica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55960" y="1697040"/>
            <a:ext cx="4285440" cy="3832920"/>
            <a:chOff x="2955960" y="1697040"/>
            <a:chExt cx="4285440" cy="3832920"/>
          </a:xfrm>
        </p:grpSpPr>
        <p:sp>
          <p:nvSpPr>
            <p:cNvPr id="54" name=""/>
            <p:cNvSpPr/>
            <p:nvPr/>
          </p:nvSpPr>
          <p:spPr>
            <a:xfrm>
              <a:off x="2955960" y="1800360"/>
              <a:ext cx="105480" cy="2046600"/>
            </a:xfrm>
            <a:custGeom>
              <a:avLst/>
              <a:gdLst/>
              <a:ahLst/>
              <a:rect l="l" t="t" r="r" b="b"/>
              <a:pathLst>
                <a:path w="57" h="1127">
                  <a:moveTo>
                    <a:pt x="18" y="1100"/>
                  </a:moveTo>
                  <a:lnTo>
                    <a:pt x="0" y="42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35" y="21"/>
                  </a:lnTo>
                  <a:lnTo>
                    <a:pt x="22" y="175"/>
                  </a:lnTo>
                  <a:lnTo>
                    <a:pt x="26" y="335"/>
                  </a:lnTo>
                  <a:lnTo>
                    <a:pt x="39" y="531"/>
                  </a:lnTo>
                  <a:lnTo>
                    <a:pt x="46" y="771"/>
                  </a:lnTo>
                  <a:lnTo>
                    <a:pt x="46" y="996"/>
                  </a:lnTo>
                  <a:lnTo>
                    <a:pt x="57" y="1106"/>
                  </a:lnTo>
                  <a:lnTo>
                    <a:pt x="35" y="1127"/>
                  </a:lnTo>
                  <a:lnTo>
                    <a:pt x="18" y="110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83080" y="1776600"/>
              <a:ext cx="107640" cy="2050200"/>
            </a:xfrm>
            <a:custGeom>
              <a:avLst/>
              <a:gdLst/>
              <a:ahLst/>
              <a:rect l="l" t="t" r="r" b="b"/>
              <a:pathLst>
                <a:path w="58" h="1129">
                  <a:moveTo>
                    <a:pt x="19" y="1101"/>
                  </a:moveTo>
                  <a:lnTo>
                    <a:pt x="0" y="422"/>
                  </a:lnTo>
                  <a:lnTo>
                    <a:pt x="0" y="0"/>
                  </a:lnTo>
                  <a:lnTo>
                    <a:pt x="23" y="0"/>
                  </a:lnTo>
                  <a:lnTo>
                    <a:pt x="35" y="22"/>
                  </a:lnTo>
                  <a:lnTo>
                    <a:pt x="23" y="175"/>
                  </a:lnTo>
                  <a:lnTo>
                    <a:pt x="26" y="335"/>
                  </a:lnTo>
                  <a:lnTo>
                    <a:pt x="39" y="531"/>
                  </a:lnTo>
                  <a:lnTo>
                    <a:pt x="47" y="773"/>
                  </a:lnTo>
                  <a:lnTo>
                    <a:pt x="47" y="998"/>
                  </a:lnTo>
                  <a:lnTo>
                    <a:pt x="58" y="1108"/>
                  </a:lnTo>
                  <a:lnTo>
                    <a:pt x="35" y="1129"/>
                  </a:lnTo>
                  <a:lnTo>
                    <a:pt x="19" y="110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07320" y="1720440"/>
              <a:ext cx="105480" cy="2050200"/>
            </a:xfrm>
            <a:custGeom>
              <a:avLst/>
              <a:gdLst/>
              <a:ahLst/>
              <a:rect l="l" t="t" r="r" b="b"/>
              <a:pathLst>
                <a:path w="57" h="1129">
                  <a:moveTo>
                    <a:pt x="19" y="1101"/>
                  </a:moveTo>
                  <a:lnTo>
                    <a:pt x="0" y="421"/>
                  </a:lnTo>
                  <a:lnTo>
                    <a:pt x="0" y="0"/>
                  </a:lnTo>
                  <a:lnTo>
                    <a:pt x="23" y="0"/>
                  </a:lnTo>
                  <a:lnTo>
                    <a:pt x="34" y="21"/>
                  </a:lnTo>
                  <a:lnTo>
                    <a:pt x="23" y="175"/>
                  </a:lnTo>
                  <a:lnTo>
                    <a:pt x="26" y="335"/>
                  </a:lnTo>
                  <a:lnTo>
                    <a:pt x="38" y="531"/>
                  </a:lnTo>
                  <a:lnTo>
                    <a:pt x="45" y="772"/>
                  </a:lnTo>
                  <a:lnTo>
                    <a:pt x="45" y="998"/>
                  </a:lnTo>
                  <a:lnTo>
                    <a:pt x="57" y="1107"/>
                  </a:lnTo>
                  <a:lnTo>
                    <a:pt x="34" y="1129"/>
                  </a:lnTo>
                  <a:lnTo>
                    <a:pt x="19" y="110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24000" y="1697040"/>
              <a:ext cx="105480" cy="2050200"/>
            </a:xfrm>
            <a:custGeom>
              <a:avLst/>
              <a:gdLst/>
              <a:ahLst/>
              <a:rect l="l" t="t" r="r" b="b"/>
              <a:pathLst>
                <a:path w="57" h="1129">
                  <a:moveTo>
                    <a:pt x="19" y="1101"/>
                  </a:moveTo>
                  <a:lnTo>
                    <a:pt x="0" y="422"/>
                  </a:lnTo>
                  <a:lnTo>
                    <a:pt x="0" y="0"/>
                  </a:lnTo>
                  <a:lnTo>
                    <a:pt x="23" y="0"/>
                  </a:lnTo>
                  <a:lnTo>
                    <a:pt x="34" y="22"/>
                  </a:lnTo>
                  <a:lnTo>
                    <a:pt x="23" y="175"/>
                  </a:lnTo>
                  <a:lnTo>
                    <a:pt x="27" y="335"/>
                  </a:lnTo>
                  <a:lnTo>
                    <a:pt x="38" y="531"/>
                  </a:lnTo>
                  <a:lnTo>
                    <a:pt x="45" y="773"/>
                  </a:lnTo>
                  <a:lnTo>
                    <a:pt x="45" y="998"/>
                  </a:lnTo>
                  <a:lnTo>
                    <a:pt x="57" y="1108"/>
                  </a:lnTo>
                  <a:lnTo>
                    <a:pt x="34" y="1129"/>
                  </a:lnTo>
                  <a:lnTo>
                    <a:pt x="19" y="110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01440" y="1747800"/>
              <a:ext cx="105480" cy="2049840"/>
            </a:xfrm>
            <a:custGeom>
              <a:avLst/>
              <a:gdLst/>
              <a:ahLst/>
              <a:rect l="l" t="t" r="r" b="b"/>
              <a:pathLst>
                <a:path w="57" h="1129">
                  <a:moveTo>
                    <a:pt x="19" y="1101"/>
                  </a:moveTo>
                  <a:lnTo>
                    <a:pt x="0" y="421"/>
                  </a:lnTo>
                  <a:lnTo>
                    <a:pt x="0" y="0"/>
                  </a:lnTo>
                  <a:lnTo>
                    <a:pt x="23" y="0"/>
                  </a:lnTo>
                  <a:lnTo>
                    <a:pt x="34" y="21"/>
                  </a:lnTo>
                  <a:lnTo>
                    <a:pt x="23" y="175"/>
                  </a:lnTo>
                  <a:lnTo>
                    <a:pt x="26" y="335"/>
                  </a:lnTo>
                  <a:lnTo>
                    <a:pt x="38" y="531"/>
                  </a:lnTo>
                  <a:lnTo>
                    <a:pt x="45" y="773"/>
                  </a:lnTo>
                  <a:lnTo>
                    <a:pt x="45" y="998"/>
                  </a:lnTo>
                  <a:lnTo>
                    <a:pt x="57" y="1107"/>
                  </a:lnTo>
                  <a:lnTo>
                    <a:pt x="34" y="1129"/>
                  </a:lnTo>
                  <a:lnTo>
                    <a:pt x="19" y="110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26680" y="1758600"/>
              <a:ext cx="105840" cy="2050200"/>
            </a:xfrm>
            <a:custGeom>
              <a:avLst/>
              <a:gdLst/>
              <a:ahLst/>
              <a:rect l="l" t="t" r="r" b="b"/>
              <a:pathLst>
                <a:path w="57" h="1129">
                  <a:moveTo>
                    <a:pt x="19" y="1101"/>
                  </a:moveTo>
                  <a:lnTo>
                    <a:pt x="0" y="422"/>
                  </a:lnTo>
                  <a:lnTo>
                    <a:pt x="0" y="0"/>
                  </a:lnTo>
                  <a:lnTo>
                    <a:pt x="23" y="0"/>
                  </a:lnTo>
                  <a:lnTo>
                    <a:pt x="34" y="22"/>
                  </a:lnTo>
                  <a:lnTo>
                    <a:pt x="23" y="175"/>
                  </a:lnTo>
                  <a:lnTo>
                    <a:pt x="26" y="335"/>
                  </a:lnTo>
                  <a:lnTo>
                    <a:pt x="38" y="531"/>
                  </a:lnTo>
                  <a:lnTo>
                    <a:pt x="45" y="773"/>
                  </a:lnTo>
                  <a:lnTo>
                    <a:pt x="45" y="998"/>
                  </a:lnTo>
                  <a:lnTo>
                    <a:pt x="57" y="1108"/>
                  </a:lnTo>
                  <a:lnTo>
                    <a:pt x="34" y="1129"/>
                  </a:lnTo>
                  <a:lnTo>
                    <a:pt x="19" y="110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478560" y="1758600"/>
              <a:ext cx="105840" cy="2050200"/>
            </a:xfrm>
            <a:custGeom>
              <a:avLst/>
              <a:gdLst/>
              <a:ahLst/>
              <a:rect l="l" t="t" r="r" b="b"/>
              <a:pathLst>
                <a:path w="57" h="1129">
                  <a:moveTo>
                    <a:pt x="19" y="1101"/>
                  </a:moveTo>
                  <a:lnTo>
                    <a:pt x="0" y="422"/>
                  </a:lnTo>
                  <a:lnTo>
                    <a:pt x="0" y="0"/>
                  </a:lnTo>
                  <a:lnTo>
                    <a:pt x="23" y="0"/>
                  </a:lnTo>
                  <a:lnTo>
                    <a:pt x="34" y="22"/>
                  </a:lnTo>
                  <a:lnTo>
                    <a:pt x="23" y="175"/>
                  </a:lnTo>
                  <a:lnTo>
                    <a:pt x="26" y="335"/>
                  </a:lnTo>
                  <a:lnTo>
                    <a:pt x="38" y="531"/>
                  </a:lnTo>
                  <a:lnTo>
                    <a:pt x="45" y="773"/>
                  </a:lnTo>
                  <a:lnTo>
                    <a:pt x="45" y="998"/>
                  </a:lnTo>
                  <a:lnTo>
                    <a:pt x="57" y="1108"/>
                  </a:lnTo>
                  <a:lnTo>
                    <a:pt x="34" y="1129"/>
                  </a:lnTo>
                  <a:lnTo>
                    <a:pt x="19" y="110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37720" y="1803960"/>
              <a:ext cx="103680" cy="2050200"/>
            </a:xfrm>
            <a:custGeom>
              <a:avLst/>
              <a:gdLst/>
              <a:ahLst/>
              <a:rect l="l" t="t" r="r" b="b"/>
              <a:pathLst>
                <a:path w="56" h="1129">
                  <a:moveTo>
                    <a:pt x="19" y="1101"/>
                  </a:moveTo>
                  <a:lnTo>
                    <a:pt x="0" y="42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34" y="22"/>
                  </a:lnTo>
                  <a:lnTo>
                    <a:pt x="22" y="175"/>
                  </a:lnTo>
                  <a:lnTo>
                    <a:pt x="26" y="335"/>
                  </a:lnTo>
                  <a:lnTo>
                    <a:pt x="38" y="531"/>
                  </a:lnTo>
                  <a:lnTo>
                    <a:pt x="45" y="773"/>
                  </a:lnTo>
                  <a:lnTo>
                    <a:pt x="45" y="998"/>
                  </a:lnTo>
                  <a:lnTo>
                    <a:pt x="56" y="1108"/>
                  </a:lnTo>
                  <a:lnTo>
                    <a:pt x="34" y="1129"/>
                  </a:lnTo>
                  <a:lnTo>
                    <a:pt x="19" y="110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4155480" y="3191400"/>
              <a:ext cx="2970720" cy="55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3328920" y="3658320"/>
              <a:ext cx="2952360" cy="1871640"/>
              <a:chOff x="3328920" y="3658320"/>
              <a:chExt cx="2952360" cy="1871640"/>
            </a:xfrm>
          </p:grpSpPr>
          <p:sp>
            <p:nvSpPr>
              <p:cNvPr id="64" name=""/>
              <p:cNvSpPr/>
              <p:nvPr/>
            </p:nvSpPr>
            <p:spPr>
              <a:xfrm>
                <a:off x="3364200" y="3903120"/>
                <a:ext cx="2905560" cy="1127520"/>
              </a:xfrm>
              <a:custGeom>
                <a:avLst/>
                <a:gdLst/>
                <a:ahLst/>
                <a:rect l="l" t="t" r="r" b="b"/>
                <a:pathLst>
                  <a:path w="1565" h="621">
                    <a:moveTo>
                      <a:pt x="9" y="113"/>
                    </a:moveTo>
                    <a:lnTo>
                      <a:pt x="0" y="12"/>
                    </a:lnTo>
                    <a:lnTo>
                      <a:pt x="197" y="13"/>
                    </a:lnTo>
                    <a:lnTo>
                      <a:pt x="458" y="10"/>
                    </a:lnTo>
                    <a:lnTo>
                      <a:pt x="684" y="3"/>
                    </a:lnTo>
                    <a:lnTo>
                      <a:pt x="965" y="0"/>
                    </a:lnTo>
                    <a:lnTo>
                      <a:pt x="1190" y="3"/>
                    </a:lnTo>
                    <a:lnTo>
                      <a:pt x="1390" y="3"/>
                    </a:lnTo>
                    <a:lnTo>
                      <a:pt x="1428" y="18"/>
                    </a:lnTo>
                    <a:lnTo>
                      <a:pt x="1451" y="69"/>
                    </a:lnTo>
                    <a:lnTo>
                      <a:pt x="1467" y="107"/>
                    </a:lnTo>
                    <a:lnTo>
                      <a:pt x="1512" y="127"/>
                    </a:lnTo>
                    <a:lnTo>
                      <a:pt x="1508" y="180"/>
                    </a:lnTo>
                    <a:lnTo>
                      <a:pt x="1498" y="225"/>
                    </a:lnTo>
                    <a:lnTo>
                      <a:pt x="1495" y="300"/>
                    </a:lnTo>
                    <a:lnTo>
                      <a:pt x="1493" y="338"/>
                    </a:lnTo>
                    <a:lnTo>
                      <a:pt x="1486" y="377"/>
                    </a:lnTo>
                    <a:lnTo>
                      <a:pt x="1498" y="425"/>
                    </a:lnTo>
                    <a:lnTo>
                      <a:pt x="1541" y="482"/>
                    </a:lnTo>
                    <a:lnTo>
                      <a:pt x="1565" y="528"/>
                    </a:lnTo>
                    <a:lnTo>
                      <a:pt x="1559" y="621"/>
                    </a:lnTo>
                    <a:lnTo>
                      <a:pt x="1461" y="585"/>
                    </a:lnTo>
                    <a:lnTo>
                      <a:pt x="1447" y="570"/>
                    </a:lnTo>
                    <a:lnTo>
                      <a:pt x="1437" y="546"/>
                    </a:lnTo>
                    <a:lnTo>
                      <a:pt x="1443" y="477"/>
                    </a:lnTo>
                    <a:lnTo>
                      <a:pt x="1434" y="441"/>
                    </a:lnTo>
                    <a:lnTo>
                      <a:pt x="1402" y="381"/>
                    </a:lnTo>
                    <a:lnTo>
                      <a:pt x="1386" y="326"/>
                    </a:lnTo>
                    <a:lnTo>
                      <a:pt x="1385" y="288"/>
                    </a:lnTo>
                    <a:lnTo>
                      <a:pt x="1390" y="263"/>
                    </a:lnTo>
                    <a:lnTo>
                      <a:pt x="1405" y="207"/>
                    </a:lnTo>
                    <a:lnTo>
                      <a:pt x="1413" y="161"/>
                    </a:lnTo>
                    <a:lnTo>
                      <a:pt x="1402" y="127"/>
                    </a:lnTo>
                    <a:lnTo>
                      <a:pt x="1380" y="98"/>
                    </a:lnTo>
                    <a:lnTo>
                      <a:pt x="1193" y="104"/>
                    </a:lnTo>
                    <a:lnTo>
                      <a:pt x="1027" y="108"/>
                    </a:lnTo>
                    <a:lnTo>
                      <a:pt x="829" y="107"/>
                    </a:lnTo>
                    <a:lnTo>
                      <a:pt x="669" y="99"/>
                    </a:lnTo>
                    <a:lnTo>
                      <a:pt x="575" y="104"/>
                    </a:lnTo>
                    <a:lnTo>
                      <a:pt x="453" y="118"/>
                    </a:lnTo>
                    <a:lnTo>
                      <a:pt x="187" y="113"/>
                    </a:lnTo>
                    <a:lnTo>
                      <a:pt x="24" y="112"/>
                    </a:lnTo>
                    <a:lnTo>
                      <a:pt x="9" y="113"/>
                    </a:lnTo>
                    <a:close/>
                  </a:path>
                </a:pathLst>
              </a:custGeom>
              <a:solidFill>
                <a:srgbClr val="fdee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598200" y="3923280"/>
                <a:ext cx="53640" cy="133920"/>
              </a:xfrm>
              <a:custGeom>
                <a:avLst/>
                <a:gdLst/>
                <a:ahLst/>
                <a:rect l="l" t="t" r="r" b="b"/>
                <a:pathLst>
                  <a:path w="29" h="74">
                    <a:moveTo>
                      <a:pt x="0" y="5"/>
                    </a:moveTo>
                    <a:lnTo>
                      <a:pt x="5" y="74"/>
                    </a:lnTo>
                    <a:lnTo>
                      <a:pt x="29" y="74"/>
                    </a:lnTo>
                    <a:lnTo>
                      <a:pt x="2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789360" y="3926880"/>
                <a:ext cx="55440" cy="137880"/>
              </a:xfrm>
              <a:custGeom>
                <a:avLst/>
                <a:gdLst/>
                <a:ahLst/>
                <a:rect l="l" t="t" r="r" b="b"/>
                <a:pathLst>
                  <a:path w="30" h="76">
                    <a:moveTo>
                      <a:pt x="0" y="5"/>
                    </a:moveTo>
                    <a:lnTo>
                      <a:pt x="5" y="76"/>
                    </a:lnTo>
                    <a:lnTo>
                      <a:pt x="30" y="76"/>
                    </a:lnTo>
                    <a:lnTo>
                      <a:pt x="3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976920" y="3926880"/>
                <a:ext cx="50040" cy="13788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5"/>
                    </a:moveTo>
                    <a:lnTo>
                      <a:pt x="5" y="76"/>
                    </a:lnTo>
                    <a:lnTo>
                      <a:pt x="27" y="76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158720" y="3916080"/>
                <a:ext cx="55800" cy="137880"/>
              </a:xfrm>
              <a:custGeom>
                <a:avLst/>
                <a:gdLst/>
                <a:ahLst/>
                <a:rect l="l" t="t" r="r" b="b"/>
                <a:pathLst>
                  <a:path w="30" h="76">
                    <a:moveTo>
                      <a:pt x="0" y="5"/>
                    </a:moveTo>
                    <a:lnTo>
                      <a:pt x="5" y="76"/>
                    </a:lnTo>
                    <a:lnTo>
                      <a:pt x="30" y="76"/>
                    </a:lnTo>
                    <a:lnTo>
                      <a:pt x="3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44480" y="3916080"/>
                <a:ext cx="52200" cy="137880"/>
              </a:xfrm>
              <a:custGeom>
                <a:avLst/>
                <a:gdLst/>
                <a:ahLst/>
                <a:rect l="l" t="t" r="r" b="b"/>
                <a:pathLst>
                  <a:path w="28" h="76">
                    <a:moveTo>
                      <a:pt x="0" y="5"/>
                    </a:moveTo>
                    <a:lnTo>
                      <a:pt x="5" y="76"/>
                    </a:lnTo>
                    <a:lnTo>
                      <a:pt x="28" y="76"/>
                    </a:lnTo>
                    <a:lnTo>
                      <a:pt x="2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526640" y="3916080"/>
                <a:ext cx="57240" cy="137880"/>
              </a:xfrm>
              <a:custGeom>
                <a:avLst/>
                <a:gdLst/>
                <a:ahLst/>
                <a:rect l="l" t="t" r="r" b="b"/>
                <a:pathLst>
                  <a:path w="31" h="76">
                    <a:moveTo>
                      <a:pt x="0" y="5"/>
                    </a:moveTo>
                    <a:lnTo>
                      <a:pt x="5" y="76"/>
                    </a:lnTo>
                    <a:lnTo>
                      <a:pt x="31" y="76"/>
                    </a:lnTo>
                    <a:lnTo>
                      <a:pt x="3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714200" y="3916080"/>
                <a:ext cx="51480" cy="137880"/>
              </a:xfrm>
              <a:custGeom>
                <a:avLst/>
                <a:gdLst/>
                <a:ahLst/>
                <a:rect l="l" t="t" r="r" b="b"/>
                <a:pathLst>
                  <a:path w="28" h="76">
                    <a:moveTo>
                      <a:pt x="0" y="5"/>
                    </a:moveTo>
                    <a:lnTo>
                      <a:pt x="5" y="76"/>
                    </a:lnTo>
                    <a:lnTo>
                      <a:pt x="28" y="76"/>
                    </a:lnTo>
                    <a:lnTo>
                      <a:pt x="2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804920" y="3916080"/>
                <a:ext cx="53640" cy="137880"/>
              </a:xfrm>
              <a:custGeom>
                <a:avLst/>
                <a:gdLst/>
                <a:ahLst/>
                <a:rect l="l" t="t" r="r" b="b"/>
                <a:pathLst>
                  <a:path w="29" h="76">
                    <a:moveTo>
                      <a:pt x="0" y="5"/>
                    </a:moveTo>
                    <a:lnTo>
                      <a:pt x="5" y="76"/>
                    </a:lnTo>
                    <a:lnTo>
                      <a:pt x="29" y="76"/>
                    </a:lnTo>
                    <a:lnTo>
                      <a:pt x="2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896000" y="3912120"/>
                <a:ext cx="55440" cy="134640"/>
              </a:xfrm>
              <a:custGeom>
                <a:avLst/>
                <a:gdLst/>
                <a:ahLst/>
                <a:rect l="l" t="t" r="r" b="b"/>
                <a:pathLst>
                  <a:path w="30" h="74">
                    <a:moveTo>
                      <a:pt x="0" y="5"/>
                    </a:moveTo>
                    <a:lnTo>
                      <a:pt x="5" y="74"/>
                    </a:lnTo>
                    <a:lnTo>
                      <a:pt x="30" y="74"/>
                    </a:lnTo>
                    <a:lnTo>
                      <a:pt x="3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83560" y="3912120"/>
                <a:ext cx="52200" cy="13464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0" y="5"/>
                    </a:moveTo>
                    <a:lnTo>
                      <a:pt x="5" y="74"/>
                    </a:lnTo>
                    <a:lnTo>
                      <a:pt x="28" y="74"/>
                    </a:lnTo>
                    <a:lnTo>
                      <a:pt x="2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265720" y="3905280"/>
                <a:ext cx="55440" cy="133920"/>
              </a:xfrm>
              <a:custGeom>
                <a:avLst/>
                <a:gdLst/>
                <a:ahLst/>
                <a:rect l="l" t="t" r="r" b="b"/>
                <a:pathLst>
                  <a:path w="30" h="74">
                    <a:moveTo>
                      <a:pt x="0" y="5"/>
                    </a:moveTo>
                    <a:lnTo>
                      <a:pt x="5" y="74"/>
                    </a:lnTo>
                    <a:lnTo>
                      <a:pt x="30" y="74"/>
                    </a:lnTo>
                    <a:lnTo>
                      <a:pt x="3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453280" y="3905280"/>
                <a:ext cx="50040" cy="133920"/>
              </a:xfrm>
              <a:custGeom>
                <a:avLst/>
                <a:gdLst/>
                <a:ahLst/>
                <a:rect l="l" t="t" r="r" b="b"/>
                <a:pathLst>
                  <a:path w="27" h="74">
                    <a:moveTo>
                      <a:pt x="0" y="5"/>
                    </a:moveTo>
                    <a:lnTo>
                      <a:pt x="5" y="74"/>
                    </a:lnTo>
                    <a:lnTo>
                      <a:pt x="27" y="74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635080" y="3905280"/>
                <a:ext cx="55440" cy="133920"/>
              </a:xfrm>
              <a:custGeom>
                <a:avLst/>
                <a:gdLst/>
                <a:ahLst/>
                <a:rect l="l" t="t" r="r" b="b"/>
                <a:pathLst>
                  <a:path w="30" h="74">
                    <a:moveTo>
                      <a:pt x="0" y="5"/>
                    </a:moveTo>
                    <a:lnTo>
                      <a:pt x="5" y="74"/>
                    </a:lnTo>
                    <a:lnTo>
                      <a:pt x="30" y="74"/>
                    </a:lnTo>
                    <a:lnTo>
                      <a:pt x="3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823000" y="3905280"/>
                <a:ext cx="50040" cy="133920"/>
              </a:xfrm>
              <a:custGeom>
                <a:avLst/>
                <a:gdLst/>
                <a:ahLst/>
                <a:rect l="l" t="t" r="r" b="b"/>
                <a:pathLst>
                  <a:path w="27" h="74">
                    <a:moveTo>
                      <a:pt x="0" y="5"/>
                    </a:moveTo>
                    <a:lnTo>
                      <a:pt x="5" y="74"/>
                    </a:lnTo>
                    <a:lnTo>
                      <a:pt x="27" y="74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328920" y="3881160"/>
                <a:ext cx="2952360" cy="1165680"/>
              </a:xfrm>
              <a:custGeom>
                <a:avLst/>
                <a:gdLst/>
                <a:ahLst/>
                <a:rect l="l" t="t" r="r" b="b"/>
                <a:pathLst>
                  <a:path w="1590" h="642">
                    <a:moveTo>
                      <a:pt x="36" y="73"/>
                    </a:moveTo>
                    <a:lnTo>
                      <a:pt x="36" y="36"/>
                    </a:lnTo>
                    <a:lnTo>
                      <a:pt x="284" y="36"/>
                    </a:lnTo>
                    <a:lnTo>
                      <a:pt x="575" y="29"/>
                    </a:lnTo>
                    <a:lnTo>
                      <a:pt x="757" y="20"/>
                    </a:lnTo>
                    <a:lnTo>
                      <a:pt x="978" y="19"/>
                    </a:lnTo>
                    <a:lnTo>
                      <a:pt x="1215" y="20"/>
                    </a:lnTo>
                    <a:lnTo>
                      <a:pt x="1408" y="24"/>
                    </a:lnTo>
                    <a:lnTo>
                      <a:pt x="1433" y="36"/>
                    </a:lnTo>
                    <a:lnTo>
                      <a:pt x="1449" y="68"/>
                    </a:lnTo>
                    <a:lnTo>
                      <a:pt x="1463" y="101"/>
                    </a:lnTo>
                    <a:lnTo>
                      <a:pt x="1485" y="130"/>
                    </a:lnTo>
                    <a:lnTo>
                      <a:pt x="1520" y="149"/>
                    </a:lnTo>
                    <a:lnTo>
                      <a:pt x="1517" y="190"/>
                    </a:lnTo>
                    <a:lnTo>
                      <a:pt x="1501" y="246"/>
                    </a:lnTo>
                    <a:lnTo>
                      <a:pt x="1501" y="302"/>
                    </a:lnTo>
                    <a:lnTo>
                      <a:pt x="1501" y="350"/>
                    </a:lnTo>
                    <a:lnTo>
                      <a:pt x="1493" y="403"/>
                    </a:lnTo>
                    <a:lnTo>
                      <a:pt x="1512" y="453"/>
                    </a:lnTo>
                    <a:lnTo>
                      <a:pt x="1539" y="482"/>
                    </a:lnTo>
                    <a:lnTo>
                      <a:pt x="1566" y="520"/>
                    </a:lnTo>
                    <a:lnTo>
                      <a:pt x="1572" y="564"/>
                    </a:lnTo>
                    <a:lnTo>
                      <a:pt x="1566" y="621"/>
                    </a:lnTo>
                    <a:lnTo>
                      <a:pt x="1475" y="585"/>
                    </a:lnTo>
                    <a:lnTo>
                      <a:pt x="1461" y="554"/>
                    </a:lnTo>
                    <a:lnTo>
                      <a:pt x="1466" y="492"/>
                    </a:lnTo>
                    <a:lnTo>
                      <a:pt x="1461" y="453"/>
                    </a:lnTo>
                    <a:lnTo>
                      <a:pt x="1433" y="402"/>
                    </a:lnTo>
                    <a:lnTo>
                      <a:pt x="1414" y="345"/>
                    </a:lnTo>
                    <a:lnTo>
                      <a:pt x="1409" y="302"/>
                    </a:lnTo>
                    <a:lnTo>
                      <a:pt x="1422" y="251"/>
                    </a:lnTo>
                    <a:lnTo>
                      <a:pt x="1437" y="205"/>
                    </a:lnTo>
                    <a:lnTo>
                      <a:pt x="1437" y="163"/>
                    </a:lnTo>
                    <a:lnTo>
                      <a:pt x="1423" y="127"/>
                    </a:lnTo>
                    <a:lnTo>
                      <a:pt x="1403" y="101"/>
                    </a:lnTo>
                    <a:lnTo>
                      <a:pt x="1370" y="101"/>
                    </a:lnTo>
                    <a:lnTo>
                      <a:pt x="1243" y="108"/>
                    </a:lnTo>
                    <a:lnTo>
                      <a:pt x="1101" y="114"/>
                    </a:lnTo>
                    <a:lnTo>
                      <a:pt x="937" y="114"/>
                    </a:lnTo>
                    <a:lnTo>
                      <a:pt x="776" y="108"/>
                    </a:lnTo>
                    <a:lnTo>
                      <a:pt x="656" y="101"/>
                    </a:lnTo>
                    <a:lnTo>
                      <a:pt x="511" y="115"/>
                    </a:lnTo>
                    <a:lnTo>
                      <a:pt x="281" y="119"/>
                    </a:lnTo>
                    <a:lnTo>
                      <a:pt x="130" y="119"/>
                    </a:lnTo>
                    <a:lnTo>
                      <a:pt x="38" y="108"/>
                    </a:lnTo>
                    <a:lnTo>
                      <a:pt x="21" y="130"/>
                    </a:lnTo>
                    <a:lnTo>
                      <a:pt x="98" y="132"/>
                    </a:lnTo>
                    <a:lnTo>
                      <a:pt x="186" y="137"/>
                    </a:lnTo>
                    <a:lnTo>
                      <a:pt x="315" y="137"/>
                    </a:lnTo>
                    <a:lnTo>
                      <a:pt x="418" y="137"/>
                    </a:lnTo>
                    <a:lnTo>
                      <a:pt x="528" y="132"/>
                    </a:lnTo>
                    <a:lnTo>
                      <a:pt x="642" y="120"/>
                    </a:lnTo>
                    <a:lnTo>
                      <a:pt x="679" y="120"/>
                    </a:lnTo>
                    <a:lnTo>
                      <a:pt x="774" y="120"/>
                    </a:lnTo>
                    <a:lnTo>
                      <a:pt x="866" y="130"/>
                    </a:lnTo>
                    <a:lnTo>
                      <a:pt x="994" y="127"/>
                    </a:lnTo>
                    <a:lnTo>
                      <a:pt x="1132" y="132"/>
                    </a:lnTo>
                    <a:lnTo>
                      <a:pt x="1217" y="125"/>
                    </a:lnTo>
                    <a:lnTo>
                      <a:pt x="1306" y="120"/>
                    </a:lnTo>
                    <a:lnTo>
                      <a:pt x="1356" y="120"/>
                    </a:lnTo>
                    <a:lnTo>
                      <a:pt x="1394" y="119"/>
                    </a:lnTo>
                    <a:lnTo>
                      <a:pt x="1414" y="142"/>
                    </a:lnTo>
                    <a:lnTo>
                      <a:pt x="1422" y="176"/>
                    </a:lnTo>
                    <a:lnTo>
                      <a:pt x="1414" y="224"/>
                    </a:lnTo>
                    <a:lnTo>
                      <a:pt x="1395" y="278"/>
                    </a:lnTo>
                    <a:lnTo>
                      <a:pt x="1390" y="331"/>
                    </a:lnTo>
                    <a:lnTo>
                      <a:pt x="1408" y="379"/>
                    </a:lnTo>
                    <a:lnTo>
                      <a:pt x="1436" y="441"/>
                    </a:lnTo>
                    <a:lnTo>
                      <a:pt x="1449" y="491"/>
                    </a:lnTo>
                    <a:lnTo>
                      <a:pt x="1446" y="561"/>
                    </a:lnTo>
                    <a:lnTo>
                      <a:pt x="1456" y="595"/>
                    </a:lnTo>
                    <a:lnTo>
                      <a:pt x="1468" y="602"/>
                    </a:lnTo>
                    <a:lnTo>
                      <a:pt x="1578" y="642"/>
                    </a:lnTo>
                    <a:lnTo>
                      <a:pt x="1583" y="616"/>
                    </a:lnTo>
                    <a:lnTo>
                      <a:pt x="1590" y="548"/>
                    </a:lnTo>
                    <a:lnTo>
                      <a:pt x="1585" y="515"/>
                    </a:lnTo>
                    <a:lnTo>
                      <a:pt x="1564" y="483"/>
                    </a:lnTo>
                    <a:lnTo>
                      <a:pt x="1525" y="432"/>
                    </a:lnTo>
                    <a:lnTo>
                      <a:pt x="1512" y="408"/>
                    </a:lnTo>
                    <a:lnTo>
                      <a:pt x="1507" y="378"/>
                    </a:lnTo>
                    <a:lnTo>
                      <a:pt x="1517" y="322"/>
                    </a:lnTo>
                    <a:lnTo>
                      <a:pt x="1517" y="283"/>
                    </a:lnTo>
                    <a:lnTo>
                      <a:pt x="1520" y="241"/>
                    </a:lnTo>
                    <a:lnTo>
                      <a:pt x="1534" y="190"/>
                    </a:lnTo>
                    <a:lnTo>
                      <a:pt x="1534" y="163"/>
                    </a:lnTo>
                    <a:lnTo>
                      <a:pt x="1534" y="134"/>
                    </a:lnTo>
                    <a:lnTo>
                      <a:pt x="1517" y="120"/>
                    </a:lnTo>
                    <a:lnTo>
                      <a:pt x="1493" y="114"/>
                    </a:lnTo>
                    <a:lnTo>
                      <a:pt x="1480" y="92"/>
                    </a:lnTo>
                    <a:lnTo>
                      <a:pt x="1463" y="48"/>
                    </a:lnTo>
                    <a:lnTo>
                      <a:pt x="1441" y="19"/>
                    </a:lnTo>
                    <a:lnTo>
                      <a:pt x="1409" y="0"/>
                    </a:lnTo>
                    <a:lnTo>
                      <a:pt x="1268" y="2"/>
                    </a:lnTo>
                    <a:lnTo>
                      <a:pt x="1105" y="5"/>
                    </a:lnTo>
                    <a:lnTo>
                      <a:pt x="961" y="0"/>
                    </a:lnTo>
                    <a:lnTo>
                      <a:pt x="793" y="5"/>
                    </a:lnTo>
                    <a:lnTo>
                      <a:pt x="633" y="7"/>
                    </a:lnTo>
                    <a:lnTo>
                      <a:pt x="435" y="17"/>
                    </a:lnTo>
                    <a:lnTo>
                      <a:pt x="220" y="17"/>
                    </a:lnTo>
                    <a:lnTo>
                      <a:pt x="83" y="19"/>
                    </a:lnTo>
                    <a:lnTo>
                      <a:pt x="0" y="20"/>
                    </a:lnTo>
                    <a:lnTo>
                      <a:pt x="21" y="101"/>
                    </a:lnTo>
                    <a:lnTo>
                      <a:pt x="36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24960" y="4120920"/>
                <a:ext cx="124560" cy="92520"/>
              </a:xfrm>
              <a:custGeom>
                <a:avLst/>
                <a:gdLst/>
                <a:ahLst/>
                <a:rect l="l" t="t" r="r" b="b"/>
                <a:pathLst>
                  <a:path w="67" h="51">
                    <a:moveTo>
                      <a:pt x="44" y="0"/>
                    </a:moveTo>
                    <a:lnTo>
                      <a:pt x="0" y="36"/>
                    </a:lnTo>
                    <a:lnTo>
                      <a:pt x="9" y="51"/>
                    </a:lnTo>
                    <a:lnTo>
                      <a:pt x="67" y="1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4160" y="4262760"/>
                <a:ext cx="129600" cy="70560"/>
              </a:xfrm>
              <a:custGeom>
                <a:avLst/>
                <a:gdLst/>
                <a:ahLst/>
                <a:rect l="l" t="t" r="r" b="b"/>
                <a:pathLst>
                  <a:path w="70" h="39">
                    <a:moveTo>
                      <a:pt x="70" y="13"/>
                    </a:moveTo>
                    <a:lnTo>
                      <a:pt x="11" y="0"/>
                    </a:lnTo>
                    <a:lnTo>
                      <a:pt x="0" y="24"/>
                    </a:lnTo>
                    <a:lnTo>
                      <a:pt x="61" y="39"/>
                    </a:lnTo>
                    <a:lnTo>
                      <a:pt x="7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980320" y="4438800"/>
                <a:ext cx="155880" cy="56160"/>
              </a:xfrm>
              <a:custGeom>
                <a:avLst/>
                <a:gdLst/>
                <a:ahLst/>
                <a:rect l="l" t="t" r="r" b="b"/>
                <a:pathLst>
                  <a:path w="84" h="31">
                    <a:moveTo>
                      <a:pt x="79" y="3"/>
                    </a:moveTo>
                    <a:lnTo>
                      <a:pt x="0" y="0"/>
                    </a:lnTo>
                    <a:lnTo>
                      <a:pt x="4" y="22"/>
                    </a:lnTo>
                    <a:lnTo>
                      <a:pt x="84" y="31"/>
                    </a:lnTo>
                    <a:lnTo>
                      <a:pt x="7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24960" y="4624200"/>
                <a:ext cx="102240" cy="54000"/>
              </a:xfrm>
              <a:custGeom>
                <a:avLst/>
                <a:gdLst/>
                <a:ahLst/>
                <a:rect l="l" t="t" r="r" b="b"/>
                <a:pathLst>
                  <a:path w="55" h="30">
                    <a:moveTo>
                      <a:pt x="52" y="0"/>
                    </a:moveTo>
                    <a:lnTo>
                      <a:pt x="0" y="8"/>
                    </a:lnTo>
                    <a:lnTo>
                      <a:pt x="10" y="30"/>
                    </a:lnTo>
                    <a:lnTo>
                      <a:pt x="55" y="22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86520" y="4769640"/>
                <a:ext cx="154080" cy="45000"/>
              </a:xfrm>
              <a:custGeom>
                <a:avLst/>
                <a:gdLst/>
                <a:ahLst/>
                <a:rect l="l" t="t" r="r" b="b"/>
                <a:pathLst>
                  <a:path w="83" h="25">
                    <a:moveTo>
                      <a:pt x="73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83" y="2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131160" y="4885560"/>
                <a:ext cx="127800" cy="65160"/>
              </a:xfrm>
              <a:custGeom>
                <a:avLst/>
                <a:gdLst/>
                <a:ahLst/>
                <a:rect l="l" t="t" r="r" b="b"/>
                <a:pathLst>
                  <a:path w="69" h="36">
                    <a:moveTo>
                      <a:pt x="69" y="17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68" y="36"/>
                    </a:lnTo>
                    <a:lnTo>
                      <a:pt x="6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634280" y="3658320"/>
                <a:ext cx="551520" cy="466200"/>
              </a:xfrm>
              <a:custGeom>
                <a:avLst/>
                <a:gdLst/>
                <a:ahLst/>
                <a:rect l="l" t="t" r="r" b="b"/>
                <a:pathLst>
                  <a:path w="297" h="257">
                    <a:moveTo>
                      <a:pt x="183" y="126"/>
                    </a:moveTo>
                    <a:lnTo>
                      <a:pt x="183" y="87"/>
                    </a:lnTo>
                    <a:lnTo>
                      <a:pt x="176" y="58"/>
                    </a:lnTo>
                    <a:lnTo>
                      <a:pt x="159" y="28"/>
                    </a:lnTo>
                    <a:lnTo>
                      <a:pt x="140" y="10"/>
                    </a:lnTo>
                    <a:lnTo>
                      <a:pt x="116" y="4"/>
                    </a:lnTo>
                    <a:lnTo>
                      <a:pt x="77" y="0"/>
                    </a:lnTo>
                    <a:lnTo>
                      <a:pt x="48" y="15"/>
                    </a:lnTo>
                    <a:lnTo>
                      <a:pt x="24" y="44"/>
                    </a:lnTo>
                    <a:lnTo>
                      <a:pt x="10" y="87"/>
                    </a:lnTo>
                    <a:lnTo>
                      <a:pt x="0" y="133"/>
                    </a:lnTo>
                    <a:lnTo>
                      <a:pt x="0" y="179"/>
                    </a:lnTo>
                    <a:lnTo>
                      <a:pt x="13" y="216"/>
                    </a:lnTo>
                    <a:lnTo>
                      <a:pt x="34" y="240"/>
                    </a:lnTo>
                    <a:lnTo>
                      <a:pt x="66" y="255"/>
                    </a:lnTo>
                    <a:lnTo>
                      <a:pt x="97" y="257"/>
                    </a:lnTo>
                    <a:lnTo>
                      <a:pt x="126" y="252"/>
                    </a:lnTo>
                    <a:lnTo>
                      <a:pt x="145" y="240"/>
                    </a:lnTo>
                    <a:lnTo>
                      <a:pt x="159" y="216"/>
                    </a:lnTo>
                    <a:lnTo>
                      <a:pt x="171" y="182"/>
                    </a:lnTo>
                    <a:lnTo>
                      <a:pt x="183" y="175"/>
                    </a:lnTo>
                    <a:lnTo>
                      <a:pt x="221" y="172"/>
                    </a:lnTo>
                    <a:lnTo>
                      <a:pt x="273" y="184"/>
                    </a:lnTo>
                    <a:lnTo>
                      <a:pt x="287" y="187"/>
                    </a:lnTo>
                    <a:lnTo>
                      <a:pt x="297" y="175"/>
                    </a:lnTo>
                    <a:lnTo>
                      <a:pt x="294" y="164"/>
                    </a:lnTo>
                    <a:lnTo>
                      <a:pt x="287" y="150"/>
                    </a:lnTo>
                    <a:lnTo>
                      <a:pt x="254" y="143"/>
                    </a:lnTo>
                    <a:lnTo>
                      <a:pt x="215" y="141"/>
                    </a:lnTo>
                    <a:lnTo>
                      <a:pt x="18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450680" y="4135680"/>
                <a:ext cx="434520" cy="831240"/>
              </a:xfrm>
              <a:custGeom>
                <a:avLst/>
                <a:gdLst/>
                <a:ahLst/>
                <a:rect l="l" t="t" r="r" b="b"/>
                <a:pathLst>
                  <a:path w="234" h="458">
                    <a:moveTo>
                      <a:pt x="16" y="92"/>
                    </a:moveTo>
                    <a:lnTo>
                      <a:pt x="59" y="30"/>
                    </a:lnTo>
                    <a:lnTo>
                      <a:pt x="88" y="6"/>
                    </a:lnTo>
                    <a:lnTo>
                      <a:pt x="123" y="0"/>
                    </a:lnTo>
                    <a:lnTo>
                      <a:pt x="152" y="1"/>
                    </a:lnTo>
                    <a:lnTo>
                      <a:pt x="195" y="10"/>
                    </a:lnTo>
                    <a:lnTo>
                      <a:pt x="219" y="29"/>
                    </a:lnTo>
                    <a:lnTo>
                      <a:pt x="234" y="49"/>
                    </a:lnTo>
                    <a:lnTo>
                      <a:pt x="234" y="80"/>
                    </a:lnTo>
                    <a:lnTo>
                      <a:pt x="221" y="106"/>
                    </a:lnTo>
                    <a:lnTo>
                      <a:pt x="201" y="140"/>
                    </a:lnTo>
                    <a:lnTo>
                      <a:pt x="187" y="171"/>
                    </a:lnTo>
                    <a:lnTo>
                      <a:pt x="182" y="206"/>
                    </a:lnTo>
                    <a:lnTo>
                      <a:pt x="180" y="233"/>
                    </a:lnTo>
                    <a:lnTo>
                      <a:pt x="191" y="268"/>
                    </a:lnTo>
                    <a:lnTo>
                      <a:pt x="210" y="304"/>
                    </a:lnTo>
                    <a:lnTo>
                      <a:pt x="226" y="342"/>
                    </a:lnTo>
                    <a:lnTo>
                      <a:pt x="230" y="371"/>
                    </a:lnTo>
                    <a:lnTo>
                      <a:pt x="229" y="405"/>
                    </a:lnTo>
                    <a:lnTo>
                      <a:pt x="210" y="429"/>
                    </a:lnTo>
                    <a:lnTo>
                      <a:pt x="180" y="447"/>
                    </a:lnTo>
                    <a:lnTo>
                      <a:pt x="156" y="458"/>
                    </a:lnTo>
                    <a:lnTo>
                      <a:pt x="118" y="458"/>
                    </a:lnTo>
                    <a:lnTo>
                      <a:pt x="83" y="447"/>
                    </a:lnTo>
                    <a:lnTo>
                      <a:pt x="35" y="428"/>
                    </a:lnTo>
                    <a:lnTo>
                      <a:pt x="16" y="380"/>
                    </a:lnTo>
                    <a:lnTo>
                      <a:pt x="10" y="347"/>
                    </a:lnTo>
                    <a:lnTo>
                      <a:pt x="10" y="306"/>
                    </a:lnTo>
                    <a:lnTo>
                      <a:pt x="5" y="268"/>
                    </a:lnTo>
                    <a:lnTo>
                      <a:pt x="0" y="206"/>
                    </a:lnTo>
                    <a:lnTo>
                      <a:pt x="1" y="157"/>
                    </a:lnTo>
                    <a:lnTo>
                      <a:pt x="10" y="116"/>
                    </a:lnTo>
                    <a:lnTo>
                      <a:pt x="16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337920" y="3916080"/>
                <a:ext cx="1314360" cy="493920"/>
              </a:xfrm>
              <a:custGeom>
                <a:avLst/>
                <a:gdLst/>
                <a:ahLst/>
                <a:rect l="l" t="t" r="r" b="b"/>
                <a:pathLst>
                  <a:path w="708" h="272">
                    <a:moveTo>
                      <a:pt x="619" y="160"/>
                    </a:moveTo>
                    <a:lnTo>
                      <a:pt x="659" y="141"/>
                    </a:lnTo>
                    <a:lnTo>
                      <a:pt x="695" y="132"/>
                    </a:lnTo>
                    <a:lnTo>
                      <a:pt x="708" y="145"/>
                    </a:lnTo>
                    <a:lnTo>
                      <a:pt x="708" y="175"/>
                    </a:lnTo>
                    <a:lnTo>
                      <a:pt x="676" y="213"/>
                    </a:lnTo>
                    <a:lnTo>
                      <a:pt x="640" y="219"/>
                    </a:lnTo>
                    <a:lnTo>
                      <a:pt x="551" y="247"/>
                    </a:lnTo>
                    <a:lnTo>
                      <a:pt x="462" y="262"/>
                    </a:lnTo>
                    <a:lnTo>
                      <a:pt x="383" y="272"/>
                    </a:lnTo>
                    <a:lnTo>
                      <a:pt x="325" y="266"/>
                    </a:lnTo>
                    <a:lnTo>
                      <a:pt x="245" y="247"/>
                    </a:lnTo>
                    <a:lnTo>
                      <a:pt x="156" y="189"/>
                    </a:lnTo>
                    <a:lnTo>
                      <a:pt x="102" y="141"/>
                    </a:lnTo>
                    <a:lnTo>
                      <a:pt x="70" y="122"/>
                    </a:lnTo>
                    <a:lnTo>
                      <a:pt x="43" y="116"/>
                    </a:lnTo>
                    <a:lnTo>
                      <a:pt x="19" y="111"/>
                    </a:lnTo>
                    <a:lnTo>
                      <a:pt x="5" y="87"/>
                    </a:lnTo>
                    <a:lnTo>
                      <a:pt x="0" y="45"/>
                    </a:lnTo>
                    <a:lnTo>
                      <a:pt x="10" y="19"/>
                    </a:lnTo>
                    <a:lnTo>
                      <a:pt x="24" y="0"/>
                    </a:lnTo>
                    <a:lnTo>
                      <a:pt x="45" y="6"/>
                    </a:lnTo>
                    <a:lnTo>
                      <a:pt x="55" y="39"/>
                    </a:lnTo>
                    <a:lnTo>
                      <a:pt x="52" y="74"/>
                    </a:lnTo>
                    <a:lnTo>
                      <a:pt x="81" y="97"/>
                    </a:lnTo>
                    <a:lnTo>
                      <a:pt x="98" y="98"/>
                    </a:lnTo>
                    <a:lnTo>
                      <a:pt x="113" y="83"/>
                    </a:lnTo>
                    <a:lnTo>
                      <a:pt x="118" y="59"/>
                    </a:lnTo>
                    <a:lnTo>
                      <a:pt x="151" y="64"/>
                    </a:lnTo>
                    <a:lnTo>
                      <a:pt x="151" y="102"/>
                    </a:lnTo>
                    <a:lnTo>
                      <a:pt x="132" y="126"/>
                    </a:lnTo>
                    <a:lnTo>
                      <a:pt x="174" y="160"/>
                    </a:lnTo>
                    <a:lnTo>
                      <a:pt x="239" y="189"/>
                    </a:lnTo>
                    <a:lnTo>
                      <a:pt x="297" y="204"/>
                    </a:lnTo>
                    <a:lnTo>
                      <a:pt x="355" y="218"/>
                    </a:lnTo>
                    <a:lnTo>
                      <a:pt x="395" y="218"/>
                    </a:lnTo>
                    <a:lnTo>
                      <a:pt x="447" y="208"/>
                    </a:lnTo>
                    <a:lnTo>
                      <a:pt x="503" y="193"/>
                    </a:lnTo>
                    <a:lnTo>
                      <a:pt x="560" y="175"/>
                    </a:lnTo>
                    <a:lnTo>
                      <a:pt x="619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721760" y="3930480"/>
                <a:ext cx="1317960" cy="493920"/>
              </a:xfrm>
              <a:custGeom>
                <a:avLst/>
                <a:gdLst/>
                <a:ahLst/>
                <a:rect l="l" t="t" r="r" b="b"/>
                <a:pathLst>
                  <a:path w="710" h="272">
                    <a:moveTo>
                      <a:pt x="89" y="160"/>
                    </a:moveTo>
                    <a:lnTo>
                      <a:pt x="49" y="141"/>
                    </a:lnTo>
                    <a:lnTo>
                      <a:pt x="14" y="132"/>
                    </a:lnTo>
                    <a:lnTo>
                      <a:pt x="0" y="144"/>
                    </a:lnTo>
                    <a:lnTo>
                      <a:pt x="0" y="175"/>
                    </a:lnTo>
                    <a:lnTo>
                      <a:pt x="33" y="212"/>
                    </a:lnTo>
                    <a:lnTo>
                      <a:pt x="68" y="219"/>
                    </a:lnTo>
                    <a:lnTo>
                      <a:pt x="157" y="246"/>
                    </a:lnTo>
                    <a:lnTo>
                      <a:pt x="248" y="261"/>
                    </a:lnTo>
                    <a:lnTo>
                      <a:pt x="326" y="272"/>
                    </a:lnTo>
                    <a:lnTo>
                      <a:pt x="385" y="265"/>
                    </a:lnTo>
                    <a:lnTo>
                      <a:pt x="463" y="246"/>
                    </a:lnTo>
                    <a:lnTo>
                      <a:pt x="554" y="188"/>
                    </a:lnTo>
                    <a:lnTo>
                      <a:pt x="608" y="141"/>
                    </a:lnTo>
                    <a:lnTo>
                      <a:pt x="639" y="122"/>
                    </a:lnTo>
                    <a:lnTo>
                      <a:pt x="667" y="115"/>
                    </a:lnTo>
                    <a:lnTo>
                      <a:pt x="691" y="110"/>
                    </a:lnTo>
                    <a:lnTo>
                      <a:pt x="704" y="87"/>
                    </a:lnTo>
                    <a:lnTo>
                      <a:pt x="710" y="45"/>
                    </a:lnTo>
                    <a:lnTo>
                      <a:pt x="699" y="19"/>
                    </a:lnTo>
                    <a:lnTo>
                      <a:pt x="686" y="0"/>
                    </a:lnTo>
                    <a:lnTo>
                      <a:pt x="664" y="6"/>
                    </a:lnTo>
                    <a:lnTo>
                      <a:pt x="654" y="39"/>
                    </a:lnTo>
                    <a:lnTo>
                      <a:pt x="658" y="74"/>
                    </a:lnTo>
                    <a:lnTo>
                      <a:pt x="629" y="97"/>
                    </a:lnTo>
                    <a:lnTo>
                      <a:pt x="611" y="98"/>
                    </a:lnTo>
                    <a:lnTo>
                      <a:pt x="596" y="83"/>
                    </a:lnTo>
                    <a:lnTo>
                      <a:pt x="591" y="59"/>
                    </a:lnTo>
                    <a:lnTo>
                      <a:pt x="559" y="64"/>
                    </a:lnTo>
                    <a:lnTo>
                      <a:pt x="559" y="102"/>
                    </a:lnTo>
                    <a:lnTo>
                      <a:pt x="577" y="126"/>
                    </a:lnTo>
                    <a:lnTo>
                      <a:pt x="536" y="160"/>
                    </a:lnTo>
                    <a:lnTo>
                      <a:pt x="469" y="188"/>
                    </a:lnTo>
                    <a:lnTo>
                      <a:pt x="411" y="204"/>
                    </a:lnTo>
                    <a:lnTo>
                      <a:pt x="355" y="217"/>
                    </a:lnTo>
                    <a:lnTo>
                      <a:pt x="313" y="217"/>
                    </a:lnTo>
                    <a:lnTo>
                      <a:pt x="262" y="207"/>
                    </a:lnTo>
                    <a:lnTo>
                      <a:pt x="205" y="192"/>
                    </a:lnTo>
                    <a:lnTo>
                      <a:pt x="148" y="175"/>
                    </a:lnTo>
                    <a:lnTo>
                      <a:pt x="89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054680" y="4560840"/>
                <a:ext cx="673920" cy="769320"/>
              </a:xfrm>
              <a:custGeom>
                <a:avLst/>
                <a:gdLst/>
                <a:ahLst/>
                <a:rect l="l" t="t" r="r" b="b"/>
                <a:pathLst>
                  <a:path w="363" h="424">
                    <a:moveTo>
                      <a:pt x="310" y="96"/>
                    </a:moveTo>
                    <a:lnTo>
                      <a:pt x="339" y="109"/>
                    </a:lnTo>
                    <a:lnTo>
                      <a:pt x="355" y="143"/>
                    </a:lnTo>
                    <a:lnTo>
                      <a:pt x="363" y="176"/>
                    </a:lnTo>
                    <a:lnTo>
                      <a:pt x="349" y="210"/>
                    </a:lnTo>
                    <a:lnTo>
                      <a:pt x="334" y="214"/>
                    </a:lnTo>
                    <a:lnTo>
                      <a:pt x="302" y="223"/>
                    </a:lnTo>
                    <a:lnTo>
                      <a:pt x="263" y="219"/>
                    </a:lnTo>
                    <a:lnTo>
                      <a:pt x="226" y="205"/>
                    </a:lnTo>
                    <a:lnTo>
                      <a:pt x="180" y="175"/>
                    </a:lnTo>
                    <a:lnTo>
                      <a:pt x="149" y="141"/>
                    </a:lnTo>
                    <a:lnTo>
                      <a:pt x="115" y="103"/>
                    </a:lnTo>
                    <a:lnTo>
                      <a:pt x="100" y="84"/>
                    </a:lnTo>
                    <a:lnTo>
                      <a:pt x="114" y="123"/>
                    </a:lnTo>
                    <a:lnTo>
                      <a:pt x="124" y="181"/>
                    </a:lnTo>
                    <a:lnTo>
                      <a:pt x="120" y="253"/>
                    </a:lnTo>
                    <a:lnTo>
                      <a:pt x="111" y="310"/>
                    </a:lnTo>
                    <a:lnTo>
                      <a:pt x="103" y="351"/>
                    </a:lnTo>
                    <a:lnTo>
                      <a:pt x="109" y="384"/>
                    </a:lnTo>
                    <a:lnTo>
                      <a:pt x="115" y="405"/>
                    </a:lnTo>
                    <a:lnTo>
                      <a:pt x="114" y="419"/>
                    </a:lnTo>
                    <a:lnTo>
                      <a:pt x="101" y="424"/>
                    </a:lnTo>
                    <a:lnTo>
                      <a:pt x="77" y="424"/>
                    </a:lnTo>
                    <a:lnTo>
                      <a:pt x="61" y="414"/>
                    </a:lnTo>
                    <a:lnTo>
                      <a:pt x="42" y="389"/>
                    </a:lnTo>
                    <a:lnTo>
                      <a:pt x="29" y="357"/>
                    </a:lnTo>
                    <a:lnTo>
                      <a:pt x="4" y="317"/>
                    </a:lnTo>
                    <a:lnTo>
                      <a:pt x="0" y="305"/>
                    </a:lnTo>
                    <a:lnTo>
                      <a:pt x="10" y="296"/>
                    </a:lnTo>
                    <a:lnTo>
                      <a:pt x="47" y="286"/>
                    </a:lnTo>
                    <a:lnTo>
                      <a:pt x="72" y="291"/>
                    </a:lnTo>
                    <a:lnTo>
                      <a:pt x="72" y="284"/>
                    </a:lnTo>
                    <a:lnTo>
                      <a:pt x="72" y="223"/>
                    </a:lnTo>
                    <a:lnTo>
                      <a:pt x="58" y="143"/>
                    </a:lnTo>
                    <a:lnTo>
                      <a:pt x="48" y="91"/>
                    </a:lnTo>
                    <a:lnTo>
                      <a:pt x="47" y="48"/>
                    </a:lnTo>
                    <a:lnTo>
                      <a:pt x="58" y="29"/>
                    </a:lnTo>
                    <a:lnTo>
                      <a:pt x="77" y="4"/>
                    </a:lnTo>
                    <a:lnTo>
                      <a:pt x="109" y="0"/>
                    </a:lnTo>
                    <a:lnTo>
                      <a:pt x="132" y="14"/>
                    </a:lnTo>
                    <a:lnTo>
                      <a:pt x="168" y="43"/>
                    </a:lnTo>
                    <a:lnTo>
                      <a:pt x="215" y="74"/>
                    </a:lnTo>
                    <a:lnTo>
                      <a:pt x="262" y="91"/>
                    </a:lnTo>
                    <a:lnTo>
                      <a:pt x="31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96760" y="4787640"/>
                <a:ext cx="707400" cy="742320"/>
              </a:xfrm>
              <a:custGeom>
                <a:avLst/>
                <a:gdLst/>
                <a:ahLst/>
                <a:rect l="l" t="t" r="r" b="b"/>
                <a:pathLst>
                  <a:path w="381" h="409">
                    <a:moveTo>
                      <a:pt x="106" y="23"/>
                    </a:moveTo>
                    <a:lnTo>
                      <a:pt x="149" y="0"/>
                    </a:lnTo>
                    <a:lnTo>
                      <a:pt x="180" y="16"/>
                    </a:lnTo>
                    <a:lnTo>
                      <a:pt x="195" y="42"/>
                    </a:lnTo>
                    <a:lnTo>
                      <a:pt x="178" y="95"/>
                    </a:lnTo>
                    <a:lnTo>
                      <a:pt x="147" y="152"/>
                    </a:lnTo>
                    <a:lnTo>
                      <a:pt x="106" y="200"/>
                    </a:lnTo>
                    <a:lnTo>
                      <a:pt x="76" y="220"/>
                    </a:lnTo>
                    <a:lnTo>
                      <a:pt x="77" y="232"/>
                    </a:lnTo>
                    <a:lnTo>
                      <a:pt x="123" y="239"/>
                    </a:lnTo>
                    <a:lnTo>
                      <a:pt x="167" y="244"/>
                    </a:lnTo>
                    <a:lnTo>
                      <a:pt x="243" y="234"/>
                    </a:lnTo>
                    <a:lnTo>
                      <a:pt x="297" y="213"/>
                    </a:lnTo>
                    <a:lnTo>
                      <a:pt x="316" y="200"/>
                    </a:lnTo>
                    <a:lnTo>
                      <a:pt x="340" y="190"/>
                    </a:lnTo>
                    <a:lnTo>
                      <a:pt x="352" y="191"/>
                    </a:lnTo>
                    <a:lnTo>
                      <a:pt x="364" y="206"/>
                    </a:lnTo>
                    <a:lnTo>
                      <a:pt x="364" y="232"/>
                    </a:lnTo>
                    <a:lnTo>
                      <a:pt x="339" y="268"/>
                    </a:lnTo>
                    <a:lnTo>
                      <a:pt x="330" y="309"/>
                    </a:lnTo>
                    <a:lnTo>
                      <a:pt x="344" y="333"/>
                    </a:lnTo>
                    <a:lnTo>
                      <a:pt x="376" y="356"/>
                    </a:lnTo>
                    <a:lnTo>
                      <a:pt x="381" y="372"/>
                    </a:lnTo>
                    <a:lnTo>
                      <a:pt x="368" y="391"/>
                    </a:lnTo>
                    <a:lnTo>
                      <a:pt x="326" y="409"/>
                    </a:lnTo>
                    <a:lnTo>
                      <a:pt x="306" y="401"/>
                    </a:lnTo>
                    <a:lnTo>
                      <a:pt x="296" y="362"/>
                    </a:lnTo>
                    <a:lnTo>
                      <a:pt x="286" y="310"/>
                    </a:lnTo>
                    <a:lnTo>
                      <a:pt x="291" y="261"/>
                    </a:lnTo>
                    <a:lnTo>
                      <a:pt x="273" y="258"/>
                    </a:lnTo>
                    <a:lnTo>
                      <a:pt x="230" y="273"/>
                    </a:lnTo>
                    <a:lnTo>
                      <a:pt x="162" y="285"/>
                    </a:lnTo>
                    <a:lnTo>
                      <a:pt x="115" y="291"/>
                    </a:lnTo>
                    <a:lnTo>
                      <a:pt x="52" y="280"/>
                    </a:lnTo>
                    <a:lnTo>
                      <a:pt x="8" y="270"/>
                    </a:lnTo>
                    <a:lnTo>
                      <a:pt x="0" y="227"/>
                    </a:lnTo>
                    <a:lnTo>
                      <a:pt x="13" y="187"/>
                    </a:lnTo>
                    <a:lnTo>
                      <a:pt x="48" y="114"/>
                    </a:lnTo>
                    <a:lnTo>
                      <a:pt x="67" y="78"/>
                    </a:lnTo>
                    <a:lnTo>
                      <a:pt x="86" y="47"/>
                    </a:lnTo>
                    <a:lnTo>
                      <a:pt x="10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3591000" y="2726280"/>
              <a:ext cx="1617480" cy="3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3026160" y="2232720"/>
              <a:ext cx="1171800" cy="37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E093-3B53-4ABE-84D1-388B16FC7A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9171000" y="6350040"/>
            <a:ext cx="612720" cy="280800"/>
          </a:xfrm>
          <a:custGeom>
            <a:avLst/>
            <a:gdLst>
              <a:gd name="textAreaLeft" fmla="*/ 95760 w 612720"/>
              <a:gd name="textAreaRight" fmla="*/ 536400 w 612720"/>
              <a:gd name="textAreaTop" fmla="*/ 70200 h 280800"/>
              <a:gd name="textAreaBottom" fmla="*/ 210600 h 28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25160" y="1015560"/>
            <a:ext cx="792468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ipuntualizziamo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l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efinizione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di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gen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92" name=""/>
          <p:cNvSpPr/>
          <p:nvPr/>
        </p:nvSpPr>
        <p:spPr>
          <a:xfrm>
            <a:off x="165240" y="1828800"/>
            <a:ext cx="96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“gene” mendeliano e’ un entita’ astratta identificata dalla modalita’ di  segregazione e dalla mappatura in un lo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65240" y="2743200"/>
            <a:ext cx="955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“gene” molecolare e’ una sequenza codificante con una organizzazione definita: 5’UTR, esoni,introni, 3’UTR ....  corrispondente ad una sequenza amminoacidica o piu’genericamente ad un trascri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47680" y="4114800"/>
            <a:ext cx="9658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locus e’ una regione genomica la cui espressione porta ad un fenotipo: per cui e’ piu’ giusto parlare di locus-malattia che di gene-malattia. Il locus puo’ essere piu’ grande del gene molecolare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l linkage si fa fra locus, non fra geni molecola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 flipH="1">
            <a:off x="7594200" y="495360"/>
            <a:ext cx="2095560" cy="146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F80-4988-42A6-8F09-666893F722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025360" y="609840"/>
            <a:ext cx="4444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cora terminologi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1428840"/>
            <a:ext cx="92566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plotipo: genotipo del gamete. Se prendo in considerazione 3 loc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gnuno presente nella popolazione con 2 alleli i genotipi possibili nei gameti son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1,B1,C1; A2,B1,C1; A1,B2,C2; A1,B1,C2; ETC.... a priori non so chi s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 chi. Nelle popolazioni naturali solo l’analisi della progenie mi dice quale 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’aplotipo dei parentali e solo nei grandi numeri. Le cose si complica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ulteriormente quando non disponendo di “fenotipi codominanti” come i polimorf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sso seguire i loci solo con caratteri soggetti alla dominanza e recessivita’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16000" y="3862440"/>
            <a:ext cx="91440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alternativa al termine aplotipo si usa spesso il termine 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94640" y="5105520"/>
            <a:ext cx="859608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icordate fase cis e trans? Accoppiamento e repulsione? So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nonimi operativi di aplotipo soprattutto quando si parla di loc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rrispondenti a caratteri dominanti e recess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 flipH="1">
            <a:off x="7454520" y="482760"/>
            <a:ext cx="2095560" cy="146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BE5-E180-4DFF-9163-838F138FCF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382680" y="1905120"/>
            <a:ext cx="85392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80000"/>
              <a:buFont typeface="Wingdings" charset="2"/>
              <a:buChar char="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TTENZIONE ALLA RICOSTRUZIONE DELLA F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2440" y="2681280"/>
            <a:ext cx="963144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Fase : combinazione degli alleli di una regione che deriva da ciascun genitore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6800" y="3581280"/>
            <a:ext cx="97646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Meiosi informative: sono quelle che danno informazioni sulla ricombinazion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1835280" y="4514760"/>
            <a:ext cx="380880" cy="34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300320" y="4656240"/>
            <a:ext cx="53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04880" y="4656240"/>
            <a:ext cx="0" cy="42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3820320" y="4533840"/>
            <a:ext cx="382680" cy="34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286080" y="4675320"/>
            <a:ext cx="53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92440" y="4675320"/>
            <a:ext cx="0" cy="42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5655600" y="4533840"/>
            <a:ext cx="382680" cy="34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121360" y="4656240"/>
            <a:ext cx="53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425920" y="4675320"/>
            <a:ext cx="0" cy="42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8177040" y="4533840"/>
            <a:ext cx="384480" cy="34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642080" y="4675320"/>
            <a:ext cx="53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948440" y="4675320"/>
            <a:ext cx="0" cy="42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450800" y="5079960"/>
            <a:ext cx="384480" cy="3445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402000" y="5079960"/>
            <a:ext cx="380880" cy="3445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5234760" y="5114880"/>
            <a:ext cx="382680" cy="34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7744680" y="5126040"/>
            <a:ext cx="382680" cy="34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41240" y="4759200"/>
            <a:ext cx="14878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1a1       a2a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76600" y="4780080"/>
            <a:ext cx="15886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1a2       a1a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725360" y="4797360"/>
            <a:ext cx="138744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1a2       a1a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189920" y="4797360"/>
            <a:ext cx="143784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1a2        a3a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479960" y="5442120"/>
            <a:ext cx="6288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a1a2                   a1a2                  a1a1                          a1a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95320" y="5996160"/>
            <a:ext cx="12808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non info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43360" y="5996160"/>
            <a:ext cx="12808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non info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129640" y="5996160"/>
            <a:ext cx="773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info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76200" y="5996160"/>
            <a:ext cx="773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info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1015200" y="4495680"/>
            <a:ext cx="360360" cy="314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3002760" y="4514760"/>
            <a:ext cx="358920" cy="314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4836240" y="4514760"/>
            <a:ext cx="360360" cy="314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7358760" y="4514760"/>
            <a:ext cx="360360" cy="314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898280" y="703080"/>
            <a:ext cx="55911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Linkage:fas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 flipH="1">
            <a:off x="7797960" y="584280"/>
            <a:ext cx="2095200" cy="146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77E-7A3D-4897-BCE5-49B9B04DDC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7620120" y="2610000"/>
            <a:ext cx="78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790120" y="2610000"/>
            <a:ext cx="763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6320" y="1755720"/>
            <a:ext cx="975348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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Definizione della regione candidata con analisi di linkage: ricostruzione degli aplotipi studiando la segregazione nelle famiglie. E’ necessario risalire alla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Comic Sans MS"/>
              </a:rPr>
              <a:t>fase e identificare i ricombinant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7338240" y="2449440"/>
            <a:ext cx="358920" cy="316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8406720" y="2468520"/>
            <a:ext cx="382680" cy="34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8331120" y="2398680"/>
            <a:ext cx="534960" cy="49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9498960" y="2449440"/>
            <a:ext cx="360360" cy="316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9400680" y="2398680"/>
            <a:ext cx="536760" cy="49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796160" y="2610000"/>
            <a:ext cx="0" cy="42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9096480" y="2610000"/>
            <a:ext cx="0" cy="42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948440" y="3033720"/>
            <a:ext cx="160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9400320" y="3354480"/>
            <a:ext cx="360360" cy="3142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764560" y="303372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9553680" y="303372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954840" y="3033720"/>
            <a:ext cx="841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6827040" y="3354480"/>
            <a:ext cx="358920" cy="3142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7795440" y="3354480"/>
            <a:ext cx="358920" cy="3142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007400" y="303372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948440" y="303372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8561520" y="3315600"/>
            <a:ext cx="380880" cy="3445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719040" y="3597120"/>
            <a:ext cx="3589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023600" y="3597120"/>
            <a:ext cx="3589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8400" y="3597120"/>
            <a:ext cx="3589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935120" y="3597120"/>
            <a:ext cx="3589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412840" y="3597120"/>
            <a:ext cx="3589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695080" y="3597120"/>
            <a:ext cx="2642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9230040" y="3597120"/>
            <a:ext cx="2642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fe2c02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482760" y="3597120"/>
            <a:ext cx="3589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201960" y="2398680"/>
            <a:ext cx="5472720" cy="4168800"/>
            <a:chOff x="201960" y="2398680"/>
            <a:chExt cx="5472720" cy="4168800"/>
          </a:xfrm>
        </p:grpSpPr>
        <p:sp>
          <p:nvSpPr>
            <p:cNvPr id="864" name=""/>
            <p:cNvSpPr/>
            <p:nvPr/>
          </p:nvSpPr>
          <p:spPr>
            <a:xfrm>
              <a:off x="2263320" y="2610000"/>
              <a:ext cx="53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332880" y="3457440"/>
              <a:ext cx="45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1978920" y="2449440"/>
              <a:ext cx="358920" cy="3160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2798280" y="2468520"/>
              <a:ext cx="381600" cy="3459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569320" y="2610000"/>
              <a:ext cx="0" cy="4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297000" y="3355920"/>
              <a:ext cx="361080" cy="3142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1116360" y="3316320"/>
              <a:ext cx="381600" cy="3445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2034720" y="3316320"/>
              <a:ext cx="381600" cy="3445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3714840" y="3315600"/>
              <a:ext cx="361080" cy="3142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2951280" y="3315600"/>
              <a:ext cx="381600" cy="3445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4555440" y="3315600"/>
              <a:ext cx="381600" cy="3445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5243400" y="3315600"/>
              <a:ext cx="381600" cy="3445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69360" y="3033720"/>
              <a:ext cx="412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130200" y="3033720"/>
              <a:ext cx="0" cy="28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269360" y="3033720"/>
              <a:ext cx="0" cy="28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185920" y="3033720"/>
              <a:ext cx="0" cy="28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708800" y="3033720"/>
              <a:ext cx="0" cy="28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396760" y="3033720"/>
              <a:ext cx="0" cy="28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8800" y="34923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1960" y="358632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43880" y="359712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004760" y="358632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233360" y="359712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1881360" y="2398680"/>
              <a:ext cx="534960" cy="49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2722320" y="2398680"/>
              <a:ext cx="534600" cy="49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893600" y="3586320"/>
              <a:ext cx="29232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122560" y="3586320"/>
              <a:ext cx="2937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69600" y="359712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00080" y="357516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042360" y="358632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613320" y="3597120"/>
              <a:ext cx="291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05920" y="358632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404240" y="358632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9999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635000" y="358632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410440" y="359712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87400" y="3527280"/>
              <a:ext cx="0" cy="148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86240" y="3492360"/>
              <a:ext cx="0" cy="151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28400" y="5008680"/>
              <a:ext cx="993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026880" y="5008680"/>
              <a:ext cx="91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269360" y="5361120"/>
              <a:ext cx="381600" cy="3459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28400" y="5008680"/>
              <a:ext cx="0" cy="4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460520" y="5008680"/>
              <a:ext cx="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2823480" y="5329080"/>
              <a:ext cx="358920" cy="31464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3791880" y="5329080"/>
              <a:ext cx="359280" cy="31464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000960" y="5008680"/>
              <a:ext cx="0" cy="28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45240" y="5008680"/>
              <a:ext cx="0" cy="28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650960" y="5294160"/>
              <a:ext cx="2937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07640" y="529416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12160" y="529416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95440" y="5294160"/>
              <a:ext cx="291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493880" y="529416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08480" y="5294160"/>
              <a:ext cx="2937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182040" y="529416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265280" y="5291280"/>
              <a:ext cx="26424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600" rIns="84600" tIns="42480" bIns="42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US" sz="1300" spc="-1" strike="noStrike">
                  <a:solidFill>
                    <a:srgbClr val="fe2c02"/>
                  </a:solidFill>
                  <a:latin typeface="Comic Sans MS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259920" y="5342040"/>
              <a:ext cx="359280" cy="3157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619128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Linkage:fase di piu locus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20" name=""/>
          <p:cNvSpPr/>
          <p:nvPr/>
        </p:nvSpPr>
        <p:spPr>
          <a:xfrm>
            <a:off x="4375080" y="3440160"/>
            <a:ext cx="312840" cy="1512720"/>
          </a:xfrm>
          <a:custGeom>
            <a:avLst/>
            <a:gdLst>
              <a:gd name="textAreaLeft" fmla="*/ 15120 w 312840"/>
              <a:gd name="textAreaRight" fmla="*/ 297720 w 312840"/>
              <a:gd name="textAreaTop" fmla="*/ 15120 h 1512720"/>
              <a:gd name="textAreaBottom" fmla="*/ 1497600 h 1512720"/>
            </a:gdLst>
            <a:ahLst/>
            <a:rect l="textAreaLeft" t="textAreaTop" r="textAreaRight" b="textAreaBottom"/>
            <a:pathLst>
              <a:path w="21600" h="104350">
                <a:moveTo>
                  <a:pt x="3600" y="0"/>
                </a:moveTo>
                <a:arcTo wR="3600" hR="3600" stAng="16200000" swAng="-5400000"/>
                <a:lnTo>
                  <a:pt x="0" y="100750"/>
                </a:lnTo>
                <a:arcTo wR="3600" hR="3600" stAng="10800000" swAng="-5400000"/>
                <a:lnTo>
                  <a:pt x="18000" y="104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9244080" y="3573360"/>
            <a:ext cx="311040" cy="12956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043600" y="5149800"/>
            <a:ext cx="478296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80000"/>
              <a:buFont typeface="Wingdings" charset="2"/>
              <a:buChar char="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ossedere un particolare polimorfism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non vuol dire avere il fenotipo, lo studio di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inkage e’ a livello di popolazione, serve a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individuare una regione non la mutazi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 flipH="1">
            <a:off x="7606800" y="482760"/>
            <a:ext cx="2095560" cy="146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3138-0A68-4CAA-8C58-411F2BCF64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0" y="1413000"/>
            <a:ext cx="975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Ci possono essere inconvenienti che complicano la possibilita’ di assegnar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un locus a una regione definita da marcatori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071360" y="914040"/>
            <a:ext cx="58626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Linkage </a:t>
            </a:r>
            <a:r>
              <a:rPr b="1" lang="en-US" sz="2400" spc="-1" strike="noStrike">
                <a:solidFill>
                  <a:srgbClr val="fe2c02"/>
                </a:solidFill>
                <a:latin typeface="Comic Sans MS"/>
              </a:rPr>
              <a:t>possibili inconvenienti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26" name=""/>
          <p:cNvSpPr/>
          <p:nvPr/>
        </p:nvSpPr>
        <p:spPr>
          <a:xfrm>
            <a:off x="527040" y="2484000"/>
            <a:ext cx="831564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Errori umani: errata lettura dei dati, scambio di campioni, paternita’……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03040" y="2839680"/>
            <a:ext cx="882504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Errori nell’interpretazione del fenotipo: un falso ricombinante.Se i marcatori sono molti e vicini la presenza di un doppio ricombinante fa sospettare un erro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09480" y="3975840"/>
            <a:ext cx="863784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spAutoFit/>
          </a:bodyPr>
          <a:p>
            <a:pPr algn="just">
              <a:lnSpc>
                <a:spcPct val="170000"/>
              </a:lnSpc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Eterogeneita’ genetica: famiglie con fenotipo simile vengono accorpate e non si riesce a trovare il linkage. Sclerosi tuberosa: due loci distint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07960" y="5041800"/>
            <a:ext cx="87645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SzPct val="25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E’ importante disporre di numerosi siti polimorfici, che non siano soggetti a dominanza e recessivita’. I polimorfismi del DNA sono l’idea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1"/>
          <a:stretch/>
        </p:blipFill>
        <p:spPr>
          <a:xfrm flipH="1">
            <a:off x="7810200" y="457200"/>
            <a:ext cx="2095560" cy="146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F84-4595-431D-B348-6168B6E5CE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4349880" y="1981080"/>
            <a:ext cx="478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SE I LOCI  NON SONO ASSOCIATI LA PROBABILITA’ E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1/2 X 1/2 X 1/2 X1/2 = 1/16=0.06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256680" y="1066680"/>
            <a:ext cx="3636720" cy="3111120"/>
            <a:chOff x="256680" y="1066680"/>
            <a:chExt cx="3636720" cy="3111120"/>
          </a:xfrm>
        </p:grpSpPr>
        <p:sp>
          <p:nvSpPr>
            <p:cNvPr id="933" name=""/>
            <p:cNvSpPr/>
            <p:nvPr/>
          </p:nvSpPr>
          <p:spPr>
            <a:xfrm>
              <a:off x="955800" y="1192320"/>
              <a:ext cx="344880" cy="31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611080" y="1192320"/>
              <a:ext cx="413280" cy="37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56680" y="1131480"/>
              <a:ext cx="296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66200" y="1130040"/>
              <a:ext cx="296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092040" y="1066680"/>
              <a:ext cx="29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252960" y="1066680"/>
              <a:ext cx="29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784160" y="1945440"/>
              <a:ext cx="344880" cy="31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955960" y="1882800"/>
              <a:ext cx="413280" cy="376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170720" y="1880280"/>
              <a:ext cx="296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56480" y="1880280"/>
              <a:ext cx="29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435480" y="1880280"/>
              <a:ext cx="29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602880" y="1880280"/>
              <a:ext cx="29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19000" y="3138480"/>
              <a:ext cx="344880" cy="31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04080" y="3138480"/>
              <a:ext cx="344880" cy="31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577520" y="3076200"/>
              <a:ext cx="412920" cy="37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301200" y="3076200"/>
              <a:ext cx="413280" cy="37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32960" y="3639240"/>
              <a:ext cx="29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955080" y="3639240"/>
              <a:ext cx="29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88240" y="3639240"/>
              <a:ext cx="29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610360" y="3639240"/>
              <a:ext cx="29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516320" y="3657600"/>
              <a:ext cx="296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783440" y="3657600"/>
              <a:ext cx="29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22360" y="3639240"/>
              <a:ext cx="295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385440" y="3639240"/>
              <a:ext cx="29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333080" y="1380600"/>
              <a:ext cx="12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20960" y="1380600"/>
              <a:ext cx="0" cy="56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127600" y="2071080"/>
              <a:ext cx="82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542680" y="2071080"/>
              <a:ext cx="0" cy="10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25640" y="2699640"/>
              <a:ext cx="24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025640" y="269964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784160" y="269964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507840" y="269964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843120" y="4267080"/>
            <a:ext cx="2027160" cy="432000"/>
          </a:xfrm>
          <a:prstGeom prst="downArrowCallout">
            <a:avLst>
              <a:gd name="adj1" fmla="val 60096"/>
              <a:gd name="adj2" fmla="val 117313"/>
              <a:gd name="adj3" fmla="val 16546"/>
              <a:gd name="adj4" fmla="val 31250"/>
            </a:avLst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01000" y="4724280"/>
            <a:ext cx="20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NON RICOMBINA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170520" y="434340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RICOMBIN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356520" y="3276720"/>
            <a:ext cx="28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SE LA FREQUENZA DI RICOMBINAZIONE E’ 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61160" y="3886200"/>
            <a:ext cx="263520" cy="563400"/>
          </a:xfrm>
          <a:prstGeom prst="downArrow">
            <a:avLst>
              <a:gd name="adj1" fmla="val 50000"/>
              <a:gd name="adj2" fmla="val 53449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509880" y="4495680"/>
            <a:ext cx="263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LA P DI 3 NR E 1R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0.1X0.9X0.9X0.9=0.073=7.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073160" y="5181480"/>
            <a:ext cx="81723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Non ho la possibilita’ di scegliere fra le due ipotesi: solo un gran numero di osservazioni mi potrebbe permettere di riconoscere quale e’ la situazione piu’ probabile NON ESISTE NULLA CHE POSSA SOSTITUIRE I GRANDI NUMERI….COME POSSIAMO OTTENERE GRANDI NUMERI NELL’UOMO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robabilita’ di trovare ricombinanti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73" name=""/>
          <p:cNvSpPr/>
          <p:nvPr/>
        </p:nvSpPr>
        <p:spPr>
          <a:xfrm>
            <a:off x="4717080" y="2666880"/>
            <a:ext cx="408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SE I LOCI  SONO ASSOCIATI LA PROBABIL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DIPENDE DA QUANTO SONO DISTA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0" y="977760"/>
            <a:ext cx="9303840" cy="774720"/>
            <a:chOff x="0" y="977760"/>
            <a:chExt cx="9303840" cy="774720"/>
          </a:xfrm>
        </p:grpSpPr>
        <p:sp>
          <p:nvSpPr>
            <p:cNvPr id="975" name=""/>
            <p:cNvSpPr/>
            <p:nvPr/>
          </p:nvSpPr>
          <p:spPr>
            <a:xfrm>
              <a:off x="0" y="1066680"/>
              <a:ext cx="37972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485720" y="977760"/>
              <a:ext cx="781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NB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 non si conosce la loro posizione reciproca quind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ci sono due possibilit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9080640" y="668160"/>
            <a:ext cx="527040" cy="12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FEA3-68CE-475C-8689-03BE51F9CE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9171000" y="6350040"/>
            <a:ext cx="612720" cy="280800"/>
          </a:xfrm>
          <a:custGeom>
            <a:avLst/>
            <a:gdLst>
              <a:gd name="textAreaLeft" fmla="*/ 95760 w 612720"/>
              <a:gd name="textAreaRight" fmla="*/ 536400 w 612720"/>
              <a:gd name="textAreaTop" fmla="*/ 70200 h 280800"/>
              <a:gd name="textAreaBottom" fmla="*/ 210600 h 28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2971800" y="761760"/>
            <a:ext cx="4292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ome fare il linkage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2063880" y="533520"/>
            <a:ext cx="671400" cy="78084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1468440" y="21128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953640" y="1371600"/>
            <a:ext cx="647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calcolo del linkage e’ quindi statis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orre una progenie numero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sogna conoscere la fase (aplotip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i parent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464920" y="5354640"/>
            <a:ext cx="38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 ricorre al lod s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378800" y="3701880"/>
            <a:ext cx="76298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e si fa visto che le famiglie uma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no di solito picco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2"/>
          <a:stretch/>
        </p:blipFill>
        <p:spPr>
          <a:xfrm>
            <a:off x="8381880" y="711360"/>
            <a:ext cx="1022400" cy="247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BFBE-524C-4359-B0B5-E831D36391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680760" y="1787400"/>
            <a:ext cx="83415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2480" bIns="4248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l linkage e’ una relazione di vicinanza fra due loci ed e’ funzione della lor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istanza. La definizione di un linkage fra due loci si basa su calcoli statistic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che permettono di quantizzare la probabilta’ che i risultati ottenuti non sian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ovuti al caso . Nel caso dell’uomo l’analisi della progenie di una singola famigl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raramente fornisce informazioni sia per lo scarso numero di meiosi sia per l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ifficolta’ di risalire alla fase. Bisogna mettere insieme i dati provenienti d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iu’ famigli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063520" y="649080"/>
            <a:ext cx="5655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Linkage-lod score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88" name=""/>
          <p:cNvSpPr/>
          <p:nvPr/>
        </p:nvSpPr>
        <p:spPr>
          <a:xfrm>
            <a:off x="351000" y="2924280"/>
            <a:ext cx="468000" cy="1800000"/>
          </a:xfrm>
          <a:custGeom>
            <a:avLst/>
            <a:gdLst>
              <a:gd name="textAreaLeft" fmla="*/ 62640 w 468000"/>
              <a:gd name="textAreaRight" fmla="*/ 405360 w 46800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46600" y="4386240"/>
            <a:ext cx="7264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Od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ratio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979280" y="4103640"/>
            <a:ext cx="548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P di un assortimento genetico in una progenie se i geni sono associa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063880" y="4572000"/>
            <a:ext cx="701820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45440" y="4824360"/>
            <a:ext cx="5686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mic Sans MS"/>
              </a:rPr>
              <a:t>P di un assortimento genetico nella progenie se i geni sono indipenden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1240" y="5410080"/>
            <a:ext cx="854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od score: logaritmo in base 10 dei singoli rapporti di ogni famiglia, si possono co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ommare. Un valore di 3 indica lin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866720" y="401148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-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964640" y="4619520"/>
            <a:ext cx="83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1/2)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n+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1"/>
          <a:stretch/>
        </p:blipFill>
        <p:spPr>
          <a:xfrm>
            <a:off x="8394840" y="509760"/>
            <a:ext cx="742680" cy="130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62D8-C5CA-4554-898C-ECD7B48B75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200040" y="533160"/>
            <a:ext cx="300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OD SCORE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1346040"/>
            <a:ext cx="97059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LOD SCORE (Z):</a:t>
            </a:r>
            <a:r>
              <a:rPr b="0" i="1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logaritmo della probabilita’ che i loci siano associati (data la frazione di ricombinazione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) piuttosto che non associati (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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0.5). La probabilita’ complessiva di un gruppo di famiglie e’ il prodotto delle probabilta’ di ciascuna famiglia, percio’ la somma dei lod score. Per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= 0.5,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Z=0: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fatti sono il rapporto fra probabilta’ identiche e log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Comic Sans MS"/>
                <a:ea typeface="ＭＳ Ｐゴシック"/>
              </a:rPr>
              <a:t>10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(1)=0. Z=3(1000:1) e’ la soglia per accettare il linkage con una probabilita’ di errore del 5%. Z=-2 esclude il linkage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318600" y="2819520"/>
            <a:ext cx="4389840" cy="2661120"/>
            <a:chOff x="318600" y="2819520"/>
            <a:chExt cx="4389840" cy="2661120"/>
          </a:xfrm>
        </p:grpSpPr>
        <p:grpSp>
          <p:nvGrpSpPr>
            <p:cNvPr id="1000" name=""/>
            <p:cNvGrpSpPr/>
            <p:nvPr/>
          </p:nvGrpSpPr>
          <p:grpSpPr>
            <a:xfrm>
              <a:off x="376200" y="2968560"/>
              <a:ext cx="4332240" cy="2512080"/>
              <a:chOff x="376200" y="2968560"/>
              <a:chExt cx="4332240" cy="2512080"/>
            </a:xfrm>
          </p:grpSpPr>
          <p:sp>
            <p:nvSpPr>
              <p:cNvPr id="1001" name=""/>
              <p:cNvSpPr/>
              <p:nvPr/>
            </p:nvSpPr>
            <p:spPr>
              <a:xfrm>
                <a:off x="727920" y="3071520"/>
                <a:ext cx="3970080" cy="183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27920" y="4079880"/>
                <a:ext cx="397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76200" y="2968560"/>
                <a:ext cx="2898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928080" y="4914360"/>
                <a:ext cx="378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0       0.1         0.2         0.3           0.4             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997920" y="3394440"/>
                <a:ext cx="3596040" cy="1537920"/>
              </a:xfrm>
              <a:custGeom>
                <a:avLst/>
                <a:gdLst/>
                <a:ahLst/>
                <a:rect l="l" t="t" r="r" b="b"/>
                <a:pathLst>
                  <a:path w="2424" h="1176">
                    <a:moveTo>
                      <a:pt x="0" y="1176"/>
                    </a:moveTo>
                    <a:cubicBezTo>
                      <a:pt x="37" y="1101"/>
                      <a:pt x="41" y="1025"/>
                      <a:pt x="72" y="948"/>
                    </a:cubicBezTo>
                    <a:cubicBezTo>
                      <a:pt x="84" y="867"/>
                      <a:pt x="86" y="765"/>
                      <a:pt x="132" y="696"/>
                    </a:cubicBezTo>
                    <a:cubicBezTo>
                      <a:pt x="156" y="599"/>
                      <a:pt x="192" y="505"/>
                      <a:pt x="216" y="408"/>
                    </a:cubicBezTo>
                    <a:cubicBezTo>
                      <a:pt x="223" y="378"/>
                      <a:pt x="244" y="353"/>
                      <a:pt x="252" y="324"/>
                    </a:cubicBezTo>
                    <a:cubicBezTo>
                      <a:pt x="262" y="290"/>
                      <a:pt x="296" y="191"/>
                      <a:pt x="324" y="168"/>
                    </a:cubicBezTo>
                    <a:cubicBezTo>
                      <a:pt x="345" y="151"/>
                      <a:pt x="374" y="147"/>
                      <a:pt x="396" y="132"/>
                    </a:cubicBezTo>
                    <a:cubicBezTo>
                      <a:pt x="404" y="120"/>
                      <a:pt x="409" y="105"/>
                      <a:pt x="420" y="96"/>
                    </a:cubicBezTo>
                    <a:cubicBezTo>
                      <a:pt x="430" y="88"/>
                      <a:pt x="444" y="89"/>
                      <a:pt x="456" y="84"/>
                    </a:cubicBezTo>
                    <a:cubicBezTo>
                      <a:pt x="524" y="55"/>
                      <a:pt x="598" y="42"/>
                      <a:pt x="660" y="0"/>
                    </a:cubicBezTo>
                    <a:cubicBezTo>
                      <a:pt x="781" y="15"/>
                      <a:pt x="891" y="37"/>
                      <a:pt x="1008" y="60"/>
                    </a:cubicBezTo>
                    <a:cubicBezTo>
                      <a:pt x="1053" y="83"/>
                      <a:pt x="1091" y="96"/>
                      <a:pt x="1140" y="108"/>
                    </a:cubicBezTo>
                    <a:cubicBezTo>
                      <a:pt x="1148" y="120"/>
                      <a:pt x="1153" y="135"/>
                      <a:pt x="1164" y="144"/>
                    </a:cubicBezTo>
                    <a:cubicBezTo>
                      <a:pt x="1174" y="152"/>
                      <a:pt x="1191" y="147"/>
                      <a:pt x="1200" y="156"/>
                    </a:cubicBezTo>
                    <a:cubicBezTo>
                      <a:pt x="1264" y="220"/>
                      <a:pt x="1152" y="172"/>
                      <a:pt x="1248" y="204"/>
                    </a:cubicBezTo>
                    <a:cubicBezTo>
                      <a:pt x="1283" y="257"/>
                      <a:pt x="1295" y="249"/>
                      <a:pt x="1356" y="264"/>
                    </a:cubicBezTo>
                    <a:cubicBezTo>
                      <a:pt x="1391" y="317"/>
                      <a:pt x="1403" y="309"/>
                      <a:pt x="1464" y="324"/>
                    </a:cubicBezTo>
                    <a:cubicBezTo>
                      <a:pt x="1502" y="380"/>
                      <a:pt x="1469" y="347"/>
                      <a:pt x="1524" y="372"/>
                    </a:cubicBezTo>
                    <a:cubicBezTo>
                      <a:pt x="1557" y="387"/>
                      <a:pt x="1620" y="420"/>
                      <a:pt x="1620" y="420"/>
                    </a:cubicBezTo>
                    <a:cubicBezTo>
                      <a:pt x="1689" y="523"/>
                      <a:pt x="1597" y="402"/>
                      <a:pt x="1680" y="468"/>
                    </a:cubicBezTo>
                    <a:cubicBezTo>
                      <a:pt x="1691" y="477"/>
                      <a:pt x="1693" y="495"/>
                      <a:pt x="1704" y="504"/>
                    </a:cubicBezTo>
                    <a:cubicBezTo>
                      <a:pt x="1714" y="512"/>
                      <a:pt x="1728" y="511"/>
                      <a:pt x="1740" y="516"/>
                    </a:cubicBezTo>
                    <a:cubicBezTo>
                      <a:pt x="1756" y="523"/>
                      <a:pt x="1772" y="532"/>
                      <a:pt x="1788" y="540"/>
                    </a:cubicBezTo>
                    <a:cubicBezTo>
                      <a:pt x="1857" y="643"/>
                      <a:pt x="1765" y="522"/>
                      <a:pt x="1848" y="588"/>
                    </a:cubicBezTo>
                    <a:cubicBezTo>
                      <a:pt x="1859" y="597"/>
                      <a:pt x="1860" y="616"/>
                      <a:pt x="1872" y="624"/>
                    </a:cubicBezTo>
                    <a:cubicBezTo>
                      <a:pt x="1893" y="637"/>
                      <a:pt x="1944" y="648"/>
                      <a:pt x="1944" y="648"/>
                    </a:cubicBezTo>
                    <a:cubicBezTo>
                      <a:pt x="1969" y="724"/>
                      <a:pt x="1933" y="649"/>
                      <a:pt x="2004" y="696"/>
                    </a:cubicBezTo>
                    <a:cubicBezTo>
                      <a:pt x="2113" y="768"/>
                      <a:pt x="1946" y="705"/>
                      <a:pt x="2064" y="744"/>
                    </a:cubicBezTo>
                    <a:cubicBezTo>
                      <a:pt x="2094" y="767"/>
                      <a:pt x="2131" y="780"/>
                      <a:pt x="2160" y="804"/>
                    </a:cubicBezTo>
                    <a:cubicBezTo>
                      <a:pt x="2232" y="864"/>
                      <a:pt x="2134" y="823"/>
                      <a:pt x="2220" y="852"/>
                    </a:cubicBezTo>
                    <a:cubicBezTo>
                      <a:pt x="2228" y="864"/>
                      <a:pt x="2233" y="879"/>
                      <a:pt x="2244" y="888"/>
                    </a:cubicBezTo>
                    <a:cubicBezTo>
                      <a:pt x="2254" y="896"/>
                      <a:pt x="2271" y="891"/>
                      <a:pt x="2280" y="900"/>
                    </a:cubicBezTo>
                    <a:cubicBezTo>
                      <a:pt x="2289" y="909"/>
                      <a:pt x="2284" y="926"/>
                      <a:pt x="2292" y="936"/>
                    </a:cubicBezTo>
                    <a:cubicBezTo>
                      <a:pt x="2301" y="947"/>
                      <a:pt x="2316" y="952"/>
                      <a:pt x="2328" y="960"/>
                    </a:cubicBezTo>
                    <a:cubicBezTo>
                      <a:pt x="2348" y="1019"/>
                      <a:pt x="2325" y="1035"/>
                      <a:pt x="2388" y="1056"/>
                    </a:cubicBezTo>
                    <a:cubicBezTo>
                      <a:pt x="2392" y="1068"/>
                      <a:pt x="2394" y="1081"/>
                      <a:pt x="2400" y="1092"/>
                    </a:cubicBezTo>
                    <a:cubicBezTo>
                      <a:pt x="2406" y="1105"/>
                      <a:pt x="2424" y="1128"/>
                      <a:pt x="2424" y="1128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21080" y="5143320"/>
                <a:ext cx="3102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  <a:ea typeface="ＭＳ Ｐゴシック"/>
                  </a:rPr>
                  <a:t>Frequenza di ricombin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318600" y="281952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8" name=""/>
          <p:cNvSpPr/>
          <p:nvPr/>
        </p:nvSpPr>
        <p:spPr>
          <a:xfrm flipV="1">
            <a:off x="1420920" y="5919480"/>
            <a:ext cx="6669000" cy="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571320" y="5486400"/>
            <a:ext cx="7408440" cy="905040"/>
            <a:chOff x="571320" y="5486400"/>
            <a:chExt cx="7408440" cy="905040"/>
          </a:xfrm>
        </p:grpSpPr>
        <p:sp>
          <p:nvSpPr>
            <p:cNvPr id="1010" name=""/>
            <p:cNvSpPr/>
            <p:nvPr/>
          </p:nvSpPr>
          <p:spPr>
            <a:xfrm>
              <a:off x="571320" y="577692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Comic Sans MS"/>
                </a:rPr>
                <a:t>Z Od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Comic Sans MS"/>
                </a:rPr>
                <a:t>ratio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331280" y="5557680"/>
              <a:ext cx="548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omic Sans MS"/>
                </a:rPr>
                <a:t>P di un assortimento genetico in una progenie se i geni sono associa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97800" y="6114960"/>
              <a:ext cx="568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omic Sans MS"/>
                </a:rPr>
                <a:t>P di un assortimento genetico nella progenie se i geni sono indipenden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936480" y="5486400"/>
              <a:ext cx="104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-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29720" y="5956200"/>
              <a:ext cx="83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(1/2)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n+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5" name="" descr=""/>
          <p:cNvPicPr/>
          <p:nvPr/>
        </p:nvPicPr>
        <p:blipFill>
          <a:blip r:embed="rId1"/>
          <a:stretch/>
        </p:blipFill>
        <p:spPr>
          <a:xfrm>
            <a:off x="7823160" y="2874960"/>
            <a:ext cx="863640" cy="209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605C-7AB1-4DCC-9412-E7F6AC2E51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a connessione fra mapp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17" name=""/>
          <p:cNvSpPr/>
          <p:nvPr/>
        </p:nvSpPr>
        <p:spPr>
          <a:xfrm>
            <a:off x="-179280" y="1674720"/>
            <a:ext cx="100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di si hanno due tipi di mappe: fisica e genetica. Il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’ trovare il modo di legarle: la mappa fisica mi dice in che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uppo di sequenze formano un contiguo su un frammento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omosoma, ma non mi permette di identificare geni candida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appa genetica me lo permetterebbe perche’ non riguar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he sequenze, ma anche locus di cui non conosco la sequen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 posso pero’ studiare il gene candidato perche’ non h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sequenza corrispond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20800" y="5181480"/>
            <a:ext cx="81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possibilita’ di utilizzare STS e EST polimorfici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messo di risolvere il proble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4A20-355C-4718-A3EE-5094E4B2CD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695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ipi di mappe: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mappe genetiche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895480"/>
            <a:ext cx="955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ppe genetiche : si basano sulla frequenza di ricombinazione fra locus identificati attraverso marcatori di varia natura: fenotipo dell’ individuo, fenotipo tissutale, fenotipo cellulare, fenotipo proteico, fenotipo del D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818240"/>
            <a:ext cx="95569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la connessione fra una realta’ biologica e il genoma corrispondente, senza di  loro spesso non si puo’ procede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740640" y="884160"/>
            <a:ext cx="2241360" cy="1979280"/>
            <a:chOff x="6740640" y="884160"/>
            <a:chExt cx="2241360" cy="1979280"/>
          </a:xfrm>
        </p:grpSpPr>
        <p:sp>
          <p:nvSpPr>
            <p:cNvPr id="98" name=""/>
            <p:cNvSpPr/>
            <p:nvPr/>
          </p:nvSpPr>
          <p:spPr>
            <a:xfrm>
              <a:off x="6740640" y="937440"/>
              <a:ext cx="55080" cy="1056960"/>
            </a:xfrm>
            <a:custGeom>
              <a:avLst/>
              <a:gdLst/>
              <a:ahLst/>
              <a:rect l="l" t="t" r="r" b="b"/>
              <a:pathLst>
                <a:path w="57" h="1127">
                  <a:moveTo>
                    <a:pt x="18" y="1100"/>
                  </a:moveTo>
                  <a:lnTo>
                    <a:pt x="0" y="42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35" y="21"/>
                  </a:lnTo>
                  <a:lnTo>
                    <a:pt x="22" y="175"/>
                  </a:lnTo>
                  <a:lnTo>
                    <a:pt x="26" y="335"/>
                  </a:lnTo>
                  <a:lnTo>
                    <a:pt x="39" y="531"/>
                  </a:lnTo>
                  <a:lnTo>
                    <a:pt x="46" y="771"/>
                  </a:lnTo>
                  <a:lnTo>
                    <a:pt x="46" y="996"/>
                  </a:lnTo>
                  <a:lnTo>
                    <a:pt x="57" y="1106"/>
                  </a:lnTo>
                  <a:lnTo>
                    <a:pt x="35" y="1127"/>
                  </a:lnTo>
                  <a:lnTo>
                    <a:pt x="18" y="110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68600" y="925200"/>
              <a:ext cx="56160" cy="1058760"/>
            </a:xfrm>
            <a:custGeom>
              <a:avLst/>
              <a:gdLst/>
              <a:ahLst/>
              <a:rect l="l" t="t" r="r" b="b"/>
              <a:pathLst>
                <a:path w="58" h="1129">
                  <a:moveTo>
                    <a:pt x="19" y="1101"/>
                  </a:moveTo>
                  <a:lnTo>
                    <a:pt x="0" y="422"/>
                  </a:lnTo>
                  <a:lnTo>
                    <a:pt x="0" y="0"/>
                  </a:lnTo>
                  <a:lnTo>
                    <a:pt x="23" y="0"/>
                  </a:lnTo>
                  <a:lnTo>
                    <a:pt x="35" y="22"/>
                  </a:lnTo>
                  <a:lnTo>
                    <a:pt x="23" y="175"/>
                  </a:lnTo>
                  <a:lnTo>
                    <a:pt x="26" y="335"/>
                  </a:lnTo>
                  <a:lnTo>
                    <a:pt x="39" y="531"/>
                  </a:lnTo>
                  <a:lnTo>
                    <a:pt x="47" y="773"/>
                  </a:lnTo>
                  <a:lnTo>
                    <a:pt x="47" y="998"/>
                  </a:lnTo>
                  <a:lnTo>
                    <a:pt x="58" y="1108"/>
                  </a:lnTo>
                  <a:lnTo>
                    <a:pt x="35" y="1129"/>
                  </a:lnTo>
                  <a:lnTo>
                    <a:pt x="19" y="110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95120" y="896040"/>
              <a:ext cx="55080" cy="1058760"/>
            </a:xfrm>
            <a:custGeom>
              <a:avLst/>
              <a:gdLst/>
              <a:ahLst/>
              <a:rect l="l" t="t" r="r" b="b"/>
              <a:pathLst>
                <a:path w="57" h="1129">
                  <a:moveTo>
                    <a:pt x="19" y="1101"/>
                  </a:moveTo>
                  <a:lnTo>
                    <a:pt x="0" y="421"/>
                  </a:lnTo>
                  <a:lnTo>
                    <a:pt x="0" y="0"/>
                  </a:lnTo>
                  <a:lnTo>
                    <a:pt x="23" y="0"/>
                  </a:lnTo>
                  <a:lnTo>
                    <a:pt x="34" y="21"/>
                  </a:lnTo>
                  <a:lnTo>
                    <a:pt x="23" y="175"/>
                  </a:lnTo>
                  <a:lnTo>
                    <a:pt x="26" y="335"/>
                  </a:lnTo>
                  <a:lnTo>
                    <a:pt x="38" y="531"/>
                  </a:lnTo>
                  <a:lnTo>
                    <a:pt x="45" y="772"/>
                  </a:lnTo>
                  <a:lnTo>
                    <a:pt x="45" y="998"/>
                  </a:lnTo>
                  <a:lnTo>
                    <a:pt x="57" y="1107"/>
                  </a:lnTo>
                  <a:lnTo>
                    <a:pt x="34" y="1129"/>
                  </a:lnTo>
                  <a:lnTo>
                    <a:pt x="19" y="110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17320" y="884160"/>
              <a:ext cx="55080" cy="1058760"/>
            </a:xfrm>
            <a:custGeom>
              <a:avLst/>
              <a:gdLst/>
              <a:ahLst/>
              <a:rect l="l" t="t" r="r" b="b"/>
              <a:pathLst>
                <a:path w="57" h="1129">
                  <a:moveTo>
                    <a:pt x="19" y="1101"/>
                  </a:moveTo>
                  <a:lnTo>
                    <a:pt x="0" y="422"/>
                  </a:lnTo>
                  <a:lnTo>
                    <a:pt x="0" y="0"/>
                  </a:lnTo>
                  <a:lnTo>
                    <a:pt x="23" y="0"/>
                  </a:lnTo>
                  <a:lnTo>
                    <a:pt x="34" y="22"/>
                  </a:lnTo>
                  <a:lnTo>
                    <a:pt x="23" y="175"/>
                  </a:lnTo>
                  <a:lnTo>
                    <a:pt x="27" y="335"/>
                  </a:lnTo>
                  <a:lnTo>
                    <a:pt x="38" y="531"/>
                  </a:lnTo>
                  <a:lnTo>
                    <a:pt x="45" y="773"/>
                  </a:lnTo>
                  <a:lnTo>
                    <a:pt x="45" y="998"/>
                  </a:lnTo>
                  <a:lnTo>
                    <a:pt x="57" y="1108"/>
                  </a:lnTo>
                  <a:lnTo>
                    <a:pt x="34" y="1129"/>
                  </a:lnTo>
                  <a:lnTo>
                    <a:pt x="19" y="110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19720" y="910440"/>
              <a:ext cx="55080" cy="1058400"/>
            </a:xfrm>
            <a:custGeom>
              <a:avLst/>
              <a:gdLst/>
              <a:ahLst/>
              <a:rect l="l" t="t" r="r" b="b"/>
              <a:pathLst>
                <a:path w="57" h="1129">
                  <a:moveTo>
                    <a:pt x="19" y="1101"/>
                  </a:moveTo>
                  <a:lnTo>
                    <a:pt x="0" y="421"/>
                  </a:lnTo>
                  <a:lnTo>
                    <a:pt x="0" y="0"/>
                  </a:lnTo>
                  <a:lnTo>
                    <a:pt x="23" y="0"/>
                  </a:lnTo>
                  <a:lnTo>
                    <a:pt x="34" y="21"/>
                  </a:lnTo>
                  <a:lnTo>
                    <a:pt x="23" y="175"/>
                  </a:lnTo>
                  <a:lnTo>
                    <a:pt x="26" y="335"/>
                  </a:lnTo>
                  <a:lnTo>
                    <a:pt x="38" y="531"/>
                  </a:lnTo>
                  <a:lnTo>
                    <a:pt x="45" y="773"/>
                  </a:lnTo>
                  <a:lnTo>
                    <a:pt x="45" y="998"/>
                  </a:lnTo>
                  <a:lnTo>
                    <a:pt x="57" y="1107"/>
                  </a:lnTo>
                  <a:lnTo>
                    <a:pt x="34" y="1129"/>
                  </a:lnTo>
                  <a:lnTo>
                    <a:pt x="19" y="110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94040" y="915840"/>
              <a:ext cx="55440" cy="1058760"/>
            </a:xfrm>
            <a:custGeom>
              <a:avLst/>
              <a:gdLst/>
              <a:ahLst/>
              <a:rect l="l" t="t" r="r" b="b"/>
              <a:pathLst>
                <a:path w="57" h="1129">
                  <a:moveTo>
                    <a:pt x="19" y="1101"/>
                  </a:moveTo>
                  <a:lnTo>
                    <a:pt x="0" y="422"/>
                  </a:lnTo>
                  <a:lnTo>
                    <a:pt x="0" y="0"/>
                  </a:lnTo>
                  <a:lnTo>
                    <a:pt x="23" y="0"/>
                  </a:lnTo>
                  <a:lnTo>
                    <a:pt x="34" y="22"/>
                  </a:lnTo>
                  <a:lnTo>
                    <a:pt x="23" y="175"/>
                  </a:lnTo>
                  <a:lnTo>
                    <a:pt x="26" y="335"/>
                  </a:lnTo>
                  <a:lnTo>
                    <a:pt x="38" y="531"/>
                  </a:lnTo>
                  <a:lnTo>
                    <a:pt x="45" y="773"/>
                  </a:lnTo>
                  <a:lnTo>
                    <a:pt x="45" y="998"/>
                  </a:lnTo>
                  <a:lnTo>
                    <a:pt x="57" y="1108"/>
                  </a:lnTo>
                  <a:lnTo>
                    <a:pt x="34" y="1129"/>
                  </a:lnTo>
                  <a:lnTo>
                    <a:pt x="19" y="110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82760" y="915840"/>
              <a:ext cx="55440" cy="1058760"/>
            </a:xfrm>
            <a:custGeom>
              <a:avLst/>
              <a:gdLst/>
              <a:ahLst/>
              <a:rect l="l" t="t" r="r" b="b"/>
              <a:pathLst>
                <a:path w="57" h="1129">
                  <a:moveTo>
                    <a:pt x="19" y="1101"/>
                  </a:moveTo>
                  <a:lnTo>
                    <a:pt x="0" y="422"/>
                  </a:lnTo>
                  <a:lnTo>
                    <a:pt x="0" y="0"/>
                  </a:lnTo>
                  <a:lnTo>
                    <a:pt x="23" y="0"/>
                  </a:lnTo>
                  <a:lnTo>
                    <a:pt x="34" y="22"/>
                  </a:lnTo>
                  <a:lnTo>
                    <a:pt x="23" y="175"/>
                  </a:lnTo>
                  <a:lnTo>
                    <a:pt x="26" y="335"/>
                  </a:lnTo>
                  <a:lnTo>
                    <a:pt x="38" y="531"/>
                  </a:lnTo>
                  <a:lnTo>
                    <a:pt x="45" y="773"/>
                  </a:lnTo>
                  <a:lnTo>
                    <a:pt x="45" y="998"/>
                  </a:lnTo>
                  <a:lnTo>
                    <a:pt x="57" y="1108"/>
                  </a:lnTo>
                  <a:lnTo>
                    <a:pt x="34" y="1129"/>
                  </a:lnTo>
                  <a:lnTo>
                    <a:pt x="19" y="110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927640" y="939240"/>
              <a:ext cx="54360" cy="1058760"/>
            </a:xfrm>
            <a:custGeom>
              <a:avLst/>
              <a:gdLst/>
              <a:ahLst/>
              <a:rect l="l" t="t" r="r" b="b"/>
              <a:pathLst>
                <a:path w="56" h="1129">
                  <a:moveTo>
                    <a:pt x="19" y="1101"/>
                  </a:moveTo>
                  <a:lnTo>
                    <a:pt x="0" y="42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34" y="22"/>
                  </a:lnTo>
                  <a:lnTo>
                    <a:pt x="22" y="175"/>
                  </a:lnTo>
                  <a:lnTo>
                    <a:pt x="26" y="335"/>
                  </a:lnTo>
                  <a:lnTo>
                    <a:pt x="38" y="531"/>
                  </a:lnTo>
                  <a:lnTo>
                    <a:pt x="45" y="773"/>
                  </a:lnTo>
                  <a:lnTo>
                    <a:pt x="45" y="998"/>
                  </a:lnTo>
                  <a:lnTo>
                    <a:pt x="56" y="1108"/>
                  </a:lnTo>
                  <a:lnTo>
                    <a:pt x="34" y="1129"/>
                  </a:lnTo>
                  <a:lnTo>
                    <a:pt x="19" y="110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367760" y="1655640"/>
              <a:ext cx="1553400" cy="285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"/>
            <p:cNvGrpSpPr/>
            <p:nvPr/>
          </p:nvGrpSpPr>
          <p:grpSpPr>
            <a:xfrm>
              <a:off x="6935760" y="1896840"/>
              <a:ext cx="1544040" cy="966600"/>
              <a:chOff x="6935760" y="1896840"/>
              <a:chExt cx="1544040" cy="966600"/>
            </a:xfrm>
          </p:grpSpPr>
          <p:sp>
            <p:nvSpPr>
              <p:cNvPr id="108" name=""/>
              <p:cNvSpPr/>
              <p:nvPr/>
            </p:nvSpPr>
            <p:spPr>
              <a:xfrm>
                <a:off x="6954120" y="2023200"/>
                <a:ext cx="1519560" cy="582120"/>
              </a:xfrm>
              <a:custGeom>
                <a:avLst/>
                <a:gdLst/>
                <a:ahLst/>
                <a:rect l="l" t="t" r="r" b="b"/>
                <a:pathLst>
                  <a:path w="1565" h="621">
                    <a:moveTo>
                      <a:pt x="9" y="113"/>
                    </a:moveTo>
                    <a:lnTo>
                      <a:pt x="0" y="12"/>
                    </a:lnTo>
                    <a:lnTo>
                      <a:pt x="197" y="13"/>
                    </a:lnTo>
                    <a:lnTo>
                      <a:pt x="458" y="10"/>
                    </a:lnTo>
                    <a:lnTo>
                      <a:pt x="684" y="3"/>
                    </a:lnTo>
                    <a:lnTo>
                      <a:pt x="965" y="0"/>
                    </a:lnTo>
                    <a:lnTo>
                      <a:pt x="1190" y="3"/>
                    </a:lnTo>
                    <a:lnTo>
                      <a:pt x="1390" y="3"/>
                    </a:lnTo>
                    <a:lnTo>
                      <a:pt x="1428" y="18"/>
                    </a:lnTo>
                    <a:lnTo>
                      <a:pt x="1451" y="69"/>
                    </a:lnTo>
                    <a:lnTo>
                      <a:pt x="1467" y="107"/>
                    </a:lnTo>
                    <a:lnTo>
                      <a:pt x="1512" y="127"/>
                    </a:lnTo>
                    <a:lnTo>
                      <a:pt x="1508" y="180"/>
                    </a:lnTo>
                    <a:lnTo>
                      <a:pt x="1498" y="225"/>
                    </a:lnTo>
                    <a:lnTo>
                      <a:pt x="1495" y="300"/>
                    </a:lnTo>
                    <a:lnTo>
                      <a:pt x="1493" y="338"/>
                    </a:lnTo>
                    <a:lnTo>
                      <a:pt x="1486" y="377"/>
                    </a:lnTo>
                    <a:lnTo>
                      <a:pt x="1498" y="425"/>
                    </a:lnTo>
                    <a:lnTo>
                      <a:pt x="1541" y="482"/>
                    </a:lnTo>
                    <a:lnTo>
                      <a:pt x="1565" y="528"/>
                    </a:lnTo>
                    <a:lnTo>
                      <a:pt x="1559" y="621"/>
                    </a:lnTo>
                    <a:lnTo>
                      <a:pt x="1461" y="585"/>
                    </a:lnTo>
                    <a:lnTo>
                      <a:pt x="1447" y="570"/>
                    </a:lnTo>
                    <a:lnTo>
                      <a:pt x="1437" y="546"/>
                    </a:lnTo>
                    <a:lnTo>
                      <a:pt x="1443" y="477"/>
                    </a:lnTo>
                    <a:lnTo>
                      <a:pt x="1434" y="441"/>
                    </a:lnTo>
                    <a:lnTo>
                      <a:pt x="1402" y="381"/>
                    </a:lnTo>
                    <a:lnTo>
                      <a:pt x="1386" y="326"/>
                    </a:lnTo>
                    <a:lnTo>
                      <a:pt x="1385" y="288"/>
                    </a:lnTo>
                    <a:lnTo>
                      <a:pt x="1390" y="263"/>
                    </a:lnTo>
                    <a:lnTo>
                      <a:pt x="1405" y="207"/>
                    </a:lnTo>
                    <a:lnTo>
                      <a:pt x="1413" y="161"/>
                    </a:lnTo>
                    <a:lnTo>
                      <a:pt x="1402" y="127"/>
                    </a:lnTo>
                    <a:lnTo>
                      <a:pt x="1380" y="98"/>
                    </a:lnTo>
                    <a:lnTo>
                      <a:pt x="1193" y="104"/>
                    </a:lnTo>
                    <a:lnTo>
                      <a:pt x="1027" y="108"/>
                    </a:lnTo>
                    <a:lnTo>
                      <a:pt x="829" y="107"/>
                    </a:lnTo>
                    <a:lnTo>
                      <a:pt x="669" y="99"/>
                    </a:lnTo>
                    <a:lnTo>
                      <a:pt x="575" y="104"/>
                    </a:lnTo>
                    <a:lnTo>
                      <a:pt x="453" y="118"/>
                    </a:lnTo>
                    <a:lnTo>
                      <a:pt x="187" y="113"/>
                    </a:lnTo>
                    <a:lnTo>
                      <a:pt x="24" y="112"/>
                    </a:lnTo>
                    <a:lnTo>
                      <a:pt x="9" y="113"/>
                    </a:lnTo>
                    <a:close/>
                  </a:path>
                </a:pathLst>
              </a:custGeom>
              <a:solidFill>
                <a:srgbClr val="fdee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76520" y="2033640"/>
                <a:ext cx="28080" cy="69120"/>
              </a:xfrm>
              <a:custGeom>
                <a:avLst/>
                <a:gdLst/>
                <a:ahLst/>
                <a:rect l="l" t="t" r="r" b="b"/>
                <a:pathLst>
                  <a:path w="29" h="74">
                    <a:moveTo>
                      <a:pt x="0" y="5"/>
                    </a:moveTo>
                    <a:lnTo>
                      <a:pt x="5" y="74"/>
                    </a:lnTo>
                    <a:lnTo>
                      <a:pt x="29" y="74"/>
                    </a:lnTo>
                    <a:lnTo>
                      <a:pt x="2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176600" y="2035440"/>
                <a:ext cx="28800" cy="70920"/>
              </a:xfrm>
              <a:custGeom>
                <a:avLst/>
                <a:gdLst/>
                <a:ahLst/>
                <a:rect l="l" t="t" r="r" b="b"/>
                <a:pathLst>
                  <a:path w="30" h="76">
                    <a:moveTo>
                      <a:pt x="0" y="5"/>
                    </a:moveTo>
                    <a:lnTo>
                      <a:pt x="5" y="76"/>
                    </a:lnTo>
                    <a:lnTo>
                      <a:pt x="30" y="76"/>
                    </a:lnTo>
                    <a:lnTo>
                      <a:pt x="3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274520" y="2035440"/>
                <a:ext cx="25920" cy="70920"/>
              </a:xfrm>
              <a:custGeom>
                <a:avLst/>
                <a:gdLst/>
                <a:ahLst/>
                <a:rect l="l" t="t" r="r" b="b"/>
                <a:pathLst>
                  <a:path w="27" h="76">
                    <a:moveTo>
                      <a:pt x="0" y="5"/>
                    </a:moveTo>
                    <a:lnTo>
                      <a:pt x="5" y="76"/>
                    </a:lnTo>
                    <a:lnTo>
                      <a:pt x="27" y="76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369560" y="2029680"/>
                <a:ext cx="29160" cy="70920"/>
              </a:xfrm>
              <a:custGeom>
                <a:avLst/>
                <a:gdLst/>
                <a:ahLst/>
                <a:rect l="l" t="t" r="r" b="b"/>
                <a:pathLst>
                  <a:path w="30" h="76">
                    <a:moveTo>
                      <a:pt x="0" y="5"/>
                    </a:moveTo>
                    <a:lnTo>
                      <a:pt x="5" y="76"/>
                    </a:lnTo>
                    <a:lnTo>
                      <a:pt x="30" y="76"/>
                    </a:lnTo>
                    <a:lnTo>
                      <a:pt x="3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466760" y="2029680"/>
                <a:ext cx="27000" cy="70920"/>
              </a:xfrm>
              <a:custGeom>
                <a:avLst/>
                <a:gdLst/>
                <a:ahLst/>
                <a:rect l="l" t="t" r="r" b="b"/>
                <a:pathLst>
                  <a:path w="28" h="76">
                    <a:moveTo>
                      <a:pt x="0" y="5"/>
                    </a:moveTo>
                    <a:lnTo>
                      <a:pt x="5" y="76"/>
                    </a:lnTo>
                    <a:lnTo>
                      <a:pt x="28" y="76"/>
                    </a:lnTo>
                    <a:lnTo>
                      <a:pt x="2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562160" y="2029680"/>
                <a:ext cx="29880" cy="70920"/>
              </a:xfrm>
              <a:custGeom>
                <a:avLst/>
                <a:gdLst/>
                <a:ahLst/>
                <a:rect l="l" t="t" r="r" b="b"/>
                <a:pathLst>
                  <a:path w="31" h="76">
                    <a:moveTo>
                      <a:pt x="0" y="5"/>
                    </a:moveTo>
                    <a:lnTo>
                      <a:pt x="5" y="76"/>
                    </a:lnTo>
                    <a:lnTo>
                      <a:pt x="31" y="76"/>
                    </a:lnTo>
                    <a:lnTo>
                      <a:pt x="3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660080" y="2029680"/>
                <a:ext cx="27000" cy="70920"/>
              </a:xfrm>
              <a:custGeom>
                <a:avLst/>
                <a:gdLst/>
                <a:ahLst/>
                <a:rect l="l" t="t" r="r" b="b"/>
                <a:pathLst>
                  <a:path w="28" h="76">
                    <a:moveTo>
                      <a:pt x="0" y="5"/>
                    </a:moveTo>
                    <a:lnTo>
                      <a:pt x="5" y="76"/>
                    </a:lnTo>
                    <a:lnTo>
                      <a:pt x="28" y="76"/>
                    </a:lnTo>
                    <a:lnTo>
                      <a:pt x="2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707600" y="2029680"/>
                <a:ext cx="28080" cy="70920"/>
              </a:xfrm>
              <a:custGeom>
                <a:avLst/>
                <a:gdLst/>
                <a:ahLst/>
                <a:rect l="l" t="t" r="r" b="b"/>
                <a:pathLst>
                  <a:path w="29" h="76">
                    <a:moveTo>
                      <a:pt x="0" y="5"/>
                    </a:moveTo>
                    <a:lnTo>
                      <a:pt x="5" y="76"/>
                    </a:lnTo>
                    <a:lnTo>
                      <a:pt x="29" y="76"/>
                    </a:lnTo>
                    <a:lnTo>
                      <a:pt x="2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755120" y="2027880"/>
                <a:ext cx="28800" cy="69480"/>
              </a:xfrm>
              <a:custGeom>
                <a:avLst/>
                <a:gdLst/>
                <a:ahLst/>
                <a:rect l="l" t="t" r="r" b="b"/>
                <a:pathLst>
                  <a:path w="30" h="74">
                    <a:moveTo>
                      <a:pt x="0" y="5"/>
                    </a:moveTo>
                    <a:lnTo>
                      <a:pt x="5" y="74"/>
                    </a:lnTo>
                    <a:lnTo>
                      <a:pt x="30" y="74"/>
                    </a:lnTo>
                    <a:lnTo>
                      <a:pt x="3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53400" y="2027880"/>
                <a:ext cx="27000" cy="6948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0" y="5"/>
                    </a:moveTo>
                    <a:lnTo>
                      <a:pt x="5" y="74"/>
                    </a:lnTo>
                    <a:lnTo>
                      <a:pt x="28" y="74"/>
                    </a:lnTo>
                    <a:lnTo>
                      <a:pt x="2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948440" y="2024280"/>
                <a:ext cx="28800" cy="69120"/>
              </a:xfrm>
              <a:custGeom>
                <a:avLst/>
                <a:gdLst/>
                <a:ahLst/>
                <a:rect l="l" t="t" r="r" b="b"/>
                <a:pathLst>
                  <a:path w="30" h="74">
                    <a:moveTo>
                      <a:pt x="0" y="5"/>
                    </a:moveTo>
                    <a:lnTo>
                      <a:pt x="5" y="74"/>
                    </a:lnTo>
                    <a:lnTo>
                      <a:pt x="30" y="74"/>
                    </a:lnTo>
                    <a:lnTo>
                      <a:pt x="3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046720" y="2024280"/>
                <a:ext cx="25920" cy="69120"/>
              </a:xfrm>
              <a:custGeom>
                <a:avLst/>
                <a:gdLst/>
                <a:ahLst/>
                <a:rect l="l" t="t" r="r" b="b"/>
                <a:pathLst>
                  <a:path w="27" h="74">
                    <a:moveTo>
                      <a:pt x="0" y="5"/>
                    </a:moveTo>
                    <a:lnTo>
                      <a:pt x="5" y="74"/>
                    </a:lnTo>
                    <a:lnTo>
                      <a:pt x="27" y="74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141760" y="2024280"/>
                <a:ext cx="28800" cy="69120"/>
              </a:xfrm>
              <a:custGeom>
                <a:avLst/>
                <a:gdLst/>
                <a:ahLst/>
                <a:rect l="l" t="t" r="r" b="b"/>
                <a:pathLst>
                  <a:path w="30" h="74">
                    <a:moveTo>
                      <a:pt x="0" y="5"/>
                    </a:moveTo>
                    <a:lnTo>
                      <a:pt x="5" y="74"/>
                    </a:lnTo>
                    <a:lnTo>
                      <a:pt x="30" y="74"/>
                    </a:lnTo>
                    <a:lnTo>
                      <a:pt x="3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240040" y="2024280"/>
                <a:ext cx="25920" cy="69120"/>
              </a:xfrm>
              <a:custGeom>
                <a:avLst/>
                <a:gdLst/>
                <a:ahLst/>
                <a:rect l="l" t="t" r="r" b="b"/>
                <a:pathLst>
                  <a:path w="27" h="74">
                    <a:moveTo>
                      <a:pt x="0" y="5"/>
                    </a:moveTo>
                    <a:lnTo>
                      <a:pt x="5" y="74"/>
                    </a:lnTo>
                    <a:lnTo>
                      <a:pt x="27" y="74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935760" y="2012040"/>
                <a:ext cx="1544040" cy="601920"/>
              </a:xfrm>
              <a:custGeom>
                <a:avLst/>
                <a:gdLst/>
                <a:ahLst/>
                <a:rect l="l" t="t" r="r" b="b"/>
                <a:pathLst>
                  <a:path w="1590" h="642">
                    <a:moveTo>
                      <a:pt x="36" y="73"/>
                    </a:moveTo>
                    <a:lnTo>
                      <a:pt x="36" y="36"/>
                    </a:lnTo>
                    <a:lnTo>
                      <a:pt x="284" y="36"/>
                    </a:lnTo>
                    <a:lnTo>
                      <a:pt x="575" y="29"/>
                    </a:lnTo>
                    <a:lnTo>
                      <a:pt x="757" y="20"/>
                    </a:lnTo>
                    <a:lnTo>
                      <a:pt x="978" y="19"/>
                    </a:lnTo>
                    <a:lnTo>
                      <a:pt x="1215" y="20"/>
                    </a:lnTo>
                    <a:lnTo>
                      <a:pt x="1408" y="24"/>
                    </a:lnTo>
                    <a:lnTo>
                      <a:pt x="1433" y="36"/>
                    </a:lnTo>
                    <a:lnTo>
                      <a:pt x="1449" y="68"/>
                    </a:lnTo>
                    <a:lnTo>
                      <a:pt x="1463" y="101"/>
                    </a:lnTo>
                    <a:lnTo>
                      <a:pt x="1485" y="130"/>
                    </a:lnTo>
                    <a:lnTo>
                      <a:pt x="1520" y="149"/>
                    </a:lnTo>
                    <a:lnTo>
                      <a:pt x="1517" y="190"/>
                    </a:lnTo>
                    <a:lnTo>
                      <a:pt x="1501" y="246"/>
                    </a:lnTo>
                    <a:lnTo>
                      <a:pt x="1501" y="302"/>
                    </a:lnTo>
                    <a:lnTo>
                      <a:pt x="1501" y="350"/>
                    </a:lnTo>
                    <a:lnTo>
                      <a:pt x="1493" y="403"/>
                    </a:lnTo>
                    <a:lnTo>
                      <a:pt x="1512" y="453"/>
                    </a:lnTo>
                    <a:lnTo>
                      <a:pt x="1539" y="482"/>
                    </a:lnTo>
                    <a:lnTo>
                      <a:pt x="1566" y="520"/>
                    </a:lnTo>
                    <a:lnTo>
                      <a:pt x="1572" y="564"/>
                    </a:lnTo>
                    <a:lnTo>
                      <a:pt x="1566" y="621"/>
                    </a:lnTo>
                    <a:lnTo>
                      <a:pt x="1475" y="585"/>
                    </a:lnTo>
                    <a:lnTo>
                      <a:pt x="1461" y="554"/>
                    </a:lnTo>
                    <a:lnTo>
                      <a:pt x="1466" y="492"/>
                    </a:lnTo>
                    <a:lnTo>
                      <a:pt x="1461" y="453"/>
                    </a:lnTo>
                    <a:lnTo>
                      <a:pt x="1433" y="402"/>
                    </a:lnTo>
                    <a:lnTo>
                      <a:pt x="1414" y="345"/>
                    </a:lnTo>
                    <a:lnTo>
                      <a:pt x="1409" y="302"/>
                    </a:lnTo>
                    <a:lnTo>
                      <a:pt x="1422" y="251"/>
                    </a:lnTo>
                    <a:lnTo>
                      <a:pt x="1437" y="205"/>
                    </a:lnTo>
                    <a:lnTo>
                      <a:pt x="1437" y="163"/>
                    </a:lnTo>
                    <a:lnTo>
                      <a:pt x="1423" y="127"/>
                    </a:lnTo>
                    <a:lnTo>
                      <a:pt x="1403" y="101"/>
                    </a:lnTo>
                    <a:lnTo>
                      <a:pt x="1370" y="101"/>
                    </a:lnTo>
                    <a:lnTo>
                      <a:pt x="1243" y="108"/>
                    </a:lnTo>
                    <a:lnTo>
                      <a:pt x="1101" y="114"/>
                    </a:lnTo>
                    <a:lnTo>
                      <a:pt x="937" y="114"/>
                    </a:lnTo>
                    <a:lnTo>
                      <a:pt x="776" y="108"/>
                    </a:lnTo>
                    <a:lnTo>
                      <a:pt x="656" y="101"/>
                    </a:lnTo>
                    <a:lnTo>
                      <a:pt x="511" y="115"/>
                    </a:lnTo>
                    <a:lnTo>
                      <a:pt x="281" y="119"/>
                    </a:lnTo>
                    <a:lnTo>
                      <a:pt x="130" y="119"/>
                    </a:lnTo>
                    <a:lnTo>
                      <a:pt x="38" y="108"/>
                    </a:lnTo>
                    <a:lnTo>
                      <a:pt x="21" y="130"/>
                    </a:lnTo>
                    <a:lnTo>
                      <a:pt x="98" y="132"/>
                    </a:lnTo>
                    <a:lnTo>
                      <a:pt x="186" y="137"/>
                    </a:lnTo>
                    <a:lnTo>
                      <a:pt x="315" y="137"/>
                    </a:lnTo>
                    <a:lnTo>
                      <a:pt x="418" y="137"/>
                    </a:lnTo>
                    <a:lnTo>
                      <a:pt x="528" y="132"/>
                    </a:lnTo>
                    <a:lnTo>
                      <a:pt x="642" y="120"/>
                    </a:lnTo>
                    <a:lnTo>
                      <a:pt x="679" y="120"/>
                    </a:lnTo>
                    <a:lnTo>
                      <a:pt x="774" y="120"/>
                    </a:lnTo>
                    <a:lnTo>
                      <a:pt x="866" y="130"/>
                    </a:lnTo>
                    <a:lnTo>
                      <a:pt x="994" y="127"/>
                    </a:lnTo>
                    <a:lnTo>
                      <a:pt x="1132" y="132"/>
                    </a:lnTo>
                    <a:lnTo>
                      <a:pt x="1217" y="125"/>
                    </a:lnTo>
                    <a:lnTo>
                      <a:pt x="1306" y="120"/>
                    </a:lnTo>
                    <a:lnTo>
                      <a:pt x="1356" y="120"/>
                    </a:lnTo>
                    <a:lnTo>
                      <a:pt x="1394" y="119"/>
                    </a:lnTo>
                    <a:lnTo>
                      <a:pt x="1414" y="142"/>
                    </a:lnTo>
                    <a:lnTo>
                      <a:pt x="1422" y="176"/>
                    </a:lnTo>
                    <a:lnTo>
                      <a:pt x="1414" y="224"/>
                    </a:lnTo>
                    <a:lnTo>
                      <a:pt x="1395" y="278"/>
                    </a:lnTo>
                    <a:lnTo>
                      <a:pt x="1390" y="331"/>
                    </a:lnTo>
                    <a:lnTo>
                      <a:pt x="1408" y="379"/>
                    </a:lnTo>
                    <a:lnTo>
                      <a:pt x="1436" y="441"/>
                    </a:lnTo>
                    <a:lnTo>
                      <a:pt x="1449" y="491"/>
                    </a:lnTo>
                    <a:lnTo>
                      <a:pt x="1446" y="561"/>
                    </a:lnTo>
                    <a:lnTo>
                      <a:pt x="1456" y="595"/>
                    </a:lnTo>
                    <a:lnTo>
                      <a:pt x="1468" y="602"/>
                    </a:lnTo>
                    <a:lnTo>
                      <a:pt x="1578" y="642"/>
                    </a:lnTo>
                    <a:lnTo>
                      <a:pt x="1583" y="616"/>
                    </a:lnTo>
                    <a:lnTo>
                      <a:pt x="1590" y="548"/>
                    </a:lnTo>
                    <a:lnTo>
                      <a:pt x="1585" y="515"/>
                    </a:lnTo>
                    <a:lnTo>
                      <a:pt x="1564" y="483"/>
                    </a:lnTo>
                    <a:lnTo>
                      <a:pt x="1525" y="432"/>
                    </a:lnTo>
                    <a:lnTo>
                      <a:pt x="1512" y="408"/>
                    </a:lnTo>
                    <a:lnTo>
                      <a:pt x="1507" y="378"/>
                    </a:lnTo>
                    <a:lnTo>
                      <a:pt x="1517" y="322"/>
                    </a:lnTo>
                    <a:lnTo>
                      <a:pt x="1517" y="283"/>
                    </a:lnTo>
                    <a:lnTo>
                      <a:pt x="1520" y="241"/>
                    </a:lnTo>
                    <a:lnTo>
                      <a:pt x="1534" y="190"/>
                    </a:lnTo>
                    <a:lnTo>
                      <a:pt x="1534" y="163"/>
                    </a:lnTo>
                    <a:lnTo>
                      <a:pt x="1534" y="134"/>
                    </a:lnTo>
                    <a:lnTo>
                      <a:pt x="1517" y="120"/>
                    </a:lnTo>
                    <a:lnTo>
                      <a:pt x="1493" y="114"/>
                    </a:lnTo>
                    <a:lnTo>
                      <a:pt x="1480" y="92"/>
                    </a:lnTo>
                    <a:lnTo>
                      <a:pt x="1463" y="48"/>
                    </a:lnTo>
                    <a:lnTo>
                      <a:pt x="1441" y="19"/>
                    </a:lnTo>
                    <a:lnTo>
                      <a:pt x="1409" y="0"/>
                    </a:lnTo>
                    <a:lnTo>
                      <a:pt x="1268" y="2"/>
                    </a:lnTo>
                    <a:lnTo>
                      <a:pt x="1105" y="5"/>
                    </a:lnTo>
                    <a:lnTo>
                      <a:pt x="961" y="0"/>
                    </a:lnTo>
                    <a:lnTo>
                      <a:pt x="793" y="5"/>
                    </a:lnTo>
                    <a:lnTo>
                      <a:pt x="633" y="7"/>
                    </a:lnTo>
                    <a:lnTo>
                      <a:pt x="435" y="17"/>
                    </a:lnTo>
                    <a:lnTo>
                      <a:pt x="220" y="17"/>
                    </a:lnTo>
                    <a:lnTo>
                      <a:pt x="83" y="19"/>
                    </a:lnTo>
                    <a:lnTo>
                      <a:pt x="0" y="20"/>
                    </a:lnTo>
                    <a:lnTo>
                      <a:pt x="21" y="101"/>
                    </a:lnTo>
                    <a:lnTo>
                      <a:pt x="36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345520" y="2135520"/>
                <a:ext cx="65160" cy="47520"/>
              </a:xfrm>
              <a:custGeom>
                <a:avLst/>
                <a:gdLst/>
                <a:ahLst/>
                <a:rect l="l" t="t" r="r" b="b"/>
                <a:pathLst>
                  <a:path w="67" h="51">
                    <a:moveTo>
                      <a:pt x="44" y="0"/>
                    </a:moveTo>
                    <a:lnTo>
                      <a:pt x="0" y="36"/>
                    </a:lnTo>
                    <a:lnTo>
                      <a:pt x="9" y="51"/>
                    </a:lnTo>
                    <a:lnTo>
                      <a:pt x="67" y="1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39760" y="2208960"/>
                <a:ext cx="67680" cy="36360"/>
              </a:xfrm>
              <a:custGeom>
                <a:avLst/>
                <a:gdLst/>
                <a:ahLst/>
                <a:rect l="l" t="t" r="r" b="b"/>
                <a:pathLst>
                  <a:path w="70" h="39">
                    <a:moveTo>
                      <a:pt x="70" y="13"/>
                    </a:moveTo>
                    <a:lnTo>
                      <a:pt x="11" y="0"/>
                    </a:lnTo>
                    <a:lnTo>
                      <a:pt x="0" y="24"/>
                    </a:lnTo>
                    <a:lnTo>
                      <a:pt x="61" y="39"/>
                    </a:lnTo>
                    <a:lnTo>
                      <a:pt x="7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322480" y="2300040"/>
                <a:ext cx="81360" cy="28800"/>
              </a:xfrm>
              <a:custGeom>
                <a:avLst/>
                <a:gdLst/>
                <a:ahLst/>
                <a:rect l="l" t="t" r="r" b="b"/>
                <a:pathLst>
                  <a:path w="84" h="31">
                    <a:moveTo>
                      <a:pt x="79" y="3"/>
                    </a:moveTo>
                    <a:lnTo>
                      <a:pt x="0" y="0"/>
                    </a:lnTo>
                    <a:lnTo>
                      <a:pt x="4" y="22"/>
                    </a:lnTo>
                    <a:lnTo>
                      <a:pt x="84" y="31"/>
                    </a:lnTo>
                    <a:lnTo>
                      <a:pt x="7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345520" y="2395440"/>
                <a:ext cx="53280" cy="27720"/>
              </a:xfrm>
              <a:custGeom>
                <a:avLst/>
                <a:gdLst/>
                <a:ahLst/>
                <a:rect l="l" t="t" r="r" b="b"/>
                <a:pathLst>
                  <a:path w="55" h="30">
                    <a:moveTo>
                      <a:pt x="52" y="0"/>
                    </a:moveTo>
                    <a:lnTo>
                      <a:pt x="0" y="8"/>
                    </a:lnTo>
                    <a:lnTo>
                      <a:pt x="10" y="30"/>
                    </a:lnTo>
                    <a:lnTo>
                      <a:pt x="55" y="22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377920" y="247068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83" h="25">
                    <a:moveTo>
                      <a:pt x="73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83" y="2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401320" y="2530440"/>
                <a:ext cx="66600" cy="33480"/>
              </a:xfrm>
              <a:custGeom>
                <a:avLst/>
                <a:gdLst/>
                <a:ahLst/>
                <a:rect l="l" t="t" r="r" b="b"/>
                <a:pathLst>
                  <a:path w="69" h="36">
                    <a:moveTo>
                      <a:pt x="69" y="17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68" y="36"/>
                    </a:lnTo>
                    <a:lnTo>
                      <a:pt x="6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18320" y="1896840"/>
                <a:ext cx="288360" cy="240840"/>
              </a:xfrm>
              <a:custGeom>
                <a:avLst/>
                <a:gdLst/>
                <a:ahLst/>
                <a:rect l="l" t="t" r="r" b="b"/>
                <a:pathLst>
                  <a:path w="297" h="257">
                    <a:moveTo>
                      <a:pt x="183" y="126"/>
                    </a:moveTo>
                    <a:lnTo>
                      <a:pt x="183" y="87"/>
                    </a:lnTo>
                    <a:lnTo>
                      <a:pt x="176" y="58"/>
                    </a:lnTo>
                    <a:lnTo>
                      <a:pt x="159" y="28"/>
                    </a:lnTo>
                    <a:lnTo>
                      <a:pt x="140" y="10"/>
                    </a:lnTo>
                    <a:lnTo>
                      <a:pt x="116" y="4"/>
                    </a:lnTo>
                    <a:lnTo>
                      <a:pt x="77" y="0"/>
                    </a:lnTo>
                    <a:lnTo>
                      <a:pt x="48" y="15"/>
                    </a:lnTo>
                    <a:lnTo>
                      <a:pt x="24" y="44"/>
                    </a:lnTo>
                    <a:lnTo>
                      <a:pt x="10" y="87"/>
                    </a:lnTo>
                    <a:lnTo>
                      <a:pt x="0" y="133"/>
                    </a:lnTo>
                    <a:lnTo>
                      <a:pt x="0" y="179"/>
                    </a:lnTo>
                    <a:lnTo>
                      <a:pt x="13" y="216"/>
                    </a:lnTo>
                    <a:lnTo>
                      <a:pt x="34" y="240"/>
                    </a:lnTo>
                    <a:lnTo>
                      <a:pt x="66" y="255"/>
                    </a:lnTo>
                    <a:lnTo>
                      <a:pt x="97" y="257"/>
                    </a:lnTo>
                    <a:lnTo>
                      <a:pt x="126" y="252"/>
                    </a:lnTo>
                    <a:lnTo>
                      <a:pt x="145" y="240"/>
                    </a:lnTo>
                    <a:lnTo>
                      <a:pt x="159" y="216"/>
                    </a:lnTo>
                    <a:lnTo>
                      <a:pt x="171" y="182"/>
                    </a:lnTo>
                    <a:lnTo>
                      <a:pt x="183" y="175"/>
                    </a:lnTo>
                    <a:lnTo>
                      <a:pt x="221" y="172"/>
                    </a:lnTo>
                    <a:lnTo>
                      <a:pt x="273" y="184"/>
                    </a:lnTo>
                    <a:lnTo>
                      <a:pt x="287" y="187"/>
                    </a:lnTo>
                    <a:lnTo>
                      <a:pt x="297" y="175"/>
                    </a:lnTo>
                    <a:lnTo>
                      <a:pt x="294" y="164"/>
                    </a:lnTo>
                    <a:lnTo>
                      <a:pt x="287" y="150"/>
                    </a:lnTo>
                    <a:lnTo>
                      <a:pt x="254" y="143"/>
                    </a:lnTo>
                    <a:lnTo>
                      <a:pt x="215" y="141"/>
                    </a:lnTo>
                    <a:lnTo>
                      <a:pt x="18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522200" y="2143440"/>
                <a:ext cx="227160" cy="429120"/>
              </a:xfrm>
              <a:custGeom>
                <a:avLst/>
                <a:gdLst/>
                <a:ahLst/>
                <a:rect l="l" t="t" r="r" b="b"/>
                <a:pathLst>
                  <a:path w="234" h="458">
                    <a:moveTo>
                      <a:pt x="16" y="92"/>
                    </a:moveTo>
                    <a:lnTo>
                      <a:pt x="59" y="30"/>
                    </a:lnTo>
                    <a:lnTo>
                      <a:pt x="88" y="6"/>
                    </a:lnTo>
                    <a:lnTo>
                      <a:pt x="123" y="0"/>
                    </a:lnTo>
                    <a:lnTo>
                      <a:pt x="152" y="1"/>
                    </a:lnTo>
                    <a:lnTo>
                      <a:pt x="195" y="10"/>
                    </a:lnTo>
                    <a:lnTo>
                      <a:pt x="219" y="29"/>
                    </a:lnTo>
                    <a:lnTo>
                      <a:pt x="234" y="49"/>
                    </a:lnTo>
                    <a:lnTo>
                      <a:pt x="234" y="80"/>
                    </a:lnTo>
                    <a:lnTo>
                      <a:pt x="221" y="106"/>
                    </a:lnTo>
                    <a:lnTo>
                      <a:pt x="201" y="140"/>
                    </a:lnTo>
                    <a:lnTo>
                      <a:pt x="187" y="171"/>
                    </a:lnTo>
                    <a:lnTo>
                      <a:pt x="182" y="206"/>
                    </a:lnTo>
                    <a:lnTo>
                      <a:pt x="180" y="233"/>
                    </a:lnTo>
                    <a:lnTo>
                      <a:pt x="191" y="268"/>
                    </a:lnTo>
                    <a:lnTo>
                      <a:pt x="210" y="304"/>
                    </a:lnTo>
                    <a:lnTo>
                      <a:pt x="226" y="342"/>
                    </a:lnTo>
                    <a:lnTo>
                      <a:pt x="230" y="371"/>
                    </a:lnTo>
                    <a:lnTo>
                      <a:pt x="229" y="405"/>
                    </a:lnTo>
                    <a:lnTo>
                      <a:pt x="210" y="429"/>
                    </a:lnTo>
                    <a:lnTo>
                      <a:pt x="180" y="447"/>
                    </a:lnTo>
                    <a:lnTo>
                      <a:pt x="156" y="458"/>
                    </a:lnTo>
                    <a:lnTo>
                      <a:pt x="118" y="458"/>
                    </a:lnTo>
                    <a:lnTo>
                      <a:pt x="83" y="447"/>
                    </a:lnTo>
                    <a:lnTo>
                      <a:pt x="35" y="428"/>
                    </a:lnTo>
                    <a:lnTo>
                      <a:pt x="16" y="380"/>
                    </a:lnTo>
                    <a:lnTo>
                      <a:pt x="10" y="347"/>
                    </a:lnTo>
                    <a:lnTo>
                      <a:pt x="10" y="306"/>
                    </a:lnTo>
                    <a:lnTo>
                      <a:pt x="5" y="268"/>
                    </a:lnTo>
                    <a:lnTo>
                      <a:pt x="0" y="206"/>
                    </a:lnTo>
                    <a:lnTo>
                      <a:pt x="1" y="157"/>
                    </a:lnTo>
                    <a:lnTo>
                      <a:pt x="10" y="116"/>
                    </a:lnTo>
                    <a:lnTo>
                      <a:pt x="16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940440" y="2029680"/>
                <a:ext cx="687240" cy="254880"/>
              </a:xfrm>
              <a:custGeom>
                <a:avLst/>
                <a:gdLst/>
                <a:ahLst/>
                <a:rect l="l" t="t" r="r" b="b"/>
                <a:pathLst>
                  <a:path w="708" h="272">
                    <a:moveTo>
                      <a:pt x="619" y="160"/>
                    </a:moveTo>
                    <a:lnTo>
                      <a:pt x="659" y="141"/>
                    </a:lnTo>
                    <a:lnTo>
                      <a:pt x="695" y="132"/>
                    </a:lnTo>
                    <a:lnTo>
                      <a:pt x="708" y="145"/>
                    </a:lnTo>
                    <a:lnTo>
                      <a:pt x="708" y="175"/>
                    </a:lnTo>
                    <a:lnTo>
                      <a:pt x="676" y="213"/>
                    </a:lnTo>
                    <a:lnTo>
                      <a:pt x="640" y="219"/>
                    </a:lnTo>
                    <a:lnTo>
                      <a:pt x="551" y="247"/>
                    </a:lnTo>
                    <a:lnTo>
                      <a:pt x="462" y="262"/>
                    </a:lnTo>
                    <a:lnTo>
                      <a:pt x="383" y="272"/>
                    </a:lnTo>
                    <a:lnTo>
                      <a:pt x="325" y="266"/>
                    </a:lnTo>
                    <a:lnTo>
                      <a:pt x="245" y="247"/>
                    </a:lnTo>
                    <a:lnTo>
                      <a:pt x="156" y="189"/>
                    </a:lnTo>
                    <a:lnTo>
                      <a:pt x="102" y="141"/>
                    </a:lnTo>
                    <a:lnTo>
                      <a:pt x="70" y="122"/>
                    </a:lnTo>
                    <a:lnTo>
                      <a:pt x="43" y="116"/>
                    </a:lnTo>
                    <a:lnTo>
                      <a:pt x="19" y="111"/>
                    </a:lnTo>
                    <a:lnTo>
                      <a:pt x="5" y="87"/>
                    </a:lnTo>
                    <a:lnTo>
                      <a:pt x="0" y="45"/>
                    </a:lnTo>
                    <a:lnTo>
                      <a:pt x="10" y="19"/>
                    </a:lnTo>
                    <a:lnTo>
                      <a:pt x="24" y="0"/>
                    </a:lnTo>
                    <a:lnTo>
                      <a:pt x="45" y="6"/>
                    </a:lnTo>
                    <a:lnTo>
                      <a:pt x="55" y="39"/>
                    </a:lnTo>
                    <a:lnTo>
                      <a:pt x="52" y="74"/>
                    </a:lnTo>
                    <a:lnTo>
                      <a:pt x="81" y="97"/>
                    </a:lnTo>
                    <a:lnTo>
                      <a:pt x="98" y="98"/>
                    </a:lnTo>
                    <a:lnTo>
                      <a:pt x="113" y="83"/>
                    </a:lnTo>
                    <a:lnTo>
                      <a:pt x="118" y="59"/>
                    </a:lnTo>
                    <a:lnTo>
                      <a:pt x="151" y="64"/>
                    </a:lnTo>
                    <a:lnTo>
                      <a:pt x="151" y="102"/>
                    </a:lnTo>
                    <a:lnTo>
                      <a:pt x="132" y="126"/>
                    </a:lnTo>
                    <a:lnTo>
                      <a:pt x="174" y="160"/>
                    </a:lnTo>
                    <a:lnTo>
                      <a:pt x="239" y="189"/>
                    </a:lnTo>
                    <a:lnTo>
                      <a:pt x="297" y="204"/>
                    </a:lnTo>
                    <a:lnTo>
                      <a:pt x="355" y="218"/>
                    </a:lnTo>
                    <a:lnTo>
                      <a:pt x="395" y="218"/>
                    </a:lnTo>
                    <a:lnTo>
                      <a:pt x="447" y="208"/>
                    </a:lnTo>
                    <a:lnTo>
                      <a:pt x="503" y="193"/>
                    </a:lnTo>
                    <a:lnTo>
                      <a:pt x="560" y="175"/>
                    </a:lnTo>
                    <a:lnTo>
                      <a:pt x="619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664040" y="2037240"/>
                <a:ext cx="689040" cy="254880"/>
              </a:xfrm>
              <a:custGeom>
                <a:avLst/>
                <a:gdLst/>
                <a:ahLst/>
                <a:rect l="l" t="t" r="r" b="b"/>
                <a:pathLst>
                  <a:path w="710" h="272">
                    <a:moveTo>
                      <a:pt x="89" y="160"/>
                    </a:moveTo>
                    <a:lnTo>
                      <a:pt x="49" y="141"/>
                    </a:lnTo>
                    <a:lnTo>
                      <a:pt x="14" y="132"/>
                    </a:lnTo>
                    <a:lnTo>
                      <a:pt x="0" y="144"/>
                    </a:lnTo>
                    <a:lnTo>
                      <a:pt x="0" y="175"/>
                    </a:lnTo>
                    <a:lnTo>
                      <a:pt x="33" y="212"/>
                    </a:lnTo>
                    <a:lnTo>
                      <a:pt x="68" y="219"/>
                    </a:lnTo>
                    <a:lnTo>
                      <a:pt x="157" y="246"/>
                    </a:lnTo>
                    <a:lnTo>
                      <a:pt x="248" y="261"/>
                    </a:lnTo>
                    <a:lnTo>
                      <a:pt x="326" y="272"/>
                    </a:lnTo>
                    <a:lnTo>
                      <a:pt x="385" y="265"/>
                    </a:lnTo>
                    <a:lnTo>
                      <a:pt x="463" y="246"/>
                    </a:lnTo>
                    <a:lnTo>
                      <a:pt x="554" y="188"/>
                    </a:lnTo>
                    <a:lnTo>
                      <a:pt x="608" y="141"/>
                    </a:lnTo>
                    <a:lnTo>
                      <a:pt x="639" y="122"/>
                    </a:lnTo>
                    <a:lnTo>
                      <a:pt x="667" y="115"/>
                    </a:lnTo>
                    <a:lnTo>
                      <a:pt x="691" y="110"/>
                    </a:lnTo>
                    <a:lnTo>
                      <a:pt x="704" y="87"/>
                    </a:lnTo>
                    <a:lnTo>
                      <a:pt x="710" y="45"/>
                    </a:lnTo>
                    <a:lnTo>
                      <a:pt x="699" y="19"/>
                    </a:lnTo>
                    <a:lnTo>
                      <a:pt x="686" y="0"/>
                    </a:lnTo>
                    <a:lnTo>
                      <a:pt x="664" y="6"/>
                    </a:lnTo>
                    <a:lnTo>
                      <a:pt x="654" y="39"/>
                    </a:lnTo>
                    <a:lnTo>
                      <a:pt x="658" y="74"/>
                    </a:lnTo>
                    <a:lnTo>
                      <a:pt x="629" y="97"/>
                    </a:lnTo>
                    <a:lnTo>
                      <a:pt x="611" y="98"/>
                    </a:lnTo>
                    <a:lnTo>
                      <a:pt x="596" y="83"/>
                    </a:lnTo>
                    <a:lnTo>
                      <a:pt x="591" y="59"/>
                    </a:lnTo>
                    <a:lnTo>
                      <a:pt x="559" y="64"/>
                    </a:lnTo>
                    <a:lnTo>
                      <a:pt x="559" y="102"/>
                    </a:lnTo>
                    <a:lnTo>
                      <a:pt x="577" y="126"/>
                    </a:lnTo>
                    <a:lnTo>
                      <a:pt x="536" y="160"/>
                    </a:lnTo>
                    <a:lnTo>
                      <a:pt x="469" y="188"/>
                    </a:lnTo>
                    <a:lnTo>
                      <a:pt x="411" y="204"/>
                    </a:lnTo>
                    <a:lnTo>
                      <a:pt x="355" y="217"/>
                    </a:lnTo>
                    <a:lnTo>
                      <a:pt x="313" y="217"/>
                    </a:lnTo>
                    <a:lnTo>
                      <a:pt x="262" y="207"/>
                    </a:lnTo>
                    <a:lnTo>
                      <a:pt x="205" y="192"/>
                    </a:lnTo>
                    <a:lnTo>
                      <a:pt x="148" y="175"/>
                    </a:lnTo>
                    <a:lnTo>
                      <a:pt x="89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315200" y="2362680"/>
                <a:ext cx="352440" cy="397440"/>
              </a:xfrm>
              <a:custGeom>
                <a:avLst/>
                <a:gdLst/>
                <a:ahLst/>
                <a:rect l="l" t="t" r="r" b="b"/>
                <a:pathLst>
                  <a:path w="363" h="424">
                    <a:moveTo>
                      <a:pt x="310" y="96"/>
                    </a:moveTo>
                    <a:lnTo>
                      <a:pt x="339" y="109"/>
                    </a:lnTo>
                    <a:lnTo>
                      <a:pt x="355" y="143"/>
                    </a:lnTo>
                    <a:lnTo>
                      <a:pt x="363" y="176"/>
                    </a:lnTo>
                    <a:lnTo>
                      <a:pt x="349" y="210"/>
                    </a:lnTo>
                    <a:lnTo>
                      <a:pt x="334" y="214"/>
                    </a:lnTo>
                    <a:lnTo>
                      <a:pt x="302" y="223"/>
                    </a:lnTo>
                    <a:lnTo>
                      <a:pt x="263" y="219"/>
                    </a:lnTo>
                    <a:lnTo>
                      <a:pt x="226" y="205"/>
                    </a:lnTo>
                    <a:lnTo>
                      <a:pt x="180" y="175"/>
                    </a:lnTo>
                    <a:lnTo>
                      <a:pt x="149" y="141"/>
                    </a:lnTo>
                    <a:lnTo>
                      <a:pt x="115" y="103"/>
                    </a:lnTo>
                    <a:lnTo>
                      <a:pt x="100" y="84"/>
                    </a:lnTo>
                    <a:lnTo>
                      <a:pt x="114" y="123"/>
                    </a:lnTo>
                    <a:lnTo>
                      <a:pt x="124" y="181"/>
                    </a:lnTo>
                    <a:lnTo>
                      <a:pt x="120" y="253"/>
                    </a:lnTo>
                    <a:lnTo>
                      <a:pt x="111" y="310"/>
                    </a:lnTo>
                    <a:lnTo>
                      <a:pt x="103" y="351"/>
                    </a:lnTo>
                    <a:lnTo>
                      <a:pt x="109" y="384"/>
                    </a:lnTo>
                    <a:lnTo>
                      <a:pt x="115" y="405"/>
                    </a:lnTo>
                    <a:lnTo>
                      <a:pt x="114" y="419"/>
                    </a:lnTo>
                    <a:lnTo>
                      <a:pt x="101" y="424"/>
                    </a:lnTo>
                    <a:lnTo>
                      <a:pt x="77" y="424"/>
                    </a:lnTo>
                    <a:lnTo>
                      <a:pt x="61" y="414"/>
                    </a:lnTo>
                    <a:lnTo>
                      <a:pt x="42" y="389"/>
                    </a:lnTo>
                    <a:lnTo>
                      <a:pt x="29" y="357"/>
                    </a:lnTo>
                    <a:lnTo>
                      <a:pt x="4" y="317"/>
                    </a:lnTo>
                    <a:lnTo>
                      <a:pt x="0" y="305"/>
                    </a:lnTo>
                    <a:lnTo>
                      <a:pt x="10" y="296"/>
                    </a:lnTo>
                    <a:lnTo>
                      <a:pt x="47" y="286"/>
                    </a:lnTo>
                    <a:lnTo>
                      <a:pt x="72" y="291"/>
                    </a:lnTo>
                    <a:lnTo>
                      <a:pt x="72" y="284"/>
                    </a:lnTo>
                    <a:lnTo>
                      <a:pt x="72" y="223"/>
                    </a:lnTo>
                    <a:lnTo>
                      <a:pt x="58" y="143"/>
                    </a:lnTo>
                    <a:lnTo>
                      <a:pt x="48" y="91"/>
                    </a:lnTo>
                    <a:lnTo>
                      <a:pt x="47" y="48"/>
                    </a:lnTo>
                    <a:lnTo>
                      <a:pt x="58" y="29"/>
                    </a:lnTo>
                    <a:lnTo>
                      <a:pt x="77" y="4"/>
                    </a:lnTo>
                    <a:lnTo>
                      <a:pt x="109" y="0"/>
                    </a:lnTo>
                    <a:lnTo>
                      <a:pt x="132" y="14"/>
                    </a:lnTo>
                    <a:lnTo>
                      <a:pt x="168" y="43"/>
                    </a:lnTo>
                    <a:lnTo>
                      <a:pt x="215" y="74"/>
                    </a:lnTo>
                    <a:lnTo>
                      <a:pt x="262" y="91"/>
                    </a:lnTo>
                    <a:lnTo>
                      <a:pt x="31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546320" y="2480040"/>
                <a:ext cx="369720" cy="383400"/>
              </a:xfrm>
              <a:custGeom>
                <a:avLst/>
                <a:gdLst/>
                <a:ahLst/>
                <a:rect l="l" t="t" r="r" b="b"/>
                <a:pathLst>
                  <a:path w="381" h="409">
                    <a:moveTo>
                      <a:pt x="106" y="23"/>
                    </a:moveTo>
                    <a:lnTo>
                      <a:pt x="149" y="0"/>
                    </a:lnTo>
                    <a:lnTo>
                      <a:pt x="180" y="16"/>
                    </a:lnTo>
                    <a:lnTo>
                      <a:pt x="195" y="42"/>
                    </a:lnTo>
                    <a:lnTo>
                      <a:pt x="178" y="95"/>
                    </a:lnTo>
                    <a:lnTo>
                      <a:pt x="147" y="152"/>
                    </a:lnTo>
                    <a:lnTo>
                      <a:pt x="106" y="200"/>
                    </a:lnTo>
                    <a:lnTo>
                      <a:pt x="76" y="220"/>
                    </a:lnTo>
                    <a:lnTo>
                      <a:pt x="77" y="232"/>
                    </a:lnTo>
                    <a:lnTo>
                      <a:pt x="123" y="239"/>
                    </a:lnTo>
                    <a:lnTo>
                      <a:pt x="167" y="244"/>
                    </a:lnTo>
                    <a:lnTo>
                      <a:pt x="243" y="234"/>
                    </a:lnTo>
                    <a:lnTo>
                      <a:pt x="297" y="213"/>
                    </a:lnTo>
                    <a:lnTo>
                      <a:pt x="316" y="200"/>
                    </a:lnTo>
                    <a:lnTo>
                      <a:pt x="340" y="190"/>
                    </a:lnTo>
                    <a:lnTo>
                      <a:pt x="352" y="191"/>
                    </a:lnTo>
                    <a:lnTo>
                      <a:pt x="364" y="206"/>
                    </a:lnTo>
                    <a:lnTo>
                      <a:pt x="364" y="232"/>
                    </a:lnTo>
                    <a:lnTo>
                      <a:pt x="339" y="268"/>
                    </a:lnTo>
                    <a:lnTo>
                      <a:pt x="330" y="309"/>
                    </a:lnTo>
                    <a:lnTo>
                      <a:pt x="344" y="333"/>
                    </a:lnTo>
                    <a:lnTo>
                      <a:pt x="376" y="356"/>
                    </a:lnTo>
                    <a:lnTo>
                      <a:pt x="381" y="372"/>
                    </a:lnTo>
                    <a:lnTo>
                      <a:pt x="368" y="391"/>
                    </a:lnTo>
                    <a:lnTo>
                      <a:pt x="326" y="409"/>
                    </a:lnTo>
                    <a:lnTo>
                      <a:pt x="306" y="401"/>
                    </a:lnTo>
                    <a:lnTo>
                      <a:pt x="296" y="362"/>
                    </a:lnTo>
                    <a:lnTo>
                      <a:pt x="286" y="310"/>
                    </a:lnTo>
                    <a:lnTo>
                      <a:pt x="291" y="261"/>
                    </a:lnTo>
                    <a:lnTo>
                      <a:pt x="273" y="258"/>
                    </a:lnTo>
                    <a:lnTo>
                      <a:pt x="230" y="273"/>
                    </a:lnTo>
                    <a:lnTo>
                      <a:pt x="162" y="285"/>
                    </a:lnTo>
                    <a:lnTo>
                      <a:pt x="115" y="291"/>
                    </a:lnTo>
                    <a:lnTo>
                      <a:pt x="52" y="280"/>
                    </a:lnTo>
                    <a:lnTo>
                      <a:pt x="8" y="270"/>
                    </a:lnTo>
                    <a:lnTo>
                      <a:pt x="0" y="227"/>
                    </a:lnTo>
                    <a:lnTo>
                      <a:pt x="13" y="187"/>
                    </a:lnTo>
                    <a:lnTo>
                      <a:pt x="48" y="114"/>
                    </a:lnTo>
                    <a:lnTo>
                      <a:pt x="67" y="78"/>
                    </a:lnTo>
                    <a:lnTo>
                      <a:pt x="86" y="47"/>
                    </a:lnTo>
                    <a:lnTo>
                      <a:pt x="10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7072560" y="1415520"/>
              <a:ext cx="845640" cy="1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6777360" y="1160640"/>
              <a:ext cx="612720" cy="19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074D-8A9A-415E-B488-51904803A0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li STS: Sequence Target Sit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20" name=""/>
          <p:cNvSpPr/>
          <p:nvPr/>
        </p:nvSpPr>
        <p:spPr>
          <a:xfrm>
            <a:off x="165240" y="1073160"/>
            <a:ext cx="974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’automazione del sequenziamento permette di sequenziare corte sequenze (300pb) clonate a caso da cui ricavare primers per “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creenar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” con la PCR ormai automatizzata le librerie  e costruire mappe fisiche attraverso la creazione di contigui . Quando sono polimorfiche sono marcatori comuni alle mappe sia  genetiche che fisiche e permettono di legarle fra l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41200" y="3416400"/>
            <a:ext cx="2091960" cy="615960"/>
            <a:chOff x="241200" y="3416400"/>
            <a:chExt cx="2091960" cy="615960"/>
          </a:xfrm>
        </p:grpSpPr>
        <p:sp>
          <p:nvSpPr>
            <p:cNvPr id="1022" name=""/>
            <p:cNvSpPr/>
            <p:nvPr/>
          </p:nvSpPr>
          <p:spPr>
            <a:xfrm>
              <a:off x="241200" y="3497400"/>
              <a:ext cx="748800" cy="534960"/>
            </a:xfrm>
            <a:custGeom>
              <a:avLst/>
              <a:gdLst/>
              <a:ahLst/>
              <a:rect l="l" t="t" r="r" b="b"/>
              <a:pathLst>
                <a:path w="472" h="337">
                  <a:moveTo>
                    <a:pt x="88" y="53"/>
                  </a:moveTo>
                  <a:cubicBezTo>
                    <a:pt x="99" y="143"/>
                    <a:pt x="88" y="106"/>
                    <a:pt x="152" y="149"/>
                  </a:cubicBezTo>
                  <a:cubicBezTo>
                    <a:pt x="157" y="157"/>
                    <a:pt x="158" y="169"/>
                    <a:pt x="168" y="173"/>
                  </a:cubicBezTo>
                  <a:cubicBezTo>
                    <a:pt x="195" y="182"/>
                    <a:pt x="258" y="134"/>
                    <a:pt x="272" y="125"/>
                  </a:cubicBezTo>
                  <a:cubicBezTo>
                    <a:pt x="280" y="119"/>
                    <a:pt x="296" y="109"/>
                    <a:pt x="296" y="109"/>
                  </a:cubicBezTo>
                  <a:cubicBezTo>
                    <a:pt x="304" y="76"/>
                    <a:pt x="314" y="60"/>
                    <a:pt x="304" y="29"/>
                  </a:cubicBezTo>
                  <a:cubicBezTo>
                    <a:pt x="290" y="31"/>
                    <a:pt x="273" y="27"/>
                    <a:pt x="264" y="37"/>
                  </a:cubicBezTo>
                  <a:cubicBezTo>
                    <a:pt x="252" y="48"/>
                    <a:pt x="248" y="85"/>
                    <a:pt x="248" y="85"/>
                  </a:cubicBezTo>
                  <a:cubicBezTo>
                    <a:pt x="260" y="162"/>
                    <a:pt x="242" y="107"/>
                    <a:pt x="288" y="165"/>
                  </a:cubicBezTo>
                  <a:cubicBezTo>
                    <a:pt x="300" y="180"/>
                    <a:pt x="320" y="213"/>
                    <a:pt x="320" y="213"/>
                  </a:cubicBezTo>
                  <a:cubicBezTo>
                    <a:pt x="301" y="241"/>
                    <a:pt x="255" y="290"/>
                    <a:pt x="224" y="301"/>
                  </a:cubicBezTo>
                  <a:cubicBezTo>
                    <a:pt x="221" y="293"/>
                    <a:pt x="216" y="285"/>
                    <a:pt x="216" y="277"/>
                  </a:cubicBezTo>
                  <a:cubicBezTo>
                    <a:pt x="216" y="191"/>
                    <a:pt x="265" y="196"/>
                    <a:pt x="336" y="189"/>
                  </a:cubicBezTo>
                  <a:cubicBezTo>
                    <a:pt x="346" y="183"/>
                    <a:pt x="358" y="180"/>
                    <a:pt x="368" y="173"/>
                  </a:cubicBezTo>
                  <a:cubicBezTo>
                    <a:pt x="406" y="141"/>
                    <a:pt x="351" y="104"/>
                    <a:pt x="344" y="69"/>
                  </a:cubicBezTo>
                  <a:cubicBezTo>
                    <a:pt x="340" y="53"/>
                    <a:pt x="346" y="33"/>
                    <a:pt x="336" y="21"/>
                  </a:cubicBezTo>
                  <a:cubicBezTo>
                    <a:pt x="324" y="8"/>
                    <a:pt x="288" y="5"/>
                    <a:pt x="288" y="5"/>
                  </a:cubicBezTo>
                  <a:cubicBezTo>
                    <a:pt x="194" y="16"/>
                    <a:pt x="240" y="0"/>
                    <a:pt x="200" y="61"/>
                  </a:cubicBezTo>
                  <a:cubicBezTo>
                    <a:pt x="197" y="74"/>
                    <a:pt x="198" y="88"/>
                    <a:pt x="192" y="101"/>
                  </a:cubicBezTo>
                  <a:cubicBezTo>
                    <a:pt x="186" y="111"/>
                    <a:pt x="175" y="116"/>
                    <a:pt x="168" y="125"/>
                  </a:cubicBezTo>
                  <a:cubicBezTo>
                    <a:pt x="161" y="132"/>
                    <a:pt x="155" y="140"/>
                    <a:pt x="152" y="149"/>
                  </a:cubicBezTo>
                  <a:cubicBezTo>
                    <a:pt x="122" y="214"/>
                    <a:pt x="136" y="224"/>
                    <a:pt x="64" y="261"/>
                  </a:cubicBezTo>
                  <a:cubicBezTo>
                    <a:pt x="53" y="250"/>
                    <a:pt x="41" y="240"/>
                    <a:pt x="32" y="229"/>
                  </a:cubicBezTo>
                  <a:cubicBezTo>
                    <a:pt x="19" y="213"/>
                    <a:pt x="0" y="181"/>
                    <a:pt x="0" y="181"/>
                  </a:cubicBezTo>
                  <a:cubicBezTo>
                    <a:pt x="8" y="175"/>
                    <a:pt x="14" y="166"/>
                    <a:pt x="24" y="165"/>
                  </a:cubicBezTo>
                  <a:cubicBezTo>
                    <a:pt x="78" y="157"/>
                    <a:pt x="66" y="221"/>
                    <a:pt x="96" y="245"/>
                  </a:cubicBezTo>
                  <a:cubicBezTo>
                    <a:pt x="102" y="250"/>
                    <a:pt x="112" y="250"/>
                    <a:pt x="120" y="253"/>
                  </a:cubicBezTo>
                  <a:cubicBezTo>
                    <a:pt x="122" y="261"/>
                    <a:pt x="122" y="271"/>
                    <a:pt x="128" y="277"/>
                  </a:cubicBezTo>
                  <a:cubicBezTo>
                    <a:pt x="141" y="290"/>
                    <a:pt x="176" y="309"/>
                    <a:pt x="176" y="309"/>
                  </a:cubicBezTo>
                  <a:cubicBezTo>
                    <a:pt x="393" y="299"/>
                    <a:pt x="326" y="337"/>
                    <a:pt x="408" y="229"/>
                  </a:cubicBezTo>
                  <a:cubicBezTo>
                    <a:pt x="399" y="187"/>
                    <a:pt x="408" y="170"/>
                    <a:pt x="368" y="157"/>
                  </a:cubicBezTo>
                  <a:cubicBezTo>
                    <a:pt x="358" y="159"/>
                    <a:pt x="317" y="165"/>
                    <a:pt x="312" y="181"/>
                  </a:cubicBezTo>
                  <a:cubicBezTo>
                    <a:pt x="303" y="205"/>
                    <a:pt x="368" y="253"/>
                    <a:pt x="392" y="269"/>
                  </a:cubicBezTo>
                  <a:cubicBezTo>
                    <a:pt x="412" y="282"/>
                    <a:pt x="453" y="277"/>
                    <a:pt x="472" y="27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29440" y="3416400"/>
              <a:ext cx="150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NA genom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28600" y="4753080"/>
            <a:ext cx="1317600" cy="434880"/>
            <a:chOff x="228600" y="4753080"/>
            <a:chExt cx="1317600" cy="434880"/>
          </a:xfrm>
        </p:grpSpPr>
        <p:sp>
          <p:nvSpPr>
            <p:cNvPr id="1025" name=""/>
            <p:cNvSpPr/>
            <p:nvPr/>
          </p:nvSpPr>
          <p:spPr>
            <a:xfrm>
              <a:off x="228600" y="4753080"/>
              <a:ext cx="1317600" cy="434880"/>
            </a:xfrm>
            <a:prstGeom prst="can">
              <a:avLst>
                <a:gd name="adj" fmla="val 32986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0760" y="5004360"/>
              <a:ext cx="1314000" cy="175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7" name=""/>
            <p:cNvGrpSpPr/>
            <p:nvPr/>
          </p:nvGrpSpPr>
          <p:grpSpPr>
            <a:xfrm>
              <a:off x="431640" y="5021640"/>
              <a:ext cx="894960" cy="159120"/>
              <a:chOff x="431640" y="5021640"/>
              <a:chExt cx="894960" cy="159120"/>
            </a:xfrm>
          </p:grpSpPr>
          <p:sp>
            <p:nvSpPr>
              <p:cNvPr id="1028" name=""/>
              <p:cNvSpPr/>
              <p:nvPr/>
            </p:nvSpPr>
            <p:spPr>
              <a:xfrm>
                <a:off x="1030680" y="503424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216800" y="506772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78080" y="502164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90040" y="5063040"/>
                <a:ext cx="11016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99560" y="5033160"/>
                <a:ext cx="11016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901440" y="507456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18200" y="509904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079280" y="5116320"/>
                <a:ext cx="11016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31640" y="5097600"/>
                <a:ext cx="109800" cy="64440"/>
              </a:xfrm>
              <a:prstGeom prst="irregularSeal1">
                <a:avLst/>
              </a:prstGeom>
              <a:solidFill>
                <a:srgbClr val="e3c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7" name=""/>
          <p:cNvGrpSpPr/>
          <p:nvPr/>
        </p:nvGrpSpPr>
        <p:grpSpPr>
          <a:xfrm>
            <a:off x="729720" y="4127400"/>
            <a:ext cx="1415520" cy="501840"/>
            <a:chOff x="729720" y="4127400"/>
            <a:chExt cx="1415520" cy="501840"/>
          </a:xfrm>
        </p:grpSpPr>
        <p:sp>
          <p:nvSpPr>
            <p:cNvPr id="1038" name=""/>
            <p:cNvSpPr/>
            <p:nvPr/>
          </p:nvSpPr>
          <p:spPr>
            <a:xfrm rot="5400000">
              <a:off x="659880" y="4254480"/>
              <a:ext cx="444600" cy="304920"/>
            </a:xfrm>
            <a:custGeom>
              <a:avLst/>
              <a:gdLst>
                <a:gd name="textAreaLeft" fmla="*/ 69480 w 444600"/>
                <a:gd name="textAreaRight" fmla="*/ 389160 w 4446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069920" y="412740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lonagg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627840" y="5130720"/>
            <a:ext cx="1671120" cy="535680"/>
            <a:chOff x="627840" y="5130720"/>
            <a:chExt cx="1671120" cy="535680"/>
          </a:xfrm>
        </p:grpSpPr>
        <p:sp>
          <p:nvSpPr>
            <p:cNvPr id="1041" name=""/>
            <p:cNvSpPr/>
            <p:nvPr/>
          </p:nvSpPr>
          <p:spPr>
            <a:xfrm>
              <a:off x="635040" y="5130720"/>
              <a:ext cx="0" cy="48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27840" y="5359320"/>
              <a:ext cx="167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equenzi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88920" y="5767560"/>
            <a:ext cx="2570400" cy="377640"/>
            <a:chOff x="88920" y="5767560"/>
            <a:chExt cx="2570400" cy="377640"/>
          </a:xfrm>
        </p:grpSpPr>
        <p:grpSp>
          <p:nvGrpSpPr>
            <p:cNvPr id="1044" name=""/>
            <p:cNvGrpSpPr/>
            <p:nvPr/>
          </p:nvGrpSpPr>
          <p:grpSpPr>
            <a:xfrm>
              <a:off x="88920" y="6045120"/>
              <a:ext cx="1995120" cy="100080"/>
              <a:chOff x="88920" y="6045120"/>
              <a:chExt cx="1995120" cy="100080"/>
            </a:xfrm>
          </p:grpSpPr>
          <p:sp>
            <p:nvSpPr>
              <p:cNvPr id="1045" name=""/>
              <p:cNvSpPr/>
              <p:nvPr/>
            </p:nvSpPr>
            <p:spPr>
              <a:xfrm>
                <a:off x="88920" y="6045120"/>
                <a:ext cx="199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13040" y="6113880"/>
                <a:ext cx="1958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8920" y="6145200"/>
                <a:ext cx="199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13040" y="6076080"/>
                <a:ext cx="1958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133200" y="5767560"/>
              <a:ext cx="252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ACTTAG........CATAGCA ~300b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1056600" y="609300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S A,B,C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2616120" y="5994360"/>
            <a:ext cx="2877840" cy="826200"/>
            <a:chOff x="2616120" y="5994360"/>
            <a:chExt cx="2877840" cy="826200"/>
          </a:xfrm>
        </p:grpSpPr>
        <p:sp>
          <p:nvSpPr>
            <p:cNvPr id="1052" name=""/>
            <p:cNvSpPr/>
            <p:nvPr/>
          </p:nvSpPr>
          <p:spPr>
            <a:xfrm>
              <a:off x="2616120" y="6108840"/>
              <a:ext cx="685800" cy="20304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50760 h 203040"/>
                <a:gd name="textAreaBottom" fmla="*/ 15228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3629520" y="5994360"/>
              <a:ext cx="1690920" cy="380880"/>
              <a:chOff x="3629520" y="5994360"/>
              <a:chExt cx="1690920" cy="380880"/>
            </a:xfrm>
          </p:grpSpPr>
          <p:sp>
            <p:nvSpPr>
              <p:cNvPr id="1054" name=""/>
              <p:cNvSpPr/>
              <p:nvPr/>
            </p:nvSpPr>
            <p:spPr>
              <a:xfrm>
                <a:off x="3655080" y="5994360"/>
                <a:ext cx="1633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694680" y="6045120"/>
                <a:ext cx="1605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872960" y="6121440"/>
                <a:ext cx="446040" cy="0"/>
              </a:xfrm>
              <a:prstGeom prst="line">
                <a:avLst/>
              </a:prstGeom>
              <a:ln w="5724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664440" y="6364080"/>
                <a:ext cx="1656000" cy="11160"/>
              </a:xfrm>
              <a:prstGeom prst="line">
                <a:avLst/>
              </a:prstGeom>
              <a:ln w="38160">
                <a:solidFill>
                  <a:srgbClr val="ff02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629520" y="6235560"/>
                <a:ext cx="446040" cy="0"/>
              </a:xfrm>
              <a:prstGeom prst="line">
                <a:avLst/>
              </a:prstGeom>
              <a:ln w="57240">
                <a:solidFill>
                  <a:srgbClr val="031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694680" y="6324480"/>
                <a:ext cx="1605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2643120" y="6483240"/>
              <a:ext cx="285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celta dei primers x A,B,C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3635280" y="5308560"/>
            <a:ext cx="1541880" cy="604800"/>
            <a:chOff x="3635280" y="5308560"/>
            <a:chExt cx="1541880" cy="604800"/>
          </a:xfrm>
        </p:grpSpPr>
        <p:sp>
          <p:nvSpPr>
            <p:cNvPr id="1062" name=""/>
            <p:cNvSpPr/>
            <p:nvPr/>
          </p:nvSpPr>
          <p:spPr>
            <a:xfrm rot="16200000">
              <a:off x="3466440" y="5482440"/>
              <a:ext cx="583920" cy="246240"/>
            </a:xfrm>
            <a:custGeom>
              <a:avLst/>
              <a:gdLst>
                <a:gd name="textAreaLeft" fmla="*/ 91080 w 583920"/>
                <a:gd name="textAreaRight" fmla="*/ 511200 w 583920"/>
                <a:gd name="textAreaTop" fmla="*/ 61560 h 246240"/>
                <a:gd name="textAreaBottom" fmla="*/ 184680 h 2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908160" y="5308560"/>
              <a:ext cx="12690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cree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library c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2806560" y="3492360"/>
            <a:ext cx="3022560" cy="1397160"/>
            <a:chOff x="2806560" y="3492360"/>
            <a:chExt cx="3022560" cy="1397160"/>
          </a:xfrm>
        </p:grpSpPr>
        <p:grpSp>
          <p:nvGrpSpPr>
            <p:cNvPr id="1065" name=""/>
            <p:cNvGrpSpPr/>
            <p:nvPr/>
          </p:nvGrpSpPr>
          <p:grpSpPr>
            <a:xfrm>
              <a:off x="3073320" y="4222800"/>
              <a:ext cx="1282680" cy="234720"/>
              <a:chOff x="3073320" y="4222800"/>
              <a:chExt cx="1282680" cy="234720"/>
            </a:xfrm>
          </p:grpSpPr>
          <p:sp>
            <p:nvSpPr>
              <p:cNvPr id="1066" name=""/>
              <p:cNvSpPr/>
              <p:nvPr/>
            </p:nvSpPr>
            <p:spPr>
              <a:xfrm>
                <a:off x="3903480" y="4301640"/>
                <a:ext cx="31680" cy="6660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rot="10800000">
                <a:off x="3566880" y="4304880"/>
                <a:ext cx="61920" cy="6480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597120" y="4304880"/>
                <a:ext cx="311040" cy="6624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0800000">
                <a:off x="3927240" y="4304880"/>
                <a:ext cx="61920" cy="6480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960720" y="4304880"/>
                <a:ext cx="297000" cy="6624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4263120" y="4321440"/>
                <a:ext cx="69840" cy="1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149720" y="4304880"/>
                <a:ext cx="75960" cy="66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079880" y="4311360"/>
                <a:ext cx="21960" cy="5040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400"/>
                  <a:gd name="textAreaBottom" fmla="*/ 49320 h 50400"/>
                </a:gdLst>
                <a:ahLst/>
                <a:rect l="textAreaLeft" t="textAreaTop" r="textAreaRight" b="textAreaBottom"/>
                <a:pathLst>
                  <a:path w="21600" h="49123">
                    <a:moveTo>
                      <a:pt x="3600" y="0"/>
                    </a:moveTo>
                    <a:arcTo wR="3600" hR="3600" stAng="16200000" swAng="-5400000"/>
                    <a:lnTo>
                      <a:pt x="0" y="45523"/>
                    </a:lnTo>
                    <a:arcTo wR="3600" hR="3600" stAng="10800000" swAng="-5400000"/>
                    <a:lnTo>
                      <a:pt x="18000" y="4912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233520" y="4304880"/>
                <a:ext cx="311400" cy="6624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357360" y="4304880"/>
                <a:ext cx="77760" cy="66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247920" y="4304880"/>
                <a:ext cx="31680" cy="6624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240"/>
                  <a:gd name="textAreaBottom" fmla="*/ 64800 h 66240"/>
                </a:gdLst>
                <a:ahLst/>
                <a:rect l="textAreaLeft" t="textAreaTop" r="textAreaRight" b="textAreaBottom"/>
                <a:pathLst>
                  <a:path w="21600" h="44899">
                    <a:moveTo>
                      <a:pt x="3600" y="0"/>
                    </a:moveTo>
                    <a:arcTo wR="3600" hR="3600" stAng="16200000" swAng="-5400000"/>
                    <a:lnTo>
                      <a:pt x="0" y="41299"/>
                    </a:lnTo>
                    <a:arcTo wR="3600" hR="3600" stAng="10800000" swAng="-5400000"/>
                    <a:lnTo>
                      <a:pt x="18000" y="448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3179160" y="4332600"/>
                <a:ext cx="54360" cy="64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544920" y="4304880"/>
                <a:ext cx="29880" cy="6012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073320" y="4222800"/>
                <a:ext cx="1282680" cy="23472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4546440" y="4171680"/>
              <a:ext cx="1282680" cy="235080"/>
              <a:chOff x="4546440" y="4171680"/>
              <a:chExt cx="1282680" cy="235080"/>
            </a:xfrm>
          </p:grpSpPr>
          <p:sp>
            <p:nvSpPr>
              <p:cNvPr id="1081" name=""/>
              <p:cNvSpPr/>
              <p:nvPr/>
            </p:nvSpPr>
            <p:spPr>
              <a:xfrm>
                <a:off x="5376600" y="4250880"/>
                <a:ext cx="31680" cy="6696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10800000">
                <a:off x="5040000" y="425376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070240" y="4254120"/>
                <a:ext cx="311040" cy="6660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0800000">
                <a:off x="5400360" y="425376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433840" y="4254120"/>
                <a:ext cx="2970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5736240" y="4271040"/>
                <a:ext cx="69840" cy="1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622840" y="4254120"/>
                <a:ext cx="759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3000" y="4260600"/>
                <a:ext cx="21960" cy="5076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760"/>
                  <a:gd name="textAreaBottom" fmla="*/ 49680 h 50760"/>
                </a:gdLst>
                <a:ahLst/>
                <a:rect l="textAreaLeft" t="textAreaTop" r="textAreaRight" b="textAreaBottom"/>
                <a:pathLst>
                  <a:path w="21600" h="49471">
                    <a:moveTo>
                      <a:pt x="3600" y="0"/>
                    </a:moveTo>
                    <a:arcTo wR="3600" hR="3600" stAng="16200000" swAng="-5400000"/>
                    <a:lnTo>
                      <a:pt x="0" y="45871"/>
                    </a:lnTo>
                    <a:arcTo wR="3600" hR="3600" stAng="10800000" swAng="-5400000"/>
                    <a:lnTo>
                      <a:pt x="18000" y="494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706640" y="4254120"/>
                <a:ext cx="3114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830480" y="4254120"/>
                <a:ext cx="777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721040" y="4254120"/>
                <a:ext cx="31680" cy="6660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600"/>
                  <a:gd name="textAreaBottom" fmla="*/ 65160 h 66600"/>
                </a:gdLst>
                <a:ahLst/>
                <a:rect l="textAreaLeft" t="textAreaTop" r="textAreaRight" b="textAreaBottom"/>
                <a:pathLst>
                  <a:path w="21600" h="45142">
                    <a:moveTo>
                      <a:pt x="3600" y="0"/>
                    </a:moveTo>
                    <a:arcTo wR="3600" hR="3600" stAng="16200000" swAng="-5400000"/>
                    <a:lnTo>
                      <a:pt x="0" y="41542"/>
                    </a:lnTo>
                    <a:arcTo wR="3600" hR="3600" stAng="10800000" swAng="-5400000"/>
                    <a:lnTo>
                      <a:pt x="18000" y="451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>
                <a:off x="4652280" y="4281840"/>
                <a:ext cx="54360" cy="68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018040" y="4254120"/>
                <a:ext cx="29880" cy="6048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546440" y="4171680"/>
                <a:ext cx="1282680" cy="2350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2806560" y="4628880"/>
              <a:ext cx="1282680" cy="235080"/>
              <a:chOff x="2806560" y="4628880"/>
              <a:chExt cx="1282680" cy="235080"/>
            </a:xfrm>
          </p:grpSpPr>
          <p:sp>
            <p:nvSpPr>
              <p:cNvPr id="1096" name=""/>
              <p:cNvSpPr/>
              <p:nvPr/>
            </p:nvSpPr>
            <p:spPr>
              <a:xfrm>
                <a:off x="3636720" y="4708080"/>
                <a:ext cx="31680" cy="6696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10800000">
                <a:off x="3300120" y="471096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330360" y="4711320"/>
                <a:ext cx="311040" cy="6660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10800000">
                <a:off x="3660480" y="471096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693960" y="4711320"/>
                <a:ext cx="2970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3996360" y="4728240"/>
                <a:ext cx="69840" cy="1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882960" y="4711320"/>
                <a:ext cx="759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813120" y="4717800"/>
                <a:ext cx="21960" cy="5076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760"/>
                  <a:gd name="textAreaBottom" fmla="*/ 49680 h 50760"/>
                </a:gdLst>
                <a:ahLst/>
                <a:rect l="textAreaLeft" t="textAreaTop" r="textAreaRight" b="textAreaBottom"/>
                <a:pathLst>
                  <a:path w="21600" h="49471">
                    <a:moveTo>
                      <a:pt x="3600" y="0"/>
                    </a:moveTo>
                    <a:arcTo wR="3600" hR="3600" stAng="16200000" swAng="-5400000"/>
                    <a:lnTo>
                      <a:pt x="0" y="45871"/>
                    </a:lnTo>
                    <a:arcTo wR="3600" hR="3600" stAng="10800000" swAng="-5400000"/>
                    <a:lnTo>
                      <a:pt x="18000" y="494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966760" y="4711320"/>
                <a:ext cx="3114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090600" y="4711320"/>
                <a:ext cx="777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981160" y="4711320"/>
                <a:ext cx="31680" cy="6660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600"/>
                  <a:gd name="textAreaBottom" fmla="*/ 65160 h 66600"/>
                </a:gdLst>
                <a:ahLst/>
                <a:rect l="textAreaLeft" t="textAreaTop" r="textAreaRight" b="textAreaBottom"/>
                <a:pathLst>
                  <a:path w="21600" h="45142">
                    <a:moveTo>
                      <a:pt x="3600" y="0"/>
                    </a:moveTo>
                    <a:arcTo wR="3600" hR="3600" stAng="16200000" swAng="-5400000"/>
                    <a:lnTo>
                      <a:pt x="0" y="41542"/>
                    </a:lnTo>
                    <a:arcTo wR="3600" hR="3600" stAng="10800000" swAng="-5400000"/>
                    <a:lnTo>
                      <a:pt x="18000" y="451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2912400" y="4739040"/>
                <a:ext cx="54360" cy="68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278160" y="4711320"/>
                <a:ext cx="29880" cy="6048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806560" y="4628880"/>
                <a:ext cx="1282680" cy="2350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4267080" y="4654440"/>
              <a:ext cx="1282680" cy="235080"/>
              <a:chOff x="4267080" y="4654440"/>
              <a:chExt cx="1282680" cy="235080"/>
            </a:xfrm>
          </p:grpSpPr>
          <p:sp>
            <p:nvSpPr>
              <p:cNvPr id="1111" name=""/>
              <p:cNvSpPr/>
              <p:nvPr/>
            </p:nvSpPr>
            <p:spPr>
              <a:xfrm>
                <a:off x="5097240" y="4733640"/>
                <a:ext cx="31680" cy="6696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10800000">
                <a:off x="4760640" y="473652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790880" y="4736880"/>
                <a:ext cx="311040" cy="6660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10800000">
                <a:off x="5121000" y="4736520"/>
                <a:ext cx="61920" cy="6516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154480" y="4736880"/>
                <a:ext cx="2970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V="1">
                <a:off x="5456880" y="4753800"/>
                <a:ext cx="69840" cy="1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343480" y="4736880"/>
                <a:ext cx="759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273640" y="4743360"/>
                <a:ext cx="21960" cy="5076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760"/>
                  <a:gd name="textAreaBottom" fmla="*/ 49680 h 50760"/>
                </a:gdLst>
                <a:ahLst/>
                <a:rect l="textAreaLeft" t="textAreaTop" r="textAreaRight" b="textAreaBottom"/>
                <a:pathLst>
                  <a:path w="21600" h="49471">
                    <a:moveTo>
                      <a:pt x="3600" y="0"/>
                    </a:moveTo>
                    <a:arcTo wR="3600" hR="3600" stAng="16200000" swAng="-5400000"/>
                    <a:lnTo>
                      <a:pt x="0" y="45871"/>
                    </a:lnTo>
                    <a:arcTo wR="3600" hR="3600" stAng="10800000" swAng="-5400000"/>
                    <a:lnTo>
                      <a:pt x="18000" y="494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427280" y="4736880"/>
                <a:ext cx="311400" cy="6660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551120" y="4736880"/>
                <a:ext cx="77760" cy="66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441680" y="4736880"/>
                <a:ext cx="31680" cy="6660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600"/>
                  <a:gd name="textAreaBottom" fmla="*/ 65160 h 66600"/>
                </a:gdLst>
                <a:ahLst/>
                <a:rect l="textAreaLeft" t="textAreaTop" r="textAreaRight" b="textAreaBottom"/>
                <a:pathLst>
                  <a:path w="21600" h="45142">
                    <a:moveTo>
                      <a:pt x="3600" y="0"/>
                    </a:moveTo>
                    <a:arcTo wR="3600" hR="3600" stAng="16200000" swAng="-5400000"/>
                    <a:lnTo>
                      <a:pt x="0" y="41542"/>
                    </a:lnTo>
                    <a:arcTo wR="3600" hR="3600" stAng="10800000" swAng="-5400000"/>
                    <a:lnTo>
                      <a:pt x="18000" y="451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4372920" y="4764600"/>
                <a:ext cx="54360" cy="68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738680" y="4736880"/>
                <a:ext cx="29880" cy="6048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267080" y="4654440"/>
                <a:ext cx="1282680" cy="2350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3848040" y="3778200"/>
              <a:ext cx="1282680" cy="234720"/>
              <a:chOff x="3848040" y="3778200"/>
              <a:chExt cx="1282680" cy="234720"/>
            </a:xfrm>
          </p:grpSpPr>
          <p:sp>
            <p:nvSpPr>
              <p:cNvPr id="1126" name=""/>
              <p:cNvSpPr/>
              <p:nvPr/>
            </p:nvSpPr>
            <p:spPr>
              <a:xfrm>
                <a:off x="4678200" y="3857040"/>
                <a:ext cx="31680" cy="6660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10800000">
                <a:off x="4341600" y="3860280"/>
                <a:ext cx="61920" cy="6480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371840" y="3860280"/>
                <a:ext cx="311040" cy="6624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10800000">
                <a:off x="4701960" y="3860280"/>
                <a:ext cx="61920" cy="64800"/>
              </a:xfrm>
              <a:prstGeom prst="flowChartOnlineStorage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735440" y="3860280"/>
                <a:ext cx="297000" cy="6624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V="1">
                <a:off x="5037840" y="3876840"/>
                <a:ext cx="69840" cy="1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924440" y="3860280"/>
                <a:ext cx="75960" cy="66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854600" y="3866760"/>
                <a:ext cx="21960" cy="50400"/>
              </a:xfrm>
              <a:custGeom>
                <a:avLst/>
                <a:gdLst>
                  <a:gd name="textAreaLeft" fmla="*/ 1080 w 21960"/>
                  <a:gd name="textAreaRight" fmla="*/ 20880 w 21960"/>
                  <a:gd name="textAreaTop" fmla="*/ 1080 h 50400"/>
                  <a:gd name="textAreaBottom" fmla="*/ 49320 h 50400"/>
                </a:gdLst>
                <a:ahLst/>
                <a:rect l="textAreaLeft" t="textAreaTop" r="textAreaRight" b="textAreaBottom"/>
                <a:pathLst>
                  <a:path w="21600" h="49123">
                    <a:moveTo>
                      <a:pt x="3600" y="0"/>
                    </a:moveTo>
                    <a:arcTo wR="3600" hR="3600" stAng="16200000" swAng="-5400000"/>
                    <a:lnTo>
                      <a:pt x="0" y="45523"/>
                    </a:lnTo>
                    <a:arcTo wR="3600" hR="3600" stAng="10800000" swAng="-5400000"/>
                    <a:lnTo>
                      <a:pt x="18000" y="4912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008240" y="3860280"/>
                <a:ext cx="311400" cy="66240"/>
              </a:xfrm>
              <a:prstGeom prst="rect">
                <a:avLst/>
              </a:prstGeom>
              <a:gradFill rotWithShape="0">
                <a:gsLst>
                  <a:gs pos="0">
                    <a:srgbClr val="172f75"/>
                  </a:gs>
                  <a:gs pos="50000">
                    <a:srgbClr val="3366ff"/>
                  </a:gs>
                  <a:gs pos="100000">
                    <a:srgbClr val="172f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132080" y="3860280"/>
                <a:ext cx="77760" cy="662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022640" y="3860280"/>
                <a:ext cx="31680" cy="66240"/>
              </a:xfrm>
              <a:custGeom>
                <a:avLst/>
                <a:gdLst>
                  <a:gd name="textAreaLeft" fmla="*/ 1440 w 31680"/>
                  <a:gd name="textAreaRight" fmla="*/ 30240 w 31680"/>
                  <a:gd name="textAreaTop" fmla="*/ 1440 h 66240"/>
                  <a:gd name="textAreaBottom" fmla="*/ 64800 h 66240"/>
                </a:gdLst>
                <a:ahLst/>
                <a:rect l="textAreaLeft" t="textAreaTop" r="textAreaRight" b="textAreaBottom"/>
                <a:pathLst>
                  <a:path w="21600" h="44899">
                    <a:moveTo>
                      <a:pt x="3600" y="0"/>
                    </a:moveTo>
                    <a:arcTo wR="3600" hR="3600" stAng="16200000" swAng="-5400000"/>
                    <a:lnTo>
                      <a:pt x="0" y="41299"/>
                    </a:lnTo>
                    <a:arcTo wR="3600" hR="3600" stAng="10800000" swAng="-5400000"/>
                    <a:lnTo>
                      <a:pt x="18000" y="448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3953880" y="3888000"/>
                <a:ext cx="54360" cy="64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319640" y="3860280"/>
                <a:ext cx="29880" cy="60120"/>
              </a:xfrm>
              <a:prstGeom prst="flowChartDelay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848040" y="3778200"/>
                <a:ext cx="1282680" cy="23472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e3c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068360" y="34923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+,B-,C+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817880" y="39114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-,B+,C+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175560" y="3962160"/>
              <a:ext cx="9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+,D+,G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120840" y="4406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+,F+,T-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474800" y="4406760"/>
              <a:ext cx="98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+,T-,Q+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5939640" y="2666880"/>
            <a:ext cx="3718080" cy="1697040"/>
            <a:chOff x="5939640" y="2666880"/>
            <a:chExt cx="3718080" cy="1697040"/>
          </a:xfrm>
        </p:grpSpPr>
        <p:sp>
          <p:nvSpPr>
            <p:cNvPr id="1146" name=""/>
            <p:cNvSpPr/>
            <p:nvPr/>
          </p:nvSpPr>
          <p:spPr>
            <a:xfrm rot="18049800">
              <a:off x="5788800" y="3797640"/>
              <a:ext cx="968400" cy="199080"/>
            </a:xfrm>
            <a:custGeom>
              <a:avLst/>
              <a:gdLst>
                <a:gd name="textAreaLeft" fmla="*/ 151200 w 968400"/>
                <a:gd name="textAreaRight" fmla="*/ 847440 w 968400"/>
                <a:gd name="textAreaTop" fmla="*/ 49680 h 199080"/>
                <a:gd name="textAreaBottom" fmla="*/ 149400 h 19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7" name=""/>
            <p:cNvGrpSpPr/>
            <p:nvPr/>
          </p:nvGrpSpPr>
          <p:grpSpPr>
            <a:xfrm>
              <a:off x="8260560" y="2698560"/>
              <a:ext cx="785520" cy="498240"/>
              <a:chOff x="8260560" y="2698560"/>
              <a:chExt cx="785520" cy="498240"/>
            </a:xfrm>
          </p:grpSpPr>
          <p:sp>
            <p:nvSpPr>
              <p:cNvPr id="1148" name=""/>
              <p:cNvSpPr/>
              <p:nvPr/>
            </p:nvSpPr>
            <p:spPr>
              <a:xfrm>
                <a:off x="8260560" y="269856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H  F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8723520" y="2819160"/>
                <a:ext cx="322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0" name=""/>
              <p:cNvGrpSpPr/>
              <p:nvPr/>
            </p:nvGrpSpPr>
            <p:grpSpPr>
              <a:xfrm>
                <a:off x="8306640" y="2984400"/>
                <a:ext cx="482760" cy="60120"/>
                <a:chOff x="8306640" y="2984400"/>
                <a:chExt cx="482760" cy="6012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8306640" y="2984400"/>
                  <a:ext cx="48276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ccff"/>
                    </a:gs>
                    <a:gs pos="50000">
                      <a:srgbClr val="fefefe"/>
                    </a:gs>
                    <a:gs pos="100000">
                      <a:srgbClr val="33ccff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8418600" y="2984400"/>
                  <a:ext cx="0" cy="50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8636400" y="2984400"/>
                  <a:ext cx="0" cy="50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8510760" y="3136680"/>
                <a:ext cx="483120" cy="60120"/>
                <a:chOff x="8510760" y="3136680"/>
                <a:chExt cx="483120" cy="6012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8510760" y="3136680"/>
                  <a:ext cx="48312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ccff"/>
                    </a:gs>
                    <a:gs pos="50000">
                      <a:srgbClr val="fefefe"/>
                    </a:gs>
                    <a:gs pos="100000">
                      <a:srgbClr val="33ccff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8623080" y="3136680"/>
                  <a:ext cx="0" cy="50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8840880" y="3136680"/>
                  <a:ext cx="0" cy="50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8" name=""/>
            <p:cNvGrpSpPr/>
            <p:nvPr/>
          </p:nvGrpSpPr>
          <p:grpSpPr>
            <a:xfrm>
              <a:off x="6903720" y="2666880"/>
              <a:ext cx="1258560" cy="612720"/>
              <a:chOff x="6903720" y="2666880"/>
              <a:chExt cx="1258560" cy="612720"/>
            </a:xfrm>
          </p:grpSpPr>
          <p:sp>
            <p:nvSpPr>
              <p:cNvPr id="1159" name=""/>
              <p:cNvSpPr/>
              <p:nvPr/>
            </p:nvSpPr>
            <p:spPr>
              <a:xfrm>
                <a:off x="6903720" y="2666880"/>
                <a:ext cx="65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*  C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390440" y="2787480"/>
                <a:ext cx="39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576200" y="292068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 G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2" name=""/>
              <p:cNvGrpSpPr/>
              <p:nvPr/>
            </p:nvGrpSpPr>
            <p:grpSpPr>
              <a:xfrm>
                <a:off x="6958440" y="2958840"/>
                <a:ext cx="482400" cy="60480"/>
                <a:chOff x="6958440" y="2958840"/>
                <a:chExt cx="482400" cy="6048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6958440" y="2958840"/>
                  <a:ext cx="482400" cy="60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ccff"/>
                    </a:gs>
                    <a:gs pos="50000">
                      <a:srgbClr val="fefefe"/>
                    </a:gs>
                    <a:gs pos="100000">
                      <a:srgbClr val="33ccff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7070400" y="2958840"/>
                  <a:ext cx="0" cy="50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7287840" y="2958840"/>
                  <a:ext cx="0" cy="50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6" name=""/>
              <p:cNvSpPr/>
              <p:nvPr/>
            </p:nvSpPr>
            <p:spPr>
              <a:xfrm>
                <a:off x="7169040" y="3066840"/>
                <a:ext cx="483480" cy="6048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281360" y="306684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560720" y="306684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509240" y="3219120"/>
                <a:ext cx="483480" cy="6048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567200" y="321912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737480" y="321912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914600" y="3225600"/>
                <a:ext cx="0" cy="50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3" name=""/>
            <p:cNvSpPr/>
            <p:nvPr/>
          </p:nvSpPr>
          <p:spPr>
            <a:xfrm>
              <a:off x="6740640" y="3267000"/>
              <a:ext cx="262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mappa fisica:contigu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654960" y="279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9049320" y="2760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6" name=""/>
            <p:cNvGrpSpPr/>
            <p:nvPr/>
          </p:nvGrpSpPr>
          <p:grpSpPr>
            <a:xfrm>
              <a:off x="6740280" y="3597120"/>
              <a:ext cx="2917440" cy="349920"/>
              <a:chOff x="6740280" y="3597120"/>
              <a:chExt cx="2917440" cy="349920"/>
            </a:xfrm>
          </p:grpSpPr>
          <p:sp>
            <p:nvSpPr>
              <p:cNvPr id="1177" name=""/>
              <p:cNvSpPr/>
              <p:nvPr/>
            </p:nvSpPr>
            <p:spPr>
              <a:xfrm>
                <a:off x="6825240" y="3663720"/>
                <a:ext cx="1252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8405280" y="3651120"/>
                <a:ext cx="1252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740280" y="3609720"/>
                <a:ext cx="1148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A C  B D 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8436240" y="3597120"/>
                <a:ext cx="82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H  F  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1" name=""/>
          <p:cNvGrpSpPr/>
          <p:nvPr/>
        </p:nvGrpSpPr>
        <p:grpSpPr>
          <a:xfrm>
            <a:off x="6018840" y="4267080"/>
            <a:ext cx="3623760" cy="824040"/>
            <a:chOff x="6018840" y="4267080"/>
            <a:chExt cx="3623760" cy="824040"/>
          </a:xfrm>
        </p:grpSpPr>
        <p:sp>
          <p:nvSpPr>
            <p:cNvPr id="1182" name=""/>
            <p:cNvSpPr/>
            <p:nvPr/>
          </p:nvSpPr>
          <p:spPr>
            <a:xfrm rot="49800">
              <a:off x="6019920" y="4333680"/>
              <a:ext cx="711000" cy="177840"/>
            </a:xfrm>
            <a:custGeom>
              <a:avLst/>
              <a:gdLst>
                <a:gd name="textAreaLeft" fmla="*/ 110880 w 711000"/>
                <a:gd name="textAreaRight" fmla="*/ 622440 w 711000"/>
                <a:gd name="textAreaTop" fmla="*/ 44280 h 177840"/>
                <a:gd name="textAreaBottom" fmla="*/ 133560 h 17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04000" y="4267080"/>
              <a:ext cx="2838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mappa genetica: A, G e F sono in linkage il loro ordine e’ F-A-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6236640" y="5122440"/>
            <a:ext cx="3344400" cy="1627200"/>
            <a:chOff x="6236640" y="5122440"/>
            <a:chExt cx="3344400" cy="1627200"/>
          </a:xfrm>
        </p:grpSpPr>
        <p:sp>
          <p:nvSpPr>
            <p:cNvPr id="1185" name=""/>
            <p:cNvSpPr/>
            <p:nvPr/>
          </p:nvSpPr>
          <p:spPr>
            <a:xfrm rot="5466600">
              <a:off x="8132040" y="5270400"/>
              <a:ext cx="533160" cy="241200"/>
            </a:xfrm>
            <a:custGeom>
              <a:avLst/>
              <a:gdLst>
                <a:gd name="textAreaLeft" fmla="*/ 83160 w 533160"/>
                <a:gd name="textAreaRight" fmla="*/ 466560 w 533160"/>
                <a:gd name="textAreaTop" fmla="*/ 60120 h 241200"/>
                <a:gd name="textAreaBottom" fmla="*/ 181080 h 24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2153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890480" y="5829480"/>
              <a:ext cx="1168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619680" y="5829480"/>
              <a:ext cx="1168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815960" y="5775480"/>
              <a:ext cx="114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 C  B D 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715080" y="5775480"/>
              <a:ext cx="82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H  F  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236640" y="6168960"/>
              <a:ext cx="334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I due contigui sono sullo stes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romosoma e via cosi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67ED-DBDB-4844-8E33-5D569B07B0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2806560" y="609480"/>
            <a:ext cx="4292640" cy="4191120"/>
          </a:xfrm>
          <a:prstGeom prst="rect">
            <a:avLst/>
          </a:prstGeom>
          <a:ln w="0">
            <a:noFill/>
          </a:ln>
        </p:spPr>
      </p:pic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58440" y="4484880"/>
            <a:ext cx="8535960" cy="227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materiale didattico e’ presente in rete:</a:t>
            </a:r>
            <a:br>
              <a:rPr sz="2400"/>
            </a:br>
            <a:r>
              <a:rPr b="1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biologia.uniba.it/DIGEMI/Didattica.html</a:t>
            </a:r>
            <a:br>
              <a:rPr sz="24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ono dispense, ma un ausilio allo studio su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bro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123-7A41-4D8F-8117-8A8C4D239B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 mappe genetich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1295280"/>
            <a:ext cx="9372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 basano sugli studi di linkage cioe’ sull’analisi della segregazione alla meiosi di marcatori geneti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2286000"/>
            <a:ext cx="7696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 due o piu’ marcatori vengono ereditati preferenzialmente nelle combinazioni parentali si deduce che mappino nella stessa regione genom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6920" y="3479760"/>
            <a:ext cx="9480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icordate? L’unita’ di mappa e’ il centimorgan(cM): 1cM indica che due  locus ricombinano fra loro con una frequenza pari a 0.01. Si assume che 1cM sia pari a ~1.5Mb anche se la relazione diretta non c’e’: la mappa genetica puo’ essere piu’ lunga di quella fis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8A7E-8DCC-408A-9ECA-FDDAB521BA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icordiamo la seconda legge di Mendel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85800" y="1828800"/>
            <a:ext cx="7632360" cy="4229280"/>
            <a:chOff x="685800" y="1828800"/>
            <a:chExt cx="7632360" cy="4229280"/>
          </a:xfrm>
        </p:grpSpPr>
        <p:sp>
          <p:nvSpPr>
            <p:cNvPr id="144" name=""/>
            <p:cNvSpPr/>
            <p:nvPr/>
          </p:nvSpPr>
          <p:spPr>
            <a:xfrm>
              <a:off x="685800" y="1828800"/>
              <a:ext cx="7632360" cy="422928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24160" y="2661840"/>
              <a:ext cx="61552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Durante la formazione dei gamet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la segregazione di una coppia di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lleli di un locus e’ indipenden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dalla segregazione degli allel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di un’altro locu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8318520" y="2311560"/>
            <a:ext cx="1022400" cy="247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791D-B030-48C5-A59D-410779E897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9880" y="2705040"/>
            <a:ext cx="660600" cy="550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01920" y="457200"/>
            <a:ext cx="5531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Risultati possibili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825480" y="838080"/>
            <a:ext cx="908064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pporto fenotipico diverso dovuto alla formazione di 4 tipi di gameti che si originano tutti con la stessa probabilita’ e diano tutte le possibili combin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816200" y="1752480"/>
          <a:ext cx="6603840" cy="406404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320480"/>
                <a:gridCol w="1320840"/>
                <a:gridCol w="132084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898640" y="1785960"/>
            <a:ext cx="1238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4840" y="1938240"/>
            <a:ext cx="16488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2077920"/>
            <a:ext cx="16524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63880" y="22431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54080" y="2370240"/>
            <a:ext cx="20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683080" y="1849320"/>
            <a:ext cx="240840" cy="14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3960" y="18334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ame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095800" y="2662200"/>
            <a:ext cx="660600" cy="550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380280" y="2662200"/>
            <a:ext cx="660240" cy="550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7701120" y="2662200"/>
            <a:ext cx="660240" cy="550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3797280" y="3500280"/>
            <a:ext cx="660600" cy="551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797280" y="4414680"/>
            <a:ext cx="660600" cy="551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3797280" y="5235480"/>
            <a:ext cx="660600" cy="550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7701120" y="3500280"/>
            <a:ext cx="660240" cy="551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5118120" y="5253120"/>
            <a:ext cx="660240" cy="550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5059440" y="3511440"/>
            <a:ext cx="647640" cy="538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6438960" y="3500280"/>
            <a:ext cx="646200" cy="538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5094360" y="4410000"/>
            <a:ext cx="646200" cy="538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3"/>
          <a:stretch/>
        </p:blipFill>
        <p:spPr>
          <a:xfrm>
            <a:off x="6380280" y="5235480"/>
            <a:ext cx="660240" cy="550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4"/>
          <a:stretch/>
        </p:blipFill>
        <p:spPr>
          <a:xfrm>
            <a:off x="7713720" y="5253120"/>
            <a:ext cx="660240" cy="550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5"/>
          <a:stretch/>
        </p:blipFill>
        <p:spPr>
          <a:xfrm>
            <a:off x="7713720" y="4414680"/>
            <a:ext cx="660240" cy="551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6"/>
          <a:stretch/>
        </p:blipFill>
        <p:spPr>
          <a:xfrm>
            <a:off x="6438960" y="4354560"/>
            <a:ext cx="660240" cy="54936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1898640" y="6129360"/>
            <a:ext cx="6108120" cy="642600"/>
            <a:chOff x="1898640" y="6129360"/>
            <a:chExt cx="6108120" cy="642600"/>
          </a:xfrm>
        </p:grpSpPr>
        <p:sp>
          <p:nvSpPr>
            <p:cNvPr id="174" name=""/>
            <p:cNvSpPr/>
            <p:nvPr/>
          </p:nvSpPr>
          <p:spPr>
            <a:xfrm>
              <a:off x="6932160" y="620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1898640" y="6129360"/>
              <a:ext cx="6108120" cy="642600"/>
              <a:chOff x="1898640" y="6129360"/>
              <a:chExt cx="6108120" cy="642600"/>
            </a:xfrm>
          </p:grpSpPr>
          <p:sp>
            <p:nvSpPr>
              <p:cNvPr id="176" name=""/>
              <p:cNvSpPr/>
              <p:nvPr/>
            </p:nvSpPr>
            <p:spPr>
              <a:xfrm>
                <a:off x="1898640" y="6129360"/>
                <a:ext cx="89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0710"/>
                  </a:buClr>
                  <a:buFont typeface="Wingdings" charset="2"/>
                  <a:buChar char="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710"/>
                    </a:solidFill>
                    <a:latin typeface="Comic Sans MS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225600" y="6203880"/>
                <a:ext cx="91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9      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8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384360" y="6205320"/>
                <a:ext cx="660240" cy="5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4646160" y="6205320"/>
                <a:ext cx="91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3      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58200" y="6227640"/>
                <a:ext cx="646560" cy="53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5967000" y="6205320"/>
                <a:ext cx="91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3      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2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90560" y="6184800"/>
                <a:ext cx="660600" cy="5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7346520" y="6167520"/>
                <a:ext cx="660240" cy="549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84" name="" descr=""/>
          <p:cNvPicPr/>
          <p:nvPr/>
        </p:nvPicPr>
        <p:blipFill>
          <a:blip r:embed="rId21"/>
          <a:stretch/>
        </p:blipFill>
        <p:spPr>
          <a:xfrm flipH="1">
            <a:off x="8686440" y="2413080"/>
            <a:ext cx="755640" cy="229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CCF-5EB8-45C1-AE31-2A51344BA2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15840" y="380880"/>
            <a:ext cx="7512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apporto mendeliano nell’assortimento indipendente</a:t>
            </a:r>
            <a:endParaRPr b="1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650960" y="3809880"/>
            <a:ext cx="82080" cy="447480"/>
            <a:chOff x="1650960" y="3809880"/>
            <a:chExt cx="82080" cy="447480"/>
          </a:xfrm>
        </p:grpSpPr>
        <p:grpSp>
          <p:nvGrpSpPr>
            <p:cNvPr id="187" name=""/>
            <p:cNvGrpSpPr/>
            <p:nvPr/>
          </p:nvGrpSpPr>
          <p:grpSpPr>
            <a:xfrm>
              <a:off x="1650960" y="3809880"/>
              <a:ext cx="81720" cy="447480"/>
              <a:chOff x="1650960" y="3809880"/>
              <a:chExt cx="81720" cy="447480"/>
            </a:xfrm>
          </p:grpSpPr>
          <p:sp>
            <p:nvSpPr>
              <p:cNvPr id="188" name=""/>
              <p:cNvSpPr/>
              <p:nvPr/>
            </p:nvSpPr>
            <p:spPr>
              <a:xfrm>
                <a:off x="1650960" y="3952800"/>
                <a:ext cx="817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650960" y="3809880"/>
                <a:ext cx="817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650960" y="3952800"/>
              <a:ext cx="8208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000160" y="3733920"/>
            <a:ext cx="82440" cy="587160"/>
            <a:chOff x="2000160" y="3733920"/>
            <a:chExt cx="82440" cy="587160"/>
          </a:xfrm>
        </p:grpSpPr>
        <p:grpSp>
          <p:nvGrpSpPr>
            <p:cNvPr id="192" name=""/>
            <p:cNvGrpSpPr/>
            <p:nvPr/>
          </p:nvGrpSpPr>
          <p:grpSpPr>
            <a:xfrm>
              <a:off x="2000160" y="3733920"/>
              <a:ext cx="82080" cy="587160"/>
              <a:chOff x="2000160" y="3733920"/>
              <a:chExt cx="82080" cy="587160"/>
            </a:xfrm>
          </p:grpSpPr>
          <p:sp>
            <p:nvSpPr>
              <p:cNvPr id="193" name=""/>
              <p:cNvSpPr/>
              <p:nvPr/>
            </p:nvSpPr>
            <p:spPr>
              <a:xfrm>
                <a:off x="2000160" y="4016520"/>
                <a:ext cx="8208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000160" y="3733920"/>
                <a:ext cx="8208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000160" y="4016520"/>
              <a:ext cx="8244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86080" y="3657600"/>
            <a:ext cx="825480" cy="76212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724120" y="3809880"/>
            <a:ext cx="82080" cy="447480"/>
            <a:chOff x="2724120" y="3809880"/>
            <a:chExt cx="82080" cy="447480"/>
          </a:xfrm>
        </p:grpSpPr>
        <p:grpSp>
          <p:nvGrpSpPr>
            <p:cNvPr id="198" name=""/>
            <p:cNvGrpSpPr/>
            <p:nvPr/>
          </p:nvGrpSpPr>
          <p:grpSpPr>
            <a:xfrm>
              <a:off x="2724120" y="3809880"/>
              <a:ext cx="81720" cy="447480"/>
              <a:chOff x="2724120" y="3809880"/>
              <a:chExt cx="81720" cy="447480"/>
            </a:xfrm>
          </p:grpSpPr>
          <p:sp>
            <p:nvSpPr>
              <p:cNvPr id="199" name=""/>
              <p:cNvSpPr/>
              <p:nvPr/>
            </p:nvSpPr>
            <p:spPr>
              <a:xfrm>
                <a:off x="2724120" y="3952800"/>
                <a:ext cx="817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724120" y="3809880"/>
                <a:ext cx="817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724120" y="3954600"/>
              <a:ext cx="8208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054240" y="3733920"/>
            <a:ext cx="82440" cy="587160"/>
            <a:chOff x="3054240" y="3733920"/>
            <a:chExt cx="82440" cy="587160"/>
          </a:xfrm>
        </p:grpSpPr>
        <p:grpSp>
          <p:nvGrpSpPr>
            <p:cNvPr id="203" name=""/>
            <p:cNvGrpSpPr/>
            <p:nvPr/>
          </p:nvGrpSpPr>
          <p:grpSpPr>
            <a:xfrm>
              <a:off x="3054240" y="3733920"/>
              <a:ext cx="82080" cy="587160"/>
              <a:chOff x="3054240" y="3733920"/>
              <a:chExt cx="82080" cy="587160"/>
            </a:xfrm>
          </p:grpSpPr>
          <p:sp>
            <p:nvSpPr>
              <p:cNvPr id="204" name=""/>
              <p:cNvSpPr/>
              <p:nvPr/>
            </p:nvSpPr>
            <p:spPr>
              <a:xfrm>
                <a:off x="3054240" y="4016520"/>
                <a:ext cx="8208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054240" y="3733920"/>
                <a:ext cx="8208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054240" y="4016520"/>
              <a:ext cx="8244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797280" y="3809880"/>
            <a:ext cx="82080" cy="447480"/>
            <a:chOff x="3797280" y="3809880"/>
            <a:chExt cx="82080" cy="447480"/>
          </a:xfrm>
        </p:grpSpPr>
        <p:grpSp>
          <p:nvGrpSpPr>
            <p:cNvPr id="208" name=""/>
            <p:cNvGrpSpPr/>
            <p:nvPr/>
          </p:nvGrpSpPr>
          <p:grpSpPr>
            <a:xfrm>
              <a:off x="3797280" y="3809880"/>
              <a:ext cx="81720" cy="447480"/>
              <a:chOff x="3797280" y="3809880"/>
              <a:chExt cx="81720" cy="447480"/>
            </a:xfrm>
          </p:grpSpPr>
          <p:sp>
            <p:nvSpPr>
              <p:cNvPr id="209" name=""/>
              <p:cNvSpPr/>
              <p:nvPr/>
            </p:nvSpPr>
            <p:spPr>
              <a:xfrm>
                <a:off x="3797280" y="3952800"/>
                <a:ext cx="817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797280" y="3809880"/>
                <a:ext cx="817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3797280" y="3954600"/>
              <a:ext cx="8208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127400" y="3733920"/>
            <a:ext cx="82440" cy="587160"/>
            <a:chOff x="4127400" y="3733920"/>
            <a:chExt cx="82440" cy="587160"/>
          </a:xfrm>
        </p:grpSpPr>
        <p:grpSp>
          <p:nvGrpSpPr>
            <p:cNvPr id="213" name=""/>
            <p:cNvGrpSpPr/>
            <p:nvPr/>
          </p:nvGrpSpPr>
          <p:grpSpPr>
            <a:xfrm>
              <a:off x="4127400" y="3733920"/>
              <a:ext cx="82080" cy="587160"/>
              <a:chOff x="4127400" y="3733920"/>
              <a:chExt cx="82080" cy="587160"/>
            </a:xfrm>
          </p:grpSpPr>
          <p:sp>
            <p:nvSpPr>
              <p:cNvPr id="214" name=""/>
              <p:cNvSpPr/>
              <p:nvPr/>
            </p:nvSpPr>
            <p:spPr>
              <a:xfrm>
                <a:off x="4127400" y="4016520"/>
                <a:ext cx="8208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27400" y="3733920"/>
                <a:ext cx="8208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4127400" y="4016520"/>
              <a:ext cx="8244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870440" y="3809880"/>
            <a:ext cx="82080" cy="447480"/>
            <a:chOff x="4870440" y="3809880"/>
            <a:chExt cx="82080" cy="447480"/>
          </a:xfrm>
        </p:grpSpPr>
        <p:grpSp>
          <p:nvGrpSpPr>
            <p:cNvPr id="218" name=""/>
            <p:cNvGrpSpPr/>
            <p:nvPr/>
          </p:nvGrpSpPr>
          <p:grpSpPr>
            <a:xfrm>
              <a:off x="4870440" y="3809880"/>
              <a:ext cx="81720" cy="447480"/>
              <a:chOff x="4870440" y="3809880"/>
              <a:chExt cx="81720" cy="447480"/>
            </a:xfrm>
          </p:grpSpPr>
          <p:sp>
            <p:nvSpPr>
              <p:cNvPr id="219" name=""/>
              <p:cNvSpPr/>
              <p:nvPr/>
            </p:nvSpPr>
            <p:spPr>
              <a:xfrm>
                <a:off x="4870440" y="3952800"/>
                <a:ext cx="817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870440" y="3809880"/>
                <a:ext cx="817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4870440" y="3954600"/>
              <a:ext cx="8208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200560" y="3733920"/>
            <a:ext cx="82440" cy="587160"/>
            <a:chOff x="5200560" y="3733920"/>
            <a:chExt cx="82440" cy="587160"/>
          </a:xfrm>
        </p:grpSpPr>
        <p:grpSp>
          <p:nvGrpSpPr>
            <p:cNvPr id="223" name=""/>
            <p:cNvGrpSpPr/>
            <p:nvPr/>
          </p:nvGrpSpPr>
          <p:grpSpPr>
            <a:xfrm>
              <a:off x="5200560" y="3733920"/>
              <a:ext cx="82080" cy="587160"/>
              <a:chOff x="5200560" y="3733920"/>
              <a:chExt cx="82080" cy="587160"/>
            </a:xfrm>
          </p:grpSpPr>
          <p:sp>
            <p:nvSpPr>
              <p:cNvPr id="224" name=""/>
              <p:cNvSpPr/>
              <p:nvPr/>
            </p:nvSpPr>
            <p:spPr>
              <a:xfrm>
                <a:off x="5200560" y="4016520"/>
                <a:ext cx="8208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00560" y="3733920"/>
                <a:ext cx="8208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5200560" y="4016520"/>
              <a:ext cx="8244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632040" y="3657600"/>
            <a:ext cx="825840" cy="76212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58880" y="3657600"/>
            <a:ext cx="825840" cy="76212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05200" y="3657600"/>
            <a:ext cx="825480" cy="76212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016760" y="3809880"/>
            <a:ext cx="82080" cy="447480"/>
            <a:chOff x="7016760" y="3809880"/>
            <a:chExt cx="82080" cy="447480"/>
          </a:xfrm>
        </p:grpSpPr>
        <p:grpSp>
          <p:nvGrpSpPr>
            <p:cNvPr id="231" name=""/>
            <p:cNvGrpSpPr/>
            <p:nvPr/>
          </p:nvGrpSpPr>
          <p:grpSpPr>
            <a:xfrm>
              <a:off x="7016760" y="3809880"/>
              <a:ext cx="81720" cy="447480"/>
              <a:chOff x="7016760" y="3809880"/>
              <a:chExt cx="81720" cy="447480"/>
            </a:xfrm>
          </p:grpSpPr>
          <p:sp>
            <p:nvSpPr>
              <p:cNvPr id="232" name=""/>
              <p:cNvSpPr/>
              <p:nvPr/>
            </p:nvSpPr>
            <p:spPr>
              <a:xfrm>
                <a:off x="7016760" y="3952800"/>
                <a:ext cx="8172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016760" y="3809880"/>
                <a:ext cx="81720" cy="15228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7016760" y="3954600"/>
              <a:ext cx="8208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346880" y="3733920"/>
            <a:ext cx="82440" cy="587160"/>
            <a:chOff x="7346880" y="3733920"/>
            <a:chExt cx="82440" cy="587160"/>
          </a:xfrm>
        </p:grpSpPr>
        <p:grpSp>
          <p:nvGrpSpPr>
            <p:cNvPr id="236" name=""/>
            <p:cNvGrpSpPr/>
            <p:nvPr/>
          </p:nvGrpSpPr>
          <p:grpSpPr>
            <a:xfrm>
              <a:off x="7346880" y="3733920"/>
              <a:ext cx="82080" cy="587160"/>
              <a:chOff x="7346880" y="3733920"/>
              <a:chExt cx="82080" cy="587160"/>
            </a:xfrm>
          </p:grpSpPr>
          <p:sp>
            <p:nvSpPr>
              <p:cNvPr id="237" name=""/>
              <p:cNvSpPr/>
              <p:nvPr/>
            </p:nvSpPr>
            <p:spPr>
              <a:xfrm>
                <a:off x="7346880" y="4016520"/>
                <a:ext cx="8208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346880" y="3733920"/>
                <a:ext cx="82080" cy="30456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346880" y="4016520"/>
              <a:ext cx="8244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6851520" y="3657600"/>
            <a:ext cx="825480" cy="76212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50680" y="1065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70280" y="114300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98320" y="222084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5520" y="525780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22760" y="2895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66760" y="28544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io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83160" y="3235320"/>
            <a:ext cx="331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 tipi di gameti in rapporti ugu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6840" y="380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798320" y="3809880"/>
            <a:ext cx="15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amet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07920" y="152388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04080" y="4349880"/>
            <a:ext cx="7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641680" y="914400"/>
            <a:ext cx="1568160" cy="1066680"/>
            <a:chOff x="2641680" y="914400"/>
            <a:chExt cx="1568160" cy="1066680"/>
          </a:xfrm>
        </p:grpSpPr>
        <p:grpSp>
          <p:nvGrpSpPr>
            <p:cNvPr id="253" name=""/>
            <p:cNvGrpSpPr/>
            <p:nvPr/>
          </p:nvGrpSpPr>
          <p:grpSpPr>
            <a:xfrm>
              <a:off x="2736360" y="1125360"/>
              <a:ext cx="93960" cy="580320"/>
              <a:chOff x="2736360" y="1125360"/>
              <a:chExt cx="93960" cy="58032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2736360" y="1125360"/>
                <a:ext cx="93600" cy="580320"/>
                <a:chOff x="2736360" y="1125360"/>
                <a:chExt cx="93600" cy="5803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2736360" y="1310760"/>
                  <a:ext cx="93600" cy="394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736360" y="112536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2736360" y="131076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042360" y="1112760"/>
              <a:ext cx="93960" cy="580320"/>
              <a:chOff x="3042360" y="1112760"/>
              <a:chExt cx="93960" cy="58032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3042360" y="1112760"/>
                <a:ext cx="93600" cy="580320"/>
                <a:chOff x="3042360" y="1112760"/>
                <a:chExt cx="93600" cy="5803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042360" y="1298160"/>
                  <a:ext cx="93600" cy="394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042360" y="111276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3042360" y="130032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3453480" y="1012680"/>
              <a:ext cx="93960" cy="762840"/>
              <a:chOff x="3453480" y="1012680"/>
              <a:chExt cx="93960" cy="7628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453480" y="1012680"/>
                <a:ext cx="93600" cy="762840"/>
                <a:chOff x="3453480" y="1012680"/>
                <a:chExt cx="93600" cy="7628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453480" y="13798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453480" y="10126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3453480" y="137988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755880" y="1012680"/>
              <a:ext cx="93960" cy="762840"/>
              <a:chOff x="3755880" y="1012680"/>
              <a:chExt cx="93960" cy="76284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3755880" y="1012680"/>
                <a:ext cx="93600" cy="762840"/>
                <a:chOff x="3755880" y="1012680"/>
                <a:chExt cx="93600" cy="7628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3755880" y="13798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755880" y="10126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3755880" y="137988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641680" y="914400"/>
              <a:ext cx="1485720" cy="106668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24120" y="990720"/>
              <a:ext cx="107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67160" y="1397160"/>
              <a:ext cx="74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952880" y="914400"/>
            <a:ext cx="1568160" cy="1066680"/>
            <a:chOff x="4952880" y="914400"/>
            <a:chExt cx="1568160" cy="1066680"/>
          </a:xfrm>
        </p:grpSpPr>
        <p:grpSp>
          <p:nvGrpSpPr>
            <p:cNvPr id="277" name=""/>
            <p:cNvGrpSpPr/>
            <p:nvPr/>
          </p:nvGrpSpPr>
          <p:grpSpPr>
            <a:xfrm>
              <a:off x="5047560" y="1125360"/>
              <a:ext cx="93960" cy="580320"/>
              <a:chOff x="5047560" y="1125360"/>
              <a:chExt cx="93960" cy="58032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5047560" y="1125360"/>
                <a:ext cx="93600" cy="580320"/>
                <a:chOff x="5047560" y="1125360"/>
                <a:chExt cx="93600" cy="58032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5047560" y="1310760"/>
                  <a:ext cx="93600" cy="394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047560" y="112536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" name=""/>
              <p:cNvSpPr/>
              <p:nvPr/>
            </p:nvSpPr>
            <p:spPr>
              <a:xfrm>
                <a:off x="5047560" y="131076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353560" y="1112760"/>
              <a:ext cx="93960" cy="580320"/>
              <a:chOff x="5353560" y="1112760"/>
              <a:chExt cx="93960" cy="58032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5353560" y="1112760"/>
                <a:ext cx="93600" cy="580320"/>
                <a:chOff x="5353560" y="1112760"/>
                <a:chExt cx="93600" cy="5803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353560" y="1298160"/>
                  <a:ext cx="93600" cy="394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353560" y="111276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" name=""/>
              <p:cNvSpPr/>
              <p:nvPr/>
            </p:nvSpPr>
            <p:spPr>
              <a:xfrm>
                <a:off x="5353560" y="130032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5764680" y="1012680"/>
              <a:ext cx="93960" cy="762840"/>
              <a:chOff x="5764680" y="1012680"/>
              <a:chExt cx="93960" cy="76284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5764680" y="1012680"/>
                <a:ext cx="93600" cy="762840"/>
                <a:chOff x="5764680" y="1012680"/>
                <a:chExt cx="93600" cy="76284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764680" y="13798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764680" y="10126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"/>
              <p:cNvSpPr/>
              <p:nvPr/>
            </p:nvSpPr>
            <p:spPr>
              <a:xfrm>
                <a:off x="5764680" y="137988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6067080" y="1012680"/>
              <a:ext cx="93960" cy="762840"/>
              <a:chOff x="6067080" y="1012680"/>
              <a:chExt cx="93960" cy="76284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6067080" y="1012680"/>
                <a:ext cx="93600" cy="762840"/>
                <a:chOff x="6067080" y="1012680"/>
                <a:chExt cx="93600" cy="762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067080" y="13798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067080" y="10126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6067080" y="137988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4952880" y="914400"/>
              <a:ext cx="1485720" cy="106668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35320" y="990720"/>
              <a:ext cx="107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78360" y="1397160"/>
              <a:ext cx="74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320840" y="4952880"/>
            <a:ext cx="1691280" cy="1389600"/>
            <a:chOff x="1320840" y="4952880"/>
            <a:chExt cx="1691280" cy="1389600"/>
          </a:xfrm>
        </p:grpSpPr>
        <p:sp>
          <p:nvSpPr>
            <p:cNvPr id="301" name=""/>
            <p:cNvSpPr/>
            <p:nvPr/>
          </p:nvSpPr>
          <p:spPr>
            <a:xfrm>
              <a:off x="1490760" y="5943600"/>
              <a:ext cx="152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;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1497600" y="5164200"/>
              <a:ext cx="93960" cy="580320"/>
              <a:chOff x="1497600" y="5164200"/>
              <a:chExt cx="93960" cy="58032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1497600" y="5164200"/>
                <a:ext cx="93600" cy="580320"/>
                <a:chOff x="1497600" y="5164200"/>
                <a:chExt cx="93600" cy="58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497600" y="5349600"/>
                  <a:ext cx="93600" cy="394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497600" y="516420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>
                <a:off x="1497600" y="534960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1803600" y="5151600"/>
              <a:ext cx="93960" cy="580320"/>
              <a:chOff x="1803600" y="5151600"/>
              <a:chExt cx="93960" cy="58032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1803600" y="5151600"/>
                <a:ext cx="93600" cy="580320"/>
                <a:chOff x="1803600" y="5151600"/>
                <a:chExt cx="93600" cy="5803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803600" y="5337000"/>
                  <a:ext cx="93600" cy="394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803600" y="515160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1803600" y="533916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214720" y="5051520"/>
              <a:ext cx="93960" cy="762840"/>
              <a:chOff x="2214720" y="5051520"/>
              <a:chExt cx="93960" cy="7628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214720" y="5051520"/>
                <a:ext cx="93600" cy="762840"/>
                <a:chOff x="2214720" y="5051520"/>
                <a:chExt cx="93600" cy="76284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2214720" y="541872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214720" y="505152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2214720" y="541872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517120" y="5051520"/>
              <a:ext cx="93960" cy="762840"/>
              <a:chOff x="2517120" y="5051520"/>
              <a:chExt cx="93960" cy="76284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2517120" y="5051520"/>
                <a:ext cx="93600" cy="762840"/>
                <a:chOff x="2517120" y="5051520"/>
                <a:chExt cx="93600" cy="76284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517120" y="541872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517120" y="505152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2517120" y="541872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1320840" y="4952880"/>
              <a:ext cx="1567440" cy="106704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85720" y="5029200"/>
              <a:ext cx="107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28400" y="5435640"/>
              <a:ext cx="74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1650960" y="3733920"/>
            <a:ext cx="7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24120" y="3733920"/>
            <a:ext cx="7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97280" y="3733920"/>
            <a:ext cx="7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70440" y="3733920"/>
            <a:ext cx="7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16760" y="3733920"/>
            <a:ext cx="7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94800" y="4343400"/>
            <a:ext cx="7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50400" y="4343400"/>
            <a:ext cx="7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3560" y="4343400"/>
            <a:ext cx="7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797280" y="1828800"/>
            <a:ext cx="1650600" cy="1066680"/>
            <a:chOff x="3797280" y="1828800"/>
            <a:chExt cx="1650600" cy="1066680"/>
          </a:xfrm>
        </p:grpSpPr>
        <p:grpSp>
          <p:nvGrpSpPr>
            <p:cNvPr id="334" name=""/>
            <p:cNvGrpSpPr/>
            <p:nvPr/>
          </p:nvGrpSpPr>
          <p:grpSpPr>
            <a:xfrm>
              <a:off x="3974040" y="2039760"/>
              <a:ext cx="94320" cy="579600"/>
              <a:chOff x="3974040" y="2039760"/>
              <a:chExt cx="94320" cy="57960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3974040" y="2039760"/>
                <a:ext cx="93960" cy="579600"/>
                <a:chOff x="3974040" y="2039760"/>
                <a:chExt cx="93960" cy="5796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3974040" y="2224800"/>
                  <a:ext cx="93960" cy="3945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974040" y="2039760"/>
                  <a:ext cx="9396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3974040" y="2225160"/>
                <a:ext cx="9432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280400" y="2027160"/>
              <a:ext cx="94320" cy="579600"/>
              <a:chOff x="4280400" y="2027160"/>
              <a:chExt cx="94320" cy="57960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4280400" y="2027160"/>
                <a:ext cx="93960" cy="579600"/>
                <a:chOff x="4280400" y="2027160"/>
                <a:chExt cx="93960" cy="57960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280400" y="2212200"/>
                  <a:ext cx="93960" cy="3945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280400" y="2027160"/>
                  <a:ext cx="9396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>
                <a:off x="4280400" y="2214720"/>
                <a:ext cx="9432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4691520" y="1927080"/>
              <a:ext cx="94320" cy="762120"/>
              <a:chOff x="4691520" y="1927080"/>
              <a:chExt cx="94320" cy="76212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4691520" y="1927080"/>
                <a:ext cx="93960" cy="762120"/>
                <a:chOff x="4691520" y="1927080"/>
                <a:chExt cx="93960" cy="762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4691520" y="2293920"/>
                  <a:ext cx="93960" cy="395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691520" y="1927080"/>
                  <a:ext cx="93960" cy="395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4691520" y="2294280"/>
                <a:ext cx="9432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4993920" y="1927080"/>
              <a:ext cx="94320" cy="762120"/>
              <a:chOff x="4993920" y="1927080"/>
              <a:chExt cx="94320" cy="76212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4993920" y="1927080"/>
                <a:ext cx="93960" cy="762120"/>
                <a:chOff x="4993920" y="1927080"/>
                <a:chExt cx="93960" cy="7621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4993920" y="2293920"/>
                  <a:ext cx="93960" cy="395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993920" y="1927080"/>
                  <a:ext cx="93960" cy="395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>
                <a:off x="4993920" y="2294280"/>
                <a:ext cx="9432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3797280" y="1828800"/>
              <a:ext cx="1568520" cy="106668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62160" y="1904760"/>
              <a:ext cx="107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05200" y="2311200"/>
              <a:ext cx="74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390840" y="4964040"/>
            <a:ext cx="1691280" cy="1389600"/>
            <a:chOff x="3390840" y="4964040"/>
            <a:chExt cx="1691280" cy="1389600"/>
          </a:xfrm>
        </p:grpSpPr>
        <p:sp>
          <p:nvSpPr>
            <p:cNvPr id="358" name=""/>
            <p:cNvSpPr/>
            <p:nvPr/>
          </p:nvSpPr>
          <p:spPr>
            <a:xfrm>
              <a:off x="3560760" y="5954760"/>
              <a:ext cx="152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;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3567960" y="5175360"/>
              <a:ext cx="93960" cy="580320"/>
              <a:chOff x="3567960" y="5175360"/>
              <a:chExt cx="93960" cy="58032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3567960" y="5175360"/>
                <a:ext cx="93600" cy="580320"/>
                <a:chOff x="3567960" y="5175360"/>
                <a:chExt cx="93600" cy="5803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3567960" y="5360760"/>
                  <a:ext cx="93600" cy="394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567960" y="517536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3567960" y="536076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3874320" y="5162760"/>
              <a:ext cx="93960" cy="580320"/>
              <a:chOff x="3874320" y="5162760"/>
              <a:chExt cx="93960" cy="58032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3874320" y="5162760"/>
                <a:ext cx="93600" cy="580320"/>
                <a:chOff x="3874320" y="5162760"/>
                <a:chExt cx="93600" cy="5803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3874320" y="5348160"/>
                  <a:ext cx="93600" cy="394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3874320" y="516276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>
                <a:off x="3874320" y="535032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4285800" y="5062680"/>
              <a:ext cx="93960" cy="762840"/>
              <a:chOff x="4285800" y="5062680"/>
              <a:chExt cx="93960" cy="76284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4285800" y="5062680"/>
                <a:ext cx="93600" cy="762840"/>
                <a:chOff x="4285800" y="5062680"/>
                <a:chExt cx="93600" cy="76284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4285800" y="54298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285800" y="50626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" name=""/>
              <p:cNvSpPr/>
              <p:nvPr/>
            </p:nvSpPr>
            <p:spPr>
              <a:xfrm>
                <a:off x="4285800" y="542988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4588560" y="5062680"/>
              <a:ext cx="93960" cy="762840"/>
              <a:chOff x="4588560" y="5062680"/>
              <a:chExt cx="93960" cy="76284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4588560" y="5062680"/>
                <a:ext cx="93600" cy="762840"/>
                <a:chOff x="4588560" y="5062680"/>
                <a:chExt cx="93600" cy="7628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4588560" y="54298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588560" y="50626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4588560" y="542988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3390840" y="4964040"/>
              <a:ext cx="1569240" cy="106704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55720" y="504036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99480" y="5446800"/>
              <a:ext cx="74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289480" y="4965840"/>
            <a:ext cx="1691280" cy="1389600"/>
            <a:chOff x="5289480" y="4965840"/>
            <a:chExt cx="1691280" cy="1389600"/>
          </a:xfrm>
        </p:grpSpPr>
        <p:sp>
          <p:nvSpPr>
            <p:cNvPr id="383" name=""/>
            <p:cNvSpPr/>
            <p:nvPr/>
          </p:nvSpPr>
          <p:spPr>
            <a:xfrm>
              <a:off x="5459400" y="5956560"/>
              <a:ext cx="152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;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5466600" y="5177160"/>
              <a:ext cx="93960" cy="580320"/>
              <a:chOff x="5466600" y="5177160"/>
              <a:chExt cx="93960" cy="58032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5466600" y="5177160"/>
                <a:ext cx="93600" cy="580320"/>
                <a:chOff x="5466600" y="5177160"/>
                <a:chExt cx="93600" cy="5803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466600" y="5362560"/>
                  <a:ext cx="93600" cy="394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466600" y="517716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5466600" y="536256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5772960" y="5164560"/>
              <a:ext cx="93960" cy="580320"/>
              <a:chOff x="5772960" y="5164560"/>
              <a:chExt cx="93960" cy="58032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5772960" y="5164560"/>
                <a:ext cx="93600" cy="580320"/>
                <a:chOff x="5772960" y="5164560"/>
                <a:chExt cx="93600" cy="5803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5772960" y="5349960"/>
                  <a:ext cx="93600" cy="394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772960" y="516456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5772960" y="535212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6184440" y="5064480"/>
              <a:ext cx="93960" cy="762840"/>
              <a:chOff x="6184440" y="5064480"/>
              <a:chExt cx="93960" cy="76284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6184440" y="5064480"/>
                <a:ext cx="93600" cy="762840"/>
                <a:chOff x="6184440" y="5064480"/>
                <a:chExt cx="93600" cy="7628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6184440" y="54316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184440" y="50644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>
                <a:off x="6184440" y="543168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487200" y="5064480"/>
              <a:ext cx="93960" cy="762840"/>
              <a:chOff x="6487200" y="5064480"/>
              <a:chExt cx="93960" cy="76284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6487200" y="5064480"/>
                <a:ext cx="93600" cy="762840"/>
                <a:chOff x="6487200" y="5064480"/>
                <a:chExt cx="93600" cy="7628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6487200" y="54316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487200" y="506448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6487200" y="543168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5289480" y="4965840"/>
              <a:ext cx="1569240" cy="106704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54360" y="504216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198120" y="5448600"/>
              <a:ext cx="74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6438960" y="160020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48240" y="236232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188120" y="4952880"/>
            <a:ext cx="1650600" cy="1383480"/>
            <a:chOff x="7188120" y="4952880"/>
            <a:chExt cx="1650600" cy="1383480"/>
          </a:xfrm>
        </p:grpSpPr>
        <p:sp>
          <p:nvSpPr>
            <p:cNvPr id="410" name=""/>
            <p:cNvSpPr/>
            <p:nvPr/>
          </p:nvSpPr>
          <p:spPr>
            <a:xfrm>
              <a:off x="7336080" y="5999040"/>
              <a:ext cx="139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;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64880" y="5164200"/>
              <a:ext cx="93960" cy="580320"/>
              <a:chOff x="7364880" y="5164200"/>
              <a:chExt cx="93960" cy="5803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7364880" y="5164200"/>
                <a:ext cx="93600" cy="580320"/>
                <a:chOff x="7364880" y="5164200"/>
                <a:chExt cx="93600" cy="5803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7364880" y="5349600"/>
                  <a:ext cx="93600" cy="394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364880" y="516420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7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7364880" y="534960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7671240" y="5151600"/>
              <a:ext cx="93960" cy="580320"/>
              <a:chOff x="7671240" y="5151600"/>
              <a:chExt cx="93960" cy="58032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7671240" y="5151600"/>
                <a:ext cx="93600" cy="580320"/>
                <a:chOff x="7671240" y="5151600"/>
                <a:chExt cx="93600" cy="5803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7671240" y="5337000"/>
                  <a:ext cx="93600" cy="394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7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671240" y="5151600"/>
                  <a:ext cx="93600" cy="197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7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0" name=""/>
              <p:cNvSpPr/>
              <p:nvPr/>
            </p:nvSpPr>
            <p:spPr>
              <a:xfrm>
                <a:off x="7671240" y="5339160"/>
                <a:ext cx="93960" cy="9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8082360" y="5051520"/>
              <a:ext cx="93960" cy="762840"/>
              <a:chOff x="8082360" y="5051520"/>
              <a:chExt cx="93960" cy="76284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8082360" y="5051520"/>
                <a:ext cx="93600" cy="762840"/>
                <a:chOff x="8082360" y="5051520"/>
                <a:chExt cx="93600" cy="7628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8082360" y="541872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7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082360" y="505152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7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8082360" y="541872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8384760" y="5051520"/>
              <a:ext cx="93960" cy="762840"/>
              <a:chOff x="8384760" y="5051520"/>
              <a:chExt cx="93960" cy="76284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8384760" y="5051520"/>
                <a:ext cx="93600" cy="762840"/>
                <a:chOff x="8384760" y="5051520"/>
                <a:chExt cx="93600" cy="7628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8384760" y="541872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7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384760" y="5051520"/>
                  <a:ext cx="93600" cy="395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7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8384760" y="5418720"/>
                <a:ext cx="93960" cy="9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7188120" y="4952880"/>
              <a:ext cx="1568160" cy="106704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53000" y="5029200"/>
              <a:ext cx="107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96040" y="5435640"/>
              <a:ext cx="74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2311560" y="4191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06880" y="4394880"/>
            <a:ext cx="466920" cy="608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308840" y="4260960"/>
            <a:ext cx="1083240" cy="93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68840" y="4311720"/>
            <a:ext cx="1873440" cy="622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D5EC-FC18-4383-99D6-423F7DB1C3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80720" y="456840"/>
            <a:ext cx="709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apporto genotipico nell’associazione completa</a:t>
            </a:r>
            <a:endParaRPr b="1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1403280" y="55627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788000" y="37339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02440" y="374004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io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11840" y="4114800"/>
            <a:ext cx="183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 tipi di gameti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pporti ugu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888920" y="3859200"/>
            <a:ext cx="1019160" cy="1126440"/>
            <a:chOff x="1888920" y="3859200"/>
            <a:chExt cx="1019160" cy="1126440"/>
          </a:xfrm>
        </p:grpSpPr>
        <p:grpSp>
          <p:nvGrpSpPr>
            <p:cNvPr id="444" name=""/>
            <p:cNvGrpSpPr/>
            <p:nvPr/>
          </p:nvGrpSpPr>
          <p:grpSpPr>
            <a:xfrm>
              <a:off x="2268360" y="3994200"/>
              <a:ext cx="106200" cy="737280"/>
              <a:chOff x="2268360" y="3994200"/>
              <a:chExt cx="106200" cy="73728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2268360" y="3994200"/>
                <a:ext cx="105840" cy="737280"/>
                <a:chOff x="2268360" y="3994200"/>
                <a:chExt cx="105840" cy="73728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2268360" y="434916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268360" y="399420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"/>
              <p:cNvSpPr/>
              <p:nvPr/>
            </p:nvSpPr>
            <p:spPr>
              <a:xfrm>
                <a:off x="2268360" y="4349160"/>
                <a:ext cx="10620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1950120" y="3917880"/>
              <a:ext cx="957960" cy="95904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86440" y="385920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87160" y="44290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888920" y="4648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8108280" y="4114800"/>
            <a:ext cx="14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amet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28960" y="4149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238400" y="1066680"/>
            <a:ext cx="6746760" cy="2513160"/>
            <a:chOff x="1238400" y="1066680"/>
            <a:chExt cx="6746760" cy="2513160"/>
          </a:xfrm>
        </p:grpSpPr>
        <p:sp>
          <p:nvSpPr>
            <p:cNvPr id="456" name=""/>
            <p:cNvSpPr/>
            <p:nvPr/>
          </p:nvSpPr>
          <p:spPr>
            <a:xfrm>
              <a:off x="1238400" y="1676520"/>
              <a:ext cx="156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;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69920" y="1301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70640" y="11430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91560" y="2895480"/>
              <a:ext cx="4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59360" y="1523880"/>
              <a:ext cx="122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;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3248280" y="1066680"/>
              <a:ext cx="1343880" cy="1217880"/>
              <a:chOff x="3248280" y="1066680"/>
              <a:chExt cx="1343880" cy="121788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3549240" y="1143000"/>
                <a:ext cx="123120" cy="1057680"/>
                <a:chOff x="3549240" y="1143000"/>
                <a:chExt cx="123120" cy="1057680"/>
              </a:xfrm>
            </p:grpSpPr>
            <p:grpSp>
              <p:nvGrpSpPr>
                <p:cNvPr id="463" name=""/>
                <p:cNvGrpSpPr/>
                <p:nvPr/>
              </p:nvGrpSpPr>
              <p:grpSpPr>
                <a:xfrm>
                  <a:off x="3549240" y="1143000"/>
                  <a:ext cx="122760" cy="1057680"/>
                  <a:chOff x="3549240" y="1143000"/>
                  <a:chExt cx="122760" cy="105768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549240" y="1652040"/>
                    <a:ext cx="12276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549240" y="1143000"/>
                    <a:ext cx="12276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6" name=""/>
                <p:cNvSpPr/>
                <p:nvPr/>
              </p:nvSpPr>
              <p:spPr>
                <a:xfrm>
                  <a:off x="3549240" y="1652400"/>
                  <a:ext cx="123120" cy="136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3961440" y="1143000"/>
                <a:ext cx="123480" cy="1057680"/>
                <a:chOff x="3961440" y="1143000"/>
                <a:chExt cx="123480" cy="1057680"/>
              </a:xfrm>
            </p:grpSpPr>
            <p:grpSp>
              <p:nvGrpSpPr>
                <p:cNvPr id="468" name=""/>
                <p:cNvGrpSpPr/>
                <p:nvPr/>
              </p:nvGrpSpPr>
              <p:grpSpPr>
                <a:xfrm>
                  <a:off x="3961440" y="1143000"/>
                  <a:ext cx="123120" cy="1057680"/>
                  <a:chOff x="3961440" y="1143000"/>
                  <a:chExt cx="123120" cy="105768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3961440" y="1652040"/>
                    <a:ext cx="12312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3961440" y="1143000"/>
                    <a:ext cx="12312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1" name=""/>
                <p:cNvSpPr/>
                <p:nvPr/>
              </p:nvSpPr>
              <p:spPr>
                <a:xfrm>
                  <a:off x="3961440" y="1652400"/>
                  <a:ext cx="123480" cy="136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3248280" y="1066680"/>
                <a:ext cx="1343880" cy="1217880"/>
              </a:xfrm>
              <a:prstGeom prst="octagon">
                <a:avLst>
                  <a:gd name="adj" fmla="val 2928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41760" y="1087560"/>
                <a:ext cx="36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637440" y="180972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48560" y="1066680"/>
                <a:ext cx="36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053600" y="182880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5010840" y="1066680"/>
              <a:ext cx="1343880" cy="1217880"/>
              <a:chOff x="5010840" y="1066680"/>
              <a:chExt cx="1343880" cy="121788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5311800" y="1143000"/>
                <a:ext cx="123120" cy="1057680"/>
                <a:chOff x="5311800" y="1143000"/>
                <a:chExt cx="123120" cy="1057680"/>
              </a:xfrm>
            </p:grpSpPr>
            <p:grpSp>
              <p:nvGrpSpPr>
                <p:cNvPr id="479" name=""/>
                <p:cNvGrpSpPr/>
                <p:nvPr/>
              </p:nvGrpSpPr>
              <p:grpSpPr>
                <a:xfrm>
                  <a:off x="5311800" y="1143000"/>
                  <a:ext cx="122760" cy="1057680"/>
                  <a:chOff x="5311800" y="1143000"/>
                  <a:chExt cx="122760" cy="105768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5311800" y="1652040"/>
                    <a:ext cx="12276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5311800" y="1143000"/>
                    <a:ext cx="12276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2" name=""/>
                <p:cNvSpPr/>
                <p:nvPr/>
              </p:nvSpPr>
              <p:spPr>
                <a:xfrm>
                  <a:off x="5311800" y="1652400"/>
                  <a:ext cx="123120" cy="136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5724000" y="1143000"/>
                <a:ext cx="123480" cy="1057680"/>
                <a:chOff x="5724000" y="1143000"/>
                <a:chExt cx="123480" cy="1057680"/>
              </a:xfrm>
            </p:grpSpPr>
            <p:grpSp>
              <p:nvGrpSpPr>
                <p:cNvPr id="484" name=""/>
                <p:cNvGrpSpPr/>
                <p:nvPr/>
              </p:nvGrpSpPr>
              <p:grpSpPr>
                <a:xfrm>
                  <a:off x="5724000" y="1143000"/>
                  <a:ext cx="123120" cy="1057680"/>
                  <a:chOff x="5724000" y="1143000"/>
                  <a:chExt cx="123120" cy="105768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5724000" y="1652040"/>
                    <a:ext cx="12312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5724000" y="1143000"/>
                    <a:ext cx="12312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7" name=""/>
                <p:cNvSpPr/>
                <p:nvPr/>
              </p:nvSpPr>
              <p:spPr>
                <a:xfrm>
                  <a:off x="5724000" y="1652400"/>
                  <a:ext cx="123480" cy="136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8" name=""/>
              <p:cNvSpPr/>
              <p:nvPr/>
            </p:nvSpPr>
            <p:spPr>
              <a:xfrm>
                <a:off x="5010840" y="1066680"/>
                <a:ext cx="1343880" cy="1217880"/>
              </a:xfrm>
              <a:prstGeom prst="octagon">
                <a:avLst>
                  <a:gd name="adj" fmla="val 2928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412960" y="1087560"/>
                <a:ext cx="36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3600" y="180972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816520" y="1066680"/>
                <a:ext cx="36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16160" y="182880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4044600" y="2362320"/>
              <a:ext cx="1343880" cy="1217520"/>
              <a:chOff x="4044600" y="2362320"/>
              <a:chExt cx="1343880" cy="1217520"/>
            </a:xfrm>
          </p:grpSpPr>
          <p:grpSp>
            <p:nvGrpSpPr>
              <p:cNvPr id="494" name=""/>
              <p:cNvGrpSpPr/>
              <p:nvPr/>
            </p:nvGrpSpPr>
            <p:grpSpPr>
              <a:xfrm>
                <a:off x="4345560" y="2438280"/>
                <a:ext cx="123120" cy="1057680"/>
                <a:chOff x="4345560" y="2438280"/>
                <a:chExt cx="123120" cy="1057680"/>
              </a:xfrm>
            </p:grpSpPr>
            <p:grpSp>
              <p:nvGrpSpPr>
                <p:cNvPr id="495" name=""/>
                <p:cNvGrpSpPr/>
                <p:nvPr/>
              </p:nvGrpSpPr>
              <p:grpSpPr>
                <a:xfrm>
                  <a:off x="4345560" y="2438280"/>
                  <a:ext cx="122760" cy="1057680"/>
                  <a:chOff x="4345560" y="2438280"/>
                  <a:chExt cx="122760" cy="105768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>
                    <a:off x="4345560" y="2947320"/>
                    <a:ext cx="12276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4345560" y="2438280"/>
                    <a:ext cx="12276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4345560" y="2947320"/>
                  <a:ext cx="123120" cy="136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4757760" y="2438280"/>
                <a:ext cx="123480" cy="1057680"/>
                <a:chOff x="4757760" y="2438280"/>
                <a:chExt cx="123480" cy="1057680"/>
              </a:xfrm>
            </p:grpSpPr>
            <p:grpSp>
              <p:nvGrpSpPr>
                <p:cNvPr id="500" name=""/>
                <p:cNvGrpSpPr/>
                <p:nvPr/>
              </p:nvGrpSpPr>
              <p:grpSpPr>
                <a:xfrm>
                  <a:off x="4757760" y="2438280"/>
                  <a:ext cx="123120" cy="1057680"/>
                  <a:chOff x="4757760" y="2438280"/>
                  <a:chExt cx="123120" cy="105768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>
                    <a:off x="4757760" y="2947320"/>
                    <a:ext cx="12312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4757760" y="2438280"/>
                    <a:ext cx="123120" cy="5486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3" name=""/>
                <p:cNvSpPr/>
                <p:nvPr/>
              </p:nvSpPr>
              <p:spPr>
                <a:xfrm>
                  <a:off x="4757760" y="2947320"/>
                  <a:ext cx="123480" cy="136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4044600" y="2362320"/>
                <a:ext cx="1343880" cy="1217520"/>
              </a:xfrm>
              <a:prstGeom prst="octagon">
                <a:avLst>
                  <a:gd name="adj" fmla="val 2928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41680" y="2382840"/>
                <a:ext cx="36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436640" y="310500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850280" y="2362320"/>
                <a:ext cx="36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850640" y="312408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5604840" y="2743200"/>
              <a:ext cx="122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A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;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/B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141520" y="3865680"/>
            <a:ext cx="1018800" cy="1126080"/>
            <a:chOff x="5141520" y="3865680"/>
            <a:chExt cx="1018800" cy="1126080"/>
          </a:xfrm>
        </p:grpSpPr>
        <p:grpSp>
          <p:nvGrpSpPr>
            <p:cNvPr id="511" name=""/>
            <p:cNvGrpSpPr/>
            <p:nvPr/>
          </p:nvGrpSpPr>
          <p:grpSpPr>
            <a:xfrm>
              <a:off x="5520960" y="4000320"/>
              <a:ext cx="106200" cy="736920"/>
              <a:chOff x="5520960" y="4000320"/>
              <a:chExt cx="106200" cy="73692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5520960" y="4000320"/>
                <a:ext cx="105840" cy="736920"/>
                <a:chOff x="5520960" y="4000320"/>
                <a:chExt cx="105840" cy="7369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5520960" y="435492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520960" y="400032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5520960" y="4355280"/>
                <a:ext cx="10620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5202720" y="3924000"/>
              <a:ext cx="957600" cy="95868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39040" y="38656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640120" y="44352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41520" y="4654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7116840" y="3865680"/>
            <a:ext cx="1008720" cy="1125000"/>
            <a:chOff x="7116840" y="3865680"/>
            <a:chExt cx="1008720" cy="1125000"/>
          </a:xfrm>
        </p:grpSpPr>
        <p:grpSp>
          <p:nvGrpSpPr>
            <p:cNvPr id="521" name=""/>
            <p:cNvGrpSpPr/>
            <p:nvPr/>
          </p:nvGrpSpPr>
          <p:grpSpPr>
            <a:xfrm>
              <a:off x="7486200" y="4000320"/>
              <a:ext cx="106200" cy="736920"/>
              <a:chOff x="7486200" y="4000320"/>
              <a:chExt cx="106200" cy="736920"/>
            </a:xfrm>
          </p:grpSpPr>
          <p:grpSp>
            <p:nvGrpSpPr>
              <p:cNvPr id="522" name=""/>
              <p:cNvGrpSpPr/>
              <p:nvPr/>
            </p:nvGrpSpPr>
            <p:grpSpPr>
              <a:xfrm>
                <a:off x="7486200" y="4000320"/>
                <a:ext cx="105840" cy="736920"/>
                <a:chOff x="7486200" y="4000320"/>
                <a:chExt cx="105840" cy="73692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7486200" y="435492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486200" y="400032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>
                <a:off x="7486200" y="4355280"/>
                <a:ext cx="10620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7167960" y="3924000"/>
              <a:ext cx="957600" cy="95868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04280" y="38656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605360" y="44352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16840" y="4654440"/>
              <a:ext cx="183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558880" y="5105520"/>
            <a:ext cx="1344600" cy="1217520"/>
            <a:chOff x="2558880" y="5105520"/>
            <a:chExt cx="1344600" cy="1217520"/>
          </a:xfrm>
        </p:grpSpPr>
        <p:grpSp>
          <p:nvGrpSpPr>
            <p:cNvPr id="531" name=""/>
            <p:cNvGrpSpPr/>
            <p:nvPr/>
          </p:nvGrpSpPr>
          <p:grpSpPr>
            <a:xfrm>
              <a:off x="2859840" y="5181480"/>
              <a:ext cx="123120" cy="1057680"/>
              <a:chOff x="2859840" y="5181480"/>
              <a:chExt cx="123120" cy="1057680"/>
            </a:xfrm>
          </p:grpSpPr>
          <p:grpSp>
            <p:nvGrpSpPr>
              <p:cNvPr id="532" name=""/>
              <p:cNvGrpSpPr/>
              <p:nvPr/>
            </p:nvGrpSpPr>
            <p:grpSpPr>
              <a:xfrm>
                <a:off x="2859840" y="5181480"/>
                <a:ext cx="122760" cy="1057680"/>
                <a:chOff x="2859840" y="5181480"/>
                <a:chExt cx="122760" cy="105768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2859840" y="569052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859840" y="518148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5" name=""/>
              <p:cNvSpPr/>
              <p:nvPr/>
            </p:nvSpPr>
            <p:spPr>
              <a:xfrm>
                <a:off x="2859840" y="5690520"/>
                <a:ext cx="12312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3272400" y="5181480"/>
              <a:ext cx="123480" cy="1057680"/>
              <a:chOff x="3272400" y="5181480"/>
              <a:chExt cx="123480" cy="105768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3272400" y="5181480"/>
                <a:ext cx="123120" cy="1057680"/>
                <a:chOff x="3272400" y="5181480"/>
                <a:chExt cx="123120" cy="105768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3272400" y="569052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272400" y="518148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0" name=""/>
              <p:cNvSpPr/>
              <p:nvPr/>
            </p:nvSpPr>
            <p:spPr>
              <a:xfrm>
                <a:off x="3272400" y="5690520"/>
                <a:ext cx="12348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2558880" y="5105520"/>
              <a:ext cx="1344600" cy="121752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53080" y="512604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949120" y="58482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64920" y="510552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64560" y="58672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716200" y="632448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849920" y="5105520"/>
            <a:ext cx="1344240" cy="1217520"/>
            <a:chOff x="4849920" y="5105520"/>
            <a:chExt cx="1344240" cy="1217520"/>
          </a:xfrm>
        </p:grpSpPr>
        <p:grpSp>
          <p:nvGrpSpPr>
            <p:cNvPr id="548" name=""/>
            <p:cNvGrpSpPr/>
            <p:nvPr/>
          </p:nvGrpSpPr>
          <p:grpSpPr>
            <a:xfrm>
              <a:off x="5150880" y="5181480"/>
              <a:ext cx="123120" cy="1057680"/>
              <a:chOff x="5150880" y="5181480"/>
              <a:chExt cx="123120" cy="105768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150880" y="5181480"/>
                <a:ext cx="122760" cy="1057680"/>
                <a:chOff x="5150880" y="5181480"/>
                <a:chExt cx="122760" cy="105768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5150880" y="569052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150880" y="518148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5150880" y="5690520"/>
                <a:ext cx="12312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5563440" y="5181480"/>
              <a:ext cx="123480" cy="1057680"/>
              <a:chOff x="5563440" y="5181480"/>
              <a:chExt cx="123480" cy="1057680"/>
            </a:xfrm>
          </p:grpSpPr>
          <p:grpSp>
            <p:nvGrpSpPr>
              <p:cNvPr id="554" name=""/>
              <p:cNvGrpSpPr/>
              <p:nvPr/>
            </p:nvGrpSpPr>
            <p:grpSpPr>
              <a:xfrm>
                <a:off x="5563440" y="5181480"/>
                <a:ext cx="123120" cy="1057680"/>
                <a:chOff x="5563440" y="5181480"/>
                <a:chExt cx="123120" cy="10576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563440" y="569052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563440" y="518148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5563440" y="5690520"/>
                <a:ext cx="12348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4849920" y="5105520"/>
              <a:ext cx="1344240" cy="121752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243760" y="512604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40160" y="58482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55600" y="510552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55600" y="58672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5006880" y="632448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405-2E6D-46A2-872A-B4A3AAF5B6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5676840" y="4170240"/>
            <a:ext cx="1009440" cy="1125720"/>
            <a:chOff x="5676840" y="4170240"/>
            <a:chExt cx="1009440" cy="1125720"/>
          </a:xfrm>
        </p:grpSpPr>
        <p:grpSp>
          <p:nvGrpSpPr>
            <p:cNvPr id="565" name=""/>
            <p:cNvGrpSpPr/>
            <p:nvPr/>
          </p:nvGrpSpPr>
          <p:grpSpPr>
            <a:xfrm>
              <a:off x="6046560" y="4305240"/>
              <a:ext cx="106200" cy="737280"/>
              <a:chOff x="6046560" y="4305240"/>
              <a:chExt cx="106200" cy="73728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6046560" y="4305240"/>
                <a:ext cx="105840" cy="737280"/>
                <a:chOff x="6046560" y="4305240"/>
                <a:chExt cx="105840" cy="7372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6046560" y="466020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6046560" y="430524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9" name=""/>
              <p:cNvSpPr/>
              <p:nvPr/>
            </p:nvSpPr>
            <p:spPr>
              <a:xfrm>
                <a:off x="6046560" y="4660200"/>
                <a:ext cx="10620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5728320" y="4228920"/>
              <a:ext cx="957960" cy="95904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164640" y="417024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165360" y="47401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676840" y="495936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476440" y="457200"/>
            <a:ext cx="6686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a1e"/>
                </a:solidFill>
                <a:latin typeface="Comic Sans MS"/>
              </a:rPr>
              <a:t>Rapporto genotipico nella associazione parziale</a:t>
            </a:r>
            <a:endParaRPr b="1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2354040" y="3505320"/>
            <a:ext cx="373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 tipi di gameti in rapporti non ugu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3098160" y="3492360"/>
            <a:ext cx="76320" cy="1320840"/>
          </a:xfrm>
          <a:custGeom>
            <a:avLst/>
            <a:gdLst>
              <a:gd name="textAreaLeft" fmla="*/ 22320 w 76320"/>
              <a:gd name="textAreaRight" fmla="*/ 76320 w 76320"/>
              <a:gd name="textAreaTop" fmla="*/ 54720 h 1320840"/>
              <a:gd name="textAreaBottom" fmla="*/ 1266120 h 132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rot="5400000">
            <a:off x="5574600" y="3492360"/>
            <a:ext cx="76320" cy="1320840"/>
          </a:xfrm>
          <a:custGeom>
            <a:avLst/>
            <a:gdLst>
              <a:gd name="textAreaLeft" fmla="*/ 22320 w 76320"/>
              <a:gd name="textAreaRight" fmla="*/ 76320 w 76320"/>
              <a:gd name="textAreaTop" fmla="*/ 54720 h 1320840"/>
              <a:gd name="textAreaBottom" fmla="*/ 1266120 h 132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42520" y="378468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0% parent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698000" y="378468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0% ricombin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269560" y="4267080"/>
            <a:ext cx="148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amete 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41800" y="4378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5640" y="563868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661480" y="641196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483800" y="641196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464880" y="640080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38400" y="1676520"/>
            <a:ext cx="15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70280" y="1301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70280" y="114300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491920" y="289548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61160" y="152388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3247920" y="1066680"/>
            <a:ext cx="1346040" cy="1217880"/>
            <a:chOff x="3247920" y="1066680"/>
            <a:chExt cx="1346040" cy="1217880"/>
          </a:xfrm>
        </p:grpSpPr>
        <p:grpSp>
          <p:nvGrpSpPr>
            <p:cNvPr id="592" name=""/>
            <p:cNvGrpSpPr/>
            <p:nvPr/>
          </p:nvGrpSpPr>
          <p:grpSpPr>
            <a:xfrm>
              <a:off x="3549240" y="1143000"/>
              <a:ext cx="123120" cy="1057680"/>
              <a:chOff x="3549240" y="1143000"/>
              <a:chExt cx="123120" cy="105768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3549240" y="1143000"/>
                <a:ext cx="122760" cy="1057680"/>
                <a:chOff x="3549240" y="1143000"/>
                <a:chExt cx="122760" cy="105768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3549240" y="165204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549240" y="114300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3549240" y="1652400"/>
                <a:ext cx="12312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3962160" y="1143000"/>
              <a:ext cx="123480" cy="1057680"/>
              <a:chOff x="3962160" y="1143000"/>
              <a:chExt cx="123480" cy="105768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3962160" y="1143000"/>
                <a:ext cx="123120" cy="1057680"/>
                <a:chOff x="3962160" y="1143000"/>
                <a:chExt cx="123120" cy="105768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3962160" y="165204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962160" y="114300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1" name=""/>
              <p:cNvSpPr/>
              <p:nvPr/>
            </p:nvSpPr>
            <p:spPr>
              <a:xfrm>
                <a:off x="3962160" y="1652400"/>
                <a:ext cx="12348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3247920" y="1066680"/>
              <a:ext cx="1346040" cy="121788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41760" y="108756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37800" y="1809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055040" y="10666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55040" y="18288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011560" y="1066680"/>
            <a:ext cx="1344600" cy="1217880"/>
            <a:chOff x="5011560" y="1066680"/>
            <a:chExt cx="1344600" cy="1217880"/>
          </a:xfrm>
        </p:grpSpPr>
        <p:grpSp>
          <p:nvGrpSpPr>
            <p:cNvPr id="608" name=""/>
            <p:cNvGrpSpPr/>
            <p:nvPr/>
          </p:nvGrpSpPr>
          <p:grpSpPr>
            <a:xfrm>
              <a:off x="5312520" y="1143000"/>
              <a:ext cx="123120" cy="1057680"/>
              <a:chOff x="5312520" y="1143000"/>
              <a:chExt cx="123120" cy="105768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5312520" y="1143000"/>
                <a:ext cx="122760" cy="1057680"/>
                <a:chOff x="5312520" y="1143000"/>
                <a:chExt cx="122760" cy="105768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5312520" y="165204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312520" y="114300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5312520" y="1652400"/>
                <a:ext cx="12312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5725080" y="1143000"/>
              <a:ext cx="123480" cy="1057680"/>
              <a:chOff x="5725080" y="1143000"/>
              <a:chExt cx="123480" cy="105768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5725080" y="1143000"/>
                <a:ext cx="123120" cy="1057680"/>
                <a:chOff x="5725080" y="1143000"/>
                <a:chExt cx="123120" cy="105768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5725080" y="165204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5725080" y="114300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5725080" y="1652400"/>
                <a:ext cx="12348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5011560" y="1066680"/>
              <a:ext cx="1344600" cy="121788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05760" y="108756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01800" y="1809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17600" y="10666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17240" y="18288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4044960" y="2362320"/>
            <a:ext cx="1344240" cy="1217520"/>
            <a:chOff x="4044960" y="2362320"/>
            <a:chExt cx="1344240" cy="1217520"/>
          </a:xfrm>
        </p:grpSpPr>
        <p:grpSp>
          <p:nvGrpSpPr>
            <p:cNvPr id="624" name=""/>
            <p:cNvGrpSpPr/>
            <p:nvPr/>
          </p:nvGrpSpPr>
          <p:grpSpPr>
            <a:xfrm>
              <a:off x="4345920" y="2438280"/>
              <a:ext cx="123120" cy="1057680"/>
              <a:chOff x="4345920" y="2438280"/>
              <a:chExt cx="123120" cy="105768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4345920" y="2438280"/>
                <a:ext cx="122760" cy="1057680"/>
                <a:chOff x="4345920" y="2438280"/>
                <a:chExt cx="122760" cy="105768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4345920" y="294732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345920" y="243828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" name=""/>
              <p:cNvSpPr/>
              <p:nvPr/>
            </p:nvSpPr>
            <p:spPr>
              <a:xfrm>
                <a:off x="4345920" y="2947320"/>
                <a:ext cx="12312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4758480" y="2438280"/>
              <a:ext cx="123480" cy="1057680"/>
              <a:chOff x="4758480" y="2438280"/>
              <a:chExt cx="123480" cy="1057680"/>
            </a:xfrm>
          </p:grpSpPr>
          <p:grpSp>
            <p:nvGrpSpPr>
              <p:cNvPr id="630" name=""/>
              <p:cNvGrpSpPr/>
              <p:nvPr/>
            </p:nvGrpSpPr>
            <p:grpSpPr>
              <a:xfrm>
                <a:off x="4758480" y="2438280"/>
                <a:ext cx="123120" cy="1057680"/>
                <a:chOff x="4758480" y="2438280"/>
                <a:chExt cx="123120" cy="105768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4758480" y="294732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758480" y="243828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3" name=""/>
              <p:cNvSpPr/>
              <p:nvPr/>
            </p:nvSpPr>
            <p:spPr>
              <a:xfrm>
                <a:off x="4758480" y="2947320"/>
                <a:ext cx="12348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4044960" y="2362320"/>
              <a:ext cx="1344240" cy="121752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38800" y="238284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435200" y="3105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850640" y="236232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850640" y="31240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605200" y="274320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898640" y="4170240"/>
            <a:ext cx="1009440" cy="1125720"/>
            <a:chOff x="1898640" y="4170240"/>
            <a:chExt cx="1009440" cy="1125720"/>
          </a:xfrm>
        </p:grpSpPr>
        <p:grpSp>
          <p:nvGrpSpPr>
            <p:cNvPr id="641" name=""/>
            <p:cNvGrpSpPr/>
            <p:nvPr/>
          </p:nvGrpSpPr>
          <p:grpSpPr>
            <a:xfrm>
              <a:off x="2268360" y="4305240"/>
              <a:ext cx="106200" cy="737280"/>
              <a:chOff x="2268360" y="4305240"/>
              <a:chExt cx="106200" cy="737280"/>
            </a:xfrm>
          </p:grpSpPr>
          <p:grpSp>
            <p:nvGrpSpPr>
              <p:cNvPr id="642" name=""/>
              <p:cNvGrpSpPr/>
              <p:nvPr/>
            </p:nvGrpSpPr>
            <p:grpSpPr>
              <a:xfrm>
                <a:off x="2268360" y="4305240"/>
                <a:ext cx="105840" cy="737280"/>
                <a:chOff x="2268360" y="4305240"/>
                <a:chExt cx="105840" cy="73728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2268360" y="466020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2268360" y="430524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2268360" y="4660200"/>
                <a:ext cx="10620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1950120" y="4228920"/>
              <a:ext cx="957960" cy="95904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386440" y="417024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87160" y="47401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98640" y="495936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2952720" y="4170240"/>
            <a:ext cx="1009440" cy="1125720"/>
            <a:chOff x="2952720" y="4170240"/>
            <a:chExt cx="1009440" cy="1125720"/>
          </a:xfrm>
        </p:grpSpPr>
        <p:grpSp>
          <p:nvGrpSpPr>
            <p:cNvPr id="651" name=""/>
            <p:cNvGrpSpPr/>
            <p:nvPr/>
          </p:nvGrpSpPr>
          <p:grpSpPr>
            <a:xfrm>
              <a:off x="3322440" y="4305240"/>
              <a:ext cx="106200" cy="737280"/>
              <a:chOff x="3322440" y="4305240"/>
              <a:chExt cx="106200" cy="73728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3322440" y="4305240"/>
                <a:ext cx="105840" cy="737280"/>
                <a:chOff x="3322440" y="4305240"/>
                <a:chExt cx="105840" cy="73728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3322440" y="466020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322440" y="430524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" name=""/>
              <p:cNvSpPr/>
              <p:nvPr/>
            </p:nvSpPr>
            <p:spPr>
              <a:xfrm>
                <a:off x="3322440" y="4660200"/>
                <a:ext cx="10620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3004200" y="4228920"/>
              <a:ext cx="957960" cy="95904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440520" y="417024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41240" y="47401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952720" y="495936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170240"/>
            <a:ext cx="1008720" cy="1125720"/>
            <a:chOff x="4438800" y="4170240"/>
            <a:chExt cx="1008720" cy="1125720"/>
          </a:xfrm>
        </p:grpSpPr>
        <p:grpSp>
          <p:nvGrpSpPr>
            <p:cNvPr id="661" name=""/>
            <p:cNvGrpSpPr/>
            <p:nvPr/>
          </p:nvGrpSpPr>
          <p:grpSpPr>
            <a:xfrm>
              <a:off x="4808160" y="4305240"/>
              <a:ext cx="106200" cy="737280"/>
              <a:chOff x="4808160" y="4305240"/>
              <a:chExt cx="106200" cy="73728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4808160" y="4305240"/>
                <a:ext cx="105840" cy="737280"/>
                <a:chOff x="4808160" y="4305240"/>
                <a:chExt cx="105840" cy="73728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4808160" y="466020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808160" y="430524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5" name=""/>
              <p:cNvSpPr/>
              <p:nvPr/>
            </p:nvSpPr>
            <p:spPr>
              <a:xfrm>
                <a:off x="4808160" y="4660200"/>
                <a:ext cx="10620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489920" y="4228920"/>
              <a:ext cx="957600" cy="95904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26240" y="417024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927320" y="47401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38800" y="495936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7327800" y="4114800"/>
            <a:ext cx="1009440" cy="1125000"/>
            <a:chOff x="7327800" y="4114800"/>
            <a:chExt cx="1009440" cy="1125000"/>
          </a:xfrm>
        </p:grpSpPr>
        <p:grpSp>
          <p:nvGrpSpPr>
            <p:cNvPr id="671" name=""/>
            <p:cNvGrpSpPr/>
            <p:nvPr/>
          </p:nvGrpSpPr>
          <p:grpSpPr>
            <a:xfrm>
              <a:off x="7697520" y="4249440"/>
              <a:ext cx="106200" cy="736920"/>
              <a:chOff x="7697520" y="4249440"/>
              <a:chExt cx="106200" cy="73692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7697520" y="4249440"/>
                <a:ext cx="105840" cy="736920"/>
                <a:chOff x="7697520" y="4249440"/>
                <a:chExt cx="105840" cy="73692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7697520" y="460404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7697520" y="4249440"/>
                  <a:ext cx="105840" cy="3823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5" name=""/>
              <p:cNvSpPr/>
              <p:nvPr/>
            </p:nvSpPr>
            <p:spPr>
              <a:xfrm>
                <a:off x="7697520" y="4604400"/>
                <a:ext cx="106200" cy="95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7379280" y="4173120"/>
              <a:ext cx="957960" cy="95868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815600" y="411480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816320" y="46843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327800" y="4903560"/>
              <a:ext cx="183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1403280" y="5334120"/>
            <a:ext cx="1344240" cy="1217520"/>
            <a:chOff x="1403280" y="5334120"/>
            <a:chExt cx="1344240" cy="1217520"/>
          </a:xfrm>
        </p:grpSpPr>
        <p:grpSp>
          <p:nvGrpSpPr>
            <p:cNvPr id="681" name=""/>
            <p:cNvGrpSpPr/>
            <p:nvPr/>
          </p:nvGrpSpPr>
          <p:grpSpPr>
            <a:xfrm>
              <a:off x="1704240" y="5410080"/>
              <a:ext cx="123120" cy="1057680"/>
              <a:chOff x="1704240" y="5410080"/>
              <a:chExt cx="123120" cy="105768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1704240" y="5410080"/>
                <a:ext cx="122760" cy="1057680"/>
                <a:chOff x="1704240" y="5410080"/>
                <a:chExt cx="122760" cy="105768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1704240" y="591912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704240" y="541008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"/>
              <p:cNvSpPr/>
              <p:nvPr/>
            </p:nvSpPr>
            <p:spPr>
              <a:xfrm>
                <a:off x="1704240" y="5919120"/>
                <a:ext cx="12312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2116800" y="5410080"/>
              <a:ext cx="123480" cy="1057680"/>
              <a:chOff x="2116800" y="5410080"/>
              <a:chExt cx="123480" cy="10576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2116800" y="5410080"/>
                <a:ext cx="123120" cy="1057680"/>
                <a:chOff x="2116800" y="5410080"/>
                <a:chExt cx="123120" cy="105768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2116800" y="591912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116800" y="541008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"/>
              <p:cNvSpPr/>
              <p:nvPr/>
            </p:nvSpPr>
            <p:spPr>
              <a:xfrm>
                <a:off x="2116800" y="5919120"/>
                <a:ext cx="12348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1403280" y="5334120"/>
              <a:ext cx="1344240" cy="121752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97120" y="535464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93520" y="60768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08960" y="533412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08960" y="60958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1226520" y="651204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 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3195720" y="5334120"/>
            <a:ext cx="1344240" cy="1217520"/>
            <a:chOff x="3195720" y="5334120"/>
            <a:chExt cx="1344240" cy="1217520"/>
          </a:xfrm>
        </p:grpSpPr>
        <p:grpSp>
          <p:nvGrpSpPr>
            <p:cNvPr id="698" name=""/>
            <p:cNvGrpSpPr/>
            <p:nvPr/>
          </p:nvGrpSpPr>
          <p:grpSpPr>
            <a:xfrm>
              <a:off x="3496680" y="5410080"/>
              <a:ext cx="123120" cy="1057680"/>
              <a:chOff x="3496680" y="5410080"/>
              <a:chExt cx="123120" cy="1057680"/>
            </a:xfrm>
          </p:grpSpPr>
          <p:grpSp>
            <p:nvGrpSpPr>
              <p:cNvPr id="699" name=""/>
              <p:cNvGrpSpPr/>
              <p:nvPr/>
            </p:nvGrpSpPr>
            <p:grpSpPr>
              <a:xfrm>
                <a:off x="3496680" y="5410080"/>
                <a:ext cx="122760" cy="1057680"/>
                <a:chOff x="3496680" y="5410080"/>
                <a:chExt cx="122760" cy="105768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3496680" y="591912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3496680" y="541008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>
                <a:off x="3496680" y="5919120"/>
                <a:ext cx="12312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3909240" y="5410080"/>
              <a:ext cx="123480" cy="1057680"/>
              <a:chOff x="3909240" y="5410080"/>
              <a:chExt cx="123480" cy="105768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3909240" y="5410080"/>
                <a:ext cx="123120" cy="1057680"/>
                <a:chOff x="3909240" y="5410080"/>
                <a:chExt cx="123120" cy="105768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3909240" y="591912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3909240" y="541008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7" name=""/>
              <p:cNvSpPr/>
              <p:nvPr/>
            </p:nvSpPr>
            <p:spPr>
              <a:xfrm>
                <a:off x="3909240" y="5919120"/>
                <a:ext cx="12348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3195720" y="5334120"/>
              <a:ext cx="1344240" cy="121752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89560" y="535464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85960" y="60768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01400" y="533412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001400" y="60958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3160080" y="651816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 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4964040" y="5335560"/>
            <a:ext cx="1344240" cy="1217520"/>
            <a:chOff x="4964040" y="5335560"/>
            <a:chExt cx="1344240" cy="1217520"/>
          </a:xfrm>
        </p:grpSpPr>
        <p:grpSp>
          <p:nvGrpSpPr>
            <p:cNvPr id="715" name=""/>
            <p:cNvGrpSpPr/>
            <p:nvPr/>
          </p:nvGrpSpPr>
          <p:grpSpPr>
            <a:xfrm>
              <a:off x="5265000" y="5411520"/>
              <a:ext cx="123120" cy="1057680"/>
              <a:chOff x="5265000" y="5411520"/>
              <a:chExt cx="123120" cy="1057680"/>
            </a:xfrm>
          </p:grpSpPr>
          <p:grpSp>
            <p:nvGrpSpPr>
              <p:cNvPr id="716" name=""/>
              <p:cNvGrpSpPr/>
              <p:nvPr/>
            </p:nvGrpSpPr>
            <p:grpSpPr>
              <a:xfrm>
                <a:off x="5265000" y="5411520"/>
                <a:ext cx="122760" cy="1057680"/>
                <a:chOff x="5265000" y="5411520"/>
                <a:chExt cx="122760" cy="105768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5265000" y="592056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265000" y="541152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" name=""/>
              <p:cNvSpPr/>
              <p:nvPr/>
            </p:nvSpPr>
            <p:spPr>
              <a:xfrm>
                <a:off x="5265000" y="5920560"/>
                <a:ext cx="12312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5677560" y="5411520"/>
              <a:ext cx="123480" cy="1057680"/>
              <a:chOff x="5677560" y="5411520"/>
              <a:chExt cx="123480" cy="105768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5677560" y="5411520"/>
                <a:ext cx="123120" cy="1057680"/>
                <a:chOff x="5677560" y="5411520"/>
                <a:chExt cx="123120" cy="105768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5677560" y="592056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677560" y="541152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4" name=""/>
              <p:cNvSpPr/>
              <p:nvPr/>
            </p:nvSpPr>
            <p:spPr>
              <a:xfrm>
                <a:off x="5677560" y="5920560"/>
                <a:ext cx="12348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>
              <a:off x="4964040" y="5335560"/>
              <a:ext cx="1344240" cy="121752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57880" y="53560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54280" y="607824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69720" y="533556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769720" y="60973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4975920" y="651816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 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6827760" y="5334120"/>
            <a:ext cx="1344240" cy="1217520"/>
            <a:chOff x="6827760" y="5334120"/>
            <a:chExt cx="1344240" cy="1217520"/>
          </a:xfrm>
        </p:grpSpPr>
        <p:grpSp>
          <p:nvGrpSpPr>
            <p:cNvPr id="732" name=""/>
            <p:cNvGrpSpPr/>
            <p:nvPr/>
          </p:nvGrpSpPr>
          <p:grpSpPr>
            <a:xfrm>
              <a:off x="7128720" y="5410080"/>
              <a:ext cx="123120" cy="1057680"/>
              <a:chOff x="7128720" y="5410080"/>
              <a:chExt cx="123120" cy="1057680"/>
            </a:xfrm>
          </p:grpSpPr>
          <p:grpSp>
            <p:nvGrpSpPr>
              <p:cNvPr id="733" name=""/>
              <p:cNvGrpSpPr/>
              <p:nvPr/>
            </p:nvGrpSpPr>
            <p:grpSpPr>
              <a:xfrm>
                <a:off x="7128720" y="5410080"/>
                <a:ext cx="122760" cy="1057680"/>
                <a:chOff x="7128720" y="5410080"/>
                <a:chExt cx="122760" cy="105768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7128720" y="591912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128720" y="5410080"/>
                  <a:ext cx="12276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6" name=""/>
              <p:cNvSpPr/>
              <p:nvPr/>
            </p:nvSpPr>
            <p:spPr>
              <a:xfrm>
                <a:off x="7128720" y="5919120"/>
                <a:ext cx="12312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7541280" y="5410080"/>
              <a:ext cx="123480" cy="1057680"/>
              <a:chOff x="7541280" y="5410080"/>
              <a:chExt cx="123480" cy="1057680"/>
            </a:xfrm>
          </p:grpSpPr>
          <p:grpSp>
            <p:nvGrpSpPr>
              <p:cNvPr id="738" name=""/>
              <p:cNvGrpSpPr/>
              <p:nvPr/>
            </p:nvGrpSpPr>
            <p:grpSpPr>
              <a:xfrm>
                <a:off x="7541280" y="5410080"/>
                <a:ext cx="123120" cy="1057680"/>
                <a:chOff x="7541280" y="5410080"/>
                <a:chExt cx="123120" cy="10576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1280" y="591912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541280" y="5410080"/>
                  <a:ext cx="123120" cy="5486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1" name=""/>
              <p:cNvSpPr/>
              <p:nvPr/>
            </p:nvSpPr>
            <p:spPr>
              <a:xfrm>
                <a:off x="7541280" y="5919120"/>
                <a:ext cx="123480" cy="136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6827760" y="5334120"/>
              <a:ext cx="1344240" cy="1217520"/>
            </a:xfrm>
            <a:prstGeom prst="octagon">
              <a:avLst>
                <a:gd name="adj" fmla="val 292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221600" y="535464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18000" y="60768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633440" y="533412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33440" y="60958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6957360" y="651816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 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/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;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/B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4E3-45C6-440E-85D4-869215EF1E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898280" y="304560"/>
            <a:ext cx="67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a1e"/>
                </a:solidFill>
                <a:latin typeface="Comic Sans MS"/>
              </a:rPr>
              <a:t>Ricordiamo l’incrocio a 3 punti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1916280" y="1525680"/>
            <a:ext cx="6438600" cy="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916280" y="1982880"/>
            <a:ext cx="64386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16280" y="914400"/>
            <a:ext cx="67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898640" y="2057400"/>
            <a:ext cx="66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3071880" y="1523880"/>
            <a:ext cx="4953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989440" y="1523880"/>
            <a:ext cx="6602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6456240" y="1523880"/>
            <a:ext cx="4953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373800" y="1523880"/>
            <a:ext cx="6602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185640" y="236232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utti i possibili gam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095560" y="3429000"/>
            <a:ext cx="2394000" cy="144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95560" y="281952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   B    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095560" y="3733920"/>
            <a:ext cx="239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13120" y="3733920"/>
            <a:ext cx="26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    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47880" y="2895480"/>
            <a:ext cx="247680" cy="1371600"/>
          </a:xfrm>
          <a:custGeom>
            <a:avLst/>
            <a:gdLst>
              <a:gd name="textAreaLeft" fmla="*/ 158400 w 247680"/>
              <a:gd name="textAreaRight" fmla="*/ 248040 w 2476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61800" y="312264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rent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752560" y="1523880"/>
            <a:ext cx="42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61800" y="4494240"/>
            <a:ext cx="18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ro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ver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98640" y="4419720"/>
            <a:ext cx="247680" cy="1371600"/>
          </a:xfrm>
          <a:custGeom>
            <a:avLst/>
            <a:gdLst>
              <a:gd name="textAreaLeft" fmla="*/ 158400 w 247680"/>
              <a:gd name="textAreaRight" fmla="*/ 248040 w 2476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2178000" y="4800600"/>
            <a:ext cx="2394000" cy="144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78000" y="5257800"/>
            <a:ext cx="239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838600" y="4800600"/>
            <a:ext cx="17334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921040" y="5257800"/>
            <a:ext cx="1650960" cy="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95360" y="44434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   b    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33160" y="52657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   B    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315040" y="297036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ro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ver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83560" y="2895480"/>
            <a:ext cx="247320" cy="1371600"/>
          </a:xfrm>
          <a:custGeom>
            <a:avLst/>
            <a:gdLst>
              <a:gd name="textAreaLeft" fmla="*/ 158040 w 247320"/>
              <a:gd name="textAreaRight" fmla="*/ 247680 w 247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7130880" y="3276720"/>
            <a:ext cx="2394000" cy="144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130880" y="3733920"/>
            <a:ext cx="239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699400" y="3276720"/>
            <a:ext cx="8254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750160" y="3733920"/>
            <a:ext cx="825480" cy="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71280" y="28432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   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305840" y="374184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    b    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315040" y="457056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ro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ver 1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83560" y="4495680"/>
            <a:ext cx="247320" cy="1371600"/>
          </a:xfrm>
          <a:custGeom>
            <a:avLst/>
            <a:gdLst>
              <a:gd name="textAreaLeft" fmla="*/ 158040 w 247320"/>
              <a:gd name="textAreaRight" fmla="*/ 247680 w 247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7130880" y="4876920"/>
            <a:ext cx="2394000" cy="144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130880" y="5334120"/>
            <a:ext cx="239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09040" y="4876920"/>
            <a:ext cx="8254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709040" y="5334120"/>
            <a:ext cx="825480" cy="0"/>
          </a:xfrm>
          <a:prstGeom prst="line">
            <a:avLst/>
          </a:prstGeom>
          <a:ln w="38160">
            <a:solidFill>
              <a:srgbClr val="ff0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69120" y="45194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   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340400" y="534204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    B    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230120" y="5943600"/>
            <a:ext cx="54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 questo incrocio ha “l’aplotipo” noto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B05-C797-42AF-9463-AD2083087D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8:54:06Z</dcterms:created>
  <dc:creator>Palumbo</dc:creator>
  <dc:description/>
  <dc:language>en-US</dc:language>
  <cp:lastModifiedBy>Mariano Rocchi</cp:lastModifiedBy>
  <cp:lastPrinted>2007-05-10T05:55:07Z</cp:lastPrinted>
  <dcterms:modified xsi:type="dcterms:W3CDTF">2008-04-30T06:31:43Z</dcterms:modified>
  <cp:revision>262</cp:revision>
  <dc:subject/>
  <dc:title>Procedimento sperimentale di Mendel</dc:title>
</cp:coreProperties>
</file>