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449A-B009-40FB-8CC7-47270FA6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CD4-5694-4CA3-87C5-2C8649A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7ED-7188-4EDC-BEBA-2C153334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131-B8E5-4EF0-90D3-9680D5D7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EAE-D5F1-4E1A-B675-A832B4FB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985-6931-4AFF-971C-CD7597A0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AA9-3679-4093-8D82-F4508B60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F41F-C642-44D6-88E1-784A1964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A70-9D3C-4780-AEF0-5AB4439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EEE-3532-4234-AF71-0734C17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FDC-43C3-4CB0-8DFA-E91A935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24A-9A7A-44F2-8B13-F0C92EC8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8CA8-A9E1-4B3D-8ED4-9773BC7B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enetests.org/" TargetMode="External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17560"/>
            <a:ext cx="5929200" cy="425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59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nemia falciforme  SCD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Sicle Cell Disease)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85312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24600" y="60912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21160" y="1371600"/>
            <a:ext cx="458496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iagno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225360" y="1684440"/>
            <a:ext cx="933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iagnosi molecolare e’ relativamente semplice dal momento che le mutazioni sono poche e ben caratterizzate. La PCR con le sue varianti sono la tecnica d’elezione.La ricerca quando e’ presente un allele beta-thalassemico (lo si vede dall’alterato rapporto alfa/beta) e’ complic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l’elevato numero di questi allel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5840" y="3780000"/>
            <a:ext cx="96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turalmente una volta identificati gli alleli patogenetici presenti n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miglia si puo’ fare la diagnosi prenatale e/o preimpi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5840" y="5138640"/>
            <a:ext cx="96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uttavia puo’ capitare che non si trovi la mutazione e allora si sequenz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 le difficolta’ gia’ illust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82840" y="597600"/>
            <a:ext cx="3733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quenziamen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428760" y="1770120"/>
            <a:ext cx="92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che potrebbe essere patogenetica (il meccanismo di azione del prodotto e’ noto): e’ presente in altri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0840" y="127620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 tenendo presente che se si trova una m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" y="309096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con effetto ignot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200" y="408132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il cui effetto si ritiene innocu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6120" y="511020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descritta in letteratura, il cui effetto e’ accertato essere innocuo sulla funzionalita’ (com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57280" y="876600"/>
            <a:ext cx="3733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quenziamen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50080" y="1606680"/>
            <a:ext cx="92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: si e’ rispos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tutte le domande precedenti, quin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i e’ trovato niente di chiaramente patogenetico. Che vuol d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600" y="2736720"/>
            <a:ext cx="895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ad un altro loc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agnosi errata o il prodotto del secondo ipotetico locus interagisce con il primo e quindi il fenotipo e’ ug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4248000"/>
            <a:ext cx="89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che non e’ visibile perche’ si manifesta durante la maturazione dell’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drome di Marfan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8531280" y="588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0" y="51228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8000" y="5680080"/>
            <a:ext cx="95281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Wingdings" charset="2"/>
              <a:buChar char="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e informazioni sulle malattie sono reperibili oltre che come PDF (alcune) anche  al si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genetests.org: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cliccare su laboratory directory nella b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8000" y="1500120"/>
            <a:ext cx="9528120" cy="3623400"/>
            <a:chOff x="378000" y="1500120"/>
            <a:chExt cx="9528120" cy="3623400"/>
          </a:xfrm>
        </p:grpSpPr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378000" y="1500120"/>
              <a:ext cx="1828800" cy="31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2409840" y="1541520"/>
              <a:ext cx="2309760" cy="31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4719600" y="1541520"/>
              <a:ext cx="2214720" cy="31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7026120" y="1500120"/>
              <a:ext cx="2880000" cy="314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78000" y="4786200"/>
              <a:ext cx="93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menophis IV      Abramo Lincoln           Nicolo’ Paganini          Sergej V. Rachmanin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7760" y="1295640"/>
            <a:ext cx="294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3564000"/>
            <a:ext cx="952056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gene coinvolto in questa patologia e’ FBN1 (Fibrillin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che mappa in 15q21.1, contiene 65 esoni, e’ lungo 600 Kb, sono note oltre 400 mutazioni patogenetiche, nessuna delle quali limitata a popolazioni particolari. La patologia si tramette come autosomica do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0000" y="5392800"/>
            <a:ext cx="963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fibrillina 1 e’ una proteina della matrice extracellulare che contribuisce alla formazione delle miofribrille associandosi con altre proteine, da qui l’effetto dominante neg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280" y="1900080"/>
            <a:ext cx="952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sta patologia e’ sistemica, dal momento che e’ coinvolto il conne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notizie dettagliate le trovate sul Korf), e si presenta con un ampio spettro di espressivita’, caratteristica comune e’ l’altezza e la lassita’ delle artico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flipH="1">
            <a:off x="6861240" y="709560"/>
            <a:ext cx="18921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8400" y="2108520"/>
            <a:ext cx="265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a fibrillin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03640" y="712800"/>
            <a:ext cx="5918040" cy="3740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5240" y="4657680"/>
            <a:ext cx="9715320" cy="194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765600" y="736920"/>
            <a:ext cx="294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3030480"/>
            <a:ext cx="952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nalisi molecolare viene richiesta per conferma della diagnosi, che per il coinvolgimento sistemico e il livello di espressivita’, in mancanza di storia familiare e’ difficile: con lo studio molecolare vengono individuate circa il 90% delle mutazioni. Altrimenti si ricorre al lin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00" y="4859280"/>
            <a:ext cx="963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l momento che alcuni soggetti potrebbero essere portatori senza saper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nalisi viene richiesta come test predittivo (Test a cui si sottopongono individui asintomatici,con una storia familiare di malattia gene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280" y="1366920"/>
            <a:ext cx="95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irca il 75% degli affetti hanno un genitore affetto (la fitness non e’ ridotta), il restante 25% son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e novo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mosaicismo germinale e’ ra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diagnosi prenatale e’ possibile, ma raramente viene richi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65600" y="736920"/>
            <a:ext cx="294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II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33280" y="1366920"/>
            <a:ext cx="9520200" cy="36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po di muta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ssenso/nonsenso ~ 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rrori di splicing ~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ccole delezioni ~ 1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iccole insersioni/indel ~ 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sse delezioni/insersioni ~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65600" y="736920"/>
            <a:ext cx="294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IV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271440" y="1074600"/>
            <a:ext cx="9520200" cy="15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alisi di mutazio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tilizzando i test di ricerca di mutazioni note sul genomico e/o sequenziando il cDNAe/o il gDNA si ottiene un’efficienza pari 70%-93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’efficienza e’ legata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3280" y="2119320"/>
            <a:ext cx="952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uratezza della diagno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3280" y="2513160"/>
            <a:ext cx="952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ipo di mutazione : alcune possono non essere evidenziate dai test routin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1440" y="2928960"/>
            <a:ext cx="952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fficienza del 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6920" y="5419800"/>
            <a:ext cx="68914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20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ttenzione nel sequenziare 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1520" y="3592440"/>
            <a:ext cx="952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iare il cDNA permette di evidenziare tutte quelle mutazioni che comportano splicing errato (sul gDNA non sarebbero evidenziabil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9160" y="4497480"/>
            <a:ext cx="952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quenziare il gDNA permette di evidenziare queel mutazioni che portano ad una rapida degredazione dell’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82840" y="597600"/>
            <a:ext cx="3733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ten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428760" y="1770120"/>
            <a:ext cx="92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che potrebbe essere patogenetica (il meccanismo di azione del prodotto e’ noto): e’ presente in altri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0840" y="1276200"/>
            <a:ext cx="85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 tenendo presente che se si trova una muta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" y="309096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con effetto ignot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200" y="408132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mai descritta in letteratura, ma il cui effetto si ritiene innocuo sulla funzionalita’: e’ presente in soggetti sani della famigl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6120" y="5110200"/>
            <a:ext cx="92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descritta in letteratura, il cui effetto e’ accertato essere innocuo sulla funzionalita’ (com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2160" y="825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s’e’ l’anemia falciform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2282760"/>
            <a:ext cx="936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falcemia  e’ una forma di anemia caratterizzata, oltre che da emolisi da episodi di occlusione dei vasi sanguigni con conseguente ischemia dei tessuti e danni agli organi (l’occlusione e’ legata alla tendenza alla falcizzazione dei globuli rossi e alla loro scarsa elasticita’ dovute alla tendenza delle catene mutanti ad aggregarsi, per cui i globuli rossi non riescono a passare nei vasi periferici) l’occlusione si accompagna ai dolori delle estremita’ . La maggior parte degli affetti non hanno segni clinici evidenti alla nascita e cominciano a manifestare i primi segni nell’infanzia e nella fanciullezza (perche’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flipH="1">
            <a:off x="6823080" y="900000"/>
            <a:ext cx="1892160" cy="133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57280" y="876600"/>
            <a:ext cx="3733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ttenzion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50080" y="1606680"/>
            <a:ext cx="92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quenziamento: si e’ rispos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tutte le domande precedenti, quin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n si e’ trovato niente di chiaramente patogenetico. Che vuol di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8880" y="2787480"/>
            <a:ext cx="895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ad un altro loc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agnosi errata o il prodotto del secondo ipotetico locus interagisce con il primo e quindi il fenotipo e’ ug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7040" y="4476600"/>
            <a:ext cx="895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probando, chiaramente malato, ha una mutazione che non visibile perche’ si manifesta durante la maturazione dell’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765600" y="736920"/>
            <a:ext cx="294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V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71440" y="2577960"/>
            <a:ext cx="952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’analisi di linkage  non puo’ essere utilizzata: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440" y="3135240"/>
            <a:ext cx="95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do nella famiglia l’affetto e’ uno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7080" y="1190520"/>
            <a:ext cx="952020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alisi di linkage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non si trova niente, si e’ sicuri della diagnosi, l’analisi di linkage con polimorfismi interni al gene, e’ informativa al 100% ed e’ utile per la predittiva m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1440" y="3745080"/>
            <a:ext cx="95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presenza di fenotipi atipici che potrebbero essere legati ad altri locus (difficolta’ legata all’aspetto sistemico della malat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7080" y="4719600"/>
            <a:ext cx="952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200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uttavia in famiglie in cui la diagnosi e’ certa e ci sono piu’ membri affetti si puo’ al 100% identificare l’ “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llele Marfan”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cioe’ quale e’ la regione genomica che porta la mutazione patogenetica (qualunque essa s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765600" y="736920"/>
            <a:ext cx="2946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ARFAN V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127080" y="1317600"/>
            <a:ext cx="95202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 relazione genotipo fenotipo non e’ ben definita anche se si e’ cercato di stabilire una relazione fra le diverse regioni del gene e l’effetto sul fenotipo della loro mutazione patogenetica, tenendo sempre presente che l’espressivita’ e’ diversa  anche all’interno della stessa famiglia. Generalizz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1440" y="2770200"/>
            <a:ext cx="9520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elli che presentano il fenotipo neonatale (+grave) di solito hanno mutazioni nella parte centrale del gene (regione mutata tuttavia anche in alcuni con forma lieve  o canon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1440" y="3957480"/>
            <a:ext cx="952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 insersioni, delezioni o errori di splicing senza perdita della fra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la regione centrale sono associate a manifestazioni piu’ gra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1440" y="4932360"/>
            <a:ext cx="952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i che provocano un trascritto piu’ corto che viene degradato rapidamente o che impediscono la maturazione post traduzionale del C-terminale, sostituzioni aa che modificano le interazioni con altre molec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no fenotipi da lievi a cano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8440" y="4392000"/>
            <a:ext cx="81025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 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presenti anche i file PDF degli articoli necessa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la preparazion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0840" y="558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etica dell’anemia falciform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30120" y="3182760"/>
            <a:ext cx="913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atologia e’ legata alla presenza dell’emoglobina S (HbSS) in cui le catene  beta sono mutate al codone 6 dove un acido glutammico viene sostituito da una valina. Questa mutazione e’ presente praticamente in tutti gli affetti che sono pertanto dei veri omozigo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66800"/>
            <a:ext cx="9404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 trasmette come autosomica recessiva se si considera il fenoti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stemico dell’individuo, se consideriamo il fenotipo del globulo rosso e’ dominante, perche’ gli eterozigoti presentano la falcizzazione anche se sono asintoma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1640" y="4782960"/>
            <a:ext cx="913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incidenza varia da popolazione a popolazione, ma come altre patologie del globulo rosso e’ piu frequente nelle regioni malariche, in Africa e’ molto frequente: 120.000 nati vivi l’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 flipH="1">
            <a:off x="8118000" y="623880"/>
            <a:ext cx="1622520" cy="172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etica dell’anemia falciform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66800"/>
            <a:ext cx="94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statisca USA ripor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316240"/>
            <a:ext cx="92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60-70% degli affetti hanno la anemia falciforme Hb S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cui sono presenti due alleli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tri affetti hanno forme varianti legate alla presenza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 allele S e di altri alleli patologici, cioe’ son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terozigoti compos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forma piu’ frequente di questo gruppo e’ l’anem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lciforme-emoglobina C: Hb SC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guono due forme di anemia falciforme-thalassemia 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b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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 HbS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tre forme sono dovute alla presenza oltre che dell’allele 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 alleli come D-Punjab o O-Arab (il nome di questi alleli ind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iaramente che sono presenti in gruppi etnici distinti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flipH="1">
            <a:off x="8118000" y="623880"/>
            <a:ext cx="1622520" cy="172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9760" y="67392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llelia multipla nell’anemia falciform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264960" y="1312920"/>
            <a:ext cx="9641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gene HBB mappa in 11p15 nel cluster delle globine non-alfa(cfr Gen.II), ha molti alleli anche solo polimorfici, e la sua funzione vi e’ piu’ che nota. Per quello che riguarda l’anemia falcifor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3080" y="2711520"/>
            <a:ext cx="8346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e S :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e’ presente una sostituzione del  secondo nucleot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 sesto codone, mutazione E6V Acido glutammico &gt; Val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e C: e’ presente una sostituzione del  secondo nucleot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l sesto codone, mutazione E6K Acido glutammico &gt; Lis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e D-Punjab e’ presente una sostituzione al codone 12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E121Q Acido glutammico &gt;Glutam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e O-Arab e’ presente una sostituzione al codone 121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tazione E121K Acido glutammico &gt;Lis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eli Thalassemici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9000" y="393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erche’ HbSS e’ patolog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1393920"/>
            <a:ext cx="926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lla emoglobina deossigenata una interazione fra l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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valina e le regioni complementari delle molecole vicine puo’ indurre la formazione di polimeri che si aggregano e alterano la forma del globulo rosso, rendendolo fragile e poco flessib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3063960"/>
            <a:ext cx="529092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19000" y="39348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ulenza gene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41200" y="1585800"/>
            <a:ext cx="942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isogna tenere presente che se e’ vero che la maggior parte degli affe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 2 alleli S, non si deve trascurare la possibilita’ che siano eterozigoti composti o che uno dei genitori lo sia e sia asintomatico. Infatti in alcune popolazioni gli alleli patogenetici possono essere presenti con frequenza elev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4568760"/>
            <a:ext cx="942336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indi il rischio di ricorrenza o di essere portatori per i fratelli dipende dal genotipo del probando e dei genitor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04520" y="431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ulenza gene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>
            <a:off x="291960" y="1355760"/>
            <a:ext cx="934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genitori del probando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(primo individuo studiato in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famiglia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ffetto genericamente da Anemia Falciforme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s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rtatori sani perche’ entrambi eterozigoti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llele S (wt/S), se ci troviamo di fronte ad un malato Hb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rtatori sani perche’ ognuno e’ eterozigote 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a diversa mutazione patogenetica della catena se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bando e’un eterozigote composto per es. HbS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 Hb 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 genitore potrebbe essere eterozigote wt/S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ltro omozigote SS o eterozigote compo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ntrambi omozigoti HbSS o eterozigoti comp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03760" y="587232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indi i fratel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495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sulenza genetic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203040" y="1479600"/>
            <a:ext cx="9402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entrambi i  genitori sono portatori sani e quindi eterozigoti pe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n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mutazione del gene della catena , al momento del concepimento: 25% affetti, 50% portatori sani di una delle mutazioni presenti nei genitori, 25% non portatori e quindi wt/wt. I fratelli gia’ nati e non affetti hanno 2/3 di probabilita’ di essere port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un genitore e’ eterozigote wt/S e l’altro omozigote SS o eterozigote composto, ciascun fratello prima del concepimento ha 50% di probabilta’ di essere affetto e 50% di essere portatore sano e quindi wt/m. Fratelli gia’ nati e non affetti 100% portato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SzPct val="150000"/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 i genitori sono entrambi omozigoti HbSS o eterozigoti composti, 100% affet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5-28T11:36:27Z</cp:lastPrinted>
  <dcterms:modified xsi:type="dcterms:W3CDTF">2008-05-14T11:30:27Z</dcterms:modified>
  <cp:revision>247</cp:revision>
  <dc:subject/>
  <dc:title>Procedimento sperimentale di Mendel</dc:title>
</cp:coreProperties>
</file>