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6.pct" ContentType="image/x-pict"/>
  <Override PartName="/ppt/media/image39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.pct" ContentType="image/x-pict"/>
  <Override PartName="/ppt/media/image12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13.pct" ContentType="image/x-pict"/>
  <Override PartName="/ppt/media/image34.pct" ContentType="image/x-pict"/>
  <Override PartName="/ppt/media/image37.pct" ContentType="image/x-pict"/>
  <Override PartName="/ppt/media/image30.jpeg" ContentType="image/jpeg"/>
  <Override PartName="/ppt/media/image40.pct" ContentType="image/x-pict"/>
  <Override PartName="/ppt/media/image31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42.pct" ContentType="image/x-pict"/>
  <Override PartName="/ppt/media/image43.pct" ContentType="image/x-pict"/>
  <Override PartName="/ppt/media/image7.jpeg" ContentType="image/jpeg"/>
  <Override PartName="/ppt/media/image28.jpeg" ContentType="image/jpeg"/>
  <Override PartName="/ppt/media/image11.jpeg" ContentType="image/jpeg"/>
  <Override PartName="/ppt/media/image3.pct" ContentType="image/x-pict"/>
  <Override PartName="/ppt/media/image8.png" ContentType="image/png"/>
  <Override PartName="/ppt/media/image3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44.pct" ContentType="image/x-pict"/>
  <Override PartName="/ppt/media/image5.jpeg" ContentType="image/jpeg"/>
  <Override PartName="/ppt/media/image23.pct" ContentType="image/x-pict"/>
  <Override PartName="/ppt/media/image26.jpeg" ContentType="image/jpeg"/>
  <Override PartName="/ppt/media/image2.pct" ContentType="image/x-pict"/>
  <Override PartName="/ppt/media/image32.pct" ContentType="image/x-pict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139E-EBFA-4D71-9CEF-FFF39B1F84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6EFA-0961-42A6-965B-7D68F4EF81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C3C-019D-4975-B56D-26E8397565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9281-903C-4480-B2B3-628FC75A79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81B-DBF9-4328-832A-53DF00DFBB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6FB-1948-4E7A-840E-3064E58878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3F50-6078-4668-845F-A933791018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85D-5810-4A61-BD85-1BC78AFB97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C84A-B2EA-46FE-BBC4-6C2F628F8C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CDD5-6360-47A5-B9B4-96C96F79E6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4475-D0BB-45D4-9547-4A8ACA5D2F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46D9-05B8-4014-98CE-04B6E16FFA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FEB-A749-4E83-B808-14F3D4A9F9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60A-4AE5-40BF-B2DE-1EE35A1C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A0C-1FAD-4537-B57D-C2B54BA0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66E-2854-47F1-89C1-6D3FD603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5E5-573D-426C-9890-A320600E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FEE-F5AD-4D49-8091-7213119E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F2F-EE9D-494C-9BEC-AED004BC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AC0-B1A6-4302-9823-A02B3A31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25F-2EE3-4039-B39D-F0E34AA3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80C-0E7E-47A3-9F20-CD1F5E6A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8A8-5C32-4948-819D-900A68B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754-5320-41CA-83C4-2741876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743-C08C-4CBB-82AE-E0B63115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DC3C-CE5F-47DB-A7EB-85B0D8528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6920" y="60804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333440" y="152280"/>
            <a:ext cx="828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M Sc.Biosanitarie GeneticaIII (Diagn.Molec.)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7560" cy="1049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ct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ct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ct"/><Relationship Id="rId3" Type="http://schemas.openxmlformats.org/officeDocument/2006/relationships/image" Target="../media/image37.pct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3.pct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image" Target="../media/image13.pct"/><Relationship Id="rId14" Type="http://schemas.openxmlformats.org/officeDocument/2006/relationships/image" Target="../media/image3.pct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3.pct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1.jpeg"/><Relationship Id="rId4" Type="http://schemas.openxmlformats.org/officeDocument/2006/relationships/image" Target="../media/image3.pct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itogenetica 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5829480"/>
            <a:ext cx="9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a citogenetica e` lo studio dei fenomeni genetici attraverso l’analisi citologica dei cromosomi al microscopio.                                       Ferguson-Sm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1593720"/>
            <a:ext cx="6553080" cy="4280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01160" y="1096920"/>
            <a:ext cx="1603080" cy="20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5019840" cy="49402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89120" y="774720"/>
            <a:ext cx="727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088560" y="4411800"/>
            <a:ext cx="517320" cy="1944720"/>
            <a:chOff x="9088560" y="4411800"/>
            <a:chExt cx="517320" cy="1944720"/>
          </a:xfrm>
        </p:grpSpPr>
        <p:sp>
          <p:nvSpPr>
            <p:cNvPr id="322" name=""/>
            <p:cNvSpPr/>
            <p:nvPr/>
          </p:nvSpPr>
          <p:spPr>
            <a:xfrm>
              <a:off x="9094680" y="5872320"/>
              <a:ext cx="507600" cy="48420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08dbff"/>
                </a:gs>
                <a:gs pos="50000">
                  <a:srgbClr val="ffffff"/>
                </a:gs>
                <a:gs pos="100000">
                  <a:srgbClr val="08db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94680" y="5294160"/>
              <a:ext cx="507600" cy="73980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94680" y="5038920"/>
              <a:ext cx="507600" cy="650880"/>
            </a:xfrm>
            <a:prstGeom prst="can">
              <a:avLst>
                <a:gd name="adj" fmla="val 13884"/>
              </a:avLst>
            </a:prstGeom>
            <a:gradFill rotWithShape="0">
              <a:gsLst>
                <a:gs pos="0">
                  <a:srgbClr val="08dbff"/>
                </a:gs>
                <a:gs pos="50000">
                  <a:srgbClr val="ffffff"/>
                </a:gs>
                <a:gs pos="100000">
                  <a:srgbClr val="08db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088560" y="4695840"/>
              <a:ext cx="517320" cy="560520"/>
            </a:xfrm>
            <a:prstGeom prst="can">
              <a:avLst>
                <a:gd name="adj" fmla="val 18129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094680" y="4411800"/>
              <a:ext cx="507600" cy="40644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8dbff"/>
                </a:gs>
                <a:gs pos="50000">
                  <a:srgbClr val="ffffff"/>
                </a:gs>
                <a:gs pos="100000">
                  <a:srgbClr val="08db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172440" y="4122720"/>
            <a:ext cx="351000" cy="336600"/>
          </a:xfrm>
          <a:prstGeom prst="can">
            <a:avLst>
              <a:gd name="adj" fmla="val 595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094680" y="3708360"/>
            <a:ext cx="507960" cy="457200"/>
          </a:xfrm>
          <a:prstGeom prst="can">
            <a:avLst>
              <a:gd name="adj" fmla="val 1848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97880" y="5859360"/>
            <a:ext cx="507960" cy="484200"/>
          </a:xfrm>
          <a:prstGeom prst="can">
            <a:avLst>
              <a:gd name="adj" fmla="val 27629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880" y="5281560"/>
            <a:ext cx="507960" cy="739800"/>
          </a:xfrm>
          <a:prstGeom prst="can">
            <a:avLst>
              <a:gd name="adj" fmla="val 22328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97880" y="5025960"/>
            <a:ext cx="507960" cy="650880"/>
          </a:xfrm>
          <a:prstGeom prst="can">
            <a:avLst>
              <a:gd name="adj" fmla="val 13884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97880" y="4757760"/>
            <a:ext cx="507960" cy="485640"/>
          </a:xfrm>
          <a:prstGeom prst="can">
            <a:avLst>
              <a:gd name="adj" fmla="val 253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97880" y="4554360"/>
            <a:ext cx="507960" cy="32256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97880" y="4535640"/>
            <a:ext cx="507960" cy="196560"/>
          </a:xfrm>
          <a:prstGeom prst="can">
            <a:avLst>
              <a:gd name="adj" fmla="val 253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97880" y="4464000"/>
            <a:ext cx="507960" cy="147600"/>
          </a:xfrm>
          <a:prstGeom prst="can">
            <a:avLst>
              <a:gd name="adj" fmla="val 40185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97880" y="4075200"/>
            <a:ext cx="507960" cy="457200"/>
          </a:xfrm>
          <a:prstGeom prst="can">
            <a:avLst>
              <a:gd name="adj" fmla="val 1848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75640" y="3718080"/>
            <a:ext cx="350640" cy="39996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97880" y="3422520"/>
            <a:ext cx="507960" cy="40644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91400" y="2984400"/>
            <a:ext cx="517680" cy="560520"/>
          </a:xfrm>
          <a:prstGeom prst="can">
            <a:avLst>
              <a:gd name="adj" fmla="val 2996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97880" y="2865600"/>
            <a:ext cx="507960" cy="357120"/>
          </a:xfrm>
          <a:prstGeom prst="can">
            <a:avLst>
              <a:gd name="adj" fmla="val 37745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91400" y="2651040"/>
            <a:ext cx="517680" cy="371520"/>
          </a:xfrm>
          <a:prstGeom prst="can">
            <a:avLst>
              <a:gd name="adj" fmla="val 318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97880" y="2309760"/>
            <a:ext cx="507960" cy="523800"/>
          </a:xfrm>
          <a:prstGeom prst="can">
            <a:avLst>
              <a:gd name="adj" fmla="val 26791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9094680" y="2996640"/>
            <a:ext cx="507960" cy="485640"/>
          </a:xfrm>
          <a:prstGeom prst="can">
            <a:avLst>
              <a:gd name="adj" fmla="val 253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9094680" y="3363120"/>
            <a:ext cx="507960" cy="32220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094680" y="3508200"/>
            <a:ext cx="507960" cy="19692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94680" y="2878200"/>
            <a:ext cx="507960" cy="357120"/>
          </a:xfrm>
          <a:prstGeom prst="can">
            <a:avLst>
              <a:gd name="adj" fmla="val 37745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088560" y="2664000"/>
            <a:ext cx="517320" cy="371160"/>
          </a:xfrm>
          <a:prstGeom prst="can">
            <a:avLst>
              <a:gd name="adj" fmla="val 318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94680" y="2322360"/>
            <a:ext cx="507960" cy="524160"/>
          </a:xfrm>
          <a:prstGeom prst="can">
            <a:avLst>
              <a:gd name="adj" fmla="val 26791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17000" y="31496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10520" y="528948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094680" y="3603600"/>
            <a:ext cx="507960" cy="184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6520" bIns="56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91840" y="3164040"/>
            <a:ext cx="1193040" cy="216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8720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87202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45320" y="5245200"/>
            <a:ext cx="584280" cy="110880"/>
          </a:xfrm>
          <a:prstGeom prst="roundRect">
            <a:avLst>
              <a:gd name="adj" fmla="val 16667"/>
            </a:avLst>
          </a:prstGeom>
          <a:solidFill>
            <a:srgbClr val="ff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32720" y="3073320"/>
            <a:ext cx="584280" cy="111240"/>
          </a:xfrm>
          <a:prstGeom prst="roundRect">
            <a:avLst>
              <a:gd name="adj" fmla="val 16667"/>
            </a:avLst>
          </a:prstGeom>
          <a:solidFill>
            <a:srgbClr val="005d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055080" y="302256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005d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055080" y="311148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ff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3949560"/>
            <a:ext cx="23623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21440" y="3860640"/>
            <a:ext cx="190440" cy="165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03920" y="3479760"/>
            <a:ext cx="0" cy="33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9400" y="3479760"/>
            <a:ext cx="0" cy="33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75240" y="4013280"/>
            <a:ext cx="522360" cy="90360"/>
          </a:xfrm>
          <a:prstGeom prst="roundRect">
            <a:avLst>
              <a:gd name="adj" fmla="val 16667"/>
            </a:avLst>
          </a:prstGeom>
          <a:solidFill>
            <a:srgbClr val="ff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11960" y="4000680"/>
            <a:ext cx="546120" cy="90360"/>
          </a:xfrm>
          <a:prstGeom prst="roundRect">
            <a:avLst>
              <a:gd name="adj" fmla="val 16667"/>
            </a:avLst>
          </a:prstGeom>
          <a:solidFill>
            <a:srgbClr val="005d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 flipV="1">
            <a:off x="9042480" y="518148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005d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9042480" y="525780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ff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flipH="1">
            <a:off x="2517480" y="1268280"/>
            <a:ext cx="6010200" cy="5589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1730520"/>
            <a:ext cx="29052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ff1119"/>
                </a:solidFill>
                <a:latin typeface="Comic Sans MS"/>
              </a:rPr>
              <a:t>Esempio dell’uso di librerie totali  per evidenziare  riarrangi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0560" y="635760"/>
            <a:ext cx="7594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119"/>
                </a:solidFill>
                <a:latin typeface="Comic Sans MS"/>
              </a:rPr>
              <a:t>Traslocazioni complesse in AML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111600" y="4152960"/>
            <a:ext cx="191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1119"/>
                </a:solidFill>
                <a:latin typeface="Comic Sans MS"/>
              </a:rPr>
              <a:t>t(8;13;1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2440" y="3263760"/>
            <a:ext cx="495000" cy="609840"/>
          </a:xfrm>
          <a:prstGeom prst="downArrow">
            <a:avLst>
              <a:gd name="adj1" fmla="val 50000"/>
              <a:gd name="adj2" fmla="val 30800"/>
            </a:avLst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8677440" y="57636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6869160" y="4635360"/>
            <a:ext cx="476280" cy="1400040"/>
            <a:chOff x="6869160" y="4635360"/>
            <a:chExt cx="476280" cy="1400040"/>
          </a:xfrm>
        </p:grpSpPr>
        <p:sp>
          <p:nvSpPr>
            <p:cNvPr id="373" name=""/>
            <p:cNvSpPr/>
            <p:nvPr/>
          </p:nvSpPr>
          <p:spPr>
            <a:xfrm>
              <a:off x="6869160" y="5655960"/>
              <a:ext cx="476280" cy="37944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9160" y="5256000"/>
              <a:ext cx="476280" cy="50472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69160" y="5203440"/>
              <a:ext cx="476280" cy="304920"/>
            </a:xfrm>
            <a:prstGeom prst="can">
              <a:avLst>
                <a:gd name="adj" fmla="val 28115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69160" y="4906800"/>
              <a:ext cx="476280" cy="409680"/>
            </a:xfrm>
            <a:prstGeom prst="can">
              <a:avLst>
                <a:gd name="adj" fmla="val 16976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69160" y="4635360"/>
              <a:ext cx="476280" cy="46044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397480" y="1066680"/>
            <a:ext cx="35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1119"/>
                </a:solidFill>
                <a:latin typeface="Comic Sans MS"/>
              </a:rPr>
              <a:t>La traslocazione t(15;17)(q22;q21) è associata clinicamente alla leucemia acuta promielocitica (AP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71360" y="1249200"/>
            <a:ext cx="5295960" cy="43894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91880" y="469440"/>
            <a:ext cx="803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Leucemia Acuta Promielocitica (APL) geni coinvolti PML-RAR</a:t>
            </a:r>
            <a:r>
              <a:rPr b="1" lang="it-IT" sz="2000" spc="-1" strike="noStrike">
                <a:solidFill>
                  <a:srgbClr val="ff1119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3656880" y="4724280"/>
            <a:ext cx="143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ff0b"/>
                </a:solidFill>
                <a:latin typeface="Comic Sans MS"/>
              </a:rPr>
              <a:t>In verde </a:t>
            </a:r>
            <a:r>
              <a:rPr b="0" lang="en-US" sz="1400" spc="-1" strike="noStrike">
                <a:solidFill>
                  <a:srgbClr val="0aff0b"/>
                </a:solidFill>
                <a:latin typeface="Comic Sans MS"/>
              </a:rPr>
              <a:t>chr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119"/>
                </a:solidFill>
                <a:latin typeface="Comic Sans MS"/>
              </a:rPr>
              <a:t>In rosso chr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6005520" y="5626080"/>
            <a:ext cx="476280" cy="444600"/>
          </a:xfrm>
          <a:prstGeom prst="can">
            <a:avLst>
              <a:gd name="adj" fmla="val 27629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05520" y="5208480"/>
            <a:ext cx="476280" cy="579600"/>
          </a:xfrm>
          <a:prstGeom prst="can">
            <a:avLst>
              <a:gd name="adj" fmla="val 22328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00840" y="4906800"/>
            <a:ext cx="476280" cy="619200"/>
          </a:xfrm>
          <a:prstGeom prst="can">
            <a:avLst>
              <a:gd name="adj" fmla="val 19504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00840" y="4843440"/>
            <a:ext cx="476280" cy="20016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04080" y="4602240"/>
            <a:ext cx="475920" cy="328680"/>
          </a:xfrm>
          <a:prstGeom prst="can">
            <a:avLst>
              <a:gd name="adj" fmla="val 27273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00840" y="4067280"/>
            <a:ext cx="476280" cy="60480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04080" y="3825720"/>
            <a:ext cx="475920" cy="31752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05520" y="3645000"/>
            <a:ext cx="476280" cy="24120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04080" y="3581280"/>
            <a:ext cx="475920" cy="1764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05520" y="3452760"/>
            <a:ext cx="476280" cy="20160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04080" y="3389400"/>
            <a:ext cx="475920" cy="177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4400" bIns="-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68880" y="3122640"/>
            <a:ext cx="330480" cy="31284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00840" y="3065400"/>
            <a:ext cx="476280" cy="173160"/>
          </a:xfrm>
          <a:prstGeom prst="can">
            <a:avLst>
              <a:gd name="adj" fmla="val 4568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6117120" y="2743920"/>
            <a:ext cx="25236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64200" y="2395440"/>
            <a:ext cx="336600" cy="347760"/>
          </a:xfrm>
          <a:prstGeom prst="ellipse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3640" y="2595600"/>
            <a:ext cx="117720" cy="285840"/>
          </a:xfrm>
          <a:prstGeom prst="rect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545680" y="3427560"/>
            <a:ext cx="484200" cy="2584080"/>
            <a:chOff x="8545680" y="3427560"/>
            <a:chExt cx="484200" cy="2584080"/>
          </a:xfrm>
        </p:grpSpPr>
        <p:sp>
          <p:nvSpPr>
            <p:cNvPr id="400" name=""/>
            <p:cNvSpPr/>
            <p:nvPr/>
          </p:nvSpPr>
          <p:spPr>
            <a:xfrm>
              <a:off x="8550360" y="5666400"/>
              <a:ext cx="476280" cy="34524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50360" y="5301720"/>
              <a:ext cx="476280" cy="46008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50360" y="5254200"/>
              <a:ext cx="476280" cy="277200"/>
            </a:xfrm>
            <a:prstGeom prst="can">
              <a:avLst>
                <a:gd name="adj" fmla="val 28115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550360" y="4983480"/>
              <a:ext cx="476280" cy="372960"/>
            </a:xfrm>
            <a:prstGeom prst="can">
              <a:avLst>
                <a:gd name="adj" fmla="val 16976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550360" y="4736520"/>
              <a:ext cx="476280" cy="41940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550360" y="4666680"/>
              <a:ext cx="476280" cy="156240"/>
            </a:xfrm>
            <a:prstGeom prst="can">
              <a:avLst>
                <a:gd name="adj" fmla="val 1971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550360" y="4416840"/>
              <a:ext cx="476280" cy="304920"/>
            </a:xfrm>
            <a:prstGeom prst="can">
              <a:avLst>
                <a:gd name="adj" fmla="val 2987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624880" y="4194000"/>
              <a:ext cx="328680" cy="28476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550360" y="3983040"/>
              <a:ext cx="476280" cy="29052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1d504"/>
                </a:gs>
                <a:gs pos="50000">
                  <a:srgbClr val="ffffff"/>
                </a:gs>
                <a:gs pos="100000">
                  <a:srgbClr val="01d50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45680" y="3656160"/>
              <a:ext cx="484200" cy="398880"/>
            </a:xfrm>
            <a:prstGeom prst="can">
              <a:avLst>
                <a:gd name="adj" fmla="val 2406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50360" y="3427560"/>
              <a:ext cx="476280" cy="334080"/>
            </a:xfrm>
            <a:prstGeom prst="can">
              <a:avLst>
                <a:gd name="adj" fmla="val 16870"/>
              </a:avLst>
            </a:prstGeom>
            <a:gradFill rotWithShape="0">
              <a:gsLst>
                <a:gs pos="0">
                  <a:srgbClr val="01d504"/>
                </a:gs>
                <a:gs pos="50000">
                  <a:srgbClr val="ffffff"/>
                </a:gs>
                <a:gs pos="100000">
                  <a:srgbClr val="01d50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867360" y="4092480"/>
            <a:ext cx="476280" cy="60480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67360" y="3851280"/>
            <a:ext cx="476280" cy="31752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69160" y="3670200"/>
            <a:ext cx="476280" cy="24156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67360" y="3606840"/>
            <a:ext cx="476280" cy="176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69160" y="3478320"/>
            <a:ext cx="476280" cy="20160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67360" y="3414600"/>
            <a:ext cx="476280" cy="177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4400" bIns="-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40440" y="3147840"/>
            <a:ext cx="330480" cy="31284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67360" y="3090960"/>
            <a:ext cx="476280" cy="172800"/>
          </a:xfrm>
          <a:prstGeom prst="can">
            <a:avLst>
              <a:gd name="adj" fmla="val 45689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6980760" y="2769480"/>
            <a:ext cx="25236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37200" y="2421000"/>
            <a:ext cx="336600" cy="347760"/>
          </a:xfrm>
          <a:prstGeom prst="ellipse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47000" y="2620800"/>
            <a:ext cx="117360" cy="285840"/>
          </a:xfrm>
          <a:prstGeom prst="rect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826400" y="4680000"/>
            <a:ext cx="477720" cy="1360080"/>
            <a:chOff x="7826400" y="4680000"/>
            <a:chExt cx="477720" cy="1360080"/>
          </a:xfrm>
        </p:grpSpPr>
        <p:sp>
          <p:nvSpPr>
            <p:cNvPr id="423" name=""/>
            <p:cNvSpPr/>
            <p:nvPr/>
          </p:nvSpPr>
          <p:spPr>
            <a:xfrm>
              <a:off x="7827840" y="5627520"/>
              <a:ext cx="476280" cy="41256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ff2007"/>
                </a:gs>
                <a:gs pos="50000">
                  <a:srgbClr val="ffffff"/>
                </a:gs>
                <a:gs pos="100000">
                  <a:srgbClr val="ff200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27840" y="5240880"/>
              <a:ext cx="476280" cy="53640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800106"/>
                </a:gs>
                <a:gs pos="50000">
                  <a:srgbClr val="ffffff"/>
                </a:gs>
                <a:gs pos="100000">
                  <a:srgbClr val="80010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26400" y="4961160"/>
              <a:ext cx="476280" cy="574560"/>
            </a:xfrm>
            <a:prstGeom prst="can">
              <a:avLst>
                <a:gd name="adj" fmla="val 19504"/>
              </a:avLst>
            </a:prstGeom>
            <a:gradFill rotWithShape="0">
              <a:gsLst>
                <a:gs pos="0">
                  <a:srgbClr val="ff2007"/>
                </a:gs>
                <a:gs pos="50000">
                  <a:srgbClr val="ffffff"/>
                </a:gs>
                <a:gs pos="100000">
                  <a:srgbClr val="ff200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26400" y="4902480"/>
              <a:ext cx="476280" cy="186120"/>
            </a:xfrm>
            <a:prstGeom prst="can">
              <a:avLst>
                <a:gd name="adj" fmla="val 37837"/>
              </a:avLst>
            </a:prstGeom>
            <a:gradFill rotWithShape="0">
              <a:gsLst>
                <a:gs pos="0">
                  <a:srgbClr val="800106"/>
                </a:gs>
                <a:gs pos="50000">
                  <a:srgbClr val="ffffff"/>
                </a:gs>
                <a:gs pos="100000">
                  <a:srgbClr val="80010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27840" y="4680000"/>
              <a:ext cx="476280" cy="303480"/>
            </a:xfrm>
            <a:prstGeom prst="can">
              <a:avLst>
                <a:gd name="adj" fmla="val 27273"/>
              </a:avLst>
            </a:prstGeom>
            <a:gradFill rotWithShape="0">
              <a:gsLst>
                <a:gs pos="0">
                  <a:srgbClr val="ff2007"/>
                </a:gs>
                <a:gs pos="50000">
                  <a:srgbClr val="ffffff"/>
                </a:gs>
                <a:gs pos="100000">
                  <a:srgbClr val="ff200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826400" y="4599000"/>
            <a:ext cx="476280" cy="146160"/>
          </a:xfrm>
          <a:prstGeom prst="can">
            <a:avLst>
              <a:gd name="adj" fmla="val 1971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26400" y="4365720"/>
            <a:ext cx="476280" cy="285480"/>
          </a:xfrm>
          <a:prstGeom prst="can">
            <a:avLst>
              <a:gd name="adj" fmla="val 2987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900920" y="4157640"/>
            <a:ext cx="328680" cy="266760"/>
          </a:xfrm>
          <a:prstGeom prst="can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26400" y="3959280"/>
            <a:ext cx="476280" cy="27288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1d504"/>
              </a:gs>
              <a:gs pos="50000">
                <a:srgbClr val="ffffff"/>
              </a:gs>
              <a:gs pos="100000">
                <a:srgbClr val="01d5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23160" y="3654360"/>
            <a:ext cx="484200" cy="372960"/>
          </a:xfrm>
          <a:prstGeom prst="can">
            <a:avLst>
              <a:gd name="adj" fmla="val 2406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26400" y="3440160"/>
            <a:ext cx="476280" cy="312840"/>
          </a:xfrm>
          <a:prstGeom prst="can">
            <a:avLst>
              <a:gd name="adj" fmla="val 16870"/>
            </a:avLst>
          </a:prstGeom>
          <a:gradFill rotWithShape="0">
            <a:gsLst>
              <a:gs pos="0">
                <a:srgbClr val="01d504"/>
              </a:gs>
              <a:gs pos="50000">
                <a:srgbClr val="ffffff"/>
              </a:gs>
              <a:gs pos="100000">
                <a:srgbClr val="01d5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24560" y="4660920"/>
            <a:ext cx="41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67680" y="4813200"/>
            <a:ext cx="419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31000" y="4610160"/>
            <a:ext cx="622080" cy="136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96360" y="4762440"/>
            <a:ext cx="622080" cy="1364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94640" y="4648320"/>
            <a:ext cx="622080" cy="648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746840" y="4699080"/>
            <a:ext cx="622440" cy="6516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46840" y="4762440"/>
            <a:ext cx="622440" cy="136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69760" y="59850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    der15   der17 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6560" y="6108840"/>
            <a:ext cx="622440" cy="136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6095880"/>
            <a:ext cx="622080" cy="1368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7840" y="6045120"/>
            <a:ext cx="2184480" cy="0"/>
          </a:xfrm>
          <a:prstGeom prst="line">
            <a:avLst/>
          </a:prstGeom>
          <a:ln w="57240">
            <a:solidFill>
              <a:srgbClr val="ff2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87720" y="56894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70280" y="6045120"/>
            <a:ext cx="21844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3200" y="56894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71360" y="1409760"/>
            <a:ext cx="5137200" cy="45194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179160" y="51879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1119"/>
                </a:solidFill>
                <a:latin typeface="Comic Sans MS"/>
              </a:rPr>
              <a:t>t(15;17)(q22;q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1422360"/>
            <a:ext cx="35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119"/>
                </a:solidFill>
                <a:latin typeface="Comic Sans MS"/>
              </a:rPr>
              <a:t>La FISH permette di trovare traslocazioni criptiche (quelle che non si vedono dall’analisi del carioti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07920" y="914400"/>
            <a:ext cx="8420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Leucemia Acuta Promielocitica (APL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6424560" y="4965840"/>
            <a:ext cx="476280" cy="1400040"/>
            <a:chOff x="6424560" y="4965840"/>
            <a:chExt cx="476280" cy="1400040"/>
          </a:xfrm>
        </p:grpSpPr>
        <p:sp>
          <p:nvSpPr>
            <p:cNvPr id="454" name=""/>
            <p:cNvSpPr/>
            <p:nvPr/>
          </p:nvSpPr>
          <p:spPr>
            <a:xfrm>
              <a:off x="6424560" y="5986440"/>
              <a:ext cx="476280" cy="37944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24560" y="5586480"/>
              <a:ext cx="476280" cy="50472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24560" y="5533920"/>
              <a:ext cx="476280" cy="304920"/>
            </a:xfrm>
            <a:prstGeom prst="can">
              <a:avLst>
                <a:gd name="adj" fmla="val 28115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24560" y="5237280"/>
              <a:ext cx="476280" cy="409680"/>
            </a:xfrm>
            <a:prstGeom prst="can">
              <a:avLst>
                <a:gd name="adj" fmla="val 16976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24560" y="4965840"/>
              <a:ext cx="476280" cy="46044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560920" y="5956200"/>
            <a:ext cx="476280" cy="444600"/>
          </a:xfrm>
          <a:prstGeom prst="can">
            <a:avLst>
              <a:gd name="adj" fmla="val 27629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0920" y="5538960"/>
            <a:ext cx="476280" cy="579240"/>
          </a:xfrm>
          <a:prstGeom prst="can">
            <a:avLst>
              <a:gd name="adj" fmla="val 22328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56240" y="5237280"/>
            <a:ext cx="476280" cy="618840"/>
          </a:xfrm>
          <a:prstGeom prst="can">
            <a:avLst>
              <a:gd name="adj" fmla="val 19504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56240" y="5173560"/>
            <a:ext cx="476280" cy="20016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59480" y="4932360"/>
            <a:ext cx="476280" cy="328680"/>
          </a:xfrm>
          <a:prstGeom prst="can">
            <a:avLst>
              <a:gd name="adj" fmla="val 27273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56240" y="4397400"/>
            <a:ext cx="476280" cy="60480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59480" y="4156200"/>
            <a:ext cx="476280" cy="31752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60920" y="3975120"/>
            <a:ext cx="476280" cy="24120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59480" y="3911760"/>
            <a:ext cx="476280" cy="176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60920" y="3782880"/>
            <a:ext cx="476280" cy="20160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559480" y="3719520"/>
            <a:ext cx="476280" cy="177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4400" bIns="-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24640" y="3452760"/>
            <a:ext cx="330120" cy="31284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56240" y="3395520"/>
            <a:ext cx="476280" cy="173160"/>
          </a:xfrm>
          <a:prstGeom prst="can">
            <a:avLst>
              <a:gd name="adj" fmla="val 4568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5672520" y="3074040"/>
            <a:ext cx="25236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9600" y="2725560"/>
            <a:ext cx="336600" cy="347760"/>
          </a:xfrm>
          <a:prstGeom prst="ellipse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29400" y="2925720"/>
            <a:ext cx="117360" cy="285840"/>
          </a:xfrm>
          <a:prstGeom prst="rect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101080" y="3757680"/>
            <a:ext cx="484200" cy="2584080"/>
            <a:chOff x="8101080" y="3757680"/>
            <a:chExt cx="484200" cy="2584080"/>
          </a:xfrm>
        </p:grpSpPr>
        <p:sp>
          <p:nvSpPr>
            <p:cNvPr id="476" name=""/>
            <p:cNvSpPr/>
            <p:nvPr/>
          </p:nvSpPr>
          <p:spPr>
            <a:xfrm>
              <a:off x="8105760" y="5996520"/>
              <a:ext cx="476280" cy="34524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05760" y="5631840"/>
              <a:ext cx="476280" cy="46008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05760" y="5584320"/>
              <a:ext cx="476280" cy="277200"/>
            </a:xfrm>
            <a:prstGeom prst="can">
              <a:avLst>
                <a:gd name="adj" fmla="val 28115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05760" y="5313600"/>
              <a:ext cx="476280" cy="372960"/>
            </a:xfrm>
            <a:prstGeom prst="can">
              <a:avLst>
                <a:gd name="adj" fmla="val 16976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05760" y="5066640"/>
              <a:ext cx="476280" cy="41940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05760" y="4996800"/>
              <a:ext cx="476280" cy="156240"/>
            </a:xfrm>
            <a:prstGeom prst="can">
              <a:avLst>
                <a:gd name="adj" fmla="val 1971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05760" y="4746960"/>
              <a:ext cx="476280" cy="304920"/>
            </a:xfrm>
            <a:prstGeom prst="can">
              <a:avLst>
                <a:gd name="adj" fmla="val 2987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180280" y="4524120"/>
              <a:ext cx="328680" cy="28476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05760" y="4313160"/>
              <a:ext cx="476280" cy="29052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1d504"/>
                </a:gs>
                <a:gs pos="50000">
                  <a:srgbClr val="ffffff"/>
                </a:gs>
                <a:gs pos="100000">
                  <a:srgbClr val="01d50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01080" y="3986280"/>
              <a:ext cx="484200" cy="398880"/>
            </a:xfrm>
            <a:prstGeom prst="can">
              <a:avLst>
                <a:gd name="adj" fmla="val 2406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05760" y="3757680"/>
              <a:ext cx="476280" cy="334080"/>
            </a:xfrm>
            <a:prstGeom prst="can">
              <a:avLst>
                <a:gd name="adj" fmla="val 16870"/>
              </a:avLst>
            </a:prstGeom>
            <a:gradFill rotWithShape="0">
              <a:gsLst>
                <a:gs pos="0">
                  <a:srgbClr val="01d504"/>
                </a:gs>
                <a:gs pos="50000">
                  <a:srgbClr val="ffffff"/>
                </a:gs>
                <a:gs pos="100000">
                  <a:srgbClr val="01d50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423120" y="4422600"/>
            <a:ext cx="476280" cy="60516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3120" y="4181400"/>
            <a:ext cx="476280" cy="31752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4560" y="4000680"/>
            <a:ext cx="476280" cy="24120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23120" y="3936960"/>
            <a:ext cx="476280" cy="1764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24560" y="3808440"/>
            <a:ext cx="476280" cy="20160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800106"/>
              </a:gs>
              <a:gs pos="50000">
                <a:srgbClr val="ffffff"/>
              </a:gs>
              <a:gs pos="100000">
                <a:srgbClr val="8001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23120" y="3745080"/>
            <a:ext cx="476280" cy="177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2007"/>
              </a:gs>
              <a:gs pos="50000">
                <a:srgbClr val="ffffff"/>
              </a:gs>
              <a:gs pos="100000">
                <a:srgbClr val="ff20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96200" y="3478320"/>
            <a:ext cx="330120" cy="31248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23120" y="3421080"/>
            <a:ext cx="476280" cy="173160"/>
          </a:xfrm>
          <a:prstGeom prst="can">
            <a:avLst>
              <a:gd name="adj" fmla="val 45689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6536160" y="3099600"/>
            <a:ext cx="25236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92960" y="2751120"/>
            <a:ext cx="336600" cy="347760"/>
          </a:xfrm>
          <a:prstGeom prst="ellipse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02400" y="2951280"/>
            <a:ext cx="117360" cy="285480"/>
          </a:xfrm>
          <a:prstGeom prst="rect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381800" y="5010120"/>
            <a:ext cx="477720" cy="1360080"/>
            <a:chOff x="7381800" y="5010120"/>
            <a:chExt cx="477720" cy="1360080"/>
          </a:xfrm>
        </p:grpSpPr>
        <p:sp>
          <p:nvSpPr>
            <p:cNvPr id="499" name=""/>
            <p:cNvSpPr/>
            <p:nvPr/>
          </p:nvSpPr>
          <p:spPr>
            <a:xfrm>
              <a:off x="7383240" y="5957640"/>
              <a:ext cx="476280" cy="41256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ff2007"/>
                </a:gs>
                <a:gs pos="50000">
                  <a:srgbClr val="ffffff"/>
                </a:gs>
                <a:gs pos="100000">
                  <a:srgbClr val="ff200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83240" y="5571000"/>
              <a:ext cx="476280" cy="53640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800106"/>
                </a:gs>
                <a:gs pos="50000">
                  <a:srgbClr val="ffffff"/>
                </a:gs>
                <a:gs pos="100000">
                  <a:srgbClr val="80010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81800" y="5291280"/>
              <a:ext cx="476280" cy="574560"/>
            </a:xfrm>
            <a:prstGeom prst="can">
              <a:avLst>
                <a:gd name="adj" fmla="val 19504"/>
              </a:avLst>
            </a:prstGeom>
            <a:gradFill rotWithShape="0">
              <a:gsLst>
                <a:gs pos="0">
                  <a:srgbClr val="ff2007"/>
                </a:gs>
                <a:gs pos="50000">
                  <a:srgbClr val="ffffff"/>
                </a:gs>
                <a:gs pos="100000">
                  <a:srgbClr val="ff200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81800" y="5232600"/>
              <a:ext cx="476280" cy="186120"/>
            </a:xfrm>
            <a:prstGeom prst="can">
              <a:avLst>
                <a:gd name="adj" fmla="val 37837"/>
              </a:avLst>
            </a:prstGeom>
            <a:gradFill rotWithShape="0">
              <a:gsLst>
                <a:gs pos="0">
                  <a:srgbClr val="800106"/>
                </a:gs>
                <a:gs pos="50000">
                  <a:srgbClr val="ffffff"/>
                </a:gs>
                <a:gs pos="100000">
                  <a:srgbClr val="80010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83240" y="5010120"/>
              <a:ext cx="476280" cy="303480"/>
            </a:xfrm>
            <a:prstGeom prst="can">
              <a:avLst>
                <a:gd name="adj" fmla="val 27273"/>
              </a:avLst>
            </a:prstGeom>
            <a:gradFill rotWithShape="0">
              <a:gsLst>
                <a:gs pos="0">
                  <a:srgbClr val="ff2007"/>
                </a:gs>
                <a:gs pos="50000">
                  <a:srgbClr val="ffffff"/>
                </a:gs>
                <a:gs pos="100000">
                  <a:srgbClr val="ff200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81800" y="4929120"/>
            <a:ext cx="476280" cy="146160"/>
          </a:xfrm>
          <a:prstGeom prst="can">
            <a:avLst>
              <a:gd name="adj" fmla="val 1971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81800" y="4695840"/>
            <a:ext cx="476280" cy="285840"/>
          </a:xfrm>
          <a:prstGeom prst="can">
            <a:avLst>
              <a:gd name="adj" fmla="val 2987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56320" y="4487760"/>
            <a:ext cx="328680" cy="266760"/>
          </a:xfrm>
          <a:prstGeom prst="can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81800" y="4289400"/>
            <a:ext cx="476280" cy="27324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1d504"/>
              </a:gs>
              <a:gs pos="50000">
                <a:srgbClr val="ffffff"/>
              </a:gs>
              <a:gs pos="100000">
                <a:srgbClr val="01d5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78560" y="3984480"/>
            <a:ext cx="484200" cy="373320"/>
          </a:xfrm>
          <a:prstGeom prst="can">
            <a:avLst>
              <a:gd name="adj" fmla="val 2406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81800" y="3770280"/>
            <a:ext cx="476280" cy="312840"/>
          </a:xfrm>
          <a:prstGeom prst="can">
            <a:avLst>
              <a:gd name="adj" fmla="val 16870"/>
            </a:avLst>
          </a:prstGeom>
          <a:gradFill rotWithShape="0">
            <a:gsLst>
              <a:gs pos="0">
                <a:srgbClr val="01d504"/>
              </a:gs>
              <a:gs pos="50000">
                <a:srgbClr val="ffffff"/>
              </a:gs>
              <a:gs pos="100000">
                <a:srgbClr val="01d5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623440" y="5143680"/>
            <a:ext cx="419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051760" y="5092560"/>
            <a:ext cx="622440" cy="136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50040" y="4978440"/>
            <a:ext cx="622440" cy="65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02600" y="5029200"/>
            <a:ext cx="622080" cy="65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825160" y="63151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    der15   der17 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97080" y="6400800"/>
            <a:ext cx="622440" cy="136440"/>
          </a:xfrm>
          <a:prstGeom prst="roundRect">
            <a:avLst>
              <a:gd name="adj" fmla="val 16667"/>
            </a:avLst>
          </a:prstGeom>
          <a:solidFill>
            <a:srgbClr val="ff2007"/>
          </a:solidFill>
          <a:ln w="9360">
            <a:solidFill>
              <a:srgbClr val="ff2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89040" y="59943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6350040"/>
            <a:ext cx="2184480" cy="0"/>
          </a:xfrm>
          <a:prstGeom prst="line">
            <a:avLst/>
          </a:prstGeom>
          <a:ln w="57240">
            <a:solidFill>
              <a:srgbClr val="ff2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7160" y="6678720"/>
            <a:ext cx="95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66360" y="1371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t(8;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200560" cy="47372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5025960" y="1828800"/>
            <a:ext cx="4880160" cy="4734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15920" y="685440"/>
            <a:ext cx="4127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12132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1280" y="118728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TRASLOCAZIONE t(14;18)(q32;q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608360" y="1549440"/>
            <a:ext cx="5035680" cy="50943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63440" y="596520"/>
            <a:ext cx="5365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343080" y="2664000"/>
            <a:ext cx="4097160" cy="27716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17520" y="1955880"/>
            <a:ext cx="179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ene pesanti immunoglobu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8840" y="2027160"/>
            <a:ext cx="15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nco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C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1771560"/>
            <a:ext cx="93470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aziente 38en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l’inizio della gravidanza decide di ricorrere alla diagnosi prenatale sotto indicazione del consulente genetico che l’ha informata dell’aumentato rischio di aneuploidie cromosomiche fetali nelle madri con età avanz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 precedenti gravidanze dalle quali ha avuto du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igli fenotipicamente normal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ssenza di aborti spontane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71600" y="48387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slocazione reciproca t (13;19) nel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97160" y="56516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slocazione reciproca t (13;19)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el p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1007280"/>
            <a:ext cx="3340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ocedur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agnostica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2273400"/>
            <a:ext cx="283212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00"/>
                </a:solidFill>
                <a:latin typeface="Comic Sans MS"/>
              </a:rPr>
              <a:t>ANALISI CITOGENET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ampione di liquido amniotico aspirato con l’amniocentes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llestimento del preparato citogenetico e analisi del cario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5372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slocazione reciproca t (13;19) nel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cariotipo sodano" descr=""/>
          <p:cNvPicPr/>
          <p:nvPr/>
        </p:nvPicPr>
        <p:blipFill>
          <a:blip r:embed="rId1"/>
          <a:stretch/>
        </p:blipFill>
        <p:spPr>
          <a:xfrm>
            <a:off x="3632040" y="584280"/>
            <a:ext cx="6274080" cy="62737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60640" y="3987720"/>
            <a:ext cx="15264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723920" y="561348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28600" y="1587600"/>
            <a:ext cx="30481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mpione di sangue periferico di entrambi i genitor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estimento del preparato citogenetico e analisi del cariotipo</a:t>
            </a:r>
            <a:r>
              <a:rPr b="0" lang="it-IT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993600"/>
            <a:ext cx="4254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ocedur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agnostica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4368960" y="615960"/>
            <a:ext cx="5414760" cy="620388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292000" y="3917880"/>
            <a:ext cx="2540160" cy="2520000"/>
            <a:chOff x="5292000" y="3917880"/>
            <a:chExt cx="2540160" cy="2520000"/>
          </a:xfrm>
        </p:grpSpPr>
        <p:sp>
          <p:nvSpPr>
            <p:cNvPr id="548" name=""/>
            <p:cNvSpPr/>
            <p:nvPr/>
          </p:nvSpPr>
          <p:spPr>
            <a:xfrm flipH="1">
              <a:off x="5292000" y="4474800"/>
              <a:ext cx="337320" cy="168840"/>
            </a:xfrm>
            <a:prstGeom prst="line">
              <a:avLst/>
            </a:prstGeom>
            <a:ln w="38160">
              <a:solidFill>
                <a:srgbClr val="ff07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5578560" y="3963240"/>
              <a:ext cx="374400" cy="48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7458120" y="6388920"/>
              <a:ext cx="374040" cy="48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" descr=""/>
            <p:cNvPicPr/>
            <p:nvPr/>
          </p:nvPicPr>
          <p:blipFill>
            <a:blip r:embed="rId2"/>
            <a:stretch/>
          </p:blipFill>
          <p:spPr>
            <a:xfrm>
              <a:off x="7130880" y="3917880"/>
              <a:ext cx="49536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"/>
          <p:cNvSpPr/>
          <p:nvPr/>
        </p:nvSpPr>
        <p:spPr>
          <a:xfrm>
            <a:off x="216000" y="4432320"/>
            <a:ext cx="3949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slocazione recipro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(13;19) ne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a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55560" y="589680"/>
            <a:ext cx="8350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6629400" y="2286000"/>
            <a:ext cx="838080" cy="3124080"/>
            <a:chOff x="6629400" y="2286000"/>
            <a:chExt cx="838080" cy="3124080"/>
          </a:xfrm>
        </p:grpSpPr>
        <p:sp>
          <p:nvSpPr>
            <p:cNvPr id="555" name=""/>
            <p:cNvSpPr/>
            <p:nvPr/>
          </p:nvSpPr>
          <p:spPr>
            <a:xfrm>
              <a:off x="6629400" y="2286000"/>
              <a:ext cx="838080" cy="3124080"/>
            </a:xfrm>
            <a:prstGeom prst="rect">
              <a:avLst/>
            </a:prstGeom>
            <a:solidFill>
              <a:srgbClr val="4d4d4d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21440" y="3119400"/>
              <a:ext cx="390600" cy="277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21440" y="4021200"/>
              <a:ext cx="390600" cy="4176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21440" y="2425680"/>
              <a:ext cx="390600" cy="4856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21440" y="4714920"/>
              <a:ext cx="390600" cy="277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21440" y="2911320"/>
              <a:ext cx="390600" cy="2080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21440" y="4438800"/>
              <a:ext cx="390600" cy="276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21440" y="3467160"/>
              <a:ext cx="390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21440" y="3952800"/>
              <a:ext cx="390600" cy="0"/>
            </a:xfrm>
            <a:prstGeom prst="line">
              <a:avLst/>
            </a:prstGeom>
            <a:ln w="22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21440" y="3882960"/>
              <a:ext cx="39060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21440" y="4992840"/>
              <a:ext cx="390600" cy="277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21440" y="3535200"/>
              <a:ext cx="390600" cy="34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solidFill>
                <a:srgbClr val="99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21440" y="3535200"/>
              <a:ext cx="3906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2360520"/>
              <a:ext cx="503280" cy="28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82880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57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(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0" y="5562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600200" y="2209680"/>
            <a:ext cx="858600" cy="3276360"/>
            <a:chOff x="1600200" y="2209680"/>
            <a:chExt cx="858600" cy="3276360"/>
          </a:xfrm>
        </p:grpSpPr>
        <p:sp>
          <p:nvSpPr>
            <p:cNvPr id="573" name=""/>
            <p:cNvSpPr/>
            <p:nvPr/>
          </p:nvSpPr>
          <p:spPr>
            <a:xfrm>
              <a:off x="1620720" y="2209680"/>
              <a:ext cx="838080" cy="3276360"/>
            </a:xfrm>
            <a:prstGeom prst="rect">
              <a:avLst/>
            </a:prstGeom>
            <a:solidFill>
              <a:srgbClr val="4d4d4d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68560" y="2558880"/>
              <a:ext cx="279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24000" y="2349360"/>
              <a:ext cx="166680" cy="1396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739a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68560" y="2489040"/>
              <a:ext cx="279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08160" y="2566800"/>
              <a:ext cx="191880" cy="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6586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46240" y="2611080"/>
              <a:ext cx="303120" cy="1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b5b5b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011320" y="2765880"/>
              <a:ext cx="392040" cy="3495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11320" y="3116160"/>
              <a:ext cx="392040" cy="69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011320" y="3185280"/>
              <a:ext cx="392040" cy="3474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11320" y="3533400"/>
              <a:ext cx="392040" cy="4892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011320" y="4021920"/>
              <a:ext cx="392040" cy="2775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11320" y="4300200"/>
              <a:ext cx="392040" cy="3492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011320" y="4648680"/>
              <a:ext cx="392040" cy="2797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11320" y="4929120"/>
              <a:ext cx="392040" cy="207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011320" y="5136840"/>
              <a:ext cx="392040" cy="209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00200" y="2209680"/>
              <a:ext cx="838080" cy="32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207040" y="990360"/>
            <a:ext cx="914400" cy="5257800"/>
            <a:chOff x="5207040" y="990360"/>
            <a:chExt cx="914400" cy="5257800"/>
          </a:xfrm>
        </p:grpSpPr>
        <p:sp>
          <p:nvSpPr>
            <p:cNvPr id="590" name=""/>
            <p:cNvSpPr/>
            <p:nvPr/>
          </p:nvSpPr>
          <p:spPr>
            <a:xfrm rot="10800000">
              <a:off x="5435640" y="990360"/>
              <a:ext cx="5954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207040" y="1143000"/>
              <a:ext cx="914400" cy="5105160"/>
              <a:chOff x="5207040" y="1143000"/>
              <a:chExt cx="914400" cy="5105160"/>
            </a:xfrm>
          </p:grpSpPr>
          <p:sp>
            <p:nvSpPr>
              <p:cNvPr id="592" name=""/>
              <p:cNvSpPr/>
              <p:nvPr/>
            </p:nvSpPr>
            <p:spPr>
              <a:xfrm rot="10800000">
                <a:off x="5283360" y="1143000"/>
                <a:ext cx="838080" cy="5105160"/>
              </a:xfrm>
              <a:prstGeom prst="rect">
                <a:avLst/>
              </a:prstGeom>
              <a:solidFill>
                <a:srgbClr val="4d4d4d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5207040" y="1218960"/>
                <a:ext cx="847440" cy="2846520"/>
                <a:chOff x="5207040" y="1218960"/>
                <a:chExt cx="847440" cy="284652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5663880" y="1218960"/>
                  <a:ext cx="390600" cy="2845800"/>
                  <a:chOff x="5663880" y="1218960"/>
                  <a:chExt cx="390600" cy="28458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10800000">
                    <a:off x="5663880" y="3092400"/>
                    <a:ext cx="390600" cy="277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0800000">
                    <a:off x="5663880" y="2050560"/>
                    <a:ext cx="390600" cy="417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rot="10800000">
                    <a:off x="5663880" y="3579120"/>
                    <a:ext cx="390600" cy="48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0800000">
                    <a:off x="5663880" y="1496520"/>
                    <a:ext cx="390600" cy="27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10800000">
                    <a:off x="5663880" y="3369600"/>
                    <a:ext cx="390600" cy="207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rot="10800000">
                    <a:off x="5663880" y="1776240"/>
                    <a:ext cx="390600" cy="275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5663880" y="3024000"/>
                    <a:ext cx="3906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663880" y="2538360"/>
                    <a:ext cx="390600" cy="0"/>
                  </a:xfrm>
                  <a:prstGeom prst="line">
                    <a:avLst/>
                  </a:prstGeom>
                  <a:ln w="223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5663880" y="2608200"/>
                    <a:ext cx="390600" cy="0"/>
                  </a:xfrm>
                  <a:prstGeom prst="line">
                    <a:avLst/>
                  </a:prstGeom>
                  <a:ln w="1908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0800000">
                    <a:off x="5663880" y="1218960"/>
                    <a:ext cx="390600" cy="27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0800000">
                    <a:off x="5663880" y="2606040"/>
                    <a:ext cx="390600" cy="34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42424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solidFill>
                      <a:srgbClr val="99cc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5663880" y="2955600"/>
                    <a:ext cx="390600" cy="0"/>
                  </a:xfrm>
                  <a:prstGeom prst="line">
                    <a:avLst/>
                  </a:prstGeom>
                  <a:ln w="255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7" name=""/>
                <p:cNvSpPr/>
                <p:nvPr/>
              </p:nvSpPr>
              <p:spPr>
                <a:xfrm rot="10800000">
                  <a:off x="5207040" y="1219320"/>
                  <a:ext cx="503280" cy="28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8" name=""/>
            <p:cNvGrpSpPr/>
            <p:nvPr/>
          </p:nvGrpSpPr>
          <p:grpSpPr>
            <a:xfrm>
              <a:off x="5562720" y="4227840"/>
              <a:ext cx="502920" cy="1904400"/>
              <a:chOff x="5562720" y="4227840"/>
              <a:chExt cx="502920" cy="1904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562720" y="5675400"/>
                <a:ext cx="481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57760" y="4227840"/>
                <a:ext cx="407880" cy="4950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657760" y="4722120"/>
                <a:ext cx="407880" cy="2840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57760" y="5007240"/>
                <a:ext cx="407880" cy="35352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657760" y="5360400"/>
                <a:ext cx="407880" cy="2804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57760" y="5641920"/>
                <a:ext cx="407880" cy="212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657760" y="5854680"/>
                <a:ext cx="407880" cy="21240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V="1">
              <a:off x="5653080" y="4074480"/>
              <a:ext cx="401760" cy="158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83360" y="3810240"/>
              <a:ext cx="52704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374920" y="2235240"/>
            <a:ext cx="990720" cy="1676520"/>
            <a:chOff x="2374920" y="2235240"/>
            <a:chExt cx="990720" cy="1676520"/>
          </a:xfrm>
        </p:grpSpPr>
        <p:sp>
          <p:nvSpPr>
            <p:cNvPr id="619" name=""/>
            <p:cNvSpPr/>
            <p:nvPr/>
          </p:nvSpPr>
          <p:spPr>
            <a:xfrm>
              <a:off x="2527200" y="2235240"/>
              <a:ext cx="838440" cy="1676520"/>
            </a:xfrm>
            <a:prstGeom prst="rect">
              <a:avLst/>
            </a:prstGeom>
            <a:solidFill>
              <a:srgbClr val="4d4d4d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0800000">
              <a:off x="2921040" y="3531960"/>
              <a:ext cx="379440" cy="2775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65320" y="2738520"/>
              <a:ext cx="2779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19320" y="2540160"/>
              <a:ext cx="168480" cy="13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739a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5320" y="2671920"/>
              <a:ext cx="2779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03480" y="2746440"/>
              <a:ext cx="192240" cy="7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6586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41560" y="2787480"/>
              <a:ext cx="304920" cy="16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b5b5b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908440" y="2936160"/>
              <a:ext cx="390240" cy="3286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08440" y="3265560"/>
              <a:ext cx="390240" cy="66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908440" y="3332160"/>
              <a:ext cx="390240" cy="179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27200" y="2235240"/>
              <a:ext cx="762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0800000">
              <a:off x="2374920" y="3530160"/>
              <a:ext cx="59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H="1">
            <a:off x="850320" y="342900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7517520" y="267984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89040" y="566424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(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866960"/>
            <a:ext cx="454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ML è stata la prima malattia neoplastica dell’uomo in cui una specifica anomalia del cariotipo, il cromosoma Philadelphia (Ph), sia stata associata alla insorgenza della leu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39416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8210520" y="3352680"/>
            <a:ext cx="743040" cy="457200"/>
          </a:xfrm>
          <a:prstGeom prst="line">
            <a:avLst/>
          </a:prstGeom>
          <a:ln w="38160">
            <a:solidFill>
              <a:srgbClr val="ffff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68520" y="60912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56800" y="84384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I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41200" y="1454040"/>
            <a:ext cx="966492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81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II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130400" y="1295280"/>
            <a:ext cx="7565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o aver individuato la regione sul cromosoma 13 e sul 19 presumibilmente coinvolta nella traslocazione, selezionare i corrispondenti BAC da utilizzare per la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59400" y="22860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a50021"/>
              </a:gs>
              <a:gs pos="5000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06360" y="3200400"/>
            <a:ext cx="754380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viduare i BAC che vengono tagliati dal breakpoint; in questo caso dovrei aver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e segnal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o sul cromosoma normale e un segnale su ciascun deriv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abbreviare i tempi si puo’ eseguire una coibridazione marcando contemporaneamente due o tre sonde di DNA con diversi fluorocro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873600" y="5181480"/>
            <a:ext cx="2057400" cy="990720"/>
          </a:xfrm>
          <a:custGeom>
            <a:avLst/>
            <a:gdLst>
              <a:gd name="textAreaLeft" fmla="*/ 0 w 2057400"/>
              <a:gd name="textAreaRight" fmla="*/ 2057400 w 2057400"/>
              <a:gd name="textAreaTop" fmla="*/ 360 h 990720"/>
              <a:gd name="textAreaBottom" fmla="*/ 991440 h 990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2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542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5448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Fluor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3556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y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IV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492200" y="1401840"/>
          <a:ext cx="765648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01840"/>
                    <a:ext cx="76564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V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4368960" cy="53085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4299120" y="1327320"/>
            <a:ext cx="4508280" cy="509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7327800" y="1149480"/>
            <a:ext cx="2578320" cy="36604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 flipH="1">
            <a:off x="5460840" y="1612800"/>
            <a:ext cx="1957680" cy="196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6314760" y="4366440"/>
            <a:ext cx="2566080" cy="88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411040" y="1803240"/>
            <a:ext cx="11941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710"/>
                </a:solidFill>
                <a:latin typeface="Comic Sans MS"/>
              </a:rPr>
              <a:t>RP11-84C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012880" y="2413080"/>
            <a:ext cx="1296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ff0c"/>
                </a:solidFill>
                <a:latin typeface="Comic Sans MS"/>
              </a:rPr>
              <a:t>RP11-298C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134200" y="3009960"/>
            <a:ext cx="12128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5f7f5"/>
                </a:solidFill>
                <a:latin typeface="Comic Sans MS"/>
              </a:rPr>
              <a:t>RP11-19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16360" y="2133720"/>
            <a:ext cx="23630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710"/>
                </a:solidFill>
                <a:latin typeface="Comic Sans MS"/>
              </a:rPr>
              <a:t>chr19:7,777,647-777,8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47520" y="2705040"/>
            <a:ext cx="25153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ff0c"/>
                </a:solidFill>
                <a:latin typeface="Comic Sans MS"/>
              </a:rPr>
              <a:t>chr19:9,998,865-10,195,7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141320" y="3289320"/>
            <a:ext cx="26175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5f7f5"/>
                </a:solidFill>
                <a:latin typeface="Comic Sans MS"/>
              </a:rPr>
              <a:t>chr19:11,643,368-11,816,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V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1346040" y="6216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breakpoint sul cromosoma 19 è situato tra la sonda prossimale RP11-52O9  e la sonda distale RP11-717H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rcRect l="0" t="0" r="0" b="3582"/>
          <a:stretch/>
        </p:blipFill>
        <p:spPr>
          <a:xfrm>
            <a:off x="-12600" y="1181160"/>
            <a:ext cx="5209920" cy="49561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243240" y="3105000"/>
            <a:ext cx="372960" cy="184320"/>
          </a:xfrm>
          <a:prstGeom prst="rightArrow">
            <a:avLst>
              <a:gd name="adj1" fmla="val 50000"/>
              <a:gd name="adj2" fmla="val 505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406600" y="4208040"/>
            <a:ext cx="0" cy="36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708360" y="5589720"/>
            <a:ext cx="372960" cy="183960"/>
          </a:xfrm>
          <a:prstGeom prst="rightArrow">
            <a:avLst>
              <a:gd name="adj1" fmla="val 50000"/>
              <a:gd name="adj2" fmla="val 5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08360" y="5865840"/>
            <a:ext cx="372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05360" y="5497560"/>
            <a:ext cx="10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r(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r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705200" y="1181160"/>
            <a:ext cx="5301720" cy="4959000"/>
            <a:chOff x="4705200" y="1181160"/>
            <a:chExt cx="5301720" cy="4959000"/>
          </a:xfrm>
        </p:grpSpPr>
        <p:pic>
          <p:nvPicPr>
            <p:cNvPr id="668" name="" descr=""/>
            <p:cNvPicPr/>
            <p:nvPr/>
          </p:nvPicPr>
          <p:blipFill>
            <a:blip r:embed="rId2"/>
            <a:srcRect l="8778" t="0" r="2857" b="15750"/>
            <a:stretch/>
          </p:blipFill>
          <p:spPr>
            <a:xfrm>
              <a:off x="4705200" y="1181160"/>
              <a:ext cx="5209560" cy="49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5914440" y="2185200"/>
              <a:ext cx="372240" cy="183600"/>
            </a:xfrm>
            <a:prstGeom prst="rightArrow">
              <a:avLst>
                <a:gd name="adj1" fmla="val 50000"/>
                <a:gd name="adj2" fmla="val 506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402680" y="1357560"/>
              <a:ext cx="27900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11920" y="5588280"/>
              <a:ext cx="372240" cy="183600"/>
            </a:xfrm>
            <a:prstGeom prst="rightArrow">
              <a:avLst>
                <a:gd name="adj1" fmla="val 50000"/>
                <a:gd name="adj2" fmla="val 506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11920" y="5864400"/>
              <a:ext cx="372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84160" y="5496120"/>
              <a:ext cx="10227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der(19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chr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48120" y="554976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710"/>
                </a:solidFill>
                <a:latin typeface="Comic Sans MS"/>
              </a:rPr>
              <a:t>chr19:6,726,912-6,917,5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96280" y="5245200"/>
            <a:ext cx="24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710"/>
                </a:solidFill>
                <a:latin typeface="Comic Sans MS"/>
              </a:rPr>
              <a:t>chr19:7,163,629-7,377,2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8240" y="729360"/>
            <a:ext cx="872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VI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813880" y="2438280"/>
            <a:ext cx="838080" cy="3124080"/>
            <a:chOff x="8813880" y="2438280"/>
            <a:chExt cx="838080" cy="3124080"/>
          </a:xfrm>
        </p:grpSpPr>
        <p:sp>
          <p:nvSpPr>
            <p:cNvPr id="678" name=""/>
            <p:cNvSpPr/>
            <p:nvPr/>
          </p:nvSpPr>
          <p:spPr>
            <a:xfrm>
              <a:off x="8813880" y="2438280"/>
              <a:ext cx="838080" cy="3124080"/>
            </a:xfrm>
            <a:prstGeom prst="rect">
              <a:avLst/>
            </a:prstGeom>
            <a:solidFill>
              <a:srgbClr val="4d4d4d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205920" y="3271680"/>
              <a:ext cx="390600" cy="277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205920" y="4173480"/>
              <a:ext cx="390600" cy="4176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205920" y="2577960"/>
              <a:ext cx="390600" cy="4856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205920" y="4867200"/>
              <a:ext cx="390600" cy="277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205920" y="3063600"/>
              <a:ext cx="390600" cy="2080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205920" y="4591080"/>
              <a:ext cx="390600" cy="276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205920" y="3619440"/>
              <a:ext cx="390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205920" y="4105080"/>
              <a:ext cx="390600" cy="0"/>
            </a:xfrm>
            <a:prstGeom prst="line">
              <a:avLst/>
            </a:prstGeom>
            <a:ln w="22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205920" y="4035240"/>
              <a:ext cx="39060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205920" y="5145120"/>
              <a:ext cx="390600" cy="277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205920" y="3687480"/>
              <a:ext cx="390600" cy="34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solidFill>
                <a:srgbClr val="99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205920" y="3687480"/>
              <a:ext cx="3906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813880" y="2512800"/>
              <a:ext cx="503280" cy="28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272880" y="1509840"/>
          <a:ext cx="4862520" cy="30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509840"/>
                    <a:ext cx="486252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7745400" y="25383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710"/>
                </a:solidFill>
                <a:latin typeface="Comic Sans MS"/>
              </a:rPr>
              <a:t>RP-1152O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98880" y="28684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710"/>
                </a:solidFill>
                <a:latin typeface="Comic Sans MS"/>
              </a:rPr>
              <a:t>RP11-717H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746840" y="2743200"/>
            <a:ext cx="976320" cy="181080"/>
          </a:xfrm>
          <a:prstGeom prst="rightArrow">
            <a:avLst>
              <a:gd name="adj1" fmla="val 50000"/>
              <a:gd name="adj2" fmla="val 134791"/>
            </a:avLst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76520" y="39736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710"/>
                </a:solidFill>
                <a:latin typeface="Comic Sans MS"/>
              </a:rPr>
              <a:t>RP11-717H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845040" y="4546440"/>
            <a:ext cx="990360" cy="1676520"/>
            <a:chOff x="6845040" y="4546440"/>
            <a:chExt cx="990360" cy="1676520"/>
          </a:xfrm>
        </p:grpSpPr>
        <p:sp>
          <p:nvSpPr>
            <p:cNvPr id="699" name=""/>
            <p:cNvSpPr/>
            <p:nvPr/>
          </p:nvSpPr>
          <p:spPr>
            <a:xfrm>
              <a:off x="6997320" y="4546440"/>
              <a:ext cx="838080" cy="1676520"/>
            </a:xfrm>
            <a:prstGeom prst="rect">
              <a:avLst/>
            </a:prstGeom>
            <a:solidFill>
              <a:srgbClr val="4d4d4d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0800000">
              <a:off x="7390800" y="5843160"/>
              <a:ext cx="379080" cy="2775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35440" y="5049720"/>
              <a:ext cx="2775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89440" y="4851360"/>
              <a:ext cx="168120" cy="13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739a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35440" y="4983120"/>
              <a:ext cx="2775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73600" y="5057640"/>
              <a:ext cx="191880" cy="7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6586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11680" y="5098680"/>
              <a:ext cx="304560" cy="16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b5b5b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378560" y="5247360"/>
              <a:ext cx="389880" cy="3286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78560" y="5576760"/>
              <a:ext cx="389880" cy="66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378560" y="5643360"/>
              <a:ext cx="389880" cy="179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97320" y="4546440"/>
              <a:ext cx="761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0800000">
              <a:off x="6845040" y="5841360"/>
              <a:ext cx="59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7821720" y="577692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710"/>
                </a:solidFill>
                <a:latin typeface="Comic Sans MS"/>
              </a:rPr>
              <a:t>RP-1152O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58000" y="6400800"/>
            <a:ext cx="154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r(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19640" y="6400800"/>
            <a:ext cx="201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r(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04320" y="5664240"/>
            <a:ext cx="7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257800" y="1015560"/>
            <a:ext cx="914400" cy="5257800"/>
            <a:chOff x="5257800" y="1015560"/>
            <a:chExt cx="914400" cy="5257800"/>
          </a:xfrm>
        </p:grpSpPr>
        <p:sp>
          <p:nvSpPr>
            <p:cNvPr id="716" name=""/>
            <p:cNvSpPr/>
            <p:nvPr/>
          </p:nvSpPr>
          <p:spPr>
            <a:xfrm rot="10800000">
              <a:off x="5486400" y="1015560"/>
              <a:ext cx="5954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257800" y="1168200"/>
              <a:ext cx="914400" cy="5105160"/>
              <a:chOff x="5257800" y="1168200"/>
              <a:chExt cx="914400" cy="5105160"/>
            </a:xfrm>
          </p:grpSpPr>
          <p:sp>
            <p:nvSpPr>
              <p:cNvPr id="718" name=""/>
              <p:cNvSpPr/>
              <p:nvPr/>
            </p:nvSpPr>
            <p:spPr>
              <a:xfrm rot="10800000">
                <a:off x="5334120" y="1168200"/>
                <a:ext cx="838080" cy="5105160"/>
              </a:xfrm>
              <a:prstGeom prst="rect">
                <a:avLst/>
              </a:prstGeom>
              <a:solidFill>
                <a:srgbClr val="4d4d4d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5257800" y="1244160"/>
                <a:ext cx="847440" cy="2846520"/>
                <a:chOff x="5257800" y="1244160"/>
                <a:chExt cx="847440" cy="2846520"/>
              </a:xfrm>
            </p:grpSpPr>
            <p:grpSp>
              <p:nvGrpSpPr>
                <p:cNvPr id="720" name=""/>
                <p:cNvGrpSpPr/>
                <p:nvPr/>
              </p:nvGrpSpPr>
              <p:grpSpPr>
                <a:xfrm>
                  <a:off x="5714640" y="1244160"/>
                  <a:ext cx="390600" cy="2845800"/>
                  <a:chOff x="5714640" y="1244160"/>
                  <a:chExt cx="390600" cy="284580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 rot="10800000">
                    <a:off x="5714640" y="3117600"/>
                    <a:ext cx="390600" cy="277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10800000">
                    <a:off x="5714640" y="2075760"/>
                    <a:ext cx="390600" cy="417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0800000">
                    <a:off x="5714640" y="3604320"/>
                    <a:ext cx="390600" cy="48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rot="10800000">
                    <a:off x="5714640" y="1521720"/>
                    <a:ext cx="390600" cy="27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rot="10800000">
                    <a:off x="5714640" y="3394800"/>
                    <a:ext cx="390600" cy="207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10800000">
                    <a:off x="5714640" y="1801440"/>
                    <a:ext cx="390600" cy="275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5714640" y="3049200"/>
                    <a:ext cx="3906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>
                    <a:off x="5714640" y="2563560"/>
                    <a:ext cx="390600" cy="0"/>
                  </a:xfrm>
                  <a:prstGeom prst="line">
                    <a:avLst/>
                  </a:prstGeom>
                  <a:ln w="223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5714640" y="2633400"/>
                    <a:ext cx="390600" cy="0"/>
                  </a:xfrm>
                  <a:prstGeom prst="line">
                    <a:avLst/>
                  </a:prstGeom>
                  <a:ln w="1908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rot="10800000">
                    <a:off x="5714640" y="1244160"/>
                    <a:ext cx="390600" cy="27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0800000">
                    <a:off x="5714640" y="2631240"/>
                    <a:ext cx="390600" cy="34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42424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solidFill>
                      <a:srgbClr val="99cc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>
                    <a:off x="5714640" y="2980800"/>
                    <a:ext cx="390600" cy="0"/>
                  </a:xfrm>
                  <a:prstGeom prst="line">
                    <a:avLst/>
                  </a:prstGeom>
                  <a:ln w="255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3" name=""/>
                <p:cNvSpPr/>
                <p:nvPr/>
              </p:nvSpPr>
              <p:spPr>
                <a:xfrm rot="10800000">
                  <a:off x="5257800" y="1244520"/>
                  <a:ext cx="503280" cy="28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4" name=""/>
            <p:cNvGrpSpPr/>
            <p:nvPr/>
          </p:nvGrpSpPr>
          <p:grpSpPr>
            <a:xfrm>
              <a:off x="5613480" y="4253040"/>
              <a:ext cx="502920" cy="1904400"/>
              <a:chOff x="5613480" y="4253040"/>
              <a:chExt cx="502920" cy="1904400"/>
            </a:xfrm>
          </p:grpSpPr>
          <p:sp>
            <p:nvSpPr>
              <p:cNvPr id="735" name=""/>
              <p:cNvSpPr/>
              <p:nvPr/>
            </p:nvSpPr>
            <p:spPr>
              <a:xfrm>
                <a:off x="5613480" y="5700600"/>
                <a:ext cx="481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708520" y="4253040"/>
                <a:ext cx="407880" cy="4950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708520" y="4747320"/>
                <a:ext cx="407880" cy="2840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08520" y="5032440"/>
                <a:ext cx="407880" cy="35352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708520" y="5385600"/>
                <a:ext cx="407880" cy="2804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08520" y="5667120"/>
                <a:ext cx="407880" cy="212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708520" y="5879880"/>
                <a:ext cx="407880" cy="21240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 flipV="1">
              <a:off x="5703840" y="4099680"/>
              <a:ext cx="401760" cy="158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34120" y="3835440"/>
              <a:ext cx="52704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877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VII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492200" y="1401840"/>
          <a:ext cx="765648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01840"/>
                    <a:ext cx="76564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"/>
          <p:cNvSpPr/>
          <p:nvPr/>
        </p:nvSpPr>
        <p:spPr>
          <a:xfrm>
            <a:off x="1498680" y="4267080"/>
            <a:ext cx="7632720" cy="2400480"/>
          </a:xfrm>
          <a:prstGeom prst="rect">
            <a:avLst/>
          </a:prstGeom>
          <a:solidFill>
            <a:srgbClr val="00ff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81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IX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317520" y="1506600"/>
            <a:ext cx="9296280" cy="45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 flipH="1" rot="10800000">
            <a:off x="870120" y="1396800"/>
            <a:ext cx="3924000" cy="490212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X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152600" y="2019240"/>
            <a:ext cx="723960" cy="12600"/>
          </a:xfrm>
          <a:prstGeom prst="line">
            <a:avLst/>
          </a:prstGeom>
          <a:ln w="38160">
            <a:solidFill>
              <a:srgbClr val="ff07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714680" y="3181320"/>
            <a:ext cx="380880" cy="6480"/>
          </a:xfrm>
          <a:prstGeom prst="line">
            <a:avLst/>
          </a:prstGeom>
          <a:ln w="38160">
            <a:solidFill>
              <a:srgbClr val="ff07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025520" y="2158920"/>
            <a:ext cx="723960" cy="12960"/>
          </a:xfrm>
          <a:prstGeom prst="line">
            <a:avLst/>
          </a:prstGeom>
          <a:ln w="38160">
            <a:solidFill>
              <a:srgbClr val="0699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219320" y="2527200"/>
            <a:ext cx="723960" cy="12960"/>
          </a:xfrm>
          <a:prstGeom prst="line">
            <a:avLst/>
          </a:prstGeom>
          <a:ln w="38160">
            <a:solidFill>
              <a:srgbClr val="0699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49160" y="3149640"/>
            <a:ext cx="723960" cy="12600"/>
          </a:xfrm>
          <a:prstGeom prst="line">
            <a:avLst/>
          </a:prstGeom>
          <a:ln w="38160">
            <a:solidFill>
              <a:srgbClr val="0699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43680" y="140976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sonda RP11-976L2 emette fluorescenza sul cromosoma 13 e sul der(13) (freccia ross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sonda RP11-1140C18 emette invece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e segnali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ul cromosoma 13, sul der(19) (freccia verde) e sul der(13) (freccia verd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1360" y="6454800"/>
            <a:ext cx="8826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BREAKPOINT SUL CROMOSOMA 13 CADE ALL’INTERNO DEL BAC 1140C1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 X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7920" y="1368360"/>
          <a:ext cx="436392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1368360"/>
                    <a:ext cx="436392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0" y="4444920"/>
            <a:ext cx="4498920" cy="15840"/>
          </a:xfrm>
          <a:prstGeom prst="line">
            <a:avLst/>
          </a:prstGeom>
          <a:ln w="2844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991040" y="2387520"/>
            <a:ext cx="858600" cy="3276360"/>
            <a:chOff x="4991040" y="2387520"/>
            <a:chExt cx="858600" cy="3276360"/>
          </a:xfrm>
        </p:grpSpPr>
        <p:sp>
          <p:nvSpPr>
            <p:cNvPr id="764" name=""/>
            <p:cNvSpPr/>
            <p:nvPr/>
          </p:nvSpPr>
          <p:spPr>
            <a:xfrm>
              <a:off x="5011560" y="2387520"/>
              <a:ext cx="838080" cy="3276360"/>
            </a:xfrm>
            <a:prstGeom prst="rect">
              <a:avLst/>
            </a:prstGeom>
            <a:solidFill>
              <a:srgbClr val="4d4d4d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59400" y="2736720"/>
              <a:ext cx="279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14840" y="2527200"/>
              <a:ext cx="166680" cy="1396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739a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59400" y="2666880"/>
              <a:ext cx="279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99000" y="2744640"/>
              <a:ext cx="191880" cy="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6586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37080" y="2788920"/>
              <a:ext cx="303120" cy="1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b5b5b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402160" y="2943720"/>
              <a:ext cx="392040" cy="3495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02160" y="3294000"/>
              <a:ext cx="392040" cy="69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402160" y="3363120"/>
              <a:ext cx="392040" cy="3474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02160" y="3711240"/>
              <a:ext cx="392040" cy="4892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5402160" y="4199760"/>
              <a:ext cx="392040" cy="2775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02160" y="4478040"/>
              <a:ext cx="392040" cy="3492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5402160" y="4826520"/>
              <a:ext cx="392040" cy="2797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02160" y="5106960"/>
              <a:ext cx="392040" cy="207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5402160" y="5314680"/>
              <a:ext cx="392040" cy="209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91040" y="2387520"/>
              <a:ext cx="838080" cy="32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8597880" y="1168200"/>
            <a:ext cx="914400" cy="5257800"/>
            <a:chOff x="8597880" y="1168200"/>
            <a:chExt cx="914400" cy="5257800"/>
          </a:xfrm>
        </p:grpSpPr>
        <p:sp>
          <p:nvSpPr>
            <p:cNvPr id="781" name=""/>
            <p:cNvSpPr/>
            <p:nvPr/>
          </p:nvSpPr>
          <p:spPr>
            <a:xfrm rot="10800000">
              <a:off x="8826480" y="1168200"/>
              <a:ext cx="5954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8597880" y="1320840"/>
              <a:ext cx="914400" cy="5105160"/>
              <a:chOff x="8597880" y="1320840"/>
              <a:chExt cx="914400" cy="5105160"/>
            </a:xfrm>
          </p:grpSpPr>
          <p:sp>
            <p:nvSpPr>
              <p:cNvPr id="783" name=""/>
              <p:cNvSpPr/>
              <p:nvPr/>
            </p:nvSpPr>
            <p:spPr>
              <a:xfrm rot="10800000">
                <a:off x="8674200" y="1320840"/>
                <a:ext cx="838080" cy="5105160"/>
              </a:xfrm>
              <a:prstGeom prst="rect">
                <a:avLst/>
              </a:prstGeom>
              <a:solidFill>
                <a:srgbClr val="4d4d4d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8597880" y="1396800"/>
                <a:ext cx="847440" cy="2846520"/>
                <a:chOff x="8597880" y="1396800"/>
                <a:chExt cx="847440" cy="2846520"/>
              </a:xfrm>
            </p:grpSpPr>
            <p:grpSp>
              <p:nvGrpSpPr>
                <p:cNvPr id="785" name=""/>
                <p:cNvGrpSpPr/>
                <p:nvPr/>
              </p:nvGrpSpPr>
              <p:grpSpPr>
                <a:xfrm>
                  <a:off x="9054720" y="1396800"/>
                  <a:ext cx="390600" cy="2845800"/>
                  <a:chOff x="9054720" y="1396800"/>
                  <a:chExt cx="390600" cy="284580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rot="10800000">
                    <a:off x="9054720" y="3270240"/>
                    <a:ext cx="390600" cy="277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rot="10800000">
                    <a:off x="9054720" y="2228400"/>
                    <a:ext cx="390600" cy="417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10800000">
                    <a:off x="9054720" y="3756960"/>
                    <a:ext cx="390600" cy="48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rot="10800000">
                    <a:off x="9054720" y="1674360"/>
                    <a:ext cx="390600" cy="27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50000">
                        <a:srgbClr val="7517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rot="10800000">
                    <a:off x="9054720" y="3547440"/>
                    <a:ext cx="390600" cy="207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0800000">
                    <a:off x="9054720" y="1954080"/>
                    <a:ext cx="390600" cy="275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>
                    <a:off x="9054720" y="3201840"/>
                    <a:ext cx="390600" cy="0"/>
                  </a:xfrm>
                  <a:prstGeom prst="line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>
                    <a:off x="9054720" y="2716200"/>
                    <a:ext cx="390600" cy="0"/>
                  </a:xfrm>
                  <a:prstGeom prst="line">
                    <a:avLst/>
                  </a:prstGeom>
                  <a:ln w="223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>
                    <a:off x="9054720" y="2786040"/>
                    <a:ext cx="390600" cy="0"/>
                  </a:xfrm>
                  <a:prstGeom prst="line">
                    <a:avLst/>
                  </a:prstGeom>
                  <a:ln w="1908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rot="10800000">
                    <a:off x="9054720" y="1396800"/>
                    <a:ext cx="390600" cy="27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465e00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10800000">
                    <a:off x="9054720" y="2783880"/>
                    <a:ext cx="390600" cy="34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42424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solidFill>
                      <a:srgbClr val="99cc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>
                    <a:off x="9054720" y="3133440"/>
                    <a:ext cx="390600" cy="0"/>
                  </a:xfrm>
                  <a:prstGeom prst="line">
                    <a:avLst/>
                  </a:prstGeom>
                  <a:ln w="2556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8" name=""/>
                <p:cNvSpPr/>
                <p:nvPr/>
              </p:nvSpPr>
              <p:spPr>
                <a:xfrm rot="10800000">
                  <a:off x="8597880" y="1397160"/>
                  <a:ext cx="503280" cy="28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9" name=""/>
            <p:cNvGrpSpPr/>
            <p:nvPr/>
          </p:nvGrpSpPr>
          <p:grpSpPr>
            <a:xfrm>
              <a:off x="8953560" y="4405680"/>
              <a:ext cx="502920" cy="1904400"/>
              <a:chOff x="8953560" y="4405680"/>
              <a:chExt cx="502920" cy="1904400"/>
            </a:xfrm>
          </p:grpSpPr>
          <p:sp>
            <p:nvSpPr>
              <p:cNvPr id="800" name=""/>
              <p:cNvSpPr/>
              <p:nvPr/>
            </p:nvSpPr>
            <p:spPr>
              <a:xfrm>
                <a:off x="8953560" y="5853240"/>
                <a:ext cx="481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9048600" y="4405680"/>
                <a:ext cx="407880" cy="4950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9048600" y="4899960"/>
                <a:ext cx="407880" cy="2840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9048600" y="5185080"/>
                <a:ext cx="407880" cy="35352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9048600" y="5538240"/>
                <a:ext cx="407880" cy="2804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048600" y="5819760"/>
                <a:ext cx="407880" cy="212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465e00"/>
                  </a:gs>
                  <a:gs pos="100000">
                    <a:srgbClr val="99cc00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9048600" y="6032520"/>
                <a:ext cx="407880" cy="21240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 flipV="1">
              <a:off x="9043920" y="4252320"/>
              <a:ext cx="401760" cy="158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674200" y="3988080"/>
              <a:ext cx="52704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200720" y="2298600"/>
            <a:ext cx="990360" cy="1676520"/>
            <a:chOff x="7200720" y="2298600"/>
            <a:chExt cx="990360" cy="1676520"/>
          </a:xfrm>
        </p:grpSpPr>
        <p:sp>
          <p:nvSpPr>
            <p:cNvPr id="810" name=""/>
            <p:cNvSpPr/>
            <p:nvPr/>
          </p:nvSpPr>
          <p:spPr>
            <a:xfrm>
              <a:off x="7353000" y="2298600"/>
              <a:ext cx="838080" cy="1676520"/>
            </a:xfrm>
            <a:prstGeom prst="rect">
              <a:avLst/>
            </a:prstGeom>
            <a:solidFill>
              <a:srgbClr val="4d4d4d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0800000">
              <a:off x="7746480" y="3595320"/>
              <a:ext cx="379080" cy="2775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7517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91120" y="2801880"/>
              <a:ext cx="2775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45120" y="2603520"/>
              <a:ext cx="168120" cy="13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739a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91120" y="2735280"/>
              <a:ext cx="2775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829280" y="2809800"/>
              <a:ext cx="191880" cy="7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6586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67360" y="2850840"/>
              <a:ext cx="304560" cy="16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b5b5b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734240" y="2999520"/>
              <a:ext cx="389880" cy="3286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734240" y="3328920"/>
              <a:ext cx="389880" cy="66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734240" y="3395520"/>
              <a:ext cx="389880" cy="179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7175e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53000" y="2298600"/>
              <a:ext cx="761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0800000">
              <a:off x="7200720" y="3593520"/>
              <a:ext cx="59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5876280" y="336564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710"/>
                </a:solidFill>
                <a:latin typeface="Comic Sans MS"/>
              </a:rPr>
              <a:t>RP11-1140C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146640" y="3200400"/>
            <a:ext cx="1054440" cy="169920"/>
          </a:xfrm>
          <a:prstGeom prst="leftRightArrow">
            <a:avLst>
              <a:gd name="adj1" fmla="val 50000"/>
              <a:gd name="adj2" fmla="val 123535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260480" y="415296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710"/>
                </a:solidFill>
                <a:latin typeface="Comic Sans MS"/>
              </a:rPr>
              <a:t>RP11-1140C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83360" y="3429000"/>
            <a:ext cx="634680" cy="136440"/>
          </a:xfrm>
          <a:prstGeom prst="rect">
            <a:avLst/>
          </a:prstGeom>
          <a:solidFill>
            <a:srgbClr val="ff07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58280" y="3492360"/>
            <a:ext cx="634680" cy="65160"/>
          </a:xfrm>
          <a:prstGeom prst="rect">
            <a:avLst/>
          </a:prstGeom>
          <a:solidFill>
            <a:srgbClr val="ff07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940960" y="4254480"/>
            <a:ext cx="634680" cy="65160"/>
          </a:xfrm>
          <a:prstGeom prst="rect">
            <a:avLst/>
          </a:prstGeom>
          <a:solidFill>
            <a:srgbClr val="ff07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426800" y="43434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710"/>
                </a:solidFill>
                <a:latin typeface="Comic Sans MS"/>
              </a:rPr>
              <a:t>RP11-976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5240" y="2419200"/>
            <a:ext cx="425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cromosoma non norm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r Philadelphia (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5240" y="1600200"/>
            <a:ext cx="496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Nel 95% dei casi di C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187720"/>
            <a:ext cx="247680" cy="304560"/>
          </a:xfrm>
          <a:prstGeom prst="downArrow">
            <a:avLst>
              <a:gd name="adj1" fmla="val 50000"/>
              <a:gd name="adj2" fmla="val 30741"/>
            </a:avLst>
          </a:prstGeom>
          <a:gradFill rotWithShape="0">
            <a:gsLst>
              <a:gs pos="0">
                <a:srgbClr val="ff1119"/>
              </a:gs>
              <a:gs pos="50000">
                <a:srgbClr val="ffff02"/>
              </a:gs>
              <a:gs pos="100000">
                <a:srgbClr val="ff111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" y="3733920"/>
            <a:ext cx="32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dagini FISH E MOLECO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549760"/>
            <a:ext cx="9740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 FORMANO DUE GENI DI FUS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BL-BCR su DER9 (nessuna proteina prodot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BCR-ABL su P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proteina di fusione coinvolta nella proliferazone cellu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35680" y="1486080"/>
            <a:ext cx="4869720" cy="4059000"/>
            <a:chOff x="5035680" y="1486080"/>
            <a:chExt cx="4869720" cy="4059000"/>
          </a:xfrm>
        </p:grpSpPr>
        <p:grpSp>
          <p:nvGrpSpPr>
            <p:cNvPr id="67" name=""/>
            <p:cNvGrpSpPr/>
            <p:nvPr/>
          </p:nvGrpSpPr>
          <p:grpSpPr>
            <a:xfrm>
              <a:off x="5035680" y="1486080"/>
              <a:ext cx="4869720" cy="4059000"/>
              <a:chOff x="5035680" y="1486080"/>
              <a:chExt cx="4869720" cy="4059000"/>
            </a:xfrm>
          </p:grpSpPr>
          <p:pic>
            <p:nvPicPr>
              <p:cNvPr id="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5680" y="1486080"/>
                <a:ext cx="4869720" cy="40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7016760" y="3106440"/>
                <a:ext cx="412560" cy="304560"/>
              </a:xfrm>
              <a:prstGeom prst="rightArrow">
                <a:avLst>
                  <a:gd name="adj1" fmla="val 50000"/>
                  <a:gd name="adj2" fmla="val 33865"/>
                </a:avLst>
              </a:prstGeom>
              <a:gradFill rotWithShape="0">
                <a:gsLst>
                  <a:gs pos="0">
                    <a:srgbClr val="ff1119"/>
                  </a:gs>
                  <a:gs pos="100000">
                    <a:srgbClr val="75070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50680" y="167616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03080" y="215892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527960" y="167940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BL/BC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75480" y="213660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CR/AB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6520" y="673200"/>
            <a:ext cx="6026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114800"/>
            <a:ext cx="504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locazione reciproca braccio lungo chr.9 e il braccio lungo chr.22: t(9;22)(q34;q1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651880" y="5508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1130400" y="1295280"/>
            <a:ext cx="7565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Dopo aver individuato la regione sul cromosoma 13 e sul 19 presumibilmente coinvolta nella traslocazione, selezionare i corrispondenti BAC da utilizzare per la F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59400" y="22860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a50021"/>
              </a:gs>
              <a:gs pos="5000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06360" y="3200400"/>
            <a:ext cx="7543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individuare i BAC che vengono tagliati dal breakpoint; in questo caso dovrei avere </a:t>
            </a:r>
            <a:r>
              <a:rPr b="1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tre segnali</a:t>
            </a: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: uno sul cromosoma normale e un segnale su ciascun deriv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per abbreviare i tempi si puo’ eseguire una coibridazione marcando contemporaneamente due o tre sonde di DNA con diversi fluorocrom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873600" y="5181480"/>
            <a:ext cx="2057400" cy="990720"/>
          </a:xfrm>
          <a:custGeom>
            <a:avLst/>
            <a:gdLst>
              <a:gd name="textAreaLeft" fmla="*/ 0 w 2057400"/>
              <a:gd name="textAreaRight" fmla="*/ 2057400 w 2057400"/>
              <a:gd name="textAreaTop" fmla="*/ 360 h 990720"/>
              <a:gd name="textAreaBottom" fmla="*/ 991440 h 990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2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6542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5448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Fluor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23556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y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7880" y="7293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0"/>
                </a:solidFill>
                <a:latin typeface="Comic Sans MS"/>
              </a:rPr>
              <a:t>Evidenziare i breakpoints mediante la FISH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1130400" y="1295280"/>
            <a:ext cx="7565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Dopo aver individuato la regione sul cromosoma 13 e sul 19 presumibilmente coinvolta nella traslocazione, selezionare i corrispondenti BAC da utilizzare per la F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59400" y="22860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a50021"/>
              </a:gs>
              <a:gs pos="5000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06360" y="3200400"/>
            <a:ext cx="7543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individuare i BAC che vengono tagliati dal breakpoint; in questo caso dovrei avere </a:t>
            </a:r>
            <a:r>
              <a:rPr b="1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tre segnali</a:t>
            </a: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: uno sul cromosoma normale e un segnale su ciascun deriv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per abbreviare i tempi si puo’ eseguire una coibridazione marcando contemporaneamente due o tre sonde di DNA con diversi fluorocrom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99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73600" y="5181480"/>
            <a:ext cx="2057400" cy="990720"/>
          </a:xfrm>
          <a:custGeom>
            <a:avLst/>
            <a:gdLst>
              <a:gd name="textAreaLeft" fmla="*/ 0 w 2057400"/>
              <a:gd name="textAreaRight" fmla="*/ 2057400 w 2057400"/>
              <a:gd name="textAreaTop" fmla="*/ 360 h 990720"/>
              <a:gd name="textAreaBottom" fmla="*/ 991440 h 990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2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542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5448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Fluor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3556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y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58440" y="4392000"/>
            <a:ext cx="81025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 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presenti anche i file PDF degli articoli necessar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la preparazione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50200" y="5470560"/>
            <a:ext cx="384120" cy="534960"/>
          </a:xfrm>
          <a:prstGeom prst="can">
            <a:avLst>
              <a:gd name="adj" fmla="val 9731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50200" y="5329080"/>
            <a:ext cx="384120" cy="19548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864e07"/>
              </a:gs>
              <a:gs pos="50000">
                <a:srgbClr val="ffffff"/>
              </a:gs>
              <a:gs pos="100000">
                <a:srgbClr val="864e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50200" y="5284800"/>
            <a:ext cx="384120" cy="136440"/>
          </a:xfrm>
          <a:prstGeom prst="can">
            <a:avLst>
              <a:gd name="adj" fmla="val 17143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21880" y="4867200"/>
            <a:ext cx="396720" cy="389160"/>
          </a:xfrm>
          <a:prstGeom prst="can">
            <a:avLst>
              <a:gd name="adj" fmla="val 8569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1398600"/>
            <a:ext cx="7640280" cy="4925880"/>
            <a:chOff x="0" y="1398600"/>
            <a:chExt cx="7640280" cy="49258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1398600"/>
              <a:ext cx="3749040" cy="49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704400" y="1398600"/>
              <a:ext cx="3935880" cy="49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79640" y="5546160"/>
              <a:ext cx="95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(P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3880" y="63576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ISH nella CML 3 spo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8928000" y="4764240"/>
            <a:ext cx="395280" cy="136440"/>
          </a:xfrm>
          <a:prstGeom prst="can">
            <a:avLst>
              <a:gd name="adj" fmla="val 36046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86680" y="4587840"/>
            <a:ext cx="265320" cy="20484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26560" y="4427640"/>
            <a:ext cx="384120" cy="206280"/>
          </a:xfrm>
          <a:prstGeom prst="can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26560" y="4322880"/>
            <a:ext cx="384120" cy="201600"/>
          </a:xfrm>
          <a:prstGeom prst="can">
            <a:avLst>
              <a:gd name="adj" fmla="val 4568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9050040" y="4124160"/>
            <a:ext cx="13644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039240" y="4067280"/>
            <a:ext cx="160200" cy="185400"/>
            <a:chOff x="9039240" y="4067280"/>
            <a:chExt cx="160200" cy="185400"/>
          </a:xfrm>
        </p:grpSpPr>
        <p:sp>
          <p:nvSpPr>
            <p:cNvPr id="92" name=""/>
            <p:cNvSpPr/>
            <p:nvPr/>
          </p:nvSpPr>
          <p:spPr>
            <a:xfrm>
              <a:off x="9039240" y="4067280"/>
              <a:ext cx="160200" cy="132840"/>
            </a:xfrm>
            <a:prstGeom prst="ellipse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91080" y="4143600"/>
              <a:ext cx="55800" cy="109080"/>
            </a:xfrm>
            <a:prstGeom prst="rect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758000" y="5235480"/>
            <a:ext cx="397080" cy="389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58000" y="5091120"/>
            <a:ext cx="397080" cy="23796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58000" y="4856040"/>
            <a:ext cx="397080" cy="31284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58000" y="4508640"/>
            <a:ext cx="397080" cy="4572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58000" y="3978360"/>
            <a:ext cx="397080" cy="63324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58000" y="3440160"/>
            <a:ext cx="397080" cy="62208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8000" y="3295800"/>
            <a:ext cx="397080" cy="2696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58000" y="2976480"/>
            <a:ext cx="397080" cy="463680"/>
          </a:xfrm>
          <a:prstGeom prst="can">
            <a:avLst>
              <a:gd name="adj" fmla="val 1906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9920" y="2743200"/>
            <a:ext cx="274680" cy="303120"/>
          </a:xfrm>
          <a:prstGeom prst="can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59800" y="2598840"/>
            <a:ext cx="396720" cy="2998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8000" y="2506680"/>
            <a:ext cx="398520" cy="2728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59800" y="2252520"/>
            <a:ext cx="396720" cy="3002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109960"/>
            <a:ext cx="396720" cy="19656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59800" y="2000160"/>
            <a:ext cx="396720" cy="22248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59800" y="1770120"/>
            <a:ext cx="396720" cy="284040"/>
          </a:xfrm>
          <a:prstGeom prst="can">
            <a:avLst>
              <a:gd name="adj" fmla="val 2899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42280" y="5091120"/>
            <a:ext cx="397080" cy="23796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42280" y="4856040"/>
            <a:ext cx="397080" cy="31284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42280" y="4508640"/>
            <a:ext cx="397080" cy="4572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42280" y="3978360"/>
            <a:ext cx="397080" cy="63324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2280" y="3440160"/>
            <a:ext cx="397080" cy="62208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42280" y="3295800"/>
            <a:ext cx="397080" cy="2696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42280" y="2976480"/>
            <a:ext cx="397080" cy="463680"/>
          </a:xfrm>
          <a:prstGeom prst="can">
            <a:avLst>
              <a:gd name="adj" fmla="val 1906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04200" y="2743200"/>
            <a:ext cx="274680" cy="303120"/>
          </a:xfrm>
          <a:prstGeom prst="can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44080" y="2598840"/>
            <a:ext cx="396720" cy="2998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2280" y="2506680"/>
            <a:ext cx="398520" cy="2728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44080" y="2252520"/>
            <a:ext cx="396720" cy="3002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44080" y="2109960"/>
            <a:ext cx="396720" cy="19656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44080" y="2000160"/>
            <a:ext cx="396720" cy="22248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44080" y="1770120"/>
            <a:ext cx="396720" cy="284040"/>
          </a:xfrm>
          <a:prstGeom prst="can">
            <a:avLst>
              <a:gd name="adj" fmla="val 2899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445680" y="5025960"/>
            <a:ext cx="384120" cy="534960"/>
          </a:xfrm>
          <a:prstGeom prst="can">
            <a:avLst>
              <a:gd name="adj" fmla="val 9731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445680" y="4884840"/>
            <a:ext cx="384120" cy="19512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864e07"/>
              </a:gs>
              <a:gs pos="50000">
                <a:srgbClr val="ffffff"/>
              </a:gs>
              <a:gs pos="100000">
                <a:srgbClr val="864e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445680" y="4738680"/>
            <a:ext cx="384120" cy="244440"/>
          </a:xfrm>
          <a:prstGeom prst="can">
            <a:avLst>
              <a:gd name="adj" fmla="val 17143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502920" y="4562640"/>
            <a:ext cx="264960" cy="204480"/>
          </a:xfrm>
          <a:prstGeom prst="can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441000" y="4402080"/>
            <a:ext cx="384120" cy="206280"/>
          </a:xfrm>
          <a:prstGeom prst="can">
            <a:avLst>
              <a:gd name="adj" fmla="val 17912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442440" y="4297320"/>
            <a:ext cx="384120" cy="201600"/>
          </a:xfrm>
          <a:prstGeom prst="can">
            <a:avLst>
              <a:gd name="adj" fmla="val 45689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9567720" y="4098960"/>
            <a:ext cx="1368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553680" y="4041720"/>
            <a:ext cx="160200" cy="185400"/>
            <a:chOff x="9553680" y="4041720"/>
            <a:chExt cx="160200" cy="185400"/>
          </a:xfrm>
        </p:grpSpPr>
        <p:sp>
          <p:nvSpPr>
            <p:cNvPr id="131" name=""/>
            <p:cNvSpPr/>
            <p:nvPr/>
          </p:nvSpPr>
          <p:spPr>
            <a:xfrm>
              <a:off x="9553680" y="4041720"/>
              <a:ext cx="160200" cy="132840"/>
            </a:xfrm>
            <a:prstGeom prst="ellipse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605520" y="4118040"/>
              <a:ext cx="55800" cy="109080"/>
            </a:xfrm>
            <a:prstGeom prst="rect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709040" y="5283360"/>
            <a:ext cx="507960" cy="8892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5295960"/>
            <a:ext cx="507960" cy="5400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864640" y="4876920"/>
            <a:ext cx="507960" cy="5400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3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57440" y="603720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a1a1a1"/>
                </a:solidFill>
                <a:latin typeface="Arial"/>
              </a:rPr>
              <a:t>(P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9960" y="992160"/>
            <a:ext cx="3363840" cy="5662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63800" y="577080"/>
            <a:ext cx="5848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ISH nella CML colocalizzazion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8350200" y="5470560"/>
            <a:ext cx="384120" cy="534960"/>
          </a:xfrm>
          <a:prstGeom prst="can">
            <a:avLst>
              <a:gd name="adj" fmla="val 9731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0200" y="5329080"/>
            <a:ext cx="384120" cy="19548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864e07"/>
              </a:gs>
              <a:gs pos="50000">
                <a:srgbClr val="ffffff"/>
              </a:gs>
              <a:gs pos="100000">
                <a:srgbClr val="864e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50200" y="5284800"/>
            <a:ext cx="384120" cy="136440"/>
          </a:xfrm>
          <a:prstGeom prst="can">
            <a:avLst>
              <a:gd name="adj" fmla="val 17143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21880" y="4867200"/>
            <a:ext cx="396720" cy="389160"/>
          </a:xfrm>
          <a:prstGeom prst="can">
            <a:avLst>
              <a:gd name="adj" fmla="val 8569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928000" y="4764240"/>
            <a:ext cx="395280" cy="136440"/>
          </a:xfrm>
          <a:prstGeom prst="can">
            <a:avLst>
              <a:gd name="adj" fmla="val 36046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86680" y="4587840"/>
            <a:ext cx="265320" cy="204840"/>
          </a:xfrm>
          <a:prstGeom prst="can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26560" y="4427640"/>
            <a:ext cx="384120" cy="206280"/>
          </a:xfrm>
          <a:prstGeom prst="can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926560" y="4322880"/>
            <a:ext cx="384120" cy="201600"/>
          </a:xfrm>
          <a:prstGeom prst="can">
            <a:avLst>
              <a:gd name="adj" fmla="val 4568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9050040" y="4124160"/>
            <a:ext cx="13644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039240" y="4067280"/>
            <a:ext cx="160200" cy="185400"/>
            <a:chOff x="9039240" y="4067280"/>
            <a:chExt cx="160200" cy="185400"/>
          </a:xfrm>
        </p:grpSpPr>
        <p:sp>
          <p:nvSpPr>
            <p:cNvPr id="150" name=""/>
            <p:cNvSpPr/>
            <p:nvPr/>
          </p:nvSpPr>
          <p:spPr>
            <a:xfrm>
              <a:off x="9039240" y="4067280"/>
              <a:ext cx="160200" cy="132840"/>
            </a:xfrm>
            <a:prstGeom prst="ellipse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91080" y="4143600"/>
              <a:ext cx="55800" cy="109080"/>
            </a:xfrm>
            <a:prstGeom prst="rect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758000" y="5235480"/>
            <a:ext cx="397080" cy="389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58000" y="5091120"/>
            <a:ext cx="397080" cy="23796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58000" y="4856040"/>
            <a:ext cx="397080" cy="31284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58000" y="4508640"/>
            <a:ext cx="397080" cy="4572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58000" y="3978360"/>
            <a:ext cx="397080" cy="63324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58000" y="3440160"/>
            <a:ext cx="397080" cy="62208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8000" y="3295800"/>
            <a:ext cx="397080" cy="2696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58000" y="2976480"/>
            <a:ext cx="397080" cy="463680"/>
          </a:xfrm>
          <a:prstGeom prst="can">
            <a:avLst>
              <a:gd name="adj" fmla="val 1906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19920" y="2743200"/>
            <a:ext cx="274680" cy="30312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59800" y="2598840"/>
            <a:ext cx="396720" cy="2998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8000" y="2506680"/>
            <a:ext cx="398520" cy="2728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9800" y="2252520"/>
            <a:ext cx="396720" cy="3002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59800" y="2109960"/>
            <a:ext cx="396720" cy="19656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59800" y="2000160"/>
            <a:ext cx="396720" cy="22248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9800" y="1770120"/>
            <a:ext cx="396720" cy="284040"/>
          </a:xfrm>
          <a:prstGeom prst="can">
            <a:avLst>
              <a:gd name="adj" fmla="val 2899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42280" y="5091120"/>
            <a:ext cx="397080" cy="23796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42280" y="4856040"/>
            <a:ext cx="397080" cy="31284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42280" y="4508640"/>
            <a:ext cx="397080" cy="4572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42280" y="3978360"/>
            <a:ext cx="397080" cy="63324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42280" y="3440160"/>
            <a:ext cx="397080" cy="62208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42280" y="3295800"/>
            <a:ext cx="397080" cy="2696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42280" y="2976480"/>
            <a:ext cx="397080" cy="463680"/>
          </a:xfrm>
          <a:prstGeom prst="can">
            <a:avLst>
              <a:gd name="adj" fmla="val 1906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04200" y="2743200"/>
            <a:ext cx="274680" cy="303120"/>
          </a:xfrm>
          <a:prstGeom prst="can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44080" y="2598840"/>
            <a:ext cx="396720" cy="2998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42280" y="2506680"/>
            <a:ext cx="398520" cy="2728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44080" y="2252520"/>
            <a:ext cx="396720" cy="3002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44080" y="2109960"/>
            <a:ext cx="396720" cy="19656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44080" y="2000160"/>
            <a:ext cx="396720" cy="22248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44080" y="1770120"/>
            <a:ext cx="396720" cy="284040"/>
          </a:xfrm>
          <a:prstGeom prst="can">
            <a:avLst>
              <a:gd name="adj" fmla="val 2899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445680" y="5025960"/>
            <a:ext cx="384120" cy="534960"/>
          </a:xfrm>
          <a:prstGeom prst="can">
            <a:avLst>
              <a:gd name="adj" fmla="val 9731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445680" y="4884840"/>
            <a:ext cx="384120" cy="19512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864e07"/>
              </a:gs>
              <a:gs pos="50000">
                <a:srgbClr val="ffffff"/>
              </a:gs>
              <a:gs pos="100000">
                <a:srgbClr val="864e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445680" y="4738680"/>
            <a:ext cx="384120" cy="244440"/>
          </a:xfrm>
          <a:prstGeom prst="can">
            <a:avLst>
              <a:gd name="adj" fmla="val 17143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02920" y="4562640"/>
            <a:ext cx="264960" cy="204480"/>
          </a:xfrm>
          <a:prstGeom prst="can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441000" y="4402080"/>
            <a:ext cx="384120" cy="206280"/>
          </a:xfrm>
          <a:prstGeom prst="can">
            <a:avLst>
              <a:gd name="adj" fmla="val 17912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442440" y="4297320"/>
            <a:ext cx="384120" cy="201600"/>
          </a:xfrm>
          <a:prstGeom prst="can">
            <a:avLst>
              <a:gd name="adj" fmla="val 45689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9567720" y="4098960"/>
            <a:ext cx="1368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553680" y="4041720"/>
            <a:ext cx="160200" cy="185400"/>
            <a:chOff x="9553680" y="4041720"/>
            <a:chExt cx="160200" cy="185400"/>
          </a:xfrm>
        </p:grpSpPr>
        <p:sp>
          <p:nvSpPr>
            <p:cNvPr id="189" name=""/>
            <p:cNvSpPr/>
            <p:nvPr/>
          </p:nvSpPr>
          <p:spPr>
            <a:xfrm>
              <a:off x="9553680" y="4041720"/>
              <a:ext cx="160200" cy="132840"/>
            </a:xfrm>
            <a:prstGeom prst="ellipse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605520" y="4118040"/>
              <a:ext cx="55800" cy="109080"/>
            </a:xfrm>
            <a:prstGeom prst="rect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8864640" y="4876920"/>
            <a:ext cx="507960" cy="9036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09040" y="5283360"/>
            <a:ext cx="507960" cy="8892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864640" y="4775040"/>
            <a:ext cx="507960" cy="90720"/>
          </a:xfrm>
          <a:prstGeom prst="roundRect">
            <a:avLst>
              <a:gd name="adj" fmla="val 16667"/>
            </a:avLst>
          </a:prstGeom>
          <a:solidFill>
            <a:srgbClr val="037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98160" y="4775040"/>
            <a:ext cx="507960" cy="88920"/>
          </a:xfrm>
          <a:prstGeom prst="roundRect">
            <a:avLst>
              <a:gd name="adj" fmla="val 16667"/>
            </a:avLst>
          </a:prstGeom>
          <a:solidFill>
            <a:srgbClr val="037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2"/>
          <a:stretch/>
        </p:blipFill>
        <p:spPr>
          <a:xfrm>
            <a:off x="3530520" y="990720"/>
            <a:ext cx="3678480" cy="2741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3746520" y="3701880"/>
            <a:ext cx="3476520" cy="2970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84880" y="6172200"/>
            <a:ext cx="82440" cy="954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4160" y="5041800"/>
            <a:ext cx="50760" cy="50760"/>
          </a:xfrm>
          <a:prstGeom prst="octagon">
            <a:avLst>
              <a:gd name="adj" fmla="val 29287"/>
            </a:avLst>
          </a:prstGeom>
          <a:solidFill>
            <a:srgbClr val="676560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4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327480" y="1727280"/>
            <a:ext cx="4092480" cy="4495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75928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71400" y="732960"/>
            <a:ext cx="4413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FISH nella CML 4 spot</a:t>
            </a:r>
            <a:br>
              <a:rPr sz="2800"/>
            </a:b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e colocalizzazion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1160" y="917640"/>
            <a:ext cx="3378240" cy="5736960"/>
            <a:chOff x="11160" y="917640"/>
            <a:chExt cx="3378240" cy="5736960"/>
          </a:xfrm>
        </p:grpSpPr>
        <p:grpSp>
          <p:nvGrpSpPr>
            <p:cNvPr id="204" name=""/>
            <p:cNvGrpSpPr/>
            <p:nvPr/>
          </p:nvGrpSpPr>
          <p:grpSpPr>
            <a:xfrm>
              <a:off x="11160" y="917640"/>
              <a:ext cx="3378240" cy="5736960"/>
              <a:chOff x="11160" y="917640"/>
              <a:chExt cx="3378240" cy="5736960"/>
            </a:xfrm>
          </p:grpSpPr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" y="4066200"/>
                <a:ext cx="3378240" cy="258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917640"/>
                <a:ext cx="3378240" cy="332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>
              <a:off x="972720" y="5140800"/>
              <a:ext cx="1175040" cy="0"/>
            </a:xfrm>
            <a:prstGeom prst="line">
              <a:avLst/>
            </a:prstGeom>
            <a:ln w="38160">
              <a:solidFill>
                <a:srgbClr val="ff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8159760" y="5584680"/>
            <a:ext cx="384120" cy="534960"/>
          </a:xfrm>
          <a:prstGeom prst="can">
            <a:avLst>
              <a:gd name="adj" fmla="val 9731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59760" y="5443560"/>
            <a:ext cx="384120" cy="19512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864e07"/>
              </a:gs>
              <a:gs pos="50000">
                <a:srgbClr val="ffffff"/>
              </a:gs>
              <a:gs pos="100000">
                <a:srgbClr val="864e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59760" y="5398920"/>
            <a:ext cx="384120" cy="136800"/>
          </a:xfrm>
          <a:prstGeom prst="can">
            <a:avLst>
              <a:gd name="adj" fmla="val 17143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31080" y="4981680"/>
            <a:ext cx="397080" cy="388800"/>
          </a:xfrm>
          <a:prstGeom prst="can">
            <a:avLst>
              <a:gd name="adj" fmla="val 8569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737560" y="4878360"/>
            <a:ext cx="395280" cy="136440"/>
          </a:xfrm>
          <a:prstGeom prst="can">
            <a:avLst>
              <a:gd name="adj" fmla="val 36046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96240" y="4702320"/>
            <a:ext cx="265320" cy="20448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36120" y="4541760"/>
            <a:ext cx="384120" cy="206280"/>
          </a:xfrm>
          <a:prstGeom prst="can">
            <a:avLst>
              <a:gd name="adj" fmla="val 1791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36120" y="4437000"/>
            <a:ext cx="384120" cy="201600"/>
          </a:xfrm>
          <a:prstGeom prst="can">
            <a:avLst>
              <a:gd name="adj" fmla="val 45689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8859600" y="4238640"/>
            <a:ext cx="1364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848800" y="4181400"/>
            <a:ext cx="160200" cy="185400"/>
            <a:chOff x="8848800" y="4181400"/>
            <a:chExt cx="160200" cy="185400"/>
          </a:xfrm>
        </p:grpSpPr>
        <p:sp>
          <p:nvSpPr>
            <p:cNvPr id="218" name=""/>
            <p:cNvSpPr/>
            <p:nvPr/>
          </p:nvSpPr>
          <p:spPr>
            <a:xfrm>
              <a:off x="8848800" y="4181400"/>
              <a:ext cx="160200" cy="132840"/>
            </a:xfrm>
            <a:prstGeom prst="ellipse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900640" y="4257720"/>
              <a:ext cx="55800" cy="109080"/>
            </a:xfrm>
            <a:prstGeom prst="rect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567560" y="5349960"/>
            <a:ext cx="397080" cy="388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67560" y="5205240"/>
            <a:ext cx="397080" cy="23832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67560" y="4970520"/>
            <a:ext cx="397080" cy="31284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67560" y="4622760"/>
            <a:ext cx="397080" cy="4572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67560" y="4092480"/>
            <a:ext cx="397080" cy="63360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67560" y="3554280"/>
            <a:ext cx="397080" cy="62244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67560" y="3409920"/>
            <a:ext cx="397080" cy="27000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67560" y="3090960"/>
            <a:ext cx="397080" cy="463320"/>
          </a:xfrm>
          <a:prstGeom prst="can">
            <a:avLst>
              <a:gd name="adj" fmla="val 1906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9480" y="2857680"/>
            <a:ext cx="274680" cy="303120"/>
          </a:xfrm>
          <a:prstGeom prst="can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9360" y="2712960"/>
            <a:ext cx="396720" cy="3002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7560" y="2620800"/>
            <a:ext cx="398520" cy="2732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69360" y="2367000"/>
            <a:ext cx="396720" cy="2998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69360" y="2224080"/>
            <a:ext cx="396720" cy="19692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69360" y="2114640"/>
            <a:ext cx="396720" cy="22212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69360" y="1884240"/>
            <a:ext cx="396720" cy="284400"/>
          </a:xfrm>
          <a:prstGeom prst="can">
            <a:avLst>
              <a:gd name="adj" fmla="val 2899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1840" y="5205240"/>
            <a:ext cx="396720" cy="23832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51840" y="4970520"/>
            <a:ext cx="396720" cy="31284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1840" y="4622760"/>
            <a:ext cx="396720" cy="4572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51840" y="4092480"/>
            <a:ext cx="396720" cy="63360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1840" y="3554280"/>
            <a:ext cx="396720" cy="62244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51840" y="3409920"/>
            <a:ext cx="396720" cy="27000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51840" y="3090960"/>
            <a:ext cx="396720" cy="463320"/>
          </a:xfrm>
          <a:prstGeom prst="can">
            <a:avLst>
              <a:gd name="adj" fmla="val 1906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3760" y="2857680"/>
            <a:ext cx="274680" cy="303120"/>
          </a:xfrm>
          <a:prstGeom prst="can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153280" y="2712960"/>
            <a:ext cx="397080" cy="3002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51840" y="2620800"/>
            <a:ext cx="398520" cy="2732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367000"/>
            <a:ext cx="397080" cy="2998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53280" y="2224080"/>
            <a:ext cx="397080" cy="19692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2114640"/>
            <a:ext cx="397080" cy="22212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53280" y="1884240"/>
            <a:ext cx="397080" cy="284400"/>
          </a:xfrm>
          <a:prstGeom prst="can">
            <a:avLst>
              <a:gd name="adj" fmla="val 28995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55240" y="5140440"/>
            <a:ext cx="384120" cy="534960"/>
          </a:xfrm>
          <a:prstGeom prst="can">
            <a:avLst>
              <a:gd name="adj" fmla="val 9731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55240" y="4998960"/>
            <a:ext cx="384120" cy="19548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864e07"/>
              </a:gs>
              <a:gs pos="50000">
                <a:srgbClr val="ffffff"/>
              </a:gs>
              <a:gs pos="100000">
                <a:srgbClr val="864e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55240" y="4853160"/>
            <a:ext cx="384120" cy="244440"/>
          </a:xfrm>
          <a:prstGeom prst="can">
            <a:avLst>
              <a:gd name="adj" fmla="val 17143"/>
            </a:avLst>
          </a:prstGeom>
          <a:gradFill rotWithShape="0">
            <a:gsLst>
              <a:gs pos="0">
                <a:srgbClr val="ffd508"/>
              </a:gs>
              <a:gs pos="50000">
                <a:srgbClr val="ffffff"/>
              </a:gs>
              <a:gs pos="100000">
                <a:srgbClr val="ffd5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312120" y="4676760"/>
            <a:ext cx="265320" cy="204840"/>
          </a:xfrm>
          <a:prstGeom prst="can">
            <a:avLst>
              <a:gd name="adj" fmla="val 25000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250200" y="4516560"/>
            <a:ext cx="384480" cy="206280"/>
          </a:xfrm>
          <a:prstGeom prst="can">
            <a:avLst>
              <a:gd name="adj" fmla="val 17912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52000" y="4411800"/>
            <a:ext cx="384120" cy="201600"/>
          </a:xfrm>
          <a:prstGeom prst="can">
            <a:avLst>
              <a:gd name="adj" fmla="val 45689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9377280" y="4213080"/>
            <a:ext cx="1364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363240" y="4156200"/>
            <a:ext cx="160200" cy="185400"/>
            <a:chOff x="9363240" y="4156200"/>
            <a:chExt cx="160200" cy="185400"/>
          </a:xfrm>
        </p:grpSpPr>
        <p:sp>
          <p:nvSpPr>
            <p:cNvPr id="257" name=""/>
            <p:cNvSpPr/>
            <p:nvPr/>
          </p:nvSpPr>
          <p:spPr>
            <a:xfrm>
              <a:off x="9363240" y="4156200"/>
              <a:ext cx="160200" cy="132840"/>
            </a:xfrm>
            <a:prstGeom prst="ellipse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415080" y="4232520"/>
              <a:ext cx="55800" cy="109080"/>
            </a:xfrm>
            <a:prstGeom prst="rect">
              <a:avLst/>
            </a:pr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674200" y="4991040"/>
            <a:ext cx="507960" cy="5400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8240" y="5397480"/>
            <a:ext cx="508320" cy="8892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674200" y="4889520"/>
            <a:ext cx="507960" cy="90360"/>
          </a:xfrm>
          <a:prstGeom prst="roundRect">
            <a:avLst>
              <a:gd name="adj" fmla="val 16667"/>
            </a:avLst>
          </a:prstGeom>
          <a:solidFill>
            <a:srgbClr val="037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207360" y="4889520"/>
            <a:ext cx="508320" cy="88920"/>
          </a:xfrm>
          <a:prstGeom prst="roundRect">
            <a:avLst>
              <a:gd name="adj" fmla="val 16667"/>
            </a:avLst>
          </a:prstGeom>
          <a:solidFill>
            <a:srgbClr val="037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02520" y="5410080"/>
            <a:ext cx="507960" cy="54000"/>
          </a:xfrm>
          <a:prstGeom prst="roundRect">
            <a:avLst>
              <a:gd name="adj" fmla="val 16667"/>
            </a:avLst>
          </a:prstGeom>
          <a:solidFill>
            <a:srgbClr val="f605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038560" y="1486080"/>
            <a:ext cx="4456440" cy="5016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69800" y="1444680"/>
            <a:ext cx="4516560" cy="50450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93600" y="914400"/>
            <a:ext cx="5427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 esemp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867880" y="474840"/>
            <a:ext cx="1038240" cy="130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rot="5400000">
            <a:off x="4939920" y="1891800"/>
            <a:ext cx="5818320" cy="4113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 rot="5400000">
            <a:off x="709920" y="1786680"/>
            <a:ext cx="5819760" cy="43225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113840"/>
            <a:ext cx="16128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CML  esemp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9088560" y="4411800"/>
            <a:ext cx="517320" cy="1944720"/>
            <a:chOff x="9088560" y="4411800"/>
            <a:chExt cx="517320" cy="1944720"/>
          </a:xfrm>
        </p:grpSpPr>
        <p:sp>
          <p:nvSpPr>
            <p:cNvPr id="273" name=""/>
            <p:cNvSpPr/>
            <p:nvPr/>
          </p:nvSpPr>
          <p:spPr>
            <a:xfrm>
              <a:off x="9094680" y="5872320"/>
              <a:ext cx="507600" cy="484200"/>
            </a:xfrm>
            <a:prstGeom prst="can">
              <a:avLst>
                <a:gd name="adj" fmla="val 27629"/>
              </a:avLst>
            </a:prstGeom>
            <a:gradFill rotWithShape="0">
              <a:gsLst>
                <a:gs pos="0">
                  <a:srgbClr val="08dbff"/>
                </a:gs>
                <a:gs pos="50000">
                  <a:srgbClr val="ffffff"/>
                </a:gs>
                <a:gs pos="100000">
                  <a:srgbClr val="08db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94680" y="5294160"/>
              <a:ext cx="507600" cy="739800"/>
            </a:xfrm>
            <a:prstGeom prst="can">
              <a:avLst>
                <a:gd name="adj" fmla="val 22328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094680" y="5038920"/>
              <a:ext cx="507600" cy="650880"/>
            </a:xfrm>
            <a:prstGeom prst="can">
              <a:avLst>
                <a:gd name="adj" fmla="val 13884"/>
              </a:avLst>
            </a:prstGeom>
            <a:gradFill rotWithShape="0">
              <a:gsLst>
                <a:gs pos="0">
                  <a:srgbClr val="08dbff"/>
                </a:gs>
                <a:gs pos="50000">
                  <a:srgbClr val="ffffff"/>
                </a:gs>
                <a:gs pos="100000">
                  <a:srgbClr val="08db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088560" y="4695840"/>
              <a:ext cx="517320" cy="560520"/>
            </a:xfrm>
            <a:prstGeom prst="can">
              <a:avLst>
                <a:gd name="adj" fmla="val 18129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094680" y="4411800"/>
              <a:ext cx="507600" cy="406440"/>
            </a:xfrm>
            <a:prstGeom prst="can">
              <a:avLst>
                <a:gd name="adj" fmla="val 17912"/>
              </a:avLst>
            </a:prstGeom>
            <a:gradFill rotWithShape="0">
              <a:gsLst>
                <a:gs pos="0">
                  <a:srgbClr val="08dbff"/>
                </a:gs>
                <a:gs pos="50000">
                  <a:srgbClr val="ffffff"/>
                </a:gs>
                <a:gs pos="100000">
                  <a:srgbClr val="08db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9172440" y="4122720"/>
            <a:ext cx="351000" cy="336600"/>
          </a:xfrm>
          <a:prstGeom prst="can">
            <a:avLst>
              <a:gd name="adj" fmla="val 595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094680" y="3708360"/>
            <a:ext cx="507960" cy="457200"/>
          </a:xfrm>
          <a:prstGeom prst="can">
            <a:avLst>
              <a:gd name="adj" fmla="val 1848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19080" y="1905120"/>
            <a:ext cx="4906800" cy="4647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4520" y="12826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  </a:t>
            </a: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INVERSIONE inv(16)(p13;q22) (CBFB-MYH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7560" y="762120"/>
            <a:ext cx="775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867880" y="563400"/>
            <a:ext cx="1038240" cy="1301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697880" y="5859360"/>
            <a:ext cx="507960" cy="484200"/>
          </a:xfrm>
          <a:prstGeom prst="can">
            <a:avLst>
              <a:gd name="adj" fmla="val 27629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7880" y="5281560"/>
            <a:ext cx="507960" cy="739800"/>
          </a:xfrm>
          <a:prstGeom prst="can">
            <a:avLst>
              <a:gd name="adj" fmla="val 22328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97880" y="5025960"/>
            <a:ext cx="507960" cy="650880"/>
          </a:xfrm>
          <a:prstGeom prst="can">
            <a:avLst>
              <a:gd name="adj" fmla="val 13884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7880" y="4757760"/>
            <a:ext cx="507960" cy="485640"/>
          </a:xfrm>
          <a:prstGeom prst="can">
            <a:avLst>
              <a:gd name="adj" fmla="val 253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97880" y="4554360"/>
            <a:ext cx="507960" cy="32256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7880" y="4535640"/>
            <a:ext cx="507960" cy="196560"/>
          </a:xfrm>
          <a:prstGeom prst="can">
            <a:avLst>
              <a:gd name="adj" fmla="val 253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97880" y="4464000"/>
            <a:ext cx="507960" cy="147600"/>
          </a:xfrm>
          <a:prstGeom prst="can">
            <a:avLst>
              <a:gd name="adj" fmla="val 40185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7880" y="4075200"/>
            <a:ext cx="507960" cy="457200"/>
          </a:xfrm>
          <a:prstGeom prst="can">
            <a:avLst>
              <a:gd name="adj" fmla="val 18486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75640" y="3718080"/>
            <a:ext cx="350640" cy="39996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97880" y="3422520"/>
            <a:ext cx="507960" cy="40644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91400" y="2984400"/>
            <a:ext cx="517680" cy="560520"/>
          </a:xfrm>
          <a:prstGeom prst="can">
            <a:avLst>
              <a:gd name="adj" fmla="val 2996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97880" y="2865600"/>
            <a:ext cx="507960" cy="357120"/>
          </a:xfrm>
          <a:prstGeom prst="can">
            <a:avLst>
              <a:gd name="adj" fmla="val 37745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1400" y="2651040"/>
            <a:ext cx="517680" cy="371520"/>
          </a:xfrm>
          <a:prstGeom prst="can">
            <a:avLst>
              <a:gd name="adj" fmla="val 318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97880" y="2309760"/>
            <a:ext cx="507960" cy="523800"/>
          </a:xfrm>
          <a:prstGeom prst="can">
            <a:avLst>
              <a:gd name="adj" fmla="val 26791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094680" y="2996640"/>
            <a:ext cx="507960" cy="485640"/>
          </a:xfrm>
          <a:prstGeom prst="can">
            <a:avLst>
              <a:gd name="adj" fmla="val 253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9094680" y="3363120"/>
            <a:ext cx="507960" cy="32220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94680" y="3508200"/>
            <a:ext cx="507960" cy="19692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094680" y="2878200"/>
            <a:ext cx="507960" cy="357120"/>
          </a:xfrm>
          <a:prstGeom prst="can">
            <a:avLst>
              <a:gd name="adj" fmla="val 37745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88560" y="2664000"/>
            <a:ext cx="517320" cy="371160"/>
          </a:xfrm>
          <a:prstGeom prst="can">
            <a:avLst>
              <a:gd name="adj" fmla="val 31833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94680" y="2322360"/>
            <a:ext cx="507960" cy="524160"/>
          </a:xfrm>
          <a:prstGeom prst="can">
            <a:avLst>
              <a:gd name="adj" fmla="val 26791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17000" y="31496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10520" y="528948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094680" y="3603600"/>
            <a:ext cx="507960" cy="184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8dbff"/>
              </a:gs>
              <a:gs pos="50000">
                <a:srgbClr val="ffffff"/>
              </a:gs>
              <a:gs pos="100000">
                <a:srgbClr val="08db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6520" bIns="56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91840" y="3164040"/>
            <a:ext cx="1193040" cy="216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8720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87202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45320" y="521964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ff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45320" y="302256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005d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055080" y="302256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005d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055080" y="3111480"/>
            <a:ext cx="584280" cy="76320"/>
          </a:xfrm>
          <a:prstGeom prst="roundRect">
            <a:avLst>
              <a:gd name="adj" fmla="val 16667"/>
            </a:avLst>
          </a:prstGeom>
          <a:solidFill>
            <a:srgbClr val="ff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54760" y="3505320"/>
            <a:ext cx="2361960" cy="583560"/>
            <a:chOff x="5054760" y="3505320"/>
            <a:chExt cx="2361960" cy="583560"/>
          </a:xfrm>
        </p:grpSpPr>
        <p:sp>
          <p:nvSpPr>
            <p:cNvPr id="313" name=""/>
            <p:cNvSpPr/>
            <p:nvPr/>
          </p:nvSpPr>
          <p:spPr>
            <a:xfrm>
              <a:off x="5054760" y="3962160"/>
              <a:ext cx="2361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56200" y="3873240"/>
              <a:ext cx="190440" cy="16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27600" y="35053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40480" y="35053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84800" y="4012920"/>
              <a:ext cx="295200" cy="75960"/>
            </a:xfrm>
            <a:prstGeom prst="roundRect">
              <a:avLst>
                <a:gd name="adj" fmla="val 16667"/>
              </a:avLst>
            </a:prstGeom>
            <a:solidFill>
              <a:srgbClr val="ff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46720" y="3987720"/>
              <a:ext cx="331920" cy="75960"/>
            </a:xfrm>
            <a:prstGeom prst="roundRect">
              <a:avLst>
                <a:gd name="adj" fmla="val 16667"/>
              </a:avLst>
            </a:prstGeom>
            <a:solidFill>
              <a:srgbClr val="005d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3-05-28T11:36:27Z</cp:lastPrinted>
  <dcterms:modified xsi:type="dcterms:W3CDTF">2008-03-20T14:40:22Z</dcterms:modified>
  <cp:revision>253</cp:revision>
  <dc:subject/>
  <dc:title>Procedimento sperimentale di Mendel</dc:title>
</cp:coreProperties>
</file>