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57.pct" ContentType="image/x-pict"/>
  <Override PartName="/ppt/media/image43.png" ContentType="image/png"/>
  <Override PartName="/ppt/media/image5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1.pct" ContentType="image/x-pict"/>
  <Override PartName="/ppt/media/image41.jpeg" ContentType="image/jpeg"/>
  <Override PartName="/ppt/media/image14.jpeg" ContentType="image/jpeg"/>
  <Override PartName="/ppt/media/image16.jpeg" ContentType="image/jpeg"/>
  <Override PartName="/ppt/media/image49.pct" ContentType="image/x-pict"/>
  <Override PartName="/ppt/media/image18.jpeg" ContentType="image/jpeg"/>
  <Override PartName="/ppt/media/image17.jpeg" ContentType="image/jpeg"/>
  <Override PartName="/ppt/media/image42.jpeg" ContentType="image/jpeg"/>
  <Override PartName="/ppt/media/image25.png" ContentType="image/png"/>
  <Override PartName="/ppt/media/image19.jpeg" ContentType="image/jpeg"/>
  <Override PartName="/ppt/media/image62.pct" ContentType="image/x-pict"/>
  <Override PartName="/ppt/media/image15.jpeg" ContentType="image/jpeg"/>
  <Override PartName="/ppt/media/image1.pct" ContentType="image/x-pict"/>
  <Override PartName="/ppt/media/image29.png" ContentType="image/png"/>
  <Override PartName="/ppt/media/image44.png" ContentType="image/png"/>
  <Override PartName="/ppt/media/image58.pct" ContentType="image/x-pict"/>
  <Override PartName="/ppt/media/image24.png" ContentType="image/png"/>
  <Override PartName="/ppt/media/image11.jpeg" ContentType="image/jpeg"/>
  <Override PartName="/ppt/media/image60.pct" ContentType="image/x-pict"/>
  <Override PartName="/ppt/media/image23.jpeg" ContentType="image/jpeg"/>
  <Override PartName="/ppt/media/image12.png" ContentType="image/png"/>
  <Override PartName="/ppt/media/image46.pct" ContentType="image/x-pict"/>
  <Override PartName="/ppt/media/image21.png" ContentType="image/png"/>
  <Override PartName="/ppt/media/image55.pct" ContentType="image/x-pict"/>
  <Override PartName="/ppt/media/image22.jpeg" ContentType="image/jpeg"/>
  <Override PartName="/ppt/media/image5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48.pct" ContentType="image/x-pict"/>
  <Override PartName="/ppt/media/image10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3.pct" ContentType="image/x-pict"/>
  <Override PartName="/ppt/media/image9.jpeg" ContentType="image/jpeg"/>
  <Override PartName="/ppt/media/image45.pct" ContentType="image/x-pict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.pct" ContentType="image/x-pict"/>
  <Override PartName="/ppt/media/image35.jpeg" ContentType="image/jpeg"/>
  <Override PartName="/ppt/media/image47.png" ContentType="image/png"/>
  <Override PartName="/ppt/media/image36.jpeg" ContentType="image/jpeg"/>
  <Override PartName="/ppt/media/image54.pct" ContentType="image/x-pict"/>
  <Override PartName="/ppt/media/image37.jpeg" ContentType="image/jpeg"/>
  <Override PartName="/ppt/media/image50.pct" ContentType="image/x-pict"/>
  <Override PartName="/ppt/media/image53.png" ContentType="image/png"/>
  <Override PartName="/ppt/media/image4.jpeg" ContentType="image/jpeg"/>
  <Override PartName="/ppt/media/image51.png" ContentType="image/png"/>
  <Override PartName="/ppt/media/image5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1A29-38CD-464A-82F6-A3231DEF7BF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4795-8499-4AA8-A398-4F550812E1E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2BAE-9462-4889-805E-08C0273741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D02B-7BC8-41D2-848E-CD16BC00A9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079-C53D-45D1-A7E7-7A32F2DEB3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BEC-4375-4D5B-B36F-D26AB8627D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684F-90BB-43C1-B7EB-9D7A1B846BB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D4E-35FD-4120-82B2-1546ACEFFF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AF7-DE4E-47F6-A813-9D3E162CCB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27226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2CF3-E6C3-48D7-BA20-7B70DD1400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6B8B-6944-477F-9F18-2A91197062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E950-693A-4602-801F-7C36A66419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D980-C7CD-40E8-BF24-80694E1E28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3754-6202-4EFA-ACF2-9805D6F0AD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8F1-27EE-4894-8105-F3CFE8276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2719440" y="534960"/>
            <a:ext cx="3705120" cy="256716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7C30-B1AF-4713-A6A3-8DD6D32D4F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D3F0-D992-482E-AD8F-DDF7F1E86C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D7DD-603D-43BC-8673-014C4AA607B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DD6F-36F2-49C9-9B1E-233357E382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5ED4-DCC6-4A84-B568-867D92AFC3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84B7-2C9A-44DF-BE7C-86AE9F7D84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E0B0-275B-4741-B31A-574DAFD0B32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2720880" y="534960"/>
            <a:ext cx="3703680" cy="256536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1219320" y="3260880"/>
            <a:ext cx="6705360" cy="31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F95-BADE-4C70-91EB-279C2484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9BE-1994-4F4F-B658-1F573DB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0C13-34C0-483C-AE17-EF5968B1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697-E837-46BF-8DF1-03B0B0D0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9370-CA88-4506-BDD2-F7D9B6A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158-1A90-4AEC-BA80-6B04E3B2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DDB-C242-4EDD-91A1-AF35E862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59B-F952-43AC-9F0A-92225771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760-EBE8-4331-9C3E-4541F85B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67C-E092-4828-9B17-5BB7B1E1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50BD-2803-47DE-9A62-1B6EE392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6C8-7319-4B1E-89E1-F8FC7F6A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0446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0" y="65530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85FE-875A-41F3-B752-C0A9885A5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6920" y="608040"/>
            <a:ext cx="89139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1333440" y="152280"/>
            <a:ext cx="8283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LM Sc.Biosanitarie GeneticaIII (Diagn.Molec.) 2007-2008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7560" cy="10494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3.pct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.pct"/><Relationship Id="rId5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4.png"/><Relationship Id="rId3" Type="http://schemas.openxmlformats.org/officeDocument/2006/relationships/image" Target="../media/image45.pct"/><Relationship Id="rId4" Type="http://schemas.openxmlformats.org/officeDocument/2006/relationships/image" Target="../media/image46.pct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0.pct"/><Relationship Id="rId3" Type="http://schemas.openxmlformats.org/officeDocument/2006/relationships/image" Target="../media/image51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52.png"/><Relationship Id="rId7" Type="http://schemas.openxmlformats.org/officeDocument/2006/relationships/image" Target="../media/image51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3.png"/><Relationship Id="rId3" Type="http://schemas.openxmlformats.org/officeDocument/2006/relationships/image" Target="../media/image54.pct"/><Relationship Id="rId4" Type="http://schemas.openxmlformats.org/officeDocument/2006/relationships/image" Target="../media/image51.png"/><Relationship Id="rId5" Type="http://schemas.openxmlformats.org/officeDocument/2006/relationships/image" Target="../media/image47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47.png"/><Relationship Id="rId9" Type="http://schemas.openxmlformats.org/officeDocument/2006/relationships/image" Target="../media/image51.png"/><Relationship Id="rId10" Type="http://schemas.openxmlformats.org/officeDocument/2006/relationships/image" Target="../media/image47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image" Target="../media/image47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5.pct"/><Relationship Id="rId3" Type="http://schemas.openxmlformats.org/officeDocument/2006/relationships/image" Target="../media/image56.pct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pct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3.pct"/><Relationship Id="rId7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8.pct"/><Relationship Id="rId3" Type="http://schemas.openxmlformats.org/officeDocument/2006/relationships/image" Target="../media/image59.png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image" Target="../media/image61.pct"/><Relationship Id="rId3" Type="http://schemas.openxmlformats.org/officeDocument/2006/relationships/image" Target="../media/image47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3.pct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2.pct"/><Relationship Id="rId2" Type="http://schemas.openxmlformats.org/officeDocument/2006/relationships/hyperlink" Target="http://www.biologia.uniba.it/DIGEMI/Didattica.html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80960" y="775440"/>
            <a:ext cx="3492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itogenetica 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"/>
          <p:cNvSpPr/>
          <p:nvPr/>
        </p:nvSpPr>
        <p:spPr>
          <a:xfrm>
            <a:off x="196920" y="5524560"/>
            <a:ext cx="95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a citogenetica e` lo studio dei fenomeni genetici attraverso l’analisi citologica dei cromosomi al microscopio.                                       Ferguson-Sm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62040" y="1289160"/>
            <a:ext cx="6553440" cy="4279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86680" y="792000"/>
            <a:ext cx="1603440" cy="200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5240" y="1905120"/>
            <a:ext cx="97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SI CONTANO I CROMOSOMI : IMPORTANTE PER SOSPETTARE LA PRESENZA DI ALTERAZIONI NEL NUMERO CROMOSO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886200"/>
            <a:ext cx="90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SI APPAIANO GLI OMOLOGHI PER SIMILARI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3320" y="5121360"/>
            <a:ext cx="980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SI METTONO IN ORDINE SECONDO LA CON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8520" y="775440"/>
            <a:ext cx="6223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Come si fa il cariotipo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65080" y="1066680"/>
            <a:ext cx="6274080" cy="5791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48280" y="133812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17800" y="53006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581120" y="1447920"/>
            <a:ext cx="4993920" cy="4749840"/>
            <a:chOff x="1581120" y="1447920"/>
            <a:chExt cx="4993920" cy="4749840"/>
          </a:xfrm>
        </p:grpSpPr>
        <p:sp>
          <p:nvSpPr>
            <p:cNvPr id="122" name=""/>
            <p:cNvSpPr/>
            <p:nvPr/>
          </p:nvSpPr>
          <p:spPr>
            <a:xfrm>
              <a:off x="2846520" y="1447920"/>
              <a:ext cx="3728520" cy="2662200"/>
            </a:xfrm>
            <a:custGeom>
              <a:avLst/>
              <a:gdLst/>
              <a:ahLst/>
              <a:rect l="l" t="t" r="r" b="b"/>
              <a:pathLst>
                <a:path w="2168" h="1677">
                  <a:moveTo>
                    <a:pt x="0" y="0"/>
                  </a:moveTo>
                  <a:cubicBezTo>
                    <a:pt x="67" y="101"/>
                    <a:pt x="134" y="198"/>
                    <a:pt x="208" y="296"/>
                  </a:cubicBezTo>
                  <a:cubicBezTo>
                    <a:pt x="232" y="369"/>
                    <a:pt x="295" y="421"/>
                    <a:pt x="320" y="496"/>
                  </a:cubicBezTo>
                  <a:cubicBezTo>
                    <a:pt x="336" y="545"/>
                    <a:pt x="342" y="612"/>
                    <a:pt x="368" y="656"/>
                  </a:cubicBezTo>
                  <a:cubicBezTo>
                    <a:pt x="388" y="690"/>
                    <a:pt x="416" y="740"/>
                    <a:pt x="440" y="776"/>
                  </a:cubicBezTo>
                  <a:cubicBezTo>
                    <a:pt x="452" y="826"/>
                    <a:pt x="481" y="861"/>
                    <a:pt x="520" y="896"/>
                  </a:cubicBezTo>
                  <a:cubicBezTo>
                    <a:pt x="541" y="914"/>
                    <a:pt x="555" y="912"/>
                    <a:pt x="576" y="936"/>
                  </a:cubicBezTo>
                  <a:cubicBezTo>
                    <a:pt x="611" y="976"/>
                    <a:pt x="615" y="1004"/>
                    <a:pt x="624" y="1056"/>
                  </a:cubicBezTo>
                  <a:cubicBezTo>
                    <a:pt x="618" y="1141"/>
                    <a:pt x="610" y="1213"/>
                    <a:pt x="600" y="1296"/>
                  </a:cubicBezTo>
                  <a:cubicBezTo>
                    <a:pt x="602" y="1317"/>
                    <a:pt x="595" y="1342"/>
                    <a:pt x="608" y="1360"/>
                  </a:cubicBezTo>
                  <a:cubicBezTo>
                    <a:pt x="617" y="1373"/>
                    <a:pt x="640" y="1370"/>
                    <a:pt x="656" y="1376"/>
                  </a:cubicBezTo>
                  <a:cubicBezTo>
                    <a:pt x="713" y="1395"/>
                    <a:pt x="774" y="1396"/>
                    <a:pt x="832" y="1416"/>
                  </a:cubicBezTo>
                  <a:cubicBezTo>
                    <a:pt x="890" y="1474"/>
                    <a:pt x="815" y="1405"/>
                    <a:pt x="896" y="1456"/>
                  </a:cubicBezTo>
                  <a:cubicBezTo>
                    <a:pt x="931" y="1478"/>
                    <a:pt x="914" y="1500"/>
                    <a:pt x="968" y="1512"/>
                  </a:cubicBezTo>
                  <a:cubicBezTo>
                    <a:pt x="1088" y="1538"/>
                    <a:pt x="1207" y="1573"/>
                    <a:pt x="1328" y="1600"/>
                  </a:cubicBezTo>
                  <a:cubicBezTo>
                    <a:pt x="1569" y="1653"/>
                    <a:pt x="1402" y="1635"/>
                    <a:pt x="1632" y="1648"/>
                  </a:cubicBezTo>
                  <a:cubicBezTo>
                    <a:pt x="1719" y="1677"/>
                    <a:pt x="1814" y="1668"/>
                    <a:pt x="1904" y="1656"/>
                  </a:cubicBezTo>
                  <a:cubicBezTo>
                    <a:pt x="1961" y="1636"/>
                    <a:pt x="1993" y="1564"/>
                    <a:pt x="2048" y="1528"/>
                  </a:cubicBezTo>
                  <a:cubicBezTo>
                    <a:pt x="2077" y="1483"/>
                    <a:pt x="2049" y="1518"/>
                    <a:pt x="2112" y="1472"/>
                  </a:cubicBezTo>
                  <a:cubicBezTo>
                    <a:pt x="2122" y="1464"/>
                    <a:pt x="2132" y="1454"/>
                    <a:pt x="2144" y="1448"/>
                  </a:cubicBezTo>
                  <a:cubicBezTo>
                    <a:pt x="2151" y="1443"/>
                    <a:pt x="2168" y="1440"/>
                    <a:pt x="2168" y="144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76640" y="3606840"/>
              <a:ext cx="1251720" cy="2590920"/>
            </a:xfrm>
            <a:custGeom>
              <a:avLst/>
              <a:gdLst/>
              <a:ahLst/>
              <a:rect l="l" t="t" r="r" b="b"/>
              <a:pathLst>
                <a:path w="728" h="1632">
                  <a:moveTo>
                    <a:pt x="384" y="0"/>
                  </a:moveTo>
                  <a:cubicBezTo>
                    <a:pt x="377" y="100"/>
                    <a:pt x="368" y="198"/>
                    <a:pt x="344" y="296"/>
                  </a:cubicBezTo>
                  <a:cubicBezTo>
                    <a:pt x="332" y="450"/>
                    <a:pt x="345" y="353"/>
                    <a:pt x="328" y="432"/>
                  </a:cubicBezTo>
                  <a:cubicBezTo>
                    <a:pt x="325" y="445"/>
                    <a:pt x="328" y="461"/>
                    <a:pt x="320" y="472"/>
                  </a:cubicBezTo>
                  <a:cubicBezTo>
                    <a:pt x="287" y="513"/>
                    <a:pt x="238" y="502"/>
                    <a:pt x="200" y="528"/>
                  </a:cubicBezTo>
                  <a:cubicBezTo>
                    <a:pt x="166" y="550"/>
                    <a:pt x="184" y="539"/>
                    <a:pt x="144" y="560"/>
                  </a:cubicBezTo>
                  <a:cubicBezTo>
                    <a:pt x="84" y="639"/>
                    <a:pt x="31" y="712"/>
                    <a:pt x="0" y="808"/>
                  </a:cubicBezTo>
                  <a:cubicBezTo>
                    <a:pt x="13" y="826"/>
                    <a:pt x="23" y="847"/>
                    <a:pt x="40" y="864"/>
                  </a:cubicBezTo>
                  <a:cubicBezTo>
                    <a:pt x="78" y="902"/>
                    <a:pt x="53" y="850"/>
                    <a:pt x="96" y="912"/>
                  </a:cubicBezTo>
                  <a:cubicBezTo>
                    <a:pt x="151" y="993"/>
                    <a:pt x="193" y="1085"/>
                    <a:pt x="248" y="1168"/>
                  </a:cubicBezTo>
                  <a:cubicBezTo>
                    <a:pt x="304" y="1253"/>
                    <a:pt x="377" y="1321"/>
                    <a:pt x="448" y="1392"/>
                  </a:cubicBezTo>
                  <a:cubicBezTo>
                    <a:pt x="490" y="1434"/>
                    <a:pt x="517" y="1486"/>
                    <a:pt x="568" y="1520"/>
                  </a:cubicBezTo>
                  <a:cubicBezTo>
                    <a:pt x="607" y="1579"/>
                    <a:pt x="680" y="1584"/>
                    <a:pt x="728" y="1632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1120" y="3886200"/>
              <a:ext cx="2118600" cy="482760"/>
            </a:xfrm>
            <a:custGeom>
              <a:avLst/>
              <a:gdLst/>
              <a:ahLst/>
              <a:rect l="l" t="t" r="r" b="b"/>
              <a:pathLst>
                <a:path w="1232" h="304">
                  <a:moveTo>
                    <a:pt x="1232" y="304"/>
                  </a:moveTo>
                  <a:cubicBezTo>
                    <a:pt x="1219" y="253"/>
                    <a:pt x="1196" y="220"/>
                    <a:pt x="1160" y="184"/>
                  </a:cubicBezTo>
                  <a:cubicBezTo>
                    <a:pt x="1148" y="150"/>
                    <a:pt x="1138" y="141"/>
                    <a:pt x="1112" y="120"/>
                  </a:cubicBezTo>
                  <a:cubicBezTo>
                    <a:pt x="1096" y="106"/>
                    <a:pt x="1088" y="85"/>
                    <a:pt x="1072" y="72"/>
                  </a:cubicBezTo>
                  <a:cubicBezTo>
                    <a:pt x="1038" y="44"/>
                    <a:pt x="942" y="15"/>
                    <a:pt x="896" y="0"/>
                  </a:cubicBezTo>
                  <a:cubicBezTo>
                    <a:pt x="783" y="12"/>
                    <a:pt x="678" y="41"/>
                    <a:pt x="568" y="64"/>
                  </a:cubicBezTo>
                  <a:cubicBezTo>
                    <a:pt x="504" y="61"/>
                    <a:pt x="439" y="61"/>
                    <a:pt x="376" y="56"/>
                  </a:cubicBezTo>
                  <a:cubicBezTo>
                    <a:pt x="329" y="51"/>
                    <a:pt x="286" y="30"/>
                    <a:pt x="240" y="24"/>
                  </a:cubicBezTo>
                  <a:cubicBezTo>
                    <a:pt x="221" y="21"/>
                    <a:pt x="54" y="0"/>
                    <a:pt x="0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725480" y="507204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21040" y="2197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1040" y="1206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2"/>
                </a:solidFill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59000" y="520560"/>
            <a:ext cx="4101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Fare il cariotip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4120" y="1908000"/>
            <a:ext cx="6513480" cy="4797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50960" y="1295280"/>
            <a:ext cx="69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CARIOTIPO IN QM (indicare il bandegg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14840" y="419040"/>
            <a:ext cx="3797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Cariotipo ordina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806560" y="1219320"/>
            <a:ext cx="5748480" cy="5486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11560" y="2971800"/>
            <a:ext cx="577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49240" y="4495680"/>
            <a:ext cx="4129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10200" y="609480"/>
            <a:ext cx="231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3047" r="0" b="4670"/>
          <a:stretch/>
        </p:blipFill>
        <p:spPr>
          <a:xfrm>
            <a:off x="2513160" y="838080"/>
            <a:ext cx="5322600" cy="6019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600920"/>
            <a:ext cx="2692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Diagramm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55560" y="3048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20720" y="1219320"/>
            <a:ext cx="4862520" cy="916920"/>
            <a:chOff x="720720" y="1219320"/>
            <a:chExt cx="4862520" cy="916920"/>
          </a:xfrm>
        </p:grpSpPr>
        <p:sp>
          <p:nvSpPr>
            <p:cNvPr id="144" name=""/>
            <p:cNvSpPr/>
            <p:nvPr/>
          </p:nvSpPr>
          <p:spPr>
            <a:xfrm>
              <a:off x="720720" y="1219320"/>
              <a:ext cx="48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X - cariotipo normale Femmin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9240" y="1676520"/>
              <a:ext cx="46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46,XY - cariotipo normale Masch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66920" y="2209680"/>
            <a:ext cx="593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sto modo di scrivere ci da’ due informa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ero totale dei cromosomi (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sso dell’organis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7920" y="3568680"/>
            <a:ext cx="620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47,XY,+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schio con 47 cromosomi (invece di 4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d un cromosoma 21 in piu’ (sindrome di Dow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3680" y="5181480"/>
            <a:ext cx="55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del(14)(q23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=dele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2640" y="5562720"/>
            <a:ext cx="60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Y,dup(14)(q22q25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up= du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4000" y="5943600"/>
            <a:ext cx="74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6,XX,r(7)(p22q36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=ring (cromosoma ad anell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35080" y="749160"/>
            <a:ext cx="272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Terminologi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825480" y="533520"/>
            <a:ext cx="883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95360" y="1198440"/>
            <a:ext cx="8864640" cy="5330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62520" y="635760"/>
            <a:ext cx="147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ISH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660240" y="2057400"/>
            <a:ext cx="3697920" cy="1231920"/>
            <a:chOff x="660240" y="2057400"/>
            <a:chExt cx="3697920" cy="1231920"/>
          </a:xfrm>
        </p:grpSpPr>
        <p:sp>
          <p:nvSpPr>
            <p:cNvPr id="157" name=""/>
            <p:cNvSpPr/>
            <p:nvPr/>
          </p:nvSpPr>
          <p:spPr>
            <a:xfrm>
              <a:off x="3031560" y="2743200"/>
              <a:ext cx="132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ppia el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i D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60240" y="2057400"/>
              <a:ext cx="2393640" cy="1231920"/>
              <a:chOff x="660240" y="2057400"/>
              <a:chExt cx="2393640" cy="1231920"/>
            </a:xfrm>
          </p:grpSpPr>
          <p:sp>
            <p:nvSpPr>
              <p:cNvPr id="159" name=""/>
              <p:cNvSpPr/>
              <p:nvPr/>
            </p:nvSpPr>
            <p:spPr>
              <a:xfrm>
                <a:off x="1815840" y="2057400"/>
                <a:ext cx="7426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1072800" y="2057400"/>
                <a:ext cx="74268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60240" y="2793960"/>
                <a:ext cx="2393640" cy="482760"/>
              </a:xfrm>
              <a:custGeom>
                <a:avLst/>
                <a:gdLst/>
                <a:ahLst/>
                <a:rect l="l" t="t" r="r" b="b"/>
                <a:pathLst>
                  <a:path w="1392" h="304">
                    <a:moveTo>
                      <a:pt x="0" y="16"/>
                    </a:moveTo>
                    <a:cubicBezTo>
                      <a:pt x="80" y="160"/>
                      <a:pt x="160" y="304"/>
                      <a:pt x="240" y="304"/>
                    </a:cubicBezTo>
                    <a:cubicBezTo>
                      <a:pt x="320" y="304"/>
                      <a:pt x="408" y="32"/>
                      <a:pt x="480" y="16"/>
                    </a:cubicBezTo>
                    <a:cubicBezTo>
                      <a:pt x="552" y="0"/>
                      <a:pt x="600" y="208"/>
                      <a:pt x="672" y="208"/>
                    </a:cubicBezTo>
                    <a:cubicBezTo>
                      <a:pt x="744" y="208"/>
                      <a:pt x="848" y="16"/>
                      <a:pt x="912" y="16"/>
                    </a:cubicBezTo>
                    <a:cubicBezTo>
                      <a:pt x="976" y="16"/>
                      <a:pt x="1000" y="200"/>
                      <a:pt x="1056" y="208"/>
                    </a:cubicBezTo>
                    <a:cubicBezTo>
                      <a:pt x="1112" y="216"/>
                      <a:pt x="1192" y="72"/>
                      <a:pt x="1248" y="64"/>
                    </a:cubicBezTo>
                    <a:cubicBezTo>
                      <a:pt x="1304" y="56"/>
                      <a:pt x="1368" y="144"/>
                      <a:pt x="1392" y="160"/>
                    </a:cubicBez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5480" y="2743200"/>
                <a:ext cx="2145600" cy="546120"/>
              </a:xfrm>
              <a:custGeom>
                <a:avLst/>
                <a:gdLst/>
                <a:ahLst/>
                <a:rect l="l" t="t" r="r" b="b"/>
                <a:pathLst>
                  <a:path w="1248" h="344">
                    <a:moveTo>
                      <a:pt x="0" y="0"/>
                    </a:moveTo>
                    <a:cubicBezTo>
                      <a:pt x="80" y="168"/>
                      <a:pt x="160" y="336"/>
                      <a:pt x="240" y="336"/>
                    </a:cubicBezTo>
                    <a:cubicBezTo>
                      <a:pt x="320" y="336"/>
                      <a:pt x="408" y="0"/>
                      <a:pt x="480" y="0"/>
                    </a:cubicBezTo>
                    <a:cubicBezTo>
                      <a:pt x="552" y="0"/>
                      <a:pt x="600" y="328"/>
                      <a:pt x="672" y="336"/>
                    </a:cubicBezTo>
                    <a:cubicBezTo>
                      <a:pt x="744" y="344"/>
                      <a:pt x="848" y="56"/>
                      <a:pt x="912" y="48"/>
                    </a:cubicBezTo>
                    <a:cubicBezTo>
                      <a:pt x="976" y="40"/>
                      <a:pt x="1016" y="272"/>
                      <a:pt x="1056" y="288"/>
                    </a:cubicBezTo>
                    <a:cubicBezTo>
                      <a:pt x="1096" y="304"/>
                      <a:pt x="1120" y="152"/>
                      <a:pt x="1152" y="144"/>
                    </a:cubicBezTo>
                    <a:cubicBezTo>
                      <a:pt x="1184" y="136"/>
                      <a:pt x="1232" y="224"/>
                      <a:pt x="1248" y="24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650600" y="2819520"/>
                <a:ext cx="247320" cy="38088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380880"/>
                  <a:gd name="textAreaBottom" fmla="*/ 369000 h 380880"/>
                </a:gdLst>
                <a:ahLst/>
                <a:rect l="textAreaLeft" t="textAreaTop" r="textAreaRight" b="textAreaBottom"/>
                <a:pathLst>
                  <a:path w="21600" h="33248">
                    <a:moveTo>
                      <a:pt x="3600" y="0"/>
                    </a:moveTo>
                    <a:arcTo wR="3600" hR="3600" stAng="16200000" swAng="-5400000"/>
                    <a:lnTo>
                      <a:pt x="0" y="29648"/>
                    </a:lnTo>
                    <a:arcTo wR="3600" hR="3600" stAng="10800000" swAng="-5400000"/>
                    <a:lnTo>
                      <a:pt x="18000" y="332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164880" y="3174840"/>
            <a:ext cx="2971800" cy="1231920"/>
            <a:chOff x="164880" y="3174840"/>
            <a:chExt cx="2971800" cy="1231920"/>
          </a:xfrm>
        </p:grpSpPr>
        <p:sp>
          <p:nvSpPr>
            <p:cNvPr id="165" name=""/>
            <p:cNvSpPr/>
            <p:nvPr/>
          </p:nvSpPr>
          <p:spPr>
            <a:xfrm>
              <a:off x="1843560" y="3174840"/>
              <a:ext cx="660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04040" y="3174840"/>
              <a:ext cx="660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5240" y="388620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5840" y="3886200"/>
              <a:ext cx="18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41680" y="3886200"/>
              <a:ext cx="495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079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35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384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032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685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3376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388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2876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9400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924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24120" y="3886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64880" y="4406760"/>
              <a:ext cx="660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25480" y="4406760"/>
              <a:ext cx="18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641320" y="4406760"/>
              <a:ext cx="495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9064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0720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2369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4018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5670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73232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189720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06244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22732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39256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55780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722680" y="4254120"/>
              <a:ext cx="2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772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187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8864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208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16960" y="3886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9480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392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2456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7900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44600" y="388620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19920" y="388620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9400" y="38862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7520" y="40528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26640" y="40514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8504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660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03280" y="4038480"/>
              <a:ext cx="27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8688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5824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1736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7576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41000" y="4038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12720" y="40384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83360" y="4038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826760" y="3709440"/>
            <a:ext cx="1889640" cy="2738520"/>
            <a:chOff x="7826760" y="3709440"/>
            <a:chExt cx="1889640" cy="2738520"/>
          </a:xfrm>
        </p:grpSpPr>
        <p:grpSp>
          <p:nvGrpSpPr>
            <p:cNvPr id="222" name=""/>
            <p:cNvGrpSpPr/>
            <p:nvPr/>
          </p:nvGrpSpPr>
          <p:grpSpPr>
            <a:xfrm>
              <a:off x="7826760" y="3709440"/>
              <a:ext cx="1889640" cy="2738520"/>
              <a:chOff x="7826760" y="3709440"/>
              <a:chExt cx="1889640" cy="2738520"/>
            </a:xfrm>
          </p:grpSpPr>
          <p:sp>
            <p:nvSpPr>
              <p:cNvPr id="223" name=""/>
              <p:cNvSpPr/>
              <p:nvPr/>
            </p:nvSpPr>
            <p:spPr>
              <a:xfrm rot="5388600">
                <a:off x="8119080" y="4779720"/>
                <a:ext cx="2662200" cy="522720"/>
              </a:xfrm>
              <a:prstGeom prst="parallelogram">
                <a:avLst>
                  <a:gd name="adj" fmla="val 127324"/>
                </a:avLst>
              </a:prstGeom>
              <a:solidFill>
                <a:srgbClr val="f3f3f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9270720" y="4419000"/>
                <a:ext cx="334800" cy="1220040"/>
                <a:chOff x="9270720" y="4419000"/>
                <a:chExt cx="334800" cy="1220040"/>
              </a:xfrm>
            </p:grpSpPr>
            <p:sp>
              <p:nvSpPr>
                <p:cNvPr id="225" name=""/>
                <p:cNvSpPr/>
                <p:nvPr/>
              </p:nvSpPr>
              <p:spPr>
                <a:xfrm rot="5385000">
                  <a:off x="9140400" y="5174280"/>
                  <a:ext cx="761760" cy="1648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385000">
                  <a:off x="9290520" y="4565160"/>
                  <a:ext cx="456840" cy="1648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385000">
                  <a:off x="8975520" y="5175000"/>
                  <a:ext cx="761760" cy="1648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385000">
                  <a:off x="9125640" y="4565880"/>
                  <a:ext cx="456840" cy="164880"/>
                </a:xfrm>
                <a:prstGeom prst="flowChartTerminator">
                  <a:avLst/>
                </a:prstGeom>
                <a:gradFill rotWithShape="0">
                  <a:gsLst>
                    <a:gs pos="0">
                      <a:srgbClr val="750500"/>
                    </a:gs>
                    <a:gs pos="50000">
                      <a:srgbClr val="ff0b02"/>
                    </a:gs>
                    <a:gs pos="100000">
                      <a:srgbClr val="750500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rot="5385000">
                  <a:off x="9361080" y="4752720"/>
                  <a:ext cx="151920" cy="2476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 flipH="1">
                <a:off x="8174160" y="5059440"/>
                <a:ext cx="1151640" cy="70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8172000" y="5105520"/>
                <a:ext cx="107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26760" y="5867280"/>
                <a:ext cx="1422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osserv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l vetrin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9245880" y="5029200"/>
              <a:ext cx="17856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424800" y="5016600"/>
              <a:ext cx="178920" cy="177840"/>
            </a:xfrm>
            <a:prstGeom prst="irregularSeal2">
              <a:avLst/>
            </a:prstGeom>
            <a:solidFill>
              <a:srgbClr val="00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0680" y="4495680"/>
            <a:ext cx="2915640" cy="1282320"/>
            <a:chOff x="220680" y="4495680"/>
            <a:chExt cx="2915640" cy="1282320"/>
          </a:xfrm>
        </p:grpSpPr>
        <p:sp>
          <p:nvSpPr>
            <p:cNvPr id="236" name=""/>
            <p:cNvSpPr/>
            <p:nvPr/>
          </p:nvSpPr>
          <p:spPr>
            <a:xfrm>
              <a:off x="220680" y="510552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20680" y="576576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472680" y="4495680"/>
              <a:ext cx="2663640" cy="1282320"/>
              <a:chOff x="472680" y="4495680"/>
              <a:chExt cx="2663640" cy="1282320"/>
            </a:xfrm>
          </p:grpSpPr>
          <p:sp>
            <p:nvSpPr>
              <p:cNvPr id="239" name=""/>
              <p:cNvSpPr/>
              <p:nvPr/>
            </p:nvSpPr>
            <p:spPr>
              <a:xfrm>
                <a:off x="880920" y="510552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696400" y="5105520"/>
                <a:ext cx="43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96300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1282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3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58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2360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8848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533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11860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83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44872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1396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778840" y="51055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880920" y="576576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2696400" y="5765400"/>
                <a:ext cx="439920" cy="1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9615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V="1">
                <a:off x="11268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1292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1456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1622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1787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19519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21171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282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24472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2612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2777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0316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97380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397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0356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470600" y="51055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64772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0612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7784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36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298600" y="51055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473920" y="51055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33040" y="51055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82080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97920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386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9204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5836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64124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81296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713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04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9608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667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3808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2544480" y="576576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393640" y="4495680"/>
                <a:ext cx="247320" cy="457200"/>
              </a:xfrm>
              <a:prstGeom prst="downArrow">
                <a:avLst>
                  <a:gd name="adj1" fmla="val 50000"/>
                  <a:gd name="adj2" fmla="val 46215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72680" y="449568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" name=""/>
          <p:cNvGrpSpPr/>
          <p:nvPr/>
        </p:nvGrpSpPr>
        <p:grpSpPr>
          <a:xfrm>
            <a:off x="284400" y="990720"/>
            <a:ext cx="2930040" cy="1143000"/>
            <a:chOff x="284400" y="990720"/>
            <a:chExt cx="2930040" cy="1143000"/>
          </a:xfrm>
        </p:grpSpPr>
        <p:sp>
          <p:nvSpPr>
            <p:cNvPr id="295" name=""/>
            <p:cNvSpPr/>
            <p:nvPr/>
          </p:nvSpPr>
          <p:spPr>
            <a:xfrm>
              <a:off x="330120" y="1650960"/>
              <a:ext cx="2884320" cy="482760"/>
            </a:xfrm>
            <a:prstGeom prst="parallelogram">
              <a:avLst>
                <a:gd name="adj" fmla="val 149366"/>
              </a:avLst>
            </a:prstGeom>
            <a:solidFill>
              <a:srgbClr val="f3f3f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990360" y="1727280"/>
              <a:ext cx="1320840" cy="304560"/>
              <a:chOff x="990360" y="1727280"/>
              <a:chExt cx="1320840" cy="304560"/>
            </a:xfrm>
          </p:grpSpPr>
          <p:sp>
            <p:nvSpPr>
              <p:cNvPr id="297" name=""/>
              <p:cNvSpPr/>
              <p:nvPr/>
            </p:nvSpPr>
            <p:spPr>
              <a:xfrm>
                <a:off x="1485720" y="1727280"/>
                <a:ext cx="82548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90360" y="1727280"/>
                <a:ext cx="49536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85720" y="1879560"/>
                <a:ext cx="82548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990360" y="1879560"/>
                <a:ext cx="495360" cy="152280"/>
              </a:xfrm>
              <a:prstGeom prst="flowChartTerminator">
                <a:avLst/>
              </a:prstGeom>
              <a:gradFill rotWithShape="0">
                <a:gsLst>
                  <a:gs pos="0">
                    <a:srgbClr val="750500"/>
                  </a:gs>
                  <a:gs pos="50000">
                    <a:srgbClr val="ff0b02"/>
                  </a:gs>
                  <a:gs pos="100000">
                    <a:srgbClr val="75050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03280" y="1765440"/>
                <a:ext cx="16488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733400" y="1905120"/>
              <a:ext cx="164880" cy="15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4400" y="990720"/>
              <a:ext cx="13176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8520" y="1295280"/>
              <a:ext cx="4953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5778360" y="762120"/>
            <a:ext cx="3962160" cy="1675800"/>
            <a:chOff x="5778360" y="762120"/>
            <a:chExt cx="3962160" cy="1675800"/>
          </a:xfrm>
        </p:grpSpPr>
        <p:grpSp>
          <p:nvGrpSpPr>
            <p:cNvPr id="306" name=""/>
            <p:cNvGrpSpPr/>
            <p:nvPr/>
          </p:nvGrpSpPr>
          <p:grpSpPr>
            <a:xfrm>
              <a:off x="8915040" y="990720"/>
              <a:ext cx="494640" cy="1447200"/>
              <a:chOff x="8915040" y="990720"/>
              <a:chExt cx="494640" cy="1447200"/>
            </a:xfrm>
          </p:grpSpPr>
          <p:sp>
            <p:nvSpPr>
              <p:cNvPr id="307" name=""/>
              <p:cNvSpPr/>
              <p:nvPr/>
            </p:nvSpPr>
            <p:spPr>
              <a:xfrm rot="5400000">
                <a:off x="8457120" y="1568520"/>
                <a:ext cx="1409400" cy="329400"/>
              </a:xfrm>
              <a:prstGeom prst="flowChartDelay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8915040" y="990720"/>
                <a:ext cx="494640" cy="75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400000">
                <a:off x="8666640" y="1778040"/>
                <a:ext cx="990360" cy="329400"/>
              </a:xfrm>
              <a:prstGeom prst="flowChartDelay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778360" y="762120"/>
              <a:ext cx="39621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intesi di una sonda complementare marcata con un fluorocro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3927960" y="3653280"/>
            <a:ext cx="4700880" cy="1742400"/>
            <a:chOff x="3927960" y="3653280"/>
            <a:chExt cx="4700880" cy="1742400"/>
          </a:xfrm>
        </p:grpSpPr>
        <p:sp>
          <p:nvSpPr>
            <p:cNvPr id="312" name=""/>
            <p:cNvSpPr/>
            <p:nvPr/>
          </p:nvSpPr>
          <p:spPr>
            <a:xfrm>
              <a:off x="5912280" y="3733920"/>
              <a:ext cx="271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bridazione della sonda su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romosomi denaturati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ul vetri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927960" y="3653280"/>
              <a:ext cx="2014560" cy="1742400"/>
              <a:chOff x="3927960" y="3653280"/>
              <a:chExt cx="2014560" cy="1742400"/>
            </a:xfrm>
          </p:grpSpPr>
          <p:sp>
            <p:nvSpPr>
              <p:cNvPr id="314" name=""/>
              <p:cNvSpPr/>
              <p:nvPr/>
            </p:nvSpPr>
            <p:spPr>
              <a:xfrm>
                <a:off x="5612400" y="4038480"/>
                <a:ext cx="165240" cy="15264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263600">
                <a:off x="4083480" y="444024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263600">
                <a:off x="4936320" y="411480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263600">
                <a:off x="4142160" y="3876840"/>
                <a:ext cx="1485360" cy="1295280"/>
              </a:xfrm>
              <a:custGeom>
                <a:avLst/>
                <a:gdLst/>
                <a:ahLst/>
                <a:rect l="l" t="t" r="r" b="b"/>
                <a:pathLst>
                  <a:path w="432" h="432">
                    <a:moveTo>
                      <a:pt x="432" y="0"/>
                    </a:moveTo>
                    <a:cubicBezTo>
                      <a:pt x="356" y="28"/>
                      <a:pt x="280" y="56"/>
                      <a:pt x="240" y="96"/>
                    </a:cubicBezTo>
                    <a:cubicBezTo>
                      <a:pt x="200" y="136"/>
                      <a:pt x="224" y="208"/>
                      <a:pt x="192" y="240"/>
                    </a:cubicBezTo>
                    <a:cubicBezTo>
                      <a:pt x="160" y="272"/>
                      <a:pt x="80" y="256"/>
                      <a:pt x="48" y="288"/>
                    </a:cubicBezTo>
                    <a:cubicBezTo>
                      <a:pt x="16" y="320"/>
                      <a:pt x="8" y="416"/>
                      <a:pt x="0" y="432"/>
                    </a:cubicBezTo>
                  </a:path>
                </a:pathLst>
              </a:custGeom>
              <a:noFill/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263600">
                <a:off x="3966840" y="4712760"/>
                <a:ext cx="319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263600">
                <a:off x="4114800" y="4592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263600">
                <a:off x="4245480" y="4532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263600">
                <a:off x="4410360" y="4543200"/>
                <a:ext cx="311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263600">
                <a:off x="4613040" y="45018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63600">
                <a:off x="4740480" y="4406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263600">
                <a:off x="4853160" y="428796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263600">
                <a:off x="4983120" y="420804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1264200">
                <a:off x="5147640" y="4132080"/>
                <a:ext cx="19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263600">
                <a:off x="5380200" y="4150800"/>
                <a:ext cx="30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1263600">
                <a:off x="5526000" y="4150800"/>
                <a:ext cx="31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56680" y="41022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18483000">
                <a:off x="5059800" y="4724280"/>
                <a:ext cx="838080" cy="228600"/>
              </a:xfrm>
              <a:prstGeom prst="leftArrow">
                <a:avLst>
                  <a:gd name="adj1" fmla="val 50000"/>
                  <a:gd name="adj2" fmla="val 91654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5365440" y="5126040"/>
            <a:ext cx="3204720" cy="907200"/>
            <a:chOff x="5365440" y="5126040"/>
            <a:chExt cx="3204720" cy="907200"/>
          </a:xfrm>
        </p:grpSpPr>
        <p:grpSp>
          <p:nvGrpSpPr>
            <p:cNvPr id="332" name=""/>
            <p:cNvGrpSpPr/>
            <p:nvPr/>
          </p:nvGrpSpPr>
          <p:grpSpPr>
            <a:xfrm>
              <a:off x="5365440" y="5126040"/>
              <a:ext cx="3204720" cy="907200"/>
              <a:chOff x="5365440" y="5126040"/>
              <a:chExt cx="3204720" cy="907200"/>
            </a:xfrm>
          </p:grpSpPr>
          <p:sp>
            <p:nvSpPr>
              <p:cNvPr id="333" name=""/>
              <p:cNvSpPr/>
              <p:nvPr/>
            </p:nvSpPr>
            <p:spPr>
              <a:xfrm>
                <a:off x="5943240" y="5265720"/>
                <a:ext cx="31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59680" y="526572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075160" y="526572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34212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5070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672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8374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02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67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324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97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66260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82748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9923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157960" y="526572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6259680" y="578628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8074800" y="578628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634068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5055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6671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68360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7000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7166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73310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7495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766116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782604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9909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8156520" y="56336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18120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5256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228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8628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851160" y="5265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02828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18740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5840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1284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78080" y="52657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53760" y="52657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012880" y="5265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01360" y="5432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60480" y="54306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51924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7080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36760" y="54180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02108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19172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35084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50960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74480" y="5418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845840" y="5418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16840" y="54180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38600" y="512604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98480" y="512604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428960" y="512604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937640" y="512604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0786200">
                <a:off x="5365440" y="5811120"/>
                <a:ext cx="660240" cy="220680"/>
              </a:xfrm>
              <a:prstGeom prst="leftArrow">
                <a:avLst>
                  <a:gd name="adj1" fmla="val 50000"/>
                  <a:gd name="adj2" fmla="val 7479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5860800" y="577836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889000" y="5397480"/>
            <a:ext cx="2888640" cy="615240"/>
            <a:chOff x="2889000" y="5397480"/>
            <a:chExt cx="2888640" cy="615240"/>
          </a:xfrm>
        </p:grpSpPr>
        <p:sp>
          <p:nvSpPr>
            <p:cNvPr id="393" name=""/>
            <p:cNvSpPr/>
            <p:nvPr/>
          </p:nvSpPr>
          <p:spPr>
            <a:xfrm flipH="1">
              <a:off x="5447520" y="5765760"/>
              <a:ext cx="3301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9560" y="539748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2889000" y="5397480"/>
              <a:ext cx="2642760" cy="615240"/>
              <a:chOff x="2889000" y="5397480"/>
              <a:chExt cx="2642760" cy="61524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3384000" y="5765760"/>
                <a:ext cx="24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631680" y="5765760"/>
                <a:ext cx="189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37130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38782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4043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208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3732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53852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70340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4868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033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19876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36364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528880" y="561312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573720" y="54118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33200" y="54100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9196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04316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209840" y="5397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9344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64080" y="5397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356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8232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047200" y="5397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218920" y="5397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0786200">
                <a:off x="2889000" y="5790600"/>
                <a:ext cx="660240" cy="220680"/>
              </a:xfrm>
              <a:prstGeom prst="leftArrow">
                <a:avLst>
                  <a:gd name="adj1" fmla="val 50000"/>
                  <a:gd name="adj2" fmla="val 74796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49600" y="685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FISH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108480" y="1600200"/>
            <a:ext cx="2971800" cy="685800"/>
            <a:chOff x="6108480" y="1600200"/>
            <a:chExt cx="2971800" cy="685800"/>
          </a:xfrm>
        </p:grpSpPr>
        <p:grpSp>
          <p:nvGrpSpPr>
            <p:cNvPr id="424" name=""/>
            <p:cNvGrpSpPr/>
            <p:nvPr/>
          </p:nvGrpSpPr>
          <p:grpSpPr>
            <a:xfrm>
              <a:off x="6108480" y="1600200"/>
              <a:ext cx="2971440" cy="685800"/>
              <a:chOff x="6108480" y="1600200"/>
              <a:chExt cx="2971440" cy="685800"/>
            </a:xfrm>
          </p:grpSpPr>
          <p:sp>
            <p:nvSpPr>
              <p:cNvPr id="425" name=""/>
              <p:cNvSpPr/>
              <p:nvPr/>
            </p:nvSpPr>
            <p:spPr>
              <a:xfrm>
                <a:off x="6108840" y="1752480"/>
                <a:ext cx="31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25280" y="175248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240760" y="175248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0772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6729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83784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00272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16832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333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980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6332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2820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99344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15868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323560" y="1752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425280" y="2273400"/>
                <a:ext cx="1897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8240400" y="227340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650628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66715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683640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700128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716688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7331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4966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766188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782676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799200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815724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8322120" y="2120760"/>
                <a:ext cx="2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34644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1852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8736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8515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17120" y="1752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19424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5336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52400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777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843320" y="1752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19360" y="1752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78840" y="1752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66960" y="191916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26440" y="19177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6848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360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002000" y="190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18632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35768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1680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7520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840440" y="19051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012160" y="190512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82800" y="190512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03840" y="160020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264440" y="160020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594200" y="160020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103600" y="160020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108480" y="2286000"/>
                <a:ext cx="41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8750160" y="1981080"/>
                <a:ext cx="32976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flipV="1">
                <a:off x="8667360" y="1676160"/>
                <a:ext cx="4125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8998200" y="1905120"/>
              <a:ext cx="82080" cy="75960"/>
            </a:xfrm>
            <a:prstGeom prst="flowChartConnector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682160" y="1676520"/>
            <a:ext cx="3159360" cy="2025360"/>
            <a:chOff x="4682160" y="1676520"/>
            <a:chExt cx="3159360" cy="2025360"/>
          </a:xfrm>
        </p:grpSpPr>
        <p:grpSp>
          <p:nvGrpSpPr>
            <p:cNvPr id="487" name=""/>
            <p:cNvGrpSpPr/>
            <p:nvPr/>
          </p:nvGrpSpPr>
          <p:grpSpPr>
            <a:xfrm>
              <a:off x="4682160" y="1676520"/>
              <a:ext cx="3159360" cy="1904760"/>
              <a:chOff x="4682160" y="1676520"/>
              <a:chExt cx="3159360" cy="1904760"/>
            </a:xfrm>
          </p:grpSpPr>
          <p:sp>
            <p:nvSpPr>
              <p:cNvPr id="488" name=""/>
              <p:cNvSpPr/>
              <p:nvPr/>
            </p:nvSpPr>
            <p:spPr>
              <a:xfrm>
                <a:off x="5213880" y="2895480"/>
                <a:ext cx="316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30680" y="2895480"/>
                <a:ext cx="189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346520" y="289548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61276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7836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4324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081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73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43860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6034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76872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93396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09884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26408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28960" y="28954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530320" y="3568680"/>
                <a:ext cx="1898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46160" y="3568680"/>
                <a:ext cx="495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561132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577692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594180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1066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272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43716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6020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76728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3252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709740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726264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427520" y="3416040"/>
                <a:ext cx="2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45256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62356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9348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95692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122160" y="289548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9964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45876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2940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8420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949440" y="289548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124760" y="289548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284240" y="289548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72360" y="32148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631480" y="32130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9024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4144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08120" y="320040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9172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46308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62220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8060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945840" y="32004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117560" y="3200400"/>
                <a:ext cx="28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288200" y="3200400"/>
                <a:ext cx="26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709240" y="274320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69840" y="274320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699960" y="2743200"/>
                <a:ext cx="16524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09000" y="2743200"/>
                <a:ext cx="164880" cy="152280"/>
              </a:xfrm>
              <a:prstGeom prst="sun">
                <a:avLst>
                  <a:gd name="adj" fmla="val 25000"/>
                </a:avLst>
              </a:prstGeom>
              <a:solidFill>
                <a:srgbClr val="3bdc3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213520" y="3581280"/>
                <a:ext cx="412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17268000">
                <a:off x="5674680" y="2166120"/>
                <a:ext cx="609840" cy="239040"/>
              </a:xfrm>
              <a:prstGeom prst="leftArrow">
                <a:avLst>
                  <a:gd name="adj1" fmla="val 50000"/>
                  <a:gd name="adj2" fmla="val 63780"/>
                </a:avLst>
              </a:prstGeom>
              <a:gradFill rotWithShape="0">
                <a:gsLst>
                  <a:gs pos="0">
                    <a:srgbClr val="ffff02"/>
                  </a:gs>
                  <a:gs pos="50000">
                    <a:srgbClr val="ff0b02"/>
                  </a:gs>
                  <a:gs pos="100000">
                    <a:srgbClr val="ffff0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82160" y="167652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denatur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530680" y="3537000"/>
              <a:ext cx="1648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21400" y="3543480"/>
              <a:ext cx="16488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6000" y="3549600"/>
              <a:ext cx="165240" cy="152280"/>
            </a:xfrm>
            <a:prstGeom prst="sun">
              <a:avLst>
                <a:gd name="adj" fmla="val 25000"/>
              </a:avLst>
            </a:prstGeom>
            <a:solidFill>
              <a:srgbClr val="3bdc3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317520" y="2189160"/>
            <a:ext cx="4635360" cy="360216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5035680" y="1506600"/>
            <a:ext cx="4319280" cy="14652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5035680" y="2995560"/>
            <a:ext cx="4289400" cy="378612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2680" y="73836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Principio della fluorescenz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8826480" y="500040"/>
            <a:ext cx="917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539120" y="4788000"/>
            <a:ext cx="1981080" cy="711000"/>
          </a:xfrm>
          <a:prstGeom prst="flowChartOffpageConnector">
            <a:avLst/>
          </a:prstGeom>
          <a:solidFill>
            <a:srgbClr val="fafaf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034480" y="2286000"/>
            <a:ext cx="1692000" cy="609480"/>
          </a:xfrm>
          <a:prstGeom prst="flowChartMultidocument">
            <a:avLst/>
          </a:prstGeom>
          <a:solidFill>
            <a:srgbClr val="eeeeee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24280" y="1841400"/>
            <a:ext cx="577800" cy="381240"/>
          </a:xfrm>
          <a:prstGeom prst="leftArrowCallout">
            <a:avLst>
              <a:gd name="adj1" fmla="val 25002"/>
              <a:gd name="adj2" fmla="val 25000"/>
              <a:gd name="adj3" fmla="val 25260"/>
              <a:gd name="adj4" fmla="val 66673"/>
            </a:avLst>
          </a:prstGeom>
          <a:gradFill rotWithShape="0">
            <a:gsLst>
              <a:gs pos="0">
                <a:srgbClr val="b50701"/>
              </a:gs>
              <a:gs pos="100000">
                <a:srgbClr val="ff0b02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64160" y="2171880"/>
            <a:ext cx="495000" cy="2996640"/>
            <a:chOff x="4664160" y="2171880"/>
            <a:chExt cx="495000" cy="2996640"/>
          </a:xfrm>
        </p:grpSpPr>
        <p:sp>
          <p:nvSpPr>
            <p:cNvPr id="560" name=""/>
            <p:cNvSpPr/>
            <p:nvPr/>
          </p:nvSpPr>
          <p:spPr>
            <a:xfrm>
              <a:off x="4664160" y="2171880"/>
              <a:ext cx="137520" cy="2996640"/>
            </a:xfrm>
            <a:prstGeom prst="upArrow">
              <a:avLst>
                <a:gd name="adj1" fmla="val 50000"/>
                <a:gd name="adj2" fmla="val 544764"/>
              </a:avLst>
            </a:prstGeom>
            <a:solidFill>
              <a:srgbClr val="ff0b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1640" y="2171880"/>
              <a:ext cx="137520" cy="2996640"/>
            </a:xfrm>
            <a:prstGeom prst="upArrow">
              <a:avLst>
                <a:gd name="adj1" fmla="val 50000"/>
                <a:gd name="adj2" fmla="val 544764"/>
              </a:avLst>
            </a:prstGeom>
            <a:solidFill>
              <a:srgbClr val="ff0b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7902720" y="3517920"/>
            <a:ext cx="134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000000"/>
              </a:buClr>
              <a:buFont typeface="Wingdings" charset="2"/>
              <a:buChar char="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73440" y="2730600"/>
            <a:ext cx="2146320" cy="4064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miss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rot="2700000">
            <a:off x="3887640" y="3665160"/>
            <a:ext cx="1841400" cy="4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eeeee"/>
              </a:gs>
              <a:gs pos="100000">
                <a:srgbClr val="fafa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chio dicro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5400000">
            <a:off x="2493360" y="4187520"/>
            <a:ext cx="2082960" cy="41292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iltro di eccit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185080" y="5378400"/>
            <a:ext cx="1665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iettiv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dens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85880" y="6172200"/>
            <a:ext cx="3041640" cy="317520"/>
          </a:xfrm>
          <a:prstGeom prst="parallelogram">
            <a:avLst>
              <a:gd name="adj" fmla="val 2394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84720" y="6172200"/>
            <a:ext cx="3039840" cy="317520"/>
          </a:xfrm>
          <a:prstGeom prst="parallelogram">
            <a:avLst>
              <a:gd name="adj" fmla="val 239342"/>
            </a:avLst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498920" y="6273720"/>
            <a:ext cx="633240" cy="131760"/>
            <a:chOff x="4498920" y="6273720"/>
            <a:chExt cx="633240" cy="131760"/>
          </a:xfrm>
        </p:grpSpPr>
        <p:sp>
          <p:nvSpPr>
            <p:cNvPr id="570" name=""/>
            <p:cNvSpPr/>
            <p:nvPr/>
          </p:nvSpPr>
          <p:spPr>
            <a:xfrm>
              <a:off x="4498920" y="6273720"/>
              <a:ext cx="302760" cy="42840"/>
            </a:xfrm>
            <a:prstGeom prst="roundRect">
              <a:avLst>
                <a:gd name="adj" fmla="val 16667"/>
              </a:avLst>
            </a:prstGeom>
            <a:solidFill>
              <a:srgbClr val="ff0b0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63800" y="6362640"/>
              <a:ext cx="302760" cy="42840"/>
            </a:xfrm>
            <a:prstGeom prst="roundRect">
              <a:avLst>
                <a:gd name="adj" fmla="val 16667"/>
              </a:avLst>
            </a:prstGeom>
            <a:solidFill>
              <a:srgbClr val="ff0b0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29400" y="6273720"/>
              <a:ext cx="302760" cy="42840"/>
            </a:xfrm>
            <a:prstGeom prst="roundRect">
              <a:avLst>
                <a:gd name="adj" fmla="val 16667"/>
              </a:avLst>
            </a:prstGeom>
            <a:solidFill>
              <a:srgbClr val="ff0b02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2187720" y="4057560"/>
            <a:ext cx="934920" cy="540000"/>
          </a:xfrm>
          <a:prstGeom prst="rightArrowCallout">
            <a:avLst>
              <a:gd name="adj1" fmla="val 25002"/>
              <a:gd name="adj2" fmla="val 25000"/>
              <a:gd name="adj3" fmla="val 28856"/>
              <a:gd name="adj4" fmla="val 66667"/>
            </a:avLst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937040" y="6064200"/>
            <a:ext cx="84240" cy="163440"/>
          </a:xfrm>
          <a:prstGeom prst="downArrow">
            <a:avLst>
              <a:gd name="adj1" fmla="val 50000"/>
              <a:gd name="adj2" fmla="val 48504"/>
            </a:avLst>
          </a:prstGeom>
          <a:solidFill>
            <a:srgbClr val="3bdc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5400000">
            <a:off x="929160" y="3670920"/>
            <a:ext cx="1181160" cy="1293840"/>
          </a:xfrm>
          <a:custGeom>
            <a:avLst/>
            <a:gdLst>
              <a:gd name="textAreaLeft" fmla="*/ 259560 w 1181160"/>
              <a:gd name="textAreaRight" fmla="*/ 921600 w 1181160"/>
              <a:gd name="textAreaTop" fmla="*/ 284400 h 1293840"/>
              <a:gd name="textAreaBottom" fmla="*/ 1009440 h 129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04760" y="3949560"/>
            <a:ext cx="1457280" cy="749520"/>
          </a:xfrm>
          <a:custGeom>
            <a:avLst/>
            <a:gdLst>
              <a:gd name="textAreaLeft" fmla="*/ 332640 w 1457280"/>
              <a:gd name="textAreaRight" fmla="*/ 1124640 w 1457280"/>
              <a:gd name="textAreaTop" fmla="*/ 171000 h 749520"/>
              <a:gd name="textAreaBottom" fmla="*/ 578520 h 7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30880" y="5175360"/>
            <a:ext cx="811080" cy="863640"/>
          </a:xfrm>
          <a:prstGeom prst="flowChartOffpageConnector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711680" y="5987880"/>
            <a:ext cx="255600" cy="76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rot="10800000">
            <a:off x="4820760" y="6082920"/>
            <a:ext cx="104760" cy="157320"/>
          </a:xfrm>
          <a:prstGeom prst="downArrow">
            <a:avLst>
              <a:gd name="adj1" fmla="val 50000"/>
              <a:gd name="adj2" fmla="val 37543"/>
            </a:avLst>
          </a:prstGeom>
          <a:solidFill>
            <a:srgbClr val="ff0b0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rot="10800000">
            <a:off x="4738320" y="6089760"/>
            <a:ext cx="104760" cy="156960"/>
          </a:xfrm>
          <a:prstGeom prst="downArrow">
            <a:avLst>
              <a:gd name="adj1" fmla="val 50000"/>
              <a:gd name="adj2" fmla="val 37457"/>
            </a:avLst>
          </a:prstGeom>
          <a:solidFill>
            <a:srgbClr val="ff0b0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27440" y="6070680"/>
            <a:ext cx="84240" cy="163440"/>
          </a:xfrm>
          <a:prstGeom prst="downArrow">
            <a:avLst>
              <a:gd name="adj1" fmla="val 50000"/>
              <a:gd name="adj2" fmla="val 48504"/>
            </a:avLst>
          </a:prstGeom>
          <a:solidFill>
            <a:srgbClr val="3bdc3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492800" y="4019400"/>
            <a:ext cx="150480" cy="1136880"/>
          </a:xfrm>
          <a:prstGeom prst="downArrow">
            <a:avLst>
              <a:gd name="adj1" fmla="val 50000"/>
              <a:gd name="adj2" fmla="val 188876"/>
            </a:avLst>
          </a:prstGeom>
          <a:solidFill>
            <a:srgbClr val="3bdc3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76920" y="4336920"/>
            <a:ext cx="158760" cy="838440"/>
          </a:xfrm>
          <a:prstGeom prst="downArrow">
            <a:avLst>
              <a:gd name="adj1" fmla="val 50000"/>
              <a:gd name="adj2" fmla="val 132029"/>
            </a:avLst>
          </a:prstGeom>
          <a:solidFill>
            <a:srgbClr val="3bdc3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735360" y="4292640"/>
            <a:ext cx="1265400" cy="101520"/>
          </a:xfrm>
          <a:prstGeom prst="rightArrow">
            <a:avLst>
              <a:gd name="adj1" fmla="val 50000"/>
              <a:gd name="adj2" fmla="val 311613"/>
            </a:avLst>
          </a:prstGeom>
          <a:solidFill>
            <a:srgbClr val="3bdc3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62360" y="3962520"/>
            <a:ext cx="860400" cy="114120"/>
          </a:xfrm>
          <a:prstGeom prst="rightArrow">
            <a:avLst>
              <a:gd name="adj1" fmla="val 50000"/>
              <a:gd name="adj2" fmla="val 188486"/>
            </a:avLst>
          </a:prstGeom>
          <a:solidFill>
            <a:srgbClr val="3bdc3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rot="10800000">
            <a:off x="4785840" y="6229440"/>
            <a:ext cx="104760" cy="156960"/>
          </a:xfrm>
          <a:prstGeom prst="downArrow">
            <a:avLst>
              <a:gd name="adj1" fmla="val 50000"/>
              <a:gd name="adj2" fmla="val 37457"/>
            </a:avLst>
          </a:prstGeom>
          <a:solidFill>
            <a:srgbClr val="ff0b0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02080" y="1727280"/>
            <a:ext cx="922320" cy="495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eeeee"/>
              </a:gs>
              <a:gs pos="50000">
                <a:srgbClr val="808080"/>
              </a:gs>
              <a:gs pos="100000">
                <a:srgbClr val="eeee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86520" y="1854360"/>
            <a:ext cx="606240" cy="380880"/>
          </a:xfrm>
          <a:prstGeom prst="rightArrowCallout">
            <a:avLst>
              <a:gd name="adj1" fmla="val 25002"/>
              <a:gd name="adj2" fmla="val 25000"/>
              <a:gd name="adj3" fmla="val 26528"/>
              <a:gd name="adj4" fmla="val 66667"/>
            </a:avLst>
          </a:prstGeom>
          <a:gradFill rotWithShape="0">
            <a:gsLst>
              <a:gs pos="0">
                <a:srgbClr val="ff0b02"/>
              </a:gs>
              <a:gs pos="100000">
                <a:srgbClr val="ca0801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rot="2920200">
            <a:off x="5269320" y="3139200"/>
            <a:ext cx="2940120" cy="461880"/>
          </a:xfrm>
          <a:custGeom>
            <a:avLst/>
            <a:gdLst>
              <a:gd name="textAreaLeft" fmla="*/ 459360 w 2940120"/>
              <a:gd name="textAreaRight" fmla="*/ 2572560 w 2940120"/>
              <a:gd name="textAreaTop" fmla="*/ 115560 h 461880"/>
              <a:gd name="textAreaBottom" fmla="*/ 346680 h 461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70480" y="2579760"/>
            <a:ext cx="142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786280" y="1712880"/>
            <a:ext cx="2320920" cy="380880"/>
          </a:xfrm>
          <a:custGeom>
            <a:avLst/>
            <a:gdLst>
              <a:gd name="textAreaLeft" fmla="*/ 362520 w 2320920"/>
              <a:gd name="textAreaRight" fmla="*/ 2031120 w 23209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22800" y="103968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ebding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8364600" y="1346040"/>
            <a:ext cx="907920" cy="83844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4"/>
          <a:stretch/>
        </p:blipFill>
        <p:spPr>
          <a:xfrm>
            <a:off x="8269200" y="3860640"/>
            <a:ext cx="714600" cy="4446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8133840" y="2394000"/>
            <a:ext cx="13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tograf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56360" y="267660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C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rot="17283600">
            <a:off x="3219840" y="1647000"/>
            <a:ext cx="350640" cy="425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17283600">
            <a:off x="3219840" y="1875600"/>
            <a:ext cx="350640" cy="425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20560" y="3205080"/>
            <a:ext cx="2102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mpada a vap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mercu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75840" y="4794120"/>
            <a:ext cx="1820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aborazione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65360" y="687600"/>
            <a:ext cx="7416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602"/>
                </a:solidFill>
                <a:latin typeface="Comic Sans MS"/>
              </a:rPr>
              <a:t>FISH : microscopio a fluorescenza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015560" y="1352520"/>
            <a:ext cx="2174760" cy="825120"/>
            <a:chOff x="1015560" y="1352520"/>
            <a:chExt cx="2174760" cy="825120"/>
          </a:xfrm>
        </p:grpSpPr>
        <p:sp>
          <p:nvSpPr>
            <p:cNvPr id="603" name=""/>
            <p:cNvSpPr/>
            <p:nvPr/>
          </p:nvSpPr>
          <p:spPr>
            <a:xfrm>
              <a:off x="1015560" y="1352520"/>
              <a:ext cx="561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ebdings" charset="2"/>
                <a:buChar char="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450440" y="1655640"/>
              <a:ext cx="1739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sserv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 microscop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5" name="" descr=""/>
          <p:cNvPicPr/>
          <p:nvPr/>
        </p:nvPicPr>
        <p:blipFill>
          <a:blip r:embed="rId5"/>
          <a:stretch/>
        </p:blipFill>
        <p:spPr>
          <a:xfrm>
            <a:off x="9212400" y="563400"/>
            <a:ext cx="693720" cy="8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840" y="1650960"/>
            <a:ext cx="4870440" cy="4762080"/>
            <a:chOff x="-6840" y="1650960"/>
            <a:chExt cx="4870440" cy="476208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83960" y="1764720"/>
              <a:ext cx="2110680" cy="91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3225960" y="1909440"/>
              <a:ext cx="124848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3"/>
            <a:stretch/>
          </p:blipFill>
          <p:spPr>
            <a:xfrm>
              <a:off x="183960" y="3137760"/>
              <a:ext cx="462384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183960" y="4223520"/>
              <a:ext cx="1599480" cy="73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3065040" y="4304160"/>
              <a:ext cx="1564200" cy="61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264960" y="5362200"/>
              <a:ext cx="1051560" cy="4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7"/>
            <a:stretch/>
          </p:blipFill>
          <p:spPr>
            <a:xfrm>
              <a:off x="2760840" y="5316840"/>
              <a:ext cx="1825920" cy="3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64960" y="2708640"/>
              <a:ext cx="19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25960" y="2708640"/>
              <a:ext cx="11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960" y="3951000"/>
              <a:ext cx="45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4960" y="484056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144600" y="4833360"/>
              <a:ext cx="140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720" y="5789160"/>
              <a:ext cx="93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38600" y="5803200"/>
              <a:ext cx="163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800" y="26211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-3 gruppo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32280" y="262116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4-5 gruppo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64440" y="3863160"/>
              <a:ext cx="171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X-6-12 gruppo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440" y="4736160"/>
              <a:ext cx="166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3-15 gruppo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72200" y="4745880"/>
              <a:ext cx="163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6-18 gruppo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6840" y="5715360"/>
              <a:ext cx="162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9-20 gruppo 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10560" y="5734440"/>
              <a:ext cx="184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Y-21-22 gruppo 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8800" y="1650960"/>
              <a:ext cx="4834800" cy="4762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89000" y="965520"/>
            <a:ext cx="5213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Cariotipi a confronto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035680" y="2133720"/>
            <a:ext cx="4870440" cy="3422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8788320" y="728640"/>
            <a:ext cx="91764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3127320" y="1371600"/>
            <a:ext cx="5870520" cy="5418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279000" y="2514600"/>
            <a:ext cx="251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denatur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olorati con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393640" y="6858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FISH: metafase in DAP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8988480" y="474840"/>
            <a:ext cx="91764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2984400" y="1320840"/>
            <a:ext cx="5794560" cy="5348160"/>
            <a:chOff x="2984400" y="1320840"/>
            <a:chExt cx="5794560" cy="5348160"/>
          </a:xfrm>
        </p:grpSpPr>
        <p:pic>
          <p:nvPicPr>
            <p:cNvPr id="611" name="" descr=""/>
            <p:cNvPicPr/>
            <p:nvPr/>
          </p:nvPicPr>
          <p:blipFill>
            <a:blip r:embed="rId1"/>
            <a:stretch/>
          </p:blipFill>
          <p:spPr>
            <a:xfrm>
              <a:off x="2984400" y="1320840"/>
              <a:ext cx="5794560" cy="53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660920" y="2082600"/>
              <a:ext cx="457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90760" y="2722680"/>
            <a:ext cx="227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nde puntifor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luoresc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50680" y="67392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FISH: segnal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2841480" y="1438200"/>
            <a:ext cx="5870520" cy="5419440"/>
            <a:chOff x="2841480" y="1438200"/>
            <a:chExt cx="5870520" cy="5419440"/>
          </a:xfrm>
        </p:grpSpPr>
        <p:pic>
          <p:nvPicPr>
            <p:cNvPr id="617" name="" descr=""/>
            <p:cNvPicPr/>
            <p:nvPr/>
          </p:nvPicPr>
          <p:blipFill>
            <a:blip r:embed="rId1"/>
            <a:stretch/>
          </p:blipFill>
          <p:spPr>
            <a:xfrm>
              <a:off x="2841480" y="1438200"/>
              <a:ext cx="587052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518000" y="2199960"/>
              <a:ext cx="457200" cy="457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57200" y="2646360"/>
            <a:ext cx="2666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vrapposizione dell’immagine della  sonda sull’immagine del D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45720" y="660600"/>
            <a:ext cx="8420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FISH: merg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rcRect l="0" t="0" r="969" b="1833"/>
          <a:stretch/>
        </p:blipFill>
        <p:spPr>
          <a:xfrm>
            <a:off x="76320" y="1814400"/>
            <a:ext cx="9816840" cy="365760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91880" y="775440"/>
            <a:ext cx="838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ONDE PER FISH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"/>
          <p:cNvGrpSpPr/>
          <p:nvPr/>
        </p:nvGrpSpPr>
        <p:grpSpPr>
          <a:xfrm>
            <a:off x="4572000" y="762120"/>
            <a:ext cx="4572000" cy="5867280"/>
            <a:chOff x="4572000" y="762120"/>
            <a:chExt cx="4572000" cy="5867280"/>
          </a:xfrm>
        </p:grpSpPr>
        <p:sp>
          <p:nvSpPr>
            <p:cNvPr id="626" name=""/>
            <p:cNvSpPr/>
            <p:nvPr/>
          </p:nvSpPr>
          <p:spPr>
            <a:xfrm flipV="1" rot="16200000">
              <a:off x="6210360" y="3695760"/>
              <a:ext cx="1295280" cy="4572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4572000"/>
                <a:gd name="textAreaBottom" fmla="*/ 457272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90e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6210360" y="-876240"/>
              <a:ext cx="1295280" cy="4572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90e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31560" y="609480"/>
            <a:ext cx="4164120" cy="2971800"/>
            <a:chOff x="331560" y="609480"/>
            <a:chExt cx="4164120" cy="2971800"/>
          </a:xfrm>
        </p:grpSpPr>
        <p:pic>
          <p:nvPicPr>
            <p:cNvPr id="629" name="" descr=""/>
            <p:cNvPicPr/>
            <p:nvPr/>
          </p:nvPicPr>
          <p:blipFill>
            <a:blip r:embed="rId1"/>
            <a:srcRect l="6636" t="23238" r="23651" b="12032"/>
            <a:stretch/>
          </p:blipFill>
          <p:spPr>
            <a:xfrm>
              <a:off x="1295280" y="609480"/>
              <a:ext cx="32004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331560" y="1752480"/>
              <a:ext cx="7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73160" y="3657600"/>
            <a:ext cx="4322520" cy="3124080"/>
            <a:chOff x="173160" y="3657600"/>
            <a:chExt cx="4322520" cy="3124080"/>
          </a:xfrm>
        </p:grpSpPr>
        <p:pic>
          <p:nvPicPr>
            <p:cNvPr id="632" name="" descr=""/>
            <p:cNvPicPr/>
            <p:nvPr/>
          </p:nvPicPr>
          <p:blipFill>
            <a:blip r:embed="rId2"/>
            <a:srcRect l="7057" t="21577" r="23238" b="10371"/>
            <a:stretch/>
          </p:blipFill>
          <p:spPr>
            <a:xfrm>
              <a:off x="1295280" y="3657600"/>
              <a:ext cx="32004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"/>
            <p:cNvSpPr/>
            <p:nvPr/>
          </p:nvSpPr>
          <p:spPr>
            <a:xfrm>
              <a:off x="173160" y="470376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O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4968720" y="2133720"/>
            <a:ext cx="4480200" cy="3124080"/>
            <a:chOff x="4968720" y="2133720"/>
            <a:chExt cx="4480200" cy="3124080"/>
          </a:xfrm>
        </p:grpSpPr>
        <p:pic>
          <p:nvPicPr>
            <p:cNvPr id="635" name="" descr=""/>
            <p:cNvPicPr/>
            <p:nvPr/>
          </p:nvPicPr>
          <p:blipFill>
            <a:blip r:embed="rId3"/>
            <a:srcRect l="6636" t="21577" r="21990" b="10371"/>
            <a:stretch/>
          </p:blipFill>
          <p:spPr>
            <a:xfrm>
              <a:off x="6172200" y="2133720"/>
              <a:ext cx="327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68720" y="344016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978440" y="1220040"/>
            <a:ext cx="1511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WCP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4572000" y="762120"/>
            <a:ext cx="4572000" cy="5867280"/>
            <a:chOff x="4572000" y="762120"/>
            <a:chExt cx="4572000" cy="5867280"/>
          </a:xfrm>
        </p:grpSpPr>
        <p:sp>
          <p:nvSpPr>
            <p:cNvPr id="640" name=""/>
            <p:cNvSpPr/>
            <p:nvPr/>
          </p:nvSpPr>
          <p:spPr>
            <a:xfrm flipV="1" rot="16200000">
              <a:off x="6210360" y="3695760"/>
              <a:ext cx="1295280" cy="4572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360 h 4572000"/>
                <a:gd name="textAreaBottom" fmla="*/ 457272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0f8f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6210360" y="-876240"/>
              <a:ext cx="1295280" cy="4572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572000"/>
                <a:gd name="textAreaBottom" fmla="*/ 4572360 h 45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6670" stAng="10800000" swAng="5400000"/>
                  <a:lnTo>
                    <a:pt x="15952" y="5490"/>
                  </a:lnTo>
                  <a:lnTo>
                    <a:pt x="15952" y="0"/>
                  </a:lnTo>
                  <a:lnTo>
                    <a:pt x="21600" y="6079"/>
                  </a:lnTo>
                  <a:lnTo>
                    <a:pt x="15952" y="12158"/>
                  </a:lnTo>
                  <a:lnTo>
                    <a:pt x="15952" y="6668"/>
                  </a:lnTo>
                  <a:lnTo>
                    <a:pt x="12427" y="6668"/>
                  </a:lnTo>
                  <a:arcTo wR="11249" hR="5492" stAng="16200000" swAng="-5400000"/>
                  <a:lnTo>
                    <a:pt x="1178" y="21600"/>
                  </a:lnTo>
                  <a:close/>
                </a:path>
              </a:pathLst>
            </a:custGeom>
            <a:solidFill>
              <a:srgbClr val="0f8f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331560" y="685800"/>
            <a:ext cx="4164120" cy="2965320"/>
            <a:chOff x="331560" y="685800"/>
            <a:chExt cx="4164120" cy="2965320"/>
          </a:xfrm>
        </p:grpSpPr>
        <p:sp>
          <p:nvSpPr>
            <p:cNvPr id="643" name=""/>
            <p:cNvSpPr/>
            <p:nvPr/>
          </p:nvSpPr>
          <p:spPr>
            <a:xfrm>
              <a:off x="331560" y="1752480"/>
              <a:ext cx="7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D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4" name="" descr=""/>
            <p:cNvPicPr/>
            <p:nvPr/>
          </p:nvPicPr>
          <p:blipFill>
            <a:blip r:embed="rId1"/>
            <a:srcRect l="25291" t="8819" r="12115" b="23643"/>
            <a:stretch/>
          </p:blipFill>
          <p:spPr>
            <a:xfrm rot="5400000">
              <a:off x="1412640" y="568080"/>
              <a:ext cx="2965320" cy="320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"/>
          <p:cNvGrpSpPr/>
          <p:nvPr/>
        </p:nvGrpSpPr>
        <p:grpSpPr>
          <a:xfrm>
            <a:off x="173160" y="3714840"/>
            <a:ext cx="4322520" cy="2914560"/>
            <a:chOff x="173160" y="3714840"/>
            <a:chExt cx="4322520" cy="2914560"/>
          </a:xfrm>
        </p:grpSpPr>
        <p:sp>
          <p:nvSpPr>
            <p:cNvPr id="646" name=""/>
            <p:cNvSpPr/>
            <p:nvPr/>
          </p:nvSpPr>
          <p:spPr>
            <a:xfrm>
              <a:off x="173160" y="470376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O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7" name="" descr=""/>
            <p:cNvPicPr/>
            <p:nvPr/>
          </p:nvPicPr>
          <p:blipFill>
            <a:blip r:embed="rId2"/>
            <a:srcRect l="26765" t="9323" r="13948" b="25578"/>
            <a:stretch/>
          </p:blipFill>
          <p:spPr>
            <a:xfrm rot="5400000">
              <a:off x="1438200" y="3571920"/>
              <a:ext cx="2914560" cy="320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8" name=""/>
          <p:cNvGrpSpPr/>
          <p:nvPr/>
        </p:nvGrpSpPr>
        <p:grpSpPr>
          <a:xfrm>
            <a:off x="4968720" y="2075040"/>
            <a:ext cx="4708440" cy="3235320"/>
            <a:chOff x="4968720" y="2075040"/>
            <a:chExt cx="4708440" cy="3235320"/>
          </a:xfrm>
        </p:grpSpPr>
        <p:sp>
          <p:nvSpPr>
            <p:cNvPr id="649" name=""/>
            <p:cNvSpPr/>
            <p:nvPr/>
          </p:nvSpPr>
          <p:spPr>
            <a:xfrm>
              <a:off x="4968720" y="3440160"/>
              <a:ext cx="103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MER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0" name="" descr=""/>
            <p:cNvPicPr/>
            <p:nvPr/>
          </p:nvPicPr>
          <p:blipFill>
            <a:blip r:embed="rId3"/>
            <a:srcRect l="26939" t="10467" r="13763" b="25291"/>
            <a:stretch/>
          </p:blipFill>
          <p:spPr>
            <a:xfrm rot="5400000">
              <a:off x="6306840" y="1939680"/>
              <a:ext cx="323532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CP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rcRect l="12884" t="17464" r="12863" b="11624"/>
          <a:stretch/>
        </p:blipFill>
        <p:spPr>
          <a:xfrm>
            <a:off x="0" y="1868400"/>
            <a:ext cx="4915080" cy="468468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304920" y="144468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2 SONDE PUNTIFOR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rcRect l="0" t="4675" r="17501" b="11624"/>
          <a:stretch/>
        </p:blipFill>
        <p:spPr>
          <a:xfrm>
            <a:off x="4932360" y="1778040"/>
            <a:ext cx="4867200" cy="492768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5383080" y="1292400"/>
            <a:ext cx="45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 SONDE PUNTIFORM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53720" y="673920"/>
            <a:ext cx="4025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IBRIDAZION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7680" y="1142640"/>
            <a:ext cx="9105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424"/>
                </a:solidFill>
                <a:latin typeface="Comic Sans MS"/>
              </a:rPr>
              <a:t>Duplicazione braccio corto del cromosoma Y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69840" y="1917720"/>
            <a:ext cx="6173280" cy="3568320"/>
            <a:chOff x="69840" y="1917720"/>
            <a:chExt cx="6173280" cy="356832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69840" y="1917720"/>
              <a:ext cx="6173280" cy="356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168120" y="2104200"/>
              <a:ext cx="1469520" cy="158688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77556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8381880" y="30481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82000" y="3581280"/>
            <a:ext cx="10890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om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rm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707600" y="3505320"/>
            <a:ext cx="1512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p duplic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483240" y="4470480"/>
            <a:ext cx="165240" cy="152280"/>
          </a:xfrm>
          <a:prstGeom prst="ellipse">
            <a:avLst/>
          </a:prstGeom>
          <a:solidFill>
            <a:srgbClr val="ff02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32640" y="4381560"/>
            <a:ext cx="147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lfoide crom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83240" y="4851360"/>
            <a:ext cx="1652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19680" y="4765680"/>
            <a:ext cx="509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1200" y="4998960"/>
            <a:ext cx="2356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46X -Y + mar(dupY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56160" y="6095880"/>
            <a:ext cx="4554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viduo di sesso maschile azosperm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2"/>
          <a:srcRect l="3355" t="0" r="4473" b="0"/>
          <a:stretch/>
        </p:blipFill>
        <p:spPr>
          <a:xfrm>
            <a:off x="6356520" y="1905120"/>
            <a:ext cx="3384360" cy="11700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3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6197760"/>
            <a:ext cx="7569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587240" y="640800"/>
            <a:ext cx="64515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nversione pericentrica:4(inv)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8801280" y="525600"/>
            <a:ext cx="917280" cy="114912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0" y="1136520"/>
            <a:ext cx="4473720" cy="5105520"/>
          </a:xfrm>
          <a:prstGeom prst="rect">
            <a:avLst/>
          </a:prstGeom>
          <a:ln w="0">
            <a:noFill/>
          </a:ln>
        </p:spPr>
      </p:pic>
      <p:pic>
        <p:nvPicPr>
          <p:cNvPr id="679" name="" descr=""/>
          <p:cNvPicPr/>
          <p:nvPr/>
        </p:nvPicPr>
        <p:blipFill>
          <a:blip r:embed="rId3"/>
          <a:stretch/>
        </p:blipFill>
        <p:spPr>
          <a:xfrm>
            <a:off x="4413240" y="1133640"/>
            <a:ext cx="3162240" cy="5108400"/>
          </a:xfrm>
          <a:prstGeom prst="rect">
            <a:avLst/>
          </a:prstGeom>
          <a:ln w="0">
            <a:noFill/>
          </a:ln>
        </p:spPr>
      </p:pic>
      <p:pic>
        <p:nvPicPr>
          <p:cNvPr id="680" name="" descr=""/>
          <p:cNvPicPr/>
          <p:nvPr/>
        </p:nvPicPr>
        <p:blipFill>
          <a:blip r:embed="rId4"/>
          <a:stretch/>
        </p:blipFill>
        <p:spPr>
          <a:xfrm>
            <a:off x="1397160" y="6235560"/>
            <a:ext cx="4572000" cy="3175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2279880" y="537516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quido amnio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872480" y="6021360"/>
            <a:ext cx="503280" cy="316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72480" y="5862600"/>
            <a:ext cx="503280" cy="24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5772240"/>
            <a:ext cx="502920" cy="17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1480" bIns="51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867800" y="5575320"/>
            <a:ext cx="502920" cy="241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867800" y="5481720"/>
            <a:ext cx="502920" cy="203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67800" y="5424480"/>
            <a:ext cx="502920" cy="142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870680" y="5226120"/>
            <a:ext cx="503280" cy="244440"/>
          </a:xfrm>
          <a:prstGeom prst="can">
            <a:avLst>
              <a:gd name="adj" fmla="val 1872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67800" y="4989600"/>
            <a:ext cx="502920" cy="339480"/>
          </a:xfrm>
          <a:prstGeom prst="can">
            <a:avLst>
              <a:gd name="adj" fmla="val 125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867800" y="4807080"/>
            <a:ext cx="502920" cy="239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870680" y="4633920"/>
            <a:ext cx="503280" cy="282600"/>
          </a:xfrm>
          <a:prstGeom prst="can">
            <a:avLst>
              <a:gd name="adj" fmla="val 2020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870680" y="4551480"/>
            <a:ext cx="503280" cy="147600"/>
          </a:xfrm>
          <a:prstGeom prst="can">
            <a:avLst>
              <a:gd name="adj" fmla="val 2536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70680" y="4400640"/>
            <a:ext cx="503280" cy="237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70680" y="4108320"/>
            <a:ext cx="503280" cy="3700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867800" y="4095720"/>
            <a:ext cx="502920" cy="30492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870680" y="3787920"/>
            <a:ext cx="503280" cy="4507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870680" y="3576600"/>
            <a:ext cx="503280" cy="30168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870680" y="3429000"/>
            <a:ext cx="503280" cy="209520"/>
          </a:xfrm>
          <a:prstGeom prst="can">
            <a:avLst>
              <a:gd name="adj" fmla="val 3627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948440" y="3197160"/>
            <a:ext cx="347760" cy="27936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67800" y="3033720"/>
            <a:ext cx="502920" cy="233280"/>
          </a:xfrm>
          <a:prstGeom prst="can">
            <a:avLst>
              <a:gd name="adj" fmla="val 30000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67800" y="2862360"/>
            <a:ext cx="502920" cy="255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867800" y="2660760"/>
            <a:ext cx="502920" cy="341280"/>
          </a:xfrm>
          <a:prstGeom prst="can">
            <a:avLst>
              <a:gd name="adj" fmla="val 18231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870680" y="2543040"/>
            <a:ext cx="503280" cy="20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870680" y="2373480"/>
            <a:ext cx="503280" cy="241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2170080"/>
            <a:ext cx="502920" cy="3268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1803240"/>
            <a:ext cx="502920" cy="4366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8766000" y="5996160"/>
            <a:ext cx="503280" cy="315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766000" y="5837400"/>
            <a:ext cx="503280" cy="24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766000" y="5746680"/>
            <a:ext cx="503280" cy="176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1840" bIns="51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766000" y="5549760"/>
            <a:ext cx="503280" cy="241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8766000" y="5456160"/>
            <a:ext cx="503280" cy="203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8766000" y="5398920"/>
            <a:ext cx="503280" cy="142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8766000" y="5200560"/>
            <a:ext cx="503280" cy="244440"/>
          </a:xfrm>
          <a:prstGeom prst="can">
            <a:avLst>
              <a:gd name="adj" fmla="val 1872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766000" y="4964040"/>
            <a:ext cx="503280" cy="339840"/>
          </a:xfrm>
          <a:prstGeom prst="can">
            <a:avLst>
              <a:gd name="adj" fmla="val 125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766000" y="4781520"/>
            <a:ext cx="503280" cy="239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766000" y="4608360"/>
            <a:ext cx="503280" cy="282600"/>
          </a:xfrm>
          <a:prstGeom prst="can">
            <a:avLst>
              <a:gd name="adj" fmla="val 2020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766000" y="4525920"/>
            <a:ext cx="503280" cy="147600"/>
          </a:xfrm>
          <a:prstGeom prst="can">
            <a:avLst>
              <a:gd name="adj" fmla="val 2536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766000" y="4375080"/>
            <a:ext cx="503280" cy="238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8766000" y="4083120"/>
            <a:ext cx="503280" cy="36972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766000" y="4070520"/>
            <a:ext cx="503280" cy="30456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766000" y="3762360"/>
            <a:ext cx="503280" cy="4507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766000" y="3551400"/>
            <a:ext cx="503280" cy="30132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766000" y="3403440"/>
            <a:ext cx="503280" cy="209880"/>
          </a:xfrm>
          <a:prstGeom prst="can">
            <a:avLst>
              <a:gd name="adj" fmla="val 3627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764560" y="2797200"/>
            <a:ext cx="503280" cy="233280"/>
          </a:xfrm>
          <a:prstGeom prst="can">
            <a:avLst>
              <a:gd name="adj" fmla="val 30000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8764560" y="2946240"/>
            <a:ext cx="503280" cy="255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8764560" y="3062160"/>
            <a:ext cx="503280" cy="341280"/>
          </a:xfrm>
          <a:prstGeom prst="can">
            <a:avLst>
              <a:gd name="adj" fmla="val 18231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764560" y="3295800"/>
            <a:ext cx="503280" cy="19980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620120" y="25020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620120" y="3479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844120" y="2575080"/>
            <a:ext cx="347400" cy="27936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766000" y="2347920"/>
            <a:ext cx="503280" cy="241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766000" y="2144880"/>
            <a:ext cx="503280" cy="32688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766000" y="1778040"/>
            <a:ext cx="503280" cy="4366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067240" y="641520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      inv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5757840" y="19494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57160" y="6411960"/>
            <a:ext cx="9048960" cy="60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6,XY,der(1)t(1;15)(1pter,15q23)mat.ish der(1)t(1p;15q)(p36.33;q24.2)mat(pcp1p36;pcp15q)</a:t>
            </a: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50840" y="571680"/>
            <a:ext cx="424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1/15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8709120" y="525600"/>
            <a:ext cx="1009440" cy="126504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4451400" y="1174680"/>
            <a:ext cx="4203720" cy="51688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5005080" y="5942160"/>
            <a:ext cx="2153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Prelievo di villi co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182520" y="1238400"/>
            <a:ext cx="4248360" cy="513216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231120" y="6031080"/>
            <a:ext cx="2531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angue periferico mad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5115240" y="4979520"/>
            <a:ext cx="183600" cy="301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479760" y="4597560"/>
            <a:ext cx="432000" cy="50760"/>
          </a:xfrm>
          <a:prstGeom prst="line">
            <a:avLst/>
          </a:prstGeom>
          <a:ln w="9360">
            <a:solidFill>
              <a:srgbClr val="ff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3200400"/>
            <a:ext cx="380880" cy="291960"/>
          </a:xfrm>
          <a:prstGeom prst="line">
            <a:avLst/>
          </a:prstGeom>
          <a:ln w="9360">
            <a:solidFill>
              <a:srgbClr val="ff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50320" y="1409040"/>
            <a:ext cx="406440" cy="190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03200" y="4530960"/>
            <a:ext cx="226800" cy="156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7274160" y="3442680"/>
            <a:ext cx="183600" cy="301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16200" y="1295280"/>
            <a:ext cx="7305480" cy="5372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49240" y="585000"/>
            <a:ext cx="1981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G-bande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801280" y="601560"/>
            <a:ext cx="917280" cy="114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6078600" y="5651640"/>
            <a:ext cx="479520" cy="14436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43640" y="2178000"/>
            <a:ext cx="4095720" cy="118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,XY,der(1)t(1;15)(1pter,15q23)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hder(1)t(1p;15q)(p36.33;q24.2)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3120"/>
                <a:tab algn="l" pos="1685880"/>
                <a:tab algn="l" pos="2529000"/>
                <a:tab algn="l" pos="3371760"/>
                <a:tab algn="l" pos="4214880"/>
                <a:tab algn="l" pos="5057640"/>
                <a:tab algn="l" pos="5900760"/>
                <a:tab algn="l" pos="6743880"/>
                <a:tab algn="l" pos="7586640"/>
                <a:tab algn="l" pos="8429760"/>
                <a:tab algn="l" pos="9272520"/>
                <a:tab algn="l" pos="1011564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cp1p36;pcp15q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850840" y="571680"/>
            <a:ext cx="42418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20b"/>
                </a:solidFill>
                <a:latin typeface="Comic Sans MS"/>
              </a:rPr>
              <a:t>Traslocazione 1/15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8709120" y="525600"/>
            <a:ext cx="1009440" cy="12650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93720" y="1068480"/>
            <a:ext cx="2271600" cy="538632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3819600" y="6213600"/>
            <a:ext cx="479520" cy="166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19600" y="6013440"/>
            <a:ext cx="479520" cy="249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17800" y="5911920"/>
            <a:ext cx="479520" cy="233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17800" y="5799240"/>
            <a:ext cx="479520" cy="1918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19600" y="5454720"/>
            <a:ext cx="479520" cy="403200"/>
          </a:xfrm>
          <a:prstGeom prst="can">
            <a:avLst>
              <a:gd name="adj" fmla="val 1872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17800" y="5135400"/>
            <a:ext cx="479520" cy="451080"/>
          </a:xfrm>
          <a:prstGeom prst="can">
            <a:avLst>
              <a:gd name="adj" fmla="val 17282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19600" y="4913280"/>
            <a:ext cx="479520" cy="35100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17800" y="4807080"/>
            <a:ext cx="479520" cy="28728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19600" y="4618080"/>
            <a:ext cx="479520" cy="295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19600" y="4529160"/>
            <a:ext cx="479520" cy="25380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819600" y="4324320"/>
            <a:ext cx="479520" cy="318960"/>
          </a:xfrm>
          <a:prstGeom prst="can">
            <a:avLst>
              <a:gd name="adj" fmla="val 20402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817800" y="4059360"/>
            <a:ext cx="479520" cy="344520"/>
          </a:xfrm>
          <a:prstGeom prst="can">
            <a:avLst>
              <a:gd name="adj" fmla="val 27356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94120" y="3868560"/>
            <a:ext cx="330120" cy="26388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817800" y="3780000"/>
            <a:ext cx="479520" cy="1537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17800" y="3567240"/>
            <a:ext cx="479520" cy="307800"/>
          </a:xfrm>
          <a:prstGeom prst="can">
            <a:avLst>
              <a:gd name="adj" fmla="val 24402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817800" y="3236760"/>
            <a:ext cx="479520" cy="4255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7800" y="3119400"/>
            <a:ext cx="479520" cy="308160"/>
          </a:xfrm>
          <a:prstGeom prst="can">
            <a:avLst>
              <a:gd name="adj" fmla="val 20296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17800" y="2757600"/>
            <a:ext cx="479520" cy="434880"/>
          </a:xfrm>
          <a:prstGeom prst="can">
            <a:avLst>
              <a:gd name="adj" fmla="val 13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819600" y="2627280"/>
            <a:ext cx="479520" cy="249120"/>
          </a:xfrm>
          <a:prstGeom prst="can">
            <a:avLst>
              <a:gd name="adj" fmla="val 13300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819600" y="2494080"/>
            <a:ext cx="479520" cy="188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819600" y="2378160"/>
            <a:ext cx="47952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17800" y="2347920"/>
            <a:ext cx="479520" cy="17604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817800" y="2287440"/>
            <a:ext cx="479520" cy="1666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7240" bIns="57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817800" y="2200320"/>
            <a:ext cx="479520" cy="177840"/>
          </a:xfrm>
          <a:prstGeom prst="can">
            <a:avLst>
              <a:gd name="adj" fmla="val 36981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817800" y="1941480"/>
            <a:ext cx="479520" cy="33984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17800" y="1886040"/>
            <a:ext cx="479520" cy="182520"/>
          </a:xfrm>
          <a:prstGeom prst="can">
            <a:avLst>
              <a:gd name="adj" fmla="val 29435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17800" y="1714680"/>
            <a:ext cx="479520" cy="2584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49680" y="1542960"/>
            <a:ext cx="479520" cy="27648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549680" y="1285920"/>
            <a:ext cx="479520" cy="35856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545000" y="1166760"/>
            <a:ext cx="479520" cy="295200"/>
          </a:xfrm>
          <a:prstGeom prst="can">
            <a:avLst>
              <a:gd name="adj" fmla="val 19504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1840" y="5618160"/>
            <a:ext cx="479160" cy="12384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084720" y="5460840"/>
            <a:ext cx="479520" cy="203400"/>
          </a:xfrm>
          <a:prstGeom prst="can">
            <a:avLst>
              <a:gd name="adj" fmla="val 27273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81840" y="5137200"/>
            <a:ext cx="479160" cy="37476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4979880"/>
            <a:ext cx="479520" cy="19692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086520" y="4875120"/>
            <a:ext cx="479520" cy="15084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084720" y="4829040"/>
            <a:ext cx="479520" cy="1098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86520" y="4757760"/>
            <a:ext cx="479520" cy="12384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084720" y="4710240"/>
            <a:ext cx="479520" cy="109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149880" y="4552920"/>
            <a:ext cx="331920" cy="19368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081840" y="4518000"/>
            <a:ext cx="479160" cy="108000"/>
          </a:xfrm>
          <a:prstGeom prst="can">
            <a:avLst>
              <a:gd name="adj" fmla="val 45689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6248520" y="4227480"/>
            <a:ext cx="1555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46640" y="4103640"/>
            <a:ext cx="338400" cy="21600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56440" y="4227480"/>
            <a:ext cx="118800" cy="17640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56160" y="6188040"/>
            <a:ext cx="479520" cy="166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556160" y="5987880"/>
            <a:ext cx="479520" cy="24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554360" y="5886360"/>
            <a:ext cx="479520" cy="233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554360" y="5773680"/>
            <a:ext cx="479520" cy="192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556160" y="5429160"/>
            <a:ext cx="479520" cy="403200"/>
          </a:xfrm>
          <a:prstGeom prst="can">
            <a:avLst>
              <a:gd name="adj" fmla="val 1872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554360" y="5110200"/>
            <a:ext cx="479520" cy="450720"/>
          </a:xfrm>
          <a:prstGeom prst="can">
            <a:avLst>
              <a:gd name="adj" fmla="val 17282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556160" y="4888080"/>
            <a:ext cx="479520" cy="3506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54360" y="4781520"/>
            <a:ext cx="479520" cy="28728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556160" y="4592520"/>
            <a:ext cx="479520" cy="295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56160" y="4503600"/>
            <a:ext cx="479520" cy="25416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56160" y="4299120"/>
            <a:ext cx="479520" cy="318960"/>
          </a:xfrm>
          <a:prstGeom prst="can">
            <a:avLst>
              <a:gd name="adj" fmla="val 20402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54360" y="4033800"/>
            <a:ext cx="479520" cy="344520"/>
          </a:xfrm>
          <a:prstGeom prst="can">
            <a:avLst>
              <a:gd name="adj" fmla="val 27356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630680" y="3843360"/>
            <a:ext cx="330120" cy="26352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54360" y="3754440"/>
            <a:ext cx="479520" cy="154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20160" bIns="-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554360" y="3541680"/>
            <a:ext cx="479520" cy="308160"/>
          </a:xfrm>
          <a:prstGeom prst="can">
            <a:avLst>
              <a:gd name="adj" fmla="val 24402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554360" y="3211560"/>
            <a:ext cx="479520" cy="4255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554360" y="3094200"/>
            <a:ext cx="479520" cy="307800"/>
          </a:xfrm>
          <a:prstGeom prst="can">
            <a:avLst>
              <a:gd name="adj" fmla="val 20296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554360" y="2732040"/>
            <a:ext cx="479520" cy="434880"/>
          </a:xfrm>
          <a:prstGeom prst="can">
            <a:avLst>
              <a:gd name="adj" fmla="val 13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56160" y="2602080"/>
            <a:ext cx="479520" cy="249120"/>
          </a:xfrm>
          <a:prstGeom prst="can">
            <a:avLst>
              <a:gd name="adj" fmla="val 13300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56160" y="2468520"/>
            <a:ext cx="479520" cy="189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56160" y="2352600"/>
            <a:ext cx="479520" cy="228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554360" y="2322360"/>
            <a:ext cx="479520" cy="17640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554360" y="2262240"/>
            <a:ext cx="479520" cy="1666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7240" bIns="57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554360" y="2174760"/>
            <a:ext cx="479520" cy="177840"/>
          </a:xfrm>
          <a:prstGeom prst="can">
            <a:avLst>
              <a:gd name="adj" fmla="val 36981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554360" y="1916280"/>
            <a:ext cx="479520" cy="33948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554360" y="1860480"/>
            <a:ext cx="479520" cy="182520"/>
          </a:xfrm>
          <a:prstGeom prst="can">
            <a:avLst>
              <a:gd name="adj" fmla="val 29435"/>
            </a:avLst>
          </a:prstGeom>
          <a:gradFill rotWithShape="0">
            <a:gsLst>
              <a:gs pos="0">
                <a:srgbClr val="03780a"/>
              </a:gs>
              <a:gs pos="50000">
                <a:srgbClr val="ffffff"/>
              </a:gs>
              <a:gs pos="100000">
                <a:srgbClr val="0378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54360" y="1765440"/>
            <a:ext cx="479520" cy="144360"/>
          </a:xfrm>
          <a:prstGeom prst="can">
            <a:avLst>
              <a:gd name="adj" fmla="val 20268"/>
            </a:avLst>
          </a:prstGeom>
          <a:gradFill rotWithShape="0">
            <a:gsLst>
              <a:gs pos="0">
                <a:srgbClr val="06ff17"/>
              </a:gs>
              <a:gs pos="50000">
                <a:srgbClr val="ffffff"/>
              </a:gs>
              <a:gs pos="100000">
                <a:srgbClr val="06f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848640" y="6114960"/>
            <a:ext cx="479160" cy="276480"/>
          </a:xfrm>
          <a:prstGeom prst="can">
            <a:avLst>
              <a:gd name="adj" fmla="val 27629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48640" y="5857920"/>
            <a:ext cx="479160" cy="358560"/>
          </a:xfrm>
          <a:prstGeom prst="can">
            <a:avLst>
              <a:gd name="adj" fmla="val 22328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43600" y="5662440"/>
            <a:ext cx="479520" cy="384480"/>
          </a:xfrm>
          <a:prstGeom prst="can">
            <a:avLst>
              <a:gd name="adj" fmla="val 19504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43600" y="5630760"/>
            <a:ext cx="479520" cy="12384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846840" y="5473800"/>
            <a:ext cx="479520" cy="203040"/>
          </a:xfrm>
          <a:prstGeom prst="can">
            <a:avLst>
              <a:gd name="adj" fmla="val 27273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43600" y="5149800"/>
            <a:ext cx="479520" cy="37476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46840" y="4992840"/>
            <a:ext cx="479520" cy="19656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848640" y="4888080"/>
            <a:ext cx="479160" cy="15048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846840" y="4842000"/>
            <a:ext cx="479520" cy="109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848640" y="4770360"/>
            <a:ext cx="479160" cy="123840"/>
          </a:xfrm>
          <a:prstGeom prst="can">
            <a:avLst>
              <a:gd name="adj" fmla="val 37837"/>
            </a:avLst>
          </a:prstGeom>
          <a:gradFill rotWithShape="0">
            <a:gsLst>
              <a:gs pos="0">
                <a:srgbClr val="780404"/>
              </a:gs>
              <a:gs pos="50000">
                <a:srgbClr val="ffffff"/>
              </a:gs>
              <a:gs pos="100000">
                <a:srgbClr val="78040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846840" y="4722840"/>
            <a:ext cx="479520" cy="10944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0808"/>
              </a:gs>
              <a:gs pos="50000">
                <a:srgbClr val="ffffff"/>
              </a:gs>
              <a:gs pos="100000">
                <a:srgbClr val="ff080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31680" bIns="-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912000" y="4565520"/>
            <a:ext cx="331920" cy="193680"/>
          </a:xfrm>
          <a:prstGeom prst="can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43600" y="4530600"/>
            <a:ext cx="479520" cy="108000"/>
          </a:xfrm>
          <a:prstGeom prst="can">
            <a:avLst>
              <a:gd name="adj" fmla="val 45689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-24840" bIns="-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7009920" y="4240080"/>
            <a:ext cx="15552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908760" y="4116240"/>
            <a:ext cx="338040" cy="21600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018200" y="4240080"/>
            <a:ext cx="119160" cy="17640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51240" y="638964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      1/15         15/1  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65360" y="546840"/>
            <a:ext cx="4216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aslocazione(3/22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8545680" y="576360"/>
            <a:ext cx="1042920" cy="130788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2"/>
          <a:stretch/>
        </p:blipFill>
        <p:spPr>
          <a:xfrm>
            <a:off x="0" y="1322280"/>
            <a:ext cx="3949560" cy="4583160"/>
          </a:xfrm>
          <a:prstGeom prst="rect">
            <a:avLst/>
          </a:prstGeom>
          <a:ln w="0">
            <a:noFill/>
          </a:ln>
        </p:spPr>
      </p:pic>
      <p:pic>
        <p:nvPicPr>
          <p:cNvPr id="844" name="" descr=""/>
          <p:cNvPicPr/>
          <p:nvPr/>
        </p:nvPicPr>
        <p:blipFill>
          <a:blip r:embed="rId3"/>
          <a:stretch/>
        </p:blipFill>
        <p:spPr>
          <a:xfrm>
            <a:off x="3944880" y="1339920"/>
            <a:ext cx="3630600" cy="4578120"/>
          </a:xfrm>
          <a:prstGeom prst="rect">
            <a:avLst/>
          </a:prstGeom>
          <a:ln w="0">
            <a:noFill/>
          </a:ln>
        </p:spPr>
      </p:pic>
      <p:grpSp>
        <p:nvGrpSpPr>
          <p:cNvPr id="845" name=""/>
          <p:cNvGrpSpPr/>
          <p:nvPr/>
        </p:nvGrpSpPr>
        <p:grpSpPr>
          <a:xfrm>
            <a:off x="7897680" y="2057400"/>
            <a:ext cx="360360" cy="3814560"/>
            <a:chOff x="7897680" y="2057400"/>
            <a:chExt cx="360360" cy="3814560"/>
          </a:xfrm>
        </p:grpSpPr>
        <p:sp>
          <p:nvSpPr>
            <p:cNvPr id="846" name=""/>
            <p:cNvSpPr/>
            <p:nvPr/>
          </p:nvSpPr>
          <p:spPr>
            <a:xfrm>
              <a:off x="7897680" y="5721480"/>
              <a:ext cx="360360" cy="150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897680" y="5640480"/>
              <a:ext cx="360360" cy="131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897680" y="5529240"/>
              <a:ext cx="360360" cy="150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97680" y="5448240"/>
              <a:ext cx="360360" cy="1317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97680" y="5389560"/>
              <a:ext cx="360360" cy="106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7920" bIns="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97680" y="5321160"/>
              <a:ext cx="360360" cy="12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897680" y="5164200"/>
              <a:ext cx="358920" cy="207720"/>
            </a:xfrm>
            <a:prstGeom prst="can">
              <a:avLst>
                <a:gd name="adj" fmla="val 18726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97680" y="5002200"/>
              <a:ext cx="360360" cy="216000"/>
            </a:xfrm>
            <a:prstGeom prst="can">
              <a:avLst>
                <a:gd name="adj" fmla="val 17282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97680" y="4894200"/>
              <a:ext cx="360360" cy="147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897680" y="4800600"/>
              <a:ext cx="358920" cy="139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97680" y="4551480"/>
              <a:ext cx="358920" cy="315720"/>
            </a:xfrm>
            <a:prstGeom prst="can">
              <a:avLst>
                <a:gd name="adj" fmla="val 17791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897680" y="4356000"/>
              <a:ext cx="360360" cy="260280"/>
            </a:xfrm>
            <a:prstGeom prst="can">
              <a:avLst>
                <a:gd name="adj" fmla="val 17199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897680" y="4278240"/>
              <a:ext cx="358920" cy="146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897680" y="4100400"/>
              <a:ext cx="358920" cy="228600"/>
            </a:xfrm>
            <a:prstGeom prst="can">
              <a:avLst>
                <a:gd name="adj" fmla="val 19134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897680" y="3975120"/>
              <a:ext cx="358920" cy="177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2560" bIns="52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897680" y="3889440"/>
              <a:ext cx="360360" cy="137880"/>
            </a:xfrm>
            <a:prstGeom prst="can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53120" y="3703680"/>
              <a:ext cx="247680" cy="237960"/>
            </a:xfrm>
            <a:prstGeom prst="can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897680" y="3664080"/>
              <a:ext cx="360360" cy="137880"/>
            </a:xfrm>
            <a:prstGeom prst="can">
              <a:avLst>
                <a:gd name="adj" fmla="val 50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-24120" bIns="-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97680" y="3247920"/>
              <a:ext cx="360360" cy="488880"/>
            </a:xfrm>
            <a:prstGeom prst="can">
              <a:avLst>
                <a:gd name="adj" fmla="val 12814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97680" y="3233520"/>
              <a:ext cx="360360" cy="196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97680" y="3054240"/>
              <a:ext cx="360360" cy="257400"/>
            </a:xfrm>
            <a:prstGeom prst="can">
              <a:avLst>
                <a:gd name="adj" fmla="val 21976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897680" y="2612880"/>
              <a:ext cx="360360" cy="515880"/>
            </a:xfrm>
            <a:prstGeom prst="can">
              <a:avLst>
                <a:gd name="adj" fmla="val 133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897680" y="2519280"/>
              <a:ext cx="358920" cy="169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897680" y="2374920"/>
              <a:ext cx="358920" cy="206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897680" y="2203560"/>
              <a:ext cx="360360" cy="277560"/>
            </a:xfrm>
            <a:prstGeom prst="can">
              <a:avLst>
                <a:gd name="adj" fmla="val 12500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897680" y="2128680"/>
              <a:ext cx="360360" cy="150840"/>
            </a:xfrm>
            <a:prstGeom prst="can">
              <a:avLst>
                <a:gd name="adj" fmla="val 20268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897680" y="2057400"/>
              <a:ext cx="360360" cy="135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8342280" y="5738760"/>
            <a:ext cx="360360" cy="150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342280" y="5657760"/>
            <a:ext cx="360360" cy="13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42280" y="5546880"/>
            <a:ext cx="360360" cy="150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42280" y="5465880"/>
            <a:ext cx="360360" cy="131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4120" bIns="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342280" y="5407200"/>
            <a:ext cx="360360" cy="106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2280" y="5338800"/>
            <a:ext cx="360360" cy="120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2280" y="5181480"/>
            <a:ext cx="358920" cy="208080"/>
          </a:xfrm>
          <a:prstGeom prst="can">
            <a:avLst>
              <a:gd name="adj" fmla="val 1872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2280" y="5019840"/>
            <a:ext cx="360360" cy="215640"/>
          </a:xfrm>
          <a:prstGeom prst="can">
            <a:avLst>
              <a:gd name="adj" fmla="val 17282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2280" y="4911840"/>
            <a:ext cx="360360" cy="147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342280" y="4818240"/>
            <a:ext cx="358920" cy="1396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342280" y="4568760"/>
            <a:ext cx="358920" cy="3160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342280" y="4373640"/>
            <a:ext cx="360360" cy="26028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342280" y="4295880"/>
            <a:ext cx="358920" cy="145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42280" y="4118040"/>
            <a:ext cx="358920" cy="22860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342280" y="3992400"/>
            <a:ext cx="358920" cy="177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342280" y="3906720"/>
            <a:ext cx="360360" cy="138240"/>
          </a:xfrm>
          <a:prstGeom prst="can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397720" y="3720960"/>
            <a:ext cx="247680" cy="23832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342280" y="3681360"/>
            <a:ext cx="360360" cy="138240"/>
          </a:xfrm>
          <a:prstGeom prst="can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24120" bIns="-24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342280" y="3265560"/>
            <a:ext cx="360360" cy="4888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342280" y="3251160"/>
            <a:ext cx="360360" cy="1969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342280" y="3071880"/>
            <a:ext cx="360360" cy="257040"/>
          </a:xfrm>
          <a:prstGeom prst="can">
            <a:avLst>
              <a:gd name="adj" fmla="val 21976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42280" y="2630520"/>
            <a:ext cx="360360" cy="515880"/>
          </a:xfrm>
          <a:prstGeom prst="can">
            <a:avLst>
              <a:gd name="adj" fmla="val 123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342280" y="2208240"/>
            <a:ext cx="360360" cy="288720"/>
          </a:xfrm>
          <a:prstGeom prst="can">
            <a:avLst>
              <a:gd name="adj" fmla="val 21430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8342280" y="2467800"/>
            <a:ext cx="360360" cy="10476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a50307"/>
              </a:gs>
              <a:gs pos="50000">
                <a:srgbClr val="ffffff"/>
              </a:gs>
              <a:gs pos="100000">
                <a:srgbClr val="a503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31680" bIns="316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42280" y="2519280"/>
            <a:ext cx="360360" cy="131760"/>
          </a:xfrm>
          <a:prstGeom prst="can">
            <a:avLst>
              <a:gd name="adj" fmla="val 3615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8864640" y="4829040"/>
            <a:ext cx="825480" cy="1049400"/>
            <a:chOff x="8864640" y="4829040"/>
            <a:chExt cx="825480" cy="1049400"/>
          </a:xfrm>
        </p:grpSpPr>
        <p:sp>
          <p:nvSpPr>
            <p:cNvPr id="899" name=""/>
            <p:cNvSpPr/>
            <p:nvPr/>
          </p:nvSpPr>
          <p:spPr>
            <a:xfrm>
              <a:off x="9351720" y="5572080"/>
              <a:ext cx="338400" cy="304920"/>
            </a:xfrm>
            <a:prstGeom prst="can">
              <a:avLst>
                <a:gd name="adj" fmla="val 9731"/>
              </a:avLst>
            </a:prstGeom>
            <a:gradFill rotWithShape="0">
              <a:gsLst>
                <a:gs pos="0">
                  <a:srgbClr val="f6050a"/>
                </a:gs>
                <a:gs pos="50000">
                  <a:srgbClr val="ffffff"/>
                </a:gs>
                <a:gs pos="100000">
                  <a:srgbClr val="f6050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351720" y="5491080"/>
              <a:ext cx="338400" cy="111240"/>
            </a:xfrm>
            <a:prstGeom prst="can">
              <a:avLst>
                <a:gd name="adj" fmla="val 9120"/>
              </a:avLst>
            </a:prstGeom>
            <a:gradFill rotWithShape="0">
              <a:gsLst>
                <a:gs pos="0">
                  <a:srgbClr val="a50307"/>
                </a:gs>
                <a:gs pos="50000">
                  <a:srgbClr val="ffffff"/>
                </a:gs>
                <a:gs pos="100000">
                  <a:srgbClr val="a5030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37080" bIns="37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9351720" y="5408640"/>
              <a:ext cx="338400" cy="139680"/>
            </a:xfrm>
            <a:prstGeom prst="can">
              <a:avLst>
                <a:gd name="adj" fmla="val 17143"/>
              </a:avLst>
            </a:prstGeom>
            <a:gradFill rotWithShape="0">
              <a:gsLst>
                <a:gs pos="0">
                  <a:srgbClr val="f6050a"/>
                </a:gs>
                <a:gs pos="50000">
                  <a:srgbClr val="ffffff"/>
                </a:gs>
                <a:gs pos="100000">
                  <a:srgbClr val="f6050a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9402480" y="5306760"/>
              <a:ext cx="233640" cy="115920"/>
            </a:xfrm>
            <a:prstGeom prst="can">
              <a:avLst>
                <a:gd name="adj" fmla="val 25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14040" bIns="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348840" y="5214960"/>
              <a:ext cx="338040" cy="118800"/>
            </a:xfrm>
            <a:prstGeom prst="can">
              <a:avLst>
                <a:gd name="adj" fmla="val 17912"/>
              </a:avLst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348840" y="5156280"/>
              <a:ext cx="338040" cy="115560"/>
            </a:xfrm>
            <a:prstGeom prst="can">
              <a:avLst>
                <a:gd name="adj" fmla="val 45689"/>
              </a:avLst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-22680" bIns="-22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5400000">
              <a:off x="9479160" y="4983840"/>
              <a:ext cx="79560" cy="33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323232"/>
            </a:solidFill>
            <a:ln w="936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9448560" y="5010120"/>
              <a:ext cx="139680" cy="105840"/>
              <a:chOff x="9448560" y="5010120"/>
              <a:chExt cx="139680" cy="105840"/>
            </a:xfrm>
          </p:grpSpPr>
          <p:sp>
            <p:nvSpPr>
              <p:cNvPr id="907" name=""/>
              <p:cNvSpPr/>
              <p:nvPr/>
            </p:nvSpPr>
            <p:spPr>
              <a:xfrm>
                <a:off x="9448560" y="5010120"/>
                <a:ext cx="139680" cy="75960"/>
              </a:xfrm>
              <a:prstGeom prst="ellipse">
                <a:avLst/>
              </a:prstGeom>
              <a:solidFill>
                <a:srgbClr val="323232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9493920" y="5053680"/>
                <a:ext cx="48600" cy="62280"/>
              </a:xfrm>
              <a:prstGeom prst="rect">
                <a:avLst/>
              </a:prstGeom>
              <a:solidFill>
                <a:srgbClr val="323232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"/>
            <p:cNvSpPr/>
            <p:nvPr/>
          </p:nvSpPr>
          <p:spPr>
            <a:xfrm>
              <a:off x="8864640" y="5708520"/>
              <a:ext cx="360360" cy="169920"/>
            </a:xfrm>
            <a:prstGeom prst="can">
              <a:avLst>
                <a:gd name="adj" fmla="val 12939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864640" y="5227560"/>
              <a:ext cx="358560" cy="169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47520" bIns="47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8864640" y="5334840"/>
              <a:ext cx="358560" cy="206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8080" rIns="118080" tIns="59040" bIns="590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8864640" y="5434920"/>
              <a:ext cx="360360" cy="277560"/>
            </a:xfrm>
            <a:prstGeom prst="can">
              <a:avLst>
                <a:gd name="adj" fmla="val 12500"/>
              </a:avLst>
            </a:prstGeom>
            <a:gradFill rotWithShape="0">
              <a:gsLst>
                <a:gs pos="0">
                  <a:srgbClr val="036e25"/>
                </a:gs>
                <a:gs pos="50000">
                  <a:srgbClr val="ffffff"/>
                </a:gs>
                <a:gs pos="100000">
                  <a:srgbClr val="036e2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8864640" y="5636520"/>
              <a:ext cx="360360" cy="15084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ff"/>
                </a:gs>
                <a:gs pos="100000">
                  <a:srgbClr val="00ff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7720" rIns="117720" tIns="58680" bIns="58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8875440" y="4829040"/>
              <a:ext cx="341280" cy="412920"/>
              <a:chOff x="8875440" y="4829040"/>
              <a:chExt cx="341280" cy="412920"/>
            </a:xfrm>
          </p:grpSpPr>
          <p:sp>
            <p:nvSpPr>
              <p:cNvPr id="915" name=""/>
              <p:cNvSpPr/>
              <p:nvPr/>
            </p:nvSpPr>
            <p:spPr>
              <a:xfrm>
                <a:off x="8929800" y="5126040"/>
                <a:ext cx="234360" cy="115920"/>
              </a:xfrm>
              <a:prstGeom prst="can">
                <a:avLst>
                  <a:gd name="adj" fmla="val 25000"/>
                </a:avLst>
              </a:pr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720" rIns="11772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8875440" y="5033880"/>
                <a:ext cx="339120" cy="119160"/>
              </a:xfrm>
              <a:prstGeom prst="can">
                <a:avLst>
                  <a:gd name="adj" fmla="val 17912"/>
                </a:avLst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7720" rIns="11772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8875440" y="4975200"/>
                <a:ext cx="341280" cy="115920"/>
              </a:xfrm>
              <a:prstGeom prst="can">
                <a:avLst>
                  <a:gd name="adj" fmla="val 45689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8080" rIns="118080" tIns="-22320" bIns="-22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5400000">
                <a:off x="9007920" y="4801680"/>
                <a:ext cx="79560" cy="337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20250" y="3391"/>
                      <a:pt x="18900" y="5080"/>
                      <a:pt x="18900" y="10800"/>
                    </a:cubicBezTo>
                    <a:cubicBezTo>
                      <a:pt x="18900" y="16520"/>
                      <a:pt x="20250" y="18209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23232"/>
              </a:solidFill>
              <a:ln w="936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8974080" y="4829040"/>
                <a:ext cx="141120" cy="106560"/>
                <a:chOff x="8974080" y="4829040"/>
                <a:chExt cx="141120" cy="10656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8974080" y="4829040"/>
                  <a:ext cx="141120" cy="76320"/>
                </a:xfrm>
                <a:prstGeom prst="ellipse">
                  <a:avLst/>
                </a:prstGeom>
                <a:solidFill>
                  <a:srgbClr val="323232"/>
                </a:solidFill>
                <a:ln w="936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9019800" y="4872960"/>
                  <a:ext cx="49320" cy="62640"/>
                </a:xfrm>
                <a:prstGeom prst="rect">
                  <a:avLst/>
                </a:prstGeom>
                <a:solidFill>
                  <a:srgbClr val="323232"/>
                </a:solidFill>
                <a:ln w="9360">
                  <a:solidFill>
                    <a:srgbClr val="32323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2" name=""/>
          <p:cNvSpPr/>
          <p:nvPr/>
        </p:nvSpPr>
        <p:spPr>
          <a:xfrm>
            <a:off x="7867440" y="5896080"/>
            <a:ext cx="18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 3/22 22/3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607160" y="2692440"/>
            <a:ext cx="2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9651960" y="5511960"/>
            <a:ext cx="2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aslocazione 5/11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8761320" y="576360"/>
            <a:ext cx="827280" cy="103824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2"/>
          <a:stretch/>
        </p:blipFill>
        <p:spPr>
          <a:xfrm>
            <a:off x="0" y="1574640"/>
            <a:ext cx="5079960" cy="5080320"/>
          </a:xfrm>
          <a:prstGeom prst="rect">
            <a:avLst/>
          </a:prstGeom>
          <a:ln w="0">
            <a:noFill/>
          </a:ln>
        </p:spPr>
      </p:pic>
      <p:pic>
        <p:nvPicPr>
          <p:cNvPr id="928" name="" descr=""/>
          <p:cNvPicPr/>
          <p:nvPr/>
        </p:nvPicPr>
        <p:blipFill>
          <a:blip r:embed="rId3"/>
          <a:stretch/>
        </p:blipFill>
        <p:spPr>
          <a:xfrm>
            <a:off x="4849920" y="1574640"/>
            <a:ext cx="5056200" cy="50803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 flipV="1">
            <a:off x="4863960" y="1574280"/>
            <a:ext cx="0" cy="505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44800" y="3568680"/>
            <a:ext cx="419040" cy="317520"/>
          </a:xfrm>
          <a:prstGeom prst="line">
            <a:avLst/>
          </a:prstGeom>
          <a:ln w="9360">
            <a:solidFill>
              <a:srgbClr val="f605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3765600" y="5251320"/>
            <a:ext cx="419040" cy="29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22440" y="5156280"/>
            <a:ext cx="419040" cy="317520"/>
          </a:xfrm>
          <a:prstGeom prst="line">
            <a:avLst/>
          </a:prstGeom>
          <a:ln w="9360">
            <a:solidFill>
              <a:srgbClr val="f605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flipV="1">
            <a:off x="3282840" y="2406600"/>
            <a:ext cx="419040" cy="29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8794800" y="4451040"/>
            <a:ext cx="419040" cy="29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>
            <a:off x="7791120" y="2762280"/>
            <a:ext cx="291960" cy="419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 flipV="1">
            <a:off x="8375760" y="6013080"/>
            <a:ext cx="419040" cy="291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8204040" y="4737240"/>
            <a:ext cx="419400" cy="317520"/>
          </a:xfrm>
          <a:prstGeom prst="line">
            <a:avLst/>
          </a:prstGeom>
          <a:ln w="9360">
            <a:solidFill>
              <a:srgbClr val="f605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861080" y="6230880"/>
            <a:ext cx="22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quido amnio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46200" y="6180120"/>
            <a:ext cx="28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angue periferico pa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raslocazione 5/11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339840" y="1916280"/>
            <a:ext cx="4511520" cy="451152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8931240" y="5977080"/>
            <a:ext cx="507960" cy="198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933040" y="5722920"/>
            <a:ext cx="507960" cy="308160"/>
          </a:xfrm>
          <a:prstGeom prst="can">
            <a:avLst>
              <a:gd name="adj" fmla="val 15898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8933040" y="5268960"/>
            <a:ext cx="507960" cy="639720"/>
          </a:xfrm>
          <a:prstGeom prst="can">
            <a:avLst>
              <a:gd name="adj" fmla="val 9902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933040" y="4981680"/>
            <a:ext cx="507960" cy="3618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8931240" y="4873680"/>
            <a:ext cx="507960" cy="198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933040" y="4551480"/>
            <a:ext cx="507960" cy="414360"/>
          </a:xfrm>
          <a:prstGeom prst="can">
            <a:avLst>
              <a:gd name="adj" fmla="val 15898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931240" y="4156200"/>
            <a:ext cx="507960" cy="48888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931240" y="3913200"/>
            <a:ext cx="507960" cy="30312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9010800" y="3676680"/>
            <a:ext cx="350640" cy="274680"/>
          </a:xfrm>
          <a:prstGeom prst="can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931240" y="3398760"/>
            <a:ext cx="507960" cy="366840"/>
          </a:xfrm>
          <a:prstGeom prst="can">
            <a:avLst>
              <a:gd name="adj" fmla="val 13504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933040" y="3206880"/>
            <a:ext cx="507960" cy="2714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933040" y="3048120"/>
            <a:ext cx="507960" cy="25380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8933040" y="2752560"/>
            <a:ext cx="507960" cy="42552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933040" y="2382840"/>
            <a:ext cx="507960" cy="507960"/>
          </a:xfrm>
          <a:prstGeom prst="can">
            <a:avLst>
              <a:gd name="adj" fmla="val 13712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99160" y="5813280"/>
            <a:ext cx="507960" cy="349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699160" y="5605560"/>
            <a:ext cx="507960" cy="344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697360" y="5394240"/>
            <a:ext cx="508320" cy="298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697360" y="5183280"/>
            <a:ext cx="508320" cy="330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699160" y="4722840"/>
            <a:ext cx="507960" cy="55872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697360" y="4435560"/>
            <a:ext cx="508320" cy="428400"/>
          </a:xfrm>
          <a:prstGeom prst="can">
            <a:avLst>
              <a:gd name="adj" fmla="val 125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699160" y="4287960"/>
            <a:ext cx="507960" cy="214200"/>
          </a:xfrm>
          <a:prstGeom prst="can">
            <a:avLst>
              <a:gd name="adj" fmla="val 3071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6880" bIns="56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699160" y="4027320"/>
            <a:ext cx="507960" cy="328680"/>
          </a:xfrm>
          <a:prstGeom prst="can">
            <a:avLst>
              <a:gd name="adj" fmla="val 22402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699160" y="3703680"/>
            <a:ext cx="507960" cy="4096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697360" y="3665520"/>
            <a:ext cx="508320" cy="33660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5699160" y="3316320"/>
            <a:ext cx="507960" cy="4237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699160" y="3119400"/>
            <a:ext cx="507960" cy="27936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699160" y="2957400"/>
            <a:ext cx="507960" cy="230400"/>
          </a:xfrm>
          <a:prstGeom prst="can">
            <a:avLst>
              <a:gd name="adj" fmla="val 3627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776920" y="2700360"/>
            <a:ext cx="351000" cy="30780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697360" y="2502000"/>
            <a:ext cx="508320" cy="282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97360" y="2254320"/>
            <a:ext cx="508320" cy="376200"/>
          </a:xfrm>
          <a:prstGeom prst="can">
            <a:avLst>
              <a:gd name="adj" fmla="val 1823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699160" y="1816200"/>
            <a:ext cx="507960" cy="514080"/>
          </a:xfrm>
          <a:prstGeom prst="can">
            <a:avLst>
              <a:gd name="adj" fmla="val 14347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99160" y="1731960"/>
            <a:ext cx="507960" cy="20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97360" y="1568520"/>
            <a:ext cx="508320" cy="21744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697360" y="1163520"/>
            <a:ext cx="508320" cy="482760"/>
          </a:xfrm>
          <a:prstGeom prst="can">
            <a:avLst>
              <a:gd name="adj" fmla="val 1666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613560" y="5813280"/>
            <a:ext cx="507960" cy="349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613560" y="5605560"/>
            <a:ext cx="507960" cy="344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611760" y="5394240"/>
            <a:ext cx="508320" cy="298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611760" y="5183280"/>
            <a:ext cx="508320" cy="330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613560" y="4722840"/>
            <a:ext cx="507960" cy="55872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611760" y="4435560"/>
            <a:ext cx="508320" cy="428400"/>
          </a:xfrm>
          <a:prstGeom prst="can">
            <a:avLst>
              <a:gd name="adj" fmla="val 1256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613560" y="4287960"/>
            <a:ext cx="507960" cy="214200"/>
          </a:xfrm>
          <a:prstGeom prst="can">
            <a:avLst>
              <a:gd name="adj" fmla="val 3071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6880" bIns="56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13560" y="4027320"/>
            <a:ext cx="507960" cy="328680"/>
          </a:xfrm>
          <a:prstGeom prst="can">
            <a:avLst>
              <a:gd name="adj" fmla="val 22402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613560" y="3703680"/>
            <a:ext cx="507960" cy="40968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611760" y="3665520"/>
            <a:ext cx="508320" cy="33660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613560" y="3316320"/>
            <a:ext cx="507960" cy="4237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613560" y="3119400"/>
            <a:ext cx="507960" cy="279360"/>
          </a:xfrm>
          <a:prstGeom prst="can">
            <a:avLst>
              <a:gd name="adj" fmla="val 191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13560" y="2957400"/>
            <a:ext cx="507960" cy="230400"/>
          </a:xfrm>
          <a:prstGeom prst="can">
            <a:avLst>
              <a:gd name="adj" fmla="val 3627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691320" y="2700360"/>
            <a:ext cx="351000" cy="30780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611760" y="2502000"/>
            <a:ext cx="508320" cy="282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611760" y="2254320"/>
            <a:ext cx="508320" cy="376200"/>
          </a:xfrm>
          <a:prstGeom prst="can">
            <a:avLst>
              <a:gd name="adj" fmla="val 18231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13560" y="1816200"/>
            <a:ext cx="507960" cy="514080"/>
          </a:xfrm>
          <a:prstGeom prst="can">
            <a:avLst>
              <a:gd name="adj" fmla="val 14347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613560" y="1731960"/>
            <a:ext cx="507960" cy="2001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11760" y="1568520"/>
            <a:ext cx="508320" cy="21744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36e25"/>
              </a:gs>
              <a:gs pos="50000">
                <a:srgbClr val="ffffff"/>
              </a:gs>
              <a:gs pos="100000">
                <a:srgbClr val="036e2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02720" y="5989680"/>
            <a:ext cx="507960" cy="198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904160" y="5735520"/>
            <a:ext cx="507960" cy="308160"/>
          </a:xfrm>
          <a:prstGeom prst="can">
            <a:avLst>
              <a:gd name="adj" fmla="val 15898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904160" y="5281560"/>
            <a:ext cx="507960" cy="639720"/>
          </a:xfrm>
          <a:prstGeom prst="can">
            <a:avLst>
              <a:gd name="adj" fmla="val 9902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904160" y="4994280"/>
            <a:ext cx="507960" cy="361800"/>
          </a:xfrm>
          <a:prstGeom prst="can">
            <a:avLst>
              <a:gd name="adj" fmla="val 23273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02720" y="4886280"/>
            <a:ext cx="507960" cy="198360"/>
          </a:xfrm>
          <a:prstGeom prst="can">
            <a:avLst>
              <a:gd name="adj" fmla="val 1785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904160" y="4564080"/>
            <a:ext cx="507960" cy="414360"/>
          </a:xfrm>
          <a:prstGeom prst="can">
            <a:avLst>
              <a:gd name="adj" fmla="val 15898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02720" y="4168800"/>
            <a:ext cx="507960" cy="488880"/>
          </a:xfrm>
          <a:prstGeom prst="can">
            <a:avLst>
              <a:gd name="adj" fmla="val 12333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902720" y="3925800"/>
            <a:ext cx="507960" cy="30348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981920" y="3689280"/>
            <a:ext cx="351000" cy="27468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902720" y="3411360"/>
            <a:ext cx="507960" cy="366840"/>
          </a:xfrm>
          <a:prstGeom prst="can">
            <a:avLst>
              <a:gd name="adj" fmla="val 13504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904160" y="3219480"/>
            <a:ext cx="507960" cy="2714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904160" y="3060720"/>
            <a:ext cx="507960" cy="25416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f6050a"/>
              </a:gs>
              <a:gs pos="50000">
                <a:srgbClr val="ffffff"/>
              </a:gs>
              <a:gs pos="100000">
                <a:srgbClr val="f6050a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621480" y="1203480"/>
            <a:ext cx="507960" cy="425160"/>
          </a:xfrm>
          <a:prstGeom prst="can">
            <a:avLst>
              <a:gd name="adj" fmla="val 10763"/>
            </a:avLst>
          </a:prstGeom>
          <a:gradFill rotWithShape="0">
            <a:gsLst>
              <a:gs pos="0">
                <a:srgbClr val="c00202"/>
              </a:gs>
              <a:gs pos="50000">
                <a:srgbClr val="ffffff"/>
              </a:gs>
              <a:gs pos="100000">
                <a:srgbClr val="c0020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621480" y="833400"/>
            <a:ext cx="507960" cy="507960"/>
          </a:xfrm>
          <a:prstGeom prst="can">
            <a:avLst>
              <a:gd name="adj" fmla="val 13712"/>
            </a:avLst>
          </a:prstGeom>
          <a:gradFill rotWithShape="0">
            <a:gsLst>
              <a:gs pos="0">
                <a:srgbClr val="ff0210"/>
              </a:gs>
              <a:gs pos="50000">
                <a:srgbClr val="ffffff"/>
              </a:gs>
              <a:gs pos="100000">
                <a:srgbClr val="ff021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894800" y="2738520"/>
            <a:ext cx="507960" cy="482400"/>
          </a:xfrm>
          <a:prstGeom prst="can">
            <a:avLst>
              <a:gd name="adj" fmla="val 16666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78680" y="6291360"/>
            <a:ext cx="28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5      5/11      11/5      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6"/>
          <a:stretch/>
        </p:blipFill>
        <p:spPr>
          <a:xfrm>
            <a:off x="8545680" y="703440"/>
            <a:ext cx="1081080" cy="135720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181480" y="163836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9512280" y="3149640"/>
            <a:ext cx="39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43040" y="889200"/>
            <a:ext cx="3517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nsinv6/7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9086760" y="525600"/>
            <a:ext cx="819360" cy="1028520"/>
          </a:xfrm>
          <a:prstGeom prst="rect">
            <a:avLst/>
          </a:prstGeom>
          <a:ln w="0">
            <a:noFill/>
          </a:ln>
        </p:spPr>
      </p:pic>
      <p:pic>
        <p:nvPicPr>
          <p:cNvPr id="1016" name="" descr=""/>
          <p:cNvPicPr/>
          <p:nvPr/>
        </p:nvPicPr>
        <p:blipFill>
          <a:blip r:embed="rId2"/>
          <a:stretch/>
        </p:blipFill>
        <p:spPr>
          <a:xfrm>
            <a:off x="3778200" y="1379520"/>
            <a:ext cx="2894040" cy="493704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3"/>
          <a:stretch/>
        </p:blipFill>
        <p:spPr>
          <a:xfrm>
            <a:off x="0" y="14605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914400" y="1600200"/>
            <a:ext cx="393840" cy="190440"/>
          </a:xfrm>
          <a:prstGeom prst="line">
            <a:avLst/>
          </a:prstGeom>
          <a:ln w="9360">
            <a:solidFill>
              <a:srgbClr val="ff07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2641680"/>
            <a:ext cx="393840" cy="190440"/>
          </a:xfrm>
          <a:prstGeom prst="line">
            <a:avLst/>
          </a:prstGeom>
          <a:ln w="9360">
            <a:solidFill>
              <a:srgbClr val="ff07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73120" y="2451240"/>
            <a:ext cx="292320" cy="13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1752480" y="1790640"/>
            <a:ext cx="139680" cy="29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012080" y="5867280"/>
            <a:ext cx="430200" cy="24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12080" y="5767560"/>
            <a:ext cx="430200" cy="169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012080" y="5524560"/>
            <a:ext cx="43020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012080" y="5307120"/>
            <a:ext cx="430200" cy="33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12080" y="4835520"/>
            <a:ext cx="430200" cy="57312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012080" y="4540320"/>
            <a:ext cx="43020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12080" y="4175280"/>
            <a:ext cx="430200" cy="48564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012080" y="4014720"/>
            <a:ext cx="430200" cy="257400"/>
          </a:xfrm>
          <a:prstGeom prst="can">
            <a:avLst>
              <a:gd name="adj" fmla="val 22402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012080" y="3852720"/>
            <a:ext cx="430200" cy="2444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012080" y="3687840"/>
            <a:ext cx="430200" cy="23328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012080" y="3451320"/>
            <a:ext cx="430200" cy="2761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012080" y="3249720"/>
            <a:ext cx="430200" cy="287280"/>
          </a:xfrm>
          <a:prstGeom prst="can">
            <a:avLst>
              <a:gd name="adj" fmla="val 25287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078680" y="2986200"/>
            <a:ext cx="297000" cy="315720"/>
          </a:xfrm>
          <a:prstGeom prst="can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12080" y="2897280"/>
            <a:ext cx="430200" cy="1792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012080" y="2709720"/>
            <a:ext cx="430200" cy="3049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012080" y="2448000"/>
            <a:ext cx="430200" cy="330120"/>
          </a:xfrm>
          <a:prstGeom prst="can">
            <a:avLst>
              <a:gd name="adj" fmla="val 1253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012080" y="2413080"/>
            <a:ext cx="430200" cy="1094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012080" y="2070000"/>
            <a:ext cx="430200" cy="3859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012080" y="1839960"/>
            <a:ext cx="430200" cy="414360"/>
          </a:xfrm>
          <a:prstGeom prst="can">
            <a:avLst>
              <a:gd name="adj" fmla="val 7106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012080" y="1585800"/>
            <a:ext cx="430200" cy="320760"/>
          </a:xfrm>
          <a:prstGeom prst="can">
            <a:avLst>
              <a:gd name="adj" fmla="val 1133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012080" y="1612800"/>
            <a:ext cx="430200" cy="21456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012080" y="1477800"/>
            <a:ext cx="430200" cy="17316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8483760" y="5799240"/>
            <a:ext cx="430200" cy="352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8483760" y="5611680"/>
            <a:ext cx="430200" cy="284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83760" y="5389560"/>
            <a:ext cx="43020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483760" y="5186520"/>
            <a:ext cx="43020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8483760" y="4921200"/>
            <a:ext cx="428400" cy="36360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8483760" y="4365720"/>
            <a:ext cx="43020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8483760" y="3963960"/>
            <a:ext cx="428400" cy="49212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8483760" y="3662280"/>
            <a:ext cx="430200" cy="533520"/>
          </a:xfrm>
          <a:prstGeom prst="can">
            <a:avLst>
              <a:gd name="adj" fmla="val 10712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8485200" y="2390760"/>
            <a:ext cx="428760" cy="506520"/>
          </a:xfrm>
          <a:prstGeom prst="can">
            <a:avLst>
              <a:gd name="adj" fmla="val 22606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8550360" y="2143080"/>
            <a:ext cx="296640" cy="317520"/>
          </a:xfrm>
          <a:prstGeom prst="can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483760" y="2093760"/>
            <a:ext cx="430200" cy="1796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8483760" y="1946160"/>
            <a:ext cx="430200" cy="1825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483760" y="1663560"/>
            <a:ext cx="430200" cy="328680"/>
          </a:xfrm>
          <a:prstGeom prst="can">
            <a:avLst>
              <a:gd name="adj" fmla="val 12537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483760" y="1623960"/>
            <a:ext cx="430200" cy="201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483760" y="1266840"/>
            <a:ext cx="430200" cy="4111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483760" y="946080"/>
            <a:ext cx="430200" cy="36036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483760" y="843120"/>
            <a:ext cx="430200" cy="17136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545240" y="5867280"/>
            <a:ext cx="430200" cy="24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545240" y="5767560"/>
            <a:ext cx="430200" cy="1695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47520" bIns="47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545240" y="5524560"/>
            <a:ext cx="43020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45240" y="5307120"/>
            <a:ext cx="430200" cy="33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545240" y="4835520"/>
            <a:ext cx="430200" cy="57312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545240" y="4540320"/>
            <a:ext cx="43020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545240" y="4175280"/>
            <a:ext cx="430200" cy="485640"/>
          </a:xfrm>
          <a:prstGeom prst="can">
            <a:avLst>
              <a:gd name="adj" fmla="val 17912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545240" y="4014720"/>
            <a:ext cx="430200" cy="257400"/>
          </a:xfrm>
          <a:prstGeom prst="can">
            <a:avLst>
              <a:gd name="adj" fmla="val 22402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5240" y="3852720"/>
            <a:ext cx="430200" cy="24444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545240" y="3687840"/>
            <a:ext cx="430200" cy="23328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545240" y="3451320"/>
            <a:ext cx="430200" cy="276120"/>
          </a:xfrm>
          <a:prstGeom prst="can">
            <a:avLst>
              <a:gd name="adj" fmla="val 15583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45240" y="3249720"/>
            <a:ext cx="430200" cy="287280"/>
          </a:xfrm>
          <a:prstGeom prst="can">
            <a:avLst>
              <a:gd name="adj" fmla="val 25287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612200" y="2986200"/>
            <a:ext cx="296640" cy="315720"/>
          </a:xfrm>
          <a:prstGeom prst="can">
            <a:avLst>
              <a:gd name="adj" fmla="val 250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545240" y="2897280"/>
            <a:ext cx="430200" cy="17928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45240" y="2709720"/>
            <a:ext cx="430200" cy="3049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8483760" y="2766240"/>
            <a:ext cx="430200" cy="330120"/>
          </a:xfrm>
          <a:prstGeom prst="can">
            <a:avLst>
              <a:gd name="adj" fmla="val 1253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8483760" y="3022560"/>
            <a:ext cx="430200" cy="1094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29520" bIns="295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483760" y="3089160"/>
            <a:ext cx="430200" cy="3859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8483760" y="3290040"/>
            <a:ext cx="430200" cy="414360"/>
          </a:xfrm>
          <a:prstGeom prst="can">
            <a:avLst>
              <a:gd name="adj" fmla="val 7106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V="1">
            <a:off x="8483760" y="3637800"/>
            <a:ext cx="430200" cy="104760"/>
          </a:xfrm>
          <a:prstGeom prst="can">
            <a:avLst>
              <a:gd name="adj" fmla="val 1133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545240" y="2590920"/>
            <a:ext cx="430200" cy="21420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0706c0"/>
              </a:gs>
              <a:gs pos="50000">
                <a:srgbClr val="ffffff"/>
              </a:gs>
              <a:gs pos="100000">
                <a:srgbClr val="0706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545240" y="2455920"/>
            <a:ext cx="430200" cy="17316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05caff"/>
              </a:gs>
              <a:gs pos="50000">
                <a:srgbClr val="ffffff"/>
              </a:gs>
              <a:gs pos="100000">
                <a:srgbClr val="05ca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9056520" y="5799240"/>
            <a:ext cx="430560" cy="352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056520" y="5611680"/>
            <a:ext cx="430560" cy="284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9053640" y="5389560"/>
            <a:ext cx="430200" cy="3078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9053640" y="5186520"/>
            <a:ext cx="43020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9056520" y="4921200"/>
            <a:ext cx="428760" cy="363600"/>
          </a:xfrm>
          <a:prstGeom prst="can">
            <a:avLst>
              <a:gd name="adj" fmla="val 11111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053640" y="4365720"/>
            <a:ext cx="430200" cy="604800"/>
          </a:xfrm>
          <a:prstGeom prst="can">
            <a:avLst>
              <a:gd name="adj" fmla="val 963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9056520" y="3963960"/>
            <a:ext cx="428760" cy="492120"/>
          </a:xfrm>
          <a:prstGeom prst="can">
            <a:avLst>
              <a:gd name="adj" fmla="val 17791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9053640" y="3662280"/>
            <a:ext cx="430200" cy="533520"/>
          </a:xfrm>
          <a:prstGeom prst="can">
            <a:avLst>
              <a:gd name="adj" fmla="val 17199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9056520" y="3305160"/>
            <a:ext cx="428760" cy="506520"/>
          </a:xfrm>
          <a:prstGeom prst="can">
            <a:avLst>
              <a:gd name="adj" fmla="val 22606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9115560" y="3057480"/>
            <a:ext cx="296640" cy="317520"/>
          </a:xfrm>
          <a:prstGeom prst="can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053640" y="3008160"/>
            <a:ext cx="430200" cy="17964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9053640" y="2860560"/>
            <a:ext cx="430200" cy="18252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9053640" y="2577960"/>
            <a:ext cx="430200" cy="328680"/>
          </a:xfrm>
          <a:prstGeom prst="can">
            <a:avLst>
              <a:gd name="adj" fmla="val 12537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056520" y="2538360"/>
            <a:ext cx="430560" cy="201600"/>
          </a:xfrm>
          <a:prstGeom prst="can">
            <a:avLst>
              <a:gd name="adj" fmla="val 12814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056520" y="2181240"/>
            <a:ext cx="430560" cy="411120"/>
          </a:xfrm>
          <a:prstGeom prst="can">
            <a:avLst>
              <a:gd name="adj" fmla="val 13675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056520" y="1860480"/>
            <a:ext cx="430560" cy="360360"/>
          </a:xfrm>
          <a:prstGeom prst="can">
            <a:avLst>
              <a:gd name="adj" fmla="val 12500"/>
            </a:avLst>
          </a:prstGeom>
          <a:gradFill rotWithShape="0">
            <a:gsLst>
              <a:gs pos="0">
                <a:srgbClr val="985807"/>
              </a:gs>
              <a:gs pos="50000">
                <a:srgbClr val="ffffff"/>
              </a:gs>
              <a:gs pos="100000">
                <a:srgbClr val="98580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9056520" y="1757520"/>
            <a:ext cx="430560" cy="171360"/>
          </a:xfrm>
          <a:prstGeom prst="can">
            <a:avLst>
              <a:gd name="adj" fmla="val 31847"/>
            </a:avLst>
          </a:prstGeom>
          <a:gradFill rotWithShape="0">
            <a:gsLst>
              <a:gs pos="0">
                <a:srgbClr val="ff960e"/>
              </a:gs>
              <a:gs pos="50000">
                <a:srgbClr val="ffffff"/>
              </a:gs>
              <a:gs pos="100000">
                <a:srgbClr val="ff960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80160" y="2755800"/>
            <a:ext cx="2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730920" y="1828800"/>
            <a:ext cx="2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9524880" y="3657600"/>
            <a:ext cx="254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391520" y="61246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6  6del    7/6 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2450880" y="538920"/>
            <a:ext cx="3987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socromosoma 21 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105" name="" descr=""/>
          <p:cNvPicPr/>
          <p:nvPr/>
        </p:nvPicPr>
        <p:blipFill>
          <a:blip r:embed="rId1"/>
          <a:stretch/>
        </p:blipFill>
        <p:spPr>
          <a:xfrm>
            <a:off x="3936960" y="1049400"/>
            <a:ext cx="4089600" cy="565632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2"/>
          <a:stretch/>
        </p:blipFill>
        <p:spPr>
          <a:xfrm>
            <a:off x="0" y="1036800"/>
            <a:ext cx="4051440" cy="565596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8318520" y="5853240"/>
            <a:ext cx="463680" cy="468360"/>
          </a:xfrm>
          <a:prstGeom prst="can">
            <a:avLst>
              <a:gd name="adj" fmla="val 1309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8318520" y="5473800"/>
            <a:ext cx="463680" cy="4492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8318520" y="5396040"/>
            <a:ext cx="463680" cy="128520"/>
          </a:xfrm>
          <a:prstGeom prst="can">
            <a:avLst>
              <a:gd name="adj" fmla="val 3831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8388360" y="5189400"/>
            <a:ext cx="318960" cy="239760"/>
          </a:xfrm>
          <a:prstGeom prst="can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8313840" y="4998960"/>
            <a:ext cx="463320" cy="244440"/>
          </a:xfrm>
          <a:prstGeom prst="can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8315280" y="4878360"/>
            <a:ext cx="463680" cy="235080"/>
          </a:xfrm>
          <a:prstGeom prst="can">
            <a:avLst>
              <a:gd name="adj" fmla="val 45689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5400000">
            <a:off x="8467200" y="4636800"/>
            <a:ext cx="162000" cy="46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50280" y="4576680"/>
            <a:ext cx="192240" cy="155520"/>
          </a:xfrm>
          <a:prstGeom prst="ellipse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8513640" y="4665600"/>
            <a:ext cx="66960" cy="128520"/>
          </a:xfrm>
          <a:prstGeom prst="rect">
            <a:avLst/>
          </a:prstGeom>
          <a:solidFill>
            <a:srgbClr val="323232"/>
          </a:solidFill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6"/>
          <a:stretch/>
        </p:blipFill>
        <p:spPr>
          <a:xfrm>
            <a:off x="8718480" y="690480"/>
            <a:ext cx="1009800" cy="126864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8921880" y="5827680"/>
            <a:ext cx="463320" cy="468360"/>
          </a:xfrm>
          <a:prstGeom prst="can">
            <a:avLst>
              <a:gd name="adj" fmla="val 1309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8921880" y="5448240"/>
            <a:ext cx="463320" cy="4492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8921880" y="5370480"/>
            <a:ext cx="463320" cy="128520"/>
          </a:xfrm>
          <a:prstGeom prst="can">
            <a:avLst>
              <a:gd name="adj" fmla="val 3831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994600" y="5164200"/>
            <a:ext cx="319320" cy="239760"/>
          </a:xfrm>
          <a:prstGeom prst="can">
            <a:avLst>
              <a:gd name="adj" fmla="val 25000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8993160" y="4871880"/>
            <a:ext cx="318960" cy="239760"/>
          </a:xfrm>
          <a:prstGeom prst="can">
            <a:avLst>
              <a:gd name="adj" fmla="val 25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921880" y="4384800"/>
            <a:ext cx="463320" cy="449280"/>
          </a:xfrm>
          <a:prstGeom prst="can">
            <a:avLst>
              <a:gd name="adj" fmla="val 9120"/>
            </a:avLst>
          </a:prstGeom>
          <a:gradFill rotWithShape="0">
            <a:gsLst>
              <a:gs pos="0">
                <a:srgbClr val="008000"/>
              </a:gs>
              <a:gs pos="50000">
                <a:srgbClr val="ffffff"/>
              </a:gs>
              <a:gs pos="100000">
                <a:srgbClr val="008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8080" rIns="118080" tIns="59040" bIns="59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8921880" y="3986280"/>
            <a:ext cx="463320" cy="468360"/>
          </a:xfrm>
          <a:prstGeom prst="can">
            <a:avLst>
              <a:gd name="adj" fmla="val 13097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8921880" y="4782960"/>
            <a:ext cx="463320" cy="128880"/>
          </a:xfrm>
          <a:prstGeom prst="can">
            <a:avLst>
              <a:gd name="adj" fmla="val 19750"/>
            </a:avLst>
          </a:prstGeom>
          <a:gradFill rotWithShape="0">
            <a:gsLst>
              <a:gs pos="0">
                <a:srgbClr val="00ff00"/>
              </a:gs>
              <a:gs pos="50000">
                <a:srgbClr val="ffffff"/>
              </a:gs>
              <a:gs pos="100000">
                <a:srgbClr val="00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910720" y="5049720"/>
            <a:ext cx="463320" cy="173160"/>
          </a:xfrm>
          <a:prstGeom prst="can">
            <a:avLst>
              <a:gd name="adj" fmla="val 17912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7720" rIns="117720" tIns="58680" bIns="58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8337960" y="630252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1  isodic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2806560" y="609480"/>
            <a:ext cx="4292640" cy="419112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58440" y="4392000"/>
            <a:ext cx="8102520" cy="24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l materiale didattico e’ presente in rete :</a:t>
            </a:r>
            <a:br>
              <a:rPr sz="2400"/>
            </a:br>
            <a:r>
              <a:rPr b="1" lang="en-US" sz="24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http://www.biologia.uniba.it/DIGEMI/Didattica.htm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no presenti anche i file PDF degli articoli necessa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r la preparazione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73320" y="1219320"/>
            <a:ext cx="6108840" cy="5638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497240"/>
            <a:ext cx="3124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248400" y="3181320"/>
            <a:ext cx="283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Otti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ma….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42480" y="525600"/>
            <a:ext cx="676080" cy="84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9240" y="597600"/>
            <a:ext cx="577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625760"/>
            <a:ext cx="3962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600" spc="-1" strike="noStrike">
                <a:solidFill>
                  <a:srgbClr val="ff0b02"/>
                </a:solidFill>
                <a:latin typeface="Comic Sans MS"/>
              </a:rPr>
              <a:t>Puo’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b02"/>
                </a:solidFill>
                <a:latin typeface="Comic Sans MS"/>
              </a:rPr>
              <a:t>essere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0b02"/>
                </a:solidFill>
                <a:latin typeface="Comic Sans MS"/>
              </a:rPr>
              <a:t>anche cosi’...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67160" y="1219320"/>
            <a:ext cx="59436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2440" y="3809880"/>
            <a:ext cx="354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non ben riconoscibili, difficili anche 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b02"/>
                </a:solidFill>
                <a:latin typeface="Comic Sans MS"/>
              </a:rPr>
              <a:t>Scartare!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b02"/>
                </a:solidFill>
                <a:latin typeface="Comic Sans MS"/>
              </a:rPr>
              <a:t>(potend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204480" y="423720"/>
            <a:ext cx="701640" cy="87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54560" y="1295280"/>
            <a:ext cx="6026040" cy="5562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270080"/>
            <a:ext cx="379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.. O cosi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9000" y="623160"/>
            <a:ext cx="528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28520" y="2425680"/>
            <a:ext cx="321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Troppo contra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o’ si puo’ us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er contar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cartare! </a:t>
            </a:r>
            <a:r>
              <a:rPr b="0" lang="en-US" sz="2400" spc="-1" strike="noStrike">
                <a:solidFill>
                  <a:srgbClr val="ff0b02"/>
                </a:solidFill>
                <a:latin typeface="Comic Sans MS"/>
              </a:rPr>
              <a:t>(pote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9034560" y="525600"/>
            <a:ext cx="68400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210200" y="1549440"/>
            <a:ext cx="5668920" cy="5232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666520" y="675000"/>
            <a:ext cx="511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82440" y="1219320"/>
            <a:ext cx="404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b02"/>
                </a:solidFill>
                <a:latin typeface="Comic Sans MS"/>
              </a:rPr>
              <a:t>Suf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840" y="2152800"/>
            <a:ext cx="402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cont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Puo’ essere utile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 i cromoso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non sovrapp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988480" y="474840"/>
            <a:ext cx="917640" cy="114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879720" y="1295280"/>
            <a:ext cx="5943600" cy="5486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440" y="1219320"/>
            <a:ext cx="36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Discre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720" y="2362320"/>
            <a:ext cx="3012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analizz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38320" y="712080"/>
            <a:ext cx="544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55080" y="525600"/>
            <a:ext cx="663480" cy="83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35520" y="1320840"/>
            <a:ext cx="59436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749520"/>
            <a:ext cx="52005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b02"/>
                </a:solidFill>
                <a:latin typeface="Comic Sans MS"/>
              </a:rPr>
              <a:t>Selezione delle metafasi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"/>
          <p:cNvSpPr/>
          <p:nvPr/>
        </p:nvSpPr>
        <p:spPr>
          <a:xfrm>
            <a:off x="82440" y="1219320"/>
            <a:ext cx="363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9160" y="2362320"/>
            <a:ext cx="3012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b02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i pos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ontare, e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e ci sono alc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sovrapposizion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la morfologia 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cromosomi 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b02"/>
                </a:solidFill>
                <a:latin typeface="Comic Sans MS"/>
              </a:rPr>
              <a:t>bu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34560" y="525600"/>
            <a:ext cx="684000" cy="85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4T08:54:06Z</dcterms:created>
  <dc:creator>Palumbo</dc:creator>
  <dc:description/>
  <dc:language>en-US</dc:language>
  <cp:lastModifiedBy>Mariano Rocchi</cp:lastModifiedBy>
  <cp:lastPrinted>2003-05-28T11:36:27Z</cp:lastPrinted>
  <dcterms:modified xsi:type="dcterms:W3CDTF">2008-03-20T14:39:03Z</dcterms:modified>
  <cp:revision>276</cp:revision>
  <dc:subject/>
  <dc:title>Procedimento sperimentale di Mendel</dc:title>
</cp:coreProperties>
</file>