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jpeg" ContentType="image/jpeg"/>
  <Override PartName="/ppt/media/image1.pct" ContentType="image/x-pict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333440" y="152280"/>
            <a:ext cx="828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M Sc.Biosanitarie GeneticaIII (Diagn.Molec.)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7560" cy="1049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6920" y="60804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8440" y="1459080"/>
            <a:ext cx="7856640" cy="40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e090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armela"/>
              </a:rPr>
              <a:t>Setting 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de090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armela"/>
              <a:ea typeface="Carmel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e090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armela"/>
              </a:rPr>
              <a:t>Primer Sonda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de090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armela"/>
              <a:ea typeface="Carme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39960" y="1660680"/>
            <a:ext cx="8966160" cy="5197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07560" y="401760"/>
            <a:ext cx="6781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lot di fluorescenza raccolta nel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39960" y="1639800"/>
            <a:ext cx="8966160" cy="5218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48840" y="419040"/>
            <a:ext cx="6781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lot di fluorescenza raccolta nel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17751" r="650" b="-2509"/>
          <a:stretch/>
        </p:blipFill>
        <p:spPr>
          <a:xfrm>
            <a:off x="950760" y="1792440"/>
            <a:ext cx="8955360" cy="5232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06120" y="596880"/>
            <a:ext cx="6781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lot di fluorescenza raccolta nel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4120" y="1514520"/>
            <a:ext cx="92376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llo studio di un grafico di PCR vengono definiti tre paramet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linea di base della fluorescenza (</a:t>
            </a:r>
            <a:r>
              <a:rPr b="1" lang="it-IT" sz="2400" spc="-1" strike="noStrike">
                <a:solidFill>
                  <a:srgbClr val="de0909"/>
                </a:solidFill>
                <a:latin typeface="Arial"/>
              </a:rPr>
              <a:t>Baselin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), che indica il valore sopra al quale l’accumulo dell’amplificato determina un aumento significativo di fluoresc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linea soglia (</a:t>
            </a:r>
            <a:r>
              <a:rPr b="1" lang="it-IT" sz="2400" spc="-1" strike="noStrike">
                <a:solidFill>
                  <a:srgbClr val="de0909"/>
                </a:solidFill>
                <a:latin typeface="Arial"/>
              </a:rPr>
              <a:t>Threshold lin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), una linea che interseca le curve di tutti i campioni nella fase espon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ciclo soglia (</a:t>
            </a:r>
            <a:r>
              <a:rPr b="1" lang="it-IT" sz="2400" spc="-1" strike="noStrike">
                <a:solidFill>
                  <a:srgbClr val="de0909"/>
                </a:solidFill>
                <a:latin typeface="Arial"/>
              </a:rPr>
              <a:t>Threshold cycl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), specifico per ogni campione, identifica il valore del ciclo di PCR in cui la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urva in fase esponenziale interseca la linea so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0760" y="78120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NALISI DEI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68560" y="725400"/>
            <a:ext cx="873756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27092" r="0" b="10758"/>
          <a:stretch/>
        </p:blipFill>
        <p:spPr>
          <a:xfrm>
            <a:off x="279360" y="1255680"/>
            <a:ext cx="9512280" cy="3635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41400" y="5450040"/>
            <a:ext cx="82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t = ciclo al quale la curva di amplificazione interseca la linea del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57240" y="1154160"/>
            <a:ext cx="83469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70000" y="2622600"/>
            <a:ext cx="779616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Esiste una relazione lineare tra il suo valore e la quantità iniziale di D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37160" y="1160640"/>
            <a:ext cx="74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l ciclo soglia (Ct) : indice preci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3080" y="1631880"/>
            <a:ext cx="779796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Esistono due modi di quantizzazione: </a:t>
            </a:r>
            <a:r>
              <a:rPr b="0" lang="it-IT" sz="5400" spc="-1" strike="noStrike">
                <a:solidFill>
                  <a:srgbClr val="de0909"/>
                </a:solidFill>
                <a:latin typeface="Arial"/>
              </a:rPr>
              <a:t>assoluta 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5400" spc="-1" strike="noStrike">
                <a:solidFill>
                  <a:srgbClr val="de0909"/>
                </a:solidFill>
                <a:latin typeface="Arial"/>
              </a:rPr>
              <a:t> relativ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84960" y="766800"/>
            <a:ext cx="54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Quantizzazione assolu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39200" y="1663560"/>
            <a:ext cx="8915400" cy="46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-291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dati con valori di quantita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necesario uno standard la cui concentrazione sia nota in maniera assol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ogna allestire una curva standard utilizzando diliuzioni seriali dello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mpioni da testare sono quantizzati interpolando il valore di Ct otten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9800" y="2668680"/>
            <a:ext cx="91328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er settare un sistema di amplificazione in real time, è importante stabilire le giuste concentrazioni dei primer e della son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9360" y="1047600"/>
            <a:ext cx="91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tandardizzazione di un siste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alTime PC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3840" y="5089680"/>
            <a:ext cx="53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ntrazione primer: 50 - 90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ntrazione sonda: 100 - 25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28600" y="1455840"/>
            <a:ext cx="7772400" cy="5099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4520" y="639720"/>
            <a:ext cx="54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Quantizzazione assolu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81240" y="1650960"/>
            <a:ext cx="342576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63880" y="3759120"/>
            <a:ext cx="2751120" cy="0"/>
          </a:xfrm>
          <a:prstGeom prst="line">
            <a:avLst/>
          </a:prstGeom>
          <a:ln w="28440">
            <a:solidFill>
              <a:srgbClr val="b9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2040" y="3772080"/>
            <a:ext cx="0" cy="1981080"/>
          </a:xfrm>
          <a:prstGeom prst="line">
            <a:avLst/>
          </a:prstGeom>
          <a:ln w="28440">
            <a:solidFill>
              <a:srgbClr val="b9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76440" y="1663560"/>
            <a:ext cx="142920" cy="12708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0520" y="3670200"/>
            <a:ext cx="142920" cy="127080"/>
          </a:xfrm>
          <a:prstGeom prst="diamond">
            <a:avLst/>
          </a:prstGeom>
          <a:solidFill>
            <a:srgbClr val="b90808"/>
          </a:solidFill>
          <a:ln w="9360">
            <a:solidFill>
              <a:srgbClr val="b9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6440" y="1892160"/>
            <a:ext cx="142920" cy="127080"/>
          </a:xfrm>
          <a:prstGeom prst="diamond">
            <a:avLst/>
          </a:prstGeom>
          <a:solidFill>
            <a:srgbClr val="b90808"/>
          </a:solidFill>
          <a:ln w="9360">
            <a:solidFill>
              <a:srgbClr val="b9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48080" y="157644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48800" y="18050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p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98360" y="995400"/>
            <a:ext cx="52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Quantizzazione rel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53680" y="1892160"/>
            <a:ext cx="8915400" cy="46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-291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prime una comparazione di quantita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 e’ necesario uno standard a  concentrazione no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 e’ necessario allestire una curva stand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ne utilizzata per studi di espressione ge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57240" y="1217520"/>
            <a:ext cx="8346960" cy="5133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80320" y="1616040"/>
            <a:ext cx="5020920" cy="459720"/>
          </a:xfrm>
          <a:prstGeom prst="rect">
            <a:avLst/>
          </a:prstGeom>
          <a:solidFill>
            <a:srgbClr val="e9e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Arial"/>
              </a:rPr>
              <a:t>Teoria della Quantizzazione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83360" y="4618080"/>
            <a:ext cx="5569560" cy="398880"/>
          </a:xfrm>
          <a:prstGeom prst="rect">
            <a:avLst/>
          </a:prstGeom>
          <a:solidFill>
            <a:srgbClr val="e9e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99"/>
                </a:solidFill>
                <a:latin typeface="Arial"/>
              </a:rPr>
              <a:t>E’ la misura del rapporto tra un gene ed un a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-1327" t="2167" r="103" b="9334"/>
          <a:stretch/>
        </p:blipFill>
        <p:spPr>
          <a:xfrm>
            <a:off x="495360" y="1787400"/>
            <a:ext cx="8913600" cy="507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80000" y="2173320"/>
            <a:ext cx="2925360" cy="459720"/>
          </a:xfrm>
          <a:prstGeom prst="rect">
            <a:avLst/>
          </a:prstGeom>
          <a:solidFill>
            <a:srgbClr val="e9e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Arial"/>
              </a:rPr>
              <a:t>è un valore co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6880" y="647640"/>
            <a:ext cx="4679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Δ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t gene A - Ct endogen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58760" y="1724040"/>
            <a:ext cx="8347320" cy="5133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78840" y="660240"/>
            <a:ext cx="4679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Δ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t gene A - Ct endogen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52360" y="3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7800" y="722160"/>
            <a:ext cx="937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zzazione relativa: comparazione di risultati tra diversi tratta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62120" y="202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55880"/>
            <a:ext cx="990612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iascun campione da analizzare bisogna normalizzare il Ct del target con quello di un gene referente che ha una espressione di tipo costitutivo      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sogna confrontare i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 di ciascun campione con quello di un controllo del trattamento detto calibratore 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sogna convertire i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 in un rapporto calcolando il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1080" y="738360"/>
            <a:ext cx="8385480" cy="60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terminazione 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e indiretto della quantità di RN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lcolo Δ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e del rapporto che esiste tra la quantità del g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i confronti dell’endo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lcolo ΔΔCt e 2</a:t>
            </a:r>
            <a:r>
              <a:rPr b="1" lang="it-IT" sz="2800" spc="-1" strike="noStrike" baseline="30000">
                <a:solidFill>
                  <a:srgbClr val="000000"/>
                </a:solidFill>
                <a:latin typeface="Arial"/>
              </a:rPr>
              <a:t>-ΔΔ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parazione di ciascun ΔCt al valore del ΔCt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mpione preso come riferi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e del rapporto che esiste tra la quantità del g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i confronti del calibr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960" y="62244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Quantizzazione rel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53080" y="2260440"/>
            <a:ext cx="303120" cy="393840"/>
          </a:xfrm>
          <a:prstGeom prst="downArrow">
            <a:avLst>
              <a:gd name="adj1" fmla="val 13639"/>
              <a:gd name="adj2" fmla="val 45054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67120" y="4064040"/>
            <a:ext cx="303480" cy="393840"/>
          </a:xfrm>
          <a:prstGeom prst="downArrow">
            <a:avLst>
              <a:gd name="adj1" fmla="val 13639"/>
              <a:gd name="adj2" fmla="val 45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84280" y="2467080"/>
            <a:ext cx="901548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Quantizzazione mediante real time PCR dei livelli di espressione genica di MCP-1 in linee di cellule tubulari prossimali umane (HK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) sottoposte a vari stimo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640" y="1471680"/>
            <a:ext cx="9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izzazione relativa: esempio pra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34680" y="107784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trollo assenza di DNA geno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5080" y="1895400"/>
            <a:ext cx="9424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effettua una PCR (classica o real time) su un campione di cDNA con primer che amplificano solo DNA genomico (sequenze introniche, promotrici o regolatori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ci sono contaminazioni da DNA genomico, non si dovrebbe avere amplific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si ottiene amplificazione, si rende necessario prima di effettuare la real time, un trattamento con DNAsi per eliminare il DNA geno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64160" y="743040"/>
            <a:ext cx="2777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58760" y="1340280"/>
            <a:ext cx="7821360" cy="5219280"/>
            <a:chOff x="1058760" y="1340280"/>
            <a:chExt cx="7821360" cy="5219280"/>
          </a:xfrm>
        </p:grpSpPr>
        <p:grpSp>
          <p:nvGrpSpPr>
            <p:cNvPr id="143" name=""/>
            <p:cNvGrpSpPr/>
            <p:nvPr/>
          </p:nvGrpSpPr>
          <p:grpSpPr>
            <a:xfrm>
              <a:off x="5377680" y="1350000"/>
              <a:ext cx="1186560" cy="5150880"/>
              <a:chOff x="5377680" y="1350000"/>
              <a:chExt cx="1186560" cy="5150880"/>
            </a:xfrm>
          </p:grpSpPr>
          <p:sp>
            <p:nvSpPr>
              <p:cNvPr id="144" name=""/>
              <p:cNvSpPr/>
              <p:nvPr/>
            </p:nvSpPr>
            <p:spPr>
              <a:xfrm>
                <a:off x="5377680" y="1350000"/>
                <a:ext cx="1186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Mean 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01040" y="192636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4.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01040" y="239292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4.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01040" y="286128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1.4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01040" y="33278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1.9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01040" y="37962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0.3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01040" y="426312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1.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01040" y="473112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0.1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01040" y="51980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0.8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01040" y="56664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1.5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01040" y="613476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3.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823880" y="1340280"/>
              <a:ext cx="594360" cy="5169960"/>
              <a:chOff x="7823880" y="1340280"/>
              <a:chExt cx="594360" cy="5169960"/>
            </a:xfrm>
          </p:grpSpPr>
          <p:sp>
            <p:nvSpPr>
              <p:cNvPr id="156" name=""/>
              <p:cNvSpPr/>
              <p:nvPr/>
            </p:nvSpPr>
            <p:spPr>
              <a:xfrm>
                <a:off x="7824600" y="134028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S.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23880" y="191664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823880" y="238464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823880" y="285480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23880" y="332460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2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823880" y="379440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823880" y="426420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1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23880" y="473436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823880" y="520416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23880" y="567396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23880" y="614412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019280" y="1376280"/>
              <a:ext cx="80640" cy="5183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452240" y="1367280"/>
              <a:ext cx="2135880" cy="5112720"/>
              <a:chOff x="1452240" y="1367280"/>
              <a:chExt cx="2135880" cy="5112720"/>
            </a:xfrm>
          </p:grpSpPr>
          <p:sp>
            <p:nvSpPr>
              <p:cNvPr id="169" name=""/>
              <p:cNvSpPr/>
              <p:nvPr/>
            </p:nvSpPr>
            <p:spPr>
              <a:xfrm>
                <a:off x="1454040" y="1367280"/>
                <a:ext cx="1253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Samp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52240" y="188172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1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52240" y="236268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2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52240" y="283104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3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52240" y="329940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4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52240" y="376776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5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52240" y="423576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6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52240" y="470592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7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52240" y="517428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8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52240" y="564408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9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2960" y="6113880"/>
                <a:ext cx="213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10 HK2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058760" y="601200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58760" y="554832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58760" y="508644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58760" y="462276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58760" y="415944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58760" y="369720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58760" y="323388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8760" y="277200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8760" y="230832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8760" y="184644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58760" y="6540480"/>
              <a:ext cx="782136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81960" y="803160"/>
            <a:ext cx="508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tandardizza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ncentrazione pri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1360" y="2755800"/>
            <a:ext cx="97347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’ necessario allestire reazioni in cui ciasc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imer è presente alla concentrazione finale 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50 300 o 900nM (usando la sonda alla massima concentrazi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300320" y="1352520"/>
            <a:ext cx="7821000" cy="5213520"/>
            <a:chOff x="1300320" y="1352520"/>
            <a:chExt cx="7821000" cy="5213520"/>
          </a:xfrm>
        </p:grpSpPr>
        <p:grpSp>
          <p:nvGrpSpPr>
            <p:cNvPr id="192" name=""/>
            <p:cNvGrpSpPr/>
            <p:nvPr/>
          </p:nvGrpSpPr>
          <p:grpSpPr>
            <a:xfrm>
              <a:off x="5797080" y="1470240"/>
              <a:ext cx="1186560" cy="5095080"/>
              <a:chOff x="5797080" y="1470240"/>
              <a:chExt cx="1186560" cy="5095080"/>
            </a:xfrm>
          </p:grpSpPr>
          <p:sp>
            <p:nvSpPr>
              <p:cNvPr id="193" name=""/>
              <p:cNvSpPr/>
              <p:nvPr/>
            </p:nvSpPr>
            <p:spPr>
              <a:xfrm>
                <a:off x="5797080" y="1470240"/>
                <a:ext cx="1186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Mean 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00640" y="18842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7.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00640" y="236376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6.9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00640" y="284328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2.5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00640" y="33224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3.8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00640" y="380196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6.8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00640" y="428148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2.4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00640" y="47610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4.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0640" y="524016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1.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200640" y="571968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3.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00640" y="61992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4.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945920" y="1470240"/>
              <a:ext cx="594360" cy="5095080"/>
              <a:chOff x="7945920" y="1470240"/>
              <a:chExt cx="594360" cy="5095080"/>
            </a:xfrm>
          </p:grpSpPr>
          <p:sp>
            <p:nvSpPr>
              <p:cNvPr id="205" name=""/>
              <p:cNvSpPr/>
              <p:nvPr/>
            </p:nvSpPr>
            <p:spPr>
              <a:xfrm>
                <a:off x="7945920" y="147024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S.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46640" y="188424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2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46640" y="236376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946640" y="284328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0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46640" y="332244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0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46640" y="380196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46640" y="428148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46640" y="476100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46640" y="524016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46640" y="571968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46640" y="6199200"/>
                <a:ext cx="59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0.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372440" y="1352520"/>
              <a:ext cx="80640" cy="5213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693800" y="1413000"/>
              <a:ext cx="2135880" cy="5100120"/>
              <a:chOff x="1693800" y="1413000"/>
              <a:chExt cx="2135880" cy="5100120"/>
            </a:xfrm>
          </p:grpSpPr>
          <p:sp>
            <p:nvSpPr>
              <p:cNvPr id="218" name=""/>
              <p:cNvSpPr/>
              <p:nvPr/>
            </p:nvSpPr>
            <p:spPr>
              <a:xfrm>
                <a:off x="1695600" y="1413000"/>
                <a:ext cx="1253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Samp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93800" y="192744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1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93800" y="239580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2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93800" y="286416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3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93800" y="333252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4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93800" y="380232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5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93800" y="427068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6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93800" y="473904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7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93800" y="520704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8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93800" y="5677200"/>
                <a:ext cx="213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9  HK2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94520" y="6147000"/>
                <a:ext cx="213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amp10 HK2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1300320" y="602460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00320" y="556092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00320" y="509904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0320" y="463572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00320" y="417204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00320" y="371016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00320" y="324648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00320" y="278460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00320" y="232092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00320" y="185904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00320" y="6553080"/>
              <a:ext cx="782100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492360" y="768240"/>
            <a:ext cx="23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ne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rcRect l="22250" t="24490" r="13846" b="51708"/>
          <a:stretch/>
        </p:blipFill>
        <p:spPr>
          <a:xfrm>
            <a:off x="1542960" y="635040"/>
            <a:ext cx="7107480" cy="129852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2076480" y="1920960"/>
            <a:ext cx="6686280" cy="4939200"/>
            <a:chOff x="2076480" y="1920960"/>
            <a:chExt cx="6686280" cy="4939200"/>
          </a:xfrm>
        </p:grpSpPr>
        <p:grpSp>
          <p:nvGrpSpPr>
            <p:cNvPr id="243" name=""/>
            <p:cNvGrpSpPr/>
            <p:nvPr/>
          </p:nvGrpSpPr>
          <p:grpSpPr>
            <a:xfrm>
              <a:off x="4996440" y="1920960"/>
              <a:ext cx="702360" cy="4456800"/>
              <a:chOff x="4996440" y="1920960"/>
              <a:chExt cx="702360" cy="4456800"/>
            </a:xfrm>
          </p:grpSpPr>
          <p:sp>
            <p:nvSpPr>
              <p:cNvPr id="244" name=""/>
              <p:cNvSpPr/>
              <p:nvPr/>
            </p:nvSpPr>
            <p:spPr>
              <a:xfrm>
                <a:off x="4996440" y="192096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91280" y="1920960"/>
                <a:ext cx="407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54400" y="239580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4.7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54400" y="280044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2.4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054400" y="320544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.1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54400" y="361008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.8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054400" y="401652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6.50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54400" y="442116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.0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54400" y="482616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3.8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54400" y="523080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0.3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54400" y="563580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.7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54400" y="604224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.6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594480" y="646128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Gene/Endoge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847560" y="1940040"/>
              <a:ext cx="1113840" cy="4515480"/>
              <a:chOff x="6847560" y="1940040"/>
              <a:chExt cx="1113840" cy="4515480"/>
            </a:xfrm>
          </p:grpSpPr>
          <p:sp>
            <p:nvSpPr>
              <p:cNvPr id="258" name=""/>
              <p:cNvSpPr/>
              <p:nvPr/>
            </p:nvSpPr>
            <p:spPr>
              <a:xfrm>
                <a:off x="6914880" y="199728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75880" y="199728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23120" y="1962360"/>
                <a:ext cx="258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83320" y="1940040"/>
                <a:ext cx="27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849000" y="2379960"/>
                <a:ext cx="72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2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47560" y="2784600"/>
                <a:ext cx="957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0.0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47920" y="3189600"/>
                <a:ext cx="1113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0.00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7920" y="3594240"/>
                <a:ext cx="1113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0.00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849000" y="4000680"/>
                <a:ext cx="72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90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7920" y="4405680"/>
                <a:ext cx="1113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0.00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49000" y="4810320"/>
                <a:ext cx="72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1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47920" y="5215320"/>
                <a:ext cx="1113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0.00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48640" y="5619960"/>
                <a:ext cx="569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47920" y="6026400"/>
                <a:ext cx="1113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/0.00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414520" y="1951200"/>
              <a:ext cx="1956240" cy="4426560"/>
              <a:chOff x="2414520" y="1951200"/>
              <a:chExt cx="1956240" cy="4426560"/>
            </a:xfrm>
          </p:grpSpPr>
          <p:sp>
            <p:nvSpPr>
              <p:cNvPr id="273" name=""/>
              <p:cNvSpPr/>
              <p:nvPr/>
            </p:nvSpPr>
            <p:spPr>
              <a:xfrm>
                <a:off x="2414520" y="1951200"/>
                <a:ext cx="11498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Sample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14880" y="239580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1  HK2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14880" y="280044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2  HK2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14880" y="320544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3  HK2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14880" y="361008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4  HK2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14880" y="401652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5  HK2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14880" y="442116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6  HK2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14880" y="482616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7  HK2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14880" y="523080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8  HK2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14880" y="563580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9  HK2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14880" y="6042240"/>
                <a:ext cx="1955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Camp10 HK2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076480" y="598176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76480" y="558180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76480" y="518184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6480" y="478152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76480" y="438156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76480" y="398160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76480" y="358164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76480" y="318132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76480" y="278136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6480" y="238140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76480" y="643896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5960" y="2013120"/>
              <a:ext cx="80640" cy="4413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rcRect l="16812" t="45522" r="11702" b="37106"/>
          <a:stretch/>
        </p:blipFill>
        <p:spPr>
          <a:xfrm>
            <a:off x="1798560" y="741240"/>
            <a:ext cx="7371000" cy="1101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2147760" y="1947960"/>
            <a:ext cx="6686280" cy="4701960"/>
            <a:chOff x="2147760" y="1947960"/>
            <a:chExt cx="6686280" cy="4701960"/>
          </a:xfrm>
        </p:grpSpPr>
        <p:sp>
          <p:nvSpPr>
            <p:cNvPr id="298" name=""/>
            <p:cNvSpPr/>
            <p:nvPr/>
          </p:nvSpPr>
          <p:spPr>
            <a:xfrm>
              <a:off x="5158080" y="2006640"/>
              <a:ext cx="421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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91320" y="2006640"/>
              <a:ext cx="457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2700" spc="-1" strike="noStrike">
                  <a:solidFill>
                    <a:srgbClr val="000000"/>
                  </a:solidFill>
                  <a:latin typeface="Arial"/>
                </a:rPr>
                <a:t>C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98200" y="198756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93400" y="1987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61520" y="1947960"/>
              <a:ext cx="28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26640" y="19875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280120" y="2603520"/>
              <a:ext cx="2664000" cy="4032720"/>
              <a:chOff x="5280120" y="2603520"/>
              <a:chExt cx="2664000" cy="4032720"/>
            </a:xfrm>
          </p:grpSpPr>
          <p:sp>
            <p:nvSpPr>
              <p:cNvPr id="305" name=""/>
              <p:cNvSpPr/>
              <p:nvPr/>
            </p:nvSpPr>
            <p:spPr>
              <a:xfrm>
                <a:off x="5382000" y="262260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99440" y="260352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.00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80120" y="3030480"/>
                <a:ext cx="637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-2.2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99440" y="301140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4.8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80120" y="3438360"/>
                <a:ext cx="637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-3.6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28440" y="3419280"/>
                <a:ext cx="700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2.4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80120" y="3848040"/>
                <a:ext cx="637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-2.8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99440" y="382896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7.2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82000" y="425592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.7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99440" y="423684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0.30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80120" y="4665600"/>
                <a:ext cx="637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-3.6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228440" y="4646520"/>
                <a:ext cx="700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2.8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80120" y="5073480"/>
                <a:ext cx="637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-0.8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99440" y="505476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1.8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80120" y="5483160"/>
                <a:ext cx="637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-4.3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28440" y="5464080"/>
                <a:ext cx="700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20.8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80120" y="5891040"/>
                <a:ext cx="637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-3.0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99440" y="587232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8.0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80120" y="6300720"/>
                <a:ext cx="637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-3.1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99440" y="6281640"/>
                <a:ext cx="544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200" spc="-1" strike="noStrike">
                    <a:solidFill>
                      <a:srgbClr val="000000"/>
                    </a:solidFill>
                    <a:latin typeface="Arial"/>
                  </a:rPr>
                  <a:t>8.6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6701760" y="2081160"/>
              <a:ext cx="80640" cy="4568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85800" y="2147760"/>
              <a:ext cx="1149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Samp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85800" y="259236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1  HK2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85800" y="299736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2  HK2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85800" y="340200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3  HK2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85800" y="380664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4  HK2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85800" y="421308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5  HK2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85800" y="461808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6  HK2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85800" y="502272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7  HK2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5800" y="542772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8  HK2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85800" y="583236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9  HK2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85800" y="6238800"/>
              <a:ext cx="19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Camp10 HK2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47760" y="617868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47760" y="577836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47760" y="537840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47760" y="497844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47760" y="457848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47760" y="417816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47760" y="377820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47760" y="337824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47760" y="297828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47760" y="257796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47760" y="6635880"/>
              <a:ext cx="6686280" cy="0"/>
            </a:xfrm>
            <a:prstGeom prst="line">
              <a:avLst/>
            </a:prstGeom>
            <a:ln w="9360">
              <a:solidFill>
                <a:srgbClr val="cfd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858960" y="1792440"/>
            <a:ext cx="8154360" cy="4779360"/>
            <a:chOff x="858960" y="1792440"/>
            <a:chExt cx="8154360" cy="4779360"/>
          </a:xfrm>
        </p:grpSpPr>
        <p:sp>
          <p:nvSpPr>
            <p:cNvPr id="349" name=""/>
            <p:cNvSpPr/>
            <p:nvPr/>
          </p:nvSpPr>
          <p:spPr>
            <a:xfrm>
              <a:off x="1689840" y="4434120"/>
              <a:ext cx="732168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89840" y="3826080"/>
              <a:ext cx="732168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89840" y="3197160"/>
              <a:ext cx="732168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89840" y="2589480"/>
              <a:ext cx="732168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89840" y="1960560"/>
              <a:ext cx="732168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29800" y="4601520"/>
              <a:ext cx="302040" cy="46116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73560" y="3636720"/>
              <a:ext cx="283320" cy="142596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00760" y="4287600"/>
              <a:ext cx="283320" cy="77544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1360" y="3596040"/>
              <a:ext cx="283680" cy="146700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98560" y="4957200"/>
              <a:ext cx="283680" cy="10548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26480" y="2589480"/>
              <a:ext cx="283320" cy="247320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51520" y="4181760"/>
              <a:ext cx="301680" cy="8809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7080" y="4119120"/>
              <a:ext cx="283320" cy="94356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89840" y="1960560"/>
              <a:ext cx="2160" cy="3102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19280" y="5063040"/>
              <a:ext cx="7056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9280" y="4434120"/>
              <a:ext cx="7056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9280" y="3826080"/>
              <a:ext cx="7056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19280" y="3197160"/>
              <a:ext cx="7056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9280" y="2589480"/>
              <a:ext cx="7056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19280" y="1960560"/>
              <a:ext cx="7056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89840" y="5063040"/>
              <a:ext cx="732168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689840" y="5063040"/>
              <a:ext cx="216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417040" y="5063040"/>
              <a:ext cx="216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160800" y="5063040"/>
              <a:ext cx="180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888000" y="5063040"/>
              <a:ext cx="180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615560" y="5063040"/>
              <a:ext cx="180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358600" y="5063040"/>
              <a:ext cx="216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086160" y="5063040"/>
              <a:ext cx="216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813720" y="5063040"/>
              <a:ext cx="180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538760" y="5063040"/>
              <a:ext cx="216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84320" y="5063040"/>
              <a:ext cx="180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9011520" y="5063040"/>
              <a:ext cx="1800" cy="83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84920" y="489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84920" y="4265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64320" y="3657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64320" y="3029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64320" y="2421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64320" y="1792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8900000">
              <a:off x="751320" y="584568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1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8900000">
              <a:off x="1476360" y="584280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2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8900000">
              <a:off x="2205720" y="584568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3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8900000">
              <a:off x="2950200" y="584280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4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8900000">
              <a:off x="3676320" y="584028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5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900000">
              <a:off x="4402440" y="584280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6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8900000">
              <a:off x="5124960" y="584784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7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8900000">
              <a:off x="5872320" y="584280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8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8900000">
              <a:off x="6594840" y="584784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9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8900000">
              <a:off x="7209360" y="5912280"/>
              <a:ext cx="134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mp10  HK2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494720" y="841320"/>
            <a:ext cx="82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spressione genica normalizzata con endo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1125360"/>
            <a:ext cx="99061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mostrazione della linearita’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440" y="2706840"/>
            <a:ext cx="942012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opo di questa procedura è di verificare che l’efficienza della reazione del gene target sia uguale a quella del gene housekeeping: se l’efficienza di PCR per entrambi i sistemi e’ uguale il 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t rimane costante anche a concentrazioni molto ba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2338560"/>
            <a:ext cx="9906120" cy="4101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303200" y="71424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eparare una diluizione seriale di un campione controllo positivo con un fattore di diluizione tra 2 e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1606680" y="3747960"/>
            <a:ext cx="6660720" cy="2334600"/>
            <a:chOff x="1606680" y="3747960"/>
            <a:chExt cx="6660720" cy="2334600"/>
          </a:xfrm>
        </p:grpSpPr>
        <p:sp>
          <p:nvSpPr>
            <p:cNvPr id="403" name=""/>
            <p:cNvSpPr/>
            <p:nvPr/>
          </p:nvSpPr>
          <p:spPr>
            <a:xfrm>
              <a:off x="1606680" y="3747960"/>
              <a:ext cx="6660720" cy="23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35480" y="4170240"/>
              <a:ext cx="5437800" cy="1419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45560" y="4179960"/>
              <a:ext cx="1800" cy="1419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83640" y="5599080"/>
              <a:ext cx="61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83640" y="5284800"/>
              <a:ext cx="61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83640" y="4967280"/>
              <a:ext cx="61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83640" y="4653000"/>
              <a:ext cx="61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83640" y="4338360"/>
              <a:ext cx="619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45560" y="5599080"/>
              <a:ext cx="5438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545560" y="5598720"/>
              <a:ext cx="1800" cy="57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50600" y="5598720"/>
              <a:ext cx="1440" cy="57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359960" y="5598720"/>
              <a:ext cx="1800" cy="57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265000" y="5598720"/>
              <a:ext cx="1440" cy="57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169320" y="5598720"/>
              <a:ext cx="1800" cy="57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079040" y="5598720"/>
              <a:ext cx="1800" cy="57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984080" y="5598720"/>
              <a:ext cx="1440" cy="57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35480" y="4830840"/>
              <a:ext cx="5437800" cy="245880"/>
            </a:xfrm>
            <a:custGeom>
              <a:avLst/>
              <a:gdLst/>
              <a:ahLst/>
              <a:rect l="l" t="t" r="r" b="b"/>
              <a:pathLst>
                <a:path w="3162" h="155">
                  <a:moveTo>
                    <a:pt x="0" y="101"/>
                  </a:moveTo>
                  <a:lnTo>
                    <a:pt x="526" y="55"/>
                  </a:lnTo>
                  <a:lnTo>
                    <a:pt x="1055" y="25"/>
                  </a:lnTo>
                  <a:lnTo>
                    <a:pt x="1581" y="86"/>
                  </a:lnTo>
                  <a:lnTo>
                    <a:pt x="2107" y="0"/>
                  </a:lnTo>
                  <a:lnTo>
                    <a:pt x="2636" y="86"/>
                  </a:lnTo>
                  <a:lnTo>
                    <a:pt x="3162" y="155"/>
                  </a:lnTo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94080" y="4951440"/>
              <a:ext cx="10296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83640" y="4941720"/>
              <a:ext cx="1033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98760" y="4879800"/>
              <a:ext cx="1033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88320" y="4870440"/>
              <a:ext cx="10296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08480" y="4830840"/>
              <a:ext cx="1033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98400" y="4821120"/>
              <a:ext cx="10296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13520" y="4927680"/>
              <a:ext cx="102960" cy="9648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02720" y="4917960"/>
              <a:ext cx="1033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17840" y="4792680"/>
              <a:ext cx="10476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07760" y="4782960"/>
              <a:ext cx="10296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27560" y="4927680"/>
              <a:ext cx="104760" cy="964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17120" y="4917960"/>
              <a:ext cx="1033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32240" y="5038560"/>
              <a:ext cx="10476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2160" y="5029200"/>
              <a:ext cx="10332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9080">
              <a:solidFill>
                <a:srgbClr val="dd0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25040" y="4903560"/>
              <a:ext cx="5438160" cy="68400"/>
            </a:xfrm>
            <a:custGeom>
              <a:avLst/>
              <a:gdLst/>
              <a:ahLst/>
              <a:rect l="l" t="t" r="r" b="b"/>
              <a:pathLst>
                <a:path w="3162" h="43">
                  <a:moveTo>
                    <a:pt x="0" y="0"/>
                  </a:moveTo>
                  <a:lnTo>
                    <a:pt x="526" y="6"/>
                  </a:lnTo>
                  <a:lnTo>
                    <a:pt x="1055" y="12"/>
                  </a:lnTo>
                  <a:lnTo>
                    <a:pt x="1581" y="21"/>
                  </a:lnTo>
                  <a:lnTo>
                    <a:pt x="2107" y="27"/>
                  </a:lnTo>
                  <a:lnTo>
                    <a:pt x="2636" y="33"/>
                  </a:lnTo>
                  <a:lnTo>
                    <a:pt x="3162" y="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6360" y="4225680"/>
              <a:ext cx="200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= -0,0714x - 1,6357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360120" y="4513320"/>
              <a:ext cx="968760" cy="264240"/>
              <a:chOff x="6360120" y="4513320"/>
              <a:chExt cx="968760" cy="264240"/>
            </a:xfrm>
          </p:grpSpPr>
          <p:sp>
            <p:nvSpPr>
              <p:cNvPr id="437" name=""/>
              <p:cNvSpPr/>
              <p:nvPr/>
            </p:nvSpPr>
            <p:spPr>
              <a:xfrm>
                <a:off x="6360120" y="453384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17080" y="45133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588720" y="4533840"/>
                <a:ext cx="74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= 0,09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2210400" y="5479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10400" y="51670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10400" y="48481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84200" y="4535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84200" y="4221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09040" y="564012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3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13720" y="564012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3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3080" y="564012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28120" y="564012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3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32440" y="564012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4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35680" y="564012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4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40360" y="564012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4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76600" y="5838840"/>
              <a:ext cx="72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g S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1697400" y="49230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1650600" y="474732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98320" y="768240"/>
            <a:ext cx="9306720" cy="3308760"/>
            <a:chOff x="598320" y="768240"/>
            <a:chExt cx="9306720" cy="3308760"/>
          </a:xfrm>
        </p:grpSpPr>
        <p:sp>
          <p:nvSpPr>
            <p:cNvPr id="456" name=""/>
            <p:cNvSpPr/>
            <p:nvPr/>
          </p:nvSpPr>
          <p:spPr>
            <a:xfrm>
              <a:off x="6976800" y="768240"/>
              <a:ext cx="46080" cy="3244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98320" y="844200"/>
              <a:ext cx="9306720" cy="3232800"/>
              <a:chOff x="598320" y="844200"/>
              <a:chExt cx="9306720" cy="323280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5032800" y="850680"/>
                <a:ext cx="1710720" cy="3220560"/>
                <a:chOff x="5032800" y="850680"/>
                <a:chExt cx="1710720" cy="32205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032800" y="850680"/>
                  <a:ext cx="17107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Mean Ct H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545080" y="121104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18.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545080" y="162864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19.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545080" y="204768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20.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545080" y="246528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21.6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545080" y="288252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21.9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545080" y="328752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24.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545080" y="370512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25.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545600" y="844200"/>
                <a:ext cx="695520" cy="3232800"/>
                <a:chOff x="7545600" y="844200"/>
                <a:chExt cx="695520" cy="3232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624080" y="844200"/>
                  <a:ext cx="457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45600" y="1204200"/>
                  <a:ext cx="695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3.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545600" y="1621800"/>
                  <a:ext cx="695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2.6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545600" y="2040840"/>
                  <a:ext cx="695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2.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545600" y="2458440"/>
                  <a:ext cx="695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3.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545600" y="2876040"/>
                  <a:ext cx="695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2.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545600" y="3293640"/>
                  <a:ext cx="695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3.3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545600" y="3710880"/>
                  <a:ext cx="695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3.9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879120" y="867960"/>
                <a:ext cx="1253520" cy="3187080"/>
                <a:chOff x="879120" y="867960"/>
                <a:chExt cx="1253520" cy="31870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79120" y="867960"/>
                  <a:ext cx="12535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Sampl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226520" y="1239480"/>
                  <a:ext cx="61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dil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226520" y="1647360"/>
                  <a:ext cx="6120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dil 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226520" y="2055600"/>
                  <a:ext cx="61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dil 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226520" y="2463480"/>
                  <a:ext cx="61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dil 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226520" y="2873160"/>
                  <a:ext cx="61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dil 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226520" y="3281040"/>
                  <a:ext cx="61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dil 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226520" y="3688920"/>
                  <a:ext cx="61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dil 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98320" y="1196640"/>
                <a:ext cx="9306720" cy="2820960"/>
                <a:chOff x="598320" y="1196640"/>
                <a:chExt cx="9306720" cy="28209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98320" y="4017600"/>
                  <a:ext cx="9306720" cy="0"/>
                </a:xfrm>
                <a:prstGeom prst="line">
                  <a:avLst/>
                </a:prstGeom>
                <a:ln w="9360">
                  <a:solidFill>
                    <a:srgbClr val="cfd5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8320" y="3614400"/>
                  <a:ext cx="9306720" cy="0"/>
                </a:xfrm>
                <a:prstGeom prst="line">
                  <a:avLst/>
                </a:prstGeom>
                <a:ln w="9360">
                  <a:solidFill>
                    <a:srgbClr val="cfd5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98320" y="3211200"/>
                  <a:ext cx="9306720" cy="0"/>
                </a:xfrm>
                <a:prstGeom prst="line">
                  <a:avLst/>
                </a:prstGeom>
                <a:ln w="9360">
                  <a:solidFill>
                    <a:srgbClr val="cfd5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98320" y="2808000"/>
                  <a:ext cx="9306720" cy="0"/>
                </a:xfrm>
                <a:prstGeom prst="line">
                  <a:avLst/>
                </a:prstGeom>
                <a:ln w="9360">
                  <a:solidFill>
                    <a:srgbClr val="cfd5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8320" y="2404800"/>
                  <a:ext cx="9306720" cy="0"/>
                </a:xfrm>
                <a:prstGeom prst="line">
                  <a:avLst/>
                </a:prstGeom>
                <a:ln w="9360">
                  <a:solidFill>
                    <a:srgbClr val="cfd5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98320" y="2003040"/>
                  <a:ext cx="9306720" cy="0"/>
                </a:xfrm>
                <a:prstGeom prst="line">
                  <a:avLst/>
                </a:prstGeom>
                <a:ln w="9360">
                  <a:solidFill>
                    <a:srgbClr val="cfd5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98320" y="1598400"/>
                  <a:ext cx="9306720" cy="0"/>
                </a:xfrm>
                <a:prstGeom prst="line">
                  <a:avLst/>
                </a:prstGeom>
                <a:ln w="9360">
                  <a:solidFill>
                    <a:srgbClr val="cfd5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98320" y="1196640"/>
                  <a:ext cx="9306720" cy="0"/>
                </a:xfrm>
                <a:prstGeom prst="line">
                  <a:avLst/>
                </a:prstGeom>
                <a:ln w="9360">
                  <a:solidFill>
                    <a:srgbClr val="cfd5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2611800" y="850680"/>
                <a:ext cx="1981800" cy="3220200"/>
                <a:chOff x="2611800" y="850680"/>
                <a:chExt cx="1981800" cy="32202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2611800" y="850680"/>
                  <a:ext cx="1981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Mean Ct gen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2040" y="121104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15.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272040" y="162864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16.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272040" y="204768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17.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72040" y="246492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18.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72040" y="288252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19.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72040" y="328752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20.6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272040" y="370476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21.8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8536320" y="844200"/>
                <a:ext cx="1084320" cy="3232800"/>
                <a:chOff x="8536320" y="844200"/>
                <a:chExt cx="1084320" cy="323280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8536320" y="844200"/>
                  <a:ext cx="10843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Log S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800920" y="1204200"/>
                  <a:ext cx="526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3.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800920" y="1621800"/>
                  <a:ext cx="526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3.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800920" y="2040840"/>
                  <a:ext cx="526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3.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00920" y="2458440"/>
                  <a:ext cx="526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3.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00920" y="2876040"/>
                  <a:ext cx="526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4.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800920" y="3293640"/>
                  <a:ext cx="526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4.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800920" y="3710880"/>
                  <a:ext cx="5266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-4.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2" name=""/>
          <p:cNvSpPr/>
          <p:nvPr/>
        </p:nvSpPr>
        <p:spPr>
          <a:xfrm>
            <a:off x="1281960" y="6232680"/>
            <a:ext cx="72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0808"/>
                </a:solidFill>
                <a:latin typeface="Arial"/>
              </a:rPr>
              <a:t>Il sistema e’ validato se lo slope e’ inferiore a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91280" y="4191120"/>
            <a:ext cx="728640" cy="279360"/>
          </a:xfrm>
          <a:prstGeom prst="ellipse">
            <a:avLst/>
          </a:prstGeom>
          <a:noFill/>
          <a:ln w="9360">
            <a:solidFill>
              <a:srgbClr val="b9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12920" y="1747800"/>
            <a:ext cx="92836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prodotti aspecifici possono essere determinati con la curva di dissociazione (melt curve) che lo strumento ricava trattando l’amplificato a temperature crescenti fino a completa denaturazione delle sequenze di D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dotti diversi hanno diversa temperatura di melting e quindi una diversa curva di dissoci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439560"/>
            <a:ext cx="990612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ntrollo specificita’ della re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lo con Sybr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1862280"/>
            <a:ext cx="9906120" cy="46465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57080" y="1041480"/>
            <a:ext cx="866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URVE DI 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894096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004760" y="1689120"/>
            <a:ext cx="7441920" cy="4660920"/>
            <a:chOff x="1004760" y="1689120"/>
            <a:chExt cx="7441920" cy="4660920"/>
          </a:xfrm>
        </p:grpSpPr>
        <p:sp>
          <p:nvSpPr>
            <p:cNvPr id="48" name=""/>
            <p:cNvSpPr/>
            <p:nvPr/>
          </p:nvSpPr>
          <p:spPr>
            <a:xfrm>
              <a:off x="2878920" y="2870280"/>
              <a:ext cx="18187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50/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53080" y="2870280"/>
              <a:ext cx="181908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300/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29040" y="2870280"/>
              <a:ext cx="181764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900/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78920" y="4052880"/>
              <a:ext cx="181872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50/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53080" y="4052880"/>
              <a:ext cx="181908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300/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29040" y="4052880"/>
              <a:ext cx="181764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900/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78920" y="5235480"/>
              <a:ext cx="181872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50/9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53080" y="5235480"/>
              <a:ext cx="181908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300/9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040" y="5235480"/>
              <a:ext cx="181764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</a:rPr>
                <a:t>900/9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04760" y="2870280"/>
              <a:ext cx="181728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9933"/>
                  </a:solidFill>
                  <a:latin typeface="Arial"/>
                </a:rPr>
                <a:t>50n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04760" y="4052880"/>
              <a:ext cx="181728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9933"/>
                  </a:solidFill>
                  <a:latin typeface="Arial"/>
                </a:rPr>
                <a:t>300n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04760" y="5235480"/>
              <a:ext cx="181728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9933"/>
                  </a:solidFill>
                  <a:latin typeface="Arial"/>
                </a:rPr>
                <a:t>900n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78920" y="1689120"/>
              <a:ext cx="181872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Arial"/>
                </a:rPr>
                <a:t>50n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53080" y="1689120"/>
              <a:ext cx="181908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Arial"/>
                </a:rPr>
                <a:t>300n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29040" y="1689120"/>
              <a:ext cx="181764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Arial"/>
                </a:rPr>
                <a:t>900n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04760" y="1689120"/>
              <a:ext cx="181728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3300"/>
                  </a:solidFill>
                  <a:latin typeface="Arial"/>
                </a:rPr>
                <a:t>For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339933"/>
                  </a:solidFill>
                  <a:latin typeface="Arial"/>
                </a:rPr>
                <a:t>Reverse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19880" y="795240"/>
            <a:ext cx="58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condo il seguente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14680" y="2616120"/>
            <a:ext cx="4222800" cy="2819520"/>
          </a:xfrm>
          <a:prstGeom prst="rect">
            <a:avLst/>
          </a:prstGeom>
          <a:noFill/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57880" y="3772080"/>
            <a:ext cx="4224240" cy="2819160"/>
          </a:xfrm>
          <a:prstGeom prst="rect">
            <a:avLst/>
          </a:prstGeom>
          <a:noFill/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534960" y="2079720"/>
            <a:ext cx="9080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sistemi di Multiplex Real Time PCR consentono l’utilizzo di più di una coppia di primer in un unico tubo di re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Questo metodo può essere usato per le quantizzazioni relative dove una delle due coppie di primer amplifica il gene target e l’altra amplifica l’endo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92080" y="800280"/>
            <a:ext cx="237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Multi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73040" y="835200"/>
            <a:ext cx="88264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ndizione necessaria per questo tipo di analisi e’ l’uso di due sistemi con sonda a doppia modificazione che abbiano due fluorofori diversi con picchi di emissione distanti sullo spettro della lu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4623" r="-8053" b="0"/>
          <a:stretch/>
        </p:blipFill>
        <p:spPr>
          <a:xfrm>
            <a:off x="326880" y="1136520"/>
            <a:ext cx="9963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789120" y="1042920"/>
            <a:ext cx="866772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er una corretta quantizzazione in multiplex è importante che le due reazioni non competano tra loro e quindi sarà necessario assicurarsi che nessuna delle due specie domini sull’alt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62080" y="1246320"/>
            <a:ext cx="93279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esta situazione può essere evitata con la limitazione della concentrazione dei primer usati per amplificare la specie più abbond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questo modo l’amplificazione può essere stoppata prima in modo da non consumare i reagenti messi a disposizione per la specie minorit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531720" y="1244520"/>
            <a:ext cx="88264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e si utilizza come endogeno un rRNA, quantitativamente più presente di un mRNA, bisognerà limitare la concentrazione dei primer per cercare di sfavorire solo questa reazi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44680" y="1473120"/>
            <a:ext cx="88264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e l’endogeno è un mRNA non è possibile determinare qual è la specie più abbondante per cui bisognerà limitare entrambe le coppie di pri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68280" y="1919160"/>
            <a:ext cx="91328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’ importante stabilire le giuste concentrazioni dei primer e della sonda. Per quanto riguarda i primer è necessario allestire nove reazioni in simplex in cui ciascun primer è presente alla concentrazione finale di 300 200 100 nM (usando la sonda a 250n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913120" y="2565360"/>
            <a:ext cx="18190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300/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88000" y="2565360"/>
            <a:ext cx="18190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200/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64320" y="2565360"/>
            <a:ext cx="181764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100/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13120" y="3747960"/>
            <a:ext cx="181908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300/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88000" y="3747960"/>
            <a:ext cx="181908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200/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747960"/>
            <a:ext cx="181764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100/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13120" y="4930920"/>
            <a:ext cx="181908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300/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88000" y="4930920"/>
            <a:ext cx="181908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200/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64320" y="4930920"/>
            <a:ext cx="181764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100/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38240" y="2565360"/>
            <a:ext cx="181764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30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38240" y="3747960"/>
            <a:ext cx="181764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20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38240" y="4930920"/>
            <a:ext cx="181764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10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13120" y="1384200"/>
            <a:ext cx="181908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30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88000" y="1384200"/>
            <a:ext cx="181908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20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664320" y="1384200"/>
            <a:ext cx="181764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10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38240" y="1384200"/>
            <a:ext cx="181764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9933"/>
                </a:solidFill>
                <a:latin typeface="Arial"/>
              </a:rPr>
              <a:t>Revers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18360" y="642960"/>
            <a:ext cx="58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condo il seguente sch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19000" y="1538280"/>
            <a:ext cx="8093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opo di questa procedura è determinare le concentrazioni dei primer che hanno scarso effetto sul Ct mentre fanno diminuire il rendimento del prodotto portando la reazione a plat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8120" y="963720"/>
            <a:ext cx="86263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eterminazione delle concentrazioni migliori dei pri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84240" y="3135240"/>
            <a:ext cx="81136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opo di questa procedura è determinare le concentrazioni minime dei primer che danno la migliore curva di amplificazione e che permettono di raggiungere prima la fase esponenz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"/>
          <p:cNvGraphicFramePr/>
          <p:nvPr/>
        </p:nvGraphicFramePr>
        <p:xfrm>
          <a:off x="1636560" y="2502000"/>
          <a:ext cx="64771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2502000"/>
                    <a:ext cx="64771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528480" y="762120"/>
            <a:ext cx="866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IMITAZIONE DEI 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61920" y="26892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0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161920" y="2917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80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161920" y="37688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0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161920" y="3959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5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161920" y="4187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84440" y="246384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50480" y="24494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50480" y="2811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50480" y="31734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50480" y="3535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50480" y="3897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57040" y="42591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69800" y="4621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-198720" y="3410640"/>
            <a:ext cx="24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CR Base Line Subtracted RF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3540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4668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5616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6744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7692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8964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0092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040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2168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3116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43880" y="493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71480" y="4876920"/>
            <a:ext cx="645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38480" y="4265640"/>
            <a:ext cx="1154160" cy="7444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78040" y="54370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ic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617840" y="927000"/>
            <a:ext cx="61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l problema dei falsi positi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65200" y="2533680"/>
            <a:ext cx="71820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 causa della sua elevata sensibilità la PCR può dare falsi positivi, per  evitare i quali, devono essere osservate alcune precauzio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69960" y="1752480"/>
            <a:ext cx="87231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652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estimento delle reazioni in ambienti separati e sterili (cappa per P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ali con 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pette ad espulsione posi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merasi hot-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zima UNG (uracil-N-glicosilase) nella mix di re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i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ter-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7160" y="941400"/>
            <a:ext cx="88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 bisogna sottovalutare l’importanza dell’uso 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362960" y="1046160"/>
            <a:ext cx="654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l problema dei falsi positivi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5480" y="2403360"/>
            <a:ext cx="870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sistono in commercio, polimerasi modificate, chiamate “hot start” che sono appositamente studiate per minimizzare questo problema. Sono basate su forme inattive della polimerasi, che vengono attivate dalle alte temperat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31920" y="1868400"/>
            <a:ext cx="932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miglior sistema per minimizzare  i falsi positivi dovuti a contaminazioni provenienti da amplificazioni precedenti, consiste nell’utilizzare l’uridina trifosfato (UTP) al posto del dTTP e l’enzima uridil glicosidasi nella miscela di reaz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7160" y="4522680"/>
            <a:ext cx="937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virtù della sua somiglianza strutturale al dTTP, l’uridina trifosfato può sostituire questo nucleotide nelle reazioni di allungamento stampo-dipendenti catalizzate dalle polimeras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28560" y="950760"/>
            <a:ext cx="66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l problema dei falsi positivi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95120" y="2205000"/>
            <a:ext cx="95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presenza dell’enzima uracil-N glicosidasi (UNG) nella miscela di reazione, distruggerà qualunque residuo di precedenti amplificazioni eventualmente presenti nella reazione senza disturbare il DNA stam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52400" y="4719600"/>
            <a:ext cx="863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l’inizio della reazione di PCR, infine, l’elevata temperatura del primo step di amplificazione provvederà a distruggere l’ uracil-N-glicosida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59800" y="1122480"/>
            <a:ext cx="67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l problema dei falsi positivi 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014480" y="622440"/>
            <a:ext cx="8598960" cy="6246720"/>
            <a:chOff x="1014480" y="622440"/>
            <a:chExt cx="8598960" cy="624672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014480" y="622440"/>
              <a:ext cx="2782800" cy="16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3921120" y="622440"/>
              <a:ext cx="2783160" cy="16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6830280" y="622440"/>
              <a:ext cx="2783160" cy="16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1014480" y="2750040"/>
              <a:ext cx="2782800" cy="16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5"/>
            <a:stretch/>
          </p:blipFill>
          <p:spPr>
            <a:xfrm>
              <a:off x="3921120" y="2750040"/>
              <a:ext cx="2783160" cy="16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6"/>
            <a:stretch/>
          </p:blipFill>
          <p:spPr>
            <a:xfrm>
              <a:off x="6830280" y="2750040"/>
              <a:ext cx="2783160" cy="16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1014480" y="4891320"/>
              <a:ext cx="2782800" cy="16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3921120" y="4891320"/>
              <a:ext cx="2783160" cy="16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9"/>
            <a:stretch/>
          </p:blipFill>
          <p:spPr>
            <a:xfrm>
              <a:off x="6830280" y="4891320"/>
              <a:ext cx="2783160" cy="160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705320" y="227376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50L/50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29160" y="225288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50L/300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38320" y="225288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50L/900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22160" y="43596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300L/50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45640" y="435960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300L/300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54080" y="435960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300L/900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22160" y="650088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900L/50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45640" y="650088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900L/300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54080" y="650088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900L/900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2160" y="1004760"/>
            <a:ext cx="89568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eterminazione della concentrazione migliore della so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0400" y="2897280"/>
            <a:ext cx="81136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opo di questa procedura è determinare la concentrazione minima di sonda che da la migliore curva di amplificazione e che permette di raggiungere prima la fase esponenz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138320" y="988920"/>
            <a:ext cx="8464320" cy="51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b9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armela"/>
              </a:rPr>
              <a:t>Elaborazione 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b9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armela"/>
              <a:ea typeface="Carmel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b9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armela"/>
              </a:rPr>
              <a:t>dei dati 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b9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armela"/>
              <a:ea typeface="Carmel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b9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armela"/>
              </a:rPr>
              <a:t>analitici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b9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armela"/>
              <a:ea typeface="Carme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12800" y="1144440"/>
            <a:ext cx="83599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La Real Time PC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ermette di controllare la curva di amplificazione durante tutti i cicli di reazio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6:20:32Z</dcterms:created>
  <dc:creator>UNIVERSITA' DEGLI STUDI DI BA</dc:creator>
  <dc:description/>
  <dc:language>en-US</dc:language>
  <cp:lastModifiedBy>Mariano Rocchi</cp:lastModifiedBy>
  <cp:lastPrinted>2001-06-25T11:54:52Z</cp:lastPrinted>
  <dcterms:modified xsi:type="dcterms:W3CDTF">2008-03-20T14:35:59Z</dcterms:modified>
  <cp:revision>292</cp:revision>
  <dc:subject/>
  <dc:title>Nessun titolo diapositiva</dc:title>
</cp:coreProperties>
</file>