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8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2.pct" ContentType="image/x-pict"/>
  <Override PartName="/ppt/media/image6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BD0-D0A1-487B-AA04-149B0D8F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623-6F4D-40CE-8F0B-AB3C7A6A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788-8D95-46C8-917F-59F026AA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D4C-36A5-4589-A9AD-2EE5A01D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826-4A19-4629-BF76-A48B98CC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526-A238-4201-9564-A5F513C4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64D-358A-464B-8F8C-D1352740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6CC3-0F55-4C86-AFD3-EED35040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1F3-EE39-4390-A8F4-450F48CF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CEB0-5F61-4420-BCCD-2365DC55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CC90-ECEE-44DA-9D16-92DE29B2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0C5-F644-4496-B9E7-1A258C7F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0446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9366120" y="6400800"/>
            <a:ext cx="5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F43B-BB34-4B1F-871A-4953B1B20D8C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6920" y="608040"/>
            <a:ext cx="89139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1333440" y="152280"/>
            <a:ext cx="8283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LM Sc.Biosanitarie GeneticaIII (Diagn.Molec.) 2007-2008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7560" cy="10494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hyperlink" Target="http://www.biologia.uniba.it/DIGEMI/Didattica.html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68480" y="1084320"/>
            <a:ext cx="5346720" cy="4387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12840" y="579924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Lezio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0520" y="826200"/>
            <a:ext cx="8420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710"/>
                </a:solidFill>
                <a:latin typeface="Comic Sans MS"/>
              </a:rPr>
              <a:t>Eredita’ mitocondrial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075-A101-4A31-82D4-50370850C4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8420040" cy="5575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7920" y="1523880"/>
            <a:ext cx="2229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tocondri norm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1981080"/>
            <a:ext cx="660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0120" y="2666880"/>
            <a:ext cx="2476440" cy="368280"/>
          </a:xfrm>
          <a:prstGeom prst="rect">
            <a:avLst/>
          </a:prstGeom>
          <a:noFill/>
          <a:ln w="9360">
            <a:solidFill>
              <a:srgbClr val="ff1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934"/>
                </a:solidFill>
                <a:latin typeface="Comic Sans MS"/>
              </a:rPr>
              <a:t>mitocondri muta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3124080"/>
            <a:ext cx="330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1440" y="686520"/>
            <a:ext cx="3137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teroplasmi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023320" y="711360"/>
            <a:ext cx="160164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58DA-A4A1-40F9-9677-7B5F4087FA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91960" y="1231920"/>
            <a:ext cx="773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eteroplasmia contribuisce notevolmente alla spiegazione della variabilita’ cli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2880" y="2095560"/>
            <a:ext cx="939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 quantita’ relative di mitocondri normali e mutanti possono variare da tessuto a tessuto e questo spiega in parte le differenze nell’espre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6920" y="3238560"/>
            <a:ext cx="932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oltre non e’ detto che una donna portatrice di una mutazione mitocondriale debba per forza trasmettere alla prole sia mitocondri mutanti che normali, perche’ cio’ puo’ non avvenire o puo’ essere difficile da dimostr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5840" y="673920"/>
            <a:ext cx="3009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teroplasmi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175600" y="762120"/>
            <a:ext cx="1427040" cy="117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76280" y="4516560"/>
            <a:ext cx="916308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ando si esegue un test per una mutazione di DNA mitocondriale e’ spesso necessario utilizzare piu’ tessuti, poiche’, a causa dell’eteroplasmia, alcuni tessuti possono contenere pochi mitocondri mutanti o non contenerne affa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CFD-3198-487B-8B01-9098CADCC3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4863960"/>
            <a:ext cx="90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madre trasmette il carattere a tutti i propri figli tuttavia e’ impossibile prevedere il livello di gravita’ della malattia di un fig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1200" y="4013280"/>
            <a:ext cx="87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ltanto le femmine trasmettono il caratt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3040" y="889200"/>
            <a:ext cx="447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710"/>
                </a:solidFill>
                <a:latin typeface="Comic Sans MS"/>
              </a:rPr>
              <a:t>Eredita’ matroclin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858080" y="609480"/>
            <a:ext cx="1757520" cy="1441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03040" y="1955880"/>
            <a:ext cx="899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a geni nucleari che mitocondriali possono dare origine a difetti del metabolismo energetico e le modalita’ di trasmissione genetiche possono essere autosomiche o materne;quando si parla di malattie mitocondriali si intendono quelle legate a mutazioni del mt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408-60D7-42AD-93CE-D87670B22F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62080" y="1269000"/>
            <a:ext cx="9644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malattie ”mitocondriali” si manifestano in quei distre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l’organismo in cui e’ richiesta una piu’ alta produzione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ergia:  sistema nervoso, muscolo, occhi, fegato.... e han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’elevata variabilita’ clinica anche all’interno della stessa famigl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 considerato tuttavia che la funzione che viene persa e’ sempre la stessa: produzione di energia. La vasta gamma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ficit nelle proteine mitocontriali nelle malattie mitocondri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legata (oltre all’eteroplasmia che giustifica la diversa gravita’) al fatto che dei 37 geni presenti, 22 codificano per tRNA e 2 per rRNA, necessari per la sintesi dei 13 polipeptidi codificati dai restanti gen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percio’ chiaro il perche’ della variabilita’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erche’ variabilita’ clinic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9747-CF76-4C56-9B9D-14202CF80A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7800" y="1676520"/>
            <a:ext cx="883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 calcola che la velocita’ di accumulo delle alterazioni a carico del DNA sia per i mitocondri dalle 5 alle 10 volte maggiore di quella del DNA nucle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240" y="2819520"/>
            <a:ext cx="88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assenza di ricombinazione rende piu’ semplice seguire l’eredita’ dei polimorfismi mitocond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657600"/>
            <a:ext cx="17334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pplic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2199000">
            <a:off x="2889000" y="3657600"/>
            <a:ext cx="330120" cy="990720"/>
          </a:xfrm>
          <a:custGeom>
            <a:avLst/>
            <a:gdLst>
              <a:gd name="textAreaLeft" fmla="*/ 43920 w 330120"/>
              <a:gd name="textAreaRight" fmla="*/ 286200 w 33012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457200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trop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06560" y="5029200"/>
            <a:ext cx="247680" cy="380880"/>
          </a:xfrm>
          <a:prstGeom prst="downArrow">
            <a:avLst>
              <a:gd name="adj1" fmla="val 50000"/>
              <a:gd name="adj2" fmla="val 3844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7800" y="5486400"/>
            <a:ext cx="470556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origine della variazione del DNA mitocondriale umano risale a 150000 anni fa in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0104800">
            <a:off x="6603840" y="3657600"/>
            <a:ext cx="330480" cy="990720"/>
          </a:xfrm>
          <a:custGeom>
            <a:avLst/>
            <a:gdLst>
              <a:gd name="textAreaLeft" fmla="*/ 44280 w 330480"/>
              <a:gd name="textAreaRight" fmla="*/ 286200 w 33048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1160" y="4572000"/>
            <a:ext cx="26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dicina leg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1520" y="4952880"/>
            <a:ext cx="330480" cy="381240"/>
          </a:xfrm>
          <a:prstGeom prst="downArrow">
            <a:avLst>
              <a:gd name="adj1" fmla="val 50000"/>
              <a:gd name="adj2" fmla="val 2884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0680" y="5349960"/>
            <a:ext cx="412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 marcatori genetici sono usati per confrontare il genotipo dei sospetti con gli elementi trovati sul luogo del deli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6800" y="807480"/>
            <a:ext cx="8420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934"/>
                </a:solidFill>
                <a:latin typeface="Comic Sans MS"/>
              </a:rPr>
              <a:t>Polimorfismi del DNA mitocondriale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416800" y="698400"/>
            <a:ext cx="1198800" cy="98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41D-DBDF-46A2-9594-90397E8CD9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60240" y="1905120"/>
            <a:ext cx="875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oclonia: improvvisa contrazione di un gruppo di muscoli che causa un movimento spasmo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0240" y="304812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bre rosse sfilacciate: cellule muscolari con un anello di materiale a colorazione rossa circondante la periferia (mitocondri dall’aspetto anorm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30680" y="2895480"/>
            <a:ext cx="4042080" cy="2878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60240" y="5791320"/>
            <a:ext cx="875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tri fenotipi: atassia, spasticita’, demenza, sordita’ neurosensoriale e atrofia o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8400" y="1059840"/>
            <a:ext cx="8420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MERRF (</a:t>
            </a:r>
            <a:r>
              <a:rPr b="1" lang="en-US" sz="2400" spc="-1" strike="noStrike">
                <a:solidFill>
                  <a:srgbClr val="ff0710"/>
                </a:solidFill>
                <a:latin typeface="Comic Sans MS"/>
              </a:rPr>
              <a:t>myoclonic epilepsy with ragged red fibers</a:t>
            </a: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121600" y="609480"/>
            <a:ext cx="1494000" cy="12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CE3-0151-4DD2-A17F-1A38338C47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01600" y="1523880"/>
            <a:ext cx="894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presenza di un gran numero di mitocondri dall’aspetto anormale (fibre rosse sfilacciate) nelle cellule muscolari suggerisce fortemente che il mitocondrio sia la sede della patologia nei soggetti affetti dalla MERR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2200" y="326376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che l’eredita’ materna e’ compatibile con quest’ipote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2200" y="431784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patogenesi della malattia puo’ essere vista come un diffuso deficit della produzione di energia nei mitocond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280" y="5308560"/>
            <a:ext cx="90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tessuti piu’ sensibili al danneggiamento della funzione mitocondriale sono i tessuti aerobi (es. neuroni e cellule muscola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0680" y="932760"/>
            <a:ext cx="8420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MERRF (</a:t>
            </a:r>
            <a:r>
              <a:rPr b="1" lang="en-US" sz="2400" spc="-1" strike="noStrike">
                <a:solidFill>
                  <a:srgbClr val="ff0710"/>
                </a:solidFill>
                <a:latin typeface="Comic Sans MS"/>
              </a:rPr>
              <a:t>myoclonic epilepsy with ragged red fibers</a:t>
            </a: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737560" y="673200"/>
            <a:ext cx="1168560" cy="95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823-D0F7-40D5-BF15-0692B0F6B1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33400" y="1905120"/>
            <a:ext cx="6410520" cy="4595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77800" y="5181480"/>
            <a:ext cx="14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Visual Evoked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533412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7800" y="5410080"/>
            <a:ext cx="156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Elettroencefalograf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556272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2120" y="1701720"/>
            <a:ext cx="14860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isura della capacita’ del muscolo di eseguire la fosforilazione ossidativa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87600" y="1727280"/>
            <a:ext cx="3117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5720" y="754920"/>
            <a:ext cx="8420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MERRF (</a:t>
            </a:r>
            <a:r>
              <a:rPr b="1" lang="en-US" sz="2400" spc="-1" strike="noStrike">
                <a:solidFill>
                  <a:srgbClr val="ff0710"/>
                </a:solidFill>
                <a:latin typeface="Comic Sans MS"/>
              </a:rPr>
              <a:t>myoclonic epilepsy with ragged red fibers</a:t>
            </a: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C3C0-1E89-45C2-B6FB-E063043741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422360"/>
            <a:ext cx="982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 e’ dimostrato un deficit dell’attivita’ dei complessi I e IV nella MERRF, coerentemente col fatto che essi sono costituiti da peptidi codificati nel mitocond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560" y="2908440"/>
            <a:ext cx="969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le cellule di questi soggetti le proteine mitocondriali ad alto peso molecolare venivano sintetizzate in misura minore rispetto alla nor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4584600"/>
            <a:ext cx="975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e puo’ un’alterazione mitocondriale spiegare questi dat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86240" y="4991040"/>
            <a:ext cx="247680" cy="6858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4440" y="5689440"/>
            <a:ext cx="908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nsizione A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 in posizione 8344 nel tRNA per la lisina trovata in 3 soggetti affetti da MER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9760" y="742320"/>
            <a:ext cx="8420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MERRF (</a:t>
            </a:r>
            <a:r>
              <a:rPr b="1" lang="en-US" sz="2400" spc="-1" strike="noStrike">
                <a:solidFill>
                  <a:srgbClr val="ff0710"/>
                </a:solidFill>
                <a:latin typeface="Comic Sans MS"/>
              </a:rPr>
              <a:t>myoclonic epilepsy with ragged red fibers</a:t>
            </a: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044-55CE-4ED2-8411-900917A838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12920" y="1523880"/>
            <a:ext cx="9245520" cy="230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95360" y="4038480"/>
            <a:ext cx="916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ssono essere causate da mutazioni puntiformi, delezioni o riarrangiamenti di vaste proporzioni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60" y="5257800"/>
            <a:ext cx="924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prime sono di origine materna, mentre le seconde si verificano sporad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4960" y="749520"/>
            <a:ext cx="6286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ltre patologie mitocondrial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858080" y="609480"/>
            <a:ext cx="1757520" cy="14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B7A-45AE-47F8-ACC5-F3AB92D17A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117440"/>
            <a:ext cx="5425920" cy="4880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22040" y="635760"/>
            <a:ext cx="462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710"/>
                </a:solidFill>
                <a:latin typeface="Comic Sans MS"/>
              </a:rPr>
              <a:t>Il DNA mitocondrial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5557680" y="841320"/>
            <a:ext cx="37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0.0005% del genoma 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67360" y="1308240"/>
            <a:ext cx="4610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 struttura del genoma mitocondriale mostra una maggiore somiglianza con i genomi procariotici che con quelli eucariotici: i geni sono privi di introni e vengono trascritti come mRNA policistronici a partire da due promo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76880" y="3835440"/>
            <a:ext cx="462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u ciascun filamento della doppia elica c’e’ un sito di inizio della sintesi di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5867280"/>
            <a:ext cx="7023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le sequenze di DNA poste tra i geni codificanti per proteine codificano per i tR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E24-2246-4D5D-B5CB-FE610B8D93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25480" y="1676520"/>
            <a:ext cx="858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iste in oftalmoplegia esterna progressiva, retinopatia pigmentosa e altri fenotipi come atassia cerebellare e aumento di proteine a livello del liquido cerebro-spina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3040" y="3657600"/>
            <a:ext cx="858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esordio avviene prima dei 20 anni con decorso progressivo, decesso di solito prima dei 50 ann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3040" y="4800600"/>
            <a:ext cx="875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causata da delezioni del DNA mitocondriale (in rari casi duplicazioni) causanti la rimozione di numerosi geni mitocondriali per proteine e tRNA, generalmente sporadiche ed eteroplasmich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1440" y="780480"/>
            <a:ext cx="5130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Sindrome di Kearns-Sayre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64520" y="609480"/>
            <a:ext cx="1351080" cy="11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E9A-18A0-4346-9E66-854B737F33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25520" y="1479600"/>
            <a:ext cx="9327960" cy="53784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8680" y="742320"/>
            <a:ext cx="8420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Sindrome di Kearns-Sayre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743960" y="812880"/>
            <a:ext cx="1757160" cy="14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CF87-96AD-4B83-AE0E-1E8AD1EAA0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2120" y="1612800"/>
            <a:ext cx="968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LAS(mitochondrial encephalomyopathy,lactic acidosis,strokelike episo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79720" y="1676520"/>
            <a:ext cx="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2120" y="234936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tazione puntiforme in pos. 3243 o 3771 all’interno del gene del tR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leu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eteroplasmica e variabile nell’espressi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360" y="3352680"/>
            <a:ext cx="735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HON (Leber hereditary optic neuropath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79720" y="373392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39960" y="37591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verse mutazioni puntifor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7480" y="4800600"/>
            <a:ext cx="78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ARP (Neuropathy, Ataxia e Retinitis Pigmentos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2280" y="5257800"/>
            <a:ext cx="72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tazione puntiforme in pos.8993 nel gene dell’ATP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49600" y="5486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01400" y="838440"/>
            <a:ext cx="490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ELAS  LHON NARP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51920" y="609480"/>
            <a:ext cx="1363680" cy="111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C5B2-9A4F-40B7-B4C7-976EF3EF61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30120" y="153684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alcuni casi, delezioni mitocondriali differenti tra loro sono causate da una mutazione nucleare che conduce ad un’instabile replicazione del DNA mitocond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3360" y="2490840"/>
            <a:ext cx="6578640" cy="4367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346880" y="4495680"/>
            <a:ext cx="2228760" cy="1313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iduzione della quantita’ di DNA mitocondrial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280" y="444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utazioni nuclear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709-98A0-4BC6-8BEC-F4734BD717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iagnostic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326880" y="201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56880" y="2205000"/>
            <a:ext cx="9942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diagnostica di queste mutazioni si avvale sempre delle stes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cniche utilizzate per il DNA nucleare, complicata dal fat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e bisogna esaminare piu’ tessuti perche’ alcuni, a cau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l’eteroplasmia, potrebbero non avere mitocondri mutat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verne pochissimi (ricordate che dimostrare che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sa non c’e’ e’ piu’ difficile che dimostrarne la presenz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 da se’ che per le mutazioni mitocondriali non e’ possi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eguire diagnosi prena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9FD-0325-47A2-B277-04099EC8A0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806560" y="609480"/>
            <a:ext cx="4292640" cy="41911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8440" y="4392000"/>
            <a:ext cx="8102520" cy="24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materiale didattico e’ presente in rete :</a:t>
            </a:r>
            <a:br>
              <a:rPr sz="2400"/>
            </a:br>
            <a:r>
              <a:rPr b="1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biologia.uniba.it/DIGEMI/Didattica.htm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presenti anche i file PDF degli articoli necessar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 la preparazione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A3D3-2197-4C0D-8BD8-1491521857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743960" y="576360"/>
            <a:ext cx="2162160" cy="177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1480" y="1968480"/>
            <a:ext cx="8832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bbene la maggior parte delle proteine mitocondriali siano codificate da geni nucleari, alcune di esse sono codificate da geni mitocondriali e le mutazioni a loro carico possono condurre a difetti del metabolismo energe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0400" y="3759120"/>
            <a:ext cx="883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DNA mitocondriale codifica 13 peptidi, che costituiscono subunita’ di proteine necessarie per la fosforilazione ossidativa, 22 tRNA e 2 r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5960" y="5372280"/>
            <a:ext cx="883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fosforilazione ossidativa richiede piu’ di 60 proteine, la maggior parte di esse codificate nel nucleo e trasportate nel mitocond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889200"/>
            <a:ext cx="8420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710"/>
                </a:solidFill>
                <a:latin typeface="Comic Sans MS"/>
              </a:rPr>
              <a:t>Il DNA mitocondrial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E4F-3E39-4E77-B6A6-71CBF9E6F7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1847880"/>
            <a:ext cx="8182080" cy="5010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38400" y="831240"/>
            <a:ext cx="561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Fosforilazione ossidativa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881840" y="766800"/>
            <a:ext cx="2024280" cy="166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1CF-743F-458B-AFDB-559D8ECAFE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55080" y="1940040"/>
            <a:ext cx="96415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 una struttura cromatinica diversa: non e’ protet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gli ist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8000" y="1454040"/>
            <a:ext cx="76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93% del DNA mitocondriale e’ codif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8400" y="495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ttenzion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12240" y="2935440"/>
            <a:ext cx="97405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ando incontro a numerosissimi cicli di replicaz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piu’ soggetto agli errori della macchina replicati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fonte di mutazioni anche nel nucle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8520" y="4419720"/>
            <a:ext cx="94129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meccanismi di riparo sono meno efficienti rispet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 DNA nucle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0400" y="5265720"/>
            <a:ext cx="92512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3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utto cio’ fa si che un certo numero di pat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tiche siano originate da alterazioni della fun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tocondri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578-DEE9-4E42-9841-5D06976D45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1608120"/>
            <a:ext cx="9245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te delle molecole che garantiscono la fun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tocondriale sono codificate dal DNA nucleare. Quindi alc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ologie mitocondriali sono dovute a mutazioni patogeneti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 DNA nucleare e, seguondo le leggi di Mendel nella lo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smissione, possono essere studiate e diagnosticate 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tte le altre. In questi casi il mitocondrio non e’ altro che una delle tante strutture della cellula che dipende dal nucleo per la propria fun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funzione “produzione di energia” puo’, quindi, ven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omessa  per due ragio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tazione dei geni nuclea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tazione dei geni mitocondr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ttenzion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D844-197D-4D1A-A840-57407E4A56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640" y="2446200"/>
            <a:ext cx="978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segregazione casuale dei mitocondri fa si che le cellule figl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n possiedano la stessa quantita’ di mitocondri mu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eteroplasmia) e quindi il fenotipo puo’ essere diverso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ggetto a soggetto. Solo poche malattie da alterazioni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NA mitocondriale sono caratterizzate dalla presenza d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ssa mutazione in tutte le cellule (omoplasmi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258840" y="1606680"/>
            <a:ext cx="104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tazione dei geni mitocondriali: un’ ulteriore compl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ttenzion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B570-7AB0-4EE3-8285-8F21260533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57360" y="660240"/>
            <a:ext cx="5146920" cy="6019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731000" y="914400"/>
            <a:ext cx="1757520" cy="14414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040" y="3632400"/>
            <a:ext cx="3136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teroplasmi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A9E-73C0-42FF-A84D-11C9ED5B9B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09520" y="1943280"/>
            <a:ext cx="899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patologie mitocondriali mostrano un vasto spettro di variabilita’ dell’espressione sia all’interno di una famiglia che tra famigl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5840" y="3556080"/>
            <a:ext cx="899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rante la divisione cellulare ciascuna molecola di DNA mitocondriale si replica  e segrega passivamente nelle cellule figl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5840" y="53848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cellule possono quindi contenere sia mitocondri wild-type che mutanti in differenti quantita’ re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3600" y="787680"/>
            <a:ext cx="355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934"/>
                </a:solidFill>
                <a:latin typeface="Comic Sans MS"/>
              </a:rPr>
              <a:t>Eteroplasmi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921800" y="533520"/>
            <a:ext cx="1757160" cy="14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2D3-F085-4B18-9488-F8CA2F797C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8:54:06Z</dcterms:created>
  <dc:creator>Palumbo</dc:creator>
  <dc:description/>
  <dc:language>en-US</dc:language>
  <cp:lastModifiedBy>Mariano Rocchi</cp:lastModifiedBy>
  <cp:lastPrinted>2003-05-28T11:36:27Z</cp:lastPrinted>
  <dcterms:modified xsi:type="dcterms:W3CDTF">2008-04-23T11:17:10Z</dcterms:modified>
  <cp:revision>244</cp:revision>
  <dc:subject/>
  <dc:title>Procedimento sperimentale di Mendel</dc:title>
</cp:coreProperties>
</file>