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4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7.pct" ContentType="image/x-pict"/>
  <Override PartName="/ppt/media/image2.pct" ContentType="image/x-pict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874250" cy="7408863"/>
  <p:notesSz cx="740886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A76A-FA35-4585-B5B6-2A6B082C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88A-087C-4D5E-90F9-E8A74D05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563B-7D8A-44BA-A5FD-B05D2DF33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876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2139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876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461840"/>
            <a:ext cx="27025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E091-AF47-4F05-8229-C5E3FBF0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C941-32D0-4FD9-BA12-A7CE8768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29C1-169C-4AB5-96DC-8367E140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CF53-1CBB-457D-B1F6-40F36EFB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568B-C5E4-4460-AA49-174AC848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60240"/>
            <a:ext cx="839340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653-3CFD-46EF-91E3-218E997B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1203-FF9E-4CC4-B8EA-99E31B83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1800" y="4461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555-5E45-44DC-8507-6E961C4E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1800" y="2139840"/>
            <a:ext cx="409572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461840"/>
            <a:ext cx="8393400" cy="2120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4DE9-3B4B-4C5A-994B-CE5786C8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2139840"/>
            <a:ext cx="8393400" cy="44452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rmAutofit/>
          </a:bodyPr>
          <a:p>
            <a:pPr marL="320760" indent="-320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6960" indent="-2682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316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3360" indent="-2160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0320" indent="-2142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0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74640" y="6746760"/>
            <a:ext cx="312588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76880" y="6746760"/>
            <a:ext cx="2057400" cy="495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t">
            <a:noAutofit/>
          </a:bodyPr>
          <a:lstStyle>
            <a:lvl1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76D0A2CD-D004-4C19-9CDE-16DF2F347973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410080"/>
            <a:ext cx="8393400" cy="9907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Organizzazione del genoma um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59520" y="6781680"/>
            <a:ext cx="136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zione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733920" y="990720"/>
            <a:ext cx="353844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1752480"/>
            <a:ext cx="925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0% del genoma e’ composto da gruppi di sequen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n alleliche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 mappano  percio’ in  locus diversi, ma sono strettamente correlate, sono presenti cioe’ sequenze con un numero di copie mult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3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181480" y="609480"/>
            <a:ext cx="405936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miglie multigen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52280" y="4038480"/>
            <a:ext cx="972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dizionalmente sulla base della cinetica di riassociazione il genoma umano e’ suddiviso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NA a singola copia o con un numero di copie molto ba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NA moderatamente ri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NA altamente ripet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4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04920" y="1143000"/>
            <a:ext cx="921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numero di copie di una sequenza puo’ essere identificato e studiato attravers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120" y="2057400"/>
            <a:ext cx="923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l sequenziamento per identificare l’appartenenza di nuove sequen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d una famiglia gia’ descritta e definire il grado di omolog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ra le diverse cop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494160"/>
            <a:ext cx="991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’analisi su Southern blot di una nuova sequenza clonata rivela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esenza di un pattern complesso di ibridazione. La sequenza puo’ quin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sere utilizzata per identificare e clonare le altre. Lo screening di u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ibrary genomica identifica un numero di positivi superiori all’atteso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ferma la supposizione consentendo il clonaggio delle sequenze correl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4120" y="5562720"/>
            <a:ext cx="958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partire da una sequenza nota di cui e’ noto esistere copie nel g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ttraverso l’uso di primers degenerati delle regioni che si suppone si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servate, si possono amplificare tramite PCR,le altre sequen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86400" y="533160"/>
            <a:ext cx="3906720" cy="711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miglie multigen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80880" y="1724040"/>
            <a:ext cx="925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definizione di famiglia e’ operativa, e’ indipendente dalla natura delle sequ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3127320"/>
            <a:ext cx="956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ue sequenze vengono definite come appartenenti alla stessa famiglia quando presentan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mologia di sequenz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nche in una regione ristretta della sequ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5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21720" y="4924440"/>
            <a:ext cx="905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miglie multigeniche: DNA ripetuto che contiene ge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n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09000" y="6035760"/>
            <a:ext cx="67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miglie  di sequenze di DNA non ge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81480" y="685440"/>
            <a:ext cx="413568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miglie multigen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76920" y="838080"/>
            <a:ext cx="4440240" cy="787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Famiglie  multigen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828800"/>
            <a:ext cx="853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miglie multigeniche: DNA ripetuto che contiene geni funzio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352680"/>
            <a:ext cx="95248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 famiglie presentano variabilita’ nella omologia con la sequenza di riferimento e nel grado con cui le sequenze conservate definiscono la famiglia.  Ne deriva che l’appartenenza ad una famiglia e’ data non solo dall’omologia complessiva , ma dal presentare un dominio condiviso o organizzazione simile. Si possono presentare raggruppati o distribuiti nel genoma. Alcuni membri possono essere non funzionali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seudog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6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898560" y="1598760"/>
            <a:ext cx="1839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3120" y="1495440"/>
            <a:ext cx="85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miglie multigeniche: DNA ripetuto che contiene g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2743200"/>
            <a:ext cx="9875880" cy="388620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77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638320" y="609120"/>
            <a:ext cx="390708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miglie multigen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49400" y="1981080"/>
            <a:ext cx="9747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pie non funzionali del DNA genomico di un gen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engono esoni, introni  e spesso le sequenze fiancheggianti. Data la loro somiglianz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ll’organizzazione genomica, la loro natura non funzionale puo’ essere riconosciuta,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vello di sequenza, dalla presenza di codoni di stop nella regione corrispondente al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rzione codificante del gene funzionale o dalla presenza di un’elevato numero d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tazioni ognuna della quali originerebbe  una molecola muta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o comuni nelle famiglie di geni raggrupp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4200" y="4800600"/>
            <a:ext cx="9528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alvolta possono venire espressi a livello di RNA o addirittura co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lipeptide, che non viene utilizzato nella molecola funziona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e della globina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 sicuramente viene espresso, ma non se ne riscont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 presenza nell’emoglobina fun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9067680" y="678168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8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5880" y="761760"/>
            <a:ext cx="322128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Pseudogeni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3640" y="1295280"/>
            <a:ext cx="89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eudogeni non processati : convenzionali ed espres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362320" y="378288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781320" y="685800"/>
            <a:ext cx="2514600" cy="9144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Pseudogeni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9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457200" y="1676520"/>
            <a:ext cx="88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rivano da duplicazione genica, per effetto d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versione genica rendono un locus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ot-spo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di m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3630600"/>
            <a:ext cx="380880" cy="22860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3630600"/>
            <a:ext cx="380880" cy="22860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630600"/>
            <a:ext cx="380880" cy="22860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781680" y="3630600"/>
            <a:ext cx="533520" cy="2286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772400" y="3630600"/>
            <a:ext cx="533520" cy="2286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610480" y="3630600"/>
            <a:ext cx="381240" cy="22860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3630600"/>
            <a:ext cx="533520" cy="2286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94280" y="3132000"/>
            <a:ext cx="45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96320" y="3211560"/>
            <a:ext cx="68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946040" y="322416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637960" y="322416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91760" y="3187800"/>
            <a:ext cx="50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787160" y="3187800"/>
            <a:ext cx="50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617680" y="326376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393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81680" y="393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848720" y="3935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10480" y="39355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7080" y="3255840"/>
            <a:ext cx="20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ggrupp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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6p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62320" y="507852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4925880"/>
            <a:ext cx="533160" cy="2286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05520" y="4925880"/>
            <a:ext cx="533160" cy="2286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62760" y="4925880"/>
            <a:ext cx="380880" cy="22860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162920" y="4925880"/>
            <a:ext cx="533160" cy="2286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229600" y="4925880"/>
            <a:ext cx="533520" cy="2286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925880"/>
            <a:ext cx="533520" cy="2286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87080" y="4427640"/>
            <a:ext cx="33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71120" y="4545000"/>
            <a:ext cx="6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01120" y="4519440"/>
            <a:ext cx="60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43480" y="4483080"/>
            <a:ext cx="459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36080" y="44830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5230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62920" y="5230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05920" y="5230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13000" y="45450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1560" y="442440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ggrupp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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1p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495680" y="5230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81480" y="5230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62320" y="637380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91320" y="6221520"/>
            <a:ext cx="533160" cy="2286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34320" y="6221520"/>
            <a:ext cx="533160" cy="2286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229600" y="6221520"/>
            <a:ext cx="533520" cy="2286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24080" y="6221520"/>
            <a:ext cx="533520" cy="2286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124080" y="6526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934320" y="6526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05920" y="6526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7280" y="6526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95680" y="6221520"/>
            <a:ext cx="381240" cy="22860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280" y="5846760"/>
            <a:ext cx="20811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ggrupp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mone d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scita 17q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918880" y="588636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CH-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345560" y="5886360"/>
            <a:ext cx="6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S-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04200" y="5886360"/>
            <a:ext cx="6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S-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31280" y="588636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CH-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120880" y="588636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S-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444920" y="6526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410080" y="685440"/>
            <a:ext cx="2764080" cy="9399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e2c02"/>
                </a:solidFill>
                <a:latin typeface="Comic Sans MS"/>
              </a:rPr>
              <a:t>Pseudogeni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36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80880" y="1828800"/>
            <a:ext cx="92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rivano da duplicazione genica e accumulo progressivo di mut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464832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0" y="411480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0" y="5257800"/>
            <a:ext cx="838080" cy="2286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19720" y="411480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419720" y="5257800"/>
            <a:ext cx="838080" cy="228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34320" y="4952880"/>
            <a:ext cx="838080" cy="228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934320" y="4114800"/>
            <a:ext cx="838080" cy="2286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934320" y="5791320"/>
            <a:ext cx="838080" cy="228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0360" y="419112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3886200"/>
            <a:ext cx="685800" cy="152280"/>
          </a:xfrm>
          <a:custGeom>
            <a:avLst/>
            <a:gdLst>
              <a:gd name="textAreaLeft" fmla="*/ 119880 w 685800"/>
              <a:gd name="textAreaRight" fmla="*/ 497160 w 6858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95680" y="3886200"/>
            <a:ext cx="685800" cy="152280"/>
          </a:xfrm>
          <a:custGeom>
            <a:avLst/>
            <a:gdLst>
              <a:gd name="textAreaLeft" fmla="*/ 119880 w 685800"/>
              <a:gd name="textAreaRight" fmla="*/ 497160 w 6858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010280" y="3886200"/>
            <a:ext cx="685800" cy="152280"/>
          </a:xfrm>
          <a:custGeom>
            <a:avLst/>
            <a:gdLst>
              <a:gd name="textAreaLeft" fmla="*/ 119880 w 685800"/>
              <a:gd name="textAreaRight" fmla="*/ 497160 w 6858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10280" y="4724280"/>
            <a:ext cx="685800" cy="152640"/>
          </a:xfrm>
          <a:custGeom>
            <a:avLst/>
            <a:gdLst>
              <a:gd name="textAreaLeft" fmla="*/ 119880 w 685800"/>
              <a:gd name="textAreaRight" fmla="*/ 497160 w 6858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64400" y="3505320"/>
            <a:ext cx="1233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let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4724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1905120" y="4343400"/>
            <a:ext cx="457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05120" y="4724280"/>
            <a:ext cx="3808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53880" y="4343400"/>
            <a:ext cx="153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upl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00400" y="4191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541008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62720" y="419112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5577840" y="5013720"/>
            <a:ext cx="1182600" cy="297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577840" y="5507280"/>
            <a:ext cx="1182600" cy="29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48680" y="45021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versific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779240" y="396252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1148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86600" y="41148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99360" y="3962520"/>
            <a:ext cx="1401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igi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99360" y="4761000"/>
            <a:ext cx="1401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rrel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83920" y="4800600"/>
            <a:ext cx="5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702560" y="564048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29600" y="5562720"/>
            <a:ext cx="1401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ss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u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02440" y="37339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65920" y="487692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p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19120" y="47800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95440" y="523728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0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19560" y="685440"/>
            <a:ext cx="3220920" cy="6094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seudogeni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1828800"/>
            <a:ext cx="883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eudogeni non processati sono presenti nel ge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regioni non sinteniche con la copia codific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505320"/>
            <a:ext cx="8832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atteristica di questi pseudogeni e’ di essere co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oncate del gene. La loro localizzazione e’ prevalentamente pericentromerica e la loro presenza in queste viene ascritta alla plasticita’ pericentromerica che costituisce un aspetto particolare della piu’ generale plasticita’ insita nel genoma um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28600" y="1143000"/>
            <a:ext cx="9393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seudogeni processati : sono copie non funzionali degli esoni di un gene espresso e si ritrovano nelle famiglie dei geni interspersi. La loro origine sembrerebbe dovuta all’integrazione di una sequenza di DNA originatesi per azione di una trascrittasi in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8280" y="3581280"/>
            <a:ext cx="855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sono copie di trascritti dalla RNApolimerasi II di solito non sono espres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che’ privi del promotore. Possono venir espressi se integrati vicino ad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motore, in questo caso l’espressione potrebbe non essere nello spazi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l tempo quella originaria (espressione selettiva in un tessuto specifico e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uno specifico momento nello sviluppo: geni espressi nel testicolo, S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4520" y="5715000"/>
            <a:ext cx="90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 sono copie di trascritti dalla RNApolimerasi III possono avere al loro in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 promotore ed essere espressi. Possono raggiungere un elevato numero di cop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sequenze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Alu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e LINE-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067680" y="678168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41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5880" y="685440"/>
            <a:ext cx="3221280" cy="4064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seudogeni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>
            <a:off x="6553080" y="3276720"/>
            <a:ext cx="0" cy="3045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10280" y="2057400"/>
            <a:ext cx="2667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enoma mitocondri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6.6 - 37 gen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/>
          <p:nvPr/>
        </p:nvSpPr>
        <p:spPr>
          <a:xfrm>
            <a:off x="8153280" y="2895480"/>
            <a:ext cx="0" cy="3812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327800" y="3200400"/>
            <a:ext cx="113040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ue geni p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 RN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686800" y="3200400"/>
            <a:ext cx="106668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2 geni p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RN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994360" y="3213000"/>
            <a:ext cx="1092240" cy="5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3 geni per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olipeptidi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848720" y="3276720"/>
            <a:ext cx="0" cy="30456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25480" y="1447920"/>
            <a:ext cx="1968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enoma nucleare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3000 Mb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~ 50.000 geni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0880" y="3352680"/>
            <a:ext cx="1486080" cy="7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eni e sequenze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rrelati ai geni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82880" y="3335400"/>
            <a:ext cx="1079640" cy="7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NA 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xtragenico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166356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018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4008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01800" y="29718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7520" y="26733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40600" y="2649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280" y="5316480"/>
            <a:ext cx="1041480" cy="77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NA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odificante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828800" y="5316480"/>
            <a:ext cx="1371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NA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 codificante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41148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449568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44956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495680"/>
            <a:ext cx="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0040" y="41734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8600" y="41590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4880" y="44956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iche o moderat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ipet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838080" y="6400800"/>
            <a:ext cx="10670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seudogeni</a:t>
            </a:r>
            <a:endParaRPr b="0" lang="en-US" sz="1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438280" y="6426360"/>
            <a:ext cx="12956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rammenti 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enici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038480" y="6400800"/>
            <a:ext cx="1447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troni, 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sequenze non 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adotte ecc..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66680" y="6019920"/>
            <a:ext cx="5335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6019920"/>
            <a:ext cx="685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743200" y="6095880"/>
            <a:ext cx="0" cy="2286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486400" y="50292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uniche o con basso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umero di copie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772400" y="5029200"/>
            <a:ext cx="1600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a mediamente ad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ltamente ripetute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934320" y="6553080"/>
            <a:ext cx="1295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 tandem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 raggruppate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458200" y="655308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tersperse</a:t>
            </a:r>
            <a:endParaRPr b="0" lang="en-US" sz="16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8839080" y="5791320"/>
            <a:ext cx="4572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648200" y="5791320"/>
            <a:ext cx="3524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7600" y="4114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4648320"/>
            <a:ext cx="5105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76312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77160" y="43131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8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98320" y="43434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~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9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784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352584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enoma 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1676520"/>
            <a:ext cx="416088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82160" y="1066680"/>
            <a:ext cx="931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seudogeni processati : sono copie non funzionali degli esoni di un gene espressoe si ritrov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lle famiglie dei geni interspersi. La loro origine sembrerebbe dovuta all’integrazione di u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quenza di DNA originatesi per azione di una trascrittasi inver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" y="28954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95280" y="2819520"/>
            <a:ext cx="304920" cy="152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2819520"/>
            <a:ext cx="304560" cy="152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14600" y="2819520"/>
            <a:ext cx="304920" cy="152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281952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90720" y="2819520"/>
            <a:ext cx="30456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09680" y="281952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2743200"/>
            <a:ext cx="228600" cy="304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5400000">
            <a:off x="1294920" y="327672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4038480"/>
            <a:ext cx="304560" cy="1526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4038480"/>
            <a:ext cx="304920" cy="1526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752480" y="4038480"/>
            <a:ext cx="304920" cy="1526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31760" y="2514600"/>
            <a:ext cx="15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1      E2      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62120" y="375300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1 E2 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86600" y="3111480"/>
            <a:ext cx="21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ascrizion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aturazione dell’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44800" y="3927600"/>
            <a:ext cx="1948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AAA…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3’  m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5400000">
            <a:off x="1294920" y="449568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742760" y="4330800"/>
            <a:ext cx="119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ascritta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ver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23080" y="394956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9840" y="516888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447920" y="5283360"/>
            <a:ext cx="30456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143000" y="528336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752480" y="528336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499752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1 E2 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172240" y="5181480"/>
            <a:ext cx="1781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TTT…T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  5  ’cD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34040" y="2743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67080" y="2502000"/>
            <a:ext cx="88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AAA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848720" y="2743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3178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31880" y="2936880"/>
            <a:ext cx="80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TTT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86880" y="31654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18680" y="257796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920800" y="29718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904960" y="25020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872680" y="29718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629400" y="2463840"/>
            <a:ext cx="38088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11234400">
            <a:off x="7848720" y="3199680"/>
            <a:ext cx="380880" cy="2286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5400000">
            <a:off x="7162200" y="350496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81480" y="407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267040" y="3809880"/>
            <a:ext cx="988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AAA..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220320" y="4038480"/>
            <a:ext cx="18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81480" y="45147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905080" y="4273560"/>
            <a:ext cx="80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TTT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991720" y="4495680"/>
            <a:ext cx="419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66480" y="391464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454320" y="380988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82320" y="430848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9435240" y="434340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10280" y="436896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05720" y="4368960"/>
            <a:ext cx="30456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15200" y="436896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78440" y="42670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TTT.. TTTT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025120" y="327672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tegrazione 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NA cromosom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121360" y="5410080"/>
            <a:ext cx="63792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240400" y="5175360"/>
            <a:ext cx="88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AAA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144000" y="5416560"/>
            <a:ext cx="44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105520" y="585144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28760" y="5610240"/>
            <a:ext cx="808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TTT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067680" y="5838840"/>
            <a:ext cx="4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806000" y="525132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561960" y="5175360"/>
            <a:ext cx="3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06000" y="5645160"/>
            <a:ext cx="3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542880" y="5680080"/>
            <a:ext cx="3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934320" y="5705640"/>
            <a:ext cx="30456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629400" y="570564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238880" y="570564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596360" y="5603760"/>
            <a:ext cx="1377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TTTT  TTTTT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70080" y="5184720"/>
            <a:ext cx="88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AAAN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978600" y="529272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673680" y="5292720"/>
            <a:ext cx="30492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83520" y="5292720"/>
            <a:ext cx="304560" cy="1522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511400" y="5181480"/>
            <a:ext cx="79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AA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5400000">
            <a:off x="6476400" y="4724280"/>
            <a:ext cx="533520" cy="228600"/>
          </a:xfrm>
          <a:custGeom>
            <a:avLst/>
            <a:gdLst>
              <a:gd name="textAreaLeft" fmla="*/ 83160 w 533520"/>
              <a:gd name="textAreaRight" fmla="*/ 466920 w 53352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53240" y="4594320"/>
            <a:ext cx="30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intesi del secon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ilamento e riparazione del D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533412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4572000" y="2209320"/>
            <a:ext cx="0" cy="312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0" y="2209680"/>
            <a:ext cx="2209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48200" y="2216160"/>
            <a:ext cx="448200" cy="36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7520" y="24703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791320" y="5181480"/>
            <a:ext cx="8380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543800" y="518148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067680" y="678168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50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477120" y="533160"/>
            <a:ext cx="3200400" cy="5331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seudogeni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76320" y="1222200"/>
            <a:ext cx="969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Geni troncati e frammenti genici: sequenze simili ad una piccola parte di un gene{frammento in 3’ o in 5’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 geni troncati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} o ad una regione molto piccola, anche u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ingolo esone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(frammento genico)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 Si ritrovano nelle famiglie a geni raggruppati e s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rmerebbero per crossing over ineguale o SCE inegua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2120" y="3352680"/>
            <a:ext cx="380880" cy="304920"/>
          </a:xfrm>
          <a:prstGeom prst="cube">
            <a:avLst>
              <a:gd name="adj" fmla="val 25000"/>
            </a:avLst>
          </a:prstGeom>
          <a:solidFill>
            <a:srgbClr val="11fd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066680" y="3352680"/>
            <a:ext cx="381240" cy="304920"/>
          </a:xfrm>
          <a:prstGeom prst="cube">
            <a:avLst>
              <a:gd name="adj" fmla="val 25000"/>
            </a:avLst>
          </a:prstGeom>
          <a:solidFill>
            <a:srgbClr val="11fd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371600" y="3352680"/>
            <a:ext cx="380880" cy="304920"/>
          </a:xfrm>
          <a:prstGeom prst="cube">
            <a:avLst>
              <a:gd name="adj" fmla="val 25000"/>
            </a:avLst>
          </a:prstGeom>
          <a:solidFill>
            <a:srgbClr val="11fd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676520" y="3352680"/>
            <a:ext cx="380880" cy="304920"/>
          </a:xfrm>
          <a:prstGeom prst="cube">
            <a:avLst>
              <a:gd name="adj" fmla="val 25000"/>
            </a:avLst>
          </a:prstGeom>
          <a:solidFill>
            <a:srgbClr val="11fd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81080" y="3352680"/>
            <a:ext cx="381240" cy="304920"/>
          </a:xfrm>
          <a:prstGeom prst="cube">
            <a:avLst>
              <a:gd name="adj" fmla="val 25000"/>
            </a:avLst>
          </a:prstGeom>
          <a:solidFill>
            <a:srgbClr val="11fd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0" y="3352680"/>
            <a:ext cx="380880" cy="304920"/>
          </a:xfrm>
          <a:prstGeom prst="cube">
            <a:avLst>
              <a:gd name="adj" fmla="val 25000"/>
            </a:avLst>
          </a:prstGeom>
          <a:solidFill>
            <a:srgbClr val="11fd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743200" y="342864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95480" y="342900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3048120" y="342864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342900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352680" y="342864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505320" y="342900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3657600" y="342864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09880" y="3429000"/>
            <a:ext cx="1526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70120" y="3089160"/>
            <a:ext cx="296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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M CIT     3’ 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944760" y="2895480"/>
            <a:ext cx="2890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: Sequenza lead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: Domini extracellula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M: sequenza transmembr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IT: Coda citoplasmatic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84920" y="3187800"/>
            <a:ext cx="170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ENI HLA Classe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9160" y="334008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8600" y="44197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56920" y="3997440"/>
            <a:ext cx="328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~2.2 Mb in 6p21 . 3  circa 20 ge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5740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5780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77240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22032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1480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2900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3888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248520" y="4876920"/>
            <a:ext cx="457200" cy="22860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048120" y="4952880"/>
            <a:ext cx="228600" cy="1526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00600" y="4952880"/>
            <a:ext cx="228600" cy="1526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7280" y="4952880"/>
            <a:ext cx="228600" cy="1526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858000" y="4952880"/>
            <a:ext cx="228600" cy="1526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458200" y="4952880"/>
            <a:ext cx="228600" cy="1526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839080" y="4952880"/>
            <a:ext cx="228600" cy="1526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52280" y="4952880"/>
            <a:ext cx="228600" cy="152640"/>
          </a:xfrm>
          <a:prstGeom prst="cube">
            <a:avLst>
              <a:gd name="adj" fmla="val 25000"/>
            </a:avLst>
          </a:prstGeom>
          <a:solidFill>
            <a:srgbClr val="3333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5130720"/>
            <a:ext cx="987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0948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29528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57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2578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240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220320" y="4800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175040" y="4425840"/>
            <a:ext cx="79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         C           E                                                   A                                       G                     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3360" y="4616280"/>
            <a:ext cx="17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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814000" y="463536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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685800" y="5562360"/>
            <a:ext cx="914400" cy="152640"/>
            <a:chOff x="685800" y="5562360"/>
            <a:chExt cx="914400" cy="152640"/>
          </a:xfrm>
        </p:grpSpPr>
        <p:sp>
          <p:nvSpPr>
            <p:cNvPr id="561" name=""/>
            <p:cNvSpPr/>
            <p:nvPr/>
          </p:nvSpPr>
          <p:spPr>
            <a:xfrm flipV="1">
              <a:off x="685800" y="5562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38080" y="55627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990360" y="556236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1295280" y="5562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447560" y="556272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3000" y="55627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728280" y="5299200"/>
            <a:ext cx="7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 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8600" y="5181480"/>
            <a:ext cx="1522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124080" y="5181480"/>
            <a:ext cx="0" cy="38124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77560" y="5562720"/>
            <a:ext cx="383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2590920" y="5715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352320" y="5715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733560" y="5176800"/>
            <a:ext cx="11430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120840" y="631188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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857680" y="632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00400" y="632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581280" y="6324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025880" y="6400440"/>
            <a:ext cx="914400" cy="152640"/>
            <a:chOff x="4025880" y="6400440"/>
            <a:chExt cx="914400" cy="152640"/>
          </a:xfrm>
        </p:grpSpPr>
        <p:sp>
          <p:nvSpPr>
            <p:cNvPr id="579" name=""/>
            <p:cNvSpPr/>
            <p:nvPr/>
          </p:nvSpPr>
          <p:spPr>
            <a:xfrm flipV="1">
              <a:off x="4025880" y="640044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78160" y="64008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330440" y="640044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635360" y="640044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787640" y="640080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83080" y="640080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4081320" y="6137280"/>
            <a:ext cx="7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 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943600" y="5105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20760" y="5486400"/>
            <a:ext cx="3834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5334120" y="5638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095520" y="56386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332040" y="6346800"/>
            <a:ext cx="27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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162840" y="6359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629400" y="6359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7013520" y="6435360"/>
            <a:ext cx="914400" cy="152640"/>
            <a:chOff x="7013520" y="6435360"/>
            <a:chExt cx="914400" cy="152640"/>
          </a:xfrm>
        </p:grpSpPr>
        <p:sp>
          <p:nvSpPr>
            <p:cNvPr id="594" name=""/>
            <p:cNvSpPr/>
            <p:nvPr/>
          </p:nvSpPr>
          <p:spPr>
            <a:xfrm flipV="1">
              <a:off x="7013520" y="6435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165800" y="64357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318080" y="643536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623000" y="6435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775280" y="643572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70720" y="64357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7068960" y="6172200"/>
            <a:ext cx="7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 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5866920" y="5105520"/>
            <a:ext cx="114300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366680" y="5715000"/>
            <a:ext cx="360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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64280" y="572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7467480" y="572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848720" y="572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8232840" y="5803560"/>
            <a:ext cx="914400" cy="152640"/>
            <a:chOff x="8232840" y="5803560"/>
            <a:chExt cx="914400" cy="152640"/>
          </a:xfrm>
        </p:grpSpPr>
        <p:sp>
          <p:nvSpPr>
            <p:cNvPr id="607" name=""/>
            <p:cNvSpPr/>
            <p:nvPr/>
          </p:nvSpPr>
          <p:spPr>
            <a:xfrm flipV="1">
              <a:off x="8232840" y="58035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385120" y="58039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8537400" y="580356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8842320" y="58035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994600" y="5803920"/>
              <a:ext cx="15264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690040" y="580392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8287920" y="5540400"/>
            <a:ext cx="7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’ 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086600" y="5105520"/>
            <a:ext cx="144792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8991720" y="5105520"/>
            <a:ext cx="45720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758440" y="6324480"/>
            <a:ext cx="644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L   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8839080" y="6337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220320" y="6337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9601200" y="647712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62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163800" y="5473800"/>
            <a:ext cx="468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324480" y="609120"/>
            <a:ext cx="3068640" cy="4827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seudogeni I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629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41240" y="660240"/>
            <a:ext cx="8250480" cy="3073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Famiglie multigeni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76320" y="1219320"/>
            <a:ext cx="9723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mic Sans MS"/>
              </a:rPr>
              <a:t>Le famiglie presentano variabilita’ nella omologia con la sequenza di riferimento e nel grado con cui le sequenze conservate definiscono la famiglia. Ne deriva che l’appartenenza ad una famiglia e’ data non solo dall’omologia complessiva, ma dal presentare un dominio condiviso o organizzazione sim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97280" y="3041640"/>
            <a:ext cx="9519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amiglia della DEAD box: geni per enzimi coinvolti nella maturazione dell’ RNA come inizio d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duzione e splicing . Vi sono 8 motivi aminoacidici conservati compresa la DEADbox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p-Glu-Ala-As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19240" y="4172040"/>
            <a:ext cx="52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H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081800" y="4172040"/>
            <a:ext cx="8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XXGK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293200" y="418464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TR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53480" y="4184640"/>
            <a:ext cx="4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397760" y="4184640"/>
            <a:ext cx="64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P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343480" y="4184640"/>
            <a:ext cx="66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27360" y="4184640"/>
            <a:ext cx="50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123320" y="4184640"/>
            <a:ext cx="80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RGX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195400" y="4184640"/>
            <a:ext cx="75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HRI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092520" y="418464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OO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9480" y="433692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066680" y="4184640"/>
            <a:ext cx="83844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260440" y="4184640"/>
            <a:ext cx="83844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462480" y="4184640"/>
            <a:ext cx="3808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02080" y="4184640"/>
            <a:ext cx="60948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34120" y="4184640"/>
            <a:ext cx="609480" cy="304920"/>
          </a:xfrm>
          <a:prstGeom prst="rect">
            <a:avLst/>
          </a:prstGeom>
          <a:noFill/>
          <a:ln w="28440">
            <a:solidFill>
              <a:srgbClr val="fe2c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288120" y="4184640"/>
            <a:ext cx="53352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164360" y="4184640"/>
            <a:ext cx="736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178840" y="4184640"/>
            <a:ext cx="73656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05120" y="4336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124080" y="43369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86200" y="4336920"/>
            <a:ext cx="49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016600" y="433692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43600" y="433692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832440" y="433692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912080" y="4336920"/>
            <a:ext cx="241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902800" y="4336920"/>
            <a:ext cx="241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80" y="4718160"/>
            <a:ext cx="9489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amiglia dell’unita’ ripetuta WD: geni che codificano per prodotti con funzioni diverse,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utti coinvolti nella regolazione cellulare(divisione,trascrizione …..). I prodotti presentano da 4 a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nita’ ripetute in tandem, contenenti un “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cor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” di lunghezza fissa (27-45AA) che termina 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l dipeptide WD:Trp-Asp. Il WD e’ preceduta da un’unita’ la cui lunghezza puo’ variare nelle di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ipetizi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96680" y="3944880"/>
            <a:ext cx="491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2-42            19-29     17-29         17-23       19-51      115-192      20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97200" y="64706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909960" y="6267600"/>
            <a:ext cx="447480" cy="30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46640" y="64706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433120" y="6267600"/>
            <a:ext cx="485640" cy="30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W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771640" y="6013440"/>
            <a:ext cx="3276720" cy="7621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187680" y="626112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N=4-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083760" y="6180120"/>
            <a:ext cx="48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6-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636440" y="6165720"/>
            <a:ext cx="57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3-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rot="16173600">
            <a:off x="4800240" y="6089040"/>
            <a:ext cx="227160" cy="1446120"/>
          </a:xfrm>
          <a:custGeom>
            <a:avLst/>
            <a:gdLst>
              <a:gd name="textAreaLeft" fmla="*/ 145080 w 227160"/>
              <a:gd name="textAreaRight" fmla="*/ 227520 w 227160"/>
              <a:gd name="textAreaTop" fmla="*/ 37440 h 1446120"/>
              <a:gd name="textAreaBottom" fmla="*/ 1408680 h 144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645080" y="692784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67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952520" y="609480"/>
            <a:ext cx="421164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miglie multigen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380880" y="2293920"/>
            <a:ext cx="9266400" cy="4821120"/>
          </a:xfrm>
          <a:prstGeom prst="rect">
            <a:avLst/>
          </a:prstGeom>
          <a:ln w="0">
            <a:noFill/>
          </a:ln>
        </p:spPr>
      </p:pic>
      <p:grpSp>
        <p:nvGrpSpPr>
          <p:cNvPr id="684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685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457200" y="2286000"/>
            <a:ext cx="9144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1371600"/>
            <a:ext cx="92199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 famiglie presentano variabilita’ nella omologia con la sequenza di riferi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 nel grado con cui le sequenze conservate definiscono la famiglia.  Ne deriva 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’appartenenza ad una famiglia e’ data non solo dall’omologia complessiva , ma d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esentare un dominio condiviso o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rganizzazione sim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495680" y="838080"/>
            <a:ext cx="4135680" cy="4572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miglie multigen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898560" y="1598760"/>
            <a:ext cx="1839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182520" y="1736640"/>
            <a:ext cx="9495000" cy="298764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52280" y="5029200"/>
            <a:ext cx="9490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 membri presentano un elevato grado di omologia per quasi tutta la loro sequenza codifica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’origine evolutiva e’ chiara come pure la correlazione della funzione. La genesi da poche  seque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cestrali di alcune famiglie geniche di questo tipo, che spesso si presentano sintenich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’ dovuta alla </a:t>
            </a:r>
            <a:r>
              <a:rPr b="1" i="1" lang="en-US" sz="1600" spc="-1" strike="noStrike">
                <a:solidFill>
                  <a:srgbClr val="000000"/>
                </a:solidFill>
                <a:latin typeface="Comic Sans MS"/>
              </a:rPr>
              <a:t>evoluzione concertata (concerted evolution)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do si presentano raggruppati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ro espressione puo’ essere coordinata da un unica regione di controllo LC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9067680" y="678168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698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505320" y="761760"/>
            <a:ext cx="5202000" cy="7110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miglie geniche classi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84600" y="1447920"/>
            <a:ext cx="97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regolazione avviene nel tempo seguendo l’ordine lineare dei locus lungo il cromos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93640" y="1905120"/>
            <a:ext cx="909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l caso dei geni  globinici l’espressione e’ modulata nel corso dello svilup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ducendo forme di emoglobina differenti nei diversi stadi, la differenza e’ legataalla diversa affinita’ per l’ossigeno necessaria nei diversi periodi di sviluppo. Si instaura percio’ l’alternanza delle emoglob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1"/>
          <a:stretch/>
        </p:blipFill>
        <p:spPr>
          <a:xfrm>
            <a:off x="1828800" y="3370320"/>
            <a:ext cx="5791320" cy="392436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9067680" y="678168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709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40880" y="659880"/>
            <a:ext cx="8393400" cy="863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Famiglie geniche classiche: rego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6111720" y="60404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876920" y="4724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9480" y="1752480"/>
            <a:ext cx="9197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 LCR si trovano a monte dei raggruppamenti e la loro funzione sarebbe quella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rganizzare il raggruppamento in un dominio di cromatina attiva, agendo come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enhanc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0000" y="2743200"/>
            <a:ext cx="963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cromatina attiva si presenta sensibile alla Dnasi I e grazie a questa caratteri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no state identificate le LCR per i due aggruppameni globinici. E’ stato anche possib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iconoscere che questa ipersensibilita’ e’ modulata nei diversi stadi di svilup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9067680" y="6781680"/>
            <a:ext cx="609840" cy="304920"/>
          </a:xfrm>
          <a:custGeom>
            <a:avLst/>
            <a:gdLst>
              <a:gd name="textAreaLeft" fmla="*/ 95040 w 609840"/>
              <a:gd name="textAreaRight" fmla="*/ 533880 w 6098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743200" y="4572000"/>
            <a:ext cx="533520" cy="380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523880" y="4419720"/>
            <a:ext cx="381240" cy="6094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257800" y="4572000"/>
            <a:ext cx="533520" cy="380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924680" y="4572000"/>
            <a:ext cx="533520" cy="380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162920" y="4572000"/>
            <a:ext cx="533160" cy="380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763120" y="4572000"/>
            <a:ext cx="533160" cy="3808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019920" y="4572000"/>
            <a:ext cx="533160" cy="380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343400" y="4572000"/>
            <a:ext cx="533520" cy="380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4300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0512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4724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696080" y="4724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458200" y="4724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-8640" y="449748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lob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576440" y="4154400"/>
            <a:ext cx="1360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S-40  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328280" y="4083120"/>
            <a:ext cx="51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272920" y="4076640"/>
            <a:ext cx="5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022440" y="4098960"/>
            <a:ext cx="5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238880" y="44956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8077320" y="4495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8915400" y="449568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172640" y="4114800"/>
            <a:ext cx="42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010720" y="4127400"/>
            <a:ext cx="424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840520" y="41673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352680" y="5869080"/>
            <a:ext cx="533520" cy="380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828800" y="5716440"/>
            <a:ext cx="380880" cy="6098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578560" y="5888160"/>
            <a:ext cx="533160" cy="380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686800" y="5867280"/>
            <a:ext cx="533520" cy="381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467480" y="5867280"/>
            <a:ext cx="533520" cy="38124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340320" y="5888160"/>
            <a:ext cx="533520" cy="3808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64160" y="5888160"/>
            <a:ext cx="533160" cy="3808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066680" y="6021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09680" y="60213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02040" y="604044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001000" y="6019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362320" y="5716440"/>
            <a:ext cx="380880" cy="6098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5716440"/>
            <a:ext cx="381240" cy="6098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197320" y="60404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9220320" y="6019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190520" y="532764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S-4  HS-3 HS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429000" y="54878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429000" y="579276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724280" y="586728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638680" y="58118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477120" y="58118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543800" y="57913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763120" y="57913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20240" y="5421240"/>
            <a:ext cx="462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565960" y="5430960"/>
            <a:ext cx="44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02600" y="550692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544880" y="548640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688240" y="547380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-6120" y="575928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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lob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774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740880" y="660240"/>
            <a:ext cx="8393400" cy="12319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ontrollo dei cluster globi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5964120" y="4184640"/>
            <a:ext cx="1067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210360" y="6500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210360" y="5357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499000" y="5346720"/>
            <a:ext cx="29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00320" y="1523880"/>
            <a:ext cx="8279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li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enhancer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sono brevi sequenze che agiscono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in cis.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l caso dei geni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lobinic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no costituiti da sequenze di riconoscimento per fattori di trascrizione eritroido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specifici. Si ritiene che l’alternanza delle emoglobine sia legata oltre che a fenome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 competizione dei geni per interagire con le LCR , anche all’inter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 silenziatori gene-specifici, modulati durante lo svilupp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817800" y="4086360"/>
            <a:ext cx="4161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549760" y="409572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967520" y="409572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8200" y="4095720"/>
            <a:ext cx="4161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141960" y="4095720"/>
            <a:ext cx="414360" cy="1936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838760" y="409572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286000" y="4164120"/>
            <a:ext cx="3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743200" y="4164120"/>
            <a:ext cx="10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245120" y="417348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434360" y="4173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2598840" y="3962520"/>
            <a:ext cx="525240" cy="334440"/>
            <a:chOff x="2598840" y="3962520"/>
            <a:chExt cx="525240" cy="334440"/>
          </a:xfrm>
        </p:grpSpPr>
        <p:sp>
          <p:nvSpPr>
            <p:cNvPr id="796" name=""/>
            <p:cNvSpPr/>
            <p:nvPr/>
          </p:nvSpPr>
          <p:spPr>
            <a:xfrm>
              <a:off x="2792520" y="3962520"/>
              <a:ext cx="137520" cy="315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85840" y="3975120"/>
              <a:ext cx="138240" cy="315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98840" y="3981240"/>
              <a:ext cx="138240" cy="3157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5253120" y="4173480"/>
            <a:ext cx="29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381880" y="4173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884840" y="4419720"/>
            <a:ext cx="296640" cy="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78280" y="37339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86200" y="41911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777920" y="370368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5528520" y="370836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191280" y="374652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079760" y="374652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967520" y="374004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064040" y="6402240"/>
            <a:ext cx="41580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796000" y="641196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213760" y="641196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264440" y="6411960"/>
            <a:ext cx="41580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88200" y="6411960"/>
            <a:ext cx="414360" cy="1936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084640" y="641196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286000" y="648000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491000" y="648972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680240" y="6489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2895480" y="6248520"/>
            <a:ext cx="525600" cy="334440"/>
            <a:chOff x="2895480" y="6248520"/>
            <a:chExt cx="525600" cy="334440"/>
          </a:xfrm>
        </p:grpSpPr>
        <p:sp>
          <p:nvSpPr>
            <p:cNvPr id="819" name=""/>
            <p:cNvSpPr/>
            <p:nvPr/>
          </p:nvSpPr>
          <p:spPr>
            <a:xfrm>
              <a:off x="3089520" y="6248520"/>
              <a:ext cx="137520" cy="315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282840" y="6261120"/>
              <a:ext cx="138240" cy="3153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95480" y="6267240"/>
              <a:ext cx="138240" cy="3157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2" name=""/>
          <p:cNvSpPr/>
          <p:nvPr/>
        </p:nvSpPr>
        <p:spPr>
          <a:xfrm>
            <a:off x="5499000" y="6489720"/>
            <a:ext cx="297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8628120" y="6489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124160" y="6049800"/>
            <a:ext cx="4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024160" y="601992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774400" y="602460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437520" y="6062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325640" y="606276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213400" y="60562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429000" y="6489720"/>
            <a:ext cx="61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638680" y="4191120"/>
            <a:ext cx="2970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8001000" y="4191120"/>
            <a:ext cx="297000" cy="0"/>
          </a:xfrm>
          <a:prstGeom prst="line">
            <a:avLst/>
          </a:prstGeom>
          <a:ln cap="rnd" w="93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666880" y="3505320"/>
            <a:ext cx="1524240" cy="457200"/>
          </a:xfrm>
          <a:prstGeom prst="uturnArrow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2819520" y="4191120"/>
            <a:ext cx="2361960" cy="30456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895480" y="4191120"/>
            <a:ext cx="3124440" cy="38088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 rot="21539400">
            <a:off x="3354120" y="4186080"/>
            <a:ext cx="4951440" cy="45720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064040" y="5259240"/>
            <a:ext cx="41580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796000" y="526896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213760" y="526896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264440" y="5268960"/>
            <a:ext cx="41580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388200" y="5268960"/>
            <a:ext cx="414360" cy="1936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084640" y="5268960"/>
            <a:ext cx="414360" cy="193680"/>
          </a:xfrm>
          <a:prstGeom prst="cube">
            <a:avLst>
              <a:gd name="adj" fmla="val 25000"/>
            </a:avLst>
          </a:prstGeom>
          <a:solidFill>
            <a:srgbClr val="fe2c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286000" y="533700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491000" y="534672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80240" y="5346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903400" y="5135400"/>
            <a:ext cx="525600" cy="334800"/>
            <a:chOff x="2903400" y="5135400"/>
            <a:chExt cx="525600" cy="334800"/>
          </a:xfrm>
        </p:grpSpPr>
        <p:sp>
          <p:nvSpPr>
            <p:cNvPr id="847" name=""/>
            <p:cNvSpPr/>
            <p:nvPr/>
          </p:nvSpPr>
          <p:spPr>
            <a:xfrm>
              <a:off x="3097440" y="5135400"/>
              <a:ext cx="137520" cy="3157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290760" y="5148000"/>
              <a:ext cx="138240" cy="31572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903400" y="5154120"/>
              <a:ext cx="138240" cy="31608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8628120" y="53467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130720" y="5364000"/>
            <a:ext cx="297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842080" y="5364000"/>
            <a:ext cx="296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124160" y="4906800"/>
            <a:ext cx="4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024160" y="4876920"/>
            <a:ext cx="4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774400" y="488160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437520" y="491976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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325640" y="4919760"/>
            <a:ext cx="30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213400" y="4913280"/>
            <a:ext cx="3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429000" y="5346720"/>
            <a:ext cx="61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229600" y="5397480"/>
            <a:ext cx="2970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 rot="21539400">
            <a:off x="3047760" y="5415120"/>
            <a:ext cx="5560920" cy="45720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2819520" y="5334120"/>
            <a:ext cx="3124080" cy="38088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315200" y="6527880"/>
            <a:ext cx="2970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280360" y="6527880"/>
            <a:ext cx="297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 rot="21526800">
            <a:off x="2819160" y="6476760"/>
            <a:ext cx="5943600" cy="62496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 rot="21539400">
            <a:off x="2819160" y="6477120"/>
            <a:ext cx="5029200" cy="457200"/>
          </a:xfrm>
          <a:prstGeom prst="blockArc">
            <a:avLst>
              <a:gd name="adj1" fmla="val 10008896"/>
              <a:gd name="adj2" fmla="val 791104"/>
              <a:gd name="adj3" fmla="val 15764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19880" y="3921120"/>
            <a:ext cx="19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NA nell’embr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83240" y="506412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NA nel f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36440" y="620712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NA nell’adu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871" name="" descr=""/>
            <p:cNvPicPr/>
            <p:nvPr/>
          </p:nvPicPr>
          <p:blipFill>
            <a:blip r:embed="rId6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429000" y="685800"/>
            <a:ext cx="5354640" cy="6350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ontrollo dei cluster globi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33720" y="1657440"/>
            <a:ext cx="5925960" cy="56577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03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52680" y="685440"/>
            <a:ext cx="4592880" cy="86364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l DNA mitocondr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51280" y="1697040"/>
            <a:ext cx="496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 solito in unica cop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2687760"/>
            <a:ext cx="9748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ssono appartenere a famiglie geniche originate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 duplicazione.In questo caso possono manten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unzioni correlate e possono mappare nella stes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one geno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3600" y="5334120"/>
            <a:ext cx="862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200000"/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 funzione correlata non implica la sinte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05320" y="609120"/>
            <a:ext cx="3830400" cy="762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l DNA codific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1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12840" y="1827360"/>
            <a:ext cx="30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I CHE CODIFIC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880" y="182736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RGANIZZ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01040" y="180180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SEM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8400" y="26370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esso prodo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889080" y="2590920"/>
            <a:ext cx="5984280" cy="374400"/>
            <a:chOff x="3889080" y="2590920"/>
            <a:chExt cx="5984280" cy="374400"/>
          </a:xfrm>
        </p:grpSpPr>
        <p:sp>
          <p:nvSpPr>
            <p:cNvPr id="124" name=""/>
            <p:cNvSpPr/>
            <p:nvPr/>
          </p:nvSpPr>
          <p:spPr>
            <a:xfrm>
              <a:off x="3889080" y="259704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Spesso raggruppa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66800" y="259092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eni per tRNA, istoni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42200" y="3054240"/>
            <a:ext cx="31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soforme proteiche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soenzimi tessuto-specif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356640" y="3048120"/>
            <a:ext cx="6547320" cy="711000"/>
            <a:chOff x="3356640" y="3048120"/>
            <a:chExt cx="6547320" cy="711000"/>
          </a:xfrm>
        </p:grpSpPr>
        <p:sp>
          <p:nvSpPr>
            <p:cNvPr id="128" name=""/>
            <p:cNvSpPr/>
            <p:nvPr/>
          </p:nvSpPr>
          <p:spPr>
            <a:xfrm>
              <a:off x="3356640" y="3079800"/>
              <a:ext cx="2608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alvolta raggruppa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alvolta non sinteni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14320" y="3048120"/>
              <a:ext cx="35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milasi pancreatica e saliva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60760" y="3390840"/>
              <a:ext cx="36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-actina scheletrica e cardia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10520" y="3962520"/>
            <a:ext cx="33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soenzimi specifici 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ferenti comparti cellul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3665880" y="3886200"/>
            <a:ext cx="6179040" cy="642600"/>
            <a:chOff x="3665880" y="3886200"/>
            <a:chExt cx="6179040" cy="642600"/>
          </a:xfrm>
        </p:grpSpPr>
        <p:sp>
          <p:nvSpPr>
            <p:cNvPr id="133" name=""/>
            <p:cNvSpPr/>
            <p:nvPr/>
          </p:nvSpPr>
          <p:spPr>
            <a:xfrm>
              <a:off x="3665880" y="3962520"/>
              <a:ext cx="26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Di solito non sinteni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06640" y="3886200"/>
              <a:ext cx="33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ldeide deidrogenasi (9e1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conitasi(9e22)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49400" y="475632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zimi della stes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via metabo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67320" y="474984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 solito non sinte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5700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ubunita’ della stessa molec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79920" y="570060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 solito non sinte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85240" y="567072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atene dell’emoglobina 16 e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mmunoglobuline 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8280" y="64468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igando e recet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81720" y="644040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 solito non sinten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4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7920" y="83772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Il DNA codific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9448920" cy="585000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51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0720" y="609480"/>
            <a:ext cx="6040440" cy="71136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ruttura del DNA codific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5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257440" y="380520"/>
            <a:ext cx="4135320" cy="76212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Geni dentro i g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1200" y="1143000"/>
            <a:ext cx="887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eni all’interno di altri geni sono descritti per i genomi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ganismi semplici e nei mitocondr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5400" y="2133720"/>
            <a:ext cx="9981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ei mammiferi sono descritti geni contenuti nei grandi introni di alcuni ge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differenza dei genomi piu’ semplici in questi casi spesso viene utilizzato 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ilamento opposto al gene “canonic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5360" y="3429000"/>
            <a:ext cx="898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F1: introne 27 (40Kb) contiene tre piccoli geni (2 esoni) che vengo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scritti dal filamento opp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4040" y="4267080"/>
            <a:ext cx="9298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attore VIII della coagulazione F8C: introne 22 contiene due geni c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tilizzano la stessa isola CpG nelle due direzioni. Il gen F8A vie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scritto utilizzando il filamento opposto al F8C, mentre F8B non s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a nella stessa direzione, ma sintetizza un corto mRNA che ha un es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ovo + gli esoni dal 23 al 26 di F8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4840" y="6134040"/>
            <a:ext cx="927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B1: introne 17 (72Kb) contiene il gene per il recettore della proteina 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e viene trascritto in senso opp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170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15000" y="53316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eni dentro i gen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-4320" y="1797120"/>
            <a:ext cx="9757800" cy="2286000"/>
            <a:chOff x="-4320" y="1797120"/>
            <a:chExt cx="9757800" cy="2286000"/>
          </a:xfrm>
        </p:grpSpPr>
        <p:sp>
          <p:nvSpPr>
            <p:cNvPr id="177" name=""/>
            <p:cNvSpPr/>
            <p:nvPr/>
          </p:nvSpPr>
          <p:spPr>
            <a:xfrm>
              <a:off x="1063440" y="192888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NF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14600" y="2559240"/>
              <a:ext cx="6477120" cy="228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514600" y="3092400"/>
              <a:ext cx="6477120" cy="228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48120" y="2559240"/>
              <a:ext cx="3045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05920" y="2559240"/>
              <a:ext cx="30456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32360" y="245268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938080" y="245268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648520" y="224172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sone 2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98120" y="225432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esone 2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42200" y="2108160"/>
              <a:ext cx="137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trone 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14600" y="2102040"/>
              <a:ext cx="1066680" cy="152280"/>
            </a:xfrm>
            <a:prstGeom prst="rightArrow">
              <a:avLst>
                <a:gd name="adj1" fmla="val 50000"/>
                <a:gd name="adj2" fmla="val 175118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848720" y="2102040"/>
              <a:ext cx="1066680" cy="152280"/>
            </a:xfrm>
            <a:prstGeom prst="rightArrow">
              <a:avLst>
                <a:gd name="adj1" fmla="val 50000"/>
                <a:gd name="adj2" fmla="val 175118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360" y="2470320"/>
              <a:ext cx="184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ilamento di sen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-4320" y="301644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Filamento antisens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29480" y="303696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3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938080" y="2978280"/>
              <a:ext cx="35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5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57600" y="3092400"/>
              <a:ext cx="15228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38480" y="3092400"/>
              <a:ext cx="7632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29200" y="3092400"/>
              <a:ext cx="15228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10080" y="3092400"/>
              <a:ext cx="7632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05720" y="3092400"/>
              <a:ext cx="15228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86600" y="3092400"/>
              <a:ext cx="76320" cy="2286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05320" y="34736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76920" y="34736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629400" y="3473640"/>
              <a:ext cx="685800" cy="152280"/>
            </a:xfrm>
            <a:prstGeom prst="leftArrow">
              <a:avLst>
                <a:gd name="adj1" fmla="val 50000"/>
                <a:gd name="adj2" fmla="val 112589"/>
              </a:avLst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411360" y="3616560"/>
              <a:ext cx="80712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OG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2.2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95280" y="3625920"/>
              <a:ext cx="7552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VI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10 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616080" y="3625920"/>
              <a:ext cx="75996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VI2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Comic Sans MS"/>
                </a:rPr>
                <a:t>4 K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320" y="1797120"/>
              <a:ext cx="967716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76320" y="4572000"/>
            <a:ext cx="9677160" cy="1676160"/>
            <a:chOff x="76320" y="4572000"/>
            <a:chExt cx="9677160" cy="1676160"/>
          </a:xfrm>
        </p:grpSpPr>
        <p:sp>
          <p:nvSpPr>
            <p:cNvPr id="207" name=""/>
            <p:cNvSpPr/>
            <p:nvPr/>
          </p:nvSpPr>
          <p:spPr>
            <a:xfrm>
              <a:off x="927360" y="5105160"/>
              <a:ext cx="46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F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14600" y="5181480"/>
              <a:ext cx="6477120" cy="2286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14600" y="5181480"/>
              <a:ext cx="15228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34320" y="5181480"/>
              <a:ext cx="15228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24680" y="5181480"/>
              <a:ext cx="15264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813880" y="5181480"/>
              <a:ext cx="152280" cy="228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38880" y="5181480"/>
              <a:ext cx="228600" cy="228600"/>
            </a:xfrm>
            <a:custGeom>
              <a:avLst/>
              <a:gdLst>
                <a:gd name="textAreaLeft" fmla="*/ 52200 w 228600"/>
                <a:gd name="textAreaRight" fmla="*/ 176400 w 228600"/>
                <a:gd name="textAreaTop" fmla="*/ 52200 h 228600"/>
                <a:gd name="textAreaBottom" fmla="*/ 17640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dff7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5200" y="4876560"/>
              <a:ext cx="1523880" cy="152640"/>
            </a:xfrm>
            <a:prstGeom prst="rightArrow">
              <a:avLst>
                <a:gd name="adj1" fmla="val 50000"/>
                <a:gd name="adj2" fmla="val 24958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37080" y="459252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8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44400" y="5379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06800" y="53798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2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5960" y="537984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744760" y="5379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00600" y="47448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8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19920" y="5790960"/>
              <a:ext cx="1218960" cy="152640"/>
            </a:xfrm>
            <a:prstGeom prst="leftArrow">
              <a:avLst>
                <a:gd name="adj1" fmla="val 50000"/>
                <a:gd name="adj2" fmla="val 19964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00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18440" y="5837040"/>
              <a:ext cx="59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F8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6400800" y="4876200"/>
              <a:ext cx="9144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50000" y="457200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p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320" y="4572000"/>
              <a:ext cx="9677160" cy="167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f81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76320" y="0"/>
            <a:ext cx="8991360" cy="7256520"/>
            <a:chOff x="76320" y="0"/>
            <a:chExt cx="8991360" cy="7256520"/>
          </a:xfrm>
        </p:grpSpPr>
        <p:pic>
          <p:nvPicPr>
            <p:cNvPr id="227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841320" y="11736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120" y="53352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4191120" y="76320"/>
              <a:ext cx="487656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logiche (quinquennale)   Genetica Umana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2600" y="7010280"/>
              <a:ext cx="52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41240" y="660240"/>
            <a:ext cx="8250480" cy="3073680"/>
          </a:xfrm>
          <a:prstGeom prst="rect">
            <a:avLst/>
          </a:prstGeom>
          <a:noFill/>
          <a:ln w="0">
            <a:noFill/>
          </a:ln>
        </p:spPr>
        <p:txBody>
          <a:bodyPr lIns="85680" rIns="85680" tIns="42840" bIns="428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Famiglie multigenich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2:00:26Z</dcterms:created>
  <dc:creator>CMG</dc:creator>
  <dc:description/>
  <dc:language>en-US</dc:language>
  <cp:lastModifiedBy>Mariano Rocchi</cp:lastModifiedBy>
  <cp:lastPrinted>2000-04-11T15:44:35Z</cp:lastPrinted>
  <dcterms:modified xsi:type="dcterms:W3CDTF">2004-03-23T18:05:38Z</dcterms:modified>
  <cp:revision>447</cp:revision>
  <dc:subject/>
  <dc:title>Geen diatitel</dc:title>
</cp:coreProperties>
</file>