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ct" ContentType="image/x-pict"/>
  <Override PartName="/ppt/media/image27.pct" ContentType="image/x-pict"/>
  <Override PartName="/ppt/media/image26.png" ContentType="image/png"/>
  <Override PartName="/ppt/media/image24.pct" ContentType="image/x-pict"/>
  <Override PartName="/ppt/media/image28.pct" ContentType="image/x-pict"/>
  <Override PartName="/ppt/media/image8.pct" ContentType="image/x-pict"/>
  <Override PartName="/ppt/media/image10.png" ContentType="image/png"/>
  <Override PartName="/ppt/media/image11.png" ContentType="image/png"/>
  <Override PartName="/ppt/media/image34.pct" ContentType="image/x-pict"/>
  <Override PartName="/ppt/media/image4.jpeg" ContentType="image/jpeg"/>
  <Override PartName="/ppt/media/image25.png" ContentType="image/png"/>
  <Override PartName="/ppt/media/image5.jpeg" ContentType="image/jpeg"/>
  <Override PartName="/ppt/media/image7.pct" ContentType="image/x-pict"/>
  <Override PartName="/ppt/media/image9.png" ContentType="image/png"/>
  <Override PartName="/ppt/media/image30.pct" ContentType="image/x-pict"/>
  <Override PartName="/ppt/media/image31.pct" ContentType="image/x-pict"/>
  <Override PartName="/ppt/media/image13.png" ContentType="image/png"/>
  <Override PartName="/ppt/media/image33.pct" ContentType="image/x-pict"/>
  <Override PartName="/ppt/media/image6.png" ContentType="image/png"/>
  <Override PartName="/ppt/media/image3.pct" ContentType="image/x-pict"/>
  <Override PartName="/ppt/media/image2.pct" ContentType="image/x-pict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ct" ContentType="image/x-pict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1CA-1B6E-4DE8-AD04-B3DFE0B1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99B-6DCC-4EA4-B528-751C29B1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0C1-2735-4646-99C5-F2D65EB2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186-CFD8-420A-A077-D1E38431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B62-F8B3-4D41-A55C-0893297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7F3-049C-4929-BA74-3BBF462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2A7-2A58-4BDC-A668-A1416FE0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ACF-1792-4F0D-A934-9CACC30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A3D-763B-4719-BB11-1981E9A5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56E-84E4-4976-B78D-AE96CE9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610-FAA8-4640-B3FF-A9F53CD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9E8-DDBF-403B-9A00-2A8664C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216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160" y="704844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7124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703C4901-DDD3-47FC-88DF-5C449A8B8F90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9080" y="23508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533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3962520" y="76320"/>
            <a:ext cx="56847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   Genetica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97960" y="66690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zione 9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tracce dell’evoluzione 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Prove della tetraplo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816840" y="170532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angiosperme sono polipl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57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rove sono perse per l’insorgenza di riarrangiamenti intrageno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74880" y="388728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i vertebrati si ipotizz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icli di duplicazioni genomic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. elegans, Drosophila e Ciona intestinal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nno 15.000-20.000 geni......... 1/4 di quelli dei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6800" y="565128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raggrupamenti genici sembrano essere quadruplicati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4280" y="658656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H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276560" y="13287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OGIA, ORTOLOGIA ED OM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199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cromosomici o di  sequenze di DNA NON ALLELIC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l’interno di una 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7120" y="3517560"/>
            <a:ext cx="74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ici o di sequenze di DN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pparte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specie diverse 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Y e l’ortologo murino S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2239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rmine usato per indicare relazioni tra segmenti cromosomici allelici, ora il termine  e’ spesso usato anche in senso lato...da non confondersi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Un po’ di terminologi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003400" cy="17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669000" y="31417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67816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5600" y="61675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08160" y="482904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25920" y="3719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4656240"/>
            <a:ext cx="609480" cy="2361960"/>
          </a:xfrm>
          <a:custGeom>
            <a:avLst/>
            <a:gdLst>
              <a:gd name="textAreaLeft" fmla="*/ 0 w 609480"/>
              <a:gd name="textAreaRight" fmla="*/ 219960 w 6094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8840" y="947520"/>
            <a:ext cx="94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omeotici (HOX) sono coinvolti nella specificazione dell’asse antero-posteriore durante le prime fasi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05040" y="2666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86280" y="2577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5132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19440" y="2590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8448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2960" y="2590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18000" y="2666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984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1336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30481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6880" y="3124080"/>
            <a:ext cx="244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31291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4208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31291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31200" y="31370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804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29600" y="3132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0960" y="3805200"/>
            <a:ext cx="17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37180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7192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040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544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73560" y="372096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38960" y="3797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229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801960"/>
            <a:ext cx="59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37320" y="3733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81840" y="38019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30880" y="3733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96280" y="3809880"/>
            <a:ext cx="428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97920" y="38052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60520" y="37987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89120" y="3710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33640" y="379080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463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11360" y="37908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035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63880" y="3798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607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3160" y="3801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67120" y="4896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06880" y="4808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6400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324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9752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5640" y="48117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30680" y="4888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500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70680" y="48927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1480" y="48243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66000" y="48927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15040" y="48243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80440" y="4900680"/>
            <a:ext cx="368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328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82080" y="48960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76440" y="4894200"/>
            <a:ext cx="58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4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03440" y="48942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56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55960" y="49021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28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05240" y="49053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38019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47992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86280" y="5565600"/>
            <a:ext cx="17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0120" y="54784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6724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35360" y="5481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0076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888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33920" y="5557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824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75360" y="5562720"/>
            <a:ext cx="554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13560" y="54943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58080" y="55627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07120" y="54943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72520" y="5570640"/>
            <a:ext cx="376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2496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174160" y="55656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59200" y="5559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56040" y="54831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08480" y="5562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78400" y="61768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43440" y="6246720"/>
            <a:ext cx="67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92520" y="617868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7920" y="624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2604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1080" y="6254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7540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32520" y="6259680"/>
            <a:ext cx="242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1000" y="6248520"/>
            <a:ext cx="18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41600" y="6167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6120" y="624852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988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63840" y="624852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16360" y="6256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132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65640" y="625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67755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49560" y="6861240"/>
            <a:ext cx="1698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67770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00840" y="6858000"/>
            <a:ext cx="62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678960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81840" y="6858000"/>
            <a:ext cx="8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677700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97920" y="686124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08040" y="6854760"/>
            <a:ext cx="27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44480" y="676584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6846840"/>
            <a:ext cx="13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016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67080" y="6846840"/>
            <a:ext cx="9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588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19240" y="6854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160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68520" y="6858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9440" y="491328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625464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6880" y="686592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060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45120" y="3124080"/>
            <a:ext cx="31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29600" y="2438280"/>
            <a:ext cx="533520" cy="914400"/>
          </a:xfrm>
          <a:custGeom>
            <a:avLst/>
            <a:gdLst>
              <a:gd name="textAreaLeft" fmla="*/ 0 w 533520"/>
              <a:gd name="textAreaRight" fmla="*/ 192600 w 533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71440" y="24616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791560" y="5597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71520" y="353988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fio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24560" y="230472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46720" y="23108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56920" y="23047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25840" y="276804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13800" y="2761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6600" y="27619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19080" y="2761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19760" y="27619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52480" y="2761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62760" y="2761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342864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     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82120" y="343476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     10     9       8      7      6       5       4              3      2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6832440" y="2768040"/>
            <a:ext cx="228600" cy="1092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6972120" y="313668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409920"/>
            <a:ext cx="152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92560" y="4520880"/>
            <a:ext cx="64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13       A-11  A-10 A-9           A-7   A-6  A-5   A-4         A-3   A-2     A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45400" y="5203440"/>
            <a:ext cx="480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9   B-8   B-7   B-6   B-5    B-4         B-3   B-2     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89440" y="589248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-13 C-12  C-11 C-10 C-9   C-8           C-6   C-5    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06800" y="6501960"/>
            <a:ext cx="67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-13 D-12 D-11 D-10 D-9   D-8                           D-4          D-3               D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37120" y="46857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616600" y="52826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6240" y="60447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616960" y="662904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133720"/>
            <a:ext cx="297180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2133720"/>
            <a:ext cx="144792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2133720"/>
            <a:ext cx="457200" cy="426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68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03840" y="3429000"/>
            <a:ext cx="457200" cy="3733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2133720"/>
            <a:ext cx="457200" cy="3733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74600" y="533520"/>
            <a:ext cx="383076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I geni HOX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500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521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522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530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537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062960" y="1199880"/>
            <a:ext cx="1181880" cy="4895280"/>
            <a:chOff x="4062960" y="1199880"/>
            <a:chExt cx="1181880" cy="4895280"/>
          </a:xfrm>
        </p:grpSpPr>
        <p:sp>
          <p:nvSpPr>
            <p:cNvPr id="541" name=""/>
            <p:cNvSpPr/>
            <p:nvPr/>
          </p:nvSpPr>
          <p:spPr>
            <a:xfrm>
              <a:off x="406296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296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576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580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6062760" y="4344840"/>
            <a:ext cx="1332720" cy="2097360"/>
            <a:chOff x="6062760" y="4344840"/>
            <a:chExt cx="1332720" cy="2097360"/>
          </a:xfrm>
        </p:grpSpPr>
        <p:sp>
          <p:nvSpPr>
            <p:cNvPr id="584" name=""/>
            <p:cNvSpPr/>
            <p:nvPr/>
          </p:nvSpPr>
          <p:spPr>
            <a:xfrm>
              <a:off x="606276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586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590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594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604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605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989680" y="1152000"/>
            <a:ext cx="1395000" cy="2122560"/>
            <a:chOff x="5989680" y="1152000"/>
            <a:chExt cx="1395000" cy="2122560"/>
          </a:xfrm>
        </p:grpSpPr>
        <p:sp>
          <p:nvSpPr>
            <p:cNvPr id="623" name=""/>
            <p:cNvSpPr/>
            <p:nvPr/>
          </p:nvSpPr>
          <p:spPr>
            <a:xfrm>
              <a:off x="598968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625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3" name=""/>
          <p:cNvGrpSpPr/>
          <p:nvPr/>
        </p:nvGrpSpPr>
        <p:grpSpPr>
          <a:xfrm>
            <a:off x="8043840" y="4343400"/>
            <a:ext cx="1332720" cy="2097000"/>
            <a:chOff x="8043840" y="4343400"/>
            <a:chExt cx="1332720" cy="2097000"/>
          </a:xfrm>
        </p:grpSpPr>
        <p:sp>
          <p:nvSpPr>
            <p:cNvPr id="644" name=""/>
            <p:cNvSpPr/>
            <p:nvPr/>
          </p:nvSpPr>
          <p:spPr>
            <a:xfrm>
              <a:off x="804384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646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650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654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660240"/>
            <a:ext cx="941868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20a"/>
                </a:solidFill>
                <a:latin typeface="Comic Sans MS"/>
              </a:rPr>
              <a:t>Segmenti paraloghi dei cromosomi HSA12 e HSA17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1628640" y="2286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2286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286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3429000"/>
            <a:ext cx="7596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71800" y="3429000"/>
            <a:ext cx="763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05320" y="3429000"/>
            <a:ext cx="75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66840" y="19951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82160" y="19951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41960" y="19951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724400" y="2858760"/>
            <a:ext cx="678960" cy="1408320"/>
            <a:chOff x="1724400" y="2858760"/>
            <a:chExt cx="678960" cy="1408320"/>
          </a:xfrm>
        </p:grpSpPr>
        <p:sp>
          <p:nvSpPr>
            <p:cNvPr id="677" name=""/>
            <p:cNvSpPr/>
            <p:nvPr/>
          </p:nvSpPr>
          <p:spPr>
            <a:xfrm>
              <a:off x="2057400" y="3505320"/>
              <a:ext cx="0" cy="7617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4400" y="2858760"/>
              <a:ext cx="678960" cy="603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RB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L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N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905120" y="462564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52960" y="56527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L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2743200"/>
            <a:ext cx="53316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5320" y="236232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280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6380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05520" y="12952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725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32600" y="38239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24680" y="35812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706520" y="316908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62720" y="4876920"/>
            <a:ext cx="7596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4191120"/>
            <a:ext cx="53352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95880" y="4876920"/>
            <a:ext cx="763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48240" y="528336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10280" y="4267080"/>
            <a:ext cx="7632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19920" y="345060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4876920"/>
            <a:ext cx="0" cy="9903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857000" y="4631400"/>
            <a:ext cx="7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RB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L1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N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200400"/>
            <a:ext cx="457200" cy="259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04840" y="304812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2286000"/>
            <a:ext cx="45720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610480" y="4267080"/>
            <a:ext cx="45720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724960" y="411480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610480" y="3429000"/>
            <a:ext cx="457200" cy="779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52280" y="1958760"/>
            <a:ext cx="95313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licazioni subgenomiche dovu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MBI INEGUALE TRA CROMOSOMI OMOLOGHI…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TRA CROMATIDI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alla base della duplicazione sia de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del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ta’ ripetute non codifican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osa oltre le duplicazioni genomiche?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62080" y="381780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35080" y="426564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35080" y="5535720"/>
            <a:ext cx="73008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65160" y="5535720"/>
            <a:ext cx="64800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4080" y="6508800"/>
            <a:ext cx="73044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84520" y="6508800"/>
            <a:ext cx="6476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0160" y="390204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13160" y="436248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76880" y="3765600"/>
            <a:ext cx="804600" cy="730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06960" y="38955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4341960"/>
            <a:ext cx="3417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13160" y="562140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32160" y="65930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59080" y="3176640"/>
            <a:ext cx="568080" cy="64116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135080" y="2535120"/>
            <a:ext cx="1378080" cy="193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40160" y="261144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307008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3090960"/>
            <a:ext cx="3417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35080" y="2984400"/>
            <a:ext cx="137808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25760" y="30812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5308400">
            <a:off x="1573200" y="3157200"/>
            <a:ext cx="403200" cy="73008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95880" y="4649760"/>
            <a:ext cx="1296720" cy="320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43400" y="247032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79960" y="2616120"/>
            <a:ext cx="3390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29160" y="5289480"/>
            <a:ext cx="804960" cy="730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95680" y="628020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34120" y="56037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02080" y="6591240"/>
            <a:ext cx="341820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ugu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5683320" y="5791320"/>
            <a:ext cx="3975120" cy="550800"/>
            <a:chOff x="5683320" y="5791320"/>
            <a:chExt cx="3975120" cy="550800"/>
          </a:xfrm>
        </p:grpSpPr>
        <p:sp>
          <p:nvSpPr>
            <p:cNvPr id="736" name=""/>
            <p:cNvSpPr/>
            <p:nvPr/>
          </p:nvSpPr>
          <p:spPr>
            <a:xfrm>
              <a:off x="5683320" y="60580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1016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0720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042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1000" y="60580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104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31080" y="5791320"/>
              <a:ext cx="92736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06080" y="5919480"/>
              <a:ext cx="104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2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09480" y="6396120"/>
            <a:ext cx="3975120" cy="550800"/>
            <a:chOff x="609480" y="6396120"/>
            <a:chExt cx="3975120" cy="550800"/>
          </a:xfrm>
        </p:grpSpPr>
        <p:sp>
          <p:nvSpPr>
            <p:cNvPr id="745" name=""/>
            <p:cNvSpPr/>
            <p:nvPr/>
          </p:nvSpPr>
          <p:spPr>
            <a:xfrm>
              <a:off x="609480" y="66628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668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3372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04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27520" y="6662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366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57600" y="6396120"/>
              <a:ext cx="927000" cy="550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38600" y="65163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40000" y="6516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09480" y="5791320"/>
            <a:ext cx="3175200" cy="550800"/>
            <a:chOff x="609480" y="5791320"/>
            <a:chExt cx="3175200" cy="550800"/>
          </a:xfrm>
        </p:grpSpPr>
        <p:sp>
          <p:nvSpPr>
            <p:cNvPr id="755" name=""/>
            <p:cNvSpPr/>
            <p:nvPr/>
          </p:nvSpPr>
          <p:spPr>
            <a:xfrm>
              <a:off x="609480" y="6053040"/>
              <a:ext cx="727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36680" y="594360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33720" y="605304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36640" y="594360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57680" y="579132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97600" y="590688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835360" y="2249280"/>
            <a:ext cx="4860720" cy="873360"/>
            <a:chOff x="2835360" y="2249280"/>
            <a:chExt cx="4860720" cy="873360"/>
          </a:xfrm>
        </p:grpSpPr>
        <p:sp>
          <p:nvSpPr>
            <p:cNvPr id="762" name=""/>
            <p:cNvSpPr/>
            <p:nvPr/>
          </p:nvSpPr>
          <p:spPr>
            <a:xfrm>
              <a:off x="283536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622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59280" y="228600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60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5308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3536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622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59280" y="287964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560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5308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81560" y="2311560"/>
              <a:ext cx="927000" cy="758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41880" y="2397240"/>
              <a:ext cx="15224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1880" y="2990880"/>
              <a:ext cx="1654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68840" y="28461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65600" y="224928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477120" y="6519960"/>
            <a:ext cx="3174840" cy="550800"/>
            <a:chOff x="6477120" y="6519960"/>
            <a:chExt cx="3174840" cy="550800"/>
          </a:xfrm>
        </p:grpSpPr>
        <p:sp>
          <p:nvSpPr>
            <p:cNvPr id="778" name=""/>
            <p:cNvSpPr/>
            <p:nvPr/>
          </p:nvSpPr>
          <p:spPr>
            <a:xfrm>
              <a:off x="6477120" y="67816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03960" y="66722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1000" y="67816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04280" y="667224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724960" y="651996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53000" y="66308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858400" y="4511520"/>
            <a:ext cx="1141560" cy="1111320"/>
            <a:chOff x="2858400" y="4511520"/>
            <a:chExt cx="1141560" cy="1111320"/>
          </a:xfrm>
        </p:grpSpPr>
        <p:sp>
          <p:nvSpPr>
            <p:cNvPr id="785" name=""/>
            <p:cNvSpPr/>
            <p:nvPr/>
          </p:nvSpPr>
          <p:spPr>
            <a:xfrm rot="19221600">
              <a:off x="2971800" y="472392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5680" y="46868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788880" y="4461480"/>
            <a:ext cx="1127880" cy="1134720"/>
            <a:chOff x="6788880" y="4461480"/>
            <a:chExt cx="1127880" cy="1134720"/>
          </a:xfrm>
        </p:grpSpPr>
        <p:sp>
          <p:nvSpPr>
            <p:cNvPr id="788" name=""/>
            <p:cNvSpPr/>
            <p:nvPr/>
          </p:nvSpPr>
          <p:spPr>
            <a:xfrm rot="13570800">
              <a:off x="6895440" y="468576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22600" y="46868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438280" y="3570120"/>
            <a:ext cx="5230800" cy="860760"/>
            <a:chOff x="2438280" y="3570120"/>
            <a:chExt cx="5230800" cy="860760"/>
          </a:xfrm>
        </p:grpSpPr>
        <p:sp>
          <p:nvSpPr>
            <p:cNvPr id="791" name=""/>
            <p:cNvSpPr/>
            <p:nvPr/>
          </p:nvSpPr>
          <p:spPr>
            <a:xfrm>
              <a:off x="3546360" y="41990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2438280" y="3570120"/>
              <a:ext cx="5230800" cy="860760"/>
              <a:chOff x="2438280" y="3570120"/>
              <a:chExt cx="5230800" cy="860760"/>
            </a:xfrm>
          </p:grpSpPr>
          <p:sp>
            <p:nvSpPr>
              <p:cNvPr id="793" name=""/>
              <p:cNvSpPr/>
              <p:nvPr/>
            </p:nvSpPr>
            <p:spPr>
              <a:xfrm>
                <a:off x="3943440" y="4199040"/>
                <a:ext cx="396720" cy="220680"/>
              </a:xfrm>
              <a:prstGeom prst="rect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2438280" y="3570120"/>
                <a:ext cx="5230800" cy="860760"/>
                <a:chOff x="2438280" y="3570120"/>
                <a:chExt cx="5230800" cy="8607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340160" y="4199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438280" y="3714840"/>
                  <a:ext cx="7272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1654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562200" y="3605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9592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356000" y="3714840"/>
                  <a:ext cx="1130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81952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73724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265720" y="3632040"/>
                  <a:ext cx="927000" cy="758880"/>
                </a:xfrm>
                <a:prstGeom prst="ellipse">
                  <a:avLst/>
                </a:prstGeom>
                <a:solidFill>
                  <a:srgbClr val="98009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016680" y="3714840"/>
                  <a:ext cx="15206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016680" y="4308480"/>
                  <a:ext cx="1652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767400" y="415440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359160" y="357012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8" name=""/>
          <p:cNvGrpSpPr/>
          <p:nvPr/>
        </p:nvGrpSpPr>
        <p:grpSpPr>
          <a:xfrm>
            <a:off x="3156120" y="3124080"/>
            <a:ext cx="582120" cy="416160"/>
            <a:chOff x="3156120" y="3124080"/>
            <a:chExt cx="582120" cy="416160"/>
          </a:xfrm>
        </p:grpSpPr>
        <p:sp>
          <p:nvSpPr>
            <p:cNvPr id="809" name=""/>
            <p:cNvSpPr/>
            <p:nvPr/>
          </p:nvSpPr>
          <p:spPr>
            <a:xfrm>
              <a:off x="3156120" y="31413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3429000" y="3124080"/>
              <a:ext cx="309240" cy="324720"/>
              <a:chOff x="3429000" y="3124080"/>
              <a:chExt cx="309240" cy="324720"/>
            </a:xfrm>
          </p:grpSpPr>
          <p:sp>
            <p:nvSpPr>
              <p:cNvPr id="811" name=""/>
              <p:cNvSpPr/>
              <p:nvPr/>
            </p:nvSpPr>
            <p:spPr>
              <a:xfrm>
                <a:off x="3429000" y="3124080"/>
                <a:ext cx="30492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3449880" y="3128400"/>
                <a:ext cx="288360" cy="320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3370680" y="3757320"/>
            <a:ext cx="744120" cy="398880"/>
            <a:chOff x="3370680" y="3757320"/>
            <a:chExt cx="744120" cy="398880"/>
          </a:xfrm>
        </p:grpSpPr>
        <p:grpSp>
          <p:nvGrpSpPr>
            <p:cNvPr id="814" name=""/>
            <p:cNvGrpSpPr/>
            <p:nvPr/>
          </p:nvGrpSpPr>
          <p:grpSpPr>
            <a:xfrm>
              <a:off x="3809880" y="3820680"/>
              <a:ext cx="304920" cy="320400"/>
              <a:chOff x="3809880" y="3820680"/>
              <a:chExt cx="304920" cy="320400"/>
            </a:xfrm>
          </p:grpSpPr>
          <p:sp>
            <p:nvSpPr>
              <p:cNvPr id="815" name=""/>
              <p:cNvSpPr/>
              <p:nvPr/>
            </p:nvSpPr>
            <p:spPr>
              <a:xfrm>
                <a:off x="3809880" y="3828960"/>
                <a:ext cx="304920" cy="30492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818160" y="3820680"/>
                <a:ext cx="288360" cy="32040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3370680" y="37573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inegu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4749840" y="2425680"/>
            <a:ext cx="330120" cy="5716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0560" y="1242720"/>
            <a:ext cx="93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duplicazione dei geni in tandem puo’ derivare da crossing-over diseg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genic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219320" y="2108160"/>
            <a:ext cx="4572000" cy="406440"/>
            <a:chOff x="1219320" y="2108160"/>
            <a:chExt cx="4572000" cy="406440"/>
          </a:xfrm>
        </p:grpSpPr>
        <p:sp>
          <p:nvSpPr>
            <p:cNvPr id="823" name=""/>
            <p:cNvSpPr/>
            <p:nvPr/>
          </p:nvSpPr>
          <p:spPr>
            <a:xfrm>
              <a:off x="1219320" y="233676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19600" y="211140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6520" y="214956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90880" y="210816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33720" y="23367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86200" y="23367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81480" y="23367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191120" y="2946240"/>
            <a:ext cx="4572000" cy="406440"/>
            <a:chOff x="4191120" y="2946240"/>
            <a:chExt cx="4572000" cy="406440"/>
          </a:xfrm>
        </p:grpSpPr>
        <p:sp>
          <p:nvSpPr>
            <p:cNvPr id="831" name=""/>
            <p:cNvSpPr/>
            <p:nvPr/>
          </p:nvSpPr>
          <p:spPr>
            <a:xfrm>
              <a:off x="4191120" y="31748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91400" y="294948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48320" y="298764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962680" y="294624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05520" y="3174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58000" y="317484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53280" y="31748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rot="5391600">
            <a:off x="4380840" y="3733560"/>
            <a:ext cx="1066680" cy="5331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533520" y="4927680"/>
            <a:ext cx="7543800" cy="406440"/>
            <a:chOff x="533520" y="4927680"/>
            <a:chExt cx="7543800" cy="406440"/>
          </a:xfrm>
        </p:grpSpPr>
        <p:sp>
          <p:nvSpPr>
            <p:cNvPr id="840" name=""/>
            <p:cNvSpPr/>
            <p:nvPr/>
          </p:nvSpPr>
          <p:spPr>
            <a:xfrm>
              <a:off x="5335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3800" y="4930920"/>
              <a:ext cx="69048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90720" y="4968720"/>
              <a:ext cx="495360" cy="365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050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7920" y="51562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004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053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5600" y="493092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768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48320" y="5156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722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67480" y="51562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990800" y="5657760"/>
            <a:ext cx="6170760" cy="1428840"/>
            <a:chOff x="1990800" y="5657760"/>
            <a:chExt cx="6170760" cy="1428840"/>
          </a:xfrm>
        </p:grpSpPr>
        <p:pic>
          <p:nvPicPr>
            <p:cNvPr id="853" name="" descr=""/>
            <p:cNvPicPr/>
            <p:nvPr/>
          </p:nvPicPr>
          <p:blipFill>
            <a:blip r:embed="rId1"/>
            <a:stretch/>
          </p:blipFill>
          <p:spPr>
            <a:xfrm>
              <a:off x="1990800" y="5657760"/>
              <a:ext cx="1058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"/>
            <p:cNvSpPr/>
            <p:nvPr/>
          </p:nvSpPr>
          <p:spPr>
            <a:xfrm>
              <a:off x="2840400" y="6062760"/>
              <a:ext cx="53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Mutazione=Evolu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genizzazione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76320" y="2133720"/>
            <a:ext cx="2209320" cy="304560"/>
            <a:chOff x="76320" y="2133720"/>
            <a:chExt cx="2209320" cy="304560"/>
          </a:xfrm>
        </p:grpSpPr>
        <p:sp>
          <p:nvSpPr>
            <p:cNvPr id="857" name=""/>
            <p:cNvSpPr/>
            <p:nvPr/>
          </p:nvSpPr>
          <p:spPr>
            <a:xfrm>
              <a:off x="7632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688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4300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7616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5181480" y="21337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913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771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954800" y="1828800"/>
            <a:ext cx="3201120" cy="679320"/>
            <a:chOff x="1954800" y="1828800"/>
            <a:chExt cx="3201120" cy="679320"/>
          </a:xfrm>
        </p:grpSpPr>
        <p:grpSp>
          <p:nvGrpSpPr>
            <p:cNvPr id="865" name=""/>
            <p:cNvGrpSpPr/>
            <p:nvPr/>
          </p:nvGrpSpPr>
          <p:grpSpPr>
            <a:xfrm>
              <a:off x="2984400" y="2127240"/>
              <a:ext cx="2171520" cy="380880"/>
              <a:chOff x="2984400" y="2127240"/>
              <a:chExt cx="2171520" cy="380880"/>
            </a:xfrm>
          </p:grpSpPr>
          <p:sp>
            <p:nvSpPr>
              <p:cNvPr id="866" name=""/>
              <p:cNvSpPr/>
              <p:nvPr/>
            </p:nvSpPr>
            <p:spPr>
              <a:xfrm>
                <a:off x="298440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504960" y="212724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2588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54644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581280" y="212724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2286000" y="2127240"/>
              <a:ext cx="609480" cy="30456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54800" y="18288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647640" y="3505320"/>
            <a:ext cx="2171520" cy="380880"/>
            <a:chOff x="647640" y="3505320"/>
            <a:chExt cx="2171520" cy="380880"/>
          </a:xfrm>
        </p:grpSpPr>
        <p:sp>
          <p:nvSpPr>
            <p:cNvPr id="874" name=""/>
            <p:cNvSpPr/>
            <p:nvPr/>
          </p:nvSpPr>
          <p:spPr>
            <a:xfrm>
              <a:off x="64764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68200" y="3505320"/>
              <a:ext cx="60984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8912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0968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18960" y="35053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14480" y="2819520"/>
            <a:ext cx="2171160" cy="380880"/>
            <a:chOff x="114480" y="2819520"/>
            <a:chExt cx="2171160" cy="380880"/>
          </a:xfrm>
        </p:grpSpPr>
        <p:sp>
          <p:nvSpPr>
            <p:cNvPr id="880" name=""/>
            <p:cNvSpPr/>
            <p:nvPr/>
          </p:nvSpPr>
          <p:spPr>
            <a:xfrm>
              <a:off x="11448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504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5560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7616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1760" y="2819520"/>
              <a:ext cx="30456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333440" y="5105520"/>
            <a:ext cx="2171520" cy="380880"/>
            <a:chOff x="1333440" y="5105520"/>
            <a:chExt cx="2171520" cy="380880"/>
          </a:xfrm>
        </p:grpSpPr>
        <p:grpSp>
          <p:nvGrpSpPr>
            <p:cNvPr id="886" name=""/>
            <p:cNvGrpSpPr/>
            <p:nvPr/>
          </p:nvGrpSpPr>
          <p:grpSpPr>
            <a:xfrm>
              <a:off x="1333440" y="5105520"/>
              <a:ext cx="2171520" cy="304560"/>
              <a:chOff x="1333440" y="5105520"/>
              <a:chExt cx="2171520" cy="304560"/>
            </a:xfrm>
          </p:grpSpPr>
          <p:sp>
            <p:nvSpPr>
              <p:cNvPr id="887" name=""/>
              <p:cNvSpPr/>
              <p:nvPr/>
            </p:nvSpPr>
            <p:spPr>
              <a:xfrm>
                <a:off x="133344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5400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374560" y="51055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9548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981080" y="51055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884520" y="3056400"/>
            <a:ext cx="2808360" cy="592920"/>
            <a:chOff x="884520" y="3056400"/>
            <a:chExt cx="2808360" cy="592920"/>
          </a:xfrm>
        </p:grpSpPr>
        <p:sp>
          <p:nvSpPr>
            <p:cNvPr id="893" name=""/>
            <p:cNvSpPr/>
            <p:nvPr/>
          </p:nvSpPr>
          <p:spPr>
            <a:xfrm rot="8100000">
              <a:off x="990360" y="3124080"/>
              <a:ext cx="381240" cy="45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23960" y="31114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880" y="3885120"/>
            <a:ext cx="2666880" cy="991440"/>
            <a:chOff x="380880" y="3885120"/>
            <a:chExt cx="2666880" cy="991440"/>
          </a:xfrm>
        </p:grpSpPr>
        <p:grpSp>
          <p:nvGrpSpPr>
            <p:cNvPr id="896" name=""/>
            <p:cNvGrpSpPr/>
            <p:nvPr/>
          </p:nvGrpSpPr>
          <p:grpSpPr>
            <a:xfrm>
              <a:off x="380880" y="3885120"/>
              <a:ext cx="2171880" cy="991440"/>
              <a:chOff x="380880" y="3885120"/>
              <a:chExt cx="2171880" cy="9914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80880" y="4495680"/>
                <a:ext cx="2171880" cy="380880"/>
                <a:chOff x="380880" y="4495680"/>
                <a:chExt cx="2171880" cy="38088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8088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90180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42236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94292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028520" y="4495680"/>
                  <a:ext cx="304920" cy="380880"/>
                </a:xfrm>
                <a:prstGeom prst="irregularSeal2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1523880" y="449568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378400">
                <a:off x="1407960" y="4000320"/>
                <a:ext cx="533160" cy="304560"/>
              </a:xfrm>
              <a:custGeom>
                <a:avLst/>
                <a:gdLst>
                  <a:gd name="textAreaLeft" fmla="*/ 83160 w 533160"/>
                  <a:gd name="textAreaRight" fmla="*/ 466560 w 53316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438280" y="4495680"/>
              <a:ext cx="60948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1722960" y="4656600"/>
            <a:ext cx="2976120" cy="592560"/>
            <a:chOff x="1722960" y="4656600"/>
            <a:chExt cx="2976120" cy="592560"/>
          </a:xfrm>
        </p:grpSpPr>
        <p:sp>
          <p:nvSpPr>
            <p:cNvPr id="907" name=""/>
            <p:cNvSpPr/>
            <p:nvPr/>
          </p:nvSpPr>
          <p:spPr>
            <a:xfrm rot="8100000">
              <a:off x="1828440" y="47242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630160" y="47242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191120" y="2895480"/>
            <a:ext cx="3200400" cy="1752480"/>
            <a:chOff x="4191120" y="2895480"/>
            <a:chExt cx="3200400" cy="1752480"/>
          </a:xfrm>
        </p:grpSpPr>
        <p:sp>
          <p:nvSpPr>
            <p:cNvPr id="910" name=""/>
            <p:cNvSpPr/>
            <p:nvPr/>
          </p:nvSpPr>
          <p:spPr>
            <a:xfrm>
              <a:off x="4419720" y="3962160"/>
              <a:ext cx="1295640" cy="68580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91120" y="28954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a sequenza mutante s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ffonde nello schieramento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lla popol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181640" y="1752480"/>
            <a:ext cx="256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effetto della der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tica si diffonde n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p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561000" y="4419720"/>
            <a:ext cx="3238560" cy="380880"/>
            <a:chOff x="6561000" y="4419720"/>
            <a:chExt cx="3238560" cy="380880"/>
          </a:xfrm>
        </p:grpSpPr>
        <p:grpSp>
          <p:nvGrpSpPr>
            <p:cNvPr id="914" name=""/>
            <p:cNvGrpSpPr/>
            <p:nvPr/>
          </p:nvGrpSpPr>
          <p:grpSpPr>
            <a:xfrm>
              <a:off x="6561000" y="4419720"/>
              <a:ext cx="2171160" cy="380880"/>
              <a:chOff x="6561000" y="4419720"/>
              <a:chExt cx="2171160" cy="380880"/>
            </a:xfrm>
          </p:grpSpPr>
          <p:sp>
            <p:nvSpPr>
              <p:cNvPr id="915" name=""/>
              <p:cNvSpPr/>
              <p:nvPr/>
            </p:nvSpPr>
            <p:spPr>
              <a:xfrm>
                <a:off x="65610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8156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212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12268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208280" y="44197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7627680" y="4419720"/>
              <a:ext cx="2171880" cy="380880"/>
              <a:chOff x="7627680" y="4419720"/>
              <a:chExt cx="2171880" cy="380880"/>
            </a:xfrm>
          </p:grpSpPr>
          <p:sp>
            <p:nvSpPr>
              <p:cNvPr id="921" name=""/>
              <p:cNvSpPr/>
              <p:nvPr/>
            </p:nvSpPr>
            <p:spPr>
              <a:xfrm>
                <a:off x="762768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1486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66916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18972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275320" y="44197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7779960" y="44197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561000" y="3733920"/>
            <a:ext cx="3238560" cy="380880"/>
            <a:chOff x="6561000" y="3733920"/>
            <a:chExt cx="3238560" cy="380880"/>
          </a:xfrm>
        </p:grpSpPr>
        <p:grpSp>
          <p:nvGrpSpPr>
            <p:cNvPr id="928" name=""/>
            <p:cNvGrpSpPr/>
            <p:nvPr/>
          </p:nvGrpSpPr>
          <p:grpSpPr>
            <a:xfrm>
              <a:off x="6561000" y="3733920"/>
              <a:ext cx="2171160" cy="380880"/>
              <a:chOff x="6561000" y="3733920"/>
              <a:chExt cx="2171160" cy="380880"/>
            </a:xfrm>
          </p:grpSpPr>
          <p:sp>
            <p:nvSpPr>
              <p:cNvPr id="929" name=""/>
              <p:cNvSpPr/>
              <p:nvPr/>
            </p:nvSpPr>
            <p:spPr>
              <a:xfrm>
                <a:off x="65610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8156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212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12268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08280" y="37339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7627680" y="3733920"/>
              <a:ext cx="2171880" cy="380880"/>
              <a:chOff x="7627680" y="3733920"/>
              <a:chExt cx="2171880" cy="380880"/>
            </a:xfrm>
          </p:grpSpPr>
          <p:sp>
            <p:nvSpPr>
              <p:cNvPr id="935" name=""/>
              <p:cNvSpPr/>
              <p:nvPr/>
            </p:nvSpPr>
            <p:spPr>
              <a:xfrm>
                <a:off x="762768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1486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66916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18972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275320" y="37339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7779960" y="37339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Mutazioni ed evolu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81240" y="1722600"/>
            <a:ext cx="87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guadagno di funzione: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680" y="2417760"/>
            <a:ext cx="37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n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400" y="3255840"/>
            <a:ext cx="84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perdita di funzione: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4233960"/>
            <a:ext cx="8337960" cy="1935000"/>
            <a:chOff x="304920" y="4233960"/>
            <a:chExt cx="8337960" cy="1935000"/>
          </a:xfrm>
        </p:grpSpPr>
        <p:sp>
          <p:nvSpPr>
            <p:cNvPr id="54" name=""/>
            <p:cNvSpPr/>
            <p:nvPr/>
          </p:nvSpPr>
          <p:spPr>
            <a:xfrm>
              <a:off x="1782360" y="4233960"/>
              <a:ext cx="68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Fitness evolutiva e mutazio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23560" y="4992480"/>
              <a:ext cx="58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apacita’ di un individuo di riprodur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04920" y="4343400"/>
              <a:ext cx="1353960" cy="182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52280" y="1778400"/>
            <a:ext cx="956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ore correl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a le sequenze dei singoli membri della famiglia di una specie (paraloghi) che tra gli ortologhi di specie differ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52280" y="4233240"/>
            <a:ext cx="9601200" cy="1675440"/>
            <a:chOff x="152280" y="4233240"/>
            <a:chExt cx="9601200" cy="1675440"/>
          </a:xfrm>
        </p:grpSpPr>
        <p:sp>
          <p:nvSpPr>
            <p:cNvPr id="944" name=""/>
            <p:cNvSpPr/>
            <p:nvPr/>
          </p:nvSpPr>
          <p:spPr>
            <a:xfrm>
              <a:off x="152280" y="4233240"/>
              <a:ext cx="952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vviene a causa di crossing-over diseguale, scamb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seguale tra cromatidi fratelli e omogenizz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prevale per le sequenze di DNA ripetu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tandem (rDNA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1"/>
            <a:stretch/>
          </p:blipFill>
          <p:spPr>
            <a:xfrm>
              <a:off x="7923240" y="4343400"/>
              <a:ext cx="1830240" cy="15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746600" y="14796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27832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3657600" y="1143000"/>
            <a:ext cx="1523880" cy="304920"/>
            <a:chOff x="3657600" y="1143000"/>
            <a:chExt cx="1523880" cy="304920"/>
          </a:xfrm>
        </p:grpSpPr>
        <p:sp>
          <p:nvSpPr>
            <p:cNvPr id="949" name=""/>
            <p:cNvSpPr/>
            <p:nvPr/>
          </p:nvSpPr>
          <p:spPr>
            <a:xfrm>
              <a:off x="3657600" y="1295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1143000"/>
              <a:ext cx="9903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133720" y="1523880"/>
            <a:ext cx="7068960" cy="762120"/>
            <a:chOff x="2133720" y="1523880"/>
            <a:chExt cx="7068960" cy="762120"/>
          </a:xfrm>
        </p:grpSpPr>
        <p:sp>
          <p:nvSpPr>
            <p:cNvPr id="952" name=""/>
            <p:cNvSpPr/>
            <p:nvPr/>
          </p:nvSpPr>
          <p:spPr>
            <a:xfrm>
              <a:off x="6885360" y="154728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tenato comu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2133720" y="1981080"/>
              <a:ext cx="4800240" cy="304920"/>
              <a:chOff x="2133720" y="1981080"/>
              <a:chExt cx="4800240" cy="304920"/>
            </a:xfrm>
          </p:grpSpPr>
          <p:sp>
            <p:nvSpPr>
              <p:cNvPr id="954" name=""/>
              <p:cNvSpPr/>
              <p:nvPr/>
            </p:nvSpPr>
            <p:spPr>
              <a:xfrm>
                <a:off x="2133720" y="2133720"/>
                <a:ext cx="335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438280" y="1981080"/>
                <a:ext cx="99072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6" name=""/>
              <p:cNvGrpSpPr/>
              <p:nvPr/>
            </p:nvGrpSpPr>
            <p:grpSpPr>
              <a:xfrm>
                <a:off x="5410080" y="1981080"/>
                <a:ext cx="1523880" cy="304920"/>
                <a:chOff x="5410080" y="1981080"/>
                <a:chExt cx="1523880" cy="3049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410080" y="213336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715000" y="1981080"/>
                  <a:ext cx="9903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9" name=""/>
            <p:cNvSpPr/>
            <p:nvPr/>
          </p:nvSpPr>
          <p:spPr>
            <a:xfrm>
              <a:off x="3200400" y="1523880"/>
              <a:ext cx="2666880" cy="457200"/>
            </a:xfrm>
            <a:custGeom>
              <a:avLst/>
              <a:gdLst>
                <a:gd name="textAreaLeft" fmla="*/ 666720 w 2666880"/>
                <a:gd name="textAreaRight" fmla="*/ 2000160 w 266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34080" y="2362320"/>
            <a:ext cx="8907120" cy="1600200"/>
            <a:chOff x="334080" y="2362320"/>
            <a:chExt cx="8907120" cy="1600200"/>
          </a:xfrm>
        </p:grpSpPr>
        <p:sp>
          <p:nvSpPr>
            <p:cNvPr id="961" name=""/>
            <p:cNvSpPr/>
            <p:nvPr/>
          </p:nvSpPr>
          <p:spPr>
            <a:xfrm>
              <a:off x="334080" y="297144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11800" y="29952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2818440" y="2362320"/>
              <a:ext cx="3734640" cy="1028160"/>
              <a:chOff x="2818440" y="2362320"/>
              <a:chExt cx="3734640" cy="102816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791320" y="2399760"/>
                <a:ext cx="761760" cy="99036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240 h 990360"/>
                  <a:gd name="textAreaBottom" fmla="*/ 84852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0792800">
                <a:off x="2819520" y="2398680"/>
                <a:ext cx="761760" cy="99072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600 h 990720"/>
                  <a:gd name="textAreaBottom" fmla="*/ 8485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895480" y="2362320"/>
                <a:ext cx="3581640" cy="38088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pec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92000" y="3657600"/>
              <a:ext cx="2484720" cy="304920"/>
              <a:chOff x="792000" y="3657600"/>
              <a:chExt cx="2484720" cy="304920"/>
            </a:xfrm>
          </p:grpSpPr>
          <p:sp>
            <p:nvSpPr>
              <p:cNvPr id="968" name=""/>
              <p:cNvSpPr/>
              <p:nvPr/>
            </p:nvSpPr>
            <p:spPr>
              <a:xfrm>
                <a:off x="792000" y="38098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014480" y="3657600"/>
                <a:ext cx="7239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2163600" y="3657600"/>
                <a:ext cx="1113120" cy="304920"/>
                <a:chOff x="2163600" y="3657600"/>
                <a:chExt cx="1113120" cy="3049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163600" y="3809880"/>
                  <a:ext cx="111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386080" y="3657600"/>
                  <a:ext cx="72324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6019920" y="3657600"/>
              <a:ext cx="2484000" cy="304920"/>
              <a:chOff x="6019920" y="3657600"/>
              <a:chExt cx="2484000" cy="304920"/>
            </a:xfrm>
          </p:grpSpPr>
          <p:sp>
            <p:nvSpPr>
              <p:cNvPr id="974" name=""/>
              <p:cNvSpPr/>
              <p:nvPr/>
            </p:nvSpPr>
            <p:spPr>
              <a:xfrm>
                <a:off x="6019920" y="38098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242040" y="3657600"/>
                <a:ext cx="72360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7391160" y="3657600"/>
                <a:ext cx="1112760" cy="304920"/>
                <a:chOff x="7391160" y="3657600"/>
                <a:chExt cx="1112760" cy="3049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91160" y="3809880"/>
                  <a:ext cx="1112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613640" y="3657600"/>
                  <a:ext cx="72288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9" name=""/>
          <p:cNvGrpSpPr/>
          <p:nvPr/>
        </p:nvGrpSpPr>
        <p:grpSpPr>
          <a:xfrm>
            <a:off x="792000" y="4076280"/>
            <a:ext cx="7818120" cy="1181520"/>
            <a:chOff x="792000" y="4076280"/>
            <a:chExt cx="7818120" cy="1181520"/>
          </a:xfrm>
        </p:grpSpPr>
        <p:grpSp>
          <p:nvGrpSpPr>
            <p:cNvPr id="980" name=""/>
            <p:cNvGrpSpPr/>
            <p:nvPr/>
          </p:nvGrpSpPr>
          <p:grpSpPr>
            <a:xfrm>
              <a:off x="792000" y="4076280"/>
              <a:ext cx="7818120" cy="1181520"/>
              <a:chOff x="792000" y="4076280"/>
              <a:chExt cx="7818120" cy="118152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792000" y="4952880"/>
                <a:ext cx="2484720" cy="304920"/>
                <a:chOff x="792000" y="4952880"/>
                <a:chExt cx="2484720" cy="30492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92000" y="51051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014480" y="4952880"/>
                  <a:ext cx="7239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2163600" y="4952880"/>
                  <a:ext cx="1113120" cy="304920"/>
                  <a:chOff x="2163600" y="4952880"/>
                  <a:chExt cx="1113120" cy="30492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2163600" y="5105160"/>
                    <a:ext cx="11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386080" y="4952880"/>
                    <a:ext cx="7232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7" name=""/>
              <p:cNvSpPr/>
              <p:nvPr/>
            </p:nvSpPr>
            <p:spPr>
              <a:xfrm>
                <a:off x="132552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6019920" y="4952880"/>
                <a:ext cx="2590200" cy="304920"/>
                <a:chOff x="6019920" y="4952880"/>
                <a:chExt cx="2590200" cy="3049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6019920" y="5105160"/>
                  <a:ext cx="142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251760" y="4952880"/>
                  <a:ext cx="7545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7449840" y="4952880"/>
                  <a:ext cx="1160280" cy="304920"/>
                  <a:chOff x="7449840" y="4952880"/>
                  <a:chExt cx="1160280" cy="3049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7449840" y="5105160"/>
                    <a:ext cx="1160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7681680" y="4952880"/>
                    <a:ext cx="7538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#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4" name=""/>
              <p:cNvSpPr/>
              <p:nvPr/>
            </p:nvSpPr>
            <p:spPr>
              <a:xfrm>
                <a:off x="758196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00400" y="4191120"/>
                <a:ext cx="2666880" cy="457200"/>
              </a:xfrm>
              <a:custGeom>
                <a:avLst/>
                <a:gdLst>
                  <a:gd name="textAreaLeft" fmla="*/ 666720 w 2666880"/>
                  <a:gd name="textAreaRight" fmla="*/ 2000160 w 26668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ut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391600">
                <a:off x="1790280" y="4191120"/>
                <a:ext cx="533520" cy="30456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391600">
                <a:off x="6971760" y="4190760"/>
                <a:ext cx="533520" cy="30492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155412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724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944640" y="6324480"/>
            <a:ext cx="7589520" cy="304920"/>
            <a:chOff x="944640" y="6324480"/>
            <a:chExt cx="7589520" cy="304920"/>
          </a:xfrm>
        </p:grpSpPr>
        <p:sp>
          <p:nvSpPr>
            <p:cNvPr id="1001" name=""/>
            <p:cNvSpPr/>
            <p:nvPr/>
          </p:nvSpPr>
          <p:spPr>
            <a:xfrm>
              <a:off x="944640" y="6477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66760" y="6324480"/>
              <a:ext cx="7239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2316240" y="6324480"/>
              <a:ext cx="1112760" cy="304920"/>
              <a:chOff x="2316240" y="6324480"/>
              <a:chExt cx="1112760" cy="304920"/>
            </a:xfrm>
          </p:grpSpPr>
          <p:sp>
            <p:nvSpPr>
              <p:cNvPr id="1004" name=""/>
              <p:cNvSpPr/>
              <p:nvPr/>
            </p:nvSpPr>
            <p:spPr>
              <a:xfrm>
                <a:off x="2316240" y="6476760"/>
                <a:ext cx="111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538720" y="6324480"/>
                <a:ext cx="72288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2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170640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1616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5943600" y="6324480"/>
              <a:ext cx="2590560" cy="304920"/>
              <a:chOff x="5943600" y="6324480"/>
              <a:chExt cx="2590560" cy="304920"/>
            </a:xfrm>
          </p:grpSpPr>
          <p:sp>
            <p:nvSpPr>
              <p:cNvPr id="1009" name=""/>
              <p:cNvSpPr/>
              <p:nvPr/>
            </p:nvSpPr>
            <p:spPr>
              <a:xfrm>
                <a:off x="5943600" y="6476760"/>
                <a:ext cx="142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75440" y="6324480"/>
                <a:ext cx="7545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7373520" y="6324480"/>
                <a:ext cx="1160640" cy="304920"/>
                <a:chOff x="7373520" y="6324480"/>
                <a:chExt cx="1160640" cy="3049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7373520" y="6476760"/>
                  <a:ext cx="11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605720" y="6324480"/>
                  <a:ext cx="75420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4" name=""/>
            <p:cNvSpPr/>
            <p:nvPr/>
          </p:nvSpPr>
          <p:spPr>
            <a:xfrm>
              <a:off x="769608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4852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295280" y="5334120"/>
            <a:ext cx="6781680" cy="990720"/>
            <a:chOff x="1295280" y="5334120"/>
            <a:chExt cx="6781680" cy="990720"/>
          </a:xfrm>
        </p:grpSpPr>
        <p:sp>
          <p:nvSpPr>
            <p:cNvPr id="1017" name=""/>
            <p:cNvSpPr/>
            <p:nvPr/>
          </p:nvSpPr>
          <p:spPr>
            <a:xfrm>
              <a:off x="3653280" y="5667120"/>
              <a:ext cx="1909080" cy="398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95280" y="5334120"/>
              <a:ext cx="1600200" cy="380880"/>
            </a:xfrm>
            <a:custGeom>
              <a:avLst/>
              <a:gdLst>
                <a:gd name="textAreaLeft" fmla="*/ 318960 w 1600200"/>
                <a:gd name="textAreaRight" fmla="*/ 1121040 w 160020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-2291211"/>
                  <a:lnTo>
                    <a:pt x="20668" y="9771"/>
                  </a:lnTo>
                  <a:lnTo>
                    <a:pt x="18338" y="0"/>
                  </a:lnTo>
                  <a:lnTo>
                    <a:pt x="14143" y="9771"/>
                  </a:lnTo>
                  <a:lnTo>
                    <a:pt x="16303" y="9771"/>
                  </a:lnTo>
                  <a:arcTo wR="8618" hR="21600" stAng="3108789" swAng="2114444"/>
                  <a:lnTo>
                    <a:pt x="9720" y="21422"/>
                  </a:lnTo>
                  <a:arcTo wR="8618" hR="21600" stAng="5576766" swAng="5223234"/>
                  <a:close/>
                </a:path>
                <a:path fill="darkenLess"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176766"/>
                  <a:lnTo>
                    <a:pt x="9720" y="21422"/>
                  </a:lnTo>
                  <a:arcTo wR="8618" hR="21600" stAng="5576766" swAng="5223234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400080" y="5334120"/>
              <a:ext cx="1676520" cy="380880"/>
            </a:xfrm>
            <a:custGeom>
              <a:avLst/>
              <a:gdLst>
                <a:gd name="textAreaLeft" fmla="*/ 334440 w 1676520"/>
                <a:gd name="textAreaRight" fmla="*/ 1174320 w 167652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-2292083"/>
                  <a:lnTo>
                    <a:pt x="20667" y="9771"/>
                  </a:lnTo>
                  <a:lnTo>
                    <a:pt x="18342" y="0"/>
                  </a:lnTo>
                  <a:lnTo>
                    <a:pt x="14151" y="9771"/>
                  </a:lnTo>
                  <a:lnTo>
                    <a:pt x="16311" y="9771"/>
                  </a:lnTo>
                  <a:arcTo wR="8622" hR="21600" stAng="3107917" swAng="2116050"/>
                  <a:lnTo>
                    <a:pt x="9720" y="21424"/>
                  </a:lnTo>
                  <a:arcTo wR="8622" hR="21600" stAng="5576033" swAng="5223967"/>
                  <a:close/>
                </a:path>
                <a:path fill="darkenLess"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176033"/>
                  <a:lnTo>
                    <a:pt x="9720" y="21424"/>
                  </a:lnTo>
                  <a:arcTo wR="8622" hR="21600" stAng="5576033" swAng="5223967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391600">
              <a:off x="1866240" y="5905440"/>
              <a:ext cx="533160" cy="304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391600">
              <a:off x="7048440" y="5905440"/>
              <a:ext cx="533160" cy="30456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105720" y="10368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OLUZION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4458240"/>
            <a:ext cx="92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SULTATO DEI C.O. DISEGUA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4920" y="1662120"/>
            <a:ext cx="949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dell’ rDNA sono organizzati in grossi raggruppamenti di unita’ ripetute in tandem che contengono 50-60 copie di un’unita’ di circa 40 Kb. Tali raggruppamenti sono localizzati sulle braccia corte dei cromosomi acrocentrici 13, 14, 15, 21 e 22 che spesso si scambiano sequenze mediante C.O. ineguali tra cromosomi NON omolog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20019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rDN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306360" y="5222880"/>
            <a:ext cx="89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singoli geni degli rDNA umani, per eff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l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mogenizzazione, sono fra loro piu’ simil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o non lo siano rispetto ai geni degli al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990720" y="236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ERSIONI CROMOSO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LOCAZIONI BILAN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66680" y="1638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POSIZIONI (sequenze A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3120" y="3801960"/>
            <a:ext cx="92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zione del cariotipo e del fenotipo NON sono necessariamente CORRELATI........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muntjak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reevesi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omo e Great 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Come altro evolve il genoma?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796760" y="1181520"/>
            <a:ext cx="60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" y="218232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rganizzazione del DNA genomico e gli schemi di espressione genica sono altamente conservati (110 milioni di anni di separ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1160" y="3425400"/>
            <a:ext cx="94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alisi citogenetiche rivelano organizzazioni cromosomiche differ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 coppie per il 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3 coppie per l’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0160" y="5545080"/>
            <a:ext cx="97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ine dei geni tra i cromosomi umani e murini non e’ m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7160" y="4680360"/>
            <a:ext cx="92804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ostante cio’ esistenz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menti cromosomici ortol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78000" y="66996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28600" y="1622520"/>
            <a:ext cx="94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attivazione della X e imprinting genomico (gene per il recettore del fattore di crescita insulino-simile Igf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40080" y="3411360"/>
            <a:ext cx="82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minisatellite e’ molto conservato (TTAG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 perche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3600" y="2543400"/>
            <a:ext cx="92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eccanismi di regolazione sono sotto pressione sel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53928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equenze di DNA altamente ripetuto sono molto diverse (divergono piu’ rapidamente)....perch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73840" y="63900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ca una pressione selettiva conserv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1167120" y="4249800"/>
            <a:ext cx="74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importante la telomerasi e la conser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a su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04920" y="18111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NON sono ben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2520" y="3212640"/>
            <a:ext cx="94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petizione Alu (750.000 copie) sembra essersi evoluta come pseudogeneprocessato da prodotti di trascrizione del gene RNA 7SL ed e’ specifica dei prim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0880" y="53164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quivalente murino e’ la ripetizione B1 (stessa origine di Alu), con bassa similarita’ di sequenza con l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228600" y="1870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po’ di dati sulle divergen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TR (Pan troglodytes) 5.5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GGO (Gorilla gorilla) 6.7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PY (Pongo pygmeus) 8.2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41840" y="42631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e differenze citogene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ioni  pericentriche e paracent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sione per dare l’attuale cromoso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zione reciproca in GGO tra 5 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calizzazione dell’eterocrom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573040" y="26143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388360" y="20808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026480" y="16236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      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54880" y="2057400"/>
            <a:ext cx="533520" cy="167652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7607160" y="2057400"/>
            <a:ext cx="457200" cy="45720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7772400" y="2438280"/>
            <a:ext cx="609480" cy="60984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7962840" y="2971440"/>
            <a:ext cx="609840" cy="60948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: i cromosomi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1238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112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7788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440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022600" y="5967000"/>
            <a:ext cx="3499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018720" y="5967000"/>
            <a:ext cx="3391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612800" cy="384840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108160" cy="32893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5943600" y="4089240"/>
            <a:ext cx="1447920" cy="162576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7505640" y="3276720"/>
            <a:ext cx="2311560" cy="25398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3022560" y="2971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4013280"/>
            <a:ext cx="76320" cy="154944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49440"/>
              <a:gd name="textAreaBottom" fmla="*/ 1485000 h 15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74440" y="34275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11240" y="458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1854000" cy="22730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105520" y="411480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105520" y="44956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82600" y="420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68640" y="5139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1720" y="17686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 S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54600" y="23785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376520" y="36738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83720" y="39438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77000" y="2988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S G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763120" y="4359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962520" y="1447920"/>
            <a:ext cx="3124080" cy="1600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=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=scimpaz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=gor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=ora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nti di rot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2921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990720" y="1981080"/>
            <a:ext cx="8153280" cy="4918320"/>
            <a:chOff x="990720" y="1981080"/>
            <a:chExt cx="8153280" cy="4918320"/>
          </a:xfrm>
        </p:grpSpPr>
        <p:grpSp>
          <p:nvGrpSpPr>
            <p:cNvPr id="1088" name=""/>
            <p:cNvGrpSpPr/>
            <p:nvPr/>
          </p:nvGrpSpPr>
          <p:grpSpPr>
            <a:xfrm>
              <a:off x="990720" y="1981080"/>
              <a:ext cx="8153280" cy="4800600"/>
              <a:chOff x="990720" y="1981080"/>
              <a:chExt cx="8153280" cy="4800600"/>
            </a:xfrm>
          </p:grpSpPr>
          <p:sp>
            <p:nvSpPr>
              <p:cNvPr id="1089" name=""/>
              <p:cNvSpPr/>
              <p:nvPr/>
            </p:nvSpPr>
            <p:spPr>
              <a:xfrm flipH="1">
                <a:off x="8610480" y="5638680"/>
                <a:ext cx="533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7543800" y="5791320"/>
                <a:ext cx="53352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6705720" y="3429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870440" y="3228840"/>
                <a:ext cx="317520" cy="85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3276720" y="198108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90720" y="40384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2057400" y="6705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70960" y="65005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tero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949320" y="1265400"/>
            <a:ext cx="8271000" cy="604980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Il cariotipo comparativ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" y="1862280"/>
            <a:ext cx="96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 process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osimbiontic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’ stato il prim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963160"/>
            <a:ext cx="91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genoma del DNA mitocondriale attuale e’ di circa 16 kb e codifica per 37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479840"/>
            <a:ext cx="941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cellule procariotiche attuali (eubatteri ed archea) contengono da alcune a centinaia di mb di dna e diverse centinaia o migliaia di geni quindi........perdita di geni nel caso dei mitocond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DNA mitocondri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5400720" y="2209680"/>
            <a:ext cx="3971880" cy="44244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012920" cy="439272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1782360" y="140508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DA 208G20 (CHR. 13 E 21 IN H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Sonda pericentromeric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51400" y="118152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le Great ap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920" y="21276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e 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920" y="2801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sequenze codificanti ortologhe di HSA e PTR identita’ di sequenza del 98-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4920" y="3957120"/>
            <a:ext cx="81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altamente ripetuto (sequenze alfoidi) molto divergenti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PIDA DIVE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1040" y="533916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e telomeriche altamente conser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" y="6154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sono conservati le sequenze Alu sono primate-spec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99960" y="166392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IVERSITA’ GENETICA NELL’UOMO E’ LIM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0880" y="23446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38 uomini la sequenza dell’introne 729nt nel gene          ZFY era SEMPRE IDE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" y="348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scimpanze’ mostrano una maggiore variabilita’ genetica nei loro genomi nucleari rispetto a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85800" y="4929120"/>
            <a:ext cx="880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pecia umana e’ passata da un fo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o di bottiglia” (grave riduzione delle dimensioni della popolazione), perdendo gran parte della variabi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Uomo vs uom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5105520" y="2590920"/>
            <a:ext cx="2971800" cy="1828800"/>
            <a:chOff x="5105520" y="2590920"/>
            <a:chExt cx="2971800" cy="1828800"/>
          </a:xfrm>
        </p:grpSpPr>
        <p:sp>
          <p:nvSpPr>
            <p:cNvPr id="62" name=""/>
            <p:cNvSpPr/>
            <p:nvPr/>
          </p:nvSpPr>
          <p:spPr>
            <a:xfrm>
              <a:off x="5105520" y="2590920"/>
              <a:ext cx="2971800" cy="1828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101000">
              <a:off x="5343120" y="3495600"/>
              <a:ext cx="16765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101000">
              <a:off x="5438880" y="3529080"/>
              <a:ext cx="131436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2895480"/>
              <a:ext cx="1143000" cy="635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30000">
              <a:off x="6705720" y="2933640"/>
              <a:ext cx="76176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30000">
              <a:off x="6754680" y="2976480"/>
              <a:ext cx="596880" cy="48096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66680" y="2857680"/>
            <a:ext cx="1143000" cy="63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93120" y="2892240"/>
            <a:ext cx="766440" cy="530640"/>
            <a:chOff x="1293120" y="2892240"/>
            <a:chExt cx="766440" cy="530640"/>
          </a:xfrm>
        </p:grpSpPr>
        <p:sp>
          <p:nvSpPr>
            <p:cNvPr id="70" name=""/>
            <p:cNvSpPr/>
            <p:nvPr/>
          </p:nvSpPr>
          <p:spPr>
            <a:xfrm rot="30000">
              <a:off x="1295280" y="2895480"/>
              <a:ext cx="76212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0000">
              <a:off x="1345680" y="2939040"/>
              <a:ext cx="596880" cy="4813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6840" y="1968480"/>
            <a:ext cx="2641680" cy="3009960"/>
          </a:xfrm>
          <a:custGeom>
            <a:avLst/>
            <a:gdLst/>
            <a:ahLst/>
            <a:rect l="l" t="t" r="r" b="b"/>
            <a:pathLst>
              <a:path w="1664" h="1896">
                <a:moveTo>
                  <a:pt x="1555" y="488"/>
                </a:moveTo>
                <a:cubicBezTo>
                  <a:pt x="1547" y="458"/>
                  <a:pt x="1546" y="426"/>
                  <a:pt x="1531" y="400"/>
                </a:cubicBezTo>
                <a:cubicBezTo>
                  <a:pt x="1510" y="363"/>
                  <a:pt x="1474" y="338"/>
                  <a:pt x="1451" y="304"/>
                </a:cubicBezTo>
                <a:cubicBezTo>
                  <a:pt x="1411" y="247"/>
                  <a:pt x="1372" y="193"/>
                  <a:pt x="1323" y="144"/>
                </a:cubicBezTo>
                <a:cubicBezTo>
                  <a:pt x="1208" y="29"/>
                  <a:pt x="997" y="29"/>
                  <a:pt x="851" y="16"/>
                </a:cubicBezTo>
                <a:cubicBezTo>
                  <a:pt x="824" y="10"/>
                  <a:pt x="798" y="0"/>
                  <a:pt x="771" y="0"/>
                </a:cubicBezTo>
                <a:cubicBezTo>
                  <a:pt x="704" y="0"/>
                  <a:pt x="637" y="5"/>
                  <a:pt x="571" y="16"/>
                </a:cubicBezTo>
                <a:cubicBezTo>
                  <a:pt x="455" y="34"/>
                  <a:pt x="422" y="112"/>
                  <a:pt x="331" y="168"/>
                </a:cubicBezTo>
                <a:cubicBezTo>
                  <a:pt x="245" y="219"/>
                  <a:pt x="178" y="264"/>
                  <a:pt x="115" y="344"/>
                </a:cubicBezTo>
                <a:cubicBezTo>
                  <a:pt x="102" y="420"/>
                  <a:pt x="92" y="500"/>
                  <a:pt x="75" y="576"/>
                </a:cubicBezTo>
                <a:cubicBezTo>
                  <a:pt x="59" y="640"/>
                  <a:pt x="27" y="768"/>
                  <a:pt x="27" y="768"/>
                </a:cubicBezTo>
                <a:cubicBezTo>
                  <a:pt x="10" y="936"/>
                  <a:pt x="0" y="1007"/>
                  <a:pt x="27" y="1216"/>
                </a:cubicBezTo>
                <a:cubicBezTo>
                  <a:pt x="29" y="1232"/>
                  <a:pt x="110" y="1406"/>
                  <a:pt x="115" y="1416"/>
                </a:cubicBezTo>
                <a:cubicBezTo>
                  <a:pt x="187" y="1551"/>
                  <a:pt x="361" y="1589"/>
                  <a:pt x="483" y="1656"/>
                </a:cubicBezTo>
                <a:cubicBezTo>
                  <a:pt x="559" y="1697"/>
                  <a:pt x="640" y="1745"/>
                  <a:pt x="723" y="1776"/>
                </a:cubicBezTo>
                <a:cubicBezTo>
                  <a:pt x="769" y="1793"/>
                  <a:pt x="819" y="1800"/>
                  <a:pt x="867" y="1816"/>
                </a:cubicBezTo>
                <a:cubicBezTo>
                  <a:pt x="933" y="1838"/>
                  <a:pt x="997" y="1872"/>
                  <a:pt x="1067" y="1880"/>
                </a:cubicBezTo>
                <a:cubicBezTo>
                  <a:pt x="1133" y="1887"/>
                  <a:pt x="1200" y="1889"/>
                  <a:pt x="1267" y="1896"/>
                </a:cubicBezTo>
                <a:cubicBezTo>
                  <a:pt x="1304" y="1891"/>
                  <a:pt x="1409" y="1886"/>
                  <a:pt x="1459" y="1864"/>
                </a:cubicBezTo>
                <a:cubicBezTo>
                  <a:pt x="1569" y="1813"/>
                  <a:pt x="1614" y="1653"/>
                  <a:pt x="1651" y="1552"/>
                </a:cubicBezTo>
                <a:cubicBezTo>
                  <a:pt x="1664" y="1432"/>
                  <a:pt x="1650" y="1334"/>
                  <a:pt x="1611" y="1224"/>
                </a:cubicBezTo>
                <a:cubicBezTo>
                  <a:pt x="1583" y="1147"/>
                  <a:pt x="1572" y="1022"/>
                  <a:pt x="1491" y="976"/>
                </a:cubicBezTo>
                <a:cubicBezTo>
                  <a:pt x="1465" y="961"/>
                  <a:pt x="1423" y="951"/>
                  <a:pt x="1395" y="944"/>
                </a:cubicBezTo>
                <a:cubicBezTo>
                  <a:pt x="1320" y="953"/>
                  <a:pt x="1332" y="959"/>
                  <a:pt x="1275" y="984"/>
                </a:cubicBezTo>
                <a:cubicBezTo>
                  <a:pt x="1251" y="993"/>
                  <a:pt x="1227" y="1001"/>
                  <a:pt x="1203" y="1008"/>
                </a:cubicBezTo>
                <a:cubicBezTo>
                  <a:pt x="1192" y="1010"/>
                  <a:pt x="1181" y="1012"/>
                  <a:pt x="1171" y="1016"/>
                </a:cubicBezTo>
                <a:cubicBezTo>
                  <a:pt x="1159" y="1020"/>
                  <a:pt x="1150" y="1027"/>
                  <a:pt x="1139" y="1032"/>
                </a:cubicBezTo>
                <a:cubicBezTo>
                  <a:pt x="1115" y="1041"/>
                  <a:pt x="1067" y="1056"/>
                  <a:pt x="1067" y="1056"/>
                </a:cubicBezTo>
                <a:cubicBezTo>
                  <a:pt x="957" y="1048"/>
                  <a:pt x="876" y="1037"/>
                  <a:pt x="763" y="1032"/>
                </a:cubicBezTo>
                <a:cubicBezTo>
                  <a:pt x="697" y="1021"/>
                  <a:pt x="629" y="998"/>
                  <a:pt x="587" y="944"/>
                </a:cubicBezTo>
                <a:cubicBezTo>
                  <a:pt x="564" y="915"/>
                  <a:pt x="523" y="856"/>
                  <a:pt x="523" y="856"/>
                </a:cubicBezTo>
                <a:cubicBezTo>
                  <a:pt x="517" y="834"/>
                  <a:pt x="504" y="813"/>
                  <a:pt x="507" y="792"/>
                </a:cubicBezTo>
                <a:cubicBezTo>
                  <a:pt x="516" y="725"/>
                  <a:pt x="505" y="650"/>
                  <a:pt x="539" y="592"/>
                </a:cubicBezTo>
                <a:cubicBezTo>
                  <a:pt x="611" y="465"/>
                  <a:pt x="849" y="485"/>
                  <a:pt x="963" y="480"/>
                </a:cubicBezTo>
                <a:cubicBezTo>
                  <a:pt x="1016" y="482"/>
                  <a:pt x="1070" y="479"/>
                  <a:pt x="1123" y="488"/>
                </a:cubicBezTo>
                <a:cubicBezTo>
                  <a:pt x="1140" y="490"/>
                  <a:pt x="1154" y="505"/>
                  <a:pt x="1171" y="512"/>
                </a:cubicBezTo>
                <a:cubicBezTo>
                  <a:pt x="1189" y="518"/>
                  <a:pt x="1208" y="521"/>
                  <a:pt x="1227" y="528"/>
                </a:cubicBezTo>
                <a:cubicBezTo>
                  <a:pt x="1281" y="547"/>
                  <a:pt x="1237" y="539"/>
                  <a:pt x="1291" y="568"/>
                </a:cubicBezTo>
                <a:cubicBezTo>
                  <a:pt x="1343" y="596"/>
                  <a:pt x="1401" y="625"/>
                  <a:pt x="1459" y="640"/>
                </a:cubicBezTo>
                <a:cubicBezTo>
                  <a:pt x="1523" y="632"/>
                  <a:pt x="1557" y="633"/>
                  <a:pt x="1579" y="568"/>
                </a:cubicBezTo>
                <a:cubicBezTo>
                  <a:pt x="1570" y="474"/>
                  <a:pt x="1597" y="466"/>
                  <a:pt x="1555" y="48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8120" y="3487680"/>
            <a:ext cx="1789560" cy="1127160"/>
            <a:chOff x="258120" y="3487680"/>
            <a:chExt cx="1789560" cy="1127160"/>
          </a:xfrm>
        </p:grpSpPr>
        <p:sp>
          <p:nvSpPr>
            <p:cNvPr id="74" name=""/>
            <p:cNvSpPr/>
            <p:nvPr/>
          </p:nvSpPr>
          <p:spPr>
            <a:xfrm rot="1101000">
              <a:off x="315000" y="3735360"/>
              <a:ext cx="167580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101000">
              <a:off x="410760" y="3768840"/>
              <a:ext cx="13129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44792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76680" y="563112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nucleare arca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oto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7524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60" y="1114920"/>
            <a:ext cx="43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mitocond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caico nella cellula procario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43200" y="3048120"/>
            <a:ext cx="2209680" cy="685800"/>
            <a:chOff x="2743200" y="3048120"/>
            <a:chExt cx="2209680" cy="685800"/>
          </a:xfrm>
        </p:grpSpPr>
        <p:sp>
          <p:nvSpPr>
            <p:cNvPr id="81" name=""/>
            <p:cNvSpPr/>
            <p:nvPr/>
          </p:nvSpPr>
          <p:spPr>
            <a:xfrm>
              <a:off x="2743200" y="304812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gradFill rotWithShape="0">
              <a:gsLst>
                <a:gs pos="0">
                  <a:srgbClr val="750204"/>
                </a:gs>
                <a:gs pos="100000">
                  <a:srgbClr val="fe060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21480" y="320652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ocit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512604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esi del mitocondri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 rot="3282000">
            <a:off x="6095520" y="2914560"/>
            <a:ext cx="457200" cy="7239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723960"/>
              <a:gd name="textAreaBottom" fmla="*/ 50868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4038480"/>
            <a:ext cx="1828800" cy="1295640"/>
          </a:xfrm>
          <a:prstGeom prst="downArrowCallout">
            <a:avLst>
              <a:gd name="adj1" fmla="val 22168"/>
              <a:gd name="adj2" fmla="val 14024"/>
              <a:gd name="adj3" fmla="val 11162"/>
              <a:gd name="adj4" fmla="val 66667"/>
            </a:avLst>
          </a:prstGeom>
          <a:gradFill rotWithShape="0">
            <a:gsLst>
              <a:gs pos="0">
                <a:srgbClr val="fe0609"/>
              </a:gs>
              <a:gs pos="100000">
                <a:srgbClr val="75020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i 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162920" y="5410080"/>
            <a:ext cx="2514600" cy="1676520"/>
            <a:chOff x="7162920" y="5410080"/>
            <a:chExt cx="2514600" cy="1676520"/>
          </a:xfrm>
        </p:grpSpPr>
        <p:sp>
          <p:nvSpPr>
            <p:cNvPr id="87" name=""/>
            <p:cNvSpPr/>
            <p:nvPr/>
          </p:nvSpPr>
          <p:spPr>
            <a:xfrm>
              <a:off x="7162920" y="5410080"/>
              <a:ext cx="2514600" cy="1676520"/>
            </a:xfrm>
            <a:prstGeom prst="roundRect">
              <a:avLst>
                <a:gd name="adj" fmla="val 2272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1880" y="5486400"/>
              <a:ext cx="1143000" cy="6350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30000">
              <a:off x="8763120" y="5675040"/>
              <a:ext cx="457200" cy="3124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0000">
              <a:off x="8791560" y="5702400"/>
              <a:ext cx="358920" cy="3157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96400">
              <a:off x="7237080" y="6237000"/>
              <a:ext cx="23623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9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96400">
              <a:off x="7395840" y="6296040"/>
              <a:ext cx="18511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48840" y="6342120"/>
              <a:ext cx="220320" cy="1364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0" y="0"/>
                  </a:moveTo>
                  <a:cubicBezTo>
                    <a:pt x="3" y="5"/>
                    <a:pt x="5" y="12"/>
                    <a:pt x="11" y="16"/>
                  </a:cubicBezTo>
                  <a:cubicBezTo>
                    <a:pt x="20" y="21"/>
                    <a:pt x="43" y="26"/>
                    <a:pt x="43" y="26"/>
                  </a:cubicBezTo>
                  <a:cubicBezTo>
                    <a:pt x="55" y="44"/>
                    <a:pt x="67" y="46"/>
                    <a:pt x="86" y="58"/>
                  </a:cubicBezTo>
                  <a:cubicBezTo>
                    <a:pt x="94" y="86"/>
                    <a:pt x="110" y="80"/>
                    <a:pt x="139" y="8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478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419480"/>
            <a:ext cx="9601200" cy="1247400"/>
            <a:chOff x="0" y="1419480"/>
            <a:chExt cx="9601200" cy="1247400"/>
          </a:xfrm>
        </p:grpSpPr>
        <p:sp>
          <p:nvSpPr>
            <p:cNvPr id="97" name=""/>
            <p:cNvSpPr/>
            <p:nvPr/>
          </p:nvSpPr>
          <p:spPr>
            <a:xfrm>
              <a:off x="762120" y="1419480"/>
              <a:ext cx="883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 rot="5400000">
            <a:off x="4476240" y="2647800"/>
            <a:ext cx="1067040" cy="64764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468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76596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76520" y="2133720"/>
            <a:ext cx="6583320" cy="3643200"/>
            <a:chOff x="1676520" y="2133720"/>
            <a:chExt cx="6583320" cy="3643200"/>
          </a:xfrm>
        </p:grpSpPr>
        <p:sp>
          <p:nvSpPr>
            <p:cNvPr id="103" name=""/>
            <p:cNvSpPr/>
            <p:nvPr/>
          </p:nvSpPr>
          <p:spPr>
            <a:xfrm>
              <a:off x="6613560" y="5086440"/>
              <a:ext cx="164628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8720" y="5086440"/>
              <a:ext cx="164484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2920" y="5086440"/>
              <a:ext cx="15858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5086440"/>
              <a:ext cx="17064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% DNA CODIFIC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13560" y="4672080"/>
              <a:ext cx="164628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 00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8720" y="4672080"/>
              <a:ext cx="164484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 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82920" y="4672080"/>
              <a:ext cx="15858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 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72080"/>
              <a:ext cx="17064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UMERO GE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3560" y="3795840"/>
              <a:ext cx="164628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0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68720" y="3795840"/>
              <a:ext cx="164484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2920" y="3795840"/>
              <a:ext cx="15858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4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3795840"/>
              <a:ext cx="17064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MENSIONI GEN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3560" y="2895480"/>
              <a:ext cx="164628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68720" y="2895480"/>
              <a:ext cx="164484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82920" y="2895480"/>
              <a:ext cx="15858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2895480"/>
              <a:ext cx="17064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UMERO DI CELL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3560" y="2133720"/>
              <a:ext cx="16462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68720" y="2133720"/>
              <a:ext cx="16448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.ELEG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82920" y="2133720"/>
              <a:ext cx="1585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EV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S.CEREVISIA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2133720"/>
              <a:ext cx="17064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AMET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21337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2895480"/>
              <a:ext cx="658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7958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467208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6520" y="50864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57769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7652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687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356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5984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omi a confront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1447920"/>
            <a:ext cx="9601200" cy="1218960"/>
            <a:chOff x="0" y="1447920"/>
            <a:chExt cx="9601200" cy="1218960"/>
          </a:xfrm>
        </p:grpSpPr>
        <p:sp>
          <p:nvSpPr>
            <p:cNvPr id="137" name=""/>
            <p:cNvSpPr/>
            <p:nvPr/>
          </p:nvSpPr>
          <p:spPr>
            <a:xfrm>
              <a:off x="762120" y="160236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 rot="5400000">
            <a:off x="4514760" y="2609640"/>
            <a:ext cx="685800" cy="342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351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40460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22164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5635440"/>
            <a:ext cx="9294840" cy="1191240"/>
            <a:chOff x="304920" y="5635440"/>
            <a:chExt cx="9294840" cy="1191240"/>
          </a:xfrm>
        </p:grpSpPr>
        <p:sp>
          <p:nvSpPr>
            <p:cNvPr id="144" name=""/>
            <p:cNvSpPr/>
            <p:nvPr/>
          </p:nvSpPr>
          <p:spPr>
            <a:xfrm>
              <a:off x="1066680" y="5635440"/>
              <a:ext cx="853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 QUALI SONO GLI EFFETTI DI QUESTE DUPLIC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SONO ASSOCIATE A SBILANCIO GENIC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04920" y="56386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572000"/>
            <a:ext cx="685800" cy="30492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368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5316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724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500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191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196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200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207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2960" y="1199880"/>
            <a:ext cx="1181880" cy="4895280"/>
            <a:chOff x="4062960" y="1199880"/>
            <a:chExt cx="1181880" cy="4895280"/>
          </a:xfrm>
        </p:grpSpPr>
        <p:sp>
          <p:nvSpPr>
            <p:cNvPr id="211" name=""/>
            <p:cNvSpPr/>
            <p:nvPr/>
          </p:nvSpPr>
          <p:spPr>
            <a:xfrm>
              <a:off x="406296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296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246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250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062760" y="4344840"/>
            <a:ext cx="1332720" cy="2097360"/>
            <a:chOff x="6062760" y="4344840"/>
            <a:chExt cx="1332720" cy="2097360"/>
          </a:xfrm>
        </p:grpSpPr>
        <p:sp>
          <p:nvSpPr>
            <p:cNvPr id="254" name=""/>
            <p:cNvSpPr/>
            <p:nvPr/>
          </p:nvSpPr>
          <p:spPr>
            <a:xfrm>
              <a:off x="606276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256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260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264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274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275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989680" y="1152000"/>
            <a:ext cx="1395000" cy="2122560"/>
            <a:chOff x="5989680" y="1152000"/>
            <a:chExt cx="1395000" cy="2122560"/>
          </a:xfrm>
        </p:grpSpPr>
        <p:sp>
          <p:nvSpPr>
            <p:cNvPr id="293" name=""/>
            <p:cNvSpPr/>
            <p:nvPr/>
          </p:nvSpPr>
          <p:spPr>
            <a:xfrm>
              <a:off x="598968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8043840" y="4343400"/>
            <a:ext cx="1332720" cy="2097000"/>
            <a:chOff x="8043840" y="4343400"/>
            <a:chExt cx="1332720" cy="2097000"/>
          </a:xfrm>
        </p:grpSpPr>
        <p:sp>
          <p:nvSpPr>
            <p:cNvPr id="314" name=""/>
            <p:cNvSpPr/>
            <p:nvPr/>
          </p:nvSpPr>
          <p:spPr>
            <a:xfrm>
              <a:off x="804384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316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320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324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6-08T05:39:20Z</dcterms:modified>
  <cp:revision>949</cp:revision>
  <dc:subject/>
  <dc:title>Geen diatitel</dc:title>
</cp:coreProperties>
</file>