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Click to move the slid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74C9-30B4-4B46-B0CE-2905326F6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5D34-4EFB-439E-9C82-553193241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882-03A6-40D8-8208-DDD81DD30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CBC7-AED4-45D1-82F5-EEBB46AF1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2734-8082-40E0-BF8A-9BD9398B9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896-A036-4590-9BD8-B9059B802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10CF-D902-48FF-A081-BA385F29F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147B-709E-4676-ADCF-8BE02079A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E030-927E-4314-9A9E-E3BA1CFEB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65C0-16E4-4DA9-9A43-2D990E4D3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94A5-5FD2-4417-A4AC-F1415096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9D60-C801-4C2A-A70D-52E72B8AB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0486-6880-4AEE-B063-B419BD4D1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E87-25B8-4EAA-A672-4ED4C29E1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B80F-76F8-437E-9658-3C3694C91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2394-2EEC-47D1-A3F5-AB3A99D93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322-2C80-4FE1-A1BC-F3494059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F70-F01B-482F-8C1F-FA3EF054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738-78AA-4084-A779-C970F5DC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55F-3AC7-4EFE-823E-B06D1E5F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1EA-8C48-4AAC-9AD5-096015E3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F85-AFD2-4133-A914-3A75D955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A5A-25F6-47DC-AA2F-983B1F33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613-3113-4EE1-942D-0910A1EC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6C8-F03B-4D74-AA3D-D02F00FC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CD6-931C-45E2-AF40-0ABDE8E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4DE-E43D-4D96-BAA1-C51D92EB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69E-3D5A-42CB-821F-BB7D7FC6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1880" y="65530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ED10-8A3A-4122-9783-7EBC5DAD3F49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30040" y="1396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781200" cy="806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22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743040" y="457200"/>
            <a:ext cx="901044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3581280" y="76320"/>
            <a:ext cx="615816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   GeneticaI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53880" y="685440"/>
            <a:ext cx="487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202"/>
                </a:solidFill>
                <a:latin typeface="Comic Sans MS"/>
              </a:rPr>
              <a:t>THALASSEMIA</a:t>
            </a:r>
            <a:endParaRPr b="1" lang="en-US" sz="36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3706200" y="57913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33400" y="1447920"/>
            <a:ext cx="5778720" cy="38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50840" y="1295280"/>
            <a:ext cx="9097560" cy="747720"/>
            <a:chOff x="150840" y="1295280"/>
            <a:chExt cx="9097560" cy="747720"/>
          </a:xfrm>
        </p:grpSpPr>
        <p:sp>
          <p:nvSpPr>
            <p:cNvPr id="502" name=""/>
            <p:cNvSpPr/>
            <p:nvPr/>
          </p:nvSpPr>
          <p:spPr>
            <a:xfrm>
              <a:off x="973440" y="1510920"/>
              <a:ext cx="1839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9880" y="190152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3340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2136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81120" y="1760400"/>
              <a:ext cx="381600" cy="2109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852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25480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334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93200" y="1298160"/>
              <a:ext cx="31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86600" y="1407960"/>
              <a:ext cx="6454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20560" y="1384200"/>
              <a:ext cx="563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63280" y="13507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58760" y="1350720"/>
              <a:ext cx="3513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33440" y="2043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8524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30400" y="2043000"/>
              <a:ext cx="38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27040" y="1407960"/>
              <a:ext cx="4928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0840" y="129528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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1p1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0900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9696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-11880" y="2286000"/>
            <a:ext cx="919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iginata principalmente da mutazioni il cui effetto attraverso meccan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versi e’ quello di avere un deficit di caten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I siti di mutazione so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atteristici di una popo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599920" y="3703320"/>
            <a:ext cx="5520240" cy="1903680"/>
            <a:chOff x="2599920" y="3703320"/>
            <a:chExt cx="5520240" cy="1903680"/>
          </a:xfrm>
        </p:grpSpPr>
        <p:grpSp>
          <p:nvGrpSpPr>
            <p:cNvPr id="524" name=""/>
            <p:cNvGrpSpPr/>
            <p:nvPr/>
          </p:nvGrpSpPr>
          <p:grpSpPr>
            <a:xfrm>
              <a:off x="2741400" y="4419720"/>
              <a:ext cx="5378760" cy="307080"/>
              <a:chOff x="2741400" y="4419720"/>
              <a:chExt cx="5378760" cy="307080"/>
            </a:xfrm>
          </p:grpSpPr>
          <p:sp>
            <p:nvSpPr>
              <p:cNvPr id="525" name=""/>
              <p:cNvSpPr/>
              <p:nvPr/>
            </p:nvSpPr>
            <p:spPr>
              <a:xfrm>
                <a:off x="2741400" y="4597560"/>
                <a:ext cx="53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22720" y="44578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15720" y="4457880"/>
                <a:ext cx="101448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57240" y="44578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50240" y="44578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65080" y="44578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746800" y="44197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99400" y="44197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88520" y="44467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es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30240" y="44467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es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42840" y="44467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esone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809520" y="44467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intr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27640" y="44467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intr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99920" y="3808440"/>
              <a:ext cx="627480" cy="784800"/>
              <a:chOff x="2599920" y="3808440"/>
              <a:chExt cx="627480" cy="784800"/>
            </a:xfrm>
          </p:grpSpPr>
          <p:sp>
            <p:nvSpPr>
              <p:cNvPr id="539" name=""/>
              <p:cNvSpPr/>
              <p:nvPr/>
            </p:nvSpPr>
            <p:spPr>
              <a:xfrm rot="418800">
                <a:off x="2641680" y="383868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02"/>
                  </a:gs>
                  <a:gs pos="50000">
                    <a:srgbClr val="ffdd00"/>
                  </a:gs>
                  <a:gs pos="100000">
                    <a:srgbClr val="ff020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54000" y="3870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543840" y="3703680"/>
              <a:ext cx="2826720" cy="784800"/>
              <a:chOff x="3543840" y="3703680"/>
              <a:chExt cx="2826720" cy="784800"/>
            </a:xfrm>
          </p:grpSpPr>
          <p:sp>
            <p:nvSpPr>
              <p:cNvPr id="542" name=""/>
              <p:cNvSpPr/>
              <p:nvPr/>
            </p:nvSpPr>
            <p:spPr>
              <a:xfrm rot="418800">
                <a:off x="4119480" y="37339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418800">
                <a:off x="4930200" y="3733920"/>
                <a:ext cx="54396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418800">
                <a:off x="5784840" y="37339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418800">
                <a:off x="3585600" y="37339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42960" y="3772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14120" y="37832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042880" y="3772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900760" y="3772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351600" y="4704120"/>
              <a:ext cx="3798720" cy="902880"/>
              <a:chOff x="3351600" y="4704120"/>
              <a:chExt cx="3798720" cy="902880"/>
            </a:xfrm>
          </p:grpSpPr>
          <p:sp>
            <p:nvSpPr>
              <p:cNvPr id="551" name=""/>
              <p:cNvSpPr/>
              <p:nvPr/>
            </p:nvSpPr>
            <p:spPr>
              <a:xfrm rot="11700000">
                <a:off x="3435840" y="47617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1700000">
                <a:off x="4760280" y="47617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1700000">
                <a:off x="6522120" y="47617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630240" y="52322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56840" y="5238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712920" y="5219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692760" y="3703320"/>
              <a:ext cx="628920" cy="784800"/>
              <a:chOff x="6692760" y="3703320"/>
              <a:chExt cx="628920" cy="784800"/>
            </a:xfrm>
          </p:grpSpPr>
          <p:sp>
            <p:nvSpPr>
              <p:cNvPr id="558" name=""/>
              <p:cNvSpPr/>
              <p:nvPr/>
            </p:nvSpPr>
            <p:spPr>
              <a:xfrm rot="418800">
                <a:off x="6734520" y="3733560"/>
                <a:ext cx="54504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de"/>
                  </a:gs>
                  <a:gs pos="50000">
                    <a:srgbClr val="009999"/>
                  </a:gs>
                  <a:gs pos="100000">
                    <a:srgbClr val="ff02d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858000" y="3772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"/>
          <p:cNvSpPr/>
          <p:nvPr/>
        </p:nvSpPr>
        <p:spPr>
          <a:xfrm>
            <a:off x="268560" y="5546880"/>
            <a:ext cx="882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 mutazioni nel promotore portano diminuzione del livello promo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mutazioni puntiformi all’interno degli esoni causano sostituzioni aa o fine tra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 mutazioni introni, alterazione spli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 mutazione in siti di poliadenil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5695920" y="4724280"/>
            <a:ext cx="4141440" cy="1016280"/>
            <a:chOff x="5695920" y="4724280"/>
            <a:chExt cx="4141440" cy="1016280"/>
          </a:xfrm>
        </p:grpSpPr>
        <p:sp>
          <p:nvSpPr>
            <p:cNvPr id="562" name=""/>
            <p:cNvSpPr/>
            <p:nvPr/>
          </p:nvSpPr>
          <p:spPr>
            <a:xfrm>
              <a:off x="7821360" y="4800600"/>
              <a:ext cx="164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thalassem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95920" y="4724280"/>
              <a:ext cx="4141440" cy="1016280"/>
            </a:xfrm>
            <a:prstGeom prst="rect">
              <a:avLst/>
            </a:prstGeom>
            <a:solidFill>
              <a:srgbClr val="ff0202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n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82440" y="1447920"/>
            <a:ext cx="9410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halassemia: tutte le forme in cui manca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mRNA puo’ mancare completamente, degradato o in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440" y="2286000"/>
            <a:ext cx="982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halassemia: tutte le forme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’ sottorappres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mRNA puo’ non venire processato in maniera corretta o essere poco rappresen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440" y="3581280"/>
            <a:ext cx="982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questa categoria appartengono l’emoglobine Lepore: per effetto di un crossingover fra i gen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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e hanno una parziale omologia di sequenza) si ottiene un gen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he viene trascritto in minor quantita’ (il promotor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’ piu’ debo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12920" y="5281560"/>
            <a:ext cx="4704840" cy="1155960"/>
            <a:chOff x="412920" y="5281560"/>
            <a:chExt cx="4704840" cy="1155960"/>
          </a:xfrm>
        </p:grpSpPr>
        <p:sp>
          <p:nvSpPr>
            <p:cNvPr id="569" name=""/>
            <p:cNvSpPr/>
            <p:nvPr/>
          </p:nvSpPr>
          <p:spPr>
            <a:xfrm>
              <a:off x="1253520" y="528156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31680" y="5283360"/>
              <a:ext cx="6026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20280" y="528336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150560" y="5675040"/>
              <a:ext cx="39672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46600" y="558180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83640" y="5581800"/>
              <a:ext cx="3420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96000" y="5581800"/>
              <a:ext cx="245520" cy="13968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02320" y="558180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83440" y="5581800"/>
              <a:ext cx="34236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6080" y="558180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989080" y="5299200"/>
              <a:ext cx="514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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86480" y="531504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85960" y="5315040"/>
              <a:ext cx="2948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9920" y="5661000"/>
              <a:ext cx="183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2920" y="6016680"/>
              <a:ext cx="40017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43160" y="593100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83440" y="593100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95800" y="5931000"/>
              <a:ext cx="242280" cy="13824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98880" y="593100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81800" y="593100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2640" y="593100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90160" y="5729400"/>
              <a:ext cx="209520" cy="19836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4600" y="598032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12400" y="5981760"/>
              <a:ext cx="6026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68360" y="5996160"/>
              <a:ext cx="514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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66120" y="604044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767760" y="6040440"/>
              <a:ext cx="2948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1720" y="598176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738760" y="6235560"/>
            <a:ext cx="4001760" cy="506520"/>
            <a:chOff x="5738760" y="6235560"/>
            <a:chExt cx="4001760" cy="506520"/>
          </a:xfrm>
        </p:grpSpPr>
        <p:sp>
          <p:nvSpPr>
            <p:cNvPr id="598" name=""/>
            <p:cNvSpPr/>
            <p:nvPr/>
          </p:nvSpPr>
          <p:spPr>
            <a:xfrm>
              <a:off x="5738760" y="6321240"/>
              <a:ext cx="40017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69000" y="623556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0928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21640" y="6235560"/>
              <a:ext cx="242280" cy="13824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2472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10764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38480" y="623556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60440" y="628488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38240" y="6286320"/>
              <a:ext cx="6026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94200" y="6300720"/>
              <a:ext cx="514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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91960" y="634500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65160" y="6345000"/>
              <a:ext cx="522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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27560" y="628632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856120" y="5122800"/>
            <a:ext cx="3966840" cy="439920"/>
            <a:chOff x="5856120" y="5122800"/>
            <a:chExt cx="3966840" cy="439920"/>
          </a:xfrm>
        </p:grpSpPr>
        <p:sp>
          <p:nvSpPr>
            <p:cNvPr id="612" name=""/>
            <p:cNvSpPr/>
            <p:nvPr/>
          </p:nvSpPr>
          <p:spPr>
            <a:xfrm>
              <a:off x="5959080" y="512280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36880" y="5124600"/>
              <a:ext cx="6026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5840" y="512460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856120" y="5516280"/>
              <a:ext cx="3966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5216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88840" y="5423040"/>
              <a:ext cx="3420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01200" y="5423040"/>
              <a:ext cx="245520" cy="13968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50788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188640" y="5423040"/>
              <a:ext cx="34236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2128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94280" y="5140440"/>
              <a:ext cx="514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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92040" y="515628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191520" y="5156280"/>
              <a:ext cx="407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5695920" y="5765760"/>
            <a:ext cx="4141440" cy="1015920"/>
            <a:chOff x="5695920" y="5765760"/>
            <a:chExt cx="4141440" cy="1015920"/>
          </a:xfrm>
        </p:grpSpPr>
        <p:sp>
          <p:nvSpPr>
            <p:cNvPr id="626" name=""/>
            <p:cNvSpPr/>
            <p:nvPr/>
          </p:nvSpPr>
          <p:spPr>
            <a:xfrm>
              <a:off x="8466840" y="579132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95920" y="5765760"/>
              <a:ext cx="4141440" cy="10159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714840" y="240984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75080" y="332424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75080" y="2409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1520" y="3327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817280" y="3497400"/>
            <a:ext cx="38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210160" y="4314960"/>
            <a:ext cx="10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82760" y="4495680"/>
            <a:ext cx="8514720" cy="1179000"/>
            <a:chOff x="482760" y="4495680"/>
            <a:chExt cx="8514720" cy="1179000"/>
          </a:xfrm>
        </p:grpSpPr>
        <p:sp>
          <p:nvSpPr>
            <p:cNvPr id="635" name=""/>
            <p:cNvSpPr/>
            <p:nvPr/>
          </p:nvSpPr>
          <p:spPr>
            <a:xfrm>
              <a:off x="482760" y="4495680"/>
              <a:ext cx="58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4000" y="50320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1548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84000" y="469872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0020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279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9804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687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584560" y="514008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77720" y="5867280"/>
            <a:ext cx="93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st per la mutazion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  basato sul dot-blot. Ibridazione con oligonucleotide normale (N) e mutante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910040" y="1622520"/>
            <a:ext cx="785880" cy="15494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3103560" y="1647720"/>
            <a:ext cx="858960" cy="1482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6603840" y="3629160"/>
            <a:ext cx="498600" cy="9903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7920" y="3805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test mutazioni globin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400"/>
                </a:solidFill>
                <a:latin typeface="Comic Sans MS"/>
              </a:rPr>
              <a:t>Saggio mutazione </a:t>
            </a:r>
            <a:r>
              <a:rPr b="1" lang="en-US" sz="1800" spc="-1" strike="noStrike">
                <a:solidFill>
                  <a:srgbClr val="ff04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400"/>
                </a:solidFill>
                <a:latin typeface="Comic Sans MS"/>
              </a:rPr>
              <a:t> globina mediante traduzione </a:t>
            </a:r>
            <a:r>
              <a:rPr b="1" i="1" lang="en-US" sz="1800" spc="-1" strike="noStrike">
                <a:solidFill>
                  <a:srgbClr val="ff0400"/>
                </a:solidFill>
                <a:latin typeface="Comic Sans MS"/>
              </a:rPr>
              <a:t>in vitro</a:t>
            </a:r>
            <a:endParaRPr b="1" lang="en-US" sz="1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12920" y="1752480"/>
            <a:ext cx="2392920" cy="990720"/>
            <a:chOff x="412920" y="1752480"/>
            <a:chExt cx="2392920" cy="990720"/>
          </a:xfrm>
        </p:grpSpPr>
        <p:sp>
          <p:nvSpPr>
            <p:cNvPr id="651" name=""/>
            <p:cNvSpPr/>
            <p:nvPr/>
          </p:nvSpPr>
          <p:spPr>
            <a:xfrm>
              <a:off x="412920" y="1905120"/>
              <a:ext cx="990000" cy="5331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5480" y="1981080"/>
              <a:ext cx="24732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55600" y="1752480"/>
              <a:ext cx="990000" cy="533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68520" y="1828800"/>
              <a:ext cx="247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73160" y="2209680"/>
              <a:ext cx="990000" cy="533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485720" y="2286000"/>
              <a:ext cx="247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15840" y="1981080"/>
              <a:ext cx="990000" cy="533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28400" y="2057400"/>
              <a:ext cx="247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1293840" y="3232080"/>
            <a:ext cx="123192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59080" y="3384720"/>
            <a:ext cx="1231560" cy="23472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73200" y="353700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986120" y="342900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51000" y="3200400"/>
            <a:ext cx="123372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971800" y="4191120"/>
            <a:ext cx="329760" cy="1371600"/>
            <a:chOff x="2971800" y="4191120"/>
            <a:chExt cx="329760" cy="1371600"/>
          </a:xfrm>
        </p:grpSpPr>
        <p:sp>
          <p:nvSpPr>
            <p:cNvPr id="665" name=""/>
            <p:cNvSpPr/>
            <p:nvPr/>
          </p:nvSpPr>
          <p:spPr>
            <a:xfrm>
              <a:off x="3108960" y="5105520"/>
              <a:ext cx="82440" cy="4572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1800" y="4343760"/>
              <a:ext cx="329760" cy="914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81600" y="4191120"/>
              <a:ext cx="109800" cy="3049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1986120" y="365760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51000" y="3429000"/>
            <a:ext cx="123372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65800" y="525780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50960" y="335268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816200" y="3124080"/>
            <a:ext cx="123336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26040" y="5410080"/>
            <a:ext cx="412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22880" y="5270400"/>
            <a:ext cx="2476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511360" y="5638680"/>
            <a:ext cx="1485720" cy="533520"/>
            <a:chOff x="2511360" y="5638680"/>
            <a:chExt cx="1485720" cy="533520"/>
          </a:xfrm>
        </p:grpSpPr>
        <p:sp>
          <p:nvSpPr>
            <p:cNvPr id="676" name=""/>
            <p:cNvSpPr/>
            <p:nvPr/>
          </p:nvSpPr>
          <p:spPr>
            <a:xfrm>
              <a:off x="2598840" y="5937120"/>
              <a:ext cx="1232640" cy="235080"/>
            </a:xfrm>
            <a:custGeom>
              <a:avLst/>
              <a:gdLst/>
              <a:ahLst/>
              <a:rect l="l" t="t" r="r" b="b"/>
              <a:pathLst>
                <a:path w="717" h="148">
                  <a:moveTo>
                    <a:pt x="0" y="148"/>
                  </a:moveTo>
                  <a:cubicBezTo>
                    <a:pt x="61" y="86"/>
                    <a:pt x="127" y="70"/>
                    <a:pt x="208" y="44"/>
                  </a:cubicBezTo>
                  <a:cubicBezTo>
                    <a:pt x="234" y="52"/>
                    <a:pt x="262" y="57"/>
                    <a:pt x="288" y="68"/>
                  </a:cubicBezTo>
                  <a:cubicBezTo>
                    <a:pt x="326" y="83"/>
                    <a:pt x="351" y="105"/>
                    <a:pt x="392" y="116"/>
                  </a:cubicBezTo>
                  <a:cubicBezTo>
                    <a:pt x="429" y="113"/>
                    <a:pt x="526" y="110"/>
                    <a:pt x="568" y="92"/>
                  </a:cubicBezTo>
                  <a:cubicBezTo>
                    <a:pt x="594" y="80"/>
                    <a:pt x="614" y="58"/>
                    <a:pt x="640" y="44"/>
                  </a:cubicBezTo>
                  <a:cubicBezTo>
                    <a:pt x="717" y="0"/>
                    <a:pt x="678" y="37"/>
                    <a:pt x="704" y="12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64080" y="5708520"/>
              <a:ext cx="1233000" cy="235080"/>
            </a:xfrm>
            <a:custGeom>
              <a:avLst/>
              <a:gdLst/>
              <a:ahLst/>
              <a:rect l="l" t="t" r="r" b="b"/>
              <a:pathLst>
                <a:path w="717" h="148">
                  <a:moveTo>
                    <a:pt x="0" y="148"/>
                  </a:moveTo>
                  <a:cubicBezTo>
                    <a:pt x="61" y="86"/>
                    <a:pt x="127" y="70"/>
                    <a:pt x="208" y="44"/>
                  </a:cubicBezTo>
                  <a:cubicBezTo>
                    <a:pt x="234" y="52"/>
                    <a:pt x="262" y="57"/>
                    <a:pt x="288" y="68"/>
                  </a:cubicBezTo>
                  <a:cubicBezTo>
                    <a:pt x="326" y="83"/>
                    <a:pt x="351" y="105"/>
                    <a:pt x="392" y="116"/>
                  </a:cubicBezTo>
                  <a:cubicBezTo>
                    <a:pt x="429" y="113"/>
                    <a:pt x="526" y="110"/>
                    <a:pt x="568" y="92"/>
                  </a:cubicBezTo>
                  <a:cubicBezTo>
                    <a:pt x="594" y="80"/>
                    <a:pt x="614" y="58"/>
                    <a:pt x="640" y="44"/>
                  </a:cubicBezTo>
                  <a:cubicBezTo>
                    <a:pt x="717" y="0"/>
                    <a:pt x="678" y="37"/>
                    <a:pt x="704" y="12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64080" y="5791320"/>
              <a:ext cx="1233000" cy="234720"/>
            </a:xfrm>
            <a:custGeom>
              <a:avLst/>
              <a:gdLst/>
              <a:ahLst/>
              <a:rect l="l" t="t" r="r" b="b"/>
              <a:pathLst>
                <a:path w="717" h="148">
                  <a:moveTo>
                    <a:pt x="0" y="148"/>
                  </a:moveTo>
                  <a:cubicBezTo>
                    <a:pt x="61" y="86"/>
                    <a:pt x="127" y="70"/>
                    <a:pt x="208" y="44"/>
                  </a:cubicBezTo>
                  <a:cubicBezTo>
                    <a:pt x="234" y="52"/>
                    <a:pt x="262" y="57"/>
                    <a:pt x="288" y="68"/>
                  </a:cubicBezTo>
                  <a:cubicBezTo>
                    <a:pt x="326" y="83"/>
                    <a:pt x="351" y="105"/>
                    <a:pt x="392" y="116"/>
                  </a:cubicBezTo>
                  <a:cubicBezTo>
                    <a:pt x="429" y="113"/>
                    <a:pt x="526" y="110"/>
                    <a:pt x="568" y="92"/>
                  </a:cubicBezTo>
                  <a:cubicBezTo>
                    <a:pt x="594" y="80"/>
                    <a:pt x="614" y="58"/>
                    <a:pt x="640" y="44"/>
                  </a:cubicBezTo>
                  <a:cubicBezTo>
                    <a:pt x="717" y="0"/>
                    <a:pt x="678" y="37"/>
                    <a:pt x="704" y="12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11360" y="5638680"/>
              <a:ext cx="1232640" cy="235080"/>
            </a:xfrm>
            <a:custGeom>
              <a:avLst/>
              <a:gdLst/>
              <a:ahLst/>
              <a:rect l="l" t="t" r="r" b="b"/>
              <a:pathLst>
                <a:path w="717" h="148">
                  <a:moveTo>
                    <a:pt x="0" y="148"/>
                  </a:moveTo>
                  <a:cubicBezTo>
                    <a:pt x="61" y="86"/>
                    <a:pt x="127" y="70"/>
                    <a:pt x="208" y="44"/>
                  </a:cubicBezTo>
                  <a:cubicBezTo>
                    <a:pt x="234" y="52"/>
                    <a:pt x="262" y="57"/>
                    <a:pt x="288" y="68"/>
                  </a:cubicBezTo>
                  <a:cubicBezTo>
                    <a:pt x="326" y="83"/>
                    <a:pt x="351" y="105"/>
                    <a:pt x="392" y="116"/>
                  </a:cubicBezTo>
                  <a:cubicBezTo>
                    <a:pt x="429" y="113"/>
                    <a:pt x="526" y="110"/>
                    <a:pt x="568" y="92"/>
                  </a:cubicBezTo>
                  <a:cubicBezTo>
                    <a:pt x="594" y="80"/>
                    <a:pt x="614" y="58"/>
                    <a:pt x="640" y="44"/>
                  </a:cubicBezTo>
                  <a:cubicBezTo>
                    <a:pt x="717" y="0"/>
                    <a:pt x="678" y="37"/>
                    <a:pt x="704" y="12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6026040" y="5867280"/>
            <a:ext cx="1233720" cy="23508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69080" y="5943600"/>
            <a:ext cx="412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65920" y="5803920"/>
            <a:ext cx="2476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26040" y="5334120"/>
            <a:ext cx="1233720" cy="234720"/>
          </a:xfrm>
          <a:custGeom>
            <a:avLst/>
            <a:gdLst/>
            <a:ahLst/>
            <a:rect l="l" t="t" r="r" b="b"/>
            <a:pathLst>
              <a:path w="717" h="148">
                <a:moveTo>
                  <a:pt x="0" y="148"/>
                </a:moveTo>
                <a:cubicBezTo>
                  <a:pt x="61" y="86"/>
                  <a:pt x="127" y="70"/>
                  <a:pt x="208" y="44"/>
                </a:cubicBezTo>
                <a:cubicBezTo>
                  <a:pt x="234" y="52"/>
                  <a:pt x="262" y="57"/>
                  <a:pt x="288" y="68"/>
                </a:cubicBezTo>
                <a:cubicBezTo>
                  <a:pt x="326" y="83"/>
                  <a:pt x="351" y="105"/>
                  <a:pt x="392" y="116"/>
                </a:cubicBezTo>
                <a:cubicBezTo>
                  <a:pt x="429" y="113"/>
                  <a:pt x="526" y="110"/>
                  <a:pt x="568" y="92"/>
                </a:cubicBezTo>
                <a:cubicBezTo>
                  <a:pt x="594" y="80"/>
                  <a:pt x="614" y="58"/>
                  <a:pt x="640" y="44"/>
                </a:cubicBezTo>
                <a:cubicBezTo>
                  <a:pt x="717" y="0"/>
                  <a:pt x="678" y="37"/>
                  <a:pt x="704" y="12"/>
                </a:cubicBez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686640" y="5486400"/>
            <a:ext cx="41256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83480" y="5346720"/>
            <a:ext cx="2476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2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694720" y="3048120"/>
            <a:ext cx="633600" cy="495360"/>
          </a:xfrm>
          <a:custGeom>
            <a:avLst/>
            <a:gdLst/>
            <a:ahLst/>
            <a:rect l="l" t="t" r="r" b="b"/>
            <a:pathLst>
              <a:path w="368" h="312">
                <a:moveTo>
                  <a:pt x="368" y="312"/>
                </a:moveTo>
                <a:cubicBezTo>
                  <a:pt x="278" y="282"/>
                  <a:pt x="264" y="280"/>
                  <a:pt x="216" y="208"/>
                </a:cubicBezTo>
                <a:cubicBezTo>
                  <a:pt x="200" y="114"/>
                  <a:pt x="236" y="19"/>
                  <a:pt x="336" y="0"/>
                </a:cubicBezTo>
                <a:cubicBezTo>
                  <a:pt x="344" y="10"/>
                  <a:pt x="358" y="18"/>
                  <a:pt x="360" y="32"/>
                </a:cubicBezTo>
                <a:cubicBezTo>
                  <a:pt x="363" y="69"/>
                  <a:pt x="324" y="181"/>
                  <a:pt x="288" y="200"/>
                </a:cubicBezTo>
                <a:cubicBezTo>
                  <a:pt x="273" y="207"/>
                  <a:pt x="256" y="205"/>
                  <a:pt x="240" y="208"/>
                </a:cubicBezTo>
                <a:cubicBezTo>
                  <a:pt x="173" y="202"/>
                  <a:pt x="118" y="219"/>
                  <a:pt x="96" y="152"/>
                </a:cubicBezTo>
                <a:cubicBezTo>
                  <a:pt x="104" y="108"/>
                  <a:pt x="91" y="81"/>
                  <a:pt x="136" y="96"/>
                </a:cubicBezTo>
                <a:cubicBezTo>
                  <a:pt x="98" y="133"/>
                  <a:pt x="119" y="120"/>
                  <a:pt x="48" y="136"/>
                </a:cubicBezTo>
                <a:cubicBezTo>
                  <a:pt x="32" y="139"/>
                  <a:pt x="0" y="144"/>
                  <a:pt x="0" y="144"/>
                </a:cubicBezTo>
              </a:path>
            </a:pathLst>
          </a:custGeom>
          <a:noFill/>
          <a:ln w="22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818560" y="5657760"/>
            <a:ext cx="592200" cy="895320"/>
          </a:xfrm>
          <a:custGeom>
            <a:avLst/>
            <a:gdLst/>
            <a:ahLst/>
            <a:rect l="l" t="t" r="r" b="b"/>
            <a:pathLst>
              <a:path w="344" h="564">
                <a:moveTo>
                  <a:pt x="232" y="320"/>
                </a:moveTo>
                <a:cubicBezTo>
                  <a:pt x="182" y="287"/>
                  <a:pt x="177" y="288"/>
                  <a:pt x="200" y="232"/>
                </a:cubicBezTo>
                <a:cubicBezTo>
                  <a:pt x="205" y="240"/>
                  <a:pt x="220" y="247"/>
                  <a:pt x="216" y="256"/>
                </a:cubicBezTo>
                <a:cubicBezTo>
                  <a:pt x="206" y="272"/>
                  <a:pt x="168" y="288"/>
                  <a:pt x="168" y="288"/>
                </a:cubicBezTo>
                <a:cubicBezTo>
                  <a:pt x="132" y="279"/>
                  <a:pt x="94" y="255"/>
                  <a:pt x="128" y="208"/>
                </a:cubicBezTo>
                <a:cubicBezTo>
                  <a:pt x="150" y="175"/>
                  <a:pt x="183" y="174"/>
                  <a:pt x="216" y="168"/>
                </a:cubicBezTo>
                <a:cubicBezTo>
                  <a:pt x="242" y="176"/>
                  <a:pt x="278" y="170"/>
                  <a:pt x="296" y="192"/>
                </a:cubicBezTo>
                <a:cubicBezTo>
                  <a:pt x="325" y="226"/>
                  <a:pt x="344" y="320"/>
                  <a:pt x="344" y="320"/>
                </a:cubicBezTo>
                <a:cubicBezTo>
                  <a:pt x="326" y="409"/>
                  <a:pt x="337" y="410"/>
                  <a:pt x="256" y="424"/>
                </a:cubicBezTo>
                <a:cubicBezTo>
                  <a:pt x="200" y="405"/>
                  <a:pt x="231" y="373"/>
                  <a:pt x="264" y="352"/>
                </a:cubicBezTo>
                <a:cubicBezTo>
                  <a:pt x="336" y="376"/>
                  <a:pt x="327" y="426"/>
                  <a:pt x="336" y="496"/>
                </a:cubicBezTo>
                <a:cubicBezTo>
                  <a:pt x="320" y="556"/>
                  <a:pt x="285" y="546"/>
                  <a:pt x="224" y="560"/>
                </a:cubicBezTo>
                <a:cubicBezTo>
                  <a:pt x="64" y="528"/>
                  <a:pt x="57" y="564"/>
                  <a:pt x="40" y="440"/>
                </a:cubicBezTo>
                <a:cubicBezTo>
                  <a:pt x="48" y="398"/>
                  <a:pt x="52" y="366"/>
                  <a:pt x="96" y="352"/>
                </a:cubicBezTo>
                <a:cubicBezTo>
                  <a:pt x="118" y="385"/>
                  <a:pt x="121" y="401"/>
                  <a:pt x="112" y="440"/>
                </a:cubicBezTo>
                <a:cubicBezTo>
                  <a:pt x="22" y="417"/>
                  <a:pt x="15" y="283"/>
                  <a:pt x="0" y="208"/>
                </a:cubicBezTo>
                <a:cubicBezTo>
                  <a:pt x="6" y="120"/>
                  <a:pt x="8" y="63"/>
                  <a:pt x="72" y="0"/>
                </a:cubicBezTo>
                <a:cubicBezTo>
                  <a:pt x="148" y="10"/>
                  <a:pt x="175" y="7"/>
                  <a:pt x="232" y="64"/>
                </a:cubicBezTo>
                <a:cubicBezTo>
                  <a:pt x="224" y="85"/>
                  <a:pt x="224" y="111"/>
                  <a:pt x="208" y="128"/>
                </a:cubicBezTo>
                <a:cubicBezTo>
                  <a:pt x="201" y="134"/>
                  <a:pt x="190" y="113"/>
                  <a:pt x="192" y="104"/>
                </a:cubicBezTo>
                <a:cubicBezTo>
                  <a:pt x="193" y="94"/>
                  <a:pt x="208" y="93"/>
                  <a:pt x="216" y="88"/>
                </a:cubicBezTo>
                <a:cubicBezTo>
                  <a:pt x="267" y="105"/>
                  <a:pt x="252" y="92"/>
                  <a:pt x="272" y="112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15520" y="200664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TICOLOC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48080" y="266688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olamento m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43040" y="4495680"/>
            <a:ext cx="190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LONNA CON cDNA DELLA GLOB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98600" y="6172200"/>
            <a:ext cx="19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ricchimento mR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lla glob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615280" y="628956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duzione in vi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177320" y="487692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rdo talasse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72360" y="4191120"/>
            <a:ext cx="1852560" cy="307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nza di prodo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91600" y="25146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4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4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4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391600" y="6446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4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04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4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7099200" y="4647960"/>
            <a:ext cx="330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8667720" y="3504960"/>
            <a:ext cx="247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94560" y="5715000"/>
            <a:ext cx="1155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622760" y="579132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46320" y="2743200"/>
            <a:ext cx="247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94000" y="4038480"/>
            <a:ext cx="412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88880" y="59310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d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 nelle diverse popolazion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301680" y="1754280"/>
            <a:ext cx="8303400" cy="1618560"/>
            <a:chOff x="301680" y="1754280"/>
            <a:chExt cx="8303400" cy="1618560"/>
          </a:xfrm>
        </p:grpSpPr>
        <p:sp>
          <p:nvSpPr>
            <p:cNvPr id="706" name=""/>
            <p:cNvSpPr/>
            <p:nvPr/>
          </p:nvSpPr>
          <p:spPr>
            <a:xfrm>
              <a:off x="301680" y="1754280"/>
              <a:ext cx="8303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ardegna:  codone 39 da glutamina a stop       proteina tronca      95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6   perdita di una base      frameshift           2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76   perdita di una base          =                 0.7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A                  splicing alterato    0.5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G                      ==               0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80840" y="29592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494520" y="325116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428760" y="4713120"/>
            <a:ext cx="8267040" cy="1618560"/>
            <a:chOff x="428760" y="4713120"/>
            <a:chExt cx="8267040" cy="1618560"/>
          </a:xfrm>
        </p:grpSpPr>
        <p:sp>
          <p:nvSpPr>
            <p:cNvPr id="710" name=""/>
            <p:cNvSpPr/>
            <p:nvPr/>
          </p:nvSpPr>
          <p:spPr>
            <a:xfrm>
              <a:off x="428760" y="4713120"/>
              <a:ext cx="82670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recia:    codone 39  da glutamina a stop     proteina tronca       1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    G       A              splicing alterato      13.6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6    T       C              splicing alterato       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 A                    ==               43.7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 G                       ==               7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18000" y="59180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32040" y="62100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45720" y="52560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59400" y="554796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158400" y="3689280"/>
            <a:ext cx="901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l delta del PO la mutazione piu’ frequente provoca un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er un segnal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licing ambig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d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 nelle diverse popolazion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717" name=""/>
          <p:cNvSpPr/>
          <p:nvPr/>
        </p:nvSpPr>
        <p:spPr>
          <a:xfrm>
            <a:off x="1007640" y="1754280"/>
            <a:ext cx="713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na  :  codone 41/42  -TCTT                    frameshift        38.6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2 654   C      T                                       15.7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71/76   + una base               frameshift        12.4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28G           A      G                                       11.6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17      A      T                                       10.5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84720" y="295920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67160" y="325116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1920" y="3571920"/>
            <a:ext cx="7628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kistan    codone 8/9  + una base                frameshift        28.9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5    G       C                                     26.4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i 619bp                                          23.3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1    G       T                                       8.2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41/42  -TCTT                    frameshift        7.9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728880" y="41148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32040" y="47242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49600" y="22860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252080" y="5413320"/>
            <a:ext cx="6633000" cy="1313640"/>
            <a:chOff x="1252080" y="5413320"/>
            <a:chExt cx="6633000" cy="1313640"/>
          </a:xfrm>
        </p:grpSpPr>
        <p:sp>
          <p:nvSpPr>
            <p:cNvPr id="725" name=""/>
            <p:cNvSpPr/>
            <p:nvPr/>
          </p:nvSpPr>
          <p:spPr>
            <a:xfrm>
              <a:off x="1252080" y="5413320"/>
              <a:ext cx="6633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fro americani:  -29         A       G                                 60.3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88          C      T                                  21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24    T     A                                    7.9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6     - una base                                 0.8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34600" y="594684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51800" y="63277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51800" y="56419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Perche’ queste differenze?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1816200" y="1371600"/>
            <a:ext cx="511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HARDY- WEIN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000" y="1752480"/>
            <a:ext cx="920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una popolazio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nfinitamente gran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gli incroci avven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asualmen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n vi siano mut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migr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selezion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alleliche in locus con 2 alleli non cambiano nel tempo, e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genotipiche si stabilizzano secondo le proporzioni: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2pq +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5240" y="3581280"/>
            <a:ext cx="9740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 sempre tenuto presente che H-W e’ un modello  matematico che ci fornisce “un’ipotesi zero” cioe’ un punto di partenza per saggiare gli effetti che possono modificare le frequenze alleliche: ci permette di individuare le forze che  fanno evolvere una popolazione natur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7680" y="4952880"/>
            <a:ext cx="9493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esaminando una popolazione trovo che le frequenze genotipiche si discostano significativamente dall’atteso vuol dire che una delle condizioni e’ venuta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Domand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401400" y="1295280"/>
            <a:ext cx="84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che’ gli alleli “thalassemici” hanno questa frequenza? 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vrebbero spar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8280" y="2286000"/>
            <a:ext cx="95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: gli omozigoti e gli eterozigoti composti sono grave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romessi e non si riproducono quindi ad ogni generazione una quo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alleli si dovrebbe perdere e la frequenza dell’allele”malato” dovreb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minuire drastic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1680" y="3809880"/>
            <a:ext cx="87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identemente c’e’ stato qualcosa nel corso dell’evoluzione ch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cuni ambienti a favorito gli eterozig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60440" y="4800600"/>
            <a:ext cx="89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perche’ le mutazioni hanno frequenze diverse nelle popolazion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42960" y="5562720"/>
            <a:ext cx="59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ffetto del fondatore o del collo di bottigl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6320" y="601200"/>
            <a:ext cx="4705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luster delle globine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458640" y="1552680"/>
            <a:ext cx="88599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rivano da duplicazione genica, per effetto del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onversione genica rendono un locus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hot-spo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di mut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8520" y="3048120"/>
            <a:ext cx="9119880" cy="742680"/>
            <a:chOff x="128520" y="3048120"/>
            <a:chExt cx="9119880" cy="742680"/>
          </a:xfrm>
        </p:grpSpPr>
        <p:sp>
          <p:nvSpPr>
            <p:cNvPr id="59" name=""/>
            <p:cNvSpPr/>
            <p:nvPr/>
          </p:nvSpPr>
          <p:spPr>
            <a:xfrm>
              <a:off x="2369880" y="364968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86400" y="35082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1360" y="35082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09320" y="35082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01480" y="3508200"/>
              <a:ext cx="5364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95440" y="3508200"/>
              <a:ext cx="53496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36760" y="3508200"/>
              <a:ext cx="381600" cy="2127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33440" y="3508200"/>
              <a:ext cx="5346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98960" y="30481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12880" y="3121200"/>
              <a:ext cx="6346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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2960" y="31320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57400" y="31320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05800" y="30988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05520" y="30988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41080" y="3170160"/>
              <a:ext cx="342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3440" y="37908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1480" y="3790800"/>
              <a:ext cx="38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73200" y="37908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636760" y="37908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8520" y="316224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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6p1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370240" y="5192640"/>
            <a:ext cx="687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3376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2136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81840" y="5051520"/>
            <a:ext cx="380880" cy="21096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488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5516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33800" y="50515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93920" y="4589640"/>
            <a:ext cx="313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86600" y="4699080"/>
            <a:ext cx="645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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20920" y="4675320"/>
            <a:ext cx="563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3280" y="4641840"/>
            <a:ext cx="4291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58760" y="4641840"/>
            <a:ext cx="3513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3800" y="5334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4880" y="53341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31120" y="53341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6680" y="4699080"/>
            <a:ext cx="492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840" y="4586400"/>
            <a:ext cx="1969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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11p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10080" y="5334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97320" y="5334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2680" y="1693800"/>
            <a:ext cx="924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60" y="4303800"/>
            <a:ext cx="841320" cy="2109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9248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92480" y="4867200"/>
            <a:ext cx="841320" cy="212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3760" y="3809880"/>
            <a:ext cx="84168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3760" y="4867200"/>
            <a:ext cx="841680" cy="21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54840" y="4586400"/>
            <a:ext cx="841320" cy="21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484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4840" y="5361120"/>
            <a:ext cx="84132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280" y="387972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6200" y="3597120"/>
            <a:ext cx="687600" cy="141480"/>
          </a:xfrm>
          <a:custGeom>
            <a:avLst/>
            <a:gdLst>
              <a:gd name="textAreaLeft" fmla="*/ 120240 w 687600"/>
              <a:gd name="textAreaRight" fmla="*/ 498600 w 68760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008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260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32600" y="4373640"/>
            <a:ext cx="687240" cy="14112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120"/>
              <a:gd name="textAreaBottom" fmla="*/ 122400 h 14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5480" y="3244680"/>
            <a:ext cx="1164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2200" y="4373640"/>
            <a:ext cx="68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11240" y="4020840"/>
            <a:ext cx="45900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1240" y="4373640"/>
            <a:ext cx="38124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021200"/>
            <a:ext cx="1452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11560" y="387972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11560" y="500868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78560" y="3879720"/>
            <a:ext cx="1071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93680" y="4630680"/>
            <a:ext cx="1188720" cy="29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4040" y="5087520"/>
            <a:ext cx="1188000" cy="29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6960" y="4168800"/>
            <a:ext cx="1741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00480" y="366876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0712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24920" y="36687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4920" y="44085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05520" y="4444920"/>
            <a:ext cx="473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4520" y="5222880"/>
            <a:ext cx="500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55160" y="5149800"/>
            <a:ext cx="1404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9640" y="3457440"/>
            <a:ext cx="681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1320" y="4514760"/>
            <a:ext cx="82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34960" y="442584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720" y="484812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Evoluzione delle globine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30800" y="5592600"/>
            <a:ext cx="13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90960" y="4373640"/>
            <a:ext cx="22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2640" y="1622520"/>
            <a:ext cx="87026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e LCR si trovano a monte dei raggruppamenti e la loro funzione sarebbe quella d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rganizzare il raggruppamento in un dominio di cromatina attiva, agendo come </a:t>
            </a:r>
            <a:r>
              <a:rPr b="0" i="1" lang="en-US" sz="1500" spc="-1" strike="noStrike">
                <a:solidFill>
                  <a:srgbClr val="000000"/>
                </a:solidFill>
                <a:latin typeface="Comic Sans MS"/>
              </a:rPr>
              <a:t>enhanc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60" y="2540160"/>
            <a:ext cx="91159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a cromatina attiva si presenta sensibile alla Dnasi I e grazie a questa caratterist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ono state identificate le LCR per i due aggruppameni globinici. E’ stato anche possibil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iconoscere che questa ipersensibilita’ e’ modulata nei diversi stadi di svilupp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96480" y="6278400"/>
            <a:ext cx="609480" cy="282600"/>
          </a:xfrm>
          <a:custGeom>
            <a:avLst/>
            <a:gdLst>
              <a:gd name="textAreaLeft" fmla="*/ 95040 w 609480"/>
              <a:gd name="textAreaRight" fmla="*/ 533520 w 60948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112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8920" y="4092480"/>
            <a:ext cx="382320" cy="5637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544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48440" y="4232160"/>
            <a:ext cx="53532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488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90120" y="4232160"/>
            <a:ext cx="534960" cy="3542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900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423216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7680" y="4373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11240" y="437364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6080" y="437364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19840" y="4373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83760" y="437364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9720" y="4164120"/>
            <a:ext cx="114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59160" y="3846600"/>
            <a:ext cx="12823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0       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2680" y="3780000"/>
            <a:ext cx="483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92360" y="377496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43320" y="379584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61200" y="4162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02520" y="41623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42400" y="416232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93880" y="380988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35200" y="382104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65720" y="3857760"/>
            <a:ext cx="294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62400" y="5433840"/>
            <a:ext cx="53640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29272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95840" y="545148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13800" y="543240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89800" y="5432400"/>
            <a:ext cx="5367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59400" y="5451480"/>
            <a:ext cx="534960" cy="352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78200" y="5451480"/>
            <a:ext cx="53532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9920" y="557532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16160" y="557532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14640" y="559260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6560" y="5573880"/>
            <a:ext cx="6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0240" y="529272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0320" y="5292720"/>
            <a:ext cx="38232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3520" y="559260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760" y="55738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74680" y="4932360"/>
            <a:ext cx="1587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  HS-3 HS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0160" y="5081760"/>
            <a:ext cx="609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40160" y="536256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38680" y="54324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6320" y="538164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7640" y="5381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67560" y="536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90120" y="536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30680" y="5019840"/>
            <a:ext cx="4352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77480" y="5027760"/>
            <a:ext cx="416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18800" y="5099040"/>
            <a:ext cx="461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66840" y="5079960"/>
            <a:ext cx="28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12720" y="5067360"/>
            <a:ext cx="302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200" y="5332320"/>
            <a:ext cx="1148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080" y="456840"/>
            <a:ext cx="965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400"/>
                </a:solidFill>
                <a:latin typeface="Comic Sans MS"/>
              </a:rPr>
              <a:t>Sintesi globine nella vita fetale ed adulta</a:t>
            </a:r>
            <a:endParaRPr b="1" lang="en-US" sz="19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17161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73160" y="1447920"/>
            <a:ext cx="8039520" cy="3290760"/>
            <a:chOff x="1073160" y="1447920"/>
            <a:chExt cx="8039520" cy="3290760"/>
          </a:xfrm>
        </p:grpSpPr>
        <p:sp>
          <p:nvSpPr>
            <p:cNvPr id="198" name=""/>
            <p:cNvSpPr/>
            <p:nvPr/>
          </p:nvSpPr>
          <p:spPr>
            <a:xfrm>
              <a:off x="1073160" y="1746360"/>
              <a:ext cx="7925040" cy="2992320"/>
            </a:xfrm>
            <a:custGeom>
              <a:avLst/>
              <a:gdLst/>
              <a:ahLst/>
              <a:rect l="l" t="t" r="r" b="b"/>
              <a:pathLst>
                <a:path w="4608" h="1885">
                  <a:moveTo>
                    <a:pt x="0" y="1885"/>
                  </a:moveTo>
                  <a:cubicBezTo>
                    <a:pt x="10" y="1809"/>
                    <a:pt x="21" y="1734"/>
                    <a:pt x="40" y="1661"/>
                  </a:cubicBezTo>
                  <a:cubicBezTo>
                    <a:pt x="37" y="1610"/>
                    <a:pt x="32" y="1559"/>
                    <a:pt x="32" y="1509"/>
                  </a:cubicBezTo>
                  <a:cubicBezTo>
                    <a:pt x="32" y="1343"/>
                    <a:pt x="52" y="1437"/>
                    <a:pt x="32" y="1357"/>
                  </a:cubicBezTo>
                  <a:cubicBezTo>
                    <a:pt x="39" y="1302"/>
                    <a:pt x="41" y="1210"/>
                    <a:pt x="72" y="1165"/>
                  </a:cubicBezTo>
                  <a:cubicBezTo>
                    <a:pt x="130" y="1077"/>
                    <a:pt x="179" y="1009"/>
                    <a:pt x="216" y="901"/>
                  </a:cubicBezTo>
                  <a:cubicBezTo>
                    <a:pt x="263" y="759"/>
                    <a:pt x="349" y="659"/>
                    <a:pt x="448" y="549"/>
                  </a:cubicBezTo>
                  <a:cubicBezTo>
                    <a:pt x="483" y="509"/>
                    <a:pt x="512" y="464"/>
                    <a:pt x="552" y="429"/>
                  </a:cubicBezTo>
                  <a:cubicBezTo>
                    <a:pt x="671" y="321"/>
                    <a:pt x="955" y="224"/>
                    <a:pt x="1048" y="181"/>
                  </a:cubicBezTo>
                  <a:cubicBezTo>
                    <a:pt x="1093" y="159"/>
                    <a:pt x="1177" y="110"/>
                    <a:pt x="1240" y="101"/>
                  </a:cubicBezTo>
                  <a:cubicBezTo>
                    <a:pt x="1596" y="44"/>
                    <a:pt x="1970" y="59"/>
                    <a:pt x="2328" y="53"/>
                  </a:cubicBezTo>
                  <a:cubicBezTo>
                    <a:pt x="2717" y="61"/>
                    <a:pt x="3106" y="45"/>
                    <a:pt x="3496" y="61"/>
                  </a:cubicBezTo>
                  <a:cubicBezTo>
                    <a:pt x="3641" y="31"/>
                    <a:pt x="3758" y="29"/>
                    <a:pt x="3920" y="21"/>
                  </a:cubicBezTo>
                  <a:cubicBezTo>
                    <a:pt x="3944" y="16"/>
                    <a:pt x="3967" y="0"/>
                    <a:pt x="3992" y="5"/>
                  </a:cubicBezTo>
                  <a:cubicBezTo>
                    <a:pt x="4016" y="9"/>
                    <a:pt x="4038" y="26"/>
                    <a:pt x="4064" y="29"/>
                  </a:cubicBezTo>
                  <a:cubicBezTo>
                    <a:pt x="4170" y="37"/>
                    <a:pt x="4277" y="44"/>
                    <a:pt x="4384" y="53"/>
                  </a:cubicBezTo>
                  <a:cubicBezTo>
                    <a:pt x="4444" y="73"/>
                    <a:pt x="4393" y="58"/>
                    <a:pt x="4520" y="69"/>
                  </a:cubicBezTo>
                  <a:cubicBezTo>
                    <a:pt x="4605" y="76"/>
                    <a:pt x="4580" y="96"/>
                    <a:pt x="4608" y="6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803800" y="1447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80920" y="2414520"/>
            <a:ext cx="8605800" cy="2489400"/>
            <a:chOff x="880920" y="2414520"/>
            <a:chExt cx="8605800" cy="2489400"/>
          </a:xfrm>
        </p:grpSpPr>
        <p:sp>
          <p:nvSpPr>
            <p:cNvPr id="201" name=""/>
            <p:cNvSpPr/>
            <p:nvPr/>
          </p:nvSpPr>
          <p:spPr>
            <a:xfrm>
              <a:off x="880920" y="2414520"/>
              <a:ext cx="8378280" cy="2408400"/>
            </a:xfrm>
            <a:custGeom>
              <a:avLst/>
              <a:gdLst/>
              <a:ahLst/>
              <a:rect l="l" t="t" r="r" b="b"/>
              <a:pathLst>
                <a:path w="4872" h="1517">
                  <a:moveTo>
                    <a:pt x="0" y="952"/>
                  </a:moveTo>
                  <a:cubicBezTo>
                    <a:pt x="37" y="944"/>
                    <a:pt x="74" y="937"/>
                    <a:pt x="112" y="928"/>
                  </a:cubicBezTo>
                  <a:cubicBezTo>
                    <a:pt x="128" y="923"/>
                    <a:pt x="160" y="912"/>
                    <a:pt x="160" y="912"/>
                  </a:cubicBezTo>
                  <a:cubicBezTo>
                    <a:pt x="200" y="881"/>
                    <a:pt x="257" y="842"/>
                    <a:pt x="304" y="824"/>
                  </a:cubicBezTo>
                  <a:cubicBezTo>
                    <a:pt x="349" y="778"/>
                    <a:pt x="408" y="755"/>
                    <a:pt x="456" y="712"/>
                  </a:cubicBezTo>
                  <a:cubicBezTo>
                    <a:pt x="567" y="612"/>
                    <a:pt x="401" y="749"/>
                    <a:pt x="560" y="600"/>
                  </a:cubicBezTo>
                  <a:cubicBezTo>
                    <a:pt x="582" y="579"/>
                    <a:pt x="610" y="565"/>
                    <a:pt x="632" y="544"/>
                  </a:cubicBezTo>
                  <a:cubicBezTo>
                    <a:pt x="670" y="505"/>
                    <a:pt x="703" y="460"/>
                    <a:pt x="744" y="424"/>
                  </a:cubicBezTo>
                  <a:cubicBezTo>
                    <a:pt x="763" y="406"/>
                    <a:pt x="803" y="376"/>
                    <a:pt x="824" y="352"/>
                  </a:cubicBezTo>
                  <a:cubicBezTo>
                    <a:pt x="863" y="305"/>
                    <a:pt x="897" y="248"/>
                    <a:pt x="944" y="208"/>
                  </a:cubicBezTo>
                  <a:cubicBezTo>
                    <a:pt x="964" y="189"/>
                    <a:pt x="993" y="183"/>
                    <a:pt x="1016" y="168"/>
                  </a:cubicBezTo>
                  <a:cubicBezTo>
                    <a:pt x="1083" y="121"/>
                    <a:pt x="1147" y="69"/>
                    <a:pt x="1216" y="24"/>
                  </a:cubicBezTo>
                  <a:cubicBezTo>
                    <a:pt x="1360" y="38"/>
                    <a:pt x="1503" y="25"/>
                    <a:pt x="1648" y="16"/>
                  </a:cubicBezTo>
                  <a:cubicBezTo>
                    <a:pt x="1708" y="0"/>
                    <a:pt x="1771" y="20"/>
                    <a:pt x="1832" y="32"/>
                  </a:cubicBezTo>
                  <a:cubicBezTo>
                    <a:pt x="1911" y="71"/>
                    <a:pt x="1990" y="111"/>
                    <a:pt x="2064" y="160"/>
                  </a:cubicBezTo>
                  <a:cubicBezTo>
                    <a:pt x="2105" y="283"/>
                    <a:pt x="2057" y="155"/>
                    <a:pt x="2096" y="232"/>
                  </a:cubicBezTo>
                  <a:cubicBezTo>
                    <a:pt x="2113" y="267"/>
                    <a:pt x="2110" y="301"/>
                    <a:pt x="2136" y="336"/>
                  </a:cubicBezTo>
                  <a:cubicBezTo>
                    <a:pt x="2147" y="351"/>
                    <a:pt x="2163" y="361"/>
                    <a:pt x="2176" y="376"/>
                  </a:cubicBezTo>
                  <a:cubicBezTo>
                    <a:pt x="2205" y="410"/>
                    <a:pt x="2174" y="394"/>
                    <a:pt x="2216" y="408"/>
                  </a:cubicBezTo>
                  <a:cubicBezTo>
                    <a:pt x="2234" y="424"/>
                    <a:pt x="2252" y="440"/>
                    <a:pt x="2272" y="456"/>
                  </a:cubicBezTo>
                  <a:cubicBezTo>
                    <a:pt x="2290" y="470"/>
                    <a:pt x="2310" y="481"/>
                    <a:pt x="2328" y="496"/>
                  </a:cubicBezTo>
                  <a:cubicBezTo>
                    <a:pt x="2356" y="518"/>
                    <a:pt x="2370" y="545"/>
                    <a:pt x="2400" y="568"/>
                  </a:cubicBezTo>
                  <a:cubicBezTo>
                    <a:pt x="2426" y="648"/>
                    <a:pt x="2502" y="718"/>
                    <a:pt x="2560" y="776"/>
                  </a:cubicBezTo>
                  <a:cubicBezTo>
                    <a:pt x="2642" y="858"/>
                    <a:pt x="2528" y="719"/>
                    <a:pt x="2640" y="840"/>
                  </a:cubicBezTo>
                  <a:cubicBezTo>
                    <a:pt x="2697" y="902"/>
                    <a:pt x="2720" y="986"/>
                    <a:pt x="2776" y="1048"/>
                  </a:cubicBezTo>
                  <a:cubicBezTo>
                    <a:pt x="2808" y="1083"/>
                    <a:pt x="2847" y="1087"/>
                    <a:pt x="2872" y="1136"/>
                  </a:cubicBezTo>
                  <a:cubicBezTo>
                    <a:pt x="2877" y="1146"/>
                    <a:pt x="2879" y="1159"/>
                    <a:pt x="2888" y="1168"/>
                  </a:cubicBezTo>
                  <a:cubicBezTo>
                    <a:pt x="2924" y="1204"/>
                    <a:pt x="3003" y="1255"/>
                    <a:pt x="3056" y="1264"/>
                  </a:cubicBezTo>
                  <a:cubicBezTo>
                    <a:pt x="3093" y="1269"/>
                    <a:pt x="3168" y="1280"/>
                    <a:pt x="3168" y="1280"/>
                  </a:cubicBezTo>
                  <a:cubicBezTo>
                    <a:pt x="3230" y="1300"/>
                    <a:pt x="3265" y="1356"/>
                    <a:pt x="3328" y="1384"/>
                  </a:cubicBezTo>
                  <a:cubicBezTo>
                    <a:pt x="3451" y="1438"/>
                    <a:pt x="3588" y="1442"/>
                    <a:pt x="3720" y="1448"/>
                  </a:cubicBezTo>
                  <a:cubicBezTo>
                    <a:pt x="4046" y="1517"/>
                    <a:pt x="4323" y="1501"/>
                    <a:pt x="4664" y="1496"/>
                  </a:cubicBezTo>
                  <a:cubicBezTo>
                    <a:pt x="4823" y="1477"/>
                    <a:pt x="4754" y="1480"/>
                    <a:pt x="4872" y="148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76400" y="4535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66880" y="3303720"/>
            <a:ext cx="852120" cy="1473120"/>
            <a:chOff x="866880" y="3303720"/>
            <a:chExt cx="852120" cy="1473120"/>
          </a:xfrm>
        </p:grpSpPr>
        <p:sp>
          <p:nvSpPr>
            <p:cNvPr id="204" name=""/>
            <p:cNvSpPr/>
            <p:nvPr/>
          </p:nvSpPr>
          <p:spPr>
            <a:xfrm>
              <a:off x="866880" y="3303720"/>
              <a:ext cx="852120" cy="1473120"/>
            </a:xfrm>
            <a:custGeom>
              <a:avLst/>
              <a:gdLst/>
              <a:ahLst/>
              <a:rect l="l" t="t" r="r" b="b"/>
              <a:pathLst>
                <a:path w="496" h="928">
                  <a:moveTo>
                    <a:pt x="0" y="0"/>
                  </a:moveTo>
                  <a:cubicBezTo>
                    <a:pt x="29" y="72"/>
                    <a:pt x="27" y="148"/>
                    <a:pt x="72" y="216"/>
                  </a:cubicBezTo>
                  <a:cubicBezTo>
                    <a:pt x="88" y="282"/>
                    <a:pt x="68" y="216"/>
                    <a:pt x="96" y="272"/>
                  </a:cubicBezTo>
                  <a:cubicBezTo>
                    <a:pt x="115" y="310"/>
                    <a:pt x="110" y="335"/>
                    <a:pt x="136" y="376"/>
                  </a:cubicBezTo>
                  <a:cubicBezTo>
                    <a:pt x="146" y="392"/>
                    <a:pt x="168" y="424"/>
                    <a:pt x="168" y="424"/>
                  </a:cubicBezTo>
                  <a:cubicBezTo>
                    <a:pt x="183" y="518"/>
                    <a:pt x="205" y="611"/>
                    <a:pt x="232" y="704"/>
                  </a:cubicBezTo>
                  <a:cubicBezTo>
                    <a:pt x="243" y="745"/>
                    <a:pt x="245" y="772"/>
                    <a:pt x="272" y="808"/>
                  </a:cubicBezTo>
                  <a:cubicBezTo>
                    <a:pt x="307" y="914"/>
                    <a:pt x="396" y="928"/>
                    <a:pt x="496" y="928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28480" y="439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73160" y="1944720"/>
            <a:ext cx="8061840" cy="2941560"/>
            <a:chOff x="1073160" y="1944720"/>
            <a:chExt cx="8061840" cy="2941560"/>
          </a:xfrm>
        </p:grpSpPr>
        <p:sp>
          <p:nvSpPr>
            <p:cNvPr id="207" name=""/>
            <p:cNvSpPr/>
            <p:nvPr/>
          </p:nvSpPr>
          <p:spPr>
            <a:xfrm>
              <a:off x="1073160" y="1970280"/>
              <a:ext cx="7993440" cy="2916000"/>
            </a:xfrm>
            <a:custGeom>
              <a:avLst/>
              <a:gdLst/>
              <a:ahLst/>
              <a:rect l="l" t="t" r="r" b="b"/>
              <a:pathLst>
                <a:path w="4648" h="1837">
                  <a:moveTo>
                    <a:pt x="0" y="1816"/>
                  </a:moveTo>
                  <a:cubicBezTo>
                    <a:pt x="65" y="1837"/>
                    <a:pt x="117" y="1783"/>
                    <a:pt x="176" y="1768"/>
                  </a:cubicBezTo>
                  <a:cubicBezTo>
                    <a:pt x="207" y="1759"/>
                    <a:pt x="272" y="1744"/>
                    <a:pt x="272" y="1744"/>
                  </a:cubicBezTo>
                  <a:cubicBezTo>
                    <a:pt x="320" y="1716"/>
                    <a:pt x="360" y="1663"/>
                    <a:pt x="416" y="1656"/>
                  </a:cubicBezTo>
                  <a:cubicBezTo>
                    <a:pt x="570" y="1633"/>
                    <a:pt x="724" y="1620"/>
                    <a:pt x="880" y="1608"/>
                  </a:cubicBezTo>
                  <a:cubicBezTo>
                    <a:pt x="944" y="1586"/>
                    <a:pt x="864" y="1608"/>
                    <a:pt x="928" y="1608"/>
                  </a:cubicBezTo>
                  <a:cubicBezTo>
                    <a:pt x="1098" y="1608"/>
                    <a:pt x="1269" y="1595"/>
                    <a:pt x="1440" y="1592"/>
                  </a:cubicBezTo>
                  <a:cubicBezTo>
                    <a:pt x="1547" y="1584"/>
                    <a:pt x="1705" y="1591"/>
                    <a:pt x="1816" y="1552"/>
                  </a:cubicBezTo>
                  <a:cubicBezTo>
                    <a:pt x="1909" y="1518"/>
                    <a:pt x="1982" y="1451"/>
                    <a:pt x="2080" y="1432"/>
                  </a:cubicBezTo>
                  <a:cubicBezTo>
                    <a:pt x="2208" y="1354"/>
                    <a:pt x="2334" y="1279"/>
                    <a:pt x="2480" y="1240"/>
                  </a:cubicBezTo>
                  <a:cubicBezTo>
                    <a:pt x="2570" y="1188"/>
                    <a:pt x="2528" y="1205"/>
                    <a:pt x="2584" y="1120"/>
                  </a:cubicBezTo>
                  <a:cubicBezTo>
                    <a:pt x="2627" y="1053"/>
                    <a:pt x="2614" y="1089"/>
                    <a:pt x="2664" y="1040"/>
                  </a:cubicBezTo>
                  <a:cubicBezTo>
                    <a:pt x="2717" y="986"/>
                    <a:pt x="2768" y="906"/>
                    <a:pt x="2832" y="864"/>
                  </a:cubicBezTo>
                  <a:cubicBezTo>
                    <a:pt x="2923" y="727"/>
                    <a:pt x="3074" y="676"/>
                    <a:pt x="3208" y="600"/>
                  </a:cubicBezTo>
                  <a:cubicBezTo>
                    <a:pt x="3263" y="568"/>
                    <a:pt x="3302" y="490"/>
                    <a:pt x="3344" y="464"/>
                  </a:cubicBezTo>
                  <a:cubicBezTo>
                    <a:pt x="3433" y="407"/>
                    <a:pt x="3623" y="360"/>
                    <a:pt x="3696" y="328"/>
                  </a:cubicBezTo>
                  <a:cubicBezTo>
                    <a:pt x="3737" y="309"/>
                    <a:pt x="3854" y="223"/>
                    <a:pt x="3920" y="208"/>
                  </a:cubicBezTo>
                  <a:cubicBezTo>
                    <a:pt x="3977" y="194"/>
                    <a:pt x="4085" y="176"/>
                    <a:pt x="4152" y="168"/>
                  </a:cubicBezTo>
                  <a:cubicBezTo>
                    <a:pt x="4186" y="133"/>
                    <a:pt x="4208" y="75"/>
                    <a:pt x="4256" y="64"/>
                  </a:cubicBezTo>
                  <a:cubicBezTo>
                    <a:pt x="4335" y="44"/>
                    <a:pt x="4409" y="28"/>
                    <a:pt x="4488" y="0"/>
                  </a:cubicBezTo>
                  <a:cubicBezTo>
                    <a:pt x="4599" y="10"/>
                    <a:pt x="4546" y="8"/>
                    <a:pt x="4648" y="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29360" y="19447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25920" y="4157640"/>
            <a:ext cx="4850640" cy="746280"/>
            <a:chOff x="4525920" y="4157640"/>
            <a:chExt cx="4850640" cy="746280"/>
          </a:xfrm>
        </p:grpSpPr>
        <p:sp>
          <p:nvSpPr>
            <p:cNvPr id="210" name=""/>
            <p:cNvSpPr/>
            <p:nvPr/>
          </p:nvSpPr>
          <p:spPr>
            <a:xfrm>
              <a:off x="4525920" y="4471920"/>
              <a:ext cx="4651560" cy="432000"/>
            </a:xfrm>
            <a:custGeom>
              <a:avLst/>
              <a:gdLst/>
              <a:ahLst/>
              <a:rect l="l" t="t" r="r" b="b"/>
              <a:pathLst>
                <a:path w="2704" h="272">
                  <a:moveTo>
                    <a:pt x="0" y="272"/>
                  </a:moveTo>
                  <a:cubicBezTo>
                    <a:pt x="155" y="233"/>
                    <a:pt x="320" y="233"/>
                    <a:pt x="480" y="224"/>
                  </a:cubicBezTo>
                  <a:cubicBezTo>
                    <a:pt x="619" y="189"/>
                    <a:pt x="797" y="206"/>
                    <a:pt x="944" y="200"/>
                  </a:cubicBezTo>
                  <a:cubicBezTo>
                    <a:pt x="1175" y="212"/>
                    <a:pt x="1399" y="213"/>
                    <a:pt x="1632" y="208"/>
                  </a:cubicBezTo>
                  <a:cubicBezTo>
                    <a:pt x="1769" y="199"/>
                    <a:pt x="1884" y="190"/>
                    <a:pt x="2016" y="176"/>
                  </a:cubicBezTo>
                  <a:cubicBezTo>
                    <a:pt x="2123" y="149"/>
                    <a:pt x="2235" y="142"/>
                    <a:pt x="2344" y="120"/>
                  </a:cubicBezTo>
                  <a:cubicBezTo>
                    <a:pt x="2427" y="102"/>
                    <a:pt x="2508" y="75"/>
                    <a:pt x="2592" y="64"/>
                  </a:cubicBezTo>
                  <a:cubicBezTo>
                    <a:pt x="2613" y="55"/>
                    <a:pt x="2637" y="52"/>
                    <a:pt x="2656" y="40"/>
                  </a:cubicBezTo>
                  <a:cubicBezTo>
                    <a:pt x="2665" y="33"/>
                    <a:pt x="2671" y="23"/>
                    <a:pt x="2680" y="16"/>
                  </a:cubicBezTo>
                  <a:cubicBezTo>
                    <a:pt x="2687" y="9"/>
                    <a:pt x="2704" y="0"/>
                    <a:pt x="2704" y="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83160" y="415764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83960" y="1716120"/>
            <a:ext cx="9391320" cy="4300560"/>
            <a:chOff x="183960" y="1716120"/>
            <a:chExt cx="9391320" cy="4300560"/>
          </a:xfrm>
        </p:grpSpPr>
        <p:sp>
          <p:nvSpPr>
            <p:cNvPr id="213" name=""/>
            <p:cNvSpPr/>
            <p:nvPr/>
          </p:nvSpPr>
          <p:spPr>
            <a:xfrm>
              <a:off x="743040" y="171612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160" y="4916520"/>
              <a:ext cx="891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3040" y="5678640"/>
              <a:ext cx="883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68200" y="564840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ettimane di v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91800" y="4992840"/>
              <a:ext cx="826920" cy="307080"/>
            </a:xfrm>
            <a:prstGeom prst="rect">
              <a:avLst/>
            </a:prstGeom>
            <a:gradFill rotWithShape="0">
              <a:gsLst>
                <a:gs pos="0">
                  <a:srgbClr val="70f1ff"/>
                </a:gs>
                <a:gs pos="100000">
                  <a:srgbClr val="ffb5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a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9600" y="4995720"/>
              <a:ext cx="72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       12       18      24      30       36                        6        12       18       24       30       36       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19400" y="529740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e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13960" y="529740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ost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183960" y="2376000"/>
              <a:ext cx="454680" cy="11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320" y="6002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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embr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0000" y="63705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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f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90680" y="5999040"/>
            <a:ext cx="22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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20120" y="6303960"/>
            <a:ext cx="23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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thalassemi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412920" y="914400"/>
            <a:ext cx="932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uppo di malattie ereditarie determinate dall’alterato rapporto fra le catene alfa e beta, per cui si hanno molecole di emoglobina aberra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2920" y="2286000"/>
            <a:ext cx="932796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alassemia alfa : catene alf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alassemia beta: catene bet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2920" y="3124080"/>
            <a:ext cx="932796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o autosomiche recessive, ma possono essere manifestate anche in eterozigo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360" y="4038480"/>
            <a:ext cx="93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n sono uniformemente distribuite nel mondo, hanno prevalenza massima in alcune a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2920" y="5105520"/>
            <a:ext cx="932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ogni popolazione si trovano un numero molto limitato di mutazioni, ma una mutazione rara o assente in una popolazione puo’ risultare frequente in un’al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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6560" y="1219320"/>
            <a:ext cx="914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iginata principalmente da delezioni dei geni alfa: su ogni cromosoma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no presenti 2 copie espresse del gene alfa : la delezione puo’ riguard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na  o due copie,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i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r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5280" y="2209680"/>
            <a:ext cx="9119520" cy="1067040"/>
            <a:chOff x="125280" y="2209680"/>
            <a:chExt cx="9119520" cy="1067040"/>
          </a:xfrm>
        </p:grpSpPr>
        <p:sp>
          <p:nvSpPr>
            <p:cNvPr id="235" name=""/>
            <p:cNvSpPr/>
            <p:nvPr/>
          </p:nvSpPr>
          <p:spPr>
            <a:xfrm>
              <a:off x="3195360" y="220968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25280" y="2260440"/>
              <a:ext cx="9119520" cy="1016280"/>
              <a:chOff x="125280" y="2260440"/>
              <a:chExt cx="9119520" cy="1016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366280" y="2811600"/>
                <a:ext cx="687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82800" y="2670120"/>
                <a:ext cx="381600" cy="2127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17400" y="2670120"/>
                <a:ext cx="381600" cy="2127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05360" y="2670120"/>
                <a:ext cx="381600" cy="2127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97880" y="2670120"/>
                <a:ext cx="536040" cy="212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91480" y="2670120"/>
                <a:ext cx="534960" cy="212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32800" y="2670120"/>
                <a:ext cx="381600" cy="212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9840" y="2670120"/>
                <a:ext cx="534600" cy="212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409280" y="2282760"/>
                <a:ext cx="63468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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9360" y="229392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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54160" y="229392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01840" y="22604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01560" y="22604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637120" y="2332080"/>
                <a:ext cx="34200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5280" y="2324160"/>
                <a:ext cx="19699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</a:rPr>
                  <a:t>Raggruppament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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</a:rPr>
                  <a:t>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</a:rPr>
                  <a:t>16p13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366280" y="2994120"/>
                <a:ext cx="6878160" cy="282600"/>
                <a:chOff x="2366280" y="2994120"/>
                <a:chExt cx="6878160" cy="282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366280" y="3135240"/>
                  <a:ext cx="6878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582800" y="2994120"/>
                  <a:ext cx="38160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17400" y="2994120"/>
                  <a:ext cx="38160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805000" y="2994120"/>
                  <a:ext cx="38160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797520" y="2994120"/>
                  <a:ext cx="53604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791120" y="2994120"/>
                  <a:ext cx="53496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632440" y="2994120"/>
                  <a:ext cx="381600" cy="21276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129480" y="2994120"/>
                  <a:ext cx="534600" cy="212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129480" y="327672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797520" y="3276720"/>
                  <a:ext cx="38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68880" y="327672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32440" y="327672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5" name=""/>
          <p:cNvSpPr/>
          <p:nvPr/>
        </p:nvSpPr>
        <p:spPr>
          <a:xfrm>
            <a:off x="348480" y="5715000"/>
            <a:ext cx="78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genotipi possibili sono 6 e i fenotipi sono diversi a sec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le combin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3760" y="426708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ne definito allele  l’insieme dei due geni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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22400" y="3581280"/>
            <a:ext cx="2476440" cy="506160"/>
            <a:chOff x="1022400" y="3581280"/>
            <a:chExt cx="2476440" cy="506160"/>
          </a:xfrm>
        </p:grpSpPr>
        <p:sp>
          <p:nvSpPr>
            <p:cNvPr id="268" name=""/>
            <p:cNvSpPr/>
            <p:nvPr/>
          </p:nvSpPr>
          <p:spPr>
            <a:xfrm flipV="1">
              <a:off x="1708200" y="3685320"/>
              <a:ext cx="179064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04320" y="358128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92640" y="358128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74760" y="35812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22400" y="4031280"/>
              <a:ext cx="177120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99440" y="393048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7760" y="3930480"/>
              <a:ext cx="37044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9880" y="39304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79560" y="3750120"/>
              <a:ext cx="171360" cy="16884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645160" y="3657600"/>
            <a:ext cx="2361960" cy="433440"/>
            <a:chOff x="5645160" y="3657600"/>
            <a:chExt cx="2361960" cy="433440"/>
          </a:xfrm>
        </p:grpSpPr>
        <p:sp>
          <p:nvSpPr>
            <p:cNvPr id="278" name=""/>
            <p:cNvSpPr/>
            <p:nvPr/>
          </p:nvSpPr>
          <p:spPr>
            <a:xfrm>
              <a:off x="5816520" y="3753720"/>
              <a:ext cx="21906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12960" y="365760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01280" y="365760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3400" y="365760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6480" y="4030200"/>
              <a:ext cx="17906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01280" y="393408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83400" y="39340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45160" y="365976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241880" y="3886200"/>
            <a:ext cx="907920" cy="152280"/>
          </a:xfrm>
          <a:custGeom>
            <a:avLst/>
            <a:gdLst>
              <a:gd name="textAreaLeft" fmla="*/ 141840 w 907920"/>
              <a:gd name="textAreaRight" fmla="*/ 794520 w 9079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6840" y="480996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sud est asiatico sono presenti entrambi i tipi di delezio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tre in Africa e’ praticamente assente l’allele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Genotipi e fenotipi n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-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5400" y="163044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se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7680" y="283356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. Ge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4600" y="38862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9520" y="49831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287720" y="1066680"/>
            <a:ext cx="1436040" cy="4419720"/>
            <a:chOff x="1287720" y="1066680"/>
            <a:chExt cx="1436040" cy="4419720"/>
          </a:xfrm>
        </p:grpSpPr>
        <p:sp>
          <p:nvSpPr>
            <p:cNvPr id="294" name=""/>
            <p:cNvSpPr/>
            <p:nvPr/>
          </p:nvSpPr>
          <p:spPr>
            <a:xfrm>
              <a:off x="1403640" y="106668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287720" y="1350720"/>
              <a:ext cx="1392840" cy="4001040"/>
              <a:chOff x="1287720" y="1350720"/>
              <a:chExt cx="1392840" cy="40010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1289880" y="1350720"/>
                <a:ext cx="1390680" cy="2854080"/>
                <a:chOff x="1289880" y="1350720"/>
                <a:chExt cx="1390680" cy="285408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1517400" y="1770120"/>
                  <a:ext cx="11145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711440" y="1698480"/>
                  <a:ext cx="2678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207520" y="1698480"/>
                  <a:ext cx="2660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626120" y="135072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125800" y="135072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17400" y="2138400"/>
                  <a:ext cx="11145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11440" y="2076480"/>
                  <a:ext cx="2678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207520" y="2076480"/>
                  <a:ext cx="2660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04520" y="172872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106360" y="172872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749600" y="2689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289880" y="3562200"/>
                  <a:ext cx="1390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omozigo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wild-typ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1287720" y="4952880"/>
                <a:ext cx="12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essu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700000" y="1066680"/>
            <a:ext cx="1371600" cy="4419720"/>
            <a:chOff x="2700000" y="1066680"/>
            <a:chExt cx="1371600" cy="4419720"/>
          </a:xfrm>
        </p:grpSpPr>
        <p:sp>
          <p:nvSpPr>
            <p:cNvPr id="311" name=""/>
            <p:cNvSpPr/>
            <p:nvPr/>
          </p:nvSpPr>
          <p:spPr>
            <a:xfrm>
              <a:off x="2751480" y="106668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768760" y="1770120"/>
              <a:ext cx="1113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62800" y="169848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600" y="1698480"/>
              <a:ext cx="2664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75680" y="135072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76440" y="135072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8760" y="2138400"/>
              <a:ext cx="1113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62800" y="207648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54440" y="172872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01680" y="2689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00000" y="350496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55160" y="496404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i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441040" y="1066680"/>
            <a:ext cx="1390680" cy="4419720"/>
            <a:chOff x="5441040" y="1066680"/>
            <a:chExt cx="1390680" cy="4419720"/>
          </a:xfrm>
        </p:grpSpPr>
        <p:sp>
          <p:nvSpPr>
            <p:cNvPr id="324" name=""/>
            <p:cNvSpPr/>
            <p:nvPr/>
          </p:nvSpPr>
          <p:spPr>
            <a:xfrm>
              <a:off x="5448240" y="1066680"/>
              <a:ext cx="132048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441040" y="1346040"/>
              <a:ext cx="1390680" cy="4012200"/>
              <a:chOff x="5441040" y="1346040"/>
              <a:chExt cx="1390680" cy="4012200"/>
            </a:xfrm>
          </p:grpSpPr>
          <p:sp>
            <p:nvSpPr>
              <p:cNvPr id="326" name=""/>
              <p:cNvSpPr/>
              <p:nvPr/>
            </p:nvSpPr>
            <p:spPr>
              <a:xfrm flipV="1">
                <a:off x="5448240" y="1764720"/>
                <a:ext cx="1113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42280" y="1693800"/>
                <a:ext cx="267840" cy="106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54800" y="134604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48240" y="2133360"/>
                <a:ext cx="111348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42280" y="2071440"/>
                <a:ext cx="267840" cy="10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33560" y="17240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80800" y="2684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1040" y="3581280"/>
                <a:ext cx="13906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omozigo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nessun alle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wild-type!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33560" y="495936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6769080" y="1066680"/>
            <a:ext cx="1525320" cy="4419720"/>
            <a:chOff x="6769080" y="1066680"/>
            <a:chExt cx="1525320" cy="4419720"/>
          </a:xfrm>
        </p:grpSpPr>
        <p:sp>
          <p:nvSpPr>
            <p:cNvPr id="336" name=""/>
            <p:cNvSpPr/>
            <p:nvPr/>
          </p:nvSpPr>
          <p:spPr>
            <a:xfrm>
              <a:off x="6796080" y="1066680"/>
              <a:ext cx="144324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50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69080" y="1765440"/>
              <a:ext cx="1113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3120" y="1693800"/>
              <a:ext cx="26784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75640" y="134604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69080" y="2133720"/>
              <a:ext cx="111312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01640" y="2684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95360" y="3581280"/>
              <a:ext cx="1499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essun alle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-type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86160" y="4648320"/>
              <a:ext cx="90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095360" y="1066680"/>
            <a:ext cx="1349640" cy="4419720"/>
            <a:chOff x="4095360" y="1066680"/>
            <a:chExt cx="1349640" cy="4419720"/>
          </a:xfrm>
        </p:grpSpPr>
        <p:grpSp>
          <p:nvGrpSpPr>
            <p:cNvPr id="345" name=""/>
            <p:cNvGrpSpPr/>
            <p:nvPr/>
          </p:nvGrpSpPr>
          <p:grpSpPr>
            <a:xfrm>
              <a:off x="4100400" y="1066680"/>
              <a:ext cx="1320120" cy="4419720"/>
              <a:chOff x="4100400" y="1066680"/>
              <a:chExt cx="1320120" cy="4419720"/>
            </a:xfrm>
          </p:grpSpPr>
          <p:sp>
            <p:nvSpPr>
              <p:cNvPr id="346" name=""/>
              <p:cNvSpPr/>
              <p:nvPr/>
            </p:nvSpPr>
            <p:spPr>
              <a:xfrm>
                <a:off x="4100400" y="1066680"/>
                <a:ext cx="1320120" cy="4419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b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4127400" y="1790640"/>
                <a:ext cx="1114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22160" y="1719000"/>
                <a:ext cx="2682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18960" y="1719000"/>
                <a:ext cx="2664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234680" y="137160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35080" y="137160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27400" y="2158920"/>
                <a:ext cx="11142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59600" y="2709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214520" y="498456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095360" y="350496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8280720" y="1066680"/>
            <a:ext cx="1445400" cy="4419720"/>
            <a:chOff x="8280720" y="1066680"/>
            <a:chExt cx="1445400" cy="4419720"/>
          </a:xfrm>
        </p:grpSpPr>
        <p:sp>
          <p:nvSpPr>
            <p:cNvPr id="357" name=""/>
            <p:cNvSpPr/>
            <p:nvPr/>
          </p:nvSpPr>
          <p:spPr>
            <a:xfrm>
              <a:off x="8282160" y="1066680"/>
              <a:ext cx="144396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2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8378280" y="176472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78280" y="213336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19040" y="2684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80720" y="3855960"/>
              <a:ext cx="13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m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82240" y="49593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e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6080" y="5638680"/>
            <a:ext cx="91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cune forme di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alassemia sono dovute all’instabilita’ dell’mRNA o dell’emoglobi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utazione nel sito di poliadenilazione, perdita del codone di stop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Possibile progenie dei portator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360000" y="1523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t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311560" y="1376280"/>
            <a:ext cx="1320120" cy="914040"/>
            <a:chOff x="2311560" y="1376280"/>
            <a:chExt cx="1320120" cy="914040"/>
          </a:xfrm>
        </p:grpSpPr>
        <p:sp>
          <p:nvSpPr>
            <p:cNvPr id="367" name=""/>
            <p:cNvSpPr/>
            <p:nvPr/>
          </p:nvSpPr>
          <p:spPr>
            <a:xfrm flipV="1">
              <a:off x="2356200" y="1794960"/>
              <a:ext cx="111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50240" y="172404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47040" y="1724040"/>
              <a:ext cx="2664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6240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6388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56200" y="2163600"/>
              <a:ext cx="111348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50240" y="2101680"/>
              <a:ext cx="268200" cy="1051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41880" y="17542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1560" y="1447920"/>
              <a:ext cx="132012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100400" y="1397160"/>
            <a:ext cx="1320480" cy="888840"/>
            <a:chOff x="4100400" y="1397160"/>
            <a:chExt cx="1320480" cy="888840"/>
          </a:xfrm>
        </p:grpSpPr>
        <p:sp>
          <p:nvSpPr>
            <p:cNvPr id="377" name=""/>
            <p:cNvSpPr/>
            <p:nvPr/>
          </p:nvSpPr>
          <p:spPr>
            <a:xfrm flipV="1">
              <a:off x="4127400" y="1816200"/>
              <a:ext cx="1114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22160" y="174456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18960" y="1744560"/>
              <a:ext cx="26676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3504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3544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27400" y="2184480"/>
              <a:ext cx="11145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0040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026040" y="1371600"/>
            <a:ext cx="1320480" cy="914400"/>
            <a:chOff x="6026040" y="1371600"/>
            <a:chExt cx="1320480" cy="914400"/>
          </a:xfrm>
        </p:grpSpPr>
        <p:sp>
          <p:nvSpPr>
            <p:cNvPr id="385" name=""/>
            <p:cNvSpPr/>
            <p:nvPr/>
          </p:nvSpPr>
          <p:spPr>
            <a:xfrm flipV="1">
              <a:off x="612216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656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2908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2216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16560" y="209700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07840" y="174960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2604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8007480" y="1371600"/>
            <a:ext cx="1320480" cy="914400"/>
            <a:chOff x="8007480" y="1371600"/>
            <a:chExt cx="1320480" cy="914400"/>
          </a:xfrm>
        </p:grpSpPr>
        <p:sp>
          <p:nvSpPr>
            <p:cNvPr id="393" name=""/>
            <p:cNvSpPr/>
            <p:nvPr/>
          </p:nvSpPr>
          <p:spPr>
            <a:xfrm flipV="1">
              <a:off x="802080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1520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4896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2080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748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89512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6032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3528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24280" y="2209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 H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03280" y="2895480"/>
            <a:ext cx="1650240" cy="1327320"/>
            <a:chOff x="1403280" y="2895480"/>
            <a:chExt cx="1650240" cy="1327320"/>
          </a:xfrm>
        </p:grpSpPr>
        <p:grpSp>
          <p:nvGrpSpPr>
            <p:cNvPr id="403" name=""/>
            <p:cNvGrpSpPr/>
            <p:nvPr/>
          </p:nvGrpSpPr>
          <p:grpSpPr>
            <a:xfrm>
              <a:off x="1403280" y="2895480"/>
              <a:ext cx="1650240" cy="1327320"/>
              <a:chOff x="1403280" y="2895480"/>
              <a:chExt cx="1650240" cy="13273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485720" y="2895480"/>
                <a:ext cx="1300680" cy="870120"/>
                <a:chOff x="1485720" y="2895480"/>
                <a:chExt cx="1300680" cy="870120"/>
              </a:xfrm>
            </p:grpSpPr>
            <p:sp>
              <p:nvSpPr>
                <p:cNvPr id="405" name=""/>
                <p:cNvSpPr/>
                <p:nvPr/>
              </p:nvSpPr>
              <p:spPr>
                <a:xfrm flipV="1">
                  <a:off x="1485720" y="3274920"/>
                  <a:ext cx="1300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710360" y="3186000"/>
                  <a:ext cx="31428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93200" y="3186000"/>
                  <a:ext cx="30924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699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8384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1485720" y="3720600"/>
                  <a:ext cx="13006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710360" y="3630600"/>
                  <a:ext cx="3142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93200" y="3630600"/>
                  <a:ext cx="30924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66644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5108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403280" y="2927520"/>
                <a:ext cx="1650240" cy="129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575000" y="37400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19480" y="2895480"/>
            <a:ext cx="1573560" cy="1299240"/>
            <a:chOff x="3219480" y="2895480"/>
            <a:chExt cx="1573560" cy="1299240"/>
          </a:xfrm>
        </p:grpSpPr>
        <p:grpSp>
          <p:nvGrpSpPr>
            <p:cNvPr id="418" name=""/>
            <p:cNvGrpSpPr/>
            <p:nvPr/>
          </p:nvGrpSpPr>
          <p:grpSpPr>
            <a:xfrm>
              <a:off x="3362040" y="2895480"/>
              <a:ext cx="1320480" cy="878040"/>
              <a:chOff x="3362040" y="2895480"/>
              <a:chExt cx="1320480" cy="87804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3362040" y="32792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87400" y="31888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70240" y="31888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758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608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81120" y="37033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6120" y="36241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45280" y="33415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219480" y="2946240"/>
              <a:ext cx="1573560" cy="1248480"/>
              <a:chOff x="3219480" y="2946240"/>
              <a:chExt cx="1573560" cy="1248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219480" y="2946240"/>
                <a:ext cx="1567800" cy="1244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248280" y="3648240"/>
                <a:ext cx="154476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rat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alassem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5151240" y="2895480"/>
            <a:ext cx="1639080" cy="1295640"/>
            <a:chOff x="5151240" y="2895480"/>
            <a:chExt cx="1639080" cy="1295640"/>
          </a:xfrm>
        </p:grpSpPr>
        <p:sp>
          <p:nvSpPr>
            <p:cNvPr id="431" name=""/>
            <p:cNvSpPr/>
            <p:nvPr/>
          </p:nvSpPr>
          <p:spPr>
            <a:xfrm>
              <a:off x="520056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5151240" y="2895480"/>
              <a:ext cx="1639080" cy="1130400"/>
              <a:chOff x="5151240" y="2895480"/>
              <a:chExt cx="1639080" cy="11304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301720" y="2895480"/>
                <a:ext cx="1301040" cy="811080"/>
                <a:chOff x="5301720" y="2895480"/>
                <a:chExt cx="1301040" cy="811080"/>
              </a:xfrm>
            </p:grpSpPr>
            <p:sp>
              <p:nvSpPr>
                <p:cNvPr id="434" name=""/>
                <p:cNvSpPr/>
                <p:nvPr/>
              </p:nvSpPr>
              <p:spPr>
                <a:xfrm flipV="1">
                  <a:off x="5301720" y="3279240"/>
                  <a:ext cx="13010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528520" y="3188880"/>
                  <a:ext cx="3124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109200" y="3188880"/>
                  <a:ext cx="31140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515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100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301720" y="3698640"/>
                  <a:ext cx="130104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5151240" y="3657600"/>
                <a:ext cx="163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nemia lie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7099200" y="2870280"/>
            <a:ext cx="1568160" cy="1320840"/>
            <a:chOff x="7099200" y="2870280"/>
            <a:chExt cx="1568160" cy="1320840"/>
          </a:xfrm>
        </p:grpSpPr>
        <p:grpSp>
          <p:nvGrpSpPr>
            <p:cNvPr id="442" name=""/>
            <p:cNvGrpSpPr/>
            <p:nvPr/>
          </p:nvGrpSpPr>
          <p:grpSpPr>
            <a:xfrm>
              <a:off x="7153920" y="2870280"/>
              <a:ext cx="1349640" cy="811080"/>
              <a:chOff x="7153920" y="2870280"/>
              <a:chExt cx="1349640" cy="811080"/>
            </a:xfrm>
          </p:grpSpPr>
          <p:sp>
            <p:nvSpPr>
              <p:cNvPr id="443" name=""/>
              <p:cNvSpPr/>
              <p:nvPr/>
            </p:nvSpPr>
            <p:spPr>
              <a:xfrm>
                <a:off x="7201800" y="32432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430760" y="31636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00880" y="28702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153920" y="36734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09920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26800" y="37036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833920" y="4952880"/>
            <a:ext cx="1706040" cy="1295640"/>
            <a:chOff x="2833920" y="4952880"/>
            <a:chExt cx="1706040" cy="1295640"/>
          </a:xfrm>
        </p:grpSpPr>
        <p:sp>
          <p:nvSpPr>
            <p:cNvPr id="450" name=""/>
            <p:cNvSpPr/>
            <p:nvPr/>
          </p:nvSpPr>
          <p:spPr>
            <a:xfrm>
              <a:off x="2971080" y="5003640"/>
              <a:ext cx="156888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33920" y="579132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nemia li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053880" y="4952880"/>
              <a:ext cx="1320480" cy="878040"/>
              <a:chOff x="3053880" y="4952880"/>
              <a:chExt cx="1320480" cy="87804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30538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792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677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0729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979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3712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6273720" y="4952880"/>
            <a:ext cx="1573920" cy="1298880"/>
            <a:chOff x="6273720" y="4952880"/>
            <a:chExt cx="1573920" cy="1298880"/>
          </a:xfrm>
        </p:grpSpPr>
        <p:grpSp>
          <p:nvGrpSpPr>
            <p:cNvPr id="460" name=""/>
            <p:cNvGrpSpPr/>
            <p:nvPr/>
          </p:nvGrpSpPr>
          <p:grpSpPr>
            <a:xfrm>
              <a:off x="6416280" y="4952880"/>
              <a:ext cx="1320480" cy="878040"/>
              <a:chOff x="6416280" y="4952880"/>
              <a:chExt cx="1320480" cy="87804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64162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416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24480" y="52462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301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151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353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603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9952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6273720" y="500364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02880" y="570528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8089920" y="4927680"/>
            <a:ext cx="1568160" cy="1320840"/>
            <a:chOff x="8089920" y="4927680"/>
            <a:chExt cx="1568160" cy="1320840"/>
          </a:xfrm>
        </p:grpSpPr>
        <p:grpSp>
          <p:nvGrpSpPr>
            <p:cNvPr id="472" name=""/>
            <p:cNvGrpSpPr/>
            <p:nvPr/>
          </p:nvGrpSpPr>
          <p:grpSpPr>
            <a:xfrm>
              <a:off x="8144640" y="4927680"/>
              <a:ext cx="1349640" cy="811080"/>
              <a:chOff x="8144640" y="4927680"/>
              <a:chExt cx="1349640" cy="811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192520" y="53006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421480" y="52210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91600" y="49276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144640" y="57308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8089920" y="50036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7520" y="57610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2440" y="2666880"/>
            <a:ext cx="9080280" cy="1905120"/>
            <a:chOff x="82440" y="2666880"/>
            <a:chExt cx="9080280" cy="1905120"/>
          </a:xfrm>
        </p:grpSpPr>
        <p:sp>
          <p:nvSpPr>
            <p:cNvPr id="480" name=""/>
            <p:cNvSpPr/>
            <p:nvPr/>
          </p:nvSpPr>
          <p:spPr>
            <a:xfrm>
              <a:off x="303480" y="3200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 x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440" y="2666880"/>
              <a:ext cx="9080280" cy="1905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82440" y="4800600"/>
            <a:ext cx="4870080" cy="1676520"/>
            <a:chOff x="82440" y="4800600"/>
            <a:chExt cx="4870080" cy="1676520"/>
          </a:xfrm>
        </p:grpSpPr>
        <p:sp>
          <p:nvSpPr>
            <p:cNvPr id="483" name=""/>
            <p:cNvSpPr/>
            <p:nvPr/>
          </p:nvSpPr>
          <p:spPr>
            <a:xfrm>
              <a:off x="215280" y="53341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440" y="4800600"/>
              <a:ext cx="48700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283360" y="4800600"/>
            <a:ext cx="4554000" cy="1676520"/>
            <a:chOff x="5283360" y="4800600"/>
            <a:chExt cx="4554000" cy="1676520"/>
          </a:xfrm>
        </p:grpSpPr>
        <p:sp>
          <p:nvSpPr>
            <p:cNvPr id="486" name=""/>
            <p:cNvSpPr/>
            <p:nvPr/>
          </p:nvSpPr>
          <p:spPr>
            <a:xfrm>
              <a:off x="5334120" y="541008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83360" y="4800600"/>
              <a:ext cx="455400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073160" y="4876920"/>
            <a:ext cx="1573920" cy="1298880"/>
            <a:chOff x="1073160" y="4876920"/>
            <a:chExt cx="1573920" cy="1298880"/>
          </a:xfrm>
        </p:grpSpPr>
        <p:grpSp>
          <p:nvGrpSpPr>
            <p:cNvPr id="489" name=""/>
            <p:cNvGrpSpPr/>
            <p:nvPr/>
          </p:nvGrpSpPr>
          <p:grpSpPr>
            <a:xfrm>
              <a:off x="1215720" y="4876920"/>
              <a:ext cx="1320480" cy="878040"/>
              <a:chOff x="1215720" y="4876920"/>
              <a:chExt cx="1320480" cy="878040"/>
            </a:xfrm>
          </p:grpSpPr>
          <p:sp>
            <p:nvSpPr>
              <p:cNvPr id="490" name=""/>
              <p:cNvSpPr/>
              <p:nvPr/>
            </p:nvSpPr>
            <p:spPr>
              <a:xfrm flipV="1">
                <a:off x="1215720" y="526068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41080" y="517032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023920" y="517032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42956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1456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234800" y="568476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59800" y="560556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98960" y="532296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1073160" y="492768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02320" y="562932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3:04:24Z</dcterms:created>
  <dc:creator>Rocchi</dc:creator>
  <dc:description/>
  <dc:language>en-US</dc:language>
  <cp:lastModifiedBy>Mariano Rocchi</cp:lastModifiedBy>
  <cp:lastPrinted>2004-05-17T09:37:23Z</cp:lastPrinted>
  <dcterms:modified xsi:type="dcterms:W3CDTF">2004-06-06T16:17:57Z</dcterms:modified>
  <cp:revision>379</cp:revision>
  <dc:subject/>
  <dc:title>PowerPoint Presentation</dc:title>
</cp:coreProperties>
</file>