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ct" ContentType="image/x-pict"/>
  <Override PartName="/ppt/media/image19.jpeg" ContentType="image/jpeg"/>
  <Override PartName="/ppt/media/image13.pct" ContentType="image/x-pict"/>
  <Override PartName="/ppt/media/image8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3.pct" ContentType="image/x-pict"/>
  <Override PartName="/ppt/media/image22.jpeg" ContentType="image/jpeg"/>
  <Override PartName="/ppt/media/image17.jpeg" ContentType="image/jpeg"/>
  <Override PartName="/ppt/media/image21.png" ContentType="image/png"/>
  <Override PartName="/ppt/media/image1.pct" ContentType="image/x-pict"/>
  <Override PartName="/ppt/media/image20.jpeg" ContentType="image/jpeg"/>
  <Override PartName="/ppt/media/image18.png" ContentType="image/png"/>
  <Override PartName="/ppt/media/image4.png" ContentType="image/png"/>
  <Override PartName="/ppt/media/image15.pct" ContentType="image/x-pict"/>
  <Override PartName="/ppt/media/image16.png" ContentType="image/png"/>
  <Override PartName="/ppt/media/image14.jpeg" ContentType="image/jpeg"/>
  <Override PartName="/ppt/media/image2.pct" ContentType="image/x-pict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5A5-951F-43F5-B1A4-D94A9770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AED-598C-40A2-8A15-CA79ACB3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F5D-0489-4F1F-92E9-2EA6ABB7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85B-055D-412B-A18B-DD250B60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F8C-EF85-4841-BFDB-406EF604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BFF-2137-4136-8F67-69DF24A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94D-4835-4D2F-8597-2D543949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45C-923D-4EA4-B998-FC073BD9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34A-5629-4B95-99DD-32EE16E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CB2-2BEC-4FA3-8C86-A275C4D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681-DD6A-4B13-8900-04835C11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F6E-3855-4BCE-8EEB-9CEBC1A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12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77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A275-653D-4F6C-9056-7F9A2B43B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progetto genoma 1990---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5560" y="1752480"/>
            <a:ext cx="692784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0520" y="507600"/>
            <a:ext cx="842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ome lavora il consorsio II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11760" y="2619360"/>
            <a:ext cx="5994360" cy="4186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09760" y="1028880"/>
            <a:ext cx="7772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GP 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C ends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12840" y="1525680"/>
            <a:ext cx="9428040" cy="1191240"/>
            <a:chOff x="312840" y="1525680"/>
            <a:chExt cx="9428040" cy="1191240"/>
          </a:xfrm>
        </p:grpSpPr>
        <p:sp>
          <p:nvSpPr>
            <p:cNvPr id="129" name=""/>
            <p:cNvSpPr/>
            <p:nvPr/>
          </p:nvSpPr>
          <p:spPr>
            <a:xfrm>
              <a:off x="1066680" y="1525680"/>
              <a:ext cx="867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DNA isolato è rotto in piccoli pezzi con enzimi di restrizione e clonato in vettori di diversa capacità (YAC - BAC - PAC). I frammenti sono comparati sperimentalmente e ne viene stabilito l’ordine lungo i cromosom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840" y="1681200"/>
              <a:ext cx="59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buClr>
                  <a:srgbClr val="000000"/>
                </a:buClr>
                <a:buSzPct val="300000"/>
                <a:buFont typeface="Wingdings" charset="2"/>
                <a:buChar char="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2880" y="3078000"/>
            <a:ext cx="3881160" cy="2253960"/>
            <a:chOff x="182880" y="3078000"/>
            <a:chExt cx="3881160" cy="2253960"/>
          </a:xfrm>
        </p:grpSpPr>
        <p:sp>
          <p:nvSpPr>
            <p:cNvPr id="132" name=""/>
            <p:cNvSpPr/>
            <p:nvPr/>
          </p:nvSpPr>
          <p:spPr>
            <a:xfrm>
              <a:off x="711360" y="3103560"/>
              <a:ext cx="3352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frammenti selezionati, che coprono in totale l’intero genoma,sono sequenziati e assemblati in un “contig” unico. Si evita di sequenziare due volte la stessa region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" y="3078000"/>
              <a:ext cx="59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buClr>
                  <a:srgbClr val="000000"/>
                </a:buClr>
                <a:buSzPct val="300000"/>
                <a:buFont typeface="Wingdings" charset="2"/>
                <a:buChar char="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780000" y="531720"/>
            <a:ext cx="6021360" cy="6326280"/>
            <a:chOff x="3780000" y="531720"/>
            <a:chExt cx="6021360" cy="63262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3780000" y="531720"/>
              <a:ext cx="6021360" cy="63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032880" y="4149720"/>
              <a:ext cx="114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ACs descri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360" y="1510920"/>
            <a:ext cx="37720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ogramma degli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USA e nascit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el Sanger Centre -Sequenziato il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imo genoma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993-1995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7302600" y="546120"/>
            <a:ext cx="2603520" cy="63118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533520"/>
            <a:ext cx="3535200" cy="63244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 PAC: P1 Artificial chromosom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1200" y="2044800"/>
            <a:ext cx="4838760" cy="3986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45200" y="1873080"/>
            <a:ext cx="445140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ono sopportare framm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ici piu’ picco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fino a 100-120K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istenti alla kanamic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360" y="1136520"/>
            <a:ext cx="92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94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gono costruiti altri nuovi vettori anche questi essenziali per HG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780000" y="531720"/>
            <a:ext cx="6021360" cy="6326280"/>
            <a:chOff x="3780000" y="531720"/>
            <a:chExt cx="6021360" cy="63262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780000" y="531720"/>
              <a:ext cx="6021360" cy="63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032880" y="4149720"/>
              <a:ext cx="114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ACs descri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360" y="1510920"/>
            <a:ext cx="37720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ogramma degli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USA e nascit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el Sanger Centre -Sequenziato il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imo genoma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993-1995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546120"/>
            <a:ext cx="2603520" cy="63118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780000" y="531720"/>
            <a:ext cx="6021360" cy="6326280"/>
            <a:chOff x="3780000" y="531720"/>
            <a:chExt cx="6021360" cy="63262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780000" y="531720"/>
              <a:ext cx="6021360" cy="63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32880" y="4149720"/>
              <a:ext cx="114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ACs descri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360" y="1510920"/>
            <a:ext cx="37720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ogramma degli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USA e nascit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el Sanger Centre -Sequenziato il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imo genoma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993-1995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269720"/>
            <a:ext cx="33148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Mappa genetic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el topo, primo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romosoma umano sequenziato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996-1999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79880" y="514440"/>
            <a:ext cx="6688080" cy="634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70160" y="533520"/>
            <a:ext cx="179568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60800" y="533520"/>
            <a:ext cx="17575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73960" y="533520"/>
            <a:ext cx="175716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48600" y="533520"/>
            <a:ext cx="17575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1781280" y="-185580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431280"/>
            <a:ext cx="84200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SNPs:</a:t>
            </a:r>
            <a:r>
              <a:rPr b="1" lang="en-US" sz="2400" spc="-1" strike="noStrike">
                <a:solidFill>
                  <a:srgbClr val="ff0202"/>
                </a:solidFill>
                <a:latin typeface="Comic Sans MS"/>
              </a:rPr>
              <a:t>Single Nucleotide Polimorphism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60480"/>
            <a:ext cx="99061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98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ova generazione di polimorfismi del DNA: sono sostituzioni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gole basi, con frequenza ogni poche centinaia di basi, sono stati individu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all’automazione del sequenziamento, permetteranno di generare map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tiche ad alta dens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880" y="2413080"/>
            <a:ext cx="4644000" cy="4173120"/>
            <a:chOff x="380880" y="2413080"/>
            <a:chExt cx="4644000" cy="41731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80880" y="2413080"/>
              <a:ext cx="30657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84720" y="330192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3320" y="3043080"/>
              <a:ext cx="10515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1241b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01920" y="452124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82960" y="4262400"/>
              <a:ext cx="9144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750b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01920" y="528336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2960" y="5024520"/>
              <a:ext cx="91440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491b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8640" y="6197760"/>
              <a:ext cx="24307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Comic Sans MS"/>
                </a:rPr>
                <a:t>T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099040" y="3422520"/>
            <a:ext cx="45784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 sostituzione di una base puo’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provocare la perdita o l’insorgenza di un sito di restrizione, utilizzando PCR e digestione dell’amplificato si puo’ rapidamenteevidenziare l’avvenuto cambiamento senza utilizzare il southern, il radioattivo etc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269720"/>
            <a:ext cx="33148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Mappa genetic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el topo, primo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romosoma umano sequenziato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996-1999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79880" y="514440"/>
            <a:ext cx="6688080" cy="6343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148600" y="533520"/>
            <a:ext cx="17575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55600" y="520560"/>
            <a:ext cx="8674200" cy="6311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204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boratorio per sequenziamento del Sanger Center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200" y="93960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cromosoma 22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06760" y="501480"/>
            <a:ext cx="4678560" cy="635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32400" y="527040"/>
            <a:ext cx="5373720" cy="6330960"/>
            <a:chOff x="4532400" y="527040"/>
            <a:chExt cx="5373720" cy="63309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532400" y="527040"/>
              <a:ext cx="5373720" cy="63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393040" y="51228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ACs descri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180800"/>
            <a:ext cx="38480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USA aderiscono 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GP, nuove mappe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   1990-1992…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8089920" y="546120"/>
            <a:ext cx="1816200" cy="63118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41880" y="533520"/>
            <a:ext cx="2768400" cy="63244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38960" y="546120"/>
            <a:ext cx="1752480" cy="6311880"/>
            <a:chOff x="6438960" y="546120"/>
            <a:chExt cx="1752480" cy="6311880"/>
          </a:xfrm>
        </p:grpSpPr>
        <p:sp>
          <p:nvSpPr>
            <p:cNvPr id="53" name=""/>
            <p:cNvSpPr/>
            <p:nvPr/>
          </p:nvSpPr>
          <p:spPr>
            <a:xfrm>
              <a:off x="6438960" y="546120"/>
              <a:ext cx="1727280" cy="6311880"/>
            </a:xfrm>
            <a:prstGeom prst="rect">
              <a:avLst/>
            </a:prstGeom>
            <a:gradFill rotWithShape="0">
              <a:gsLst>
                <a:gs pos="0">
                  <a:srgbClr val="0315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4320" y="5803920"/>
              <a:ext cx="125712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86040" y="368280"/>
            <a:ext cx="55245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ntra in gioco la Celer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14480" y="1650960"/>
            <a:ext cx="379080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DNA isolato è rotto in picco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zzi con frammentazione meccan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clonato in B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587760"/>
            <a:ext cx="40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assemblaggio avviene a posteriori, utilizzando come  guida il lavoro dell’HGP, e sfruttando cluster di elaboratori dedicati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1960" y="1157400"/>
            <a:ext cx="5564160" cy="55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1003320"/>
            <a:ext cx="9144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99: CELERA strategia diversa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le Genome Shot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880" y="2851200"/>
            <a:ext cx="39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frammenti sono sequenziati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so (ridondanza e gap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2720" y="5011560"/>
            <a:ext cx="3681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iamento in 1 m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200" y="5783400"/>
            <a:ext cx="3656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ssemblaggio in 6 mes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000" y="1130400"/>
            <a:ext cx="375948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Sequenziati altri genomi: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0-2002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09960" y="550800"/>
            <a:ext cx="5915160" cy="630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06720" y="533520"/>
            <a:ext cx="239256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81640" y="533520"/>
            <a:ext cx="196056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36000" y="533520"/>
            <a:ext cx="17701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11160" y="469800"/>
            <a:ext cx="49654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iugno 2000: l’annunci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60000">
            <a:off x="1949040" y="1187280"/>
            <a:ext cx="6986520" cy="5240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567840" y="425592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ncis S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34120" y="459900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J. Craig V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000" y="1130400"/>
            <a:ext cx="375948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Sequenziati altri genomi: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0-2002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09960" y="550800"/>
            <a:ext cx="5915160" cy="6307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19800" y="533520"/>
            <a:ext cx="192240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36000" y="533520"/>
            <a:ext cx="17701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74600" y="482760"/>
            <a:ext cx="7188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6c8"/>
                </a:solidFill>
                <a:latin typeface="Comic Sans MS"/>
              </a:rPr>
              <a:t>Febbraio 2001: la pubblicazio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3352680"/>
            <a:ext cx="8153280" cy="489960"/>
          </a:xfrm>
          <a:prstGeom prst="rect">
            <a:avLst/>
          </a:prstGeom>
          <a:solidFill>
            <a:srgbClr val="f0e8d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                  “</a:t>
            </a: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Genome draft” or “Finished sequence”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000" y="1130400"/>
            <a:ext cx="375948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Sequenziati altri genomi: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0-2002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09960" y="550800"/>
            <a:ext cx="5915160" cy="6307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136000" y="533520"/>
            <a:ext cx="1770120" cy="6324480"/>
          </a:xfrm>
          <a:prstGeom prst="rect">
            <a:avLst/>
          </a:prstGeom>
          <a:gradFill rotWithShape="0">
            <a:gsLst>
              <a:gs pos="0">
                <a:srgbClr val="708b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push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880" y="1168560"/>
            <a:ext cx="365760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Sequenziato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genoma umano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3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781440" y="509760"/>
            <a:ext cx="4613400" cy="62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472760"/>
            <a:ext cx="15177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Aprile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3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6520" y="507960"/>
          <a:ext cx="822960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07960"/>
                    <a:ext cx="82296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952560" y="5883120"/>
            <a:ext cx="895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obiettivo dichiarato dell’HGP è la determinazione della sola porzione eucromatica del genoma. Telomeri, centromeri, e altre regioni eterocromatiche rimangono indeterminate, come anche un piccolo numero di “gap” inclona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2880" y="1168560"/>
            <a:ext cx="365760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Sequenziato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genoma umano: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2003…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781440" y="509760"/>
            <a:ext cx="4384800" cy="62989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5991120" y="571680"/>
            <a:ext cx="3366360" cy="929520"/>
            <a:chOff x="5991120" y="571680"/>
            <a:chExt cx="3366360" cy="929520"/>
          </a:xfrm>
        </p:grpSpPr>
        <p:sp>
          <p:nvSpPr>
            <p:cNvPr id="215" name=""/>
            <p:cNvSpPr/>
            <p:nvPr/>
          </p:nvSpPr>
          <p:spPr>
            <a:xfrm>
              <a:off x="6822360" y="571680"/>
              <a:ext cx="253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………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91120" y="584280"/>
              <a:ext cx="182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……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 rot="1218600">
            <a:off x="5797080" y="2382840"/>
            <a:ext cx="368316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15ff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Comic Sans MS"/>
              </a:rPr>
              <a:t>to be continu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15ff"/>
                  </a:gs>
                  <a:gs pos="100000">
                    <a:srgbClr val="ffffff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erche’ un progetto genom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5680" y="1311120"/>
            <a:ext cx="8966160" cy="978120"/>
            <a:chOff x="355680" y="1311120"/>
            <a:chExt cx="8966160" cy="978120"/>
          </a:xfrm>
        </p:grpSpPr>
        <p:sp>
          <p:nvSpPr>
            <p:cNvPr id="57" name=""/>
            <p:cNvSpPr/>
            <p:nvPr/>
          </p:nvSpPr>
          <p:spPr>
            <a:xfrm>
              <a:off x="1015920" y="1311120"/>
              <a:ext cx="830592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a tecnologia è disponibile: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i può rapidamente sequenziare e si e’ passati da poche decine bp/mu a Mb/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5680" y="1407960"/>
              <a:ext cx="12762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19040" y="2241720"/>
            <a:ext cx="9169560" cy="916920"/>
            <a:chOff x="419040" y="2241720"/>
            <a:chExt cx="9169560" cy="916920"/>
          </a:xfrm>
        </p:grpSpPr>
        <p:sp>
          <p:nvSpPr>
            <p:cNvPr id="60" name=""/>
            <p:cNvSpPr/>
            <p:nvPr/>
          </p:nvSpPr>
          <p:spPr>
            <a:xfrm>
              <a:off x="1162080" y="2241720"/>
              <a:ext cx="84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i sono la rete e le banche dati: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 informazioni viaggiano in tempo re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040" y="2360520"/>
              <a:ext cx="127656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14400" y="3173400"/>
            <a:ext cx="7486200" cy="798480"/>
            <a:chOff x="914400" y="3173400"/>
            <a:chExt cx="7486200" cy="798480"/>
          </a:xfrm>
        </p:grpSpPr>
        <p:sp>
          <p:nvSpPr>
            <p:cNvPr id="63" name=""/>
            <p:cNvSpPr/>
            <p:nvPr/>
          </p:nvSpPr>
          <p:spPr>
            <a:xfrm>
              <a:off x="2018880" y="3274920"/>
              <a:ext cx="638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 occorrono: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ZZ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-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OMIN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-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3173400"/>
              <a:ext cx="12762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00000"/>
                </a:lnSpc>
                <a:buClr>
                  <a:srgbClr val="000000"/>
                </a:buClr>
                <a:buSzPct val="300000"/>
                <a:buFont typeface="Wingdings" charset="2"/>
                <a:buChar char="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4080" y="4280040"/>
            <a:ext cx="9713880" cy="1689120"/>
            <a:chOff x="154080" y="4280040"/>
            <a:chExt cx="9713880" cy="1689120"/>
          </a:xfrm>
        </p:grpSpPr>
        <p:sp>
          <p:nvSpPr>
            <p:cNvPr id="66" name=""/>
            <p:cNvSpPr/>
            <p:nvPr/>
          </p:nvSpPr>
          <p:spPr>
            <a:xfrm>
              <a:off x="1625400" y="4280040"/>
              <a:ext cx="82425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990: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nasce l’International Human Genome Sequencing Consortium: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USA, UK, Cina, Francia e Germani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154080" y="4370400"/>
              <a:ext cx="1496880" cy="14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36160" y="939960"/>
            <a:ext cx="5372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GP - Il piano d’azio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12880" y="2146320"/>
            <a:ext cx="5679000" cy="836640"/>
            <a:chOff x="812880" y="2146320"/>
            <a:chExt cx="5679000" cy="836640"/>
          </a:xfrm>
        </p:grpSpPr>
        <p:sp>
          <p:nvSpPr>
            <p:cNvPr id="70" name=""/>
            <p:cNvSpPr/>
            <p:nvPr/>
          </p:nvSpPr>
          <p:spPr>
            <a:xfrm>
              <a:off x="1573200" y="2157480"/>
              <a:ext cx="491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igliorare la mappa di link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cM (centimorga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880" y="2146320"/>
              <a:ext cx="812880" cy="812880"/>
            </a:xfrm>
            <a:prstGeom prst="irregularSeal1">
              <a:avLst/>
            </a:prstGeom>
            <a:gradFill rotWithShape="0">
              <a:gsLst>
                <a:gs pos="0">
                  <a:srgbClr val="ffff04"/>
                </a:gs>
                <a:gs pos="100000">
                  <a:srgbClr val="ff02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33520" y="3490920"/>
            <a:ext cx="5711400" cy="903240"/>
            <a:chOff x="533520" y="3490920"/>
            <a:chExt cx="5711400" cy="903240"/>
          </a:xfrm>
        </p:grpSpPr>
        <p:sp>
          <p:nvSpPr>
            <p:cNvPr id="73" name=""/>
            <p:cNvSpPr/>
            <p:nvPr/>
          </p:nvSpPr>
          <p:spPr>
            <a:xfrm>
              <a:off x="1489320" y="3490920"/>
              <a:ext cx="475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ealizzare una “mappa fisic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bp (base pair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3581280"/>
              <a:ext cx="812520" cy="812880"/>
            </a:xfrm>
            <a:prstGeom prst="irregularSeal1">
              <a:avLst/>
            </a:prstGeom>
            <a:gradFill rotWithShape="0">
              <a:gsLst>
                <a:gs pos="0">
                  <a:srgbClr val="ffff04"/>
                </a:gs>
                <a:gs pos="100000">
                  <a:srgbClr val="ff02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06440" y="4667400"/>
            <a:ext cx="9283680" cy="1309320"/>
            <a:chOff x="406440" y="4667400"/>
            <a:chExt cx="9283680" cy="1309320"/>
          </a:xfrm>
        </p:grpSpPr>
        <p:sp>
          <p:nvSpPr>
            <p:cNvPr id="76" name=""/>
            <p:cNvSpPr/>
            <p:nvPr/>
          </p:nvSpPr>
          <p:spPr>
            <a:xfrm>
              <a:off x="1289160" y="4667400"/>
              <a:ext cx="84009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equenziamento del Genoma Umano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NA nucleare:  3.2 miliardi di coppie di basi in 23 cromosomi DNA mitocondriale: 16.600 coppie di basi in 1 cromosoma     circol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440" y="4927680"/>
              <a:ext cx="812880" cy="812880"/>
            </a:xfrm>
            <a:prstGeom prst="irregularSeal1">
              <a:avLst/>
            </a:prstGeom>
            <a:gradFill rotWithShape="0">
              <a:gsLst>
                <a:gs pos="0">
                  <a:srgbClr val="ffff04"/>
                </a:gs>
                <a:gs pos="100000">
                  <a:srgbClr val="ff02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421320" y="714240"/>
            <a:ext cx="3200400" cy="39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36160" y="939960"/>
            <a:ext cx="5372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GP - Il piano d’azio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4920" y="2116080"/>
            <a:ext cx="6645240" cy="1030320"/>
            <a:chOff x="304920" y="2116080"/>
            <a:chExt cx="6645240" cy="1030320"/>
          </a:xfrm>
        </p:grpSpPr>
        <p:sp>
          <p:nvSpPr>
            <p:cNvPr id="81" name=""/>
            <p:cNvSpPr/>
            <p:nvPr/>
          </p:nvSpPr>
          <p:spPr>
            <a:xfrm>
              <a:off x="1711440" y="2116080"/>
              <a:ext cx="523872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mpo totale previsto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5 anni (1990 - 2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04920" y="2135160"/>
              <a:ext cx="120492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974960" y="3538440"/>
            <a:ext cx="6956280" cy="1193760"/>
            <a:chOff x="1974960" y="3538440"/>
            <a:chExt cx="6956280" cy="1193760"/>
          </a:xfrm>
        </p:grpSpPr>
        <p:sp>
          <p:nvSpPr>
            <p:cNvPr id="84" name=""/>
            <p:cNvSpPr/>
            <p:nvPr/>
          </p:nvSpPr>
          <p:spPr>
            <a:xfrm>
              <a:off x="2905200" y="3931920"/>
              <a:ext cx="6026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esi coinvolti: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 nazioni (IHGS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974960" y="3538440"/>
              <a:ext cx="92556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209520" y="4950000"/>
            <a:ext cx="9696600" cy="1643040"/>
            <a:chOff x="209520" y="4950000"/>
            <a:chExt cx="9696600" cy="1643040"/>
          </a:xfrm>
        </p:grpSpPr>
        <p:sp>
          <p:nvSpPr>
            <p:cNvPr id="87" name=""/>
            <p:cNvSpPr/>
            <p:nvPr/>
          </p:nvSpPr>
          <p:spPr>
            <a:xfrm>
              <a:off x="2025720" y="5543640"/>
              <a:ext cx="7880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esa prevista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miliardi di dollari (~1 dollaro/bp 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209520" y="4950000"/>
              <a:ext cx="2030400" cy="16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610320" y="609480"/>
            <a:ext cx="3295800" cy="34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nternational Agreements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809880"/>
            <a:ext cx="6824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tional chec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149640"/>
            <a:ext cx="853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tional coordination (involving all groups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676520"/>
            <a:ext cx="6824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n data release polic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6824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iteria for finished sequ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4572000"/>
            <a:ext cx="8915400" cy="1681200"/>
            <a:chOff x="685800" y="4572000"/>
            <a:chExt cx="8915400" cy="1681200"/>
          </a:xfrm>
        </p:grpSpPr>
        <p:sp>
          <p:nvSpPr>
            <p:cNvPr id="96" name=""/>
            <p:cNvSpPr/>
            <p:nvPr/>
          </p:nvSpPr>
          <p:spPr>
            <a:xfrm>
              <a:off x="2133720" y="4724280"/>
              <a:ext cx="746748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a30308"/>
                  </a:solidFill>
                  <a:latin typeface="Arial"/>
                </a:rPr>
                <a:t>“</a:t>
              </a:r>
              <a:r>
                <a:rPr b="1" i="1" lang="en-US" sz="2200" spc="-1" strike="noStrike">
                  <a:solidFill>
                    <a:srgbClr val="a30308"/>
                  </a:solidFill>
                  <a:latin typeface="Arial"/>
                </a:rPr>
                <a:t>All human genomic sequence information should b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a30308"/>
                  </a:solidFill>
                  <a:latin typeface="Arial"/>
                </a:rPr>
                <a:t>freely available and in the public domain in order 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a30308"/>
                  </a:solidFill>
                  <a:latin typeface="Arial"/>
                </a:rPr>
                <a:t>encourage research and development and t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a30308"/>
                  </a:solidFill>
                  <a:latin typeface="Arial"/>
                </a:rPr>
                <a:t>maximise its benefit to society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685800" y="4572000"/>
              <a:ext cx="1541520" cy="16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32400" y="527040"/>
            <a:ext cx="5373720" cy="6330960"/>
            <a:chOff x="4532400" y="527040"/>
            <a:chExt cx="5373720" cy="63309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532400" y="527040"/>
              <a:ext cx="5373720" cy="63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393040" y="512280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ACs descri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180800"/>
            <a:ext cx="38480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USA aderiscono a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GP, nuove mappe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   1990-1992…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8089920" y="546120"/>
            <a:ext cx="1816200" cy="6311880"/>
          </a:xfrm>
          <a:prstGeom prst="rect">
            <a:avLst/>
          </a:prstGeom>
          <a:gradFill rotWithShape="0">
            <a:gsLst>
              <a:gs pos="0">
                <a:srgbClr val="031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92200" y="583920"/>
            <a:ext cx="808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 BAC: </a:t>
            </a: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Bacterial Artificial Cromosome</a:t>
            </a:r>
            <a:endParaRPr b="1" lang="en-US" sz="28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36680"/>
            <a:ext cx="3835440" cy="3765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43520" y="1872000"/>
            <a:ext cx="558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atteristi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ngo 7-8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istenti al cloramfenicolo (marcatore di trasforma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C-link rimosso durante il clonaggio e’ sostituito dal DNA eso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stema selezione SacBII (marcatore DNA ricombinante). Se si forma il gene integro nella cellula si sintetizza un composto toss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5028840"/>
            <a:ext cx="55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202"/>
                </a:solidFill>
                <a:latin typeface="Comic Sans MS"/>
              </a:rPr>
              <a:t>Vantagg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ilita’ di clonare frammenti molto grandi (fino a 200K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bilita’ dei cloni a differenza degli YA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5680" y="1136520"/>
            <a:ext cx="93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92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gono costruiti nuovi vettori che si riveleranno essenziali per HG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27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ome lavora il consorsio I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77840" y="1177920"/>
            <a:ext cx="947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BAC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Sequenc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sequenza delle estremità dell’inserto di un B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59400" y="1863720"/>
            <a:ext cx="48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polylinker oltre i siti di restrizione sono contenute le sequenze dei promotori riconosciuti dalle polimerasi Sp6 e T7. Tali sequenze sono riconosciute dai primer omonimi per il sequenziamento delle estremità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72840" y="1886040"/>
            <a:ext cx="3790440" cy="1882440"/>
            <a:chOff x="672840" y="1886040"/>
            <a:chExt cx="3790440" cy="1882440"/>
          </a:xfrm>
        </p:grpSpPr>
        <p:sp>
          <p:nvSpPr>
            <p:cNvPr id="112" name=""/>
            <p:cNvSpPr/>
            <p:nvPr/>
          </p:nvSpPr>
          <p:spPr>
            <a:xfrm>
              <a:off x="1165320" y="18860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72840" y="2168640"/>
              <a:ext cx="3733560" cy="1599840"/>
              <a:chOff x="672840" y="2168640"/>
              <a:chExt cx="3733560" cy="1599840"/>
            </a:xfrm>
          </p:grpSpPr>
          <p:sp>
            <p:nvSpPr>
              <p:cNvPr id="114" name=""/>
              <p:cNvSpPr/>
              <p:nvPr/>
            </p:nvSpPr>
            <p:spPr>
              <a:xfrm rot="10800000">
                <a:off x="672840" y="2270520"/>
                <a:ext cx="3733560" cy="1497600"/>
              </a:xfrm>
              <a:prstGeom prst="roundRect">
                <a:avLst>
                  <a:gd name="adj" fmla="val 30208"/>
                </a:avLst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0800000">
                <a:off x="1637280" y="2168640"/>
                <a:ext cx="1887480" cy="234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800000">
                <a:off x="3095640" y="2255760"/>
                <a:ext cx="629280" cy="292680"/>
              </a:xfrm>
              <a:custGeom>
                <a:avLst/>
                <a:gdLst>
                  <a:gd name="textAreaLeft" fmla="*/ 0 w 629280"/>
                  <a:gd name="textAreaRight" fmla="*/ 629640 w 6292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5e"/>
                  </a:gs>
                  <a:gs pos="50000">
                    <a:srgbClr val="ff99cc"/>
                  </a:gs>
                  <a:gs pos="100000">
                    <a:srgbClr val="75465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38560" y="2275920"/>
                <a:ext cx="639720" cy="253440"/>
              </a:xfrm>
              <a:custGeom>
                <a:avLst/>
                <a:gdLst>
                  <a:gd name="textAreaLeft" fmla="*/ 0 w 639720"/>
                  <a:gd name="textAreaRight" fmla="*/ 640080 w 639720"/>
                  <a:gd name="textAreaTop" fmla="*/ 360 h 253440"/>
                  <a:gd name="textAreaBottom" fmla="*/ 254160 h 25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0800000">
                <a:off x="3525120" y="2226960"/>
                <a:ext cx="251640" cy="116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34773"/>
                  </a:gs>
                  <a:gs pos="50000">
                    <a:srgbClr val="089bfb"/>
                  </a:gs>
                  <a:gs pos="100000">
                    <a:srgbClr val="03477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0800000">
                <a:off x="1386360" y="2226960"/>
                <a:ext cx="251280" cy="116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34773"/>
                  </a:gs>
                  <a:gs pos="50000">
                    <a:srgbClr val="089bfb"/>
                  </a:gs>
                  <a:gs pos="100000">
                    <a:srgbClr val="03477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385280" y="2978280"/>
              <a:ext cx="30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rammenti del Polyl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600200" y="2511360"/>
              <a:ext cx="1440" cy="56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746520" y="2499120"/>
              <a:ext cx="1440" cy="56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9520" y="188604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p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760" y="3821040"/>
            <a:ext cx="975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iamento delle estrem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trazione DNA dal BA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azione di PCR con nucleotidi marcati con fluorocromi diversi per ogni base  azotata utilizzando singolarmente il primer Sp6 e il T7 in due diverse rea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ttura al sequenziatore automatico delle PCR otte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39:24Z</dcterms:created>
  <dc:creator>M.Rocchi</dc:creator>
  <dc:description/>
  <dc:language>en-US</dc:language>
  <cp:lastModifiedBy>Mariano Rocchi</cp:lastModifiedBy>
  <dcterms:modified xsi:type="dcterms:W3CDTF">2005-06-21T09:04:46Z</dcterms:modified>
  <cp:revision>294</cp:revision>
  <dc:subject/>
  <dc:title>Traslocazioni</dc:title>
</cp:coreProperties>
</file>