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pct" ContentType="image/x-pict"/>
  <Override PartName="/ppt/media/image10.png" ContentType="image/png"/>
  <Override PartName="/ppt/media/image12.pct" ContentType="image/x-pict"/>
  <Override PartName="/ppt/media/image24.png" ContentType="image/png"/>
  <Override PartName="/ppt/media/image7.pct" ContentType="image/x-pict"/>
  <Override PartName="/ppt/media/image11.pct" ContentType="image/x-pict"/>
  <Override PartName="/ppt/media/image13.jpeg" ContentType="image/jpeg"/>
  <Override PartName="/ppt/media/image23.png" ContentType="image/png"/>
  <Override PartName="/ppt/media/image6.pct" ContentType="image/x-pict"/>
  <Override PartName="/ppt/media/image5.png" ContentType="image/png"/>
  <Override PartName="/ppt/media/image16.pct" ContentType="image/x-pict"/>
  <Override PartName="/ppt/media/image22.pct" ContentType="image/x-pict"/>
  <Override PartName="/ppt/media/image4.jpeg" ContentType="image/jpeg"/>
  <Override PartName="/ppt/media/image25.png" ContentType="image/png"/>
  <Override PartName="/ppt/media/image20.jpeg" ContentType="image/jpeg"/>
  <Override PartName="/ppt/media/image15.pct" ContentType="image/x-pict"/>
  <Override PartName="/ppt/media/image21.pct" ContentType="image/x-pict"/>
  <Override PartName="/ppt/media/image19.pct" ContentType="image/x-pict"/>
  <Override PartName="/ppt/media/image18.jpeg" ContentType="image/jpeg"/>
  <Override PartName="/ppt/media/image1.pct" ContentType="image/x-pict"/>
  <Override PartName="/ppt/media/image17.pct" ContentType="image/x-pict"/>
  <Override PartName="/ppt/media/image2.jpeg" ContentType="image/jpeg"/>
  <Override PartName="/ppt/media/image3.png" ContentType="image/png"/>
  <Override PartName="/ppt/media/image26.png" ContentType="image/png"/>
  <Override PartName="/ppt/media/image14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E610-9961-4996-9C84-0FE9E7BFE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E691-A664-4183-8733-EB7B4528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520B-3053-4FE8-B6AE-7AA7E9E2C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0E0D-F093-418A-B80E-2349AB01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806D-78A1-45F7-B9D2-88128B8A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34D7-31ED-47F7-96C9-ECFC291F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033F-E850-4D5D-9BCB-504118B8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E454-DB26-4478-B081-B0FC342A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320E-8102-47CE-9982-405B314A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148E-A36D-4AF6-8FCC-97A23B8B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BD78-C785-4C5A-A15E-74E93B6A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D80D-87BD-4FF1-BCBF-01D64538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38120" y="61722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360" y="64771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67F0-1F85-41EF-BD0D-50BB819B9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560" y="493560"/>
            <a:ext cx="8943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2438280" y="139680"/>
            <a:ext cx="66042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Biologia Cellulare e Molecolare   GeneticaII  2004-2005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4440" cy="10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368280"/>
            <a:ext cx="84204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Tappe nello studio dei genomi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979560"/>
            <a:ext cx="8153280" cy="581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0640" y="5583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Da Watson e Crick all’idea del sequenziamento: 1953-1984_x0003_..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40" y="1787400"/>
            <a:ext cx="9902880" cy="457848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34920" y="2006640"/>
            <a:ext cx="1514160" cy="4444920"/>
            <a:chOff x="34920" y="2006640"/>
            <a:chExt cx="1514160" cy="4444920"/>
          </a:xfrm>
        </p:grpSpPr>
        <p:grpSp>
          <p:nvGrpSpPr>
            <p:cNvPr id="89" name=""/>
            <p:cNvGrpSpPr/>
            <p:nvPr/>
          </p:nvGrpSpPr>
          <p:grpSpPr>
            <a:xfrm>
              <a:off x="34920" y="2260440"/>
              <a:ext cx="1514160" cy="3645000"/>
              <a:chOff x="34920" y="2260440"/>
              <a:chExt cx="1514160" cy="3645000"/>
            </a:xfrm>
          </p:grpSpPr>
          <p:sp>
            <p:nvSpPr>
              <p:cNvPr id="90" name=""/>
              <p:cNvSpPr/>
              <p:nvPr/>
            </p:nvSpPr>
            <p:spPr>
              <a:xfrm>
                <a:off x="34920" y="2260440"/>
                <a:ext cx="1439640" cy="18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56480" y="4076640"/>
                <a:ext cx="1092600" cy="18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431640" y="2006640"/>
              <a:ext cx="1079640" cy="444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460520" y="2006640"/>
            <a:ext cx="134604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05040" y="2006640"/>
            <a:ext cx="12574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36960" y="2006640"/>
            <a:ext cx="12574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30720" y="2006640"/>
            <a:ext cx="12574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35560" y="2006640"/>
            <a:ext cx="12574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2006640"/>
            <a:ext cx="17272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016920" y="1994040"/>
            <a:ext cx="88920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p:transition>
    <p:cover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La doppia elica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1054080" y="1343160"/>
            <a:ext cx="666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95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atson e Cric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opongono il model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ppia elic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er la molecola del D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2930400"/>
            <a:ext cx="6642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atson, J.D. &amp; Crick, F.H.C. “A structure for deoxyribose nucleic acid”.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Natur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7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737 -  738, (1953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759720" y="1828800"/>
            <a:ext cx="3146400" cy="486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1486080" y="3933720"/>
            <a:ext cx="458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e00204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0204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e00204"/>
                </a:solidFill>
                <a:latin typeface="Comic Sans MS"/>
              </a:rPr>
              <a:t>Base molecolare  no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12760" y="1562040"/>
            <a:ext cx="1477800" cy="1384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219320" y="5140440"/>
            <a:ext cx="458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e00204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0204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e00204"/>
                </a:solidFill>
                <a:latin typeface="Comic Sans MS"/>
              </a:rPr>
              <a:t>Informazione illeggibil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0640" y="5583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Da Watson e Crick all’idea del sequenziamento: 1953-1984_x0003_..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" y="1787400"/>
            <a:ext cx="9902880" cy="4578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460520" y="2006640"/>
            <a:ext cx="134604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05040" y="2006640"/>
            <a:ext cx="12574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36960" y="2006640"/>
            <a:ext cx="12574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30720" y="2006640"/>
            <a:ext cx="12574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35560" y="2006640"/>
            <a:ext cx="12574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16720" y="2006640"/>
            <a:ext cx="17272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016920" y="1994040"/>
            <a:ext cx="88920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p:transition>
    <p:cover dir="l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5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Il codice genetico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76320" y="1289160"/>
            <a:ext cx="939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966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irenberg, Khorana e Holle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determinano il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dice genetico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&gt; a ogni tripletta corrisponde un amminoacido e viceversa (... quasi). In questo stadio della genetica è più facile sequenziare le proteine e dalla successione degli aminoacidi dedurre la sequenza nucleotid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97120" y="2603520"/>
          <a:ext cx="6718320" cy="3987360"/>
        </p:xfrm>
        <a:graphic>
          <a:graphicData uri="http://schemas.openxmlformats.org/drawingml/2006/table">
            <a:tbl>
              <a:tblPr/>
              <a:tblGrid>
                <a:gridCol w="527040"/>
                <a:gridCol w="1165320"/>
                <a:gridCol w="549360"/>
                <a:gridCol w="1193760"/>
                <a:gridCol w="571320"/>
                <a:gridCol w="1079640"/>
                <a:gridCol w="520560"/>
                <a:gridCol w="111132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U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U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20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0202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 fenil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0202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0202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 ser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0202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0202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 tiros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0202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G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G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0202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 ciste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202"/>
                      </a:solidFill>
                    </a:lnR>
                    <a:lnT w="18720">
                      <a:solidFill>
                        <a:srgbClr val="ff0202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20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 leuc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C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 ser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A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A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G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 tript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202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20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 leuc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 prol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 istid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G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G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 argin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202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20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 leuc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C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 prol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 glut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G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 argin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202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U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U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20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 isoleu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 treon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aspar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 ser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202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20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 isoleu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 me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 treon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A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A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 lis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 argin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202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20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 val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alan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Acasp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G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G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 glic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202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20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ff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 val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ff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C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ff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alan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ff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ff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 Acgl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ff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G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ff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 glic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202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ff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9" name=""/>
          <p:cNvGrpSpPr/>
          <p:nvPr/>
        </p:nvGrpSpPr>
        <p:grpSpPr>
          <a:xfrm>
            <a:off x="1279080" y="2265480"/>
            <a:ext cx="7646400" cy="3688200"/>
            <a:chOff x="1279080" y="2265480"/>
            <a:chExt cx="7646400" cy="3688200"/>
          </a:xfrm>
        </p:grpSpPr>
        <p:grpSp>
          <p:nvGrpSpPr>
            <p:cNvPr id="120" name=""/>
            <p:cNvGrpSpPr/>
            <p:nvPr/>
          </p:nvGrpSpPr>
          <p:grpSpPr>
            <a:xfrm>
              <a:off x="1977480" y="2265480"/>
              <a:ext cx="3779640" cy="398880"/>
              <a:chOff x="1977480" y="2265480"/>
              <a:chExt cx="3779640" cy="398880"/>
            </a:xfrm>
          </p:grpSpPr>
          <p:sp>
            <p:nvSpPr>
              <p:cNvPr id="121" name=""/>
              <p:cNvSpPr/>
              <p:nvPr/>
            </p:nvSpPr>
            <p:spPr>
              <a:xfrm>
                <a:off x="1977480" y="2265480"/>
                <a:ext cx="37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54000" y="226548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401080" y="2265480"/>
                <a:ext cx="35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6977880" y="22780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1279080" y="3129120"/>
              <a:ext cx="388800" cy="2824560"/>
              <a:chOff x="1279080" y="3129120"/>
              <a:chExt cx="388800" cy="2824560"/>
            </a:xfrm>
          </p:grpSpPr>
          <p:sp>
            <p:nvSpPr>
              <p:cNvPr id="126" name=""/>
              <p:cNvSpPr/>
              <p:nvPr/>
            </p:nvSpPr>
            <p:spPr>
              <a:xfrm>
                <a:off x="1311840" y="4716360"/>
                <a:ext cx="35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288440" y="55548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292040" y="396720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279080" y="3129120"/>
                <a:ext cx="37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8556480" y="2482920"/>
              <a:ext cx="369000" cy="2133360"/>
              <a:chOff x="8556480" y="2482920"/>
              <a:chExt cx="369000" cy="213336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8569440" y="2482920"/>
                <a:ext cx="356040" cy="1117440"/>
                <a:chOff x="8569440" y="2482920"/>
                <a:chExt cx="356040" cy="11174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8569440" y="2482920"/>
                  <a:ext cx="352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U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8581320" y="2685960"/>
                  <a:ext cx="326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8575200" y="3029040"/>
                  <a:ext cx="339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8578800" y="3232080"/>
                  <a:ext cx="346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8556480" y="3498840"/>
                <a:ext cx="356040" cy="1117440"/>
                <a:chOff x="8556480" y="3498840"/>
                <a:chExt cx="356040" cy="11174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8556480" y="3498840"/>
                  <a:ext cx="352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U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8568360" y="3701880"/>
                  <a:ext cx="326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8562240" y="4044960"/>
                  <a:ext cx="339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8565840" y="4248000"/>
                  <a:ext cx="346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1" name=""/>
          <p:cNvGrpSpPr/>
          <p:nvPr/>
        </p:nvGrpSpPr>
        <p:grpSpPr>
          <a:xfrm>
            <a:off x="8543520" y="4489560"/>
            <a:ext cx="368280" cy="2133000"/>
            <a:chOff x="8543520" y="4489560"/>
            <a:chExt cx="368280" cy="2133000"/>
          </a:xfrm>
        </p:grpSpPr>
        <p:grpSp>
          <p:nvGrpSpPr>
            <p:cNvPr id="142" name=""/>
            <p:cNvGrpSpPr/>
            <p:nvPr/>
          </p:nvGrpSpPr>
          <p:grpSpPr>
            <a:xfrm>
              <a:off x="8556120" y="4489560"/>
              <a:ext cx="355680" cy="1117080"/>
              <a:chOff x="8556120" y="4489560"/>
              <a:chExt cx="355680" cy="1117080"/>
            </a:xfrm>
          </p:grpSpPr>
          <p:sp>
            <p:nvSpPr>
              <p:cNvPr id="143" name=""/>
              <p:cNvSpPr/>
              <p:nvPr/>
            </p:nvSpPr>
            <p:spPr>
              <a:xfrm>
                <a:off x="8556120" y="4489560"/>
                <a:ext cx="35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568000" y="469224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561880" y="5035320"/>
                <a:ext cx="33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565120" y="5238360"/>
                <a:ext cx="34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8543520" y="5505120"/>
              <a:ext cx="355680" cy="1117440"/>
              <a:chOff x="8543520" y="5505120"/>
              <a:chExt cx="355680" cy="1117440"/>
            </a:xfrm>
          </p:grpSpPr>
          <p:sp>
            <p:nvSpPr>
              <p:cNvPr id="148" name=""/>
              <p:cNvSpPr/>
              <p:nvPr/>
            </p:nvSpPr>
            <p:spPr>
              <a:xfrm>
                <a:off x="8543520" y="5505120"/>
                <a:ext cx="35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555400" y="570816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549280" y="6051240"/>
                <a:ext cx="33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552520" y="6254280"/>
                <a:ext cx="34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50640" y="5583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Da Watson e Crick all’idea del sequenziamento: 1953-1984_x0003_..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" y="1787400"/>
            <a:ext cx="9902880" cy="45784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705040" y="2006640"/>
            <a:ext cx="12574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36960" y="2006640"/>
            <a:ext cx="12574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30720" y="2006640"/>
            <a:ext cx="12574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35560" y="2006640"/>
            <a:ext cx="12574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16720" y="2006640"/>
            <a:ext cx="17272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016920" y="1994040"/>
            <a:ext cx="88920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Enzimi di restrizione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3161160" y="1606680"/>
            <a:ext cx="6060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68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rificazione del primo enzima 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trizione.  Endonucleasi batteriche c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iconoscono specifiche sequenze di D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doppio fil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52360" y="1141560"/>
            <a:ext cx="2833920" cy="267336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2089080" y="4280040"/>
            <a:ext cx="5975280" cy="2322720"/>
            <a:chOff x="2089080" y="4280040"/>
            <a:chExt cx="5975280" cy="2322720"/>
          </a:xfrm>
        </p:grpSpPr>
        <p:sp>
          <p:nvSpPr>
            <p:cNvPr id="164" name=""/>
            <p:cNvSpPr/>
            <p:nvPr/>
          </p:nvSpPr>
          <p:spPr>
            <a:xfrm>
              <a:off x="3314880" y="4280040"/>
              <a:ext cx="370188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B=BamHI E= EcoRI H=HindII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25800" y="6146640"/>
              <a:ext cx="5902200" cy="0"/>
            </a:xfrm>
            <a:prstGeom prst="line">
              <a:avLst/>
            </a:prstGeom>
            <a:ln w="76320">
              <a:solidFill>
                <a:srgbClr val="ff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16640" y="5005440"/>
              <a:ext cx="96912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H  E   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88880" y="5011560"/>
              <a:ext cx="252360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B   E                   H        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089080" y="6435720"/>
              <a:ext cx="5900760" cy="0"/>
            </a:xfrm>
            <a:prstGeom prst="line">
              <a:avLst/>
            </a:prstGeom>
            <a:ln w="76320">
              <a:solidFill>
                <a:srgbClr val="ff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2968560" y="5424480"/>
              <a:ext cx="4817880" cy="1178280"/>
              <a:chOff x="2968560" y="5424480"/>
              <a:chExt cx="4817880" cy="1178280"/>
            </a:xfrm>
          </p:grpSpPr>
          <p:sp>
            <p:nvSpPr>
              <p:cNvPr id="170" name=""/>
              <p:cNvSpPr/>
              <p:nvPr/>
            </p:nvSpPr>
            <p:spPr>
              <a:xfrm>
                <a:off x="4654440" y="5424480"/>
                <a:ext cx="0" cy="11782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691080" y="5424480"/>
                <a:ext cx="0" cy="11782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786440" y="5424480"/>
                <a:ext cx="0" cy="11782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968560" y="5424480"/>
                <a:ext cx="0" cy="11782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943320" y="5424480"/>
                <a:ext cx="0" cy="11782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037120" y="5424480"/>
                <a:ext cx="0" cy="11782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290400" y="5424480"/>
                <a:ext cx="0" cy="11782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2163600" y="6202440"/>
              <a:ext cx="5900760" cy="151560"/>
              <a:chOff x="2163600" y="6202440"/>
              <a:chExt cx="5900760" cy="15156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2163600" y="6202440"/>
                <a:ext cx="5900760" cy="151560"/>
                <a:chOff x="2163600" y="6202440"/>
                <a:chExt cx="5900760" cy="1515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2163600" y="6202440"/>
                  <a:ext cx="5900760" cy="0"/>
                </a:xfrm>
                <a:prstGeom prst="line">
                  <a:avLst/>
                </a:prstGeom>
                <a:ln w="66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163600" y="6354000"/>
                  <a:ext cx="5900760" cy="0"/>
                </a:xfrm>
                <a:prstGeom prst="line">
                  <a:avLst/>
                </a:prstGeom>
                <a:ln w="66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" name=""/>
              <p:cNvSpPr/>
              <p:nvPr/>
            </p:nvSpPr>
            <p:spPr>
              <a:xfrm>
                <a:off x="2163600" y="6286680"/>
                <a:ext cx="5900760" cy="0"/>
              </a:xfrm>
              <a:prstGeom prst="line">
                <a:avLst/>
              </a:prstGeom>
              <a:ln w="66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163600" y="6265800"/>
                <a:ext cx="5900760" cy="0"/>
              </a:xfrm>
              <a:prstGeom prst="line">
                <a:avLst/>
              </a:prstGeom>
              <a:ln w="66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36240" y="1130040"/>
            <a:ext cx="331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La rete …NET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517920" y="600120"/>
            <a:ext cx="6086520" cy="400680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660240" y="4494240"/>
            <a:ext cx="9050040" cy="1775880"/>
            <a:chOff x="660240" y="4494240"/>
            <a:chExt cx="9050040" cy="1775880"/>
          </a:xfrm>
        </p:grpSpPr>
        <p:sp>
          <p:nvSpPr>
            <p:cNvPr id="186" name=""/>
            <p:cNvSpPr/>
            <p:nvPr/>
          </p:nvSpPr>
          <p:spPr>
            <a:xfrm>
              <a:off x="1141560" y="5322960"/>
              <a:ext cx="8568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1969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: le università americane si collegano ad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RPANET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, l’antenato di 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INTERNE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2"/>
            <a:stretch/>
          </p:blipFill>
          <p:spPr>
            <a:xfrm>
              <a:off x="660240" y="4494240"/>
              <a:ext cx="1773360" cy="13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8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50640" y="5583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Da Watson e Crick all’idea del sequenziamento: 1953-1984_x0003_..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" y="1787400"/>
            <a:ext cx="9902880" cy="45784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705040" y="2006640"/>
            <a:ext cx="12574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36960" y="2006640"/>
            <a:ext cx="12574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30720" y="2006640"/>
            <a:ext cx="12574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35560" y="2006640"/>
            <a:ext cx="12574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416720" y="2006640"/>
            <a:ext cx="17272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016920" y="1994040"/>
            <a:ext cx="88920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p:transition>
    <p:cover dir="l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42680" y="367920"/>
            <a:ext cx="842004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Primo plasmide clonato.. Southern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189720" y="1060560"/>
            <a:ext cx="88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73: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ppa di restrizione di SV40 e clonaggio del primo plasm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2000" y="1568520"/>
            <a:ext cx="9810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74: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d Southern mette a punto la tecnica che prendera’ il su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me il Southern Blot. Tecnica di trasferimento del DNA su fil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opo una corsa elettroforetica che permette di separare i frammenti di DNA in base alla lunghezza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1680" y="3270240"/>
            <a:ext cx="9848880" cy="3406680"/>
            <a:chOff x="31680" y="3270240"/>
            <a:chExt cx="9848880" cy="3406680"/>
          </a:xfrm>
        </p:grpSpPr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31680" y="3270240"/>
              <a:ext cx="5448240" cy="3282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1" name=""/>
            <p:cNvGrpSpPr/>
            <p:nvPr/>
          </p:nvGrpSpPr>
          <p:grpSpPr>
            <a:xfrm>
              <a:off x="596880" y="3429000"/>
              <a:ext cx="9283680" cy="3247920"/>
              <a:chOff x="596880" y="3429000"/>
              <a:chExt cx="9283680" cy="3247920"/>
            </a:xfrm>
          </p:grpSpPr>
          <p:pic>
            <p:nvPicPr>
              <p:cNvPr id="20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195880" y="3429000"/>
                <a:ext cx="4684680" cy="292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>
                <a:off x="596880" y="6289560"/>
                <a:ext cx="461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DNA genomico digerito caricato su gel con EtBr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270400" y="5943600"/>
                <a:ext cx="45910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Lastra sviluppata dopo esposizione del filtro ottenuto dopo trasferimento e ibridazione con sonda marcata radioattivamente(P32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936960" y="2006640"/>
            <a:ext cx="12574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0640" y="5583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Da Watson e Crick all’idea del sequenziamento: 1953-1984_x0003_..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240" y="1787400"/>
            <a:ext cx="9902880" cy="45784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130720" y="2006640"/>
            <a:ext cx="12574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235560" y="2006640"/>
            <a:ext cx="12574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416720" y="2006640"/>
            <a:ext cx="17272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016920" y="1994040"/>
            <a:ext cx="88920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p:transition>
    <p:cover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190520"/>
            <a:ext cx="9906120" cy="5667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61720" y="4060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202"/>
                </a:solidFill>
                <a:latin typeface="Comic Sans MS"/>
              </a:rPr>
              <a:t>Dalla genetica alla genomica: timeline di una “evoluzione concettuale”</a:t>
            </a:r>
            <a:endParaRPr b="1" lang="en-US" sz="24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Inizia il sequenziamento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254520" y="1436760"/>
            <a:ext cx="969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77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Gilbert e San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ventano un sistema per sequenziare “rapidament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a molecola di DNA. Si determinano alcune decin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bp/mese uom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u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25600" y="2797200"/>
            <a:ext cx="8891280" cy="3525840"/>
            <a:chOff x="525600" y="2797200"/>
            <a:chExt cx="8891280" cy="3525840"/>
          </a:xfrm>
        </p:grpSpPr>
        <p:pic>
          <p:nvPicPr>
            <p:cNvPr id="215" name="" descr=""/>
            <p:cNvPicPr/>
            <p:nvPr/>
          </p:nvPicPr>
          <p:blipFill>
            <a:blip r:embed="rId1"/>
            <a:stretch/>
          </p:blipFill>
          <p:spPr>
            <a:xfrm>
              <a:off x="525600" y="2805120"/>
              <a:ext cx="3179520" cy="34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2"/>
            <a:stretch/>
          </p:blipFill>
          <p:spPr>
            <a:xfrm rot="5400000">
              <a:off x="5234760" y="2140560"/>
              <a:ext cx="3525840" cy="483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50640" y="5583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Da Watson e Crick all’idea del sequenziamento: 1953-1984_x0003_..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240" y="1787400"/>
            <a:ext cx="9902880" cy="45784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324480" y="2006640"/>
            <a:ext cx="120672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518240" y="2006640"/>
            <a:ext cx="162576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131400" y="2006640"/>
            <a:ext cx="76176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p:transition>
    <p:cover dir="l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60280" y="1104480"/>
            <a:ext cx="36324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Nuovi strumenti </a:t>
            </a:r>
            <a:br>
              <a:rPr sz="3200"/>
            </a:b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per il linkage 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109960"/>
            <a:ext cx="419724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83: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razie alle nuove sonde e agli RFLP viene mappato per linkage il locus della Corea di Huntingt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i apre la possibilita’ di mappare geneticamente anc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uegli organismi non accessibil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alla genetica clas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asata sugli incroci e si puo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are il linkage utilizzan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l fenotipo” del D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195800" y="514440"/>
            <a:ext cx="5538600" cy="6276600"/>
            <a:chOff x="4195800" y="514440"/>
            <a:chExt cx="5538600" cy="6276600"/>
          </a:xfrm>
        </p:grpSpPr>
        <p:grpSp>
          <p:nvGrpSpPr>
            <p:cNvPr id="225" name=""/>
            <p:cNvGrpSpPr/>
            <p:nvPr/>
          </p:nvGrpSpPr>
          <p:grpSpPr>
            <a:xfrm>
              <a:off x="4195800" y="514440"/>
              <a:ext cx="5538600" cy="6276600"/>
              <a:chOff x="4195800" y="514440"/>
              <a:chExt cx="5538600" cy="6276600"/>
            </a:xfrm>
          </p:grpSpPr>
          <p:pic>
            <p:nvPicPr>
              <p:cNvPr id="22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195800" y="514440"/>
                <a:ext cx="5538600" cy="625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"/>
              <p:cNvSpPr/>
              <p:nvPr/>
            </p:nvSpPr>
            <p:spPr>
              <a:xfrm>
                <a:off x="4431960" y="4289400"/>
                <a:ext cx="25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458240" y="4929480"/>
                <a:ext cx="33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I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478400" y="6032520"/>
                <a:ext cx="41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II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113960" y="5355000"/>
                <a:ext cx="1037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          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223680" y="6422760"/>
                <a:ext cx="271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    2   3    4   5    6   7   8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412520" y="1792800"/>
                <a:ext cx="61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I1  I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211240" y="1792800"/>
                <a:ext cx="61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I3  I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059800" y="1792800"/>
                <a:ext cx="42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II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785000" y="1792800"/>
                <a:ext cx="42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II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027760" y="2149920"/>
                <a:ext cx="3938760" cy="212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III1 III2 III3 III4 III5 III6 III7 III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753680" y="1792800"/>
                <a:ext cx="0" cy="28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753680" y="2077560"/>
                <a:ext cx="121248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482440" y="1865160"/>
                <a:ext cx="0" cy="21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027760" y="2077560"/>
                <a:ext cx="45432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5718240" y="4591080"/>
              <a:ext cx="242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1       2               3      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50640" y="5583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Da Watson e Crick all’idea del sequenziamento: 1953-1984_x0003_..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240" y="1787400"/>
            <a:ext cx="9902880" cy="45784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9144000" y="1994040"/>
            <a:ext cx="76212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p:transition>
    <p:cover dir="l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2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17120" y="609120"/>
            <a:ext cx="916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Dalla PCR al positional cloning: 1985-1989..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1765440"/>
            <a:ext cx="9906120" cy="43066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231920" y="1549440"/>
            <a:ext cx="186696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60720" y="1549440"/>
            <a:ext cx="182880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63960" y="1549440"/>
            <a:ext cx="17020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515280" y="1549440"/>
            <a:ext cx="172692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217000" y="1549440"/>
            <a:ext cx="1689120" cy="44323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p:transition>
    <p:cover dir="l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3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La PCR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531000" y="1093680"/>
            <a:ext cx="87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85: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ulli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episce l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CR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polymerase chain re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4381560" y="2882880"/>
            <a:ext cx="5334120" cy="520200"/>
            <a:chOff x="4381560" y="2882880"/>
            <a:chExt cx="5334120" cy="520200"/>
          </a:xfrm>
        </p:grpSpPr>
        <p:sp>
          <p:nvSpPr>
            <p:cNvPr id="255" name=""/>
            <p:cNvSpPr/>
            <p:nvPr/>
          </p:nvSpPr>
          <p:spPr>
            <a:xfrm>
              <a:off x="4381560" y="3022560"/>
              <a:ext cx="850680" cy="30960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77400 h 309600"/>
                <a:gd name="textAreaBottom" fmla="*/ 23220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236200" y="2882880"/>
              <a:ext cx="154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Sintesi del D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fra i prim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6743880" y="2959200"/>
              <a:ext cx="2971800" cy="431640"/>
              <a:chOff x="6743880" y="2959200"/>
              <a:chExt cx="2971800" cy="431640"/>
            </a:xfrm>
          </p:grpSpPr>
          <p:sp>
            <p:nvSpPr>
              <p:cNvPr id="258" name=""/>
              <p:cNvSpPr/>
              <p:nvPr/>
            </p:nvSpPr>
            <p:spPr>
              <a:xfrm>
                <a:off x="6743880" y="2959200"/>
                <a:ext cx="495000" cy="0"/>
              </a:xfrm>
              <a:prstGeom prst="line">
                <a:avLst/>
              </a:prstGeom>
              <a:ln cap="rnd" w="316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315200" y="2959200"/>
                <a:ext cx="209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340760" y="3340080"/>
                <a:ext cx="20574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743880" y="3390840"/>
                <a:ext cx="495000" cy="0"/>
              </a:xfrm>
              <a:prstGeom prst="line">
                <a:avLst/>
              </a:prstGeom>
              <a:ln cap="rnd" w="316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315200" y="3390840"/>
                <a:ext cx="209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3" name=""/>
              <p:cNvGrpSpPr/>
              <p:nvPr/>
            </p:nvGrpSpPr>
            <p:grpSpPr>
              <a:xfrm>
                <a:off x="9474120" y="2959200"/>
                <a:ext cx="241560" cy="431640"/>
                <a:chOff x="9474120" y="2959200"/>
                <a:chExt cx="241560" cy="431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9474120" y="2959200"/>
                  <a:ext cx="241560" cy="0"/>
                </a:xfrm>
                <a:prstGeom prst="line">
                  <a:avLst/>
                </a:prstGeom>
                <a:ln cap="rnd" w="316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9474120" y="3390840"/>
                  <a:ext cx="241560" cy="0"/>
                </a:xfrm>
                <a:prstGeom prst="line">
                  <a:avLst/>
                </a:prstGeom>
                <a:ln cap="rnd" w="316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6" name=""/>
              <p:cNvSpPr/>
              <p:nvPr/>
            </p:nvSpPr>
            <p:spPr>
              <a:xfrm>
                <a:off x="7365960" y="3009960"/>
                <a:ext cx="20574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877240" y="3098880"/>
                <a:ext cx="571680" cy="0"/>
              </a:xfrm>
              <a:prstGeom prst="line">
                <a:avLst/>
              </a:prstGeom>
              <a:ln w="57240">
                <a:solidFill>
                  <a:srgbClr val="ff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315200" y="3251160"/>
                <a:ext cx="571680" cy="0"/>
              </a:xfrm>
              <a:prstGeom prst="line">
                <a:avLst/>
              </a:prstGeom>
              <a:ln w="57240">
                <a:solidFill>
                  <a:srgbClr val="031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315200" y="3098880"/>
                <a:ext cx="1549440" cy="12600"/>
              </a:xfrm>
              <a:prstGeom prst="line">
                <a:avLst/>
              </a:prstGeom>
              <a:ln w="38160">
                <a:solidFill>
                  <a:srgbClr val="ff0202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861320" y="3238560"/>
                <a:ext cx="1549440" cy="126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1" name=""/>
          <p:cNvGrpSpPr/>
          <p:nvPr/>
        </p:nvGrpSpPr>
        <p:grpSpPr>
          <a:xfrm>
            <a:off x="558720" y="2409480"/>
            <a:ext cx="3751560" cy="1032120"/>
            <a:chOff x="558720" y="2409480"/>
            <a:chExt cx="3751560" cy="1032120"/>
          </a:xfrm>
        </p:grpSpPr>
        <p:grpSp>
          <p:nvGrpSpPr>
            <p:cNvPr id="272" name=""/>
            <p:cNvGrpSpPr/>
            <p:nvPr/>
          </p:nvGrpSpPr>
          <p:grpSpPr>
            <a:xfrm>
              <a:off x="558720" y="2959200"/>
              <a:ext cx="3751560" cy="482400"/>
              <a:chOff x="558720" y="2959200"/>
              <a:chExt cx="3751560" cy="4824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8720" y="2959200"/>
                <a:ext cx="495360" cy="0"/>
              </a:xfrm>
              <a:prstGeom prst="line">
                <a:avLst/>
              </a:prstGeom>
              <a:ln cap="rnd" w="316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130400" y="2959200"/>
                <a:ext cx="209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289320" y="2959200"/>
                <a:ext cx="799920" cy="0"/>
              </a:xfrm>
              <a:prstGeom prst="line">
                <a:avLst/>
              </a:prstGeom>
              <a:ln cap="rnd" w="316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155600" y="3390840"/>
                <a:ext cx="20574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58720" y="3441600"/>
                <a:ext cx="495360" cy="0"/>
              </a:xfrm>
              <a:prstGeom prst="line">
                <a:avLst/>
              </a:prstGeom>
              <a:ln cap="rnd" w="316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130400" y="3441600"/>
                <a:ext cx="209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289320" y="3441600"/>
                <a:ext cx="799920" cy="0"/>
              </a:xfrm>
              <a:prstGeom prst="line">
                <a:avLst/>
              </a:prstGeom>
              <a:ln cap="rnd" w="316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181160" y="3009960"/>
                <a:ext cx="20574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692440" y="3098880"/>
                <a:ext cx="571320" cy="0"/>
              </a:xfrm>
              <a:prstGeom prst="line">
                <a:avLst/>
              </a:prstGeom>
              <a:ln w="38160">
                <a:solidFill>
                  <a:srgbClr val="ff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130400" y="3301920"/>
                <a:ext cx="571320" cy="0"/>
              </a:xfrm>
              <a:prstGeom prst="line">
                <a:avLst/>
              </a:prstGeom>
              <a:ln w="38160">
                <a:solidFill>
                  <a:srgbClr val="031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233520" y="3009960"/>
                <a:ext cx="1076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anneal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1828440" y="2409480"/>
              <a:ext cx="2100600" cy="510120"/>
              <a:chOff x="1828440" y="2409480"/>
              <a:chExt cx="2100600" cy="510120"/>
            </a:xfrm>
          </p:grpSpPr>
          <p:sp>
            <p:nvSpPr>
              <p:cNvPr id="285" name=""/>
              <p:cNvSpPr/>
              <p:nvPr/>
            </p:nvSpPr>
            <p:spPr>
              <a:xfrm>
                <a:off x="2446920" y="2489040"/>
                <a:ext cx="1482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denaturazion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5392800">
                <a:off x="1732680" y="2505600"/>
                <a:ext cx="509400" cy="317520"/>
              </a:xfrm>
              <a:custGeom>
                <a:avLst/>
                <a:gdLst>
                  <a:gd name="textAreaLeft" fmla="*/ 79560 w 509400"/>
                  <a:gd name="textAreaRight" fmla="*/ 446040 w 509400"/>
                  <a:gd name="textAreaTop" fmla="*/ 79200 h 317520"/>
                  <a:gd name="textAreaBottom" fmla="*/ 2383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7" name=""/>
          <p:cNvGrpSpPr/>
          <p:nvPr/>
        </p:nvGrpSpPr>
        <p:grpSpPr>
          <a:xfrm>
            <a:off x="520560" y="1892160"/>
            <a:ext cx="5848200" cy="561240"/>
            <a:chOff x="520560" y="1892160"/>
            <a:chExt cx="5848200" cy="561240"/>
          </a:xfrm>
        </p:grpSpPr>
        <p:sp>
          <p:nvSpPr>
            <p:cNvPr id="288" name=""/>
            <p:cNvSpPr/>
            <p:nvPr/>
          </p:nvSpPr>
          <p:spPr>
            <a:xfrm>
              <a:off x="4788000" y="2184480"/>
              <a:ext cx="571320" cy="0"/>
            </a:xfrm>
            <a:prstGeom prst="line">
              <a:avLst/>
            </a:prstGeom>
            <a:ln w="57240">
              <a:solidFill>
                <a:srgbClr val="ff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788000" y="2336760"/>
              <a:ext cx="571320" cy="0"/>
            </a:xfrm>
            <a:prstGeom prst="line">
              <a:avLst/>
            </a:prstGeom>
            <a:ln w="57240">
              <a:solidFill>
                <a:srgbClr val="031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78760" y="1994040"/>
              <a:ext cx="99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ntisen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92800" y="2146320"/>
              <a:ext cx="66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en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85760" y="1892160"/>
              <a:ext cx="87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rim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520560" y="2184480"/>
              <a:ext cx="3530880" cy="164880"/>
              <a:chOff x="520560" y="2184480"/>
              <a:chExt cx="3530880" cy="16488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520560" y="2184480"/>
                <a:ext cx="3530880" cy="0"/>
                <a:chOff x="520560" y="2184480"/>
                <a:chExt cx="35308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20560" y="2184480"/>
                  <a:ext cx="495360" cy="0"/>
                </a:xfrm>
                <a:prstGeom prst="line">
                  <a:avLst/>
                </a:prstGeom>
                <a:ln cap="rnd" w="316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092240" y="2184480"/>
                  <a:ext cx="2095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251160" y="2184480"/>
                  <a:ext cx="800280" cy="0"/>
                </a:xfrm>
                <a:prstGeom prst="line">
                  <a:avLst/>
                </a:prstGeom>
                <a:ln cap="rnd" w="316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>
                <a:off x="1117440" y="2298600"/>
                <a:ext cx="20574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9" name=""/>
              <p:cNvGrpSpPr/>
              <p:nvPr/>
            </p:nvGrpSpPr>
            <p:grpSpPr>
              <a:xfrm>
                <a:off x="520560" y="2349360"/>
                <a:ext cx="3530880" cy="0"/>
                <a:chOff x="520560" y="2349360"/>
                <a:chExt cx="3530880" cy="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520560" y="2349360"/>
                  <a:ext cx="495360" cy="0"/>
                </a:xfrm>
                <a:prstGeom prst="line">
                  <a:avLst/>
                </a:prstGeom>
                <a:ln cap="rnd" w="316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092240" y="2349360"/>
                  <a:ext cx="2095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251160" y="2349360"/>
                  <a:ext cx="800280" cy="0"/>
                </a:xfrm>
                <a:prstGeom prst="line">
                  <a:avLst/>
                </a:prstGeom>
                <a:ln cap="rnd" w="316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3" name=""/>
              <p:cNvSpPr/>
              <p:nvPr/>
            </p:nvSpPr>
            <p:spPr>
              <a:xfrm>
                <a:off x="1117440" y="2235240"/>
                <a:ext cx="20574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" name=""/>
          <p:cNvGrpSpPr/>
          <p:nvPr/>
        </p:nvGrpSpPr>
        <p:grpSpPr>
          <a:xfrm>
            <a:off x="158760" y="3853440"/>
            <a:ext cx="3227760" cy="1734480"/>
            <a:chOff x="158760" y="3853440"/>
            <a:chExt cx="3227760" cy="1734480"/>
          </a:xfrm>
        </p:grpSpPr>
        <p:grpSp>
          <p:nvGrpSpPr>
            <p:cNvPr id="305" name=""/>
            <p:cNvGrpSpPr/>
            <p:nvPr/>
          </p:nvGrpSpPr>
          <p:grpSpPr>
            <a:xfrm>
              <a:off x="1470960" y="3853440"/>
              <a:ext cx="1915560" cy="693720"/>
              <a:chOff x="1470960" y="3853440"/>
              <a:chExt cx="1915560" cy="693720"/>
            </a:xfrm>
          </p:grpSpPr>
          <p:sp>
            <p:nvSpPr>
              <p:cNvPr id="306" name=""/>
              <p:cNvSpPr/>
              <p:nvPr/>
            </p:nvSpPr>
            <p:spPr>
              <a:xfrm>
                <a:off x="1470960" y="3911760"/>
                <a:ext cx="1547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Denaturazione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e anneal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8833200">
                <a:off x="2490120" y="4078080"/>
                <a:ext cx="901800" cy="244440"/>
              </a:xfrm>
              <a:custGeom>
                <a:avLst/>
                <a:gdLst>
                  <a:gd name="textAreaLeft" fmla="*/ 140760 w 901800"/>
                  <a:gd name="textAreaRight" fmla="*/ 789120 w 901800"/>
                  <a:gd name="textAreaTop" fmla="*/ 60840 h 244440"/>
                  <a:gd name="textAreaBottom" fmla="*/ 183240 h 244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158760" y="4433760"/>
              <a:ext cx="2049480" cy="1154160"/>
              <a:chOff x="158760" y="4433760"/>
              <a:chExt cx="2049480" cy="1154160"/>
            </a:xfrm>
          </p:grpSpPr>
          <p:sp>
            <p:nvSpPr>
              <p:cNvPr id="309" name=""/>
              <p:cNvSpPr/>
              <p:nvPr/>
            </p:nvSpPr>
            <p:spPr>
              <a:xfrm>
                <a:off x="542880" y="4597200"/>
                <a:ext cx="163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61960" y="5537160"/>
                <a:ext cx="1604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42880" y="5587920"/>
                <a:ext cx="163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82480" y="4647960"/>
                <a:ext cx="1604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760400" y="4724280"/>
                <a:ext cx="446040" cy="0"/>
              </a:xfrm>
              <a:prstGeom prst="line">
                <a:avLst/>
              </a:prstGeom>
              <a:ln w="57240">
                <a:solidFill>
                  <a:srgbClr val="ff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42880" y="5168880"/>
                <a:ext cx="446040" cy="0"/>
              </a:xfrm>
              <a:prstGeom prst="line">
                <a:avLst/>
              </a:prstGeom>
              <a:ln w="38160">
                <a:solidFill>
                  <a:srgbClr val="031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52240" y="4967280"/>
                <a:ext cx="1656000" cy="11160"/>
              </a:xfrm>
              <a:prstGeom prst="line">
                <a:avLst/>
              </a:prstGeom>
              <a:ln w="38160">
                <a:solidFill>
                  <a:srgbClr val="ff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968400" y="5168880"/>
                <a:ext cx="1207800" cy="11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58760" y="4433760"/>
                <a:ext cx="9014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200000"/>
                  </a:lnSpc>
                  <a:buClr>
                    <a:srgbClr val="000000"/>
                  </a:buClr>
                  <a:buFont typeface="Comic Sans MS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609480" indent="-609480">
                  <a:lnSpc>
                    <a:spcPct val="200000"/>
                  </a:lnSpc>
                  <a:buClr>
                    <a:srgbClr val="000000"/>
                  </a:buClr>
                  <a:buFont typeface="Comic Sans MS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.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17320" y="4838760"/>
                <a:ext cx="446040" cy="0"/>
              </a:xfrm>
              <a:prstGeom prst="line">
                <a:avLst/>
              </a:prstGeom>
              <a:ln w="57240">
                <a:solidFill>
                  <a:srgbClr val="031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82480" y="4927680"/>
                <a:ext cx="1604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61960" y="5219640"/>
                <a:ext cx="1604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42880" y="5473440"/>
                <a:ext cx="446040" cy="0"/>
              </a:xfrm>
              <a:prstGeom prst="line">
                <a:avLst/>
              </a:prstGeom>
              <a:ln w="57240">
                <a:solidFill>
                  <a:srgbClr val="031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734840" y="5295960"/>
                <a:ext cx="446400" cy="0"/>
              </a:xfrm>
              <a:prstGeom prst="line">
                <a:avLst/>
              </a:prstGeom>
              <a:ln w="57240">
                <a:solidFill>
                  <a:srgbClr val="ff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3" name=""/>
          <p:cNvGrpSpPr/>
          <p:nvPr/>
        </p:nvGrpSpPr>
        <p:grpSpPr>
          <a:xfrm>
            <a:off x="2616840" y="4459320"/>
            <a:ext cx="3502440" cy="1153800"/>
            <a:chOff x="2616840" y="4459320"/>
            <a:chExt cx="3502440" cy="1153800"/>
          </a:xfrm>
        </p:grpSpPr>
        <p:sp>
          <p:nvSpPr>
            <p:cNvPr id="324" name=""/>
            <p:cNvSpPr/>
            <p:nvPr/>
          </p:nvSpPr>
          <p:spPr>
            <a:xfrm>
              <a:off x="2616840" y="5029200"/>
              <a:ext cx="154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Sintesi del D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fra i prim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54280" y="4851360"/>
              <a:ext cx="876240" cy="297000"/>
            </a:xfrm>
            <a:custGeom>
              <a:avLst/>
              <a:gdLst>
                <a:gd name="textAreaLeft" fmla="*/ 136800 w 876240"/>
                <a:gd name="textAreaRight" fmla="*/ 766800 w 876240"/>
                <a:gd name="textAreaTop" fmla="*/ 74160 h 297000"/>
                <a:gd name="textAreaBottom" fmla="*/ 222840 h 29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4070160" y="4459320"/>
              <a:ext cx="2049120" cy="1153800"/>
              <a:chOff x="4070160" y="4459320"/>
              <a:chExt cx="2049120" cy="1153800"/>
            </a:xfrm>
          </p:grpSpPr>
          <p:sp>
            <p:nvSpPr>
              <p:cNvPr id="327" name=""/>
              <p:cNvSpPr/>
              <p:nvPr/>
            </p:nvSpPr>
            <p:spPr>
              <a:xfrm>
                <a:off x="4454280" y="4622400"/>
                <a:ext cx="1632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473360" y="5562360"/>
                <a:ext cx="1604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454280" y="5613120"/>
                <a:ext cx="1632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493880" y="4673160"/>
                <a:ext cx="1604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671800" y="4749480"/>
                <a:ext cx="445680" cy="0"/>
              </a:xfrm>
              <a:prstGeom prst="line">
                <a:avLst/>
              </a:prstGeom>
              <a:ln w="57240">
                <a:solidFill>
                  <a:srgbClr val="ff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454280" y="5194080"/>
                <a:ext cx="445680" cy="0"/>
              </a:xfrm>
              <a:prstGeom prst="line">
                <a:avLst/>
              </a:prstGeom>
              <a:ln w="38160">
                <a:solidFill>
                  <a:srgbClr val="031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463640" y="4992480"/>
                <a:ext cx="1655640" cy="10800"/>
              </a:xfrm>
              <a:prstGeom prst="line">
                <a:avLst/>
              </a:prstGeom>
              <a:ln w="38160">
                <a:solidFill>
                  <a:srgbClr val="ff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879800" y="5194080"/>
                <a:ext cx="1207440" cy="10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070160" y="4459320"/>
                <a:ext cx="9014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200000"/>
                  </a:lnSpc>
                  <a:buClr>
                    <a:srgbClr val="000000"/>
                  </a:buClr>
                  <a:buFont typeface="Comic Sans MS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609480" indent="-609480">
                  <a:lnSpc>
                    <a:spcPct val="200000"/>
                  </a:lnSpc>
                  <a:buClr>
                    <a:srgbClr val="000000"/>
                  </a:buClr>
                  <a:buFont typeface="Comic Sans MS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.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428720" y="4863960"/>
                <a:ext cx="445680" cy="0"/>
              </a:xfrm>
              <a:prstGeom prst="line">
                <a:avLst/>
              </a:prstGeom>
              <a:ln w="57240">
                <a:solidFill>
                  <a:srgbClr val="031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493880" y="4952880"/>
                <a:ext cx="1604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473360" y="5244840"/>
                <a:ext cx="1604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454280" y="5498640"/>
                <a:ext cx="445680" cy="0"/>
              </a:xfrm>
              <a:prstGeom prst="line">
                <a:avLst/>
              </a:prstGeom>
              <a:ln w="57240">
                <a:solidFill>
                  <a:srgbClr val="031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646240" y="5321160"/>
                <a:ext cx="446040" cy="0"/>
              </a:xfrm>
              <a:prstGeom prst="line">
                <a:avLst/>
              </a:prstGeom>
              <a:ln w="57240">
                <a:solidFill>
                  <a:srgbClr val="ff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4813200" y="4863960"/>
              <a:ext cx="1282680" cy="12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81560" y="4737240"/>
              <a:ext cx="1549440" cy="12600"/>
            </a:xfrm>
            <a:prstGeom prst="line">
              <a:avLst/>
            </a:prstGeom>
            <a:ln w="38160">
              <a:solidFill>
                <a:srgbClr val="ff0202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44920" y="5308560"/>
              <a:ext cx="1549440" cy="12600"/>
            </a:xfrm>
            <a:prstGeom prst="line">
              <a:avLst/>
            </a:prstGeom>
            <a:ln w="38160">
              <a:solidFill>
                <a:srgbClr val="ff0202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00600" y="5499000"/>
              <a:ext cx="1282680" cy="12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526440" y="4319640"/>
            <a:ext cx="3277440" cy="1306080"/>
            <a:chOff x="6526440" y="4319640"/>
            <a:chExt cx="3277440" cy="1306080"/>
          </a:xfrm>
        </p:grpSpPr>
        <p:grpSp>
          <p:nvGrpSpPr>
            <p:cNvPr id="346" name=""/>
            <p:cNvGrpSpPr/>
            <p:nvPr/>
          </p:nvGrpSpPr>
          <p:grpSpPr>
            <a:xfrm>
              <a:off x="7840080" y="4319640"/>
              <a:ext cx="1963800" cy="1306080"/>
              <a:chOff x="7840080" y="4319640"/>
              <a:chExt cx="1963800" cy="1306080"/>
            </a:xfrm>
          </p:grpSpPr>
          <p:sp>
            <p:nvSpPr>
              <p:cNvPr id="347" name=""/>
              <p:cNvSpPr/>
              <p:nvPr/>
            </p:nvSpPr>
            <p:spPr>
              <a:xfrm>
                <a:off x="8115120" y="4533840"/>
                <a:ext cx="1632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8133840" y="4914720"/>
                <a:ext cx="1604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115120" y="4978080"/>
                <a:ext cx="1632960" cy="0"/>
              </a:xfrm>
              <a:prstGeom prst="line">
                <a:avLst/>
              </a:prstGeom>
              <a:ln w="38160">
                <a:solidFill>
                  <a:srgbClr val="ff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8154720" y="4597200"/>
                <a:ext cx="1604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9332640" y="4673520"/>
                <a:ext cx="445680" cy="0"/>
              </a:xfrm>
              <a:prstGeom prst="line">
                <a:avLst/>
              </a:prstGeom>
              <a:ln w="38160">
                <a:solidFill>
                  <a:srgbClr val="ff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115120" y="4838400"/>
                <a:ext cx="445680" cy="0"/>
              </a:xfrm>
              <a:prstGeom prst="line">
                <a:avLst/>
              </a:prstGeom>
              <a:ln w="38160">
                <a:solidFill>
                  <a:srgbClr val="031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8124480" y="4662360"/>
                <a:ext cx="1207800" cy="10800"/>
              </a:xfrm>
              <a:prstGeom prst="line">
                <a:avLst/>
              </a:prstGeom>
              <a:ln w="38160">
                <a:solidFill>
                  <a:srgbClr val="ff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8540280" y="4838400"/>
                <a:ext cx="1207800" cy="10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8140320" y="5194080"/>
                <a:ext cx="1633320" cy="0"/>
              </a:xfrm>
              <a:prstGeom prst="line">
                <a:avLst/>
              </a:prstGeom>
              <a:ln w="38160">
                <a:solidFill>
                  <a:srgbClr val="031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159400" y="5562360"/>
                <a:ext cx="1604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140320" y="5625720"/>
                <a:ext cx="163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8179920" y="5257440"/>
                <a:ext cx="1604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9357840" y="5333760"/>
                <a:ext cx="446040" cy="0"/>
              </a:xfrm>
              <a:prstGeom prst="line">
                <a:avLst/>
              </a:prstGeom>
              <a:ln w="38160">
                <a:solidFill>
                  <a:srgbClr val="ff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140320" y="5486040"/>
                <a:ext cx="445680" cy="0"/>
              </a:xfrm>
              <a:prstGeom prst="line">
                <a:avLst/>
              </a:prstGeom>
              <a:ln w="38160">
                <a:solidFill>
                  <a:srgbClr val="031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150040" y="5322600"/>
                <a:ext cx="1207440" cy="10800"/>
              </a:xfrm>
              <a:prstGeom prst="line">
                <a:avLst/>
              </a:prstGeom>
              <a:ln w="38160">
                <a:solidFill>
                  <a:srgbClr val="ff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565840" y="5486040"/>
                <a:ext cx="1207800" cy="10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840080" y="4319640"/>
                <a:ext cx="848160" cy="12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20000"/>
                  </a:lnSpc>
                  <a:buClr>
                    <a:srgbClr val="000000"/>
                  </a:buClr>
                  <a:buFont typeface="Comic Sans MS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609480" indent="-609480">
                  <a:lnSpc>
                    <a:spcPct val="120000"/>
                  </a:lnSpc>
                  <a:buClr>
                    <a:srgbClr val="000000"/>
                  </a:buClr>
                  <a:buFont typeface="Comic Sans MS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609480" indent="-609480">
                  <a:lnSpc>
                    <a:spcPct val="120000"/>
                  </a:lnSpc>
                  <a:buClr>
                    <a:srgbClr val="000000"/>
                  </a:buClr>
                  <a:buFont typeface="Comic Sans MS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609480" indent="-609480">
                  <a:lnSpc>
                    <a:spcPct val="120000"/>
                  </a:lnSpc>
                  <a:buClr>
                    <a:srgbClr val="000000"/>
                  </a:buClr>
                  <a:buFont typeface="Comic Sans MS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6526440" y="4726080"/>
              <a:ext cx="151416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oleco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opo 2 cicl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984240" y="5883120"/>
            <a:ext cx="8943120" cy="731880"/>
            <a:chOff x="984240" y="5883120"/>
            <a:chExt cx="8943120" cy="731880"/>
          </a:xfrm>
        </p:grpSpPr>
        <p:sp>
          <p:nvSpPr>
            <p:cNvPr id="366" name=""/>
            <p:cNvSpPr/>
            <p:nvPr/>
          </p:nvSpPr>
          <p:spPr>
            <a:xfrm>
              <a:off x="1591920" y="5967360"/>
              <a:ext cx="833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opo 30 cicli ci sono piu’ di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9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molecole della sequenza di interes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7" name="" descr=""/>
            <p:cNvPicPr/>
            <p:nvPr/>
          </p:nvPicPr>
          <p:blipFill>
            <a:blip r:embed="rId1"/>
            <a:stretch/>
          </p:blipFill>
          <p:spPr>
            <a:xfrm>
              <a:off x="984240" y="5883120"/>
              <a:ext cx="696960" cy="73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8" name=""/>
          <p:cNvGrpSpPr/>
          <p:nvPr/>
        </p:nvGrpSpPr>
        <p:grpSpPr>
          <a:xfrm>
            <a:off x="3956040" y="3568320"/>
            <a:ext cx="5086440" cy="673560"/>
            <a:chOff x="3956040" y="3568320"/>
            <a:chExt cx="5086440" cy="673560"/>
          </a:xfrm>
        </p:grpSpPr>
        <p:grpSp>
          <p:nvGrpSpPr>
            <p:cNvPr id="369" name=""/>
            <p:cNvGrpSpPr/>
            <p:nvPr/>
          </p:nvGrpSpPr>
          <p:grpSpPr>
            <a:xfrm>
              <a:off x="3956040" y="3581280"/>
              <a:ext cx="2419200" cy="660600"/>
              <a:chOff x="3956040" y="3581280"/>
              <a:chExt cx="2419200" cy="660600"/>
            </a:xfrm>
          </p:grpSpPr>
          <p:grpSp>
            <p:nvGrpSpPr>
              <p:cNvPr id="370" name=""/>
              <p:cNvGrpSpPr/>
              <p:nvPr/>
            </p:nvGrpSpPr>
            <p:grpSpPr>
              <a:xfrm>
                <a:off x="4216320" y="3695760"/>
                <a:ext cx="2158920" cy="546120"/>
                <a:chOff x="4216320" y="3695760"/>
                <a:chExt cx="2158920" cy="54612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4280040" y="3695760"/>
                  <a:ext cx="2095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305240" y="3809880"/>
                  <a:ext cx="20574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280040" y="3860640"/>
                  <a:ext cx="2095200" cy="0"/>
                </a:xfrm>
                <a:prstGeom prst="line">
                  <a:avLst/>
                </a:prstGeom>
                <a:ln w="38160">
                  <a:solidFill>
                    <a:srgbClr val="ff020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305240" y="3746520"/>
                  <a:ext cx="20574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216320" y="4076640"/>
                  <a:ext cx="2095560" cy="0"/>
                </a:xfrm>
                <a:prstGeom prst="line">
                  <a:avLst/>
                </a:prstGeom>
                <a:ln w="38160">
                  <a:solidFill>
                    <a:srgbClr val="031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4241880" y="4191120"/>
                  <a:ext cx="20574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4216320" y="4241880"/>
                  <a:ext cx="2095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241880" y="4127400"/>
                  <a:ext cx="20574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9" name=""/>
              <p:cNvSpPr/>
              <p:nvPr/>
            </p:nvSpPr>
            <p:spPr>
              <a:xfrm>
                <a:off x="3956040" y="3581280"/>
                <a:ext cx="901440" cy="62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10000"/>
                  </a:lnSpc>
                  <a:buClr>
                    <a:srgbClr val="000000"/>
                  </a:buClr>
                  <a:buFont typeface="Comic Sans MS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202"/>
                    </a:solidFill>
                    <a:latin typeface="Comic Sans MS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609480" indent="-609480">
                  <a:lnSpc>
                    <a:spcPct val="110000"/>
                  </a:lnSpc>
                  <a:buClr>
                    <a:srgbClr val="000000"/>
                  </a:buClr>
                  <a:buFont typeface="Comic Sans MS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.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 flipH="1" flipV="1">
              <a:off x="6896160" y="3567960"/>
              <a:ext cx="2146320" cy="507960"/>
            </a:xfrm>
            <a:custGeom>
              <a:avLst/>
              <a:gdLst>
                <a:gd name="textAreaLeft" fmla="*/ 360 w 2146320"/>
                <a:gd name="textAreaRight" fmla="*/ 2147040 w 2146320"/>
                <a:gd name="textAreaTop" fmla="*/ -360 h 507960"/>
                <a:gd name="textAreaBottom" fmla="*/ 50796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677" stAng="10800000" swAng="5400000"/>
                  <a:lnTo>
                    <a:pt x="17018" y="4483"/>
                  </a:lnTo>
                  <a:lnTo>
                    <a:pt x="17018" y="0"/>
                  </a:lnTo>
                  <a:lnTo>
                    <a:pt x="21600" y="6079"/>
                  </a:lnTo>
                  <a:lnTo>
                    <a:pt x="17018" y="12158"/>
                  </a:lnTo>
                  <a:lnTo>
                    <a:pt x="17018" y="7675"/>
                  </a:lnTo>
                  <a:lnTo>
                    <a:pt x="12427" y="7675"/>
                  </a:lnTo>
                  <a:arcTo wR="9235" hR="4485" stAng="16200000" swAng="-5400000"/>
                  <a:lnTo>
                    <a:pt x="319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50000">
                  <a:srgbClr val="ff8200"/>
                </a:gs>
                <a:gs pos="100000">
                  <a:srgbClr val="00008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17120" y="609120"/>
            <a:ext cx="916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Dalla PCR al positional cloning: 1985-1989..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0" y="1765440"/>
            <a:ext cx="9906120" cy="430668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3060720" y="1549440"/>
            <a:ext cx="182880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863960" y="1549440"/>
            <a:ext cx="17020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15280" y="1549440"/>
            <a:ext cx="172692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217000" y="1549440"/>
            <a:ext cx="1689120" cy="44323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p:transition>
    <p:cover dir="l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3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3320" y="11808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Gene Duchenne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388" name=""/>
          <p:cNvSpPr/>
          <p:nvPr/>
        </p:nvSpPr>
        <p:spPr>
          <a:xfrm>
            <a:off x="512640" y="2169360"/>
            <a:ext cx="9228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86: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 Boston il gruppo di Kunkel riesce a clonare il gene DMD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723960" y="3033720"/>
            <a:ext cx="8804160" cy="755640"/>
          </a:xfrm>
          <a:prstGeom prst="rect">
            <a:avLst/>
          </a:prstGeom>
          <a:ln w="0">
            <a:noFill/>
          </a:ln>
        </p:spPr>
      </p:pic>
      <p:grpSp>
        <p:nvGrpSpPr>
          <p:cNvPr id="390" name=""/>
          <p:cNvGrpSpPr/>
          <p:nvPr/>
        </p:nvGrpSpPr>
        <p:grpSpPr>
          <a:xfrm>
            <a:off x="63360" y="4246560"/>
            <a:ext cx="9721800" cy="1618560"/>
            <a:chOff x="63360" y="4246560"/>
            <a:chExt cx="9721800" cy="1618560"/>
          </a:xfrm>
        </p:grpSpPr>
        <p:sp>
          <p:nvSpPr>
            <p:cNvPr id="391" name=""/>
            <p:cNvSpPr/>
            <p:nvPr/>
          </p:nvSpPr>
          <p:spPr>
            <a:xfrm>
              <a:off x="1143000" y="4246560"/>
              <a:ext cx="86421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E’ un gene enorme: ~ 2400 kb (pari a ~il 2% del cromosoma X dove mappa, ha 79 esoni, 7 promotori, esprime un mRNA di 14 kb, che corrisponde nel muscolo ad una proteina di oltre 400 kD. Ha trascritti alternativi tessuto specifici e regolazione differenziale nello svilupp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3360" y="4659120"/>
              <a:ext cx="198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SzPct val="300000"/>
                <a:buFont typeface="Wingdings" charset="2"/>
                <a:buChar char="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4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4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4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4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Finalmente sequenziamento automatico!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394" name=""/>
          <p:cNvSpPr/>
          <p:nvPr/>
        </p:nvSpPr>
        <p:spPr>
          <a:xfrm>
            <a:off x="-88560" y="1550880"/>
            <a:ext cx="1020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86:</a:t>
            </a:r>
            <a:r>
              <a:rPr b="1" lang="en-US" sz="2000" spc="-1" strike="noStrike">
                <a:solidFill>
                  <a:srgbClr val="1416c8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od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lizza il primo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quenziamento automatic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-&gt;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Mb/mu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36560" y="2209680"/>
            <a:ext cx="8848800" cy="4364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17120" y="609120"/>
            <a:ext cx="916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Dalla PCR al positional cloning: 1985-1989..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0" y="1765440"/>
            <a:ext cx="9906120" cy="43066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4863960" y="1549440"/>
            <a:ext cx="17020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515280" y="1549440"/>
            <a:ext cx="172692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217000" y="1549440"/>
            <a:ext cx="1689120" cy="44323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p:transition>
    <p:cover dir="l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2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7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01760" y="635040"/>
            <a:ext cx="81151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Da Mendel ad Avery:1865-1944..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1520" y="1587600"/>
            <a:ext cx="9620280" cy="4643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27200" y="1231920"/>
            <a:ext cx="1384560" cy="562608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73600" y="1231920"/>
            <a:ext cx="1485720" cy="562608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32240" y="1231920"/>
            <a:ext cx="1435320" cy="562608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78640" y="1231920"/>
            <a:ext cx="3327480" cy="562608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18520" y="1244520"/>
            <a:ext cx="1587600" cy="560088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p:transition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Gli YAC: </a:t>
            </a:r>
            <a:r>
              <a:rPr b="1" lang="en-US" sz="2800" spc="-1" strike="noStrike">
                <a:solidFill>
                  <a:srgbClr val="ff0202"/>
                </a:solidFill>
                <a:latin typeface="Comic Sans MS"/>
              </a:rPr>
              <a:t>Yeast Artificial Chromosome</a:t>
            </a: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  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979560" y="4316760"/>
            <a:ext cx="8169480" cy="1076400"/>
            <a:chOff x="979560" y="4316760"/>
            <a:chExt cx="8169480" cy="1076400"/>
          </a:xfrm>
        </p:grpSpPr>
        <p:grpSp>
          <p:nvGrpSpPr>
            <p:cNvPr id="403" name=""/>
            <p:cNvGrpSpPr/>
            <p:nvPr/>
          </p:nvGrpSpPr>
          <p:grpSpPr>
            <a:xfrm>
              <a:off x="2401920" y="4316760"/>
              <a:ext cx="5638680" cy="494640"/>
              <a:chOff x="2401920" y="4316760"/>
              <a:chExt cx="5638680" cy="494640"/>
            </a:xfrm>
          </p:grpSpPr>
          <p:sp>
            <p:nvSpPr>
              <p:cNvPr id="404" name=""/>
              <p:cNvSpPr/>
              <p:nvPr/>
            </p:nvSpPr>
            <p:spPr>
              <a:xfrm flipH="1">
                <a:off x="2401920" y="4691880"/>
                <a:ext cx="271800" cy="2160"/>
              </a:xfrm>
              <a:prstGeom prst="line">
                <a:avLst/>
              </a:prstGeom>
              <a:ln w="66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027480" y="4584600"/>
                <a:ext cx="158400" cy="21276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0800000">
                <a:off x="4312440" y="4590360"/>
                <a:ext cx="315720" cy="20988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471560" y="4590720"/>
                <a:ext cx="1582560" cy="21600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50000">
                    <a:srgbClr val="fefefe"/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DNA uman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10800000">
                <a:off x="6138360" y="4590360"/>
                <a:ext cx="317160" cy="20988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324480" y="4587840"/>
                <a:ext cx="1504440" cy="22356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814520" y="4693680"/>
                <a:ext cx="226080" cy="8640"/>
              </a:xfrm>
              <a:prstGeom prst="line">
                <a:avLst/>
              </a:prstGeom>
              <a:ln w="604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275240" y="4590720"/>
                <a:ext cx="394920" cy="2160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328880" y="433404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924240" y="4617720"/>
                <a:ext cx="112680" cy="162000"/>
              </a:xfrm>
              <a:custGeom>
                <a:avLst/>
                <a:gdLst>
                  <a:gd name="textAreaLeft" fmla="*/ 5400 w 112680"/>
                  <a:gd name="textAreaRight" fmla="*/ 107280 w 112680"/>
                  <a:gd name="textAreaTop" fmla="*/ 5400 h 162000"/>
                  <a:gd name="textAreaBottom" fmla="*/ 156600 h 162000"/>
                </a:gdLst>
                <a:ahLst/>
                <a:rect l="textAreaLeft" t="textAreaTop" r="textAreaRight" b="textAreaBottom"/>
                <a:pathLst>
                  <a:path w="21600" h="31024">
                    <a:moveTo>
                      <a:pt x="3600" y="0"/>
                    </a:moveTo>
                    <a:arcTo wR="3600" hR="3600" stAng="16200000" swAng="-5400000"/>
                    <a:lnTo>
                      <a:pt x="0" y="27424"/>
                    </a:lnTo>
                    <a:arcTo wR="3600" hR="3600" stAng="10800000" swAng="-5400000"/>
                    <a:lnTo>
                      <a:pt x="18000" y="3102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9966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770880" y="4334040"/>
                <a:ext cx="433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c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617560" y="4589280"/>
                <a:ext cx="1582200" cy="22212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250800" y="4590720"/>
                <a:ext cx="394920" cy="2160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696760" y="4590720"/>
                <a:ext cx="158400" cy="216000"/>
              </a:xfrm>
              <a:custGeom>
                <a:avLst/>
                <a:gdLst>
                  <a:gd name="textAreaLeft" fmla="*/ 7560 w 158400"/>
                  <a:gd name="textAreaRight" fmla="*/ 150840 w 158400"/>
                  <a:gd name="textAreaTop" fmla="*/ 7560 h 216000"/>
                  <a:gd name="textAreaBottom" fmla="*/ 208440 h 216000"/>
                </a:gdLst>
                <a:ahLst/>
                <a:rect l="textAreaLeft" t="textAreaTop" r="textAreaRight" b="textAreaBottom"/>
                <a:pathLst>
                  <a:path w="21600" h="29437">
                    <a:moveTo>
                      <a:pt x="3600" y="0"/>
                    </a:moveTo>
                    <a:arcTo wR="3600" hR="3600" stAng="16200000" swAng="-5400000"/>
                    <a:lnTo>
                      <a:pt x="0" y="25837"/>
                    </a:lnTo>
                    <a:arcTo wR="3600" hR="3600" stAng="10800000" swAng="-5400000"/>
                    <a:lnTo>
                      <a:pt x="18000" y="2943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292560" y="4326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594520" y="4316760"/>
                <a:ext cx="37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or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200120" y="4590720"/>
                <a:ext cx="191880" cy="21132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979560" y="5024880"/>
              <a:ext cx="816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romosoma artificale di lievito con inserto di DNA umano (fino a 2M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287640" y="2063880"/>
            <a:ext cx="9172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88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nuovi vettori contengono le sequenze telomeriche, il centromer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’origine di  replicazione dei cromosomi di lievito, oltre a due fattori 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lezione che permettono di individuare le cellule di lievito non trasform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17120" y="609120"/>
            <a:ext cx="916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Dalla PCR al positional cloning: 1985-1989..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0" y="1765440"/>
            <a:ext cx="9906120" cy="43066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8217000" y="1549440"/>
            <a:ext cx="1689120" cy="44323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p:transition>
    <p:cover dir="l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9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Gli STS: Sequence-Tagged Sites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427" name=""/>
          <p:cNvSpPr/>
          <p:nvPr/>
        </p:nvSpPr>
        <p:spPr>
          <a:xfrm>
            <a:off x="165240" y="1073160"/>
            <a:ext cx="97408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89: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’automazione del sequenziamento permette di sequenziare cor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quenze (300pb) clonate a caso da cui ricavare primers per “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creenar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” con la PCR ormai automatizzata le librerie  e costruire mappe fisiche attraverso la creazione di contigui . Quando sono polimorfiche sono marcatori comuni alle mappe sia  genetiche che fisiche e permettono di legarle fra lo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241200" y="3416400"/>
            <a:ext cx="2092680" cy="615960"/>
            <a:chOff x="241200" y="3416400"/>
            <a:chExt cx="2092680" cy="615960"/>
          </a:xfrm>
        </p:grpSpPr>
        <p:sp>
          <p:nvSpPr>
            <p:cNvPr id="429" name=""/>
            <p:cNvSpPr/>
            <p:nvPr/>
          </p:nvSpPr>
          <p:spPr>
            <a:xfrm>
              <a:off x="241200" y="3497400"/>
              <a:ext cx="749520" cy="534960"/>
            </a:xfrm>
            <a:custGeom>
              <a:avLst/>
              <a:gdLst/>
              <a:ahLst/>
              <a:rect l="l" t="t" r="r" b="b"/>
              <a:pathLst>
                <a:path w="472" h="337">
                  <a:moveTo>
                    <a:pt x="88" y="53"/>
                  </a:moveTo>
                  <a:cubicBezTo>
                    <a:pt x="99" y="143"/>
                    <a:pt x="88" y="106"/>
                    <a:pt x="152" y="149"/>
                  </a:cubicBezTo>
                  <a:cubicBezTo>
                    <a:pt x="157" y="157"/>
                    <a:pt x="158" y="169"/>
                    <a:pt x="168" y="173"/>
                  </a:cubicBezTo>
                  <a:cubicBezTo>
                    <a:pt x="195" y="182"/>
                    <a:pt x="258" y="134"/>
                    <a:pt x="272" y="125"/>
                  </a:cubicBezTo>
                  <a:cubicBezTo>
                    <a:pt x="280" y="119"/>
                    <a:pt x="296" y="109"/>
                    <a:pt x="296" y="109"/>
                  </a:cubicBezTo>
                  <a:cubicBezTo>
                    <a:pt x="304" y="76"/>
                    <a:pt x="314" y="60"/>
                    <a:pt x="304" y="29"/>
                  </a:cubicBezTo>
                  <a:cubicBezTo>
                    <a:pt x="290" y="31"/>
                    <a:pt x="273" y="27"/>
                    <a:pt x="264" y="37"/>
                  </a:cubicBezTo>
                  <a:cubicBezTo>
                    <a:pt x="252" y="48"/>
                    <a:pt x="248" y="85"/>
                    <a:pt x="248" y="85"/>
                  </a:cubicBezTo>
                  <a:cubicBezTo>
                    <a:pt x="260" y="162"/>
                    <a:pt x="242" y="107"/>
                    <a:pt x="288" y="165"/>
                  </a:cubicBezTo>
                  <a:cubicBezTo>
                    <a:pt x="300" y="180"/>
                    <a:pt x="320" y="213"/>
                    <a:pt x="320" y="213"/>
                  </a:cubicBezTo>
                  <a:cubicBezTo>
                    <a:pt x="301" y="241"/>
                    <a:pt x="255" y="290"/>
                    <a:pt x="224" y="301"/>
                  </a:cubicBezTo>
                  <a:cubicBezTo>
                    <a:pt x="221" y="293"/>
                    <a:pt x="216" y="285"/>
                    <a:pt x="216" y="277"/>
                  </a:cubicBezTo>
                  <a:cubicBezTo>
                    <a:pt x="216" y="191"/>
                    <a:pt x="265" y="196"/>
                    <a:pt x="336" y="189"/>
                  </a:cubicBezTo>
                  <a:cubicBezTo>
                    <a:pt x="346" y="183"/>
                    <a:pt x="358" y="180"/>
                    <a:pt x="368" y="173"/>
                  </a:cubicBezTo>
                  <a:cubicBezTo>
                    <a:pt x="406" y="141"/>
                    <a:pt x="351" y="104"/>
                    <a:pt x="344" y="69"/>
                  </a:cubicBezTo>
                  <a:cubicBezTo>
                    <a:pt x="340" y="53"/>
                    <a:pt x="346" y="33"/>
                    <a:pt x="336" y="21"/>
                  </a:cubicBezTo>
                  <a:cubicBezTo>
                    <a:pt x="324" y="8"/>
                    <a:pt x="288" y="5"/>
                    <a:pt x="288" y="5"/>
                  </a:cubicBezTo>
                  <a:cubicBezTo>
                    <a:pt x="194" y="16"/>
                    <a:pt x="240" y="0"/>
                    <a:pt x="200" y="61"/>
                  </a:cubicBezTo>
                  <a:cubicBezTo>
                    <a:pt x="197" y="74"/>
                    <a:pt x="198" y="88"/>
                    <a:pt x="192" y="101"/>
                  </a:cubicBezTo>
                  <a:cubicBezTo>
                    <a:pt x="186" y="111"/>
                    <a:pt x="175" y="116"/>
                    <a:pt x="168" y="125"/>
                  </a:cubicBezTo>
                  <a:cubicBezTo>
                    <a:pt x="161" y="132"/>
                    <a:pt x="155" y="140"/>
                    <a:pt x="152" y="149"/>
                  </a:cubicBezTo>
                  <a:cubicBezTo>
                    <a:pt x="122" y="214"/>
                    <a:pt x="136" y="224"/>
                    <a:pt x="64" y="261"/>
                  </a:cubicBezTo>
                  <a:cubicBezTo>
                    <a:pt x="53" y="250"/>
                    <a:pt x="41" y="240"/>
                    <a:pt x="32" y="229"/>
                  </a:cubicBezTo>
                  <a:cubicBezTo>
                    <a:pt x="19" y="213"/>
                    <a:pt x="0" y="181"/>
                    <a:pt x="0" y="181"/>
                  </a:cubicBezTo>
                  <a:cubicBezTo>
                    <a:pt x="8" y="175"/>
                    <a:pt x="14" y="166"/>
                    <a:pt x="24" y="165"/>
                  </a:cubicBezTo>
                  <a:cubicBezTo>
                    <a:pt x="78" y="157"/>
                    <a:pt x="66" y="221"/>
                    <a:pt x="96" y="245"/>
                  </a:cubicBezTo>
                  <a:cubicBezTo>
                    <a:pt x="102" y="250"/>
                    <a:pt x="112" y="250"/>
                    <a:pt x="120" y="253"/>
                  </a:cubicBezTo>
                  <a:cubicBezTo>
                    <a:pt x="122" y="261"/>
                    <a:pt x="122" y="271"/>
                    <a:pt x="128" y="277"/>
                  </a:cubicBezTo>
                  <a:cubicBezTo>
                    <a:pt x="141" y="290"/>
                    <a:pt x="176" y="309"/>
                    <a:pt x="176" y="309"/>
                  </a:cubicBezTo>
                  <a:cubicBezTo>
                    <a:pt x="393" y="299"/>
                    <a:pt x="326" y="337"/>
                    <a:pt x="408" y="229"/>
                  </a:cubicBezTo>
                  <a:cubicBezTo>
                    <a:pt x="399" y="187"/>
                    <a:pt x="408" y="170"/>
                    <a:pt x="368" y="157"/>
                  </a:cubicBezTo>
                  <a:cubicBezTo>
                    <a:pt x="358" y="159"/>
                    <a:pt x="317" y="165"/>
                    <a:pt x="312" y="181"/>
                  </a:cubicBezTo>
                  <a:cubicBezTo>
                    <a:pt x="303" y="205"/>
                    <a:pt x="368" y="253"/>
                    <a:pt x="392" y="269"/>
                  </a:cubicBezTo>
                  <a:cubicBezTo>
                    <a:pt x="412" y="282"/>
                    <a:pt x="453" y="277"/>
                    <a:pt x="472" y="27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30160" y="3416400"/>
              <a:ext cx="150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DNA genom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228600" y="4753080"/>
            <a:ext cx="1317600" cy="434880"/>
            <a:chOff x="228600" y="4753080"/>
            <a:chExt cx="1317600" cy="434880"/>
          </a:xfrm>
        </p:grpSpPr>
        <p:sp>
          <p:nvSpPr>
            <p:cNvPr id="432" name=""/>
            <p:cNvSpPr/>
            <p:nvPr/>
          </p:nvSpPr>
          <p:spPr>
            <a:xfrm>
              <a:off x="228600" y="4753080"/>
              <a:ext cx="1317600" cy="434880"/>
            </a:xfrm>
            <a:prstGeom prst="can">
              <a:avLst>
                <a:gd name="adj" fmla="val 32986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30760" y="5004360"/>
              <a:ext cx="1314000" cy="175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431640" y="5021640"/>
              <a:ext cx="894960" cy="159120"/>
              <a:chOff x="431640" y="5021640"/>
              <a:chExt cx="894960" cy="159120"/>
            </a:xfrm>
          </p:grpSpPr>
          <p:sp>
            <p:nvSpPr>
              <p:cNvPr id="435" name=""/>
              <p:cNvSpPr/>
              <p:nvPr/>
            </p:nvSpPr>
            <p:spPr>
              <a:xfrm>
                <a:off x="1030680" y="5034240"/>
                <a:ext cx="109800" cy="64440"/>
              </a:xfrm>
              <a:prstGeom prst="irregularSeal1">
                <a:avLst/>
              </a:prstGeom>
              <a:solidFill>
                <a:srgbClr val="e3c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216800" y="5067720"/>
                <a:ext cx="109800" cy="64440"/>
              </a:xfrm>
              <a:prstGeom prst="irregularSeal1">
                <a:avLst/>
              </a:prstGeom>
              <a:solidFill>
                <a:srgbClr val="e3c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78080" y="5021640"/>
                <a:ext cx="109800" cy="64440"/>
              </a:xfrm>
              <a:prstGeom prst="irregularSeal1">
                <a:avLst/>
              </a:prstGeom>
              <a:solidFill>
                <a:srgbClr val="e3c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90040" y="5063040"/>
                <a:ext cx="110160" cy="64440"/>
              </a:xfrm>
              <a:prstGeom prst="irregularSeal1">
                <a:avLst/>
              </a:prstGeom>
              <a:solidFill>
                <a:srgbClr val="e3c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99560" y="5033160"/>
                <a:ext cx="110160" cy="64440"/>
              </a:xfrm>
              <a:prstGeom prst="irregularSeal1">
                <a:avLst/>
              </a:prstGeom>
              <a:solidFill>
                <a:srgbClr val="e3c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901440" y="5074560"/>
                <a:ext cx="109800" cy="64440"/>
              </a:xfrm>
              <a:prstGeom prst="irregularSeal1">
                <a:avLst/>
              </a:prstGeom>
              <a:solidFill>
                <a:srgbClr val="e3c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18200" y="5099040"/>
                <a:ext cx="109800" cy="64440"/>
              </a:xfrm>
              <a:prstGeom prst="irregularSeal1">
                <a:avLst/>
              </a:prstGeom>
              <a:solidFill>
                <a:srgbClr val="e3c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079280" y="5116320"/>
                <a:ext cx="110160" cy="64440"/>
              </a:xfrm>
              <a:prstGeom prst="irregularSeal1">
                <a:avLst/>
              </a:prstGeom>
              <a:solidFill>
                <a:srgbClr val="e3c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31640" y="5097600"/>
                <a:ext cx="109800" cy="64440"/>
              </a:xfrm>
              <a:prstGeom prst="irregularSeal1">
                <a:avLst/>
              </a:prstGeom>
              <a:solidFill>
                <a:srgbClr val="e3c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4" name=""/>
          <p:cNvGrpSpPr/>
          <p:nvPr/>
        </p:nvGrpSpPr>
        <p:grpSpPr>
          <a:xfrm>
            <a:off x="729720" y="4127400"/>
            <a:ext cx="1415520" cy="501840"/>
            <a:chOff x="729720" y="4127400"/>
            <a:chExt cx="1415520" cy="501840"/>
          </a:xfrm>
        </p:grpSpPr>
        <p:sp>
          <p:nvSpPr>
            <p:cNvPr id="445" name=""/>
            <p:cNvSpPr/>
            <p:nvPr/>
          </p:nvSpPr>
          <p:spPr>
            <a:xfrm rot="5400000">
              <a:off x="659880" y="4254480"/>
              <a:ext cx="444600" cy="304920"/>
            </a:xfrm>
            <a:custGeom>
              <a:avLst/>
              <a:gdLst>
                <a:gd name="textAreaLeft" fmla="*/ 69480 w 444600"/>
                <a:gd name="textAreaRight" fmla="*/ 389160 w 44460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069920" y="4127400"/>
              <a:ext cx="107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lonagg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628200" y="5130720"/>
            <a:ext cx="1671120" cy="535680"/>
            <a:chOff x="628200" y="5130720"/>
            <a:chExt cx="1671120" cy="535680"/>
          </a:xfrm>
        </p:grpSpPr>
        <p:sp>
          <p:nvSpPr>
            <p:cNvPr id="448" name=""/>
            <p:cNvSpPr/>
            <p:nvPr/>
          </p:nvSpPr>
          <p:spPr>
            <a:xfrm>
              <a:off x="635040" y="5130720"/>
              <a:ext cx="0" cy="48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8200" y="5359320"/>
              <a:ext cx="167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Sequenzia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88920" y="5767560"/>
            <a:ext cx="2536200" cy="377640"/>
            <a:chOff x="88920" y="5767560"/>
            <a:chExt cx="2536200" cy="377640"/>
          </a:xfrm>
        </p:grpSpPr>
        <p:grpSp>
          <p:nvGrpSpPr>
            <p:cNvPr id="451" name=""/>
            <p:cNvGrpSpPr/>
            <p:nvPr/>
          </p:nvGrpSpPr>
          <p:grpSpPr>
            <a:xfrm>
              <a:off x="88920" y="6045120"/>
              <a:ext cx="1995120" cy="100080"/>
              <a:chOff x="88920" y="6045120"/>
              <a:chExt cx="1995120" cy="100080"/>
            </a:xfrm>
          </p:grpSpPr>
          <p:sp>
            <p:nvSpPr>
              <p:cNvPr id="452" name=""/>
              <p:cNvSpPr/>
              <p:nvPr/>
            </p:nvSpPr>
            <p:spPr>
              <a:xfrm>
                <a:off x="88920" y="6045120"/>
                <a:ext cx="1995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13040" y="6113880"/>
                <a:ext cx="19587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8920" y="6145200"/>
                <a:ext cx="1995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13040" y="6076080"/>
                <a:ext cx="19587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99000" y="5767560"/>
              <a:ext cx="252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GACTTAG........CATAGCA ~300b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056600" y="6093000"/>
            <a:ext cx="12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TS A,B,C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616120" y="5994360"/>
            <a:ext cx="2877840" cy="826200"/>
            <a:chOff x="2616120" y="5994360"/>
            <a:chExt cx="2877840" cy="826200"/>
          </a:xfrm>
        </p:grpSpPr>
        <p:sp>
          <p:nvSpPr>
            <p:cNvPr id="459" name=""/>
            <p:cNvSpPr/>
            <p:nvPr/>
          </p:nvSpPr>
          <p:spPr>
            <a:xfrm>
              <a:off x="2616120" y="6108840"/>
              <a:ext cx="685800" cy="20304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50760 h 203040"/>
                <a:gd name="textAreaBottom" fmla="*/ 15228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3629160" y="5994360"/>
              <a:ext cx="1690560" cy="380880"/>
              <a:chOff x="3629160" y="5994360"/>
              <a:chExt cx="1690560" cy="380880"/>
            </a:xfrm>
          </p:grpSpPr>
          <p:sp>
            <p:nvSpPr>
              <p:cNvPr id="461" name=""/>
              <p:cNvSpPr/>
              <p:nvPr/>
            </p:nvSpPr>
            <p:spPr>
              <a:xfrm>
                <a:off x="3654720" y="5994360"/>
                <a:ext cx="163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694320" y="6045120"/>
                <a:ext cx="1604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872240" y="6121440"/>
                <a:ext cx="446040" cy="0"/>
              </a:xfrm>
              <a:prstGeom prst="line">
                <a:avLst/>
              </a:prstGeom>
              <a:ln w="57240">
                <a:solidFill>
                  <a:srgbClr val="ff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664080" y="6364080"/>
                <a:ext cx="1655640" cy="11160"/>
              </a:xfrm>
              <a:prstGeom prst="line">
                <a:avLst/>
              </a:prstGeom>
              <a:ln w="38160">
                <a:solidFill>
                  <a:srgbClr val="ff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629160" y="6235560"/>
                <a:ext cx="446040" cy="0"/>
              </a:xfrm>
              <a:prstGeom prst="line">
                <a:avLst/>
              </a:prstGeom>
              <a:ln w="57240">
                <a:solidFill>
                  <a:srgbClr val="031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694320" y="6324480"/>
                <a:ext cx="1604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2643120" y="6483240"/>
              <a:ext cx="285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scelta dei primers x A,B,C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635280" y="5308560"/>
            <a:ext cx="1541880" cy="604800"/>
            <a:chOff x="3635280" y="5308560"/>
            <a:chExt cx="1541880" cy="604800"/>
          </a:xfrm>
        </p:grpSpPr>
        <p:sp>
          <p:nvSpPr>
            <p:cNvPr id="469" name=""/>
            <p:cNvSpPr/>
            <p:nvPr/>
          </p:nvSpPr>
          <p:spPr>
            <a:xfrm rot="16200000">
              <a:off x="3466440" y="5482440"/>
              <a:ext cx="583920" cy="246240"/>
            </a:xfrm>
            <a:custGeom>
              <a:avLst/>
              <a:gdLst>
                <a:gd name="textAreaLeft" fmla="*/ 91080 w 583920"/>
                <a:gd name="textAreaRight" fmla="*/ 511200 w 583920"/>
                <a:gd name="textAreaTop" fmla="*/ 61560 h 246240"/>
                <a:gd name="textAreaBottom" fmla="*/ 184680 h 24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08160" y="5308560"/>
              <a:ext cx="126900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scree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library c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PC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2806560" y="3492360"/>
            <a:ext cx="3022560" cy="1397160"/>
            <a:chOff x="2806560" y="3492360"/>
            <a:chExt cx="3022560" cy="1397160"/>
          </a:xfrm>
        </p:grpSpPr>
        <p:grpSp>
          <p:nvGrpSpPr>
            <p:cNvPr id="472" name=""/>
            <p:cNvGrpSpPr/>
            <p:nvPr/>
          </p:nvGrpSpPr>
          <p:grpSpPr>
            <a:xfrm>
              <a:off x="3073320" y="4222800"/>
              <a:ext cx="1282680" cy="234720"/>
              <a:chOff x="3073320" y="4222800"/>
              <a:chExt cx="1282680" cy="234720"/>
            </a:xfrm>
          </p:grpSpPr>
          <p:sp>
            <p:nvSpPr>
              <p:cNvPr id="473" name=""/>
              <p:cNvSpPr/>
              <p:nvPr/>
            </p:nvSpPr>
            <p:spPr>
              <a:xfrm>
                <a:off x="3903480" y="4301640"/>
                <a:ext cx="31680" cy="6660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10800000">
                <a:off x="3566880" y="4304880"/>
                <a:ext cx="61920" cy="6480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597120" y="4304880"/>
                <a:ext cx="311040" cy="6624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50000">
                    <a:srgbClr val="fefefe"/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10800000">
                <a:off x="3927240" y="4304880"/>
                <a:ext cx="61920" cy="6480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960720" y="4304880"/>
                <a:ext cx="297000" cy="6624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V="1">
                <a:off x="4263120" y="4321440"/>
                <a:ext cx="69840" cy="10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149720" y="4304880"/>
                <a:ext cx="75960" cy="6624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079880" y="4311360"/>
                <a:ext cx="21960" cy="50400"/>
              </a:xfrm>
              <a:custGeom>
                <a:avLst/>
                <a:gdLst>
                  <a:gd name="textAreaLeft" fmla="*/ 1080 w 21960"/>
                  <a:gd name="textAreaRight" fmla="*/ 20880 w 21960"/>
                  <a:gd name="textAreaTop" fmla="*/ 1080 h 50400"/>
                  <a:gd name="textAreaBottom" fmla="*/ 49320 h 50400"/>
                </a:gdLst>
                <a:ahLst/>
                <a:rect l="textAreaLeft" t="textAreaTop" r="textAreaRight" b="textAreaBottom"/>
                <a:pathLst>
                  <a:path w="21600" h="49123">
                    <a:moveTo>
                      <a:pt x="3600" y="0"/>
                    </a:moveTo>
                    <a:arcTo wR="3600" hR="3600" stAng="16200000" swAng="-5400000"/>
                    <a:lnTo>
                      <a:pt x="0" y="45523"/>
                    </a:lnTo>
                    <a:arcTo wR="3600" hR="3600" stAng="10800000" swAng="-5400000"/>
                    <a:lnTo>
                      <a:pt x="18000" y="4912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9966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233520" y="4304880"/>
                <a:ext cx="311400" cy="6624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357360" y="4304880"/>
                <a:ext cx="77760" cy="6624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247920" y="4304880"/>
                <a:ext cx="31680" cy="66240"/>
              </a:xfrm>
              <a:custGeom>
                <a:avLst/>
                <a:gdLst>
                  <a:gd name="textAreaLeft" fmla="*/ 1440 w 31680"/>
                  <a:gd name="textAreaRight" fmla="*/ 30240 w 31680"/>
                  <a:gd name="textAreaTop" fmla="*/ 1440 h 66240"/>
                  <a:gd name="textAreaBottom" fmla="*/ 64800 h 66240"/>
                </a:gdLst>
                <a:ahLst/>
                <a:rect l="textAreaLeft" t="textAreaTop" r="textAreaRight" b="textAreaBottom"/>
                <a:pathLst>
                  <a:path w="21600" h="44899">
                    <a:moveTo>
                      <a:pt x="3600" y="0"/>
                    </a:moveTo>
                    <a:arcTo wR="3600" hR="3600" stAng="16200000" swAng="-5400000"/>
                    <a:lnTo>
                      <a:pt x="0" y="41299"/>
                    </a:lnTo>
                    <a:arcTo wR="3600" hR="3600" stAng="10800000" swAng="-5400000"/>
                    <a:lnTo>
                      <a:pt x="18000" y="4489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3179160" y="4332600"/>
                <a:ext cx="54360" cy="64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544920" y="4304880"/>
                <a:ext cx="29880" cy="6012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073320" y="4222800"/>
                <a:ext cx="1282680" cy="23472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e3c1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4546440" y="4171680"/>
              <a:ext cx="1282680" cy="235080"/>
              <a:chOff x="4546440" y="4171680"/>
              <a:chExt cx="1282680" cy="235080"/>
            </a:xfrm>
          </p:grpSpPr>
          <p:sp>
            <p:nvSpPr>
              <p:cNvPr id="488" name=""/>
              <p:cNvSpPr/>
              <p:nvPr/>
            </p:nvSpPr>
            <p:spPr>
              <a:xfrm>
                <a:off x="5376600" y="4250880"/>
                <a:ext cx="31680" cy="6696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10800000">
                <a:off x="5040000" y="4253760"/>
                <a:ext cx="61920" cy="6516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070240" y="4254120"/>
                <a:ext cx="311040" cy="6660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50000">
                    <a:srgbClr val="fefefe"/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10800000">
                <a:off x="5400360" y="4253760"/>
                <a:ext cx="61920" cy="6516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433840" y="4254120"/>
                <a:ext cx="297000" cy="6660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5736240" y="4271040"/>
                <a:ext cx="69840" cy="10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622840" y="4254120"/>
                <a:ext cx="75960" cy="666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553000" y="4260600"/>
                <a:ext cx="21960" cy="50760"/>
              </a:xfrm>
              <a:custGeom>
                <a:avLst/>
                <a:gdLst>
                  <a:gd name="textAreaLeft" fmla="*/ 1080 w 21960"/>
                  <a:gd name="textAreaRight" fmla="*/ 20880 w 21960"/>
                  <a:gd name="textAreaTop" fmla="*/ 1080 h 50760"/>
                  <a:gd name="textAreaBottom" fmla="*/ 49680 h 50760"/>
                </a:gdLst>
                <a:ahLst/>
                <a:rect l="textAreaLeft" t="textAreaTop" r="textAreaRight" b="textAreaBottom"/>
                <a:pathLst>
                  <a:path w="21600" h="49471">
                    <a:moveTo>
                      <a:pt x="3600" y="0"/>
                    </a:moveTo>
                    <a:arcTo wR="3600" hR="3600" stAng="16200000" swAng="-5400000"/>
                    <a:lnTo>
                      <a:pt x="0" y="45871"/>
                    </a:lnTo>
                    <a:arcTo wR="3600" hR="3600" stAng="10800000" swAng="-5400000"/>
                    <a:lnTo>
                      <a:pt x="18000" y="494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9966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706640" y="4254120"/>
                <a:ext cx="311400" cy="6660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830480" y="4254120"/>
                <a:ext cx="77760" cy="666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721040" y="4254120"/>
                <a:ext cx="31680" cy="66600"/>
              </a:xfrm>
              <a:custGeom>
                <a:avLst/>
                <a:gdLst>
                  <a:gd name="textAreaLeft" fmla="*/ 1440 w 31680"/>
                  <a:gd name="textAreaRight" fmla="*/ 30240 w 31680"/>
                  <a:gd name="textAreaTop" fmla="*/ 1440 h 66600"/>
                  <a:gd name="textAreaBottom" fmla="*/ 65160 h 66600"/>
                </a:gdLst>
                <a:ahLst/>
                <a:rect l="textAreaLeft" t="textAreaTop" r="textAreaRight" b="textAreaBottom"/>
                <a:pathLst>
                  <a:path w="21600" h="45142">
                    <a:moveTo>
                      <a:pt x="3600" y="0"/>
                    </a:moveTo>
                    <a:arcTo wR="3600" hR="3600" stAng="16200000" swAng="-5400000"/>
                    <a:lnTo>
                      <a:pt x="0" y="41542"/>
                    </a:lnTo>
                    <a:arcTo wR="3600" hR="3600" stAng="10800000" swAng="-5400000"/>
                    <a:lnTo>
                      <a:pt x="18000" y="4514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4652280" y="4281840"/>
                <a:ext cx="54360" cy="68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018040" y="4254120"/>
                <a:ext cx="29880" cy="6048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546440" y="4171680"/>
                <a:ext cx="1282680" cy="23508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e3c1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2806560" y="4628880"/>
              <a:ext cx="1282680" cy="235080"/>
              <a:chOff x="2806560" y="4628880"/>
              <a:chExt cx="1282680" cy="235080"/>
            </a:xfrm>
          </p:grpSpPr>
          <p:sp>
            <p:nvSpPr>
              <p:cNvPr id="503" name=""/>
              <p:cNvSpPr/>
              <p:nvPr/>
            </p:nvSpPr>
            <p:spPr>
              <a:xfrm>
                <a:off x="3636720" y="4708080"/>
                <a:ext cx="31680" cy="6696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10800000">
                <a:off x="3300120" y="4710960"/>
                <a:ext cx="61920" cy="6516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330360" y="4711320"/>
                <a:ext cx="311040" cy="6660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50000">
                    <a:srgbClr val="fefefe"/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10800000">
                <a:off x="3660480" y="4710960"/>
                <a:ext cx="61920" cy="6516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693960" y="4711320"/>
                <a:ext cx="297000" cy="6660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3996360" y="4728240"/>
                <a:ext cx="69840" cy="10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882960" y="4711320"/>
                <a:ext cx="75960" cy="666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813120" y="4717800"/>
                <a:ext cx="21960" cy="50760"/>
              </a:xfrm>
              <a:custGeom>
                <a:avLst/>
                <a:gdLst>
                  <a:gd name="textAreaLeft" fmla="*/ 1080 w 21960"/>
                  <a:gd name="textAreaRight" fmla="*/ 20880 w 21960"/>
                  <a:gd name="textAreaTop" fmla="*/ 1080 h 50760"/>
                  <a:gd name="textAreaBottom" fmla="*/ 49680 h 50760"/>
                </a:gdLst>
                <a:ahLst/>
                <a:rect l="textAreaLeft" t="textAreaTop" r="textAreaRight" b="textAreaBottom"/>
                <a:pathLst>
                  <a:path w="21600" h="49471">
                    <a:moveTo>
                      <a:pt x="3600" y="0"/>
                    </a:moveTo>
                    <a:arcTo wR="3600" hR="3600" stAng="16200000" swAng="-5400000"/>
                    <a:lnTo>
                      <a:pt x="0" y="45871"/>
                    </a:lnTo>
                    <a:arcTo wR="3600" hR="3600" stAng="10800000" swAng="-5400000"/>
                    <a:lnTo>
                      <a:pt x="18000" y="494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9966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966760" y="4711320"/>
                <a:ext cx="311400" cy="6660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090600" y="4711320"/>
                <a:ext cx="77760" cy="666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981160" y="4711320"/>
                <a:ext cx="31680" cy="66600"/>
              </a:xfrm>
              <a:custGeom>
                <a:avLst/>
                <a:gdLst>
                  <a:gd name="textAreaLeft" fmla="*/ 1440 w 31680"/>
                  <a:gd name="textAreaRight" fmla="*/ 30240 w 31680"/>
                  <a:gd name="textAreaTop" fmla="*/ 1440 h 66600"/>
                  <a:gd name="textAreaBottom" fmla="*/ 65160 h 66600"/>
                </a:gdLst>
                <a:ahLst/>
                <a:rect l="textAreaLeft" t="textAreaTop" r="textAreaRight" b="textAreaBottom"/>
                <a:pathLst>
                  <a:path w="21600" h="45142">
                    <a:moveTo>
                      <a:pt x="3600" y="0"/>
                    </a:moveTo>
                    <a:arcTo wR="3600" hR="3600" stAng="16200000" swAng="-5400000"/>
                    <a:lnTo>
                      <a:pt x="0" y="41542"/>
                    </a:lnTo>
                    <a:arcTo wR="3600" hR="3600" stAng="10800000" swAng="-5400000"/>
                    <a:lnTo>
                      <a:pt x="18000" y="4514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2912400" y="4739040"/>
                <a:ext cx="54360" cy="68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278160" y="4711320"/>
                <a:ext cx="29880" cy="6048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806560" y="4628880"/>
                <a:ext cx="1282680" cy="23508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e3c1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4267080" y="4654440"/>
              <a:ext cx="1282680" cy="235080"/>
              <a:chOff x="4267080" y="4654440"/>
              <a:chExt cx="1282680" cy="235080"/>
            </a:xfrm>
          </p:grpSpPr>
          <p:sp>
            <p:nvSpPr>
              <p:cNvPr id="518" name=""/>
              <p:cNvSpPr/>
              <p:nvPr/>
            </p:nvSpPr>
            <p:spPr>
              <a:xfrm>
                <a:off x="5097240" y="4733640"/>
                <a:ext cx="31680" cy="6696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10800000">
                <a:off x="4760640" y="4736520"/>
                <a:ext cx="61920" cy="6516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790880" y="4736880"/>
                <a:ext cx="311040" cy="6660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50000">
                    <a:srgbClr val="fefefe"/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10800000">
                <a:off x="5121000" y="4736520"/>
                <a:ext cx="61920" cy="6516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154480" y="4736880"/>
                <a:ext cx="297000" cy="6660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5456880" y="4753800"/>
                <a:ext cx="69840" cy="10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343480" y="4736880"/>
                <a:ext cx="75960" cy="666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273640" y="4743360"/>
                <a:ext cx="21960" cy="50760"/>
              </a:xfrm>
              <a:custGeom>
                <a:avLst/>
                <a:gdLst>
                  <a:gd name="textAreaLeft" fmla="*/ 1080 w 21960"/>
                  <a:gd name="textAreaRight" fmla="*/ 20880 w 21960"/>
                  <a:gd name="textAreaTop" fmla="*/ 1080 h 50760"/>
                  <a:gd name="textAreaBottom" fmla="*/ 49680 h 50760"/>
                </a:gdLst>
                <a:ahLst/>
                <a:rect l="textAreaLeft" t="textAreaTop" r="textAreaRight" b="textAreaBottom"/>
                <a:pathLst>
                  <a:path w="21600" h="49471">
                    <a:moveTo>
                      <a:pt x="3600" y="0"/>
                    </a:moveTo>
                    <a:arcTo wR="3600" hR="3600" stAng="16200000" swAng="-5400000"/>
                    <a:lnTo>
                      <a:pt x="0" y="45871"/>
                    </a:lnTo>
                    <a:arcTo wR="3600" hR="3600" stAng="10800000" swAng="-5400000"/>
                    <a:lnTo>
                      <a:pt x="18000" y="494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9966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427280" y="4736880"/>
                <a:ext cx="311400" cy="6660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551120" y="4736880"/>
                <a:ext cx="77760" cy="666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441680" y="4736880"/>
                <a:ext cx="31680" cy="66600"/>
              </a:xfrm>
              <a:custGeom>
                <a:avLst/>
                <a:gdLst>
                  <a:gd name="textAreaLeft" fmla="*/ 1440 w 31680"/>
                  <a:gd name="textAreaRight" fmla="*/ 30240 w 31680"/>
                  <a:gd name="textAreaTop" fmla="*/ 1440 h 66600"/>
                  <a:gd name="textAreaBottom" fmla="*/ 65160 h 66600"/>
                </a:gdLst>
                <a:ahLst/>
                <a:rect l="textAreaLeft" t="textAreaTop" r="textAreaRight" b="textAreaBottom"/>
                <a:pathLst>
                  <a:path w="21600" h="45142">
                    <a:moveTo>
                      <a:pt x="3600" y="0"/>
                    </a:moveTo>
                    <a:arcTo wR="3600" hR="3600" stAng="16200000" swAng="-5400000"/>
                    <a:lnTo>
                      <a:pt x="0" y="41542"/>
                    </a:lnTo>
                    <a:arcTo wR="3600" hR="3600" stAng="10800000" swAng="-5400000"/>
                    <a:lnTo>
                      <a:pt x="18000" y="4514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>
                <a:off x="4372920" y="4764600"/>
                <a:ext cx="54360" cy="68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738680" y="4736880"/>
                <a:ext cx="29880" cy="6048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267080" y="4654440"/>
                <a:ext cx="1282680" cy="23508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e3c1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3848040" y="3778200"/>
              <a:ext cx="1282680" cy="234720"/>
              <a:chOff x="3848040" y="3778200"/>
              <a:chExt cx="1282680" cy="234720"/>
            </a:xfrm>
          </p:grpSpPr>
          <p:sp>
            <p:nvSpPr>
              <p:cNvPr id="533" name=""/>
              <p:cNvSpPr/>
              <p:nvPr/>
            </p:nvSpPr>
            <p:spPr>
              <a:xfrm>
                <a:off x="4678200" y="3857040"/>
                <a:ext cx="31680" cy="6660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0800000">
                <a:off x="4341600" y="3860280"/>
                <a:ext cx="61920" cy="6480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371840" y="3860280"/>
                <a:ext cx="311040" cy="6624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50000">
                    <a:srgbClr val="fefefe"/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10800000">
                <a:off x="4701960" y="3860280"/>
                <a:ext cx="61920" cy="6480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735440" y="3860280"/>
                <a:ext cx="297000" cy="6624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5037840" y="3876840"/>
                <a:ext cx="69840" cy="10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924440" y="3860280"/>
                <a:ext cx="75960" cy="6624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854600" y="3866760"/>
                <a:ext cx="21960" cy="50400"/>
              </a:xfrm>
              <a:custGeom>
                <a:avLst/>
                <a:gdLst>
                  <a:gd name="textAreaLeft" fmla="*/ 1080 w 21960"/>
                  <a:gd name="textAreaRight" fmla="*/ 20880 w 21960"/>
                  <a:gd name="textAreaTop" fmla="*/ 1080 h 50400"/>
                  <a:gd name="textAreaBottom" fmla="*/ 49320 h 50400"/>
                </a:gdLst>
                <a:ahLst/>
                <a:rect l="textAreaLeft" t="textAreaTop" r="textAreaRight" b="textAreaBottom"/>
                <a:pathLst>
                  <a:path w="21600" h="49123">
                    <a:moveTo>
                      <a:pt x="3600" y="0"/>
                    </a:moveTo>
                    <a:arcTo wR="3600" hR="3600" stAng="16200000" swAng="-5400000"/>
                    <a:lnTo>
                      <a:pt x="0" y="45523"/>
                    </a:lnTo>
                    <a:arcTo wR="3600" hR="3600" stAng="10800000" swAng="-5400000"/>
                    <a:lnTo>
                      <a:pt x="18000" y="4912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9966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008240" y="3860280"/>
                <a:ext cx="311400" cy="6624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132080" y="3860280"/>
                <a:ext cx="77760" cy="6624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022640" y="3860280"/>
                <a:ext cx="31680" cy="66240"/>
              </a:xfrm>
              <a:custGeom>
                <a:avLst/>
                <a:gdLst>
                  <a:gd name="textAreaLeft" fmla="*/ 1440 w 31680"/>
                  <a:gd name="textAreaRight" fmla="*/ 30240 w 31680"/>
                  <a:gd name="textAreaTop" fmla="*/ 1440 h 66240"/>
                  <a:gd name="textAreaBottom" fmla="*/ 64800 h 66240"/>
                </a:gdLst>
                <a:ahLst/>
                <a:rect l="textAreaLeft" t="textAreaTop" r="textAreaRight" b="textAreaBottom"/>
                <a:pathLst>
                  <a:path w="21600" h="44899">
                    <a:moveTo>
                      <a:pt x="3600" y="0"/>
                    </a:moveTo>
                    <a:arcTo wR="3600" hR="3600" stAng="16200000" swAng="-5400000"/>
                    <a:lnTo>
                      <a:pt x="0" y="41299"/>
                    </a:lnTo>
                    <a:arcTo wR="3600" hR="3600" stAng="10800000" swAng="-5400000"/>
                    <a:lnTo>
                      <a:pt x="18000" y="4489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>
                <a:off x="3953880" y="3888000"/>
                <a:ext cx="54360" cy="64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319640" y="3860280"/>
                <a:ext cx="29880" cy="6012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848040" y="3778200"/>
                <a:ext cx="1282680" cy="23472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e3c1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4068360" y="34923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+,B-,C+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17880" y="39114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-,B+,C+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74120" y="3962160"/>
              <a:ext cx="9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+,D+,G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120840" y="440676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H+,F+,T-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474800" y="4406760"/>
              <a:ext cx="98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F+,T-,Q+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5938560" y="2813040"/>
            <a:ext cx="3484800" cy="1693800"/>
            <a:chOff x="5938560" y="2813040"/>
            <a:chExt cx="3484800" cy="1693800"/>
          </a:xfrm>
        </p:grpSpPr>
        <p:sp>
          <p:nvSpPr>
            <p:cNvPr id="553" name=""/>
            <p:cNvSpPr/>
            <p:nvPr/>
          </p:nvSpPr>
          <p:spPr>
            <a:xfrm rot="18049800">
              <a:off x="5781960" y="3950640"/>
              <a:ext cx="968400" cy="185760"/>
            </a:xfrm>
            <a:custGeom>
              <a:avLst/>
              <a:gdLst>
                <a:gd name="textAreaLeft" fmla="*/ 151200 w 968400"/>
                <a:gd name="textAreaRight" fmla="*/ 847440 w 968400"/>
                <a:gd name="textAreaTop" fmla="*/ 46440 h 185760"/>
                <a:gd name="textAreaBottom" fmla="*/ 1393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8122680" y="2844720"/>
              <a:ext cx="752400" cy="498240"/>
              <a:chOff x="8122680" y="2844720"/>
              <a:chExt cx="752400" cy="498240"/>
            </a:xfrm>
          </p:grpSpPr>
          <p:sp>
            <p:nvSpPr>
              <p:cNvPr id="555" name=""/>
              <p:cNvSpPr/>
              <p:nvPr/>
            </p:nvSpPr>
            <p:spPr>
              <a:xfrm>
                <a:off x="8122680" y="284472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H  F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552520" y="2965320"/>
                <a:ext cx="322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7" name=""/>
              <p:cNvGrpSpPr/>
              <p:nvPr/>
            </p:nvGrpSpPr>
            <p:grpSpPr>
              <a:xfrm>
                <a:off x="8163000" y="3130560"/>
                <a:ext cx="450720" cy="60120"/>
                <a:chOff x="8163000" y="3130560"/>
                <a:chExt cx="450720" cy="6012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8163000" y="3130560"/>
                  <a:ext cx="450720" cy="60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ccff"/>
                    </a:gs>
                    <a:gs pos="50000">
                      <a:srgbClr val="fefefe"/>
                    </a:gs>
                    <a:gs pos="100000">
                      <a:srgbClr val="33ccff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8267760" y="3130560"/>
                  <a:ext cx="0" cy="504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8470800" y="3130560"/>
                  <a:ext cx="0" cy="504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8353440" y="3282840"/>
                <a:ext cx="450720" cy="60120"/>
                <a:chOff x="8353440" y="3282840"/>
                <a:chExt cx="450720" cy="6012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8353440" y="3282840"/>
                  <a:ext cx="450720" cy="60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ccff"/>
                    </a:gs>
                    <a:gs pos="50000">
                      <a:srgbClr val="fefefe"/>
                    </a:gs>
                    <a:gs pos="100000">
                      <a:srgbClr val="33ccff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8458200" y="3282840"/>
                  <a:ext cx="0" cy="504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8661240" y="3282840"/>
                  <a:ext cx="0" cy="504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5" name=""/>
            <p:cNvGrpSpPr/>
            <p:nvPr/>
          </p:nvGrpSpPr>
          <p:grpSpPr>
            <a:xfrm>
              <a:off x="6858360" y="2813040"/>
              <a:ext cx="1214280" cy="612720"/>
              <a:chOff x="6858360" y="2813040"/>
              <a:chExt cx="1214280" cy="612720"/>
            </a:xfrm>
          </p:grpSpPr>
          <p:sp>
            <p:nvSpPr>
              <p:cNvPr id="566" name=""/>
              <p:cNvSpPr/>
              <p:nvPr/>
            </p:nvSpPr>
            <p:spPr>
              <a:xfrm>
                <a:off x="6858360" y="2813040"/>
                <a:ext cx="65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A*  C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08360" y="2933640"/>
                <a:ext cx="398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B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486560" y="3066840"/>
                <a:ext cx="58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D G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9" name=""/>
              <p:cNvGrpSpPr/>
              <p:nvPr/>
            </p:nvGrpSpPr>
            <p:grpSpPr>
              <a:xfrm>
                <a:off x="6905880" y="3105000"/>
                <a:ext cx="450720" cy="60480"/>
                <a:chOff x="6905880" y="3105000"/>
                <a:chExt cx="450720" cy="6048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6905880" y="3105000"/>
                  <a:ext cx="450720" cy="60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ccff"/>
                    </a:gs>
                    <a:gs pos="50000">
                      <a:srgbClr val="fefefe"/>
                    </a:gs>
                    <a:gs pos="100000">
                      <a:srgbClr val="33ccff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010640" y="3105000"/>
                  <a:ext cx="0" cy="507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7213680" y="3105000"/>
                  <a:ext cx="0" cy="507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3" name=""/>
              <p:cNvSpPr/>
              <p:nvPr/>
            </p:nvSpPr>
            <p:spPr>
              <a:xfrm>
                <a:off x="7102440" y="3213000"/>
                <a:ext cx="451080" cy="6048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50000">
                    <a:srgbClr val="fefefe"/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207200" y="3213000"/>
                <a:ext cx="0" cy="50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467840" y="3213000"/>
                <a:ext cx="0" cy="50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419960" y="3365280"/>
                <a:ext cx="451080" cy="6048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50000">
                    <a:srgbClr val="fefefe"/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473960" y="3365280"/>
                <a:ext cx="0" cy="50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632720" y="3365280"/>
                <a:ext cx="0" cy="50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797960" y="3371760"/>
                <a:ext cx="0" cy="50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>
              <a:off x="6702480" y="3413160"/>
              <a:ext cx="244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mappa fisica: contigu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621840" y="2944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856360" y="2906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6707520" y="3743280"/>
              <a:ext cx="2715840" cy="349920"/>
              <a:chOff x="6707520" y="3743280"/>
              <a:chExt cx="2715840" cy="349920"/>
            </a:xfrm>
          </p:grpSpPr>
          <p:sp>
            <p:nvSpPr>
              <p:cNvPr id="584" name=""/>
              <p:cNvSpPr/>
              <p:nvPr/>
            </p:nvSpPr>
            <p:spPr>
              <a:xfrm>
                <a:off x="6781680" y="3809880"/>
                <a:ext cx="11685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255160" y="3797280"/>
                <a:ext cx="11682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707520" y="3755880"/>
                <a:ext cx="1148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A C  B D 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286840" y="3743280"/>
                <a:ext cx="822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H  F  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8" name=""/>
          <p:cNvGrpSpPr/>
          <p:nvPr/>
        </p:nvGrpSpPr>
        <p:grpSpPr>
          <a:xfrm>
            <a:off x="6018840" y="4416480"/>
            <a:ext cx="3623760" cy="824040"/>
            <a:chOff x="6018840" y="4416480"/>
            <a:chExt cx="3623760" cy="824040"/>
          </a:xfrm>
        </p:grpSpPr>
        <p:sp>
          <p:nvSpPr>
            <p:cNvPr id="589" name=""/>
            <p:cNvSpPr/>
            <p:nvPr/>
          </p:nvSpPr>
          <p:spPr>
            <a:xfrm rot="49800">
              <a:off x="6019920" y="4483080"/>
              <a:ext cx="711000" cy="177840"/>
            </a:xfrm>
            <a:custGeom>
              <a:avLst/>
              <a:gdLst>
                <a:gd name="textAreaLeft" fmla="*/ 110880 w 711000"/>
                <a:gd name="textAreaRight" fmla="*/ 622440 w 711000"/>
                <a:gd name="textAreaTop" fmla="*/ 44280 h 177840"/>
                <a:gd name="textAreaBottom" fmla="*/ 133560 h 177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04000" y="4416480"/>
              <a:ext cx="2838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mappa genetica: A, G e F sono in linkage il loro ordine e’ F-A-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6614640" y="5122440"/>
            <a:ext cx="3344400" cy="1627200"/>
            <a:chOff x="6614640" y="5122440"/>
            <a:chExt cx="3344400" cy="1627200"/>
          </a:xfrm>
        </p:grpSpPr>
        <p:sp>
          <p:nvSpPr>
            <p:cNvPr id="592" name=""/>
            <p:cNvSpPr/>
            <p:nvPr/>
          </p:nvSpPr>
          <p:spPr>
            <a:xfrm rot="5466600">
              <a:off x="8508960" y="5270400"/>
              <a:ext cx="533160" cy="241200"/>
            </a:xfrm>
            <a:custGeom>
              <a:avLst/>
              <a:gdLst>
                <a:gd name="textAreaLeft" fmla="*/ 83160 w 533160"/>
                <a:gd name="textAreaRight" fmla="*/ 466560 w 533160"/>
                <a:gd name="textAreaTop" fmla="*/ 60120 h 241200"/>
                <a:gd name="textAreaBottom" fmla="*/ 181080 h 24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267760" y="5829480"/>
              <a:ext cx="1168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997680" y="5829480"/>
              <a:ext cx="1168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193600" y="5775480"/>
              <a:ext cx="114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 C  B D 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93080" y="5775480"/>
              <a:ext cx="82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H  F  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14640" y="6168960"/>
              <a:ext cx="334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I due contigui sono sullo stes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romosoma e via cosi.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La Fibrosi Cistica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599" name=""/>
          <p:cNvSpPr/>
          <p:nvPr/>
        </p:nvSpPr>
        <p:spPr>
          <a:xfrm>
            <a:off x="101520" y="1073160"/>
            <a:ext cx="97408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89: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l gruppo di Collins ad Ann Harbour (Canada) grazie al positional cloning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 linkage disequilibrium, clona e caratterizza il gene la cui mutazione e’ responsabile della Fibrosi Cist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0" y="2684520"/>
            <a:ext cx="9721800" cy="1008720"/>
            <a:chOff x="0" y="2684520"/>
            <a:chExt cx="9721800" cy="1008720"/>
          </a:xfrm>
        </p:grpSpPr>
        <p:sp>
          <p:nvSpPr>
            <p:cNvPr id="601" name=""/>
            <p:cNvSpPr/>
            <p:nvPr/>
          </p:nvSpPr>
          <p:spPr>
            <a:xfrm>
              <a:off x="1079640" y="2684520"/>
              <a:ext cx="8642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Mappa sul cromosoma 7, e’ lungo ~ 250 kb, e’ composto di 27 esoni, produce un trascitto di 6.5 kb che corrisponde ad una proteina di 170 k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0" y="3097080"/>
              <a:ext cx="198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SzPct val="300000"/>
                <a:buFont typeface="Wingdings" charset="2"/>
                <a:buChar char="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725400" y="3941280"/>
            <a:ext cx="8662320" cy="2728800"/>
            <a:chOff x="725400" y="3941280"/>
            <a:chExt cx="8662320" cy="2728800"/>
          </a:xfrm>
        </p:grpSpPr>
        <p:grpSp>
          <p:nvGrpSpPr>
            <p:cNvPr id="604" name=""/>
            <p:cNvGrpSpPr/>
            <p:nvPr/>
          </p:nvGrpSpPr>
          <p:grpSpPr>
            <a:xfrm>
              <a:off x="1295280" y="4228920"/>
              <a:ext cx="1660680" cy="854280"/>
              <a:chOff x="1295280" y="4228920"/>
              <a:chExt cx="1660680" cy="854280"/>
            </a:xfrm>
          </p:grpSpPr>
          <p:sp>
            <p:nvSpPr>
              <p:cNvPr id="605" name=""/>
              <p:cNvSpPr/>
              <p:nvPr/>
            </p:nvSpPr>
            <p:spPr>
              <a:xfrm rot="5511600">
                <a:off x="1983240" y="4372200"/>
                <a:ext cx="213480" cy="139680"/>
              </a:xfrm>
              <a:custGeom>
                <a:avLst/>
                <a:gdLst>
                  <a:gd name="textAreaLeft" fmla="*/ 136440 w 213480"/>
                  <a:gd name="textAreaRight" fmla="*/ 213840 w 213480"/>
                  <a:gd name="textAreaTop" fmla="*/ 3600 h 139680"/>
                  <a:gd name="textAreaBottom" fmla="*/ 136080 h 13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5511600">
                <a:off x="2157480" y="4372200"/>
                <a:ext cx="213480" cy="139680"/>
              </a:xfrm>
              <a:custGeom>
                <a:avLst/>
                <a:gdLst>
                  <a:gd name="textAreaLeft" fmla="*/ 136440 w 213480"/>
                  <a:gd name="textAreaRight" fmla="*/ 213840 w 213480"/>
                  <a:gd name="textAreaTop" fmla="*/ 3600 h 139680"/>
                  <a:gd name="textAreaBottom" fmla="*/ 136080 h 13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7" name=""/>
              <p:cNvGrpSpPr/>
              <p:nvPr/>
            </p:nvGrpSpPr>
            <p:grpSpPr>
              <a:xfrm>
                <a:off x="1295280" y="4228920"/>
                <a:ext cx="1660680" cy="854280"/>
                <a:chOff x="1295280" y="4228920"/>
                <a:chExt cx="1660680" cy="854280"/>
              </a:xfrm>
            </p:grpSpPr>
            <p:grpSp>
              <p:nvGrpSpPr>
                <p:cNvPr id="608" name=""/>
                <p:cNvGrpSpPr/>
                <p:nvPr/>
              </p:nvGrpSpPr>
              <p:grpSpPr>
                <a:xfrm>
                  <a:off x="1295280" y="4976280"/>
                  <a:ext cx="1660320" cy="106920"/>
                  <a:chOff x="1295280" y="4976280"/>
                  <a:chExt cx="1660320" cy="106920"/>
                </a:xfrm>
              </p:grpSpPr>
              <p:sp>
                <p:nvSpPr>
                  <p:cNvPr id="609" name=""/>
                  <p:cNvSpPr/>
                  <p:nvPr/>
                </p:nvSpPr>
                <p:spPr>
                  <a:xfrm>
                    <a:off x="1295280" y="4976280"/>
                    <a:ext cx="207360" cy="106920"/>
                  </a:xfrm>
                  <a:prstGeom prst="ellipse">
                    <a:avLst/>
                  </a:prstGeom>
                  <a:solidFill>
                    <a:srgbClr val="cce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1502640" y="4976280"/>
                    <a:ext cx="207360" cy="106920"/>
                  </a:xfrm>
                  <a:prstGeom prst="ellipse">
                    <a:avLst/>
                  </a:prstGeom>
                  <a:solidFill>
                    <a:srgbClr val="cce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1710360" y="4976280"/>
                    <a:ext cx="207360" cy="106920"/>
                  </a:xfrm>
                  <a:prstGeom prst="ellipse">
                    <a:avLst/>
                  </a:prstGeom>
                  <a:solidFill>
                    <a:srgbClr val="cce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1917720" y="4976280"/>
                    <a:ext cx="207360" cy="106920"/>
                  </a:xfrm>
                  <a:prstGeom prst="ellipse">
                    <a:avLst/>
                  </a:prstGeom>
                  <a:solidFill>
                    <a:srgbClr val="cce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2125440" y="4976280"/>
                    <a:ext cx="207360" cy="106920"/>
                  </a:xfrm>
                  <a:prstGeom prst="ellipse">
                    <a:avLst/>
                  </a:prstGeom>
                  <a:solidFill>
                    <a:srgbClr val="cce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2333160" y="4976280"/>
                    <a:ext cx="207360" cy="106920"/>
                  </a:xfrm>
                  <a:prstGeom prst="ellipse">
                    <a:avLst/>
                  </a:prstGeom>
                  <a:solidFill>
                    <a:srgbClr val="cce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2540520" y="4976280"/>
                    <a:ext cx="207360" cy="106920"/>
                  </a:xfrm>
                  <a:prstGeom prst="ellipse">
                    <a:avLst/>
                  </a:prstGeom>
                  <a:solidFill>
                    <a:srgbClr val="cce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2748240" y="4976280"/>
                    <a:ext cx="207360" cy="106920"/>
                  </a:xfrm>
                  <a:prstGeom prst="ellipse">
                    <a:avLst/>
                  </a:prstGeom>
                  <a:solidFill>
                    <a:srgbClr val="cce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7" name=""/>
                <p:cNvSpPr/>
                <p:nvPr/>
              </p:nvSpPr>
              <p:spPr>
                <a:xfrm>
                  <a:off x="1364040" y="4228920"/>
                  <a:ext cx="199080" cy="124560"/>
                </a:xfrm>
                <a:prstGeom prst="ellipse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1563120" y="4228920"/>
                  <a:ext cx="198720" cy="124560"/>
                </a:xfrm>
                <a:prstGeom prst="ellipse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1761840" y="4228920"/>
                  <a:ext cx="199080" cy="124560"/>
                </a:xfrm>
                <a:prstGeom prst="ellipse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960920" y="4228920"/>
                  <a:ext cx="199080" cy="124560"/>
                </a:xfrm>
                <a:prstGeom prst="ellipse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2160000" y="4228920"/>
                  <a:ext cx="198720" cy="124560"/>
                </a:xfrm>
                <a:prstGeom prst="ellipse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358720" y="4228920"/>
                  <a:ext cx="199080" cy="124560"/>
                </a:xfrm>
                <a:prstGeom prst="ellipse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2557800" y="4228920"/>
                  <a:ext cx="198720" cy="124560"/>
                </a:xfrm>
                <a:prstGeom prst="ellipse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2756880" y="4228920"/>
                  <a:ext cx="199080" cy="124560"/>
                </a:xfrm>
                <a:prstGeom prst="ellipse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5" name=""/>
              <p:cNvSpPr/>
              <p:nvPr/>
            </p:nvSpPr>
            <p:spPr>
              <a:xfrm rot="5511600">
                <a:off x="1339560" y="4410720"/>
                <a:ext cx="249120" cy="133920"/>
              </a:xfrm>
              <a:custGeom>
                <a:avLst/>
                <a:gdLst>
                  <a:gd name="textAreaLeft" fmla="*/ 159120 w 249120"/>
                  <a:gd name="textAreaRight" fmla="*/ 249480 w 249120"/>
                  <a:gd name="textAreaTop" fmla="*/ 3240 h 133920"/>
                  <a:gd name="textAreaBottom" fmla="*/ 130680 h 13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5511600">
                <a:off x="1548360" y="4410720"/>
                <a:ext cx="249120" cy="133920"/>
              </a:xfrm>
              <a:custGeom>
                <a:avLst/>
                <a:gdLst>
                  <a:gd name="textAreaLeft" fmla="*/ 159120 w 249120"/>
                  <a:gd name="textAreaRight" fmla="*/ 249480 w 249120"/>
                  <a:gd name="textAreaTop" fmla="*/ 3240 h 133920"/>
                  <a:gd name="textAreaBottom" fmla="*/ 130680 h 13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5511600">
                <a:off x="1725840" y="4410720"/>
                <a:ext cx="249120" cy="133920"/>
              </a:xfrm>
              <a:custGeom>
                <a:avLst/>
                <a:gdLst>
                  <a:gd name="textAreaLeft" fmla="*/ 159120 w 249120"/>
                  <a:gd name="textAreaRight" fmla="*/ 249480 w 249120"/>
                  <a:gd name="textAreaTop" fmla="*/ 3240 h 133920"/>
                  <a:gd name="textAreaBottom" fmla="*/ 130680 h 13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5511600">
                <a:off x="2311200" y="4410720"/>
                <a:ext cx="249120" cy="133920"/>
              </a:xfrm>
              <a:custGeom>
                <a:avLst/>
                <a:gdLst>
                  <a:gd name="textAreaLeft" fmla="*/ 159120 w 249120"/>
                  <a:gd name="textAreaRight" fmla="*/ 249480 w 249120"/>
                  <a:gd name="textAreaTop" fmla="*/ 3240 h 133920"/>
                  <a:gd name="textAreaBottom" fmla="*/ 130680 h 13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5511600">
                <a:off x="2488320" y="4410720"/>
                <a:ext cx="249120" cy="133920"/>
              </a:xfrm>
              <a:custGeom>
                <a:avLst/>
                <a:gdLst>
                  <a:gd name="textAreaLeft" fmla="*/ 159120 w 249120"/>
                  <a:gd name="textAreaRight" fmla="*/ 249480 w 249120"/>
                  <a:gd name="textAreaTop" fmla="*/ 3240 h 133920"/>
                  <a:gd name="textAreaBottom" fmla="*/ 130680 h 13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5511600">
                <a:off x="2697480" y="4410720"/>
                <a:ext cx="249120" cy="133920"/>
              </a:xfrm>
              <a:custGeom>
                <a:avLst/>
                <a:gdLst>
                  <a:gd name="textAreaLeft" fmla="*/ 159120 w 249120"/>
                  <a:gd name="textAreaRight" fmla="*/ 249480 w 249120"/>
                  <a:gd name="textAreaTop" fmla="*/ 3240 h 133920"/>
                  <a:gd name="textAreaBottom" fmla="*/ 130680 h 13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1" name=""/>
              <p:cNvGrpSpPr/>
              <p:nvPr/>
            </p:nvGrpSpPr>
            <p:grpSpPr>
              <a:xfrm>
                <a:off x="1364040" y="4655880"/>
                <a:ext cx="1533240" cy="319680"/>
                <a:chOff x="1364040" y="4655880"/>
                <a:chExt cx="1533240" cy="319680"/>
              </a:xfrm>
            </p:grpSpPr>
            <p:sp>
              <p:nvSpPr>
                <p:cNvPr id="632" name=""/>
                <p:cNvSpPr/>
                <p:nvPr/>
              </p:nvSpPr>
              <p:spPr>
                <a:xfrm rot="16200000">
                  <a:off x="1272600" y="4746960"/>
                  <a:ext cx="319680" cy="137160"/>
                </a:xfrm>
                <a:custGeom>
                  <a:avLst/>
                  <a:gdLst>
                    <a:gd name="textAreaLeft" fmla="*/ 204120 w 319680"/>
                    <a:gd name="textAreaRight" fmla="*/ 320040 w 319680"/>
                    <a:gd name="textAreaTop" fmla="*/ 3240 h 137160"/>
                    <a:gd name="textAreaBottom" fmla="*/ 133920 h 137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rot="16200000">
                  <a:off x="1486800" y="4746960"/>
                  <a:ext cx="319680" cy="137520"/>
                </a:xfrm>
                <a:custGeom>
                  <a:avLst/>
                  <a:gdLst>
                    <a:gd name="textAreaLeft" fmla="*/ 204120 w 319680"/>
                    <a:gd name="textAreaRight" fmla="*/ 320040 w 319680"/>
                    <a:gd name="textAreaTop" fmla="*/ 3240 h 137520"/>
                    <a:gd name="textAreaBottom" fmla="*/ 134280 h 13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rot="16200000">
                  <a:off x="1670040" y="4746960"/>
                  <a:ext cx="319680" cy="137520"/>
                </a:xfrm>
                <a:custGeom>
                  <a:avLst/>
                  <a:gdLst>
                    <a:gd name="textAreaLeft" fmla="*/ 204120 w 319680"/>
                    <a:gd name="textAreaRight" fmla="*/ 320040 w 319680"/>
                    <a:gd name="textAreaTop" fmla="*/ 3240 h 137520"/>
                    <a:gd name="textAreaBottom" fmla="*/ 134280 h 13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1884600" y="4746960"/>
                  <a:ext cx="319680" cy="137520"/>
                </a:xfrm>
                <a:custGeom>
                  <a:avLst/>
                  <a:gdLst>
                    <a:gd name="textAreaLeft" fmla="*/ 204120 w 319680"/>
                    <a:gd name="textAreaRight" fmla="*/ 320040 w 319680"/>
                    <a:gd name="textAreaTop" fmla="*/ 3240 h 137520"/>
                    <a:gd name="textAreaBottom" fmla="*/ 134280 h 13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rot="16200000">
                  <a:off x="2056320" y="4746960"/>
                  <a:ext cx="319680" cy="137160"/>
                </a:xfrm>
                <a:custGeom>
                  <a:avLst/>
                  <a:gdLst>
                    <a:gd name="textAreaLeft" fmla="*/ 204120 w 319680"/>
                    <a:gd name="textAreaRight" fmla="*/ 320040 w 319680"/>
                    <a:gd name="textAreaTop" fmla="*/ 3240 h 137160"/>
                    <a:gd name="textAreaBottom" fmla="*/ 133920 h 137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 rot="16200000">
                  <a:off x="2270880" y="4746960"/>
                  <a:ext cx="319680" cy="137160"/>
                </a:xfrm>
                <a:custGeom>
                  <a:avLst/>
                  <a:gdLst>
                    <a:gd name="textAreaLeft" fmla="*/ 204120 w 319680"/>
                    <a:gd name="textAreaRight" fmla="*/ 320040 w 319680"/>
                    <a:gd name="textAreaTop" fmla="*/ 3240 h 137160"/>
                    <a:gd name="textAreaBottom" fmla="*/ 133920 h 137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rot="16200000">
                  <a:off x="2454120" y="4746960"/>
                  <a:ext cx="319680" cy="137520"/>
                </a:xfrm>
                <a:custGeom>
                  <a:avLst/>
                  <a:gdLst>
                    <a:gd name="textAreaLeft" fmla="*/ 204120 w 319680"/>
                    <a:gd name="textAreaRight" fmla="*/ 320040 w 319680"/>
                    <a:gd name="textAreaTop" fmla="*/ 3240 h 137520"/>
                    <a:gd name="textAreaBottom" fmla="*/ 134280 h 13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 rot="16200000">
                  <a:off x="2668680" y="4746960"/>
                  <a:ext cx="319680" cy="137520"/>
                </a:xfrm>
                <a:custGeom>
                  <a:avLst/>
                  <a:gdLst>
                    <a:gd name="textAreaLeft" fmla="*/ 204120 w 319680"/>
                    <a:gd name="textAreaRight" fmla="*/ 320040 w 319680"/>
                    <a:gd name="textAreaTop" fmla="*/ 3240 h 137520"/>
                    <a:gd name="textAreaBottom" fmla="*/ 134280 h 13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0" name=""/>
            <p:cNvGrpSpPr/>
            <p:nvPr/>
          </p:nvGrpSpPr>
          <p:grpSpPr>
            <a:xfrm>
              <a:off x="2955960" y="4176000"/>
              <a:ext cx="1866960" cy="907200"/>
              <a:chOff x="2955960" y="4176000"/>
              <a:chExt cx="1866960" cy="907200"/>
            </a:xfrm>
          </p:grpSpPr>
          <p:sp>
            <p:nvSpPr>
              <p:cNvPr id="641" name=""/>
              <p:cNvSpPr/>
              <p:nvPr/>
            </p:nvSpPr>
            <p:spPr>
              <a:xfrm>
                <a:off x="2955960" y="4176000"/>
                <a:ext cx="273600" cy="907200"/>
              </a:xfrm>
              <a:prstGeom prst="can">
                <a:avLst>
                  <a:gd name="adj" fmla="val 1225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2c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251160" y="4176000"/>
                <a:ext cx="273600" cy="907200"/>
              </a:xfrm>
              <a:prstGeom prst="can">
                <a:avLst>
                  <a:gd name="adj" fmla="val 1421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2c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615480" y="4176000"/>
                <a:ext cx="273600" cy="907200"/>
              </a:xfrm>
              <a:prstGeom prst="can">
                <a:avLst>
                  <a:gd name="adj" fmla="val 1323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2c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912480" y="4176000"/>
                <a:ext cx="272160" cy="907200"/>
              </a:xfrm>
              <a:prstGeom prst="can">
                <a:avLst>
                  <a:gd name="adj" fmla="val 1519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2c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254120" y="4176000"/>
                <a:ext cx="273600" cy="907200"/>
              </a:xfrm>
              <a:prstGeom prst="can">
                <a:avLst>
                  <a:gd name="adj" fmla="val 1519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2c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549320" y="4176000"/>
                <a:ext cx="273600" cy="907200"/>
              </a:xfrm>
              <a:prstGeom prst="can">
                <a:avLst>
                  <a:gd name="adj" fmla="val 1421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2c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7727760" y="4228920"/>
              <a:ext cx="1659960" cy="854280"/>
              <a:chOff x="7727760" y="4228920"/>
              <a:chExt cx="1659960" cy="854280"/>
            </a:xfrm>
          </p:grpSpPr>
          <p:sp>
            <p:nvSpPr>
              <p:cNvPr id="648" name=""/>
              <p:cNvSpPr/>
              <p:nvPr/>
            </p:nvSpPr>
            <p:spPr>
              <a:xfrm rot="5511600">
                <a:off x="8415360" y="4372200"/>
                <a:ext cx="213480" cy="139680"/>
              </a:xfrm>
              <a:custGeom>
                <a:avLst/>
                <a:gdLst>
                  <a:gd name="textAreaLeft" fmla="*/ 136440 w 213480"/>
                  <a:gd name="textAreaRight" fmla="*/ 213840 w 213480"/>
                  <a:gd name="textAreaTop" fmla="*/ 3600 h 139680"/>
                  <a:gd name="textAreaBottom" fmla="*/ 136080 h 13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5511600">
                <a:off x="8589600" y="4372200"/>
                <a:ext cx="213480" cy="139680"/>
              </a:xfrm>
              <a:custGeom>
                <a:avLst/>
                <a:gdLst>
                  <a:gd name="textAreaLeft" fmla="*/ 136440 w 213480"/>
                  <a:gd name="textAreaRight" fmla="*/ 213840 w 213480"/>
                  <a:gd name="textAreaTop" fmla="*/ 3600 h 139680"/>
                  <a:gd name="textAreaBottom" fmla="*/ 136080 h 13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0" name=""/>
              <p:cNvGrpSpPr/>
              <p:nvPr/>
            </p:nvGrpSpPr>
            <p:grpSpPr>
              <a:xfrm>
                <a:off x="7727760" y="4228920"/>
                <a:ext cx="1659960" cy="854280"/>
                <a:chOff x="7727760" y="4228920"/>
                <a:chExt cx="1659960" cy="854280"/>
              </a:xfrm>
            </p:grpSpPr>
            <p:grpSp>
              <p:nvGrpSpPr>
                <p:cNvPr id="651" name=""/>
                <p:cNvGrpSpPr/>
                <p:nvPr/>
              </p:nvGrpSpPr>
              <p:grpSpPr>
                <a:xfrm>
                  <a:off x="7727760" y="4976280"/>
                  <a:ext cx="1659960" cy="106920"/>
                  <a:chOff x="7727760" y="4976280"/>
                  <a:chExt cx="1659960" cy="106920"/>
                </a:xfrm>
              </p:grpSpPr>
              <p:sp>
                <p:nvSpPr>
                  <p:cNvPr id="652" name=""/>
                  <p:cNvSpPr/>
                  <p:nvPr/>
                </p:nvSpPr>
                <p:spPr>
                  <a:xfrm>
                    <a:off x="7727760" y="4976280"/>
                    <a:ext cx="207360" cy="106920"/>
                  </a:xfrm>
                  <a:prstGeom prst="ellipse">
                    <a:avLst/>
                  </a:prstGeom>
                  <a:solidFill>
                    <a:srgbClr val="cce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7935120" y="4976280"/>
                    <a:ext cx="207360" cy="106920"/>
                  </a:xfrm>
                  <a:prstGeom prst="ellipse">
                    <a:avLst/>
                  </a:prstGeom>
                  <a:solidFill>
                    <a:srgbClr val="cce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8142840" y="4976280"/>
                    <a:ext cx="207360" cy="106920"/>
                  </a:xfrm>
                  <a:prstGeom prst="ellipse">
                    <a:avLst/>
                  </a:prstGeom>
                  <a:solidFill>
                    <a:srgbClr val="cce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8350200" y="4976280"/>
                    <a:ext cx="207360" cy="106920"/>
                  </a:xfrm>
                  <a:prstGeom prst="ellipse">
                    <a:avLst/>
                  </a:prstGeom>
                  <a:solidFill>
                    <a:srgbClr val="cce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8557920" y="4976280"/>
                    <a:ext cx="207360" cy="106920"/>
                  </a:xfrm>
                  <a:prstGeom prst="ellipse">
                    <a:avLst/>
                  </a:prstGeom>
                  <a:solidFill>
                    <a:srgbClr val="cce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8765280" y="4976280"/>
                    <a:ext cx="207360" cy="106920"/>
                  </a:xfrm>
                  <a:prstGeom prst="ellipse">
                    <a:avLst/>
                  </a:prstGeom>
                  <a:solidFill>
                    <a:srgbClr val="cce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8973000" y="4976280"/>
                    <a:ext cx="207360" cy="106920"/>
                  </a:xfrm>
                  <a:prstGeom prst="ellipse">
                    <a:avLst/>
                  </a:prstGeom>
                  <a:solidFill>
                    <a:srgbClr val="cce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9180360" y="4976280"/>
                    <a:ext cx="207360" cy="106920"/>
                  </a:xfrm>
                  <a:prstGeom prst="ellipse">
                    <a:avLst/>
                  </a:prstGeom>
                  <a:solidFill>
                    <a:srgbClr val="cce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60" name=""/>
                <p:cNvSpPr/>
                <p:nvPr/>
              </p:nvSpPr>
              <p:spPr>
                <a:xfrm>
                  <a:off x="7796520" y="4228920"/>
                  <a:ext cx="198720" cy="124560"/>
                </a:xfrm>
                <a:prstGeom prst="ellipse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7995600" y="4228920"/>
                  <a:ext cx="198360" cy="124560"/>
                </a:xfrm>
                <a:prstGeom prst="ellipse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8194320" y="4228920"/>
                  <a:ext cx="198720" cy="124560"/>
                </a:xfrm>
                <a:prstGeom prst="ellipse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8393400" y="4228920"/>
                  <a:ext cx="198720" cy="124560"/>
                </a:xfrm>
                <a:prstGeom prst="ellipse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8592480" y="4228920"/>
                  <a:ext cx="198360" cy="124560"/>
                </a:xfrm>
                <a:prstGeom prst="ellipse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8791200" y="4228920"/>
                  <a:ext cx="198720" cy="124560"/>
                </a:xfrm>
                <a:prstGeom prst="ellipse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8990280" y="4228920"/>
                  <a:ext cx="198360" cy="124560"/>
                </a:xfrm>
                <a:prstGeom prst="ellipse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9189000" y="4228920"/>
                  <a:ext cx="198720" cy="124560"/>
                </a:xfrm>
                <a:prstGeom prst="ellipse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8" name=""/>
              <p:cNvSpPr/>
              <p:nvPr/>
            </p:nvSpPr>
            <p:spPr>
              <a:xfrm rot="5511600">
                <a:off x="7772040" y="4410720"/>
                <a:ext cx="249120" cy="133920"/>
              </a:xfrm>
              <a:custGeom>
                <a:avLst/>
                <a:gdLst>
                  <a:gd name="textAreaLeft" fmla="*/ 159120 w 249120"/>
                  <a:gd name="textAreaRight" fmla="*/ 249480 w 249120"/>
                  <a:gd name="textAreaTop" fmla="*/ 3240 h 133920"/>
                  <a:gd name="textAreaBottom" fmla="*/ 130680 h 13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5511600">
                <a:off x="7980840" y="4410720"/>
                <a:ext cx="249120" cy="133920"/>
              </a:xfrm>
              <a:custGeom>
                <a:avLst/>
                <a:gdLst>
                  <a:gd name="textAreaLeft" fmla="*/ 159120 w 249120"/>
                  <a:gd name="textAreaRight" fmla="*/ 249480 w 249120"/>
                  <a:gd name="textAreaTop" fmla="*/ 3240 h 133920"/>
                  <a:gd name="textAreaBottom" fmla="*/ 130680 h 13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5511600">
                <a:off x="8158320" y="4410720"/>
                <a:ext cx="249120" cy="133920"/>
              </a:xfrm>
              <a:custGeom>
                <a:avLst/>
                <a:gdLst>
                  <a:gd name="textAreaLeft" fmla="*/ 159120 w 249120"/>
                  <a:gd name="textAreaRight" fmla="*/ 249480 w 249120"/>
                  <a:gd name="textAreaTop" fmla="*/ 3240 h 133920"/>
                  <a:gd name="textAreaBottom" fmla="*/ 130680 h 13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5511600">
                <a:off x="8743320" y="4410720"/>
                <a:ext cx="249120" cy="133920"/>
              </a:xfrm>
              <a:custGeom>
                <a:avLst/>
                <a:gdLst>
                  <a:gd name="textAreaLeft" fmla="*/ 159120 w 249120"/>
                  <a:gd name="textAreaRight" fmla="*/ 249480 w 249120"/>
                  <a:gd name="textAreaTop" fmla="*/ 3240 h 133920"/>
                  <a:gd name="textAreaBottom" fmla="*/ 130680 h 13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5511600">
                <a:off x="8920440" y="4410720"/>
                <a:ext cx="249120" cy="133920"/>
              </a:xfrm>
              <a:custGeom>
                <a:avLst/>
                <a:gdLst>
                  <a:gd name="textAreaLeft" fmla="*/ 159120 w 249120"/>
                  <a:gd name="textAreaRight" fmla="*/ 249480 w 249120"/>
                  <a:gd name="textAreaTop" fmla="*/ 3240 h 133920"/>
                  <a:gd name="textAreaBottom" fmla="*/ 130680 h 13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5511600">
                <a:off x="9129600" y="4410720"/>
                <a:ext cx="249120" cy="133920"/>
              </a:xfrm>
              <a:custGeom>
                <a:avLst/>
                <a:gdLst>
                  <a:gd name="textAreaLeft" fmla="*/ 159120 w 249120"/>
                  <a:gd name="textAreaRight" fmla="*/ 249480 w 249120"/>
                  <a:gd name="textAreaTop" fmla="*/ 3240 h 133920"/>
                  <a:gd name="textAreaBottom" fmla="*/ 130680 h 13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4" name=""/>
              <p:cNvGrpSpPr/>
              <p:nvPr/>
            </p:nvGrpSpPr>
            <p:grpSpPr>
              <a:xfrm>
                <a:off x="7796520" y="4655880"/>
                <a:ext cx="1532880" cy="319680"/>
                <a:chOff x="7796520" y="4655880"/>
                <a:chExt cx="1532880" cy="319680"/>
              </a:xfrm>
            </p:grpSpPr>
            <p:sp>
              <p:nvSpPr>
                <p:cNvPr id="675" name=""/>
                <p:cNvSpPr/>
                <p:nvPr/>
              </p:nvSpPr>
              <p:spPr>
                <a:xfrm rot="16200000">
                  <a:off x="7705080" y="4746960"/>
                  <a:ext cx="319680" cy="137160"/>
                </a:xfrm>
                <a:custGeom>
                  <a:avLst/>
                  <a:gdLst>
                    <a:gd name="textAreaLeft" fmla="*/ 204120 w 319680"/>
                    <a:gd name="textAreaRight" fmla="*/ 320040 w 319680"/>
                    <a:gd name="textAreaTop" fmla="*/ 3240 h 137160"/>
                    <a:gd name="textAreaBottom" fmla="*/ 133920 h 137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 rot="16200000">
                  <a:off x="7919280" y="4746960"/>
                  <a:ext cx="319680" cy="137520"/>
                </a:xfrm>
                <a:custGeom>
                  <a:avLst/>
                  <a:gdLst>
                    <a:gd name="textAreaLeft" fmla="*/ 204120 w 319680"/>
                    <a:gd name="textAreaRight" fmla="*/ 320040 w 319680"/>
                    <a:gd name="textAreaTop" fmla="*/ 3240 h 137520"/>
                    <a:gd name="textAreaBottom" fmla="*/ 134280 h 13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 rot="16200000">
                  <a:off x="8102520" y="4746960"/>
                  <a:ext cx="319680" cy="137520"/>
                </a:xfrm>
                <a:custGeom>
                  <a:avLst/>
                  <a:gdLst>
                    <a:gd name="textAreaLeft" fmla="*/ 204120 w 319680"/>
                    <a:gd name="textAreaRight" fmla="*/ 320040 w 319680"/>
                    <a:gd name="textAreaTop" fmla="*/ 3240 h 137520"/>
                    <a:gd name="textAreaBottom" fmla="*/ 134280 h 13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 rot="16200000">
                  <a:off x="8317080" y="4746960"/>
                  <a:ext cx="319680" cy="137520"/>
                </a:xfrm>
                <a:custGeom>
                  <a:avLst/>
                  <a:gdLst>
                    <a:gd name="textAreaLeft" fmla="*/ 204120 w 319680"/>
                    <a:gd name="textAreaRight" fmla="*/ 320040 w 319680"/>
                    <a:gd name="textAreaTop" fmla="*/ 3240 h 137520"/>
                    <a:gd name="textAreaBottom" fmla="*/ 134280 h 13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 rot="16200000">
                  <a:off x="8488440" y="4746960"/>
                  <a:ext cx="319680" cy="137160"/>
                </a:xfrm>
                <a:custGeom>
                  <a:avLst/>
                  <a:gdLst>
                    <a:gd name="textAreaLeft" fmla="*/ 204120 w 319680"/>
                    <a:gd name="textAreaRight" fmla="*/ 320040 w 319680"/>
                    <a:gd name="textAreaTop" fmla="*/ 3240 h 137160"/>
                    <a:gd name="textAreaBottom" fmla="*/ 133920 h 137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 rot="16200000">
                  <a:off x="8703000" y="4746960"/>
                  <a:ext cx="319680" cy="137160"/>
                </a:xfrm>
                <a:custGeom>
                  <a:avLst/>
                  <a:gdLst>
                    <a:gd name="textAreaLeft" fmla="*/ 204120 w 319680"/>
                    <a:gd name="textAreaRight" fmla="*/ 320040 w 319680"/>
                    <a:gd name="textAreaTop" fmla="*/ 3240 h 137160"/>
                    <a:gd name="textAreaBottom" fmla="*/ 133920 h 137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rot="16200000">
                  <a:off x="8886240" y="4746960"/>
                  <a:ext cx="319680" cy="137520"/>
                </a:xfrm>
                <a:custGeom>
                  <a:avLst/>
                  <a:gdLst>
                    <a:gd name="textAreaLeft" fmla="*/ 204120 w 319680"/>
                    <a:gd name="textAreaRight" fmla="*/ 320040 w 319680"/>
                    <a:gd name="textAreaTop" fmla="*/ 3240 h 137520"/>
                    <a:gd name="textAreaBottom" fmla="*/ 134280 h 13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 rot="16200000">
                  <a:off x="9100800" y="4746960"/>
                  <a:ext cx="319680" cy="137520"/>
                </a:xfrm>
                <a:custGeom>
                  <a:avLst/>
                  <a:gdLst>
                    <a:gd name="textAreaLeft" fmla="*/ 204120 w 319680"/>
                    <a:gd name="textAreaRight" fmla="*/ 320040 w 319680"/>
                    <a:gd name="textAreaTop" fmla="*/ 3240 h 137520"/>
                    <a:gd name="textAreaBottom" fmla="*/ 134280 h 13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3" name=""/>
            <p:cNvGrpSpPr/>
            <p:nvPr/>
          </p:nvGrpSpPr>
          <p:grpSpPr>
            <a:xfrm>
              <a:off x="4892040" y="4228920"/>
              <a:ext cx="829440" cy="854280"/>
              <a:chOff x="4892040" y="4228920"/>
              <a:chExt cx="829440" cy="854280"/>
            </a:xfrm>
          </p:grpSpPr>
          <p:sp>
            <p:nvSpPr>
              <p:cNvPr id="684" name=""/>
              <p:cNvSpPr/>
              <p:nvPr/>
            </p:nvSpPr>
            <p:spPr>
              <a:xfrm rot="5511600">
                <a:off x="4924080" y="4372200"/>
                <a:ext cx="213480" cy="139680"/>
              </a:xfrm>
              <a:custGeom>
                <a:avLst/>
                <a:gdLst>
                  <a:gd name="textAreaLeft" fmla="*/ 136440 w 213480"/>
                  <a:gd name="textAreaRight" fmla="*/ 213840 w 213480"/>
                  <a:gd name="textAreaTop" fmla="*/ 3600 h 139680"/>
                  <a:gd name="textAreaBottom" fmla="*/ 136080 h 13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892040" y="4976280"/>
                <a:ext cx="207360" cy="10692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099400" y="4976280"/>
                <a:ext cx="207360" cy="10692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306760" y="4976280"/>
                <a:ext cx="207360" cy="10692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514120" y="4976280"/>
                <a:ext cx="207360" cy="10692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926600" y="4228920"/>
                <a:ext cx="198720" cy="12456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125320" y="4228920"/>
                <a:ext cx="198360" cy="12456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324040" y="4228920"/>
                <a:ext cx="198720" cy="12456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522760" y="4228920"/>
                <a:ext cx="198360" cy="12456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5511600">
                <a:off x="5077080" y="4411080"/>
                <a:ext cx="249120" cy="133560"/>
              </a:xfrm>
              <a:custGeom>
                <a:avLst/>
                <a:gdLst>
                  <a:gd name="textAreaLeft" fmla="*/ 159120 w 249120"/>
                  <a:gd name="textAreaRight" fmla="*/ 249480 w 249120"/>
                  <a:gd name="textAreaTop" fmla="*/ 3240 h 133560"/>
                  <a:gd name="textAreaBottom" fmla="*/ 130320 h 13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5511600">
                <a:off x="5254200" y="4411080"/>
                <a:ext cx="249120" cy="133560"/>
              </a:xfrm>
              <a:custGeom>
                <a:avLst/>
                <a:gdLst>
                  <a:gd name="textAreaLeft" fmla="*/ 159120 w 249120"/>
                  <a:gd name="textAreaRight" fmla="*/ 249480 w 249120"/>
                  <a:gd name="textAreaTop" fmla="*/ 3240 h 133560"/>
                  <a:gd name="textAreaBottom" fmla="*/ 130320 h 13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5511600">
                <a:off x="5463000" y="4411080"/>
                <a:ext cx="249120" cy="133560"/>
              </a:xfrm>
              <a:custGeom>
                <a:avLst/>
                <a:gdLst>
                  <a:gd name="textAreaLeft" fmla="*/ 159120 w 249120"/>
                  <a:gd name="textAreaRight" fmla="*/ 249480 w 249120"/>
                  <a:gd name="textAreaTop" fmla="*/ 3240 h 133560"/>
                  <a:gd name="textAreaBottom" fmla="*/ 130320 h 13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6200000">
                <a:off x="4823280" y="4746960"/>
                <a:ext cx="320040" cy="136800"/>
              </a:xfrm>
              <a:custGeom>
                <a:avLst/>
                <a:gdLst>
                  <a:gd name="textAreaLeft" fmla="*/ 204480 w 320040"/>
                  <a:gd name="textAreaRight" fmla="*/ 320040 w 320040"/>
                  <a:gd name="textAreaTop" fmla="*/ 3240 h 136800"/>
                  <a:gd name="textAreaBottom" fmla="*/ 133560 h 13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200000">
                <a:off x="5037840" y="4746960"/>
                <a:ext cx="320040" cy="136800"/>
              </a:xfrm>
              <a:custGeom>
                <a:avLst/>
                <a:gdLst>
                  <a:gd name="textAreaLeft" fmla="*/ 204480 w 320040"/>
                  <a:gd name="textAreaRight" fmla="*/ 320040 w 320040"/>
                  <a:gd name="textAreaTop" fmla="*/ 3240 h 136800"/>
                  <a:gd name="textAreaBottom" fmla="*/ 133560 h 13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6200000">
                <a:off x="5220720" y="4746960"/>
                <a:ext cx="320040" cy="136800"/>
              </a:xfrm>
              <a:custGeom>
                <a:avLst/>
                <a:gdLst>
                  <a:gd name="textAreaLeft" fmla="*/ 204480 w 320040"/>
                  <a:gd name="textAreaRight" fmla="*/ 320040 w 320040"/>
                  <a:gd name="textAreaTop" fmla="*/ 3240 h 136800"/>
                  <a:gd name="textAreaBottom" fmla="*/ 133560 h 13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6200000">
                <a:off x="5434560" y="4746600"/>
                <a:ext cx="320040" cy="137880"/>
              </a:xfrm>
              <a:custGeom>
                <a:avLst/>
                <a:gdLst>
                  <a:gd name="textAreaLeft" fmla="*/ 204480 w 320040"/>
                  <a:gd name="textAreaRight" fmla="*/ 320040 w 320040"/>
                  <a:gd name="textAreaTop" fmla="*/ 3600 h 137880"/>
                  <a:gd name="textAreaBottom" fmla="*/ 134280 h 137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5791680" y="4176000"/>
              <a:ext cx="1867320" cy="907200"/>
              <a:chOff x="5791680" y="4176000"/>
              <a:chExt cx="1867320" cy="907200"/>
            </a:xfrm>
          </p:grpSpPr>
          <p:sp>
            <p:nvSpPr>
              <p:cNvPr id="701" name=""/>
              <p:cNvSpPr/>
              <p:nvPr/>
            </p:nvSpPr>
            <p:spPr>
              <a:xfrm>
                <a:off x="5791680" y="4176000"/>
                <a:ext cx="273600" cy="907200"/>
              </a:xfrm>
              <a:prstGeom prst="can">
                <a:avLst>
                  <a:gd name="adj" fmla="val 1225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2c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086880" y="4176000"/>
                <a:ext cx="273600" cy="907200"/>
              </a:xfrm>
              <a:prstGeom prst="can">
                <a:avLst>
                  <a:gd name="adj" fmla="val 1421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2c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451200" y="4176000"/>
                <a:ext cx="273600" cy="907200"/>
              </a:xfrm>
              <a:prstGeom prst="can">
                <a:avLst>
                  <a:gd name="adj" fmla="val 1323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2c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748560" y="4176000"/>
                <a:ext cx="272160" cy="907200"/>
              </a:xfrm>
              <a:prstGeom prst="can">
                <a:avLst>
                  <a:gd name="adj" fmla="val 1519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2c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089840" y="4176000"/>
                <a:ext cx="273600" cy="907200"/>
              </a:xfrm>
              <a:prstGeom prst="can">
                <a:avLst>
                  <a:gd name="adj" fmla="val 1519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2c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5400" y="4176000"/>
                <a:ext cx="273600" cy="907200"/>
              </a:xfrm>
              <a:prstGeom prst="can">
                <a:avLst>
                  <a:gd name="adj" fmla="val 1421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2c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2978280" y="4064760"/>
              <a:ext cx="1775880" cy="219240"/>
              <a:chOff x="2978280" y="4064760"/>
              <a:chExt cx="1775880" cy="219240"/>
            </a:xfrm>
          </p:grpSpPr>
          <p:sp>
            <p:nvSpPr>
              <p:cNvPr id="708" name=""/>
              <p:cNvSpPr/>
              <p:nvPr/>
            </p:nvSpPr>
            <p:spPr>
              <a:xfrm rot="5367600">
                <a:off x="3114000" y="3931920"/>
                <a:ext cx="213840" cy="48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540" y="1342"/>
                      <a:pt x="7480" y="5080"/>
                      <a:pt x="7480" y="10800"/>
                    </a:cubicBezTo>
                    <a:cubicBezTo>
                      <a:pt x="7480" y="16520"/>
                      <a:pt x="14540" y="2025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5367600">
                <a:off x="3793320" y="3933000"/>
                <a:ext cx="213480" cy="48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540" y="1342"/>
                      <a:pt x="7480" y="5080"/>
                      <a:pt x="7480" y="10800"/>
                    </a:cubicBezTo>
                    <a:cubicBezTo>
                      <a:pt x="7480" y="16520"/>
                      <a:pt x="14540" y="2025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5367600">
                <a:off x="4404240" y="3932640"/>
                <a:ext cx="213480" cy="48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540" y="1342"/>
                      <a:pt x="7480" y="5080"/>
                      <a:pt x="7480" y="10800"/>
                    </a:cubicBezTo>
                    <a:cubicBezTo>
                      <a:pt x="7480" y="16520"/>
                      <a:pt x="14540" y="2025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5813640" y="4057200"/>
              <a:ext cx="1775880" cy="219240"/>
              <a:chOff x="5813640" y="4057200"/>
              <a:chExt cx="1775880" cy="219240"/>
            </a:xfrm>
          </p:grpSpPr>
          <p:sp>
            <p:nvSpPr>
              <p:cNvPr id="712" name=""/>
              <p:cNvSpPr/>
              <p:nvPr/>
            </p:nvSpPr>
            <p:spPr>
              <a:xfrm rot="5367600">
                <a:off x="5949360" y="3924360"/>
                <a:ext cx="213840" cy="48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540" y="1342"/>
                      <a:pt x="7480" y="5080"/>
                      <a:pt x="7480" y="10800"/>
                    </a:cubicBezTo>
                    <a:cubicBezTo>
                      <a:pt x="7480" y="16520"/>
                      <a:pt x="14540" y="2025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rot="5367600">
                <a:off x="6628680" y="3925440"/>
                <a:ext cx="213480" cy="48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540" y="1342"/>
                      <a:pt x="7480" y="5080"/>
                      <a:pt x="7480" y="10800"/>
                    </a:cubicBezTo>
                    <a:cubicBezTo>
                      <a:pt x="7480" y="16520"/>
                      <a:pt x="14540" y="2025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rot="5367600">
                <a:off x="7239600" y="3925080"/>
                <a:ext cx="213480" cy="48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540" y="1342"/>
                      <a:pt x="7480" y="5080"/>
                      <a:pt x="7480" y="10800"/>
                    </a:cubicBezTo>
                    <a:cubicBezTo>
                      <a:pt x="7480" y="16520"/>
                      <a:pt x="14540" y="2025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5" name=""/>
            <p:cNvSpPr/>
            <p:nvPr/>
          </p:nvSpPr>
          <p:spPr>
            <a:xfrm flipV="1" rot="16232400">
              <a:off x="3501720" y="4925520"/>
              <a:ext cx="219960" cy="483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540" y="1342"/>
                    <a:pt x="7480" y="5080"/>
                    <a:pt x="7480" y="10800"/>
                  </a:cubicBezTo>
                  <a:cubicBezTo>
                    <a:pt x="7480" y="16520"/>
                    <a:pt x="14540" y="2025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 rot="16232400">
              <a:off x="4123440" y="4933440"/>
              <a:ext cx="221040" cy="484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540" y="1342"/>
                    <a:pt x="7480" y="5080"/>
                    <a:pt x="7480" y="10800"/>
                  </a:cubicBezTo>
                  <a:cubicBezTo>
                    <a:pt x="7480" y="16520"/>
                    <a:pt x="14540" y="2025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 rot="16232400">
              <a:off x="6268680" y="4925520"/>
              <a:ext cx="219960" cy="483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540" y="1342"/>
                    <a:pt x="7480" y="5080"/>
                    <a:pt x="7480" y="10800"/>
                  </a:cubicBezTo>
                  <a:cubicBezTo>
                    <a:pt x="7480" y="16520"/>
                    <a:pt x="14540" y="2025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 rot="16232400">
              <a:off x="6961320" y="4943160"/>
              <a:ext cx="219960" cy="484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540" y="1342"/>
                    <a:pt x="7480" y="5080"/>
                    <a:pt x="7480" y="10800"/>
                  </a:cubicBezTo>
                  <a:cubicBezTo>
                    <a:pt x="7480" y="16520"/>
                    <a:pt x="14540" y="2025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5711400">
              <a:off x="1411200" y="3767760"/>
              <a:ext cx="1066680" cy="235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315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315072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5711400">
              <a:off x="3005640" y="3807000"/>
              <a:ext cx="1065960" cy="234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0368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036828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5711400">
              <a:off x="4172760" y="3803400"/>
              <a:ext cx="1065960" cy="234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0368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036828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4410600">
              <a:off x="5849280" y="4190760"/>
              <a:ext cx="1067400" cy="234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76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763596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508200" y="5404680"/>
              <a:ext cx="760680" cy="694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552360" y="5448960"/>
              <a:ext cx="761040" cy="69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5298000">
              <a:off x="3243240" y="5469120"/>
              <a:ext cx="426600" cy="725040"/>
            </a:xfrm>
            <a:custGeom>
              <a:avLst/>
              <a:gdLst>
                <a:gd name="textAreaLeft" fmla="*/ 0 w 426600"/>
                <a:gd name="textAreaRight" fmla="*/ 426960 w 426600"/>
                <a:gd name="textAreaTop" fmla="*/ 0 h 725040"/>
                <a:gd name="textAreaBottom" fmla="*/ 725400 h 7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4001555"/>
                  <a:lnTo>
                    <a:pt x="4355" y="19466"/>
                  </a:lnTo>
                  <a:arcTo wR="10800" hR="10800" stAng="7598445" swAng="14001555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 rot="16302000">
              <a:off x="7054920" y="5495040"/>
              <a:ext cx="480600" cy="726840"/>
            </a:xfrm>
            <a:custGeom>
              <a:avLst/>
              <a:gdLst>
                <a:gd name="textAreaLeft" fmla="*/ -360 w 480600"/>
                <a:gd name="textAreaRight" fmla="*/ 480600 w 480600"/>
                <a:gd name="textAreaTop" fmla="*/ 0 h 726840"/>
                <a:gd name="textAreaBottom" fmla="*/ 727200 h 72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3565140"/>
                  <a:lnTo>
                    <a:pt x="3309" y="18580"/>
                  </a:lnTo>
                  <a:arcTo wR="10800" hR="10800" stAng="8034860" swAng="1356514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892040" y="5243760"/>
              <a:ext cx="1106640" cy="8013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360440" y="3941280"/>
              <a:ext cx="56448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ctr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OU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464120" y="5063760"/>
              <a:ext cx="37872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ctr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I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471320" y="5320800"/>
              <a:ext cx="90000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Nterm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539520" y="5377680"/>
              <a:ext cx="68652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NBD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547680" y="5377680"/>
              <a:ext cx="65772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NB2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053680" y="5310360"/>
              <a:ext cx="87552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Domai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7242000">
              <a:off x="5213160" y="4433400"/>
              <a:ext cx="1069920" cy="235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31625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316255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450400" y="6032160"/>
              <a:ext cx="86940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Cterm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540160" y="5510520"/>
              <a:ext cx="82476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600" rIns="84600" tIns="42480" bIns="424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AT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ADP+ P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382160" y="5463720"/>
              <a:ext cx="82476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600" rIns="84600" tIns="42480" bIns="424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AT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ADP+ P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5711400">
              <a:off x="3146400" y="4007520"/>
              <a:ext cx="1065600" cy="293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10" y="170"/>
                  </a:moveTo>
                  <a:arcTo wR="10800" hR="10800" stAng="-4788907" swAng="322930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10" y="170"/>
                  </a:moveTo>
                  <a:arcTo wR="10800" hR="10800" stAng="-4788907" swAng="3229306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45720" y="355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1865: le leggi di Mendel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558720" y="1422360"/>
            <a:ext cx="67820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 la prima volta è indaga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cientificamente il problema del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asmissione dei caratter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ndel scopre le leggi dell’ereditarietà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851600" y="1600200"/>
            <a:ext cx="1697040" cy="2482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3962520"/>
            <a:ext cx="87631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ndel, G. “Versuche über Pflanzen-Hybriden”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“Verhandlungen des naturforschenden Vereines, Abhandlungen Brün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, 3-47, (1866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4400" y="4797360"/>
            <a:ext cx="971352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e00204"/>
              </a:buClr>
              <a:buSzPct val="16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e00204"/>
              </a:buClr>
              <a:buSzPct val="20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0204"/>
                </a:solidFill>
                <a:latin typeface="Comic Sans MS"/>
              </a:rPr>
              <a:t>Gli individui possono essere seleziona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0204"/>
                </a:solidFill>
                <a:latin typeface="Comic Sans MS"/>
              </a:rPr>
              <a:t>e incrociati scientificamen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0204"/>
                </a:solidFill>
                <a:latin typeface="Comic Sans MS"/>
              </a:rPr>
              <a:t>ma non c’è ancora una spiegazione molecolare del fenomen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5480" y="1777680"/>
            <a:ext cx="2857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La biochimica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800280" y="5902200"/>
            <a:ext cx="8991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escher, F. "Ueber die chemische Zusammensetzung der Eiterzellen”,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Hoppe-Seyler's medicinisch-chemische Untersuchunge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441-460, (187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16224000">
            <a:off x="5412600" y="-579960"/>
            <a:ext cx="2906640" cy="520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216000" y="3575160"/>
            <a:ext cx="9435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869: Miescher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 la prima volta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sol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una sostanza che chiama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uclein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erchè abbondante nel nucleo cellulare e scrive l’articolo “La composizione chimica delle cellule del pus”. Più tardi la nucleina, caratterizzata chimicamente, si dimostrerà un acido, le cui componenti sono desossiribosio, fosfati e basi azotate. La sostanza è ribattezzata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N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01760" y="635040"/>
            <a:ext cx="81151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Da Mendel ad Avery:1865-1944..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1520" y="1587600"/>
            <a:ext cx="9620280" cy="4643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73600" y="1231920"/>
            <a:ext cx="1942920" cy="562608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18520" y="2743200"/>
            <a:ext cx="15876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21440" y="1562040"/>
            <a:ext cx="59688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65760" y="1231920"/>
            <a:ext cx="978120" cy="562608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578640" y="1231920"/>
            <a:ext cx="3327480" cy="562608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p:transition>
    <p:cover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0080" y="431280"/>
            <a:ext cx="8420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La citologia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3860640" y="1104840"/>
            <a:ext cx="604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903: Sutto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ne l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oria cromosomica dell’ereditariet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correlando il comportamento in meiosi dei cromosomi scoperti d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lemm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el 1882 con le modalità di trasmissione dei caratteri mendeliani. La teoria sarà dimostrata d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rga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el 1910 con studi in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Drosophil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5084640"/>
            <a:ext cx="8229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tton, W. “The chromosomes in heredity”,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Biological Bulleti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231-251, (1903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560" y="1077840"/>
            <a:ext cx="3792240" cy="3522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01760" y="635040"/>
            <a:ext cx="81151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Da Mendel ad Avery:1865-1944..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1520" y="1587600"/>
            <a:ext cx="9620280" cy="4643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121440" y="1562040"/>
            <a:ext cx="59688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18520" y="2743200"/>
            <a:ext cx="15876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65760" y="1231920"/>
            <a:ext cx="792360" cy="562608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34000" y="1231920"/>
            <a:ext cx="3206880" cy="562608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p:transition>
    <p:cover dir="r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Il principio trasformante:DNA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308240" y="1638360"/>
            <a:ext cx="8000640" cy="5028840"/>
            <a:chOff x="1308240" y="1638360"/>
            <a:chExt cx="8000640" cy="5028840"/>
          </a:xfrm>
        </p:grpSpPr>
        <p:sp>
          <p:nvSpPr>
            <p:cNvPr id="83" name=""/>
            <p:cNvSpPr/>
            <p:nvPr/>
          </p:nvSpPr>
          <p:spPr>
            <a:xfrm>
              <a:off x="3872160" y="4399560"/>
              <a:ext cx="4923360" cy="146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very, O.T., MacLeod, C.M. and McCarty, M. “Studies on the chemical nature of the substance inducing transformation of pneumococcal types”,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J. Exp. Med.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,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79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, 137-158, (1944)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72160" y="1638360"/>
              <a:ext cx="54367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1944: Avery, McCarty e MacLeod identificano nel DNA la molecola della informazione ereditaria: costituisce il “principio trasformante” che rende lisce le colonie di batteri rugos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1308240" y="1638360"/>
              <a:ext cx="2563920" cy="5028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08:39:24Z</dcterms:created>
  <dc:creator>M.Rocchi</dc:creator>
  <dc:description/>
  <dc:language>en-US</dc:language>
  <cp:lastModifiedBy>Mariano Rocchi</cp:lastModifiedBy>
  <dcterms:modified xsi:type="dcterms:W3CDTF">2005-06-21T09:01:12Z</dcterms:modified>
  <cp:revision>301</cp:revision>
  <dc:subject/>
  <dc:title>Traslocazioni</dc:title>
</cp:coreProperties>
</file>