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17.jpeg" ContentType="image/jpeg"/>
  <Override PartName="/ppt/media/image16.jpeg" ContentType="image/jpeg"/>
  <Override PartName="/ppt/media/image15.pct" ContentType="image/x-pict"/>
  <Override PartName="/ppt/media/image14.jpeg" ContentType="image/jpeg"/>
  <Override PartName="/ppt/media/image1.png" ContentType="image/png"/>
  <Override PartName="/ppt/media/image3.jpeg" ContentType="image/jpeg"/>
  <Override PartName="/ppt/media/image4.pct" ContentType="image/x-pict"/>
  <Override PartName="/ppt/media/image1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37A-360F-4801-A5D8-EB61E3C824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5FB9-F1B4-48A1-BF58-A8E13952C0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75FE-ABEF-4520-A26C-FE6A2A45E9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33F1-5912-4B98-A1EF-3238F956A9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11BB-6B69-4890-9798-705D7DDBB7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3072-1921-4A0E-863C-58C69F2BF1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710-BDCD-4530-8AC1-AA703F4BF9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3D88-8FF1-4C81-9D61-A41BF49DBC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E01-2A04-48DC-BFFB-F5D99CA014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0480" y="712800"/>
            <a:ext cx="4938840" cy="3421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BB25-154F-4E5F-84EC-DCC953DE75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FB8-8365-48C8-A128-E4831938BD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4645-AA54-4B75-976E-FE299D6DEF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9480" y="712800"/>
            <a:ext cx="4560840" cy="34210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8080"/>
            <a:ext cx="50292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BEB-8024-464C-94BB-28ABA5F5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6AD-7DFD-45AA-BDBE-6B986741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C22-081E-4B37-887F-B5DF0EE4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5F0-8870-44ED-A1D5-6AAA1891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F9E-8D99-474C-BD79-F055ACA1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B6B-DAE1-494C-A9CA-A315F43B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418-D9AA-455E-B095-78A54303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F1C-9DE5-43CB-959D-0882EC49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80A-CB30-4872-AD5A-950223B8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A76-2164-4517-94DF-E457ED31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DC3-B15D-4037-B339-165C3C7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4D7-2AA2-46C0-B03B-D6F8201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7632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EC8E-C85D-491A-91F9-48DAA7C3A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ct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sp>
          <p:nvSpPr>
            <p:cNvPr id="49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76320" y="12600"/>
              <a:ext cx="8610480" cy="806400"/>
              <a:chOff x="76320" y="12600"/>
              <a:chExt cx="8610480" cy="80640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>
                <a:grayscl/>
              </a:blip>
              <a:stretch/>
            </p:blipFill>
            <p:spPr>
              <a:xfrm>
                <a:off x="76320" y="12600"/>
                <a:ext cx="720720" cy="80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842400" y="130320"/>
                <a:ext cx="22460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560" rIns="7956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5240"/>
                    <a:tab algn="l" pos="1590840"/>
                    <a:tab algn="l" pos="2386080"/>
                    <a:tab algn="l" pos="3181320"/>
                    <a:tab algn="l" pos="3976560"/>
                    <a:tab algn="l" pos="4772160"/>
                    <a:tab algn="l" pos="5567400"/>
                    <a:tab algn="l" pos="6362640"/>
                    <a:tab algn="l" pos="7157880"/>
                    <a:tab algn="l" pos="7953480"/>
                    <a:tab algn="l" pos="8748720"/>
                    <a:tab algn="l" pos="9543960"/>
                    <a:tab algn="l" pos="10339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Universita’ di Ba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3809880" y="88920"/>
                <a:ext cx="4876920" cy="393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Comic Sans MS"/>
                  </a:rPr>
                  <a:t>Biologia Cellulare e Molecolare   Genetica II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306"/>
                </a:solidFill>
                <a:latin typeface="Comic Sans MS"/>
              </a:rPr>
              <a:t>Genetica del cancro</a:t>
            </a:r>
            <a:endParaRPr b="1" lang="en-US" sz="36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3642480" y="586584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075280" cy="424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1371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i coinvolti nel riparo dei mismatch del DNA 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SH2, MLH1, PMS1, PMS2 e GTBP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 la cui alterazione provoca la cosiddetta “instabilita’ dei microsatelliti” tipica della HNPCC, Hereditary Non Polyposis Colon Cancer e generalmente del riparo di danni al DNA (gen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“caretaker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5105520"/>
            <a:ext cx="8305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i “landscapers” (architetti del paesaggio)(mutazioni in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TE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MAD4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llo stato eterozigote (aploinsufficienza) conducono ad un’anormale proliferazione delle cellule stromali circostanti le cellule epiteliali del colon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772400" cy="2170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Caretakers e Landscapers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1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6094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l tumore come network</a:t>
            </a:r>
            <a:endParaRPr b="1" lang="en-US" sz="24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330200" y="224784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1720" y="126360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rcinoma del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560" y="5638680"/>
            <a:ext cx="91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mpio di progressione a tappe da tumore benigno a tumore malig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8862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114800"/>
            <a:ext cx="1219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perplasia Le cellule conserva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419112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 situ Le cellule perdono il contatto con il tess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605640" cy="1947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1752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 cellule mutate iniziano a duplicarsi in modo incontroll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26668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133720" y="350496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20574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splasia. Le cellule perdono morf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81952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257800" y="34286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1523880"/>
            <a:ext cx="1523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ncro invasivo Le cellule divengo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vasive e metastatizz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3581280"/>
            <a:ext cx="2971800" cy="3070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cesso di vascolar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40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55680" y="2286000"/>
            <a:ext cx="16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600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ff1119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E’ cruciale il tipo cellulare dove si localizza la mutazione 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1203480" y="2743200"/>
            <a:ext cx="169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581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empio: traslocazione di un gene, poco attivo o inattivo, in prossimita’ della zona regolatrice di un altro gene attivamente trascritto in un tip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7200" y="5524560"/>
            <a:ext cx="40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Esempi: linfo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Cellule normali e cancerose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250560" y="13716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N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120" y="137952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9"/>
                </a:solidFill>
                <a:latin typeface="Comic Sans MS"/>
              </a:rPr>
              <a:t>CELLULE CANCE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52880" y="2057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DITA 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0160" y="228600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IBI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 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3341520"/>
            <a:ext cx="416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CAPACI DI CRESCERE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ECCEZIONE I LINFOCI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87360" y="3352680"/>
            <a:ext cx="40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RESCONO IN SOS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4762440"/>
            <a:ext cx="42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DIPENDENTI DA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47624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ENDENTI DAI FATTORI DI CRES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00" y="58024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3240" y="5802480"/>
            <a:ext cx="197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MMOR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9520" y="685800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16480" y="2128680"/>
            <a:ext cx="16992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57040" y="7621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romosomi e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550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anomalie cromosomiche fanno parte della descrizione classica del fenotipo citologico delle cellule tumo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28465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izialmente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roppo varie per localizzazione e per natura (aneuploidie, inversioni, traslocazioni, inversioni) per poter essere class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con il miglioramento delle tecniche citogenetich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37440" y="5410080"/>
            <a:ext cx="7564320" cy="429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IDIVIDUAZIONE DI RIARRANGIAMENTI NON CASU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7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1841400"/>
            <a:ext cx="871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Lo studio dei riarrangiamenti non casuali è stato riportato essenzialmente nel campo delle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mopatie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maligne, poiché le cellule ematiche si prestano molto meglio delle cellule dei tumori solidi all’esplorazione citogene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76360" y="685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romosomi e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533520"/>
            <a:ext cx="815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8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523880"/>
            <a:ext cx="48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ML è stata la prima malattia neoplastica dell’u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cui una specifica anomalia del cariotipo, il cromosoma Philadelphia (Ph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è stata associata alla generazione della leucem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935600" y="1371600"/>
            <a:ext cx="4056120" cy="50292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 flipV="1">
            <a:off x="8211960" y="3048120"/>
            <a:ext cx="685800" cy="457200"/>
          </a:xfrm>
          <a:prstGeom prst="line">
            <a:avLst/>
          </a:prstGeom>
          <a:ln w="38160">
            <a:solidFill>
              <a:srgbClr val="ffff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9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1962000"/>
            <a:ext cx="3932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cromosoma non norm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r Philadelphia (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1143000"/>
            <a:ext cx="458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Nel 95% dei casi di C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1730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gradFill rotWithShape="0">
            <a:gsLst>
              <a:gs pos="0">
                <a:srgbClr val="ff1119"/>
              </a:gs>
              <a:gs pos="50000">
                <a:srgbClr val="ffff02"/>
              </a:gs>
              <a:gs pos="100000">
                <a:srgbClr val="ff111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3276720"/>
            <a:ext cx="29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dagini FISH E MOLECO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4800600"/>
            <a:ext cx="89917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 FORMANO DUE GENI DI FUSIO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BL-BCR su DER9 (nessuna proteina prodot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BCR-ABL su P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proteina di fusione coinvolta nella proliferazone cellul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648320" y="762120"/>
            <a:ext cx="4495680" cy="4059000"/>
            <a:chOff x="4648320" y="762120"/>
            <a:chExt cx="4495680" cy="4059000"/>
          </a:xfrm>
        </p:grpSpPr>
        <p:grpSp>
          <p:nvGrpSpPr>
            <p:cNvPr id="309" name=""/>
            <p:cNvGrpSpPr/>
            <p:nvPr/>
          </p:nvGrpSpPr>
          <p:grpSpPr>
            <a:xfrm>
              <a:off x="4648320" y="762120"/>
              <a:ext cx="4495680" cy="4059000"/>
              <a:chOff x="4648320" y="762120"/>
              <a:chExt cx="4495680" cy="40590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762120"/>
                <a:ext cx="4495680" cy="40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6477120" y="2382480"/>
                <a:ext cx="380880" cy="304560"/>
              </a:xfrm>
              <a:prstGeom prst="rightArrow">
                <a:avLst>
                  <a:gd name="adj1" fmla="val 50000"/>
                  <a:gd name="adj2" fmla="val 31265"/>
                </a:avLst>
              </a:prstGeom>
              <a:gradFill rotWithShape="0">
                <a:gsLst>
                  <a:gs pos="0">
                    <a:srgbClr val="ff1119"/>
                  </a:gs>
                  <a:gs pos="100000">
                    <a:srgbClr val="75070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41000" y="952200"/>
                <a:ext cx="52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B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36160" y="1434960"/>
                <a:ext cx="53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C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953760" y="9554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BL/BC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28560" y="1412640"/>
              <a:ext cx="99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CR/AB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05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3657600"/>
            <a:ext cx="466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locazione reciproca braccio lungo chr.9 e il braccio lungo chr.22: t(9;22)(q34;q11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1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137800" cy="43956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99072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CML, Leucemia Mieloide Cronica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2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920" y="12193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pproccio citogenetic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 citogenetico molecolare (FISH): cromosoma Philadelphia nella leucemia mieloide 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52280" y="2757600"/>
            <a:ext cx="5715000" cy="38718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019920" y="2890800"/>
            <a:ext cx="3066840" cy="30114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7772400" y="609480"/>
            <a:ext cx="113832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Diagnosi del tumore 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36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5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5720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alterati nel cancro sono definiti </a:t>
            </a:r>
            <a:r>
              <a:rPr b="1" lang="en-US" sz="2400" spc="-1" strike="noStrike">
                <a:solidFill>
                  <a:srgbClr val="ff0f23"/>
                </a:solidFill>
                <a:latin typeface="Comic Sans MS"/>
              </a:rPr>
              <a:t>onco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questo nome deriva dalla scoperta di geni virali responsabili della trasformazione  in tumore delle cellule infet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3549600"/>
            <a:ext cx="1791000" cy="1371600"/>
            <a:chOff x="2438280" y="3549600"/>
            <a:chExt cx="1791000" cy="1371600"/>
          </a:xfrm>
        </p:grpSpPr>
        <p:sp>
          <p:nvSpPr>
            <p:cNvPr id="64" name=""/>
            <p:cNvSpPr/>
            <p:nvPr/>
          </p:nvSpPr>
          <p:spPr>
            <a:xfrm>
              <a:off x="3581280" y="3549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8280" y="4387680"/>
              <a:ext cx="1791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oto-oncog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52280" y="3549600"/>
            <a:ext cx="2133720" cy="1618200"/>
            <a:chOff x="152280" y="3549600"/>
            <a:chExt cx="2133720" cy="1618200"/>
          </a:xfrm>
        </p:grpSpPr>
        <p:sp>
          <p:nvSpPr>
            <p:cNvPr id="67" name=""/>
            <p:cNvSpPr/>
            <p:nvPr/>
          </p:nvSpPr>
          <p:spPr>
            <a:xfrm>
              <a:off x="838080" y="3549600"/>
              <a:ext cx="304920" cy="838080"/>
            </a:xfrm>
            <a:prstGeom prst="downArrow">
              <a:avLst>
                <a:gd name="adj1" fmla="val 50000"/>
                <a:gd name="adj2" fmla="val 68713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280" y="446400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ncosoppress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geni nei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419720" y="3549600"/>
            <a:ext cx="2095560" cy="1555560"/>
            <a:chOff x="4419720" y="3549600"/>
            <a:chExt cx="2095560" cy="1555560"/>
          </a:xfrm>
        </p:grpSpPr>
        <p:sp>
          <p:nvSpPr>
            <p:cNvPr id="71" name=""/>
            <p:cNvSpPr/>
            <p:nvPr/>
          </p:nvSpPr>
          <p:spPr>
            <a:xfrm>
              <a:off x="5562720" y="354960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972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ret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ddetti alla manutenzio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3549600"/>
            <a:ext cx="2095560" cy="1555560"/>
            <a:chOff x="6781680" y="3549600"/>
            <a:chExt cx="2095560" cy="1555560"/>
          </a:xfrm>
        </p:grpSpPr>
        <p:sp>
          <p:nvSpPr>
            <p:cNvPr id="74" name=""/>
            <p:cNvSpPr/>
            <p:nvPr/>
          </p:nvSpPr>
          <p:spPr>
            <a:xfrm>
              <a:off x="7924680" y="3549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8168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ndscap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rchitetti del paesaggi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11480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pproccio mole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14479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T-PCR (geni di fusione o traslocazioni con punto di rottura noto): t(14;18)gene: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495680" y="3087720"/>
            <a:ext cx="4648320" cy="2865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4267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Diagnosi del tumore 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373880" y="533520"/>
            <a:ext cx="1465200" cy="1322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28600" y="2743200"/>
            <a:ext cx="16002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.pesante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46240" y="2743200"/>
            <a:ext cx="139716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 b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920" y="244476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6240" y="246384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om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8320" y="304812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5280" y="303516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2094840" y="33145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3320" y="365760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ssun prodot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4460760"/>
            <a:ext cx="16002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.pesante 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484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7160" y="412128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slocazione 14;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41840" y="47656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460760"/>
            <a:ext cx="13968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 b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4842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94320" y="475308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2033280" y="52196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79440" y="5562720"/>
            <a:ext cx="20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dotto di RT-P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el gene ib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81040" y="6324480"/>
            <a:ext cx="83520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3160" y="6324480"/>
            <a:ext cx="728640" cy="30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67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71720" y="10476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TRASLOCAZIONE t(14;18)(q32;q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48320" cy="5094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7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2438280"/>
            <a:ext cx="2454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1119"/>
                </a:solidFill>
                <a:latin typeface="Comic Sans MS"/>
              </a:rPr>
              <a:t>La traslocazione t(15;17)(q22;q21) è associata clinicamente alla leucemia acuta promielocitica (AP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276720" y="1477800"/>
            <a:ext cx="5651280" cy="5075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eucemia Acuta Promielocitica (APL) (geni coinvolti PML-RAR</a:t>
            </a:r>
            <a:r>
              <a:rPr b="1" lang="it-IT" sz="2800" spc="-1" strike="noStrike">
                <a:solidFill>
                  <a:srgbClr val="ff1119"/>
                </a:solidFill>
                <a:latin typeface="Symbol"/>
                <a:ea typeface="Symbol"/>
              </a:rPr>
              <a:t></a:t>
            </a: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57560" y="557532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ff0b"/>
                </a:solidFill>
                <a:latin typeface="Comic Sans MS"/>
              </a:rPr>
              <a:t>In verde chr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119"/>
                </a:solidFill>
                <a:latin typeface="Comic Sans MS"/>
              </a:rPr>
              <a:t>In rosso chr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8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16480" y="1949400"/>
            <a:ext cx="169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71720" y="1047600"/>
            <a:ext cx="44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1119"/>
                </a:solidFill>
                <a:latin typeface="Comic Sans MS"/>
              </a:rPr>
              <a:t>TRASLOCAZIONE t(14;18)(q32;q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648320" cy="509436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119"/>
                </a:solidFill>
                <a:latin typeface="Comic Sans MS"/>
              </a:rPr>
              <a:t>Linfomi Non Hodgkin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39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11430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ià negli anni ‘80 ben venti diversi retrovirus erano risultati portatori di un oncogene: sono indicati con abbreviazioni di tre lettere, solitamente derivanti dal tumore provocato (es.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rbB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per eritroblastos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276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8195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li oncogeni virali sono omologhi a normali geni eucariotici (es. il gene viral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v-src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è omologo al gene cellul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c-sr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 cioe’ nella cellula sono presenti geni che hanno la funzione di stimolare la riproduzione cellul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449568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esti geni cellulari sono definiti PROTO-ONCO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648320"/>
            <a:ext cx="86868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do si sovraesprimono diventano oncogeni e trasformano la cellula: quindi si possono definire dominanti... Per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3276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1430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he’ la cellula e’ eterozigote : ha un allel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ild-typ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e uno mutato e per questo non e’ piu’ in grado di svolgere correttamente il controllo sul proprio cicl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895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mutazioni dei proto-oncogeni danno un vantaggio selettivo alla cellula perche’ permettono di crescere indiscrimina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495680"/>
            <a:ext cx="8610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proto-oncogeni sono geni che codificano per molecole che regolano il differenziamento e la proliferazione cellulare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fattori di crescita, recettori, proteine associate alla membrana cellulare per la trasmissione dei segnali, proteine che controllano la trascrizione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304920" y="1143000"/>
            <a:ext cx="7000920" cy="5153040"/>
            <a:chOff x="304920" y="1143000"/>
            <a:chExt cx="7000920" cy="51530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990720" y="1143000"/>
              <a:ext cx="6315120" cy="51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600200" y="1447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21896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.: c-s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3880" y="2743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.: c-er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Schema delle classi di proto-oncogen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700440"/>
            <a:ext cx="36576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proto-oncogeni diventano oncogeni quando vengano attivati in maniera difforme dal loro schema fisiolog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0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373392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plificazione ge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0574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eguenza di errori casuali nella replicazione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1523880"/>
            <a:ext cx="457200" cy="457200"/>
          </a:xfrm>
          <a:custGeom>
            <a:avLst/>
            <a:gdLst>
              <a:gd name="textAreaLeft" fmla="*/ 152280 w 457200"/>
              <a:gd name="textAreaRight" fmla="*/ 391680 w 4572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590920"/>
            <a:ext cx="8534520" cy="368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sempio: cromosomi double minutes e homogeneously staining regions (HS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79720" y="3124080"/>
            <a:ext cx="3579840" cy="37339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4505400" y="3124080"/>
            <a:ext cx="2435040" cy="727200"/>
            <a:chOff x="4505400" y="3124080"/>
            <a:chExt cx="2435040" cy="727200"/>
          </a:xfrm>
        </p:grpSpPr>
        <p:sp>
          <p:nvSpPr>
            <p:cNvPr id="116" name=""/>
            <p:cNvSpPr/>
            <p:nvPr/>
          </p:nvSpPr>
          <p:spPr>
            <a:xfrm flipH="1">
              <a:off x="4505400" y="3317760"/>
              <a:ext cx="761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581000" y="33177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038200" y="33940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880" y="3124080"/>
              <a:ext cx="167256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uble min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22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95280"/>
            <a:ext cx="4343400" cy="520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e punt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362320"/>
            <a:ext cx="8229600" cy="30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empio: nel carcinoma della vescica, il gene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enta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mutazione nella sostituzione di una singola base che, a sua volta, provoca la sostituzione di un amminoacido. Tali cambiamenti avvengono in punti caratteristici del gene che conducono a trasformazione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3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219320"/>
            <a:ext cx="8915400" cy="459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arrangiamento cromosomic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foma di Burkitt t(8;14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d__x001d__x001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Modalita’ di attivazione II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981080"/>
            <a:ext cx="5042160" cy="2273400"/>
            <a:chOff x="152280" y="1981080"/>
            <a:chExt cx="5042160" cy="2273400"/>
          </a:xfrm>
        </p:grpSpPr>
        <p:grpSp>
          <p:nvGrpSpPr>
            <p:cNvPr id="137" name=""/>
            <p:cNvGrpSpPr/>
            <p:nvPr/>
          </p:nvGrpSpPr>
          <p:grpSpPr>
            <a:xfrm>
              <a:off x="1219320" y="1981080"/>
              <a:ext cx="380880" cy="2273400"/>
              <a:chOff x="1219320" y="1981080"/>
              <a:chExt cx="380880" cy="2273400"/>
            </a:xfrm>
          </p:grpSpPr>
          <p:sp>
            <p:nvSpPr>
              <p:cNvPr id="138" name=""/>
              <p:cNvSpPr/>
              <p:nvPr/>
            </p:nvSpPr>
            <p:spPr>
              <a:xfrm>
                <a:off x="121932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30320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1932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19320" y="384804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52280" y="3440160"/>
              <a:ext cx="990720" cy="398880"/>
              <a:chOff x="152280" y="3440160"/>
              <a:chExt cx="990720" cy="398880"/>
            </a:xfrm>
          </p:grpSpPr>
          <p:sp>
            <p:nvSpPr>
              <p:cNvPr id="143" name=""/>
              <p:cNvSpPr/>
              <p:nvPr/>
            </p:nvSpPr>
            <p:spPr>
              <a:xfrm>
                <a:off x="156960" y="3440160"/>
                <a:ext cx="88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-my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2280" y="382104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905200" y="2857680"/>
              <a:ext cx="380880" cy="1371600"/>
              <a:chOff x="2905200" y="2857680"/>
              <a:chExt cx="380880" cy="1371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90520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8908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0520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05200" y="39495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438360" y="3352680"/>
              <a:ext cx="175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 catena pesante 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4038480"/>
              <a:ext cx="68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676520" y="1981080"/>
              <a:ext cx="380880" cy="2273400"/>
              <a:chOff x="1676520" y="1981080"/>
              <a:chExt cx="380880" cy="2273400"/>
            </a:xfrm>
          </p:grpSpPr>
          <p:sp>
            <p:nvSpPr>
              <p:cNvPr id="153" name=""/>
              <p:cNvSpPr/>
              <p:nvPr/>
            </p:nvSpPr>
            <p:spPr>
              <a:xfrm>
                <a:off x="167652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6040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7652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76520" y="384804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438280" y="2857680"/>
              <a:ext cx="380880" cy="1371600"/>
              <a:chOff x="2438280" y="2857680"/>
              <a:chExt cx="380880" cy="1371600"/>
            </a:xfrm>
          </p:grpSpPr>
          <p:sp>
            <p:nvSpPr>
              <p:cNvPr id="158" name=""/>
              <p:cNvSpPr/>
              <p:nvPr/>
            </p:nvSpPr>
            <p:spPr>
              <a:xfrm>
                <a:off x="243828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2216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3828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38280" y="39495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5715000" y="1981080"/>
            <a:ext cx="2438280" cy="2286000"/>
            <a:chOff x="5715000" y="1981080"/>
            <a:chExt cx="2438280" cy="2286000"/>
          </a:xfrm>
        </p:grpSpPr>
        <p:grpSp>
          <p:nvGrpSpPr>
            <p:cNvPr id="163" name=""/>
            <p:cNvGrpSpPr/>
            <p:nvPr/>
          </p:nvGrpSpPr>
          <p:grpSpPr>
            <a:xfrm>
              <a:off x="6248520" y="1981080"/>
              <a:ext cx="380880" cy="2286000"/>
              <a:chOff x="6248520" y="1981080"/>
              <a:chExt cx="380880" cy="2286000"/>
            </a:xfrm>
          </p:grpSpPr>
          <p:sp>
            <p:nvSpPr>
              <p:cNvPr id="164" name=""/>
              <p:cNvSpPr/>
              <p:nvPr/>
            </p:nvSpPr>
            <p:spPr>
              <a:xfrm>
                <a:off x="624852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3240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4852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520" y="380988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8520" y="3898800"/>
                <a:ext cx="380880" cy="368280"/>
              </a:xfrm>
              <a:prstGeom prst="can">
                <a:avLst>
                  <a:gd name="adj" fmla="val 28449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520" y="39117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238880" y="2857680"/>
              <a:ext cx="380880" cy="1371600"/>
              <a:chOff x="7238880" y="2857680"/>
              <a:chExt cx="380880" cy="13716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3888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38880" y="387360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2312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888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38880" y="3873600"/>
                <a:ext cx="380880" cy="355680"/>
              </a:xfrm>
              <a:prstGeom prst="can">
                <a:avLst>
                  <a:gd name="adj" fmla="val 9819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1981080"/>
              <a:ext cx="380880" cy="2273400"/>
              <a:chOff x="5715000" y="1981080"/>
              <a:chExt cx="380880" cy="2273400"/>
            </a:xfrm>
          </p:grpSpPr>
          <p:sp>
            <p:nvSpPr>
              <p:cNvPr id="177" name=""/>
              <p:cNvSpPr/>
              <p:nvPr/>
            </p:nvSpPr>
            <p:spPr>
              <a:xfrm>
                <a:off x="5715000" y="2857680"/>
                <a:ext cx="380880" cy="1396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8880" y="2768760"/>
                <a:ext cx="233640" cy="17748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15000" y="1981080"/>
                <a:ext cx="380880" cy="801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ed181e"/>
                  </a:gs>
                  <a:gs pos="50000">
                    <a:srgbClr val="ffffff"/>
                  </a:gs>
                  <a:gs pos="100000">
                    <a:srgbClr val="ed181e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000" y="3848040"/>
                <a:ext cx="380880" cy="114480"/>
              </a:xfrm>
              <a:prstGeom prst="rect">
                <a:avLst/>
              </a:prstGeom>
              <a:solidFill>
                <a:srgbClr val="ed18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772400" y="2857680"/>
              <a:ext cx="380880" cy="1371600"/>
              <a:chOff x="7772400" y="2857680"/>
              <a:chExt cx="380880" cy="13716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72400" y="3111480"/>
                <a:ext cx="380880" cy="1117800"/>
              </a:xfrm>
              <a:prstGeom prst="can">
                <a:avLst>
                  <a:gd name="adj" fmla="val 13296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56280" y="3022560"/>
                <a:ext cx="233280" cy="177840"/>
              </a:xfrm>
              <a:prstGeom prst="octagon">
                <a:avLst>
                  <a:gd name="adj" fmla="val 29287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0" y="2857680"/>
                <a:ext cx="380880" cy="2044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72400" y="3949560"/>
                <a:ext cx="380880" cy="88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38160" y="434340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-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y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si viene a trovare sotto il controllo del promotore del 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 e’ un promotore forte e nella serie bianca funziona ad un rit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vato: il proto-oncogene perde la propria regolazione e assume qu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 Ig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cellula perde il controll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360" y="5867280"/>
            <a:ext cx="71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QUESTO AVVIENE SOLO SE LA TRASLOCAZIONE SI VERIF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EI LINFOCIT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590920"/>
            <a:ext cx="1905120" cy="3808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raslo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190" name="" descr=""/>
            <p:cNvPicPr/>
            <p:nvPr/>
          </p:nvPicPr>
          <p:blipFill>
            <a:blip r:embed="rId9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1371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alterati nel cancro sono definiti </a:t>
            </a:r>
            <a:r>
              <a:rPr b="1" lang="en-US" sz="2400" spc="-1" strike="noStrike">
                <a:solidFill>
                  <a:srgbClr val="ff0f23"/>
                </a:solidFill>
                <a:latin typeface="Comic Sans MS"/>
              </a:rPr>
              <a:t>onco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questo nome deriva dalla scoperta di geni virali responsabili della trasformazione  in tumore delle cellule infet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2280" y="3549600"/>
            <a:ext cx="4077000" cy="1618200"/>
            <a:chOff x="152280" y="3549600"/>
            <a:chExt cx="4077000" cy="1618200"/>
          </a:xfrm>
        </p:grpSpPr>
        <p:grpSp>
          <p:nvGrpSpPr>
            <p:cNvPr id="196" name=""/>
            <p:cNvGrpSpPr/>
            <p:nvPr/>
          </p:nvGrpSpPr>
          <p:grpSpPr>
            <a:xfrm>
              <a:off x="2438280" y="3549600"/>
              <a:ext cx="1791000" cy="1371600"/>
              <a:chOff x="2438280" y="3549600"/>
              <a:chExt cx="1791000" cy="1371600"/>
            </a:xfrm>
          </p:grpSpPr>
          <p:sp>
            <p:nvSpPr>
              <p:cNvPr id="197" name=""/>
              <p:cNvSpPr/>
              <p:nvPr/>
            </p:nvSpPr>
            <p:spPr>
              <a:xfrm>
                <a:off x="3581280" y="3549600"/>
                <a:ext cx="304920" cy="914400"/>
              </a:xfrm>
              <a:prstGeom prst="downArrow">
                <a:avLst>
                  <a:gd name="adj1" fmla="val 50000"/>
                  <a:gd name="adj2" fmla="val 74970"/>
                </a:avLst>
              </a:prstGeom>
              <a:solidFill>
                <a:srgbClr val="ff0f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38280" y="4387680"/>
                <a:ext cx="17910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proto-oncoge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52280" y="3549600"/>
              <a:ext cx="2133720" cy="1618200"/>
              <a:chOff x="152280" y="3549600"/>
              <a:chExt cx="2133720" cy="1618200"/>
            </a:xfrm>
          </p:grpSpPr>
          <p:sp>
            <p:nvSpPr>
              <p:cNvPr id="200" name=""/>
              <p:cNvSpPr/>
              <p:nvPr/>
            </p:nvSpPr>
            <p:spPr>
              <a:xfrm>
                <a:off x="838080" y="3549600"/>
                <a:ext cx="304920" cy="838080"/>
              </a:xfrm>
              <a:prstGeom prst="downArrow">
                <a:avLst>
                  <a:gd name="adj1" fmla="val 50000"/>
                  <a:gd name="adj2" fmla="val 68713"/>
                </a:avLst>
              </a:prstGeom>
              <a:solidFill>
                <a:srgbClr val="ff0f2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52280" y="4464000"/>
                <a:ext cx="2133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ncosoppress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306"/>
                </a:solidFill>
                <a:latin typeface="Comic Sans MS"/>
              </a:rPr>
              <a:t>I geni nei tumori</a:t>
            </a:r>
            <a:endParaRPr b="1" lang="en-US" sz="2800" spc="-1" strike="noStrike">
              <a:solidFill>
                <a:srgbClr val="ff0306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419720" y="3549600"/>
            <a:ext cx="2095560" cy="1555560"/>
            <a:chOff x="4419720" y="3549600"/>
            <a:chExt cx="2095560" cy="1555560"/>
          </a:xfrm>
        </p:grpSpPr>
        <p:sp>
          <p:nvSpPr>
            <p:cNvPr id="204" name=""/>
            <p:cNvSpPr/>
            <p:nvPr/>
          </p:nvSpPr>
          <p:spPr>
            <a:xfrm>
              <a:off x="5562720" y="354960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1972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aret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ddetti alla manutenzion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781680" y="3549600"/>
            <a:ext cx="2095560" cy="1555560"/>
            <a:chOff x="6781680" y="3549600"/>
            <a:chExt cx="2095560" cy="1555560"/>
          </a:xfrm>
        </p:grpSpPr>
        <p:sp>
          <p:nvSpPr>
            <p:cNvPr id="207" name=""/>
            <p:cNvSpPr/>
            <p:nvPr/>
          </p:nvSpPr>
          <p:spPr>
            <a:xfrm>
              <a:off x="7924680" y="3549600"/>
              <a:ext cx="304920" cy="914400"/>
            </a:xfrm>
            <a:prstGeom prst="downArrow">
              <a:avLst>
                <a:gd name="adj1" fmla="val 50000"/>
                <a:gd name="adj2" fmla="val 74970"/>
              </a:avLst>
            </a:prstGeom>
            <a:solidFill>
              <a:srgbClr val="ff0f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4419360"/>
              <a:ext cx="2095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ndscap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architetti del paesaggi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320" y="12600"/>
            <a:ext cx="8839080" cy="806400"/>
            <a:chOff x="76320" y="12600"/>
            <a:chExt cx="8839080" cy="806400"/>
          </a:xfrm>
        </p:grpSpPr>
        <p:pic>
          <p:nvPicPr>
            <p:cNvPr id="21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42400" y="13032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3809880" y="88920"/>
              <a:ext cx="487692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Biologia Cellulare e Molecolare   Genetica II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7:16:03Z</dcterms:created>
  <dc:creator>Rocchi</dc:creator>
  <dc:description/>
  <dc:language>en-US</dc:language>
  <cp:lastModifiedBy>Mariano Rocchi</cp:lastModifiedBy>
  <dcterms:modified xsi:type="dcterms:W3CDTF">2005-06-14T06:58:09Z</dcterms:modified>
  <cp:revision>176</cp:revision>
  <dc:subject/>
  <dc:title>PowerPoint Presentation</dc:title>
</cp:coreProperties>
</file>