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ct" ContentType="image/x-pict"/>
  <Override PartName="/ppt/media/image4.png" ContentType="image/png"/>
  <Override PartName="/ppt/media/image8.jpeg" ContentType="image/jpeg"/>
  <Override PartName="/ppt/media/image9.jpeg" ContentType="image/jpeg"/>
  <Override PartName="/ppt/media/image13.pct" ContentType="image/x-pict"/>
  <Override PartName="/ppt/media/image2.png" ContentType="image/png"/>
  <Override PartName="/ppt/media/image3.jpeg" ContentType="image/jpeg"/>
  <Override PartName="/ppt/media/image5.jpeg" ContentType="image/jpeg"/>
  <Override PartName="/ppt/media/image12.pct" ContentType="image/x-pict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6703-A7CA-4A34-87DE-5E2F913F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07C-3E86-4FBE-8DA4-44D51445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2361-9591-4081-9220-F2A4DD55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660-4F25-4EF0-8858-F9A78A9E4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F6E-1C01-45B9-A0D2-768FD0A3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970-48C2-4B79-9F60-BCDF422E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C34-B47A-4073-A6CF-79C76D7A5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417-18B4-4290-A879-2A7B23C40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B27-60CA-408D-9927-AF158139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3BC-C9CE-46F2-BD1B-2056A19C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989-9766-425D-BD7A-E4FFA3CF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B67-AA7D-492D-9509-DF7A2882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88C-A3EB-4A50-BC54-8C29A34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777-EF41-4159-B46D-6607144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BCE-E874-4960-B8EA-28CE7265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823-00CA-4782-985C-DC90390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4920" y="533160"/>
            <a:ext cx="779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CAD-3407-46A3-8584-4D8BB55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41-1431-45C1-A2FF-172DE4E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210-B653-4943-8EFE-3CC8A39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804-BDCD-45AC-AAAE-C88C3C0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12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77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804-E553-4400-8B19-64948EDD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image" Target="../media/image9.jpeg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1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11.png"/><Relationship Id="rId7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07240" y="61722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Mappatura del genoma uman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5676840" y="4170240"/>
            <a:ext cx="1009440" cy="1163520"/>
            <a:chOff x="5676840" y="4170240"/>
            <a:chExt cx="1009440" cy="1163520"/>
          </a:xfrm>
        </p:grpSpPr>
        <p:grpSp>
          <p:nvGrpSpPr>
            <p:cNvPr id="649" name=""/>
            <p:cNvGrpSpPr/>
            <p:nvPr/>
          </p:nvGrpSpPr>
          <p:grpSpPr>
            <a:xfrm>
              <a:off x="6046560" y="4305240"/>
              <a:ext cx="106200" cy="737280"/>
              <a:chOff x="6046560" y="4305240"/>
              <a:chExt cx="106200" cy="73728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6046560" y="4305240"/>
                <a:ext cx="105840" cy="737280"/>
                <a:chOff x="6046560" y="4305240"/>
                <a:chExt cx="105840" cy="737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0465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0465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60465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572832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664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6896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76840" y="495936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76440" y="457200"/>
            <a:ext cx="6686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a1e"/>
                </a:solidFill>
                <a:latin typeface="Comic Sans MS"/>
              </a:rPr>
              <a:t>Rapporto genotipico nella associazione parziale</a:t>
            </a:r>
            <a:endParaRPr b="1" lang="en-US" sz="20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2351520" y="3505320"/>
            <a:ext cx="37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non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3098160" y="3492360"/>
            <a:ext cx="76320" cy="1320840"/>
          </a:xfrm>
          <a:custGeom>
            <a:avLst/>
            <a:gdLst>
              <a:gd name="textAreaLeft" fmla="*/ 22320 w 76320"/>
              <a:gd name="textAreaRight" fmla="*/ 76320 w 76320"/>
              <a:gd name="textAreaTop" fmla="*/ 54720 h 1320840"/>
              <a:gd name="textAreaBottom" fmla="*/ 126612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5574600" y="3492360"/>
            <a:ext cx="76320" cy="1320840"/>
          </a:xfrm>
          <a:custGeom>
            <a:avLst/>
            <a:gdLst>
              <a:gd name="textAreaLeft" fmla="*/ 22320 w 76320"/>
              <a:gd name="textAreaRight" fmla="*/ 76320 w 76320"/>
              <a:gd name="textAreaTop" fmla="*/ 54720 h 1320840"/>
              <a:gd name="textAreaBottom" fmla="*/ 126612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45040" y="378468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% paren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94040" y="378468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% ricombin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280000" y="426708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mete 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44320" y="4378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6720" y="56386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64000" y="64119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86320" y="64119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67400" y="64008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8400" y="1676520"/>
            <a:ext cx="15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70280" y="130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7280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93000" y="28954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69080" y="1523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247920" y="1066680"/>
            <a:ext cx="1346040" cy="1217880"/>
            <a:chOff x="3247920" y="1066680"/>
            <a:chExt cx="1346040" cy="1217880"/>
          </a:xfrm>
        </p:grpSpPr>
        <p:grpSp>
          <p:nvGrpSpPr>
            <p:cNvPr id="676" name=""/>
            <p:cNvGrpSpPr/>
            <p:nvPr/>
          </p:nvGrpSpPr>
          <p:grpSpPr>
            <a:xfrm>
              <a:off x="3549240" y="1143000"/>
              <a:ext cx="123120" cy="1057680"/>
              <a:chOff x="3549240" y="1143000"/>
              <a:chExt cx="123120" cy="105768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3549240" y="1143000"/>
                <a:ext cx="122760" cy="1057680"/>
                <a:chOff x="3549240" y="1143000"/>
                <a:chExt cx="122760" cy="10576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3549240" y="165204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549240" y="114300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3549240" y="165240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962160" y="1143000"/>
              <a:ext cx="123480" cy="1057680"/>
              <a:chOff x="3962160" y="1143000"/>
              <a:chExt cx="123480" cy="105768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962160" y="1143000"/>
                <a:ext cx="123120" cy="1057680"/>
                <a:chOff x="3962160" y="1143000"/>
                <a:chExt cx="123120" cy="10576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962160" y="165204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962160" y="114300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3962160" y="165240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3247920" y="1066680"/>
              <a:ext cx="1346040" cy="12178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43560" y="1087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42120" y="1809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56480" y="1066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58280" y="1828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5011560" y="1066680"/>
            <a:ext cx="1344600" cy="1217880"/>
            <a:chOff x="5011560" y="1066680"/>
            <a:chExt cx="1344600" cy="1217880"/>
          </a:xfrm>
        </p:grpSpPr>
        <p:grpSp>
          <p:nvGrpSpPr>
            <p:cNvPr id="692" name=""/>
            <p:cNvGrpSpPr/>
            <p:nvPr/>
          </p:nvGrpSpPr>
          <p:grpSpPr>
            <a:xfrm>
              <a:off x="5312520" y="1143000"/>
              <a:ext cx="123120" cy="1057680"/>
              <a:chOff x="5312520" y="1143000"/>
              <a:chExt cx="123120" cy="10576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12520" y="1143000"/>
                <a:ext cx="122760" cy="1057680"/>
                <a:chOff x="5312520" y="1143000"/>
                <a:chExt cx="122760" cy="10576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12520" y="165204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312520" y="114300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5312520" y="165240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5725080" y="1143000"/>
              <a:ext cx="123480" cy="1057680"/>
              <a:chOff x="5725080" y="1143000"/>
              <a:chExt cx="123480" cy="105768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5725080" y="1143000"/>
                <a:ext cx="123120" cy="1057680"/>
                <a:chOff x="5725080" y="1143000"/>
                <a:chExt cx="123120" cy="10576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725080" y="165204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725080" y="114300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5725080" y="165240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011560" y="1066680"/>
              <a:ext cx="1344600" cy="12178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07560" y="1087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05400" y="1809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19400" y="1066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21560" y="1828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044960" y="2362320"/>
            <a:ext cx="1344240" cy="1217520"/>
            <a:chOff x="4044960" y="2362320"/>
            <a:chExt cx="1344240" cy="1217520"/>
          </a:xfrm>
        </p:grpSpPr>
        <p:grpSp>
          <p:nvGrpSpPr>
            <p:cNvPr id="708" name=""/>
            <p:cNvGrpSpPr/>
            <p:nvPr/>
          </p:nvGrpSpPr>
          <p:grpSpPr>
            <a:xfrm>
              <a:off x="4345920" y="2438280"/>
              <a:ext cx="123120" cy="1057680"/>
              <a:chOff x="4345920" y="2438280"/>
              <a:chExt cx="123120" cy="105768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4345920" y="2438280"/>
                <a:ext cx="122760" cy="1057680"/>
                <a:chOff x="4345920" y="2438280"/>
                <a:chExt cx="122760" cy="10576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4345920" y="29473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345920" y="24382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4345920" y="29473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758480" y="2438280"/>
              <a:ext cx="123480" cy="1057680"/>
              <a:chOff x="4758480" y="2438280"/>
              <a:chExt cx="123480" cy="105768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4758480" y="2438280"/>
                <a:ext cx="123120" cy="1057680"/>
                <a:chOff x="4758480" y="2438280"/>
                <a:chExt cx="123120" cy="10576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758480" y="29473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758480" y="24382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4758480" y="29473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044960" y="23623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40240" y="23828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38440" y="310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2440" y="23623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4960" y="3124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613120" y="274320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898640" y="4170240"/>
            <a:ext cx="1009440" cy="1163520"/>
            <a:chOff x="1898640" y="4170240"/>
            <a:chExt cx="1009440" cy="1163520"/>
          </a:xfrm>
        </p:grpSpPr>
        <p:grpSp>
          <p:nvGrpSpPr>
            <p:cNvPr id="725" name=""/>
            <p:cNvGrpSpPr/>
            <p:nvPr/>
          </p:nvGrpSpPr>
          <p:grpSpPr>
            <a:xfrm>
              <a:off x="2268360" y="4305240"/>
              <a:ext cx="106200" cy="737280"/>
              <a:chOff x="2268360" y="4305240"/>
              <a:chExt cx="106200" cy="7372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2268360" y="4305240"/>
                <a:ext cx="105840" cy="737280"/>
                <a:chOff x="2268360" y="4305240"/>
                <a:chExt cx="105840" cy="7372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2683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2683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22683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195012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882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9076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98640" y="495936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952720" y="4170240"/>
            <a:ext cx="1009440" cy="1163520"/>
            <a:chOff x="2952720" y="4170240"/>
            <a:chExt cx="1009440" cy="1163520"/>
          </a:xfrm>
        </p:grpSpPr>
        <p:grpSp>
          <p:nvGrpSpPr>
            <p:cNvPr id="735" name=""/>
            <p:cNvGrpSpPr/>
            <p:nvPr/>
          </p:nvGrpSpPr>
          <p:grpSpPr>
            <a:xfrm>
              <a:off x="3322440" y="4305240"/>
              <a:ext cx="106200" cy="737280"/>
              <a:chOff x="3322440" y="4305240"/>
              <a:chExt cx="106200" cy="73728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3322440" y="4305240"/>
                <a:ext cx="105840" cy="737280"/>
                <a:chOff x="3322440" y="4305240"/>
                <a:chExt cx="105840" cy="737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32244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32244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>
                <a:off x="332244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00420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4232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4484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52720" y="495936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438800" y="4170240"/>
            <a:ext cx="1008720" cy="1163520"/>
            <a:chOff x="4438800" y="4170240"/>
            <a:chExt cx="1008720" cy="1163520"/>
          </a:xfrm>
        </p:grpSpPr>
        <p:grpSp>
          <p:nvGrpSpPr>
            <p:cNvPr id="745" name=""/>
            <p:cNvGrpSpPr/>
            <p:nvPr/>
          </p:nvGrpSpPr>
          <p:grpSpPr>
            <a:xfrm>
              <a:off x="4808160" y="4305240"/>
              <a:ext cx="106200" cy="737280"/>
              <a:chOff x="4808160" y="4305240"/>
              <a:chExt cx="106200" cy="7372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4808160" y="4305240"/>
                <a:ext cx="105840" cy="737280"/>
                <a:chOff x="4808160" y="4305240"/>
                <a:chExt cx="105840" cy="7372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8081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8081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48081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4489920" y="4228920"/>
              <a:ext cx="95760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280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3056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38800" y="495936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327800" y="4114800"/>
            <a:ext cx="1009440" cy="1163520"/>
            <a:chOff x="7327800" y="4114800"/>
            <a:chExt cx="1009440" cy="1163520"/>
          </a:xfrm>
        </p:grpSpPr>
        <p:grpSp>
          <p:nvGrpSpPr>
            <p:cNvPr id="755" name=""/>
            <p:cNvGrpSpPr/>
            <p:nvPr/>
          </p:nvGrpSpPr>
          <p:grpSpPr>
            <a:xfrm>
              <a:off x="7697520" y="4249800"/>
              <a:ext cx="106200" cy="737280"/>
              <a:chOff x="7697520" y="4249800"/>
              <a:chExt cx="106200" cy="7372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7697520" y="4249800"/>
                <a:ext cx="105840" cy="737280"/>
                <a:chOff x="7697520" y="4249800"/>
                <a:chExt cx="105840" cy="7372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697520" y="460476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697520" y="42498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7697520" y="460476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7379280" y="417348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17400" y="411480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19920" y="46846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27800" y="490392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1403280" y="5334120"/>
            <a:ext cx="1344240" cy="1217520"/>
            <a:chOff x="1403280" y="5334120"/>
            <a:chExt cx="1344240" cy="1217520"/>
          </a:xfrm>
        </p:grpSpPr>
        <p:grpSp>
          <p:nvGrpSpPr>
            <p:cNvPr id="765" name=""/>
            <p:cNvGrpSpPr/>
            <p:nvPr/>
          </p:nvGrpSpPr>
          <p:grpSpPr>
            <a:xfrm>
              <a:off x="1704240" y="5410080"/>
              <a:ext cx="123120" cy="1057680"/>
              <a:chOff x="1704240" y="5410080"/>
              <a:chExt cx="123120" cy="105768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1704240" y="5410080"/>
                <a:ext cx="122760" cy="1057680"/>
                <a:chOff x="1704240" y="5410080"/>
                <a:chExt cx="122760" cy="105768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70424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70424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170424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116800" y="5410080"/>
              <a:ext cx="123480" cy="1057680"/>
              <a:chOff x="2116800" y="5410080"/>
              <a:chExt cx="123480" cy="105768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116800" y="5410080"/>
                <a:ext cx="123120" cy="1057680"/>
                <a:chOff x="2116800" y="5410080"/>
                <a:chExt cx="123120" cy="10576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11680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11680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211680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140328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9856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9676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1076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1328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238400" y="6512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195720" y="5334120"/>
            <a:ext cx="1344240" cy="1217520"/>
            <a:chOff x="3195720" y="5334120"/>
            <a:chExt cx="1344240" cy="1217520"/>
          </a:xfrm>
        </p:grpSpPr>
        <p:grpSp>
          <p:nvGrpSpPr>
            <p:cNvPr id="782" name=""/>
            <p:cNvGrpSpPr/>
            <p:nvPr/>
          </p:nvGrpSpPr>
          <p:grpSpPr>
            <a:xfrm>
              <a:off x="3496680" y="5410080"/>
              <a:ext cx="123120" cy="1057680"/>
              <a:chOff x="3496680" y="5410080"/>
              <a:chExt cx="123120" cy="105768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3496680" y="5410080"/>
                <a:ext cx="122760" cy="1057680"/>
                <a:chOff x="3496680" y="5410080"/>
                <a:chExt cx="122760" cy="10576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349668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49668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349668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3909240" y="5410080"/>
              <a:ext cx="123480" cy="1057680"/>
              <a:chOff x="3909240" y="5410080"/>
              <a:chExt cx="123480" cy="10576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909240" y="5410080"/>
                <a:ext cx="123120" cy="1057680"/>
                <a:chOff x="3909240" y="5410080"/>
                <a:chExt cx="123120" cy="1057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390924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90924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390924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319572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9100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58920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0320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0572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17196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964040" y="5335560"/>
            <a:ext cx="1344240" cy="1217520"/>
            <a:chOff x="4964040" y="5335560"/>
            <a:chExt cx="1344240" cy="1217520"/>
          </a:xfrm>
        </p:grpSpPr>
        <p:grpSp>
          <p:nvGrpSpPr>
            <p:cNvPr id="799" name=""/>
            <p:cNvGrpSpPr/>
            <p:nvPr/>
          </p:nvGrpSpPr>
          <p:grpSpPr>
            <a:xfrm>
              <a:off x="5265000" y="5411520"/>
              <a:ext cx="123120" cy="1057680"/>
              <a:chOff x="5265000" y="5411520"/>
              <a:chExt cx="123120" cy="105768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265000" y="5411520"/>
                <a:ext cx="122760" cy="1057680"/>
                <a:chOff x="5265000" y="5411520"/>
                <a:chExt cx="122760" cy="10576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265000" y="592056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65000" y="5411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"/>
              <p:cNvSpPr/>
              <p:nvPr/>
            </p:nvSpPr>
            <p:spPr>
              <a:xfrm>
                <a:off x="5265000" y="592056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77560" y="5411520"/>
              <a:ext cx="123480" cy="1057680"/>
              <a:chOff x="5677560" y="5411520"/>
              <a:chExt cx="123480" cy="105768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5677560" y="5411520"/>
                <a:ext cx="123120" cy="1057680"/>
                <a:chOff x="5677560" y="5411520"/>
                <a:chExt cx="123120" cy="105768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677560" y="592056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7560" y="5411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5677560" y="592056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4964040" y="533556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59320" y="53560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57520" y="60782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71520" y="5335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74040" y="60973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98816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6827760" y="5334120"/>
            <a:ext cx="1344240" cy="1217520"/>
            <a:chOff x="6827760" y="5334120"/>
            <a:chExt cx="1344240" cy="1217520"/>
          </a:xfrm>
        </p:grpSpPr>
        <p:grpSp>
          <p:nvGrpSpPr>
            <p:cNvPr id="816" name=""/>
            <p:cNvGrpSpPr/>
            <p:nvPr/>
          </p:nvGrpSpPr>
          <p:grpSpPr>
            <a:xfrm>
              <a:off x="7128720" y="5410080"/>
              <a:ext cx="123120" cy="1057680"/>
              <a:chOff x="7128720" y="5410080"/>
              <a:chExt cx="123120" cy="105768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7128720" y="5410080"/>
                <a:ext cx="122760" cy="1057680"/>
                <a:chOff x="7128720" y="5410080"/>
                <a:chExt cx="122760" cy="1057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12872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12872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>
                <a:off x="712872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7541280" y="5410080"/>
              <a:ext cx="123480" cy="1057680"/>
              <a:chOff x="7541280" y="5410080"/>
              <a:chExt cx="123480" cy="105768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7541280" y="5410080"/>
                <a:ext cx="123120" cy="1057680"/>
                <a:chOff x="7541280" y="5410080"/>
                <a:chExt cx="123120" cy="1057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754128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54128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" name=""/>
              <p:cNvSpPr/>
              <p:nvPr/>
            </p:nvSpPr>
            <p:spPr>
              <a:xfrm>
                <a:off x="754128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682776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2304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2124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3524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3776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696924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898280" y="304560"/>
            <a:ext cx="67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a1e"/>
                </a:solidFill>
                <a:latin typeface="Comic Sans MS"/>
              </a:rPr>
              <a:t>Ricordiamo l’incrocio a 3 punti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1916280" y="1525680"/>
            <a:ext cx="643860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916280" y="1982880"/>
            <a:ext cx="6438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16280" y="914400"/>
            <a:ext cx="67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98640" y="2057400"/>
            <a:ext cx="66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3071880" y="1523880"/>
            <a:ext cx="4953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89440" y="1523880"/>
            <a:ext cx="660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6456240" y="1523880"/>
            <a:ext cx="4953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73800" y="1523880"/>
            <a:ext cx="660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80960" y="23623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utti i possibili gam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095560" y="342900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95560" y="281952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95560" y="37339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13120" y="3733920"/>
            <a:ext cx="26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 b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47880" y="2895480"/>
            <a:ext cx="247680" cy="1371600"/>
          </a:xfrm>
          <a:custGeom>
            <a:avLst/>
            <a:gdLst>
              <a:gd name="textAreaLeft" fmla="*/ 158400 w 247680"/>
              <a:gd name="textAreaRight" fmla="*/ 248040 w 2476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61800" y="3122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aren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52560" y="1523880"/>
            <a:ext cx="42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1800" y="449424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ver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98640" y="4419720"/>
            <a:ext cx="247680" cy="1371600"/>
          </a:xfrm>
          <a:custGeom>
            <a:avLst/>
            <a:gdLst>
              <a:gd name="textAreaLeft" fmla="*/ 158400 w 247680"/>
              <a:gd name="textAreaRight" fmla="*/ 248040 w 2476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178000" y="480060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78000" y="525780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8600" y="4800600"/>
            <a:ext cx="1733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21040" y="5257800"/>
            <a:ext cx="165096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307240" y="4443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42520" y="52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15040" y="297036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ver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83560" y="2895480"/>
            <a:ext cx="247320" cy="1371600"/>
          </a:xfrm>
          <a:custGeom>
            <a:avLst/>
            <a:gdLst>
              <a:gd name="textAreaLeft" fmla="*/ 158040 w 247320"/>
              <a:gd name="textAreaRight" fmla="*/ 247680 w 247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130880" y="327672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30880" y="37339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699400" y="3276720"/>
            <a:ext cx="82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750160" y="3733920"/>
            <a:ext cx="82548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78480" y="2843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20960" y="37418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15040" y="457056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ver 1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83560" y="4495680"/>
            <a:ext cx="247320" cy="1371600"/>
          </a:xfrm>
          <a:custGeom>
            <a:avLst/>
            <a:gdLst>
              <a:gd name="textAreaLeft" fmla="*/ 158040 w 247320"/>
              <a:gd name="textAreaRight" fmla="*/ 247680 w 247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130880" y="487692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30880" y="53341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09040" y="4876920"/>
            <a:ext cx="82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09040" y="5334120"/>
            <a:ext cx="82548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77040" y="45194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350120" y="5342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61080" y="594360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 questo incrocio ha “l’aplotipo” not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9171000" y="6350040"/>
            <a:ext cx="612720" cy="280800"/>
          </a:xfrm>
          <a:custGeom>
            <a:avLst/>
            <a:gdLst>
              <a:gd name="textAreaLeft" fmla="*/ 95760 w 612720"/>
              <a:gd name="textAreaRight" fmla="*/ 536400 w 61272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7491240" y="565200"/>
            <a:ext cx="2001960" cy="130788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2440" y="914040"/>
            <a:ext cx="7925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Ripuntualizziamo</a:t>
            </a: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la </a:t>
            </a: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definizione</a:t>
            </a: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di </a:t>
            </a:r>
            <a:r>
              <a:rPr b="1" lang="en-US" sz="3200" spc="-1" strike="noStrike" u="sng">
                <a:solidFill>
                  <a:srgbClr val="ff0202"/>
                </a:solidFill>
                <a:uFillTx/>
                <a:latin typeface="Comic Sans MS"/>
              </a:rPr>
              <a:t>ge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165240" y="1828800"/>
            <a:ext cx="96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“gene” mendeliano e’ un entita’ astratta identificata dalla modalita’ di  segregazione e dalla mappatura in un l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5240" y="2743200"/>
            <a:ext cx="955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“gene” molecolare e’ una sequenza codificante con una organizzazione definita: 5’UTR, esoni,introni, 3’UTR ....  corrispondente ad una sequenza amminoacidica o piu’genericamente ad un trascr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7680" y="4114800"/>
            <a:ext cx="9658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locus e’ una regione genomica la cui espressione porta ad un fenotipo: per cui e’ piu’ giusto parlare di locus-malattia che di gene-malattia. Il locus puo’ essere piu’ grande del gene molecolare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l linkage si fa fra locus, non fra geni molecol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Ancora terminologi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-367920" y="1447920"/>
            <a:ext cx="991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lotipo: genotipo del gamete. Se prendo in considerazione 3 locus ogn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sente nella popolazione con 2 alleli i genotipi possibili nei gameti son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1,B1,C1; A2,B1,C1; A1,B2,C2; A1,B1,C2; ETC.... a priori non so chi 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chi. Nelle popolazioni naturali solo l’analisi della progenie mi dice quale 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plotipo dei parentali e solo nei grandi numeri. Le cose si complic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lteriormente quando non disponendo di “fenotipi codominanti” come i polimorf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sso seguire i loci solo con caratteri soggetti alla dominanza e recessivita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3000" y="3809880"/>
            <a:ext cx="82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alternativa al termine aplotipo si usa spesso il termine 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9000" y="4572000"/>
            <a:ext cx="85960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cordate fase cis e trans? Accoppiamento e repulsione?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onimi operativi di aplotipo soprattutto quando si parla di loc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rispondenti a caratteri dominanti e recess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82680" y="1905120"/>
            <a:ext cx="8539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TENZIONE ALLA RICOSTRUZIONE DELLA 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440" y="2681280"/>
            <a:ext cx="9631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Fase : combinazione degli alleli di una regione che deriva da ciascun genitor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680" y="3581280"/>
            <a:ext cx="9764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Meiosi informative: sono quelle che danno informazioni sulla ricombinazion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1835280" y="4514760"/>
            <a:ext cx="380880" cy="34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00320" y="465624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04880" y="465624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3820320" y="45338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86080" y="467532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59244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655600" y="45338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21360" y="465624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2592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8177040" y="4533840"/>
            <a:ext cx="3844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42080" y="467532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94844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450800" y="5079960"/>
            <a:ext cx="3844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402000" y="5079960"/>
            <a:ext cx="3808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234760" y="511488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7744680" y="51260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2880" y="4759200"/>
            <a:ext cx="14878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1       a2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652120" y="4780080"/>
            <a:ext cx="15886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a1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713480" y="4797360"/>
            <a:ext cx="13874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a1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72640" y="4797360"/>
            <a:ext cx="14378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 a3a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44840" y="5442120"/>
            <a:ext cx="628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1a2                   a1a2                  a1a1                          a1a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6680" y="5996160"/>
            <a:ext cx="1280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n 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34720" y="5996160"/>
            <a:ext cx="1280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n 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18840" y="5996160"/>
            <a:ext cx="773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65400" y="5996160"/>
            <a:ext cx="773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1015200" y="449568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3002760" y="4514760"/>
            <a:ext cx="35892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4836240" y="451476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7358760" y="451476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802560" y="596880"/>
            <a:ext cx="2216160" cy="144936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365200" y="626760"/>
            <a:ext cx="51739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:fas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7620120" y="2610000"/>
            <a:ext cx="78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790120" y="261000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320" y="1755720"/>
            <a:ext cx="975348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efinizione della regione candidata con analisi di linkage: ricostruzione degli aplotipi studiando la segregazione nelle famiglie. E’ necessario risalire alla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fase e identificare i ricombina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7338240" y="2449440"/>
            <a:ext cx="358920" cy="316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8406720" y="246852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8331120" y="2398680"/>
            <a:ext cx="53496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9498960" y="2449440"/>
            <a:ext cx="360360" cy="316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9400680" y="2398680"/>
            <a:ext cx="53676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6160" y="26100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9096480" y="26100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948440" y="3033720"/>
            <a:ext cx="160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9400320" y="3354480"/>
            <a:ext cx="36036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76456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55368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54840" y="3033720"/>
            <a:ext cx="84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827040" y="3354480"/>
            <a:ext cx="35892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795440" y="3354480"/>
            <a:ext cx="35892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0740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94844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8561520" y="3315600"/>
            <a:ext cx="3808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1976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02432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2912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93584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1356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695800" y="3597120"/>
            <a:ext cx="2642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230760" y="3597120"/>
            <a:ext cx="2642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48348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2680" y="2398680"/>
            <a:ext cx="5472720" cy="4168800"/>
            <a:chOff x="202680" y="2398680"/>
            <a:chExt cx="5472720" cy="4168800"/>
          </a:xfrm>
        </p:grpSpPr>
        <p:sp>
          <p:nvSpPr>
            <p:cNvPr id="947" name=""/>
            <p:cNvSpPr/>
            <p:nvPr/>
          </p:nvSpPr>
          <p:spPr>
            <a:xfrm>
              <a:off x="2263320" y="261000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32880" y="345744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978920" y="2449440"/>
              <a:ext cx="358920" cy="31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2798280" y="2468520"/>
              <a:ext cx="381600" cy="34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69320" y="261000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297000" y="3355920"/>
              <a:ext cx="361080" cy="314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116360" y="331632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2034720" y="3316320"/>
              <a:ext cx="381600" cy="3445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3714480" y="3315600"/>
              <a:ext cx="361080" cy="314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5092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55544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24340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9360" y="3033720"/>
              <a:ext cx="41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3020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6936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8592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844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9640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8800" y="3492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268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496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0548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23444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1881360" y="2398680"/>
              <a:ext cx="53496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2722320" y="2398680"/>
              <a:ext cx="53460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93600" y="3586320"/>
              <a:ext cx="292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122560" y="358632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7032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00800" y="3575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4344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13320" y="3597120"/>
              <a:ext cx="291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0664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0496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3536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1116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87400" y="3527280"/>
              <a:ext cx="0" cy="148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86240" y="3492360"/>
              <a:ext cx="0" cy="151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8400" y="5008680"/>
              <a:ext cx="99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6880" y="5008680"/>
              <a:ext cx="91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1269360" y="5361120"/>
              <a:ext cx="381600" cy="34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8400" y="50086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60160" y="500868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823120" y="5329080"/>
              <a:ext cx="358920" cy="3146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3791880" y="5329080"/>
              <a:ext cx="359280" cy="3146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0960" y="500868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45240" y="500868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50960" y="529416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0800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1288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440" y="5294160"/>
              <a:ext cx="291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9460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08480" y="529416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8240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65640" y="529128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59920" y="5342040"/>
              <a:ext cx="359280" cy="3157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6934320" y="587520"/>
            <a:ext cx="1815840" cy="118728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5729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:fase di piu locus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4375080" y="3440160"/>
            <a:ext cx="312840" cy="1512720"/>
          </a:xfrm>
          <a:custGeom>
            <a:avLst/>
            <a:gdLst>
              <a:gd name="textAreaLeft" fmla="*/ 15120 w 312840"/>
              <a:gd name="textAreaRight" fmla="*/ 297720 w 312840"/>
              <a:gd name="textAreaTop" fmla="*/ 15120 h 1512720"/>
              <a:gd name="textAreaBottom" fmla="*/ 1497600 h 1512720"/>
            </a:gdLst>
            <a:ahLst/>
            <a:rect l="textAreaLeft" t="textAreaTop" r="textAreaRight" b="textAreaBottom"/>
            <a:pathLst>
              <a:path w="21600" h="104350">
                <a:moveTo>
                  <a:pt x="3600" y="0"/>
                </a:moveTo>
                <a:arcTo wR="3600" hR="3600" stAng="16200000" swAng="-5400000"/>
                <a:lnTo>
                  <a:pt x="0" y="100750"/>
                </a:lnTo>
                <a:arcTo wR="3600" hR="3600" stAng="10800000" swAng="-5400000"/>
                <a:lnTo>
                  <a:pt x="18000" y="104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244080" y="3573360"/>
            <a:ext cx="311040" cy="12956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043600" y="5149800"/>
            <a:ext cx="47829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ssedere un particolare polimorfis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on vuol dire avere il fenotipo, lo studio d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inkage e’ a livello di popolazione, serve 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ndividuare una regione non la mutaz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152280" y="1870200"/>
            <a:ext cx="97538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i possono essere inconvenienti che complicano la possibilita’ di assegnare un locus a una regione definita da marcato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6802560" y="423720"/>
            <a:ext cx="2216160" cy="144936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54244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 </a:t>
            </a:r>
            <a:r>
              <a:rPr b="1" lang="en-US" sz="2400" spc="-1" strike="noStrike">
                <a:solidFill>
                  <a:srgbClr val="fe2c02"/>
                </a:solidFill>
                <a:latin typeface="Comic Sans MS"/>
              </a:rPr>
              <a:t>possibili inconvenienti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594360" y="2612160"/>
            <a:ext cx="822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rrori umani: errata lettura dei dati, scambio di campioni, paternita’…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1880" y="3111840"/>
            <a:ext cx="788904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rrori nell’interpretazione del fenotipo: un falso ricombinant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e i marcatori sono molti e vicinila presenza di un doppio ricombinan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a sospettare un err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9480" y="4157280"/>
            <a:ext cx="86378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terogeneita’ genetica: famiglie con fenotipo simile vengono accorpate e non si riesce a trovare il linkage. Sclerosi tuberosa: due loci distint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33520" y="502920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’ importante disporre di numerosi siti polimorfici, che non siano soggetti a dominanza e recessivita’. I polimorfismi del DNA sono l’idea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4358520" y="1981080"/>
            <a:ext cx="47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I LOCI  NON SONO ASSOCIATI LA PROBABILITA’ 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1/2 X 1/2 X 1/2 X1/2 = 1/16=0.06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48040" y="1066680"/>
            <a:ext cx="3643560" cy="3111840"/>
            <a:chOff x="248040" y="1066680"/>
            <a:chExt cx="3643560" cy="3111840"/>
          </a:xfrm>
        </p:grpSpPr>
        <p:sp>
          <p:nvSpPr>
            <p:cNvPr id="1016" name=""/>
            <p:cNvSpPr/>
            <p:nvPr/>
          </p:nvSpPr>
          <p:spPr>
            <a:xfrm>
              <a:off x="955800" y="119232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10720" y="1192320"/>
              <a:ext cx="41328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8040" y="113148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920" y="113040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90240" y="10666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51160" y="10666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784160" y="194544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55960" y="1883160"/>
              <a:ext cx="413280" cy="37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62800" y="188172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54320" y="188172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433680" y="188172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01080" y="188172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19000" y="313884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04080" y="313884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77520" y="3076920"/>
              <a:ext cx="41292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00840" y="3076920"/>
              <a:ext cx="41328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31160" y="36414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53280" y="36414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86440" y="36414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08200" y="36414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08760" y="365832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81640" y="365832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14080" y="3642840"/>
              <a:ext cx="295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83640" y="36414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32720" y="1380600"/>
              <a:ext cx="12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20960" y="1380600"/>
              <a:ext cx="0" cy="56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0" y="2071440"/>
              <a:ext cx="82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42680" y="2071440"/>
              <a:ext cx="0" cy="10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25640" y="2700000"/>
              <a:ext cx="24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25640" y="270000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84160" y="270000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07840" y="270000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843120" y="4267080"/>
            <a:ext cx="2027160" cy="432000"/>
          </a:xfrm>
          <a:prstGeom prst="downArrowCallout">
            <a:avLst>
              <a:gd name="adj1" fmla="val 60096"/>
              <a:gd name="adj2" fmla="val 117313"/>
              <a:gd name="adj3" fmla="val 16546"/>
              <a:gd name="adj4" fmla="val 3125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95960" y="472428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NON RICOMBIN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72320" y="434340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RICOMB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56520" y="327672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LA FREQUENZA DI RICOMBINAZIONE E’ 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661160" y="3886200"/>
            <a:ext cx="263520" cy="563400"/>
          </a:xfrm>
          <a:prstGeom prst="downArrow">
            <a:avLst>
              <a:gd name="adj1" fmla="val 50000"/>
              <a:gd name="adj2" fmla="val 53449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509880" y="4495680"/>
            <a:ext cx="263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LA P DI 3 NR E 1R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0.1X0.9X0.9X0.9=0.073=7.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73160" y="5181480"/>
            <a:ext cx="8172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Non ho la possibilita’ di scegliere fra le due ipotesi: solo un gran numero di osservazioni mi potrebbe permettere di riconoscere quale e’ la situazione piu’ probabile NON ESISTE NULLA CHE POSSA SOSTITUIRE I GRANDI NUMERI….COME POSSIAMO OTTENERE GRANDI NUMERI NELL’UOMO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791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Probabilita’ di trovare ricombinanti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4733640" y="2666880"/>
            <a:ext cx="408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I LOCI  SONO ASSOCIATI LA PROBABI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IPENDE DA QUANTO SONO DIST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0" y="977760"/>
            <a:ext cx="9303840" cy="774720"/>
            <a:chOff x="0" y="977760"/>
            <a:chExt cx="9303840" cy="774720"/>
          </a:xfrm>
        </p:grpSpPr>
        <p:sp>
          <p:nvSpPr>
            <p:cNvPr id="1058" name=""/>
            <p:cNvSpPr/>
            <p:nvPr/>
          </p:nvSpPr>
          <p:spPr>
            <a:xfrm>
              <a:off x="0" y="1066680"/>
              <a:ext cx="37972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85720" y="977760"/>
              <a:ext cx="78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B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non si conosce la loro posizione reciproca quin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ci sono due possibil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9171000" y="6350040"/>
            <a:ext cx="612720" cy="280800"/>
          </a:xfrm>
          <a:custGeom>
            <a:avLst/>
            <a:gdLst>
              <a:gd name="textAreaLeft" fmla="*/ 95760 w 612720"/>
              <a:gd name="textAreaRight" fmla="*/ 536400 w 61272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7491240" y="565200"/>
            <a:ext cx="2001960" cy="1307880"/>
          </a:xfrm>
          <a:prstGeom prst="rect">
            <a:avLst/>
          </a:prstGeom>
          <a:ln w="0">
            <a:noFill/>
          </a:ln>
        </p:spPr>
      </p:pic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357360" y="685440"/>
            <a:ext cx="39718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Come fare il linkage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2063880" y="533520"/>
            <a:ext cx="671400" cy="78084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468440" y="211284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52200" y="1371600"/>
            <a:ext cx="647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alcolo del linkage e’ quindi stati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orre una progenie numer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a conoscere la fase (aplotip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i parent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460240" y="535464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ricorre al lod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63680" y="3886200"/>
            <a:ext cx="65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 si fa visto che le famiglie um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di solito picco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744120" y="1787400"/>
            <a:ext cx="83415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l linkage e’ una relazione di vicinanza fra due loci ed e’ funzione della lo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stanza. La definizione di un linkage fra due loci si basa su calcoli statisti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he permettono di quantizzare la probabilta’ che i risultati ottenuti non sian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ovuti al caso . Nel caso dell’uomo l’analisi della progenie di una singola famig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ramente fornisce informazioni sia per lo scarso numero di meiosi sia per 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fficolta’ di risalire alla fase. Bisogna mettere insieme i dati provenienti d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iu’ famigli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6802560" y="423720"/>
            <a:ext cx="2216160" cy="144936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17480" y="572760"/>
            <a:ext cx="5234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Linkage-lod score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351000" y="2924280"/>
            <a:ext cx="468000" cy="1800000"/>
          </a:xfrm>
          <a:custGeom>
            <a:avLst/>
            <a:gdLst>
              <a:gd name="textAreaLeft" fmla="*/ 62640 w 468000"/>
              <a:gd name="textAreaRight" fmla="*/ 405360 w 46800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43360" y="4386240"/>
            <a:ext cx="726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d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ratio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34640" y="4103640"/>
            <a:ext cx="548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P di un assortimento genetico in una progenie se i geni sono associ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2063880" y="4572000"/>
            <a:ext cx="70182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95400" y="4824360"/>
            <a:ext cx="568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P di un assortimento genetico nella progenie se i geni sono indipen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4880" y="5410080"/>
            <a:ext cx="854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d score: logaritmo in base 10 dei singoli rapporti di ogni famiglia, si possono c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ommare. Un valore di 3 indica lin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876080" y="401148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-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69320" y="4619520"/>
            <a:ext cx="8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1/2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n+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66760" y="1487520"/>
            <a:ext cx="7077240" cy="493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0960" y="1460520"/>
            <a:ext cx="505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73600" y="1744560"/>
            <a:ext cx="415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annello di RH per il crom.5 caratterizzato con STS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300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LOD SCORE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34920" y="1117440"/>
            <a:ext cx="97059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OD SCORE (Z):</a:t>
            </a:r>
            <a:r>
              <a:rPr b="0" i="1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logaritmo della probabilita’ che i loci siano associati (data la frazione di ricombinazion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) piuttosto che non associati (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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0.5). La probabilita’ complessiva di un gruppo di famiglie e’ il prodotto delle probabilta’ di ciascuna famiglia, percio’ la somma dei lod score. Per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= 0.5,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Z=0: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fatti sono il rapporto fra probabilta’ identiche e 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1)=0. Z=3(1000:1) e’ la soglia per accettare il linkage con una probabilita’ di errore del 5%. Z=-2 esclude il linkage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17520" y="2819520"/>
            <a:ext cx="4380840" cy="2661480"/>
            <a:chOff x="317520" y="2819520"/>
            <a:chExt cx="4380840" cy="2661480"/>
          </a:xfrm>
        </p:grpSpPr>
        <p:grpSp>
          <p:nvGrpSpPr>
            <p:cNvPr id="1082" name=""/>
            <p:cNvGrpSpPr/>
            <p:nvPr/>
          </p:nvGrpSpPr>
          <p:grpSpPr>
            <a:xfrm>
              <a:off x="376200" y="2968560"/>
              <a:ext cx="4322160" cy="2512440"/>
              <a:chOff x="376200" y="2968560"/>
              <a:chExt cx="4322160" cy="2512440"/>
            </a:xfrm>
          </p:grpSpPr>
          <p:sp>
            <p:nvSpPr>
              <p:cNvPr id="1083" name=""/>
              <p:cNvSpPr/>
              <p:nvPr/>
            </p:nvSpPr>
            <p:spPr>
              <a:xfrm>
                <a:off x="727920" y="3071520"/>
                <a:ext cx="3970440" cy="183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27920" y="4080240"/>
                <a:ext cx="397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6200" y="2968560"/>
                <a:ext cx="2898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82720" y="4914720"/>
                <a:ext cx="378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0       0.1         0.2         0.3           0.4             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997920" y="3394800"/>
                <a:ext cx="3596040" cy="1538280"/>
              </a:xfrm>
              <a:custGeom>
                <a:avLst/>
                <a:gdLst/>
                <a:ahLst/>
                <a:rect l="l" t="t" r="r" b="b"/>
                <a:pathLst>
                  <a:path w="2424" h="1176">
                    <a:moveTo>
                      <a:pt x="0" y="1176"/>
                    </a:moveTo>
                    <a:cubicBezTo>
                      <a:pt x="37" y="1101"/>
                      <a:pt x="41" y="1025"/>
                      <a:pt x="72" y="948"/>
                    </a:cubicBezTo>
                    <a:cubicBezTo>
                      <a:pt x="84" y="867"/>
                      <a:pt x="86" y="765"/>
                      <a:pt x="132" y="696"/>
                    </a:cubicBezTo>
                    <a:cubicBezTo>
                      <a:pt x="156" y="599"/>
                      <a:pt x="192" y="505"/>
                      <a:pt x="216" y="408"/>
                    </a:cubicBezTo>
                    <a:cubicBezTo>
                      <a:pt x="223" y="378"/>
                      <a:pt x="244" y="353"/>
                      <a:pt x="252" y="324"/>
                    </a:cubicBezTo>
                    <a:cubicBezTo>
                      <a:pt x="262" y="290"/>
                      <a:pt x="296" y="191"/>
                      <a:pt x="324" y="168"/>
                    </a:cubicBezTo>
                    <a:cubicBezTo>
                      <a:pt x="345" y="151"/>
                      <a:pt x="374" y="147"/>
                      <a:pt x="396" y="132"/>
                    </a:cubicBezTo>
                    <a:cubicBezTo>
                      <a:pt x="404" y="120"/>
                      <a:pt x="409" y="105"/>
                      <a:pt x="420" y="96"/>
                    </a:cubicBezTo>
                    <a:cubicBezTo>
                      <a:pt x="430" y="88"/>
                      <a:pt x="444" y="89"/>
                      <a:pt x="456" y="84"/>
                    </a:cubicBezTo>
                    <a:cubicBezTo>
                      <a:pt x="524" y="55"/>
                      <a:pt x="598" y="42"/>
                      <a:pt x="660" y="0"/>
                    </a:cubicBezTo>
                    <a:cubicBezTo>
                      <a:pt x="781" y="15"/>
                      <a:pt x="891" y="37"/>
                      <a:pt x="1008" y="60"/>
                    </a:cubicBezTo>
                    <a:cubicBezTo>
                      <a:pt x="1053" y="83"/>
                      <a:pt x="1091" y="96"/>
                      <a:pt x="1140" y="108"/>
                    </a:cubicBezTo>
                    <a:cubicBezTo>
                      <a:pt x="1148" y="120"/>
                      <a:pt x="1153" y="135"/>
                      <a:pt x="1164" y="144"/>
                    </a:cubicBezTo>
                    <a:cubicBezTo>
                      <a:pt x="1174" y="152"/>
                      <a:pt x="1191" y="147"/>
                      <a:pt x="1200" y="156"/>
                    </a:cubicBezTo>
                    <a:cubicBezTo>
                      <a:pt x="1264" y="220"/>
                      <a:pt x="1152" y="172"/>
                      <a:pt x="1248" y="204"/>
                    </a:cubicBezTo>
                    <a:cubicBezTo>
                      <a:pt x="1283" y="257"/>
                      <a:pt x="1295" y="249"/>
                      <a:pt x="1356" y="264"/>
                    </a:cubicBezTo>
                    <a:cubicBezTo>
                      <a:pt x="1391" y="317"/>
                      <a:pt x="1403" y="309"/>
                      <a:pt x="1464" y="324"/>
                    </a:cubicBezTo>
                    <a:cubicBezTo>
                      <a:pt x="1502" y="380"/>
                      <a:pt x="1469" y="347"/>
                      <a:pt x="1524" y="372"/>
                    </a:cubicBezTo>
                    <a:cubicBezTo>
                      <a:pt x="1557" y="387"/>
                      <a:pt x="1620" y="420"/>
                      <a:pt x="1620" y="420"/>
                    </a:cubicBezTo>
                    <a:cubicBezTo>
                      <a:pt x="1689" y="523"/>
                      <a:pt x="1597" y="402"/>
                      <a:pt x="1680" y="468"/>
                    </a:cubicBezTo>
                    <a:cubicBezTo>
                      <a:pt x="1691" y="477"/>
                      <a:pt x="1693" y="495"/>
                      <a:pt x="1704" y="504"/>
                    </a:cubicBezTo>
                    <a:cubicBezTo>
                      <a:pt x="1714" y="512"/>
                      <a:pt x="1728" y="511"/>
                      <a:pt x="1740" y="516"/>
                    </a:cubicBezTo>
                    <a:cubicBezTo>
                      <a:pt x="1756" y="523"/>
                      <a:pt x="1772" y="532"/>
                      <a:pt x="1788" y="540"/>
                    </a:cubicBezTo>
                    <a:cubicBezTo>
                      <a:pt x="1857" y="643"/>
                      <a:pt x="1765" y="522"/>
                      <a:pt x="1848" y="588"/>
                    </a:cubicBezTo>
                    <a:cubicBezTo>
                      <a:pt x="1859" y="597"/>
                      <a:pt x="1860" y="616"/>
                      <a:pt x="1872" y="624"/>
                    </a:cubicBezTo>
                    <a:cubicBezTo>
                      <a:pt x="1893" y="637"/>
                      <a:pt x="1944" y="648"/>
                      <a:pt x="1944" y="648"/>
                    </a:cubicBezTo>
                    <a:cubicBezTo>
                      <a:pt x="1969" y="724"/>
                      <a:pt x="1933" y="649"/>
                      <a:pt x="2004" y="696"/>
                    </a:cubicBezTo>
                    <a:cubicBezTo>
                      <a:pt x="2113" y="768"/>
                      <a:pt x="1946" y="705"/>
                      <a:pt x="2064" y="744"/>
                    </a:cubicBezTo>
                    <a:cubicBezTo>
                      <a:pt x="2094" y="767"/>
                      <a:pt x="2131" y="780"/>
                      <a:pt x="2160" y="804"/>
                    </a:cubicBezTo>
                    <a:cubicBezTo>
                      <a:pt x="2232" y="864"/>
                      <a:pt x="2134" y="823"/>
                      <a:pt x="2220" y="852"/>
                    </a:cubicBezTo>
                    <a:cubicBezTo>
                      <a:pt x="2228" y="864"/>
                      <a:pt x="2233" y="879"/>
                      <a:pt x="2244" y="888"/>
                    </a:cubicBezTo>
                    <a:cubicBezTo>
                      <a:pt x="2254" y="896"/>
                      <a:pt x="2271" y="891"/>
                      <a:pt x="2280" y="900"/>
                    </a:cubicBezTo>
                    <a:cubicBezTo>
                      <a:pt x="2289" y="909"/>
                      <a:pt x="2284" y="926"/>
                      <a:pt x="2292" y="936"/>
                    </a:cubicBezTo>
                    <a:cubicBezTo>
                      <a:pt x="2301" y="947"/>
                      <a:pt x="2316" y="952"/>
                      <a:pt x="2328" y="960"/>
                    </a:cubicBezTo>
                    <a:cubicBezTo>
                      <a:pt x="2348" y="1019"/>
                      <a:pt x="2325" y="1035"/>
                      <a:pt x="2388" y="1056"/>
                    </a:cubicBezTo>
                    <a:cubicBezTo>
                      <a:pt x="2392" y="1068"/>
                      <a:pt x="2394" y="1081"/>
                      <a:pt x="2400" y="1092"/>
                    </a:cubicBezTo>
                    <a:cubicBezTo>
                      <a:pt x="2406" y="1105"/>
                      <a:pt x="2424" y="1128"/>
                      <a:pt x="2424" y="1128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3440" y="5143680"/>
                <a:ext cx="310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Frequenza di ricombin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317520" y="28195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 flipV="1">
            <a:off x="1420920" y="5919480"/>
            <a:ext cx="666900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569520" y="5486400"/>
            <a:ext cx="7419600" cy="905040"/>
            <a:chOff x="569520" y="5486400"/>
            <a:chExt cx="7419600" cy="905040"/>
          </a:xfrm>
        </p:grpSpPr>
        <p:sp>
          <p:nvSpPr>
            <p:cNvPr id="1092" name=""/>
            <p:cNvSpPr/>
            <p:nvPr/>
          </p:nvSpPr>
          <p:spPr>
            <a:xfrm>
              <a:off x="569520" y="577692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Comic Sans MS"/>
                </a:rPr>
                <a:t>Z Od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Comic Sans MS"/>
                </a:rPr>
                <a:t>ratio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87000" y="5557680"/>
              <a:ext cx="548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P di un assortimento genetico in una progenie se i geni sono associa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247760" y="6114960"/>
              <a:ext cx="568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P di un assortimento genetico nella progenie se i geni sono indipend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945840" y="548640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-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34400" y="5956200"/>
              <a:ext cx="83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(1/2)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n+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connessione fra mapp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-110160" y="1370160"/>
            <a:ext cx="100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di si hanno due tipi di mappe: fisica e genetica. I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trovare il modo di legarle: la mappa fisica mi dice in ch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uppo di sequenze formano un contiguo su un framment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, ma non mi permette di identificare geni candid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ppa genetica me lo permetterebbe perche’ non riguar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he sequenze, ma anche locus di cui non conosco la sequ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posso pero’ studiare il gene candidato perche’ non 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equenza corrispon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96680" y="5181480"/>
            <a:ext cx="81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ossibilita’ di generare STS e EST polimorfici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sso di risolvere il probl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STS: Sequence Target Sit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165240" y="1073160"/>
            <a:ext cx="97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utomazione del sequenziamento permette di sequenziare c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e (300pb) clonate a caso da cui ricavare primers per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reena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” con la PCR ormai automatizzata le librerie  e costruire mappe fisiche attraverso la creazione di contigui . Quando sono polimorfiche sono marcatori comuni alle mappe sia  genetiche che fisiche e permettono di legarle f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241200" y="3416400"/>
            <a:ext cx="2078640" cy="615960"/>
            <a:chOff x="241200" y="3416400"/>
            <a:chExt cx="2078640" cy="615960"/>
          </a:xfrm>
        </p:grpSpPr>
        <p:sp>
          <p:nvSpPr>
            <p:cNvPr id="1103" name=""/>
            <p:cNvSpPr/>
            <p:nvPr/>
          </p:nvSpPr>
          <p:spPr>
            <a:xfrm>
              <a:off x="241200" y="3497400"/>
              <a:ext cx="748800" cy="534960"/>
            </a:xfrm>
            <a:custGeom>
              <a:avLst/>
              <a:gdLst/>
              <a:ahLst/>
              <a:rect l="l" t="t" r="r" b="b"/>
              <a:pathLst>
                <a:path w="472" h="337">
                  <a:moveTo>
                    <a:pt x="88" y="53"/>
                  </a:moveTo>
                  <a:cubicBezTo>
                    <a:pt x="99" y="143"/>
                    <a:pt x="88" y="106"/>
                    <a:pt x="152" y="149"/>
                  </a:cubicBezTo>
                  <a:cubicBezTo>
                    <a:pt x="157" y="157"/>
                    <a:pt x="158" y="169"/>
                    <a:pt x="168" y="173"/>
                  </a:cubicBezTo>
                  <a:cubicBezTo>
                    <a:pt x="195" y="182"/>
                    <a:pt x="258" y="134"/>
                    <a:pt x="272" y="125"/>
                  </a:cubicBezTo>
                  <a:cubicBezTo>
                    <a:pt x="280" y="119"/>
                    <a:pt x="296" y="109"/>
                    <a:pt x="296" y="109"/>
                  </a:cubicBezTo>
                  <a:cubicBezTo>
                    <a:pt x="304" y="76"/>
                    <a:pt x="314" y="60"/>
                    <a:pt x="304" y="29"/>
                  </a:cubicBezTo>
                  <a:cubicBezTo>
                    <a:pt x="290" y="31"/>
                    <a:pt x="273" y="27"/>
                    <a:pt x="264" y="37"/>
                  </a:cubicBezTo>
                  <a:cubicBezTo>
                    <a:pt x="252" y="48"/>
                    <a:pt x="248" y="85"/>
                    <a:pt x="248" y="85"/>
                  </a:cubicBezTo>
                  <a:cubicBezTo>
                    <a:pt x="260" y="162"/>
                    <a:pt x="242" y="107"/>
                    <a:pt x="288" y="165"/>
                  </a:cubicBezTo>
                  <a:cubicBezTo>
                    <a:pt x="300" y="180"/>
                    <a:pt x="320" y="213"/>
                    <a:pt x="320" y="213"/>
                  </a:cubicBezTo>
                  <a:cubicBezTo>
                    <a:pt x="301" y="241"/>
                    <a:pt x="255" y="290"/>
                    <a:pt x="224" y="301"/>
                  </a:cubicBezTo>
                  <a:cubicBezTo>
                    <a:pt x="221" y="293"/>
                    <a:pt x="216" y="285"/>
                    <a:pt x="216" y="277"/>
                  </a:cubicBezTo>
                  <a:cubicBezTo>
                    <a:pt x="216" y="191"/>
                    <a:pt x="265" y="196"/>
                    <a:pt x="336" y="189"/>
                  </a:cubicBezTo>
                  <a:cubicBezTo>
                    <a:pt x="346" y="183"/>
                    <a:pt x="358" y="180"/>
                    <a:pt x="368" y="173"/>
                  </a:cubicBezTo>
                  <a:cubicBezTo>
                    <a:pt x="406" y="141"/>
                    <a:pt x="351" y="104"/>
                    <a:pt x="344" y="69"/>
                  </a:cubicBezTo>
                  <a:cubicBezTo>
                    <a:pt x="340" y="53"/>
                    <a:pt x="346" y="33"/>
                    <a:pt x="336" y="21"/>
                  </a:cubicBezTo>
                  <a:cubicBezTo>
                    <a:pt x="324" y="8"/>
                    <a:pt x="288" y="5"/>
                    <a:pt x="288" y="5"/>
                  </a:cubicBezTo>
                  <a:cubicBezTo>
                    <a:pt x="194" y="16"/>
                    <a:pt x="240" y="0"/>
                    <a:pt x="200" y="61"/>
                  </a:cubicBezTo>
                  <a:cubicBezTo>
                    <a:pt x="197" y="74"/>
                    <a:pt x="198" y="88"/>
                    <a:pt x="192" y="101"/>
                  </a:cubicBezTo>
                  <a:cubicBezTo>
                    <a:pt x="186" y="111"/>
                    <a:pt x="175" y="116"/>
                    <a:pt x="168" y="125"/>
                  </a:cubicBezTo>
                  <a:cubicBezTo>
                    <a:pt x="161" y="132"/>
                    <a:pt x="155" y="140"/>
                    <a:pt x="152" y="149"/>
                  </a:cubicBezTo>
                  <a:cubicBezTo>
                    <a:pt x="122" y="214"/>
                    <a:pt x="136" y="224"/>
                    <a:pt x="64" y="261"/>
                  </a:cubicBezTo>
                  <a:cubicBezTo>
                    <a:pt x="53" y="250"/>
                    <a:pt x="41" y="240"/>
                    <a:pt x="32" y="229"/>
                  </a:cubicBezTo>
                  <a:cubicBezTo>
                    <a:pt x="19" y="213"/>
                    <a:pt x="0" y="181"/>
                    <a:pt x="0" y="181"/>
                  </a:cubicBezTo>
                  <a:cubicBezTo>
                    <a:pt x="8" y="175"/>
                    <a:pt x="14" y="166"/>
                    <a:pt x="24" y="165"/>
                  </a:cubicBezTo>
                  <a:cubicBezTo>
                    <a:pt x="78" y="157"/>
                    <a:pt x="66" y="221"/>
                    <a:pt x="96" y="245"/>
                  </a:cubicBezTo>
                  <a:cubicBezTo>
                    <a:pt x="102" y="250"/>
                    <a:pt x="112" y="250"/>
                    <a:pt x="120" y="253"/>
                  </a:cubicBezTo>
                  <a:cubicBezTo>
                    <a:pt x="122" y="261"/>
                    <a:pt x="122" y="271"/>
                    <a:pt x="128" y="277"/>
                  </a:cubicBezTo>
                  <a:cubicBezTo>
                    <a:pt x="141" y="290"/>
                    <a:pt x="176" y="309"/>
                    <a:pt x="176" y="309"/>
                  </a:cubicBezTo>
                  <a:cubicBezTo>
                    <a:pt x="393" y="299"/>
                    <a:pt x="326" y="337"/>
                    <a:pt x="408" y="229"/>
                  </a:cubicBezTo>
                  <a:cubicBezTo>
                    <a:pt x="399" y="187"/>
                    <a:pt x="408" y="170"/>
                    <a:pt x="368" y="157"/>
                  </a:cubicBezTo>
                  <a:cubicBezTo>
                    <a:pt x="358" y="159"/>
                    <a:pt x="317" y="165"/>
                    <a:pt x="312" y="181"/>
                  </a:cubicBezTo>
                  <a:cubicBezTo>
                    <a:pt x="303" y="205"/>
                    <a:pt x="368" y="253"/>
                    <a:pt x="392" y="269"/>
                  </a:cubicBezTo>
                  <a:cubicBezTo>
                    <a:pt x="412" y="282"/>
                    <a:pt x="453" y="277"/>
                    <a:pt x="472" y="2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6120" y="3416400"/>
              <a:ext cx="150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NA ge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28600" y="4753080"/>
            <a:ext cx="1317600" cy="434880"/>
            <a:chOff x="228600" y="4753080"/>
            <a:chExt cx="1317600" cy="434880"/>
          </a:xfrm>
        </p:grpSpPr>
        <p:sp>
          <p:nvSpPr>
            <p:cNvPr id="1106" name=""/>
            <p:cNvSpPr/>
            <p:nvPr/>
          </p:nvSpPr>
          <p:spPr>
            <a:xfrm>
              <a:off x="228600" y="4753080"/>
              <a:ext cx="1317600" cy="434880"/>
            </a:xfrm>
            <a:prstGeom prst="can">
              <a:avLst>
                <a:gd name="adj" fmla="val 3298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0760" y="5004360"/>
              <a:ext cx="1314000" cy="17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31640" y="5021640"/>
              <a:ext cx="894960" cy="159120"/>
              <a:chOff x="431640" y="5021640"/>
              <a:chExt cx="894960" cy="159120"/>
            </a:xfrm>
          </p:grpSpPr>
          <p:sp>
            <p:nvSpPr>
              <p:cNvPr id="1109" name=""/>
              <p:cNvSpPr/>
              <p:nvPr/>
            </p:nvSpPr>
            <p:spPr>
              <a:xfrm>
                <a:off x="1030680" y="50342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216800" y="506772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080" y="50216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0040" y="506304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9560" y="503316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901440" y="507456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8200" y="50990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079280" y="511632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31640" y="509760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8" name=""/>
          <p:cNvGrpSpPr/>
          <p:nvPr/>
        </p:nvGrpSpPr>
        <p:grpSpPr>
          <a:xfrm>
            <a:off x="729720" y="4127400"/>
            <a:ext cx="1408320" cy="501840"/>
            <a:chOff x="729720" y="4127400"/>
            <a:chExt cx="1408320" cy="501840"/>
          </a:xfrm>
        </p:grpSpPr>
        <p:sp>
          <p:nvSpPr>
            <p:cNvPr id="1119" name=""/>
            <p:cNvSpPr/>
            <p:nvPr/>
          </p:nvSpPr>
          <p:spPr>
            <a:xfrm rot="5400000">
              <a:off x="659880" y="4254480"/>
              <a:ext cx="444600" cy="304920"/>
            </a:xfrm>
            <a:custGeom>
              <a:avLst/>
              <a:gdLst>
                <a:gd name="textAreaLeft" fmla="*/ 69480 w 444600"/>
                <a:gd name="textAreaRight" fmla="*/ 389160 w 444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62720" y="412740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lon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31080" y="5130720"/>
            <a:ext cx="1671120" cy="535680"/>
            <a:chOff x="631080" y="5130720"/>
            <a:chExt cx="1671120" cy="535680"/>
          </a:xfrm>
        </p:grpSpPr>
        <p:sp>
          <p:nvSpPr>
            <p:cNvPr id="1122" name=""/>
            <p:cNvSpPr/>
            <p:nvPr/>
          </p:nvSpPr>
          <p:spPr>
            <a:xfrm>
              <a:off x="635040" y="513072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1080" y="53593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quenz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88920" y="5767560"/>
            <a:ext cx="2536200" cy="377640"/>
            <a:chOff x="88920" y="5767560"/>
            <a:chExt cx="2536200" cy="377640"/>
          </a:xfrm>
        </p:grpSpPr>
        <p:grpSp>
          <p:nvGrpSpPr>
            <p:cNvPr id="1125" name=""/>
            <p:cNvGrpSpPr/>
            <p:nvPr/>
          </p:nvGrpSpPr>
          <p:grpSpPr>
            <a:xfrm>
              <a:off x="88920" y="6045120"/>
              <a:ext cx="1995120" cy="100080"/>
              <a:chOff x="88920" y="6045120"/>
              <a:chExt cx="1995120" cy="100080"/>
            </a:xfrm>
          </p:grpSpPr>
          <p:sp>
            <p:nvSpPr>
              <p:cNvPr id="1126" name=""/>
              <p:cNvSpPr/>
              <p:nvPr/>
            </p:nvSpPr>
            <p:spPr>
              <a:xfrm>
                <a:off x="88920" y="604512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13040" y="61138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8920" y="614520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13040" y="60760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99000" y="5767560"/>
              <a:ext cx="252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ACTTAG........CATAGCA ~300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058040" y="60930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S A,B,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2616120" y="5994360"/>
            <a:ext cx="2879280" cy="826200"/>
            <a:chOff x="2616120" y="5994360"/>
            <a:chExt cx="2879280" cy="826200"/>
          </a:xfrm>
        </p:grpSpPr>
        <p:sp>
          <p:nvSpPr>
            <p:cNvPr id="1133" name=""/>
            <p:cNvSpPr/>
            <p:nvPr/>
          </p:nvSpPr>
          <p:spPr>
            <a:xfrm>
              <a:off x="2616120" y="6108840"/>
              <a:ext cx="686160" cy="203040"/>
            </a:xfrm>
            <a:custGeom>
              <a:avLst/>
              <a:gdLst>
                <a:gd name="textAreaLeft" fmla="*/ 106920 w 686160"/>
                <a:gd name="textAreaRight" fmla="*/ 600480 w 68616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3629520" y="5994360"/>
              <a:ext cx="1690920" cy="380880"/>
              <a:chOff x="3629520" y="5994360"/>
              <a:chExt cx="1690920" cy="380880"/>
            </a:xfrm>
          </p:grpSpPr>
          <p:sp>
            <p:nvSpPr>
              <p:cNvPr id="1135" name=""/>
              <p:cNvSpPr/>
              <p:nvPr/>
            </p:nvSpPr>
            <p:spPr>
              <a:xfrm>
                <a:off x="3655080" y="5994360"/>
                <a:ext cx="163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694680" y="604512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72960" y="612144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664440" y="6364080"/>
                <a:ext cx="165600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629520" y="62355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694680" y="632448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2644560" y="6483240"/>
              <a:ext cx="28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elta dei primers x A,B,C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35280" y="5308560"/>
            <a:ext cx="1539720" cy="604800"/>
            <a:chOff x="3635280" y="5308560"/>
            <a:chExt cx="1539720" cy="604800"/>
          </a:xfrm>
        </p:grpSpPr>
        <p:sp>
          <p:nvSpPr>
            <p:cNvPr id="1143" name=""/>
            <p:cNvSpPr/>
            <p:nvPr/>
          </p:nvSpPr>
          <p:spPr>
            <a:xfrm rot="16200000">
              <a:off x="3466440" y="5482440"/>
              <a:ext cx="583920" cy="246240"/>
            </a:xfrm>
            <a:custGeom>
              <a:avLst/>
              <a:gdLst>
                <a:gd name="textAreaLeft" fmla="*/ 91080 w 583920"/>
                <a:gd name="textAreaRight" fmla="*/ 511200 w 583920"/>
                <a:gd name="textAreaTop" fmla="*/ 61560 h 246240"/>
                <a:gd name="textAreaBottom" fmla="*/ 18468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6000" y="5308560"/>
              <a:ext cx="1269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ibrary 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806560" y="3492360"/>
            <a:ext cx="3022560" cy="1397160"/>
            <a:chOff x="2806560" y="3492360"/>
            <a:chExt cx="3022560" cy="1397160"/>
          </a:xfrm>
        </p:grpSpPr>
        <p:grpSp>
          <p:nvGrpSpPr>
            <p:cNvPr id="1146" name=""/>
            <p:cNvGrpSpPr/>
            <p:nvPr/>
          </p:nvGrpSpPr>
          <p:grpSpPr>
            <a:xfrm>
              <a:off x="3073320" y="4222800"/>
              <a:ext cx="1282680" cy="234720"/>
              <a:chOff x="3073320" y="4222800"/>
              <a:chExt cx="1282680" cy="234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903480" y="43016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0800000">
                <a:off x="356688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597120" y="43048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0800000">
                <a:off x="392724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960720" y="43048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4263120" y="43214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149720" y="43048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079880" y="43113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233520" y="43048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357360" y="43048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47920" y="43048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179160" y="43326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544920" y="43048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073320" y="42228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546440" y="4171680"/>
              <a:ext cx="1282680" cy="235080"/>
              <a:chOff x="4546440" y="4171680"/>
              <a:chExt cx="1282680" cy="235080"/>
            </a:xfrm>
          </p:grpSpPr>
          <p:sp>
            <p:nvSpPr>
              <p:cNvPr id="1162" name=""/>
              <p:cNvSpPr/>
              <p:nvPr/>
            </p:nvSpPr>
            <p:spPr>
              <a:xfrm>
                <a:off x="5376600" y="42508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10800000">
                <a:off x="504000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070240" y="42541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0800000">
                <a:off x="540036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3840" y="42541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5736240" y="42710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22840" y="42541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53000" y="42606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706640" y="42541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830480" y="42541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21040" y="42541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4652280" y="42818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018040" y="42541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546440" y="41716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2806560" y="4628880"/>
              <a:ext cx="1282680" cy="235080"/>
              <a:chOff x="2806560" y="4628880"/>
              <a:chExt cx="1282680" cy="235080"/>
            </a:xfrm>
          </p:grpSpPr>
          <p:sp>
            <p:nvSpPr>
              <p:cNvPr id="1177" name=""/>
              <p:cNvSpPr/>
              <p:nvPr/>
            </p:nvSpPr>
            <p:spPr>
              <a:xfrm>
                <a:off x="3636720" y="47080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0800000">
                <a:off x="330012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330360" y="47113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0800000">
                <a:off x="366048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93960" y="47113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996360" y="47282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82960" y="47113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13120" y="47178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966760" y="47113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90600" y="47113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981160" y="47113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912400" y="47390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278160" y="47113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806560" y="46288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4267080" y="4654440"/>
              <a:ext cx="1282680" cy="235080"/>
              <a:chOff x="4267080" y="4654440"/>
              <a:chExt cx="1282680" cy="235080"/>
            </a:xfrm>
          </p:grpSpPr>
          <p:sp>
            <p:nvSpPr>
              <p:cNvPr id="1192" name=""/>
              <p:cNvSpPr/>
              <p:nvPr/>
            </p:nvSpPr>
            <p:spPr>
              <a:xfrm>
                <a:off x="5097240" y="473364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0800000">
                <a:off x="476064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90880" y="473688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0800000">
                <a:off x="512100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54480" y="473688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5456880" y="475380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343480" y="473688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273640" y="474336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27280" y="473688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51120" y="473688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41680" y="473688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372920" y="476460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38680" y="473688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267080" y="465444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3848040" y="3778200"/>
              <a:ext cx="1282680" cy="234720"/>
              <a:chOff x="3848040" y="3778200"/>
              <a:chExt cx="1282680" cy="234720"/>
            </a:xfrm>
          </p:grpSpPr>
          <p:sp>
            <p:nvSpPr>
              <p:cNvPr id="1207" name=""/>
              <p:cNvSpPr/>
              <p:nvPr/>
            </p:nvSpPr>
            <p:spPr>
              <a:xfrm>
                <a:off x="4678200" y="38570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0800000">
                <a:off x="434160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371840" y="38602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0800000">
                <a:off x="470196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735440" y="38602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5037840" y="38768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924440" y="38602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54600" y="38667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008240" y="38602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132080" y="38602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022640" y="38602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953880" y="38880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319640" y="38602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848040" y="37782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4077000" y="3492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+,B-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826520" y="3911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-,B+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86720" y="396216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+,D+,G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134520" y="4406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+,F+,T-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84880" y="4406760"/>
              <a:ext cx="98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+,T-,Q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939640" y="2666880"/>
            <a:ext cx="3718080" cy="1697040"/>
            <a:chOff x="5939640" y="2666880"/>
            <a:chExt cx="3718080" cy="1697040"/>
          </a:xfrm>
        </p:grpSpPr>
        <p:sp>
          <p:nvSpPr>
            <p:cNvPr id="1227" name=""/>
            <p:cNvSpPr/>
            <p:nvPr/>
          </p:nvSpPr>
          <p:spPr>
            <a:xfrm rot="18049800">
              <a:off x="5788800" y="3797640"/>
              <a:ext cx="968400" cy="199080"/>
            </a:xfrm>
            <a:custGeom>
              <a:avLst/>
              <a:gdLst>
                <a:gd name="textAreaLeft" fmla="*/ 151200 w 968400"/>
                <a:gd name="textAreaRight" fmla="*/ 847440 w 968400"/>
                <a:gd name="textAreaTop" fmla="*/ 49680 h 199080"/>
                <a:gd name="textAreaBottom" fmla="*/ 14940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8262360" y="2698560"/>
              <a:ext cx="782280" cy="498240"/>
              <a:chOff x="8262360" y="2698560"/>
              <a:chExt cx="782280" cy="498240"/>
            </a:xfrm>
          </p:grpSpPr>
          <p:sp>
            <p:nvSpPr>
              <p:cNvPr id="1229" name=""/>
              <p:cNvSpPr/>
              <p:nvPr/>
            </p:nvSpPr>
            <p:spPr>
              <a:xfrm>
                <a:off x="8262360" y="269856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  F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722080" y="281916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1" name=""/>
              <p:cNvGrpSpPr/>
              <p:nvPr/>
            </p:nvGrpSpPr>
            <p:grpSpPr>
              <a:xfrm>
                <a:off x="8306640" y="2984400"/>
                <a:ext cx="482760" cy="60120"/>
                <a:chOff x="8306640" y="2984400"/>
                <a:chExt cx="482760" cy="6012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8306640" y="2984400"/>
                  <a:ext cx="48276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4186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364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8510760" y="3136680"/>
                <a:ext cx="483120" cy="60120"/>
                <a:chOff x="8510760" y="3136680"/>
                <a:chExt cx="483120" cy="601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8510760" y="3136680"/>
                  <a:ext cx="483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230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8408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9" name=""/>
            <p:cNvGrpSpPr/>
            <p:nvPr/>
          </p:nvGrpSpPr>
          <p:grpSpPr>
            <a:xfrm>
              <a:off x="6900480" y="2666880"/>
              <a:ext cx="1261080" cy="612720"/>
              <a:chOff x="6900480" y="2666880"/>
              <a:chExt cx="1261080" cy="612720"/>
            </a:xfrm>
          </p:grpSpPr>
          <p:sp>
            <p:nvSpPr>
              <p:cNvPr id="1240" name=""/>
              <p:cNvSpPr/>
              <p:nvPr/>
            </p:nvSpPr>
            <p:spPr>
              <a:xfrm>
                <a:off x="6900480" y="2666880"/>
                <a:ext cx="65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*  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388640" y="278748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75480" y="292068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 G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6958440" y="2958840"/>
                <a:ext cx="482760" cy="60480"/>
                <a:chOff x="6958440" y="2958840"/>
                <a:chExt cx="482760" cy="6048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6958440" y="2958840"/>
                  <a:ext cx="48276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707040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728820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7" name=""/>
              <p:cNvSpPr/>
              <p:nvPr/>
            </p:nvSpPr>
            <p:spPr>
              <a:xfrm>
                <a:off x="7169040" y="306684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28136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6072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09600" y="321912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6756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73784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914960" y="32256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6740640" y="3267000"/>
              <a:ext cx="26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fisica:contig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5676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051840" y="276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6748200" y="3597120"/>
              <a:ext cx="2909520" cy="349920"/>
              <a:chOff x="6748200" y="3597120"/>
              <a:chExt cx="2909520" cy="349920"/>
            </a:xfrm>
          </p:grpSpPr>
          <p:sp>
            <p:nvSpPr>
              <p:cNvPr id="1258" name=""/>
              <p:cNvSpPr/>
              <p:nvPr/>
            </p:nvSpPr>
            <p:spPr>
              <a:xfrm>
                <a:off x="6825240" y="3663720"/>
                <a:ext cx="125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405280" y="3651120"/>
                <a:ext cx="125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48200" y="3609720"/>
                <a:ext cx="114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 C  B D 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37680" y="359712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H  F  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6018840" y="4267080"/>
            <a:ext cx="3623760" cy="824040"/>
            <a:chOff x="6018840" y="4267080"/>
            <a:chExt cx="3623760" cy="824040"/>
          </a:xfrm>
        </p:grpSpPr>
        <p:sp>
          <p:nvSpPr>
            <p:cNvPr id="1263" name=""/>
            <p:cNvSpPr/>
            <p:nvPr/>
          </p:nvSpPr>
          <p:spPr>
            <a:xfrm rot="49800">
              <a:off x="6019920" y="4333680"/>
              <a:ext cx="711000" cy="177840"/>
            </a:xfrm>
            <a:custGeom>
              <a:avLst/>
              <a:gdLst>
                <a:gd name="textAreaLeft" fmla="*/ 110880 w 711000"/>
                <a:gd name="textAreaRight" fmla="*/ 622440 w 711000"/>
                <a:gd name="textAreaTop" fmla="*/ 44280 h 177840"/>
                <a:gd name="textAreaBottom" fmla="*/ 133560 h 1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04000" y="4267080"/>
              <a:ext cx="2838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genetica: A, G e F sono in linkage il loro ordine e’ F-A-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217560" y="5122440"/>
            <a:ext cx="3344400" cy="1627200"/>
            <a:chOff x="6217560" y="5122440"/>
            <a:chExt cx="3344400" cy="1627200"/>
          </a:xfrm>
        </p:grpSpPr>
        <p:sp>
          <p:nvSpPr>
            <p:cNvPr id="1266" name=""/>
            <p:cNvSpPr/>
            <p:nvPr/>
          </p:nvSpPr>
          <p:spPr>
            <a:xfrm rot="5466600">
              <a:off x="8130960" y="5270400"/>
              <a:ext cx="533160" cy="2412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215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889760" y="5829480"/>
              <a:ext cx="1168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19680" y="5829480"/>
              <a:ext cx="1168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823520" y="5775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 C  B D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16520" y="577548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H  F 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17560" y="6168960"/>
              <a:ext cx="334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 due contigui sono sullo st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a e via cosi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STS: Sequence Target Sit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1073160"/>
            <a:ext cx="97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utomazione del sequenziamento permette di sequenziare c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e (300pb) clonate a caso da cui ricavare primers per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reena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” con la PCR ormai automatizzata le librerie  e costruire mappe fisiche attraverso la creazione di contigui . Quando sono polimorfiche sono marcatori comuni alle mappe sia  genetiche che fisiche e permettono di legarle f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1200" y="3416400"/>
            <a:ext cx="2078640" cy="615960"/>
            <a:chOff x="241200" y="3416400"/>
            <a:chExt cx="2078640" cy="615960"/>
          </a:xfrm>
        </p:grpSpPr>
        <p:sp>
          <p:nvSpPr>
            <p:cNvPr id="61" name=""/>
            <p:cNvSpPr/>
            <p:nvPr/>
          </p:nvSpPr>
          <p:spPr>
            <a:xfrm>
              <a:off x="241200" y="3497400"/>
              <a:ext cx="748800" cy="534960"/>
            </a:xfrm>
            <a:custGeom>
              <a:avLst/>
              <a:gdLst/>
              <a:ahLst/>
              <a:rect l="l" t="t" r="r" b="b"/>
              <a:pathLst>
                <a:path w="472" h="337">
                  <a:moveTo>
                    <a:pt x="88" y="53"/>
                  </a:moveTo>
                  <a:cubicBezTo>
                    <a:pt x="99" y="143"/>
                    <a:pt x="88" y="106"/>
                    <a:pt x="152" y="149"/>
                  </a:cubicBezTo>
                  <a:cubicBezTo>
                    <a:pt x="157" y="157"/>
                    <a:pt x="158" y="169"/>
                    <a:pt x="168" y="173"/>
                  </a:cubicBezTo>
                  <a:cubicBezTo>
                    <a:pt x="195" y="182"/>
                    <a:pt x="258" y="134"/>
                    <a:pt x="272" y="125"/>
                  </a:cubicBezTo>
                  <a:cubicBezTo>
                    <a:pt x="280" y="119"/>
                    <a:pt x="296" y="109"/>
                    <a:pt x="296" y="109"/>
                  </a:cubicBezTo>
                  <a:cubicBezTo>
                    <a:pt x="304" y="76"/>
                    <a:pt x="314" y="60"/>
                    <a:pt x="304" y="29"/>
                  </a:cubicBezTo>
                  <a:cubicBezTo>
                    <a:pt x="290" y="31"/>
                    <a:pt x="273" y="27"/>
                    <a:pt x="264" y="37"/>
                  </a:cubicBezTo>
                  <a:cubicBezTo>
                    <a:pt x="252" y="48"/>
                    <a:pt x="248" y="85"/>
                    <a:pt x="248" y="85"/>
                  </a:cubicBezTo>
                  <a:cubicBezTo>
                    <a:pt x="260" y="162"/>
                    <a:pt x="242" y="107"/>
                    <a:pt x="288" y="165"/>
                  </a:cubicBezTo>
                  <a:cubicBezTo>
                    <a:pt x="300" y="180"/>
                    <a:pt x="320" y="213"/>
                    <a:pt x="320" y="213"/>
                  </a:cubicBezTo>
                  <a:cubicBezTo>
                    <a:pt x="301" y="241"/>
                    <a:pt x="255" y="290"/>
                    <a:pt x="224" y="301"/>
                  </a:cubicBezTo>
                  <a:cubicBezTo>
                    <a:pt x="221" y="293"/>
                    <a:pt x="216" y="285"/>
                    <a:pt x="216" y="277"/>
                  </a:cubicBezTo>
                  <a:cubicBezTo>
                    <a:pt x="216" y="191"/>
                    <a:pt x="265" y="196"/>
                    <a:pt x="336" y="189"/>
                  </a:cubicBezTo>
                  <a:cubicBezTo>
                    <a:pt x="346" y="183"/>
                    <a:pt x="358" y="180"/>
                    <a:pt x="368" y="173"/>
                  </a:cubicBezTo>
                  <a:cubicBezTo>
                    <a:pt x="406" y="141"/>
                    <a:pt x="351" y="104"/>
                    <a:pt x="344" y="69"/>
                  </a:cubicBezTo>
                  <a:cubicBezTo>
                    <a:pt x="340" y="53"/>
                    <a:pt x="346" y="33"/>
                    <a:pt x="336" y="21"/>
                  </a:cubicBezTo>
                  <a:cubicBezTo>
                    <a:pt x="324" y="8"/>
                    <a:pt x="288" y="5"/>
                    <a:pt x="288" y="5"/>
                  </a:cubicBezTo>
                  <a:cubicBezTo>
                    <a:pt x="194" y="16"/>
                    <a:pt x="240" y="0"/>
                    <a:pt x="200" y="61"/>
                  </a:cubicBezTo>
                  <a:cubicBezTo>
                    <a:pt x="197" y="74"/>
                    <a:pt x="198" y="88"/>
                    <a:pt x="192" y="101"/>
                  </a:cubicBezTo>
                  <a:cubicBezTo>
                    <a:pt x="186" y="111"/>
                    <a:pt x="175" y="116"/>
                    <a:pt x="168" y="125"/>
                  </a:cubicBezTo>
                  <a:cubicBezTo>
                    <a:pt x="161" y="132"/>
                    <a:pt x="155" y="140"/>
                    <a:pt x="152" y="149"/>
                  </a:cubicBezTo>
                  <a:cubicBezTo>
                    <a:pt x="122" y="214"/>
                    <a:pt x="136" y="224"/>
                    <a:pt x="64" y="261"/>
                  </a:cubicBezTo>
                  <a:cubicBezTo>
                    <a:pt x="53" y="250"/>
                    <a:pt x="41" y="240"/>
                    <a:pt x="32" y="229"/>
                  </a:cubicBezTo>
                  <a:cubicBezTo>
                    <a:pt x="19" y="213"/>
                    <a:pt x="0" y="181"/>
                    <a:pt x="0" y="181"/>
                  </a:cubicBezTo>
                  <a:cubicBezTo>
                    <a:pt x="8" y="175"/>
                    <a:pt x="14" y="166"/>
                    <a:pt x="24" y="165"/>
                  </a:cubicBezTo>
                  <a:cubicBezTo>
                    <a:pt x="78" y="157"/>
                    <a:pt x="66" y="221"/>
                    <a:pt x="96" y="245"/>
                  </a:cubicBezTo>
                  <a:cubicBezTo>
                    <a:pt x="102" y="250"/>
                    <a:pt x="112" y="250"/>
                    <a:pt x="120" y="253"/>
                  </a:cubicBezTo>
                  <a:cubicBezTo>
                    <a:pt x="122" y="261"/>
                    <a:pt x="122" y="271"/>
                    <a:pt x="128" y="277"/>
                  </a:cubicBezTo>
                  <a:cubicBezTo>
                    <a:pt x="141" y="290"/>
                    <a:pt x="176" y="309"/>
                    <a:pt x="176" y="309"/>
                  </a:cubicBezTo>
                  <a:cubicBezTo>
                    <a:pt x="393" y="299"/>
                    <a:pt x="326" y="337"/>
                    <a:pt x="408" y="229"/>
                  </a:cubicBezTo>
                  <a:cubicBezTo>
                    <a:pt x="399" y="187"/>
                    <a:pt x="408" y="170"/>
                    <a:pt x="368" y="157"/>
                  </a:cubicBezTo>
                  <a:cubicBezTo>
                    <a:pt x="358" y="159"/>
                    <a:pt x="317" y="165"/>
                    <a:pt x="312" y="181"/>
                  </a:cubicBezTo>
                  <a:cubicBezTo>
                    <a:pt x="303" y="205"/>
                    <a:pt x="368" y="253"/>
                    <a:pt x="392" y="269"/>
                  </a:cubicBezTo>
                  <a:cubicBezTo>
                    <a:pt x="412" y="282"/>
                    <a:pt x="453" y="277"/>
                    <a:pt x="472" y="2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6120" y="3416400"/>
              <a:ext cx="150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NA ge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4753080"/>
            <a:ext cx="1317600" cy="434880"/>
            <a:chOff x="228600" y="4753080"/>
            <a:chExt cx="1317600" cy="434880"/>
          </a:xfrm>
        </p:grpSpPr>
        <p:sp>
          <p:nvSpPr>
            <p:cNvPr id="64" name=""/>
            <p:cNvSpPr/>
            <p:nvPr/>
          </p:nvSpPr>
          <p:spPr>
            <a:xfrm>
              <a:off x="228600" y="4753080"/>
              <a:ext cx="1317600" cy="434880"/>
            </a:xfrm>
            <a:prstGeom prst="can">
              <a:avLst>
                <a:gd name="adj" fmla="val 3298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0760" y="5004360"/>
              <a:ext cx="1314000" cy="17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31640" y="5021640"/>
              <a:ext cx="894960" cy="159120"/>
              <a:chOff x="431640" y="5021640"/>
              <a:chExt cx="894960" cy="159120"/>
            </a:xfrm>
          </p:grpSpPr>
          <p:sp>
            <p:nvSpPr>
              <p:cNvPr id="67" name=""/>
              <p:cNvSpPr/>
              <p:nvPr/>
            </p:nvSpPr>
            <p:spPr>
              <a:xfrm>
                <a:off x="1030680" y="50342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16800" y="506772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8080" y="50216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0040" y="506304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99560" y="503316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1440" y="507456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8200" y="50990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79280" y="511632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1640" y="509760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729720" y="4127400"/>
            <a:ext cx="1408320" cy="501840"/>
            <a:chOff x="729720" y="4127400"/>
            <a:chExt cx="1408320" cy="501840"/>
          </a:xfrm>
        </p:grpSpPr>
        <p:sp>
          <p:nvSpPr>
            <p:cNvPr id="77" name=""/>
            <p:cNvSpPr/>
            <p:nvPr/>
          </p:nvSpPr>
          <p:spPr>
            <a:xfrm rot="5400000">
              <a:off x="659880" y="4254480"/>
              <a:ext cx="444600" cy="304920"/>
            </a:xfrm>
            <a:custGeom>
              <a:avLst/>
              <a:gdLst>
                <a:gd name="textAreaLeft" fmla="*/ 69480 w 444600"/>
                <a:gd name="textAreaRight" fmla="*/ 389160 w 444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2720" y="412740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lon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31080" y="5130720"/>
            <a:ext cx="1671120" cy="535680"/>
            <a:chOff x="631080" y="5130720"/>
            <a:chExt cx="1671120" cy="535680"/>
          </a:xfrm>
        </p:grpSpPr>
        <p:sp>
          <p:nvSpPr>
            <p:cNvPr id="80" name=""/>
            <p:cNvSpPr/>
            <p:nvPr/>
          </p:nvSpPr>
          <p:spPr>
            <a:xfrm>
              <a:off x="635040" y="513072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1080" y="53593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quenz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8920" y="5767560"/>
            <a:ext cx="2536200" cy="377640"/>
            <a:chOff x="88920" y="5767560"/>
            <a:chExt cx="2536200" cy="377640"/>
          </a:xfrm>
        </p:grpSpPr>
        <p:grpSp>
          <p:nvGrpSpPr>
            <p:cNvPr id="83" name=""/>
            <p:cNvGrpSpPr/>
            <p:nvPr/>
          </p:nvGrpSpPr>
          <p:grpSpPr>
            <a:xfrm>
              <a:off x="88920" y="6045120"/>
              <a:ext cx="1995120" cy="100080"/>
              <a:chOff x="88920" y="6045120"/>
              <a:chExt cx="1995120" cy="100080"/>
            </a:xfrm>
          </p:grpSpPr>
          <p:sp>
            <p:nvSpPr>
              <p:cNvPr id="84" name=""/>
              <p:cNvSpPr/>
              <p:nvPr/>
            </p:nvSpPr>
            <p:spPr>
              <a:xfrm>
                <a:off x="88920" y="604512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3040" y="61138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8920" y="614520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3040" y="60760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99000" y="5767560"/>
              <a:ext cx="252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ACTTAG........CATAGCA ~300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58040" y="60930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S A,B,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616120" y="5994360"/>
            <a:ext cx="2879280" cy="826200"/>
            <a:chOff x="2616120" y="5994360"/>
            <a:chExt cx="2879280" cy="826200"/>
          </a:xfrm>
        </p:grpSpPr>
        <p:sp>
          <p:nvSpPr>
            <p:cNvPr id="91" name=""/>
            <p:cNvSpPr/>
            <p:nvPr/>
          </p:nvSpPr>
          <p:spPr>
            <a:xfrm>
              <a:off x="2616120" y="6108840"/>
              <a:ext cx="686160" cy="203040"/>
            </a:xfrm>
            <a:custGeom>
              <a:avLst/>
              <a:gdLst>
                <a:gd name="textAreaLeft" fmla="*/ 106920 w 686160"/>
                <a:gd name="textAreaRight" fmla="*/ 600480 w 68616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629520" y="5994360"/>
              <a:ext cx="1690920" cy="380880"/>
              <a:chOff x="3629520" y="5994360"/>
              <a:chExt cx="1690920" cy="380880"/>
            </a:xfrm>
          </p:grpSpPr>
          <p:sp>
            <p:nvSpPr>
              <p:cNvPr id="93" name=""/>
              <p:cNvSpPr/>
              <p:nvPr/>
            </p:nvSpPr>
            <p:spPr>
              <a:xfrm>
                <a:off x="3655080" y="5994360"/>
                <a:ext cx="163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94680" y="604512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2960" y="612144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664440" y="6364080"/>
                <a:ext cx="165600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29520" y="62355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94680" y="632448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44560" y="6483240"/>
              <a:ext cx="28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elta dei primers x A,B,C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635280" y="5308560"/>
            <a:ext cx="1539720" cy="604800"/>
            <a:chOff x="3635280" y="5308560"/>
            <a:chExt cx="1539720" cy="604800"/>
          </a:xfrm>
        </p:grpSpPr>
        <p:sp>
          <p:nvSpPr>
            <p:cNvPr id="101" name=""/>
            <p:cNvSpPr/>
            <p:nvPr/>
          </p:nvSpPr>
          <p:spPr>
            <a:xfrm rot="16200000">
              <a:off x="3466440" y="5482440"/>
              <a:ext cx="583920" cy="246240"/>
            </a:xfrm>
            <a:custGeom>
              <a:avLst/>
              <a:gdLst>
                <a:gd name="textAreaLeft" fmla="*/ 91080 w 583920"/>
                <a:gd name="textAreaRight" fmla="*/ 511200 w 583920"/>
                <a:gd name="textAreaTop" fmla="*/ 61560 h 246240"/>
                <a:gd name="textAreaBottom" fmla="*/ 18468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6000" y="5308560"/>
              <a:ext cx="1269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ibrary 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806560" y="3492360"/>
            <a:ext cx="3022560" cy="1397160"/>
            <a:chOff x="2806560" y="3492360"/>
            <a:chExt cx="3022560" cy="1397160"/>
          </a:xfrm>
        </p:grpSpPr>
        <p:grpSp>
          <p:nvGrpSpPr>
            <p:cNvPr id="104" name=""/>
            <p:cNvGrpSpPr/>
            <p:nvPr/>
          </p:nvGrpSpPr>
          <p:grpSpPr>
            <a:xfrm>
              <a:off x="3073320" y="4222800"/>
              <a:ext cx="1282680" cy="234720"/>
              <a:chOff x="3073320" y="4222800"/>
              <a:chExt cx="1282680" cy="234720"/>
            </a:xfrm>
          </p:grpSpPr>
          <p:sp>
            <p:nvSpPr>
              <p:cNvPr id="105" name=""/>
              <p:cNvSpPr/>
              <p:nvPr/>
            </p:nvSpPr>
            <p:spPr>
              <a:xfrm>
                <a:off x="3903480" y="43016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0800000">
                <a:off x="356688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97120" y="43048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0800000">
                <a:off x="392724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0720" y="43048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263120" y="43214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49720" y="43048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79880" y="43113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33520" y="43048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7360" y="43048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7920" y="43048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179160" y="43326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44920" y="43048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73320" y="42228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546440" y="4171680"/>
              <a:ext cx="1282680" cy="235080"/>
              <a:chOff x="4546440" y="4171680"/>
              <a:chExt cx="1282680" cy="235080"/>
            </a:xfrm>
          </p:grpSpPr>
          <p:sp>
            <p:nvSpPr>
              <p:cNvPr id="120" name=""/>
              <p:cNvSpPr/>
              <p:nvPr/>
            </p:nvSpPr>
            <p:spPr>
              <a:xfrm>
                <a:off x="5376600" y="42508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0800000">
                <a:off x="504000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70240" y="42541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0800000">
                <a:off x="540036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33840" y="42541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736240" y="42710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2840" y="42541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53000" y="42606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06640" y="42541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30480" y="42541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21040" y="42541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4652280" y="42818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18040" y="42541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46440" y="41716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806560" y="4628880"/>
              <a:ext cx="1282680" cy="235080"/>
              <a:chOff x="2806560" y="4628880"/>
              <a:chExt cx="1282680" cy="235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636720" y="47080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0800000">
                <a:off x="330012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30360" y="47113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0800000">
                <a:off x="366048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93960" y="47113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996360" y="47282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82960" y="47113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13120" y="47178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966760" y="47113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90600" y="47113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81160" y="47113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912400" y="47390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78160" y="47113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06560" y="46288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267080" y="4654440"/>
              <a:ext cx="1282680" cy="235080"/>
              <a:chOff x="4267080" y="4654440"/>
              <a:chExt cx="1282680" cy="23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5097240" y="473364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476064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90880" y="473688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0800000">
                <a:off x="512100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54480" y="473688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456880" y="475380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3480" y="473688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3640" y="474336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7280" y="473688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51120" y="473688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1680" y="473688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372920" y="476460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38680" y="473688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67080" y="465444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848040" y="3778200"/>
              <a:ext cx="1282680" cy="234720"/>
              <a:chOff x="3848040" y="3778200"/>
              <a:chExt cx="1282680" cy="234720"/>
            </a:xfrm>
          </p:grpSpPr>
          <p:sp>
            <p:nvSpPr>
              <p:cNvPr id="165" name=""/>
              <p:cNvSpPr/>
              <p:nvPr/>
            </p:nvSpPr>
            <p:spPr>
              <a:xfrm>
                <a:off x="4678200" y="38570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34160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1840" y="38602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0800000">
                <a:off x="470196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35440" y="38602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037840" y="38768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24440" y="38602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54600" y="38667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08240" y="38602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32080" y="38602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22640" y="38602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3953880" y="38880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19640" y="38602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48040" y="37782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077000" y="3492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+,B-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6520" y="3911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-,B+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6720" y="396216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+,D+,G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4520" y="4406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+,F+,T-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84880" y="4406760"/>
              <a:ext cx="98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+,T-,Q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39640" y="2666880"/>
            <a:ext cx="3718080" cy="1697040"/>
            <a:chOff x="5939640" y="2666880"/>
            <a:chExt cx="3718080" cy="1697040"/>
          </a:xfrm>
        </p:grpSpPr>
        <p:sp>
          <p:nvSpPr>
            <p:cNvPr id="185" name=""/>
            <p:cNvSpPr/>
            <p:nvPr/>
          </p:nvSpPr>
          <p:spPr>
            <a:xfrm rot="18049800">
              <a:off x="5788800" y="3797640"/>
              <a:ext cx="968400" cy="199080"/>
            </a:xfrm>
            <a:custGeom>
              <a:avLst/>
              <a:gdLst>
                <a:gd name="textAreaLeft" fmla="*/ 151200 w 968400"/>
                <a:gd name="textAreaRight" fmla="*/ 847440 w 968400"/>
                <a:gd name="textAreaTop" fmla="*/ 49680 h 199080"/>
                <a:gd name="textAreaBottom" fmla="*/ 14940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262360" y="2698560"/>
              <a:ext cx="782280" cy="498240"/>
              <a:chOff x="8262360" y="2698560"/>
              <a:chExt cx="782280" cy="498240"/>
            </a:xfrm>
          </p:grpSpPr>
          <p:sp>
            <p:nvSpPr>
              <p:cNvPr id="187" name=""/>
              <p:cNvSpPr/>
              <p:nvPr/>
            </p:nvSpPr>
            <p:spPr>
              <a:xfrm>
                <a:off x="8262360" y="269856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  F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22080" y="281916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8306640" y="2984400"/>
                <a:ext cx="482760" cy="60120"/>
                <a:chOff x="8306640" y="2984400"/>
                <a:chExt cx="482760" cy="6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306640" y="2984400"/>
                  <a:ext cx="48276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186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6364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8510760" y="3136680"/>
                <a:ext cx="483120" cy="60120"/>
                <a:chOff x="8510760" y="3136680"/>
                <a:chExt cx="483120" cy="60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510760" y="3136680"/>
                  <a:ext cx="483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6230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8408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6900480" y="2666880"/>
              <a:ext cx="1261080" cy="612720"/>
              <a:chOff x="6900480" y="2666880"/>
              <a:chExt cx="1261080" cy="612720"/>
            </a:xfrm>
          </p:grpSpPr>
          <p:sp>
            <p:nvSpPr>
              <p:cNvPr id="198" name=""/>
              <p:cNvSpPr/>
              <p:nvPr/>
            </p:nvSpPr>
            <p:spPr>
              <a:xfrm>
                <a:off x="6900480" y="2666880"/>
                <a:ext cx="65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*  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88640" y="278748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75480" y="292068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 G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958440" y="2958840"/>
                <a:ext cx="482760" cy="60480"/>
                <a:chOff x="6958440" y="2958840"/>
                <a:chExt cx="482760" cy="6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958440" y="2958840"/>
                  <a:ext cx="48276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7040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28820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169040" y="306684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8136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56072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09600" y="321912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6756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3784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14960" y="32256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740640" y="3267000"/>
              <a:ext cx="26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fisica:contig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676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51840" y="276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748200" y="3597120"/>
              <a:ext cx="2909520" cy="349920"/>
              <a:chOff x="6748200" y="3597120"/>
              <a:chExt cx="2909520" cy="349920"/>
            </a:xfrm>
          </p:grpSpPr>
          <p:sp>
            <p:nvSpPr>
              <p:cNvPr id="216" name=""/>
              <p:cNvSpPr/>
              <p:nvPr/>
            </p:nvSpPr>
            <p:spPr>
              <a:xfrm>
                <a:off x="6825240" y="3663720"/>
                <a:ext cx="125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05280" y="3651120"/>
                <a:ext cx="125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48200" y="3609720"/>
                <a:ext cx="114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 C  B D 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37680" y="359712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H  F  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5715000" y="4800600"/>
            <a:ext cx="42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zie agli STS e alle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stato possibile ordin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gui overlapp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695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Tipi di mappe:</a:t>
            </a:r>
            <a:r>
              <a:rPr b="1" lang="en-US" sz="2400" spc="-1" strike="noStrike">
                <a:solidFill>
                  <a:srgbClr val="ff0202"/>
                </a:solidFill>
                <a:latin typeface="Comic Sans MS"/>
              </a:rPr>
              <a:t> mappe genetiche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523880"/>
            <a:ext cx="955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ppe genetiche : si basano sulla frequenza di ricombinazione fra locus identificati attraverso marcatori di varia natura: fenotipo dell’ individuo, fenotipo tissutale, fenotipo cellulare, fenotipo proteico, fenotipo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267080"/>
            <a:ext cx="9556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la connessione fra una realta’ biologica e il genoma corrispondente, senza di  loro spesso non si puo’ procede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e mappe genetich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129528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basano sugli studi di linkage cioe’ sull’analisi della segregazione alla meiosi di marcatori genet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286000"/>
            <a:ext cx="7696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ue o piu’ marcatori vengono ereditati preferenzialmente nelle combinazioni parentali si deduce che mappino nella stessa regione geno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920" y="3657600"/>
            <a:ext cx="948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cordate? L’unita’ di mappa e’ il centimorgan(cM): 1cM indica che due  locus ricombinano fra loro con una frequenza pari a 0.01. Si assume che 1cM sia pari a ~1.5Mb anche se la relazione diretta non c’e’: la mappa genetica puo’ essere piu’ lunga di quella fi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Ricordiamo la seconda legge di Mendel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1600" y="1600200"/>
            <a:ext cx="7695720" cy="5029200"/>
            <a:chOff x="1371600" y="1600200"/>
            <a:chExt cx="7695720" cy="5029200"/>
          </a:xfrm>
        </p:grpSpPr>
        <p:sp>
          <p:nvSpPr>
            <p:cNvPr id="230" name=""/>
            <p:cNvSpPr/>
            <p:nvPr/>
          </p:nvSpPr>
          <p:spPr>
            <a:xfrm>
              <a:off x="1371600" y="1600200"/>
              <a:ext cx="7695720" cy="50292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6080" y="2590920"/>
              <a:ext cx="6206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urante la formazione dei game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la segregazione di una coppia d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lleli di un locus e’ indipend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alla segregazione degli allel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 un’altro loc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01920" y="457200"/>
            <a:ext cx="5531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Risultati possibili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825480" y="838080"/>
            <a:ext cx="9080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porto fenotipico diverso dovuto alla formazione di 4 tipi di gameti che si originano tutti con la stessa probabilita’ e diano tutte le possibili combin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16200" y="1752480"/>
          <a:ext cx="6603480" cy="434988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120"/>
                <a:gridCol w="1320840"/>
                <a:gridCol w="1320840"/>
              </a:tblGrid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898640" y="1785960"/>
            <a:ext cx="1238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44840" y="1938240"/>
            <a:ext cx="1648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077920"/>
            <a:ext cx="1652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63880" y="224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54080" y="2370240"/>
            <a:ext cx="2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683080" y="1849320"/>
            <a:ext cx="240840" cy="14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9560" y="18334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797280" y="2895480"/>
            <a:ext cx="660600" cy="551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95800" y="285264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380280" y="285264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701120" y="285264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3797280" y="369108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3797280" y="460548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797280" y="5425920"/>
            <a:ext cx="660600" cy="55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7701120" y="369108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5118120" y="544356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5059440" y="3701880"/>
            <a:ext cx="647640" cy="538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6438960" y="3691080"/>
            <a:ext cx="646200" cy="53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5094360" y="4600440"/>
            <a:ext cx="646200" cy="53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6380280" y="5425920"/>
            <a:ext cx="660240" cy="551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7713720" y="544356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7713720" y="460548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6438960" y="4545000"/>
            <a:ext cx="660240" cy="549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1898640" y="6129360"/>
            <a:ext cx="6108120" cy="642600"/>
            <a:chOff x="1898640" y="6129360"/>
            <a:chExt cx="6108120" cy="642600"/>
          </a:xfrm>
        </p:grpSpPr>
        <p:sp>
          <p:nvSpPr>
            <p:cNvPr id="259" name=""/>
            <p:cNvSpPr/>
            <p:nvPr/>
          </p:nvSpPr>
          <p:spPr>
            <a:xfrm>
              <a:off x="6933960" y="62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898640" y="6129360"/>
              <a:ext cx="6108120" cy="642600"/>
              <a:chOff x="1898640" y="6129360"/>
              <a:chExt cx="6108120" cy="642600"/>
            </a:xfrm>
          </p:grpSpPr>
          <p:sp>
            <p:nvSpPr>
              <p:cNvPr id="261" name=""/>
              <p:cNvSpPr/>
              <p:nvPr/>
            </p:nvSpPr>
            <p:spPr>
              <a:xfrm>
                <a:off x="1898640" y="6129360"/>
                <a:ext cx="89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0710"/>
                  </a:buClr>
                  <a:buFont typeface="Wingdings" charset="2"/>
                  <a:buChar char="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710"/>
                    </a:solidFill>
                    <a:latin typeface="Comic Sans MS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10480" y="620388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9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384360" y="6205320"/>
                <a:ext cx="66024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4630680" y="620532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58200" y="6227640"/>
                <a:ext cx="64656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951520" y="620532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90560" y="6184800"/>
                <a:ext cx="66060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46520" y="6167520"/>
                <a:ext cx="660240" cy="54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15840" y="380880"/>
            <a:ext cx="7512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202"/>
                </a:solidFill>
                <a:latin typeface="Comic Sans MS"/>
              </a:rPr>
              <a:t>Rapporto mendeliano nell’assortimento indipendente</a:t>
            </a:r>
            <a:endParaRPr b="1" lang="en-US" sz="20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50960" y="3809880"/>
            <a:ext cx="82080" cy="447480"/>
            <a:chOff x="1650960" y="3809880"/>
            <a:chExt cx="82080" cy="447480"/>
          </a:xfrm>
        </p:grpSpPr>
        <p:grpSp>
          <p:nvGrpSpPr>
            <p:cNvPr id="271" name=""/>
            <p:cNvGrpSpPr/>
            <p:nvPr/>
          </p:nvGrpSpPr>
          <p:grpSpPr>
            <a:xfrm>
              <a:off x="1650960" y="3809880"/>
              <a:ext cx="81720" cy="447480"/>
              <a:chOff x="1650960" y="3809880"/>
              <a:chExt cx="81720" cy="447480"/>
            </a:xfrm>
          </p:grpSpPr>
          <p:sp>
            <p:nvSpPr>
              <p:cNvPr id="272" name=""/>
              <p:cNvSpPr/>
              <p:nvPr/>
            </p:nvSpPr>
            <p:spPr>
              <a:xfrm>
                <a:off x="165096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5096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650960" y="39528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000160" y="3733920"/>
            <a:ext cx="82440" cy="587160"/>
            <a:chOff x="2000160" y="3733920"/>
            <a:chExt cx="82440" cy="587160"/>
          </a:xfrm>
        </p:grpSpPr>
        <p:grpSp>
          <p:nvGrpSpPr>
            <p:cNvPr id="276" name=""/>
            <p:cNvGrpSpPr/>
            <p:nvPr/>
          </p:nvGrpSpPr>
          <p:grpSpPr>
            <a:xfrm>
              <a:off x="2000160" y="3733920"/>
              <a:ext cx="82080" cy="587160"/>
              <a:chOff x="2000160" y="3733920"/>
              <a:chExt cx="82080" cy="587160"/>
            </a:xfrm>
          </p:grpSpPr>
          <p:sp>
            <p:nvSpPr>
              <p:cNvPr id="277" name=""/>
              <p:cNvSpPr/>
              <p:nvPr/>
            </p:nvSpPr>
            <p:spPr>
              <a:xfrm>
                <a:off x="200016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016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00016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48608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24120" y="3809880"/>
            <a:ext cx="82080" cy="447480"/>
            <a:chOff x="2724120" y="3809880"/>
            <a:chExt cx="82080" cy="447480"/>
          </a:xfrm>
        </p:grpSpPr>
        <p:grpSp>
          <p:nvGrpSpPr>
            <p:cNvPr id="282" name=""/>
            <p:cNvGrpSpPr/>
            <p:nvPr/>
          </p:nvGrpSpPr>
          <p:grpSpPr>
            <a:xfrm>
              <a:off x="2724120" y="3809880"/>
              <a:ext cx="81720" cy="447480"/>
              <a:chOff x="2724120" y="3809880"/>
              <a:chExt cx="81720" cy="447480"/>
            </a:xfrm>
          </p:grpSpPr>
          <p:sp>
            <p:nvSpPr>
              <p:cNvPr id="283" name=""/>
              <p:cNvSpPr/>
              <p:nvPr/>
            </p:nvSpPr>
            <p:spPr>
              <a:xfrm>
                <a:off x="272412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2412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72412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054240" y="3733920"/>
            <a:ext cx="82440" cy="587160"/>
            <a:chOff x="3054240" y="3733920"/>
            <a:chExt cx="82440" cy="587160"/>
          </a:xfrm>
        </p:grpSpPr>
        <p:grpSp>
          <p:nvGrpSpPr>
            <p:cNvPr id="287" name=""/>
            <p:cNvGrpSpPr/>
            <p:nvPr/>
          </p:nvGrpSpPr>
          <p:grpSpPr>
            <a:xfrm>
              <a:off x="3054240" y="3733920"/>
              <a:ext cx="82080" cy="587160"/>
              <a:chOff x="3054240" y="3733920"/>
              <a:chExt cx="82080" cy="587160"/>
            </a:xfrm>
          </p:grpSpPr>
          <p:sp>
            <p:nvSpPr>
              <p:cNvPr id="288" name=""/>
              <p:cNvSpPr/>
              <p:nvPr/>
            </p:nvSpPr>
            <p:spPr>
              <a:xfrm>
                <a:off x="305424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5424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05424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797280" y="3809880"/>
            <a:ext cx="82080" cy="447480"/>
            <a:chOff x="3797280" y="3809880"/>
            <a:chExt cx="82080" cy="447480"/>
          </a:xfrm>
        </p:grpSpPr>
        <p:grpSp>
          <p:nvGrpSpPr>
            <p:cNvPr id="292" name=""/>
            <p:cNvGrpSpPr/>
            <p:nvPr/>
          </p:nvGrpSpPr>
          <p:grpSpPr>
            <a:xfrm>
              <a:off x="3797280" y="3809880"/>
              <a:ext cx="81720" cy="447480"/>
              <a:chOff x="3797280" y="3809880"/>
              <a:chExt cx="81720" cy="447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79728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9728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79728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27400" y="3733920"/>
            <a:ext cx="82440" cy="587160"/>
            <a:chOff x="4127400" y="3733920"/>
            <a:chExt cx="82440" cy="587160"/>
          </a:xfrm>
        </p:grpSpPr>
        <p:grpSp>
          <p:nvGrpSpPr>
            <p:cNvPr id="297" name=""/>
            <p:cNvGrpSpPr/>
            <p:nvPr/>
          </p:nvGrpSpPr>
          <p:grpSpPr>
            <a:xfrm>
              <a:off x="4127400" y="3733920"/>
              <a:ext cx="82080" cy="587160"/>
              <a:chOff x="4127400" y="3733920"/>
              <a:chExt cx="82080" cy="587160"/>
            </a:xfrm>
          </p:grpSpPr>
          <p:sp>
            <p:nvSpPr>
              <p:cNvPr id="298" name=""/>
              <p:cNvSpPr/>
              <p:nvPr/>
            </p:nvSpPr>
            <p:spPr>
              <a:xfrm>
                <a:off x="412740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2740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12740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0440" y="3809880"/>
            <a:ext cx="82080" cy="447480"/>
            <a:chOff x="4870440" y="3809880"/>
            <a:chExt cx="82080" cy="447480"/>
          </a:xfrm>
        </p:grpSpPr>
        <p:grpSp>
          <p:nvGrpSpPr>
            <p:cNvPr id="302" name=""/>
            <p:cNvGrpSpPr/>
            <p:nvPr/>
          </p:nvGrpSpPr>
          <p:grpSpPr>
            <a:xfrm>
              <a:off x="4870440" y="3809880"/>
              <a:ext cx="81720" cy="447480"/>
              <a:chOff x="4870440" y="3809880"/>
              <a:chExt cx="81720" cy="447480"/>
            </a:xfrm>
          </p:grpSpPr>
          <p:sp>
            <p:nvSpPr>
              <p:cNvPr id="303" name=""/>
              <p:cNvSpPr/>
              <p:nvPr/>
            </p:nvSpPr>
            <p:spPr>
              <a:xfrm>
                <a:off x="487044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044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7044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00560" y="3733920"/>
            <a:ext cx="82440" cy="587160"/>
            <a:chOff x="5200560" y="3733920"/>
            <a:chExt cx="82440" cy="587160"/>
          </a:xfrm>
        </p:grpSpPr>
        <p:grpSp>
          <p:nvGrpSpPr>
            <p:cNvPr id="307" name=""/>
            <p:cNvGrpSpPr/>
            <p:nvPr/>
          </p:nvGrpSpPr>
          <p:grpSpPr>
            <a:xfrm>
              <a:off x="5200560" y="3733920"/>
              <a:ext cx="82080" cy="587160"/>
              <a:chOff x="5200560" y="3733920"/>
              <a:chExt cx="82080" cy="587160"/>
            </a:xfrm>
          </p:grpSpPr>
          <p:sp>
            <p:nvSpPr>
              <p:cNvPr id="308" name=""/>
              <p:cNvSpPr/>
              <p:nvPr/>
            </p:nvSpPr>
            <p:spPr>
              <a:xfrm>
                <a:off x="520056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056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0056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632040" y="3657600"/>
            <a:ext cx="8258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58880" y="3657600"/>
            <a:ext cx="8258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0520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016760" y="3809880"/>
            <a:ext cx="82080" cy="447480"/>
            <a:chOff x="7016760" y="3809880"/>
            <a:chExt cx="82080" cy="447480"/>
          </a:xfrm>
        </p:grpSpPr>
        <p:grpSp>
          <p:nvGrpSpPr>
            <p:cNvPr id="315" name=""/>
            <p:cNvGrpSpPr/>
            <p:nvPr/>
          </p:nvGrpSpPr>
          <p:grpSpPr>
            <a:xfrm>
              <a:off x="7016760" y="3809880"/>
              <a:ext cx="81720" cy="447480"/>
              <a:chOff x="7016760" y="3809880"/>
              <a:chExt cx="81720" cy="447480"/>
            </a:xfrm>
          </p:grpSpPr>
          <p:sp>
            <p:nvSpPr>
              <p:cNvPr id="316" name=""/>
              <p:cNvSpPr/>
              <p:nvPr/>
            </p:nvSpPr>
            <p:spPr>
              <a:xfrm>
                <a:off x="701676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1676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01676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46880" y="3733920"/>
            <a:ext cx="82440" cy="587160"/>
            <a:chOff x="7346880" y="3733920"/>
            <a:chExt cx="82440" cy="587160"/>
          </a:xfrm>
        </p:grpSpPr>
        <p:grpSp>
          <p:nvGrpSpPr>
            <p:cNvPr id="320" name=""/>
            <p:cNvGrpSpPr/>
            <p:nvPr/>
          </p:nvGrpSpPr>
          <p:grpSpPr>
            <a:xfrm>
              <a:off x="7346880" y="3733920"/>
              <a:ext cx="82080" cy="587160"/>
              <a:chOff x="7346880" y="3733920"/>
              <a:chExt cx="82080" cy="587160"/>
            </a:xfrm>
          </p:grpSpPr>
          <p:sp>
            <p:nvSpPr>
              <p:cNvPr id="321" name=""/>
              <p:cNvSpPr/>
              <p:nvPr/>
            </p:nvSpPr>
            <p:spPr>
              <a:xfrm>
                <a:off x="734688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4688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34688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85152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48520" y="106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7280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99040" y="222084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6240" y="525780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22760" y="2895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66040" y="285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400" y="323532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432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9960" y="3809880"/>
            <a:ext cx="15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07920" y="15238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10560" y="434988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641680" y="914400"/>
            <a:ext cx="1568160" cy="1066680"/>
            <a:chOff x="2641680" y="914400"/>
            <a:chExt cx="1568160" cy="1066680"/>
          </a:xfrm>
        </p:grpSpPr>
        <p:grpSp>
          <p:nvGrpSpPr>
            <p:cNvPr id="337" name=""/>
            <p:cNvGrpSpPr/>
            <p:nvPr/>
          </p:nvGrpSpPr>
          <p:grpSpPr>
            <a:xfrm>
              <a:off x="2736360" y="1125360"/>
              <a:ext cx="93960" cy="580320"/>
              <a:chOff x="2736360" y="1125360"/>
              <a:chExt cx="93960" cy="580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736360" y="1125360"/>
                <a:ext cx="93600" cy="580320"/>
                <a:chOff x="2736360" y="1125360"/>
                <a:chExt cx="93600" cy="5803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736360" y="131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6360" y="112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2736360" y="131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042360" y="1112760"/>
              <a:ext cx="93960" cy="580320"/>
              <a:chOff x="3042360" y="1112760"/>
              <a:chExt cx="93960" cy="5803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3042360" y="1112760"/>
                <a:ext cx="93600" cy="580320"/>
                <a:chOff x="3042360" y="1112760"/>
                <a:chExt cx="93600" cy="5803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42360" y="129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042360" y="111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042360" y="130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453480" y="1012680"/>
              <a:ext cx="93960" cy="762840"/>
              <a:chOff x="3453480" y="1012680"/>
              <a:chExt cx="93960" cy="762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3453480" y="1012680"/>
                <a:ext cx="93600" cy="762840"/>
                <a:chOff x="3453480" y="1012680"/>
                <a:chExt cx="93600" cy="7628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4534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4534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34534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5880" y="1012680"/>
              <a:ext cx="93960" cy="762840"/>
              <a:chOff x="3755880" y="1012680"/>
              <a:chExt cx="93960" cy="7628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755880" y="1012680"/>
                <a:ext cx="93600" cy="762840"/>
                <a:chOff x="3755880" y="1012680"/>
                <a:chExt cx="93600" cy="762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7558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7558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37558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641680" y="914400"/>
              <a:ext cx="14857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24120" y="9907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7160" y="139716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914400"/>
            <a:ext cx="1568160" cy="1066680"/>
            <a:chOff x="4952880" y="914400"/>
            <a:chExt cx="1568160" cy="1066680"/>
          </a:xfrm>
        </p:grpSpPr>
        <p:grpSp>
          <p:nvGrpSpPr>
            <p:cNvPr id="361" name=""/>
            <p:cNvGrpSpPr/>
            <p:nvPr/>
          </p:nvGrpSpPr>
          <p:grpSpPr>
            <a:xfrm>
              <a:off x="5047560" y="1125360"/>
              <a:ext cx="93960" cy="580320"/>
              <a:chOff x="5047560" y="1125360"/>
              <a:chExt cx="93960" cy="58032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5047560" y="1125360"/>
                <a:ext cx="93600" cy="580320"/>
                <a:chOff x="5047560" y="1125360"/>
                <a:chExt cx="93600" cy="5803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047560" y="131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047560" y="112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5047560" y="131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353560" y="1112760"/>
              <a:ext cx="93960" cy="580320"/>
              <a:chOff x="5353560" y="1112760"/>
              <a:chExt cx="93960" cy="5803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353560" y="1112760"/>
                <a:ext cx="93600" cy="580320"/>
                <a:chOff x="5353560" y="1112760"/>
                <a:chExt cx="93600" cy="5803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353560" y="129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353560" y="111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5353560" y="130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764680" y="1012680"/>
              <a:ext cx="93960" cy="762840"/>
              <a:chOff x="5764680" y="1012680"/>
              <a:chExt cx="93960" cy="7628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5764680" y="1012680"/>
                <a:ext cx="93600" cy="762840"/>
                <a:chOff x="5764680" y="1012680"/>
                <a:chExt cx="93600" cy="7628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7646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7646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7646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067080" y="1012680"/>
              <a:ext cx="93960" cy="762840"/>
              <a:chOff x="6067080" y="1012680"/>
              <a:chExt cx="93960" cy="7628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067080" y="1012680"/>
                <a:ext cx="93600" cy="762840"/>
                <a:chOff x="6067080" y="1012680"/>
                <a:chExt cx="93600" cy="762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0670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670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60670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952880" y="914400"/>
              <a:ext cx="14857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35320" y="9907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78360" y="139716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20840" y="4952880"/>
            <a:ext cx="1703160" cy="1389600"/>
            <a:chOff x="1320840" y="4952880"/>
            <a:chExt cx="1703160" cy="1389600"/>
          </a:xfrm>
        </p:grpSpPr>
        <p:sp>
          <p:nvSpPr>
            <p:cNvPr id="385" name=""/>
            <p:cNvSpPr/>
            <p:nvPr/>
          </p:nvSpPr>
          <p:spPr>
            <a:xfrm>
              <a:off x="1502640" y="594360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497600" y="5164200"/>
              <a:ext cx="93960" cy="580320"/>
              <a:chOff x="1497600" y="5164200"/>
              <a:chExt cx="93960" cy="5803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497600" y="5164200"/>
                <a:ext cx="93600" cy="580320"/>
                <a:chOff x="1497600" y="5164200"/>
                <a:chExt cx="93600" cy="5803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497600" y="53496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97600" y="51642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1497600" y="534960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1803600" y="5151600"/>
              <a:ext cx="93960" cy="580320"/>
              <a:chOff x="1803600" y="5151600"/>
              <a:chExt cx="93960" cy="5803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1803600" y="5151600"/>
                <a:ext cx="93600" cy="580320"/>
                <a:chOff x="1803600" y="5151600"/>
                <a:chExt cx="93600" cy="5803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803600" y="53370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03600" y="51516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1803600" y="53391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214720" y="5051520"/>
              <a:ext cx="93960" cy="762840"/>
              <a:chOff x="2214720" y="5051520"/>
              <a:chExt cx="93960" cy="76284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2214720" y="5051520"/>
                <a:ext cx="93600" cy="762840"/>
                <a:chOff x="2214720" y="5051520"/>
                <a:chExt cx="93600" cy="7628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21472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1472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221472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517120" y="5051520"/>
              <a:ext cx="93960" cy="762840"/>
              <a:chOff x="2517120" y="5051520"/>
              <a:chExt cx="93960" cy="76284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2517120" y="5051520"/>
                <a:ext cx="93600" cy="762840"/>
                <a:chOff x="2517120" y="5051520"/>
                <a:chExt cx="93600" cy="7628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51712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1712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251712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320840" y="4952880"/>
              <a:ext cx="156744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85720" y="5029200"/>
              <a:ext cx="10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28400" y="543564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65096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2412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9728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044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676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128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688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3004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797280" y="1828800"/>
            <a:ext cx="1650600" cy="1066680"/>
            <a:chOff x="3797280" y="1828800"/>
            <a:chExt cx="1650600" cy="1066680"/>
          </a:xfrm>
        </p:grpSpPr>
        <p:grpSp>
          <p:nvGrpSpPr>
            <p:cNvPr id="418" name=""/>
            <p:cNvGrpSpPr/>
            <p:nvPr/>
          </p:nvGrpSpPr>
          <p:grpSpPr>
            <a:xfrm>
              <a:off x="3974040" y="2039760"/>
              <a:ext cx="94320" cy="579600"/>
              <a:chOff x="3974040" y="2039760"/>
              <a:chExt cx="94320" cy="5796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3974040" y="2039760"/>
                <a:ext cx="93960" cy="579600"/>
                <a:chOff x="3974040" y="2039760"/>
                <a:chExt cx="93960" cy="5796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974040" y="2224800"/>
                  <a:ext cx="9396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974040" y="2039760"/>
                  <a:ext cx="9396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3974040" y="2225160"/>
                <a:ext cx="9432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280400" y="2027160"/>
              <a:ext cx="94320" cy="579600"/>
              <a:chOff x="4280400" y="2027160"/>
              <a:chExt cx="94320" cy="5796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4280400" y="2027160"/>
                <a:ext cx="93960" cy="579600"/>
                <a:chOff x="4280400" y="2027160"/>
                <a:chExt cx="93960" cy="5796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80400" y="2212200"/>
                  <a:ext cx="9396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80400" y="2027160"/>
                  <a:ext cx="9396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4280400" y="2214720"/>
                <a:ext cx="9432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691520" y="1927080"/>
              <a:ext cx="94320" cy="762120"/>
              <a:chOff x="4691520" y="1927080"/>
              <a:chExt cx="94320" cy="7621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691520" y="1927080"/>
                <a:ext cx="93960" cy="762120"/>
                <a:chOff x="4691520" y="1927080"/>
                <a:chExt cx="93960" cy="762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4691520" y="229392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91520" y="192708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4691520" y="2294280"/>
                <a:ext cx="9432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993920" y="1927080"/>
              <a:ext cx="94320" cy="762120"/>
              <a:chOff x="4993920" y="1927080"/>
              <a:chExt cx="94320" cy="76212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993920" y="1927080"/>
                <a:ext cx="93960" cy="762120"/>
                <a:chOff x="4993920" y="1927080"/>
                <a:chExt cx="93960" cy="762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993920" y="229392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993920" y="192708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993920" y="2294280"/>
                <a:ext cx="9432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797280" y="1828800"/>
              <a:ext cx="15685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160" y="190476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05200" y="231120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390840" y="4964040"/>
            <a:ext cx="1703160" cy="1389600"/>
            <a:chOff x="3390840" y="4964040"/>
            <a:chExt cx="1703160" cy="1389600"/>
          </a:xfrm>
        </p:grpSpPr>
        <p:sp>
          <p:nvSpPr>
            <p:cNvPr id="442" name=""/>
            <p:cNvSpPr/>
            <p:nvPr/>
          </p:nvSpPr>
          <p:spPr>
            <a:xfrm>
              <a:off x="3572640" y="595476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567960" y="5175360"/>
              <a:ext cx="93960" cy="580320"/>
              <a:chOff x="3567960" y="5175360"/>
              <a:chExt cx="93960" cy="58032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3567960" y="5175360"/>
                <a:ext cx="93600" cy="580320"/>
                <a:chOff x="3567960" y="5175360"/>
                <a:chExt cx="93600" cy="5803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567960" y="536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567960" y="517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3567960" y="536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874320" y="5162760"/>
              <a:ext cx="93960" cy="580320"/>
              <a:chOff x="3874320" y="5162760"/>
              <a:chExt cx="93960" cy="5803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3874320" y="5162760"/>
                <a:ext cx="93600" cy="580320"/>
                <a:chOff x="3874320" y="5162760"/>
                <a:chExt cx="93600" cy="580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874320" y="534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74320" y="516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3874320" y="535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285440" y="5062680"/>
              <a:ext cx="93960" cy="762840"/>
              <a:chOff x="4285440" y="5062680"/>
              <a:chExt cx="93960" cy="76284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4285440" y="5062680"/>
                <a:ext cx="93600" cy="762840"/>
                <a:chOff x="4285440" y="5062680"/>
                <a:chExt cx="93600" cy="7628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285440" y="542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285440" y="506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4285440" y="542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588560" y="5062680"/>
              <a:ext cx="93960" cy="762840"/>
              <a:chOff x="4588560" y="5062680"/>
              <a:chExt cx="93960" cy="76284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4588560" y="5062680"/>
                <a:ext cx="93600" cy="762840"/>
                <a:chOff x="4588560" y="5062680"/>
                <a:chExt cx="93600" cy="7628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588560" y="542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88560" y="506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4588560" y="542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3390840" y="4964040"/>
              <a:ext cx="156924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55720" y="504036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99120" y="544680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289480" y="4965840"/>
            <a:ext cx="1703160" cy="1389240"/>
            <a:chOff x="5289480" y="4965840"/>
            <a:chExt cx="1703160" cy="1389240"/>
          </a:xfrm>
        </p:grpSpPr>
        <p:sp>
          <p:nvSpPr>
            <p:cNvPr id="467" name=""/>
            <p:cNvSpPr/>
            <p:nvPr/>
          </p:nvSpPr>
          <p:spPr>
            <a:xfrm>
              <a:off x="5471280" y="595620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5466600" y="5176800"/>
              <a:ext cx="93960" cy="579600"/>
              <a:chOff x="5466600" y="5176800"/>
              <a:chExt cx="93960" cy="5796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466600" y="5176800"/>
                <a:ext cx="93600" cy="579600"/>
                <a:chOff x="5466600" y="5176800"/>
                <a:chExt cx="93600" cy="579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466600" y="5361840"/>
                  <a:ext cx="9360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466600" y="51768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5466600" y="536220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772960" y="5164200"/>
              <a:ext cx="93960" cy="579600"/>
              <a:chOff x="5772960" y="5164200"/>
              <a:chExt cx="93960" cy="5796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5772960" y="5164200"/>
                <a:ext cx="93600" cy="579600"/>
                <a:chOff x="5772960" y="5164200"/>
                <a:chExt cx="93600" cy="5796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772960" y="5349240"/>
                  <a:ext cx="9360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72960" y="51642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5772960" y="5351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184080" y="5064120"/>
              <a:ext cx="93960" cy="762120"/>
              <a:chOff x="6184080" y="5064120"/>
              <a:chExt cx="93960" cy="7621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6184080" y="5064120"/>
                <a:ext cx="93600" cy="762120"/>
                <a:chOff x="6184080" y="5064120"/>
                <a:chExt cx="93600" cy="7621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84080" y="5430960"/>
                  <a:ext cx="9360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184080" y="5064120"/>
                  <a:ext cx="9360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6184080" y="54313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487200" y="5064120"/>
              <a:ext cx="93960" cy="762120"/>
              <a:chOff x="6487200" y="5064120"/>
              <a:chExt cx="93960" cy="7621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487200" y="5064120"/>
                <a:ext cx="93600" cy="762120"/>
                <a:chOff x="6487200" y="5064120"/>
                <a:chExt cx="93600" cy="762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487200" y="5430960"/>
                  <a:ext cx="9360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87200" y="5064120"/>
                  <a:ext cx="9360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6487200" y="54313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5289480" y="4965840"/>
              <a:ext cx="156924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4360" y="50418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97760" y="544824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438960" y="16002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48240" y="236232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188120" y="4952880"/>
            <a:ext cx="1650600" cy="1383480"/>
            <a:chOff x="7188120" y="4952880"/>
            <a:chExt cx="1650600" cy="1383480"/>
          </a:xfrm>
        </p:grpSpPr>
        <p:sp>
          <p:nvSpPr>
            <p:cNvPr id="494" name=""/>
            <p:cNvSpPr/>
            <p:nvPr/>
          </p:nvSpPr>
          <p:spPr>
            <a:xfrm>
              <a:off x="7344000" y="5999040"/>
              <a:ext cx="13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364880" y="5164200"/>
              <a:ext cx="93960" cy="580320"/>
              <a:chOff x="7364880" y="5164200"/>
              <a:chExt cx="93960" cy="58032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7364880" y="5164200"/>
                <a:ext cx="93600" cy="580320"/>
                <a:chOff x="7364880" y="5164200"/>
                <a:chExt cx="93600" cy="5803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364880" y="53496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364880" y="51642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7364880" y="534960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671240" y="5151600"/>
              <a:ext cx="93960" cy="580320"/>
              <a:chOff x="7671240" y="5151600"/>
              <a:chExt cx="93960" cy="58032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7671240" y="5151600"/>
                <a:ext cx="93600" cy="580320"/>
                <a:chOff x="7671240" y="5151600"/>
                <a:chExt cx="93600" cy="5803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7671240" y="53370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671240" y="51516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7671240" y="53391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8082360" y="5051520"/>
              <a:ext cx="93960" cy="762840"/>
              <a:chOff x="8082360" y="5051520"/>
              <a:chExt cx="93960" cy="7628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8082360" y="5051520"/>
                <a:ext cx="93600" cy="762840"/>
                <a:chOff x="8082360" y="5051520"/>
                <a:chExt cx="93600" cy="7628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808236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8236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808236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8384760" y="5051520"/>
              <a:ext cx="93960" cy="762840"/>
              <a:chOff x="8384760" y="5051520"/>
              <a:chExt cx="93960" cy="76284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384760" y="5051520"/>
                <a:ext cx="93600" cy="762840"/>
                <a:chOff x="8384760" y="5051520"/>
                <a:chExt cx="93600" cy="7628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838476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38476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838476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7188120" y="4952880"/>
              <a:ext cx="156816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3000" y="502920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6040" y="543564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31156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6880" y="4394880"/>
            <a:ext cx="46692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08840" y="4260960"/>
            <a:ext cx="1083240" cy="93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8840" y="4311720"/>
            <a:ext cx="1873440" cy="62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709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202"/>
                </a:solidFill>
                <a:latin typeface="Comic Sans MS"/>
              </a:rPr>
              <a:t>Rapporto genotipico nell’associazione completa</a:t>
            </a:r>
            <a:endParaRPr b="1" lang="en-US" sz="20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403280" y="5562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88000" y="3733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87320" y="3740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07880" y="4114800"/>
            <a:ext cx="183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tipi di gameti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887120" y="3859200"/>
            <a:ext cx="1020960" cy="1126440"/>
            <a:chOff x="1887120" y="3859200"/>
            <a:chExt cx="1020960" cy="1126440"/>
          </a:xfrm>
        </p:grpSpPr>
        <p:grpSp>
          <p:nvGrpSpPr>
            <p:cNvPr id="528" name=""/>
            <p:cNvGrpSpPr/>
            <p:nvPr/>
          </p:nvGrpSpPr>
          <p:grpSpPr>
            <a:xfrm>
              <a:off x="2268360" y="3994200"/>
              <a:ext cx="106200" cy="737280"/>
              <a:chOff x="2268360" y="3994200"/>
              <a:chExt cx="106200" cy="73728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2268360" y="3994200"/>
                <a:ext cx="105840" cy="737280"/>
                <a:chOff x="2268360" y="3994200"/>
                <a:chExt cx="105840" cy="7372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2268360" y="434916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268360" y="3994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268360" y="434916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1950120" y="391788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88240" y="385920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90760" y="4429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87120" y="4648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8088480" y="4114800"/>
            <a:ext cx="14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31480" y="414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238400" y="1066680"/>
            <a:ext cx="6755760" cy="2513160"/>
            <a:chOff x="1238400" y="1066680"/>
            <a:chExt cx="6755760" cy="2513160"/>
          </a:xfrm>
        </p:grpSpPr>
        <p:sp>
          <p:nvSpPr>
            <p:cNvPr id="540" name=""/>
            <p:cNvSpPr/>
            <p:nvPr/>
          </p:nvSpPr>
          <p:spPr>
            <a:xfrm>
              <a:off x="1238400" y="1676520"/>
              <a:ext cx="156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69920" y="1301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72440" y="11430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92640" y="2895480"/>
              <a:ext cx="4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68360" y="1523880"/>
              <a:ext cx="122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248640" y="1066680"/>
              <a:ext cx="1344240" cy="1217880"/>
              <a:chOff x="3248640" y="1066680"/>
              <a:chExt cx="1344240" cy="121788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3549600" y="1143000"/>
                <a:ext cx="123120" cy="1057680"/>
                <a:chOff x="3549600" y="1143000"/>
                <a:chExt cx="123120" cy="105768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3549600" y="1143000"/>
                  <a:ext cx="122760" cy="1057680"/>
                  <a:chOff x="3549600" y="1143000"/>
                  <a:chExt cx="122760" cy="1057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3549600" y="165204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549600" y="114300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3549600" y="165240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962160" y="1143000"/>
                <a:ext cx="123480" cy="1057680"/>
                <a:chOff x="3962160" y="1143000"/>
                <a:chExt cx="123480" cy="105768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3962160" y="1143000"/>
                  <a:ext cx="123120" cy="1057680"/>
                  <a:chOff x="3962160" y="1143000"/>
                  <a:chExt cx="123120" cy="10576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3962160" y="165204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962160" y="114300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3962160" y="165240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3248640" y="1066680"/>
                <a:ext cx="1344240" cy="121788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43200" y="10875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42120" y="1809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54320" y="106668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58640" y="1828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011200" y="1066680"/>
              <a:ext cx="1344240" cy="1217880"/>
              <a:chOff x="5011200" y="1066680"/>
              <a:chExt cx="1344240" cy="121788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5312160" y="1143000"/>
                <a:ext cx="123120" cy="1057680"/>
                <a:chOff x="5312160" y="1143000"/>
                <a:chExt cx="123120" cy="10576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5312160" y="1143000"/>
                  <a:ext cx="122760" cy="1057680"/>
                  <a:chOff x="5312160" y="1143000"/>
                  <a:chExt cx="122760" cy="105768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5312160" y="165204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312160" y="114300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5312160" y="165240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5724720" y="1143000"/>
                <a:ext cx="123480" cy="1057680"/>
                <a:chOff x="5724720" y="1143000"/>
                <a:chExt cx="123480" cy="105768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5724720" y="1143000"/>
                  <a:ext cx="123120" cy="1057680"/>
                  <a:chOff x="5724720" y="1143000"/>
                  <a:chExt cx="123120" cy="10576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5724720" y="165204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724720" y="114300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"/>
                <p:cNvSpPr/>
                <p:nvPr/>
              </p:nvSpPr>
              <p:spPr>
                <a:xfrm>
                  <a:off x="5724720" y="165240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011200" y="1066680"/>
                <a:ext cx="1344240" cy="121788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12960" y="10875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08280" y="1809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18680" y="106668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21200" y="1828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044960" y="2362320"/>
              <a:ext cx="1344240" cy="1217520"/>
              <a:chOff x="4044960" y="2362320"/>
              <a:chExt cx="1344240" cy="121752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4345920" y="2438280"/>
                <a:ext cx="123120" cy="1057680"/>
                <a:chOff x="4345920" y="2438280"/>
                <a:chExt cx="123120" cy="105768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4345920" y="2438280"/>
                  <a:ext cx="122760" cy="1057680"/>
                  <a:chOff x="4345920" y="2438280"/>
                  <a:chExt cx="122760" cy="105768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4345920" y="294732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345920" y="243828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>
                  <a:off x="4345920" y="294732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4758480" y="2438280"/>
                <a:ext cx="123480" cy="1057680"/>
                <a:chOff x="4758480" y="2438280"/>
                <a:chExt cx="123480" cy="105768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4758480" y="2438280"/>
                  <a:ext cx="123120" cy="1057680"/>
                  <a:chOff x="4758480" y="2438280"/>
                  <a:chExt cx="123120" cy="105768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4758480" y="294732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758480" y="243828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>
                  <a:off x="4758480" y="294732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044960" y="2362320"/>
                <a:ext cx="1344240" cy="121752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42400" y="238284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38440" y="31050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52440" y="236232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54960" y="3124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613120" y="2743200"/>
              <a:ext cx="122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140080" y="3865680"/>
            <a:ext cx="1020240" cy="1126440"/>
            <a:chOff x="5140080" y="3865680"/>
            <a:chExt cx="1020240" cy="1126440"/>
          </a:xfrm>
        </p:grpSpPr>
        <p:grpSp>
          <p:nvGrpSpPr>
            <p:cNvPr id="595" name=""/>
            <p:cNvGrpSpPr/>
            <p:nvPr/>
          </p:nvGrpSpPr>
          <p:grpSpPr>
            <a:xfrm>
              <a:off x="5520960" y="4000680"/>
              <a:ext cx="106200" cy="737280"/>
              <a:chOff x="5520960" y="4000680"/>
              <a:chExt cx="106200" cy="7372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5520960" y="4000680"/>
                <a:ext cx="105840" cy="737280"/>
                <a:chOff x="5520960" y="4000680"/>
                <a:chExt cx="105840" cy="737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520960" y="43556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520960" y="400068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5520960" y="435564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02720" y="3924360"/>
              <a:ext cx="95760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40840" y="3865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43360" y="44355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40080" y="4654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116840" y="3865680"/>
            <a:ext cx="1008720" cy="1163520"/>
            <a:chOff x="7116840" y="3865680"/>
            <a:chExt cx="1008720" cy="1163520"/>
          </a:xfrm>
        </p:grpSpPr>
        <p:grpSp>
          <p:nvGrpSpPr>
            <p:cNvPr id="605" name=""/>
            <p:cNvGrpSpPr/>
            <p:nvPr/>
          </p:nvGrpSpPr>
          <p:grpSpPr>
            <a:xfrm>
              <a:off x="7486200" y="4000680"/>
              <a:ext cx="106200" cy="737280"/>
              <a:chOff x="7486200" y="4000680"/>
              <a:chExt cx="106200" cy="73728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486200" y="4000680"/>
                <a:ext cx="105840" cy="737280"/>
                <a:chOff x="7486200" y="4000680"/>
                <a:chExt cx="105840" cy="7372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486200" y="43556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486200" y="400068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7486200" y="435564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167960" y="3924360"/>
              <a:ext cx="95760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6080" y="3865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08600" y="44355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16840" y="4654800"/>
              <a:ext cx="1839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558880" y="5105520"/>
            <a:ext cx="1344600" cy="1217520"/>
            <a:chOff x="2558880" y="5105520"/>
            <a:chExt cx="1344600" cy="1217520"/>
          </a:xfrm>
        </p:grpSpPr>
        <p:grpSp>
          <p:nvGrpSpPr>
            <p:cNvPr id="615" name=""/>
            <p:cNvGrpSpPr/>
            <p:nvPr/>
          </p:nvGrpSpPr>
          <p:grpSpPr>
            <a:xfrm>
              <a:off x="2859840" y="5181480"/>
              <a:ext cx="123120" cy="1057680"/>
              <a:chOff x="2859840" y="5181480"/>
              <a:chExt cx="123120" cy="10576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2859840" y="5181480"/>
                <a:ext cx="122760" cy="1057680"/>
                <a:chOff x="2859840" y="5181480"/>
                <a:chExt cx="122760" cy="10576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2859840" y="5690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859840" y="51814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2859840" y="56905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272400" y="5181480"/>
              <a:ext cx="123480" cy="1057680"/>
              <a:chOff x="3272400" y="5181480"/>
              <a:chExt cx="123480" cy="105768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3272400" y="5181480"/>
                <a:ext cx="123120" cy="1057680"/>
                <a:chOff x="3272400" y="5181480"/>
                <a:chExt cx="123120" cy="10576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272400" y="5690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72400" y="51814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3272400" y="56905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558880" y="5105520"/>
              <a:ext cx="134460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54880" y="51260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52720" y="5848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66720" y="51055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68880" y="58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724120" y="63244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849920" y="5105520"/>
            <a:ext cx="1344240" cy="1217520"/>
            <a:chOff x="4849920" y="5105520"/>
            <a:chExt cx="1344240" cy="1217520"/>
          </a:xfrm>
        </p:grpSpPr>
        <p:grpSp>
          <p:nvGrpSpPr>
            <p:cNvPr id="632" name=""/>
            <p:cNvGrpSpPr/>
            <p:nvPr/>
          </p:nvGrpSpPr>
          <p:grpSpPr>
            <a:xfrm>
              <a:off x="5150880" y="5181480"/>
              <a:ext cx="123120" cy="1057680"/>
              <a:chOff x="5150880" y="5181480"/>
              <a:chExt cx="123120" cy="10576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5150880" y="5181480"/>
                <a:ext cx="122760" cy="1057680"/>
                <a:chOff x="5150880" y="5181480"/>
                <a:chExt cx="122760" cy="10576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150880" y="5690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150880" y="51814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5150880" y="56905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563440" y="5181480"/>
              <a:ext cx="123480" cy="1057680"/>
              <a:chOff x="5563440" y="5181480"/>
              <a:chExt cx="123480" cy="105768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5563440" y="5181480"/>
                <a:ext cx="123120" cy="1057680"/>
                <a:chOff x="5563440" y="5181480"/>
                <a:chExt cx="123120" cy="105768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563440" y="5690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563440" y="51814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5563440" y="56905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849920" y="51055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45200" y="51260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43400" y="5848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57400" y="51055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59920" y="58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5014800" y="63244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39:24Z</dcterms:created>
  <dc:creator>M.Rocchi</dc:creator>
  <dc:description/>
  <dc:language>en-US</dc:language>
  <cp:lastModifiedBy>Mariano Rocchi</cp:lastModifiedBy>
  <dcterms:modified xsi:type="dcterms:W3CDTF">2005-05-30T03:44:05Z</dcterms:modified>
  <cp:revision>52</cp:revision>
  <dc:subject/>
  <dc:title>Traslocazioni</dc:title>
</cp:coreProperties>
</file>