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ct" ContentType="image/x-pict"/>
  <Override PartName="/ppt/media/image9.pct" ContentType="image/x-pict"/>
  <Override PartName="/ppt/media/image11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8.jpeg" ContentType="image/jpeg"/>
  <Override PartName="/ppt/media/image5.png" ContentType="image/png"/>
  <Override PartName="/ppt/media/image15.png" ContentType="image/png"/>
  <Override PartName="/ppt/media/image3.jpeg" ContentType="image/jpeg"/>
  <Override PartName="/ppt/media/image6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874250" cy="7408863"/>
  <p:notesSz cx="740886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B392-685D-4496-8501-7458DB68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D40-C256-4AC5-9586-3C1EBDCE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CFF-F558-4D42-846B-96C8EF71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7876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1700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088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7876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1700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86BD-B1FE-4BEB-BA28-5599A280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0E17-9C97-4996-B94D-4842F133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C5E-461C-4705-9660-DCD7E960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8C2D-9FFD-445E-9457-97E80DB5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A04-47EA-4C15-A4F6-E853CF8F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0880" y="660240"/>
            <a:ext cx="83934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D613-0E67-4515-94D0-8B9F003F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6334-BF94-438F-8BED-656DEB70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8F5-608E-4EE7-BA5B-9E6484FB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B3E-4D21-4C55-9508-B625F3CA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1" marL="696960" indent="-268200"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2" marL="107316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3" marL="1503360" indent="-216000"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4" marL="193032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Comic Sans MS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1444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160" y="7048440"/>
            <a:ext cx="312588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1" i="1" lang="nl-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i="1" lang="nl-NL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7124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1" lang="nl-NL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92D8D2F3-7E03-4389-AC32-AD37097007D9}" type="slidenum">
              <a:rPr b="1" lang="nl-NL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560" y="493560"/>
            <a:ext cx="8943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2438280" y="139680"/>
            <a:ext cx="66042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</a:rPr>
              <a:t>Biologia Cellulare e Molecolare   GeneticaII  2004-2005</a:t>
            </a:r>
            <a:endParaRPr b="1" lang="en-US" sz="20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4440" cy="104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0.pct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0.pct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57150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Il genoma umano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EZIONE 6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503892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1724040"/>
            <a:ext cx="925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definizione di famiglia e’ operativa, e’ indipendente dalla natura delle sequ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280" y="3127320"/>
            <a:ext cx="956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e sequenze vengono definite come appartenenti alla stessa famiglia quando presentan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mologia di sequenz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che in una regione ristretta della sequ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3800" y="4924440"/>
            <a:ext cx="905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miglie multigeniche: DNA ripetuto che contiene ge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nz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9000" y="6035760"/>
            <a:ext cx="67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miglie  di sequenze di DNA non ge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61960" y="685440"/>
            <a:ext cx="617220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amiglie multigenich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90560" y="685440"/>
            <a:ext cx="5715000" cy="7873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amiglie  multigenich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828800"/>
            <a:ext cx="85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miglie multigeniche: DNA ripetuto che contiene geni funzio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352680"/>
            <a:ext cx="95252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 famiglie presentano variabilita’ nell’omologia con la sequenza di riferimento e nel grado con cui le sequenze conservate definiscono la famiglia.  Ne deriva che l’appartenenza ad una famiglia e’ data non solo dall’omologia complessiva, ma dal presentare un dominio condiviso o organizzazione simile. Si possono presentare raggruppati o distribuiti nel genoma. Alcuni membri possono essere non funzional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seudog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960" y="1981080"/>
            <a:ext cx="9747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pie non funzionali del DNA genomico di un ge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engono esoni, introni  e spesso le sequenze fiancheggianti. Data la loro somiglianz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ll’organizzazione genomica, la loro natura non funzionale puo’ essere riconosciuta,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vello di sequenza, dalla presenza di codoni di stop nella regione corrispondente al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rzione codificante del gene funzionale o dalla presenza di un’elevato numero 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tazioni ognuna della quali originerebbe  una molecola muta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o comuni nelle famiglie di geni raggrupp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520" y="4800600"/>
            <a:ext cx="952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alvolta possono venir espressi a livello di RNA o addirittura 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lipeptide, che non viene utilizzato nella molecola funzion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e della globina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 sicuramente viene espresso, ma non se ne riscont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presenza nell’emoglobina fun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067680" y="6781680"/>
            <a:ext cx="609840" cy="304920"/>
          </a:xfrm>
          <a:custGeom>
            <a:avLst/>
            <a:gdLst>
              <a:gd name="textAreaLeft" fmla="*/ 9504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57240" y="761760"/>
            <a:ext cx="322092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Pseudogeni I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593640" y="1295280"/>
            <a:ext cx="89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eudogeni non processati: convenzionali ed espress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8600" y="1285920"/>
            <a:ext cx="939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eudogeni processati : sono copie non funzionali degli esoni di un gene espresso e si ritrovano nelle famiglie dei geni interspersi. La loro origine sembrerebbe dovuta all’integrazione di una sequenza di DNA originatesi per azione di una trascrittasi inve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7840" y="3798720"/>
            <a:ext cx="855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sono copie di trascritti dalla RNApolimerasi II di solito non sono espr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che’ privi del promotore. Possono venir espressi se integrati vicino ad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motore, in questo caso l’espressione potrebbe non essere nello spazio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l tempo quella originaria (espressione selettiva in un tessuto specifico e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uno specifico momento nello sviluppo: geni espressi nel testicolo, S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4880" y="5715000"/>
            <a:ext cx="90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sono copie di trascritti dalla RNApolimerasi III possono avere al loro in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l promotore ed essere espressi. Possono raggiungere un elevato numero di cop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equenze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l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352680" y="609120"/>
            <a:ext cx="322128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seudogeni II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 cluster globinici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6310440" y="667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75280" y="5359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8000" y="2387520"/>
            <a:ext cx="919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LCR si trovano a monte dei raggruppamenti e la loro funzione sarebbe quella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rganizzare il raggruppamento in un dominio di cromatina attiva, agendo come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enhanc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72800" y="3378240"/>
            <a:ext cx="96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cromatina attiva si presenta sensibile alla Dnasi I e grazie a questa caratteri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o state identificate le LCR per i due aggruppameni globinici. E’ stato anche possib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conoscere che questa ipersensibilita’ e’ modulata nei diversi stadi di svilup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266400" y="741672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41560" y="5207040"/>
            <a:ext cx="533520" cy="380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22600" y="5054760"/>
            <a:ext cx="380880" cy="6094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56160" y="5207040"/>
            <a:ext cx="533520" cy="380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123400" y="5207040"/>
            <a:ext cx="533160" cy="380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61280" y="5207040"/>
            <a:ext cx="533520" cy="380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961480" y="5207040"/>
            <a:ext cx="533520" cy="380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18280" y="5207040"/>
            <a:ext cx="533520" cy="380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41760" y="5207040"/>
            <a:ext cx="533520" cy="380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41360" y="5359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03480" y="5359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75080" y="5359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94800" y="535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656560" y="5359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7560" y="51325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lob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75520" y="4789440"/>
            <a:ext cx="1360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S-40  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26640" y="4718160"/>
            <a:ext cx="51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72360" y="4711680"/>
            <a:ext cx="53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21520" y="4734000"/>
            <a:ext cx="53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37600" y="51307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75680" y="51307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13760" y="51307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374240" y="4749840"/>
            <a:ext cx="42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12320" y="4762440"/>
            <a:ext cx="42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036720" y="480204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51400" y="6504120"/>
            <a:ext cx="533160" cy="380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27160" y="6351480"/>
            <a:ext cx="381240" cy="6098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76920" y="6523200"/>
            <a:ext cx="533520" cy="380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885160" y="6502320"/>
            <a:ext cx="533520" cy="381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66200" y="6502320"/>
            <a:ext cx="533160" cy="381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39040" y="6523200"/>
            <a:ext cx="533160" cy="380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2520" y="6523200"/>
            <a:ext cx="533520" cy="380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65400" y="6656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08400" y="665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00400" y="667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99360" y="6654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60680" y="6351480"/>
            <a:ext cx="380880" cy="6098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94000" y="6351480"/>
            <a:ext cx="380880" cy="6098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96040" y="667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418680" y="6654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91040" y="59626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S-4  HS-3 HS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27360" y="6122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27360" y="6427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23000" y="65023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37400" y="64468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675480" y="64468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42160" y="6426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961480" y="642636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18600" y="605628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65040" y="6066000"/>
            <a:ext cx="44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06360" y="61419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744320" y="612144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886600" y="610884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5040" y="63943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lob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Controllo dei cluster globinici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5964120" y="418464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10360" y="65008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10360" y="53578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99000" y="5346720"/>
            <a:ext cx="29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1120" y="1523880"/>
            <a:ext cx="8279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li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enhance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sono brevi sequenze che agiscono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in cis.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l caso dei geni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lobinic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no costituiti da sequenze di riconoscimento per fattori di trascrizione eritroido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specifici. Si ritiene che l’alternanza delle emoglobine sia legata oltre che a fenome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 competizione dei geni per interagire con le LCR , anche all’interv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 silenziatori gene-specifici, modulati durante lo svilupp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17800" y="4086360"/>
            <a:ext cx="4161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49760" y="409572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967520" y="409572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18200" y="4095720"/>
            <a:ext cx="4161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141960" y="4095720"/>
            <a:ext cx="414360" cy="1936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38760" y="409572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0" y="4164120"/>
            <a:ext cx="3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4164120"/>
            <a:ext cx="10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245120" y="4173480"/>
            <a:ext cx="59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34360" y="41734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598840" y="3962520"/>
            <a:ext cx="525240" cy="334440"/>
            <a:chOff x="2598840" y="3962520"/>
            <a:chExt cx="525240" cy="334440"/>
          </a:xfrm>
        </p:grpSpPr>
        <p:sp>
          <p:nvSpPr>
            <p:cNvPr id="281" name=""/>
            <p:cNvSpPr/>
            <p:nvPr/>
          </p:nvSpPr>
          <p:spPr>
            <a:xfrm>
              <a:off x="2792520" y="3962520"/>
              <a:ext cx="137520" cy="3153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85840" y="3975120"/>
              <a:ext cx="138240" cy="3153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98840" y="3981240"/>
              <a:ext cx="138240" cy="3157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253120" y="4173480"/>
            <a:ext cx="29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1880" y="4173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884840" y="4419720"/>
            <a:ext cx="296640" cy="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78280" y="373392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86200" y="41911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74680" y="370368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26000" y="370836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97040" y="374652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80480" y="374652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967520" y="374004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64040" y="6402240"/>
            <a:ext cx="41580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96000" y="641196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13760" y="641196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64440" y="6411960"/>
            <a:ext cx="41580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88200" y="6411960"/>
            <a:ext cx="414360" cy="1936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84640" y="641196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0" y="6480000"/>
            <a:ext cx="59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91000" y="6489720"/>
            <a:ext cx="59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80240" y="64897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895480" y="6248520"/>
            <a:ext cx="525600" cy="334440"/>
            <a:chOff x="2895480" y="6248520"/>
            <a:chExt cx="525600" cy="334440"/>
          </a:xfrm>
        </p:grpSpPr>
        <p:sp>
          <p:nvSpPr>
            <p:cNvPr id="304" name=""/>
            <p:cNvSpPr/>
            <p:nvPr/>
          </p:nvSpPr>
          <p:spPr>
            <a:xfrm>
              <a:off x="3089520" y="6248520"/>
              <a:ext cx="137520" cy="3153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82840" y="6261120"/>
              <a:ext cx="138240" cy="3153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95480" y="6267240"/>
              <a:ext cx="138240" cy="3157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5499000" y="6489720"/>
            <a:ext cx="29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628120" y="64897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124160" y="6049800"/>
            <a:ext cx="4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20920" y="601992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72240" y="602460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42920" y="6062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26720" y="606276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213400" y="605628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29000" y="6489720"/>
            <a:ext cx="61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638680" y="4191120"/>
            <a:ext cx="2970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001000" y="4191120"/>
            <a:ext cx="297000" cy="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3505320"/>
            <a:ext cx="1524240" cy="457200"/>
          </a:xfrm>
          <a:prstGeom prst="uturnArrow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819520" y="4191120"/>
            <a:ext cx="2361960" cy="304560"/>
          </a:xfrm>
          <a:prstGeom prst="blockArc">
            <a:avLst>
              <a:gd name="adj1" fmla="val 10008896"/>
              <a:gd name="adj2" fmla="val 791104"/>
              <a:gd name="adj3" fmla="val 15764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895480" y="4191120"/>
            <a:ext cx="3124440" cy="380880"/>
          </a:xfrm>
          <a:prstGeom prst="blockArc">
            <a:avLst>
              <a:gd name="adj1" fmla="val 10008896"/>
              <a:gd name="adj2" fmla="val 791104"/>
              <a:gd name="adj3" fmla="val 15764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 rot="21539400">
            <a:off x="3354120" y="4186080"/>
            <a:ext cx="4951440" cy="457200"/>
          </a:xfrm>
          <a:prstGeom prst="blockArc">
            <a:avLst>
              <a:gd name="adj1" fmla="val 10008896"/>
              <a:gd name="adj2" fmla="val 791104"/>
              <a:gd name="adj3" fmla="val 15764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64040" y="5259240"/>
            <a:ext cx="41580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6000" y="526896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13760" y="526896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264440" y="5268960"/>
            <a:ext cx="41580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88200" y="5268960"/>
            <a:ext cx="414360" cy="1936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84640" y="526896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5337000"/>
            <a:ext cx="59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91000" y="5346720"/>
            <a:ext cx="59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80240" y="53467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903400" y="5135400"/>
            <a:ext cx="525600" cy="334800"/>
            <a:chOff x="2903400" y="5135400"/>
            <a:chExt cx="525600" cy="334800"/>
          </a:xfrm>
        </p:grpSpPr>
        <p:sp>
          <p:nvSpPr>
            <p:cNvPr id="332" name=""/>
            <p:cNvSpPr/>
            <p:nvPr/>
          </p:nvSpPr>
          <p:spPr>
            <a:xfrm>
              <a:off x="3097440" y="5135400"/>
              <a:ext cx="137520" cy="3157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90760" y="5148000"/>
              <a:ext cx="138240" cy="3157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03400" y="5154120"/>
              <a:ext cx="138240" cy="31608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8628120" y="53467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30720" y="5364000"/>
            <a:ext cx="297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842080" y="5364000"/>
            <a:ext cx="296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24160" y="4906800"/>
            <a:ext cx="4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0920" y="487692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72240" y="488160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42920" y="4919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326720" y="491976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213400" y="491328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29000" y="5346720"/>
            <a:ext cx="61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229600" y="5397480"/>
            <a:ext cx="2970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 rot="21539400">
            <a:off x="3047760" y="5415120"/>
            <a:ext cx="5560920" cy="457200"/>
          </a:xfrm>
          <a:prstGeom prst="blockArc">
            <a:avLst>
              <a:gd name="adj1" fmla="val 10008896"/>
              <a:gd name="adj2" fmla="val 791104"/>
              <a:gd name="adj3" fmla="val 15764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819520" y="5334120"/>
            <a:ext cx="3124080" cy="380880"/>
          </a:xfrm>
          <a:prstGeom prst="blockArc">
            <a:avLst>
              <a:gd name="adj1" fmla="val 10008896"/>
              <a:gd name="adj2" fmla="val 791104"/>
              <a:gd name="adj3" fmla="val 157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6527880"/>
            <a:ext cx="2970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280360" y="6527880"/>
            <a:ext cx="297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 rot="21526800">
            <a:off x="2819160" y="6476760"/>
            <a:ext cx="5943600" cy="624960"/>
          </a:xfrm>
          <a:prstGeom prst="blockArc">
            <a:avLst>
              <a:gd name="adj1" fmla="val 10008896"/>
              <a:gd name="adj2" fmla="val 791104"/>
              <a:gd name="adj3" fmla="val 157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 rot="21539400">
            <a:off x="2819160" y="6477120"/>
            <a:ext cx="5029200" cy="457200"/>
          </a:xfrm>
          <a:prstGeom prst="blockArc">
            <a:avLst>
              <a:gd name="adj1" fmla="val 10008896"/>
              <a:gd name="adj2" fmla="val 791104"/>
              <a:gd name="adj3" fmla="val 15764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480" y="3921120"/>
            <a:ext cx="19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NA nell’embr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8200" y="506412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NA nel f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7880" y="620712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NA nell’adu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066680" y="2455920"/>
            <a:ext cx="7848720" cy="48592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27040" y="609480"/>
            <a:ext cx="733608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truttura del DNA codificant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187200" y="1419120"/>
            <a:ext cx="956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SzPct val="125000"/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lazione inversa tra lunghezza del gene e percentuale del contenuto eso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726240" y="635040"/>
            <a:ext cx="2438280" cy="838080"/>
          </a:xfrm>
          <a:custGeom>
            <a:avLst/>
            <a:gdLst>
              <a:gd name="textAreaLeft" fmla="*/ 0 w 2438280"/>
              <a:gd name="textAreaRight" fmla="*/ 2438640 w 2438280"/>
              <a:gd name="textAreaTop" fmla="*/ 108360 h 838080"/>
              <a:gd name="textAreaBottom" fmla="*/ 7297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156b13"/>
              </a:gs>
              <a:gs pos="50000">
                <a:srgbClr val="f3fff4"/>
              </a:gs>
              <a:gs pos="100000">
                <a:srgbClr val="156b13"/>
              </a:gs>
            </a:gsLst>
            <a:lin ang="5400000"/>
          </a:gradFill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067680" y="6858000"/>
            <a:ext cx="609840" cy="304920"/>
          </a:xfrm>
          <a:custGeom>
            <a:avLst/>
            <a:gdLst>
              <a:gd name="textAreaLeft" fmla="*/ 9504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7640" y="685800"/>
            <a:ext cx="2382840" cy="711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Gli introni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28600" y="1698480"/>
            <a:ext cx="9372600" cy="2288520"/>
            <a:chOff x="228600" y="1698480"/>
            <a:chExt cx="9372600" cy="2288520"/>
          </a:xfrm>
        </p:grpSpPr>
        <p:sp>
          <p:nvSpPr>
            <p:cNvPr id="362" name=""/>
            <p:cNvSpPr/>
            <p:nvPr/>
          </p:nvSpPr>
          <p:spPr>
            <a:xfrm>
              <a:off x="1371600" y="1698480"/>
              <a:ext cx="82296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tita’ eterogenee con differenti capacita’ funzionali.  Sono coinvolti nello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Comic Sans MS"/>
                </a:rPr>
                <a:t>splicing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 con modalita’ differenti e pertanto classificabili in gruppi. La posizione all’interno delle sequenze codificanti (fase intronica) ne permette un’ulteriore suddivisione in tip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1241280" cy="108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"/>
          <p:cNvGrpSpPr/>
          <p:nvPr/>
        </p:nvGrpSpPr>
        <p:grpSpPr>
          <a:xfrm>
            <a:off x="457200" y="4114800"/>
            <a:ext cx="7827480" cy="790560"/>
            <a:chOff x="457200" y="4114800"/>
            <a:chExt cx="7827480" cy="790560"/>
          </a:xfrm>
        </p:grpSpPr>
        <p:sp>
          <p:nvSpPr>
            <p:cNvPr id="365" name=""/>
            <p:cNvSpPr/>
            <p:nvPr/>
          </p:nvSpPr>
          <p:spPr>
            <a:xfrm>
              <a:off x="878400" y="4191120"/>
              <a:ext cx="7406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Introni ancestrali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: presenti nei geni dei tRNA e dei r RN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egli archeobatteri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457200" y="4114800"/>
              <a:ext cx="372960" cy="7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"/>
          <p:cNvGrpSpPr/>
          <p:nvPr/>
        </p:nvGrpSpPr>
        <p:grpSpPr>
          <a:xfrm>
            <a:off x="770040" y="5000760"/>
            <a:ext cx="7939440" cy="884520"/>
            <a:chOff x="770040" y="5000760"/>
            <a:chExt cx="7939440" cy="884520"/>
          </a:xfrm>
        </p:grpSpPr>
        <p:sp>
          <p:nvSpPr>
            <p:cNvPr id="368" name=""/>
            <p:cNvSpPr/>
            <p:nvPr/>
          </p:nvSpPr>
          <p:spPr>
            <a:xfrm>
              <a:off x="968040" y="5181480"/>
              <a:ext cx="7741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Introni di gruppo I e II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:presenti nel genoma degli eubatte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 degli eucario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9" name="" descr=""/>
            <p:cNvPicPr/>
            <p:nvPr/>
          </p:nvPicPr>
          <p:blipFill>
            <a:blip r:embed="rId3"/>
            <a:stretch/>
          </p:blipFill>
          <p:spPr>
            <a:xfrm>
              <a:off x="770040" y="5000760"/>
              <a:ext cx="372960" cy="7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0" name=""/>
          <p:cNvGrpSpPr/>
          <p:nvPr/>
        </p:nvGrpSpPr>
        <p:grpSpPr>
          <a:xfrm>
            <a:off x="380880" y="5838840"/>
            <a:ext cx="9068040" cy="960840"/>
            <a:chOff x="380880" y="5838840"/>
            <a:chExt cx="9068040" cy="960840"/>
          </a:xfrm>
        </p:grpSpPr>
        <p:sp>
          <p:nvSpPr>
            <p:cNvPr id="371" name=""/>
            <p:cNvSpPr/>
            <p:nvPr/>
          </p:nvSpPr>
          <p:spPr>
            <a:xfrm>
              <a:off x="609480" y="6095880"/>
              <a:ext cx="8839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ntroni “spliceosomici”:introni convenzionali presenti nel genoma degli eucario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2" name="" descr=""/>
            <p:cNvPicPr/>
            <p:nvPr/>
          </p:nvPicPr>
          <p:blipFill>
            <a:blip r:embed="rId4"/>
            <a:stretch/>
          </p:blipFill>
          <p:spPr>
            <a:xfrm>
              <a:off x="380880" y="5838840"/>
              <a:ext cx="373320" cy="7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6726240" y="635040"/>
            <a:ext cx="2438280" cy="838080"/>
          </a:xfrm>
          <a:custGeom>
            <a:avLst/>
            <a:gdLst>
              <a:gd name="textAreaLeft" fmla="*/ 0 w 2438280"/>
              <a:gd name="textAreaRight" fmla="*/ 2438640 w 2438280"/>
              <a:gd name="textAreaTop" fmla="*/ 108360 h 838080"/>
              <a:gd name="textAreaBottom" fmla="*/ 7297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156b13"/>
              </a:gs>
              <a:gs pos="50000">
                <a:srgbClr val="f3fff4"/>
              </a:gs>
              <a:gs pos="100000">
                <a:srgbClr val="156b13"/>
              </a:gs>
            </a:gsLst>
            <a:lin ang="5400000"/>
          </a:gradFill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2120760" y="2514600"/>
            <a:ext cx="6108480" cy="304560"/>
            <a:chOff x="2120760" y="2514600"/>
            <a:chExt cx="6108480" cy="304560"/>
          </a:xfrm>
        </p:grpSpPr>
        <p:sp>
          <p:nvSpPr>
            <p:cNvPr id="375" name=""/>
            <p:cNvSpPr/>
            <p:nvPr/>
          </p:nvSpPr>
          <p:spPr>
            <a:xfrm>
              <a:off x="2120760" y="2514600"/>
              <a:ext cx="76176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son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06560" y="2514600"/>
              <a:ext cx="2133360" cy="30456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GU------------A-----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3960" y="2514600"/>
              <a:ext cx="114300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son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43240" y="2514600"/>
              <a:ext cx="1371600" cy="30456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GU--------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38880" y="2514600"/>
              <a:ext cx="99036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son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3812400" y="1523880"/>
            <a:ext cx="1288800" cy="838080"/>
            <a:chOff x="3812400" y="1523880"/>
            <a:chExt cx="1288800" cy="838080"/>
          </a:xfrm>
        </p:grpSpPr>
        <p:grpSp>
          <p:nvGrpSpPr>
            <p:cNvPr id="381" name=""/>
            <p:cNvGrpSpPr/>
            <p:nvPr/>
          </p:nvGrpSpPr>
          <p:grpSpPr>
            <a:xfrm>
              <a:off x="3812400" y="1523880"/>
              <a:ext cx="988560" cy="838080"/>
              <a:chOff x="3812400" y="1523880"/>
              <a:chExt cx="988560" cy="838080"/>
            </a:xfrm>
          </p:grpSpPr>
          <p:sp>
            <p:nvSpPr>
              <p:cNvPr id="382" name=""/>
              <p:cNvSpPr/>
              <p:nvPr/>
            </p:nvSpPr>
            <p:spPr>
              <a:xfrm rot="5400000">
                <a:off x="4152240" y="2018880"/>
                <a:ext cx="457200" cy="228600"/>
              </a:xfrm>
              <a:custGeom>
                <a:avLst/>
                <a:gdLst>
                  <a:gd name="textAreaLeft" fmla="*/ 71280 w 457200"/>
                  <a:gd name="textAreaRight" fmla="*/ 400320 w 457200"/>
                  <a:gd name="textAreaTop" fmla="*/ 57240 h 228600"/>
                  <a:gd name="textAreaBottom" fmla="*/ 17172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375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3375" y="162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675" y="5400"/>
                    </a:lnTo>
                    <a:lnTo>
                      <a:pt x="675" y="16200"/>
                    </a:lnTo>
                    <a:lnTo>
                      <a:pt x="0" y="1620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2700" y="5400"/>
                    </a:lnTo>
                    <a:lnTo>
                      <a:pt x="2700" y="16200"/>
                    </a:lnTo>
                    <a:lnTo>
                      <a:pt x="1350" y="162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12400" y="1523880"/>
                <a:ext cx="9885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mic Sans MS"/>
                  </a:rPr>
                  <a:t>Taglio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 rot="3457800">
              <a:off x="4647600" y="1675800"/>
              <a:ext cx="380880" cy="381240"/>
            </a:xfrm>
            <a:prstGeom prst="lightningBol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2734200" y="1985040"/>
            <a:ext cx="4869000" cy="525960"/>
            <a:chOff x="2734200" y="1985040"/>
            <a:chExt cx="4869000" cy="525960"/>
          </a:xfrm>
        </p:grpSpPr>
        <p:sp>
          <p:nvSpPr>
            <p:cNvPr id="386" name=""/>
            <p:cNvSpPr/>
            <p:nvPr/>
          </p:nvSpPr>
          <p:spPr>
            <a:xfrm rot="3457800">
              <a:off x="2806560" y="2057400"/>
              <a:ext cx="380880" cy="380880"/>
            </a:xfrm>
            <a:prstGeom prst="lightningBol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3457800">
              <a:off x="4787280" y="2057040"/>
              <a:ext cx="380880" cy="381240"/>
            </a:xfrm>
            <a:prstGeom prst="lightningBol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3457800">
              <a:off x="5854680" y="2057400"/>
              <a:ext cx="380880" cy="380880"/>
            </a:xfrm>
            <a:prstGeom prst="lightningBol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3457800">
              <a:off x="7149960" y="2057400"/>
              <a:ext cx="380880" cy="380880"/>
            </a:xfrm>
            <a:prstGeom prst="lightningBol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214920" y="3079800"/>
            <a:ext cx="8143200" cy="349200"/>
            <a:chOff x="214920" y="3079800"/>
            <a:chExt cx="8143200" cy="349200"/>
          </a:xfrm>
        </p:grpSpPr>
        <p:sp>
          <p:nvSpPr>
            <p:cNvPr id="391" name=""/>
            <p:cNvSpPr/>
            <p:nvPr/>
          </p:nvSpPr>
          <p:spPr>
            <a:xfrm>
              <a:off x="1828800" y="3124080"/>
              <a:ext cx="2133720" cy="30492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GU-----------------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46720" y="3124080"/>
              <a:ext cx="1371600" cy="304920"/>
            </a:xfrm>
            <a:prstGeom prst="cube">
              <a:avLst>
                <a:gd name="adj" fmla="val 250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GU--------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219320" y="3200400"/>
              <a:ext cx="533160" cy="228600"/>
            </a:xfrm>
            <a:prstGeom prst="left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17171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10800000">
              <a:off x="6781680" y="3200040"/>
              <a:ext cx="533520" cy="228600"/>
            </a:xfrm>
            <a:prstGeom prst="leftArrow">
              <a:avLst>
                <a:gd name="adj1" fmla="val 50000"/>
                <a:gd name="adj2" fmla="val 58346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17171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85680" y="3083040"/>
              <a:ext cx="10724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limina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4920" y="3079800"/>
              <a:ext cx="10724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limina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2286000" y="3235320"/>
            <a:ext cx="4343400" cy="1108080"/>
            <a:chOff x="2286000" y="3235320"/>
            <a:chExt cx="4343400" cy="1108080"/>
          </a:xfrm>
        </p:grpSpPr>
        <p:sp>
          <p:nvSpPr>
            <p:cNvPr id="398" name=""/>
            <p:cNvSpPr/>
            <p:nvPr/>
          </p:nvSpPr>
          <p:spPr>
            <a:xfrm>
              <a:off x="2286000" y="3657600"/>
              <a:ext cx="762120" cy="3049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son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86200" y="3670200"/>
              <a:ext cx="1143000" cy="3049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son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38680" y="3657600"/>
              <a:ext cx="990720" cy="3049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son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286000" y="3962520"/>
              <a:ext cx="1295280" cy="380880"/>
            </a:xfrm>
            <a:prstGeom prst="parallelogram">
              <a:avLst>
                <a:gd name="adj" fmla="val 128347"/>
              </a:avLst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81280" y="3962520"/>
              <a:ext cx="1371600" cy="380880"/>
            </a:xfrm>
            <a:prstGeom prst="parallelogram">
              <a:avLst>
                <a:gd name="adj" fmla="val 90028"/>
              </a:avLst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648320" y="3962520"/>
              <a:ext cx="1904760" cy="380880"/>
            </a:xfrm>
            <a:prstGeom prst="parallelogram">
              <a:avLst>
                <a:gd name="adj" fmla="val 231710"/>
              </a:avLst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205880" y="3235320"/>
              <a:ext cx="8816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omic Sans MS"/>
                </a:rPr>
                <a:t>Splic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1065960" y="4267080"/>
            <a:ext cx="4420440" cy="381240"/>
            <a:chOff x="1065960" y="4267080"/>
            <a:chExt cx="4420440" cy="381240"/>
          </a:xfrm>
        </p:grpSpPr>
        <p:sp>
          <p:nvSpPr>
            <p:cNvPr id="406" name=""/>
            <p:cNvSpPr/>
            <p:nvPr/>
          </p:nvSpPr>
          <p:spPr>
            <a:xfrm>
              <a:off x="2755800" y="4343400"/>
              <a:ext cx="762120" cy="3049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son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41600" y="4343400"/>
              <a:ext cx="1143000" cy="3049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son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95680" y="4343400"/>
              <a:ext cx="990720" cy="3049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son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65960" y="4267080"/>
              <a:ext cx="1351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RNA matu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371600" y="5715000"/>
            <a:ext cx="6858000" cy="380880"/>
            <a:chOff x="1371600" y="5715000"/>
            <a:chExt cx="6858000" cy="380880"/>
          </a:xfrm>
        </p:grpSpPr>
        <p:sp>
          <p:nvSpPr>
            <p:cNvPr id="411" name=""/>
            <p:cNvSpPr/>
            <p:nvPr/>
          </p:nvSpPr>
          <p:spPr>
            <a:xfrm>
              <a:off x="1371600" y="5791320"/>
              <a:ext cx="76212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son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73400" y="5715000"/>
              <a:ext cx="2133360" cy="30492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GU------------A-----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19720" y="5715000"/>
              <a:ext cx="1143000" cy="3049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son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67280" y="5715000"/>
              <a:ext cx="1371600" cy="30492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GT--------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238880" y="5715000"/>
              <a:ext cx="990720" cy="30492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eson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 rot="3457800">
            <a:off x="4266720" y="5333760"/>
            <a:ext cx="380880" cy="38124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3457800">
            <a:off x="1752120" y="5257440"/>
            <a:ext cx="380880" cy="381240"/>
          </a:xfrm>
          <a:prstGeom prst="lightningBol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143000" y="6477120"/>
            <a:ext cx="762120" cy="304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one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28800" y="6477120"/>
            <a:ext cx="1143000" cy="304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on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586880" y="4952880"/>
            <a:ext cx="1994400" cy="1143000"/>
            <a:chOff x="1586880" y="4952880"/>
            <a:chExt cx="1994400" cy="1143000"/>
          </a:xfrm>
        </p:grpSpPr>
        <p:sp>
          <p:nvSpPr>
            <p:cNvPr id="421" name=""/>
            <p:cNvSpPr/>
            <p:nvPr/>
          </p:nvSpPr>
          <p:spPr>
            <a:xfrm>
              <a:off x="2209680" y="5486400"/>
              <a:ext cx="1371600" cy="609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A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586880" y="4952880"/>
              <a:ext cx="11224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nRNP U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656800" y="4876920"/>
            <a:ext cx="1823760" cy="1267200"/>
            <a:chOff x="2656800" y="4876920"/>
            <a:chExt cx="1823760" cy="1267200"/>
          </a:xfrm>
        </p:grpSpPr>
        <p:sp>
          <p:nvSpPr>
            <p:cNvPr id="424" name=""/>
            <p:cNvSpPr/>
            <p:nvPr/>
          </p:nvSpPr>
          <p:spPr>
            <a:xfrm rot="2700000">
              <a:off x="2704680" y="5219640"/>
              <a:ext cx="1143000" cy="609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58080" y="4876920"/>
              <a:ext cx="11224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snRNP U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009920" y="762120"/>
            <a:ext cx="2001960" cy="6350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Gli introni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726240" y="635040"/>
            <a:ext cx="2438280" cy="838080"/>
          </a:xfrm>
          <a:custGeom>
            <a:avLst/>
            <a:gdLst>
              <a:gd name="textAreaLeft" fmla="*/ 0 w 2438280"/>
              <a:gd name="textAreaRight" fmla="*/ 2438640 w 2438280"/>
              <a:gd name="textAreaTop" fmla="*/ 108360 h 838080"/>
              <a:gd name="textAreaBottom" fmla="*/ 7297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156b13"/>
              </a:gs>
              <a:gs pos="50000">
                <a:srgbClr val="f3fff4"/>
              </a:gs>
              <a:gs pos="100000">
                <a:srgbClr val="156b13"/>
              </a:gs>
            </a:gsLst>
            <a:lin ang="5400000"/>
          </a:gradFill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447920" y="1676520"/>
            <a:ext cx="7864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ase degli introni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osizione in cui l’introne interrompe una sequenza di DNA codificante (non si definisce la fase quando l’introne interrompe una sequenza non tradotta).. Esistono tre tipi: fase 0, fase 1, fase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220320" y="685800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1241280" cy="10843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37120" y="837720"/>
            <a:ext cx="2230200" cy="406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Gli introni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80880" y="3505320"/>
            <a:ext cx="8398080" cy="1008720"/>
            <a:chOff x="380880" y="3505320"/>
            <a:chExt cx="8398080" cy="1008720"/>
          </a:xfrm>
        </p:grpSpPr>
        <p:sp>
          <p:nvSpPr>
            <p:cNvPr id="433" name=""/>
            <p:cNvSpPr/>
            <p:nvPr/>
          </p:nvSpPr>
          <p:spPr>
            <a:xfrm>
              <a:off x="838080" y="3505320"/>
              <a:ext cx="7940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ase 0: interrompono la sequenza codificante fra due codoni adiacenti, sono i piu’ numerosi e potrebbero rappresentare la situazione ancestr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2"/>
            <a:stretch/>
          </p:blipFill>
          <p:spPr>
            <a:xfrm>
              <a:off x="380880" y="3505320"/>
              <a:ext cx="373320" cy="7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"/>
          <p:cNvGrpSpPr/>
          <p:nvPr/>
        </p:nvGrpSpPr>
        <p:grpSpPr>
          <a:xfrm>
            <a:off x="304920" y="4648320"/>
            <a:ext cx="8612640" cy="932400"/>
            <a:chOff x="304920" y="4648320"/>
            <a:chExt cx="8612640" cy="932400"/>
          </a:xfrm>
        </p:grpSpPr>
        <p:sp>
          <p:nvSpPr>
            <p:cNvPr id="436" name=""/>
            <p:cNvSpPr/>
            <p:nvPr/>
          </p:nvSpPr>
          <p:spPr>
            <a:xfrm>
              <a:off x="778680" y="4876920"/>
              <a:ext cx="8138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ase 1: interrompono la sequenza codificante fra la prima e l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seconda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3"/>
            <a:stretch/>
          </p:blipFill>
          <p:spPr>
            <a:xfrm>
              <a:off x="304920" y="4648320"/>
              <a:ext cx="372960" cy="7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8" name=""/>
          <p:cNvGrpSpPr/>
          <p:nvPr/>
        </p:nvGrpSpPr>
        <p:grpSpPr>
          <a:xfrm>
            <a:off x="380880" y="5761080"/>
            <a:ext cx="8533080" cy="886320"/>
            <a:chOff x="380880" y="5761080"/>
            <a:chExt cx="8533080" cy="886320"/>
          </a:xfrm>
        </p:grpSpPr>
        <p:sp>
          <p:nvSpPr>
            <p:cNvPr id="439" name=""/>
            <p:cNvSpPr/>
            <p:nvPr/>
          </p:nvSpPr>
          <p:spPr>
            <a:xfrm>
              <a:off x="782640" y="5943600"/>
              <a:ext cx="8131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ase 2: interrompono la sequenza codificante fra la seconda 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la terza 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0" name="" descr=""/>
            <p:cNvPicPr/>
            <p:nvPr/>
          </p:nvPicPr>
          <p:blipFill>
            <a:blip r:embed="rId4"/>
            <a:stretch/>
          </p:blipFill>
          <p:spPr>
            <a:xfrm>
              <a:off x="380880" y="5761080"/>
              <a:ext cx="373320" cy="7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flipV="1">
            <a:off x="6553080" y="3276720"/>
            <a:ext cx="0" cy="3045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010280" y="2057400"/>
            <a:ext cx="2667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enoma mitocondri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6.6 - 37 gen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153280" y="2895480"/>
            <a:ext cx="0" cy="38124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327800" y="3200400"/>
            <a:ext cx="113040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ue geni pe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 RN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686800" y="3200400"/>
            <a:ext cx="106668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2 geni pe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RN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994360" y="3213000"/>
            <a:ext cx="109224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3 geni per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olipeptidi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848720" y="3276720"/>
            <a:ext cx="0" cy="3045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25480" y="1447920"/>
            <a:ext cx="1968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Genoma nucleare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3000 Mb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~ 50.000 geni</a:t>
            </a:r>
            <a:endParaRPr b="0" lang="en-US" sz="2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3352680"/>
            <a:ext cx="1486080" cy="7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geni e sequenze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rrelati ai geni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82880" y="3335400"/>
            <a:ext cx="1079640" cy="7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DNA 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xtragenico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166356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018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400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01800" y="29718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7040" y="29415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91480" y="28954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5181480"/>
            <a:ext cx="1041480" cy="7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DNA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dificante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828800" y="5316480"/>
            <a:ext cx="137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DNA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non codificante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41148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449568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14600" y="44956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4956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0600" y="47242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53040" y="46483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6400800"/>
            <a:ext cx="1067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pseudogeni</a:t>
            </a:r>
            <a:endParaRPr b="0" lang="en-US" sz="14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438280" y="6426360"/>
            <a:ext cx="1295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frammenti 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genici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038480" y="6400800"/>
            <a:ext cx="1447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introni, 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sequenze non 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tradotte ecc..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066680" y="6019920"/>
            <a:ext cx="5335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6019920"/>
            <a:ext cx="685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3200" y="61214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486400" y="50292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uniche o con basso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numero di copie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772400" y="50292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da mediamente ad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altamente ripetute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934320" y="655308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in tandem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o raggruppate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458200" y="655308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intersperse</a:t>
            </a:r>
            <a:endParaRPr b="0" lang="en-US" sz="16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8610480" y="5791320"/>
            <a:ext cx="4572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876800" y="5791320"/>
            <a:ext cx="3524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464832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76312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0400" y="43131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701560" y="43434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85440"/>
            <a:ext cx="419076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enoma Umano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1676520"/>
            <a:ext cx="416088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6726240" y="635040"/>
            <a:ext cx="2438280" cy="838080"/>
          </a:xfrm>
          <a:custGeom>
            <a:avLst/>
            <a:gdLst>
              <a:gd name="textAreaLeft" fmla="*/ 0 w 2438280"/>
              <a:gd name="textAreaRight" fmla="*/ 2438640 w 2438280"/>
              <a:gd name="textAreaTop" fmla="*/ 108360 h 838080"/>
              <a:gd name="textAreaBottom" fmla="*/ 7297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156b13"/>
              </a:gs>
              <a:gs pos="50000">
                <a:srgbClr val="f3fff4"/>
              </a:gs>
              <a:gs pos="100000">
                <a:srgbClr val="156b13"/>
              </a:gs>
            </a:gsLst>
            <a:lin ang="5400000"/>
          </a:gradFill>
          <a:ln w="1908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-37800" y="1600200"/>
            <a:ext cx="912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e degli introni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sizione in cui l’introne interrompe una sequenza di D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dificante (non si definisce la fase quando l’introne interrompe una sequenza n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dotta). Esistono tre tipi: fase 0, fase 1, fas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9080" y="3006720"/>
            <a:ext cx="9662040" cy="1480320"/>
            <a:chOff x="19080" y="3006720"/>
            <a:chExt cx="9662040" cy="1480320"/>
          </a:xfrm>
        </p:grpSpPr>
        <p:sp>
          <p:nvSpPr>
            <p:cNvPr id="444" name=""/>
            <p:cNvSpPr/>
            <p:nvPr/>
          </p:nvSpPr>
          <p:spPr>
            <a:xfrm>
              <a:off x="600120" y="3809880"/>
              <a:ext cx="600120" cy="381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100520" y="3809880"/>
              <a:ext cx="550080" cy="381240"/>
            </a:xfrm>
            <a:prstGeom prst="cube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550520" y="3809880"/>
              <a:ext cx="625320" cy="38124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88720" y="3809880"/>
              <a:ext cx="325080" cy="38124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25960" y="3809880"/>
              <a:ext cx="650520" cy="38124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GG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76760" y="3809880"/>
              <a:ext cx="524880" cy="38124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55720" y="3429000"/>
              <a:ext cx="720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5’ UTS  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Val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     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Gly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Ar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        2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g  Leu    Arg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0   0  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Leu    His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3’UTS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27200" y="3809880"/>
              <a:ext cx="1225440" cy="381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080" y="3789360"/>
              <a:ext cx="62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Comic Sans MS"/>
                </a:rPr>
                <a:t>HB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52640" y="3809880"/>
              <a:ext cx="375120" cy="38124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03200" y="3809880"/>
              <a:ext cx="587520" cy="38124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T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90640" y="3809880"/>
              <a:ext cx="437760" cy="38124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28680" y="3809880"/>
              <a:ext cx="625320" cy="38124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G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54000" y="3809880"/>
              <a:ext cx="725400" cy="38124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66800" y="3809880"/>
              <a:ext cx="587520" cy="38124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17160" y="3809880"/>
              <a:ext cx="450000" cy="38124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67080" y="3809880"/>
              <a:ext cx="637920" cy="38124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405280" y="3809880"/>
              <a:ext cx="637920" cy="381240"/>
            </a:xfrm>
            <a:prstGeom prst="cube">
              <a:avLst>
                <a:gd name="adj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A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943120" y="3809880"/>
              <a:ext cx="738000" cy="38124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39360" y="3657600"/>
              <a:ext cx="112320" cy="60948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77760" y="3657600"/>
              <a:ext cx="112680" cy="60948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6520" y="3657600"/>
              <a:ext cx="112320" cy="60948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7120" y="3670200"/>
              <a:ext cx="87120" cy="60984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52520" y="3006720"/>
              <a:ext cx="619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         29                  30                31          104                  105       1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3861000" y="2717280"/>
              <a:ext cx="457200" cy="15757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1040 h 1575720"/>
                <a:gd name="textAreaBottom" fmla="*/ 1534680 h 157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099"/>
                  </a:lnTo>
                  <a:cubicBezTo>
                    <a:pt x="10800" y="8999"/>
                    <a:pt x="16200" y="9899"/>
                    <a:pt x="21600" y="9899"/>
                  </a:cubicBezTo>
                  <a:cubicBezTo>
                    <a:pt x="16200" y="9899"/>
                    <a:pt x="10800" y="10799"/>
                    <a:pt x="10800" y="11699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672000" y="4149720"/>
              <a:ext cx="3282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Comic Sans MS"/>
                </a:rPr>
                <a:t>Fase 2                                   Fase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56960" y="3844800"/>
              <a:ext cx="57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T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91840" y="384480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GT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48320" y="4724280"/>
            <a:ext cx="9529200" cy="1556640"/>
            <a:chOff x="148320" y="4724280"/>
            <a:chExt cx="9529200" cy="1556640"/>
          </a:xfrm>
        </p:grpSpPr>
        <p:sp>
          <p:nvSpPr>
            <p:cNvPr id="473" name=""/>
            <p:cNvSpPr/>
            <p:nvPr/>
          </p:nvSpPr>
          <p:spPr>
            <a:xfrm>
              <a:off x="774720" y="5562720"/>
              <a:ext cx="609480" cy="380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41680" y="5562720"/>
              <a:ext cx="609480" cy="380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384200" y="5562720"/>
              <a:ext cx="1244880" cy="3808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gt--------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95280" y="5410080"/>
              <a:ext cx="114480" cy="60984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52760" y="5410080"/>
              <a:ext cx="114120" cy="60984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37040" y="5562720"/>
              <a:ext cx="609480" cy="38088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T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645000" y="5562720"/>
              <a:ext cx="1320840" cy="38088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----------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13200" y="5562720"/>
              <a:ext cx="609840" cy="38088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C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21160" y="5562720"/>
              <a:ext cx="330480" cy="38088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76840" y="5562720"/>
              <a:ext cx="736560" cy="380880"/>
            </a:xfrm>
            <a:prstGeom prst="cube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87920" y="5410080"/>
              <a:ext cx="114480" cy="60984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350040" y="5423040"/>
              <a:ext cx="88920" cy="609480"/>
            </a:xfrm>
            <a:prstGeom prst="cube">
              <a:avLst>
                <a:gd name="adj" fmla="val 25000"/>
              </a:avLst>
            </a:prstGeom>
            <a:solidFill>
              <a:srgbClr val="fe2c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413400" y="5562720"/>
              <a:ext cx="533520" cy="38088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45400" y="5562720"/>
              <a:ext cx="1320840" cy="38088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---------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13600" y="5562720"/>
              <a:ext cx="533520" cy="38088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45600" y="5562720"/>
              <a:ext cx="533160" cy="380880"/>
            </a:xfrm>
            <a:prstGeom prst="cube">
              <a:avLst>
                <a:gd name="adj" fmla="val 250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TA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877240" y="5562720"/>
              <a:ext cx="800280" cy="3808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8320" y="5486400"/>
              <a:ext cx="55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Comic Sans MS"/>
                </a:rPr>
                <a:t>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16200000">
              <a:off x="1803240" y="4609800"/>
              <a:ext cx="457200" cy="16002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099"/>
                  </a:lnTo>
                  <a:cubicBezTo>
                    <a:pt x="10800" y="8999"/>
                    <a:pt x="16200" y="9899"/>
                    <a:pt x="21600" y="9899"/>
                  </a:cubicBezTo>
                  <a:cubicBezTo>
                    <a:pt x="16200" y="9899"/>
                    <a:pt x="10800" y="10799"/>
                    <a:pt x="10800" y="11699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6200000">
              <a:off x="5880240" y="4572000"/>
              <a:ext cx="380880" cy="129528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099"/>
                  </a:lnTo>
                  <a:cubicBezTo>
                    <a:pt x="10800" y="8999"/>
                    <a:pt x="16200" y="9899"/>
                    <a:pt x="21600" y="9899"/>
                  </a:cubicBezTo>
                  <a:cubicBezTo>
                    <a:pt x="16200" y="9899"/>
                    <a:pt x="10800" y="10799"/>
                    <a:pt x="10800" y="11699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643400" y="490536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5’U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654040" y="5299200"/>
              <a:ext cx="65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3’U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81000" y="4724280"/>
              <a:ext cx="473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1                         80           81                                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55440" y="5181480"/>
              <a:ext cx="12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V  1    1  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514840" y="594360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Comic Sans MS"/>
                </a:rPr>
                <a:t>Fas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934320" y="762120"/>
            <a:ext cx="2077920" cy="6350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Gli introni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380880" y="1828800"/>
            <a:ext cx="848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NA RIPETUTO IN TANDEM: i blocchi possono mappare su piu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omosomi a seconda delle dimensioni medie delle unita si suddivide 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84720" y="2994120"/>
            <a:ext cx="243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NA 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NA mini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NA micro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7840" y="4560840"/>
            <a:ext cx="905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NA RIPETUTO INTERSPERSO: Le singole unita’ sono sparse nel geno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engono sequenze che possono essere retrotrasposte attraverso 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medio di R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74760" y="659880"/>
            <a:ext cx="764064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Famiglie di DNA ripetuto non genico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511200" y="1360440"/>
            <a:ext cx="911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NA RIPETUTO INTERSPERSO: Le singole unita’ sono sparse nel geno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engono sequenze che possono essere retrotrasposte attraverso 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medio di R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2720" y="2622600"/>
            <a:ext cx="827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E (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hor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terspersed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clear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ements)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ll’uomo e negli altri prim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famiglia piu’ rappresentativa e’ costituita dalle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13480" y="3460680"/>
            <a:ext cx="736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NE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Long 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terspersed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uclear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lements).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o condivisi anc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 altri mammifer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0" y="4348080"/>
            <a:ext cx="9875880" cy="2556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352680" y="533160"/>
            <a:ext cx="598968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DNA ripetuto intersperso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429720" y="1143000"/>
            <a:ext cx="37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I TRASPON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56280" y="1828800"/>
            <a:ext cx="149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MITE R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com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976520" y="182880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MIT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ra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66920" y="2701800"/>
            <a:ext cx="193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capace 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dificare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scrittasi in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09320" y="4044960"/>
            <a:ext cx="198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amiglia non vi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61800" y="4883040"/>
            <a:ext cx="245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ropseudoge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pseudogeni processat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9560" y="6564240"/>
            <a:ext cx="178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MIGLIA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978440" y="2705040"/>
            <a:ext cx="193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pace 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dificare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scrittasi inve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919280" y="286560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SPOS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846400" y="403848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amiglia vi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33760" y="488952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osseggono le LTR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ratteristiche dei retrovi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89680" y="487692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ivi delle LTR e di alt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ratteristiche dei retrovi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27200" y="5638680"/>
            <a:ext cx="317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rovirus endogeni e eleme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il-retrovir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74840" y="5638680"/>
            <a:ext cx="171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trotraspos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80200" y="6553080"/>
            <a:ext cx="275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MIGLIA HERV/RT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MIGLIA THE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949440" y="662940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AMIGLIA LINE-1(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Kp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7467120" y="12952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863604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8600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838080" y="2666880"/>
            <a:ext cx="4724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2666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562720" y="26668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295280" y="3581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477120" y="3581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295280" y="43434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68680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534520" y="59436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876920" y="6248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863960" y="54864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8534520" y="54864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477120" y="43434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800600" y="4572000"/>
            <a:ext cx="3657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458200" y="4572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00600" y="45720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2209320" y="12952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0968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8120" y="1066680"/>
            <a:ext cx="4343400" cy="762120"/>
          </a:xfrm>
          <a:prstGeom prst="horizontalScroll">
            <a:avLst>
              <a:gd name="adj" fmla="val 125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696080" y="2590920"/>
            <a:ext cx="1981440" cy="9144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05720" y="6477120"/>
            <a:ext cx="3093840" cy="76176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76720" y="6477120"/>
            <a:ext cx="3200400" cy="9144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8600" y="6477120"/>
            <a:ext cx="2590920" cy="76176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95280" y="55627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08160" y="609120"/>
            <a:ext cx="839304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Classificazione elementi trasponibili nell’uom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838080" y="1371600"/>
            <a:ext cx="8475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membri delle famiglie di ripetizioni intersperse so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ati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i trasponib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52280" y="2590920"/>
            <a:ext cx="9544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LEMENTI TRASPONIBILI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gmenti di DNA in grado di muoversi n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oma. Gli elementi trasponibili umani sono di regola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etrotrasposo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sequenza trasposta si trova ,dopo la duplicazione, ad essere fiancheggi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 corte unita’ ripe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286000" y="5181480"/>
            <a:ext cx="8668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071040" y="4911840"/>
            <a:ext cx="88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AAA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934320" y="5241960"/>
            <a:ext cx="72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0" y="5810400"/>
            <a:ext cx="892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61240" y="5472000"/>
            <a:ext cx="80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TTT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934320" y="5842080"/>
            <a:ext cx="671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065320" y="497052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29480" y="491184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065320" y="552132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13640" y="561960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56160" y="5605560"/>
            <a:ext cx="357120" cy="2142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199040" y="5605560"/>
            <a:ext cx="357120" cy="2142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913280" y="5605560"/>
            <a:ext cx="357120" cy="2142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327640" y="5513400"/>
            <a:ext cx="1377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TTTT  TTTTT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83480" y="4876920"/>
            <a:ext cx="88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AAA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73440" y="5067360"/>
            <a:ext cx="355680" cy="2142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216320" y="5067360"/>
            <a:ext cx="357120" cy="2142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929120" y="5067360"/>
            <a:ext cx="357120" cy="2142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185800" y="490392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A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200400" y="4876920"/>
            <a:ext cx="982800" cy="117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41880" y="4911840"/>
            <a:ext cx="892440" cy="11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067680" y="6781680"/>
            <a:ext cx="609840" cy="304920"/>
          </a:xfrm>
          <a:custGeom>
            <a:avLst/>
            <a:gdLst>
              <a:gd name="textAreaLeft" fmla="*/ 9504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057040" y="685800"/>
            <a:ext cx="4592520" cy="558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Elementi trasponibili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74160" y="2133720"/>
            <a:ext cx="9784800" cy="22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E di mammifero con elevato numero di copie, famiglie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lu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nell’uomo e B1 nel to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rivano da geni trascritti dalla RNA polimerasi III utilizzando un promotore inte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lu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  trovano circa ogni 4 kb , la sequenza completa e’ lunga 280pb, fiancheggiata 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rte unita’ (6-18pb) ripetute dirette, e’ un dimero ripetuto in tandem le cui unita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tano entrambe  sequenza (A</a:t>
            </a:r>
            <a:r>
              <a:rPr b="0" lang="en-US" sz="2800" spc="-1" strike="noStrike" baseline="-33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/ (T</a:t>
            </a:r>
            <a:r>
              <a:rPr b="0" lang="en-US" sz="2800" spc="-1" strike="noStrike" baseline="-33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, uno dei monomeri e’ deleto di 32pb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o presenti nel genoma anche come monomeri interi o tronchi. Sarebbero pseudoge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ati del gene dell’RNA 7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400920" y="138744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MIGLI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A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666880" y="1066680"/>
            <a:ext cx="3276720" cy="10670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523880" y="4876920"/>
            <a:ext cx="457200" cy="304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5120" y="4876920"/>
            <a:ext cx="914400" cy="3045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743200" y="4876920"/>
            <a:ext cx="4343400" cy="304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010280" y="4876920"/>
            <a:ext cx="838440" cy="3045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696080" y="4876920"/>
            <a:ext cx="1295640" cy="304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66680" y="50292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991720" y="50292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8200" y="4807080"/>
            <a:ext cx="101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NA7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760040" y="4600440"/>
            <a:ext cx="526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+1     +10                                                                         +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rot="5400000">
            <a:off x="4680720" y="2786400"/>
            <a:ext cx="239760" cy="5029200"/>
          </a:xfrm>
          <a:custGeom>
            <a:avLst/>
            <a:gdLst>
              <a:gd name="textAreaLeft" fmla="*/ 0 w 239760"/>
              <a:gd name="textAreaRight" fmla="*/ 168120 w 239760"/>
              <a:gd name="textAreaTop" fmla="*/ 209520 h 5029200"/>
              <a:gd name="textAreaBottom" fmla="*/ 4819680 h 502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99800" y="510552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romotore bipart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00200" y="5562720"/>
            <a:ext cx="304920" cy="304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28800" y="5562720"/>
            <a:ext cx="914400" cy="30456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666880" y="5562720"/>
            <a:ext cx="457200" cy="304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48120" y="5562720"/>
            <a:ext cx="838080" cy="30456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81280" y="5562720"/>
            <a:ext cx="2057400" cy="304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562720" y="5562720"/>
            <a:ext cx="914400" cy="30456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00800" y="5562720"/>
            <a:ext cx="457200" cy="304560"/>
          </a:xfrm>
          <a:prstGeom prst="cube">
            <a:avLst>
              <a:gd name="adj" fmla="val 25000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5562720"/>
            <a:ext cx="304920" cy="304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03680" y="5486400"/>
            <a:ext cx="1232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RNA7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rot="16200000">
            <a:off x="4457520" y="4838040"/>
            <a:ext cx="304920" cy="1905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955680" y="5791320"/>
            <a:ext cx="10951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le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76320" y="6146640"/>
            <a:ext cx="4800600" cy="597600"/>
            <a:chOff x="76320" y="6146640"/>
            <a:chExt cx="4800600" cy="597600"/>
          </a:xfrm>
        </p:grpSpPr>
        <p:sp>
          <p:nvSpPr>
            <p:cNvPr id="602" name=""/>
            <p:cNvSpPr/>
            <p:nvPr/>
          </p:nvSpPr>
          <p:spPr>
            <a:xfrm>
              <a:off x="76320" y="614664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04920" y="6146640"/>
              <a:ext cx="914400" cy="304560"/>
            </a:xfrm>
            <a:prstGeom prst="cube">
              <a:avLst>
                <a:gd name="adj" fmla="val 25000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43360" y="6146640"/>
              <a:ext cx="45720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524240" y="6146640"/>
              <a:ext cx="838080" cy="304560"/>
            </a:xfrm>
            <a:prstGeom prst="cube">
              <a:avLst>
                <a:gd name="adj" fmla="val 25000"/>
              </a:avLst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286360" y="6146640"/>
              <a:ext cx="914400" cy="304560"/>
            </a:xfrm>
            <a:prstGeom prst="cube">
              <a:avLst>
                <a:gd name="adj" fmla="val 25000"/>
              </a:avLst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24440" y="6146640"/>
              <a:ext cx="457200" cy="304560"/>
            </a:xfrm>
            <a:prstGeom prst="cube">
              <a:avLst>
                <a:gd name="adj" fmla="val 25000"/>
              </a:avLst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505320" y="6146640"/>
              <a:ext cx="30492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2248200" y="5574960"/>
              <a:ext cx="304560" cy="14479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46720" y="6406920"/>
              <a:ext cx="163008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lezione 32p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733920" y="6146640"/>
              <a:ext cx="1143000" cy="304560"/>
            </a:xfrm>
            <a:prstGeom prst="cube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AAA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TTT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4800600" y="6146640"/>
            <a:ext cx="304920" cy="304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029200" y="6146640"/>
            <a:ext cx="914400" cy="304920"/>
          </a:xfrm>
          <a:prstGeom prst="cube">
            <a:avLst>
              <a:gd name="adj" fmla="val 250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867280" y="6146640"/>
            <a:ext cx="457200" cy="304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248520" y="6146640"/>
            <a:ext cx="838080" cy="304920"/>
          </a:xfrm>
          <a:prstGeom prst="cube">
            <a:avLst>
              <a:gd name="adj" fmla="val 250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010280" y="6146640"/>
            <a:ext cx="914400" cy="304920"/>
          </a:xfrm>
          <a:prstGeom prst="cube">
            <a:avLst>
              <a:gd name="adj" fmla="val 25000"/>
            </a:avLst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848720" y="6146640"/>
            <a:ext cx="457200" cy="304920"/>
          </a:xfrm>
          <a:prstGeom prst="cube">
            <a:avLst>
              <a:gd name="adj" fmla="val 25000"/>
            </a:avLst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229600" y="6146640"/>
            <a:ext cx="304920" cy="304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458200" y="6146640"/>
            <a:ext cx="1143000" cy="3049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AA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TT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10280" y="5562720"/>
            <a:ext cx="1143000" cy="30456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AAA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TT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1752480" y="6781680"/>
            <a:ext cx="7925040" cy="308160"/>
            <a:chOff x="1752480" y="6781680"/>
            <a:chExt cx="7925040" cy="308160"/>
          </a:xfrm>
        </p:grpSpPr>
        <p:sp>
          <p:nvSpPr>
            <p:cNvPr id="622" name=""/>
            <p:cNvSpPr/>
            <p:nvPr/>
          </p:nvSpPr>
          <p:spPr>
            <a:xfrm>
              <a:off x="1752480" y="678492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81080" y="6784920"/>
              <a:ext cx="914400" cy="3049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819520" y="6784920"/>
              <a:ext cx="457200" cy="3049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200400" y="6784920"/>
              <a:ext cx="457200" cy="3049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81280" y="6784920"/>
              <a:ext cx="304920" cy="3049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880" y="6784920"/>
              <a:ext cx="1143000" cy="3049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AAA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TTT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876920" y="6781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05520" y="6781680"/>
              <a:ext cx="914400" cy="3049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943600" y="6781680"/>
              <a:ext cx="457200" cy="3049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324480" y="6781680"/>
              <a:ext cx="838440" cy="3049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86600" y="6781680"/>
              <a:ext cx="914400" cy="3049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924680" y="6781680"/>
              <a:ext cx="457200" cy="3049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05920" y="6781680"/>
              <a:ext cx="304560" cy="3049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534520" y="6781680"/>
              <a:ext cx="1143000" cy="3049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AAAA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TTTT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828800" y="716292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952880" y="71629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0800000">
            <a:off x="6295320" y="6816960"/>
            <a:ext cx="1409760" cy="51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9" y="6034"/>
                </a:moveTo>
                <a:arcTo wR="10800" hR="10800" stAng="-9228660" swAng="8254907"/>
                <a:lnTo>
                  <a:pt x="10800" y="10800"/>
                </a:lnTo>
                <a:close/>
              </a:path>
              <a:path fill="none" w="21600" h="21600">
                <a:moveTo>
                  <a:pt x="1109" y="6034"/>
                </a:moveTo>
                <a:arcTo wR="10800" hR="10800" stAng="-9228660" swAng="8254907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620120" y="7162920"/>
            <a:ext cx="1904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38200" y="696924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5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9455400" y="696924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3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131560" y="7010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652360" y="708660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1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723888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e2c02"/>
                </a:solidFill>
                <a:latin typeface="Comic Sans MS"/>
              </a:rPr>
              <a:t>Elementi trasponibili tramite RN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074000" y="533520"/>
            <a:ext cx="2801880" cy="2674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5791320" cy="8636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l DNA mitocondriale 0.0005% del genoma umano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312840" y="1828800"/>
            <a:ext cx="639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doppio filamento a diversa composizion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ilamento heavy (H) e light (L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8280" y="6553080"/>
            <a:ext cx="301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- eredita’ matrocl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120" y="3024360"/>
            <a:ext cx="775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- contiene 37 geni, 28 su filamento H e 9 su filamento 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3520" y="3790800"/>
            <a:ext cx="9185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dei 37 geni, 24 codificano per prodotti maturi ad RNA e 13 per polipeptidi dei complessi multimerici del mitocondrio (concetto di semiautonomi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5218200"/>
            <a:ext cx="951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i geni sono estremamente compatti: privi di introni sovrapposti parzialmente (subunita’ 6 e 8 dell’ATPasi) trascritti privi di codoni di sto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0880" y="90180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l DNA NUCLEAR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63700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 distingue i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codificante (3%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non codificante (97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000" y="4876920"/>
            <a:ext cx="36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d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oli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unica cop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5565600"/>
            <a:ext cx="979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possono appartenere a famiglie geniche originatesi 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plicazione. In questo caso possono mantenere funzioni correlate e possono mappare nella stessa regione geno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l DNA codificante (per RNA e proteine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1600200"/>
            <a:ext cx="96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Numero di geni stimato nel genoma umano (30000), stimato utilizzando il sequenziamento genomico e C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5120" y="2614680"/>
            <a:ext cx="968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ilizzando sonde per CpG (56% dei geni umani hanno nei loro promotori questi elementi di sequenza) si e’ visto una differenziale densita’ genica sui cromoso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. cromosoma 19 ricco in g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. cromosomi 4 e 18 poveri in g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5000" y="2139840"/>
            <a:ext cx="26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I CHE CODIFIC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99600" y="21398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GANIZZ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05000" y="211464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EM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320" y="263700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esso prodo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554640" y="2590920"/>
            <a:ext cx="5676840" cy="374400"/>
            <a:chOff x="3554640" y="2590920"/>
            <a:chExt cx="5676840" cy="374400"/>
          </a:xfrm>
        </p:grpSpPr>
        <p:sp>
          <p:nvSpPr>
            <p:cNvPr id="109" name=""/>
            <p:cNvSpPr/>
            <p:nvPr/>
          </p:nvSpPr>
          <p:spPr>
            <a:xfrm>
              <a:off x="3554640" y="2597040"/>
              <a:ext cx="22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pesso raggruppa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98800" y="2590920"/>
              <a:ext cx="263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eni per tRNA, istoni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155520" y="3054240"/>
            <a:ext cx="29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oforme proteiche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oenzimi tessuto-specif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535920" y="3016080"/>
            <a:ext cx="6157440" cy="711360"/>
            <a:chOff x="3535920" y="3016080"/>
            <a:chExt cx="6157440" cy="711360"/>
          </a:xfrm>
        </p:grpSpPr>
        <p:sp>
          <p:nvSpPr>
            <p:cNvPr id="113" name=""/>
            <p:cNvSpPr/>
            <p:nvPr/>
          </p:nvSpPr>
          <p:spPr>
            <a:xfrm>
              <a:off x="3535920" y="3048120"/>
              <a:ext cx="2408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alvolta raggruppa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talvolta non sinteni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71640" y="3016080"/>
              <a:ext cx="332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milasi pancreatica e saliv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69840" y="3359160"/>
              <a:ext cx="301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-actina epatica e cardia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54440" y="3962520"/>
            <a:ext cx="31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soenzimi specifici p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fferenti comparti cellul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638520" y="3886200"/>
            <a:ext cx="6289200" cy="1191240"/>
            <a:chOff x="3638520" y="3886200"/>
            <a:chExt cx="6289200" cy="1191240"/>
          </a:xfrm>
        </p:grpSpPr>
        <p:sp>
          <p:nvSpPr>
            <p:cNvPr id="118" name=""/>
            <p:cNvSpPr/>
            <p:nvPr/>
          </p:nvSpPr>
          <p:spPr>
            <a:xfrm>
              <a:off x="3638520" y="3962520"/>
              <a:ext cx="24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i solito non sinteni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55160" y="3886200"/>
              <a:ext cx="3472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ldeide deidrogenasi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itoplasmatica e mitocondri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(chr9q e chr12q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40400" y="475632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zimi della stes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a metabo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39960" y="474984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 solito non sinten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57006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bunita’ della stessa mole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2560" y="570060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 solito non sinten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440" y="5670720"/>
            <a:ext cx="32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rritina: cat pesante chr11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t leggera chr22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1960" y="644688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gando e recet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4360" y="6440400"/>
            <a:ext cx="24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 solito non sinten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7920" y="83772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Il DNA codificant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257440" y="380520"/>
            <a:ext cx="4135320" cy="762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eni dentro i geni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163800" y="1143000"/>
            <a:ext cx="88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i all’interno di altri geni sono descritti per i genomi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ganismi semplici e nei mitocondr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880" y="2133720"/>
            <a:ext cx="998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i mammiferi sono descritti geni contenuti nei grandi introni di alcuni ge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differenza dei genomi piu’ semplici in questi casi spesso viene utilizzato 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lamento opposto al gene “canonic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3280" y="3429000"/>
            <a:ext cx="898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F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introne 27 (40Kb) contiene tre piccoli geni (2 esoni) che vengo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scritti dal filamento opp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3200" y="4267080"/>
            <a:ext cx="9298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Fattore VIII della coagulazione F8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introne 22 contiene due geni c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tilizzano la stessa isola CpG nelle due direzioni. Il gen F8A vie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scritto utilizzando il filamento opposto al F8C, mentre F8B non s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a nella stessa direzione, ma sintetizza un corto mRNA che ha un es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ovo + gli esoni dal 23 al 26 di F8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6134040"/>
            <a:ext cx="927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RB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 introne 17 (72Kb) contiene il gene per il recettore della proteina 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e viene trascritto in senso opp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62160" y="837720"/>
            <a:ext cx="373356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Geni dentro i geni 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880" y="1797120"/>
            <a:ext cx="9750600" cy="2286000"/>
            <a:chOff x="2880" y="1797120"/>
            <a:chExt cx="9750600" cy="2286000"/>
          </a:xfrm>
        </p:grpSpPr>
        <p:sp>
          <p:nvSpPr>
            <p:cNvPr id="136" name=""/>
            <p:cNvSpPr/>
            <p:nvPr/>
          </p:nvSpPr>
          <p:spPr>
            <a:xfrm>
              <a:off x="1059480" y="192888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NF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14600" y="2559240"/>
              <a:ext cx="6477120" cy="228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14600" y="3092400"/>
              <a:ext cx="647712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48120" y="2559240"/>
              <a:ext cx="3045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05920" y="2559240"/>
              <a:ext cx="3045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30920" y="245268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936640" y="245268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52120" y="2241720"/>
              <a:ext cx="9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esone 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02080" y="2254320"/>
              <a:ext cx="9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esone 2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35000" y="210816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 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14600" y="2102040"/>
              <a:ext cx="1066680" cy="152280"/>
            </a:xfrm>
            <a:prstGeom prst="rightArrow">
              <a:avLst>
                <a:gd name="adj1" fmla="val 50000"/>
                <a:gd name="adj2" fmla="val 175118"/>
              </a:avLst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48720" y="2102040"/>
              <a:ext cx="1066680" cy="152280"/>
            </a:xfrm>
            <a:prstGeom prst="rightArrow">
              <a:avLst>
                <a:gd name="adj1" fmla="val 50000"/>
                <a:gd name="adj2" fmla="val 175118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600" y="2470320"/>
              <a:ext cx="184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ilamento di sen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80" y="301644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ilamento antisen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27680" y="303696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936640" y="297828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57600" y="3092400"/>
              <a:ext cx="15228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38480" y="3092400"/>
              <a:ext cx="7632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29200" y="3092400"/>
              <a:ext cx="15228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10080" y="3092400"/>
              <a:ext cx="7632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3092400"/>
              <a:ext cx="15228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86600" y="3092400"/>
              <a:ext cx="7632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05320" y="34736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76920" y="34736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29400" y="34736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16040" y="3616560"/>
              <a:ext cx="80712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OG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.2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99240" y="3625920"/>
              <a:ext cx="7552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VI2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0 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22200" y="3625920"/>
              <a:ext cx="7599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VI2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4 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20" y="1797120"/>
              <a:ext cx="967716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6320" y="4572000"/>
            <a:ext cx="9677160" cy="1676160"/>
            <a:chOff x="76320" y="4572000"/>
            <a:chExt cx="9677160" cy="1676160"/>
          </a:xfrm>
        </p:grpSpPr>
        <p:sp>
          <p:nvSpPr>
            <p:cNvPr id="166" name=""/>
            <p:cNvSpPr/>
            <p:nvPr/>
          </p:nvSpPr>
          <p:spPr>
            <a:xfrm>
              <a:off x="925200" y="510516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14600" y="5181480"/>
              <a:ext cx="6477120" cy="228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14600" y="5181480"/>
              <a:ext cx="15228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34320" y="5181480"/>
              <a:ext cx="15228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924680" y="5181480"/>
              <a:ext cx="15264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813880" y="5181480"/>
              <a:ext cx="15228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238880" y="518148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dff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5200" y="4876560"/>
              <a:ext cx="1523880" cy="152640"/>
            </a:xfrm>
            <a:prstGeom prst="rightArrow">
              <a:avLst>
                <a:gd name="adj1" fmla="val 50000"/>
                <a:gd name="adj2" fmla="val 24958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235640" y="4592520"/>
              <a:ext cx="59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8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44400" y="5379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08240" y="53798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27400" y="53798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744760" y="5379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00600" y="47448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8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19920" y="5790960"/>
              <a:ext cx="1218960" cy="152640"/>
            </a:xfrm>
            <a:prstGeom prst="leftArrow">
              <a:avLst>
                <a:gd name="adj1" fmla="val 50000"/>
                <a:gd name="adj2" fmla="val 19964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17360" y="5837040"/>
              <a:ext cx="59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6400800" y="487620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50000" y="4572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p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320" y="4572000"/>
              <a:ext cx="9677160" cy="167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8600" y="1752480"/>
            <a:ext cx="925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0% del genoma e’ composto da gruppi di sequen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n allelic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 mappano  percio’ in  locus diversi, ma sono strettamente correlate, sono presenti cioe’ sequenze con un numero di copie mult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895120" y="685800"/>
            <a:ext cx="586764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amiglie multigenich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4038480"/>
            <a:ext cx="972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dizionalmente sulla base della cinetica di riassociazione il genoma umano e’ suddiviso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NA a singola copia o con un numero di copie molto ba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NA moderatamente ri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NA altamente ripet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y N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Mariano Rocchi</cp:lastModifiedBy>
  <cp:lastPrinted>2000-04-11T15:44:35Z</cp:lastPrinted>
  <dcterms:modified xsi:type="dcterms:W3CDTF">2005-05-23T03:25:37Z</dcterms:modified>
  <cp:revision>584</cp:revision>
  <dc:subject/>
  <dc:title>Geen diatitel</dc:title>
</cp:coreProperties>
</file>