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ct" ContentType="image/x-pict"/>
  <Override PartName="/ppt/media/image9.pct" ContentType="image/x-pict"/>
  <Override PartName="/ppt/media/image13.pct" ContentType="image/x-pict"/>
  <Override PartName="/ppt/media/image16.jpeg" ContentType="image/jpeg"/>
  <Override PartName="/ppt/media/image8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4BB-A0BC-4A50-8095-EF956DED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FC5-5EC3-40BC-9305-2571E30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879-34EC-49A0-BE43-D510EAF1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231-7487-4FFD-9F68-370C2C50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80C-0259-4042-B4BD-12469653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EEC-2822-4C52-9796-6DF0EA8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4D9-9141-42A9-A49F-F2B52BE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CF0-D4C1-4417-8C67-008B2339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11280"/>
            <a:ext cx="8420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D49-CD47-4626-82A3-5BFBFC0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41C-A4FC-40B5-8AFD-2E51C374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3A6-82DF-47DB-8BE0-F894B69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D2B-8F0D-4FF4-92A5-554370C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457200"/>
            <a:ext cx="8970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611280"/>
            <a:ext cx="8420040" cy="1141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97000" y="6246360"/>
            <a:ext cx="20638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-1800" y="6525720"/>
            <a:ext cx="313524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95800" y="6595560"/>
            <a:ext cx="2063880" cy="459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AA9A512E-F640-460B-A1C0-7841AF574906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46200" y="128520"/>
            <a:ext cx="662328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96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6483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olimorfismi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3956040" y="584820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69608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57440" y="456840"/>
            <a:ext cx="5276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ue individui, tre enzim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1400" y="1776240"/>
            <a:ext cx="5324400" cy="4170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57600" y="5645160"/>
            <a:ext cx="507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G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27480" y="5638680"/>
            <a:ext cx="22125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iltro corrispond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40" y="914400"/>
            <a:ext cx="96584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 sonda viene testata sul filtro dove e’ stato trasferito il DNA di due soggetti non imparentati. Il DNA e’ stato digerito con tre enzimi in tre reazioni distint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280" y="1628640"/>
            <a:ext cx="2907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=BamHI E= EcoRI H=Hind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65800" y="1752480"/>
            <a:ext cx="493056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 tre corsie del gel hanno un aspet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iverso: B presenta un accumulo nel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parte alta del gel, E ed H sono piu’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omogenei. Questo dipende dal qua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pesso l’enzima trova la sua sequenz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bersaglio e quindi se i frammenti son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piu’ o meno lunghi. La digestione B d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Kwa non e’ particolarmente riuscita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’e’ una “sfrangiatura” che segnala la presenza DNA parzialmente indigerito, inoltre la quantita’ di DNA caricata e’ superiore a quella dell’altro soggetto (la luminosita’ e’ piu forte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2080" y="304812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943600"/>
            <a:ext cx="94932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opo ibridazione si vede che la sonda si e’ legata a frammenti di lunghezza diversa:e che i soggetti hanno gli stessi siti E ed H, mentre sono diversi per B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37600" y="6400800"/>
            <a:ext cx="1238040" cy="152280"/>
          </a:xfrm>
          <a:prstGeom prst="rightArrow">
            <a:avLst>
              <a:gd name="adj1" fmla="val 50000"/>
              <a:gd name="adj2" fmla="val 203251"/>
            </a:avLst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934320" y="152388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7600" y="456840"/>
            <a:ext cx="497232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ue individui, tre enzim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400" y="1138320"/>
            <a:ext cx="5324400" cy="4170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57600" y="5006880"/>
            <a:ext cx="507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G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27480" y="5000760"/>
            <a:ext cx="22125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iltro corrispond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280" y="990720"/>
            <a:ext cx="2907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=BamHI E= EcoRI H=HindI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2080" y="240984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13520" y="2743200"/>
            <a:ext cx="456876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videntemente c’e’ un sito B polimorf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perche’ un soggetto e’ omozigote per 2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 l’altro per 13. La lunghezza de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rammenti mi permette di costruire 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ppa di restrizione e di mappare l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onda rispetto ai siti. La differen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quantita’ di DNA fra i due campioni e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vidente dalle diverse dimensioni de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eg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00560" y="1905120"/>
            <a:ext cx="404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372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064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7836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0248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9604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56520" y="1714680"/>
            <a:ext cx="49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99040" y="1523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33640" y="1101600"/>
            <a:ext cx="743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H E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79040" y="1104840"/>
            <a:ext cx="19641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B*E              H    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95920" y="205740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6680" y="1870200"/>
            <a:ext cx="672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10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95920" y="22096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988840" y="1981080"/>
            <a:ext cx="672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13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236232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76960" y="2174760"/>
            <a:ext cx="7268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3.7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73720" y="25146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02880" y="2362320"/>
            <a:ext cx="472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2.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7680" y="5416560"/>
            <a:ext cx="94932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’ quindi presente un polimorfismo, probabilmente frequente nella popolazione: infatti se prendendo due individui a caso nella popolazione trovo due eterozigoti e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probabile che gli eterozigoti siano frequenti. Per gli altri due siti non si puo’ dire s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iano polimorfici o no: due individui sono troppo pochi per escluder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613480" y="611280"/>
            <a:ext cx="3549600" cy="760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RFLP e Paternita’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800520" cy="4513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031480" y="1378080"/>
            <a:ext cx="2172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  B  C D     E   F 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21240" y="2209680"/>
            <a:ext cx="40705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F e’ la madre di 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, B, C, D sono indiziati di stup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hi e’ il padre del bambino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E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2680" y="61092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N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30120" y="2286000"/>
            <a:ext cx="3065400" cy="3809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365800" y="3657600"/>
            <a:ext cx="454032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’allele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e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sono distinguibi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opo digestione con Taq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’amplificato e’ di 1241 bp dopo digestione se e’ presente la sostituzione si hanno 2 ba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4400" y="1177920"/>
            <a:ext cx="917424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 sostituzione di una base puo’ provocare la perdita o l’insorgenza di un sito d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estrizione, utilizzando PCR e digestione dell’amplificato si puo’ rapidam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videnziare l’avvenuto cambiamento senza utilizzare il southern, il radioattivo etc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56520" y="2362320"/>
            <a:ext cx="313668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Gene qualunque: non e’ importante chi e’ e’ il concetto che co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4720" y="327672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73320" y="3017880"/>
            <a:ext cx="1051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241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01920" y="4495680"/>
            <a:ext cx="660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2960" y="4237200"/>
            <a:ext cx="91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750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01920" y="5257800"/>
            <a:ext cx="660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2960" y="4998960"/>
            <a:ext cx="91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491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08640" y="6172200"/>
            <a:ext cx="24307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omic Sans MS"/>
              </a:rPr>
              <a:t>T 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9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118764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N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65240" y="3100320"/>
            <a:ext cx="6273720" cy="2165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47680" y="1424160"/>
            <a:ext cx="932796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’allele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e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sono distinguibili dopo digestione con PvuI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’amplificato e’ di 1392 bp dopodigestione se e’ presente la sostituzione si hanno 2 bande: 1163 e 22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990720"/>
            <a:ext cx="781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Gene qualunque: non e’ importante chi e’ e’ il concetto che co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2120" y="356868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5120" y="3284640"/>
            <a:ext cx="1051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392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6520" y="378000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45120" y="3559320"/>
            <a:ext cx="1051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163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01200" y="2782800"/>
            <a:ext cx="420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1     2    3    4    5     6    7    8    9    10   11    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74160" y="3944880"/>
            <a:ext cx="34761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a banda di 229 non si ve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2160" y="5316480"/>
            <a:ext cx="40845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, 2, 4, 7, 8 sono eterozigoti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2000" y="5661000"/>
            <a:ext cx="34855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3,9, 12 sono omozigoti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9200" y="6118200"/>
            <a:ext cx="38772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5,6,10, 11 sono omozigoti 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9520" y="533160"/>
            <a:ext cx="140364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N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30120" y="1596960"/>
            <a:ext cx="932832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’allele 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e 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sono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distinguibili dopo digestione con HgaI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non si digerisce e rimane di 220 bp,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origina due bande 180bp e 40bp (che non si ve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1066680"/>
            <a:ext cx="7880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Gene qualunque: non e’ importante chi e’ e’ il concetto che con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60240" y="3097080"/>
            <a:ext cx="5494320" cy="2368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108840" y="387036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3920" y="3586320"/>
            <a:ext cx="91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220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08840" y="425124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03920" y="3967200"/>
            <a:ext cx="91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80b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0560" y="2739960"/>
            <a:ext cx="3296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  1    2     3    4    5    6    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4040" y="5635800"/>
            <a:ext cx="8854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controllo senza DNA :il bianco e’ importante nella PCR come il mark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2200" y="5989680"/>
            <a:ext cx="80632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3 omozigote 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1, 4, 6, 7, omozigoti 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2, 5 eterozigoti 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6360" y="1198440"/>
            <a:ext cx="944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ni e micro satelliti: Riconosciuti su gel dopo amplificazione con PC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139840" y="1697040"/>
            <a:ext cx="5732640" cy="51465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335480" y="493200"/>
            <a:ext cx="4378320" cy="776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limorfismo PC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565452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limorfism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42000" y="1219320"/>
            <a:ext cx="940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azione presente nella popolazione con una fr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iore a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1626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32385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3886200"/>
            <a:ext cx="3130560" cy="277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8600" y="266688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azioni nell’as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565452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limorfism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929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zione presente nella popolazione con una frequenza superiore a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14200" y="1905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morfismi prote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878880" cy="20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800600"/>
            <a:ext cx="91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morfismi del DNA: di restrizione (RFLP), minisatellite, microsatellite. Individuabili con southern blotting o 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4480" y="858960"/>
            <a:ext cx="8420040" cy="209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NA genomico digerito con Enzimi di restrizione gel di agarosio colorato con EtBr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2920" y="1467000"/>
            <a:ext cx="5448240" cy="409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83360" y="2305080"/>
            <a:ext cx="107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48400" y="2139840"/>
            <a:ext cx="3235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Marker per sapere come si so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istribuiti i framme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30680" y="1619280"/>
            <a:ext cx="743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7600" y="1314360"/>
            <a:ext cx="36986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l righello serve per calcolar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unghezza dei frammenti in funz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ello spazio percorso (cfr.foto suc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238400"/>
            <a:ext cx="247320" cy="30456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26040" y="3067200"/>
            <a:ext cx="247680" cy="30456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2560" y="3054240"/>
            <a:ext cx="3410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a luminosita’ nei pozzetti der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a DNA non ben digerito e/o 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impurita’ per una estrazione po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accur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0440" y="3581280"/>
            <a:ext cx="1238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08040" y="4178160"/>
            <a:ext cx="39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Questa banda piu’ intensa e’ data 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sequenze ripetute che essendo tagli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periodicamente e in frammenti semp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della stessa lunghezza si accumulan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alla stessa altezz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40" y="5702400"/>
            <a:ext cx="957600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La intensita’ equivalente del DNA delle diverse corsie indica che le quantita’ caricate di DNA dei campioni sono le stesse. Il DNA a basso peso verso il fondo del gel si vede male perche’ sono meno rappresentati infatti la maggior parte del DNA e’ nella parte alta del g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10920"/>
            <a:ext cx="8420040" cy="608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outhern blot (digestione e ibridazione su filtro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440" y="1347840"/>
            <a:ext cx="5448240" cy="328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21440" y="1523880"/>
            <a:ext cx="4684680" cy="2922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0240" y="4430880"/>
            <a:ext cx="4401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NA genomico digerito caricato su ge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n EtB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07200" y="4226040"/>
            <a:ext cx="431748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stra sviluppata dopo esposi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l filtro ottenuto dopo trasferi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u filtro (Southern blot) e ibrid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n sonda marcata radioattivam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(P32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4989240" cy="633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limorfismo RFLP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990720"/>
            <a:ext cx="94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imorfismi del DNA: di restrizione (RFLP), minisatellite, microsatelli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280" y="1523880"/>
            <a:ext cx="9259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FLP: La sonda riconosce il polimorfismo con un particolare enzi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 non con altri. Quindi e’ la coppia sonda-enzima che evidenzia il RF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560" y="3527280"/>
            <a:ext cx="4510080" cy="28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6160" y="3244680"/>
            <a:ext cx="841320" cy="14148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5260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984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016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7512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3868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3600" y="2963880"/>
            <a:ext cx="45900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7520" y="2963880"/>
            <a:ext cx="38232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57480" y="2963880"/>
            <a:ext cx="38268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6480" y="2963880"/>
            <a:ext cx="45864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0040" y="2963880"/>
            <a:ext cx="45864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31560" y="38149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54440" y="38098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9440" y="380988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10160" y="380988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0ff"/>
                </a:solidFill>
                <a:latin typeface="Comic Sans MS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7880" y="380988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0ff"/>
                </a:solidFill>
                <a:latin typeface="Comic Sans MS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560" y="4797360"/>
            <a:ext cx="4510080" cy="28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6160" y="4514760"/>
            <a:ext cx="841320" cy="14148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5260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4016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868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3600" y="4232160"/>
            <a:ext cx="45900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7520" y="4232160"/>
            <a:ext cx="38232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57480" y="4232160"/>
            <a:ext cx="38268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0040" y="4232160"/>
            <a:ext cx="45864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31560" y="50846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5079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0160" y="507996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97880" y="507996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1360" y="5324400"/>
            <a:ext cx="1383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limina il s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 restr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5120" y="5113440"/>
            <a:ext cx="0" cy="282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9240" y="613728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0ff"/>
                </a:solidFill>
                <a:latin typeface="Comic Sans MS"/>
              </a:rPr>
              <a:t>endonucleasi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68760" y="5996160"/>
            <a:ext cx="382680" cy="5648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5996160"/>
            <a:ext cx="458640" cy="5648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4920" y="61372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endonucleasi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61200" y="2892600"/>
            <a:ext cx="382680" cy="345744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78840" y="2892600"/>
            <a:ext cx="380880" cy="345744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1160" y="2468520"/>
            <a:ext cx="957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2160" y="2468520"/>
            <a:ext cx="957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10ff"/>
                </a:solidFill>
                <a:latin typeface="Comic Sans MS"/>
              </a:rPr>
              <a:t>En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10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61200" y="3457440"/>
            <a:ext cx="382680" cy="2113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61200" y="4162320"/>
            <a:ext cx="382680" cy="2113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78840" y="4586400"/>
            <a:ext cx="380880" cy="2109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13800" y="6251400"/>
            <a:ext cx="2806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tern di ibridazione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420400" cy="790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DNA di COL1A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827640" y="1143000"/>
            <a:ext cx="4751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Il cDNA di COL1A2 (gene candidato per OI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0200" y="2057400"/>
            <a:ext cx="3895560" cy="3736440"/>
            <a:chOff x="430200" y="2057400"/>
            <a:chExt cx="3895560" cy="3736440"/>
          </a:xfrm>
        </p:grpSpPr>
        <p:sp>
          <p:nvSpPr>
            <p:cNvPr id="126" name=""/>
            <p:cNvSpPr/>
            <p:nvPr/>
          </p:nvSpPr>
          <p:spPr>
            <a:xfrm>
              <a:off x="430200" y="2536920"/>
              <a:ext cx="3868560" cy="2635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91080" bIns="91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9880" y="253692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91080" bIns="9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9760" y="253692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91080" bIns="9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640" y="2712960"/>
              <a:ext cx="669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7920" y="2743200"/>
              <a:ext cx="669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650960" y="2286000"/>
              <a:ext cx="907560" cy="1371240"/>
              <a:chOff x="1650960" y="2286000"/>
              <a:chExt cx="907560" cy="137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650960" y="2286000"/>
                <a:ext cx="907560" cy="137160"/>
              </a:xfrm>
              <a:prstGeom prst="rect">
                <a:avLst/>
              </a:prstGeom>
              <a:solidFill>
                <a:srgbClr val="fd020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520" rIns="182520" tIns="46080" bIns="46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960" y="3520080"/>
                <a:ext cx="907560" cy="137160"/>
              </a:xfrm>
              <a:prstGeom prst="rect">
                <a:avLst/>
              </a:prstGeom>
              <a:solidFill>
                <a:srgbClr val="fd020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520" rIns="182520" tIns="46080" bIns="46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77520" y="3284640"/>
              <a:ext cx="3213000" cy="525240"/>
              <a:chOff x="677520" y="3284640"/>
              <a:chExt cx="3213000" cy="525240"/>
            </a:xfrm>
          </p:grpSpPr>
          <p:sp>
            <p:nvSpPr>
              <p:cNvPr id="135" name=""/>
              <p:cNvSpPr/>
              <p:nvPr/>
            </p:nvSpPr>
            <p:spPr>
              <a:xfrm>
                <a:off x="677520" y="3284640"/>
                <a:ext cx="393120" cy="52524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520" rIns="182520" tIns="74160" bIns="74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97400" y="3284640"/>
                <a:ext cx="393120" cy="52524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520" rIns="182520" tIns="74160" bIns="74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836280" y="4240080"/>
              <a:ext cx="669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6160" y="4235400"/>
              <a:ext cx="669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0200" y="3971880"/>
              <a:ext cx="3868560" cy="2635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91080" bIns="91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19880" y="397188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91080" bIns="9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98280" y="397188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91080" bIns="9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39760" y="397188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91080" bIns="9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0600" y="2057400"/>
              <a:ext cx="393480" cy="52560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73800" bIns="73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6800" y="2057400"/>
              <a:ext cx="393480" cy="52560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73800" bIns="73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560" y="5189400"/>
              <a:ext cx="393120" cy="52560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520" rIns="182520" tIns="73800" bIns="73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4960" y="5321160"/>
              <a:ext cx="1069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Eco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28280" y="2730600"/>
              <a:ext cx="83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14K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80760" y="4238640"/>
              <a:ext cx="669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Comic Sans MS"/>
                </a:rPr>
                <a:t>A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32360" y="3622680"/>
              <a:ext cx="88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3.5K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5080" y="3613320"/>
              <a:ext cx="99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10.5K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78400" y="1676520"/>
            <a:ext cx="2719080" cy="5051160"/>
            <a:chOff x="6278400" y="1676520"/>
            <a:chExt cx="2719080" cy="5051160"/>
          </a:xfrm>
        </p:grpSpPr>
        <p:sp>
          <p:nvSpPr>
            <p:cNvPr id="152" name=""/>
            <p:cNvSpPr/>
            <p:nvPr/>
          </p:nvSpPr>
          <p:spPr>
            <a:xfrm>
              <a:off x="7759080" y="1676520"/>
              <a:ext cx="1238400" cy="4647960"/>
            </a:xfrm>
            <a:prstGeom prst="rect">
              <a:avLst/>
            </a:prstGeom>
            <a:solidFill>
              <a:srgbClr val="3333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278400" y="1676520"/>
              <a:ext cx="1232640" cy="4647960"/>
              <a:chOff x="6278400" y="1676520"/>
              <a:chExt cx="1232640" cy="4647960"/>
            </a:xfrm>
          </p:grpSpPr>
          <p:sp>
            <p:nvSpPr>
              <p:cNvPr id="154" name=""/>
              <p:cNvSpPr/>
              <p:nvPr/>
            </p:nvSpPr>
            <p:spPr>
              <a:xfrm>
                <a:off x="6278400" y="1676520"/>
                <a:ext cx="1232640" cy="4647960"/>
              </a:xfrm>
              <a:prstGeom prst="rect">
                <a:avLst/>
              </a:prstGeom>
              <a:solidFill>
                <a:srgbClr val="8893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5200" rIns="115200" tIns="57600" bIns="57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17640" y="1752480"/>
                <a:ext cx="2476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0200" y="1752480"/>
                <a:ext cx="2476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43480" y="1752480"/>
                <a:ext cx="2476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60480" y="1828800"/>
                <a:ext cx="165240" cy="4267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57240" bIns="57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73760" y="1828800"/>
                <a:ext cx="164880" cy="4267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57240" bIns="57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86320" y="1828800"/>
                <a:ext cx="164880" cy="4267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840" rIns="114840" tIns="57240" bIns="57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7867440" y="1828800"/>
              <a:ext cx="16524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80360" y="1828800"/>
              <a:ext cx="16488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92920" y="1828800"/>
              <a:ext cx="16488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57240" bIns="57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9240" y="2362320"/>
              <a:ext cx="1648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1800" y="2590920"/>
              <a:ext cx="165240" cy="75960"/>
            </a:xfrm>
            <a:prstGeom prst="rect">
              <a:avLst/>
            </a:prstGeom>
            <a:solidFill>
              <a:srgbClr val="5a5a5a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81800" y="3657600"/>
              <a:ext cx="165240" cy="76320"/>
            </a:xfrm>
            <a:prstGeom prst="rect">
              <a:avLst/>
            </a:prstGeom>
            <a:solidFill>
              <a:srgbClr val="5a5a5a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95080" y="2362320"/>
              <a:ext cx="164880" cy="75960"/>
            </a:xfrm>
            <a:prstGeom prst="rect">
              <a:avLst/>
            </a:prstGeom>
            <a:solidFill>
              <a:srgbClr val="5a5a5a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95080" y="2590920"/>
              <a:ext cx="164880" cy="75960"/>
            </a:xfrm>
            <a:prstGeom prst="rect">
              <a:avLst/>
            </a:prstGeom>
            <a:solidFill>
              <a:srgbClr val="5a5a5a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95080" y="3657600"/>
              <a:ext cx="164880" cy="76320"/>
            </a:xfrm>
            <a:prstGeom prst="rect">
              <a:avLst/>
            </a:prstGeom>
            <a:solidFill>
              <a:srgbClr val="5a5a5a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840" rIns="11484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38240" y="6388200"/>
              <a:ext cx="55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G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369200" y="6391440"/>
            <a:ext cx="2450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filtro ibridato con cD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37600" y="762120"/>
            <a:ext cx="1403280" cy="388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365120"/>
            <a:ext cx="528480" cy="9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46880" y="2647800"/>
            <a:ext cx="528840" cy="95400"/>
          </a:xfrm>
          <a:prstGeom prst="rect">
            <a:avLst/>
          </a:prstGeom>
          <a:solidFill>
            <a:srgbClr val="5a5a5a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46880" y="4324320"/>
            <a:ext cx="528840" cy="95400"/>
          </a:xfrm>
          <a:prstGeom prst="rect">
            <a:avLst/>
          </a:prstGeom>
          <a:solidFill>
            <a:srgbClr val="5a5a5a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881920" y="1365120"/>
            <a:ext cx="528840" cy="96840"/>
          </a:xfrm>
          <a:prstGeom prst="rect">
            <a:avLst/>
          </a:prstGeom>
          <a:solidFill>
            <a:srgbClr val="5a5a5a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937720" y="2654280"/>
            <a:ext cx="528480" cy="95400"/>
          </a:xfrm>
          <a:prstGeom prst="rect">
            <a:avLst/>
          </a:prstGeom>
          <a:solidFill>
            <a:srgbClr val="5a5a5a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7720" y="4324320"/>
            <a:ext cx="528480" cy="95400"/>
          </a:xfrm>
          <a:prstGeom prst="rect">
            <a:avLst/>
          </a:prstGeom>
          <a:solidFill>
            <a:srgbClr val="5a5a5a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19480" y="5062680"/>
            <a:ext cx="2211480" cy="1872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17880" y="4975200"/>
            <a:ext cx="519120" cy="9684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943600"/>
            <a:ext cx="519120" cy="9684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351240" y="4724280"/>
            <a:ext cx="2157120" cy="852840"/>
            <a:chOff x="3351240" y="4724280"/>
            <a:chExt cx="2157120" cy="852840"/>
          </a:xfrm>
        </p:grpSpPr>
        <p:sp>
          <p:nvSpPr>
            <p:cNvPr id="183" name=""/>
            <p:cNvSpPr/>
            <p:nvPr/>
          </p:nvSpPr>
          <p:spPr>
            <a:xfrm>
              <a:off x="3556440" y="5063040"/>
              <a:ext cx="0" cy="18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68160" y="5063040"/>
              <a:ext cx="0" cy="18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07760" y="51876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8200" y="520884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1240" y="4724280"/>
              <a:ext cx="225000" cy="37116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5040" y="4724280"/>
              <a:ext cx="225000" cy="37116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14280" y="519876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4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360600" y="5591160"/>
            <a:ext cx="1838520" cy="371520"/>
            <a:chOff x="3360600" y="5591160"/>
            <a:chExt cx="1838520" cy="371520"/>
          </a:xfrm>
        </p:grpSpPr>
        <p:sp>
          <p:nvSpPr>
            <p:cNvPr id="191" name=""/>
            <p:cNvSpPr/>
            <p:nvPr/>
          </p:nvSpPr>
          <p:spPr>
            <a:xfrm>
              <a:off x="3360600" y="5591160"/>
              <a:ext cx="225000" cy="37152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4120" y="5591160"/>
              <a:ext cx="225000" cy="37152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54200" y="6265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65560" y="62625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19480" y="6076800"/>
            <a:ext cx="2211480" cy="185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6080" y="607680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59360" y="607680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0320" y="6076800"/>
            <a:ext cx="0" cy="1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79720" y="62643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0280" y="599436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.5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00280" y="599436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5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1160" y="1593720"/>
            <a:ext cx="123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mozigoti per alle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4:14/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67160" y="938160"/>
            <a:ext cx="2293560" cy="1533240"/>
            <a:chOff x="3467160" y="938160"/>
            <a:chExt cx="2293560" cy="1533240"/>
          </a:xfrm>
        </p:grpSpPr>
        <p:sp>
          <p:nvSpPr>
            <p:cNvPr id="204" name=""/>
            <p:cNvSpPr/>
            <p:nvPr/>
          </p:nvSpPr>
          <p:spPr>
            <a:xfrm>
              <a:off x="3549600" y="1276200"/>
              <a:ext cx="2211120" cy="187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67160" y="1957320"/>
              <a:ext cx="2211120" cy="185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9840" y="1141200"/>
              <a:ext cx="460800" cy="93600"/>
            </a:xfrm>
            <a:prstGeom prst="rect">
              <a:avLst/>
            </a:prstGeom>
            <a:solidFill>
              <a:srgbClr val="fd02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09840" y="1776240"/>
              <a:ext cx="460800" cy="93600"/>
            </a:xfrm>
            <a:prstGeom prst="rect">
              <a:avLst/>
            </a:prstGeom>
            <a:solidFill>
              <a:srgbClr val="fd02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55600" y="126504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47880" y="126504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23480" y="138564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8160" y="14065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73800" y="938160"/>
              <a:ext cx="199080" cy="35856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95440" y="938160"/>
              <a:ext cx="199440" cy="35856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608280" y="1454040"/>
              <a:ext cx="1629720" cy="358560"/>
              <a:chOff x="3608280" y="1454040"/>
              <a:chExt cx="1629720" cy="358560"/>
            </a:xfrm>
          </p:grpSpPr>
          <p:sp>
            <p:nvSpPr>
              <p:cNvPr id="215" name=""/>
              <p:cNvSpPr/>
              <p:nvPr/>
            </p:nvSpPr>
            <p:spPr>
              <a:xfrm>
                <a:off x="3608280" y="1454040"/>
                <a:ext cx="199440" cy="35856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8560" y="1454040"/>
                <a:ext cx="199440" cy="35856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691080" y="21031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20640" y="21031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81800" y="192384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65440" y="192852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51080" y="187776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4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98400" y="120780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4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67160" y="2514600"/>
            <a:ext cx="2293560" cy="1641600"/>
            <a:chOff x="3467160" y="2514600"/>
            <a:chExt cx="2293560" cy="1641600"/>
          </a:xfrm>
        </p:grpSpPr>
        <p:sp>
          <p:nvSpPr>
            <p:cNvPr id="224" name=""/>
            <p:cNvSpPr/>
            <p:nvPr/>
          </p:nvSpPr>
          <p:spPr>
            <a:xfrm>
              <a:off x="3549600" y="2906640"/>
              <a:ext cx="2211120" cy="187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67160" y="3587760"/>
              <a:ext cx="2211120" cy="185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09840" y="3452760"/>
              <a:ext cx="460800" cy="93600"/>
            </a:xfrm>
            <a:prstGeom prst="rect">
              <a:avLst/>
            </a:prstGeom>
            <a:solidFill>
              <a:srgbClr val="fd02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5600" y="289548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47880" y="2895480"/>
              <a:ext cx="0" cy="1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23480" y="301644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68160" y="303696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3800" y="2568600"/>
              <a:ext cx="199080" cy="35892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48440" y="2514600"/>
              <a:ext cx="199080" cy="35892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652920" y="3084480"/>
              <a:ext cx="1629720" cy="358920"/>
              <a:chOff x="3652920" y="3084480"/>
              <a:chExt cx="1629720" cy="358920"/>
            </a:xfrm>
          </p:grpSpPr>
          <p:sp>
            <p:nvSpPr>
              <p:cNvPr id="234" name=""/>
              <p:cNvSpPr/>
              <p:nvPr/>
            </p:nvSpPr>
            <p:spPr>
              <a:xfrm>
                <a:off x="3652920" y="3084480"/>
                <a:ext cx="199440" cy="35892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83200" y="3084480"/>
                <a:ext cx="199440" cy="358920"/>
              </a:xfrm>
              <a:prstGeom prst="lightningBol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691080" y="37339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20640" y="37339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81800" y="3554280"/>
              <a:ext cx="0" cy="1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7880" y="355932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75080" y="355932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75080" y="2924280"/>
              <a:ext cx="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4436600">
              <a:off x="4146840" y="3075840"/>
              <a:ext cx="184320" cy="38844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09840" y="2784600"/>
              <a:ext cx="460800" cy="93600"/>
            </a:xfrm>
            <a:prstGeom prst="rect">
              <a:avLst/>
            </a:prstGeom>
            <a:solidFill>
              <a:srgbClr val="fd02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4436600">
              <a:off x="4146840" y="3761640"/>
              <a:ext cx="184320" cy="38844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18840" y="37879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33560" y="349884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.5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33200" y="349884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0.5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88640" y="280980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.5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8640" y="280980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0.5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rot="14436600">
            <a:off x="3734640" y="6373800"/>
            <a:ext cx="183960" cy="38916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82000" y="2689200"/>
            <a:ext cx="140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mozigoti p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le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5,3.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5,3.5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.5,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1160" y="762120"/>
            <a:ext cx="1238040" cy="609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82000" y="762120"/>
            <a:ext cx="1073160" cy="609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5240" y="1060560"/>
            <a:ext cx="354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 questo gruppo di individui il cDNA riconosce nel genoma dopo digestione 2 frammenti di = lunghezzae’: 14 kb perche’ su entrambi i cromosomi in quella regione non e’ presente un altro sito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QUINDI UNA SOLA B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440" y="1066680"/>
            <a:ext cx="7182000" cy="136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40" y="2590920"/>
            <a:ext cx="354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 questo gruppo di individui il cDNA riconosce nel genoma dopo digestione 4 frammenti  2 da 10.5 e 2 da3.5 kb perche’ su entrambi i cromosomi in quella regione e’ presente un altro sito che cade all’interno della regione identificata dal cDNA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QUINDI 2 B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440" y="2514600"/>
            <a:ext cx="8172720" cy="1981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55160" y="5203800"/>
            <a:ext cx="165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erozigoti per alle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4 e10.5,3.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4/10.5,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48320"/>
            <a:ext cx="354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 questo gruppo di individui il cDNA riconosce nel genoma dopo digestione 3 frammenti : 1 da 10.5 e 1 da3.5 kb originati dalla digestione di un cromosoma (perche’e’ presente un altro sito che cade all’interno della regione identificata dal cDNA) e 1 frammento da 14 originato dalla digestione dell’ altro cromosoma.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QUINDI 3 B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000" y="4648320"/>
            <a:ext cx="9713880" cy="1981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78360" y="825480"/>
            <a:ext cx="4127760" cy="5867280"/>
          </a:xfrm>
          <a:prstGeom prst="rect">
            <a:avLst/>
          </a:prstGeom>
          <a:solidFill>
            <a:srgbClr val="33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79000" y="4572000"/>
            <a:ext cx="1361880" cy="88920"/>
          </a:xfrm>
          <a:prstGeom prst="rect">
            <a:avLst/>
          </a:prstGeom>
          <a:solidFill>
            <a:srgbClr val="d6d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200920" cy="684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FLP del cDNA di COL1A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3385800"/>
            <a:ext cx="3133800" cy="1058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algn="r"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limorfismo RFLP esemp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440160" y="565200"/>
            <a:ext cx="5589720" cy="6207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530200" y="704880"/>
            <a:ext cx="14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unghe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i fram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5240" y="1058760"/>
            <a:ext cx="306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leli identificati dall’ibrid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 Sout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00" y="256068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ssibile interpretazione de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9200" y="430992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06920" y="49449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28520" y="60390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11840" y="45910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       2               3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96480" y="536724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14480" y="64263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    2   3    4   5    6   7  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68400" y="18334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1 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02040" y="18334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3  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9280" y="18334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70400" y="18334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80040" y="2187720"/>
            <a:ext cx="397512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II1 III2 III3 III4 III5 III6 III7 II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31160" y="18334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31160" y="211608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38680" y="190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280040" y="2116080"/>
            <a:ext cx="458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5-05-23T03:15:15Z</dcterms:modified>
  <cp:revision>427</cp:revision>
  <dc:subject/>
  <dc:title>Geen diatitel</dc:title>
</cp:coreProperties>
</file>