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874250" cy="7408863"/>
  <p:notesSz cx="740886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E317-8EC8-4FEC-AB72-2B4C86C82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0880" y="4461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F90F-CB29-4E0D-9A83-A5953E72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180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402D-EC9A-4581-BD6D-DE83047E5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7876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1700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088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7876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1700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A2AD-4EAD-4B39-8ADA-DC5D8FBB8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22BD-86FE-4583-B642-23C8D067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8D62-4F6B-4705-ABA2-3D910F14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D77A-B363-4DDC-B7F0-6F6B52AA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8893-A0F7-476C-BCC7-B77414BC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0880" y="660240"/>
            <a:ext cx="839340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34BC-C8D7-4813-95DB-889F3A44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291B-A5B1-4DEC-826D-FE78B6AA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180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0B27-F0BA-40B9-BD97-9FC2B9AB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2573-4B43-44BA-AC2B-8AF2E422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696960" indent="-268200"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073160" indent="-214200"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3" marL="1503360" indent="-216000"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4" marL="1930320" indent="-214200">
              <a:spcBef>
                <a:spcPts val="751"/>
              </a:spcBef>
              <a:buClr>
                <a:srgbClr val="000000"/>
              </a:buClr>
              <a:buFont typeface="Comic Sans MS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5" marL="1930320" indent="-214200">
              <a:spcBef>
                <a:spcPts val="751"/>
              </a:spcBef>
              <a:buClr>
                <a:srgbClr val="000000"/>
              </a:buClr>
              <a:buFont typeface="Comic Sans MS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6" marL="1930320" indent="-214200">
              <a:spcBef>
                <a:spcPts val="751"/>
              </a:spcBef>
              <a:buClr>
                <a:srgbClr val="000000"/>
              </a:buClr>
              <a:buFont typeface="Comic Sans MS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66720" y="6746760"/>
            <a:ext cx="205740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4160" y="7124760"/>
            <a:ext cx="312588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1" i="1" lang="nl-N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i="1" lang="nl-NL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48360" y="7124760"/>
            <a:ext cx="205740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1" lang="nl-N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292BCCD6-97DC-4E7A-932A-D08523F21B41}" type="slidenum">
              <a:rPr b="1" lang="nl-NL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560" y="493560"/>
            <a:ext cx="8943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2438280" y="139680"/>
            <a:ext cx="66042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Biologia Cellulare e Molecolare   GeneticaII  2004-2005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4440" cy="10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90920" y="4724280"/>
            <a:ext cx="47448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600" spc="-1" strike="noStrike">
                <a:solidFill>
                  <a:srgbClr val="fd0213"/>
                </a:solidFill>
                <a:latin typeface="Comic Sans MS"/>
              </a:rPr>
              <a:t>Hardy-Weinberg I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38280" y="1066680"/>
            <a:ext cx="4343400" cy="3843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673720" y="5859360"/>
            <a:ext cx="645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ZIONE 3 (consultare anche il libro di Genetica 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80680" y="660240"/>
            <a:ext cx="6596280" cy="493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Frequenze alleliche: esempio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94320" y="3538440"/>
            <a:ext cx="92667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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Frequenza allelica =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numero di copie di un alle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otale degli allel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48480" y="2205000"/>
            <a:ext cx="61106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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Popolazione di 1000 individui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35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,  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494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,  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153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000" y="4938840"/>
            <a:ext cx="9848880" cy="14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e considero il pool genico di questo locus come u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acchetto  contenente tutti gli alleli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quanti sono gli alleli 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e quanti 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805960" y="6913440"/>
            <a:ext cx="987480" cy="328680"/>
          </a:xfrm>
          <a:custGeom>
            <a:avLst/>
            <a:gdLst>
              <a:gd name="textAreaLeft" fmla="*/ 154080 w 987480"/>
              <a:gd name="textAreaRight" fmla="*/ 864360 w 987480"/>
              <a:gd name="textAreaTop" fmla="*/ 82080 h 328680"/>
              <a:gd name="textAreaBottom" fmla="*/ 246600 h 328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2"/>
              </a:gs>
              <a:gs pos="50000">
                <a:srgbClr val="000000"/>
              </a:gs>
              <a:gs pos="100000">
                <a:srgbClr val="ffff0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7680" y="1069920"/>
            <a:ext cx="92995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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808080"/>
                </a:solidFill>
                <a:latin typeface="Comic Sans MS"/>
              </a:rPr>
              <a:t>a</a:t>
            </a:r>
            <a:r>
              <a:rPr b="0" lang="en-US" sz="26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808080"/>
                </a:solidFill>
                <a:latin typeface="Comic Sans MS"/>
              </a:rPr>
              <a:t>partire dai numeri assoluti dei diversi genotipi(quanti individui con i diversi genotipi sono stati osservat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4880" y="659880"/>
            <a:ext cx="5184720" cy="4114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Frequenze alleliche esempio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658800" y="1069920"/>
            <a:ext cx="8856720" cy="14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Gli alleli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sono: 353x2 (gli omozigoti introduco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el sacchetto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2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alleli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 + 494 (gli eterozigoti introduco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olo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 allel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6360" y="2962440"/>
            <a:ext cx="8856720" cy="14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Gli alleli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sono: 153x2 (gli omozigoti introduco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el sacchetto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2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alleli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 + 494 (gli eterozigoti introduco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olo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 allel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3840" y="4608360"/>
            <a:ext cx="9628200" cy="14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NCHE IL TOTALE DEVE ESSERE MOLTIPLICATO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X 2: GLI ORGANISMI DIPLOIDI INTRODUCONO N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OOL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2 ALLELI INDIPENDENTEMENTE DA QUALE ALLE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18600" y="2798640"/>
            <a:ext cx="640152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f(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(153x2) + 494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800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 0.4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2000          2000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805960" y="6913440"/>
            <a:ext cx="987480" cy="328680"/>
          </a:xfrm>
          <a:custGeom>
            <a:avLst/>
            <a:gdLst>
              <a:gd name="textAreaLeft" fmla="*/ 154080 w 987480"/>
              <a:gd name="textAreaRight" fmla="*/ 864360 w 987480"/>
              <a:gd name="textAreaTop" fmla="*/ 82080 h 328680"/>
              <a:gd name="textAreaBottom" fmla="*/ 246600 h 328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2"/>
              </a:gs>
              <a:gs pos="50000">
                <a:srgbClr val="000000"/>
              </a:gs>
              <a:gs pos="100000">
                <a:srgbClr val="ffff0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38080" y="659880"/>
            <a:ext cx="3868920" cy="4114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Frequenze allelich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1245240" y="1317600"/>
            <a:ext cx="672912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(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(353x2) + 494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200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= 0.6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2000           2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7680" y="5021280"/>
            <a:ext cx="946296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a cui si puo’ dedurre che una volta calcolato uno dei due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98640" y="4197240"/>
            <a:ext cx="30448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p+q = 1         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98640" y="5761080"/>
            <a:ext cx="304488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1-p = q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79640" y="6502320"/>
            <a:ext cx="288144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vicevers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87920" y="1481040"/>
            <a:ext cx="954576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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02"/>
                </a:solidFill>
                <a:latin typeface="Comic Sans MS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Per calcolare la frequenza degli alleli di un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certo locus possiamo utilizzare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5200" y="3044880"/>
            <a:ext cx="90982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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cc99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808080"/>
                </a:solidFill>
                <a:latin typeface="Comic Sans MS"/>
              </a:rPr>
              <a:t>i numeri assoluti dei diversi genotipi: quanti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808080"/>
                </a:solidFill>
                <a:latin typeface="Comic Sans MS"/>
              </a:rPr>
              <a:t>individui con i diversi genotipi sono stati osservat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82440" y="4444920"/>
            <a:ext cx="9686880" cy="1167840"/>
            <a:chOff x="82440" y="4444920"/>
            <a:chExt cx="9686880" cy="1167840"/>
          </a:xfrm>
        </p:grpSpPr>
        <p:sp>
          <p:nvSpPr>
            <p:cNvPr id="116" name=""/>
            <p:cNvSpPr/>
            <p:nvPr/>
          </p:nvSpPr>
          <p:spPr>
            <a:xfrm>
              <a:off x="82440" y="4592160"/>
              <a:ext cx="9686880" cy="10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Monotype Sorts" charset="2"/>
                <a:buChar char=""/>
                <a:tabLst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Comic Sans MS"/>
                </a:rPr>
                <a:t>le frequenze genotipiche: calcolate dividendo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omic Sans MS"/>
                </a:rPr>
                <a:t>il numero  dei genotipi per il totale delle osservazioni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9000" y="4444920"/>
              <a:ext cx="59436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Monotype Sorts" charset="2"/>
                <a:buChar char=""/>
                <a:tabLst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8805960" y="6913440"/>
            <a:ext cx="987480" cy="328680"/>
          </a:xfrm>
          <a:custGeom>
            <a:avLst/>
            <a:gdLst>
              <a:gd name="textAreaLeft" fmla="*/ 154080 w 987480"/>
              <a:gd name="textAreaRight" fmla="*/ 864360 w 987480"/>
              <a:gd name="textAreaTop" fmla="*/ 82080 h 328680"/>
              <a:gd name="textAreaBottom" fmla="*/ 246600 h 328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2"/>
              </a:gs>
              <a:gs pos="50000">
                <a:srgbClr val="000000"/>
              </a:gs>
              <a:gs pos="100000">
                <a:srgbClr val="ffff0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68200" y="825480"/>
            <a:ext cx="3867480" cy="411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Frequenze allelich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150840" y="1274760"/>
            <a:ext cx="9349920" cy="924480"/>
            <a:chOff x="150840" y="1274760"/>
            <a:chExt cx="9349920" cy="924480"/>
          </a:xfrm>
        </p:grpSpPr>
        <p:sp>
          <p:nvSpPr>
            <p:cNvPr id="121" name=""/>
            <p:cNvSpPr/>
            <p:nvPr/>
          </p:nvSpPr>
          <p:spPr>
            <a:xfrm>
              <a:off x="150840" y="1422000"/>
              <a:ext cx="9349920" cy="77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Monotype Sorts" charset="2"/>
                <a:buChar char=""/>
                <a:tabLst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2200" spc="-1" strike="noStrike">
                  <a:solidFill>
                    <a:srgbClr val="00cc99"/>
                  </a:solidFill>
                  <a:latin typeface="Comic Sans MS"/>
                </a:rPr>
                <a:t> </a:t>
              </a:r>
              <a:r>
                <a:rPr b="0" lang="en-US" sz="2200" spc="-1" strike="noStrike">
                  <a:solidFill>
                    <a:srgbClr val="808080"/>
                  </a:solidFill>
                  <a:latin typeface="Comic Sans MS"/>
                </a:rPr>
                <a:t>a partire dalle frequenze genotipiche calcolate dividendo il numero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2200" spc="-1" strike="noStrike">
                  <a:solidFill>
                    <a:srgbClr val="808080"/>
                  </a:solidFill>
                  <a:latin typeface="Comic Sans MS"/>
                </a:rPr>
                <a:t>dei genotipi per il totale delle osservazioni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6360" y="1274760"/>
              <a:ext cx="4924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Monotype Sorts" charset="2"/>
                <a:buChar char=""/>
                <a:tabLst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2200" spc="-1" strike="noStrike">
                  <a:solidFill>
                    <a:srgbClr val="00cc99"/>
                  </a:solidFill>
                  <a:latin typeface="Comic Sans MS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8805960" y="6913440"/>
            <a:ext cx="987480" cy="328680"/>
          </a:xfrm>
          <a:custGeom>
            <a:avLst/>
            <a:gdLst>
              <a:gd name="textAreaLeft" fmla="*/ 154080 w 987480"/>
              <a:gd name="textAreaRight" fmla="*/ 864360 w 987480"/>
              <a:gd name="textAreaTop" fmla="*/ 82080 h 328680"/>
              <a:gd name="textAreaBottom" fmla="*/ 246600 h 328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2"/>
              </a:gs>
              <a:gs pos="50000">
                <a:srgbClr val="000000"/>
              </a:gs>
              <a:gs pos="100000">
                <a:srgbClr val="ffff0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38440" y="659880"/>
            <a:ext cx="5376960" cy="576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Frequenze alleliche: esempio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314640" y="2550960"/>
            <a:ext cx="356760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(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353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= 0.35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 baseline="30000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00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                    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62560" y="2592360"/>
            <a:ext cx="314244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(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494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= 0.49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 baseline="30000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00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omic Sans MS"/>
              </a:rPr>
              <a:t>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00880" y="2592360"/>
            <a:ext cx="329256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(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153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= 0.15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 baseline="30000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00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omic Sans MS"/>
              </a:rPr>
              <a:t>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2440" y="3868560"/>
            <a:ext cx="89712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=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f(A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 = 0.353 + 1/2(0.494) = 0.353 + 0.247 = 0.6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2440" y="4691160"/>
            <a:ext cx="90522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=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f(A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 = 0.153 + 1/2(0.494) = 0.153 + 0.247 = 0.4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-76320" y="5511960"/>
            <a:ext cx="10052280" cy="12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Questo modo di calcolare le frequenze e’ piu’ rapido, 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eno preciso perche’ il numero  di arrotondamenti e’ maggio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i preferisce il preceden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9320" y="1859040"/>
            <a:ext cx="9399600" cy="11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fenotipi                   frequen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popolazione    # 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       osservati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   genich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individui      M      MN    N 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p(M)     q(N)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335400"/>
            <a:ext cx="9875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752480"/>
            <a:ext cx="9875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89480" y="3438360"/>
            <a:ext cx="7815600" cy="17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Pueblo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       140         83     46     11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        0,76     0,2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Brooklyn     1849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   541    903   405  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0,54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  0,4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aborigeni     102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    3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   44     55           0,25     0,7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australian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557680"/>
            <a:ext cx="9875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18040" y="5729400"/>
            <a:ext cx="615528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omic Sans MS"/>
              </a:rPr>
              <a:t>beduini</a:t>
            </a:r>
            <a:r>
              <a:rPr b="1" lang="it-IT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900" spc="-1" strike="noStrike">
                <a:solidFill>
                  <a:srgbClr val="000000"/>
                </a:solidFill>
                <a:latin typeface="Comic Sans MS"/>
              </a:rPr>
              <a:t>       208</a:t>
            </a:r>
            <a:r>
              <a:rPr b="1" lang="it-IT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900" spc="-1" strike="noStrike">
                <a:solidFill>
                  <a:srgbClr val="000000"/>
                </a:solidFill>
                <a:latin typeface="Comic Sans MS"/>
              </a:rPr>
              <a:t>   119      76     13             0,76      0,2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638320" y="609480"/>
            <a:ext cx="3637080" cy="493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Antigeni M e 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8120" y="685440"/>
            <a:ext cx="6324480" cy="493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Frequenze alleliche: alleli multipli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375480" y="1003320"/>
            <a:ext cx="9212400" cy="14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 un locus ha piu’ di due  alleli il modo di calcola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e frequenze alleliche e genotipiche non cambia. E’ solo u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o’ piu’ lung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779040" y="2550960"/>
            <a:ext cx="7401240" cy="1095480"/>
            <a:chOff x="779040" y="2550960"/>
            <a:chExt cx="7401240" cy="1095480"/>
          </a:xfrm>
        </p:grpSpPr>
        <p:sp>
          <p:nvSpPr>
            <p:cNvPr id="141" name=""/>
            <p:cNvSpPr/>
            <p:nvPr/>
          </p:nvSpPr>
          <p:spPr>
            <a:xfrm>
              <a:off x="779040" y="2550960"/>
              <a:ext cx="74012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Monotype Sorts" charset="2"/>
                <a:buChar char=""/>
                <a:tabLst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p=f(A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)= (2x A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omic Sans MS"/>
                </a:rPr>
                <a:t>1 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) + A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omic Sans MS"/>
                </a:rPr>
                <a:t>1 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omic Sans MS"/>
                </a:rPr>
                <a:t>2 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+ A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omic Sans MS"/>
                </a:rPr>
                <a:t>1 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 + A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omic Sans MS"/>
                </a:rPr>
                <a:t>1 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omic Sans MS"/>
                </a:rPr>
                <a:t>4 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etc…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50960" y="3225960"/>
              <a:ext cx="543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-53280" bIns="-53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78000" y="3143520"/>
              <a:ext cx="47052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2x num. totale degli individu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869040" y="5021280"/>
            <a:ext cx="7335720" cy="1048680"/>
            <a:chOff x="869040" y="5021280"/>
            <a:chExt cx="7335720" cy="1048680"/>
          </a:xfrm>
        </p:grpSpPr>
        <p:sp>
          <p:nvSpPr>
            <p:cNvPr id="145" name=""/>
            <p:cNvSpPr/>
            <p:nvPr/>
          </p:nvSpPr>
          <p:spPr>
            <a:xfrm>
              <a:off x="869040" y="5021280"/>
              <a:ext cx="73357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Monotype Sorts" charset="2"/>
                <a:buChar char=""/>
                <a:tabLst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r=f(A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)= (2x A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omic Sans MS"/>
                </a:rPr>
                <a:t>3 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) + A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omic Sans MS"/>
                </a:rPr>
                <a:t>1 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omic Sans MS"/>
                </a:rPr>
                <a:t>3 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+ A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omic Sans MS"/>
                </a:rPr>
                <a:t>2 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 + A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omic Sans MS"/>
                </a:rPr>
                <a:t>3 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omic Sans MS"/>
                </a:rPr>
                <a:t>4 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etc…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50960" y="5649480"/>
              <a:ext cx="543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-53280" bIns="-53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77280" y="5567040"/>
              <a:ext cx="47052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2x num. totale degli individu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842400" y="3703680"/>
            <a:ext cx="7401240" cy="1161000"/>
            <a:chOff x="842400" y="3703680"/>
            <a:chExt cx="7401240" cy="1161000"/>
          </a:xfrm>
        </p:grpSpPr>
        <p:sp>
          <p:nvSpPr>
            <p:cNvPr id="149" name=""/>
            <p:cNvSpPr/>
            <p:nvPr/>
          </p:nvSpPr>
          <p:spPr>
            <a:xfrm>
              <a:off x="842400" y="3703680"/>
              <a:ext cx="74012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Monotype Sorts" charset="2"/>
                <a:buChar char=""/>
                <a:tabLst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q=f(A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)= (2x A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omic Sans MS"/>
                </a:rPr>
                <a:t>2 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) + A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omic Sans MS"/>
                </a:rPr>
                <a:t>1 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omic Sans MS"/>
                </a:rPr>
                <a:t>2 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+ A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omic Sans MS"/>
                </a:rPr>
                <a:t>2 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 + A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omic Sans MS"/>
                </a:rPr>
                <a:t>2 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omic Sans MS"/>
                </a:rPr>
                <a:t>4 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etc…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32680" y="4444200"/>
              <a:ext cx="543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-53280" bIns="-53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59000" y="4361760"/>
              <a:ext cx="47052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2x num. totale degli individu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91880" y="6051600"/>
            <a:ext cx="925200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Non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si sommano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tutti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gli eterozigoti, ma solo quelli ch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anno l’allele considerato di volta in vol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805960" y="6913440"/>
            <a:ext cx="987480" cy="328680"/>
          </a:xfrm>
          <a:custGeom>
            <a:avLst/>
            <a:gdLst>
              <a:gd name="textAreaLeft" fmla="*/ 154080 w 987480"/>
              <a:gd name="textAreaRight" fmla="*/ 864360 w 987480"/>
              <a:gd name="textAreaTop" fmla="*/ 82080 h 328680"/>
              <a:gd name="textAreaBottom" fmla="*/ 246600 h 328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2"/>
              </a:gs>
              <a:gs pos="50000">
                <a:srgbClr val="3333cc"/>
              </a:gs>
              <a:gs pos="100000">
                <a:srgbClr val="ffff0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520" y="1023480"/>
            <a:ext cx="7086600" cy="576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Frequenze alleliche: alleli multipli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98520" y="2014560"/>
            <a:ext cx="9349920" cy="924480"/>
            <a:chOff x="398520" y="2014560"/>
            <a:chExt cx="9349920" cy="924480"/>
          </a:xfrm>
        </p:grpSpPr>
        <p:sp>
          <p:nvSpPr>
            <p:cNvPr id="156" name=""/>
            <p:cNvSpPr/>
            <p:nvPr/>
          </p:nvSpPr>
          <p:spPr>
            <a:xfrm>
              <a:off x="398520" y="2161800"/>
              <a:ext cx="9349920" cy="77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Monotype Sorts" charset="2"/>
                <a:buChar char=""/>
                <a:tabLst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2200" spc="-1" strike="noStrike">
                  <a:solidFill>
                    <a:srgbClr val="808080"/>
                  </a:solidFill>
                  <a:latin typeface="Comic Sans MS"/>
                </a:rPr>
                <a:t> </a:t>
              </a:r>
              <a:r>
                <a:rPr b="0" lang="en-US" sz="2200" spc="-1" strike="noStrike">
                  <a:solidFill>
                    <a:srgbClr val="808080"/>
                  </a:solidFill>
                  <a:latin typeface="Comic Sans MS"/>
                </a:rPr>
                <a:t>a partire dalle frequenze genotipiche calcolate dividendo il numero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2200" spc="-1" strike="noStrike">
                  <a:solidFill>
                    <a:srgbClr val="808080"/>
                  </a:solidFill>
                  <a:latin typeface="Comic Sans MS"/>
                </a:rPr>
                <a:t>dei genotipi per il totale delle osservazioni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4040" y="2014560"/>
              <a:ext cx="4924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Monotype Sorts" charset="2"/>
                <a:buChar char=""/>
                <a:tabLst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2200" spc="-1" strike="noStrike">
                  <a:solidFill>
                    <a:srgbClr val="00cc99"/>
                  </a:solidFill>
                  <a:latin typeface="Comic Sans MS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82440" y="3421080"/>
            <a:ext cx="979344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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=f(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= f(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 + 1/2f(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+ 1/2f(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+ 1/2f(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5560" y="4191120"/>
            <a:ext cx="865152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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q=f(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=f(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 +1/2f(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+1/2f(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+1/2f(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…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0360" y="5148360"/>
            <a:ext cx="858600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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=f(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=f(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 +1/2f(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+1/2f(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+1/2f(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…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4680" y="658440"/>
            <a:ext cx="8086680" cy="576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Frequenze alleliche:varianti dell’emoglobin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1042560" y="1468440"/>
            <a:ext cx="68745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Genotipi: AA(2017)  AS(783)   SS(4)  AC(173)   SC(14)  CC(11)    totale 3002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73600" y="2455920"/>
            <a:ext cx="1964160" cy="48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f(AA)=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Comic Sans MS"/>
              </a:rPr>
              <a:t>2017 </a:t>
            </a: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 =0,67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300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46520" y="2449440"/>
            <a:ext cx="1828440" cy="48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f(AS)=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Comic Sans MS"/>
              </a:rPr>
              <a:t>783 </a:t>
            </a: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 =0,26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300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15760" y="2449440"/>
            <a:ext cx="1894320" cy="48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f(SS)= 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Comic Sans MS"/>
              </a:rPr>
              <a:t>4    </a:t>
            </a: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 =0,001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300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67840" y="3149640"/>
            <a:ext cx="1845360" cy="48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f(AC)=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Comic Sans MS"/>
              </a:rPr>
              <a:t>173 </a:t>
            </a: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 =0,05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300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80000" y="3144960"/>
            <a:ext cx="1920240" cy="48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f(SC)= 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Comic Sans MS"/>
              </a:rPr>
              <a:t>14 </a:t>
            </a: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  =0,004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300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53120" y="3144960"/>
            <a:ext cx="1936800" cy="48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f(CC)= 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Comic Sans MS"/>
              </a:rPr>
              <a:t>11  </a:t>
            </a: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 =0,003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300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47680" y="1892160"/>
            <a:ext cx="9299160" cy="1893600"/>
            <a:chOff x="247680" y="1892160"/>
            <a:chExt cx="9299160" cy="1893600"/>
          </a:xfrm>
        </p:grpSpPr>
        <p:sp>
          <p:nvSpPr>
            <p:cNvPr id="170" name=""/>
            <p:cNvSpPr/>
            <p:nvPr/>
          </p:nvSpPr>
          <p:spPr>
            <a:xfrm>
              <a:off x="1705680" y="1892160"/>
              <a:ext cx="754524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mic Sans MS"/>
                </a:rPr>
                <a:t>frequenza GENOTIPICA= N. individui di un dato genotipo/N.tot.degli individu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7680" y="1892160"/>
              <a:ext cx="9299160" cy="1893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47680" y="5267160"/>
            <a:ext cx="9379800" cy="1891800"/>
            <a:chOff x="247680" y="5267160"/>
            <a:chExt cx="9379800" cy="1891800"/>
          </a:xfrm>
        </p:grpSpPr>
        <p:grpSp>
          <p:nvGrpSpPr>
            <p:cNvPr id="173" name=""/>
            <p:cNvGrpSpPr/>
            <p:nvPr/>
          </p:nvGrpSpPr>
          <p:grpSpPr>
            <a:xfrm>
              <a:off x="247680" y="5267160"/>
              <a:ext cx="9379800" cy="1891800"/>
              <a:chOff x="247680" y="5267160"/>
              <a:chExt cx="9379800" cy="1891800"/>
            </a:xfrm>
          </p:grpSpPr>
          <p:sp>
            <p:nvSpPr>
              <p:cNvPr id="174" name=""/>
              <p:cNvSpPr/>
              <p:nvPr/>
            </p:nvSpPr>
            <p:spPr>
              <a:xfrm>
                <a:off x="329400" y="5267160"/>
                <a:ext cx="9298080" cy="56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6560" rIns="106560" tIns="53280" bIns="53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Comic Sans MS"/>
                  </a:rPr>
                  <a:t>frequenza ALLELICA=N.di copie di un allele nella popolazione/totale degli alleli nella popolazione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47680" y="5267160"/>
                <a:ext cx="9297360" cy="1891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6560" rIns="106560" tIns="53280" bIns="532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2716200" y="5596200"/>
              <a:ext cx="4256280" cy="4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mic Sans MS"/>
                </a:rPr>
                <a:t>f(A1)=</a:t>
              </a:r>
              <a:r>
                <a:rPr b="1" lang="en-US" sz="15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(2x#individuiA1A1)+#A1A2+#A1A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mic Sans MS"/>
                </a:rPr>
                <a:t>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Comic Sans MS"/>
                </a:rPr>
                <a:t>(2x#tot.individui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13720" y="6140520"/>
            <a:ext cx="35794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f(A)=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Comic Sans MS"/>
              </a:rPr>
              <a:t>2x2017+783+173</a:t>
            </a: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Comic Sans MS"/>
              </a:rPr>
              <a:t>4990</a:t>
            </a: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 = 0,83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2x3002           600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2280" y="6110280"/>
            <a:ext cx="39862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f(S)=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Comic Sans MS"/>
              </a:rPr>
              <a:t>2x4+783+14</a:t>
            </a: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Comic Sans MS"/>
              </a:rPr>
              <a:t>805</a:t>
            </a: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 = 0,13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2x3002     600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97040" y="6686640"/>
            <a:ext cx="39862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f(C)=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Comic Sans MS"/>
              </a:rPr>
              <a:t>2x11+173+14</a:t>
            </a: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Comic Sans MS"/>
              </a:rPr>
              <a:t>209</a:t>
            </a: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 = 0,03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2x3002       600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47680" y="3868560"/>
            <a:ext cx="9379800" cy="1315800"/>
            <a:chOff x="247680" y="3868560"/>
            <a:chExt cx="9379800" cy="1315800"/>
          </a:xfrm>
        </p:grpSpPr>
        <p:sp>
          <p:nvSpPr>
            <p:cNvPr id="181" name=""/>
            <p:cNvSpPr/>
            <p:nvPr/>
          </p:nvSpPr>
          <p:spPr>
            <a:xfrm>
              <a:off x="329760" y="3868560"/>
              <a:ext cx="92977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mic Sans MS"/>
                </a:rPr>
                <a:t>frequenza allelica dalle frequenze genotipiche: fA1)=f(A1A1)+1/2f(A1A2)+1/2f(A1A3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47680" y="3868560"/>
              <a:ext cx="9297720" cy="131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634320" y="4280040"/>
            <a:ext cx="3861720" cy="32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f(A)=0,672+1/2x0,261+1/2x0,058 = 0,85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222160" y="4280040"/>
            <a:ext cx="4055400" cy="32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f(S)=0,0013+1/2x0,261+1/2x0,0047 = 0,13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90640" y="4691160"/>
            <a:ext cx="4181760" cy="32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f(C)=0,0037++1/2x0,058+1/2x0,0047 = 0,03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15800" y="576000"/>
            <a:ext cx="7980120" cy="493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Frequenze alleliche: locus X-linke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301320" y="1069920"/>
            <a:ext cx="9459360" cy="14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 questo caso la situazione e’ complicata dal fatto c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 maschi posseggono un solo allele e le femmine eterozigot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ue allel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18880" y="3786120"/>
            <a:ext cx="9640800" cy="1259640"/>
            <a:chOff x="218880" y="3786120"/>
            <a:chExt cx="9640800" cy="1259640"/>
          </a:xfrm>
        </p:grpSpPr>
        <p:sp>
          <p:nvSpPr>
            <p:cNvPr id="189" name=""/>
            <p:cNvSpPr/>
            <p:nvPr/>
          </p:nvSpPr>
          <p:spPr>
            <a:xfrm>
              <a:off x="218880" y="3786120"/>
              <a:ext cx="86004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Monotype Sorts" charset="2"/>
                <a:buChar char=""/>
                <a:tabLst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p=f(A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)=        (2x A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omic Sans MS"/>
                </a:rPr>
                <a:t>1 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femmine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 + A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omic Sans MS"/>
                </a:rPr>
                <a:t>1 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femmine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+ A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omic Sans MS"/>
                </a:rPr>
                <a:t>1 </a:t>
              </a: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maschi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39840" y="4525920"/>
              <a:ext cx="732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-53280" bIns="-53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47080" y="4542840"/>
              <a:ext cx="81126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(2x num. tot. dellefemmine) + num. tot. dei maschi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70000" y="5349960"/>
            <a:ext cx="9589680" cy="1259640"/>
            <a:chOff x="270000" y="5349960"/>
            <a:chExt cx="9589680" cy="1259640"/>
          </a:xfrm>
        </p:grpSpPr>
        <p:sp>
          <p:nvSpPr>
            <p:cNvPr id="193" name=""/>
            <p:cNvSpPr/>
            <p:nvPr/>
          </p:nvSpPr>
          <p:spPr>
            <a:xfrm>
              <a:off x="270000" y="5349960"/>
              <a:ext cx="86004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Monotype Sorts" charset="2"/>
                <a:buChar char=""/>
                <a:tabLst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p=f(A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)=        (2x A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omic Sans MS"/>
                </a:rPr>
                <a:t>2 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femmine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 + A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omic Sans MS"/>
                </a:rPr>
                <a:t>1 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femmine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+ A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omic Sans MS"/>
                </a:rPr>
                <a:t>2 </a:t>
              </a: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maschi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39840" y="6089760"/>
              <a:ext cx="732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-53280" bIns="-53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47080" y="6106680"/>
              <a:ext cx="81126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(2x num. tot. dellefemmine) + num. tot. dei maschi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8805960" y="6913440"/>
            <a:ext cx="987480" cy="328680"/>
          </a:xfrm>
          <a:custGeom>
            <a:avLst/>
            <a:gdLst>
              <a:gd name="textAreaLeft" fmla="*/ 154080 w 987480"/>
              <a:gd name="textAreaRight" fmla="*/ 864360 w 987480"/>
              <a:gd name="textAreaTop" fmla="*/ 82080 h 328680"/>
              <a:gd name="textAreaBottom" fmla="*/ 246600 h 328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2"/>
              </a:gs>
              <a:gs pos="50000">
                <a:srgbClr val="000000"/>
              </a:gs>
              <a:gs pos="100000">
                <a:srgbClr val="ffff0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5240" y="2938320"/>
            <a:ext cx="92995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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808080"/>
                </a:solidFill>
                <a:latin typeface="Comic Sans MS"/>
              </a:rPr>
              <a:t>a</a:t>
            </a:r>
            <a:r>
              <a:rPr b="0" lang="en-US" sz="26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808080"/>
                </a:solidFill>
                <a:latin typeface="Comic Sans MS"/>
              </a:rPr>
              <a:t>partire dai numeri assoluti dei diversi genotipi (quanti individui con i diversi genotipi sono stati osservat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5640" y="685440"/>
            <a:ext cx="6335640" cy="493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Aspetti diversi dell’ereditarieta’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33520" y="1295280"/>
            <a:ext cx="8820000" cy="2590920"/>
            <a:chOff x="533520" y="1295280"/>
            <a:chExt cx="8820000" cy="2590920"/>
          </a:xfrm>
        </p:grpSpPr>
        <p:sp>
          <p:nvSpPr>
            <p:cNvPr id="49" name=""/>
            <p:cNvSpPr/>
            <p:nvPr/>
          </p:nvSpPr>
          <p:spPr>
            <a:xfrm>
              <a:off x="2514600" y="1295280"/>
              <a:ext cx="6838920" cy="22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La genetica classica studia i processi genetici che riguardano i singoli individui e come i geni vengono trasmess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da un individuo all’altro. L’unita’ di studio e’ </a:t>
              </a:r>
              <a:r>
                <a:rPr b="1" lang="en-US" sz="2600" spc="-1" strike="noStrike">
                  <a:solidFill>
                    <a:srgbClr val="000000"/>
                  </a:solidFill>
                  <a:latin typeface="Comic Sans MS"/>
                </a:rPr>
                <a:t>l’individuo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533520" y="1676520"/>
              <a:ext cx="1830240" cy="220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"/>
          <p:cNvGrpSpPr/>
          <p:nvPr/>
        </p:nvGrpSpPr>
        <p:grpSpPr>
          <a:xfrm>
            <a:off x="152280" y="4343400"/>
            <a:ext cx="8915400" cy="2567160"/>
            <a:chOff x="152280" y="4343400"/>
            <a:chExt cx="8915400" cy="2567160"/>
          </a:xfrm>
        </p:grpSpPr>
        <p:sp>
          <p:nvSpPr>
            <p:cNvPr id="52" name=""/>
            <p:cNvSpPr/>
            <p:nvPr/>
          </p:nvSpPr>
          <p:spPr>
            <a:xfrm>
              <a:off x="2895480" y="4343400"/>
              <a:ext cx="6172200" cy="247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La genetica molecolare studia la natura molecolare dell’eredita’: come viene codificata nel DNA e come i processi biochimici la traducano in un fenotipo. L’interesse e’ concentrato sulla </a:t>
              </a:r>
              <a:r>
                <a:rPr b="1" lang="en-US" sz="2600" spc="-1" strike="noStrike">
                  <a:solidFill>
                    <a:srgbClr val="000000"/>
                  </a:solidFill>
                  <a:latin typeface="Comic Sans MS"/>
                </a:rPr>
                <a:t>cellula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52280" y="4572000"/>
              <a:ext cx="2590920" cy="233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-28440" y="1274760"/>
            <a:ext cx="9349920" cy="924480"/>
            <a:chOff x="-28440" y="1274760"/>
            <a:chExt cx="9349920" cy="924480"/>
          </a:xfrm>
        </p:grpSpPr>
        <p:sp>
          <p:nvSpPr>
            <p:cNvPr id="199" name=""/>
            <p:cNvSpPr/>
            <p:nvPr/>
          </p:nvSpPr>
          <p:spPr>
            <a:xfrm>
              <a:off x="-28440" y="1422000"/>
              <a:ext cx="9349920" cy="77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Monotype Sorts" charset="2"/>
                <a:buChar char=""/>
                <a:tabLst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2200" spc="-1" strike="noStrike">
                  <a:solidFill>
                    <a:srgbClr val="808080"/>
                  </a:solidFill>
                  <a:latin typeface="Comic Sans MS"/>
                </a:rPr>
                <a:t> </a:t>
              </a:r>
              <a:r>
                <a:rPr b="0" lang="en-US" sz="2200" spc="-1" strike="noStrike">
                  <a:solidFill>
                    <a:srgbClr val="808080"/>
                  </a:solidFill>
                  <a:latin typeface="Comic Sans MS"/>
                </a:rPr>
                <a:t>a partire dalle frequenze genotipiche calcolate dividendo il numero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2200" spc="-1" strike="noStrike">
                  <a:solidFill>
                    <a:srgbClr val="808080"/>
                  </a:solidFill>
                  <a:latin typeface="Comic Sans MS"/>
                </a:rPr>
                <a:t>dei genotipi per il totale delle osservazioni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080" y="1274760"/>
              <a:ext cx="4924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Monotype Sorts" charset="2"/>
                <a:buChar char=""/>
                <a:tabLst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2200" spc="-1" strike="noStrike">
                  <a:solidFill>
                    <a:srgbClr val="00cc99"/>
                  </a:solidFill>
                  <a:latin typeface="Comic Sans MS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16160" y="659880"/>
            <a:ext cx="7904160" cy="576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Frequenze alleliche locus X-linke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491040" y="2633760"/>
            <a:ext cx="886968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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=f(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= f(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femmin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+1/2f(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femmine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+f(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masch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5280" y="3486240"/>
            <a:ext cx="886968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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q=f(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= f(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femmin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+1/2f(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femmine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+f(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masch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1520" y="4444920"/>
            <a:ext cx="9774360" cy="18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VVIAMENTE LE FREQUENZE DEI DIVERSI GENOTIPI SONO DELLE PERCENTUALI E SI CALCOLANO SEMPRE:NUM. DEGLI INDIVIDUI CON QUEL GENOTIPO (MASCHI+FEMMINE) DIVISO IL TOTALE DELLE OSSERVAZION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914040"/>
            <a:ext cx="6336000" cy="493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Aspetti diversi dell’ereditarieta’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838080" y="1752480"/>
            <a:ext cx="8458200" cy="2374920"/>
            <a:chOff x="838080" y="1752480"/>
            <a:chExt cx="8458200" cy="2374920"/>
          </a:xfrm>
        </p:grpSpPr>
        <p:sp>
          <p:nvSpPr>
            <p:cNvPr id="56" name=""/>
            <p:cNvSpPr/>
            <p:nvPr/>
          </p:nvSpPr>
          <p:spPr>
            <a:xfrm>
              <a:off x="3733920" y="1752480"/>
              <a:ext cx="5562360" cy="180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a genetica di popolazione studia l’ereditarieta’ di caratteri determinati da uno o pochi geni in 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ruppi di individui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838080" y="1752480"/>
              <a:ext cx="2417760" cy="237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"/>
          <p:cNvGrpSpPr/>
          <p:nvPr/>
        </p:nvGrpSpPr>
        <p:grpSpPr>
          <a:xfrm>
            <a:off x="457200" y="4419720"/>
            <a:ext cx="9418680" cy="2415960"/>
            <a:chOff x="457200" y="4419720"/>
            <a:chExt cx="9418680" cy="2415960"/>
          </a:xfrm>
        </p:grpSpPr>
        <p:sp>
          <p:nvSpPr>
            <p:cNvPr id="59" name=""/>
            <p:cNvSpPr/>
            <p:nvPr/>
          </p:nvSpPr>
          <p:spPr>
            <a:xfrm>
              <a:off x="3611520" y="4419720"/>
              <a:ext cx="6264360" cy="22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a genetica quantitativa studia l’ereditarieta’ di caratteri determinati dall’azione simultanea  di piu’ geni, all’interno di  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ruppi di individui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457200" y="4876920"/>
              <a:ext cx="3070080" cy="195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317160" y="1189080"/>
            <a:ext cx="983592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La genetica di popolazione studia l’ereditarieta’ di caratteri determinati da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uno o pochi geni in gruppi di individui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una popolazione mendelian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74960" y="576000"/>
            <a:ext cx="5184720" cy="7412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La genetica di popolazion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386080"/>
            <a:ext cx="9875880" cy="9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opolazione mendeliana: gruppo di individui interfertili che condividono un insieme di alleli: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l pool genic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26440" y="3538440"/>
            <a:ext cx="772920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utti gli individui di una specie condividono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gli stessi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locu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143280" y="4856040"/>
            <a:ext cx="10033920" cy="14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 locus possono presentare piu’ alleli: gruppi di individu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ossono presentare assortimenti allelici differenti: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genotip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different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375000" y="659880"/>
            <a:ext cx="2138400" cy="73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Domand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357840" y="1398600"/>
            <a:ext cx="91177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Quanta variabilita’ esiste in una popolazione natura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 da cosa e’ originata </a:t>
            </a: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9880" y="2881440"/>
            <a:ext cx="929448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Quali processi evolutivi modellano la stuttura genet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elle popolazioni </a:t>
            </a: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0320" y="4362480"/>
            <a:ext cx="889056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a cosa sono provocate le differenze nella struttu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genetica delle diverse popolazioni </a:t>
            </a: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8320" y="5843520"/>
            <a:ext cx="90979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 che modo le caratteristiche biologiche influenza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l pool genico di una popolazione </a:t>
            </a: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09720" y="2798640"/>
            <a:ext cx="8302680" cy="12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La struttura genetica di una popolazi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viene espressa in termini sia di frequenza allel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che genotipica</a:t>
            </a: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92200" y="659880"/>
            <a:ext cx="4360680" cy="576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Frequenze genotipich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160920" y="4773600"/>
            <a:ext cx="9247680" cy="14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er calcolare la frequenza genotipica basta contare gl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dividui con un certo fenotipo e dividere per il totale degl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dividui. La somma dei diversi genotipi deve essere = 1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8040" y="1152360"/>
            <a:ext cx="784224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Quanta variabilita’ esiste in una popolazione natur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 da cosa e’ originata 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12040" y="6665760"/>
            <a:ext cx="987480" cy="330480"/>
          </a:xfrm>
          <a:custGeom>
            <a:avLst/>
            <a:gdLst>
              <a:gd name="textAreaLeft" fmla="*/ 154080 w 987480"/>
              <a:gd name="textAreaRight" fmla="*/ 864360 w 987480"/>
              <a:gd name="textAreaTop" fmla="*/ 82440 h 330480"/>
              <a:gd name="textAreaBottom" fmla="*/ 248040 h 330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2"/>
              </a:gs>
              <a:gs pos="50000">
                <a:srgbClr val="000000"/>
              </a:gs>
              <a:gs pos="100000">
                <a:srgbClr val="ffff0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7320" y="576360"/>
            <a:ext cx="4362480" cy="5760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Frequenze genotipich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"/>
          <p:cNvSpPr/>
          <p:nvPr/>
        </p:nvSpPr>
        <p:spPr>
          <a:xfrm>
            <a:off x="8805960" y="6996240"/>
            <a:ext cx="987480" cy="328320"/>
          </a:xfrm>
          <a:custGeom>
            <a:avLst/>
            <a:gdLst>
              <a:gd name="textAreaLeft" fmla="*/ 154080 w 987480"/>
              <a:gd name="textAreaRight" fmla="*/ 864360 w 987480"/>
              <a:gd name="textAreaTop" fmla="*/ 82080 h 328320"/>
              <a:gd name="textAreaBottom" fmla="*/ 246240 h 328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2"/>
              </a:gs>
              <a:gs pos="50000">
                <a:srgbClr val="000000"/>
              </a:gs>
              <a:gs pos="100000">
                <a:srgbClr val="ffff0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79080" y="990720"/>
            <a:ext cx="9302760" cy="1294920"/>
            <a:chOff x="379080" y="990720"/>
            <a:chExt cx="9302760" cy="1294920"/>
          </a:xfrm>
        </p:grpSpPr>
        <p:sp>
          <p:nvSpPr>
            <p:cNvPr id="79" name=""/>
            <p:cNvSpPr/>
            <p:nvPr/>
          </p:nvSpPr>
          <p:spPr>
            <a:xfrm>
              <a:off x="379080" y="1319400"/>
              <a:ext cx="658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Monotype Sorts" charset="2"/>
                <a:buChar char=""/>
                <a:tabLst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19040" y="990720"/>
              <a:ext cx="8362800" cy="12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In una popolazione naturale sono presenti 3 fenotip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facilmente distinguibili dovuti a 2 alleli del locus A: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26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2600" spc="-1" strike="noStrike" baseline="30000">
                  <a:solidFill>
                    <a:srgbClr val="000000"/>
                  </a:solidFill>
                  <a:latin typeface="Comic Sans MS"/>
                </a:rPr>
                <a:t>1 </a:t>
              </a:r>
              <a:r>
                <a:rPr b="1" lang="en-US" sz="2600" spc="-1" strike="noStrike">
                  <a:solidFill>
                    <a:srgbClr val="000000"/>
                  </a:solidFill>
                  <a:latin typeface="Comic Sans MS"/>
                </a:rPr>
                <a:t>452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,  A</a:t>
              </a:r>
              <a:r>
                <a:rPr b="1" lang="en-US" sz="26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2600" spc="-1" strike="noStrike" baseline="30000">
                  <a:solidFill>
                    <a:srgbClr val="000000"/>
                  </a:solidFill>
                  <a:latin typeface="Comic Sans MS"/>
                </a:rPr>
                <a:t>2 </a:t>
              </a:r>
              <a:r>
                <a:rPr b="1" lang="en-US" sz="2600" spc="-1" strike="noStrike">
                  <a:solidFill>
                    <a:srgbClr val="000000"/>
                  </a:solidFill>
                  <a:latin typeface="Comic Sans MS"/>
                </a:rPr>
                <a:t>43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,  A</a:t>
              </a:r>
              <a:r>
                <a:rPr b="1" lang="en-US" sz="2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2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Comic Sans MS"/>
                </a:rPr>
                <a:t>2 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tot= 497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834840" y="2468520"/>
            <a:ext cx="7734240" cy="12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requenze genotipiche:   f(A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= 452/497 =0.90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(A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=  43/497 =0.08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(A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=   2/497 =0.00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880" y="3951360"/>
            <a:ext cx="9118080" cy="12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a somma e’ 1 e le singole percentuali descrivo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quantitativamente il pool genico per quel locus all’inter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el gruppo di individui che sto consideran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440" y="5349960"/>
            <a:ext cx="957816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e frequenze in un altro gruppo di individui della stess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pecie potrebbero essere diverse o essere presente un terz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llele e  quindi essere presenti 6 genotipi la cui somma sara’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mpre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786120" y="743040"/>
            <a:ext cx="3867120" cy="411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Frequenze alleliche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70000" y="1317600"/>
            <a:ext cx="975060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’ piu’ vantaggioso descrivere il pool genico in termin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i frequenza degli alleli: negli organismi a riproduzion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ssuale sono gli alleli ad essere trasmessi alla generazion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uccessiva. Inoltre gli alleli sono meno dei genotipi: se ci so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2 alleli ad un locus ci sono 3 genotipi, se 3 alleli 6 genotipi 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si’ vi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6400" y="4525920"/>
            <a:ext cx="8775000" cy="18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e frequenze genotipiche derivano dalla quantita’ d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gameti che portano un certo allele: la probabilita’ che s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rigini un certo genotipo dipende dalla frequenza degl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lleli che lo compongon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805960" y="6913440"/>
            <a:ext cx="987480" cy="328680"/>
          </a:xfrm>
          <a:custGeom>
            <a:avLst/>
            <a:gdLst>
              <a:gd name="textAreaLeft" fmla="*/ 154080 w 987480"/>
              <a:gd name="textAreaRight" fmla="*/ 864360 w 987480"/>
              <a:gd name="textAreaTop" fmla="*/ 82080 h 328680"/>
              <a:gd name="textAreaBottom" fmla="*/ 246600 h 328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2"/>
              </a:gs>
              <a:gs pos="50000">
                <a:srgbClr val="000000"/>
              </a:gs>
              <a:gs pos="100000">
                <a:srgbClr val="ffff0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9920" y="660240"/>
            <a:ext cx="8074080" cy="657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Frequenze alleliche: come si calcolano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193680" y="1481040"/>
            <a:ext cx="96613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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Per calcolare la frequenza degli alleli di un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certo locus possiamo utilizzare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5200" y="3044880"/>
            <a:ext cx="90982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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i numeri assoluti dei diversi genotipi: quanti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individui con i diversi genotipi sono stati osservat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6400" y="4444920"/>
            <a:ext cx="9488880" cy="1167840"/>
            <a:chOff x="86400" y="4444920"/>
            <a:chExt cx="9488880" cy="1167840"/>
          </a:xfrm>
        </p:grpSpPr>
        <p:sp>
          <p:nvSpPr>
            <p:cNvPr id="92" name=""/>
            <p:cNvSpPr/>
            <p:nvPr/>
          </p:nvSpPr>
          <p:spPr>
            <a:xfrm>
              <a:off x="86400" y="4592160"/>
              <a:ext cx="9488880" cy="10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Monotype Sorts" charset="2"/>
                <a:buChar char=""/>
                <a:tabLst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Comic Sans MS"/>
                </a:rPr>
                <a:t>le frequenze genotipiche calcolate dividendo il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Comic Sans MS"/>
                </a:rPr>
                <a:t>numero  dei genotipi per il totale delle osservazioni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9000" y="4444920"/>
              <a:ext cx="59436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Monotype Sorts" charset="2"/>
                <a:buChar char=""/>
                <a:tabLst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8805960" y="6913440"/>
            <a:ext cx="987480" cy="328680"/>
          </a:xfrm>
          <a:custGeom>
            <a:avLst/>
            <a:gdLst>
              <a:gd name="textAreaLeft" fmla="*/ 154080 w 987480"/>
              <a:gd name="textAreaRight" fmla="*/ 864360 w 987480"/>
              <a:gd name="textAreaTop" fmla="*/ 82080 h 328680"/>
              <a:gd name="textAreaBottom" fmla="*/ 246600 h 328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2"/>
              </a:gs>
              <a:gs pos="50000">
                <a:srgbClr val="000000"/>
              </a:gs>
              <a:gs pos="100000">
                <a:srgbClr val="ffff0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2:00:26Z</dcterms:created>
  <dc:creator>CMG</dc:creator>
  <dc:description/>
  <dc:language>en-US</dc:language>
  <cp:lastModifiedBy>segre2</cp:lastModifiedBy>
  <cp:lastPrinted>2000-04-11T15:44:35Z</cp:lastPrinted>
  <dcterms:modified xsi:type="dcterms:W3CDTF">2005-05-21T06:49:46Z</dcterms:modified>
  <cp:revision>389</cp:revision>
  <dc:subject/>
  <dc:title>Geen diatitel</dc:title>
</cp:coreProperties>
</file>