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B38-5237-4CBC-BE26-C5E7A10E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6AC-5F87-4A67-9222-D3784CC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1C1-7B55-44BF-9978-7E3F8A52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812-A4AC-4AE0-821B-832AE554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CD5-D10B-46C0-B94C-9B116C4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F5A-6B0C-4A41-8179-3B1B04A6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AF3-A25B-44C0-B208-5B76D40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0D-A9B5-4542-91ED-10B3A2A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11280"/>
            <a:ext cx="8420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D03-0B8A-410B-92BF-5EB61D24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E9C-098E-41C7-AB5B-70E956FD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A72-B7F4-4255-B03D-8FD0127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0CC-8C28-496D-B1F5-08EDFB2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92080" y="6208200"/>
            <a:ext cx="20638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76320" y="6551640"/>
            <a:ext cx="3135600" cy="458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95800" y="6595560"/>
            <a:ext cx="20638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63C5D186-D79A-4081-ADB2-7ED8101E3A1F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9480" y="3436920"/>
            <a:ext cx="5808600" cy="15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100" spc="-1" strike="noStrike">
                <a:solidFill>
                  <a:srgbClr val="fd020a"/>
                </a:solidFill>
                <a:latin typeface="Comic Sans MS"/>
              </a:rPr>
              <a:t>Alberi genealogici e </a:t>
            </a:r>
            <a:br>
              <a:rPr sz="3100"/>
            </a:br>
            <a:r>
              <a:rPr b="0" lang="en-US" sz="3100" spc="-1" strike="noStrike">
                <a:solidFill>
                  <a:srgbClr val="fd020a"/>
                </a:solidFill>
                <a:latin typeface="Comic Sans MS"/>
              </a:rPr>
              <a:t>loro interpretazione</a:t>
            </a:r>
            <a:endParaRPr b="1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2291040" y="524196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ZIONE 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86080" y="635040"/>
            <a:ext cx="3057480" cy="28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5803920" cy="246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280" y="3200400"/>
            <a:ext cx="86659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persona che manifesta il carattere ha almeno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tore con lo stesso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2000" y="4114800"/>
            <a:ext cx="6471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 presentano il carat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760" y="4648320"/>
            <a:ext cx="5303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trasmessa da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181480"/>
            <a:ext cx="89773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iglio di chi manifesta il carattere ha il 50% di probabilita’ di ereditare l’allele e di manifestare il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6200" y="5967360"/>
            <a:ext cx="60883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ndo che il genitore sia eterozig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he di solito e’ vero per fenotipi r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21360" y="423720"/>
            <a:ext cx="4147920" cy="493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Autosomico dominan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0360" y="1695600"/>
            <a:ext cx="3632040" cy="30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8240" y="1447920"/>
            <a:ext cx="59198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individui che esprim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solito sono figli di non individui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esprim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743200"/>
            <a:ext cx="5562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egli individui che esprimono di  solito sono portatori che non  manifest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600" y="3809880"/>
            <a:ext cx="45572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mentata incid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440" y="4724280"/>
            <a:ext cx="4529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 esprim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486400"/>
            <a:ext cx="7315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ascun figlio ha il 25% di probabilita’ di manifestare il carat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51120" y="635040"/>
            <a:ext cx="4378320" cy="658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Autosomico recessi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64080" y="981000"/>
            <a:ext cx="4518000" cy="2833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" y="1695600"/>
            <a:ext cx="4743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ifestano quasi esclusivamente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720" y="5249880"/>
            <a:ext cx="5569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 possono manifes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36680" y="5672160"/>
            <a:ext cx="6999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il padre esprime e la madre eterozig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0360" y="6095880"/>
            <a:ext cx="816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’inattivazione del cromosoma X non e’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2468520"/>
            <a:ext cx="46832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i solito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ifestano,la madre anche se portatrice puo’ essere asin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79246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tato di portatrice della madre e’ certo se ha fratelli o parenti maschi che espromono il carat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0760" y="635040"/>
            <a:ext cx="3537000" cy="728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Recessivo X 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97200" y="846000"/>
            <a:ext cx="6451560" cy="316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2680" y="2257560"/>
            <a:ext cx="20462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 esprimo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u’ sp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280" y="4184640"/>
            <a:ext cx="9450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di una donna che manifesta il carattere hanno il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manifestare il fenotipo,  indipendentemente dal s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7360" y="5172120"/>
            <a:ext cx="9545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maschio che esprime il carattere avra’ tutte le figli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ifestano  e tutti i figli non “manifestan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7520" y="564840"/>
            <a:ext cx="3536640" cy="657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Dominante X 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33800" y="1339920"/>
            <a:ext cx="5830920" cy="260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0320" y="3733920"/>
            <a:ext cx="24404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o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419720"/>
            <a:ext cx="83818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aschi che manifestano hanno il padre con lo ssso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560" y="5486400"/>
            <a:ext cx="9950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i i figli maschi di un uomo che manifesta, manifestera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6280" y="564840"/>
            <a:ext cx="1930320" cy="657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Y -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705040" cy="3462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441972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100" spc="-1" strike="noStrike">
                <a:solidFill>
                  <a:srgbClr val="fe2c02"/>
                </a:solidFill>
                <a:latin typeface="Comic Sans MS"/>
              </a:rPr>
              <a:t>Alberi genealogici complicazioni</a:t>
            </a:r>
            <a:endParaRPr b="1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9000" y="5079960"/>
            <a:ext cx="7121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vata frequenza dell’allele rec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55760" y="2046240"/>
            <a:ext cx="5132520" cy="2889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00480" y="2830680"/>
            <a:ext cx="21240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r>
              <a:rPr b="1" lang="en-US" sz="13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67720" y="3549600"/>
            <a:ext cx="82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 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6120" y="354960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3538440"/>
            <a:ext cx="403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4800" y="354960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8000" y="4233960"/>
            <a:ext cx="3128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AA     AO   OO           AO    OO   O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280" y="1058400"/>
            <a:ext cx="9161640" cy="693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Complicazione dei principali modelli di ereditarie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08320" y="1552680"/>
            <a:ext cx="5378400" cy="3278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85000" y="5221440"/>
            <a:ext cx="37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 : Nanismo acondropla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68760" y="917280"/>
            <a:ext cx="3230640" cy="376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Nuova mutazio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98840" y="1693800"/>
            <a:ext cx="4906800" cy="2870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75720" y="5149800"/>
            <a:ext cx="46303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iti maschi abor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Dominante X 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8840" y="1481040"/>
            <a:ext cx="4329000" cy="336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3280" y="4965840"/>
            <a:ext cx="31658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22520" y="634680"/>
            <a:ext cx="4051440" cy="83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Recessiva X-link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58000" y="533520"/>
            <a:ext cx="1982880" cy="1565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506880"/>
            <a:ext cx="6324480" cy="939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Richiamiamo un po’ di terminolog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19320"/>
            <a:ext cx="9525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otipo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stituzione  genetica di un individuo 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azione ad un particolare caratt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09680"/>
            <a:ext cx="96012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enotipo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nifestazione fisica del carattere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non e’ necessariamente una patologia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sa in senso cli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352680"/>
            <a:ext cx="944892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manifestazione fisica dipende dal metodo di rilevazione: es. anemia falciforme, thalassemia, emoglobinop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’ l’operatore che sceglie il livello di indagine e definisce il fenotipo che vuole seguire: l’individuo, gli organi, il tessuto, le cellule, il DN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2960" y="6324480"/>
            <a:ext cx="660240" cy="304920"/>
          </a:xfrm>
          <a:custGeom>
            <a:avLst/>
            <a:gdLst>
              <a:gd name="textAreaLeft" fmla="*/ 102960 w 660240"/>
              <a:gd name="textAreaRight" fmla="*/ 577800 w 660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105520"/>
            <a:ext cx="9601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cu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regione genomica dove mappa la sequenza di DNA coinvolta nella manifestazione del fenotipo. E’ individuato utilizzando tecniche laboratoristiche diverse: biochimiche, molecolari, citogenet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4952880"/>
            <a:ext cx="9555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 esiste necessariamente corrispondenza 1:1 fra fenotipo mendeliano e sequenze codific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143000"/>
            <a:ext cx="9448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“gene” mendeliano e’ un entita’ astratta identificata dalla modalita’ di segregazione e dalla mappatura in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74320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“gene” molecolare e’ una sequenza codificante corrispondente ad un trascritto, che mappa nella regione identificata dal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5560" y="352440"/>
            <a:ext cx="3154680" cy="658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Gene e fenotip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1219320"/>
            <a:ext cx="95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 esiste necessariamente corrispondenza 1:1 fra fenotipo mendeliano e sequenze codific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3505320"/>
            <a:ext cx="97156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ader-Willi/Angelman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enotipi autosomici dominan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la mutazione piu’ frequente e’ la delezione di un segmento genomico che puo’ arrivare a 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20a"/>
                </a:solidFill>
                <a:latin typeface="Comic Sans MS"/>
              </a:rPr>
              <a:t>Gene e fenotip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014560"/>
            <a:ext cx="97156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cot Marie Tooth 1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enotipo autosomico dominant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la mutazione piu’ frequente e’ una duplicazione di  un frammento genomico di 1.5Mb che comprende parecchi g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007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som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us che mappa su un au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05120"/>
            <a:ext cx="9219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gato al sesso 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us che mappa sui cromosomi sess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495680"/>
            <a:ext cx="87501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ozigot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viduo in cui entrambi gli alleli sono ug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988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Richiamiamo un po’ di terminolog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58000" y="533520"/>
            <a:ext cx="1982880" cy="1565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438280"/>
            <a:ext cx="990612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eli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e alternative del locus che originano fenotipi distinguibili. Nella popolazione possono esistere n alleli, ma ogni individuo diploide ne possiede 2 degli n possibili. Gli alleli si originano per effetto delle mutazioni, e generano variabilita’ nella popolazione. Non e’ detto che ci sia un allele che genera fenotipo patologico. (gruppi sanguig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029200"/>
            <a:ext cx="9327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zigot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viduo in cui gli alleli di un locus sono dif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480" y="5638680"/>
            <a:ext cx="86421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Ricordare che omozigote ed eterozigote non s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sinonimi di dominante e recess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295280"/>
            <a:ext cx="8817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minante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aratt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he si manifesta in eterozig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057400"/>
            <a:ext cx="8007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cessivo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aratt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he si manifesta in omozig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608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20a"/>
                </a:solidFill>
                <a:latin typeface="Comic Sans MS"/>
              </a:rPr>
              <a:t>Definizione classic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855360" y="2743200"/>
            <a:ext cx="82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TRASMISSIONE E DIPENDONO DAL TIPO DI FENOTIPO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CONSID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440" y="3962520"/>
            <a:ext cx="959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EMIA FALCIFORM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ssiv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considero come fenotipo la presenza dell’anem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portatori non hanno 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domina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considero le catene dell’emoglobina : sono presenti entram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guardo la sequenza del DNA non e’ nell’una nell’altra, perche’ non sto guard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espressione del prodotto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295280"/>
            <a:ext cx="8817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minante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aratt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he si manifesta in eterozig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057400"/>
            <a:ext cx="8007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cessivo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aratte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he si manifesta in omozig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608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20a"/>
                </a:solidFill>
                <a:latin typeface="Comic Sans MS"/>
              </a:rPr>
              <a:t>Definizione classic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752400" y="27432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3581280"/>
            <a:ext cx="959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 questo deriva che la terminologia A/a che correttamente si usa negli incroci quando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uole indicare la relazione fra i prodotti degli alleli e’ una terminologia operativa: sign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 il fenotipo originato da un allele non e’ evidenziabile se c’e’ l’allele A e quindi mi devo aspettare che soggetti con fenotipo A siano geneticamente Aa e questa informazione mi viene dall’analisi degli alberi genealogici o dall’incr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oltre va ricordato che anche utilizzando A/a non vuol dire che a e’ derivato da A e costituisce un sottoprodotto di 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terminologia che si deve usare al di fuori dello studio della trasmissione e’: locus A alleli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.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locu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te in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rosophi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3840" y="119844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9160" y="2046240"/>
            <a:ext cx="89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DOVUTI ALL’INTERAZIONE DEL PRODOTTO DEI SING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CUS CON L’AMBIENTE, IL BACKGROUND GENETICO DEL SING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VIDUO E IL PERIODO DELLO SVILUPPO E DIFFERENZ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5600" y="3432240"/>
            <a:ext cx="87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APPLICANO PERCIO’ ALLA POPOLAZIONE NON ALL’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0120" y="5562720"/>
            <a:ext cx="85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GENETICA UMANA E’ FORSE L’ULTIMA DISCIPLINA CHE V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A AD UNA POPOLAZIONE NAT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7040" y="4255920"/>
            <a:ext cx="866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LIVELLO DI POPOLAZIONE MEGLIO PARLARE DI LOCUS: 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RMINE GENE ASSUME SIGNIFICATI DIVERSI A SECONDA DEL TI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IND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14640" y="564840"/>
            <a:ext cx="4530600" cy="515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Dominanza e recessivi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219320"/>
            <a:ext cx="876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i applicano al gene inteso come sequenza di DNA o loc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72360" y="533520"/>
            <a:ext cx="1568520" cy="1238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320" y="609480"/>
            <a:ext cx="4870440" cy="455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Dominanza e recessivi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-69840" y="1752480"/>
            <a:ext cx="98618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 alcune patologie (es.Fibrosi Cistica) gli aff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ssono essere definiti eterozigoti compost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perch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istono mutazioni diverse che provocano la malattia. Di fatto gli affetti 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no l’allele normale, ma due alleli patologici.  Geneticamente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erozigoti perche’ hanno due alleli diversi, ma dal punto di vista fenotipico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stinguibili dagli omozigoti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l carattere e’ comunque recess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91120"/>
            <a:ext cx="11106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 puo’ continuare ad usare il termine dominant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cessivo, ma va tenuto ben presente il significato e soprattu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n va confuso con: dominante=+diffuso, recessivo=patolog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ominante=normale etc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segre2</cp:lastModifiedBy>
  <cp:lastPrinted>2000-04-11T15:44:35Z</cp:lastPrinted>
  <dcterms:modified xsi:type="dcterms:W3CDTF">2005-05-21T07:09:23Z</dcterms:modified>
  <cp:revision>398</cp:revision>
  <dc:subject/>
  <dc:title>Geen diatitel</dc:title>
</cp:coreProperties>
</file>