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5280" y="725040"/>
            <a:ext cx="48387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3EAD04C-C8DA-4CCD-B679-24F56B6ADF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33560" y="733320"/>
            <a:ext cx="4821120" cy="3616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7640" y="4597200"/>
            <a:ext cx="505152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active transport uses ATP as the energy source - example Na/K AT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ary active transport uses the energy associated with electrochemical gradient for an ion that has been established using a primary active transport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ransporter is an example of secondary active transport.  The pump uses the energy associated with the Na electrochemical gradient (favouring influx of Na) to transport both K and Cl into the cell.   You should not that the electrochemical gradients for K and Cl favour movement of K and Cl out of the cell.  Note that by transporting one Na, one K ion and 2 Cl ions, this transporter electrically silent - it does not affect membrane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esence of K channels in basolateral membrane is important.  In order for the process to continue K must be lost from the cells.  BUT, additionally the movement of Cl ions out of the apical membrane is a passive process (through the CFTR channel) and depends on there being a favourable electrochemical gradient.  The K channels, by keeping the cell membrane at a negative potential (voltage) provides such a grad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negativity will make the efflux of Cl more energetically favou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B58-957F-444F-A1C7-C1B5A06F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E64-32D7-4D69-938D-F41BC6C0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31B-58C1-404A-AE95-C7854FDD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CD1-0B4A-47B7-B147-191D2EE0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76F-9D34-4893-BDB7-533C780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4CE-DC16-4082-A5D3-4E6E57B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C0A-0CEA-44F4-987B-8DDC954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2BE-D2B8-48E1-869A-CFA2B8F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344-152B-4822-92E2-06266DA8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0AB-11DA-4A93-9912-DB94AA3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4D5-C35B-4B07-AC77-61A28C6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43D-F393-4371-89CF-799229F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5B2C-BF70-427E-A5FE-6BF8E25D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ibrosicisticatoscana.o/" TargetMode="External"/><Relationship Id="rId2" Type="http://schemas.openxmlformats.org/officeDocument/2006/relationships/hyperlink" Target="http://www.laboratoriogenoma.it/" TargetMode="External"/><Relationship Id="rId3" Type="http://schemas.openxmlformats.org/officeDocument/2006/relationships/hyperlink" Target="http://www.fibrosicistica.it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enessere.com/salute/atlante/genitali_m.ht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benessere.com/salute/atlante/genitali_f.htm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524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coltà di Scienze Biotecnologich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so di Laurea in Biotecnologie Mediche e Medicina Molecolar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BROSI C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SPETTI CLINICI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6021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sanna D’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87732" b="0"/>
          <a:stretch/>
        </p:blipFill>
        <p:spPr>
          <a:xfrm>
            <a:off x="0" y="0"/>
            <a:ext cx="1496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078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TOMAT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765000"/>
            <a:ext cx="8497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FE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patop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rrosi epatica (il 5% dei ca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cumulo di grassi (steato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429000"/>
            <a:ext cx="7489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LTRE CONSEGU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nusite e poliposi na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ggior sensibilità ai colpi di c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b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734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ssun effetto sulle capacità intellet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553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e fa il medico a diagnosticare la FC nei neonati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852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alisi dell’enzima digestivo lattasi presente nel mec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4653000"/>
            <a:ext cx="8497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alisi dell’enzima digestivo tripsina immunoreattiva (IRT) presente nel sangu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e fa il medico a diagnosticare la FC nei bambini e negli adul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280" y="2421000"/>
            <a:ext cx="4185720" cy="3058200"/>
            <a:chOff x="539280" y="2421000"/>
            <a:chExt cx="4185720" cy="3058200"/>
          </a:xfrm>
        </p:grpSpPr>
        <p:sp>
          <p:nvSpPr>
            <p:cNvPr id="148" name=""/>
            <p:cNvSpPr/>
            <p:nvPr/>
          </p:nvSpPr>
          <p:spPr>
            <a:xfrm>
              <a:off x="900000" y="2421000"/>
              <a:ext cx="336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Test del sudore: Diagnosi confermata dall’aumento della [Cl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] nel sud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280" y="3608640"/>
              <a:ext cx="4185720" cy="18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it-IT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ormale    Fibrosi ci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smolarità   154 ± 40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2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(nM)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10 - 40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60 - 1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(nM)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0 - 30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70 -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it-IT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(nM)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2 - 25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5 -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test_sudrid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19051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 TERAPEU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6668640"/>
            <a:ext cx="82296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e croniche (fisioterapia respiratoria e somministrazione di enzimi pancreati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565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re frequenti o subcontinue (antibioticoterapia, aeros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933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 equilib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724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pia medica e/o chirurgica delle complicanze e trapianto di org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609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pia ge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62028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ll, Grubb, Harkema, O'Neal, Boucher “Increased airway epithelial Na+ absorption produces cystic fibrosis like lung disease in mice” Nature Medicine  10, 487 - 493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glia et al. “The risk of cancer among patients with cystic fibrosis” N Engl J Med 332:494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anger, Gardner “Toward cystic fibrosis gene therapy” Ann Rev Med 48:203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allis “Diagnosing cystic fibrosis:blood, sweat and tears” Arch Dis Child 76:85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vis “Cystic fibrosis from bench to bedside” N Engl J Med 325:757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brosicisticatoscana.o</a:t>
            </a:r>
            <a:r>
              <a:rPr b="0" lang="it-IT" sz="2800" spc="-1" strike="noStrike" u="sng">
                <a:solidFill>
                  <a:srgbClr val="99cc00"/>
                </a:solidFill>
                <a:uFillTx/>
                <a:latin typeface="Arial"/>
              </a:rPr>
              <a:t>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aboratoriogenom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brosicistic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24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OSI CIST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OVISCID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4149720"/>
            <a:ext cx="486000" cy="1079640"/>
          </a:xfrm>
          <a:prstGeom prst="downArrow">
            <a:avLst>
              <a:gd name="adj1" fmla="val 50000"/>
              <a:gd name="adj2" fmla="val 555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997360"/>
            <a:ext cx="83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ttia ereditaria, cronica ed evolutiva che colpisce indistintamente maschi e femmine, caratterizzata da un’anomalia nella regolazione del trasporto di elettroliti nelle cellule epiteliali che costituiscono le ghiandole esoc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805360"/>
            <a:ext cx="8353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zioni (muco, sudore, saliva, sperma e succhi gastrici) dense e vis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122400"/>
            <a:ext cx="7553520" cy="66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FT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REGOLATORE TRANSMEMBRANA della FIBROSI CIS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417920" cy="502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000" y="963720"/>
            <a:ext cx="4184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trasportatore Na/K/2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298840" y="4448160"/>
            <a:ext cx="1238040" cy="1780200"/>
            <a:chOff x="5298840" y="4448160"/>
            <a:chExt cx="1238040" cy="1780200"/>
          </a:xfrm>
        </p:grpSpPr>
        <p:sp>
          <p:nvSpPr>
            <p:cNvPr id="61" name=""/>
            <p:cNvSpPr/>
            <p:nvPr/>
          </p:nvSpPr>
          <p:spPr>
            <a:xfrm>
              <a:off x="5562720" y="4800600"/>
              <a:ext cx="761760" cy="533520"/>
            </a:xfrm>
            <a:prstGeom prst="star5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1240" y="4448160"/>
              <a:ext cx="0" cy="1274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298840" y="4675320"/>
              <a:ext cx="1238040" cy="1553040"/>
              <a:chOff x="5298840" y="4675320"/>
              <a:chExt cx="1238040" cy="1553040"/>
            </a:xfrm>
          </p:grpSpPr>
          <p:sp>
            <p:nvSpPr>
              <p:cNvPr id="64" name=""/>
              <p:cNvSpPr/>
              <p:nvPr/>
            </p:nvSpPr>
            <p:spPr>
              <a:xfrm>
                <a:off x="5745240" y="4675320"/>
                <a:ext cx="0" cy="9000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78680" y="4675320"/>
                <a:ext cx="0" cy="90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33360" y="5830920"/>
                <a:ext cx="597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GB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95880" y="5529240"/>
                <a:ext cx="44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GB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98840" y="5529240"/>
                <a:ext cx="686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2 Cl</a:t>
                </a:r>
                <a:r>
                  <a:rPr b="0" lang="en-GB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5346720" y="3936960"/>
            <a:ext cx="1359000" cy="425520"/>
            <a:chOff x="5346720" y="3936960"/>
            <a:chExt cx="1359000" cy="425520"/>
          </a:xfrm>
        </p:grpSpPr>
        <p:sp>
          <p:nvSpPr>
            <p:cNvPr id="70" name=""/>
            <p:cNvSpPr/>
            <p:nvPr/>
          </p:nvSpPr>
          <p:spPr>
            <a:xfrm>
              <a:off x="5367240" y="3954600"/>
              <a:ext cx="1338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Alta [Cl</a:t>
              </a:r>
              <a:r>
                <a:rPr b="0" lang="en-GB" sz="2000" spc="-1" strike="noStrike" baseline="30000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46720" y="3936960"/>
              <a:ext cx="1193760" cy="4255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50920" y="2276640"/>
            <a:ext cx="4105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ali del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solaterali mantengono il pot. di membrana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84840" y="4449600"/>
            <a:ext cx="289080" cy="1051200"/>
            <a:chOff x="6684840" y="4449600"/>
            <a:chExt cx="289080" cy="1051200"/>
          </a:xfrm>
        </p:grpSpPr>
        <p:sp>
          <p:nvSpPr>
            <p:cNvPr id="74" name=""/>
            <p:cNvSpPr/>
            <p:nvPr/>
          </p:nvSpPr>
          <p:spPr>
            <a:xfrm>
              <a:off x="6691320" y="4981680"/>
              <a:ext cx="276120" cy="21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84840" y="4900680"/>
              <a:ext cx="0" cy="374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3920" y="4900680"/>
              <a:ext cx="0" cy="374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829560" y="4449600"/>
              <a:ext cx="0" cy="10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29320" y="3803760"/>
            <a:ext cx="1610280" cy="773640"/>
            <a:chOff x="6529320" y="3803760"/>
            <a:chExt cx="1610280" cy="773640"/>
          </a:xfrm>
        </p:grpSpPr>
        <p:sp>
          <p:nvSpPr>
            <p:cNvPr id="79" name=""/>
            <p:cNvSpPr/>
            <p:nvPr/>
          </p:nvSpPr>
          <p:spPr>
            <a:xfrm>
              <a:off x="7059600" y="3936960"/>
              <a:ext cx="407880" cy="3492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2280" y="4299120"/>
              <a:ext cx="5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973920" y="3924000"/>
              <a:ext cx="65088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41640" y="3803760"/>
              <a:ext cx="59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29320" y="4179960"/>
              <a:ext cx="44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50920" y="3500280"/>
            <a:ext cx="4249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FTR (apicale) pemette la perdita di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515920" y="1552680"/>
            <a:ext cx="916920" cy="2048400"/>
            <a:chOff x="5515920" y="1552680"/>
            <a:chExt cx="916920" cy="2048400"/>
          </a:xfrm>
        </p:grpSpPr>
        <p:sp>
          <p:nvSpPr>
            <p:cNvPr id="86" name=""/>
            <p:cNvSpPr/>
            <p:nvPr/>
          </p:nvSpPr>
          <p:spPr>
            <a:xfrm>
              <a:off x="5584680" y="3203640"/>
              <a:ext cx="84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c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515920" y="1552680"/>
              <a:ext cx="716040" cy="1697040"/>
              <a:chOff x="5515920" y="1552680"/>
              <a:chExt cx="716040" cy="1697040"/>
            </a:xfrm>
          </p:grpSpPr>
          <p:sp>
            <p:nvSpPr>
              <p:cNvPr id="88" name=""/>
              <p:cNvSpPr/>
              <p:nvPr/>
            </p:nvSpPr>
            <p:spPr>
              <a:xfrm>
                <a:off x="5515920" y="1552680"/>
                <a:ext cx="474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2000" spc="-1" strike="noStrike">
                    <a:solidFill>
                      <a:srgbClr val="333399"/>
                    </a:solidFill>
                    <a:latin typeface="Arial"/>
                  </a:rPr>
                  <a:t>Cl</a:t>
                </a:r>
                <a:r>
                  <a:rPr b="0" lang="en-GB" sz="2000" spc="-1" strike="noStrike" baseline="30000">
                    <a:solidFill>
                      <a:srgbClr val="333399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07000" y="2354400"/>
                <a:ext cx="276120" cy="21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00880" y="2273400"/>
                <a:ext cx="0" cy="37620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89600" y="2273400"/>
                <a:ext cx="0" cy="37620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45240" y="1972800"/>
                <a:ext cx="0" cy="82548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89600" y="2724120"/>
                <a:ext cx="71640" cy="52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73040" y="2633760"/>
                <a:ext cx="358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250920" y="4581360"/>
            <a:ext cx="43290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gue paracellula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14360" y="2152800"/>
            <a:ext cx="595080" cy="1245960"/>
            <a:chOff x="7614360" y="2152800"/>
            <a:chExt cx="595080" cy="1245960"/>
          </a:xfrm>
        </p:grpSpPr>
        <p:sp>
          <p:nvSpPr>
            <p:cNvPr id="97" name=""/>
            <p:cNvSpPr/>
            <p:nvPr/>
          </p:nvSpPr>
          <p:spPr>
            <a:xfrm flipH="1">
              <a:off x="7768800" y="2424240"/>
              <a:ext cx="144360" cy="9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14360" y="2152800"/>
              <a:ext cx="595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0920" y="5734080"/>
            <a:ext cx="43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qua abbandona per osm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14880" y="1565280"/>
            <a:ext cx="1371600" cy="1295280"/>
            <a:chOff x="6014880" y="1565280"/>
            <a:chExt cx="1371600" cy="1295280"/>
          </a:xfrm>
        </p:grpSpPr>
        <p:sp>
          <p:nvSpPr>
            <p:cNvPr id="101" name=""/>
            <p:cNvSpPr/>
            <p:nvPr/>
          </p:nvSpPr>
          <p:spPr>
            <a:xfrm>
              <a:off x="6014880" y="1565280"/>
              <a:ext cx="1371600" cy="1295280"/>
            </a:xfrm>
            <a:prstGeom prst="upArrow">
              <a:avLst>
                <a:gd name="adj1" fmla="val 50000"/>
                <a:gd name="adj2" fmla="val 49995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89280" y="1778040"/>
              <a:ext cx="741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758640" y="6046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A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63040" y="1116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060640"/>
            <a:ext cx="934920" cy="9367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64000" y="2060640"/>
            <a:ext cx="648000" cy="9367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557360"/>
            <a:ext cx="4105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menta [Cl]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55736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ttia genetica AUTOSOMICA RECES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0800000">
            <a:off x="684000" y="3212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a degli affetti (omozigoti): circa 1 su 2700 nati v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72428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a dei portatori sani (eterozigoti): circa 1 ogni 20-25 individui s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021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16360" y="333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021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TRAMBI I GENITORI PORTATORI S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021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 SOLO GENITORE PORTATORE S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241800" cy="602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836640"/>
            <a:ext cx="4679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rato geni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iandole sudori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83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OMAT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62864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POL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osse persistente con espettorato viscoso e purul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onch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onchiect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oncopolmon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oncopneumop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ezioni polmonar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Staphylococcus aureu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seadomonas aerugino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88000" y="0"/>
            <a:ext cx="2305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TOMAT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741800">
            <a:off x="-1800" y="-97920"/>
            <a:ext cx="60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68280"/>
            <a:ext cx="8675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378000" tIns="370800" bIns="37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za pancre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tami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zione assorbimento dei grassi e delle  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97360"/>
            <a:ext cx="882000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0" rIns="378000" tIns="370800" bIns="37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eo da meconio (ostruzione intestinale durante le prime 24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70640" y="0"/>
            <a:ext cx="2673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826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TOMAT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PPARATO GENI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izio ritardato della pubertà (per i problemi respiratori ed il malassorbimento degli alime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ertilità femminile per le alterazioni del muco cervi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ertilità maschile ed azoospermia (colpisce il 95% dei masch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Apparato genitali masch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2280" y="0"/>
            <a:ext cx="1971720" cy="19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pparato genitali femmini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971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24:24Z</dcterms:created>
  <dc:creator>-</dc:creator>
  <dc:description/>
  <dc:language>en-US</dc:language>
  <cp:lastModifiedBy>-</cp:lastModifiedBy>
  <dcterms:modified xsi:type="dcterms:W3CDTF">2005-05-15T07:29:20Z</dcterms:modified>
  <cp:revision>24</cp:revision>
  <dc:subject/>
  <dc:title>FIBROSI CISTICA definizione</dc:title>
</cp:coreProperties>
</file>