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8B0E-37F4-431E-BB73-CB1A54ED50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nfociti normali: da 4000 a 13000 per microli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226-789B-44DA-AA1E-46E0BE78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0D1-789A-4DE7-8727-BDF77FC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EFB-1788-40E0-999B-ACFF2FD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4FA-2CA0-4BCB-83B5-2330BB87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D93-8686-4850-9B51-5662310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192-7FCD-4D8E-861B-5DCAECD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E9E-615D-4DE3-93CD-3A68AF3F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901-408B-4234-9BC9-16B57CBA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56A-AF5F-4AFA-B3DC-EBA08353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B06-862C-41B8-B663-BC083F3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053-868D-408F-AB6F-10A338F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71A-915C-472B-A8F7-E5C3BE43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466-705F-4303-9CA3-F7B040D0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50000">
              <a:srgbClr val="003366"/>
            </a:gs>
            <a:gs pos="100000">
              <a:srgbClr val="001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DA - SC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Severe Combined Immunodeficiency Dese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DOVUTO A DEFICIT DI 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5000"/>
            <a:ext cx="87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omalie scheletriche, sviluppo ritard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voluzione timica con corpuscoli di Hassall ed epitelio germinale indifferenzi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-SCID - Quadro clinico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664000" cy="188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37440" y="3349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poptosi timoc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53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patosplenomegalia, epat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omalie ematologiche ed endocrinop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ormalità neurologiche, difetti comportamentali, abbassamento Q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iesacerbazioni di virus herpetici e tubercolosi da vacci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3311640" cy="165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2226960" cy="1486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51280" y="529416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licogeno nel fegato ingros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321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nvoluzione t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60" y="907920"/>
            <a:ext cx="9144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68-1971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ratterizzato enzima ADA e sue isoforme tissu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DA usato come marker polimorfico insieme ad altri enzimi eritrocitari (pattern EF di RBC-ADA variano in modo polimorfico tra le popolazioni, a seconda delle combinazioni delle 2 varienti alleliche ADA1 e ADA2  eredi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4321080" cy="276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92720" y="3892680"/>
            <a:ext cx="2952720" cy="248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92720" y="6375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stI RF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2360" y="6165720"/>
            <a:ext cx="38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limorfismo prot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4076640"/>
            <a:ext cx="12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  11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90792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972: In 2 pazienti con SCID trovata asssenza di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 genitori dei 2 bambini hanno quantità di ADA dime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5300640"/>
            <a:ext cx="73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l 20% dei pazienti SCID avevano deficit di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pita l’ereditarietà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 ipotizza che causa di SCID sia un’alterazione enzimatica di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429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73: Screening di numerosi pazienti SCID e delle loro famiglie: 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Valutata la quantità di ADA-R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437000"/>
            <a:ext cx="1295280" cy="16560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60360" y="83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SEMPIO DI ANALISI DI UN ALBERO GENEA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90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2091600">
            <a:off x="4613040" y="5589720"/>
            <a:ext cx="318960" cy="1052280"/>
          </a:xfrm>
          <a:prstGeom prst="upArrow">
            <a:avLst>
              <a:gd name="adj1" fmla="val 50000"/>
              <a:gd name="adj2" fmla="val 824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360" y="83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ESEMPIO DI ANALISI DI UN ALBERO GENEA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413000"/>
            <a:ext cx="864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ggetti con dosaggio ADA-RBC dimezzato : ETEROZIGOTI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 3 GENERAZIO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05000"/>
            <a:ext cx="88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tesso risultato in altri alberi genelog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70828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50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DA-SCID eredità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5157720"/>
            <a:ext cx="864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ggetti ADA-SCID analizzati anche in altri tessuti: ugualmente deficitari per 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Hp: isoforme tissutali codificate TUTTE dallo stesso gen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1 locus genico responsabile di ADA-S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4437000"/>
            <a:ext cx="287280" cy="720720"/>
          </a:xfrm>
          <a:prstGeom prst="upArrow">
            <a:avLst>
              <a:gd name="adj1" fmla="val 50000"/>
              <a:gd name="adj2" fmla="val 6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907920"/>
            <a:ext cx="856908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975: Analisi più approfondite degli isoz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Quale ruolo in ADA-SC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l deficit di tutte le isoforme di ADA in ADA-SCID implica che l’unità catalitica sia comune a tutti i tipi di ADA  e che sia codificata da un solo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MOSRTATO SPERIMENT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STUDIO: incubazione RBC-ADA con estratti ti fegato, rene, fibroblasti ADA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onversione di ADA-RBC in differenti isozimi tissu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45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sozimi generati dall’interazione dell’unità catalitica degli RBC con fattori tissutali specifici, ciò varia la mobilità EF e il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 polimorfismi genetici mostrati dall’ADA-RBC presenti anche negli altri isozimi di un 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L’attività catalitica di tutti i tipi di ADA risiede in 1 singola molecola, codif da 1 gene alterato in ADA-S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1788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53341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052640"/>
            <a:ext cx="828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77: Purificata ADA da diversi tessuti e Scoperte le ADAPC 1 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 alcuni tessuti le ADACP legano la forma “small”-RBC di ADA e danno la forma “lar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537080" cy="301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2708280"/>
            <a:ext cx="25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bbe0e3"/>
                </a:solidFill>
                <a:latin typeface="Comic Sans MS"/>
              </a:rPr>
              <a:t>Complexing Protein estratte dal 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bbe0e3"/>
                </a:solidFill>
                <a:latin typeface="Comic Sans MS"/>
              </a:rPr>
              <a:t>(in q.tà cresc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RBC-ADA (3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16360" y="3500280"/>
            <a:ext cx="1871640" cy="93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4176720" cy="2205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765000"/>
            <a:ext cx="849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ni ’8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versi lavori dimostrno con la tecnica degli ibridi somatici che il gene codificante l’enzima ADA mappa sul chr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16864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appati anche i geni codificanti ADCP 1 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356000" cy="2547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227640" y="3860640"/>
            <a:ext cx="1440000" cy="1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4005360"/>
            <a:ext cx="1440000" cy="431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765000"/>
            <a:ext cx="8496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ni ’8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Ma il deficit ADA-SCID dipende solo da una mutazione del locus sul crh 20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842080" y="1989000"/>
            <a:ext cx="3301920" cy="3972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713040" y="1989000"/>
            <a:ext cx="2082960" cy="3745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9280" y="2421000"/>
            <a:ext cx="1584360" cy="10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429000"/>
            <a:ext cx="129672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35733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ouse RAG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565360"/>
            <a:ext cx="136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A-SCID human fibrob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1989000"/>
            <a:ext cx="1008000" cy="4320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056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B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573408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530064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75640" y="5157720"/>
            <a:ext cx="395280" cy="216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75640" y="5589720"/>
            <a:ext cx="395280" cy="215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4920" y="5445000"/>
            <a:ext cx="3708360" cy="130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95640" y="6165720"/>
            <a:ext cx="504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933720"/>
            <a:ext cx="576000" cy="1295640"/>
          </a:xfrm>
          <a:custGeom>
            <a:avLst/>
            <a:gdLst>
              <a:gd name="textAreaLeft" fmla="*/ 77040 w 576000"/>
              <a:gd name="textAreaRight" fmla="*/ 498960 w 5760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178200">
            <a:off x="2087640" y="2168280"/>
            <a:ext cx="1295280" cy="6480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CID –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052640"/>
            <a:ext cx="874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mmunodeficienze pri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on alterazione combinata dei linfociti B 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clinico comune caratterizzato da infezioni ricor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ono le più gravi Immunodeficienze Primarie che, se non curate, portano a morte nei primi 2 anni di vi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tunatamente sono rare: frequenza 1/1’000’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ausata da un insieme eterogeneo di deficit gen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reditarietà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X-linked R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36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83: Clonato il cDNA del gene ADA tramite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LONAGGIO 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fermata la localizzazione del gene sul chr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2197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LONAGGIO FUNZION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24526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solamento e purificazione dell’enzima ADA da eritrociti di soggetto s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equenziamento aminoaci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dentificazione di una seq peptidica idonea per creare s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6337440" cy="163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00360" y="5408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64 potenziali m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08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ix di 64 oligont (17-m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5481720"/>
            <a:ext cx="792000" cy="215640"/>
          </a:xfrm>
          <a:prstGeom prst="rightArrow">
            <a:avLst>
              <a:gd name="adj1" fmla="val 50000"/>
              <a:gd name="adj2" fmla="val 918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9612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4) Screening di una library di cDNA  di linf T u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54021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eptide CN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5481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1916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ec37"/>
                </a:solidFill>
                <a:latin typeface="Arial"/>
              </a:rPr>
              <a:t>Stuart Orkin, 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94932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loni positivi digeriti e clone con dimensioni maggiori (0.8 kb) sequenz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229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rovato cDNA codificante ADA, clone design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ec37"/>
                </a:solidFill>
                <a:latin typeface="Comic Sans MS"/>
              </a:rPr>
              <a:t>phADA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4221000"/>
            <a:ext cx="503280" cy="936720"/>
          </a:xfrm>
          <a:prstGeom prst="downArrow">
            <a:avLst>
              <a:gd name="adj1" fmla="val 50000"/>
              <a:gd name="adj2" fmla="val 46531"/>
            </a:avLst>
          </a:prstGeom>
          <a:solidFill>
            <a:srgbClr val="ffec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314172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rovati alt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99"/>
                </a:solidFill>
                <a:latin typeface="Comic Sans MS"/>
              </a:rPr>
              <a:t>16 peptid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ottenuti dal sequenziamento della proteina 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28276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rovata la regione complementare alla sonda, codifican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ec37"/>
                </a:solidFill>
                <a:latin typeface="Comic Sans MS"/>
              </a:rPr>
              <a:t>CNB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78240" y="189000"/>
            <a:ext cx="4865760" cy="6669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00720" y="4724280"/>
            <a:ext cx="1871640" cy="433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844640"/>
            <a:ext cx="129564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5080" y="1844640"/>
            <a:ext cx="237492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276640"/>
            <a:ext cx="136656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276640"/>
            <a:ext cx="187344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0720" y="2708280"/>
            <a:ext cx="244764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3139920"/>
            <a:ext cx="158436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1052640"/>
            <a:ext cx="2950920" cy="431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3933720"/>
            <a:ext cx="2158920" cy="3589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620640"/>
            <a:ext cx="208728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59640" y="620640"/>
            <a:ext cx="158436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189000"/>
            <a:ext cx="144000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4292640"/>
            <a:ext cx="295272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3500280"/>
            <a:ext cx="649080" cy="4334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2720" y="2276640"/>
            <a:ext cx="28728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5157720"/>
            <a:ext cx="2087280" cy="432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5661000"/>
            <a:ext cx="3816360" cy="2890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28000" y="4365720"/>
            <a:ext cx="86508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32720" y="4797360"/>
            <a:ext cx="28908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5080" y="4724280"/>
            <a:ext cx="2014560" cy="432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278240" y="216000"/>
            <a:ext cx="4865760" cy="6669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164360" y="587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e110c"/>
                </a:solidFill>
                <a:latin typeface="Arial"/>
              </a:rPr>
              <a:t>Pst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80360" y="5734080"/>
            <a:ext cx="144360" cy="217440"/>
          </a:xfrm>
          <a:prstGeom prst="upArrow">
            <a:avLst>
              <a:gd name="adj1" fmla="val 50000"/>
              <a:gd name="adj2" fmla="val 376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48000" y="189000"/>
            <a:ext cx="493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84720" y="188640"/>
            <a:ext cx="0" cy="5832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9144000" y="189000"/>
            <a:ext cx="0" cy="540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6021360"/>
            <a:ext cx="2808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51640" y="5589720"/>
            <a:ext cx="169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90792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5) Clone digerito PstI e frammento di 0.65 kb di clone phADA1 usato come sonda su DNA genomico umano di 4 individui digeriti con diversi enz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920" y="3338640"/>
            <a:ext cx="3889440" cy="3259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50920" y="27162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Southern Blot x individuare seq ADA um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860640"/>
            <a:ext cx="647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4006800"/>
            <a:ext cx="48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Frammento di 18 kb purificato e clonato in fago Charon 4 per realizzare la caratterizzazione molec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739800"/>
            <a:ext cx="4392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6) Frammento di cDNA di 0.65 kb usato come sonda x investigare la localizzazione cromoso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NA ibridi uomo-hamster digeriti con EcorI, elettroforesi, ibridati con s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907920"/>
            <a:ext cx="338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lo gli ibridi contenenti chr 20 risultano positivi alla banda di 18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ec37"/>
                </a:solidFill>
                <a:latin typeface="Comic Sans MS"/>
              </a:rPr>
              <a:t>CONFERMATO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268280"/>
            <a:ext cx="1296720" cy="433440"/>
          </a:xfrm>
          <a:prstGeom prst="rightArrow">
            <a:avLst>
              <a:gd name="adj1" fmla="val 50000"/>
              <a:gd name="adj2" fmla="val 74792"/>
            </a:avLst>
          </a:prstGeom>
          <a:solidFill>
            <a:srgbClr val="ffec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4176720" cy="4167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564000" y="255744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249228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B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924280"/>
            <a:ext cx="503280" cy="360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2924280"/>
            <a:ext cx="503280" cy="360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9440" y="2924280"/>
            <a:ext cx="503280" cy="360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836640"/>
            <a:ext cx="896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84 – Isolamento de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ec37"/>
                </a:solidFill>
                <a:latin typeface="Comic Sans MS"/>
              </a:rPr>
              <a:t>cDNA full lenght (16 kb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 ADA da una library di cDNA costruita da T-linfoblasti um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Conferm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bridazione clone cDNA con mRNA tot di linf T, eluizione RNA legato, traduzione in vitro, immunoprecipitazione con antisiero anti-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321080" cy="3365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148360" y="3645000"/>
            <a:ext cx="367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quenza analizzata, trovato un ORF capace di codificare una proteina di 40k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 esperimenti di trasferimento genico in topi visto che tale seq codifica x ADA u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836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85: Caratterizzazione del gene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769080" cy="2044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24000" y="3730680"/>
            <a:ext cx="6553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89 – Ibridazione ad alta risoluzione co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S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mapp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c37"/>
                </a:solidFill>
                <a:latin typeface="Comic Sans MS"/>
              </a:rPr>
              <a:t>ADA in 20q12-q13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24720" y="2206800"/>
            <a:ext cx="1297080" cy="4535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732720" y="5084640"/>
            <a:ext cx="718920" cy="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47941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52360" y="62064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986 –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ec37"/>
                </a:solidFill>
                <a:latin typeface="Comic Sans MS"/>
              </a:rPr>
              <a:t>Ricerca di mutazioni in soggetti ADA-S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isolamento RNA dai pazient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rodotto cDNA e sequenziat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tudiati effetti delle mutazioni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Clon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4920" y="2143080"/>
            <a:ext cx="5905440" cy="4740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154560" y="4941720"/>
            <a:ext cx="2665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teina instabile o non fun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27640" y="3284640"/>
            <a:ext cx="2521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Alterano siti di splicing o la struttura intro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2205000"/>
            <a:ext cx="291636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Delezioni (trovata delezione che elimina il promotore e la prot non si espr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4292640"/>
            <a:ext cx="431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284640"/>
            <a:ext cx="431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637000"/>
            <a:ext cx="431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Modello an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944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86-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lonato gene ada murino sul ch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897360" cy="3959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219640" y="4869000"/>
            <a:ext cx="3924360" cy="461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219640" y="3860640"/>
            <a:ext cx="720720" cy="2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3640" y="2708280"/>
            <a:ext cx="158436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551664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999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Creato topo Ada -/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DA-deficient mice generated using a two-stage genetic engineering strategy exhibit a combined immunodeficiency” J.Biol. C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Strategie terapeu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4365720"/>
            <a:ext cx="83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ec3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rapianto del midollo oss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ercentuale di sopravvivenza 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c3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placement PEG-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ec3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erapia genica: primo tentativo nel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991120" y="333360"/>
            <a:ext cx="3152880" cy="3854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95280" y="1052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nni ’80: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“Bubble bo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430360" y="1557360"/>
            <a:ext cx="31496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1036800"/>
            <a:ext cx="889308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iblett et 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Detection of the carrier state in combined immunodeficiency disease associated with adenosie deaminase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he Journal of Clin Investigation Volume 53 April 19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R. Hirschho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Conversion of Human Erythrocyte-Adenosine Deaminase activity to different tissue-specific Isoz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he Journal of Clin Investigation Volume 55 March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Schrader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Purification and Subunit structure of adenosine deaminsae from human kid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he Journal of Clin Investigation Vol. 252, No. 18, September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Daddona and Kel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Human Adenosine deaminase binding pro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he Journal of Clin Investigation Vol. 253, No.13,  July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Berkvens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Adenosine deaminase gene exspression is regulated posttrascriotionally in the nucl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ucleic Acid Research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60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CID – Le 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12536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me differenti di SCID derivano da deficit genetici diff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205000"/>
            <a:ext cx="83008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eni alter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eni per recettori delle 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(IL R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γ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IL 7R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α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rasduttori del segnale                                                  (Jak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attori di trascri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(Rag1,Rag2,Artemis,CD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nzimi (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AD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, Cd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41760" y="3429000"/>
            <a:ext cx="46022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60360" y="765000"/>
            <a:ext cx="8783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. Koch and T.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Somatic cell genetics of adenosine deaminase exspression and severe combined immunodeficiency disease in hu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Genetics, Vol. 77, No. 7, July 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Stuart H. orkin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Molecular cloning of human adenosine deaminase gene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The Journal of Biol. Chemistry, Vol 258, November 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D. A. Wiginton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Cloning of cDNA sequences of human adenosine deami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Biochemistry, Vol. 80, December 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Valerio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ADA deficiency in cells derived from humans with sever combined immunodeficiency is do to an aberration of ADA pro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Nucleic Acid Research, 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A. Akeson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Mutation in the human adenosine deaminase gene that affect protein structure and RNA sp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edical Science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DA - S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68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ec37"/>
                </a:solidFill>
                <a:latin typeface="Comic Sans MS"/>
              </a:rPr>
              <a:t>Malattia AR causata da mutazioni nel </a:t>
            </a:r>
            <a:r>
              <a:rPr b="1" lang="it-IT" sz="2400" spc="-1" strike="noStrike">
                <a:solidFill>
                  <a:srgbClr val="ffec37"/>
                </a:solidFill>
                <a:latin typeface="Comic Sans MS"/>
              </a:rPr>
              <a:t>gene ada</a:t>
            </a:r>
            <a:r>
              <a:rPr b="0" lang="it-IT" sz="2400" spc="-1" strike="noStrike">
                <a:solidFill>
                  <a:srgbClr val="ffec37"/>
                </a:solidFill>
                <a:latin typeface="Comic Sans MS"/>
              </a:rPr>
              <a:t> (20q12-13.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4005360"/>
            <a:ext cx="107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Basi molecolari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124520" cy="453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1027080"/>
            <a:ext cx="4464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ENZIMA Adenosina Deamin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Zn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08464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nzima ubiquitario,                                                                                              ma con particolare pattern d’espressione in diversi tessuti: molto espresso in timociti corticali, ma decresce in timociti midol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492280"/>
            <a:ext cx="43923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ue isoform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ADA1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Monomero di 40KD con attività catalitica, in molti tessuti complessato con proteina 200K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ADA2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onomero più largo di 110KD, responsabile della deaminazione nel siero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400" y="6237360"/>
            <a:ext cx="88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unzione: deaminazione di Ado e di dAdo nel catabolismo delle p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05440" cy="531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Basi molecolari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400" y="6237360"/>
            <a:ext cx="88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unzione: deaminazione di Ado e di dAdo nel catabolismo delle p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5661000"/>
            <a:ext cx="1727280" cy="289080"/>
          </a:xfrm>
          <a:prstGeom prst="rect">
            <a:avLst/>
          </a:prstGeom>
          <a:noFill/>
          <a:ln w="349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5589720"/>
            <a:ext cx="1727280" cy="288720"/>
          </a:xfrm>
          <a:prstGeom prst="rect">
            <a:avLst/>
          </a:prstGeom>
          <a:noFill/>
          <a:ln w="349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2276640"/>
            <a:ext cx="720720" cy="288720"/>
          </a:xfrm>
          <a:prstGeom prst="rect">
            <a:avLst/>
          </a:prstGeom>
          <a:noFill/>
          <a:ln w="349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2781360"/>
            <a:ext cx="93672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Basi molecolari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44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UNZIONE ALTERATA O ASSENZA DI 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844640"/>
            <a:ext cx="93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0560" y="2924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7912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eossi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513240"/>
            <a:ext cx="187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eossi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1773360"/>
            <a:ext cx="1368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XP                 (nt purin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3716280"/>
            <a:ext cx="1152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doH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2920" y="5284800"/>
            <a:ext cx="108108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17794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TESI PIRIMI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43640" y="36450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ETI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5092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 REDUTT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NA N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62434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DUZIONE             VITALITA’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2663640" y="3105000"/>
            <a:ext cx="1512720" cy="187164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552" y="1975"/>
                </a:lnTo>
                <a:lnTo>
                  <a:pt x="13509" y="1975"/>
                </a:lnTo>
                <a:lnTo>
                  <a:pt x="13509" y="8091"/>
                </a:lnTo>
                <a:lnTo>
                  <a:pt x="19625" y="8091"/>
                </a:lnTo>
                <a:lnTo>
                  <a:pt x="19625" y="7048"/>
                </a:lnTo>
                <a:lnTo>
                  <a:pt x="21600" y="10800"/>
                </a:lnTo>
                <a:lnTo>
                  <a:pt x="19625" y="14552"/>
                </a:lnTo>
                <a:lnTo>
                  <a:pt x="19625" y="13509"/>
                </a:lnTo>
                <a:lnTo>
                  <a:pt x="1975" y="13509"/>
                </a:lnTo>
                <a:lnTo>
                  <a:pt x="1975" y="14552"/>
                </a:lnTo>
                <a:lnTo>
                  <a:pt x="0" y="10800"/>
                </a:lnTo>
                <a:lnTo>
                  <a:pt x="1975" y="7048"/>
                </a:lnTo>
                <a:lnTo>
                  <a:pt x="1975" y="8091"/>
                </a:lnTo>
                <a:lnTo>
                  <a:pt x="8091" y="8091"/>
                </a:lnTo>
                <a:lnTo>
                  <a:pt x="8091" y="1975"/>
                </a:lnTo>
                <a:lnTo>
                  <a:pt x="7048" y="197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27664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822200" y="3322440"/>
            <a:ext cx="216000" cy="1149480"/>
          </a:xfrm>
          <a:prstGeom prst="upArrow">
            <a:avLst>
              <a:gd name="adj1" fmla="val 45556"/>
              <a:gd name="adj2" fmla="val 11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227200">
            <a:off x="4902120" y="2363760"/>
            <a:ext cx="187560" cy="806400"/>
          </a:xfrm>
          <a:prstGeom prst="upArrow">
            <a:avLst>
              <a:gd name="adj1" fmla="val 50000"/>
              <a:gd name="adj2" fmla="val 10748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7853000">
            <a:off x="5183280" y="4832280"/>
            <a:ext cx="287280" cy="649080"/>
          </a:xfrm>
          <a:prstGeom prst="upArrow">
            <a:avLst>
              <a:gd name="adj1" fmla="val 50000"/>
              <a:gd name="adj2" fmla="val 56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8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24360" y="5805360"/>
            <a:ext cx="216000" cy="43200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5589720"/>
            <a:ext cx="574560" cy="43164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5373720"/>
            <a:ext cx="79056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3860640"/>
            <a:ext cx="5032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2060640"/>
            <a:ext cx="4316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PT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43280" y="5589720"/>
            <a:ext cx="865440" cy="36036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1280" y="5229360"/>
            <a:ext cx="28908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91280" y="5229360"/>
            <a:ext cx="21600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6920" y="3716280"/>
            <a:ext cx="28908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946920" y="3715920"/>
            <a:ext cx="21600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916280"/>
            <a:ext cx="28872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93080" y="1916280"/>
            <a:ext cx="21564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 – Basi molecolari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944640"/>
            <a:ext cx="84247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FUNZIONE ALTERATA O ASSENZA DI AD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Particolari danni a carico dei linf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203560"/>
            <a:ext cx="820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poptosi linf T  (x eccessso purine)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anche neu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be0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ancata maturazione linf T nel timo (x alterata ricombinazione VJ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3736800"/>
            <a:ext cx="39607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89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DA-SCID - Quadro clinico della malat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909720"/>
            <a:ext cx="889308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fezioni ricorrenti e/o Infezioni cron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ec3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infopenia marcata (fino a meno di 1000 cell/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μ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) e agammaglobulin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ec3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genti microbici inusuali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andida albicans, Pseudomonas, gram-negative species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neumocystis, Streptococcus, and Staphylococcus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00" y="5013360"/>
            <a:ext cx="66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completa risoluzione tra gli episodi infettivi o scarsa risp alla 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esioni cutanee (eczema, candidosi, rash, seborrea, alopecia, verru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2808000" cy="18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458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nterociti attaccati da E.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874960" cy="1967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03640" y="465300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Villi intestinali attaccati da E.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48680" y="4941720"/>
            <a:ext cx="1795320" cy="1916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638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15:07Z</dcterms:created>
  <dc:creator>pc1</dc:creator>
  <dc:description/>
  <dc:language>en-US</dc:language>
  <cp:lastModifiedBy>pc1</cp:lastModifiedBy>
  <dcterms:modified xsi:type="dcterms:W3CDTF">2005-05-11T12:41:00Z</dcterms:modified>
  <cp:revision>29</cp:revision>
  <dc:subject/>
  <dc:title>ADA - SCID</dc:title>
</cp:coreProperties>
</file>