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2F94-E9B5-47E4-9701-B5E124CD3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70FC-60DD-41B5-A492-1F98B2EE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728F-6184-47F1-9E47-47E5789D1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B2A8-FD23-4A12-B735-AD0658438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7585-C84F-4BFC-B7F7-E5E883E3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6133-4050-4440-A105-DD387982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03DF-FFE6-4320-B5C5-8680CC6F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E3BA-11D4-4D3F-8181-5B41ED6F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DAFD-407B-427B-9D1A-04052339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B2FB-9FFD-4F93-93C1-A0106AEB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0601-F920-4D2E-9496-A96DD26F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DD9B-DAF1-4631-A89E-213F6507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1d75"/>
            </a:gs>
            <a:gs pos="50000">
              <a:srgbClr val="3333cc"/>
            </a:gs>
            <a:gs pos="100000">
              <a:srgbClr val="1d1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5621-2BDC-444F-B1AB-984341791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1d75"/>
            </a:gs>
            <a:gs pos="50000">
              <a:srgbClr val="3333cc"/>
            </a:gs>
            <a:gs pos="100000">
              <a:srgbClr val="1d1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6200" y="4994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cc00"/>
                </a:solidFill>
                <a:latin typeface="Times New Roman"/>
              </a:rPr>
              <a:t>Angela Filann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00200" y="2666880"/>
            <a:ext cx="5905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68686"/>
                  </a:outerShdw>
                </a:effectLst>
                <a:latin typeface="Arial Black"/>
              </a:rPr>
              <a:t>GENE  FIBROSI  CISTICA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153753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948440" y="76320"/>
            <a:ext cx="1119240" cy="121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1d75"/>
            </a:gs>
            <a:gs pos="50000">
              <a:srgbClr val="3333cc"/>
            </a:gs>
            <a:gs pos="100000">
              <a:srgbClr val="1d1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"/>
          <p:cNvGrpSpPr/>
          <p:nvPr/>
        </p:nvGrpSpPr>
        <p:grpSpPr>
          <a:xfrm>
            <a:off x="2133720" y="914400"/>
            <a:ext cx="4976640" cy="5692680"/>
            <a:chOff x="2133720" y="914400"/>
            <a:chExt cx="4976640" cy="5692680"/>
          </a:xfrm>
        </p:grpSpPr>
        <p:pic>
          <p:nvPicPr>
            <p:cNvPr id="337" name="Mappag%20FC" descr=""/>
            <p:cNvPicPr/>
            <p:nvPr/>
          </p:nvPicPr>
          <p:blipFill>
            <a:blip r:embed="rId1"/>
            <a:stretch/>
          </p:blipFill>
          <p:spPr>
            <a:xfrm>
              <a:off x="2133720" y="914400"/>
              <a:ext cx="4976640" cy="56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2514600" y="1600200"/>
              <a:ext cx="304920" cy="0"/>
            </a:xfrm>
            <a:prstGeom prst="line">
              <a:avLst/>
            </a:prstGeom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038480" y="6248160"/>
              <a:ext cx="381240" cy="0"/>
            </a:xfrm>
            <a:prstGeom prst="line">
              <a:avLst/>
            </a:prstGeom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867280" y="1447560"/>
              <a:ext cx="30492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438280"/>
              <a:ext cx="304920" cy="0"/>
            </a:xfrm>
            <a:prstGeom prst="line">
              <a:avLst/>
            </a:prstGeom>
            <a:ln w="190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7088040" y="6369120"/>
            <a:ext cx="20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Rommers </a:t>
            </a:r>
            <a:r>
              <a:rPr b="0" i="1" lang="it-IT" sz="1600" spc="-1" strike="noStrike">
                <a:solidFill>
                  <a:srgbClr val="ffffff"/>
                </a:solidFill>
                <a:latin typeface="Times New Roman"/>
              </a:rPr>
              <a:t>et al. (198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8088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IDENTIFICAZIONE  GENE  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1d75"/>
            </a:gs>
            <a:gs pos="50000">
              <a:srgbClr val="3333cc"/>
            </a:gs>
            <a:gs pos="100000">
              <a:srgbClr val="1d1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762120" y="0"/>
            <a:ext cx="396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DELEZION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00600" y="0"/>
            <a:ext cx="1219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4692600" y="304920"/>
            <a:ext cx="1401840" cy="698400"/>
            <a:chOff x="4692600" y="304920"/>
            <a:chExt cx="1401840" cy="698400"/>
          </a:xfrm>
        </p:grpSpPr>
        <p:sp>
          <p:nvSpPr>
            <p:cNvPr id="347" name=""/>
            <p:cNvSpPr/>
            <p:nvPr/>
          </p:nvSpPr>
          <p:spPr>
            <a:xfrm>
              <a:off x="4692600" y="304920"/>
              <a:ext cx="447480" cy="4572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378760" y="482760"/>
              <a:ext cx="71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50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5943600" y="0"/>
            <a:ext cx="2209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IN C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553080" y="3962520"/>
            <a:ext cx="20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Riordan</a:t>
            </a:r>
            <a:r>
              <a:rPr b="0" i="1" lang="it-IT" sz="1600" spc="-1" strike="noStrike">
                <a:solidFill>
                  <a:srgbClr val="ffffff"/>
                </a:solidFill>
                <a:latin typeface="Times New Roman"/>
              </a:rPr>
              <a:t> et al. (198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238880" y="4495680"/>
            <a:ext cx="486000" cy="304920"/>
          </a:xfrm>
          <a:prstGeom prst="downArrow">
            <a:avLst>
              <a:gd name="adj1" fmla="val 49676"/>
              <a:gd name="adj2" fmla="val 5625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503040" y="4876920"/>
            <a:ext cx="210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 70 % de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romosomi 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DEL508" descr=""/>
          <p:cNvPicPr/>
          <p:nvPr/>
        </p:nvPicPr>
        <p:blipFill>
          <a:blip r:embed="rId1"/>
          <a:stretch/>
        </p:blipFill>
        <p:spPr>
          <a:xfrm>
            <a:off x="6405480" y="1676520"/>
            <a:ext cx="2129040" cy="220968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 flipH="1">
            <a:off x="8381520" y="3276720"/>
            <a:ext cx="381240" cy="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del%20508%20FC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5257800" cy="35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1d75"/>
            </a:gs>
            <a:gs pos="50000">
              <a:srgbClr val="3333cc"/>
            </a:gs>
            <a:gs pos="100000">
              <a:srgbClr val="1d1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371600" y="0"/>
            <a:ext cx="6172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3300"/>
                </a:solidFill>
                <a:latin typeface="Times New Roman"/>
              </a:rPr>
              <a:t>CFT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3300"/>
                </a:solidFill>
                <a:latin typeface="Times New Roman"/>
              </a:rPr>
              <a:t>cystic fibrosis transmembrane conductance regulal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CFTR%20domains" descr=""/>
          <p:cNvPicPr/>
          <p:nvPr/>
        </p:nvPicPr>
        <p:blipFill>
          <a:blip r:embed="rId1"/>
          <a:stretch/>
        </p:blipFill>
        <p:spPr>
          <a:xfrm>
            <a:off x="1714680" y="1981080"/>
            <a:ext cx="5600520" cy="390528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2742120" y="6172200"/>
            <a:ext cx="40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iù di 700 mutazioni scope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1d75"/>
            </a:gs>
            <a:gs pos="50000">
              <a:srgbClr val="3333cc"/>
            </a:gs>
            <a:gs pos="100000">
              <a:srgbClr val="1d1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classi%20di%20mutazioni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925040" cy="556236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sp>
        <p:nvSpPr>
          <p:cNvPr id="360" name=""/>
          <p:cNvSpPr/>
          <p:nvPr/>
        </p:nvSpPr>
        <p:spPr>
          <a:xfrm>
            <a:off x="0" y="-152280"/>
            <a:ext cx="9220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5 CLASSI DI MUTAZIONI IN C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914400" y="5867280"/>
            <a:ext cx="838080" cy="3049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562720" y="4267080"/>
            <a:ext cx="761760" cy="304920"/>
          </a:xfrm>
          <a:prstGeom prst="ellipse">
            <a:avLst/>
          </a:prstGeom>
          <a:noFill/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4080" y="3962520"/>
            <a:ext cx="762120" cy="304560"/>
          </a:xfrm>
          <a:prstGeom prst="ellipse">
            <a:avLst/>
          </a:prstGeom>
          <a:noFill/>
          <a:ln w="1908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048120" y="3124080"/>
            <a:ext cx="761760" cy="304920"/>
          </a:xfrm>
          <a:prstGeom prst="ellipse">
            <a:avLst/>
          </a:prstGeom>
          <a:noFill/>
          <a:ln w="1908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819520" y="1066680"/>
            <a:ext cx="761760" cy="304920"/>
          </a:xfrm>
          <a:prstGeom prst="ellipse">
            <a:avLst/>
          </a:prstGeom>
          <a:noFill/>
          <a:ln w="1908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1d75"/>
            </a:gs>
            <a:gs pos="50000">
              <a:srgbClr val="3333cc"/>
            </a:gs>
            <a:gs pos="100000">
              <a:srgbClr val="1d1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0" y="0"/>
            <a:ext cx="9220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685800"/>
            <a:ext cx="9144000" cy="19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Riordan, J. R.; Rommens, J. M.; Kerem, B.; Alon, N.; Rozmahel, R.; Grzelczak, Z.; Zielenski, J.; Lok, S.; Plavsic, N.; Chou, J. L.; Drumm, M. L.; Iannuzzi, M. C.; Collins, F. S.; Tsui, L.-C. </a:t>
            </a:r>
            <a:r>
              <a:rPr b="1" lang="it-IT" sz="1600" spc="-1" strike="noStrike">
                <a:solidFill>
                  <a:srgbClr val="ffff00"/>
                </a:solidFill>
                <a:latin typeface="Times New Roman"/>
              </a:rPr>
              <a:t>Identification of the cystic fibrosis gene: cloning and characterization of complementary DNA. </a:t>
            </a:r>
            <a:r>
              <a:rPr b="0" i="1" lang="it-IT" sz="1600" spc="-1" strike="noStrike">
                <a:solidFill>
                  <a:srgbClr val="ffff00"/>
                </a:solidFill>
                <a:latin typeface="Times New Roman"/>
              </a:rPr>
              <a:t>Science 245: 1066-1073, 1989. </a:t>
            </a:r>
            <a:br>
              <a:rPr sz="1600"/>
            </a:br>
            <a:r>
              <a:rPr b="0" i="1" lang="it-IT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1905120"/>
            <a:ext cx="9144000" cy="19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Rommens, J. M.; Iannuzzi, M. C.; Kerem, B.; Drumm, M. L.; Melmer, G.; Dean, M.; Rozmahel, R.; Cole, J. L.; Kennedy, D.; Hidaka, N.; Zsiga, M.; Buchwald, M.; Riordan, J. R.; Tsui, L.-C.; Collins, F. S. : </a:t>
            </a:r>
            <a:r>
              <a:rPr b="1" lang="it-IT" sz="1600" spc="-1" strike="noStrike">
                <a:solidFill>
                  <a:srgbClr val="ffff00"/>
                </a:solidFill>
                <a:latin typeface="Times New Roman"/>
              </a:rPr>
              <a:t>Identification of the cystic fibrosis gene: chromosome walking and jumping. </a:t>
            </a:r>
            <a:r>
              <a:rPr b="0" i="1" lang="it-IT" sz="1600" spc="-1" strike="noStrike">
                <a:solidFill>
                  <a:srgbClr val="ffff00"/>
                </a:solidFill>
                <a:latin typeface="Times New Roman"/>
              </a:rPr>
              <a:t>Science 245: 1059-1065, 1989. </a:t>
            </a:r>
            <a:br>
              <a:rPr sz="1600"/>
            </a:br>
            <a:r>
              <a:rPr b="0" i="1" lang="it-IT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3138480"/>
            <a:ext cx="9144000" cy="19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Beaudet, A.; Bowcock, A.; Buchwald, M.; Cavalli-Sforza, L.; Farrall, M.; King, M.-C.; Klinger, K.; Lalouel, J.-M.; Lathrop, G.; Naylor, S.; Ott, J.; Tsui, L.-C.; Wainwright, B.; Watkins, P.; White, R.; Williamson, R. : </a:t>
            </a:r>
            <a:r>
              <a:rPr b="1" lang="it-IT" sz="1600" spc="-1" strike="noStrike">
                <a:solidFill>
                  <a:srgbClr val="ffff00"/>
                </a:solidFill>
                <a:latin typeface="Times New Roman"/>
              </a:rPr>
              <a:t>Linkage of cystic fibrosis to two tightly linked DNA markers: joint report from a collaborative study. </a:t>
            </a:r>
            <a:r>
              <a:rPr b="0" i="1" lang="it-IT" sz="1600" spc="-1" strike="noStrike">
                <a:solidFill>
                  <a:srgbClr val="ffff00"/>
                </a:solidFill>
                <a:latin typeface="Times New Roman"/>
              </a:rPr>
              <a:t>Am. J. Hum. Genet. 39: 681-693, 1986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1600"/>
            </a:b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4402080"/>
            <a:ext cx="914400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RobertG. Knowlton; Odile Cohen- Haguenauer; Nguyen Van Cong; Jean Frèzal; Valerie A. Brown; David Barker; Jeffrey C. Braman; James W. Schumm; Lap-Chee Tsui; Manuel Buchwald; Helen Donis- Keller: </a:t>
            </a:r>
            <a:r>
              <a:rPr b="1" lang="it-IT" sz="1600" spc="-1" strike="noStrike">
                <a:solidFill>
                  <a:srgbClr val="ffff00"/>
                </a:solidFill>
                <a:latin typeface="Times New Roman"/>
              </a:rPr>
              <a:t>A polymorphic DNA marker linked to cystic fibrosis is located on chromosome 7. </a:t>
            </a:r>
            <a:r>
              <a:rPr b="0" i="1" lang="it-IT" sz="1600" spc="-1" strike="noStrike">
                <a:solidFill>
                  <a:srgbClr val="ffff00"/>
                </a:solidFill>
                <a:latin typeface="Times New Roman"/>
              </a:rPr>
              <a:t>Nature. 318: 380-382, 19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559260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T. Strachan; A.. P. Read: </a:t>
            </a:r>
            <a:r>
              <a:rPr b="1" lang="it-IT" sz="1600" spc="-1" strike="noStrike">
                <a:solidFill>
                  <a:srgbClr val="ffff00"/>
                </a:solidFill>
                <a:latin typeface="Times New Roman"/>
              </a:rPr>
              <a:t>Genetica umana molecolare. </a:t>
            </a:r>
            <a:r>
              <a:rPr b="0" i="1" lang="it-IT" sz="1600" spc="-1" strike="noStrike">
                <a:solidFill>
                  <a:srgbClr val="ffff00"/>
                </a:solidFill>
                <a:latin typeface="Times New Roman"/>
              </a:rPr>
              <a:t>UT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1d75"/>
            </a:gs>
            <a:gs pos="50000">
              <a:srgbClr val="3333cc"/>
            </a:gs>
            <a:gs pos="100000">
              <a:srgbClr val="1d1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-7668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IDENTIFICAZIONE  GENE  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274200" y="2971800"/>
            <a:ext cx="5690160" cy="2715120"/>
            <a:chOff x="3274200" y="2971800"/>
            <a:chExt cx="5690160" cy="2715120"/>
          </a:xfrm>
        </p:grpSpPr>
        <p:sp>
          <p:nvSpPr>
            <p:cNvPr id="46" name=""/>
            <p:cNvSpPr/>
            <p:nvPr/>
          </p:nvSpPr>
          <p:spPr>
            <a:xfrm>
              <a:off x="3274200" y="2971800"/>
              <a:ext cx="569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CLONAGGIO</a:t>
              </a:r>
              <a:r>
                <a:rPr b="0" lang="en-US" sz="32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 </a:t>
              </a:r>
              <a:r>
                <a:rPr b="1" lang="en-US" sz="32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POSIZIONA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038480" y="4952880"/>
              <a:ext cx="290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4638960" y="3733920"/>
              <a:ext cx="2647080" cy="1953000"/>
              <a:chOff x="4638960" y="3733920"/>
              <a:chExt cx="2647080" cy="1953000"/>
            </a:xfrm>
          </p:grpSpPr>
          <p:sp>
            <p:nvSpPr>
              <p:cNvPr id="49" name=""/>
              <p:cNvSpPr/>
              <p:nvPr/>
            </p:nvSpPr>
            <p:spPr>
              <a:xfrm>
                <a:off x="5639040" y="3733920"/>
                <a:ext cx="533160" cy="380880"/>
              </a:xfrm>
              <a:prstGeom prst="downArrow">
                <a:avLst>
                  <a:gd name="adj1" fmla="val 49676"/>
                  <a:gd name="adj2" fmla="val 48435"/>
                </a:avLst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648680" y="4267080"/>
                <a:ext cx="263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800" spc="-1" strike="noStrike">
                    <a:solidFill>
                      <a:srgbClr val="ffff00"/>
                    </a:solidFill>
                    <a:latin typeface="Times New Roman"/>
                  </a:rPr>
                  <a:t>Linkage genetico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638960" y="4495680"/>
                <a:ext cx="25383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ff3300"/>
                  </a:buClr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00"/>
                    </a:solidFill>
                    <a:latin typeface="Times New Roman"/>
                  </a:rPr>
                  <a:t> </a:t>
                </a:r>
                <a:r>
                  <a:rPr b="0" lang="it-IT" sz="2400" spc="-1" strike="noStrike">
                    <a:solidFill>
                      <a:srgbClr val="ffff00"/>
                    </a:solidFill>
                    <a:latin typeface="Times New Roman"/>
                  </a:rPr>
                  <a:t>studi familiar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ff3300"/>
                  </a:buClr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00"/>
                    </a:solidFill>
                    <a:latin typeface="Times New Roman"/>
                  </a:rPr>
                  <a:t> </a:t>
                </a:r>
                <a:r>
                  <a:rPr b="0" lang="it-IT" sz="2400" spc="-1" strike="noStrike">
                    <a:solidFill>
                      <a:srgbClr val="ffff00"/>
                    </a:solidFill>
                    <a:latin typeface="Times New Roman"/>
                  </a:rPr>
                  <a:t>markers genetic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2" name="j0078752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250956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1d75"/>
            </a:gs>
            <a:gs pos="50000">
              <a:srgbClr val="3333cc"/>
            </a:gs>
            <a:gs pos="100000">
              <a:srgbClr val="1d1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IDENTIFICAZIONE  GENE  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50120" y="1447920"/>
            <a:ext cx="8823240" cy="1708920"/>
            <a:chOff x="150120" y="1447920"/>
            <a:chExt cx="8823240" cy="1708920"/>
          </a:xfrm>
        </p:grpSpPr>
        <p:grpSp>
          <p:nvGrpSpPr>
            <p:cNvPr id="55" name=""/>
            <p:cNvGrpSpPr/>
            <p:nvPr/>
          </p:nvGrpSpPr>
          <p:grpSpPr>
            <a:xfrm>
              <a:off x="150120" y="1447920"/>
              <a:ext cx="5594760" cy="1708920"/>
              <a:chOff x="150120" y="1447920"/>
              <a:chExt cx="5594760" cy="1708920"/>
            </a:xfrm>
          </p:grpSpPr>
          <p:sp>
            <p:nvSpPr>
              <p:cNvPr id="56" name=""/>
              <p:cNvSpPr/>
              <p:nvPr/>
            </p:nvSpPr>
            <p:spPr>
              <a:xfrm>
                <a:off x="3431880" y="2819520"/>
                <a:ext cx="199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ffffff"/>
                    </a:solidFill>
                    <a:latin typeface="Times New Roman"/>
                  </a:rPr>
                  <a:t>Knowlton </a:t>
                </a:r>
                <a:r>
                  <a:rPr b="0" i="1" lang="it-IT" sz="1600" spc="-1" strike="noStrike">
                    <a:solidFill>
                      <a:srgbClr val="ffffff"/>
                    </a:solidFill>
                    <a:latin typeface="Times New Roman"/>
                  </a:rPr>
                  <a:t>et al </a:t>
                </a:r>
                <a:r>
                  <a:rPr b="0" lang="it-IT" sz="1600" spc="-1" strike="noStrike">
                    <a:solidFill>
                      <a:srgbClr val="ffffff"/>
                    </a:solidFill>
                    <a:latin typeface="Times New Roman"/>
                  </a:rPr>
                  <a:t>(1985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976120" y="1828800"/>
                <a:ext cx="1720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ffffff"/>
                    </a:solidFill>
                    <a:latin typeface="Times New Roman"/>
                  </a:rPr>
                  <a:t>Eiberg </a:t>
                </a:r>
                <a:r>
                  <a:rPr b="0" i="1" lang="it-IT" sz="1600" spc="-1" strike="noStrike">
                    <a:solidFill>
                      <a:srgbClr val="ffffff"/>
                    </a:solidFill>
                    <a:latin typeface="Times New Roman"/>
                  </a:rPr>
                  <a:t>et al </a:t>
                </a:r>
                <a:r>
                  <a:rPr b="0" lang="it-IT" sz="1600" spc="-1" strike="noStrike">
                    <a:solidFill>
                      <a:srgbClr val="ffffff"/>
                    </a:solidFill>
                    <a:latin typeface="Times New Roman"/>
                  </a:rPr>
                  <a:t>(1985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278880" y="144792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P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051000" y="2438640"/>
                <a:ext cx="2693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RFLP (DOCRI-917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0120" y="1676520"/>
                <a:ext cx="16254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ffff00"/>
                    </a:solidFill>
                    <a:latin typeface="Times New Roman"/>
                  </a:rPr>
                  <a:t>in linkage c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00"/>
                    </a:solidFill>
                    <a:latin typeface="Times New Roman"/>
                  </a:rPr>
                  <a:t>  </a:t>
                </a:r>
                <a:r>
                  <a:rPr b="1" lang="it-IT" sz="2800" spc="-1" strike="noStrike">
                    <a:solidFill>
                      <a:srgbClr val="ffff00"/>
                    </a:solidFill>
                    <a:latin typeface="Times New Roman"/>
                  </a:rPr>
                  <a:t>   </a:t>
                </a:r>
                <a:r>
                  <a:rPr b="1" lang="it-IT" sz="2800" spc="-1" strike="noStrike">
                    <a:solidFill>
                      <a:srgbClr val="ffff00"/>
                    </a:solidFill>
                    <a:latin typeface="Times New Roman"/>
                  </a:rPr>
                  <a:t>C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V="1">
                <a:off x="1981080" y="1828440"/>
                <a:ext cx="914400" cy="228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981080" y="2286000"/>
                <a:ext cx="838080" cy="381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5791320" y="1905120"/>
              <a:ext cx="976320" cy="48564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1320 h 485640"/>
                <a:gd name="textAreaBottom" fmla="*/ 36432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936480" y="1752480"/>
              <a:ext cx="203688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Cromosom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        </a:t>
              </a: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63440" y="3048120"/>
            <a:ext cx="8523360" cy="2930400"/>
            <a:chOff x="163440" y="3048120"/>
            <a:chExt cx="8523360" cy="2930400"/>
          </a:xfrm>
        </p:grpSpPr>
        <p:sp>
          <p:nvSpPr>
            <p:cNvPr id="66" name=""/>
            <p:cNvSpPr/>
            <p:nvPr/>
          </p:nvSpPr>
          <p:spPr>
            <a:xfrm>
              <a:off x="8182080" y="3048120"/>
              <a:ext cx="504720" cy="1519200"/>
            </a:xfrm>
            <a:custGeom>
              <a:avLst/>
              <a:gdLst>
                <a:gd name="textAreaLeft" fmla="*/ 67320 w 504720"/>
                <a:gd name="textAreaRight" fmla="*/ 437400 w 504720"/>
                <a:gd name="textAreaTop" fmla="*/ 265680 h 1519200"/>
                <a:gd name="textAreaBottom" fmla="*/ 1101600 h 151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4670280" y="3892680"/>
              <a:ext cx="3252600" cy="2053800"/>
              <a:chOff x="4670280" y="3892680"/>
              <a:chExt cx="3252600" cy="2053800"/>
            </a:xfrm>
          </p:grpSpPr>
          <p:sp>
            <p:nvSpPr>
              <p:cNvPr id="68" name=""/>
              <p:cNvSpPr/>
              <p:nvPr/>
            </p:nvSpPr>
            <p:spPr>
              <a:xfrm>
                <a:off x="5581440" y="4206600"/>
                <a:ext cx="68544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200560" y="4435200"/>
                <a:ext cx="0" cy="60948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82680" y="3892680"/>
                <a:ext cx="805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00"/>
                    </a:solidFill>
                    <a:latin typeface="Times New Roman"/>
                  </a:rPr>
                  <a:t>C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420960" y="3978000"/>
                <a:ext cx="1501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7q31-7q3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670280" y="5121000"/>
                <a:ext cx="11923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buClr>
                    <a:srgbClr val="ffff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M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ffff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D7S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038640" y="5273640"/>
                <a:ext cx="152280" cy="456840"/>
              </a:xfrm>
              <a:custGeom>
                <a:avLst/>
                <a:gdLst>
                  <a:gd name="textAreaLeft" fmla="*/ 0 w 152280"/>
                  <a:gd name="textAreaRight" fmla="*/ 106920 w 152280"/>
                  <a:gd name="textAreaTop" fmla="*/ 97560 h 456840"/>
                  <a:gd name="textAreaBottom" fmla="*/ 359280 h 456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4613"/>
                      <a:pt x="21600" y="9225"/>
                    </a:cubicBezTo>
                    <a:lnTo>
                      <a:pt x="21600" y="12375"/>
                    </a:lnTo>
                    <a:cubicBezTo>
                      <a:pt x="21600" y="16988"/>
                      <a:pt x="10800" y="21600"/>
                      <a:pt x="0" y="21600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344640" y="5349600"/>
                <a:ext cx="810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ffff"/>
                    </a:solidFill>
                    <a:latin typeface="Times New Roman"/>
                  </a:rPr>
                  <a:t>500 k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63440" y="3429000"/>
              <a:ext cx="4332240" cy="2549520"/>
              <a:chOff x="163440" y="3429000"/>
              <a:chExt cx="4332240" cy="2549520"/>
            </a:xfrm>
          </p:grpSpPr>
          <p:pic>
            <p:nvPicPr>
              <p:cNvPr id="76" name="cftr%20su%20crom%207" descr=""/>
              <p:cNvPicPr/>
              <p:nvPr/>
            </p:nvPicPr>
            <p:blipFill>
              <a:blip r:embed="rId1"/>
              <a:stretch/>
            </p:blipFill>
            <p:spPr>
              <a:xfrm>
                <a:off x="163440" y="3886200"/>
                <a:ext cx="4332240" cy="2092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"/>
              <p:cNvSpPr/>
              <p:nvPr/>
            </p:nvSpPr>
            <p:spPr>
              <a:xfrm>
                <a:off x="2678400" y="3429000"/>
                <a:ext cx="1113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ffff00"/>
                    </a:solidFill>
                    <a:latin typeface="Times New Roman"/>
                  </a:rPr>
                  <a:t>gene C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66320" y="4267080"/>
                <a:ext cx="1005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romosoma 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1d75"/>
            </a:gs>
            <a:gs pos="50000">
              <a:srgbClr val="3333cc"/>
            </a:gs>
            <a:gs pos="100000">
              <a:srgbClr val="1d1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Times New Roman"/>
              </a:rPr>
              <a:t>CF e linkage disequilibri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8360" y="0"/>
            <a:ext cx="823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IDENTIFICAZIONE  GENE  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2209680"/>
            <a:ext cx="1752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09680" y="2133720"/>
            <a:ext cx="0" cy="152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18880" y="1752480"/>
            <a:ext cx="4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33"/>
                </a:solidFill>
                <a:latin typeface="Times New Roma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52480" y="2133720"/>
            <a:ext cx="0" cy="152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133720"/>
            <a:ext cx="0" cy="152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8280" y="175248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33"/>
                </a:solidFill>
                <a:latin typeface="Times New Roma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1640" y="1752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33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2819520"/>
            <a:ext cx="1752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2743200"/>
            <a:ext cx="0" cy="152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18880" y="2362320"/>
            <a:ext cx="4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33"/>
                </a:solidFill>
                <a:latin typeface="Times New Roma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2743200"/>
            <a:ext cx="0" cy="152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743200"/>
            <a:ext cx="0" cy="152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8280" y="236232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33"/>
                </a:solidFill>
                <a:latin typeface="Times New Roma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1640" y="23623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33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29000" y="2666880"/>
            <a:ext cx="182880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47960" y="1981080"/>
            <a:ext cx="104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ut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ncestr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325920" y="1905120"/>
            <a:ext cx="1978560" cy="1143000"/>
            <a:chOff x="6325920" y="1905120"/>
            <a:chExt cx="1978560" cy="1143000"/>
          </a:xfrm>
        </p:grpSpPr>
        <p:sp>
          <p:nvSpPr>
            <p:cNvPr id="98" name=""/>
            <p:cNvSpPr/>
            <p:nvPr/>
          </p:nvSpPr>
          <p:spPr>
            <a:xfrm>
              <a:off x="6400800" y="2362320"/>
              <a:ext cx="17524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77320" y="2286000"/>
              <a:ext cx="0" cy="152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886160" y="190512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6ff33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20120" y="2286000"/>
              <a:ext cx="0" cy="152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53080" y="2286000"/>
              <a:ext cx="0" cy="152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25920" y="190512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6ff33"/>
                  </a:solidFill>
                  <a:latin typeface="Times New Roma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392600" y="190512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6ff33"/>
                  </a:solidFill>
                  <a:latin typeface="Times New Roman"/>
                </a:rPr>
                <a:t>C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00800" y="2971800"/>
              <a:ext cx="17524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7320" y="2895480"/>
              <a:ext cx="0" cy="152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86160" y="251460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6ff33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620120" y="2895480"/>
              <a:ext cx="0" cy="152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553080" y="2895480"/>
              <a:ext cx="0" cy="152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5920" y="251460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6ff33"/>
                  </a:solidFill>
                  <a:latin typeface="Times New Roma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69280" y="25146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6ff33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520" y="1905120"/>
              <a:ext cx="457200" cy="38088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477120" y="4876920"/>
            <a:ext cx="1752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153280" y="4800600"/>
            <a:ext cx="0" cy="152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962480" y="4419720"/>
            <a:ext cx="4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33"/>
                </a:solidFill>
                <a:latin typeface="Times New Roma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96080" y="4800600"/>
            <a:ext cx="0" cy="152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629400" y="4800600"/>
            <a:ext cx="0" cy="152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01880" y="441972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33"/>
                </a:solidFill>
                <a:latin typeface="Times New Roma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68920" y="441972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33"/>
                </a:solidFill>
                <a:latin typeface="Times New Roman"/>
              </a:rPr>
              <a:t>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77120" y="5486400"/>
            <a:ext cx="1752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153280" y="5410080"/>
            <a:ext cx="0" cy="152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62480" y="5029200"/>
            <a:ext cx="4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33"/>
                </a:solidFill>
                <a:latin typeface="Times New Roma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96080" y="5410080"/>
            <a:ext cx="0" cy="152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629400" y="5410080"/>
            <a:ext cx="0" cy="152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01880" y="50292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33"/>
                </a:solidFill>
                <a:latin typeface="Times New Roma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545240" y="50292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33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467480" y="4419720"/>
            <a:ext cx="457200" cy="3808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3276720"/>
            <a:ext cx="0" cy="83808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7848360" y="4952880"/>
            <a:ext cx="15228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705360" y="4952880"/>
            <a:ext cx="1522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6705360" y="495288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7009920" y="4952880"/>
            <a:ext cx="228600" cy="457200"/>
            <a:chOff x="7009920" y="4952880"/>
            <a:chExt cx="228600" cy="457200"/>
          </a:xfrm>
        </p:grpSpPr>
        <p:sp>
          <p:nvSpPr>
            <p:cNvPr id="133" name=""/>
            <p:cNvSpPr/>
            <p:nvPr/>
          </p:nvSpPr>
          <p:spPr>
            <a:xfrm flipH="1">
              <a:off x="7009920" y="4952880"/>
              <a:ext cx="1522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7009920" y="495288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 flipH="1" flipV="1">
            <a:off x="7848360" y="495288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314840" y="4952880"/>
            <a:ext cx="228600" cy="457200"/>
            <a:chOff x="7314840" y="4952880"/>
            <a:chExt cx="228600" cy="457200"/>
          </a:xfrm>
        </p:grpSpPr>
        <p:sp>
          <p:nvSpPr>
            <p:cNvPr id="137" name=""/>
            <p:cNvSpPr/>
            <p:nvPr/>
          </p:nvSpPr>
          <p:spPr>
            <a:xfrm flipH="1">
              <a:off x="7314840" y="4952880"/>
              <a:ext cx="1522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7314840" y="495288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287080" y="3657600"/>
            <a:ext cx="3884760" cy="2819520"/>
            <a:chOff x="2287080" y="3657600"/>
            <a:chExt cx="3884760" cy="2819520"/>
          </a:xfrm>
        </p:grpSpPr>
        <p:sp>
          <p:nvSpPr>
            <p:cNvPr id="140" name=""/>
            <p:cNvSpPr/>
            <p:nvPr/>
          </p:nvSpPr>
          <p:spPr>
            <a:xfrm flipH="1" flipV="1">
              <a:off x="5028840" y="4343040"/>
              <a:ext cx="1143000" cy="60948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5028840" y="5257800"/>
              <a:ext cx="1143000" cy="53352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2320" y="4114800"/>
              <a:ext cx="17524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38480" y="4038480"/>
              <a:ext cx="0" cy="152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47680" y="365760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6ff33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581280" y="4038480"/>
              <a:ext cx="0" cy="152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14600" y="4038480"/>
              <a:ext cx="0" cy="152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87080" y="365760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6ff33"/>
                  </a:solidFill>
                  <a:latin typeface="Times New Roma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54120" y="365760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6ff33"/>
                  </a:solidFill>
                  <a:latin typeface="Times New Roman"/>
                </a:rPr>
                <a:t>C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362320" y="4724280"/>
              <a:ext cx="17524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38480" y="4648320"/>
              <a:ext cx="0" cy="152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47680" y="426708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6ff33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81280" y="4648320"/>
              <a:ext cx="0" cy="152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14600" y="4648320"/>
              <a:ext cx="0" cy="152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7080" y="426708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6ff33"/>
                  </a:solidFill>
                  <a:latin typeface="Times New Roma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430440" y="42670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6ff33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38088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5791320"/>
              <a:ext cx="17524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38480" y="5715000"/>
              <a:ext cx="0" cy="152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847680" y="533412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6ff33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81280" y="5715000"/>
              <a:ext cx="0" cy="152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14600" y="5715000"/>
              <a:ext cx="0" cy="152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87080" y="533412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6ff33"/>
                  </a:solidFill>
                  <a:latin typeface="Times New Roma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4120" y="533412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6ff33"/>
                  </a:solidFill>
                  <a:latin typeface="Times New Roman"/>
                </a:rPr>
                <a:t>C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62320" y="6400800"/>
              <a:ext cx="17524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38480" y="6324480"/>
              <a:ext cx="0" cy="152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47680" y="594360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6ff33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81280" y="6324480"/>
              <a:ext cx="0" cy="152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14600" y="6324480"/>
              <a:ext cx="0" cy="152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7080" y="594360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6ff33"/>
                  </a:solidFill>
                  <a:latin typeface="Times New Roma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30440" y="59436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6ff33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352680" y="5334120"/>
              <a:ext cx="457200" cy="38088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16200" y="4800600"/>
              <a:ext cx="1195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opo molt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generazion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-720" y="4556160"/>
            <a:ext cx="2057760" cy="1084680"/>
            <a:chOff x="-720" y="4556160"/>
            <a:chExt cx="2057760" cy="1084680"/>
          </a:xfrm>
        </p:grpSpPr>
        <p:sp>
          <p:nvSpPr>
            <p:cNvPr id="174" name=""/>
            <p:cNvSpPr/>
            <p:nvPr/>
          </p:nvSpPr>
          <p:spPr>
            <a:xfrm>
              <a:off x="-720" y="4937040"/>
              <a:ext cx="119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ffff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XV-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KM-1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40" y="4556160"/>
              <a:ext cx="125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ff"/>
                  </a:solidFill>
                  <a:latin typeface="Times New Roman"/>
                </a:rPr>
                <a:t>Beaudet </a:t>
              </a:r>
              <a:r>
                <a:rPr b="0" i="1" lang="it-IT" sz="1600" spc="-1" strike="noStrike">
                  <a:solidFill>
                    <a:srgbClr val="ffffff"/>
                  </a:solidFill>
                  <a:latin typeface="Times New Roman"/>
                </a:rPr>
                <a:t>et 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1294560" y="4937040"/>
              <a:ext cx="762120" cy="609840"/>
            </a:xfrm>
            <a:custGeom>
              <a:avLst/>
              <a:gdLst>
                <a:gd name="textAreaLeft" fmla="*/ 118800 w 762120"/>
                <a:gd name="textAreaRight" fmla="*/ 577800 w 762120"/>
                <a:gd name="textAreaTop" fmla="*/ 150120 h 609840"/>
                <a:gd name="textAreaBottom" fmla="*/ 45972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318"/>
                  </a:moveTo>
                  <a:lnTo>
                    <a:pt x="11295" y="5318"/>
                  </a:lnTo>
                  <a:lnTo>
                    <a:pt x="11295" y="0"/>
                  </a:lnTo>
                  <a:lnTo>
                    <a:pt x="21600" y="10800"/>
                  </a:lnTo>
                  <a:lnTo>
                    <a:pt x="11295" y="21600"/>
                  </a:lnTo>
                  <a:lnTo>
                    <a:pt x="11295" y="16282"/>
                  </a:lnTo>
                  <a:lnTo>
                    <a:pt x="3375" y="16282"/>
                  </a:lnTo>
                  <a:close/>
                </a:path>
                <a:path w="21600" h="21600">
                  <a:moveTo>
                    <a:pt x="0" y="5318"/>
                  </a:moveTo>
                  <a:lnTo>
                    <a:pt x="675" y="5318"/>
                  </a:lnTo>
                  <a:lnTo>
                    <a:pt x="675" y="16282"/>
                  </a:lnTo>
                  <a:lnTo>
                    <a:pt x="0" y="16282"/>
                  </a:lnTo>
                  <a:close/>
                </a:path>
                <a:path w="21600" h="21600">
                  <a:moveTo>
                    <a:pt x="1350" y="5318"/>
                  </a:moveTo>
                  <a:lnTo>
                    <a:pt x="2700" y="5318"/>
                  </a:lnTo>
                  <a:lnTo>
                    <a:pt x="2700" y="16282"/>
                  </a:lnTo>
                  <a:lnTo>
                    <a:pt x="1350" y="1628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378360" y="0"/>
            <a:ext cx="823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IDENTIFICAZIONE  GENE  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1d75"/>
            </a:gs>
            <a:gs pos="50000">
              <a:srgbClr val="3333cc"/>
            </a:gs>
            <a:gs pos="100000">
              <a:srgbClr val="1d1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8088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IDENTIFICAZIONE  GENE  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BS02101_" descr=""/>
          <p:cNvPicPr/>
          <p:nvPr/>
        </p:nvPicPr>
        <p:blipFill>
          <a:blip r:embed="rId1"/>
          <a:stretch/>
        </p:blipFill>
        <p:spPr>
          <a:xfrm>
            <a:off x="3505320" y="5029200"/>
            <a:ext cx="2062080" cy="15476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990720" y="91440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La regione di 500kb, in cui doveva essere contenuto il gene CF, fu tagliat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clonata e mappata sfruttando laboriose tecnich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88400" y="2514600"/>
            <a:ext cx="40942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Times New Roman"/>
              </a:rPr>
              <a:t>Chromosome walk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                    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Times New Roman"/>
              </a:rPr>
              <a:t>Chromosome jum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1d75"/>
            </a:gs>
            <a:gs pos="50000">
              <a:srgbClr val="3333cc"/>
            </a:gs>
            <a:gs pos="100000">
              <a:srgbClr val="1d1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08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IDENTIFICAZIONE  GENE  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28600" y="955800"/>
            <a:ext cx="8686800" cy="2643480"/>
            <a:chOff x="228600" y="955800"/>
            <a:chExt cx="8686800" cy="2643480"/>
          </a:xfrm>
        </p:grpSpPr>
        <p:sp>
          <p:nvSpPr>
            <p:cNvPr id="184" name=""/>
            <p:cNvSpPr/>
            <p:nvPr/>
          </p:nvSpPr>
          <p:spPr>
            <a:xfrm>
              <a:off x="1736640" y="9558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1360" y="1066680"/>
              <a:ext cx="399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Chromosome walk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876920" y="2362320"/>
              <a:ext cx="976320" cy="48564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1320 h 485640"/>
                <a:gd name="textAreaBottom" fmla="*/ 36432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943600" y="1676520"/>
              <a:ext cx="29718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assemblare un contiguo di cloni 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camminando lungo il cromosoma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 in entrambe le direzion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12600" y="1828800"/>
              <a:ext cx="338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preparare 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sonda termina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07560" y="2362320"/>
              <a:ext cx="364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loni positivi all’ibridazi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915480" y="2895480"/>
              <a:ext cx="171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nuove son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8600" y="2057400"/>
              <a:ext cx="609480" cy="533520"/>
            </a:xfrm>
            <a:custGeom>
              <a:avLst/>
              <a:gdLst>
                <a:gd name="textAreaLeft" fmla="*/ 81360 w 609480"/>
                <a:gd name="textAreaRight" fmla="*/ 528120 w 609480"/>
                <a:gd name="textAreaTop" fmla="*/ 93240 h 533520"/>
                <a:gd name="textAreaBottom" fmla="*/ 38700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noFill/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28600" y="2743200"/>
              <a:ext cx="609480" cy="533520"/>
            </a:xfrm>
            <a:custGeom>
              <a:avLst/>
              <a:gdLst>
                <a:gd name="textAreaLeft" fmla="*/ 81360 w 609480"/>
                <a:gd name="textAreaRight" fmla="*/ 528120 w 609480"/>
                <a:gd name="textAreaTop" fmla="*/ 93240 h 533520"/>
                <a:gd name="textAreaBottom" fmla="*/ 38700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noFill/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1360" y="1066680"/>
              <a:ext cx="399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Chromosome walk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2741040" y="3657600"/>
            <a:ext cx="4182840" cy="2333880"/>
            <a:chOff x="2741040" y="3657600"/>
            <a:chExt cx="4182840" cy="2333880"/>
          </a:xfrm>
        </p:grpSpPr>
        <p:sp>
          <p:nvSpPr>
            <p:cNvPr id="195" name=""/>
            <p:cNvSpPr/>
            <p:nvPr/>
          </p:nvSpPr>
          <p:spPr>
            <a:xfrm>
              <a:off x="4040640" y="3657600"/>
              <a:ext cx="131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Times New Roman"/>
                </a:rPr>
                <a:t>LIM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357880" y="45007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962520" y="4419720"/>
              <a:ext cx="1600200" cy="609480"/>
            </a:xfrm>
            <a:custGeom>
              <a:avLst/>
              <a:gdLst>
                <a:gd name="textAreaLeft" fmla="*/ 280080 w 1600200"/>
                <a:gd name="textAreaRight" fmla="*/ 1160280 w 160020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741040" y="5410080"/>
              <a:ext cx="4182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Chromosome jumping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1d75"/>
            </a:gs>
            <a:gs pos="50000">
              <a:srgbClr val="3333cc"/>
            </a:gs>
            <a:gs pos="100000">
              <a:srgbClr val="1d1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8088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IDENTIFICAZIONE  GENE  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80880" y="685800"/>
            <a:ext cx="8434080" cy="4680720"/>
            <a:chOff x="380880" y="685800"/>
            <a:chExt cx="8434080" cy="4680720"/>
          </a:xfrm>
        </p:grpSpPr>
        <p:sp>
          <p:nvSpPr>
            <p:cNvPr id="202" name=""/>
            <p:cNvSpPr/>
            <p:nvPr/>
          </p:nvSpPr>
          <p:spPr>
            <a:xfrm>
              <a:off x="380880" y="1143000"/>
              <a:ext cx="2590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ffff00"/>
                  </a:solidFill>
                  <a:latin typeface="Times New Roman"/>
                </a:rPr>
                <a:t>Chromosome jump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09880" y="1066680"/>
              <a:ext cx="2311560" cy="507960"/>
            </a:xfrm>
            <a:custGeom>
              <a:avLst/>
              <a:gdLst/>
              <a:ahLst/>
              <a:rect l="l" t="t" r="r" b="b"/>
              <a:pathLst>
                <a:path w="1456" h="320">
                  <a:moveTo>
                    <a:pt x="368" y="16"/>
                  </a:moveTo>
                  <a:cubicBezTo>
                    <a:pt x="652" y="8"/>
                    <a:pt x="936" y="0"/>
                    <a:pt x="1040" y="16"/>
                  </a:cubicBezTo>
                  <a:cubicBezTo>
                    <a:pt x="1144" y="32"/>
                    <a:pt x="1128" y="96"/>
                    <a:pt x="992" y="112"/>
                  </a:cubicBezTo>
                  <a:cubicBezTo>
                    <a:pt x="856" y="128"/>
                    <a:pt x="360" y="96"/>
                    <a:pt x="224" y="112"/>
                  </a:cubicBezTo>
                  <a:cubicBezTo>
                    <a:pt x="88" y="128"/>
                    <a:pt x="0" y="192"/>
                    <a:pt x="176" y="208"/>
                  </a:cubicBezTo>
                  <a:cubicBezTo>
                    <a:pt x="352" y="224"/>
                    <a:pt x="1104" y="192"/>
                    <a:pt x="1280" y="208"/>
                  </a:cubicBezTo>
                  <a:cubicBezTo>
                    <a:pt x="1456" y="224"/>
                    <a:pt x="1408" y="288"/>
                    <a:pt x="1232" y="304"/>
                  </a:cubicBezTo>
                  <a:cubicBezTo>
                    <a:pt x="1056" y="320"/>
                    <a:pt x="392" y="304"/>
                    <a:pt x="224" y="30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648320" y="990720"/>
              <a:ext cx="0" cy="15228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952880" y="1143000"/>
              <a:ext cx="0" cy="15228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1295280"/>
              <a:ext cx="0" cy="15264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19720" y="1523880"/>
              <a:ext cx="0" cy="15264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486400" y="990720"/>
              <a:ext cx="0" cy="15228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481640" y="6858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505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335920" y="6858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505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02400" y="8380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505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268880" y="12193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505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564520" y="9907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505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29200" y="1752480"/>
              <a:ext cx="0" cy="22860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228640" y="1676520"/>
              <a:ext cx="101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digesti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657600" y="2286000"/>
              <a:ext cx="609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57600" y="2209680"/>
              <a:ext cx="0" cy="15264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67080" y="2209680"/>
              <a:ext cx="0" cy="15264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3429000" y="2057400"/>
              <a:ext cx="1371600" cy="152280"/>
              <a:chOff x="3429000" y="2057400"/>
              <a:chExt cx="1371600" cy="152280"/>
            </a:xfrm>
          </p:grpSpPr>
          <p:sp>
            <p:nvSpPr>
              <p:cNvPr id="220" name=""/>
              <p:cNvSpPr/>
              <p:nvPr/>
            </p:nvSpPr>
            <p:spPr>
              <a:xfrm>
                <a:off x="3429000" y="2133720"/>
                <a:ext cx="13716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429000" y="2057400"/>
                <a:ext cx="0" cy="152280"/>
              </a:xfrm>
              <a:prstGeom prst="line">
                <a:avLst/>
              </a:prstGeom>
              <a:ln w="381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800600" y="2057400"/>
                <a:ext cx="0" cy="152280"/>
              </a:xfrm>
              <a:prstGeom prst="line">
                <a:avLst/>
              </a:prstGeom>
              <a:ln w="381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4495680" y="2286000"/>
              <a:ext cx="838080" cy="152280"/>
              <a:chOff x="4495680" y="2286000"/>
              <a:chExt cx="838080" cy="152280"/>
            </a:xfrm>
          </p:grpSpPr>
          <p:sp>
            <p:nvSpPr>
              <p:cNvPr id="224" name=""/>
              <p:cNvSpPr/>
              <p:nvPr/>
            </p:nvSpPr>
            <p:spPr>
              <a:xfrm>
                <a:off x="4495680" y="2361960"/>
                <a:ext cx="8380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495680" y="2286000"/>
                <a:ext cx="0" cy="152280"/>
              </a:xfrm>
              <a:prstGeom prst="line">
                <a:avLst/>
              </a:prstGeom>
              <a:ln w="381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333760" y="2286000"/>
                <a:ext cx="0" cy="152280"/>
              </a:xfrm>
              <a:prstGeom prst="line">
                <a:avLst/>
              </a:prstGeom>
              <a:ln w="381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5486400" y="2133720"/>
              <a:ext cx="990720" cy="152280"/>
              <a:chOff x="5486400" y="2133720"/>
              <a:chExt cx="990720" cy="152280"/>
            </a:xfrm>
          </p:grpSpPr>
          <p:sp>
            <p:nvSpPr>
              <p:cNvPr id="228" name=""/>
              <p:cNvSpPr/>
              <p:nvPr/>
            </p:nvSpPr>
            <p:spPr>
              <a:xfrm>
                <a:off x="5486400" y="2210040"/>
                <a:ext cx="9907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486400" y="2133720"/>
                <a:ext cx="0" cy="152280"/>
              </a:xfrm>
              <a:prstGeom prst="line">
                <a:avLst/>
              </a:prstGeom>
              <a:ln w="381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477120" y="2133720"/>
                <a:ext cx="0" cy="152280"/>
              </a:xfrm>
              <a:prstGeom prst="line">
                <a:avLst/>
              </a:prstGeom>
              <a:ln w="381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5029200" y="2514600"/>
              <a:ext cx="0" cy="22860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65640" y="25560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63920" y="2482920"/>
              <a:ext cx="214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00"/>
                  </a:solidFill>
                  <a:latin typeface="Times New Roman"/>
                </a:rPr>
                <a:t>ligazione + gene mark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7391520" y="2340720"/>
              <a:ext cx="609480" cy="402480"/>
              <a:chOff x="7391520" y="2340720"/>
              <a:chExt cx="609480" cy="402480"/>
            </a:xfrm>
          </p:grpSpPr>
          <p:sp>
            <p:nvSpPr>
              <p:cNvPr id="235" name=""/>
              <p:cNvSpPr/>
              <p:nvPr/>
            </p:nvSpPr>
            <p:spPr>
              <a:xfrm>
                <a:off x="7543800" y="2571840"/>
                <a:ext cx="304920" cy="1713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7696440" y="2340720"/>
                <a:ext cx="304560" cy="383400"/>
                <a:chOff x="7696440" y="2340720"/>
                <a:chExt cx="304560" cy="3834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7848720" y="2571840"/>
                  <a:ext cx="0" cy="152280"/>
                </a:xfrm>
                <a:prstGeom prst="line">
                  <a:avLst/>
                </a:prstGeom>
                <a:ln w="3816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V="1">
                  <a:off x="7696440" y="2340360"/>
                  <a:ext cx="30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5050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7391520" y="2340720"/>
                <a:ext cx="304560" cy="383400"/>
                <a:chOff x="7391520" y="2340720"/>
                <a:chExt cx="304560" cy="38340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7543800" y="2571840"/>
                  <a:ext cx="0" cy="152280"/>
                </a:xfrm>
                <a:prstGeom prst="line">
                  <a:avLst/>
                </a:prstGeom>
                <a:ln w="3816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V="1">
                  <a:off x="7391520" y="2340360"/>
                  <a:ext cx="30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5050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4556160" y="2876400"/>
              <a:ext cx="914400" cy="704880"/>
              <a:chOff x="4556160" y="2876400"/>
              <a:chExt cx="914400" cy="704880"/>
            </a:xfrm>
          </p:grpSpPr>
          <p:sp>
            <p:nvSpPr>
              <p:cNvPr id="243" name=""/>
              <p:cNvSpPr/>
              <p:nvPr/>
            </p:nvSpPr>
            <p:spPr>
              <a:xfrm>
                <a:off x="4556160" y="2876400"/>
                <a:ext cx="914400" cy="609840"/>
              </a:xfrm>
              <a:prstGeom prst="ellips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4708440" y="3178800"/>
                <a:ext cx="609480" cy="402480"/>
                <a:chOff x="4708440" y="3178800"/>
                <a:chExt cx="609480" cy="40248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4860720" y="3409920"/>
                  <a:ext cx="304920" cy="17136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6" name=""/>
                <p:cNvGrpSpPr/>
                <p:nvPr/>
              </p:nvGrpSpPr>
              <p:grpSpPr>
                <a:xfrm>
                  <a:off x="5013360" y="3178800"/>
                  <a:ext cx="304560" cy="383400"/>
                  <a:chOff x="5013360" y="3178800"/>
                  <a:chExt cx="304560" cy="383400"/>
                </a:xfrm>
              </p:grpSpPr>
              <p:sp>
                <p:nvSpPr>
                  <p:cNvPr id="247" name=""/>
                  <p:cNvSpPr/>
                  <p:nvPr/>
                </p:nvSpPr>
                <p:spPr>
                  <a:xfrm>
                    <a:off x="5165640" y="340992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ff505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 flipV="1">
                    <a:off x="5013360" y="3178440"/>
                    <a:ext cx="30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5050"/>
                        </a:solidFill>
                        <a:latin typeface="Times New Roman"/>
                      </a:rPr>
                      <a:t>N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9" name=""/>
                <p:cNvGrpSpPr/>
                <p:nvPr/>
              </p:nvGrpSpPr>
              <p:grpSpPr>
                <a:xfrm>
                  <a:off x="4708440" y="3178800"/>
                  <a:ext cx="304560" cy="383400"/>
                  <a:chOff x="4708440" y="3178800"/>
                  <a:chExt cx="304560" cy="383400"/>
                </a:xfrm>
              </p:grpSpPr>
              <p:sp>
                <p:nvSpPr>
                  <p:cNvPr id="250" name=""/>
                  <p:cNvSpPr/>
                  <p:nvPr/>
                </p:nvSpPr>
                <p:spPr>
                  <a:xfrm>
                    <a:off x="4860720" y="340992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ff505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 flipV="1">
                    <a:off x="4708440" y="3178440"/>
                    <a:ext cx="30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5050"/>
                        </a:solidFill>
                        <a:latin typeface="Times New Roman"/>
                      </a:rPr>
                      <a:t>N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2" name=""/>
            <p:cNvSpPr/>
            <p:nvPr/>
          </p:nvSpPr>
          <p:spPr>
            <a:xfrm>
              <a:off x="5029200" y="3733920"/>
              <a:ext cx="0" cy="22860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029200" y="4572000"/>
              <a:ext cx="0" cy="22860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340960" y="4495680"/>
              <a:ext cx="222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00"/>
                  </a:solidFill>
                  <a:latin typeface="Times New Roman"/>
                </a:rPr>
                <a:t>ligazione in vettori fagic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95680" y="5257800"/>
              <a:ext cx="1143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4724280" y="4950360"/>
              <a:ext cx="609480" cy="402480"/>
              <a:chOff x="4724280" y="4950360"/>
              <a:chExt cx="609480" cy="402480"/>
            </a:xfrm>
          </p:grpSpPr>
          <p:sp>
            <p:nvSpPr>
              <p:cNvPr id="257" name=""/>
              <p:cNvSpPr/>
              <p:nvPr/>
            </p:nvSpPr>
            <p:spPr>
              <a:xfrm>
                <a:off x="4876560" y="5181480"/>
                <a:ext cx="304920" cy="1713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5029200" y="4950360"/>
                <a:ext cx="304560" cy="383400"/>
                <a:chOff x="5029200" y="4950360"/>
                <a:chExt cx="304560" cy="38340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5181480" y="5181480"/>
                  <a:ext cx="0" cy="152280"/>
                </a:xfrm>
                <a:prstGeom prst="line">
                  <a:avLst/>
                </a:prstGeom>
                <a:ln w="3816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flipV="1">
                  <a:off x="5029200" y="4950000"/>
                  <a:ext cx="30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5050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4724280" y="4950360"/>
                <a:ext cx="304560" cy="383400"/>
                <a:chOff x="4724280" y="4950360"/>
                <a:chExt cx="304560" cy="38340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4876560" y="5181480"/>
                  <a:ext cx="0" cy="152280"/>
                </a:xfrm>
                <a:prstGeom prst="line">
                  <a:avLst/>
                </a:prstGeom>
                <a:ln w="3816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V="1">
                  <a:off x="4724280" y="4950000"/>
                  <a:ext cx="30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5050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4" name=""/>
            <p:cNvSpPr/>
            <p:nvPr/>
          </p:nvSpPr>
          <p:spPr>
            <a:xfrm>
              <a:off x="3276720" y="5257800"/>
              <a:ext cx="1218960" cy="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3809880" y="4016880"/>
              <a:ext cx="2057400" cy="402480"/>
              <a:chOff x="3809880" y="4016880"/>
              <a:chExt cx="2057400" cy="402480"/>
            </a:xfrm>
          </p:grpSpPr>
          <p:sp>
            <p:nvSpPr>
              <p:cNvPr id="266" name=""/>
              <p:cNvSpPr/>
              <p:nvPr/>
            </p:nvSpPr>
            <p:spPr>
              <a:xfrm>
                <a:off x="4191120" y="4095720"/>
                <a:ext cx="6094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486400" y="4095720"/>
                <a:ext cx="3808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809880" y="4324320"/>
                <a:ext cx="5335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648320" y="4324320"/>
                <a:ext cx="11430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0" name=""/>
              <p:cNvGrpSpPr/>
              <p:nvPr/>
            </p:nvGrpSpPr>
            <p:grpSpPr>
              <a:xfrm>
                <a:off x="4876920" y="4016880"/>
                <a:ext cx="609480" cy="402480"/>
                <a:chOff x="4876920" y="4016880"/>
                <a:chExt cx="609480" cy="40248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5029200" y="4248000"/>
                  <a:ext cx="304920" cy="17136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2" name=""/>
                <p:cNvGrpSpPr/>
                <p:nvPr/>
              </p:nvGrpSpPr>
              <p:grpSpPr>
                <a:xfrm>
                  <a:off x="5181840" y="4016880"/>
                  <a:ext cx="304560" cy="383400"/>
                  <a:chOff x="5181840" y="4016880"/>
                  <a:chExt cx="304560" cy="383400"/>
                </a:xfrm>
              </p:grpSpPr>
              <p:sp>
                <p:nvSpPr>
                  <p:cNvPr id="273" name=""/>
                  <p:cNvSpPr/>
                  <p:nvPr/>
                </p:nvSpPr>
                <p:spPr>
                  <a:xfrm>
                    <a:off x="5334120" y="4248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ff505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V="1">
                    <a:off x="5181840" y="4016520"/>
                    <a:ext cx="30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5050"/>
                        </a:solidFill>
                        <a:latin typeface="Times New Roman"/>
                      </a:rPr>
                      <a:t>N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5" name=""/>
                <p:cNvGrpSpPr/>
                <p:nvPr/>
              </p:nvGrpSpPr>
              <p:grpSpPr>
                <a:xfrm>
                  <a:off x="4876920" y="4016880"/>
                  <a:ext cx="304560" cy="383400"/>
                  <a:chOff x="4876920" y="4016880"/>
                  <a:chExt cx="304560" cy="38340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>
                    <a:off x="5029200" y="4248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ff505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 flipV="1">
                    <a:off x="4876920" y="4016520"/>
                    <a:ext cx="30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5050"/>
                        </a:solidFill>
                        <a:latin typeface="Times New Roman"/>
                      </a:rPr>
                      <a:t>N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78" name=""/>
            <p:cNvSpPr/>
            <p:nvPr/>
          </p:nvSpPr>
          <p:spPr>
            <a:xfrm>
              <a:off x="5638680" y="5257800"/>
              <a:ext cx="1219320" cy="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317360" y="5029200"/>
              <a:ext cx="149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ffff00"/>
                  </a:solidFill>
                  <a:latin typeface="Times New Roman"/>
                </a:rPr>
                <a:t>Jumping libr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1675800" y="5257800"/>
            <a:ext cx="6172920" cy="1142640"/>
            <a:chOff x="1675800" y="5257800"/>
            <a:chExt cx="6172920" cy="1142640"/>
          </a:xfrm>
        </p:grpSpPr>
        <p:sp>
          <p:nvSpPr>
            <p:cNvPr id="281" name=""/>
            <p:cNvSpPr/>
            <p:nvPr/>
          </p:nvSpPr>
          <p:spPr>
            <a:xfrm flipH="1">
              <a:off x="4190760" y="5257800"/>
              <a:ext cx="685800" cy="8380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5409720" y="5257800"/>
              <a:ext cx="228600" cy="8380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4800240" y="5410080"/>
              <a:ext cx="533880" cy="0"/>
              <a:chOff x="4800240" y="5410080"/>
              <a:chExt cx="533880" cy="0"/>
            </a:xfrm>
          </p:grpSpPr>
          <p:sp>
            <p:nvSpPr>
              <p:cNvPr id="284" name=""/>
              <p:cNvSpPr/>
              <p:nvPr/>
            </p:nvSpPr>
            <p:spPr>
              <a:xfrm flipH="1">
                <a:off x="4800240" y="5410080"/>
                <a:ext cx="228600" cy="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105520" y="5410080"/>
                <a:ext cx="228600" cy="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2438280" y="6172200"/>
              <a:ext cx="541044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75800" y="58672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00"/>
                  </a:solidFill>
                  <a:latin typeface="Times New Roman"/>
                </a:rPr>
                <a:t>cromoso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95680" y="5334120"/>
              <a:ext cx="76320" cy="76176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57800" y="5334120"/>
              <a:ext cx="533520" cy="76176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67280" y="6019920"/>
              <a:ext cx="0" cy="15228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114800" y="6019920"/>
              <a:ext cx="0" cy="15228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410080" y="6095880"/>
              <a:ext cx="0" cy="7632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72000" y="6095880"/>
              <a:ext cx="0" cy="7632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4343400" y="6096600"/>
              <a:ext cx="1294920" cy="30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800000"/>
                </a:path>
              </a:pathLst>
            </a:custGeom>
            <a:noFill/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1d75"/>
            </a:gs>
            <a:gs pos="50000">
              <a:srgbClr val="3333cc"/>
            </a:gs>
            <a:gs pos="100000">
              <a:srgbClr val="1d1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8088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IDENTIFICAZIONE  GENE  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83808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5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per assicurarsi che i segmenti isolati, mediante le tecniche del              walking e del jumping, coincidessero con la sequenza geno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652760" y="1870200"/>
            <a:ext cx="49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bridi di cellule somatiche uomo-to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ppe di restri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" y="29718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5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per individuare le sequenze codifica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1676520" y="3581280"/>
            <a:ext cx="6507360" cy="2973600"/>
            <a:chOff x="1676520" y="3581280"/>
            <a:chExt cx="6507360" cy="2973600"/>
          </a:xfrm>
        </p:grpSpPr>
        <p:grpSp>
          <p:nvGrpSpPr>
            <p:cNvPr id="300" name=""/>
            <p:cNvGrpSpPr/>
            <p:nvPr/>
          </p:nvGrpSpPr>
          <p:grpSpPr>
            <a:xfrm>
              <a:off x="1676520" y="3581280"/>
              <a:ext cx="6507360" cy="825480"/>
              <a:chOff x="1676520" y="3581280"/>
              <a:chExt cx="6507360" cy="825480"/>
            </a:xfrm>
          </p:grpSpPr>
          <p:sp>
            <p:nvSpPr>
              <p:cNvPr id="301" name=""/>
              <p:cNvSpPr/>
              <p:nvPr/>
            </p:nvSpPr>
            <p:spPr>
              <a:xfrm>
                <a:off x="1676520" y="3581280"/>
                <a:ext cx="37065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buClr>
                    <a:srgbClr val="ffcc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cross-species hybridiza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410080" y="3809880"/>
                <a:ext cx="45684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866560" y="3581280"/>
                <a:ext cx="231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4 regioni (280kb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364840" y="5029200"/>
              <a:ext cx="4827600" cy="870120"/>
              <a:chOff x="2364840" y="5029200"/>
              <a:chExt cx="4827600" cy="870120"/>
            </a:xfrm>
          </p:grpSpPr>
          <p:sp>
            <p:nvSpPr>
              <p:cNvPr id="305" name=""/>
              <p:cNvSpPr/>
              <p:nvPr/>
            </p:nvSpPr>
            <p:spPr>
              <a:xfrm>
                <a:off x="2743200" y="5899320"/>
                <a:ext cx="396180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743200" y="5365800"/>
                <a:ext cx="0" cy="5335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364840" y="50612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1600" spc="-1" strike="noStrike">
                    <a:solidFill>
                      <a:srgbClr val="ff3300"/>
                    </a:solidFill>
                    <a:latin typeface="Times New Roman"/>
                  </a:rPr>
                  <a:t>EcoR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657600" y="5670720"/>
                <a:ext cx="0" cy="2286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354120" y="5334120"/>
                <a:ext cx="56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1600" spc="-1" strike="noStrike">
                    <a:solidFill>
                      <a:srgbClr val="ff3300"/>
                    </a:solidFill>
                    <a:latin typeface="Times New Roman"/>
                  </a:rPr>
                  <a:t>Xb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029200" y="5518440"/>
                <a:ext cx="0" cy="3808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651200" y="5213520"/>
                <a:ext cx="788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1600" spc="-1" strike="noStrike">
                    <a:solidFill>
                      <a:srgbClr val="ff3300"/>
                    </a:solidFill>
                    <a:latin typeface="Times New Roman"/>
                  </a:rPr>
                  <a:t>HindII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324480" y="5365800"/>
                <a:ext cx="0" cy="5335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946120" y="502920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1600" spc="-1" strike="noStrike">
                    <a:solidFill>
                      <a:srgbClr val="ff3300"/>
                    </a:solidFill>
                    <a:latin typeface="Times New Roman"/>
                  </a:rPr>
                  <a:t>EcoR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705360" y="5670720"/>
                <a:ext cx="0" cy="2286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403680" y="5365800"/>
                <a:ext cx="788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1600" spc="-1" strike="noStrike">
                    <a:solidFill>
                      <a:srgbClr val="ff3300"/>
                    </a:solidFill>
                    <a:latin typeface="Times New Roman"/>
                  </a:rPr>
                  <a:t>HindII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2743200" y="4876560"/>
              <a:ext cx="3504960" cy="152280"/>
              <a:chOff x="2743200" y="4876560"/>
              <a:chExt cx="3504960" cy="152280"/>
            </a:xfrm>
          </p:grpSpPr>
          <p:sp>
            <p:nvSpPr>
              <p:cNvPr id="317" name=""/>
              <p:cNvSpPr/>
              <p:nvPr/>
            </p:nvSpPr>
            <p:spPr>
              <a:xfrm flipV="1">
                <a:off x="2743200" y="487656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743200" y="4876920"/>
                <a:ext cx="35049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>
                <a:off x="6248160" y="487656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5029200" y="4647960"/>
              <a:ext cx="1752480" cy="152280"/>
              <a:chOff x="5029200" y="4647960"/>
              <a:chExt cx="1752480" cy="152280"/>
            </a:xfrm>
          </p:grpSpPr>
          <p:sp>
            <p:nvSpPr>
              <p:cNvPr id="321" name=""/>
              <p:cNvSpPr/>
              <p:nvPr/>
            </p:nvSpPr>
            <p:spPr>
              <a:xfrm flipV="1">
                <a:off x="5029200" y="464796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V="1">
                <a:off x="6781680" y="464796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029200" y="4648320"/>
                <a:ext cx="17524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2957040" y="4457880"/>
              <a:ext cx="60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E4.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19720" y="426708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H1.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638680" y="5638680"/>
              <a:ext cx="0" cy="5335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258880" y="6186600"/>
              <a:ext cx="87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00"/>
                  </a:solidFill>
                  <a:latin typeface="Times New Roman"/>
                </a:rPr>
                <a:t>Esone 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233280" y="6095880"/>
            <a:ext cx="205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Rommens </a:t>
            </a:r>
            <a:r>
              <a:rPr b="0" i="1" lang="it-IT" sz="1600" spc="-1" strike="noStrike">
                <a:solidFill>
                  <a:srgbClr val="ffffff"/>
                </a:solidFill>
                <a:latin typeface="Times New Roman"/>
              </a:rPr>
              <a:t>et al. (198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Riordan</a:t>
            </a:r>
            <a:r>
              <a:rPr b="0" i="1" lang="it-IT" sz="1600" spc="-1" strike="noStrike">
                <a:solidFill>
                  <a:srgbClr val="ffffff"/>
                </a:solidFill>
                <a:latin typeface="Times New Roman"/>
              </a:rPr>
              <a:t> et al. (198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1d75"/>
            </a:gs>
            <a:gs pos="50000">
              <a:srgbClr val="3333cc"/>
            </a:gs>
            <a:gs pos="100000">
              <a:srgbClr val="1d1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8088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IDENTIFICAZIONE  GENE  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4920" y="8380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5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per individuare le sequenze codifica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497600" y="1463760"/>
            <a:ext cx="336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individuare O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CpG is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ibridazione RNA/cD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33280" y="6095880"/>
            <a:ext cx="205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Rommens </a:t>
            </a:r>
            <a:r>
              <a:rPr b="0" i="1" lang="it-IT" sz="1600" spc="-1" strike="noStrike">
                <a:solidFill>
                  <a:srgbClr val="ffffff"/>
                </a:solidFill>
                <a:latin typeface="Times New Roman"/>
              </a:rPr>
              <a:t>et al. (198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Riordan</a:t>
            </a:r>
            <a:r>
              <a:rPr b="0" i="1" lang="it-IT" sz="1600" spc="-1" strike="noStrike">
                <a:solidFill>
                  <a:srgbClr val="ffffff"/>
                </a:solidFill>
                <a:latin typeface="Times New Roman"/>
              </a:rPr>
              <a:t> et al. (198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FC%20Tessuti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3176640" cy="34290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 flipH="1">
            <a:off x="6324120" y="4419720"/>
            <a:ext cx="228600" cy="0"/>
          </a:xfrm>
          <a:prstGeom prst="line">
            <a:avLst/>
          </a:prstGeom>
          <a:ln w="1908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554880" y="423540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5050"/>
                </a:solidFill>
                <a:latin typeface="Times New Roman"/>
              </a:rPr>
              <a:t>6.5 k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8T15:51:22Z</dcterms:created>
  <dc:creator>User</dc:creator>
  <dc:description/>
  <dc:language>en-US</dc:language>
  <cp:lastModifiedBy>User</cp:lastModifiedBy>
  <dcterms:modified xsi:type="dcterms:W3CDTF">2005-05-11T11:41:13Z</dcterms:modified>
  <cp:revision>76</cp:revision>
  <dc:subject/>
  <dc:title>Presentazione di PowerPoint</dc:title>
</cp:coreProperties>
</file>