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pct" ContentType="image/x-pict"/>
  <Override PartName="/ppt/media/image58.png" ContentType="image/png"/>
  <Override PartName="/ppt/media/image55.pct" ContentType="image/x-pict"/>
  <Override PartName="/ppt/media/image3.jpeg" ContentType="image/jpeg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15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22.pct" ContentType="image/x-pict"/>
  <Override PartName="/ppt/media/image23.pct" ContentType="image/x-pict"/>
  <Override PartName="/ppt/media/image34.pct" ContentType="image/x-pict"/>
  <Override PartName="/ppt/media/image16.pct" ContentType="image/x-pict"/>
  <Override PartName="/ppt/media/image4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14.pct" ContentType="image/x-pict"/>
  <Override PartName="/ppt/media/image2.pct" ContentType="image/x-pict"/>
  <Override PartName="/ppt/media/image70.pct" ContentType="image/x-pict"/>
  <Override PartName="/ppt/media/image28.pct" ContentType="image/x-pict"/>
  <Override PartName="/ppt/media/image68.pct" ContentType="image/x-pict"/>
  <Override PartName="/ppt/media/image31.pct" ContentType="image/x-pict"/>
  <Override PartName="/ppt/media/image67.pct" ContentType="image/x-pict"/>
  <Override PartName="/ppt/media/image30.pct" ContentType="image/x-pict"/>
  <Override PartName="/ppt/media/image66.pct" ContentType="image/x-pict"/>
  <Override PartName="/ppt/media/image65.pct" ContentType="image/x-pict"/>
  <Override PartName="/ppt/media/image27.pct" ContentType="image/x-pict"/>
  <Override PartName="/ppt/media/image64.pct" ContentType="image/x-pict"/>
  <Override PartName="/ppt/media/image60.jpeg" ContentType="image/jpeg"/>
  <Override PartName="/ppt/media/image25.pct" ContentType="image/x-pict"/>
  <Override PartName="/ppt/media/image62.pct" ContentType="image/x-pict"/>
  <Override PartName="/ppt/media/image24.pct" ContentType="image/x-pict"/>
  <Override PartName="/ppt/media/image61.pct" ContentType="image/x-pict"/>
  <Override PartName="/ppt/media/image63.pct" ContentType="image/x-pict"/>
  <Override PartName="/ppt/media/image26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media/image1.pct" ContentType="image/x-pict"/>
  <Override PartName="/ppt/media/image13.pct" ContentType="image/x-pict"/>
  <Override PartName="/ppt/media/image9.pct" ContentType="image/x-pict"/>
  <Override PartName="/ppt/media/image39.pct" ContentType="image/x-pict"/>
  <Override PartName="/ppt/media/image33.pct" ContentType="image/x-pict"/>
  <Override PartName="/ppt/media/image40.pct" ContentType="image/x-pict"/>
  <Override PartName="/ppt/media/image41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E3-986A-4838-A7F8-74E17DAC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B38-0665-4AAB-82D3-56E5A9F0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B8A-34F8-493A-8DC9-2809189E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C02-BBFB-4B58-8CCB-5654174A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611-D9E4-48AE-B14D-2D11B421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227-F039-45CC-8440-21CEC63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B57-423B-480E-B421-C64E4DD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745-3991-40F9-A345-C748015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E9D-13D3-4DF8-97DA-7DFD89C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80D-1312-448E-989A-CCF9D577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652-0B45-4B27-AFA1-89D148B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FE4-87CC-4C2E-BCB4-5A25D35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04C1-C7F7-4BC1-BBAD-176CD01E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image" Target="../media/image9.pct"/><Relationship Id="rId6" Type="http://schemas.openxmlformats.org/officeDocument/2006/relationships/image" Target="../media/image8.pct"/><Relationship Id="rId7" Type="http://schemas.openxmlformats.org/officeDocument/2006/relationships/image" Target="../media/image10.pct"/><Relationship Id="rId8" Type="http://schemas.openxmlformats.org/officeDocument/2006/relationships/image" Target="../media/image11.pct"/><Relationship Id="rId9" Type="http://schemas.openxmlformats.org/officeDocument/2006/relationships/image" Target="../media/image12.pct"/><Relationship Id="rId10" Type="http://schemas.openxmlformats.org/officeDocument/2006/relationships/image" Target="../media/image13.pct"/><Relationship Id="rId11" Type="http://schemas.openxmlformats.org/officeDocument/2006/relationships/image" Target="../media/image12.pct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image" Target="../media/image20.pct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ct"/><Relationship Id="rId6" Type="http://schemas.openxmlformats.org/officeDocument/2006/relationships/image" Target="../media/image26.pct"/><Relationship Id="rId7" Type="http://schemas.openxmlformats.org/officeDocument/2006/relationships/image" Target="../media/image27.pct"/><Relationship Id="rId8" Type="http://schemas.openxmlformats.org/officeDocument/2006/relationships/image" Target="../media/image28.pct"/><Relationship Id="rId9" Type="http://schemas.openxmlformats.org/officeDocument/2006/relationships/image" Target="../media/image29.pct"/><Relationship Id="rId10" Type="http://schemas.openxmlformats.org/officeDocument/2006/relationships/image" Target="../media/image30.pct"/><Relationship Id="rId11" Type="http://schemas.openxmlformats.org/officeDocument/2006/relationships/image" Target="../media/image5.pct"/><Relationship Id="rId12" Type="http://schemas.openxmlformats.org/officeDocument/2006/relationships/image" Target="../media/image10.pct"/><Relationship Id="rId13" Type="http://schemas.openxmlformats.org/officeDocument/2006/relationships/image" Target="../media/image13.pct"/><Relationship Id="rId14" Type="http://schemas.openxmlformats.org/officeDocument/2006/relationships/image" Target="../media/image12.pct"/><Relationship Id="rId1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image" Target="../media/image40.pct"/><Relationship Id="rId10" Type="http://schemas.openxmlformats.org/officeDocument/2006/relationships/image" Target="../media/image41.pct"/><Relationship Id="rId11" Type="http://schemas.openxmlformats.org/officeDocument/2006/relationships/image" Target="../media/image42.pct"/><Relationship Id="rId12" Type="http://schemas.openxmlformats.org/officeDocument/2006/relationships/image" Target="../media/image43.pct"/><Relationship Id="rId13" Type="http://schemas.openxmlformats.org/officeDocument/2006/relationships/image" Target="../media/image44.pct"/><Relationship Id="rId14" Type="http://schemas.openxmlformats.org/officeDocument/2006/relationships/image" Target="../media/image45.pct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image" Target="../media/image49.pct"/><Relationship Id="rId5" Type="http://schemas.openxmlformats.org/officeDocument/2006/relationships/image" Target="../media/image50.pct"/><Relationship Id="rId6" Type="http://schemas.openxmlformats.org/officeDocument/2006/relationships/image" Target="../media/image51.pct"/><Relationship Id="rId7" Type="http://schemas.openxmlformats.org/officeDocument/2006/relationships/image" Target="../media/image52.pct"/><Relationship Id="rId8" Type="http://schemas.openxmlformats.org/officeDocument/2006/relationships/image" Target="../media/image53.pct"/><Relationship Id="rId9" Type="http://schemas.openxmlformats.org/officeDocument/2006/relationships/image" Target="../media/image54.pct"/><Relationship Id="rId10" Type="http://schemas.openxmlformats.org/officeDocument/2006/relationships/image" Target="../media/image55.pct"/><Relationship Id="rId11" Type="http://schemas.openxmlformats.org/officeDocument/2006/relationships/image" Target="../media/image56.pct"/><Relationship Id="rId12" Type="http://schemas.openxmlformats.org/officeDocument/2006/relationships/image" Target="../media/image57.pct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ct"/><Relationship Id="rId3" Type="http://schemas.openxmlformats.org/officeDocument/2006/relationships/image" Target="../media/image62.pct"/><Relationship Id="rId4" Type="http://schemas.openxmlformats.org/officeDocument/2006/relationships/image" Target="../media/image63.pct"/><Relationship Id="rId5" Type="http://schemas.openxmlformats.org/officeDocument/2006/relationships/image" Target="../media/image64.pct"/><Relationship Id="rId6" Type="http://schemas.openxmlformats.org/officeDocument/2006/relationships/image" Target="../media/image65.pct"/><Relationship Id="rId7" Type="http://schemas.openxmlformats.org/officeDocument/2006/relationships/image" Target="../media/image66.pct"/><Relationship Id="rId8" Type="http://schemas.openxmlformats.org/officeDocument/2006/relationships/image" Target="../media/image67.pct"/><Relationship Id="rId9" Type="http://schemas.openxmlformats.org/officeDocument/2006/relationships/image" Target="../media/image68.pct"/><Relationship Id="rId10" Type="http://schemas.openxmlformats.org/officeDocument/2006/relationships/image" Target="../media/image69.pct"/><Relationship Id="rId11" Type="http://schemas.openxmlformats.org/officeDocument/2006/relationships/image" Target="../media/image70.pct"/><Relationship Id="rId12" Type="http://schemas.openxmlformats.org/officeDocument/2006/relationships/image" Target="../media/image71.pct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482"/>
                </a:solidFill>
                <a:latin typeface="Comic Sans MS"/>
              </a:rPr>
              <a:t>Mutazioni cromosom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120" y="1447920"/>
            <a:ext cx="896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distinguono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numero (varia il numero totale dei cromoso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struttura (varia la struttura del/i cromosoma/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1840" y="536112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24"/>
                </a:solidFill>
                <a:latin typeface="Comic Sans MS"/>
              </a:rPr>
              <a:t>Mutazioni cromosomiche di numero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895480" y="609480"/>
          <a:ext cx="5532480" cy="5983560"/>
        </p:xfrm>
        <a:graphic>
          <a:graphicData uri="http://schemas.openxmlformats.org/drawingml/2006/table">
            <a:tbl>
              <a:tblPr/>
              <a:tblGrid>
                <a:gridCol w="2766960"/>
                <a:gridCol w="276552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7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9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4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Totale dalla 2</a:t>
                      </a:r>
                      <a:r>
                        <a:rPr b="0" lang="en-US" sz="16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-7</a:t>
                      </a:r>
                      <a:r>
                        <a:rPr b="0" lang="en-US" sz="16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6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Totale dall’ 8</a:t>
                      </a:r>
                      <a:r>
                        <a:rPr b="0" lang="en-US" sz="16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-12</a:t>
                      </a:r>
                      <a:r>
                        <a:rPr b="0" lang="en-US" sz="16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extile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extile"/>
                        </a:rPr>
                        <a:t>6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819520" y="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1101"/>
                </a:solidFill>
                <a:latin typeface="Textile"/>
              </a:rPr>
              <a:t>ETA’ GESTAZIONALE (settim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1101"/>
                </a:solidFill>
                <a:latin typeface="Textile"/>
              </a:rPr>
              <a:t>PERCENTUALE DELLE ANOMA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424"/>
                </a:solidFill>
                <a:latin typeface="Textile"/>
              </a:rPr>
              <a:t>Anomalie cromosomiche </a:t>
            </a:r>
            <a:br>
              <a:rPr sz="1800"/>
            </a:br>
            <a:r>
              <a:rPr b="1" lang="en-US" sz="1800" spc="-1" strike="noStrike">
                <a:solidFill>
                  <a:srgbClr val="ff1424"/>
                </a:solidFill>
                <a:latin typeface="Textile"/>
              </a:rPr>
              <a:t>ed eta' ges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1482"/>
                </a:solidFill>
                <a:latin typeface="Comic Sans MS"/>
              </a:rPr>
              <a:t>Mutazioni cromosomiche di struttur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9880" y="2308320"/>
            <a:ext cx="73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. duplicazioni e dele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5160" y="3222720"/>
            <a:ext cx="35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. inver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34040" y="4213080"/>
            <a:ext cx="43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. trasloca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62760" y="5148360"/>
            <a:ext cx="66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. cromosomi ad ane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1482"/>
                </a:solidFill>
                <a:latin typeface="Comic Sans MS"/>
              </a:rPr>
              <a:t>INVERSION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57440" y="213372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meccanismo di formazione delle inver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937040" cy="6854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495680" y="56386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7760" y="515304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c’è perdita di materiale gene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5638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600" spc="-1" strike="noStrike">
                <a:solidFill>
                  <a:srgbClr val="ff1482"/>
                </a:solidFill>
                <a:latin typeface="Comic Sans MS"/>
              </a:rPr>
              <a:t>Inversion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1040" y="1905120"/>
            <a:ext cx="2801880" cy="4419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52280" y="2127240"/>
            <a:ext cx="835200" cy="3876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06880" y="2362320"/>
            <a:ext cx="755640" cy="3644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906640" y="3394080"/>
            <a:ext cx="389160" cy="125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982800" y="3375000"/>
            <a:ext cx="345960" cy="13302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1482480" y="3459240"/>
            <a:ext cx="1260000" cy="1386720"/>
            <a:chOff x="1482480" y="3459240"/>
            <a:chExt cx="1260000" cy="1386720"/>
          </a:xfrm>
        </p:grpSpPr>
        <p:sp>
          <p:nvSpPr>
            <p:cNvPr id="237" name=""/>
            <p:cNvSpPr/>
            <p:nvPr/>
          </p:nvSpPr>
          <p:spPr>
            <a:xfrm>
              <a:off x="2238480" y="3459240"/>
              <a:ext cx="504000" cy="1134360"/>
            </a:xfrm>
            <a:custGeom>
              <a:avLst/>
              <a:gdLst>
                <a:gd name="textAreaLeft" fmla="*/ 67320 w 504000"/>
                <a:gd name="textAreaRight" fmla="*/ 436680 w 50400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36230"/>
                  <a:lnTo>
                    <a:pt x="6300" y="21271"/>
                  </a:lnTo>
                  <a:lnTo>
                    <a:pt x="0" y="17280"/>
                  </a:lnTo>
                  <a:lnTo>
                    <a:pt x="6300" y="12631"/>
                  </a:lnTo>
                  <a:lnTo>
                    <a:pt x="6300" y="14791"/>
                  </a:lnTo>
                  <a:arcTo wR="21600" hR="7560" stAng="2936230" swAng="-257879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482120" y="3711600"/>
              <a:ext cx="629640" cy="1134360"/>
            </a:xfrm>
            <a:custGeom>
              <a:avLst/>
              <a:gdLst>
                <a:gd name="textAreaLeft" fmla="*/ 84240 w 629640"/>
                <a:gd name="textAreaRight" fmla="*/ 545400 w 62964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416400" y="3384720"/>
            <a:ext cx="388800" cy="125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495680" y="2336760"/>
            <a:ext cx="546120" cy="3765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4998960" y="4245120"/>
            <a:ext cx="393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520960" y="4251240"/>
            <a:ext cx="1260000" cy="1386720"/>
            <a:chOff x="5520960" y="4251240"/>
            <a:chExt cx="1260000" cy="1386720"/>
          </a:xfrm>
        </p:grpSpPr>
        <p:sp>
          <p:nvSpPr>
            <p:cNvPr id="243" name=""/>
            <p:cNvSpPr/>
            <p:nvPr/>
          </p:nvSpPr>
          <p:spPr>
            <a:xfrm>
              <a:off x="6276960" y="4251240"/>
              <a:ext cx="504000" cy="1134360"/>
            </a:xfrm>
            <a:custGeom>
              <a:avLst/>
              <a:gdLst>
                <a:gd name="textAreaLeft" fmla="*/ 67320 w 504000"/>
                <a:gd name="textAreaRight" fmla="*/ 436680 w 50400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36230"/>
                  <a:lnTo>
                    <a:pt x="6300" y="21271"/>
                  </a:lnTo>
                  <a:lnTo>
                    <a:pt x="0" y="17280"/>
                  </a:lnTo>
                  <a:lnTo>
                    <a:pt x="6300" y="12631"/>
                  </a:lnTo>
                  <a:lnTo>
                    <a:pt x="6300" y="14791"/>
                  </a:lnTo>
                  <a:arcTo wR="21600" hR="7560" stAng="2936230" swAng="-257879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520600" y="4503600"/>
              <a:ext cx="629640" cy="1134360"/>
            </a:xfrm>
            <a:custGeom>
              <a:avLst/>
              <a:gdLst>
                <a:gd name="textAreaLeft" fmla="*/ 84240 w 629640"/>
                <a:gd name="textAreaRight" fmla="*/ 545400 w 62964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6858000" y="4248000"/>
            <a:ext cx="393840" cy="1314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94720" y="178740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1119"/>
                </a:solidFill>
                <a:latin typeface="Comic Sans MS"/>
              </a:rPr>
              <a:t>inversione pericen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4720" y="177480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1119"/>
                </a:solidFill>
                <a:latin typeface="Comic Sans MS"/>
              </a:rPr>
              <a:t>inversione paracen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7272360" y="2514600"/>
            <a:ext cx="500040" cy="3505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7346880" y="4267080"/>
            <a:ext cx="3826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Conseguenze di una inversione perice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925720" y="600120"/>
            <a:ext cx="3689280" cy="847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371600"/>
            <a:ext cx="0" cy="42552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62240" y="1801800"/>
            <a:ext cx="5038560" cy="2063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292480" y="2341440"/>
            <a:ext cx="4965480" cy="2692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648320" y="4114800"/>
            <a:ext cx="0" cy="52056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0000" y="22906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1119"/>
                </a:solidFill>
                <a:latin typeface="Comic Sans MS"/>
              </a:rPr>
              <a:t>Profas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94160" y="1066680"/>
            <a:ext cx="3090960" cy="1141920"/>
            <a:chOff x="794160" y="1066680"/>
            <a:chExt cx="3090960" cy="1141920"/>
          </a:xfrm>
        </p:grpSpPr>
        <p:sp>
          <p:nvSpPr>
            <p:cNvPr id="258" name=""/>
            <p:cNvSpPr/>
            <p:nvPr/>
          </p:nvSpPr>
          <p:spPr>
            <a:xfrm flipH="1" flipV="1">
              <a:off x="2869560" y="1490400"/>
              <a:ext cx="1015560" cy="718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4160" y="1066680"/>
              <a:ext cx="17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1119"/>
                  </a:solidFill>
                  <a:latin typeface="Comic Sans MS"/>
                </a:rPr>
                <a:t>Crossing 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64280" y="4495680"/>
            <a:ext cx="7157160" cy="618480"/>
            <a:chOff x="764280" y="4495680"/>
            <a:chExt cx="7157160" cy="618480"/>
          </a:xfrm>
        </p:grpSpPr>
        <p:pic>
          <p:nvPicPr>
            <p:cNvPr id="261" name="" descr=""/>
            <p:cNvPicPr/>
            <p:nvPr/>
          </p:nvPicPr>
          <p:blipFill>
            <a:blip r:embed="rId4"/>
            <a:stretch/>
          </p:blipFill>
          <p:spPr>
            <a:xfrm>
              <a:off x="4460760" y="4623840"/>
              <a:ext cx="3460680" cy="4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64280" y="44956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 </a:t>
              </a: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Normale: tutti i geni pres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42280" y="4983120"/>
            <a:ext cx="5765760" cy="731160"/>
            <a:chOff x="1142280" y="4983120"/>
            <a:chExt cx="5765760" cy="73116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4691880" y="5159520"/>
              <a:ext cx="221616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142280" y="4983120"/>
              <a:ext cx="228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Delezioni/duplicazion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EFGH deleti/A duplic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847080" y="5638680"/>
            <a:ext cx="7074000" cy="596520"/>
            <a:chOff x="847080" y="5638680"/>
            <a:chExt cx="7074000" cy="596520"/>
          </a:xfrm>
        </p:grpSpPr>
        <p:pic>
          <p:nvPicPr>
            <p:cNvPr id="267" name="" descr=""/>
            <p:cNvPicPr/>
            <p:nvPr/>
          </p:nvPicPr>
          <p:blipFill>
            <a:blip r:embed="rId6"/>
            <a:stretch/>
          </p:blipFill>
          <p:spPr>
            <a:xfrm>
              <a:off x="4363560" y="5778360"/>
              <a:ext cx="35575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847080" y="5638680"/>
              <a:ext cx="280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Invertito: tutti i geni pres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5440" y="6202440"/>
            <a:ext cx="8105400" cy="655200"/>
            <a:chOff x="685440" y="6202440"/>
            <a:chExt cx="8105400" cy="655200"/>
          </a:xfrm>
        </p:grpSpPr>
        <p:pic>
          <p:nvPicPr>
            <p:cNvPr id="270" name="" descr=""/>
            <p:cNvPicPr/>
            <p:nvPr/>
          </p:nvPicPr>
          <p:blipFill>
            <a:blip r:embed="rId7"/>
            <a:stretch/>
          </p:blipFill>
          <p:spPr>
            <a:xfrm>
              <a:off x="4071960" y="6429960"/>
              <a:ext cx="4718880" cy="4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85440" y="6202440"/>
              <a:ext cx="228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Delezioni/duplicazion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1119"/>
                  </a:solidFill>
                  <a:latin typeface="Comic Sans MS"/>
                </a:rPr>
                <a:t>A deleto/EFGH duplic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1523880"/>
            <a:ext cx="1447920" cy="685800"/>
          </a:xfrm>
          <a:prstGeom prst="line">
            <a:avLst/>
          </a:prstGeom>
          <a:ln w="28440">
            <a:solidFill>
              <a:srgbClr val="ff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1482"/>
                </a:solidFill>
                <a:latin typeface="Comic Sans MS"/>
              </a:rPr>
              <a:t>CONSEGUENZE DI UNA INVERSIONE PARACENTR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5562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27432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6019920" y="1523880"/>
            <a:ext cx="1266120" cy="381240"/>
            <a:chOff x="6019920" y="1523880"/>
            <a:chExt cx="1266120" cy="381240"/>
          </a:xfrm>
        </p:grpSpPr>
        <p:sp>
          <p:nvSpPr>
            <p:cNvPr id="277" name=""/>
            <p:cNvSpPr/>
            <p:nvPr/>
          </p:nvSpPr>
          <p:spPr>
            <a:xfrm>
              <a:off x="6019920" y="1523880"/>
              <a:ext cx="0" cy="38124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59320" y="15238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1119"/>
                  </a:solidFill>
                  <a:latin typeface="Comic Sans MS"/>
                </a:rPr>
                <a:t>Prof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2799000" cy="1481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2679480" cy="987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943600" y="3886200"/>
            <a:ext cx="1646280" cy="55728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3717720" y="1447920"/>
            <a:ext cx="1844640" cy="685800"/>
            <a:chOff x="3717720" y="1447920"/>
            <a:chExt cx="1844640" cy="685800"/>
          </a:xfrm>
        </p:grpSpPr>
        <p:sp>
          <p:nvSpPr>
            <p:cNvPr id="283" name=""/>
            <p:cNvSpPr/>
            <p:nvPr/>
          </p:nvSpPr>
          <p:spPr>
            <a:xfrm flipH="1" flipV="1">
              <a:off x="4952880" y="1676520"/>
              <a:ext cx="609480" cy="457200"/>
            </a:xfrm>
            <a:prstGeom prst="line">
              <a:avLst/>
            </a:prstGeom>
            <a:ln w="19080">
              <a:solidFill>
                <a:srgbClr val="ff111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17720" y="14479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1119"/>
                  </a:solidFill>
                  <a:latin typeface="Comic Sans MS"/>
                </a:rPr>
                <a:t>Crossing 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4869000" y="4729680"/>
            <a:ext cx="576000" cy="44640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806720" y="3276720"/>
            <a:ext cx="1308240" cy="380880"/>
            <a:chOff x="4806720" y="3276720"/>
            <a:chExt cx="1308240" cy="380880"/>
          </a:xfrm>
        </p:grpSpPr>
        <p:sp>
          <p:nvSpPr>
            <p:cNvPr id="287" name=""/>
            <p:cNvSpPr/>
            <p:nvPr/>
          </p:nvSpPr>
          <p:spPr>
            <a:xfrm>
              <a:off x="6114960" y="3276720"/>
              <a:ext cx="0" cy="38088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6720" y="3395520"/>
              <a:ext cx="73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1119"/>
                  </a:solidFill>
                  <a:latin typeface="Comic Sans MS"/>
                </a:rPr>
                <a:t>Anafase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73240" y="3498480"/>
            <a:ext cx="4618080" cy="1151280"/>
            <a:chOff x="2973240" y="3498480"/>
            <a:chExt cx="4618080" cy="1151280"/>
          </a:xfrm>
        </p:grpSpPr>
        <p:grpSp>
          <p:nvGrpSpPr>
            <p:cNvPr id="290" name=""/>
            <p:cNvGrpSpPr/>
            <p:nvPr/>
          </p:nvGrpSpPr>
          <p:grpSpPr>
            <a:xfrm>
              <a:off x="2973240" y="3498480"/>
              <a:ext cx="2258640" cy="1151280"/>
              <a:chOff x="2973240" y="3498480"/>
              <a:chExt cx="2258640" cy="1151280"/>
            </a:xfrm>
          </p:grpSpPr>
          <p:sp>
            <p:nvSpPr>
              <p:cNvPr id="291" name=""/>
              <p:cNvSpPr/>
              <p:nvPr/>
            </p:nvSpPr>
            <p:spPr>
              <a:xfrm rot="19554000">
                <a:off x="4572000" y="3504960"/>
                <a:ext cx="372960" cy="1137960"/>
              </a:xfrm>
              <a:prstGeom prst="lightningBolt">
                <a:avLst/>
              </a:prstGeom>
              <a:solidFill>
                <a:srgbClr val="ff11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3240" y="3505320"/>
                <a:ext cx="1323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1119"/>
                    </a:solidFill>
                    <a:latin typeface="Comic Sans MS"/>
                  </a:rPr>
                  <a:t>Rottura casuale d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1119"/>
                    </a:solidFill>
                    <a:latin typeface="Comic Sans MS"/>
                  </a:rPr>
                  <a:t>Ponte dicentri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165360" y="400536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1119"/>
                  </a:solidFill>
                  <a:latin typeface="Comic Sans MS"/>
                </a:rPr>
                <a:t>Perdita dell’acentr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3048120" y="5334120"/>
            <a:ext cx="2305080" cy="8683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57800" y="5638680"/>
            <a:ext cx="874080" cy="289080"/>
            <a:chOff x="5257800" y="5638680"/>
            <a:chExt cx="874080" cy="289080"/>
          </a:xfrm>
        </p:grpSpPr>
        <p:sp>
          <p:nvSpPr>
            <p:cNvPr id="296" name=""/>
            <p:cNvSpPr/>
            <p:nvPr/>
          </p:nvSpPr>
          <p:spPr>
            <a:xfrm flipH="1">
              <a:off x="5257800" y="5638680"/>
              <a:ext cx="533520" cy="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53920" y="56815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1119"/>
                  </a:solidFill>
                  <a:latin typeface="Comic Sans MS"/>
                </a:rPr>
                <a:t>Anafase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912080" y="3970440"/>
            <a:ext cx="1211040" cy="2495880"/>
            <a:chOff x="7912080" y="3970440"/>
            <a:chExt cx="1211040" cy="249588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8229600" y="3970440"/>
              <a:ext cx="228600" cy="22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"/>
            <a:stretch/>
          </p:blipFill>
          <p:spPr>
            <a:xfrm>
              <a:off x="8610480" y="4010400"/>
              <a:ext cx="25560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912080" y="6220080"/>
              <a:ext cx="12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1119"/>
                  </a:solidFill>
                  <a:latin typeface="Comic Sans MS"/>
                </a:rPr>
                <a:t>Prodotti comple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187320" y="4800600"/>
            <a:ext cx="1026720" cy="1694160"/>
            <a:chOff x="6187320" y="4800600"/>
            <a:chExt cx="1026720" cy="1694160"/>
          </a:xfrm>
        </p:grpSpPr>
        <p:grpSp>
          <p:nvGrpSpPr>
            <p:cNvPr id="303" name=""/>
            <p:cNvGrpSpPr/>
            <p:nvPr/>
          </p:nvGrpSpPr>
          <p:grpSpPr>
            <a:xfrm>
              <a:off x="6187320" y="4800600"/>
              <a:ext cx="1026720" cy="1694160"/>
              <a:chOff x="6187320" y="4800600"/>
              <a:chExt cx="1026720" cy="1694160"/>
            </a:xfrm>
          </p:grpSpPr>
          <p:pic>
            <p:nvPicPr>
              <p:cNvPr id="3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519960" y="5045040"/>
                <a:ext cx="20952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81680" y="4800600"/>
                <a:ext cx="247680" cy="15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6187320" y="6248520"/>
                <a:ext cx="102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1119"/>
                    </a:solidFill>
                    <a:latin typeface="Comic Sans MS"/>
                  </a:rPr>
                  <a:t>Prodotti delet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743880" y="4800600"/>
              <a:ext cx="0" cy="144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52280" y="1981080"/>
            <a:ext cx="2286000" cy="4647960"/>
            <a:chOff x="152280" y="1981080"/>
            <a:chExt cx="2286000" cy="4647960"/>
          </a:xfrm>
        </p:grpSpPr>
        <p:pic>
          <p:nvPicPr>
            <p:cNvPr id="309" name="" descr=""/>
            <p:cNvPicPr/>
            <p:nvPr/>
          </p:nvPicPr>
          <p:blipFill>
            <a:blip r:embed="rId11"/>
            <a:stretch/>
          </p:blipFill>
          <p:spPr>
            <a:xfrm>
              <a:off x="152280" y="1981080"/>
              <a:ext cx="2286000" cy="46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2"/>
            <a:stretch/>
          </p:blipFill>
          <p:spPr>
            <a:xfrm>
              <a:off x="213120" y="3303360"/>
              <a:ext cx="259200" cy="23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1" name=""/>
            <p:cNvGrpSpPr/>
            <p:nvPr/>
          </p:nvGrpSpPr>
          <p:grpSpPr>
            <a:xfrm>
              <a:off x="892080" y="4392720"/>
              <a:ext cx="603720" cy="856440"/>
              <a:chOff x="892080" y="4392720"/>
              <a:chExt cx="603720" cy="856440"/>
            </a:xfrm>
          </p:grpSpPr>
          <p:sp>
            <p:nvSpPr>
              <p:cNvPr id="312" name=""/>
              <p:cNvSpPr/>
              <p:nvPr/>
            </p:nvSpPr>
            <p:spPr>
              <a:xfrm>
                <a:off x="1254240" y="4392720"/>
                <a:ext cx="241560" cy="700560"/>
              </a:xfrm>
              <a:custGeom>
                <a:avLst/>
                <a:gdLst>
                  <a:gd name="textAreaLeft" fmla="*/ 32400 w 241560"/>
                  <a:gd name="textAreaRight" fmla="*/ 209160 w 241560"/>
                  <a:gd name="textAreaTop" fmla="*/ 122400 h 700560"/>
                  <a:gd name="textAreaBottom" fmla="*/ 507960 h 70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936230"/>
                    <a:lnTo>
                      <a:pt x="6300" y="21271"/>
                    </a:lnTo>
                    <a:lnTo>
                      <a:pt x="0" y="17280"/>
                    </a:lnTo>
                    <a:lnTo>
                      <a:pt x="6300" y="12631"/>
                    </a:lnTo>
                    <a:lnTo>
                      <a:pt x="6300" y="14791"/>
                    </a:lnTo>
                    <a:arcTo wR="21600" hR="7560" stAng="2936230" swAng="-2578796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892080" y="4548600"/>
                <a:ext cx="301680" cy="700560"/>
              </a:xfrm>
              <a:custGeom>
                <a:avLst/>
                <a:gdLst>
                  <a:gd name="textAreaLeft" fmla="*/ 40320 w 301680"/>
                  <a:gd name="textAreaRight" fmla="*/ 261360 w 301680"/>
                  <a:gd name="textAreaTop" fmla="*/ 122400 h 700560"/>
                  <a:gd name="textAreaBottom" fmla="*/ 507960 h 70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4" name="" descr=""/>
            <p:cNvPicPr/>
            <p:nvPr/>
          </p:nvPicPr>
          <p:blipFill>
            <a:blip r:embed="rId13"/>
            <a:stretch/>
          </p:blipFill>
          <p:spPr>
            <a:xfrm>
              <a:off x="1963440" y="3303360"/>
              <a:ext cx="246240" cy="22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>
              <a:off x="1993320" y="4462200"/>
              <a:ext cx="188280" cy="81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visualizziamo le inversioni in </a:t>
            </a:r>
            <a:r>
              <a:rPr b="1" i="1" lang="it-IT" sz="3600" spc="-1" strike="noStrike">
                <a:solidFill>
                  <a:srgbClr val="ff1482"/>
                </a:solidFill>
                <a:latin typeface="Comic Sans MS"/>
              </a:rPr>
              <a:t>Drosophi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1089000"/>
            <a:ext cx="86868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TRASLOCAZ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076400" y="3308400"/>
            <a:ext cx="476280" cy="234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923760" y="3917880"/>
            <a:ext cx="228600" cy="1371600"/>
            <a:chOff x="923760" y="3917880"/>
            <a:chExt cx="228600" cy="1371600"/>
          </a:xfrm>
        </p:grpSpPr>
        <p:sp>
          <p:nvSpPr>
            <p:cNvPr id="321" name=""/>
            <p:cNvSpPr/>
            <p:nvPr/>
          </p:nvSpPr>
          <p:spPr>
            <a:xfrm>
              <a:off x="923760" y="3917880"/>
              <a:ext cx="228600" cy="76320"/>
            </a:xfrm>
            <a:prstGeom prst="lightningBol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23760" y="4680000"/>
              <a:ext cx="228600" cy="75960"/>
            </a:xfrm>
            <a:prstGeom prst="lightningBol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3760" y="5213160"/>
              <a:ext cx="228600" cy="76320"/>
            </a:xfrm>
            <a:prstGeom prst="lightningBol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8160" y="3394080"/>
            <a:ext cx="347760" cy="622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922400" y="4508640"/>
            <a:ext cx="247680" cy="831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916280" y="3994200"/>
            <a:ext cx="237960" cy="520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1914480" y="5337000"/>
            <a:ext cx="284040" cy="26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925640" y="641196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680" y="5670720"/>
            <a:ext cx="18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rasloc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ntracromos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n recip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905200" y="3232080"/>
            <a:ext cx="2819160" cy="3276720"/>
            <a:chOff x="2905200" y="3232080"/>
            <a:chExt cx="2819160" cy="3276720"/>
          </a:xfrm>
        </p:grpSpPr>
        <p:grpSp>
          <p:nvGrpSpPr>
            <p:cNvPr id="331" name=""/>
            <p:cNvGrpSpPr/>
            <p:nvPr/>
          </p:nvGrpSpPr>
          <p:grpSpPr>
            <a:xfrm>
              <a:off x="2905200" y="3232080"/>
              <a:ext cx="2818800" cy="3276720"/>
              <a:chOff x="2905200" y="3232080"/>
              <a:chExt cx="2818800" cy="3276720"/>
            </a:xfrm>
          </p:grpSpPr>
          <p:sp>
            <p:nvSpPr>
              <p:cNvPr id="332" name=""/>
              <p:cNvSpPr/>
              <p:nvPr/>
            </p:nvSpPr>
            <p:spPr>
              <a:xfrm>
                <a:off x="2905200" y="3232080"/>
                <a:ext cx="0" cy="32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05200" y="3232080"/>
                <a:ext cx="28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4000" y="3232080"/>
                <a:ext cx="0" cy="32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2905200" y="65088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829600" y="5918040"/>
            <a:ext cx="301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raslocazione Intercomos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n recip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952720" y="3384720"/>
            <a:ext cx="1133640" cy="22222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3286080" y="4258080"/>
            <a:ext cx="402120" cy="1031040"/>
            <a:chOff x="3286080" y="4258080"/>
            <a:chExt cx="402120" cy="1031040"/>
          </a:xfrm>
        </p:grpSpPr>
        <p:sp>
          <p:nvSpPr>
            <p:cNvPr id="339" name=""/>
            <p:cNvSpPr/>
            <p:nvPr/>
          </p:nvSpPr>
          <p:spPr>
            <a:xfrm flipH="1">
              <a:off x="3286080" y="4527360"/>
              <a:ext cx="228240" cy="228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304800" y="5060880"/>
              <a:ext cx="228240" cy="228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6943400">
              <a:off x="3437640" y="4279680"/>
              <a:ext cx="228240" cy="22824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4410000" y="3308400"/>
            <a:ext cx="93348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5076720" y="4518000"/>
            <a:ext cx="2383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4486320" y="4756320"/>
            <a:ext cx="836640" cy="924840"/>
            <a:chOff x="4486320" y="4756320"/>
            <a:chExt cx="836640" cy="924840"/>
          </a:xfrm>
        </p:grpSpPr>
        <p:pic>
          <p:nvPicPr>
            <p:cNvPr id="345" name="" descr=""/>
            <p:cNvPicPr/>
            <p:nvPr/>
          </p:nvPicPr>
          <p:blipFill>
            <a:blip r:embed="rId9"/>
            <a:stretch/>
          </p:blipFill>
          <p:spPr>
            <a:xfrm>
              <a:off x="4486320" y="4756320"/>
              <a:ext cx="2556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0"/>
            <a:stretch/>
          </p:blipFill>
          <p:spPr>
            <a:xfrm>
              <a:off x="5067360" y="5032440"/>
              <a:ext cx="255600" cy="64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5827680" y="3232080"/>
            <a:ext cx="2819520" cy="3276720"/>
            <a:chOff x="5827680" y="3232080"/>
            <a:chExt cx="2819520" cy="3276720"/>
          </a:xfrm>
        </p:grpSpPr>
        <p:grpSp>
          <p:nvGrpSpPr>
            <p:cNvPr id="348" name=""/>
            <p:cNvGrpSpPr/>
            <p:nvPr/>
          </p:nvGrpSpPr>
          <p:grpSpPr>
            <a:xfrm>
              <a:off x="5827680" y="3232080"/>
              <a:ext cx="2819160" cy="3276720"/>
              <a:chOff x="5827680" y="3232080"/>
              <a:chExt cx="2819160" cy="3276720"/>
            </a:xfrm>
          </p:grpSpPr>
          <p:sp>
            <p:nvSpPr>
              <p:cNvPr id="349" name=""/>
              <p:cNvSpPr/>
              <p:nvPr/>
            </p:nvSpPr>
            <p:spPr>
              <a:xfrm>
                <a:off x="5827680" y="3232080"/>
                <a:ext cx="0" cy="32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27680" y="3232080"/>
                <a:ext cx="28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646840" y="3232080"/>
                <a:ext cx="0" cy="327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5827680" y="6508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752080" y="5899320"/>
            <a:ext cx="301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raslocazione Intercomos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recip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1"/>
          <a:stretch/>
        </p:blipFill>
        <p:spPr>
          <a:xfrm>
            <a:off x="5884920" y="3460680"/>
            <a:ext cx="1106280" cy="2359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6284520" y="4124520"/>
            <a:ext cx="402840" cy="1012680"/>
            <a:chOff x="6284520" y="4124520"/>
            <a:chExt cx="402840" cy="1012680"/>
          </a:xfrm>
        </p:grpSpPr>
        <p:sp>
          <p:nvSpPr>
            <p:cNvPr id="356" name=""/>
            <p:cNvSpPr/>
            <p:nvPr/>
          </p:nvSpPr>
          <p:spPr>
            <a:xfrm flipH="1">
              <a:off x="6284160" y="4908600"/>
              <a:ext cx="22860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16943400">
              <a:off x="6436800" y="4146120"/>
              <a:ext cx="22860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7275600" y="3308400"/>
            <a:ext cx="10065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7380360" y="4222800"/>
            <a:ext cx="911160" cy="1733400"/>
            <a:chOff x="7380360" y="4222800"/>
            <a:chExt cx="911160" cy="1733400"/>
          </a:xfrm>
        </p:grpSpPr>
        <p:pic>
          <p:nvPicPr>
            <p:cNvPr id="360" name="" descr=""/>
            <p:cNvPicPr/>
            <p:nvPr/>
          </p:nvPicPr>
          <p:blipFill>
            <a:blip r:embed="rId13"/>
            <a:stretch/>
          </p:blipFill>
          <p:spPr>
            <a:xfrm>
              <a:off x="7989840" y="4222800"/>
              <a:ext cx="3016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14"/>
            <a:stretch/>
          </p:blipFill>
          <p:spPr>
            <a:xfrm>
              <a:off x="7380360" y="5005440"/>
              <a:ext cx="255600" cy="95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"/>
          <p:cNvGrpSpPr/>
          <p:nvPr/>
        </p:nvGrpSpPr>
        <p:grpSpPr>
          <a:xfrm>
            <a:off x="752040" y="3232080"/>
            <a:ext cx="1981440" cy="3276720"/>
            <a:chOff x="752040" y="3232080"/>
            <a:chExt cx="1981440" cy="3276720"/>
          </a:xfrm>
        </p:grpSpPr>
        <p:sp>
          <p:nvSpPr>
            <p:cNvPr id="363" name=""/>
            <p:cNvSpPr/>
            <p:nvPr/>
          </p:nvSpPr>
          <p:spPr>
            <a:xfrm>
              <a:off x="752400" y="3232080"/>
              <a:ext cx="0" cy="32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2400" y="3232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33480" y="32320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52040" y="6508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15600" y="1298520"/>
            <a:ext cx="74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DISTINGUONO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NTRACROMOSOMICHE E INTERCROMOS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RECIPROCHE E NON RECIPR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conseguenze di una traslocazione recip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1069920"/>
            <a:ext cx="8991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678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6320" y="1093680"/>
            <a:ext cx="8896320" cy="54864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71360" y="1170000"/>
            <a:ext cx="2386080" cy="58572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2577960" y="1170000"/>
            <a:ext cx="1165320" cy="533520"/>
            <a:chOff x="2577960" y="1170000"/>
            <a:chExt cx="1165320" cy="533520"/>
          </a:xfrm>
        </p:grpSpPr>
        <p:sp>
          <p:nvSpPr>
            <p:cNvPr id="374" name=""/>
            <p:cNvSpPr/>
            <p:nvPr/>
          </p:nvSpPr>
          <p:spPr>
            <a:xfrm>
              <a:off x="2609640" y="1703520"/>
              <a:ext cx="990720" cy="0"/>
            </a:xfrm>
            <a:prstGeom prst="line">
              <a:avLst/>
            </a:prstGeom>
            <a:ln w="28440">
              <a:solidFill>
                <a:srgbClr val="ff11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77960" y="11700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119"/>
                  </a:solidFill>
                  <a:latin typeface="Comic Sans MS"/>
                </a:rPr>
                <a:t>Anafase</a:t>
              </a:r>
              <a:r>
                <a:rPr b="0" lang="en-US" sz="1600" spc="-1" strike="noStrike">
                  <a:solidFill>
                    <a:srgbClr val="ff1119"/>
                  </a:solidFill>
                  <a:latin typeface="Comic Sans MS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981600" y="1170000"/>
            <a:ext cx="1645920" cy="123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003000" y="132228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119"/>
                </a:solidFill>
                <a:latin typeface="Comic Sans MS"/>
              </a:rPr>
              <a:t>Tre possibili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87320" y="1787400"/>
            <a:ext cx="1298520" cy="1431720"/>
          </a:xfrm>
          <a:prstGeom prst="line">
            <a:avLst/>
          </a:prstGeom>
          <a:ln w="38160">
            <a:solidFill>
              <a:srgbClr val="ff111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9880" y="3150720"/>
            <a:ext cx="8510040" cy="1676520"/>
            <a:chOff x="29880" y="3150720"/>
            <a:chExt cx="8510040" cy="1676520"/>
          </a:xfrm>
        </p:grpSpPr>
        <p:grpSp>
          <p:nvGrpSpPr>
            <p:cNvPr id="380" name=""/>
            <p:cNvGrpSpPr/>
            <p:nvPr/>
          </p:nvGrpSpPr>
          <p:grpSpPr>
            <a:xfrm>
              <a:off x="29880" y="3608280"/>
              <a:ext cx="8510040" cy="580680"/>
              <a:chOff x="29880" y="3608280"/>
              <a:chExt cx="8510040" cy="580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711440" y="3989160"/>
                <a:ext cx="682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880" y="3608280"/>
                <a:ext cx="1217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1119"/>
                    </a:solidFill>
                    <a:latin typeface="Comic Sans MS"/>
                  </a:rPr>
                  <a:t>Piastr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1119"/>
                    </a:solidFill>
                    <a:latin typeface="Comic Sans MS"/>
                  </a:rPr>
                  <a:t>metafas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V="1">
              <a:off x="446760" y="3150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760" y="421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28840" y="3227400"/>
            <a:ext cx="2228760" cy="1652040"/>
            <a:chOff x="1428840" y="3227400"/>
            <a:chExt cx="2228760" cy="1652040"/>
          </a:xfrm>
        </p:grpSpPr>
        <p:pic>
          <p:nvPicPr>
            <p:cNvPr id="386" name="" descr=""/>
            <p:cNvPicPr/>
            <p:nvPr/>
          </p:nvPicPr>
          <p:blipFill>
            <a:blip r:embed="rId4"/>
            <a:stretch/>
          </p:blipFill>
          <p:spPr>
            <a:xfrm>
              <a:off x="1454040" y="3227400"/>
              <a:ext cx="220356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5"/>
            <a:stretch/>
          </p:blipFill>
          <p:spPr>
            <a:xfrm>
              <a:off x="1428840" y="4065480"/>
              <a:ext cx="2212920" cy="81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336960" y="2008080"/>
            <a:ext cx="247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ternata: nel 50%dei c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 centromeri altern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anno ai poli opp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33680" y="4370400"/>
            <a:ext cx="0" cy="685800"/>
          </a:xfrm>
          <a:prstGeom prst="line">
            <a:avLst/>
          </a:prstGeom>
          <a:ln w="28440">
            <a:solidFill>
              <a:srgbClr val="ff111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847880" y="5132520"/>
            <a:ext cx="1380960" cy="1014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4080" y="531972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119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16080" y="61279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53200" y="2084400"/>
            <a:ext cx="0" cy="1066680"/>
          </a:xfrm>
          <a:prstGeom prst="line">
            <a:avLst/>
          </a:prstGeom>
          <a:ln w="38160">
            <a:solidFill>
              <a:srgbClr val="ff111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375080" y="3125880"/>
            <a:ext cx="1511280" cy="1778040"/>
            <a:chOff x="4375080" y="3125880"/>
            <a:chExt cx="1511280" cy="1778040"/>
          </a:xfrm>
        </p:grpSpPr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4378320" y="3125880"/>
              <a:ext cx="150804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4375080" y="4062600"/>
              <a:ext cx="150804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2971440" y="2389320"/>
            <a:ext cx="343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iacente1:nel 50% dei c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 centromeri adiacenti non omolog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anno ai poli opp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24600" y="4751280"/>
            <a:ext cx="0" cy="304920"/>
          </a:xfrm>
          <a:prstGeom prst="line">
            <a:avLst/>
          </a:prstGeom>
          <a:ln w="19080">
            <a:solidFill>
              <a:srgbClr val="ff111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4511520" y="5056200"/>
            <a:ext cx="1298880" cy="987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600360" y="6122880"/>
            <a:ext cx="273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ezioni/dupl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7280" y="2008080"/>
            <a:ext cx="1219320" cy="838440"/>
          </a:xfrm>
          <a:prstGeom prst="line">
            <a:avLst/>
          </a:prstGeom>
          <a:ln w="28440">
            <a:solidFill>
              <a:srgbClr val="ff111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934320" y="3075120"/>
            <a:ext cx="1563480" cy="1731960"/>
            <a:chOff x="6934320" y="3075120"/>
            <a:chExt cx="1563480" cy="1731960"/>
          </a:xfrm>
        </p:grpSpPr>
        <p:pic>
          <p:nvPicPr>
            <p:cNvPr id="403" name="" descr=""/>
            <p:cNvPicPr/>
            <p:nvPr/>
          </p:nvPicPr>
          <p:blipFill>
            <a:blip r:embed="rId10"/>
            <a:stretch/>
          </p:blipFill>
          <p:spPr>
            <a:xfrm>
              <a:off x="6940440" y="3075120"/>
              <a:ext cx="151704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1"/>
            <a:stretch/>
          </p:blipFill>
          <p:spPr>
            <a:xfrm>
              <a:off x="6934320" y="4065840"/>
              <a:ext cx="156348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6025680" y="1703520"/>
            <a:ext cx="30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iacente2: r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 centromeri adiacenti omologh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anno allo stesso p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751280"/>
            <a:ext cx="0" cy="304920"/>
          </a:xfrm>
          <a:prstGeom prst="line">
            <a:avLst/>
          </a:prstGeom>
          <a:ln w="2844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2"/>
          <a:stretch/>
        </p:blipFill>
        <p:spPr>
          <a:xfrm>
            <a:off x="6994440" y="5056200"/>
            <a:ext cx="1463760" cy="960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824880" y="61023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ari-non vi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48520" y="307512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Nomenclatura per designare le </a:t>
            </a:r>
            <a:r>
              <a:rPr b="1" lang="it-IT" sz="5400" spc="-1" strike="noStrike">
                <a:solidFill>
                  <a:srgbClr val="333399"/>
                </a:solidFill>
                <a:latin typeface="Comic Sans MS"/>
              </a:rPr>
              <a:t>poliploidie</a:t>
            </a:r>
            <a:br>
              <a:rPr sz="36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733920" y="1940040"/>
            <a:ext cx="1752480" cy="1811880"/>
            <a:chOff x="3733920" y="1940040"/>
            <a:chExt cx="1752480" cy="1811880"/>
          </a:xfrm>
        </p:grpSpPr>
        <p:sp>
          <p:nvSpPr>
            <p:cNvPr id="46" name=""/>
            <p:cNvSpPr/>
            <p:nvPr/>
          </p:nvSpPr>
          <p:spPr>
            <a:xfrm>
              <a:off x="3733920" y="201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33920" y="2244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91120" y="194004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16828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14800" y="247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239688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46240" y="277632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270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262548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920" y="201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3920" y="2244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194004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16828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247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239688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6240" y="277632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4800" y="270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1120" y="262548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24440" y="32922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00200" y="3827520"/>
            <a:ext cx="1752480" cy="2363040"/>
            <a:chOff x="1600200" y="3827520"/>
            <a:chExt cx="1752480" cy="2363040"/>
          </a:xfrm>
        </p:grpSpPr>
        <p:sp>
          <p:nvSpPr>
            <p:cNvPr id="66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95400" y="527364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1280" y="5273640"/>
              <a:ext cx="14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73240" y="57308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928840" y="3751200"/>
            <a:ext cx="1811160" cy="2744280"/>
            <a:chOff x="5928840" y="3751200"/>
            <a:chExt cx="1811160" cy="2744280"/>
          </a:xfrm>
        </p:grpSpPr>
        <p:sp>
          <p:nvSpPr>
            <p:cNvPr id="94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8840" y="5638680"/>
              <a:ext cx="18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tra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41760" y="60357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traslocazione X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9680" y="1752480"/>
            <a:ext cx="2211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900" spc="-1" strike="noStrike">
                <a:solidFill>
                  <a:srgbClr val="ff1424"/>
                </a:solidFill>
                <a:latin typeface="Times New Roman"/>
              </a:rPr>
              <a:t>QM-band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62485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09520" y="134784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0" y="1306440"/>
            <a:ext cx="4444920" cy="53992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4724280" y="1295280"/>
            <a:ext cx="3886200" cy="5295960"/>
            <a:chOff x="4724280" y="1295280"/>
            <a:chExt cx="3886200" cy="5295960"/>
          </a:xfrm>
        </p:grpSpPr>
        <p:sp>
          <p:nvSpPr>
            <p:cNvPr id="417" name=""/>
            <p:cNvSpPr/>
            <p:nvPr/>
          </p:nvSpPr>
          <p:spPr>
            <a:xfrm>
              <a:off x="4724280" y="1295280"/>
              <a:ext cx="3327480" cy="2774880"/>
            </a:xfrm>
            <a:custGeom>
              <a:avLst/>
              <a:gdLst/>
              <a:ahLst/>
              <a:rect l="l" t="t" r="r" b="b"/>
              <a:pathLst>
                <a:path w="2096" h="1748">
                  <a:moveTo>
                    <a:pt x="0" y="1600"/>
                  </a:moveTo>
                  <a:cubicBezTo>
                    <a:pt x="222" y="1748"/>
                    <a:pt x="347" y="1713"/>
                    <a:pt x="648" y="1720"/>
                  </a:cubicBezTo>
                  <a:cubicBezTo>
                    <a:pt x="752" y="1717"/>
                    <a:pt x="856" y="1716"/>
                    <a:pt x="960" y="1712"/>
                  </a:cubicBezTo>
                  <a:cubicBezTo>
                    <a:pt x="1021" y="1709"/>
                    <a:pt x="1062" y="1654"/>
                    <a:pt x="1120" y="1640"/>
                  </a:cubicBezTo>
                  <a:cubicBezTo>
                    <a:pt x="1240" y="1609"/>
                    <a:pt x="1058" y="1657"/>
                    <a:pt x="1184" y="1616"/>
                  </a:cubicBezTo>
                  <a:cubicBezTo>
                    <a:pt x="1223" y="1602"/>
                    <a:pt x="1246" y="1612"/>
                    <a:pt x="1288" y="1592"/>
                  </a:cubicBezTo>
                  <a:cubicBezTo>
                    <a:pt x="1353" y="1559"/>
                    <a:pt x="1377" y="1543"/>
                    <a:pt x="1440" y="1528"/>
                  </a:cubicBezTo>
                  <a:cubicBezTo>
                    <a:pt x="1529" y="1456"/>
                    <a:pt x="1675" y="1411"/>
                    <a:pt x="1744" y="1320"/>
                  </a:cubicBezTo>
                  <a:cubicBezTo>
                    <a:pt x="1768" y="1286"/>
                    <a:pt x="1784" y="1238"/>
                    <a:pt x="1800" y="1200"/>
                  </a:cubicBezTo>
                  <a:cubicBezTo>
                    <a:pt x="1806" y="1184"/>
                    <a:pt x="1804" y="1163"/>
                    <a:pt x="1816" y="1152"/>
                  </a:cubicBezTo>
                  <a:cubicBezTo>
                    <a:pt x="1833" y="1134"/>
                    <a:pt x="1851" y="1118"/>
                    <a:pt x="1864" y="1096"/>
                  </a:cubicBezTo>
                  <a:cubicBezTo>
                    <a:pt x="1903" y="1023"/>
                    <a:pt x="1865" y="1055"/>
                    <a:pt x="1912" y="1024"/>
                  </a:cubicBezTo>
                  <a:cubicBezTo>
                    <a:pt x="1929" y="997"/>
                    <a:pt x="1976" y="952"/>
                    <a:pt x="1976" y="952"/>
                  </a:cubicBezTo>
                  <a:cubicBezTo>
                    <a:pt x="2009" y="850"/>
                    <a:pt x="2062" y="762"/>
                    <a:pt x="2080" y="656"/>
                  </a:cubicBezTo>
                  <a:cubicBezTo>
                    <a:pt x="2065" y="435"/>
                    <a:pt x="2096" y="219"/>
                    <a:pt x="209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97400" y="3975120"/>
              <a:ext cx="444600" cy="2616120"/>
            </a:xfrm>
            <a:custGeom>
              <a:avLst/>
              <a:gdLst/>
              <a:ahLst/>
              <a:rect l="l" t="t" r="r" b="b"/>
              <a:pathLst>
                <a:path w="280" h="1648">
                  <a:moveTo>
                    <a:pt x="168" y="0"/>
                  </a:moveTo>
                  <a:cubicBezTo>
                    <a:pt x="170" y="26"/>
                    <a:pt x="171" y="53"/>
                    <a:pt x="176" y="80"/>
                  </a:cubicBezTo>
                  <a:cubicBezTo>
                    <a:pt x="182" y="124"/>
                    <a:pt x="216" y="162"/>
                    <a:pt x="224" y="208"/>
                  </a:cubicBezTo>
                  <a:cubicBezTo>
                    <a:pt x="226" y="224"/>
                    <a:pt x="228" y="240"/>
                    <a:pt x="232" y="256"/>
                  </a:cubicBezTo>
                  <a:cubicBezTo>
                    <a:pt x="236" y="277"/>
                    <a:pt x="248" y="320"/>
                    <a:pt x="248" y="320"/>
                  </a:cubicBezTo>
                  <a:cubicBezTo>
                    <a:pt x="226" y="384"/>
                    <a:pt x="258" y="309"/>
                    <a:pt x="216" y="352"/>
                  </a:cubicBezTo>
                  <a:cubicBezTo>
                    <a:pt x="210" y="357"/>
                    <a:pt x="212" y="368"/>
                    <a:pt x="208" y="376"/>
                  </a:cubicBezTo>
                  <a:lnTo>
                    <a:pt x="176" y="424"/>
                  </a:lnTo>
                  <a:cubicBezTo>
                    <a:pt x="176" y="424"/>
                    <a:pt x="176" y="424"/>
                    <a:pt x="176" y="424"/>
                  </a:cubicBezTo>
                  <a:cubicBezTo>
                    <a:pt x="145" y="444"/>
                    <a:pt x="115" y="447"/>
                    <a:pt x="80" y="456"/>
                  </a:cubicBezTo>
                  <a:cubicBezTo>
                    <a:pt x="48" y="477"/>
                    <a:pt x="12" y="537"/>
                    <a:pt x="0" y="576"/>
                  </a:cubicBezTo>
                  <a:cubicBezTo>
                    <a:pt x="8" y="584"/>
                    <a:pt x="14" y="594"/>
                    <a:pt x="24" y="600"/>
                  </a:cubicBezTo>
                  <a:cubicBezTo>
                    <a:pt x="38" y="608"/>
                    <a:pt x="72" y="616"/>
                    <a:pt x="72" y="616"/>
                  </a:cubicBezTo>
                  <a:cubicBezTo>
                    <a:pt x="84" y="607"/>
                    <a:pt x="103" y="592"/>
                    <a:pt x="120" y="592"/>
                  </a:cubicBezTo>
                  <a:cubicBezTo>
                    <a:pt x="128" y="592"/>
                    <a:pt x="135" y="598"/>
                    <a:pt x="144" y="600"/>
                  </a:cubicBezTo>
                  <a:cubicBezTo>
                    <a:pt x="193" y="611"/>
                    <a:pt x="237" y="611"/>
                    <a:pt x="280" y="640"/>
                  </a:cubicBezTo>
                  <a:cubicBezTo>
                    <a:pt x="277" y="661"/>
                    <a:pt x="277" y="683"/>
                    <a:pt x="272" y="704"/>
                  </a:cubicBezTo>
                  <a:cubicBezTo>
                    <a:pt x="264" y="732"/>
                    <a:pt x="251" y="736"/>
                    <a:pt x="240" y="760"/>
                  </a:cubicBezTo>
                  <a:cubicBezTo>
                    <a:pt x="213" y="812"/>
                    <a:pt x="178" y="871"/>
                    <a:pt x="160" y="928"/>
                  </a:cubicBezTo>
                  <a:cubicBezTo>
                    <a:pt x="141" y="984"/>
                    <a:pt x="118" y="1038"/>
                    <a:pt x="104" y="1096"/>
                  </a:cubicBezTo>
                  <a:cubicBezTo>
                    <a:pt x="86" y="1266"/>
                    <a:pt x="100" y="1204"/>
                    <a:pt x="80" y="1288"/>
                  </a:cubicBezTo>
                  <a:cubicBezTo>
                    <a:pt x="77" y="1314"/>
                    <a:pt x="64" y="1443"/>
                    <a:pt x="64" y="1464"/>
                  </a:cubicBezTo>
                  <a:cubicBezTo>
                    <a:pt x="64" y="1525"/>
                    <a:pt x="72" y="1648"/>
                    <a:pt x="72" y="16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2640" y="3284280"/>
              <a:ext cx="1077840" cy="2367000"/>
            </a:xfrm>
            <a:custGeom>
              <a:avLst/>
              <a:gdLst/>
              <a:ahLst/>
              <a:rect l="l" t="t" r="r" b="b"/>
              <a:pathLst>
                <a:path w="679" h="1491">
                  <a:moveTo>
                    <a:pt x="7" y="19"/>
                  </a:moveTo>
                  <a:cubicBezTo>
                    <a:pt x="55" y="91"/>
                    <a:pt x="0" y="0"/>
                    <a:pt x="39" y="195"/>
                  </a:cubicBezTo>
                  <a:cubicBezTo>
                    <a:pt x="48" y="243"/>
                    <a:pt x="71" y="284"/>
                    <a:pt x="87" y="331"/>
                  </a:cubicBezTo>
                  <a:cubicBezTo>
                    <a:pt x="91" y="400"/>
                    <a:pt x="90" y="471"/>
                    <a:pt x="111" y="539"/>
                  </a:cubicBezTo>
                  <a:cubicBezTo>
                    <a:pt x="118" y="563"/>
                    <a:pt x="127" y="587"/>
                    <a:pt x="135" y="611"/>
                  </a:cubicBezTo>
                  <a:cubicBezTo>
                    <a:pt x="137" y="619"/>
                    <a:pt x="143" y="635"/>
                    <a:pt x="143" y="635"/>
                  </a:cubicBezTo>
                  <a:cubicBezTo>
                    <a:pt x="150" y="708"/>
                    <a:pt x="168" y="777"/>
                    <a:pt x="175" y="851"/>
                  </a:cubicBezTo>
                  <a:cubicBezTo>
                    <a:pt x="182" y="928"/>
                    <a:pt x="166" y="1012"/>
                    <a:pt x="199" y="1083"/>
                  </a:cubicBezTo>
                  <a:cubicBezTo>
                    <a:pt x="214" y="1116"/>
                    <a:pt x="299" y="1168"/>
                    <a:pt x="335" y="1195"/>
                  </a:cubicBezTo>
                  <a:cubicBezTo>
                    <a:pt x="363" y="1242"/>
                    <a:pt x="400" y="1268"/>
                    <a:pt x="439" y="1307"/>
                  </a:cubicBezTo>
                  <a:cubicBezTo>
                    <a:pt x="464" y="1332"/>
                    <a:pt x="483" y="1371"/>
                    <a:pt x="511" y="1395"/>
                  </a:cubicBezTo>
                  <a:cubicBezTo>
                    <a:pt x="520" y="1402"/>
                    <a:pt x="533" y="1404"/>
                    <a:pt x="543" y="1411"/>
                  </a:cubicBezTo>
                  <a:cubicBezTo>
                    <a:pt x="585" y="1441"/>
                    <a:pt x="622" y="1491"/>
                    <a:pt x="679" y="149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994360" y="1960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56320" y="478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58120" y="5694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27320" y="4398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4000" y="6114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62520" y="6019920"/>
            <a:ext cx="411120" cy="593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3352680" y="6172200"/>
            <a:ext cx="338400" cy="438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2933640" y="6278400"/>
            <a:ext cx="201600" cy="2746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1449360" y="5259240"/>
            <a:ext cx="320760" cy="530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961920" y="5257800"/>
            <a:ext cx="365400" cy="493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380880" y="5181480"/>
            <a:ext cx="374760" cy="520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380880" y="6172200"/>
            <a:ext cx="933480" cy="512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2666880" y="5257800"/>
            <a:ext cx="1692360" cy="466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>
            <a:off x="112680" y="3962520"/>
            <a:ext cx="4535640" cy="7491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1"/>
          <a:stretch/>
        </p:blipFill>
        <p:spPr>
          <a:xfrm>
            <a:off x="0" y="2514600"/>
            <a:ext cx="4800600" cy="10605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slocazione robertson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1752480"/>
            <a:ext cx="48006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conseguenze genetiche delle trasloc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2240" y="220824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a il gruppo di associ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rtilità e vit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l’uomo traslocazione 13/21 e 21/21: differente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triploidia: tre genomi completi per nuc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90720"/>
            <a:ext cx="847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Origin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per fusione di un gamete diploide, non ridotto con un gamete aploi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in seguito a doppia fecondazione (polispermi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nell’uomo,in cui la meiosi II viene completata dopo la fecondazione,anche per mancata emissione del globulo polar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4197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triploidia è comune nelle piante, rara negli animali. Esempi di specie animali sono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Drosophila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alamandre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l’uomo si ritrova solo negli aborti spont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24"/>
                </a:solidFill>
                <a:latin typeface="Comic Sans MS"/>
              </a:rPr>
              <a:t>tetraploi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76212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Origine:</a:t>
            </a:r>
            <a:r>
              <a:rPr b="0" lang="it-IT" sz="2400" spc="-1" strike="noStrike">
                <a:solidFill>
                  <a:srgbClr val="ff142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24"/>
                </a:solidFill>
                <a:latin typeface="Comic Sans MS"/>
              </a:rPr>
              <a:t>si formano per fusione di due gameti diploi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24"/>
                </a:solidFill>
                <a:latin typeface="Comic Sans MS"/>
              </a:rPr>
              <a:t>mancata divisione dei primi blastom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97180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ornamentali e piante da frutto sono tetraploi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uomo sono sempre abortivi ai primissimi stadi di sviluppo embr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1424"/>
                </a:solidFill>
                <a:latin typeface="Comic Sans MS"/>
              </a:rPr>
              <a:t>Aneuploi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4940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Uno o pochi cromoso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in più o in meno rispet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all’assetto cromosomico norma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1482"/>
                </a:solidFill>
                <a:latin typeface="Comic Sans MS"/>
              </a:rPr>
              <a:t>Nomenclatura per designare le 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aneuploid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50600" y="4162320"/>
            <a:ext cx="2146680" cy="2073240"/>
            <a:chOff x="750600" y="4162320"/>
            <a:chExt cx="2146680" cy="2073240"/>
          </a:xfrm>
        </p:grpSpPr>
        <p:sp>
          <p:nvSpPr>
            <p:cNvPr id="138" name=""/>
            <p:cNvSpPr/>
            <p:nvPr/>
          </p:nvSpPr>
          <p:spPr>
            <a:xfrm>
              <a:off x="1295280" y="50007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49244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4400" y="4238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446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439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229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51530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469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461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0600" y="5410080"/>
              <a:ext cx="214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88760" y="4162320"/>
            <a:ext cx="2382480" cy="2073240"/>
            <a:chOff x="3488760" y="4162320"/>
            <a:chExt cx="2382480" cy="2073240"/>
          </a:xfrm>
        </p:grpSpPr>
        <p:sp>
          <p:nvSpPr>
            <p:cNvPr id="150" name=""/>
            <p:cNvSpPr/>
            <p:nvPr/>
          </p:nvSpPr>
          <p:spPr>
            <a:xfrm>
              <a:off x="4191120" y="515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507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1120" y="538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7080" y="53053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4695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46195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1120" y="492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484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9880" y="42386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44672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708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080" y="439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8760" y="5410080"/>
              <a:ext cx="238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tra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65520" y="4162320"/>
            <a:ext cx="2536560" cy="2073240"/>
            <a:chOff x="6365520" y="4162320"/>
            <a:chExt cx="2536560" cy="2073240"/>
          </a:xfrm>
        </p:grpSpPr>
        <p:sp>
          <p:nvSpPr>
            <p:cNvPr id="164" name=""/>
            <p:cNvSpPr/>
            <p:nvPr/>
          </p:nvSpPr>
          <p:spPr>
            <a:xfrm>
              <a:off x="69343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4467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4320" y="4772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10280" y="4695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42386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65520" y="5410080"/>
              <a:ext cx="253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no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81080" y="617076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 + 1 =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 + 2 =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n - 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9880" y="1752480"/>
            <a:ext cx="1752840" cy="1812240"/>
            <a:chOff x="3809880" y="1752480"/>
            <a:chExt cx="1752840" cy="1812240"/>
          </a:xfrm>
        </p:grpSpPr>
        <p:sp>
          <p:nvSpPr>
            <p:cNvPr id="173" name=""/>
            <p:cNvSpPr/>
            <p:nvPr/>
          </p:nvSpPr>
          <p:spPr>
            <a:xfrm>
              <a:off x="38098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9880" y="2057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175248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7080" y="198108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2286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220968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2560" y="258912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243828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9880" y="2057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7080" y="175248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198108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1120" y="2286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220968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2560" y="258912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243828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00400" y="31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In quale fase della meiosi avviene la non disgiunzi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0680" y="1295280"/>
            <a:ext cx="4403880" cy="5334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4323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25600" y="1038240"/>
            <a:ext cx="6377040" cy="5703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 flipV="1">
            <a:off x="2751840" y="2149200"/>
            <a:ext cx="401400" cy="9586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777760" y="5499000"/>
            <a:ext cx="762120" cy="66672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44240" y="4889520"/>
            <a:ext cx="762120" cy="6094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997080" y="5651640"/>
            <a:ext cx="685800" cy="837720"/>
            <a:chOff x="3997080" y="5651640"/>
            <a:chExt cx="685800" cy="837720"/>
          </a:xfrm>
        </p:grpSpPr>
        <p:sp>
          <p:nvSpPr>
            <p:cNvPr id="200" name=""/>
            <p:cNvSpPr/>
            <p:nvPr/>
          </p:nvSpPr>
          <p:spPr>
            <a:xfrm flipH="1">
              <a:off x="4073760" y="6032520"/>
              <a:ext cx="457200" cy="456840"/>
            </a:xfrm>
            <a:prstGeom prst="line">
              <a:avLst/>
            </a:prstGeom>
            <a:ln w="28440">
              <a:solidFill>
                <a:srgbClr val="ff111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997080" y="5651640"/>
              <a:ext cx="685800" cy="685440"/>
            </a:xfrm>
            <a:prstGeom prst="line">
              <a:avLst/>
            </a:prstGeom>
            <a:ln w="28440">
              <a:solidFill>
                <a:srgbClr val="ff111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Aneuploidia per il cromosoma </a:t>
            </a:r>
            <a:r>
              <a:rPr b="1" i="1" lang="it-IT" sz="2800" spc="-1" strike="noStrike">
                <a:solidFill>
                  <a:srgbClr val="ff1424"/>
                </a:solidFill>
                <a:latin typeface="Comic Sans MS"/>
              </a:rPr>
              <a:t>Y </a:t>
            </a: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e</a:t>
            </a:r>
            <a:r>
              <a:rPr b="1" i="1" lang="it-IT" sz="2800" spc="-1" strike="noStrike">
                <a:solidFill>
                  <a:srgbClr val="ff1424"/>
                </a:solidFill>
                <a:latin typeface="Comic Sans MS"/>
              </a:rPr>
              <a:t> 15 </a:t>
            </a: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80920" y="10368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48,XYY+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7960" y="1692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49400" y="6246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02160" y="533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35680" y="601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2362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424"/>
                </a:solidFill>
                <a:latin typeface="Textile"/>
              </a:rPr>
              <a:t>Percentuale delle anomalie cromosomiche tra gli    aborti spontanei ed i nati vi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971800" y="85680"/>
            <a:ext cx="5562360" cy="580680"/>
            <a:chOff x="2971800" y="85680"/>
            <a:chExt cx="5562360" cy="580680"/>
          </a:xfrm>
        </p:grpSpPr>
        <p:sp>
          <p:nvSpPr>
            <p:cNvPr id="211" name=""/>
            <p:cNvSpPr/>
            <p:nvPr/>
          </p:nvSpPr>
          <p:spPr>
            <a:xfrm>
              <a:off x="2971800" y="2379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424"/>
                  </a:solidFill>
                  <a:latin typeface="Textile"/>
                </a:rPr>
                <a:t>ANOMA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2880" y="8568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424"/>
                  </a:solidFill>
                  <a:latin typeface="Textile"/>
                </a:rPr>
                <a:t>ABORTI SPONTAN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1680" y="2379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424"/>
                  </a:solidFill>
                  <a:latin typeface="Textile"/>
                </a:rPr>
                <a:t>NATI VI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590920" y="685800"/>
          <a:ext cx="6324480" cy="5506920"/>
        </p:xfrm>
        <a:graphic>
          <a:graphicData uri="http://schemas.openxmlformats.org/drawingml/2006/table">
            <a:tbl>
              <a:tblPr/>
              <a:tblGrid>
                <a:gridCol w="2377800"/>
                <a:gridCol w="1973520"/>
                <a:gridCol w="197316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risomie autoso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5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Al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1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otale tris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21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1.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Monosomie della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risomie crom. sessu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ri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5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etra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2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Totale anom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41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Numero dei carioti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797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3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7e308"/>
                          </a:solidFill>
                          <a:latin typeface="Textile"/>
                        </a:rPr>
                        <a:t>31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61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4:18:38Z</dcterms:created>
  <dc:creator>Palumbo</dc:creator>
  <dc:description/>
  <dc:language>en-US</dc:language>
  <cp:lastModifiedBy>Mariano Rocchi</cp:lastModifiedBy>
  <dcterms:modified xsi:type="dcterms:W3CDTF">2004-05-18T06:51:00Z</dcterms:modified>
  <cp:revision>61</cp:revision>
  <dc:subject/>
  <dc:title>MUTAZIONE</dc:title>
</cp:coreProperties>
</file>