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8.pct" ContentType="image/x-pict"/>
  <Override PartName="/ppt/media/image6.jpeg" ContentType="image/jpeg"/>
  <Override PartName="/ppt/media/image10.png" ContentType="image/png"/>
  <Override PartName="/ppt/media/image27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4.png" ContentType="image/png"/>
  <Override PartName="/ppt/media/image3.png" ContentType="image/png"/>
  <Override PartName="/ppt/media/image5.png" ContentType="image/png"/>
  <Override PartName="/ppt/media/image29.jpeg" ContentType="image/jpeg"/>
  <Override PartName="/ppt/media/image2.pct" ContentType="image/x-pict"/>
  <Override PartName="/ppt/media/image1.png" ContentType="image/png"/>
  <Override PartName="/ppt/media/image14.png" ContentType="image/png"/>
  <Override PartName="/ppt/media/image26.jpeg" ContentType="image/jpeg"/>
  <Override PartName="/ppt/media/image25.jpeg" ContentType="image/jpeg"/>
  <Override PartName="/ppt/media/image23.png" ContentType="image/png"/>
  <Override PartName="/ppt/media/image22.png" ContentType="image/png"/>
  <Override PartName="/ppt/media/image19.png" ContentType="image/png"/>
  <Override PartName="/ppt/media/image21.png" ContentType="image/png"/>
  <Override PartName="/ppt/media/image24.jpeg" ContentType="image/jpeg"/>
  <Override PartName="/ppt/media/image15.png" ContentType="image/png"/>
  <Override PartName="/ppt/media/image20.png" ContentType="image/png"/>
  <Override PartName="/ppt/media/image28.jpeg" ContentType="image/jpeg"/>
  <Override PartName="/ppt/media/image18.png" ContentType="image/png"/>
  <Override PartName="/ppt/media/image17.png" ContentType="image/png"/>
  <Override PartName="/ppt/media/image1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907588" cy="6858000"/>
  <p:notesSz cx="9874250" cy="7408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E906-FC44-4B14-97F6-D792D6AE4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11280"/>
            <a:ext cx="8420040" cy="1141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B33E-1DB9-48C4-A50B-4F39A3F76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11280"/>
            <a:ext cx="8420040" cy="1141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D19C-D2BB-4DFD-BEFC-443E2F30B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11280"/>
            <a:ext cx="8420040" cy="1141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C264-F2F4-4D5E-97E8-D1678BB99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11280"/>
            <a:ext cx="8420040" cy="1141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746B-AF7A-414D-BD6D-6911BF409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11280"/>
            <a:ext cx="8420040" cy="1141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004E-9FD6-45CA-8FB5-375A5D3F0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11280"/>
            <a:ext cx="8420040" cy="1141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BC30-06E1-49CB-9444-77DABFF52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11280"/>
            <a:ext cx="8420040" cy="1141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ECE8-5233-483B-91EC-991592EA6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11280"/>
            <a:ext cx="84200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2E9C-1BDA-47D7-8C5D-D9C8FB7CE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11280"/>
            <a:ext cx="8420040" cy="1141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1E10-3073-4F3B-9F65-D9DD8617F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11280"/>
            <a:ext cx="8420040" cy="1141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9E5E-5603-4125-BDAD-9B8B3077F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11280"/>
            <a:ext cx="8420040" cy="1141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1653-BE94-4B61-8F0A-0F19E2451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100000">
              <a:srgbClr val="0000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11280"/>
            <a:ext cx="8420040" cy="1141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4100" spc="-1" strike="noStrike">
                <a:solidFill>
                  <a:srgbClr val="66ff33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marL="320760" indent="-320760">
              <a:spcBef>
                <a:spcPts val="751"/>
              </a:spcBef>
              <a:buClr>
                <a:srgbClr val="66ff33"/>
              </a:buClr>
              <a:buFont typeface="Times New Roman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3000" spc="-1" strike="noStrike">
                <a:solidFill>
                  <a:srgbClr val="66ff33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66ff33"/>
              </a:solidFill>
              <a:latin typeface="Times New Roman"/>
            </a:endParaRPr>
          </a:p>
          <a:p>
            <a:pPr lvl="1" marL="696960" indent="-268200">
              <a:spcBef>
                <a:spcPts val="751"/>
              </a:spcBef>
              <a:buClr>
                <a:srgbClr val="66ff33"/>
              </a:buClr>
              <a:buFont typeface="Times New Roman"/>
              <a:buChar char="–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3000" spc="-1" strike="noStrike">
                <a:solidFill>
                  <a:srgbClr val="66ff33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66ff33"/>
              </a:solidFill>
              <a:latin typeface="Times New Roman"/>
            </a:endParaRPr>
          </a:p>
          <a:p>
            <a:pPr lvl="2" marL="1073160" indent="-214200">
              <a:spcBef>
                <a:spcPts val="751"/>
              </a:spcBef>
              <a:buClr>
                <a:srgbClr val="66ff33"/>
              </a:buClr>
              <a:buFont typeface="Times New Roman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3000" spc="-1" strike="noStrike">
                <a:solidFill>
                  <a:srgbClr val="66ff33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66ff33"/>
              </a:solidFill>
              <a:latin typeface="Times New Roman"/>
            </a:endParaRPr>
          </a:p>
          <a:p>
            <a:pPr lvl="3" marL="1503360" indent="-216000">
              <a:spcBef>
                <a:spcPts val="751"/>
              </a:spcBef>
              <a:buClr>
                <a:srgbClr val="66ff33"/>
              </a:buClr>
              <a:buFont typeface="Times New Roman"/>
              <a:buChar char="–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3000" spc="-1" strike="noStrike">
                <a:solidFill>
                  <a:srgbClr val="66ff33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66ff33"/>
              </a:solidFill>
              <a:latin typeface="Times New Roman"/>
            </a:endParaRPr>
          </a:p>
          <a:p>
            <a:pPr lvl="4" marL="1930320" indent="-214200">
              <a:spcBef>
                <a:spcPts val="751"/>
              </a:spcBef>
              <a:buClr>
                <a:srgbClr val="66ff33"/>
              </a:buClr>
              <a:buFont typeface="Times New Roman"/>
              <a:buChar char="»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3000" spc="-1" strike="noStrike">
                <a:solidFill>
                  <a:srgbClr val="66ff33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66ff33"/>
              </a:solidFill>
              <a:latin typeface="Times New Roman"/>
            </a:endParaRPr>
          </a:p>
          <a:p>
            <a:pPr lvl="5" marL="1930320" indent="-2142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3000" spc="-1" strike="noStrike">
                <a:solidFill>
                  <a:srgbClr val="66ff33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66ff33"/>
              </a:solidFill>
              <a:latin typeface="Times New Roman"/>
            </a:endParaRPr>
          </a:p>
          <a:p>
            <a:pPr lvl="6" marL="1930320" indent="-2142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3000" spc="-1" strike="noStrike">
                <a:solidFill>
                  <a:srgbClr val="66ff33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6360"/>
            <a:ext cx="2063520" cy="4590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lstStyle>
            <a:lvl1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  <a:defRPr b="0" lang="nl-NL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nl-NL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6360"/>
            <a:ext cx="3136680" cy="4590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lstStyle>
            <a:lvl1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  <a:defRPr b="0" lang="nl-NL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nl-NL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6360"/>
            <a:ext cx="2063880" cy="4590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lstStyle>
            <a:lvl1pPr indent="0" algn="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  <a:defRPr b="0" lang="nl-NL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fld id="{5E171781-516E-448B-8C38-AA8F6901B28B}" type="slidenum">
              <a:rPr b="0" lang="nl-N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13760" y="1974960"/>
            <a:ext cx="5898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ff33"/>
                </a:solidFill>
                <a:latin typeface="Arial"/>
              </a:rPr>
              <a:t>Sequenziament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100000">
              <a:srgbClr val="0000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977640" y="2187720"/>
            <a:ext cx="1788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ff33"/>
                </a:solidFill>
                <a:latin typeface="Arial"/>
              </a:rPr>
              <a:t>PC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7160" y="684360"/>
            <a:ext cx="9543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7160" y="6678720"/>
            <a:ext cx="9543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88960" y="84240"/>
            <a:ext cx="79848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 algn="ctr"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600" spc="-1" strike="noStrike">
                <a:solidFill>
                  <a:srgbClr val="66ff33"/>
                </a:solidFill>
                <a:latin typeface="Times New Roman"/>
              </a:rPr>
              <a:t>PC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52600" y="1217520"/>
            <a:ext cx="695484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483400" y="1028880"/>
            <a:ext cx="3909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6ff33"/>
                </a:solidFill>
                <a:latin typeface="Arial"/>
              </a:rPr>
              <a:t>5’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93600" y="1014480"/>
            <a:ext cx="3909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6ff33"/>
                </a:solidFill>
                <a:latin typeface="Arial"/>
              </a:rPr>
              <a:t>3’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403280" y="1593720"/>
            <a:ext cx="695484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442360" y="1380960"/>
            <a:ext cx="3909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ff"/>
                </a:solidFill>
                <a:latin typeface="Arial"/>
              </a:rPr>
              <a:t>3’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49320" y="1374840"/>
            <a:ext cx="3909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ff"/>
                </a:solidFill>
                <a:latin typeface="Arial"/>
              </a:rPr>
              <a:t>5’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248360" y="1806480"/>
            <a:ext cx="7563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e2c02"/>
                </a:solidFill>
                <a:latin typeface="Arial"/>
              </a:rPr>
              <a:t>94</a:t>
            </a:r>
            <a:r>
              <a:rPr b="0" lang="en-US" sz="2100" spc="-1" strike="noStrike" baseline="30000">
                <a:solidFill>
                  <a:srgbClr val="fe2c02"/>
                </a:solidFill>
                <a:latin typeface="Arial"/>
              </a:rPr>
              <a:t>o</a:t>
            </a:r>
            <a:r>
              <a:rPr b="0" lang="en-US" sz="2100" spc="-1" strike="noStrike">
                <a:solidFill>
                  <a:srgbClr val="fe2c02"/>
                </a:solidFill>
                <a:latin typeface="Arial"/>
              </a:rPr>
              <a:t>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57520" y="3544920"/>
            <a:ext cx="1147680" cy="0"/>
          </a:xfrm>
          <a:prstGeom prst="line">
            <a:avLst/>
          </a:prstGeom>
          <a:ln w="1908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037280" y="4608360"/>
            <a:ext cx="1149480" cy="0"/>
          </a:xfrm>
          <a:prstGeom prst="line">
            <a:avLst/>
          </a:prstGeom>
          <a:ln w="28440">
            <a:solidFill>
              <a:srgbClr val="66ff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424160" y="3352680"/>
            <a:ext cx="805320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477360" y="3174840"/>
            <a:ext cx="3909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6ff33"/>
                </a:solidFill>
                <a:latin typeface="Arial"/>
              </a:rPr>
              <a:t>5’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04760" y="3130560"/>
            <a:ext cx="3909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6ff33"/>
                </a:solidFill>
                <a:latin typeface="Arial"/>
              </a:rPr>
              <a:t>3’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566200" y="4675320"/>
            <a:ext cx="3909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ff"/>
                </a:solidFill>
                <a:latin typeface="Arial"/>
              </a:rPr>
              <a:t>3’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4720" y="4687920"/>
            <a:ext cx="3909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ff"/>
                </a:solidFill>
                <a:latin typeface="Arial"/>
              </a:rPr>
              <a:t>5’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7520" y="3544920"/>
            <a:ext cx="2828880" cy="0"/>
          </a:xfrm>
          <a:prstGeom prst="line">
            <a:avLst/>
          </a:prstGeom>
          <a:ln w="1908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975200" y="4608360"/>
            <a:ext cx="3211560" cy="0"/>
          </a:xfrm>
          <a:prstGeom prst="line">
            <a:avLst/>
          </a:prstGeom>
          <a:ln w="28440">
            <a:solidFill>
              <a:srgbClr val="66ff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57520" y="3544920"/>
            <a:ext cx="4892400" cy="0"/>
          </a:xfrm>
          <a:prstGeom prst="line">
            <a:avLst/>
          </a:prstGeom>
          <a:ln w="1908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39920" y="4605480"/>
            <a:ext cx="5046840" cy="0"/>
          </a:xfrm>
          <a:prstGeom prst="line">
            <a:avLst/>
          </a:prstGeom>
          <a:ln w="28440">
            <a:solidFill>
              <a:srgbClr val="66ff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57520" y="3544920"/>
            <a:ext cx="7032600" cy="0"/>
          </a:xfrm>
          <a:prstGeom prst="line">
            <a:avLst/>
          </a:prstGeom>
          <a:ln w="1908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23760" y="4608360"/>
            <a:ext cx="7263000" cy="0"/>
          </a:xfrm>
          <a:prstGeom prst="line">
            <a:avLst/>
          </a:prstGeom>
          <a:ln w="28440">
            <a:solidFill>
              <a:srgbClr val="66ff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50960" y="1222200"/>
            <a:ext cx="1146240" cy="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36560" y="3549600"/>
            <a:ext cx="1144800" cy="0"/>
          </a:xfrm>
          <a:prstGeom prst="line">
            <a:avLst/>
          </a:prstGeom>
          <a:ln w="57240">
            <a:solidFill>
              <a:srgbClr val="fe2c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199280" y="4605480"/>
            <a:ext cx="1146240" cy="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934320" y="1603440"/>
            <a:ext cx="1147680" cy="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17400" y="4902120"/>
            <a:ext cx="789948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189920" y="4902120"/>
            <a:ext cx="1145880" cy="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826480" y="1609560"/>
            <a:ext cx="525600" cy="2981520"/>
          </a:xfrm>
          <a:custGeom>
            <a:avLst/>
            <a:gdLst/>
            <a:ahLst/>
            <a:rect l="l" t="t" r="r" b="b"/>
            <a:pathLst>
              <a:path w="330" h="2029">
                <a:moveTo>
                  <a:pt x="0" y="0"/>
                </a:moveTo>
                <a:cubicBezTo>
                  <a:pt x="46" y="35"/>
                  <a:pt x="60" y="55"/>
                  <a:pt x="100" y="95"/>
                </a:cubicBezTo>
                <a:cubicBezTo>
                  <a:pt x="107" y="132"/>
                  <a:pt x="129" y="167"/>
                  <a:pt x="148" y="200"/>
                </a:cubicBezTo>
                <a:cubicBezTo>
                  <a:pt x="156" y="253"/>
                  <a:pt x="175" y="280"/>
                  <a:pt x="195" y="329"/>
                </a:cubicBezTo>
                <a:cubicBezTo>
                  <a:pt x="207" y="501"/>
                  <a:pt x="185" y="331"/>
                  <a:pt x="219" y="434"/>
                </a:cubicBezTo>
                <a:cubicBezTo>
                  <a:pt x="260" y="558"/>
                  <a:pt x="210" y="456"/>
                  <a:pt x="248" y="529"/>
                </a:cubicBezTo>
                <a:cubicBezTo>
                  <a:pt x="258" y="590"/>
                  <a:pt x="275" y="659"/>
                  <a:pt x="305" y="714"/>
                </a:cubicBezTo>
                <a:cubicBezTo>
                  <a:pt x="317" y="843"/>
                  <a:pt x="312" y="777"/>
                  <a:pt x="319" y="910"/>
                </a:cubicBezTo>
                <a:cubicBezTo>
                  <a:pt x="315" y="999"/>
                  <a:pt x="330" y="1417"/>
                  <a:pt x="252" y="1548"/>
                </a:cubicBezTo>
                <a:cubicBezTo>
                  <a:pt x="249" y="1563"/>
                  <a:pt x="246" y="1579"/>
                  <a:pt x="243" y="1595"/>
                </a:cubicBezTo>
                <a:cubicBezTo>
                  <a:pt x="239" y="1609"/>
                  <a:pt x="232" y="1623"/>
                  <a:pt x="229" y="1638"/>
                </a:cubicBezTo>
                <a:cubicBezTo>
                  <a:pt x="221" y="1670"/>
                  <a:pt x="223" y="1695"/>
                  <a:pt x="205" y="1724"/>
                </a:cubicBezTo>
                <a:cubicBezTo>
                  <a:pt x="200" y="1748"/>
                  <a:pt x="192" y="1772"/>
                  <a:pt x="181" y="1795"/>
                </a:cubicBezTo>
                <a:cubicBezTo>
                  <a:pt x="167" y="1821"/>
                  <a:pt x="138" y="1872"/>
                  <a:pt x="138" y="1872"/>
                </a:cubicBezTo>
                <a:cubicBezTo>
                  <a:pt x="132" y="1891"/>
                  <a:pt x="123" y="1906"/>
                  <a:pt x="114" y="1924"/>
                </a:cubicBezTo>
                <a:cubicBezTo>
                  <a:pt x="108" y="1934"/>
                  <a:pt x="95" y="1953"/>
                  <a:pt x="95" y="1953"/>
                </a:cubicBezTo>
                <a:cubicBezTo>
                  <a:pt x="88" y="1977"/>
                  <a:pt x="78" y="2000"/>
                  <a:pt x="57" y="2014"/>
                </a:cubicBezTo>
                <a:cubicBezTo>
                  <a:pt x="55" y="2019"/>
                  <a:pt x="52" y="2029"/>
                  <a:pt x="52" y="2029"/>
                </a:cubicBezTo>
              </a:path>
            </a:pathLst>
          </a:custGeom>
          <a:noFill/>
          <a:ln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7240" y="3033720"/>
            <a:ext cx="154080" cy="2109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8789760" y="4444920"/>
            <a:ext cx="228600" cy="211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3600" y="1176480"/>
            <a:ext cx="576360" cy="2022480"/>
          </a:xfrm>
          <a:custGeom>
            <a:avLst/>
            <a:gdLst/>
            <a:ahLst/>
            <a:rect l="l" t="t" r="r" b="b"/>
            <a:pathLst>
              <a:path w="362" h="1376">
                <a:moveTo>
                  <a:pt x="362" y="0"/>
                </a:moveTo>
                <a:cubicBezTo>
                  <a:pt x="317" y="22"/>
                  <a:pt x="293" y="64"/>
                  <a:pt x="258" y="100"/>
                </a:cubicBezTo>
                <a:cubicBezTo>
                  <a:pt x="205" y="237"/>
                  <a:pt x="259" y="120"/>
                  <a:pt x="186" y="229"/>
                </a:cubicBezTo>
                <a:cubicBezTo>
                  <a:pt x="168" y="254"/>
                  <a:pt x="113" y="374"/>
                  <a:pt x="110" y="381"/>
                </a:cubicBezTo>
                <a:cubicBezTo>
                  <a:pt x="101" y="398"/>
                  <a:pt x="87" y="414"/>
                  <a:pt x="82" y="433"/>
                </a:cubicBezTo>
                <a:cubicBezTo>
                  <a:pt x="62" y="495"/>
                  <a:pt x="55" y="570"/>
                  <a:pt x="20" y="624"/>
                </a:cubicBezTo>
                <a:cubicBezTo>
                  <a:pt x="10" y="742"/>
                  <a:pt x="0" y="837"/>
                  <a:pt x="39" y="952"/>
                </a:cubicBezTo>
                <a:cubicBezTo>
                  <a:pt x="45" y="1018"/>
                  <a:pt x="59" y="1072"/>
                  <a:pt x="101" y="1124"/>
                </a:cubicBezTo>
                <a:cubicBezTo>
                  <a:pt x="106" y="1144"/>
                  <a:pt x="137" y="1184"/>
                  <a:pt x="153" y="1200"/>
                </a:cubicBezTo>
                <a:cubicBezTo>
                  <a:pt x="162" y="1227"/>
                  <a:pt x="183" y="1245"/>
                  <a:pt x="201" y="1267"/>
                </a:cubicBezTo>
                <a:cubicBezTo>
                  <a:pt x="216" y="1285"/>
                  <a:pt x="223" y="1304"/>
                  <a:pt x="243" y="1319"/>
                </a:cubicBezTo>
                <a:cubicBezTo>
                  <a:pt x="249" y="1336"/>
                  <a:pt x="261" y="1345"/>
                  <a:pt x="272" y="1362"/>
                </a:cubicBezTo>
                <a:cubicBezTo>
                  <a:pt x="274" y="1366"/>
                  <a:pt x="282" y="1376"/>
                  <a:pt x="282" y="1376"/>
                </a:cubicBezTo>
              </a:path>
            </a:pathLst>
          </a:custGeom>
          <a:noFill/>
          <a:ln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41600" y="3349800"/>
            <a:ext cx="1145880" cy="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27160" y="601560"/>
            <a:ext cx="9543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7160" y="6678720"/>
            <a:ext cx="9543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315920" y="0"/>
            <a:ext cx="79848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 algn="ctr"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600" spc="-1" strike="noStrike">
                <a:solidFill>
                  <a:srgbClr val="66ff33"/>
                </a:solidFill>
                <a:latin typeface="Times New Roman"/>
              </a:rPr>
              <a:t>PC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105680" y="4060800"/>
            <a:ext cx="1147680" cy="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255160" y="3586320"/>
            <a:ext cx="0" cy="3348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645000"/>
            <a:ext cx="0" cy="3348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36680" y="4068720"/>
            <a:ext cx="1147680" cy="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1179360"/>
            <a:ext cx="1145880" cy="0"/>
          </a:xfrm>
          <a:prstGeom prst="line">
            <a:avLst/>
          </a:prstGeom>
          <a:ln w="1908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69920" y="987480"/>
            <a:ext cx="805500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124920" y="809640"/>
            <a:ext cx="3909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6ff33"/>
                </a:solidFill>
                <a:latin typeface="Arial"/>
              </a:rPr>
              <a:t>5’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0880" y="765000"/>
            <a:ext cx="3909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6ff33"/>
                </a:solidFill>
                <a:latin typeface="Arial"/>
              </a:rPr>
              <a:t>3’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05080" y="1179360"/>
            <a:ext cx="2827080" cy="0"/>
          </a:xfrm>
          <a:prstGeom prst="line">
            <a:avLst/>
          </a:prstGeom>
          <a:ln w="1908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405080" y="1179360"/>
            <a:ext cx="4890960" cy="0"/>
          </a:xfrm>
          <a:prstGeom prst="line">
            <a:avLst/>
          </a:prstGeom>
          <a:ln w="1908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76400" y="1179360"/>
            <a:ext cx="7031160" cy="0"/>
          </a:xfrm>
          <a:prstGeom prst="line">
            <a:avLst/>
          </a:prstGeom>
          <a:ln w="1908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2680" y="1184400"/>
            <a:ext cx="1146240" cy="0"/>
          </a:xfrm>
          <a:prstGeom prst="line">
            <a:avLst/>
          </a:prstGeom>
          <a:ln w="57240">
            <a:solidFill>
              <a:srgbClr val="fe2c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87360" y="984240"/>
            <a:ext cx="1148040" cy="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405080" y="2660760"/>
            <a:ext cx="1145880" cy="0"/>
          </a:xfrm>
          <a:prstGeom prst="line">
            <a:avLst/>
          </a:prstGeom>
          <a:ln w="1908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9920" y="2467080"/>
            <a:ext cx="805500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24920" y="2289240"/>
            <a:ext cx="3909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6ff33"/>
                </a:solidFill>
                <a:latin typeface="Arial"/>
              </a:rPr>
              <a:t>5’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50880" y="2246400"/>
            <a:ext cx="3909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6ff33"/>
                </a:solidFill>
                <a:latin typeface="Arial"/>
              </a:rPr>
              <a:t>3’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05080" y="2660760"/>
            <a:ext cx="2827080" cy="0"/>
          </a:xfrm>
          <a:prstGeom prst="line">
            <a:avLst/>
          </a:prstGeom>
          <a:ln w="1908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05080" y="2660760"/>
            <a:ext cx="4890960" cy="0"/>
          </a:xfrm>
          <a:prstGeom prst="line">
            <a:avLst/>
          </a:prstGeom>
          <a:ln w="1908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063880" y="2660760"/>
            <a:ext cx="7030800" cy="0"/>
          </a:xfrm>
          <a:prstGeom prst="line">
            <a:avLst/>
          </a:prstGeom>
          <a:ln w="1908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82680" y="2665440"/>
            <a:ext cx="1146240" cy="0"/>
          </a:xfrm>
          <a:prstGeom prst="line">
            <a:avLst/>
          </a:prstGeom>
          <a:ln w="57240">
            <a:solidFill>
              <a:srgbClr val="fe2c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87360" y="2465280"/>
            <a:ext cx="1148040" cy="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332000" y="4309920"/>
            <a:ext cx="1144440" cy="0"/>
          </a:xfrm>
          <a:prstGeom prst="line">
            <a:avLst/>
          </a:prstGeom>
          <a:ln w="57240">
            <a:solidFill>
              <a:srgbClr val="fe2c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108920" y="4305240"/>
            <a:ext cx="1146240" cy="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31160" y="1184400"/>
            <a:ext cx="1147680" cy="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3560" y="4092480"/>
            <a:ext cx="3909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6ff33"/>
                </a:solidFill>
                <a:latin typeface="Arial"/>
              </a:rPr>
              <a:t>5’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637480" y="4078440"/>
            <a:ext cx="3909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6ff33"/>
                </a:solidFill>
                <a:latin typeface="Arial"/>
              </a:rPr>
              <a:t>3’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3560" y="993600"/>
            <a:ext cx="211320" cy="1301760"/>
          </a:xfrm>
          <a:custGeom>
            <a:avLst/>
            <a:gdLst/>
            <a:ahLst/>
            <a:rect l="l" t="t" r="r" b="b"/>
            <a:pathLst>
              <a:path w="133" h="886">
                <a:moveTo>
                  <a:pt x="123" y="0"/>
                </a:moveTo>
                <a:cubicBezTo>
                  <a:pt x="80" y="42"/>
                  <a:pt x="67" y="100"/>
                  <a:pt x="42" y="153"/>
                </a:cubicBezTo>
                <a:cubicBezTo>
                  <a:pt x="25" y="245"/>
                  <a:pt x="26" y="338"/>
                  <a:pt x="0" y="429"/>
                </a:cubicBezTo>
                <a:cubicBezTo>
                  <a:pt x="3" y="496"/>
                  <a:pt x="5" y="575"/>
                  <a:pt x="38" y="638"/>
                </a:cubicBezTo>
                <a:cubicBezTo>
                  <a:pt x="41" y="678"/>
                  <a:pt x="44" y="736"/>
                  <a:pt x="66" y="772"/>
                </a:cubicBezTo>
                <a:cubicBezTo>
                  <a:pt x="72" y="795"/>
                  <a:pt x="82" y="807"/>
                  <a:pt x="100" y="824"/>
                </a:cubicBezTo>
                <a:cubicBezTo>
                  <a:pt x="102" y="831"/>
                  <a:pt x="129" y="886"/>
                  <a:pt x="133" y="886"/>
                </a:cubicBez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8866080" y="3916440"/>
            <a:ext cx="152640" cy="2127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74560" y="2104920"/>
            <a:ext cx="152640" cy="211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902800" y="1036800"/>
            <a:ext cx="777600" cy="2979720"/>
          </a:xfrm>
          <a:custGeom>
            <a:avLst/>
            <a:gdLst/>
            <a:ahLst/>
            <a:rect l="l" t="t" r="r" b="b"/>
            <a:pathLst>
              <a:path w="488" h="2028">
                <a:moveTo>
                  <a:pt x="362" y="0"/>
                </a:moveTo>
                <a:cubicBezTo>
                  <a:pt x="367" y="44"/>
                  <a:pt x="390" y="75"/>
                  <a:pt x="400" y="119"/>
                </a:cubicBezTo>
                <a:cubicBezTo>
                  <a:pt x="413" y="179"/>
                  <a:pt x="413" y="231"/>
                  <a:pt x="452" y="285"/>
                </a:cubicBezTo>
                <a:cubicBezTo>
                  <a:pt x="460" y="332"/>
                  <a:pt x="472" y="379"/>
                  <a:pt x="481" y="428"/>
                </a:cubicBezTo>
                <a:cubicBezTo>
                  <a:pt x="486" y="579"/>
                  <a:pt x="488" y="730"/>
                  <a:pt x="471" y="881"/>
                </a:cubicBezTo>
                <a:cubicBezTo>
                  <a:pt x="465" y="928"/>
                  <a:pt x="463" y="981"/>
                  <a:pt x="452" y="1028"/>
                </a:cubicBezTo>
                <a:cubicBezTo>
                  <a:pt x="446" y="1050"/>
                  <a:pt x="428" y="1095"/>
                  <a:pt x="428" y="1095"/>
                </a:cubicBezTo>
                <a:cubicBezTo>
                  <a:pt x="422" y="1124"/>
                  <a:pt x="425" y="1155"/>
                  <a:pt x="409" y="1181"/>
                </a:cubicBezTo>
                <a:cubicBezTo>
                  <a:pt x="405" y="1217"/>
                  <a:pt x="396" y="1276"/>
                  <a:pt x="376" y="1309"/>
                </a:cubicBezTo>
                <a:cubicBezTo>
                  <a:pt x="362" y="1375"/>
                  <a:pt x="326" y="1432"/>
                  <a:pt x="300" y="1495"/>
                </a:cubicBezTo>
                <a:cubicBezTo>
                  <a:pt x="290" y="1518"/>
                  <a:pt x="288" y="1547"/>
                  <a:pt x="271" y="1566"/>
                </a:cubicBezTo>
                <a:cubicBezTo>
                  <a:pt x="257" y="1580"/>
                  <a:pt x="251" y="1591"/>
                  <a:pt x="242" y="1609"/>
                </a:cubicBezTo>
                <a:cubicBezTo>
                  <a:pt x="234" y="1622"/>
                  <a:pt x="219" y="1647"/>
                  <a:pt x="219" y="1647"/>
                </a:cubicBezTo>
                <a:cubicBezTo>
                  <a:pt x="213" y="1678"/>
                  <a:pt x="206" y="1680"/>
                  <a:pt x="190" y="1704"/>
                </a:cubicBezTo>
                <a:cubicBezTo>
                  <a:pt x="182" y="1726"/>
                  <a:pt x="167" y="1744"/>
                  <a:pt x="157" y="1766"/>
                </a:cubicBezTo>
                <a:cubicBezTo>
                  <a:pt x="153" y="1801"/>
                  <a:pt x="132" y="1894"/>
                  <a:pt x="119" y="1928"/>
                </a:cubicBezTo>
                <a:cubicBezTo>
                  <a:pt x="111" y="1945"/>
                  <a:pt x="91" y="1956"/>
                  <a:pt x="81" y="1971"/>
                </a:cubicBezTo>
                <a:cubicBezTo>
                  <a:pt x="66" y="1991"/>
                  <a:pt x="55" y="2010"/>
                  <a:pt x="38" y="2028"/>
                </a:cubicBezTo>
                <a:cubicBezTo>
                  <a:pt x="25" y="2026"/>
                  <a:pt x="0" y="2024"/>
                  <a:pt x="0" y="2024"/>
                </a:cubicBez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5961240" y="4062240"/>
            <a:ext cx="1147680" cy="0"/>
          </a:xfrm>
          <a:prstGeom prst="line">
            <a:avLst/>
          </a:prstGeom>
          <a:ln w="1908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4815000" y="4062240"/>
            <a:ext cx="1146240" cy="0"/>
          </a:xfrm>
          <a:prstGeom prst="line">
            <a:avLst/>
          </a:prstGeom>
          <a:ln w="1908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3668760" y="4062240"/>
            <a:ext cx="1146240" cy="0"/>
          </a:xfrm>
          <a:prstGeom prst="line">
            <a:avLst/>
          </a:prstGeom>
          <a:ln w="1908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2446200" y="4062240"/>
            <a:ext cx="1222560" cy="0"/>
          </a:xfrm>
          <a:prstGeom prst="line">
            <a:avLst/>
          </a:prstGeom>
          <a:ln w="1908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446200" y="4303800"/>
            <a:ext cx="4662720" cy="0"/>
          </a:xfrm>
          <a:prstGeom prst="line">
            <a:avLst/>
          </a:prstGeom>
          <a:ln w="190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27160" y="684360"/>
            <a:ext cx="9543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7160" y="6678720"/>
            <a:ext cx="9543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15920" y="84240"/>
            <a:ext cx="79848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 algn="ctr"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600" spc="-1" strike="noStrike">
                <a:solidFill>
                  <a:srgbClr val="66ff33"/>
                </a:solidFill>
                <a:latin typeface="Times New Roman"/>
              </a:rPr>
              <a:t>PC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577880" y="1849320"/>
            <a:ext cx="6954840" cy="0"/>
          </a:xfrm>
          <a:prstGeom prst="line">
            <a:avLst/>
          </a:prstGeom>
          <a:ln w="57240">
            <a:solidFill>
              <a:srgbClr val="66ff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89000" y="3781440"/>
            <a:ext cx="611352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89000" y="2857680"/>
            <a:ext cx="7029720" cy="0"/>
          </a:xfrm>
          <a:prstGeom prst="line">
            <a:avLst/>
          </a:prstGeom>
          <a:ln w="572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68720" y="2185920"/>
            <a:ext cx="0" cy="3351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968720" y="3156120"/>
            <a:ext cx="0" cy="3348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273640" y="3316320"/>
            <a:ext cx="97164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 algn="ctr"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600" spc="-1" strike="noStrike">
                <a:solidFill>
                  <a:srgbClr val="ff6600"/>
                </a:solidFill>
                <a:latin typeface="Times New Roman"/>
              </a:rPr>
              <a:t>x 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73640" y="2398680"/>
            <a:ext cx="96984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 algn="ctr"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600" spc="-1" strike="noStrike">
                <a:solidFill>
                  <a:srgbClr val="66ff33"/>
                </a:solidFill>
                <a:latin typeface="Times New Roman"/>
              </a:rPr>
              <a:t>n + 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89000" y="2773440"/>
            <a:ext cx="0" cy="16812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89000" y="3697200"/>
            <a:ext cx="0" cy="16848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02520" y="3697200"/>
            <a:ext cx="0" cy="16848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33800" y="1339920"/>
            <a:ext cx="252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890960" y="1339920"/>
            <a:ext cx="97020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 algn="ctr"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600" spc="-1" strike="noStrike">
                <a:solidFill>
                  <a:srgbClr val="66ff33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7160" y="601560"/>
            <a:ext cx="9543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7160" y="6678720"/>
            <a:ext cx="9543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315920" y="0"/>
            <a:ext cx="79848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 algn="ctr"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600" spc="-1" strike="noStrike">
                <a:solidFill>
                  <a:srgbClr val="66ff33"/>
                </a:solidFill>
                <a:latin typeface="Times New Roman"/>
              </a:rPr>
              <a:t>PC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835280" y="841320"/>
            <a:ext cx="6802200" cy="56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27160" y="684360"/>
            <a:ext cx="9543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7160" y="6678720"/>
            <a:ext cx="9543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315920" y="84240"/>
            <a:ext cx="79848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 algn="ctr"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600" spc="-1" strike="noStrike">
                <a:solidFill>
                  <a:srgbClr val="66ff33"/>
                </a:solidFill>
                <a:latin typeface="Times New Roman"/>
              </a:rPr>
              <a:t>PC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300320" y="923760"/>
            <a:ext cx="6648120" cy="548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27160" y="684360"/>
            <a:ext cx="9543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7160" y="6678720"/>
            <a:ext cx="9543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315920" y="84240"/>
            <a:ext cx="79848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 algn="ctr"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600" spc="-1" strike="noStrike">
                <a:solidFill>
                  <a:srgbClr val="66ff33"/>
                </a:solidFill>
                <a:latin typeface="Times New Roman"/>
              </a:rPr>
              <a:t>PC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681200" y="1008000"/>
            <a:ext cx="657396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27160" y="601560"/>
            <a:ext cx="9543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7160" y="6678720"/>
            <a:ext cx="9543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954120" y="0"/>
            <a:ext cx="79848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 algn="ctr"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600" spc="-1" strike="noStrike">
                <a:solidFill>
                  <a:srgbClr val="66ff33"/>
                </a:solidFill>
                <a:latin typeface="Times New Roman"/>
              </a:rPr>
              <a:t>PC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528920" y="923760"/>
            <a:ext cx="6573600" cy="542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27160" y="601560"/>
            <a:ext cx="9543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7160" y="6678720"/>
            <a:ext cx="9543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315920" y="0"/>
            <a:ext cx="79848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 algn="ctr"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600" spc="-1" strike="noStrike">
                <a:solidFill>
                  <a:srgbClr val="66ff33"/>
                </a:solidFill>
                <a:latin typeface="Times New Roman"/>
              </a:rPr>
              <a:t>PC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452600" y="923760"/>
            <a:ext cx="6649920" cy="548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27160" y="601560"/>
            <a:ext cx="9543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7160" y="6678720"/>
            <a:ext cx="9543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920" y="0"/>
            <a:ext cx="79848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 algn="ctr"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600" spc="-1" strike="noStrike">
                <a:solidFill>
                  <a:srgbClr val="66ff33"/>
                </a:solidFill>
                <a:latin typeface="Times New Roman"/>
              </a:rPr>
              <a:t>PC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604880" y="841320"/>
            <a:ext cx="657396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165400" y="0"/>
            <a:ext cx="5573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27160" y="684360"/>
            <a:ext cx="9543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7160" y="6678720"/>
            <a:ext cx="9543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315920" y="84240"/>
            <a:ext cx="79848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 algn="ctr"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600" spc="-1" strike="noStrike">
                <a:solidFill>
                  <a:srgbClr val="66ff33"/>
                </a:solidFill>
                <a:latin typeface="Times New Roman"/>
              </a:rPr>
              <a:t>PC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835280" y="923760"/>
            <a:ext cx="6562440" cy="541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27160" y="684360"/>
            <a:ext cx="9543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7160" y="6678720"/>
            <a:ext cx="9543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229880" y="84240"/>
            <a:ext cx="97092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 algn="ctr"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600" spc="-1" strike="noStrike">
                <a:solidFill>
                  <a:srgbClr val="66ff33"/>
                </a:solidFill>
                <a:latin typeface="Times New Roman"/>
              </a:rPr>
              <a:t>PCR </a:t>
            </a:r>
            <a:r>
              <a:rPr b="0" lang="en-US" sz="1400" spc="-1" strike="noStrike">
                <a:solidFill>
                  <a:srgbClr val="66ff33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14280" y="1668600"/>
            <a:ext cx="9248760" cy="25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7160" y="684360"/>
            <a:ext cx="9543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7160" y="6678720"/>
            <a:ext cx="9543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15920" y="84240"/>
            <a:ext cx="79848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 algn="ctr"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600" spc="-1" strike="noStrike">
                <a:solidFill>
                  <a:srgbClr val="66ff33"/>
                </a:solidFill>
                <a:latin typeface="Times New Roman"/>
              </a:rPr>
              <a:t>PC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965240" y="1076400"/>
            <a:ext cx="5761080" cy="39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27160" y="684360"/>
            <a:ext cx="9543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7160" y="6678720"/>
            <a:ext cx="9543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315920" y="84240"/>
            <a:ext cx="79848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 algn="ctr"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600" spc="-1" strike="noStrike">
                <a:solidFill>
                  <a:srgbClr val="66ff33"/>
                </a:solidFill>
                <a:latin typeface="Times New Roman"/>
              </a:rPr>
              <a:t>PC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082960" y="1238400"/>
            <a:ext cx="5757840" cy="39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27160" y="601560"/>
            <a:ext cx="9543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7160" y="6678720"/>
            <a:ext cx="9543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315920" y="0"/>
            <a:ext cx="79848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 algn="ctr"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600" spc="-1" strike="noStrike">
                <a:solidFill>
                  <a:srgbClr val="66ff33"/>
                </a:solidFill>
                <a:latin typeface="Times New Roman"/>
              </a:rPr>
              <a:t>PC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170080" y="1290600"/>
            <a:ext cx="5757840" cy="39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27160" y="684360"/>
            <a:ext cx="9543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7160" y="6678720"/>
            <a:ext cx="9543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315920" y="84240"/>
            <a:ext cx="79848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 algn="ctr"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600" spc="-1" strike="noStrike">
                <a:solidFill>
                  <a:srgbClr val="66ff33"/>
                </a:solidFill>
                <a:latin typeface="Times New Roman"/>
              </a:rPr>
              <a:t>PC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976400" y="1312920"/>
            <a:ext cx="5757840" cy="39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7160" y="684360"/>
            <a:ext cx="9543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7160" y="6678720"/>
            <a:ext cx="9543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315920" y="84240"/>
            <a:ext cx="79848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 algn="ctr"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600" spc="-1" strike="noStrike">
                <a:solidFill>
                  <a:srgbClr val="66ff33"/>
                </a:solidFill>
                <a:latin typeface="Times New Roman"/>
              </a:rPr>
              <a:t>PC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111400" y="1371600"/>
            <a:ext cx="5757840" cy="39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27160" y="684360"/>
            <a:ext cx="9543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7160" y="6678720"/>
            <a:ext cx="9543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315920" y="84240"/>
            <a:ext cx="79848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 algn="ctr"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600" spc="-1" strike="noStrike">
                <a:solidFill>
                  <a:srgbClr val="66ff33"/>
                </a:solidFill>
                <a:latin typeface="Times New Roman"/>
              </a:rPr>
              <a:t>PC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976400" y="1320840"/>
            <a:ext cx="5757840" cy="39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27160" y="684360"/>
            <a:ext cx="9543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7160" y="6678720"/>
            <a:ext cx="9543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315920" y="84240"/>
            <a:ext cx="79848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 algn="ctr"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600" spc="-1" strike="noStrike">
                <a:solidFill>
                  <a:srgbClr val="66ff33"/>
                </a:solidFill>
                <a:latin typeface="Times New Roman"/>
              </a:rPr>
              <a:t>PC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2075040" y="1198440"/>
            <a:ext cx="5756040" cy="39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27160" y="684360"/>
            <a:ext cx="9543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7160" y="6678720"/>
            <a:ext cx="9543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503680" y="84240"/>
            <a:ext cx="398520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 algn="ctr"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600" spc="-1" strike="noStrike">
                <a:solidFill>
                  <a:srgbClr val="66ff33"/>
                </a:solidFill>
                <a:latin typeface="Times New Roman"/>
              </a:rPr>
              <a:t>Sequence Tagged Site (ST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2680" y="1008000"/>
            <a:ext cx="9324720" cy="42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2c02"/>
                </a:solidFill>
                <a:latin typeface="Times New Roman"/>
              </a:rPr>
              <a:t>D12S35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ff"/>
                </a:solidFill>
                <a:latin typeface="Times New Roman"/>
              </a:rPr>
              <a:t>TGGACCAGGGTGATGG</a:t>
            </a:r>
            <a:r>
              <a:rPr b="1" lang="en-US" sz="2100" spc="-1" strike="noStrike">
                <a:solidFill>
                  <a:srgbClr val="fe2c02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66ff33"/>
                </a:solidFill>
                <a:latin typeface="Times New Roman"/>
              </a:rPr>
              <a:t>             </a:t>
            </a:r>
            <a:r>
              <a:rPr b="1" lang="en-US" sz="2100" spc="-1" strike="noStrike">
                <a:solidFill>
                  <a:srgbClr val="ff00ff"/>
                </a:solidFill>
                <a:latin typeface="Times New Roman"/>
              </a:rPr>
              <a:t>AGCAGGAGTCTGACGTTTTG</a:t>
            </a:r>
            <a:r>
              <a:rPr b="0" lang="en-US" sz="2100" spc="-1" strike="noStrike">
                <a:solidFill>
                  <a:srgbClr val="66ff33"/>
                </a:solidFill>
                <a:latin typeface="Times New Roman"/>
              </a:rPr>
              <a:t>          159bp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6ff33"/>
                </a:solidFill>
                <a:latin typeface="Times New Roman"/>
              </a:rPr>
              <a:t>AGCTGCC</a:t>
            </a:r>
            <a:r>
              <a:rPr b="0" lang="en-US" sz="2100" spc="-1" strike="noStrike">
                <a:solidFill>
                  <a:srgbClr val="ff00ff"/>
                </a:solidFill>
                <a:latin typeface="Times New Roman"/>
              </a:rPr>
              <a:t>TGGACCAGGGTGATGG</a:t>
            </a:r>
            <a:r>
              <a:rPr b="0" lang="en-US" sz="2100" spc="-1" strike="noStrike">
                <a:solidFill>
                  <a:srgbClr val="66ff33"/>
                </a:solidFill>
                <a:latin typeface="Times New Roman"/>
              </a:rPr>
              <a:t>TGGCACCCCAGCCCAAAGTCTTTGCTCTTGCTCTTCCTGAGTACT</a:t>
            </a:r>
            <a:r>
              <a:rPr b="0" lang="en-US" sz="2100" spc="-1" strike="noStrike" u="sng">
                <a:solidFill>
                  <a:srgbClr val="ff3300"/>
                </a:solidFill>
                <a:uFillTx/>
                <a:latin typeface="Times New Roman"/>
              </a:rPr>
              <a:t>ACACACACACACACACACACACACACACACACACACACACAC</a:t>
            </a:r>
            <a:r>
              <a:rPr b="0" lang="en-US" sz="2100" spc="-1" strike="noStrike">
                <a:solidFill>
                  <a:srgbClr val="66ff33"/>
                </a:solidFill>
                <a:latin typeface="Times New Roman"/>
              </a:rPr>
              <a:t>CCGCTCACCAGCCTCCTTCCTCCACTCTAGTCTGGGG</a:t>
            </a:r>
            <a:r>
              <a:rPr b="0" lang="en-US" sz="2100" spc="-1" strike="noStrike">
                <a:solidFill>
                  <a:srgbClr val="ff00ff"/>
                </a:solidFill>
                <a:latin typeface="Times New Roman"/>
              </a:rPr>
              <a:t>CAAAACGTCAGACTCCTGCT</a:t>
            </a:r>
            <a:r>
              <a:rPr b="0" lang="en-US" sz="2100" spc="-1" strike="noStrike">
                <a:solidFill>
                  <a:srgbClr val="66ff33"/>
                </a:solidFill>
                <a:latin typeface="Times New Roman"/>
              </a:rPr>
              <a:t>GAGACTTCCAGCAGAGC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98840" y="0"/>
            <a:ext cx="4554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227160" y="768240"/>
            <a:ext cx="9543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7160" y="6678720"/>
            <a:ext cx="9543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503680" y="168120"/>
            <a:ext cx="398520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 algn="ctr"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600" spc="-1" strike="noStrike">
                <a:solidFill>
                  <a:srgbClr val="66ff33"/>
                </a:solidFill>
                <a:latin typeface="Times New Roman"/>
              </a:rPr>
              <a:t>Sequence Tagged Site (ST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528920" y="1411200"/>
            <a:ext cx="6802200" cy="26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Courier New"/>
              </a:rPr>
              <a:t>5’</a:t>
            </a:r>
            <a:r>
              <a:rPr b="0" lang="en-US" sz="2400" spc="-1" strike="noStrike">
                <a:solidFill>
                  <a:srgbClr val="ff00ff"/>
                </a:solidFill>
                <a:latin typeface="Courier New"/>
              </a:rPr>
              <a:t> AGGGTGATGG</a:t>
            </a:r>
            <a:r>
              <a:rPr b="0" lang="en-US" sz="2400" spc="-1" strike="noStrike">
                <a:solidFill>
                  <a:srgbClr val="66ff33"/>
                </a:solidFill>
                <a:latin typeface="Courier New"/>
              </a:rPr>
              <a:t>ACACACACAAAACGTCAG</a:t>
            </a:r>
            <a:r>
              <a:rPr b="0" lang="en-US" sz="2400" spc="-1" strike="noStrike">
                <a:solidFill>
                  <a:srgbClr val="ff00ff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66ff33"/>
                </a:solidFill>
                <a:latin typeface="Courier New"/>
              </a:rPr>
              <a:t>3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ff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ff00ff"/>
                </a:solidFill>
                <a:latin typeface="Courier New"/>
              </a:rPr>
              <a:t>GTTTTGCAGTC </a:t>
            </a:r>
            <a:r>
              <a:rPr b="0" lang="en-US" sz="2400" spc="-1" strike="noStrike">
                <a:solidFill>
                  <a:srgbClr val="66ff33"/>
                </a:solidFill>
                <a:latin typeface="Courier New"/>
              </a:rPr>
              <a:t>5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Courier New"/>
              </a:rPr>
              <a:t>5’</a:t>
            </a:r>
            <a:r>
              <a:rPr b="0" lang="en-US" sz="2400" spc="-1" strike="noStrike">
                <a:solidFill>
                  <a:srgbClr val="ff00ff"/>
                </a:solidFill>
                <a:latin typeface="Courier New"/>
              </a:rPr>
              <a:t> AGGGTGATG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Courier New"/>
              </a:rPr>
              <a:t>3’ TCCCACTACCTGTGTGT</a:t>
            </a:r>
            <a:r>
              <a:rPr b="0" lang="en-US" sz="2400" spc="-1" strike="noStrike">
                <a:solidFill>
                  <a:srgbClr val="ff00ff"/>
                </a:solidFill>
                <a:latin typeface="Courier New"/>
              </a:rPr>
              <a:t>GTTTTGCAGTC</a:t>
            </a:r>
            <a:r>
              <a:rPr b="0" lang="en-US" sz="2400" spc="-1" strike="noStrike">
                <a:solidFill>
                  <a:srgbClr val="66ff33"/>
                </a:solidFill>
                <a:latin typeface="Courier New"/>
              </a:rPr>
              <a:t> 5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064040" y="2973240"/>
            <a:ext cx="534960" cy="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370240" y="4303800"/>
            <a:ext cx="53496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ff"/>
                </a:solidFill>
                <a:latin typeface="Times New Roman"/>
              </a:rPr>
              <a:t>AGGGTGATGG</a:t>
            </a:r>
            <a:r>
              <a:rPr b="1" lang="en-US" sz="2100" spc="-1" strike="noStrike">
                <a:solidFill>
                  <a:srgbClr val="fe2c02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66ff33"/>
                </a:solidFill>
                <a:latin typeface="Times New Roman"/>
              </a:rPr>
              <a:t>             </a:t>
            </a:r>
            <a:r>
              <a:rPr b="1" lang="en-US" sz="2100" spc="-1" strike="noStrike">
                <a:solidFill>
                  <a:srgbClr val="ff00ff"/>
                </a:solidFill>
                <a:latin typeface="Times New Roman"/>
              </a:rPr>
              <a:t>CTGACGTTTT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643280" y="1967040"/>
            <a:ext cx="535320" cy="0"/>
          </a:xfrm>
          <a:prstGeom prst="line">
            <a:avLst/>
          </a:prstGeom>
          <a:ln w="28440">
            <a:solidFill>
              <a:srgbClr val="66ff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227160" y="852480"/>
            <a:ext cx="9543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27160" y="6678720"/>
            <a:ext cx="9543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503680" y="252360"/>
            <a:ext cx="398520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 algn="ctr"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600" spc="-1" strike="noStrike">
                <a:solidFill>
                  <a:srgbClr val="66ff33"/>
                </a:solidFill>
                <a:latin typeface="Times New Roman"/>
              </a:rPr>
              <a:t>Sequence Tagged Site (ST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6360" y="1512720"/>
            <a:ext cx="947736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Courier New"/>
              </a:rPr>
              <a:t>5’</a:t>
            </a:r>
            <a:r>
              <a:rPr b="0" lang="en-US" sz="2400" spc="-1" strike="noStrike">
                <a:solidFill>
                  <a:srgbClr val="ff00ff"/>
                </a:solidFill>
                <a:latin typeface="Courier New"/>
              </a:rPr>
              <a:t> AGGGTGATGG</a:t>
            </a:r>
            <a:r>
              <a:rPr b="0" lang="en-US" sz="2400" spc="-1" strike="noStrike">
                <a:solidFill>
                  <a:srgbClr val="66ff33"/>
                </a:solidFill>
                <a:latin typeface="Courier New"/>
              </a:rPr>
              <a:t>ACACACAC</a:t>
            </a:r>
            <a:r>
              <a:rPr b="0" lang="en-US" sz="2400" spc="-1" strike="noStrike">
                <a:solidFill>
                  <a:srgbClr val="ff00ff"/>
                </a:solidFill>
                <a:latin typeface="Courier New"/>
              </a:rPr>
              <a:t>AAAACGTCAG </a:t>
            </a:r>
            <a:r>
              <a:rPr b="0" lang="en-US" sz="2400" spc="-1" strike="noStrike">
                <a:solidFill>
                  <a:srgbClr val="66ff33"/>
                </a:solidFill>
                <a:latin typeface="Courier New"/>
              </a:rPr>
              <a:t>3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Courier New"/>
              </a:rPr>
              <a:t>5’</a:t>
            </a:r>
            <a:r>
              <a:rPr b="0" lang="en-US" sz="2400" spc="-1" strike="noStrike">
                <a:solidFill>
                  <a:srgbClr val="ff00ff"/>
                </a:solidFill>
                <a:latin typeface="Courier New"/>
              </a:rPr>
              <a:t> AGGGTGATGG</a:t>
            </a:r>
            <a:r>
              <a:rPr b="0" lang="en-US" sz="2400" spc="-1" strike="noStrike">
                <a:solidFill>
                  <a:srgbClr val="66ff33"/>
                </a:solidFill>
                <a:latin typeface="Courier New"/>
              </a:rPr>
              <a:t>ACACACACACACAC</a:t>
            </a:r>
            <a:r>
              <a:rPr b="0" lang="en-US" sz="2400" spc="-1" strike="noStrike">
                <a:solidFill>
                  <a:srgbClr val="ff00ff"/>
                </a:solidFill>
                <a:latin typeface="Courier New"/>
              </a:rPr>
              <a:t>AAAACGTCAG </a:t>
            </a:r>
            <a:r>
              <a:rPr b="0" lang="en-US" sz="2400" spc="-1" strike="noStrike">
                <a:solidFill>
                  <a:srgbClr val="66ff33"/>
                </a:solidFill>
                <a:latin typeface="Courier New"/>
              </a:rPr>
              <a:t>3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Courier New"/>
              </a:rPr>
              <a:t>5’</a:t>
            </a:r>
            <a:r>
              <a:rPr b="0" lang="en-US" sz="2400" spc="-1" strike="noStrike">
                <a:solidFill>
                  <a:srgbClr val="ff00ff"/>
                </a:solidFill>
                <a:latin typeface="Courier New"/>
              </a:rPr>
              <a:t> AGGGTGATGG</a:t>
            </a:r>
            <a:r>
              <a:rPr b="0" lang="en-US" sz="2400" spc="-1" strike="noStrike">
                <a:solidFill>
                  <a:srgbClr val="66ff33"/>
                </a:solidFill>
                <a:latin typeface="Courier New"/>
              </a:rPr>
              <a:t>ACACACACACACACCACAC</a:t>
            </a:r>
            <a:r>
              <a:rPr b="0" lang="en-US" sz="2400" spc="-1" strike="noStrike">
                <a:solidFill>
                  <a:srgbClr val="ff00ff"/>
                </a:solidFill>
                <a:latin typeface="Courier New"/>
              </a:rPr>
              <a:t>AAAACGTCAG </a:t>
            </a:r>
            <a:r>
              <a:rPr b="0" lang="en-US" sz="2400" spc="-1" strike="noStrike">
                <a:solidFill>
                  <a:srgbClr val="66ff33"/>
                </a:solidFill>
                <a:latin typeface="Courier New"/>
              </a:rPr>
              <a:t>3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Courier New"/>
              </a:rPr>
              <a:t>5’</a:t>
            </a:r>
            <a:r>
              <a:rPr b="0" lang="en-US" sz="2400" spc="-1" strike="noStrike">
                <a:solidFill>
                  <a:srgbClr val="ff00ff"/>
                </a:solidFill>
                <a:latin typeface="Courier New"/>
              </a:rPr>
              <a:t> AGGGTGATGG</a:t>
            </a:r>
            <a:r>
              <a:rPr b="0" lang="en-US" sz="2400" spc="-1" strike="noStrike">
                <a:solidFill>
                  <a:srgbClr val="66ff33"/>
                </a:solidFill>
                <a:latin typeface="Courier New"/>
              </a:rPr>
              <a:t>ACACACACACACACACACACACAC</a:t>
            </a:r>
            <a:r>
              <a:rPr b="0" lang="en-US" sz="2400" spc="-1" strike="noStrike">
                <a:solidFill>
                  <a:srgbClr val="ff00ff"/>
                </a:solidFill>
                <a:latin typeface="Courier New"/>
              </a:rPr>
              <a:t>AAAACGTCAG </a:t>
            </a:r>
            <a:r>
              <a:rPr b="0" lang="en-US" sz="2400" spc="-1" strike="noStrike">
                <a:solidFill>
                  <a:srgbClr val="66ff33"/>
                </a:solidFill>
                <a:latin typeface="Courier New"/>
              </a:rPr>
              <a:t>3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27160" y="684360"/>
            <a:ext cx="9543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7160" y="6678720"/>
            <a:ext cx="9543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42560" y="84240"/>
            <a:ext cx="74376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 algn="ctr"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600" spc="-1" strike="noStrike">
                <a:solidFill>
                  <a:srgbClr val="66ff33"/>
                </a:solidFill>
                <a:latin typeface="Times New Roman"/>
              </a:rPr>
              <a:t>S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2308320" y="1203480"/>
            <a:ext cx="5122800" cy="45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227160" y="504720"/>
            <a:ext cx="9543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7160" y="6678720"/>
            <a:ext cx="9543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835280" y="776160"/>
            <a:ext cx="547992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100000">
              <a:srgbClr val="0000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2065680" y="2257560"/>
            <a:ext cx="594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ff33"/>
                </a:solidFill>
                <a:latin typeface="Arial"/>
              </a:rPr>
              <a:t>Southern blotti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190600" y="0"/>
            <a:ext cx="5523120" cy="68580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2665800" y="569880"/>
            <a:ext cx="805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co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83400" y="262080"/>
            <a:ext cx="653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sa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64000" y="571680"/>
            <a:ext cx="578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s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875040" y="258840"/>
            <a:ext cx="628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c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864320" y="303120"/>
            <a:ext cx="1032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ind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479120" y="865080"/>
            <a:ext cx="5220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567320" y="925560"/>
            <a:ext cx="4791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Arial"/>
              </a:rPr>
              <a:t>2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548240" y="1370160"/>
            <a:ext cx="5540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Arial"/>
              </a:rPr>
              <a:t>9.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67320" y="1679400"/>
            <a:ext cx="5540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Arial"/>
              </a:rPr>
              <a:t>6.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68760" y="2170080"/>
            <a:ext cx="5540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Arial"/>
              </a:rPr>
              <a:t>4.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600440" y="3178080"/>
            <a:ext cx="5540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Arial"/>
              </a:rPr>
              <a:t>2.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599000" y="3432240"/>
            <a:ext cx="5540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Arial"/>
              </a:rPr>
              <a:t>2.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7403760" y="449280"/>
            <a:ext cx="765000" cy="0"/>
          </a:xfrm>
          <a:prstGeom prst="line">
            <a:avLst/>
          </a:prstGeom>
          <a:ln w="38160">
            <a:solidFill>
              <a:srgbClr val="fe2c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2130480" y="141120"/>
            <a:ext cx="5632560" cy="656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93560" y="276120"/>
            <a:ext cx="8918640" cy="63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528920" y="141120"/>
            <a:ext cx="7489800" cy="655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611280" y="1066680"/>
            <a:ext cx="863748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528920" y="714240"/>
            <a:ext cx="0" cy="2826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133800" y="714240"/>
            <a:ext cx="0" cy="2826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419880" y="714240"/>
            <a:ext cx="0" cy="2826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8920" y="1198440"/>
            <a:ext cx="16048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133800" y="1270080"/>
            <a:ext cx="32860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98440" y="2468520"/>
            <a:ext cx="3808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97000" y="3121200"/>
            <a:ext cx="3808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763200" y="1270080"/>
            <a:ext cx="1528920" cy="17636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841320" y="1339920"/>
            <a:ext cx="3897360" cy="11286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9320" y="1500120"/>
            <a:ext cx="0" cy="388152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0520" y="1481040"/>
            <a:ext cx="0" cy="388008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340160" y="23893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836720" y="565200"/>
            <a:ext cx="85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Arial"/>
              </a:rPr>
              <a:t>3 k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359240" y="565200"/>
            <a:ext cx="85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Arial"/>
              </a:rPr>
              <a:t>6 k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7155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611280" y="1066680"/>
            <a:ext cx="863748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28920" y="714240"/>
            <a:ext cx="0" cy="2826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133800" y="714240"/>
            <a:ext cx="0" cy="2826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419880" y="714240"/>
            <a:ext cx="0" cy="2826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528920" y="1198440"/>
            <a:ext cx="16048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133800" y="1270080"/>
            <a:ext cx="32860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98440" y="2468520"/>
            <a:ext cx="380880" cy="0"/>
          </a:xfrm>
          <a:prstGeom prst="line">
            <a:avLst/>
          </a:prstGeom>
          <a:ln w="28440">
            <a:solidFill>
              <a:srgbClr val="3d3d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97000" y="3121200"/>
            <a:ext cx="380880" cy="0"/>
          </a:xfrm>
          <a:prstGeom prst="line">
            <a:avLst/>
          </a:prstGeom>
          <a:ln w="28440">
            <a:solidFill>
              <a:srgbClr val="fe2c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763200" y="1270080"/>
            <a:ext cx="1528920" cy="17636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841320" y="1339920"/>
            <a:ext cx="3897360" cy="11286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79320" y="1500120"/>
            <a:ext cx="0" cy="388152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90520" y="1481040"/>
            <a:ext cx="0" cy="388008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340160" y="23893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836720" y="565200"/>
            <a:ext cx="85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Arial"/>
              </a:rPr>
              <a:t>3 k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359240" y="565200"/>
            <a:ext cx="85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Arial"/>
              </a:rPr>
              <a:t>6 k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681200" y="1552680"/>
            <a:ext cx="917640" cy="0"/>
          </a:xfrm>
          <a:prstGeom prst="line">
            <a:avLst/>
          </a:prstGeom>
          <a:ln w="57240">
            <a:solidFill>
              <a:srgbClr val="fe2c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611280" y="1066680"/>
            <a:ext cx="863748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528920" y="714240"/>
            <a:ext cx="0" cy="2826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133800" y="714240"/>
            <a:ext cx="0" cy="2826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19880" y="714240"/>
            <a:ext cx="0" cy="2826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528920" y="1198440"/>
            <a:ext cx="16048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133800" y="1270080"/>
            <a:ext cx="32860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8440" y="2468520"/>
            <a:ext cx="380880" cy="0"/>
          </a:xfrm>
          <a:prstGeom prst="line">
            <a:avLst/>
          </a:prstGeom>
          <a:ln w="28440">
            <a:solidFill>
              <a:srgbClr val="fe2c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7000" y="3121200"/>
            <a:ext cx="380880" cy="0"/>
          </a:xfrm>
          <a:prstGeom prst="line">
            <a:avLst/>
          </a:prstGeom>
          <a:ln w="28440">
            <a:solidFill>
              <a:srgbClr val="3d3d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763200" y="1270080"/>
            <a:ext cx="1528920" cy="17636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841320" y="1339920"/>
            <a:ext cx="3897360" cy="11286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79320" y="1500120"/>
            <a:ext cx="0" cy="388152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90520" y="1481040"/>
            <a:ext cx="0" cy="388008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340160" y="23893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36720" y="565200"/>
            <a:ext cx="85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Arial"/>
              </a:rPr>
              <a:t>3 k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359240" y="565200"/>
            <a:ext cx="85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Arial"/>
              </a:rPr>
              <a:t>6 k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127400" y="1552680"/>
            <a:ext cx="917640" cy="0"/>
          </a:xfrm>
          <a:prstGeom prst="line">
            <a:avLst/>
          </a:prstGeom>
          <a:ln w="57240">
            <a:solidFill>
              <a:srgbClr val="fe2c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611280" y="1066680"/>
            <a:ext cx="863748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528920" y="714240"/>
            <a:ext cx="0" cy="2826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714240"/>
            <a:ext cx="0" cy="2826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419880" y="714240"/>
            <a:ext cx="0" cy="2826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528920" y="1198440"/>
            <a:ext cx="16048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133800" y="1270080"/>
            <a:ext cx="32860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98440" y="2468520"/>
            <a:ext cx="380880" cy="0"/>
          </a:xfrm>
          <a:prstGeom prst="line">
            <a:avLst/>
          </a:prstGeom>
          <a:ln w="28440">
            <a:solidFill>
              <a:srgbClr val="fe2c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97000" y="3121200"/>
            <a:ext cx="380880" cy="0"/>
          </a:xfrm>
          <a:prstGeom prst="line">
            <a:avLst/>
          </a:prstGeom>
          <a:ln w="28440">
            <a:solidFill>
              <a:srgbClr val="fe2c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763200" y="1270080"/>
            <a:ext cx="1528920" cy="17636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841320" y="1339920"/>
            <a:ext cx="3897360" cy="11286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79320" y="1500120"/>
            <a:ext cx="0" cy="388152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90520" y="1481040"/>
            <a:ext cx="0" cy="388008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340160" y="23893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836720" y="565200"/>
            <a:ext cx="85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Arial"/>
              </a:rPr>
              <a:t>3 k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359240" y="565200"/>
            <a:ext cx="85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Arial"/>
              </a:rPr>
              <a:t>6 k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370240" y="1552680"/>
            <a:ext cx="1681200" cy="0"/>
          </a:xfrm>
          <a:prstGeom prst="line">
            <a:avLst/>
          </a:prstGeom>
          <a:ln w="57240">
            <a:solidFill>
              <a:srgbClr val="fe2c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611280" y="1066680"/>
            <a:ext cx="863748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528920" y="714240"/>
            <a:ext cx="0" cy="2826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133800" y="714240"/>
            <a:ext cx="0" cy="2826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419880" y="714240"/>
            <a:ext cx="0" cy="2826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528920" y="1198440"/>
            <a:ext cx="16048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133800" y="1270080"/>
            <a:ext cx="32860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98440" y="3865680"/>
            <a:ext cx="380880" cy="0"/>
          </a:xfrm>
          <a:prstGeom prst="line">
            <a:avLst/>
          </a:prstGeom>
          <a:ln w="28440">
            <a:solidFill>
              <a:srgbClr val="fe2c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97000" y="4516560"/>
            <a:ext cx="380880" cy="0"/>
          </a:xfrm>
          <a:prstGeom prst="line">
            <a:avLst/>
          </a:prstGeom>
          <a:ln w="28440">
            <a:solidFill>
              <a:srgbClr val="fe2c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71400" y="2408400"/>
            <a:ext cx="0" cy="387972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90520" y="2400480"/>
            <a:ext cx="0" cy="387972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340160" y="23893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836720" y="565200"/>
            <a:ext cx="85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Arial"/>
              </a:rPr>
              <a:t>3 k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359240" y="565200"/>
            <a:ext cx="85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Arial"/>
              </a:rPr>
              <a:t>6 k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11280" y="2046240"/>
            <a:ext cx="863748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528920" y="1693800"/>
            <a:ext cx="0" cy="28116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419880" y="1693800"/>
            <a:ext cx="0" cy="28116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528920" y="2178000"/>
            <a:ext cx="16048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133800" y="2179800"/>
            <a:ext cx="32860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289320" y="1552680"/>
            <a:ext cx="85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Arial"/>
              </a:rPr>
              <a:t>9 k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98440" y="2963880"/>
            <a:ext cx="380880" cy="0"/>
          </a:xfrm>
          <a:prstGeom prst="line">
            <a:avLst/>
          </a:prstGeom>
          <a:ln w="28440">
            <a:solidFill>
              <a:srgbClr val="fe2c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611280" y="1066680"/>
            <a:ext cx="863748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528920" y="714240"/>
            <a:ext cx="0" cy="2826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133800" y="714240"/>
            <a:ext cx="0" cy="2826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419880" y="714240"/>
            <a:ext cx="0" cy="2826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528920" y="1198440"/>
            <a:ext cx="16048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133800" y="1270080"/>
            <a:ext cx="32860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98440" y="3865680"/>
            <a:ext cx="380880" cy="0"/>
          </a:xfrm>
          <a:prstGeom prst="line">
            <a:avLst/>
          </a:prstGeom>
          <a:ln w="28440">
            <a:solidFill>
              <a:srgbClr val="3d3d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97000" y="4516560"/>
            <a:ext cx="380880" cy="0"/>
          </a:xfrm>
          <a:prstGeom prst="line">
            <a:avLst/>
          </a:prstGeom>
          <a:ln w="28440">
            <a:solidFill>
              <a:srgbClr val="fe2c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71400" y="2408400"/>
            <a:ext cx="0" cy="387972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90520" y="2400480"/>
            <a:ext cx="0" cy="387972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340160" y="23893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836720" y="565200"/>
            <a:ext cx="85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Arial"/>
              </a:rPr>
              <a:t>3 k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359240" y="565200"/>
            <a:ext cx="85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Arial"/>
              </a:rPr>
              <a:t>6 k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11280" y="2046240"/>
            <a:ext cx="863748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528920" y="1693800"/>
            <a:ext cx="0" cy="28116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419880" y="1693800"/>
            <a:ext cx="0" cy="28116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528920" y="2178000"/>
            <a:ext cx="16048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133800" y="2179800"/>
            <a:ext cx="32860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289320" y="1552680"/>
            <a:ext cx="85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Arial"/>
              </a:rPr>
              <a:t>9 k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98440" y="2963880"/>
            <a:ext cx="380880" cy="0"/>
          </a:xfrm>
          <a:prstGeom prst="line">
            <a:avLst/>
          </a:prstGeom>
          <a:ln w="28440">
            <a:solidFill>
              <a:srgbClr val="fe2c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81200" y="2540160"/>
            <a:ext cx="1146240" cy="0"/>
          </a:xfrm>
          <a:prstGeom prst="line">
            <a:avLst/>
          </a:prstGeom>
          <a:ln w="57240">
            <a:solidFill>
              <a:srgbClr val="fe2c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06360" y="1411200"/>
            <a:ext cx="9323280" cy="40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8640" y="565200"/>
            <a:ext cx="932508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88960" y="0"/>
            <a:ext cx="6927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2301840"/>
            <a:ext cx="9906120" cy="22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5T12:00:26Z</dcterms:created>
  <dc:creator>CMG</dc:creator>
  <dc:description/>
  <dc:language>en-US</dc:language>
  <cp:lastModifiedBy>Mariano Rocchi</cp:lastModifiedBy>
  <cp:lastPrinted>2000-04-11T15:44:35Z</cp:lastPrinted>
  <dcterms:modified xsi:type="dcterms:W3CDTF">2004-06-11T07:13:55Z</dcterms:modified>
  <cp:revision>256</cp:revision>
  <dc:subject/>
  <dc:title>Geen diatitel</dc:title>
</cp:coreProperties>
</file>